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75463" cy="10012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E4E0-7627-4A55-A398-79619B187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F761-1AA0-459F-A947-71D081A6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D3F4-0FEE-4D93-BFF9-2147108E2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C41A-CE9A-4F15-A426-F8594EC8A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41D2-8E8C-4462-A748-C289C6ADD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1497-F9D7-4704-8988-DD226BEB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6A6B-53FD-400C-9CBF-A0498AF4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5055-76B0-413C-AEE0-9907B2F7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68A7-3FB8-433F-B699-6FAFBF97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C8E7-354C-439E-9019-92A1B830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F99F-08C5-4492-948C-985D846A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9EB2-F270-4033-A238-7B79CAE7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1692-D486-487F-8267-F23FDA33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5B05-C52B-4CA5-9970-910EB76E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3E10-44CB-4EF8-B242-674C961A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A919-8650-4C40-B432-95727BFF5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26E1-6D21-4315-ACF8-8B1BE0E8E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C544-CF5C-43B8-A9BA-00E9ADC7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E34D-582B-4894-818F-88F0CCA6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C134-86FA-464A-92DE-143A30DA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9F81-9F79-4621-9FB3-B292FBBB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C597-47CC-45DD-A47E-60E6554C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3C8D-FB39-4546-8C1C-E3C2BFE8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1F7C-5BB9-455F-A103-F7AC0FA2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449B-B991-4F7A-85C8-76449C500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FEA1-3572-4C96-9C5A-F433652BF7BB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Routing Workshop (IPv4 &amp; IPv6)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50880" y="4114800"/>
            <a:ext cx="79596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ilip Smith, Randy Bush, Johnathan 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COT 2011, Hong Kong, 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- 19 February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Agenda – Tuesda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9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tions,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9: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net Introduction”, “Routing Basics”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tion to ISIS”, “ISIS for ISP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eak for 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1 – Basic ISIS &amp; iB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6: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tion to BGP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8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reaks for tea/coffee at 10:30 and 15: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Agenda – Wednesda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9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tion to IPv6”, “IPv6 Standards and Protocol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1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1 (finish IPv4 iBG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6 Addressing &amp; Routing Protocols”, “ISIS &amp; BGP for IPv6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eak for 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1 – IPv6 ISIS and iB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6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GP Scaling Techniqu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7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3 – Route Refl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8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reaks for tea/coffee at 10:30 and 15: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Agenda – Thursda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2017800"/>
            <a:ext cx="7543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9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GP Attributes and Policy Contro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1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3 – IPv6 Route Refl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1: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6 – iBGP and eBGP (IPv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eak for 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6 – iBGP and eBGP (IPv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6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GP Best Practic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8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reaks for tea/coffee at 10:30 and 15: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Agenda – Frida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201780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9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GP Multihoming – Part 1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1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7 – Route Fil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eak for 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7 (co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6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SPF to ISIS Migration”, “BGP Multihoming – Part 2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8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reaks for tea/coffee at 10:30 and 15: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Agenda – Saturda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017800"/>
            <a:ext cx="7848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9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 and 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tion to the RPKI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eak for 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6 Deployment Case Stud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5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ra Top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figuring Dynamips, Out of band management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5: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 of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6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shop Social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reak for tea/coffee at 10: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9T05:34:34Z</dcterms:created>
  <dc:creator>Philip Smith</dc:creator>
  <dc:description/>
  <dc:language>en-US</dc:language>
  <cp:lastModifiedBy>Philip Smith</cp:lastModifiedBy>
  <cp:lastPrinted>2000-06-05T00:48:20Z</cp:lastPrinted>
  <dcterms:modified xsi:type="dcterms:W3CDTF">2011-02-19T02:52:20Z</dcterms:modified>
  <cp:revision>71</cp:revision>
  <dc:subject>ISP/IXP Workshops Asia Pacific</dc:subject>
  <dc:title>ISP/IXP Workshop Agenda</dc:title>
</cp:coreProperties>
</file>