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5D7-6286-41FB-A41D-F1CA7BED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4AC-7AA0-47AA-A46D-D6D9A16B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50F-E1B8-4E2B-8F7D-58407B11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D5F-8D66-42F9-AA22-9DBF49C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5C2-51EE-4D55-9875-D4FAFE30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046-B049-44DE-B099-D8263B9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3A7A-232D-40AA-A7BF-55700C3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4E35-A9C5-4029-8422-266B53BF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C7A-632F-4A61-81D6-5F4D29C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430-256B-460E-93F8-76CFCF3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B3C1-9142-4ED0-B5A4-A9D05142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3A0-FF3A-4AA8-BC74-B54AFEA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F02C-CBE7-434B-A771-94B027CF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5F42-705A-4FE8-8E27-AE4D3ED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5DF-CAEB-41CD-9148-331FFE24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80B-D84D-407E-84BB-CE317E2A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0510-D99C-4759-8E23-E54F3AA7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0E7-DACD-4C91-8AC0-A721583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C9C-E642-4683-95A6-9CA9949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F08-48F8-4F5A-8AC7-79EB8CE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2D0-F7FB-40E1-949E-F196D93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624-2AAB-4D14-B111-581C560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F23-330A-4DD4-A520-AC4D8C0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6D3-2621-4DCF-B27C-4B9761E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16D-D895-4A69-984B-5F1895AD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AD6D-A5D1-4D0D-9713-F3D8450B4CA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440"/>
            <a:ext cx="795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is Lindqvist, Mark Tinka, Gaurab Raj Upadh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COT 2011, Hong Kong,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- 19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OSPF and i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4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IPv6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 &amp;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8 – Multihom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&amp;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the RPK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8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Soci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1-02-14T04:38:17Z</dcterms:modified>
  <cp:revision>62</cp:revision>
  <dc:subject>ISP/IXP Workshops Asia Pacific</dc:subject>
  <dc:title>ISP/IXP Workshop Agenda</dc:title>
</cp:coreProperties>
</file>