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28D8-2499-4916-AB02-DD6069FA9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B9B9-86D1-47FD-8122-96710506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4D9E-184D-42E9-B09B-8F327823C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8340-2679-4A7D-8E65-B8357D43C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580B-76A9-462D-B8B7-7E5239D95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26C71-E9F7-4523-8F0A-EA1EE7F4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F700E-C05D-4D2E-8A57-06550023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2FAB-2E87-4BB5-9D66-5618F81C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76AB-3F07-410D-AEFA-4861384C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14D4B-7214-4CE0-9E23-57C7A3EF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3E11-240A-4DD6-A691-82A1C18E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9998-2C3F-4AC5-B199-ADF73D8C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37630-4230-4339-AADB-2661FEDE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A8DA-DDF8-4C7A-88E7-93428B5B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E7EE-CAEB-4FAF-856C-41417735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4E48-2A37-4E44-B981-761463EDD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A9A3-D215-4DAF-A4AC-8FC537368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4886-8DCE-4772-8D57-9C79D3B2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EECE-FE1E-4DB7-B091-AF9AA791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0389-9FC8-4BA0-9EE7-E95CFCB7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9E10-B35F-4295-914B-BD4877A8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FF54-668F-4633-8FB8-1D027A54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0C81-2932-4927-9DD3-D24442DE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CD3B-6C37-4CB2-AF69-CC843CC9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F0BA-43D4-4118-A6F2-9E6B45AECDC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2ED1-55D1-4A00-811B-9241173C391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RICOT 2004: Malaysia</a:t>
            </a:r>
            <a:br>
              <a:rPr sz="44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Network Management Workshop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aurab Raj Upadhay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hruba Raj Bhandar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itesh Raj Josh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9T03:49:50Z</dcterms:created>
  <dc:creator>Gaurab Raj Upadhaya</dc:creator>
  <dc:description/>
  <dc:language>en-US</dc:language>
  <cp:lastModifiedBy>Gaurab Raj Upadhaya</cp:lastModifiedBy>
  <dcterms:modified xsi:type="dcterms:W3CDTF">2004-02-19T03:50:42Z</dcterms:modified>
  <cp:revision>1</cp:revision>
  <dc:subject/>
  <dc:title>APRICOT 2004: Malaysia Network Management Workshop </dc:title>
</cp:coreProperties>
</file>