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5E92-028B-40D9-9323-D2387E798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FE41-4FEB-4970-94E7-AEB02BD39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66B3-8246-4CB1-8845-5C0744377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273C-A93C-416B-9758-188C6BECD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BE4-7784-4D0C-99CB-361765C2C6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D2A-9051-46DD-B05D-E024FF99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007-26A8-4A35-BB20-D32FEE03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458-6E0E-494F-B75F-B62E2BBB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CBA-8DAC-47C3-9A45-69461B98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FE3-5948-4D17-8CB5-9FCDD746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7BC-9A2E-485E-8C7E-E4C264A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7AFE-D453-48B3-A605-DB3B06CAE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326-5377-4ECE-9053-43C2B088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B42-48DE-4C26-BBCF-AEB1C4E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535-ACA7-43D2-93A7-F573CEC1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EE9-8E2A-423E-884E-D3F0644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D62-BD7D-4068-9449-1EA506D5B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0CC5-2E28-4061-95C7-98732AC65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F79B-BE4E-4805-A223-72E871A5B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E636-2E77-4447-8F1F-6AE67CA76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7D45-5EA5-40F7-BAF8-A47171652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82AA-19F8-4166-BFE5-EA08474CF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2A71-EB19-4F14-9823-E37306429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C118-E481-44C1-9D43-783F0A9FA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Click to edit the title text format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53160" y="6563880"/>
            <a:ext cx="98100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200" spc="-1" strike="noStrike">
                <a:solidFill>
                  <a:srgbClr val="000066"/>
                </a:solidFill>
                <a:latin typeface="Book Antiqu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20D2-0D4B-4099-889C-6C013C5BD2B6}" type="slidenum">
              <a:rPr b="1" i="1" lang="ko-KR" sz="1200" spc="-1" strike="noStrike">
                <a:solidFill>
                  <a:srgbClr val="000066"/>
                </a:solidFill>
                <a:latin typeface="Book Antiqu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3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CE7E-882C-423D-B81E-543BACAB4D46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.wmf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52728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바탕"/>
              </a:rPr>
              <a:t>Real-time streaming mana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바탕"/>
              </a:rPr>
              <a:t>using multicast-to-unica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바탕"/>
              </a:rPr>
              <a:t>protocol conversion approach</a:t>
            </a: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98600" y="4511520"/>
            <a:ext cx="650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Arial Unicode MS"/>
              </a:rPr>
              <a:t>February, 200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Arial Unicode MS"/>
              </a:rPr>
              <a:t>Calvin Y. Go,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Book Antiqua"/>
                <a:ea typeface="Arial Unicode MS"/>
              </a:rPr>
              <a:t>calvingo@techsystem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Arial Unicode MS"/>
              </a:rPr>
              <a:t>TechSystem Technolog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CE28-6CB5-4AD6-BA00-25FC36FE14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Protocol Spoofing - Architecture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69800" y="2158920"/>
            <a:ext cx="8597880" cy="3810240"/>
            <a:chOff x="469800" y="2158920"/>
            <a:chExt cx="8597880" cy="3810240"/>
          </a:xfrm>
        </p:grpSpPr>
        <p:grpSp>
          <p:nvGrpSpPr>
            <p:cNvPr id="207" name=""/>
            <p:cNvGrpSpPr/>
            <p:nvPr/>
          </p:nvGrpSpPr>
          <p:grpSpPr>
            <a:xfrm>
              <a:off x="469800" y="2158920"/>
              <a:ext cx="3810240" cy="3810240"/>
              <a:chOff x="469800" y="2158920"/>
              <a:chExt cx="3810240" cy="3810240"/>
            </a:xfrm>
          </p:grpSpPr>
          <p:sp>
            <p:nvSpPr>
              <p:cNvPr id="208" name=""/>
              <p:cNvSpPr/>
              <p:nvPr/>
            </p:nvSpPr>
            <p:spPr>
              <a:xfrm>
                <a:off x="469800" y="2158920"/>
                <a:ext cx="3810240" cy="381024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13500000"/>
              </a:gradFill>
              <a:ln w="648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5440" y="5054760"/>
                <a:ext cx="1981080" cy="60948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Unicast to Multica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 </a:t>
                </a: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Conver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720" y="3454560"/>
                <a:ext cx="175248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Client Ag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1400" y="2768760"/>
                <a:ext cx="221004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Multimedia Applic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65640" y="3225960"/>
                <a:ext cx="0" cy="1828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46320" y="3911760"/>
                <a:ext cx="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9800" y="2235240"/>
                <a:ext cx="1600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Book Antiqua"/>
                    <a:ea typeface="굴림"/>
                  </a:rPr>
                  <a:t>Client Syst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813200" y="2158920"/>
              <a:ext cx="3810240" cy="3810240"/>
              <a:chOff x="4813200" y="2158920"/>
              <a:chExt cx="3810240" cy="3810240"/>
            </a:xfrm>
          </p:grpSpPr>
          <p:sp>
            <p:nvSpPr>
              <p:cNvPr id="216" name=""/>
              <p:cNvSpPr/>
              <p:nvPr/>
            </p:nvSpPr>
            <p:spPr>
              <a:xfrm>
                <a:off x="4813200" y="2158920"/>
                <a:ext cx="3810240" cy="381024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13500000"/>
              </a:gradFill>
              <a:ln w="648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70600" y="2235240"/>
                <a:ext cx="1600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Book Antiqua"/>
                    <a:ea typeface="굴림"/>
                  </a:rPr>
                  <a:t>Server Syst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94440" y="5054760"/>
                <a:ext cx="1981080" cy="60948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Multicast to Unica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 </a:t>
                </a: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Conver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27600" y="3835440"/>
                <a:ext cx="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337440" y="4508640"/>
                <a:ext cx="380880" cy="457200"/>
                <a:chOff x="6337440" y="4508640"/>
                <a:chExt cx="380880" cy="457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337440" y="45086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337440" y="450864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6566040" y="4292640"/>
                <a:ext cx="167616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Multicast Receiv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023240" y="3835440"/>
                <a:ext cx="0" cy="3808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94440" y="3454560"/>
                <a:ext cx="198108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Server Ag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558880" y="3638520"/>
              <a:ext cx="266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835440" y="5282640"/>
              <a:ext cx="1447920" cy="152280"/>
            </a:xfrm>
            <a:prstGeom prst="leftArrow">
              <a:avLst>
                <a:gd name="adj1" fmla="val 40278"/>
                <a:gd name="adj2" fmla="val 1729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318520" y="4444200"/>
              <a:ext cx="749160" cy="142920"/>
            </a:xfrm>
            <a:prstGeom prst="leftArrow">
              <a:avLst>
                <a:gd name="adj1" fmla="val 40278"/>
                <a:gd name="adj2" fmla="val 953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7B6D-9F6A-43DB-8BD1-11DF9EDAB6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512640" y="2790720"/>
            <a:ext cx="8137800" cy="2662200"/>
            <a:chOff x="512640" y="2790720"/>
            <a:chExt cx="8137800" cy="2662200"/>
          </a:xfrm>
        </p:grpSpPr>
        <p:sp>
          <p:nvSpPr>
            <p:cNvPr id="230" name=""/>
            <p:cNvSpPr/>
            <p:nvPr/>
          </p:nvSpPr>
          <p:spPr>
            <a:xfrm>
              <a:off x="512640" y="2790720"/>
              <a:ext cx="8137800" cy="2662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88000" y="4183200"/>
              <a:ext cx="38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49480" y="2955960"/>
              <a:ext cx="1828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rotocol convers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54280" y="4889520"/>
              <a:ext cx="198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720" y="3498840"/>
              <a:ext cx="1143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Stream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acket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73400" y="3746520"/>
              <a:ext cx="220968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2754360" y="3517920"/>
            <a:ext cx="53352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54360" y="3517920"/>
                      <a:ext cx="53352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8" name="j0215022" descr=""/>
            <p:cNvPicPr/>
            <p:nvPr/>
          </p:nvPicPr>
          <p:blipFill>
            <a:blip r:embed="rId3"/>
            <a:stretch/>
          </p:blipFill>
          <p:spPr>
            <a:xfrm>
              <a:off x="4164120" y="435600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"/>
            <p:cNvGraphicFramePr/>
            <p:nvPr/>
          </p:nvGraphicFramePr>
          <p:xfrm>
            <a:off x="5154480" y="4086360"/>
            <a:ext cx="533520" cy="22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54480" y="408636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4925880" y="363852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6920" y="3668760"/>
              <a:ext cx="2209680" cy="91440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3800" y="488952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j0215022" descr=""/>
            <p:cNvPicPr/>
            <p:nvPr/>
          </p:nvPicPr>
          <p:blipFill>
            <a:blip r:embed="rId6"/>
            <a:stretch/>
          </p:blipFill>
          <p:spPr>
            <a:xfrm>
              <a:off x="7135920" y="441000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j0215022" descr=""/>
            <p:cNvPicPr/>
            <p:nvPr/>
          </p:nvPicPr>
          <p:blipFill>
            <a:blip r:embed="rId7"/>
            <a:stretch/>
          </p:blipFill>
          <p:spPr>
            <a:xfrm>
              <a:off x="3554280" y="344160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j0215022" descr=""/>
            <p:cNvPicPr/>
            <p:nvPr/>
          </p:nvPicPr>
          <p:blipFill>
            <a:blip r:embed="rId8"/>
            <a:stretch/>
          </p:blipFill>
          <p:spPr>
            <a:xfrm>
              <a:off x="7593120" y="357192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j0215022" descr=""/>
            <p:cNvPicPr/>
            <p:nvPr/>
          </p:nvPicPr>
          <p:blipFill>
            <a:blip r:embed="rId9"/>
            <a:stretch/>
          </p:blipFill>
          <p:spPr>
            <a:xfrm>
              <a:off x="6297480" y="344160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530520" y="4030560"/>
              <a:ext cx="160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Multicas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0120" y="3975120"/>
              <a:ext cx="160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Unicas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0520" y="4214880"/>
              <a:ext cx="1295280" cy="0"/>
            </a:xfrm>
            <a:prstGeom prst="line">
              <a:avLst/>
            </a:prstGeom>
            <a:ln w="63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94000" y="4214880"/>
              <a:ext cx="38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1860480" y="4118040"/>
            <a:ext cx="53352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60480" y="411804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Configuration using protocol conversion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6373800" y="5530680"/>
            <a:ext cx="2363760" cy="702000"/>
          </a:xfrm>
          <a:prstGeom prst="wedgeRoundRectCallout">
            <a:avLst>
              <a:gd name="adj1" fmla="val -91745"/>
              <a:gd name="adj2" fmla="val -228282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Non multicast supporting ro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92200" y="5530680"/>
            <a:ext cx="2541600" cy="702000"/>
          </a:xfrm>
          <a:prstGeom prst="wedgeRoundRectCallout">
            <a:avLst>
              <a:gd name="adj1" fmla="val -65666"/>
              <a:gd name="adj2" fmla="val -229185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Multicast supporting router (Mbone Rout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EDCC-2EFD-46BD-8E55-C2D689CDB2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Application Area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743120"/>
            <a:ext cx="8699400" cy="4952880"/>
            <a:chOff x="228600" y="1743120"/>
            <a:chExt cx="8699400" cy="4952880"/>
          </a:xfrm>
        </p:grpSpPr>
        <p:sp>
          <p:nvSpPr>
            <p:cNvPr id="259" name=""/>
            <p:cNvSpPr/>
            <p:nvPr/>
          </p:nvSpPr>
          <p:spPr>
            <a:xfrm>
              <a:off x="228600" y="1743120"/>
              <a:ext cx="8629560" cy="49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542800">
              <a:off x="5268600" y="2633760"/>
              <a:ext cx="2706480" cy="102528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0967000">
              <a:off x="2521080" y="3614400"/>
              <a:ext cx="2417760" cy="87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40080" y="4614840"/>
              <a:ext cx="1981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j0215022" descr=""/>
            <p:cNvPicPr/>
            <p:nvPr/>
          </p:nvPicPr>
          <p:blipFill>
            <a:blip r:embed="rId1"/>
            <a:stretch/>
          </p:blipFill>
          <p:spPr>
            <a:xfrm>
              <a:off x="2894040" y="337644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j0215022" descr=""/>
            <p:cNvPicPr/>
            <p:nvPr/>
          </p:nvPicPr>
          <p:blipFill>
            <a:blip r:embed="rId2"/>
            <a:stretch/>
          </p:blipFill>
          <p:spPr>
            <a:xfrm>
              <a:off x="4303800" y="396072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868480" y="3892680"/>
              <a:ext cx="1600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  <a:ea typeface="굴림"/>
                </a:rPr>
                <a:t>Multicas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5122800" y="2744640"/>
            <a:ext cx="533520" cy="121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22800" y="2744640"/>
                      <a:ext cx="53352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"/>
            <p:cNvGraphicFramePr/>
            <p:nvPr/>
          </p:nvGraphicFramePr>
          <p:xfrm>
            <a:off x="7334280" y="1859040"/>
            <a:ext cx="533520" cy="121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34280" y="1859040"/>
                      <a:ext cx="53352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0" name=""/>
            <p:cNvSpPr/>
            <p:nvPr/>
          </p:nvSpPr>
          <p:spPr>
            <a:xfrm>
              <a:off x="7099200" y="324324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Content Provi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81520" y="2846520"/>
              <a:ext cx="139680" cy="110484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43760" y="1949400"/>
              <a:ext cx="139680" cy="110484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50120" y="4915080"/>
              <a:ext cx="1663560" cy="304560"/>
            </a:xfrm>
            <a:prstGeom prst="wedgeRoundRectCallout">
              <a:avLst>
                <a:gd name="adj1" fmla="val -91314"/>
                <a:gd name="adj2" fmla="val -371356"/>
                <a:gd name="adj3" fmla="val 16667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18320" y="3962520"/>
              <a:ext cx="1663560" cy="304560"/>
            </a:xfrm>
            <a:prstGeom prst="wedgeRoundRectCallout">
              <a:avLst>
                <a:gd name="adj1" fmla="val -82824"/>
                <a:gd name="adj2" fmla="val -97398"/>
                <a:gd name="adj3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CD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1982880" y="4400640"/>
              <a:ext cx="658800" cy="233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7560" y="5195880"/>
              <a:ext cx="2540160" cy="8380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04920" y="614520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8" name="j0215022" descr=""/>
            <p:cNvPicPr/>
            <p:nvPr/>
          </p:nvPicPr>
          <p:blipFill>
            <a:blip r:embed="rId7"/>
            <a:stretch/>
          </p:blipFill>
          <p:spPr>
            <a:xfrm>
              <a:off x="455760" y="553896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j0215022" descr=""/>
            <p:cNvPicPr/>
            <p:nvPr/>
          </p:nvPicPr>
          <p:blipFill>
            <a:blip r:embed="rId8"/>
            <a:stretch/>
          </p:blipFill>
          <p:spPr>
            <a:xfrm>
              <a:off x="2284560" y="502272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j0215022" descr=""/>
            <p:cNvPicPr/>
            <p:nvPr/>
          </p:nvPicPr>
          <p:blipFill>
            <a:blip r:embed="rId9"/>
            <a:stretch/>
          </p:blipFill>
          <p:spPr>
            <a:xfrm>
              <a:off x="2649600" y="554976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062000" y="549288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  <a:ea typeface="굴림"/>
                </a:rPr>
                <a:t>Unicas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22280" y="417024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1560600" y="4545000"/>
            <a:ext cx="53316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560600" y="4545000"/>
                      <a:ext cx="5331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071960" y="2376360"/>
              <a:ext cx="26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Remote content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15080" y="3701880"/>
              <a:ext cx="234720" cy="101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7" name="j0215022" descr=""/>
            <p:cNvPicPr/>
            <p:nvPr/>
          </p:nvPicPr>
          <p:blipFill>
            <a:blip r:embed="rId12"/>
            <a:stretch/>
          </p:blipFill>
          <p:spPr>
            <a:xfrm>
              <a:off x="3814920" y="326232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828800" y="4772160"/>
              <a:ext cx="0" cy="457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C4A2-B0C4-47A8-A59B-96D513F1E3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Who benefits?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5560" y="1980720"/>
            <a:ext cx="846108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Solution providers for M2U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Audio/video streaming, Audio/video 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Distance learning, corporat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Business IP TV with extranet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Internet service/content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Edge router for M2U over satellite/terrestr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Internet broadcasting on both broadband and narrow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IP cinema implementation with audio/video M2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Network Integration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CDN POP networking with M2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Edge router on B&amp;A networking for M2U /IP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Box-/hardware free bundling for edge router with M2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Integration with edge router for M2U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6E31-1FA8-4AFE-A262-60B3A6C183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logo20" descr=""/>
          <p:cNvPicPr/>
          <p:nvPr/>
        </p:nvPicPr>
        <p:blipFill>
          <a:blip r:embed="rId1"/>
          <a:stretch/>
        </p:blipFill>
        <p:spPr>
          <a:xfrm>
            <a:off x="1601640" y="1395360"/>
            <a:ext cx="5943600" cy="3200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373120" y="4325400"/>
            <a:ext cx="440028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c2c86"/>
                </a:solidFill>
                <a:latin typeface="Book Antiqua"/>
                <a:ea typeface="바탕"/>
              </a:rPr>
              <a:t>Q &amp;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65EF-8A2D-4C40-BBEF-F31C346CE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Agenda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951200"/>
            <a:ext cx="7383600" cy="45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What is Multicast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Multicast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Advantages of Multi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Multicast Routing by MB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However,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</a:rPr>
              <a:t>That’s why we need protocol convers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Protocol Spoofing –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Configuration using protocol 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Applicatio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Who benefi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Q &amp;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E01832_" descr=""/>
          <p:cNvPicPr/>
          <p:nvPr/>
        </p:nvPicPr>
        <p:blipFill>
          <a:blip r:embed="rId12"/>
          <a:stretch/>
        </p:blipFill>
        <p:spPr>
          <a:xfrm>
            <a:off x="6367320" y="4475160"/>
            <a:ext cx="24591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467C-53AA-432E-B979-18CEA39B1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What is Multicasting?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324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Uni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Point-to-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3280" y="53625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Multi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Point-to-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43560" y="5381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Broad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Point-to-Ent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95760" y="2809800"/>
            <a:ext cx="1962000" cy="2352600"/>
            <a:chOff x="3695760" y="2809800"/>
            <a:chExt cx="1962000" cy="2352600"/>
          </a:xfrm>
        </p:grpSpPr>
        <p:sp>
          <p:nvSpPr>
            <p:cNvPr id="87" name=""/>
            <p:cNvSpPr/>
            <p:nvPr/>
          </p:nvSpPr>
          <p:spPr>
            <a:xfrm flipH="1">
              <a:off x="4343040" y="3819600"/>
              <a:ext cx="343080" cy="847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86480" y="3333600"/>
              <a:ext cx="0" cy="134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4920" y="3828960"/>
              <a:ext cx="323640" cy="82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95760" y="2809800"/>
              <a:ext cx="1962000" cy="5238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19560" y="46386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81360" y="46767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71960" y="46483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46483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90960" y="489600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14960" y="49435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3040" y="492444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085760" y="2819520"/>
            <a:ext cx="1990800" cy="2333520"/>
            <a:chOff x="1085760" y="2819520"/>
            <a:chExt cx="1990800" cy="2333520"/>
          </a:xfrm>
        </p:grpSpPr>
        <p:sp>
          <p:nvSpPr>
            <p:cNvPr id="99" name=""/>
            <p:cNvSpPr/>
            <p:nvPr/>
          </p:nvSpPr>
          <p:spPr>
            <a:xfrm flipH="1">
              <a:off x="1266480" y="3343320"/>
              <a:ext cx="399960" cy="1285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6480" y="3343320"/>
              <a:ext cx="0" cy="134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05240" y="3352680"/>
              <a:ext cx="323640" cy="1247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5760" y="2819520"/>
              <a:ext cx="1962360" cy="5238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33640" y="46292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0800" y="46767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24120" y="460044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1760" y="46292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8040" y="491508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24160" y="46386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7960" y="49338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43160" y="488628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66800" y="49338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05240" y="491508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286680" y="2790720"/>
            <a:ext cx="1962000" cy="2076480"/>
            <a:chOff x="6286680" y="2790720"/>
            <a:chExt cx="1962000" cy="2076480"/>
          </a:xfrm>
        </p:grpSpPr>
        <p:sp>
          <p:nvSpPr>
            <p:cNvPr id="114" name=""/>
            <p:cNvSpPr/>
            <p:nvPr/>
          </p:nvSpPr>
          <p:spPr>
            <a:xfrm flipH="1">
              <a:off x="6467400" y="3314880"/>
              <a:ext cx="790560" cy="1285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67680" y="3305160"/>
              <a:ext cx="761760" cy="1295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6480" y="4467240"/>
              <a:ext cx="1552680" cy="2858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86680" y="2790720"/>
              <a:ext cx="1962000" cy="524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5960" y="46292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24800" y="438156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29360" y="43527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67640" y="45813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05560" y="454356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9560" y="459108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0880" y="46483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24560" y="44006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72240" y="438156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57B4-BDC9-45FC-9DE9-410386D215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What is Multicasting? (Con’t)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1448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A method of sending same information to several recipients simultaneous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A method to reach several recipients by one transmission. The major difference is that transmitter has to send data only once and transmitter has consumed resources as little as pos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Traditional transmission methods, unicasting and broadcasting, differ quite a lot from multica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Compare with Broadcasting; same information is sent to all recipients. Radio and television transmissions are a good examples of broadca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5425-515A-4D05-B604-DF48907FD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868320" y="2104920"/>
            <a:ext cx="7228080" cy="4324320"/>
            <a:chOff x="868320" y="2104920"/>
            <a:chExt cx="7228080" cy="4324320"/>
          </a:xfrm>
        </p:grpSpPr>
        <p:sp>
          <p:nvSpPr>
            <p:cNvPr id="130" name=""/>
            <p:cNvSpPr/>
            <p:nvPr/>
          </p:nvSpPr>
          <p:spPr>
            <a:xfrm>
              <a:off x="868320" y="2104920"/>
              <a:ext cx="7228080" cy="4324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" name="j0245319" descr=""/>
            <p:cNvPicPr/>
            <p:nvPr/>
          </p:nvPicPr>
          <p:blipFill>
            <a:blip r:embed="rId1"/>
            <a:stretch/>
          </p:blipFill>
          <p:spPr>
            <a:xfrm>
              <a:off x="2171880" y="3638520"/>
              <a:ext cx="6490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j0245319" descr=""/>
            <p:cNvPicPr/>
            <p:nvPr/>
          </p:nvPicPr>
          <p:blipFill>
            <a:blip r:embed="rId2"/>
            <a:stretch/>
          </p:blipFill>
          <p:spPr>
            <a:xfrm>
              <a:off x="2171880" y="5124600"/>
              <a:ext cx="649080" cy="76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j0245319" descr=""/>
            <p:cNvPicPr/>
            <p:nvPr/>
          </p:nvPicPr>
          <p:blipFill>
            <a:blip r:embed="rId3"/>
            <a:stretch/>
          </p:blipFill>
          <p:spPr>
            <a:xfrm>
              <a:off x="6324480" y="3648240"/>
              <a:ext cx="649440" cy="76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j0245319" descr=""/>
            <p:cNvPicPr/>
            <p:nvPr/>
          </p:nvPicPr>
          <p:blipFill>
            <a:blip r:embed="rId4"/>
            <a:stretch/>
          </p:blipFill>
          <p:spPr>
            <a:xfrm>
              <a:off x="6335640" y="5153040"/>
              <a:ext cx="64764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j0245319" descr=""/>
            <p:cNvPicPr/>
            <p:nvPr/>
          </p:nvPicPr>
          <p:blipFill>
            <a:blip r:embed="rId5"/>
            <a:stretch/>
          </p:blipFill>
          <p:spPr>
            <a:xfrm>
              <a:off x="3478320" y="2314440"/>
              <a:ext cx="64764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j0245319" descr=""/>
            <p:cNvPicPr/>
            <p:nvPr/>
          </p:nvPicPr>
          <p:blipFill>
            <a:blip r:embed="rId6"/>
            <a:stretch/>
          </p:blipFill>
          <p:spPr>
            <a:xfrm>
              <a:off x="4971960" y="2314440"/>
              <a:ext cx="6494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92640" y="4719600"/>
              <a:ext cx="22287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87680" y="3290760"/>
              <a:ext cx="22384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801960" y="3080880"/>
              <a:ext cx="0" cy="2192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278320" y="3061800"/>
              <a:ext cx="0" cy="2192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52640" y="3579480"/>
              <a:ext cx="0" cy="2228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42760" y="545616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623680" y="397980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8440" y="3598920"/>
              <a:ext cx="0" cy="2209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38720" y="397044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57800" y="544680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40040" y="4719600"/>
              <a:ext cx="495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506840" y="3281400"/>
              <a:ext cx="0" cy="419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92440" y="3900600"/>
              <a:ext cx="847800" cy="752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583160" y="3890880"/>
              <a:ext cx="914400" cy="752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3289320" y="4613400"/>
            <a:ext cx="533520" cy="22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89320" y="461340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4241880" y="3689280"/>
            <a:ext cx="533160" cy="22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41880" y="3689280"/>
                      <a:ext cx="5331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5649840" y="4719600"/>
              <a:ext cx="495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5224320" y="4613400"/>
            <a:ext cx="533520" cy="228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24320" y="461340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3497400" y="3443400"/>
              <a:ext cx="223812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16080" y="3562200"/>
              <a:ext cx="0" cy="223848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969160" y="3591000"/>
              <a:ext cx="0" cy="223848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1040" y="4919760"/>
              <a:ext cx="14191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0840" y="3881520"/>
              <a:ext cx="704880" cy="60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544920" y="3900600"/>
              <a:ext cx="628560" cy="5713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1120" y="4795920"/>
              <a:ext cx="27612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725800" y="4805280"/>
              <a:ext cx="27612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6280" y="3419640"/>
              <a:ext cx="0" cy="27612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05520" y="4791240"/>
              <a:ext cx="79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Book Antiqua"/>
                </a:rPr>
                <a:t>Rou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35240" y="4791240"/>
              <a:ext cx="8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Book Antiqua"/>
                </a:rPr>
                <a:t>Rou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33880" y="3867120"/>
              <a:ext cx="79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Book Antiqua"/>
                </a:rPr>
                <a:t>Rou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Multicasting Mech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31080" y="2305080"/>
            <a:ext cx="2712960" cy="342720"/>
          </a:xfrm>
          <a:prstGeom prst="wedgeRoundRectCallout">
            <a:avLst>
              <a:gd name="adj1" fmla="val -74037"/>
              <a:gd name="adj2" fmla="val 280092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Book Antiqua"/>
                <a:ea typeface="굴림"/>
              </a:rPr>
              <a:t>Group Management Proto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2080" y="6276960"/>
            <a:ext cx="2716200" cy="343080"/>
          </a:xfrm>
          <a:prstGeom prst="wedgeRoundRectCallout">
            <a:avLst>
              <a:gd name="adj1" fmla="val 57541"/>
              <a:gd name="adj2" fmla="val -447685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Book Antiqua"/>
                <a:ea typeface="굴림"/>
              </a:rPr>
              <a:t>Multicast Routing Proto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7D3E-C534-4351-A933-4A6086BBE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Advantages of Multicasting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33280" y="2028960"/>
            <a:ext cx="66006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Network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Unicasting is the best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How about broadcasting method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Processing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If we deliver same packet several times, is it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Using 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Mailing list is quite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E88C-C198-4EDC-8D9B-3C1FA5D64B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Multicast Routing by MBone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4018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1680" y="2124000"/>
            <a:ext cx="8069040" cy="4257720"/>
            <a:chOff x="571680" y="2124000"/>
            <a:chExt cx="8069040" cy="4257720"/>
          </a:xfrm>
        </p:grpSpPr>
        <p:sp>
          <p:nvSpPr>
            <p:cNvPr id="178" name=""/>
            <p:cNvSpPr/>
            <p:nvPr/>
          </p:nvSpPr>
          <p:spPr>
            <a:xfrm>
              <a:off x="571680" y="2124000"/>
              <a:ext cx="8069040" cy="425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9" name="Tunnel" descr=""/>
            <p:cNvPicPr/>
            <p:nvPr/>
          </p:nvPicPr>
          <p:blipFill>
            <a:blip r:embed="rId1"/>
            <a:stretch/>
          </p:blipFill>
          <p:spPr>
            <a:xfrm>
              <a:off x="571680" y="3133800"/>
              <a:ext cx="7619760" cy="230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F0FF-E553-45C8-8E35-7D8114A47E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601560" y="3086280"/>
            <a:ext cx="7972560" cy="1850760"/>
            <a:chOff x="601560" y="3086280"/>
            <a:chExt cx="7972560" cy="1850760"/>
          </a:xfrm>
        </p:grpSpPr>
        <p:sp>
          <p:nvSpPr>
            <p:cNvPr id="181" name=""/>
            <p:cNvSpPr/>
            <p:nvPr/>
          </p:nvSpPr>
          <p:spPr>
            <a:xfrm>
              <a:off x="601560" y="3086280"/>
              <a:ext cx="7972560" cy="1850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2920" y="393228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0960" y="3929040"/>
              <a:ext cx="1295280" cy="0"/>
            </a:xfrm>
            <a:prstGeom prst="line">
              <a:avLst/>
            </a:prstGeom>
            <a:ln w="63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0960" y="3211560"/>
              <a:ext cx="1143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Stream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acket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38320" y="3495600"/>
              <a:ext cx="221004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j0215022" descr=""/>
            <p:cNvPicPr/>
            <p:nvPr/>
          </p:nvPicPr>
          <p:blipFill>
            <a:blip r:embed="rId1"/>
            <a:stretch/>
          </p:blipFill>
          <p:spPr>
            <a:xfrm>
              <a:off x="3929040" y="4105440"/>
              <a:ext cx="571680" cy="582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7" name=""/>
            <p:cNvGraphicFramePr/>
            <p:nvPr/>
          </p:nvGraphicFramePr>
          <p:xfrm>
            <a:off x="4919760" y="3835440"/>
            <a:ext cx="533160" cy="22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19760" y="3835440"/>
                      <a:ext cx="5331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5815080" y="3417840"/>
              <a:ext cx="2209680" cy="91440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j0215022" descr=""/>
            <p:cNvPicPr/>
            <p:nvPr/>
          </p:nvPicPr>
          <p:blipFill>
            <a:blip r:embed="rId4"/>
            <a:stretch/>
          </p:blipFill>
          <p:spPr>
            <a:xfrm>
              <a:off x="6900840" y="415908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j0215022" descr=""/>
            <p:cNvPicPr/>
            <p:nvPr/>
          </p:nvPicPr>
          <p:blipFill>
            <a:blip r:embed="rId5"/>
            <a:stretch/>
          </p:blipFill>
          <p:spPr>
            <a:xfrm>
              <a:off x="3319560" y="319104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j0215022" descr=""/>
            <p:cNvPicPr/>
            <p:nvPr/>
          </p:nvPicPr>
          <p:blipFill>
            <a:blip r:embed="rId6"/>
            <a:stretch/>
          </p:blipFill>
          <p:spPr>
            <a:xfrm>
              <a:off x="7358040" y="332100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j0215022" descr=""/>
            <p:cNvPicPr/>
            <p:nvPr/>
          </p:nvPicPr>
          <p:blipFill>
            <a:blip r:embed="rId7"/>
            <a:stretch/>
          </p:blipFill>
          <p:spPr>
            <a:xfrm>
              <a:off x="6062760" y="319104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297240" y="3780000"/>
              <a:ext cx="160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Multicas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15040" y="372420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84440" y="3929040"/>
              <a:ext cx="38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2050920" y="3832200"/>
            <a:ext cx="53352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050920" y="383220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However, …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굴림"/>
              </a:rPr>
              <a:t>Can multicasting be done effectively on the Internet to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78440" y="5349960"/>
            <a:ext cx="2363760" cy="701640"/>
          </a:xfrm>
          <a:prstGeom prst="wedgeRoundRectCallout">
            <a:avLst>
              <a:gd name="adj1" fmla="val -79666"/>
              <a:gd name="adj2" fmla="val -235069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Non multicast supporting ro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9080" y="5369040"/>
            <a:ext cx="2544480" cy="701640"/>
          </a:xfrm>
          <a:prstGeom prst="wedgeRoundRectCallout">
            <a:avLst>
              <a:gd name="adj1" fmla="val -62671"/>
              <a:gd name="adj2" fmla="val -231898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Multicast supporting router (Mbone Rout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1955-F2B6-4108-9B5D-6EDED30948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That’s why we need protocol conversion!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Protocol Conversion,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Peer to peer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Is performance good enough to deliver several streaming chann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Tunnel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Is not a sort of time consuming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</a:rPr>
              <a:t>Protocol spoo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Book Antiqua"/>
              </a:rPr>
              <a:t>What’s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AF2A-0DF5-4D86-A787-3976C2997D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15:40:44Z</dcterms:created>
  <dc:creator>Calvin Y. Go</dc:creator>
  <dc:description>TST Presentation Template</dc:description>
  <dc:language>en-US</dc:language>
  <cp:lastModifiedBy>CalvinGo</cp:lastModifiedBy>
  <cp:lastPrinted>1999-01-09T15:58:08Z</cp:lastPrinted>
  <dcterms:modified xsi:type="dcterms:W3CDTF">2001-02-21T10:03:29Z</dcterms:modified>
  <cp:revision>603</cp:revision>
  <dc:subject>Presentation Template Designs</dc:subject>
  <dc:title>No Slide Title</dc:title>
</cp:coreProperties>
</file>