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76B5-2950-417F-9E04-F9C20415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866B-75E1-4AC1-BB63-4EFB2277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5084-8353-4D13-B896-13BC09FC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4CEE-06B8-49D5-A5BA-F3A72A66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A44-105E-4484-B3BD-76683E6F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20E0-2AA1-4FAB-BBE0-289C0554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0E0E-9BB1-441D-822A-143E4BB5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6932-028C-4B25-A050-5A9376B4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2A6C-2C0D-45AA-933A-2D4C5E5B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3AB8-AC42-434A-832D-68CCCB5B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2645-A979-41BE-86AE-601BA615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5C48-0C1C-40E4-BD79-0D2767CE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CB14-DC23-4525-A599-58CBFBF06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wbn@equinix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ering Pan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iam B. Nor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-Founder, Chief Technical Lia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nix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4160" y="6095880"/>
            <a:ext cx="44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C Expo 20010221:13:00 NY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ering Negotiation takes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894040" y="2973240"/>
          <a:ext cx="335736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4040" y="2973240"/>
                    <a:ext cx="335736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526320" y="5791320"/>
            <a:ext cx="854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, sometimes things just don’t work right the firs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ecially in an industry running at full speed…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95480" y="5257800"/>
            <a:ext cx="3353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our industry is running at full spee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894040" y="2973240"/>
          <a:ext cx="334800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4040" y="2973240"/>
                    <a:ext cx="334800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294480" y="5638680"/>
            <a:ext cx="75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akes skill and technique to overcome the hurdles we 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5257800"/>
            <a:ext cx="3353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0640" y="6172200"/>
            <a:ext cx="88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ularly when we try and negotiate peering with larger network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joling may seem like a good idea at the tim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152880" y="2965320"/>
          <a:ext cx="314316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2880" y="2965320"/>
                    <a:ext cx="314316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816840" y="560376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y may see things differentl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71800" y="5257800"/>
            <a:ext cx="3352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like a singles d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make an ass out of yourself in the first ho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one will want to dance with you the rest of the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don’t make too big of an ass out of you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too little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know if your ass is too sma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AssTooSmall1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39748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cy and Language Cryp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Cryptic" descr=""/>
          <p:cNvPicPr/>
          <p:nvPr/>
        </p:nvPicPr>
        <p:blipFill>
          <a:blip r:embed="rId1"/>
          <a:stretch/>
        </p:blipFill>
        <p:spPr>
          <a:xfrm>
            <a:off x="-990720" y="1523880"/>
            <a:ext cx="107442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ering is a game of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cruise2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91048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3429000"/>
            <a:ext cx="914400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38080" y="685800"/>
            <a:ext cx="7543800" cy="5336640"/>
            <a:chOff x="838080" y="685800"/>
            <a:chExt cx="7543800" cy="5336640"/>
          </a:xfrm>
        </p:grpSpPr>
        <p:sp>
          <p:nvSpPr>
            <p:cNvPr id="296" name=""/>
            <p:cNvSpPr/>
            <p:nvPr/>
          </p:nvSpPr>
          <p:spPr>
            <a:xfrm>
              <a:off x="838080" y="685800"/>
              <a:ext cx="754380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8080" y="12193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38080" y="17524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8080" y="22860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8080" y="28195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38080" y="33526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8080" y="38862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8080" y="44197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38080" y="49528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8080" y="54864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23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09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95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81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67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52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38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24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0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96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81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92880" y="76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92520" y="5562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850520" y="762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8508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60120" y="4140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120" y="606096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193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915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62520" y="91440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518148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16560" y="3505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92684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268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402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621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2120" y="3505320"/>
            <a:ext cx="761760" cy="75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924680" y="3429000"/>
            <a:ext cx="609840" cy="763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487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5105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ering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Peering Simulation Game R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35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405360" indent="-40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Maximize bank holdings. Make money by acquiring customers and reduce transit costs by p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5360" indent="-40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: Roll the dice and expand your network by selecting that many adjacent “squares” of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in transit revenue of $2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ach customer square you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y transit fees of $1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ach square of traffic t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P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If at Exchange Point, two ISPs can negotiate peer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4800" indent="-392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00 recurring cost and loss of 2 turns, ISPs negotiates who covers the costs of p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4800" indent="-392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ing ISPs do not have to pay transit for each others squares starting the next 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467480" y="6400800"/>
            <a:ext cx="11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rou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3429000"/>
            <a:ext cx="914400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838080" y="685800"/>
            <a:ext cx="7543800" cy="5336640"/>
            <a:chOff x="838080" y="685800"/>
            <a:chExt cx="7543800" cy="5336640"/>
          </a:xfrm>
        </p:grpSpPr>
        <p:sp>
          <p:nvSpPr>
            <p:cNvPr id="343" name=""/>
            <p:cNvSpPr/>
            <p:nvPr/>
          </p:nvSpPr>
          <p:spPr>
            <a:xfrm>
              <a:off x="838080" y="685800"/>
              <a:ext cx="754380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8080" y="12193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80" y="17524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22860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8080" y="28195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8080" y="33526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8080" y="38862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38080" y="44197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8080" y="49528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8080" y="54864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23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09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95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67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52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38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24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10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96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81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92880" y="76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92520" y="5562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850520" y="762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8508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0120" y="4140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120" y="606096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3915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91440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48320" y="518148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16560" y="3505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92684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9268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402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21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2120" y="3505320"/>
            <a:ext cx="761760" cy="75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924680" y="3429000"/>
            <a:ext cx="609840" cy="763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8487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7868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816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5028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976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9288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743200" y="1905120"/>
            <a:ext cx="4038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olls 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nts to peer w/B – moves to IX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3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6 squares (6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2,000 - $3,000 = $9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rtis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jesse" descr=""/>
          <p:cNvPicPr/>
          <p:nvPr/>
        </p:nvPicPr>
        <p:blipFill>
          <a:blip r:embed="rId1"/>
          <a:stretch/>
        </p:blipFill>
        <p:spPr>
          <a:xfrm>
            <a:off x="0" y="504720"/>
            <a:ext cx="91440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3429000"/>
            <a:ext cx="914400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838080" y="685800"/>
            <a:ext cx="7543800" cy="5336640"/>
            <a:chOff x="838080" y="685800"/>
            <a:chExt cx="7543800" cy="5336640"/>
          </a:xfrm>
        </p:grpSpPr>
        <p:sp>
          <p:nvSpPr>
            <p:cNvPr id="391" name=""/>
            <p:cNvSpPr/>
            <p:nvPr/>
          </p:nvSpPr>
          <p:spPr>
            <a:xfrm>
              <a:off x="838080" y="685800"/>
              <a:ext cx="754380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12193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38080" y="17524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8080" y="22860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080" y="28195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38080" y="33526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38080" y="38862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44197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8080" y="49528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38080" y="54864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23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09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95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81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67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952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38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24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10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96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381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992880" y="76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92520" y="5562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850520" y="762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8508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60120" y="4140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120" y="606096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193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3915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91440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48320" y="518148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16560" y="3505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92684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9268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402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21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3505320"/>
            <a:ext cx="761760" cy="75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924680" y="3429000"/>
            <a:ext cx="609840" cy="763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87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7868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816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5028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5976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288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43200" y="1905120"/>
            <a:ext cx="4038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olls 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3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6 squares (6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2,000 - $3,000 = $9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95480" y="2057400"/>
            <a:ext cx="40388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rolls 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ing to IX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8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4 squares (4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8,000 - $8,000 = $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850520" y="1295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850520" y="175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850520" y="220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3429000"/>
            <a:ext cx="914400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838080" y="685800"/>
            <a:ext cx="7543800" cy="5336640"/>
            <a:chOff x="838080" y="685800"/>
            <a:chExt cx="7543800" cy="5336640"/>
          </a:xfrm>
        </p:grpSpPr>
        <p:sp>
          <p:nvSpPr>
            <p:cNvPr id="443" name=""/>
            <p:cNvSpPr/>
            <p:nvPr/>
          </p:nvSpPr>
          <p:spPr>
            <a:xfrm>
              <a:off x="838080" y="685800"/>
              <a:ext cx="754380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38080" y="12193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8080" y="17524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8080" y="22860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8080" y="28195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38080" y="33526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8080" y="38862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8080" y="44197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38080" y="49528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38080" y="54864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523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09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95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81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267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52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38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24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010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696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381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92880" y="76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92520" y="5562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850520" y="762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8508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60120" y="4140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120" y="606096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2193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3915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62520" y="91440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518148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16560" y="3505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92684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9268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402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621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2120" y="3505320"/>
            <a:ext cx="761760" cy="75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924680" y="3429000"/>
            <a:ext cx="609840" cy="763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8487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7868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8816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5028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5976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288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43200" y="1905120"/>
            <a:ext cx="4038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olls 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3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6 squares (6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2,000 - $3,000 = $9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95480" y="2057400"/>
            <a:ext cx="40388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rolls 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get to IX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8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4 squares (4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8,000 - $8,000 = $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850520" y="1295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850520" y="175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850520" y="220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048120" y="2209680"/>
            <a:ext cx="403848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rolls 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get to IXW, likes IX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11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7 squares (7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4,000 - $11,000 = $3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9252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92520" y="4495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92520" y="3962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8320" y="5562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364120" y="5562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480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0" y="3429000"/>
            <a:ext cx="914400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838080" y="685800"/>
            <a:ext cx="7543800" cy="5336640"/>
            <a:chOff x="838080" y="685800"/>
            <a:chExt cx="7543800" cy="5336640"/>
          </a:xfrm>
        </p:grpSpPr>
        <p:sp>
          <p:nvSpPr>
            <p:cNvPr id="502" name=""/>
            <p:cNvSpPr/>
            <p:nvPr/>
          </p:nvSpPr>
          <p:spPr>
            <a:xfrm>
              <a:off x="838080" y="685800"/>
              <a:ext cx="754380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38080" y="12193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38080" y="17524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38080" y="22860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38080" y="28195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8080" y="33526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38862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8080" y="44197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38080" y="49528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38080" y="54864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23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09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95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67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52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638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24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10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696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81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92880" y="76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92520" y="5562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850520" y="762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8508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60120" y="4140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20" y="606096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193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3915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91440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648320" y="518148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16560" y="3505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92684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9268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402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3505320"/>
            <a:ext cx="761760" cy="75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924680" y="3429000"/>
            <a:ext cx="609840" cy="763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8487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67868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8816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5028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65976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9288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743200" y="1905120"/>
            <a:ext cx="4038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olls 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3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6 squares (6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2,000 - $3,000 = $9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95480" y="2057400"/>
            <a:ext cx="40388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rolls 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get to IX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8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4 squares (4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8,000 - $8,000 = $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850520" y="1295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850520" y="175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850520" y="220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48120" y="2209680"/>
            <a:ext cx="403848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rolls 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get to IXW, IX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11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4 squares (7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4,000 - $11,000 = $3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99252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92520" y="4495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992520" y="3962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8320" y="5562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364120" y="5562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14480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00400" y="2362320"/>
            <a:ext cx="4038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rolls 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ate entr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ading to 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17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2 squares (2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4,000 - $17,000 =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-$13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83504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reboard after Round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 A: $9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 B: $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C: $3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D: -$13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to Round 2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3429000"/>
            <a:ext cx="914400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838080" y="685800"/>
            <a:ext cx="7543800" cy="5336640"/>
            <a:chOff x="838080" y="685800"/>
            <a:chExt cx="7543800" cy="5336640"/>
          </a:xfrm>
        </p:grpSpPr>
        <p:sp>
          <p:nvSpPr>
            <p:cNvPr id="565" name=""/>
            <p:cNvSpPr/>
            <p:nvPr/>
          </p:nvSpPr>
          <p:spPr>
            <a:xfrm>
              <a:off x="838080" y="685800"/>
              <a:ext cx="754380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8080" y="12193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38080" y="17524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38080" y="22860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38080" y="28195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38080" y="33526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38080" y="38862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44197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38080" y="49528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38080" y="54864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23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09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895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581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267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952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24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10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696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381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992880" y="76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992520" y="5562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850520" y="762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8508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60120" y="4140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120" y="606096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193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915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62520" y="91440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48320" y="518148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16560" y="3505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92684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9268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402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621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2120" y="3505320"/>
            <a:ext cx="761760" cy="75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924680" y="3429000"/>
            <a:ext cx="609840" cy="763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8487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7868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8816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05028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5976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99288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1905120"/>
            <a:ext cx="4038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olls 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3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6 squares (6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2,000 - $3,000 = $9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895480" y="2057400"/>
            <a:ext cx="40388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rolls 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get to IX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8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4 squares (4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8,000 - $8,000 = $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850520" y="1295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850520" y="175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850520" y="220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48120" y="2209680"/>
            <a:ext cx="403848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rolls 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get to IXW, IX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11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4 squares (7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4,000 - $11,000 = $3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9252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92520" y="4495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992520" y="3962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678320" y="5562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64120" y="5562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49920" y="5562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200400" y="2362320"/>
            <a:ext cx="4038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rolls 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entrant heading to 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17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4 squares (2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2,000 - $17,000 = -$1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3504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352680" y="2514600"/>
            <a:ext cx="40388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olls 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es to I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13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9 squares (9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8,000 - $13,000 = $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nts to peer with C – split cos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: -$1,000 + both lose a 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ither has to pay transit to each oth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92880" y="1828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99288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06884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14480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19320" y="3124080"/>
            <a:ext cx="152280" cy="5335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0" y="3429000"/>
            <a:ext cx="914400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838080" y="685800"/>
            <a:ext cx="7543800" cy="5336640"/>
            <a:chOff x="838080" y="685800"/>
            <a:chExt cx="7543800" cy="5336640"/>
          </a:xfrm>
        </p:grpSpPr>
        <p:sp>
          <p:nvSpPr>
            <p:cNvPr id="632" name=""/>
            <p:cNvSpPr/>
            <p:nvPr/>
          </p:nvSpPr>
          <p:spPr>
            <a:xfrm>
              <a:off x="838080" y="685800"/>
              <a:ext cx="754380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8080" y="12193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8080" y="17524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8080" y="22860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8080" y="28195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8080" y="33526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8080" y="38862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8080" y="441972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8080" y="49528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8080" y="548640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523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209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895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581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67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52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6386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3244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0102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6960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81880" y="685800"/>
              <a:ext cx="0" cy="533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992880" y="76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92520" y="5562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850520" y="762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8508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60120" y="4140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0120" y="606096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Provider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391520" y="3048120"/>
            <a:ext cx="609480" cy="53316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962520" y="91440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648320" y="5181480"/>
            <a:ext cx="609480" cy="5335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40600" y="3505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2684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774920" y="27432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40960" y="27432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21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62120" y="3505320"/>
            <a:ext cx="761760" cy="75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24680" y="3429000"/>
            <a:ext cx="609840" cy="763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848720" y="3124080"/>
            <a:ext cx="533160" cy="76320"/>
          </a:xfrm>
          <a:prstGeom prst="rect">
            <a:avLst/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67868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8816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05028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659760" y="76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9288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743200" y="1905120"/>
            <a:ext cx="4038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olls 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3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6 squares (6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2,000 - $3,000 = $9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895480" y="2057400"/>
            <a:ext cx="40388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rolls 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get to IX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8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4 squares (4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8,000 - $8,000 = $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850520" y="1295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850520" y="175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850520" y="220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048120" y="2209680"/>
            <a:ext cx="403848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rolls 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get to IXW, IX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11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4 squares (7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4,000 - $11,000 = $3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99252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992520" y="4495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2520" y="3962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678320" y="5562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4120" y="5562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049920" y="5562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00400" y="2362320"/>
            <a:ext cx="4038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rolls 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entrant heading to 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17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4 squares (2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2,000 - $17,000 = -$1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83504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352680" y="2514600"/>
            <a:ext cx="40388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olls 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es to I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13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8 squares (8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6,000 - $13,000 = $3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nts to peer with C – split cos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: -$1,000 both lose a 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ither has to pay transit to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992880" y="1828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99288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505320" y="2666880"/>
            <a:ext cx="403848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rolls 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es to IXE*I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s Transit on others squares (21*$100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eives revenue on 10 squares (10*$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20,000 - $21,000 =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-$1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nts to peer with A – split cos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: You pissed me off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: if $0 &amp; B lose both tu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walk a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371600" y="2743200"/>
            <a:ext cx="76320" cy="4572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447920" y="3505320"/>
            <a:ext cx="75960" cy="4572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148880" y="727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478920" y="762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808960" y="797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139000" y="831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97480" y="762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04920" y="533520"/>
            <a:ext cx="3200400" cy="21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Revenue squ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lost 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ing w/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 cost $8000/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COME TO BIL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CLEC ISPs that have never played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35,000 VC 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ant to hear your thought process and peering negot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ner - pr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y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962520" y="2438280"/>
            <a:ext cx="533160" cy="106704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191120" y="2514600"/>
            <a:ext cx="228600" cy="99072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 Pe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038480" y="2438280"/>
            <a:ext cx="76320" cy="99072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572000" y="2057400"/>
            <a:ext cx="2438280" cy="45720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72000" y="3581280"/>
            <a:ext cx="2438280" cy="4572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89548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800600" y="16002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3962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809880" y="160020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505320" y="213372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429000" y="37339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733920" y="19810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733920" y="2286000"/>
            <a:ext cx="15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33920" y="35812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57600" y="38862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3733920" y="4038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09880" y="182880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P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962520" y="18288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29000" y="3352680"/>
            <a:ext cx="12952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81280" y="182880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7160" y="2286000"/>
            <a:ext cx="314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ing provides ro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to e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ymmetric traffic, true,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, both companies benef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772400" y="6324480"/>
            <a:ext cx="228600" cy="2286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848720" y="228600"/>
            <a:ext cx="228600" cy="228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077320" y="457200"/>
            <a:ext cx="228600" cy="2286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153280" y="685800"/>
            <a:ext cx="228600" cy="2286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305920" y="9907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381880" y="1219320"/>
            <a:ext cx="228600" cy="2286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458200" y="1447920"/>
            <a:ext cx="228600" cy="228600"/>
          </a:xfrm>
          <a:prstGeom prst="ellipse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534520" y="1752480"/>
            <a:ext cx="228600" cy="228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610480" y="1981080"/>
            <a:ext cx="228600" cy="228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686800" y="236232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686800" y="274320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686800" y="31240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8686800" y="3505320"/>
            <a:ext cx="22860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686800" y="3886200"/>
            <a:ext cx="228600" cy="2286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610480" y="4267080"/>
            <a:ext cx="228600" cy="2286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534520" y="4648320"/>
            <a:ext cx="228600" cy="228600"/>
          </a:xfrm>
          <a:prstGeom prst="ellipse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458200" y="5105520"/>
            <a:ext cx="228600" cy="22860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305920" y="5486400"/>
            <a:ext cx="228600" cy="228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153280" y="5791320"/>
            <a:ext cx="228600" cy="2286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001000" y="609588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-237600" y="4575240"/>
            <a:ext cx="743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costs big buc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t it is a convenient plug in the wall that sa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is way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Peering costs very little and reduces transit co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Q: Who to peer with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justify costs of peer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248520" y="228600"/>
            <a:ext cx="2438280" cy="62485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str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4343400" y="274284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3848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 Peering Financia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419040" y="1066680"/>
          <a:ext cx="8305920" cy="512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066680"/>
                    <a:ext cx="8305920" cy="51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"/>
          <p:cNvSpPr/>
          <p:nvPr/>
        </p:nvSpPr>
        <p:spPr>
          <a:xfrm>
            <a:off x="4467240" y="5334120"/>
            <a:ext cx="47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Max: 100  Mbps@$1000/m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$10/Mbps/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0 Mbps@$2000/m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$  2/Mbps/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6880" y="6095880"/>
            <a:ext cx="595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Qwest/L3 quotes for OC-3 Transit@$60K/mo=$388/Mbps/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quinix GigE Peering Package (LINX/AMS-IX simi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28800" y="1676520"/>
            <a:ext cx="5181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SFNET to Post-NSFNET Era Intern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1676520"/>
            <a:ext cx="5181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75520"/>
            <a:ext cx="45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dfffc"/>
                </a:solidFill>
                <a:latin typeface="Times New Roman"/>
              </a:rPr>
              <a:t>No Internet presentation complete without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48400" y="4164120"/>
            <a:ext cx="424080" cy="181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84840" y="4164120"/>
            <a:ext cx="423720" cy="181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1280" y="4164120"/>
            <a:ext cx="423720" cy="181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11960" y="4164120"/>
            <a:ext cx="424080" cy="181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08560" y="3254400"/>
            <a:ext cx="409680" cy="565200"/>
          </a:xfrm>
          <a:prstGeom prst="downArrow">
            <a:avLst>
              <a:gd name="adj1" fmla="val 50000"/>
              <a:gd name="adj2" fmla="val 69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611280"/>
            <a:ext cx="5105160" cy="2633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70520" y="1106640"/>
            <a:ext cx="301680" cy="6332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629040" y="1023840"/>
            <a:ext cx="3240" cy="7160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7010280" y="1106640"/>
            <a:ext cx="131760" cy="709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7315200" y="1589040"/>
            <a:ext cx="380880" cy="2271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7391160" y="2041200"/>
            <a:ext cx="90360" cy="2221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7086240" y="2041560"/>
            <a:ext cx="228600" cy="6760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464160" y="2041200"/>
            <a:ext cx="12960" cy="4698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638680" y="2041200"/>
            <a:ext cx="61920" cy="7714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2022480"/>
            <a:ext cx="653760" cy="6206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106960" y="1848960"/>
            <a:ext cx="254160" cy="1666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61120" y="1521000"/>
            <a:ext cx="353880" cy="295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1138320"/>
            <a:ext cx="1066680" cy="601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76880" y="4081320"/>
            <a:ext cx="338040" cy="411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00600" y="3848040"/>
            <a:ext cx="84240" cy="412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802560" y="3916440"/>
            <a:ext cx="85680" cy="4125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396200" y="4299120"/>
            <a:ext cx="452520" cy="4442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7311600" y="5734080"/>
            <a:ext cx="536760" cy="1332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191200" y="5854320"/>
            <a:ext cx="593640" cy="328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784840" y="5816520"/>
            <a:ext cx="169920" cy="495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632640" y="5816160"/>
            <a:ext cx="0" cy="412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82520" y="1336680"/>
            <a:ext cx="171864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BAR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4280" y="861480"/>
            <a:ext cx="142596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W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26320" y="2474280"/>
            <a:ext cx="130464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Sesq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3720" y="1237680"/>
            <a:ext cx="173160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EA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51600" y="710640"/>
            <a:ext cx="179604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ys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50160" y="594720"/>
            <a:ext cx="113652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er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63760" y="2743200"/>
            <a:ext cx="116280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39840" y="636120"/>
            <a:ext cx="144900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Oa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75640" y="2592360"/>
            <a:ext cx="167328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01160" y="2023560"/>
            <a:ext cx="167328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75240" y="1917720"/>
            <a:ext cx="167328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76880" y="1640880"/>
            <a:ext cx="245592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SF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78720" y="2517840"/>
            <a:ext cx="105948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SD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76880" y="5556240"/>
            <a:ext cx="220500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AT&amp;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76880" y="5180040"/>
            <a:ext cx="220500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76880" y="4811760"/>
            <a:ext cx="220500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Spr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76880" y="4449240"/>
            <a:ext cx="220500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UU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76880" y="4056120"/>
            <a:ext cx="220500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560" y="3830040"/>
            <a:ext cx="142596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W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02440" y="3871440"/>
            <a:ext cx="179604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ys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3880" y="3484080"/>
            <a:ext cx="113652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er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39840" y="3414240"/>
            <a:ext cx="144900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Oa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41920" y="5825520"/>
            <a:ext cx="167328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97400" y="6211440"/>
            <a:ext cx="167328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59720" y="6110280"/>
            <a:ext cx="167328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61440" y="5471640"/>
            <a:ext cx="1673280" cy="52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838080"/>
            <a:ext cx="3505320" cy="46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FNET (1987-1994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gional Tech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ance &amp;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orting &amp; Coordin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uting &amp; Network Pl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ization (1994-Now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rth American Network Operators 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NANOG)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peering insignificant relative to long term savings of transit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ing Simulator vs. Peering Real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Papers Available (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bn@equinix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connection Strategies for ISP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Service Providers and Peer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Study: Peering in the DC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Study: Peering in the Bay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on: “Content Peering” and “Build vs. Buy Internet Datacente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talk over BEER(s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7.5% of all Internet statistics are made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43000" y="1600200"/>
          <a:ext cx="64008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64008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5339880" y="6532560"/>
            <a:ext cx="182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e: I mad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2080" y="628956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: I made i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ering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sations: 200 ISP Peering Coordin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 Paper: “Internet Service Providers and Peer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Definitions of the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Summary Findings from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Live the Life: Peering Simu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 of Peering and Trans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838080"/>
            <a:ext cx="9144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8440" y="5799240"/>
            <a:ext cx="764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ans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the business relationship whereby one IS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ls access 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destin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its routing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5800" y="990720"/>
            <a:ext cx="911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e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the business relationship whereby IS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iprocally announce reachability to each others’ transit custo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035600" y="2586600"/>
            <a:ext cx="842040" cy="316440"/>
            <a:chOff x="4035600" y="2586600"/>
            <a:chExt cx="842040" cy="316440"/>
          </a:xfrm>
        </p:grpSpPr>
        <p:sp>
          <p:nvSpPr>
            <p:cNvPr id="119" name=""/>
            <p:cNvSpPr/>
            <p:nvPr/>
          </p:nvSpPr>
          <p:spPr>
            <a:xfrm rot="10861200">
              <a:off x="4037400" y="2667240"/>
              <a:ext cx="838080" cy="228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0861200">
              <a:off x="4649040" y="2595960"/>
              <a:ext cx="152640" cy="151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0861200">
              <a:off x="4420440" y="2592000"/>
              <a:ext cx="152640" cy="151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0861200">
              <a:off x="4191840" y="25876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438280" y="3200400"/>
            <a:ext cx="914400" cy="763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3276720"/>
            <a:ext cx="761760" cy="759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5960" y="2714760"/>
            <a:ext cx="1917720" cy="115092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87880" y="2806560"/>
            <a:ext cx="2293920" cy="95904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2040" y="2806560"/>
            <a:ext cx="2293920" cy="95904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08640" y="2133720"/>
            <a:ext cx="1000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48120" y="4056120"/>
            <a:ext cx="1130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23623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2286000"/>
            <a:ext cx="30492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3657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9625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205740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198108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205740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403848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4114800"/>
            <a:ext cx="30456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2514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24382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0120" y="243828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2514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8862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15200" y="38862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72400" y="38098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29600" y="3657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5040" y="30481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9800" y="30481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st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5480" y="30481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st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6840" y="2209680"/>
            <a:ext cx="1000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2743200"/>
            <a:ext cx="0" cy="1066680"/>
          </a:xfrm>
          <a:prstGeom prst="line">
            <a:avLst/>
          </a:prstGeom>
          <a:ln w="12600">
            <a:solidFill>
              <a:srgbClr val="081d5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2590920"/>
            <a:ext cx="38088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2895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1800" y="33526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2819520"/>
            <a:ext cx="0" cy="1066680"/>
          </a:xfrm>
          <a:prstGeom prst="line">
            <a:avLst/>
          </a:prstGeom>
          <a:ln w="12600">
            <a:solidFill>
              <a:srgbClr val="081d5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666880"/>
            <a:ext cx="380880" cy="129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97180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3429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038480" y="3733920"/>
            <a:ext cx="838080" cy="304200"/>
            <a:chOff x="4038480" y="3733920"/>
            <a:chExt cx="838080" cy="304200"/>
          </a:xfrm>
        </p:grpSpPr>
        <p:sp>
          <p:nvSpPr>
            <p:cNvPr id="162" name=""/>
            <p:cNvSpPr/>
            <p:nvPr/>
          </p:nvSpPr>
          <p:spPr>
            <a:xfrm>
              <a:off x="4038480" y="3733920"/>
              <a:ext cx="838080" cy="228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14440" y="3886200"/>
              <a:ext cx="152640" cy="151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43040" y="3886200"/>
              <a:ext cx="152640" cy="151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1640" y="388620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V="1">
            <a:off x="3962520" y="39621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4800240" y="39621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2362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343400" y="22860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800240" y="2362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89512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8669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9112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267080" y="2743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495680" y="2743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724280" y="2743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8954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26668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25909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85800" y="36576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990720" y="3809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371600" y="3886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051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816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38880" y="2743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96080" y="2743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8153280" y="28195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674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4872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29600" y="3581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9800" y="439884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924680" y="4267080"/>
            <a:ext cx="30492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426708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4495680"/>
            <a:ext cx="304560" cy="304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449568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4495680"/>
            <a:ext cx="30492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2600" y="4322880"/>
            <a:ext cx="8380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48720" y="4191120"/>
            <a:ext cx="8380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4495680"/>
            <a:ext cx="12189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77400" y="4408560"/>
            <a:ext cx="158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429000" y="48765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362320"/>
            <a:ext cx="304560" cy="304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2590920"/>
            <a:ext cx="304920" cy="304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3657600"/>
            <a:ext cx="30492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38862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3962520"/>
            <a:ext cx="304920" cy="304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2600" y="4398840"/>
            <a:ext cx="30492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1153800" y="4746240"/>
            <a:ext cx="82692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60160" y="5324400"/>
            <a:ext cx="62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ote: Peering is a Non-Transitive Relationsh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 Continue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fers to the physical/data link layer interconnection media (fiber cross connect, circuits, switching fabri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0200" y="3570120"/>
            <a:ext cx="775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Tier 1 IS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n ISP that has access to the global Internet routing table without purchasing transit (I.e. solely from peering relationship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minute Intro to Pe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2590920"/>
            <a:ext cx="76320" cy="99036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2133720"/>
            <a:ext cx="2438640" cy="22860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3733920"/>
            <a:ext cx="2438280" cy="2286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3124080"/>
            <a:ext cx="761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00600" y="16002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48320" y="3962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9880" y="160020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213372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37339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05320" y="34290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40384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19810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2286000"/>
            <a:ext cx="15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5812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38862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733920" y="40384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182880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P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18288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3429000"/>
            <a:ext cx="9144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182880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5760" y="2362320"/>
            <a:ext cx="31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ing provides ro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to e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72400" y="6324480"/>
            <a:ext cx="228600" cy="2286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48720" y="228600"/>
            <a:ext cx="228600" cy="228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457200"/>
            <a:ext cx="228600" cy="2286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53280" y="685800"/>
            <a:ext cx="228600" cy="2286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05920" y="9907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1880" y="1219320"/>
            <a:ext cx="228600" cy="2286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58200" y="1447920"/>
            <a:ext cx="228600" cy="228600"/>
          </a:xfrm>
          <a:prstGeom prst="ellipse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752480"/>
            <a:ext cx="228600" cy="228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610480" y="1981080"/>
            <a:ext cx="228600" cy="2286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686800" y="236232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686800" y="274320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686800" y="31240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686800" y="3505320"/>
            <a:ext cx="22860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686800" y="3886200"/>
            <a:ext cx="228600" cy="2286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610480" y="4267080"/>
            <a:ext cx="228600" cy="2286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534520" y="4648320"/>
            <a:ext cx="228600" cy="228600"/>
          </a:xfrm>
          <a:prstGeom prst="ellipse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458200" y="5105520"/>
            <a:ext cx="228600" cy="22860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05920" y="5486400"/>
            <a:ext cx="228600" cy="228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53280" y="5791320"/>
            <a:ext cx="228600" cy="2286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01000" y="609588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237600" y="4575240"/>
            <a:ext cx="743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costs big buc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t it is a convenient plug in the wall that sa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is way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Peering costs very little and reduces transit co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Q: Who to peer with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justify costs of peer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228600"/>
            <a:ext cx="2438280" cy="62485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str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93160" y="651816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finding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ke any professional pursuit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894040" y="2973240"/>
          <a:ext cx="335736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4040" y="2973240"/>
                    <a:ext cx="335736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220320" y="5791320"/>
            <a:ext cx="898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ay seem easy, bu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ing Coordinators role is more than just walking the walk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95480" y="5257800"/>
            <a:ext cx="3353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6T00:08:34Z</dcterms:created>
  <dc:creator>William B. Norton</dc:creator>
  <dc:description/>
  <dc:language>en-US</dc:language>
  <cp:lastModifiedBy>William B. Norton</cp:lastModifiedBy>
  <dcterms:modified xsi:type="dcterms:W3CDTF">2001-02-21T19:39:12Z</dcterms:modified>
  <cp:revision>25</cp:revision>
  <dc:subject/>
  <dc:title>Peering BOF III</dc:title>
</cp:coreProperties>
</file>