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31.wmf" ContentType="image/x-wmf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5.png" ContentType="image/png"/>
  <Override PartName="/ppt/media/image36.png" ContentType="image/png"/>
  <Override PartName="/ppt/media/image37.png" ContentType="image/png"/>
  <Override PartName="/ppt/media/image43.png" ContentType="image/png"/>
  <Override PartName="/ppt/media/image3.wmf" ContentType="image/x-wmf"/>
  <Override PartName="/ppt/media/image44.png" ContentType="image/png"/>
  <Override PartName="/ppt/media/image4.wmf" ContentType="image/x-wmf"/>
  <Override PartName="/ppt/media/image33.png" ContentType="image/png"/>
  <Override PartName="/ppt/media/image45.png" ContentType="image/png"/>
  <Override PartName="/ppt/media/image5.wmf" ContentType="image/x-wmf"/>
  <Override PartName="/ppt/media/image1.jpeg" ContentType="image/jpeg"/>
  <Override PartName="/ppt/media/image10.png" ContentType="image/png"/>
  <Override PartName="/ppt/media/image40.png" ContentType="image/png"/>
  <Override PartName="/ppt/media/image38.wmf" ContentType="image/x-wmf"/>
  <Override PartName="/ppt/media/image8.wmf" ContentType="image/x-wmf"/>
  <Override PartName="/ppt/media/image13.png" ContentType="image/png"/>
  <Override PartName="/ppt/media/image30.jpeg" ContentType="image/jpeg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4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7250113" cy="9536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3F79-56D7-4129-A21B-C8E63A5A4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70BA-5C13-4323-BC1A-72E594A02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6E60-7C02-44F8-89C2-9EF7453E4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693E-E4AE-4161-9F60-392035161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7AB2-83EF-4A0D-A0F8-5CDDFB7CE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EF44-841F-4837-B543-6C6539E9F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6D39-9AF1-4ED9-8832-BF200FCC5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0C84-F82D-4CE9-A0CF-2B431BCD3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7EAE-DCA8-40FE-94A6-C85F98456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9C03-0D00-4E0B-8C2D-9F5A47F8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60C4-A1F3-47E1-8135-89F514A8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C821-D7D8-4353-B335-E7AB88BB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– Ensim Cor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C1C16-7937-4F3E-81CE-135501785D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ENSIM_GEAR_GREY_watermark" descr=""/>
          <p:cNvPicPr/>
          <p:nvPr/>
        </p:nvPicPr>
        <p:blipFill>
          <a:blip r:embed="rId2"/>
          <a:stretch/>
        </p:blipFill>
        <p:spPr>
          <a:xfrm>
            <a:off x="6553080" y="4197240"/>
            <a:ext cx="3200400" cy="3194280"/>
          </a:xfrm>
          <a:prstGeom prst="rect">
            <a:avLst/>
          </a:prstGeom>
          <a:ln w="0">
            <a:noFill/>
          </a:ln>
        </p:spPr>
      </p:pic>
      <p:pic>
        <p:nvPicPr>
          <p:cNvPr id="6" name="en485BMP" descr=""/>
          <p:cNvPicPr/>
          <p:nvPr/>
        </p:nvPicPr>
        <p:blipFill>
          <a:blip r:embed="rId3"/>
          <a:stretch/>
        </p:blipFill>
        <p:spPr>
          <a:xfrm>
            <a:off x="7599240" y="103320"/>
            <a:ext cx="1274760" cy="86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2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5.png"/><Relationship Id="rId14" Type="http://schemas.openxmlformats.org/officeDocument/2006/relationships/image" Target="../media/image27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28.png"/><Relationship Id="rId19" Type="http://schemas.openxmlformats.org/officeDocument/2006/relationships/image" Target="../media/image29.png"/><Relationship Id="rId20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8.wmf"/><Relationship Id="rId9" Type="http://schemas.openxmlformats.org/officeDocument/2006/relationships/image" Target="../media/image39.png"/><Relationship Id="rId10" Type="http://schemas.openxmlformats.org/officeDocument/2006/relationships/image" Target="../media/image40.png"/><Relationship Id="rId11" Type="http://schemas.openxmlformats.org/officeDocument/2006/relationships/image" Target="../media/image41.png"/><Relationship Id="rId12" Type="http://schemas.openxmlformats.org/officeDocument/2006/relationships/image" Target="../media/image42.jpeg"/><Relationship Id="rId13" Type="http://schemas.openxmlformats.org/officeDocument/2006/relationships/image" Target="../media/image43.png"/><Relationship Id="rId14" Type="http://schemas.openxmlformats.org/officeDocument/2006/relationships/image" Target="../media/image44.png"/><Relationship Id="rId15" Type="http://schemas.openxmlformats.org/officeDocument/2006/relationships/image" Target="../media/image45.png"/><Relationship Id="rId1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mailto:Ehamid@ensim.com" TargetMode="External"/><Relationship Id="rId2" Type="http://schemas.openxmlformats.org/officeDocument/2006/relationships/hyperlink" Target="mailto:Ehamid@ensim.com" TargetMode="External"/><Relationship Id="rId3" Type="http://schemas.openxmlformats.org/officeDocument/2006/relationships/hyperlink" Target="mailto:Ehamid@ensim.com" TargetMode="External"/><Relationship Id="rId4" Type="http://schemas.openxmlformats.org/officeDocument/2006/relationships/hyperlink" Target="mailto:Sgupta@ensim.com" TargetMode="External"/><Relationship Id="rId5" Type="http://schemas.openxmlformats.org/officeDocument/2006/relationships/hyperlink" Target="mailto:Sgupta@ensim.com" TargetMode="External"/><Relationship Id="rId6" Type="http://schemas.openxmlformats.org/officeDocument/2006/relationships/hyperlink" Target="mailto:Sgupta@ensim.com" TargetMode="External"/><Relationship Id="rId7" Type="http://schemas.openxmlformats.org/officeDocument/2006/relationships/hyperlink" Target="mailto:Sgupta@ensim.com" TargetMode="External"/><Relationship Id="rId8" Type="http://schemas.openxmlformats.org/officeDocument/2006/relationships/hyperlink" Target="http://www.ensim.com/" TargetMode="External"/><Relationship Id="rId9" Type="http://schemas.openxmlformats.org/officeDocument/2006/relationships/hyperlink" Target="http://www.ensim.com/" TargetMode="External"/><Relationship Id="rId10" Type="http://schemas.openxmlformats.org/officeDocument/2006/relationships/hyperlink" Target="http://www.ensim.com/" TargetMode="External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5.png"/><Relationship Id="rId14" Type="http://schemas.openxmlformats.org/officeDocument/2006/relationships/image" Target="../media/image12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2.png"/><Relationship Id="rId18" Type="http://schemas.openxmlformats.org/officeDocument/2006/relationships/image" Target="../media/image14.png"/><Relationship Id="rId19" Type="http://schemas.openxmlformats.org/officeDocument/2006/relationships/oleObject" Target="../embeddings/oleObject1.bin"/><Relationship Id="rId20" Type="http://schemas.openxmlformats.org/officeDocument/2006/relationships/image" Target="../media/image16.png"/><Relationship Id="rId21" Type="http://schemas.openxmlformats.org/officeDocument/2006/relationships/oleObject" Target="../embeddings/oleObject2.bin"/><Relationship Id="rId22" Type="http://schemas.openxmlformats.org/officeDocument/2006/relationships/image" Target="../media/image16.png"/><Relationship Id="rId23" Type="http://schemas.openxmlformats.org/officeDocument/2006/relationships/oleObject" Target="../embeddings/oleObject3.bin"/><Relationship Id="rId24" Type="http://schemas.openxmlformats.org/officeDocument/2006/relationships/image" Target="../media/image16.png"/><Relationship Id="rId2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0520" y="1482840"/>
            <a:ext cx="872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b Hosting Auto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14360" y="2060640"/>
            <a:ext cx="8348760" cy="3425760"/>
          </a:xfrm>
          <a:custGeom>
            <a:avLst/>
            <a:gdLst/>
            <a:ahLst/>
            <a:rect l="l" t="t" r="r" b="b"/>
            <a:pathLst>
              <a:path w="5280" h="2256">
                <a:moveTo>
                  <a:pt x="0" y="0"/>
                </a:moveTo>
                <a:lnTo>
                  <a:pt x="5280" y="0"/>
                </a:lnTo>
                <a:lnTo>
                  <a:pt x="5280" y="225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572000" y="5486400"/>
            <a:ext cx="4262040" cy="1191240"/>
            <a:chOff x="4572000" y="5486400"/>
            <a:chExt cx="4262040" cy="1191240"/>
          </a:xfrm>
        </p:grpSpPr>
        <p:sp>
          <p:nvSpPr>
            <p:cNvPr id="46" name=""/>
            <p:cNvSpPr/>
            <p:nvPr/>
          </p:nvSpPr>
          <p:spPr>
            <a:xfrm>
              <a:off x="4572000" y="5486400"/>
              <a:ext cx="4262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andip Gup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VP – Business Develop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nsim Corp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570880" y="5572080"/>
              <a:ext cx="183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576280" y="5971320"/>
              <a:ext cx="184320" cy="1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68280" y="965160"/>
            <a:ext cx="803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man" descr=""/>
          <p:cNvPicPr/>
          <p:nvPr/>
        </p:nvPicPr>
        <p:blipFill>
          <a:blip r:embed="rId1"/>
          <a:stretch/>
        </p:blipFill>
        <p:spPr>
          <a:xfrm>
            <a:off x="447840" y="1371600"/>
            <a:ext cx="4733640" cy="4734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636080" y="1371600"/>
            <a:ext cx="3931200" cy="44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Installing New Serv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Provisioning Hoste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Managing the Server F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Guaranteeing Service Qu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Providing Technical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Adding New Service Offe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Upgrading Systems and 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24 X 7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Hiring More IT Profession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Integrating Back Office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Getting Some Sl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468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o Many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II. Possible Altern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7468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68280" y="965160"/>
            <a:ext cx="803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685800" y="1289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of subscribers to be suppo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of applications/services to be off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and Avail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ice level agre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cono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ild vs. Bu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st per subscriber (Resources + Capit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rvices on dem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7468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68280" y="965160"/>
            <a:ext cx="803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5800" y="1289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of subscribers to be suppo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of applications/services to be off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and Avail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ice level agre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cono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ild vs. Bu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st per subscriber (Resources + Capit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rvices on dem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7468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ovider Seg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68280" y="965160"/>
            <a:ext cx="803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23880" y="1219320"/>
            <a:ext cx="3730680" cy="14475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03160" y="5415120"/>
            <a:ext cx="835920" cy="9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com 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g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258240" y="5624640"/>
            <a:ext cx="73404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d-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g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rot="5400000">
            <a:off x="2719440" y="1509840"/>
            <a:ext cx="1336680" cy="370044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446200" y="1246320"/>
            <a:ext cx="0" cy="2820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01160" y="11923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176880" y="1219320"/>
            <a:ext cx="928800" cy="14475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84880" y="119232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54280" y="119232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08280" y="119232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02240" y="119232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038320" y="4208400"/>
            <a:ext cx="3138480" cy="976320"/>
          </a:xfrm>
          <a:prstGeom prst="parallelogram">
            <a:avLst>
              <a:gd name="adj" fmla="val 17093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59480" y="4132440"/>
            <a:ext cx="979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ll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19200" y="1222200"/>
            <a:ext cx="3733920" cy="5247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253120" y="1220760"/>
            <a:ext cx="928440" cy="5249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183360" y="1220760"/>
            <a:ext cx="934920" cy="5249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311640" y="1238400"/>
            <a:ext cx="0" cy="2820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251240" y="1238400"/>
            <a:ext cx="0" cy="2820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 rot="5400000">
            <a:off x="2773440" y="4021560"/>
            <a:ext cx="1184040" cy="370044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970000" y="56991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41600" y="6168960"/>
            <a:ext cx="590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-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03440" y="6168960"/>
            <a:ext cx="703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-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78240" y="6168960"/>
            <a:ext cx="81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-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260960" y="6168960"/>
            <a:ext cx="928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-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44760" y="5249880"/>
            <a:ext cx="0" cy="1222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87880" y="5256360"/>
            <a:ext cx="0" cy="1222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251240" y="5246640"/>
            <a:ext cx="0" cy="1222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568800">
            <a:off x="1479960" y="5369040"/>
            <a:ext cx="1501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umber of compan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31520" y="5940360"/>
            <a:ext cx="1104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# employ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714680" y="6153120"/>
            <a:ext cx="34081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877040" y="1590840"/>
            <a:ext cx="2867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-Density Hosting Provi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254560" y="1220760"/>
            <a:ext cx="925560" cy="155592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497560" y="1177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646640" y="3571920"/>
            <a:ext cx="1483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# hosted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47720" y="3755880"/>
            <a:ext cx="585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lt; 1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450160" y="3755880"/>
            <a:ext cx="81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- 20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95800" y="3755880"/>
            <a:ext cx="985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 -100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349520" y="3755880"/>
            <a:ext cx="754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gt;100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568800">
            <a:off x="1482120" y="2808360"/>
            <a:ext cx="1885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umber of service provid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1709640" y="3784680"/>
            <a:ext cx="34084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253120" y="1503360"/>
            <a:ext cx="9363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lex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s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14240" y="1503360"/>
            <a:ext cx="10674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terpris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7468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gment I Provi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68280" y="965160"/>
            <a:ext cx="803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685800" y="1289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04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ing infra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ances (purpose built h/w) for Web hosting and sto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 purpose servers with home grown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-locate at other data cen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104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me grown BSS/OSS for order management, billing, customer relation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104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up of web-site for service/plan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7468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gment II/III Provi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68280" y="965160"/>
            <a:ext cx="803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685800" y="1289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ing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liances (purpose built h/w) for Web hosting, storage, virus sc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 purpose servers with home grown control panel softwa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ad Balancers, Firewa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have their own data ce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-end BSS/OSS for order management, billing, customer relatio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rtain level of automation for management and deplo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27468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gment IV Provi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68280" y="965160"/>
            <a:ext cx="803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685800" y="1289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ing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 purpose servers with home grown control panel 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ad Balancers, firewalls, ca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st of the them have their own data ce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-end BSS/OSS for order management, billing, customer relationship connected via a control 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rtain level of automation for management and deplo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solved by maintaining a software development department intern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27468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ossible Alterna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68280" y="965160"/>
            <a:ext cx="803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685800" y="1289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llenges still ex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V. Ensim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76520" y="3200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th to Profitability &gt;&gt;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7468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esentation Age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74680" y="1522440"/>
            <a:ext cx="827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t Opport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ing Challe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Altern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im Solution - Path to Profi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Ens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8280" y="965160"/>
            <a:ext cx="803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04920" y="1143000"/>
            <a:ext cx="8408880" cy="105552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rehensive solution for automating the Simple, Scaleable and Profitable deployment of hoste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ensimeXserver" descr=""/>
          <p:cNvPicPr/>
          <p:nvPr/>
        </p:nvPicPr>
        <p:blipFill>
          <a:blip r:embed="rId1"/>
          <a:stretch/>
        </p:blipFill>
        <p:spPr>
          <a:xfrm>
            <a:off x="3124080" y="4479840"/>
            <a:ext cx="2743200" cy="870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2362320" y="3565440"/>
            <a:ext cx="432576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Ensim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Server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chang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666880" y="2498760"/>
            <a:ext cx="2203560" cy="1565280"/>
          </a:xfrm>
          <a:custGeom>
            <a:avLst/>
            <a:gdLst/>
            <a:ahLst/>
            <a:rect l="l" t="t" r="r" b="b"/>
            <a:pathLst>
              <a:path w="1206" h="828">
                <a:moveTo>
                  <a:pt x="0" y="765"/>
                </a:moveTo>
                <a:lnTo>
                  <a:pt x="164" y="828"/>
                </a:lnTo>
                <a:lnTo>
                  <a:pt x="168" y="815"/>
                </a:lnTo>
                <a:lnTo>
                  <a:pt x="173" y="801"/>
                </a:lnTo>
                <a:lnTo>
                  <a:pt x="180" y="783"/>
                </a:lnTo>
                <a:lnTo>
                  <a:pt x="186" y="767"/>
                </a:lnTo>
                <a:lnTo>
                  <a:pt x="192" y="752"/>
                </a:lnTo>
                <a:lnTo>
                  <a:pt x="199" y="739"/>
                </a:lnTo>
                <a:lnTo>
                  <a:pt x="206" y="722"/>
                </a:lnTo>
                <a:lnTo>
                  <a:pt x="212" y="709"/>
                </a:lnTo>
                <a:lnTo>
                  <a:pt x="221" y="693"/>
                </a:lnTo>
                <a:lnTo>
                  <a:pt x="228" y="678"/>
                </a:lnTo>
                <a:lnTo>
                  <a:pt x="237" y="663"/>
                </a:lnTo>
                <a:lnTo>
                  <a:pt x="246" y="650"/>
                </a:lnTo>
                <a:lnTo>
                  <a:pt x="253" y="638"/>
                </a:lnTo>
                <a:lnTo>
                  <a:pt x="261" y="627"/>
                </a:lnTo>
                <a:lnTo>
                  <a:pt x="269" y="614"/>
                </a:lnTo>
                <a:lnTo>
                  <a:pt x="278" y="602"/>
                </a:lnTo>
                <a:lnTo>
                  <a:pt x="288" y="588"/>
                </a:lnTo>
                <a:lnTo>
                  <a:pt x="297" y="575"/>
                </a:lnTo>
                <a:lnTo>
                  <a:pt x="304" y="566"/>
                </a:lnTo>
                <a:lnTo>
                  <a:pt x="312" y="554"/>
                </a:lnTo>
                <a:lnTo>
                  <a:pt x="323" y="541"/>
                </a:lnTo>
                <a:lnTo>
                  <a:pt x="336" y="527"/>
                </a:lnTo>
                <a:lnTo>
                  <a:pt x="351" y="509"/>
                </a:lnTo>
                <a:lnTo>
                  <a:pt x="365" y="493"/>
                </a:lnTo>
                <a:lnTo>
                  <a:pt x="381" y="477"/>
                </a:lnTo>
                <a:lnTo>
                  <a:pt x="397" y="461"/>
                </a:lnTo>
                <a:lnTo>
                  <a:pt x="416" y="445"/>
                </a:lnTo>
                <a:lnTo>
                  <a:pt x="430" y="433"/>
                </a:lnTo>
                <a:lnTo>
                  <a:pt x="446" y="420"/>
                </a:lnTo>
                <a:lnTo>
                  <a:pt x="464" y="406"/>
                </a:lnTo>
                <a:lnTo>
                  <a:pt x="484" y="392"/>
                </a:lnTo>
                <a:lnTo>
                  <a:pt x="505" y="377"/>
                </a:lnTo>
                <a:lnTo>
                  <a:pt x="524" y="364"/>
                </a:lnTo>
                <a:lnTo>
                  <a:pt x="546" y="351"/>
                </a:lnTo>
                <a:lnTo>
                  <a:pt x="569" y="337"/>
                </a:lnTo>
                <a:lnTo>
                  <a:pt x="591" y="326"/>
                </a:lnTo>
                <a:lnTo>
                  <a:pt x="612" y="316"/>
                </a:lnTo>
                <a:lnTo>
                  <a:pt x="632" y="307"/>
                </a:lnTo>
                <a:lnTo>
                  <a:pt x="651" y="298"/>
                </a:lnTo>
                <a:lnTo>
                  <a:pt x="673" y="289"/>
                </a:lnTo>
                <a:lnTo>
                  <a:pt x="694" y="281"/>
                </a:lnTo>
                <a:lnTo>
                  <a:pt x="715" y="274"/>
                </a:lnTo>
                <a:lnTo>
                  <a:pt x="738" y="267"/>
                </a:lnTo>
                <a:lnTo>
                  <a:pt x="758" y="260"/>
                </a:lnTo>
                <a:lnTo>
                  <a:pt x="782" y="254"/>
                </a:lnTo>
                <a:lnTo>
                  <a:pt x="806" y="248"/>
                </a:lnTo>
                <a:lnTo>
                  <a:pt x="830" y="243"/>
                </a:lnTo>
                <a:lnTo>
                  <a:pt x="855" y="238"/>
                </a:lnTo>
                <a:lnTo>
                  <a:pt x="882" y="234"/>
                </a:lnTo>
                <a:lnTo>
                  <a:pt x="905" y="232"/>
                </a:lnTo>
                <a:lnTo>
                  <a:pt x="929" y="230"/>
                </a:lnTo>
                <a:lnTo>
                  <a:pt x="957" y="229"/>
                </a:lnTo>
                <a:lnTo>
                  <a:pt x="980" y="229"/>
                </a:lnTo>
                <a:lnTo>
                  <a:pt x="1008" y="229"/>
                </a:lnTo>
                <a:lnTo>
                  <a:pt x="1008" y="289"/>
                </a:lnTo>
                <a:lnTo>
                  <a:pt x="1206" y="150"/>
                </a:lnTo>
                <a:lnTo>
                  <a:pt x="1008" y="0"/>
                </a:lnTo>
                <a:lnTo>
                  <a:pt x="1008" y="57"/>
                </a:lnTo>
                <a:lnTo>
                  <a:pt x="977" y="57"/>
                </a:lnTo>
                <a:lnTo>
                  <a:pt x="949" y="58"/>
                </a:lnTo>
                <a:lnTo>
                  <a:pt x="919" y="60"/>
                </a:lnTo>
                <a:lnTo>
                  <a:pt x="893" y="62"/>
                </a:lnTo>
                <a:lnTo>
                  <a:pt x="868" y="64"/>
                </a:lnTo>
                <a:lnTo>
                  <a:pt x="844" y="67"/>
                </a:lnTo>
                <a:lnTo>
                  <a:pt x="818" y="71"/>
                </a:lnTo>
                <a:lnTo>
                  <a:pt x="794" y="76"/>
                </a:lnTo>
                <a:lnTo>
                  <a:pt x="772" y="80"/>
                </a:lnTo>
                <a:lnTo>
                  <a:pt x="748" y="85"/>
                </a:lnTo>
                <a:lnTo>
                  <a:pt x="718" y="92"/>
                </a:lnTo>
                <a:lnTo>
                  <a:pt x="695" y="99"/>
                </a:lnTo>
                <a:lnTo>
                  <a:pt x="672" y="106"/>
                </a:lnTo>
                <a:lnTo>
                  <a:pt x="650" y="113"/>
                </a:lnTo>
                <a:lnTo>
                  <a:pt x="624" y="123"/>
                </a:lnTo>
                <a:lnTo>
                  <a:pt x="599" y="132"/>
                </a:lnTo>
                <a:lnTo>
                  <a:pt x="577" y="142"/>
                </a:lnTo>
                <a:lnTo>
                  <a:pt x="555" y="151"/>
                </a:lnTo>
                <a:lnTo>
                  <a:pt x="530" y="164"/>
                </a:lnTo>
                <a:lnTo>
                  <a:pt x="507" y="175"/>
                </a:lnTo>
                <a:lnTo>
                  <a:pt x="485" y="186"/>
                </a:lnTo>
                <a:lnTo>
                  <a:pt x="464" y="198"/>
                </a:lnTo>
                <a:lnTo>
                  <a:pt x="444" y="209"/>
                </a:lnTo>
                <a:lnTo>
                  <a:pt x="424" y="223"/>
                </a:lnTo>
                <a:lnTo>
                  <a:pt x="405" y="235"/>
                </a:lnTo>
                <a:lnTo>
                  <a:pt x="383" y="250"/>
                </a:lnTo>
                <a:lnTo>
                  <a:pt x="362" y="265"/>
                </a:lnTo>
                <a:lnTo>
                  <a:pt x="343" y="280"/>
                </a:lnTo>
                <a:lnTo>
                  <a:pt x="325" y="296"/>
                </a:lnTo>
                <a:lnTo>
                  <a:pt x="307" y="311"/>
                </a:lnTo>
                <a:lnTo>
                  <a:pt x="290" y="325"/>
                </a:lnTo>
                <a:lnTo>
                  <a:pt x="275" y="339"/>
                </a:lnTo>
                <a:lnTo>
                  <a:pt x="256" y="357"/>
                </a:lnTo>
                <a:lnTo>
                  <a:pt x="240" y="376"/>
                </a:lnTo>
                <a:lnTo>
                  <a:pt x="225" y="391"/>
                </a:lnTo>
                <a:lnTo>
                  <a:pt x="209" y="408"/>
                </a:lnTo>
                <a:lnTo>
                  <a:pt x="194" y="426"/>
                </a:lnTo>
                <a:lnTo>
                  <a:pt x="179" y="445"/>
                </a:lnTo>
                <a:lnTo>
                  <a:pt x="164" y="464"/>
                </a:lnTo>
                <a:lnTo>
                  <a:pt x="150" y="482"/>
                </a:lnTo>
                <a:lnTo>
                  <a:pt x="135" y="502"/>
                </a:lnTo>
                <a:lnTo>
                  <a:pt x="123" y="519"/>
                </a:lnTo>
                <a:lnTo>
                  <a:pt x="112" y="535"/>
                </a:lnTo>
                <a:lnTo>
                  <a:pt x="104" y="547"/>
                </a:lnTo>
                <a:lnTo>
                  <a:pt x="96" y="558"/>
                </a:lnTo>
                <a:lnTo>
                  <a:pt x="90" y="568"/>
                </a:lnTo>
                <a:lnTo>
                  <a:pt x="85" y="577"/>
                </a:lnTo>
                <a:lnTo>
                  <a:pt x="79" y="588"/>
                </a:lnTo>
                <a:lnTo>
                  <a:pt x="74" y="600"/>
                </a:lnTo>
                <a:lnTo>
                  <a:pt x="68" y="613"/>
                </a:lnTo>
                <a:lnTo>
                  <a:pt x="61" y="624"/>
                </a:lnTo>
                <a:lnTo>
                  <a:pt x="56" y="633"/>
                </a:lnTo>
                <a:lnTo>
                  <a:pt x="50" y="646"/>
                </a:lnTo>
                <a:lnTo>
                  <a:pt x="43" y="658"/>
                </a:lnTo>
                <a:lnTo>
                  <a:pt x="38" y="671"/>
                </a:lnTo>
                <a:lnTo>
                  <a:pt x="31" y="684"/>
                </a:lnTo>
                <a:lnTo>
                  <a:pt x="27" y="696"/>
                </a:lnTo>
                <a:lnTo>
                  <a:pt x="21" y="707"/>
                </a:lnTo>
                <a:lnTo>
                  <a:pt x="17" y="719"/>
                </a:lnTo>
                <a:lnTo>
                  <a:pt x="12" y="732"/>
                </a:lnTo>
                <a:lnTo>
                  <a:pt x="8" y="744"/>
                </a:lnTo>
                <a:lnTo>
                  <a:pt x="5" y="754"/>
                </a:lnTo>
                <a:lnTo>
                  <a:pt x="0" y="765"/>
                </a:lnTo>
                <a:close/>
              </a:path>
            </a:pathLst>
          </a:custGeom>
          <a:solidFill>
            <a:srgbClr val="ff0000"/>
          </a:solidFill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rot="4800">
            <a:off x="776160" y="3104640"/>
            <a:ext cx="185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row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152960" y="5137200"/>
            <a:ext cx="2208240" cy="1568520"/>
          </a:xfrm>
          <a:custGeom>
            <a:avLst/>
            <a:gdLst/>
            <a:ahLst/>
            <a:rect l="l" t="t" r="r" b="b"/>
            <a:pathLst>
              <a:path w="1205" h="829">
                <a:moveTo>
                  <a:pt x="1205" y="63"/>
                </a:moveTo>
                <a:lnTo>
                  <a:pt x="1041" y="0"/>
                </a:lnTo>
                <a:lnTo>
                  <a:pt x="1037" y="13"/>
                </a:lnTo>
                <a:lnTo>
                  <a:pt x="1032" y="27"/>
                </a:lnTo>
                <a:lnTo>
                  <a:pt x="1025" y="45"/>
                </a:lnTo>
                <a:lnTo>
                  <a:pt x="1019" y="60"/>
                </a:lnTo>
                <a:lnTo>
                  <a:pt x="1013" y="76"/>
                </a:lnTo>
                <a:lnTo>
                  <a:pt x="1007" y="89"/>
                </a:lnTo>
                <a:lnTo>
                  <a:pt x="999" y="106"/>
                </a:lnTo>
                <a:lnTo>
                  <a:pt x="993" y="119"/>
                </a:lnTo>
                <a:lnTo>
                  <a:pt x="985" y="135"/>
                </a:lnTo>
                <a:lnTo>
                  <a:pt x="977" y="150"/>
                </a:lnTo>
                <a:lnTo>
                  <a:pt x="968" y="164"/>
                </a:lnTo>
                <a:lnTo>
                  <a:pt x="959" y="178"/>
                </a:lnTo>
                <a:lnTo>
                  <a:pt x="952" y="190"/>
                </a:lnTo>
                <a:lnTo>
                  <a:pt x="945" y="201"/>
                </a:lnTo>
                <a:lnTo>
                  <a:pt x="936" y="214"/>
                </a:lnTo>
                <a:lnTo>
                  <a:pt x="927" y="226"/>
                </a:lnTo>
                <a:lnTo>
                  <a:pt x="917" y="240"/>
                </a:lnTo>
                <a:lnTo>
                  <a:pt x="908" y="253"/>
                </a:lnTo>
                <a:lnTo>
                  <a:pt x="902" y="262"/>
                </a:lnTo>
                <a:lnTo>
                  <a:pt x="893" y="274"/>
                </a:lnTo>
                <a:lnTo>
                  <a:pt x="882" y="287"/>
                </a:lnTo>
                <a:lnTo>
                  <a:pt x="869" y="301"/>
                </a:lnTo>
                <a:lnTo>
                  <a:pt x="854" y="319"/>
                </a:lnTo>
                <a:lnTo>
                  <a:pt x="840" y="334"/>
                </a:lnTo>
                <a:lnTo>
                  <a:pt x="824" y="351"/>
                </a:lnTo>
                <a:lnTo>
                  <a:pt x="808" y="367"/>
                </a:lnTo>
                <a:lnTo>
                  <a:pt x="789" y="383"/>
                </a:lnTo>
                <a:lnTo>
                  <a:pt x="775" y="395"/>
                </a:lnTo>
                <a:lnTo>
                  <a:pt x="759" y="408"/>
                </a:lnTo>
                <a:lnTo>
                  <a:pt x="741" y="422"/>
                </a:lnTo>
                <a:lnTo>
                  <a:pt x="721" y="436"/>
                </a:lnTo>
                <a:lnTo>
                  <a:pt x="700" y="451"/>
                </a:lnTo>
                <a:lnTo>
                  <a:pt x="681" y="464"/>
                </a:lnTo>
                <a:lnTo>
                  <a:pt x="659" y="477"/>
                </a:lnTo>
                <a:lnTo>
                  <a:pt x="636" y="491"/>
                </a:lnTo>
                <a:lnTo>
                  <a:pt x="614" y="501"/>
                </a:lnTo>
                <a:lnTo>
                  <a:pt x="593" y="512"/>
                </a:lnTo>
                <a:lnTo>
                  <a:pt x="573" y="521"/>
                </a:lnTo>
                <a:lnTo>
                  <a:pt x="554" y="530"/>
                </a:lnTo>
                <a:lnTo>
                  <a:pt x="532" y="539"/>
                </a:lnTo>
                <a:lnTo>
                  <a:pt x="511" y="547"/>
                </a:lnTo>
                <a:lnTo>
                  <a:pt x="490" y="554"/>
                </a:lnTo>
                <a:lnTo>
                  <a:pt x="467" y="561"/>
                </a:lnTo>
                <a:lnTo>
                  <a:pt x="447" y="567"/>
                </a:lnTo>
                <a:lnTo>
                  <a:pt x="423" y="574"/>
                </a:lnTo>
                <a:lnTo>
                  <a:pt x="399" y="580"/>
                </a:lnTo>
                <a:lnTo>
                  <a:pt x="375" y="585"/>
                </a:lnTo>
                <a:lnTo>
                  <a:pt x="350" y="590"/>
                </a:lnTo>
                <a:lnTo>
                  <a:pt x="324" y="594"/>
                </a:lnTo>
                <a:lnTo>
                  <a:pt x="301" y="596"/>
                </a:lnTo>
                <a:lnTo>
                  <a:pt x="276" y="598"/>
                </a:lnTo>
                <a:lnTo>
                  <a:pt x="248" y="599"/>
                </a:lnTo>
                <a:lnTo>
                  <a:pt x="225" y="599"/>
                </a:lnTo>
                <a:lnTo>
                  <a:pt x="197" y="599"/>
                </a:lnTo>
                <a:lnTo>
                  <a:pt x="197" y="539"/>
                </a:lnTo>
                <a:lnTo>
                  <a:pt x="0" y="678"/>
                </a:lnTo>
                <a:lnTo>
                  <a:pt x="197" y="829"/>
                </a:lnTo>
                <a:lnTo>
                  <a:pt x="197" y="771"/>
                </a:lnTo>
                <a:lnTo>
                  <a:pt x="228" y="771"/>
                </a:lnTo>
                <a:lnTo>
                  <a:pt x="257" y="770"/>
                </a:lnTo>
                <a:lnTo>
                  <a:pt x="286" y="768"/>
                </a:lnTo>
                <a:lnTo>
                  <a:pt x="312" y="766"/>
                </a:lnTo>
                <a:lnTo>
                  <a:pt x="337" y="764"/>
                </a:lnTo>
                <a:lnTo>
                  <a:pt x="361" y="761"/>
                </a:lnTo>
                <a:lnTo>
                  <a:pt x="388" y="756"/>
                </a:lnTo>
                <a:lnTo>
                  <a:pt x="411" y="752"/>
                </a:lnTo>
                <a:lnTo>
                  <a:pt x="433" y="748"/>
                </a:lnTo>
                <a:lnTo>
                  <a:pt x="457" y="743"/>
                </a:lnTo>
                <a:lnTo>
                  <a:pt x="487" y="735"/>
                </a:lnTo>
                <a:lnTo>
                  <a:pt x="510" y="729"/>
                </a:lnTo>
                <a:lnTo>
                  <a:pt x="533" y="722"/>
                </a:lnTo>
                <a:lnTo>
                  <a:pt x="556" y="714"/>
                </a:lnTo>
                <a:lnTo>
                  <a:pt x="582" y="705"/>
                </a:lnTo>
                <a:lnTo>
                  <a:pt x="606" y="696"/>
                </a:lnTo>
                <a:lnTo>
                  <a:pt x="628" y="686"/>
                </a:lnTo>
                <a:lnTo>
                  <a:pt x="650" y="677"/>
                </a:lnTo>
                <a:lnTo>
                  <a:pt x="675" y="664"/>
                </a:lnTo>
                <a:lnTo>
                  <a:pt x="698" y="653"/>
                </a:lnTo>
                <a:lnTo>
                  <a:pt x="720" y="642"/>
                </a:lnTo>
                <a:lnTo>
                  <a:pt x="741" y="629"/>
                </a:lnTo>
                <a:lnTo>
                  <a:pt x="760" y="619"/>
                </a:lnTo>
                <a:lnTo>
                  <a:pt x="781" y="605"/>
                </a:lnTo>
                <a:lnTo>
                  <a:pt x="800" y="593"/>
                </a:lnTo>
                <a:lnTo>
                  <a:pt x="822" y="578"/>
                </a:lnTo>
                <a:lnTo>
                  <a:pt x="843" y="563"/>
                </a:lnTo>
                <a:lnTo>
                  <a:pt x="862" y="548"/>
                </a:lnTo>
                <a:lnTo>
                  <a:pt x="881" y="532"/>
                </a:lnTo>
                <a:lnTo>
                  <a:pt x="899" y="517"/>
                </a:lnTo>
                <a:lnTo>
                  <a:pt x="915" y="502"/>
                </a:lnTo>
                <a:lnTo>
                  <a:pt x="930" y="489"/>
                </a:lnTo>
                <a:lnTo>
                  <a:pt x="949" y="471"/>
                </a:lnTo>
                <a:lnTo>
                  <a:pt x="966" y="452"/>
                </a:lnTo>
                <a:lnTo>
                  <a:pt x="980" y="437"/>
                </a:lnTo>
                <a:lnTo>
                  <a:pt x="996" y="419"/>
                </a:lnTo>
                <a:lnTo>
                  <a:pt x="1011" y="402"/>
                </a:lnTo>
                <a:lnTo>
                  <a:pt x="1027" y="383"/>
                </a:lnTo>
                <a:lnTo>
                  <a:pt x="1041" y="364"/>
                </a:lnTo>
                <a:lnTo>
                  <a:pt x="1055" y="346"/>
                </a:lnTo>
                <a:lnTo>
                  <a:pt x="1071" y="326"/>
                </a:lnTo>
                <a:lnTo>
                  <a:pt x="1082" y="309"/>
                </a:lnTo>
                <a:lnTo>
                  <a:pt x="1094" y="292"/>
                </a:lnTo>
                <a:lnTo>
                  <a:pt x="1101" y="281"/>
                </a:lnTo>
                <a:lnTo>
                  <a:pt x="1109" y="269"/>
                </a:lnTo>
                <a:lnTo>
                  <a:pt x="1116" y="260"/>
                </a:lnTo>
                <a:lnTo>
                  <a:pt x="1120" y="250"/>
                </a:lnTo>
                <a:lnTo>
                  <a:pt x="1126" y="240"/>
                </a:lnTo>
                <a:lnTo>
                  <a:pt x="1131" y="227"/>
                </a:lnTo>
                <a:lnTo>
                  <a:pt x="1138" y="215"/>
                </a:lnTo>
                <a:lnTo>
                  <a:pt x="1144" y="204"/>
                </a:lnTo>
                <a:lnTo>
                  <a:pt x="1149" y="195"/>
                </a:lnTo>
                <a:lnTo>
                  <a:pt x="1156" y="182"/>
                </a:lnTo>
                <a:lnTo>
                  <a:pt x="1162" y="170"/>
                </a:lnTo>
                <a:lnTo>
                  <a:pt x="1167" y="157"/>
                </a:lnTo>
                <a:lnTo>
                  <a:pt x="1174" y="143"/>
                </a:lnTo>
                <a:lnTo>
                  <a:pt x="1179" y="132"/>
                </a:lnTo>
                <a:lnTo>
                  <a:pt x="1184" y="121"/>
                </a:lnTo>
                <a:lnTo>
                  <a:pt x="1188" y="109"/>
                </a:lnTo>
                <a:lnTo>
                  <a:pt x="1193" y="96"/>
                </a:lnTo>
                <a:lnTo>
                  <a:pt x="1198" y="84"/>
                </a:lnTo>
                <a:lnTo>
                  <a:pt x="1201" y="74"/>
                </a:lnTo>
                <a:lnTo>
                  <a:pt x="1205" y="63"/>
                </a:lnTo>
                <a:close/>
              </a:path>
            </a:pathLst>
          </a:custGeom>
          <a:solidFill>
            <a:srgbClr val="ff0000"/>
          </a:solidFill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490840" y="4226040"/>
            <a:ext cx="1549440" cy="2290680"/>
          </a:xfrm>
          <a:custGeom>
            <a:avLst/>
            <a:gdLst/>
            <a:ahLst/>
            <a:rect l="l" t="t" r="r" b="b"/>
            <a:pathLst>
              <a:path w="846" h="1210">
                <a:moveTo>
                  <a:pt x="765" y="1206"/>
                </a:moveTo>
                <a:lnTo>
                  <a:pt x="783" y="1210"/>
                </a:lnTo>
                <a:lnTo>
                  <a:pt x="846" y="1049"/>
                </a:lnTo>
                <a:lnTo>
                  <a:pt x="828" y="1042"/>
                </a:lnTo>
                <a:lnTo>
                  <a:pt x="814" y="1038"/>
                </a:lnTo>
                <a:lnTo>
                  <a:pt x="800" y="1033"/>
                </a:lnTo>
                <a:lnTo>
                  <a:pt x="783" y="1026"/>
                </a:lnTo>
                <a:lnTo>
                  <a:pt x="767" y="1020"/>
                </a:lnTo>
                <a:lnTo>
                  <a:pt x="751" y="1014"/>
                </a:lnTo>
                <a:lnTo>
                  <a:pt x="739" y="1008"/>
                </a:lnTo>
                <a:lnTo>
                  <a:pt x="722" y="1000"/>
                </a:lnTo>
                <a:lnTo>
                  <a:pt x="708" y="994"/>
                </a:lnTo>
                <a:lnTo>
                  <a:pt x="692" y="985"/>
                </a:lnTo>
                <a:lnTo>
                  <a:pt x="678" y="978"/>
                </a:lnTo>
                <a:lnTo>
                  <a:pt x="663" y="969"/>
                </a:lnTo>
                <a:lnTo>
                  <a:pt x="649" y="960"/>
                </a:lnTo>
                <a:lnTo>
                  <a:pt x="638" y="953"/>
                </a:lnTo>
                <a:lnTo>
                  <a:pt x="627" y="946"/>
                </a:lnTo>
                <a:lnTo>
                  <a:pt x="614" y="937"/>
                </a:lnTo>
                <a:lnTo>
                  <a:pt x="601" y="928"/>
                </a:lnTo>
                <a:lnTo>
                  <a:pt x="588" y="918"/>
                </a:lnTo>
                <a:lnTo>
                  <a:pt x="575" y="909"/>
                </a:lnTo>
                <a:lnTo>
                  <a:pt x="566" y="903"/>
                </a:lnTo>
                <a:lnTo>
                  <a:pt x="555" y="894"/>
                </a:lnTo>
                <a:lnTo>
                  <a:pt x="540" y="883"/>
                </a:lnTo>
                <a:lnTo>
                  <a:pt x="527" y="870"/>
                </a:lnTo>
                <a:lnTo>
                  <a:pt x="509" y="855"/>
                </a:lnTo>
                <a:lnTo>
                  <a:pt x="493" y="841"/>
                </a:lnTo>
                <a:lnTo>
                  <a:pt x="476" y="825"/>
                </a:lnTo>
                <a:lnTo>
                  <a:pt x="461" y="809"/>
                </a:lnTo>
                <a:lnTo>
                  <a:pt x="445" y="790"/>
                </a:lnTo>
                <a:lnTo>
                  <a:pt x="432" y="775"/>
                </a:lnTo>
                <a:lnTo>
                  <a:pt x="420" y="760"/>
                </a:lnTo>
                <a:lnTo>
                  <a:pt x="406" y="742"/>
                </a:lnTo>
                <a:lnTo>
                  <a:pt x="391" y="722"/>
                </a:lnTo>
                <a:lnTo>
                  <a:pt x="377" y="701"/>
                </a:lnTo>
                <a:lnTo>
                  <a:pt x="364" y="682"/>
                </a:lnTo>
                <a:lnTo>
                  <a:pt x="350" y="660"/>
                </a:lnTo>
                <a:lnTo>
                  <a:pt x="337" y="637"/>
                </a:lnTo>
                <a:lnTo>
                  <a:pt x="326" y="615"/>
                </a:lnTo>
                <a:lnTo>
                  <a:pt x="316" y="594"/>
                </a:lnTo>
                <a:lnTo>
                  <a:pt x="306" y="574"/>
                </a:lnTo>
                <a:lnTo>
                  <a:pt x="298" y="555"/>
                </a:lnTo>
                <a:lnTo>
                  <a:pt x="289" y="533"/>
                </a:lnTo>
                <a:lnTo>
                  <a:pt x="281" y="512"/>
                </a:lnTo>
                <a:lnTo>
                  <a:pt x="274" y="491"/>
                </a:lnTo>
                <a:lnTo>
                  <a:pt x="267" y="468"/>
                </a:lnTo>
                <a:lnTo>
                  <a:pt x="260" y="448"/>
                </a:lnTo>
                <a:lnTo>
                  <a:pt x="254" y="424"/>
                </a:lnTo>
                <a:lnTo>
                  <a:pt x="248" y="400"/>
                </a:lnTo>
                <a:lnTo>
                  <a:pt x="242" y="376"/>
                </a:lnTo>
                <a:lnTo>
                  <a:pt x="238" y="350"/>
                </a:lnTo>
                <a:lnTo>
                  <a:pt x="234" y="324"/>
                </a:lnTo>
                <a:lnTo>
                  <a:pt x="232" y="301"/>
                </a:lnTo>
                <a:lnTo>
                  <a:pt x="230" y="277"/>
                </a:lnTo>
                <a:lnTo>
                  <a:pt x="229" y="248"/>
                </a:lnTo>
                <a:lnTo>
                  <a:pt x="229" y="225"/>
                </a:lnTo>
                <a:lnTo>
                  <a:pt x="229" y="197"/>
                </a:lnTo>
                <a:lnTo>
                  <a:pt x="289" y="197"/>
                </a:lnTo>
                <a:lnTo>
                  <a:pt x="150" y="0"/>
                </a:lnTo>
                <a:lnTo>
                  <a:pt x="0" y="197"/>
                </a:lnTo>
                <a:lnTo>
                  <a:pt x="57" y="197"/>
                </a:lnTo>
                <a:lnTo>
                  <a:pt x="57" y="229"/>
                </a:lnTo>
                <a:lnTo>
                  <a:pt x="58" y="257"/>
                </a:lnTo>
                <a:lnTo>
                  <a:pt x="60" y="286"/>
                </a:lnTo>
                <a:lnTo>
                  <a:pt x="62" y="313"/>
                </a:lnTo>
                <a:lnTo>
                  <a:pt x="64" y="338"/>
                </a:lnTo>
                <a:lnTo>
                  <a:pt x="67" y="362"/>
                </a:lnTo>
                <a:lnTo>
                  <a:pt x="71" y="388"/>
                </a:lnTo>
                <a:lnTo>
                  <a:pt x="76" y="411"/>
                </a:lnTo>
                <a:lnTo>
                  <a:pt x="80" y="433"/>
                </a:lnTo>
                <a:lnTo>
                  <a:pt x="85" y="457"/>
                </a:lnTo>
                <a:lnTo>
                  <a:pt x="92" y="488"/>
                </a:lnTo>
                <a:lnTo>
                  <a:pt x="99" y="511"/>
                </a:lnTo>
                <a:lnTo>
                  <a:pt x="106" y="534"/>
                </a:lnTo>
                <a:lnTo>
                  <a:pt x="113" y="556"/>
                </a:lnTo>
                <a:lnTo>
                  <a:pt x="123" y="582"/>
                </a:lnTo>
                <a:lnTo>
                  <a:pt x="132" y="606"/>
                </a:lnTo>
                <a:lnTo>
                  <a:pt x="142" y="629"/>
                </a:lnTo>
                <a:lnTo>
                  <a:pt x="151" y="651"/>
                </a:lnTo>
                <a:lnTo>
                  <a:pt x="164" y="676"/>
                </a:lnTo>
                <a:lnTo>
                  <a:pt x="175" y="699"/>
                </a:lnTo>
                <a:lnTo>
                  <a:pt x="187" y="721"/>
                </a:lnTo>
                <a:lnTo>
                  <a:pt x="198" y="742"/>
                </a:lnTo>
                <a:lnTo>
                  <a:pt x="210" y="762"/>
                </a:lnTo>
                <a:lnTo>
                  <a:pt x="222" y="782"/>
                </a:lnTo>
                <a:lnTo>
                  <a:pt x="235" y="801"/>
                </a:lnTo>
                <a:lnTo>
                  <a:pt x="250" y="823"/>
                </a:lnTo>
                <a:lnTo>
                  <a:pt x="264" y="844"/>
                </a:lnTo>
                <a:lnTo>
                  <a:pt x="280" y="863"/>
                </a:lnTo>
                <a:lnTo>
                  <a:pt x="296" y="882"/>
                </a:lnTo>
                <a:lnTo>
                  <a:pt x="311" y="899"/>
                </a:lnTo>
                <a:lnTo>
                  <a:pt x="325" y="916"/>
                </a:lnTo>
                <a:lnTo>
                  <a:pt x="339" y="931"/>
                </a:lnTo>
                <a:lnTo>
                  <a:pt x="357" y="950"/>
                </a:lnTo>
                <a:lnTo>
                  <a:pt x="376" y="967"/>
                </a:lnTo>
                <a:lnTo>
                  <a:pt x="390" y="981"/>
                </a:lnTo>
                <a:lnTo>
                  <a:pt x="408" y="997"/>
                </a:lnTo>
                <a:lnTo>
                  <a:pt x="426" y="1012"/>
                </a:lnTo>
                <a:lnTo>
                  <a:pt x="445" y="1027"/>
                </a:lnTo>
                <a:lnTo>
                  <a:pt x="464" y="1042"/>
                </a:lnTo>
                <a:lnTo>
                  <a:pt x="482" y="1056"/>
                </a:lnTo>
                <a:lnTo>
                  <a:pt x="502" y="1072"/>
                </a:lnTo>
                <a:lnTo>
                  <a:pt x="518" y="1083"/>
                </a:lnTo>
                <a:lnTo>
                  <a:pt x="535" y="1095"/>
                </a:lnTo>
                <a:lnTo>
                  <a:pt x="548" y="1102"/>
                </a:lnTo>
                <a:lnTo>
                  <a:pt x="558" y="1110"/>
                </a:lnTo>
                <a:lnTo>
                  <a:pt x="568" y="1117"/>
                </a:lnTo>
                <a:lnTo>
                  <a:pt x="577" y="1121"/>
                </a:lnTo>
                <a:lnTo>
                  <a:pt x="588" y="1127"/>
                </a:lnTo>
                <a:lnTo>
                  <a:pt x="600" y="1132"/>
                </a:lnTo>
                <a:lnTo>
                  <a:pt x="613" y="1139"/>
                </a:lnTo>
                <a:lnTo>
                  <a:pt x="624" y="1145"/>
                </a:lnTo>
                <a:lnTo>
                  <a:pt x="634" y="1150"/>
                </a:lnTo>
                <a:lnTo>
                  <a:pt x="645" y="1157"/>
                </a:lnTo>
                <a:lnTo>
                  <a:pt x="658" y="1163"/>
                </a:lnTo>
                <a:lnTo>
                  <a:pt x="670" y="1168"/>
                </a:lnTo>
                <a:lnTo>
                  <a:pt x="684" y="1175"/>
                </a:lnTo>
                <a:lnTo>
                  <a:pt x="696" y="1180"/>
                </a:lnTo>
                <a:lnTo>
                  <a:pt x="706" y="1185"/>
                </a:lnTo>
                <a:lnTo>
                  <a:pt x="719" y="1189"/>
                </a:lnTo>
                <a:lnTo>
                  <a:pt x="731" y="1194"/>
                </a:lnTo>
                <a:lnTo>
                  <a:pt x="744" y="1199"/>
                </a:lnTo>
                <a:lnTo>
                  <a:pt x="753" y="1202"/>
                </a:lnTo>
                <a:lnTo>
                  <a:pt x="765" y="1206"/>
                </a:lnTo>
                <a:close/>
              </a:path>
            </a:pathLst>
          </a:custGeom>
          <a:solidFill>
            <a:srgbClr val="ff0000"/>
          </a:solidFill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rot="4800">
            <a:off x="6259680" y="5757480"/>
            <a:ext cx="190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4800">
            <a:off x="458640" y="5758920"/>
            <a:ext cx="235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29200" y="2727360"/>
            <a:ext cx="1547640" cy="2287440"/>
          </a:xfrm>
          <a:custGeom>
            <a:avLst/>
            <a:gdLst/>
            <a:ahLst/>
            <a:rect l="l" t="t" r="r" b="b"/>
            <a:pathLst>
              <a:path w="847" h="1211">
                <a:moveTo>
                  <a:pt x="81" y="5"/>
                </a:moveTo>
                <a:lnTo>
                  <a:pt x="63" y="0"/>
                </a:lnTo>
                <a:lnTo>
                  <a:pt x="0" y="161"/>
                </a:lnTo>
                <a:lnTo>
                  <a:pt x="18" y="168"/>
                </a:lnTo>
                <a:lnTo>
                  <a:pt x="32" y="173"/>
                </a:lnTo>
                <a:lnTo>
                  <a:pt x="45" y="178"/>
                </a:lnTo>
                <a:lnTo>
                  <a:pt x="63" y="184"/>
                </a:lnTo>
                <a:lnTo>
                  <a:pt x="79" y="190"/>
                </a:lnTo>
                <a:lnTo>
                  <a:pt x="95" y="197"/>
                </a:lnTo>
                <a:lnTo>
                  <a:pt x="107" y="203"/>
                </a:lnTo>
                <a:lnTo>
                  <a:pt x="124" y="210"/>
                </a:lnTo>
                <a:lnTo>
                  <a:pt x="138" y="217"/>
                </a:lnTo>
                <a:lnTo>
                  <a:pt x="153" y="225"/>
                </a:lnTo>
                <a:lnTo>
                  <a:pt x="168" y="232"/>
                </a:lnTo>
                <a:lnTo>
                  <a:pt x="183" y="242"/>
                </a:lnTo>
                <a:lnTo>
                  <a:pt x="196" y="250"/>
                </a:lnTo>
                <a:lnTo>
                  <a:pt x="208" y="258"/>
                </a:lnTo>
                <a:lnTo>
                  <a:pt x="218" y="265"/>
                </a:lnTo>
                <a:lnTo>
                  <a:pt x="232" y="273"/>
                </a:lnTo>
                <a:lnTo>
                  <a:pt x="245" y="283"/>
                </a:lnTo>
                <a:lnTo>
                  <a:pt x="258" y="292"/>
                </a:lnTo>
                <a:lnTo>
                  <a:pt x="271" y="302"/>
                </a:lnTo>
                <a:lnTo>
                  <a:pt x="280" y="308"/>
                </a:lnTo>
                <a:lnTo>
                  <a:pt x="292" y="316"/>
                </a:lnTo>
                <a:lnTo>
                  <a:pt x="306" y="328"/>
                </a:lnTo>
                <a:lnTo>
                  <a:pt x="319" y="341"/>
                </a:lnTo>
                <a:lnTo>
                  <a:pt x="337" y="355"/>
                </a:lnTo>
                <a:lnTo>
                  <a:pt x="353" y="370"/>
                </a:lnTo>
                <a:lnTo>
                  <a:pt x="370" y="386"/>
                </a:lnTo>
                <a:lnTo>
                  <a:pt x="385" y="402"/>
                </a:lnTo>
                <a:lnTo>
                  <a:pt x="401" y="420"/>
                </a:lnTo>
                <a:lnTo>
                  <a:pt x="414" y="435"/>
                </a:lnTo>
                <a:lnTo>
                  <a:pt x="426" y="452"/>
                </a:lnTo>
                <a:lnTo>
                  <a:pt x="440" y="469"/>
                </a:lnTo>
                <a:lnTo>
                  <a:pt x="455" y="489"/>
                </a:lnTo>
                <a:lnTo>
                  <a:pt x="469" y="510"/>
                </a:lnTo>
                <a:lnTo>
                  <a:pt x="482" y="529"/>
                </a:lnTo>
                <a:lnTo>
                  <a:pt x="495" y="551"/>
                </a:lnTo>
                <a:lnTo>
                  <a:pt x="509" y="574"/>
                </a:lnTo>
                <a:lnTo>
                  <a:pt x="520" y="596"/>
                </a:lnTo>
                <a:lnTo>
                  <a:pt x="530" y="617"/>
                </a:lnTo>
                <a:lnTo>
                  <a:pt x="539" y="637"/>
                </a:lnTo>
                <a:lnTo>
                  <a:pt x="548" y="656"/>
                </a:lnTo>
                <a:lnTo>
                  <a:pt x="557" y="678"/>
                </a:lnTo>
                <a:lnTo>
                  <a:pt x="565" y="699"/>
                </a:lnTo>
                <a:lnTo>
                  <a:pt x="572" y="720"/>
                </a:lnTo>
                <a:lnTo>
                  <a:pt x="579" y="743"/>
                </a:lnTo>
                <a:lnTo>
                  <a:pt x="586" y="763"/>
                </a:lnTo>
                <a:lnTo>
                  <a:pt x="592" y="787"/>
                </a:lnTo>
                <a:lnTo>
                  <a:pt x="598" y="811"/>
                </a:lnTo>
                <a:lnTo>
                  <a:pt x="603" y="835"/>
                </a:lnTo>
                <a:lnTo>
                  <a:pt x="608" y="860"/>
                </a:lnTo>
                <a:lnTo>
                  <a:pt x="612" y="887"/>
                </a:lnTo>
                <a:lnTo>
                  <a:pt x="614" y="910"/>
                </a:lnTo>
                <a:lnTo>
                  <a:pt x="616" y="934"/>
                </a:lnTo>
                <a:lnTo>
                  <a:pt x="617" y="962"/>
                </a:lnTo>
                <a:lnTo>
                  <a:pt x="617" y="985"/>
                </a:lnTo>
                <a:lnTo>
                  <a:pt x="617" y="1014"/>
                </a:lnTo>
                <a:lnTo>
                  <a:pt x="557" y="1014"/>
                </a:lnTo>
                <a:lnTo>
                  <a:pt x="696" y="1211"/>
                </a:lnTo>
                <a:lnTo>
                  <a:pt x="847" y="1014"/>
                </a:lnTo>
                <a:lnTo>
                  <a:pt x="789" y="1014"/>
                </a:lnTo>
                <a:lnTo>
                  <a:pt x="789" y="982"/>
                </a:lnTo>
                <a:lnTo>
                  <a:pt x="788" y="954"/>
                </a:lnTo>
                <a:lnTo>
                  <a:pt x="786" y="924"/>
                </a:lnTo>
                <a:lnTo>
                  <a:pt x="784" y="898"/>
                </a:lnTo>
                <a:lnTo>
                  <a:pt x="782" y="873"/>
                </a:lnTo>
                <a:lnTo>
                  <a:pt x="779" y="849"/>
                </a:lnTo>
                <a:lnTo>
                  <a:pt x="774" y="822"/>
                </a:lnTo>
                <a:lnTo>
                  <a:pt x="770" y="799"/>
                </a:lnTo>
                <a:lnTo>
                  <a:pt x="766" y="777"/>
                </a:lnTo>
                <a:lnTo>
                  <a:pt x="761" y="753"/>
                </a:lnTo>
                <a:lnTo>
                  <a:pt x="753" y="723"/>
                </a:lnTo>
                <a:lnTo>
                  <a:pt x="747" y="700"/>
                </a:lnTo>
                <a:lnTo>
                  <a:pt x="740" y="677"/>
                </a:lnTo>
                <a:lnTo>
                  <a:pt x="733" y="655"/>
                </a:lnTo>
                <a:lnTo>
                  <a:pt x="723" y="628"/>
                </a:lnTo>
                <a:lnTo>
                  <a:pt x="714" y="604"/>
                </a:lnTo>
                <a:lnTo>
                  <a:pt x="704" y="582"/>
                </a:lnTo>
                <a:lnTo>
                  <a:pt x="695" y="560"/>
                </a:lnTo>
                <a:lnTo>
                  <a:pt x="682" y="535"/>
                </a:lnTo>
                <a:lnTo>
                  <a:pt x="671" y="512"/>
                </a:lnTo>
                <a:lnTo>
                  <a:pt x="660" y="490"/>
                </a:lnTo>
                <a:lnTo>
                  <a:pt x="648" y="469"/>
                </a:lnTo>
                <a:lnTo>
                  <a:pt x="636" y="450"/>
                </a:lnTo>
                <a:lnTo>
                  <a:pt x="623" y="429"/>
                </a:lnTo>
                <a:lnTo>
                  <a:pt x="611" y="410"/>
                </a:lnTo>
                <a:lnTo>
                  <a:pt x="596" y="388"/>
                </a:lnTo>
                <a:lnTo>
                  <a:pt x="581" y="367"/>
                </a:lnTo>
                <a:lnTo>
                  <a:pt x="566" y="348"/>
                </a:lnTo>
                <a:lnTo>
                  <a:pt x="550" y="329"/>
                </a:lnTo>
                <a:lnTo>
                  <a:pt x="535" y="311"/>
                </a:lnTo>
                <a:lnTo>
                  <a:pt x="521" y="294"/>
                </a:lnTo>
                <a:lnTo>
                  <a:pt x="507" y="280"/>
                </a:lnTo>
                <a:lnTo>
                  <a:pt x="489" y="261"/>
                </a:lnTo>
                <a:lnTo>
                  <a:pt x="470" y="244"/>
                </a:lnTo>
                <a:lnTo>
                  <a:pt x="456" y="229"/>
                </a:lnTo>
                <a:lnTo>
                  <a:pt x="438" y="214"/>
                </a:lnTo>
                <a:lnTo>
                  <a:pt x="420" y="199"/>
                </a:lnTo>
                <a:lnTo>
                  <a:pt x="401" y="183"/>
                </a:lnTo>
                <a:lnTo>
                  <a:pt x="382" y="168"/>
                </a:lnTo>
                <a:lnTo>
                  <a:pt x="364" y="155"/>
                </a:lnTo>
                <a:lnTo>
                  <a:pt x="344" y="139"/>
                </a:lnTo>
                <a:lnTo>
                  <a:pt x="328" y="128"/>
                </a:lnTo>
                <a:lnTo>
                  <a:pt x="311" y="116"/>
                </a:lnTo>
                <a:lnTo>
                  <a:pt x="298" y="109"/>
                </a:lnTo>
                <a:lnTo>
                  <a:pt x="288" y="100"/>
                </a:lnTo>
                <a:lnTo>
                  <a:pt x="278" y="94"/>
                </a:lnTo>
                <a:lnTo>
                  <a:pt x="269" y="90"/>
                </a:lnTo>
                <a:lnTo>
                  <a:pt x="258" y="84"/>
                </a:lnTo>
                <a:lnTo>
                  <a:pt x="246" y="78"/>
                </a:lnTo>
                <a:lnTo>
                  <a:pt x="233" y="72"/>
                </a:lnTo>
                <a:lnTo>
                  <a:pt x="222" y="66"/>
                </a:lnTo>
                <a:lnTo>
                  <a:pt x="212" y="60"/>
                </a:lnTo>
                <a:lnTo>
                  <a:pt x="201" y="54"/>
                </a:lnTo>
                <a:lnTo>
                  <a:pt x="188" y="48"/>
                </a:lnTo>
                <a:lnTo>
                  <a:pt x="175" y="42"/>
                </a:lnTo>
                <a:lnTo>
                  <a:pt x="162" y="35"/>
                </a:lnTo>
                <a:lnTo>
                  <a:pt x="150" y="31"/>
                </a:lnTo>
                <a:lnTo>
                  <a:pt x="140" y="26"/>
                </a:lnTo>
                <a:lnTo>
                  <a:pt x="127" y="21"/>
                </a:lnTo>
                <a:lnTo>
                  <a:pt x="115" y="16"/>
                </a:lnTo>
                <a:lnTo>
                  <a:pt x="102" y="12"/>
                </a:lnTo>
                <a:lnTo>
                  <a:pt x="93" y="9"/>
                </a:lnTo>
                <a:lnTo>
                  <a:pt x="81" y="5"/>
                </a:lnTo>
                <a:close/>
              </a:path>
            </a:pathLst>
          </a:custGeom>
          <a:solidFill>
            <a:srgbClr val="ff0000"/>
          </a:solidFill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rot="4800">
            <a:off x="6259680" y="3103560"/>
            <a:ext cx="21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t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7468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nsim Server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68280" y="965160"/>
            <a:ext cx="803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ensimeXserver" descr=""/>
          <p:cNvPicPr/>
          <p:nvPr/>
        </p:nvPicPr>
        <p:blipFill>
          <a:blip r:embed="rId1"/>
          <a:stretch/>
        </p:blipFill>
        <p:spPr>
          <a:xfrm>
            <a:off x="3809880" y="2771640"/>
            <a:ext cx="2133720" cy="809640"/>
          </a:xfrm>
          <a:prstGeom prst="rect">
            <a:avLst/>
          </a:prstGeom>
          <a:ln w="0">
            <a:noFill/>
          </a:ln>
        </p:spPr>
      </p:pic>
      <p:pic>
        <p:nvPicPr>
          <p:cNvPr id="270" name="psadmin1" descr=""/>
          <p:cNvPicPr/>
          <p:nvPr/>
        </p:nvPicPr>
        <p:blipFill>
          <a:blip r:embed="rId2"/>
          <a:stretch/>
        </p:blipFill>
        <p:spPr>
          <a:xfrm>
            <a:off x="5943600" y="4524480"/>
            <a:ext cx="361800" cy="380880"/>
          </a:xfrm>
          <a:prstGeom prst="rect">
            <a:avLst/>
          </a:prstGeom>
          <a:ln w="0">
            <a:noFill/>
          </a:ln>
        </p:spPr>
      </p:pic>
      <p:pic>
        <p:nvPicPr>
          <p:cNvPr id="271" name="psadmin1" descr=""/>
          <p:cNvPicPr/>
          <p:nvPr/>
        </p:nvPicPr>
        <p:blipFill>
          <a:blip r:embed="rId3"/>
          <a:stretch/>
        </p:blipFill>
        <p:spPr>
          <a:xfrm>
            <a:off x="5943600" y="4981680"/>
            <a:ext cx="361800" cy="380880"/>
          </a:xfrm>
          <a:prstGeom prst="rect">
            <a:avLst/>
          </a:prstGeom>
          <a:ln w="0">
            <a:noFill/>
          </a:ln>
        </p:spPr>
      </p:pic>
      <p:pic>
        <p:nvPicPr>
          <p:cNvPr id="272" name="psadmin1" descr=""/>
          <p:cNvPicPr/>
          <p:nvPr/>
        </p:nvPicPr>
        <p:blipFill>
          <a:blip r:embed="rId4"/>
          <a:stretch/>
        </p:blipFill>
        <p:spPr>
          <a:xfrm>
            <a:off x="5943600" y="5514840"/>
            <a:ext cx="361800" cy="38124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5"/>
          <a:stretch/>
        </p:blipFill>
        <p:spPr>
          <a:xfrm>
            <a:off x="5943600" y="5972040"/>
            <a:ext cx="380880" cy="3780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6324480" y="4600440"/>
            <a:ext cx="221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Data Center Ad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324480" y="505764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Reseller self-ad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604836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User self-ad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19920" y="383868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mprehensive policy based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6"/>
          <a:stretch/>
        </p:blipFill>
        <p:spPr>
          <a:xfrm>
            <a:off x="3429000" y="5057640"/>
            <a:ext cx="1295280" cy="466920"/>
          </a:xfrm>
          <a:prstGeom prst="rect">
            <a:avLst/>
          </a:prstGeom>
          <a:ln w="0">
            <a:noFill/>
          </a:ln>
        </p:spPr>
      </p:pic>
      <p:grpSp>
        <p:nvGrpSpPr>
          <p:cNvPr id="279" name=""/>
          <p:cNvGrpSpPr/>
          <p:nvPr/>
        </p:nvGrpSpPr>
        <p:grpSpPr>
          <a:xfrm>
            <a:off x="4392720" y="5743440"/>
            <a:ext cx="469800" cy="457200"/>
            <a:chOff x="4392720" y="5743440"/>
            <a:chExt cx="469800" cy="457200"/>
          </a:xfrm>
        </p:grpSpPr>
        <p:pic>
          <p:nvPicPr>
            <p:cNvPr id="280" name="" descr=""/>
            <p:cNvPicPr/>
            <p:nvPr/>
          </p:nvPicPr>
          <p:blipFill>
            <a:blip r:embed="rId7"/>
            <a:stretch/>
          </p:blipFill>
          <p:spPr>
            <a:xfrm>
              <a:off x="4392720" y="5743440"/>
              <a:ext cx="4698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" descr=""/>
            <p:cNvPicPr/>
            <p:nvPr/>
          </p:nvPicPr>
          <p:blipFill>
            <a:blip r:embed="rId8"/>
            <a:stretch/>
          </p:blipFill>
          <p:spPr>
            <a:xfrm>
              <a:off x="4481280" y="5804640"/>
              <a:ext cx="282600" cy="22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2" name=""/>
          <p:cNvGrpSpPr/>
          <p:nvPr/>
        </p:nvGrpSpPr>
        <p:grpSpPr>
          <a:xfrm>
            <a:off x="3962520" y="5743440"/>
            <a:ext cx="471240" cy="457200"/>
            <a:chOff x="3962520" y="5743440"/>
            <a:chExt cx="471240" cy="457200"/>
          </a:xfrm>
        </p:grpSpPr>
        <p:pic>
          <p:nvPicPr>
            <p:cNvPr id="283" name="" descr=""/>
            <p:cNvPicPr/>
            <p:nvPr/>
          </p:nvPicPr>
          <p:blipFill>
            <a:blip r:embed="rId9"/>
            <a:stretch/>
          </p:blipFill>
          <p:spPr>
            <a:xfrm>
              <a:off x="3962520" y="5743440"/>
              <a:ext cx="471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" descr=""/>
            <p:cNvPicPr/>
            <p:nvPr/>
          </p:nvPicPr>
          <p:blipFill>
            <a:blip r:embed="rId10"/>
            <a:stretch/>
          </p:blipFill>
          <p:spPr>
            <a:xfrm>
              <a:off x="4032360" y="5804280"/>
              <a:ext cx="328680" cy="23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5" name=""/>
          <p:cNvGrpSpPr/>
          <p:nvPr/>
        </p:nvGrpSpPr>
        <p:grpSpPr>
          <a:xfrm>
            <a:off x="4842000" y="5743440"/>
            <a:ext cx="320400" cy="457200"/>
            <a:chOff x="4842000" y="5743440"/>
            <a:chExt cx="320400" cy="457200"/>
          </a:xfrm>
        </p:grpSpPr>
        <p:pic>
          <p:nvPicPr>
            <p:cNvPr id="286" name="9G-virtual-wrap-small" descr=""/>
            <p:cNvPicPr/>
            <p:nvPr/>
          </p:nvPicPr>
          <p:blipFill>
            <a:blip r:embed="rId11"/>
            <a:stretch/>
          </p:blipFill>
          <p:spPr>
            <a:xfrm>
              <a:off x="4842000" y="5743440"/>
              <a:ext cx="3204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12"/>
            <a:stretch/>
          </p:blipFill>
          <p:spPr>
            <a:xfrm>
              <a:off x="4899600" y="5853240"/>
              <a:ext cx="190080" cy="14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8" name=""/>
          <p:cNvGrpSpPr/>
          <p:nvPr/>
        </p:nvGrpSpPr>
        <p:grpSpPr>
          <a:xfrm>
            <a:off x="5143680" y="5743440"/>
            <a:ext cx="322200" cy="457200"/>
            <a:chOff x="5143680" y="5743440"/>
            <a:chExt cx="322200" cy="457200"/>
          </a:xfrm>
        </p:grpSpPr>
        <p:pic>
          <p:nvPicPr>
            <p:cNvPr id="289" name="9G-virtual-wrap-small" descr=""/>
            <p:cNvPicPr/>
            <p:nvPr/>
          </p:nvPicPr>
          <p:blipFill>
            <a:blip r:embed="rId13"/>
            <a:stretch/>
          </p:blipFill>
          <p:spPr>
            <a:xfrm>
              <a:off x="5143680" y="5743440"/>
              <a:ext cx="322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" descr=""/>
            <p:cNvPicPr/>
            <p:nvPr/>
          </p:nvPicPr>
          <p:blipFill>
            <a:blip r:embed="rId14"/>
            <a:stretch/>
          </p:blipFill>
          <p:spPr>
            <a:xfrm>
              <a:off x="5182920" y="5879160"/>
              <a:ext cx="212760" cy="10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"/>
          <p:cNvSpPr/>
          <p:nvPr/>
        </p:nvSpPr>
        <p:spPr>
          <a:xfrm>
            <a:off x="3836880" y="5487840"/>
            <a:ext cx="125640" cy="23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648320" y="5438880"/>
            <a:ext cx="8143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5448240" y="6048360"/>
            <a:ext cx="493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5448240" y="5819760"/>
            <a:ext cx="495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5334120" y="3610080"/>
            <a:ext cx="0" cy="1295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5486400" y="467676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5486400" y="505764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86400" y="467676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334120" y="490536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5"/>
          <a:stretch/>
        </p:blipFill>
        <p:spPr>
          <a:xfrm>
            <a:off x="3352680" y="3686040"/>
            <a:ext cx="866880" cy="152424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16"/>
          <a:stretch/>
        </p:blipFill>
        <p:spPr>
          <a:xfrm>
            <a:off x="2666880" y="3762360"/>
            <a:ext cx="866880" cy="152388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17"/>
          <a:stretch/>
        </p:blipFill>
        <p:spPr>
          <a:xfrm>
            <a:off x="1981080" y="3838680"/>
            <a:ext cx="866880" cy="152388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 flipH="1" flipV="1" rot="16200000">
            <a:off x="3847320" y="3113640"/>
            <a:ext cx="1219320" cy="1143000"/>
          </a:xfrm>
          <a:custGeom>
            <a:avLst/>
            <a:gdLst>
              <a:gd name="textAreaLeft" fmla="*/ -360 w 1219320"/>
              <a:gd name="textAreaRight" fmla="*/ 1219320 w 1219320"/>
              <a:gd name="textAreaTop" fmla="*/ -360 h 1143000"/>
              <a:gd name="textAreaBottom" fmla="*/ 1143000 h 1143000"/>
            </a:gdLst>
            <a:ahLst/>
            <a:rect l="textAreaLeft" t="textAreaTop" r="textAreaRight" b="textAreaBottom"/>
            <a:pathLst>
              <a:path w="21600" h="21600">
                <a:moveTo>
                  <a:pt x="4052" y="10650"/>
                </a:moveTo>
                <a:arcTo wR="-6750" hR="-6750" stAng="-10723607" swAng="-5458518"/>
                <a:lnTo>
                  <a:pt x="10856" y="0"/>
                </a:lnTo>
                <a:arcTo wR="10800" hR="10800" stAng="-5382125" swAng="5458518"/>
                <a:lnTo>
                  <a:pt x="24297" y="11100"/>
                </a:lnTo>
                <a:lnTo>
                  <a:pt x="19468" y="15719"/>
                </a:lnTo>
                <a:lnTo>
                  <a:pt x="14849" y="1089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447920" y="620064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rivate Servers allow higher utilization of servers and rack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410080" y="1298520"/>
            <a:ext cx="3200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asy provisioning, management and administration of data center 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8"/>
          <a:stretch/>
        </p:blipFill>
        <p:spPr>
          <a:xfrm>
            <a:off x="1066680" y="2898720"/>
            <a:ext cx="1600200" cy="60660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 flipH="1">
            <a:off x="2742840" y="315288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33520" y="1755720"/>
            <a:ext cx="2895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nsim App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X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hange delivers updates and new applications to easily accommodate grow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9"/>
          <a:stretch/>
        </p:blipFill>
        <p:spPr>
          <a:xfrm>
            <a:off x="3809880" y="1324080"/>
            <a:ext cx="1273320" cy="11332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5486400" y="2924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460044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asily manage a farm of serv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400800" y="26956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llects event based billing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324480" y="5410080"/>
            <a:ext cx="2819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Domain/Server self-ad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68280" y="965160"/>
            <a:ext cx="803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7468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nsim Server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hange in the Data C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368280" y="965160"/>
            <a:ext cx="803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74680" y="304920"/>
            <a:ext cx="8869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olving Real Problem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ith Easy to Us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52280" y="5031360"/>
            <a:ext cx="28688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caling for Profitable Grow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13000" y="5168880"/>
            <a:ext cx="1241640" cy="258840"/>
          </a:xfrm>
          <a:prstGeom prst="rightArrow">
            <a:avLst>
              <a:gd name="adj1" fmla="val 50000"/>
              <a:gd name="adj2" fmla="val 119924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619520" y="4921920"/>
            <a:ext cx="39862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asily add new customers and plans; simple upgrade path to new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65120" y="5979240"/>
            <a:ext cx="2556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der-uti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619520" y="5869440"/>
            <a:ext cx="39229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l physical servers with multiple plans and custom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213000" y="6031080"/>
            <a:ext cx="1241640" cy="258480"/>
          </a:xfrm>
          <a:prstGeom prst="rightArrow">
            <a:avLst>
              <a:gd name="adj1" fmla="val 50000"/>
              <a:gd name="adj2" fmla="val 12009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60200" y="1784880"/>
            <a:ext cx="28609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iring Skilled IT Person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13000" y="1920960"/>
            <a:ext cx="1241640" cy="258840"/>
          </a:xfrm>
          <a:prstGeom prst="rightArrow">
            <a:avLst>
              <a:gd name="adj1" fmla="val 50000"/>
              <a:gd name="adj2" fmla="val 119924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619520" y="1675440"/>
            <a:ext cx="42958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mplification of administration &amp; management; automation of common tas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65120" y="4083480"/>
            <a:ext cx="255600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 Management and Configu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213000" y="4329000"/>
            <a:ext cx="1241640" cy="258840"/>
          </a:xfrm>
          <a:prstGeom prst="rightArrow">
            <a:avLst>
              <a:gd name="adj1" fmla="val 50000"/>
              <a:gd name="adj2" fmla="val 119924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619520" y="4083480"/>
            <a:ext cx="399096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sim manages licenses, billing, relationships; drag-and-drop applications in 5 minu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60200" y="2513520"/>
            <a:ext cx="28609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T Support for Increasing Customer Dem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213000" y="2759040"/>
            <a:ext cx="1241640" cy="258840"/>
          </a:xfrm>
          <a:prstGeom prst="rightArrow">
            <a:avLst>
              <a:gd name="adj1" fmla="val 50000"/>
              <a:gd name="adj2" fmla="val 119924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619520" y="2622960"/>
            <a:ext cx="42958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ple levels of self-administration for resellers and SMB custom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920" y="3388320"/>
            <a:ext cx="3013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etitive Different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13000" y="3524400"/>
            <a:ext cx="1241640" cy="258480"/>
          </a:xfrm>
          <a:prstGeom prst="rightArrow">
            <a:avLst>
              <a:gd name="adj1" fmla="val 50000"/>
              <a:gd name="adj2" fmla="val 12009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619520" y="3278880"/>
            <a:ext cx="399096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panded service offerings; provide complete range of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57200" y="1298520"/>
            <a:ext cx="2556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ahoma"/>
              </a:rPr>
              <a:t>PROBL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619520" y="1298520"/>
            <a:ext cx="2556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ahoma"/>
              </a:rPr>
              <a:t>SOLU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27468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dvantages to Service Provi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68280" y="965160"/>
            <a:ext cx="803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630360" y="131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creases efficiency, revenue and profi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utomates server and application provisioning to optimize server capacity and offer applications on-dem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ffer tiered product bundles – generating new, higher margin revenue opportun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Empowers resellers and customers to self-manage their hosted environments and applic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V. About Ensi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27468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mpany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274680" y="1371600"/>
            <a:ext cx="827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nded June 19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Q – Sunnyvale, CA (U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orld-class expert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5 technology patents in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0+ Custo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5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ational pres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ales - Europe, Asia (Singapo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gineering - In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ised $85 Million in funding from leading inves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building%20w_fade" descr=""/>
          <p:cNvPicPr/>
          <p:nvPr/>
        </p:nvPicPr>
        <p:blipFill>
          <a:blip r:embed="rId1"/>
          <a:stretch/>
        </p:blipFill>
        <p:spPr>
          <a:xfrm>
            <a:off x="5410080" y="1295280"/>
            <a:ext cx="3140280" cy="206064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368280" y="965160"/>
            <a:ext cx="803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Cisco%20Systems" descr=""/>
          <p:cNvPicPr/>
          <p:nvPr/>
        </p:nvPicPr>
        <p:blipFill>
          <a:blip r:embed="rId1"/>
          <a:stretch/>
        </p:blipFill>
        <p:spPr>
          <a:xfrm>
            <a:off x="411120" y="3276720"/>
            <a:ext cx="1722600" cy="9190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411120" y="4432320"/>
            <a:ext cx="990720" cy="97776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 flipH="1">
            <a:off x="7467480" y="1295280"/>
            <a:ext cx="960480" cy="104472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4"/>
          <a:stretch/>
        </p:blipFill>
        <p:spPr>
          <a:xfrm>
            <a:off x="2976480" y="1295280"/>
            <a:ext cx="1067040" cy="96228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5"/>
          <a:stretch/>
        </p:blipFill>
        <p:spPr>
          <a:xfrm>
            <a:off x="274680" y="1295280"/>
            <a:ext cx="1905120" cy="7606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6"/>
          <a:stretch/>
        </p:blipFill>
        <p:spPr>
          <a:xfrm>
            <a:off x="533520" y="5867280"/>
            <a:ext cx="2255760" cy="46224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27468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resentative Custo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68280" y="965160"/>
            <a:ext cx="803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Planet-Intra_logo" descr=""/>
          <p:cNvPicPr/>
          <p:nvPr/>
        </p:nvPicPr>
        <p:blipFill>
          <a:blip r:embed="rId7"/>
          <a:srcRect l="47104" t="8871" r="0" b="11139"/>
          <a:stretch/>
        </p:blipFill>
        <p:spPr>
          <a:xfrm>
            <a:off x="3809880" y="5486400"/>
            <a:ext cx="1341720" cy="826920"/>
          </a:xfrm>
          <a:prstGeom prst="rect">
            <a:avLst/>
          </a:prstGeom>
          <a:ln w="0">
            <a:noFill/>
          </a:ln>
        </p:spPr>
      </p:pic>
      <p:pic>
        <p:nvPicPr>
          <p:cNvPr id="355" name="COMPAQ" descr=""/>
          <p:cNvPicPr/>
          <p:nvPr/>
        </p:nvPicPr>
        <p:blipFill>
          <a:blip r:embed="rId8"/>
          <a:stretch/>
        </p:blipFill>
        <p:spPr>
          <a:xfrm>
            <a:off x="2448000" y="3429000"/>
            <a:ext cx="2147760" cy="38736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9"/>
          <a:stretch/>
        </p:blipFill>
        <p:spPr>
          <a:xfrm>
            <a:off x="6904080" y="3276720"/>
            <a:ext cx="1523880" cy="507960"/>
          </a:xfrm>
          <a:prstGeom prst="rect">
            <a:avLst/>
          </a:prstGeom>
          <a:ln w="0">
            <a:noFill/>
          </a:ln>
        </p:spPr>
      </p:pic>
      <p:pic>
        <p:nvPicPr>
          <p:cNvPr id="357" name="rsasecurity2" descr=""/>
          <p:cNvPicPr/>
          <p:nvPr/>
        </p:nvPicPr>
        <p:blipFill>
          <a:blip r:embed="rId10"/>
          <a:stretch/>
        </p:blipFill>
        <p:spPr>
          <a:xfrm>
            <a:off x="6553080" y="5257800"/>
            <a:ext cx="1384560" cy="992160"/>
          </a:xfrm>
          <a:prstGeom prst="rect">
            <a:avLst/>
          </a:prstGeom>
          <a:ln w="0">
            <a:noFill/>
          </a:ln>
        </p:spPr>
      </p:pic>
      <p:pic>
        <p:nvPicPr>
          <p:cNvPr id="358" name="HP2" descr=""/>
          <p:cNvPicPr/>
          <p:nvPr/>
        </p:nvPicPr>
        <p:blipFill>
          <a:blip r:embed="rId11"/>
          <a:stretch/>
        </p:blipFill>
        <p:spPr>
          <a:xfrm>
            <a:off x="6019920" y="4343400"/>
            <a:ext cx="2438280" cy="544680"/>
          </a:xfrm>
          <a:prstGeom prst="rect">
            <a:avLst/>
          </a:prstGeom>
          <a:ln w="0">
            <a:noFill/>
          </a:ln>
        </p:spPr>
      </p:pic>
      <p:pic>
        <p:nvPicPr>
          <p:cNvPr id="359" name="thumbLogo" descr=""/>
          <p:cNvPicPr/>
          <p:nvPr/>
        </p:nvPicPr>
        <p:blipFill>
          <a:blip r:embed="rId12"/>
          <a:stretch/>
        </p:blipFill>
        <p:spPr>
          <a:xfrm>
            <a:off x="4840200" y="1295280"/>
            <a:ext cx="1828800" cy="76068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13"/>
          <a:stretch/>
        </p:blipFill>
        <p:spPr>
          <a:xfrm>
            <a:off x="4911840" y="3276720"/>
            <a:ext cx="1676160" cy="62064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368280" y="3124080"/>
            <a:ext cx="803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74680" y="25272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resentative Part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SUNMICRO" descr=""/>
          <p:cNvPicPr/>
          <p:nvPr/>
        </p:nvPicPr>
        <p:blipFill>
          <a:blip r:embed="rId14"/>
          <a:stretch/>
        </p:blipFill>
        <p:spPr>
          <a:xfrm>
            <a:off x="1828800" y="4572000"/>
            <a:ext cx="1905120" cy="70632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15"/>
          <a:stretch/>
        </p:blipFill>
        <p:spPr>
          <a:xfrm>
            <a:off x="3962520" y="4419720"/>
            <a:ext cx="1752480" cy="84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27468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tact Ens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68280" y="965160"/>
            <a:ext cx="803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274680" y="1371600"/>
            <a:ext cx="827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ia-Pacific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ffendy Shahul-Hamid – Managing Dir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+65-430 6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Ehamid@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ensim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quar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andip Gupta – VP, Business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+1 (408) 745-3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ahoma"/>
                <a:hlinkClick r:id="rId4"/>
              </a:rPr>
              <a:t>Sgupta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ahoma"/>
                <a:hlinkClick r:id="rId5"/>
              </a:rPr>
              <a:t>@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ahoma"/>
                <a:hlinkClick r:id="rId6"/>
              </a:rPr>
              <a:t>ensim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ahoma"/>
                <a:hlinkClick r:id="rId7"/>
              </a:rPr>
              <a:t>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ahoma"/>
                <a:hlinkClick r:id="rId8"/>
              </a:rPr>
              <a:t>www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ahoma"/>
                <a:hlinkClick r:id="rId9"/>
              </a:rPr>
              <a:t>ensim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ahoma"/>
                <a:hlinkClick r:id="rId10"/>
              </a:rPr>
              <a:t>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. Market Opportun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7468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rvice Provi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8280" y="965160"/>
            <a:ext cx="803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1289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Providers (Web Hosters, ISPs, CDNs, MSPs) and Enterprise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utions designed to automate the simple, scalable and profitable deployment of hoste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ate simple management, provisioning and administration of hosting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er expanded service offerings -&gt; Increase revenue per acquired cust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customer retention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ize the return on their infrastructure inve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 customer satisf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7468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xploding Market Opportunity (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8280" y="965160"/>
            <a:ext cx="803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454640" y="1293840"/>
          <a:ext cx="3692520" cy="24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54640" y="1293840"/>
                    <a:ext cx="3692520" cy="24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291960" y="1293840"/>
          <a:ext cx="3692520" cy="246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1960" y="1293840"/>
                    <a:ext cx="3692520" cy="24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52320" y="1062000"/>
            <a:ext cx="2986560" cy="337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U.S. Web Hosting Revenue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36560" y="1062000"/>
            <a:ext cx="392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U.S. Small Businesses with Web Site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454640" y="3884760"/>
          <a:ext cx="3692520" cy="2463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54640" y="3884760"/>
                    <a:ext cx="3692520" cy="24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291960" y="3884760"/>
          <a:ext cx="3692520" cy="2463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1960" y="3884760"/>
                    <a:ext cx="3692520" cy="24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1108080" y="3652920"/>
            <a:ext cx="2075040" cy="337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U.S. ASP Revenue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04400" y="3652920"/>
            <a:ext cx="340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U.S. Content Delivery Revenue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ahom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91960" y="624528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9160" indent="-119160">
              <a:lnSpc>
                <a:spcPct val="100000"/>
              </a:lnSpc>
              <a:buClr>
                <a:srgbClr val="000000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Source: Forrest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119160" indent="-119160">
              <a:lnSpc>
                <a:spcPct val="100000"/>
              </a:lnSpc>
              <a:buClr>
                <a:srgbClr val="000000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Source: IDC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119160" indent="-119160">
              <a:lnSpc>
                <a:spcPct val="100000"/>
              </a:lnSpc>
              <a:buClr>
                <a:srgbClr val="000000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Source: IDC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119160" indent="-119160">
              <a:lnSpc>
                <a:spcPct val="100000"/>
              </a:lnSpc>
              <a:buClr>
                <a:srgbClr val="000000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The Yankee Group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7468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xploding Market Opportunity (Asia-Pa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68280" y="965160"/>
            <a:ext cx="803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04920" y="2666880"/>
          <a:ext cx="3651120" cy="24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666880"/>
                    <a:ext cx="3651120" cy="24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1004400" y="2057400"/>
            <a:ext cx="2552040" cy="337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eb Hosting Revenue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572000" y="2736720"/>
          <a:ext cx="3651120" cy="244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736720"/>
                    <a:ext cx="3651120" cy="24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5817600" y="2133720"/>
            <a:ext cx="1640880" cy="337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SP Revenue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1960" y="6245280"/>
            <a:ext cx="1089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9160" indent="-119160">
              <a:lnSpc>
                <a:spcPct val="100000"/>
              </a:lnSpc>
              <a:buClr>
                <a:srgbClr val="000000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Source: IDC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119160" indent="-119160">
              <a:lnSpc>
                <a:spcPct val="100000"/>
              </a:lnSpc>
              <a:buClr>
                <a:srgbClr val="000000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Source: IDC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I. Hosting Challen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7468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osting Life-Cycle is Compl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8280" y="965160"/>
            <a:ext cx="803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04560" y="1142640"/>
            <a:ext cx="8458200" cy="973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build &amp; operate hosting infrastructure for the simple, scalable and profitable deployment of hoste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666880" y="2286000"/>
            <a:ext cx="2203560" cy="1565280"/>
          </a:xfrm>
          <a:custGeom>
            <a:avLst/>
            <a:gdLst/>
            <a:ahLst/>
            <a:rect l="l" t="t" r="r" b="b"/>
            <a:pathLst>
              <a:path w="1206" h="828">
                <a:moveTo>
                  <a:pt x="0" y="765"/>
                </a:moveTo>
                <a:lnTo>
                  <a:pt x="164" y="828"/>
                </a:lnTo>
                <a:lnTo>
                  <a:pt x="168" y="815"/>
                </a:lnTo>
                <a:lnTo>
                  <a:pt x="173" y="801"/>
                </a:lnTo>
                <a:lnTo>
                  <a:pt x="180" y="783"/>
                </a:lnTo>
                <a:lnTo>
                  <a:pt x="186" y="767"/>
                </a:lnTo>
                <a:lnTo>
                  <a:pt x="192" y="752"/>
                </a:lnTo>
                <a:lnTo>
                  <a:pt x="199" y="739"/>
                </a:lnTo>
                <a:lnTo>
                  <a:pt x="206" y="722"/>
                </a:lnTo>
                <a:lnTo>
                  <a:pt x="212" y="709"/>
                </a:lnTo>
                <a:lnTo>
                  <a:pt x="221" y="693"/>
                </a:lnTo>
                <a:lnTo>
                  <a:pt x="228" y="678"/>
                </a:lnTo>
                <a:lnTo>
                  <a:pt x="237" y="663"/>
                </a:lnTo>
                <a:lnTo>
                  <a:pt x="246" y="650"/>
                </a:lnTo>
                <a:lnTo>
                  <a:pt x="253" y="638"/>
                </a:lnTo>
                <a:lnTo>
                  <a:pt x="261" y="627"/>
                </a:lnTo>
                <a:lnTo>
                  <a:pt x="269" y="614"/>
                </a:lnTo>
                <a:lnTo>
                  <a:pt x="278" y="602"/>
                </a:lnTo>
                <a:lnTo>
                  <a:pt x="288" y="588"/>
                </a:lnTo>
                <a:lnTo>
                  <a:pt x="297" y="575"/>
                </a:lnTo>
                <a:lnTo>
                  <a:pt x="304" y="566"/>
                </a:lnTo>
                <a:lnTo>
                  <a:pt x="312" y="554"/>
                </a:lnTo>
                <a:lnTo>
                  <a:pt x="323" y="541"/>
                </a:lnTo>
                <a:lnTo>
                  <a:pt x="336" y="527"/>
                </a:lnTo>
                <a:lnTo>
                  <a:pt x="351" y="509"/>
                </a:lnTo>
                <a:lnTo>
                  <a:pt x="365" y="493"/>
                </a:lnTo>
                <a:lnTo>
                  <a:pt x="381" y="477"/>
                </a:lnTo>
                <a:lnTo>
                  <a:pt x="397" y="461"/>
                </a:lnTo>
                <a:lnTo>
                  <a:pt x="416" y="445"/>
                </a:lnTo>
                <a:lnTo>
                  <a:pt x="430" y="433"/>
                </a:lnTo>
                <a:lnTo>
                  <a:pt x="446" y="420"/>
                </a:lnTo>
                <a:lnTo>
                  <a:pt x="464" y="406"/>
                </a:lnTo>
                <a:lnTo>
                  <a:pt x="484" y="392"/>
                </a:lnTo>
                <a:lnTo>
                  <a:pt x="505" y="377"/>
                </a:lnTo>
                <a:lnTo>
                  <a:pt x="524" y="364"/>
                </a:lnTo>
                <a:lnTo>
                  <a:pt x="546" y="351"/>
                </a:lnTo>
                <a:lnTo>
                  <a:pt x="569" y="337"/>
                </a:lnTo>
                <a:lnTo>
                  <a:pt x="591" y="326"/>
                </a:lnTo>
                <a:lnTo>
                  <a:pt x="612" y="316"/>
                </a:lnTo>
                <a:lnTo>
                  <a:pt x="632" y="307"/>
                </a:lnTo>
                <a:lnTo>
                  <a:pt x="651" y="298"/>
                </a:lnTo>
                <a:lnTo>
                  <a:pt x="673" y="289"/>
                </a:lnTo>
                <a:lnTo>
                  <a:pt x="694" y="281"/>
                </a:lnTo>
                <a:lnTo>
                  <a:pt x="715" y="274"/>
                </a:lnTo>
                <a:lnTo>
                  <a:pt x="738" y="267"/>
                </a:lnTo>
                <a:lnTo>
                  <a:pt x="758" y="260"/>
                </a:lnTo>
                <a:lnTo>
                  <a:pt x="782" y="254"/>
                </a:lnTo>
                <a:lnTo>
                  <a:pt x="806" y="248"/>
                </a:lnTo>
                <a:lnTo>
                  <a:pt x="830" y="243"/>
                </a:lnTo>
                <a:lnTo>
                  <a:pt x="855" y="238"/>
                </a:lnTo>
                <a:lnTo>
                  <a:pt x="882" y="234"/>
                </a:lnTo>
                <a:lnTo>
                  <a:pt x="905" y="232"/>
                </a:lnTo>
                <a:lnTo>
                  <a:pt x="929" y="230"/>
                </a:lnTo>
                <a:lnTo>
                  <a:pt x="957" y="229"/>
                </a:lnTo>
                <a:lnTo>
                  <a:pt x="980" y="229"/>
                </a:lnTo>
                <a:lnTo>
                  <a:pt x="1008" y="229"/>
                </a:lnTo>
                <a:lnTo>
                  <a:pt x="1008" y="289"/>
                </a:lnTo>
                <a:lnTo>
                  <a:pt x="1206" y="150"/>
                </a:lnTo>
                <a:lnTo>
                  <a:pt x="1008" y="0"/>
                </a:lnTo>
                <a:lnTo>
                  <a:pt x="1008" y="57"/>
                </a:lnTo>
                <a:lnTo>
                  <a:pt x="977" y="57"/>
                </a:lnTo>
                <a:lnTo>
                  <a:pt x="949" y="58"/>
                </a:lnTo>
                <a:lnTo>
                  <a:pt x="919" y="60"/>
                </a:lnTo>
                <a:lnTo>
                  <a:pt x="893" y="62"/>
                </a:lnTo>
                <a:lnTo>
                  <a:pt x="868" y="64"/>
                </a:lnTo>
                <a:lnTo>
                  <a:pt x="844" y="67"/>
                </a:lnTo>
                <a:lnTo>
                  <a:pt x="818" y="71"/>
                </a:lnTo>
                <a:lnTo>
                  <a:pt x="794" y="76"/>
                </a:lnTo>
                <a:lnTo>
                  <a:pt x="772" y="80"/>
                </a:lnTo>
                <a:lnTo>
                  <a:pt x="748" y="85"/>
                </a:lnTo>
                <a:lnTo>
                  <a:pt x="718" y="92"/>
                </a:lnTo>
                <a:lnTo>
                  <a:pt x="695" y="99"/>
                </a:lnTo>
                <a:lnTo>
                  <a:pt x="672" y="106"/>
                </a:lnTo>
                <a:lnTo>
                  <a:pt x="650" y="113"/>
                </a:lnTo>
                <a:lnTo>
                  <a:pt x="624" y="123"/>
                </a:lnTo>
                <a:lnTo>
                  <a:pt x="599" y="132"/>
                </a:lnTo>
                <a:lnTo>
                  <a:pt x="577" y="142"/>
                </a:lnTo>
                <a:lnTo>
                  <a:pt x="555" y="151"/>
                </a:lnTo>
                <a:lnTo>
                  <a:pt x="530" y="164"/>
                </a:lnTo>
                <a:lnTo>
                  <a:pt x="507" y="175"/>
                </a:lnTo>
                <a:lnTo>
                  <a:pt x="485" y="186"/>
                </a:lnTo>
                <a:lnTo>
                  <a:pt x="464" y="198"/>
                </a:lnTo>
                <a:lnTo>
                  <a:pt x="444" y="209"/>
                </a:lnTo>
                <a:lnTo>
                  <a:pt x="424" y="223"/>
                </a:lnTo>
                <a:lnTo>
                  <a:pt x="405" y="235"/>
                </a:lnTo>
                <a:lnTo>
                  <a:pt x="383" y="250"/>
                </a:lnTo>
                <a:lnTo>
                  <a:pt x="362" y="265"/>
                </a:lnTo>
                <a:lnTo>
                  <a:pt x="343" y="280"/>
                </a:lnTo>
                <a:lnTo>
                  <a:pt x="325" y="296"/>
                </a:lnTo>
                <a:lnTo>
                  <a:pt x="307" y="311"/>
                </a:lnTo>
                <a:lnTo>
                  <a:pt x="290" y="325"/>
                </a:lnTo>
                <a:lnTo>
                  <a:pt x="275" y="339"/>
                </a:lnTo>
                <a:lnTo>
                  <a:pt x="256" y="357"/>
                </a:lnTo>
                <a:lnTo>
                  <a:pt x="240" y="376"/>
                </a:lnTo>
                <a:lnTo>
                  <a:pt x="225" y="391"/>
                </a:lnTo>
                <a:lnTo>
                  <a:pt x="209" y="408"/>
                </a:lnTo>
                <a:lnTo>
                  <a:pt x="194" y="426"/>
                </a:lnTo>
                <a:lnTo>
                  <a:pt x="179" y="445"/>
                </a:lnTo>
                <a:lnTo>
                  <a:pt x="164" y="464"/>
                </a:lnTo>
                <a:lnTo>
                  <a:pt x="150" y="482"/>
                </a:lnTo>
                <a:lnTo>
                  <a:pt x="135" y="502"/>
                </a:lnTo>
                <a:lnTo>
                  <a:pt x="123" y="519"/>
                </a:lnTo>
                <a:lnTo>
                  <a:pt x="112" y="535"/>
                </a:lnTo>
                <a:lnTo>
                  <a:pt x="104" y="547"/>
                </a:lnTo>
                <a:lnTo>
                  <a:pt x="96" y="558"/>
                </a:lnTo>
                <a:lnTo>
                  <a:pt x="90" y="568"/>
                </a:lnTo>
                <a:lnTo>
                  <a:pt x="85" y="577"/>
                </a:lnTo>
                <a:lnTo>
                  <a:pt x="79" y="588"/>
                </a:lnTo>
                <a:lnTo>
                  <a:pt x="74" y="600"/>
                </a:lnTo>
                <a:lnTo>
                  <a:pt x="68" y="613"/>
                </a:lnTo>
                <a:lnTo>
                  <a:pt x="61" y="624"/>
                </a:lnTo>
                <a:lnTo>
                  <a:pt x="56" y="633"/>
                </a:lnTo>
                <a:lnTo>
                  <a:pt x="50" y="646"/>
                </a:lnTo>
                <a:lnTo>
                  <a:pt x="43" y="658"/>
                </a:lnTo>
                <a:lnTo>
                  <a:pt x="38" y="671"/>
                </a:lnTo>
                <a:lnTo>
                  <a:pt x="31" y="684"/>
                </a:lnTo>
                <a:lnTo>
                  <a:pt x="27" y="696"/>
                </a:lnTo>
                <a:lnTo>
                  <a:pt x="21" y="707"/>
                </a:lnTo>
                <a:lnTo>
                  <a:pt x="17" y="719"/>
                </a:lnTo>
                <a:lnTo>
                  <a:pt x="12" y="732"/>
                </a:lnTo>
                <a:lnTo>
                  <a:pt x="8" y="744"/>
                </a:lnTo>
                <a:lnTo>
                  <a:pt x="5" y="754"/>
                </a:lnTo>
                <a:lnTo>
                  <a:pt x="0" y="765"/>
                </a:lnTo>
                <a:close/>
              </a:path>
            </a:pathLst>
          </a:custGeom>
          <a:solidFill>
            <a:srgbClr val="ff0000"/>
          </a:solidFill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4800">
            <a:off x="776160" y="2892240"/>
            <a:ext cx="185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row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52960" y="4924440"/>
            <a:ext cx="2208240" cy="1568520"/>
          </a:xfrm>
          <a:custGeom>
            <a:avLst/>
            <a:gdLst/>
            <a:ahLst/>
            <a:rect l="l" t="t" r="r" b="b"/>
            <a:pathLst>
              <a:path w="1205" h="829">
                <a:moveTo>
                  <a:pt x="1205" y="63"/>
                </a:moveTo>
                <a:lnTo>
                  <a:pt x="1041" y="0"/>
                </a:lnTo>
                <a:lnTo>
                  <a:pt x="1037" y="13"/>
                </a:lnTo>
                <a:lnTo>
                  <a:pt x="1032" y="27"/>
                </a:lnTo>
                <a:lnTo>
                  <a:pt x="1025" y="45"/>
                </a:lnTo>
                <a:lnTo>
                  <a:pt x="1019" y="60"/>
                </a:lnTo>
                <a:lnTo>
                  <a:pt x="1013" y="76"/>
                </a:lnTo>
                <a:lnTo>
                  <a:pt x="1007" y="89"/>
                </a:lnTo>
                <a:lnTo>
                  <a:pt x="999" y="106"/>
                </a:lnTo>
                <a:lnTo>
                  <a:pt x="993" y="119"/>
                </a:lnTo>
                <a:lnTo>
                  <a:pt x="985" y="135"/>
                </a:lnTo>
                <a:lnTo>
                  <a:pt x="977" y="150"/>
                </a:lnTo>
                <a:lnTo>
                  <a:pt x="968" y="164"/>
                </a:lnTo>
                <a:lnTo>
                  <a:pt x="959" y="178"/>
                </a:lnTo>
                <a:lnTo>
                  <a:pt x="952" y="190"/>
                </a:lnTo>
                <a:lnTo>
                  <a:pt x="945" y="201"/>
                </a:lnTo>
                <a:lnTo>
                  <a:pt x="936" y="214"/>
                </a:lnTo>
                <a:lnTo>
                  <a:pt x="927" y="226"/>
                </a:lnTo>
                <a:lnTo>
                  <a:pt x="917" y="240"/>
                </a:lnTo>
                <a:lnTo>
                  <a:pt x="908" y="253"/>
                </a:lnTo>
                <a:lnTo>
                  <a:pt x="902" y="262"/>
                </a:lnTo>
                <a:lnTo>
                  <a:pt x="893" y="274"/>
                </a:lnTo>
                <a:lnTo>
                  <a:pt x="882" y="287"/>
                </a:lnTo>
                <a:lnTo>
                  <a:pt x="869" y="301"/>
                </a:lnTo>
                <a:lnTo>
                  <a:pt x="854" y="319"/>
                </a:lnTo>
                <a:lnTo>
                  <a:pt x="840" y="334"/>
                </a:lnTo>
                <a:lnTo>
                  <a:pt x="824" y="351"/>
                </a:lnTo>
                <a:lnTo>
                  <a:pt x="808" y="367"/>
                </a:lnTo>
                <a:lnTo>
                  <a:pt x="789" y="383"/>
                </a:lnTo>
                <a:lnTo>
                  <a:pt x="775" y="395"/>
                </a:lnTo>
                <a:lnTo>
                  <a:pt x="759" y="408"/>
                </a:lnTo>
                <a:lnTo>
                  <a:pt x="741" y="422"/>
                </a:lnTo>
                <a:lnTo>
                  <a:pt x="721" y="436"/>
                </a:lnTo>
                <a:lnTo>
                  <a:pt x="700" y="451"/>
                </a:lnTo>
                <a:lnTo>
                  <a:pt x="681" y="464"/>
                </a:lnTo>
                <a:lnTo>
                  <a:pt x="659" y="477"/>
                </a:lnTo>
                <a:lnTo>
                  <a:pt x="636" y="491"/>
                </a:lnTo>
                <a:lnTo>
                  <a:pt x="614" y="501"/>
                </a:lnTo>
                <a:lnTo>
                  <a:pt x="593" y="512"/>
                </a:lnTo>
                <a:lnTo>
                  <a:pt x="573" y="521"/>
                </a:lnTo>
                <a:lnTo>
                  <a:pt x="554" y="530"/>
                </a:lnTo>
                <a:lnTo>
                  <a:pt x="532" y="539"/>
                </a:lnTo>
                <a:lnTo>
                  <a:pt x="511" y="547"/>
                </a:lnTo>
                <a:lnTo>
                  <a:pt x="490" y="554"/>
                </a:lnTo>
                <a:lnTo>
                  <a:pt x="467" y="561"/>
                </a:lnTo>
                <a:lnTo>
                  <a:pt x="447" y="567"/>
                </a:lnTo>
                <a:lnTo>
                  <a:pt x="423" y="574"/>
                </a:lnTo>
                <a:lnTo>
                  <a:pt x="399" y="580"/>
                </a:lnTo>
                <a:lnTo>
                  <a:pt x="375" y="585"/>
                </a:lnTo>
                <a:lnTo>
                  <a:pt x="350" y="590"/>
                </a:lnTo>
                <a:lnTo>
                  <a:pt x="324" y="594"/>
                </a:lnTo>
                <a:lnTo>
                  <a:pt x="301" y="596"/>
                </a:lnTo>
                <a:lnTo>
                  <a:pt x="276" y="598"/>
                </a:lnTo>
                <a:lnTo>
                  <a:pt x="248" y="599"/>
                </a:lnTo>
                <a:lnTo>
                  <a:pt x="225" y="599"/>
                </a:lnTo>
                <a:lnTo>
                  <a:pt x="197" y="599"/>
                </a:lnTo>
                <a:lnTo>
                  <a:pt x="197" y="539"/>
                </a:lnTo>
                <a:lnTo>
                  <a:pt x="0" y="678"/>
                </a:lnTo>
                <a:lnTo>
                  <a:pt x="197" y="829"/>
                </a:lnTo>
                <a:lnTo>
                  <a:pt x="197" y="771"/>
                </a:lnTo>
                <a:lnTo>
                  <a:pt x="228" y="771"/>
                </a:lnTo>
                <a:lnTo>
                  <a:pt x="257" y="770"/>
                </a:lnTo>
                <a:lnTo>
                  <a:pt x="286" y="768"/>
                </a:lnTo>
                <a:lnTo>
                  <a:pt x="312" y="766"/>
                </a:lnTo>
                <a:lnTo>
                  <a:pt x="337" y="764"/>
                </a:lnTo>
                <a:lnTo>
                  <a:pt x="361" y="761"/>
                </a:lnTo>
                <a:lnTo>
                  <a:pt x="388" y="756"/>
                </a:lnTo>
                <a:lnTo>
                  <a:pt x="411" y="752"/>
                </a:lnTo>
                <a:lnTo>
                  <a:pt x="433" y="748"/>
                </a:lnTo>
                <a:lnTo>
                  <a:pt x="457" y="743"/>
                </a:lnTo>
                <a:lnTo>
                  <a:pt x="487" y="735"/>
                </a:lnTo>
                <a:lnTo>
                  <a:pt x="510" y="729"/>
                </a:lnTo>
                <a:lnTo>
                  <a:pt x="533" y="722"/>
                </a:lnTo>
                <a:lnTo>
                  <a:pt x="556" y="714"/>
                </a:lnTo>
                <a:lnTo>
                  <a:pt x="582" y="705"/>
                </a:lnTo>
                <a:lnTo>
                  <a:pt x="606" y="696"/>
                </a:lnTo>
                <a:lnTo>
                  <a:pt x="628" y="686"/>
                </a:lnTo>
                <a:lnTo>
                  <a:pt x="650" y="677"/>
                </a:lnTo>
                <a:lnTo>
                  <a:pt x="675" y="664"/>
                </a:lnTo>
                <a:lnTo>
                  <a:pt x="698" y="653"/>
                </a:lnTo>
                <a:lnTo>
                  <a:pt x="720" y="642"/>
                </a:lnTo>
                <a:lnTo>
                  <a:pt x="741" y="629"/>
                </a:lnTo>
                <a:lnTo>
                  <a:pt x="760" y="619"/>
                </a:lnTo>
                <a:lnTo>
                  <a:pt x="781" y="605"/>
                </a:lnTo>
                <a:lnTo>
                  <a:pt x="800" y="593"/>
                </a:lnTo>
                <a:lnTo>
                  <a:pt x="822" y="578"/>
                </a:lnTo>
                <a:lnTo>
                  <a:pt x="843" y="563"/>
                </a:lnTo>
                <a:lnTo>
                  <a:pt x="862" y="548"/>
                </a:lnTo>
                <a:lnTo>
                  <a:pt x="881" y="532"/>
                </a:lnTo>
                <a:lnTo>
                  <a:pt x="899" y="517"/>
                </a:lnTo>
                <a:lnTo>
                  <a:pt x="915" y="502"/>
                </a:lnTo>
                <a:lnTo>
                  <a:pt x="930" y="489"/>
                </a:lnTo>
                <a:lnTo>
                  <a:pt x="949" y="471"/>
                </a:lnTo>
                <a:lnTo>
                  <a:pt x="966" y="452"/>
                </a:lnTo>
                <a:lnTo>
                  <a:pt x="980" y="437"/>
                </a:lnTo>
                <a:lnTo>
                  <a:pt x="996" y="419"/>
                </a:lnTo>
                <a:lnTo>
                  <a:pt x="1011" y="402"/>
                </a:lnTo>
                <a:lnTo>
                  <a:pt x="1027" y="383"/>
                </a:lnTo>
                <a:lnTo>
                  <a:pt x="1041" y="364"/>
                </a:lnTo>
                <a:lnTo>
                  <a:pt x="1055" y="346"/>
                </a:lnTo>
                <a:lnTo>
                  <a:pt x="1071" y="326"/>
                </a:lnTo>
                <a:lnTo>
                  <a:pt x="1082" y="309"/>
                </a:lnTo>
                <a:lnTo>
                  <a:pt x="1094" y="292"/>
                </a:lnTo>
                <a:lnTo>
                  <a:pt x="1101" y="281"/>
                </a:lnTo>
                <a:lnTo>
                  <a:pt x="1109" y="269"/>
                </a:lnTo>
                <a:lnTo>
                  <a:pt x="1116" y="260"/>
                </a:lnTo>
                <a:lnTo>
                  <a:pt x="1120" y="250"/>
                </a:lnTo>
                <a:lnTo>
                  <a:pt x="1126" y="240"/>
                </a:lnTo>
                <a:lnTo>
                  <a:pt x="1131" y="227"/>
                </a:lnTo>
                <a:lnTo>
                  <a:pt x="1138" y="215"/>
                </a:lnTo>
                <a:lnTo>
                  <a:pt x="1144" y="204"/>
                </a:lnTo>
                <a:lnTo>
                  <a:pt x="1149" y="195"/>
                </a:lnTo>
                <a:lnTo>
                  <a:pt x="1156" y="182"/>
                </a:lnTo>
                <a:lnTo>
                  <a:pt x="1162" y="170"/>
                </a:lnTo>
                <a:lnTo>
                  <a:pt x="1167" y="157"/>
                </a:lnTo>
                <a:lnTo>
                  <a:pt x="1174" y="143"/>
                </a:lnTo>
                <a:lnTo>
                  <a:pt x="1179" y="132"/>
                </a:lnTo>
                <a:lnTo>
                  <a:pt x="1184" y="121"/>
                </a:lnTo>
                <a:lnTo>
                  <a:pt x="1188" y="109"/>
                </a:lnTo>
                <a:lnTo>
                  <a:pt x="1193" y="96"/>
                </a:lnTo>
                <a:lnTo>
                  <a:pt x="1198" y="84"/>
                </a:lnTo>
                <a:lnTo>
                  <a:pt x="1201" y="74"/>
                </a:lnTo>
                <a:lnTo>
                  <a:pt x="1205" y="63"/>
                </a:lnTo>
                <a:close/>
              </a:path>
            </a:pathLst>
          </a:custGeom>
          <a:solidFill>
            <a:srgbClr val="ff0000"/>
          </a:solidFill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90840" y="4013280"/>
            <a:ext cx="1549440" cy="2290680"/>
          </a:xfrm>
          <a:custGeom>
            <a:avLst/>
            <a:gdLst/>
            <a:ahLst/>
            <a:rect l="l" t="t" r="r" b="b"/>
            <a:pathLst>
              <a:path w="846" h="1210">
                <a:moveTo>
                  <a:pt x="765" y="1206"/>
                </a:moveTo>
                <a:lnTo>
                  <a:pt x="783" y="1210"/>
                </a:lnTo>
                <a:lnTo>
                  <a:pt x="846" y="1049"/>
                </a:lnTo>
                <a:lnTo>
                  <a:pt x="828" y="1042"/>
                </a:lnTo>
                <a:lnTo>
                  <a:pt x="814" y="1038"/>
                </a:lnTo>
                <a:lnTo>
                  <a:pt x="800" y="1033"/>
                </a:lnTo>
                <a:lnTo>
                  <a:pt x="783" y="1026"/>
                </a:lnTo>
                <a:lnTo>
                  <a:pt x="767" y="1020"/>
                </a:lnTo>
                <a:lnTo>
                  <a:pt x="751" y="1014"/>
                </a:lnTo>
                <a:lnTo>
                  <a:pt x="739" y="1008"/>
                </a:lnTo>
                <a:lnTo>
                  <a:pt x="722" y="1000"/>
                </a:lnTo>
                <a:lnTo>
                  <a:pt x="708" y="994"/>
                </a:lnTo>
                <a:lnTo>
                  <a:pt x="692" y="985"/>
                </a:lnTo>
                <a:lnTo>
                  <a:pt x="678" y="978"/>
                </a:lnTo>
                <a:lnTo>
                  <a:pt x="663" y="969"/>
                </a:lnTo>
                <a:lnTo>
                  <a:pt x="649" y="960"/>
                </a:lnTo>
                <a:lnTo>
                  <a:pt x="638" y="953"/>
                </a:lnTo>
                <a:lnTo>
                  <a:pt x="627" y="946"/>
                </a:lnTo>
                <a:lnTo>
                  <a:pt x="614" y="937"/>
                </a:lnTo>
                <a:lnTo>
                  <a:pt x="601" y="928"/>
                </a:lnTo>
                <a:lnTo>
                  <a:pt x="588" y="918"/>
                </a:lnTo>
                <a:lnTo>
                  <a:pt x="575" y="909"/>
                </a:lnTo>
                <a:lnTo>
                  <a:pt x="566" y="903"/>
                </a:lnTo>
                <a:lnTo>
                  <a:pt x="555" y="894"/>
                </a:lnTo>
                <a:lnTo>
                  <a:pt x="540" y="883"/>
                </a:lnTo>
                <a:lnTo>
                  <a:pt x="527" y="870"/>
                </a:lnTo>
                <a:lnTo>
                  <a:pt x="509" y="855"/>
                </a:lnTo>
                <a:lnTo>
                  <a:pt x="493" y="841"/>
                </a:lnTo>
                <a:lnTo>
                  <a:pt x="476" y="825"/>
                </a:lnTo>
                <a:lnTo>
                  <a:pt x="461" y="809"/>
                </a:lnTo>
                <a:lnTo>
                  <a:pt x="445" y="790"/>
                </a:lnTo>
                <a:lnTo>
                  <a:pt x="432" y="775"/>
                </a:lnTo>
                <a:lnTo>
                  <a:pt x="420" y="760"/>
                </a:lnTo>
                <a:lnTo>
                  <a:pt x="406" y="742"/>
                </a:lnTo>
                <a:lnTo>
                  <a:pt x="391" y="722"/>
                </a:lnTo>
                <a:lnTo>
                  <a:pt x="377" y="701"/>
                </a:lnTo>
                <a:lnTo>
                  <a:pt x="364" y="682"/>
                </a:lnTo>
                <a:lnTo>
                  <a:pt x="350" y="660"/>
                </a:lnTo>
                <a:lnTo>
                  <a:pt x="337" y="637"/>
                </a:lnTo>
                <a:lnTo>
                  <a:pt x="326" y="615"/>
                </a:lnTo>
                <a:lnTo>
                  <a:pt x="316" y="594"/>
                </a:lnTo>
                <a:lnTo>
                  <a:pt x="306" y="574"/>
                </a:lnTo>
                <a:lnTo>
                  <a:pt x="298" y="555"/>
                </a:lnTo>
                <a:lnTo>
                  <a:pt x="289" y="533"/>
                </a:lnTo>
                <a:lnTo>
                  <a:pt x="281" y="512"/>
                </a:lnTo>
                <a:lnTo>
                  <a:pt x="274" y="491"/>
                </a:lnTo>
                <a:lnTo>
                  <a:pt x="267" y="468"/>
                </a:lnTo>
                <a:lnTo>
                  <a:pt x="260" y="448"/>
                </a:lnTo>
                <a:lnTo>
                  <a:pt x="254" y="424"/>
                </a:lnTo>
                <a:lnTo>
                  <a:pt x="248" y="400"/>
                </a:lnTo>
                <a:lnTo>
                  <a:pt x="242" y="376"/>
                </a:lnTo>
                <a:lnTo>
                  <a:pt x="238" y="350"/>
                </a:lnTo>
                <a:lnTo>
                  <a:pt x="234" y="324"/>
                </a:lnTo>
                <a:lnTo>
                  <a:pt x="232" y="301"/>
                </a:lnTo>
                <a:lnTo>
                  <a:pt x="230" y="277"/>
                </a:lnTo>
                <a:lnTo>
                  <a:pt x="229" y="248"/>
                </a:lnTo>
                <a:lnTo>
                  <a:pt x="229" y="225"/>
                </a:lnTo>
                <a:lnTo>
                  <a:pt x="229" y="197"/>
                </a:lnTo>
                <a:lnTo>
                  <a:pt x="289" y="197"/>
                </a:lnTo>
                <a:lnTo>
                  <a:pt x="150" y="0"/>
                </a:lnTo>
                <a:lnTo>
                  <a:pt x="0" y="197"/>
                </a:lnTo>
                <a:lnTo>
                  <a:pt x="57" y="197"/>
                </a:lnTo>
                <a:lnTo>
                  <a:pt x="57" y="229"/>
                </a:lnTo>
                <a:lnTo>
                  <a:pt x="58" y="257"/>
                </a:lnTo>
                <a:lnTo>
                  <a:pt x="60" y="286"/>
                </a:lnTo>
                <a:lnTo>
                  <a:pt x="62" y="313"/>
                </a:lnTo>
                <a:lnTo>
                  <a:pt x="64" y="338"/>
                </a:lnTo>
                <a:lnTo>
                  <a:pt x="67" y="362"/>
                </a:lnTo>
                <a:lnTo>
                  <a:pt x="71" y="388"/>
                </a:lnTo>
                <a:lnTo>
                  <a:pt x="76" y="411"/>
                </a:lnTo>
                <a:lnTo>
                  <a:pt x="80" y="433"/>
                </a:lnTo>
                <a:lnTo>
                  <a:pt x="85" y="457"/>
                </a:lnTo>
                <a:lnTo>
                  <a:pt x="92" y="488"/>
                </a:lnTo>
                <a:lnTo>
                  <a:pt x="99" y="511"/>
                </a:lnTo>
                <a:lnTo>
                  <a:pt x="106" y="534"/>
                </a:lnTo>
                <a:lnTo>
                  <a:pt x="113" y="556"/>
                </a:lnTo>
                <a:lnTo>
                  <a:pt x="123" y="582"/>
                </a:lnTo>
                <a:lnTo>
                  <a:pt x="132" y="606"/>
                </a:lnTo>
                <a:lnTo>
                  <a:pt x="142" y="629"/>
                </a:lnTo>
                <a:lnTo>
                  <a:pt x="151" y="651"/>
                </a:lnTo>
                <a:lnTo>
                  <a:pt x="164" y="676"/>
                </a:lnTo>
                <a:lnTo>
                  <a:pt x="175" y="699"/>
                </a:lnTo>
                <a:lnTo>
                  <a:pt x="187" y="721"/>
                </a:lnTo>
                <a:lnTo>
                  <a:pt x="198" y="742"/>
                </a:lnTo>
                <a:lnTo>
                  <a:pt x="210" y="762"/>
                </a:lnTo>
                <a:lnTo>
                  <a:pt x="222" y="782"/>
                </a:lnTo>
                <a:lnTo>
                  <a:pt x="235" y="801"/>
                </a:lnTo>
                <a:lnTo>
                  <a:pt x="250" y="823"/>
                </a:lnTo>
                <a:lnTo>
                  <a:pt x="264" y="844"/>
                </a:lnTo>
                <a:lnTo>
                  <a:pt x="280" y="863"/>
                </a:lnTo>
                <a:lnTo>
                  <a:pt x="296" y="882"/>
                </a:lnTo>
                <a:lnTo>
                  <a:pt x="311" y="899"/>
                </a:lnTo>
                <a:lnTo>
                  <a:pt x="325" y="916"/>
                </a:lnTo>
                <a:lnTo>
                  <a:pt x="339" y="931"/>
                </a:lnTo>
                <a:lnTo>
                  <a:pt x="357" y="950"/>
                </a:lnTo>
                <a:lnTo>
                  <a:pt x="376" y="967"/>
                </a:lnTo>
                <a:lnTo>
                  <a:pt x="390" y="981"/>
                </a:lnTo>
                <a:lnTo>
                  <a:pt x="408" y="997"/>
                </a:lnTo>
                <a:lnTo>
                  <a:pt x="426" y="1012"/>
                </a:lnTo>
                <a:lnTo>
                  <a:pt x="445" y="1027"/>
                </a:lnTo>
                <a:lnTo>
                  <a:pt x="464" y="1042"/>
                </a:lnTo>
                <a:lnTo>
                  <a:pt x="482" y="1056"/>
                </a:lnTo>
                <a:lnTo>
                  <a:pt x="502" y="1072"/>
                </a:lnTo>
                <a:lnTo>
                  <a:pt x="518" y="1083"/>
                </a:lnTo>
                <a:lnTo>
                  <a:pt x="535" y="1095"/>
                </a:lnTo>
                <a:lnTo>
                  <a:pt x="548" y="1102"/>
                </a:lnTo>
                <a:lnTo>
                  <a:pt x="558" y="1110"/>
                </a:lnTo>
                <a:lnTo>
                  <a:pt x="568" y="1117"/>
                </a:lnTo>
                <a:lnTo>
                  <a:pt x="577" y="1121"/>
                </a:lnTo>
                <a:lnTo>
                  <a:pt x="588" y="1127"/>
                </a:lnTo>
                <a:lnTo>
                  <a:pt x="600" y="1132"/>
                </a:lnTo>
                <a:lnTo>
                  <a:pt x="613" y="1139"/>
                </a:lnTo>
                <a:lnTo>
                  <a:pt x="624" y="1145"/>
                </a:lnTo>
                <a:lnTo>
                  <a:pt x="634" y="1150"/>
                </a:lnTo>
                <a:lnTo>
                  <a:pt x="645" y="1157"/>
                </a:lnTo>
                <a:lnTo>
                  <a:pt x="658" y="1163"/>
                </a:lnTo>
                <a:lnTo>
                  <a:pt x="670" y="1168"/>
                </a:lnTo>
                <a:lnTo>
                  <a:pt x="684" y="1175"/>
                </a:lnTo>
                <a:lnTo>
                  <a:pt x="696" y="1180"/>
                </a:lnTo>
                <a:lnTo>
                  <a:pt x="706" y="1185"/>
                </a:lnTo>
                <a:lnTo>
                  <a:pt x="719" y="1189"/>
                </a:lnTo>
                <a:lnTo>
                  <a:pt x="731" y="1194"/>
                </a:lnTo>
                <a:lnTo>
                  <a:pt x="744" y="1199"/>
                </a:lnTo>
                <a:lnTo>
                  <a:pt x="753" y="1202"/>
                </a:lnTo>
                <a:lnTo>
                  <a:pt x="765" y="1206"/>
                </a:lnTo>
                <a:close/>
              </a:path>
            </a:pathLst>
          </a:custGeom>
          <a:solidFill>
            <a:srgbClr val="ff0000"/>
          </a:solidFill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4800">
            <a:off x="6259680" y="5544720"/>
            <a:ext cx="190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4800">
            <a:off x="458640" y="5546520"/>
            <a:ext cx="235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514600"/>
            <a:ext cx="1547640" cy="2287440"/>
          </a:xfrm>
          <a:custGeom>
            <a:avLst/>
            <a:gdLst/>
            <a:ahLst/>
            <a:rect l="l" t="t" r="r" b="b"/>
            <a:pathLst>
              <a:path w="847" h="1211">
                <a:moveTo>
                  <a:pt x="81" y="5"/>
                </a:moveTo>
                <a:lnTo>
                  <a:pt x="63" y="0"/>
                </a:lnTo>
                <a:lnTo>
                  <a:pt x="0" y="161"/>
                </a:lnTo>
                <a:lnTo>
                  <a:pt x="18" y="168"/>
                </a:lnTo>
                <a:lnTo>
                  <a:pt x="32" y="173"/>
                </a:lnTo>
                <a:lnTo>
                  <a:pt x="45" y="178"/>
                </a:lnTo>
                <a:lnTo>
                  <a:pt x="63" y="184"/>
                </a:lnTo>
                <a:lnTo>
                  <a:pt x="79" y="190"/>
                </a:lnTo>
                <a:lnTo>
                  <a:pt x="95" y="197"/>
                </a:lnTo>
                <a:lnTo>
                  <a:pt x="107" y="203"/>
                </a:lnTo>
                <a:lnTo>
                  <a:pt x="124" y="210"/>
                </a:lnTo>
                <a:lnTo>
                  <a:pt x="138" y="217"/>
                </a:lnTo>
                <a:lnTo>
                  <a:pt x="153" y="225"/>
                </a:lnTo>
                <a:lnTo>
                  <a:pt x="168" y="232"/>
                </a:lnTo>
                <a:lnTo>
                  <a:pt x="183" y="242"/>
                </a:lnTo>
                <a:lnTo>
                  <a:pt x="196" y="250"/>
                </a:lnTo>
                <a:lnTo>
                  <a:pt x="208" y="258"/>
                </a:lnTo>
                <a:lnTo>
                  <a:pt x="218" y="265"/>
                </a:lnTo>
                <a:lnTo>
                  <a:pt x="232" y="273"/>
                </a:lnTo>
                <a:lnTo>
                  <a:pt x="245" y="283"/>
                </a:lnTo>
                <a:lnTo>
                  <a:pt x="258" y="292"/>
                </a:lnTo>
                <a:lnTo>
                  <a:pt x="271" y="302"/>
                </a:lnTo>
                <a:lnTo>
                  <a:pt x="280" y="308"/>
                </a:lnTo>
                <a:lnTo>
                  <a:pt x="292" y="316"/>
                </a:lnTo>
                <a:lnTo>
                  <a:pt x="306" y="328"/>
                </a:lnTo>
                <a:lnTo>
                  <a:pt x="319" y="341"/>
                </a:lnTo>
                <a:lnTo>
                  <a:pt x="337" y="355"/>
                </a:lnTo>
                <a:lnTo>
                  <a:pt x="353" y="370"/>
                </a:lnTo>
                <a:lnTo>
                  <a:pt x="370" y="386"/>
                </a:lnTo>
                <a:lnTo>
                  <a:pt x="385" y="402"/>
                </a:lnTo>
                <a:lnTo>
                  <a:pt x="401" y="420"/>
                </a:lnTo>
                <a:lnTo>
                  <a:pt x="414" y="435"/>
                </a:lnTo>
                <a:lnTo>
                  <a:pt x="426" y="452"/>
                </a:lnTo>
                <a:lnTo>
                  <a:pt x="440" y="469"/>
                </a:lnTo>
                <a:lnTo>
                  <a:pt x="455" y="489"/>
                </a:lnTo>
                <a:lnTo>
                  <a:pt x="469" y="510"/>
                </a:lnTo>
                <a:lnTo>
                  <a:pt x="482" y="529"/>
                </a:lnTo>
                <a:lnTo>
                  <a:pt x="495" y="551"/>
                </a:lnTo>
                <a:lnTo>
                  <a:pt x="509" y="574"/>
                </a:lnTo>
                <a:lnTo>
                  <a:pt x="520" y="596"/>
                </a:lnTo>
                <a:lnTo>
                  <a:pt x="530" y="617"/>
                </a:lnTo>
                <a:lnTo>
                  <a:pt x="539" y="637"/>
                </a:lnTo>
                <a:lnTo>
                  <a:pt x="548" y="656"/>
                </a:lnTo>
                <a:lnTo>
                  <a:pt x="557" y="678"/>
                </a:lnTo>
                <a:lnTo>
                  <a:pt x="565" y="699"/>
                </a:lnTo>
                <a:lnTo>
                  <a:pt x="572" y="720"/>
                </a:lnTo>
                <a:lnTo>
                  <a:pt x="579" y="743"/>
                </a:lnTo>
                <a:lnTo>
                  <a:pt x="586" y="763"/>
                </a:lnTo>
                <a:lnTo>
                  <a:pt x="592" y="787"/>
                </a:lnTo>
                <a:lnTo>
                  <a:pt x="598" y="811"/>
                </a:lnTo>
                <a:lnTo>
                  <a:pt x="603" y="835"/>
                </a:lnTo>
                <a:lnTo>
                  <a:pt x="608" y="860"/>
                </a:lnTo>
                <a:lnTo>
                  <a:pt x="612" y="887"/>
                </a:lnTo>
                <a:lnTo>
                  <a:pt x="614" y="910"/>
                </a:lnTo>
                <a:lnTo>
                  <a:pt x="616" y="934"/>
                </a:lnTo>
                <a:lnTo>
                  <a:pt x="617" y="962"/>
                </a:lnTo>
                <a:lnTo>
                  <a:pt x="617" y="985"/>
                </a:lnTo>
                <a:lnTo>
                  <a:pt x="617" y="1014"/>
                </a:lnTo>
                <a:lnTo>
                  <a:pt x="557" y="1014"/>
                </a:lnTo>
                <a:lnTo>
                  <a:pt x="696" y="1211"/>
                </a:lnTo>
                <a:lnTo>
                  <a:pt x="847" y="1014"/>
                </a:lnTo>
                <a:lnTo>
                  <a:pt x="789" y="1014"/>
                </a:lnTo>
                <a:lnTo>
                  <a:pt x="789" y="982"/>
                </a:lnTo>
                <a:lnTo>
                  <a:pt x="788" y="954"/>
                </a:lnTo>
                <a:lnTo>
                  <a:pt x="786" y="924"/>
                </a:lnTo>
                <a:lnTo>
                  <a:pt x="784" y="898"/>
                </a:lnTo>
                <a:lnTo>
                  <a:pt x="782" y="873"/>
                </a:lnTo>
                <a:lnTo>
                  <a:pt x="779" y="849"/>
                </a:lnTo>
                <a:lnTo>
                  <a:pt x="774" y="822"/>
                </a:lnTo>
                <a:lnTo>
                  <a:pt x="770" y="799"/>
                </a:lnTo>
                <a:lnTo>
                  <a:pt x="766" y="777"/>
                </a:lnTo>
                <a:lnTo>
                  <a:pt x="761" y="753"/>
                </a:lnTo>
                <a:lnTo>
                  <a:pt x="753" y="723"/>
                </a:lnTo>
                <a:lnTo>
                  <a:pt x="747" y="700"/>
                </a:lnTo>
                <a:lnTo>
                  <a:pt x="740" y="677"/>
                </a:lnTo>
                <a:lnTo>
                  <a:pt x="733" y="655"/>
                </a:lnTo>
                <a:lnTo>
                  <a:pt x="723" y="628"/>
                </a:lnTo>
                <a:lnTo>
                  <a:pt x="714" y="604"/>
                </a:lnTo>
                <a:lnTo>
                  <a:pt x="704" y="582"/>
                </a:lnTo>
                <a:lnTo>
                  <a:pt x="695" y="560"/>
                </a:lnTo>
                <a:lnTo>
                  <a:pt x="682" y="535"/>
                </a:lnTo>
                <a:lnTo>
                  <a:pt x="671" y="512"/>
                </a:lnTo>
                <a:lnTo>
                  <a:pt x="660" y="490"/>
                </a:lnTo>
                <a:lnTo>
                  <a:pt x="648" y="469"/>
                </a:lnTo>
                <a:lnTo>
                  <a:pt x="636" y="450"/>
                </a:lnTo>
                <a:lnTo>
                  <a:pt x="623" y="429"/>
                </a:lnTo>
                <a:lnTo>
                  <a:pt x="611" y="410"/>
                </a:lnTo>
                <a:lnTo>
                  <a:pt x="596" y="388"/>
                </a:lnTo>
                <a:lnTo>
                  <a:pt x="581" y="367"/>
                </a:lnTo>
                <a:lnTo>
                  <a:pt x="566" y="348"/>
                </a:lnTo>
                <a:lnTo>
                  <a:pt x="550" y="329"/>
                </a:lnTo>
                <a:lnTo>
                  <a:pt x="535" y="311"/>
                </a:lnTo>
                <a:lnTo>
                  <a:pt x="521" y="294"/>
                </a:lnTo>
                <a:lnTo>
                  <a:pt x="507" y="280"/>
                </a:lnTo>
                <a:lnTo>
                  <a:pt x="489" y="261"/>
                </a:lnTo>
                <a:lnTo>
                  <a:pt x="470" y="244"/>
                </a:lnTo>
                <a:lnTo>
                  <a:pt x="456" y="229"/>
                </a:lnTo>
                <a:lnTo>
                  <a:pt x="438" y="214"/>
                </a:lnTo>
                <a:lnTo>
                  <a:pt x="420" y="199"/>
                </a:lnTo>
                <a:lnTo>
                  <a:pt x="401" y="183"/>
                </a:lnTo>
                <a:lnTo>
                  <a:pt x="382" y="168"/>
                </a:lnTo>
                <a:lnTo>
                  <a:pt x="364" y="155"/>
                </a:lnTo>
                <a:lnTo>
                  <a:pt x="344" y="139"/>
                </a:lnTo>
                <a:lnTo>
                  <a:pt x="328" y="128"/>
                </a:lnTo>
                <a:lnTo>
                  <a:pt x="311" y="116"/>
                </a:lnTo>
                <a:lnTo>
                  <a:pt x="298" y="109"/>
                </a:lnTo>
                <a:lnTo>
                  <a:pt x="288" y="100"/>
                </a:lnTo>
                <a:lnTo>
                  <a:pt x="278" y="94"/>
                </a:lnTo>
                <a:lnTo>
                  <a:pt x="269" y="90"/>
                </a:lnTo>
                <a:lnTo>
                  <a:pt x="258" y="84"/>
                </a:lnTo>
                <a:lnTo>
                  <a:pt x="246" y="78"/>
                </a:lnTo>
                <a:lnTo>
                  <a:pt x="233" y="72"/>
                </a:lnTo>
                <a:lnTo>
                  <a:pt x="222" y="66"/>
                </a:lnTo>
                <a:lnTo>
                  <a:pt x="212" y="60"/>
                </a:lnTo>
                <a:lnTo>
                  <a:pt x="201" y="54"/>
                </a:lnTo>
                <a:lnTo>
                  <a:pt x="188" y="48"/>
                </a:lnTo>
                <a:lnTo>
                  <a:pt x="175" y="42"/>
                </a:lnTo>
                <a:lnTo>
                  <a:pt x="162" y="35"/>
                </a:lnTo>
                <a:lnTo>
                  <a:pt x="150" y="31"/>
                </a:lnTo>
                <a:lnTo>
                  <a:pt x="140" y="26"/>
                </a:lnTo>
                <a:lnTo>
                  <a:pt x="127" y="21"/>
                </a:lnTo>
                <a:lnTo>
                  <a:pt x="115" y="16"/>
                </a:lnTo>
                <a:lnTo>
                  <a:pt x="102" y="12"/>
                </a:lnTo>
                <a:lnTo>
                  <a:pt x="93" y="9"/>
                </a:lnTo>
                <a:lnTo>
                  <a:pt x="81" y="5"/>
                </a:lnTo>
                <a:close/>
              </a:path>
            </a:pathLst>
          </a:custGeom>
          <a:solidFill>
            <a:srgbClr val="ff0000"/>
          </a:solidFill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4800">
            <a:off x="6259680" y="2890800"/>
            <a:ext cx="21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t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 flipH="1" flipV="1">
            <a:off x="2514240" y="3276360"/>
            <a:ext cx="76212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2133720"/>
            <a:ext cx="1981440" cy="1066680"/>
          </a:xfrm>
          <a:prstGeom prst="ellipse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523880"/>
            <a:ext cx="1219320" cy="990720"/>
          </a:xfrm>
          <a:prstGeom prst="ellipse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2590920" y="4724280"/>
            <a:ext cx="83808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038480"/>
            <a:ext cx="1082880" cy="1059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71800" y="2971800"/>
            <a:ext cx="1905120" cy="1905120"/>
          </a:xfrm>
          <a:prstGeom prst="cloudCallout">
            <a:avLst>
              <a:gd name="adj1" fmla="val -20916"/>
              <a:gd name="adj2" fmla="val -30666"/>
            </a:avLst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57600" y="25909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105520" y="1981080"/>
            <a:ext cx="3962160" cy="4191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19920" y="163836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center Enviro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891040" y="2766960"/>
            <a:ext cx="0" cy="527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5316480" y="2766960"/>
            <a:ext cx="1913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7996320" y="4768920"/>
            <a:ext cx="0" cy="317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656400" y="4435560"/>
            <a:ext cx="765000" cy="307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 flipV="1">
            <a:off x="7134120" y="4699080"/>
            <a:ext cx="0" cy="38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16160" y="4257720"/>
            <a:ext cx="48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N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136280" y="2133720"/>
            <a:ext cx="65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11320" y="3648240"/>
            <a:ext cx="642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b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rv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10400" y="5295960"/>
            <a:ext cx="103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ad balanc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369120" y="5086440"/>
            <a:ext cx="1339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273720" y="3398760"/>
            <a:ext cx="1339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124600" y="2608200"/>
            <a:ext cx="479160" cy="343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316480" y="3187800"/>
            <a:ext cx="957240" cy="3808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146920" y="2292480"/>
            <a:ext cx="1521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p/Database Serv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00360" y="3505320"/>
            <a:ext cx="103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ad balanc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7516800" y="3294000"/>
            <a:ext cx="817560" cy="15811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7229520" y="3083040"/>
            <a:ext cx="0" cy="315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7039080" y="2449440"/>
            <a:ext cx="957240" cy="730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273720" y="5295960"/>
            <a:ext cx="765360" cy="3524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338520" y="5629320"/>
            <a:ext cx="65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5794200" y="4875120"/>
            <a:ext cx="669960" cy="306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796360" y="4640400"/>
            <a:ext cx="58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56400" y="5086440"/>
            <a:ext cx="0" cy="280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699160" y="2608200"/>
            <a:ext cx="477720" cy="343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9"/>
          <a:stretch/>
        </p:blipFill>
        <p:spPr>
          <a:xfrm>
            <a:off x="6273720" y="2608200"/>
            <a:ext cx="478080" cy="3430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0"/>
          <a:stretch/>
        </p:blipFill>
        <p:spPr>
          <a:xfrm>
            <a:off x="7516800" y="4944960"/>
            <a:ext cx="862200" cy="3430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 flipV="1">
            <a:off x="7315200" y="5098680"/>
            <a:ext cx="0" cy="53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089480" y="5791320"/>
            <a:ext cx="111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e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/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4267080"/>
            <a:ext cx="1219320" cy="990720"/>
          </a:xfrm>
          <a:prstGeom prst="ellipse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1"/>
          <a:stretch/>
        </p:blipFill>
        <p:spPr>
          <a:xfrm>
            <a:off x="1752480" y="5181480"/>
            <a:ext cx="685800" cy="2732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601640" y="4952880"/>
            <a:ext cx="103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ad balanc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057400" y="5334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2"/>
          <a:stretch/>
        </p:blipFill>
        <p:spPr>
          <a:xfrm>
            <a:off x="1752480" y="2438280"/>
            <a:ext cx="685800" cy="2732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601640" y="2193840"/>
            <a:ext cx="103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ad balanc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57400" y="2590920"/>
            <a:ext cx="14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81952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190512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1066680" y="1828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71600" y="28195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320" y="1523880"/>
            <a:ext cx="2666880" cy="22100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26668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297180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0" y="3047760"/>
            <a:ext cx="68580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129528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cess P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608760" y="2743200"/>
            <a:ext cx="30492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3"/>
          <a:stretch/>
        </p:blipFill>
        <p:spPr>
          <a:xfrm>
            <a:off x="1092240" y="2971800"/>
            <a:ext cx="762120" cy="3808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220760" y="3276720"/>
            <a:ext cx="56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4"/>
          <a:stretch/>
        </p:blipFill>
        <p:spPr>
          <a:xfrm>
            <a:off x="609480" y="1600200"/>
            <a:ext cx="473040" cy="9144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069920" y="1523880"/>
            <a:ext cx="1625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ent Monitor/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5"/>
          <a:stretch/>
        </p:blipFill>
        <p:spPr>
          <a:xfrm>
            <a:off x="1981080" y="3124080"/>
            <a:ext cx="669960" cy="3063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07080" y="3260880"/>
            <a:ext cx="97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centra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2819520"/>
            <a:ext cx="0" cy="315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59560" y="3352680"/>
            <a:ext cx="58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00" y="1752480"/>
            <a:ext cx="642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b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p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rv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90720" y="556272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447920" y="464832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1066680" y="4572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55627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320" y="4267080"/>
            <a:ext cx="2666880" cy="22100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54100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571500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0" y="5790960"/>
            <a:ext cx="68580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403848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cess P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608760" y="5486400"/>
            <a:ext cx="30492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6"/>
          <a:stretch/>
        </p:blipFill>
        <p:spPr>
          <a:xfrm>
            <a:off x="1092240" y="5715000"/>
            <a:ext cx="762120" cy="3808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220760" y="6019920"/>
            <a:ext cx="56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7"/>
          <a:stretch/>
        </p:blipFill>
        <p:spPr>
          <a:xfrm>
            <a:off x="609480" y="4343400"/>
            <a:ext cx="473040" cy="9144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069920" y="4267080"/>
            <a:ext cx="1625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ent Monitor/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8"/>
          <a:stretch/>
        </p:blipFill>
        <p:spPr>
          <a:xfrm>
            <a:off x="1981080" y="5867280"/>
            <a:ext cx="669960" cy="3063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07080" y="6004080"/>
            <a:ext cx="97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centra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362320" y="5562720"/>
            <a:ext cx="0" cy="315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059560" y="6095880"/>
            <a:ext cx="58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800" y="4495680"/>
            <a:ext cx="642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b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p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rv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219320" y="1752480"/>
          <a:ext cx="685800" cy="2304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219320" y="1752480"/>
                    <a:ext cx="685800" cy="2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1722600" y="1784520"/>
            <a:ext cx="152280" cy="1364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295280" y="4502160"/>
            <a:ext cx="685800" cy="230040"/>
            <a:chOff x="1295280" y="4502160"/>
            <a:chExt cx="685800" cy="230040"/>
          </a:xfrm>
        </p:grpSpPr>
        <p:graphicFrame>
          <p:nvGraphicFramePr>
            <p:cNvPr id="178" name=""/>
            <p:cNvGraphicFramePr/>
            <p:nvPr/>
          </p:nvGraphicFramePr>
          <p:xfrm>
            <a:off x="1295280" y="4502160"/>
            <a:ext cx="685800" cy="2300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179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1295280" y="4502160"/>
                      <a:ext cx="685800" cy="23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0" name=""/>
            <p:cNvSpPr/>
            <p:nvPr/>
          </p:nvSpPr>
          <p:spPr>
            <a:xfrm>
              <a:off x="1798560" y="4533840"/>
              <a:ext cx="152280" cy="1360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7086600" y="5540400"/>
            <a:ext cx="685800" cy="230040"/>
            <a:chOff x="7086600" y="5540400"/>
            <a:chExt cx="685800" cy="230040"/>
          </a:xfrm>
        </p:grpSpPr>
        <p:graphicFrame>
          <p:nvGraphicFramePr>
            <p:cNvPr id="182" name=""/>
            <p:cNvGraphicFramePr/>
            <p:nvPr/>
          </p:nvGraphicFramePr>
          <p:xfrm>
            <a:off x="7086600" y="5540400"/>
            <a:ext cx="685800" cy="2300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183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7086600" y="5540400"/>
                      <a:ext cx="685800" cy="23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4" name=""/>
            <p:cNvSpPr/>
            <p:nvPr/>
          </p:nvSpPr>
          <p:spPr>
            <a:xfrm>
              <a:off x="7589880" y="5572080"/>
              <a:ext cx="152280" cy="1360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27468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eterogeneous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68280" y="965160"/>
            <a:ext cx="803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5T22:07:35Z</dcterms:created>
  <dc:creator>Mike Wu</dc:creator>
  <dc:description/>
  <dc:language>en-US</dc:language>
  <cp:lastModifiedBy>Sandip Gupta</cp:lastModifiedBy>
  <cp:lastPrinted>2000-08-21T21:29:18Z</cp:lastPrinted>
  <dcterms:modified xsi:type="dcterms:W3CDTF">2001-02-21T01:04:39Z</dcterms:modified>
  <cp:revision>99</cp:revision>
  <dc:subject/>
  <dc:title>PowerPoint Presentation</dc:title>
</cp:coreProperties>
</file>