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0" y="8924760"/>
            <a:ext cx="6837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50760" bIns="50760" anchor="t">
            <a:spAutoFit/>
          </a:bodyPr>
          <a:p>
            <a:pPr>
              <a:tabLst>
                <a:tab algn="l" pos="0"/>
                <a:tab algn="l" pos="2416320"/>
                <a:tab algn="l" pos="488952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0, Cisco Systems, Inc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16320"/>
                <a:tab algn="l" pos="488952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080" y="8939160"/>
            <a:ext cx="667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568F-A2B9-4D77-89CD-621AFC783CE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CD86-8A3A-468F-A2AB-9EE8C409325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6948-AE8A-4DDE-9591-C31A9CBCA54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9DE1-D5D0-48A2-88E8-1E590E4462A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762-F3F5-4D15-B9D5-5F9BAA1C4D1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838160" y="1521000"/>
            <a:ext cx="3135600" cy="23508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32040" y="2620440"/>
            <a:ext cx="5117760" cy="59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E0A7-6D0B-4CB0-90FD-C98C1C5CF5C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6440" y="-3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3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6440" y="-3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3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nd%20boven%20zwar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1" name="cisco_url_sabonbold16_96" descr=""/>
          <p:cNvPicPr/>
          <p:nvPr/>
        </p:nvPicPr>
        <p:blipFill>
          <a:blip r:embed="rId3"/>
          <a:stretch/>
        </p:blipFill>
        <p:spPr>
          <a:xfrm>
            <a:off x="3900600" y="6573960"/>
            <a:ext cx="1361880" cy="15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69000"/>
          </a:bodyPr>
          <a:p>
            <a:pPr marL="199440" indent="-19944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898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59040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78084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9802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9802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9802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32621E0-4758-4D83-8E8D-BC4E8234377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9200" y="6638400"/>
            <a:ext cx="8110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Apricot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89240" y="6669000"/>
            <a:ext cx="1324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uymain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520" y="2657520"/>
            <a:ext cx="7799400" cy="11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D2B4BBF-677A-44E4-B452-193045C0D3B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00" y="6466320"/>
            <a:ext cx="811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Apricot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91880" y="6634080"/>
            <a:ext cx="1324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0, Cisco Systems, Inc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lnSpc>
                <a:spcPct val="95000"/>
              </a:lnSpc>
              <a:spcBef>
                <a:spcPts val="23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0"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78680" algn="ctr">
              <a:lnSpc>
                <a:spcPct val="95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029960" algn="ctr">
              <a:lnSpc>
                <a:spcPct val="95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292760" algn="ctr">
              <a:lnSpc>
                <a:spcPct val="95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29276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29276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871720"/>
            <a:ext cx="7799400" cy="11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ff-Serv-aw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raffic Engineering and its Application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 for DS-aware 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0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networks which are largely over-provisioned everywhere, DS-aware TE is not use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aggregate load is small percentage of link anyway, EF traffic will be less tha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 and AF1 traffic will be less than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networks where some parts are not over-provisioned, DS-aware TE is use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s(*) (through CBR and CAC) that EF traffic will be less tha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 and AF1 traffic will be less than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Global (transcontinental) IS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5715000"/>
            <a:ext cx="7540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*) DS aware TE does not “create” bandwidth, but it can first use resources on non SPF-path and then reject establishment of excess tu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tocol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6000"/>
          </a:bodyPr>
          <a:p>
            <a:pPr marL="277200" indent="-27720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urrent IGP(*) extensions for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vertise “unreserved TE bandwidth” (at each preemption lev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sed IGP(*) extensions for DS aware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ass-Types= group of Diff-Serv classes sharing the same bandwidth constraint (eg AF1x and AF2x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vertise “unreserved TE bandwidth” (at each preemption level)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or each Class-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1720" y="5791320"/>
            <a:ext cx="2042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*) OSPF and 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tocol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urrent LSP-signalling (*) extensions for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 LSP establishment signal TE tunnel parameters (label, explicit route, affinity , preemption,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sed LSP-signalling (*) extensions for DS aware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so signal the Class-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form Class-Type aware C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160" y="5791320"/>
            <a:ext cx="2763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*) RSVP-TE and CRL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tocol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 marL="271440" indent="-27144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urrent Constraint Based Routing for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ute a path such that on every link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there is sufficient “unreserved TE bandwidth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sed Constraint Based Routing for DS aware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me CBR algorithm but satisfy bandwidth constraint over the “unreserved bandwidth for the relevant Class-Type” (instead of aggregate TE bandwid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S-TE Standardi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ndardization effort initiated 2 IETFs a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e I-Ds submitted at Dec 2000 IETF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ietf-mpls-diff-te-reqts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ietf-mpls-diff-te-ext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lefaucheur-diff-te-ospf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lefaucheur-diff-te-isis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335268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raffic Engine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gregate TE in Best Effort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2200" y="1015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20 Mb/s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54960" y="1447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0 Mb/s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306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318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330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342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354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366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2666880"/>
            <a:ext cx="228600" cy="152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2819520"/>
            <a:ext cx="22860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2971800"/>
            <a:ext cx="38088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3276720"/>
            <a:ext cx="30492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3809880"/>
            <a:ext cx="30456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24280" y="3581280"/>
            <a:ext cx="60984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334120" y="312408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867280" y="2666880"/>
            <a:ext cx="53352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590920" y="3505320"/>
            <a:ext cx="60948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200400" y="3276360"/>
            <a:ext cx="83808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105520" y="2895120"/>
            <a:ext cx="68580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91320" y="2514600"/>
            <a:ext cx="45720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gregate TE in Diff-Serv N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5080" y="1015920"/>
            <a:ext cx="693036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20 Mb/s (aggregate)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57840" y="1447920"/>
            <a:ext cx="693036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0 Mb/s (aggregate)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417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429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441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453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465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477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2666880"/>
            <a:ext cx="228600" cy="1526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48120" y="2819520"/>
            <a:ext cx="228600" cy="15228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2971800"/>
            <a:ext cx="380880" cy="3049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3276720"/>
            <a:ext cx="304920" cy="5331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09880"/>
            <a:ext cx="304560" cy="30492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24280" y="3581280"/>
            <a:ext cx="609840" cy="5335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334120" y="3124080"/>
            <a:ext cx="533160" cy="45720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867280" y="2666880"/>
            <a:ext cx="533520" cy="457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590920" y="3505320"/>
            <a:ext cx="609480" cy="457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200400" y="3276360"/>
            <a:ext cx="838080" cy="22860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105520" y="2895120"/>
            <a:ext cx="685800" cy="3812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791320" y="2514600"/>
            <a:ext cx="457200" cy="38088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er COS Traffic Enginee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1840" y="992160"/>
            <a:ext cx="628884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5 Mb/s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of E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59160" y="1424160"/>
            <a:ext cx="628884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3 Mb/s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of E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528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540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1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552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3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564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576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588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2641680"/>
            <a:ext cx="3200400" cy="1549440"/>
          </a:xfrm>
          <a:custGeom>
            <a:avLst/>
            <a:gdLst/>
            <a:ahLst/>
            <a:rect l="l" t="t" r="r" b="b"/>
            <a:pathLst>
              <a:path w="2016" h="976">
                <a:moveTo>
                  <a:pt x="0" y="0"/>
                </a:moveTo>
                <a:cubicBezTo>
                  <a:pt x="140" y="128"/>
                  <a:pt x="280" y="256"/>
                  <a:pt x="384" y="336"/>
                </a:cubicBezTo>
                <a:cubicBezTo>
                  <a:pt x="488" y="416"/>
                  <a:pt x="552" y="400"/>
                  <a:pt x="624" y="480"/>
                </a:cubicBezTo>
                <a:cubicBezTo>
                  <a:pt x="696" y="560"/>
                  <a:pt x="736" y="744"/>
                  <a:pt x="816" y="816"/>
                </a:cubicBezTo>
                <a:cubicBezTo>
                  <a:pt x="896" y="888"/>
                  <a:pt x="960" y="976"/>
                  <a:pt x="1104" y="912"/>
                </a:cubicBezTo>
                <a:cubicBezTo>
                  <a:pt x="1248" y="848"/>
                  <a:pt x="1528" y="560"/>
                  <a:pt x="1680" y="432"/>
                </a:cubicBezTo>
                <a:cubicBezTo>
                  <a:pt x="1832" y="304"/>
                  <a:pt x="1924" y="224"/>
                  <a:pt x="2016" y="144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38280" y="271764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cubicBezTo>
                  <a:pt x="192" y="688"/>
                  <a:pt x="384" y="512"/>
                  <a:pt x="672" y="432"/>
                </a:cubicBezTo>
                <a:cubicBezTo>
                  <a:pt x="960" y="352"/>
                  <a:pt x="1472" y="456"/>
                  <a:pt x="1728" y="384"/>
                </a:cubicBezTo>
                <a:cubicBezTo>
                  <a:pt x="1984" y="312"/>
                  <a:pt x="2096" y="156"/>
                  <a:pt x="2208" y="0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867280"/>
            <a:ext cx="6468840" cy="6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5 Mb/s 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of B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83920" y="5029200"/>
            <a:ext cx="6312960" cy="6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7 Mb/s 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of B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2590920" y="4572000"/>
            <a:ext cx="457200" cy="4572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33520" y="2895120"/>
            <a:ext cx="1523880" cy="29718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666880"/>
            <a:ext cx="3276360" cy="673200"/>
          </a:xfrm>
          <a:custGeom>
            <a:avLst/>
            <a:gdLst/>
            <a:ahLst/>
            <a:rect l="l" t="t" r="r" b="b"/>
            <a:pathLst>
              <a:path w="2064" h="424">
                <a:moveTo>
                  <a:pt x="0" y="96"/>
                </a:moveTo>
                <a:cubicBezTo>
                  <a:pt x="124" y="220"/>
                  <a:pt x="248" y="344"/>
                  <a:pt x="432" y="384"/>
                </a:cubicBezTo>
                <a:cubicBezTo>
                  <a:pt x="616" y="424"/>
                  <a:pt x="904" y="344"/>
                  <a:pt x="1104" y="336"/>
                </a:cubicBezTo>
                <a:cubicBezTo>
                  <a:pt x="1304" y="328"/>
                  <a:pt x="1472" y="392"/>
                  <a:pt x="1632" y="336"/>
                </a:cubicBezTo>
                <a:cubicBezTo>
                  <a:pt x="1792" y="280"/>
                  <a:pt x="1928" y="140"/>
                  <a:pt x="2064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25680" y="3124080"/>
            <a:ext cx="3975120" cy="1359000"/>
          </a:xfrm>
          <a:custGeom>
            <a:avLst/>
            <a:gdLst/>
            <a:ahLst/>
            <a:rect l="l" t="t" r="r" b="b"/>
            <a:pathLst>
              <a:path w="2504" h="856">
                <a:moveTo>
                  <a:pt x="104" y="816"/>
                </a:moveTo>
                <a:cubicBezTo>
                  <a:pt x="52" y="836"/>
                  <a:pt x="0" y="856"/>
                  <a:pt x="104" y="768"/>
                </a:cubicBezTo>
                <a:cubicBezTo>
                  <a:pt x="208" y="680"/>
                  <a:pt x="528" y="376"/>
                  <a:pt x="728" y="288"/>
                </a:cubicBezTo>
                <a:cubicBezTo>
                  <a:pt x="928" y="200"/>
                  <a:pt x="1088" y="256"/>
                  <a:pt x="1304" y="240"/>
                </a:cubicBezTo>
                <a:cubicBezTo>
                  <a:pt x="1520" y="224"/>
                  <a:pt x="1824" y="232"/>
                  <a:pt x="2024" y="192"/>
                </a:cubicBezTo>
                <a:cubicBezTo>
                  <a:pt x="2224" y="152"/>
                  <a:pt x="2364" y="76"/>
                  <a:pt x="2504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57200" y="403848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01760" y="3047760"/>
            <a:ext cx="83404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t">
            <a:noAutofit/>
          </a:bodyPr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3200" spc="-1" strike="noStrike">
                <a:solidFill>
                  <a:srgbClr val="006c88"/>
                </a:solidFill>
                <a:latin typeface="Arial"/>
              </a:rPr>
              <a:t>Auth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rancois Le Fauch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isco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lefauch@cisco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"/>
            <a:ext cx="76197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c88"/>
                </a:solidFill>
                <a:latin typeface="Arial"/>
              </a:rPr>
              <a:t>Pres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arren Patt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isco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apatter@cisco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rouble With Diffserv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9000"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currently formulated, Diffserv is strong on simplicity and weak on guarant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tual leased line using EF is quite firm, but how much can be deploye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topology-aware admission control mechanis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How do I reject the “last straw” VOIP call that will degrade service of calls in progres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Guaranteed Bandwid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24920" cy="205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bining MPLS Diff-Serv &amp; Diff-Serv-TE to achieve strict point-to-point QoS guarante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new “sweet-spot” on QoS spectru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4952880"/>
            <a:ext cx="6782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4876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05320" y="4876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4876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9920" y="4237200"/>
            <a:ext cx="1047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18000" y="5227560"/>
            <a:ext cx="1288440" cy="34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84920" y="4237200"/>
            <a:ext cx="1644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-flow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84920" y="5227560"/>
            <a:ext cx="1149840" cy="621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VP v1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e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4267080"/>
            <a:ext cx="1416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gregate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048480" y="5257800"/>
            <a:ext cx="995760" cy="34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se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67080" y="4572000"/>
            <a:ext cx="2286000" cy="838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Diffserv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MPLS DS-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70720" y="2971800"/>
            <a:ext cx="49870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ggregated State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ggregate Admission Control (DS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ggregate Constraint Based Routing (DS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23920" y="5562720"/>
            <a:ext cx="1480320" cy="8960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98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Guaranteed Bandwidth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701720"/>
            <a:ext cx="8294400" cy="1270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5000"/>
          </a:bodyPr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ranteed QoS” is a unidirectional point-to-point bandwidth guarantee from Site-Sx to Site-Sy 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The Pipe Mode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te” may include a single host, a “pooling point”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2409840" y="3521160"/>
            <a:ext cx="3367080" cy="25747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 flipH="1">
            <a:off x="1230120" y="5343480"/>
            <a:ext cx="1431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38200" y="5095800"/>
            <a:ext cx="749880" cy="481320"/>
            <a:chOff x="538200" y="5095800"/>
            <a:chExt cx="749880" cy="481320"/>
          </a:xfrm>
        </p:grpSpPr>
        <p:grpSp>
          <p:nvGrpSpPr>
            <p:cNvPr id="646" name=""/>
            <p:cNvGrpSpPr/>
            <p:nvPr/>
          </p:nvGrpSpPr>
          <p:grpSpPr>
            <a:xfrm>
              <a:off x="545400" y="5098680"/>
              <a:ext cx="742320" cy="478440"/>
              <a:chOff x="545400" y="5098680"/>
              <a:chExt cx="742320" cy="478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45400" y="5104080"/>
                <a:ext cx="738000" cy="471960"/>
                <a:chOff x="545400" y="5104080"/>
                <a:chExt cx="738000" cy="4719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98840" y="5104080"/>
                  <a:ext cx="31788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19560" y="515592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45400" y="5276160"/>
                  <a:ext cx="159120" cy="15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92920" y="5347800"/>
                  <a:ext cx="250560" cy="1634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75080" y="5372280"/>
                  <a:ext cx="3726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016640" y="5157720"/>
                  <a:ext cx="23400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46520" y="5260320"/>
                  <a:ext cx="236880" cy="153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4200" y="5293440"/>
                  <a:ext cx="236880" cy="252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77880" y="5215320"/>
                  <a:ext cx="48024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46480" y="5098680"/>
                <a:ext cx="741240" cy="478440"/>
                <a:chOff x="546480" y="5098680"/>
                <a:chExt cx="741240" cy="4784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94880" y="5098680"/>
                  <a:ext cx="32472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3" y="7101"/>
                      </a:moveTo>
                      <a:arcTo wR="10800" hR="10800" stAng="-9598245" swAng="83190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3" y="7101"/>
                      </a:moveTo>
                      <a:arcTo wR="10800" hR="10800" stAng="-9598245" swAng="831905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19560" y="5156280"/>
                  <a:ext cx="2656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5" y="14097"/>
                      </a:moveTo>
                      <a:arcTo wR="10800" hR="10800" stAng="9733672" swAng="82300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5" y="14097"/>
                      </a:moveTo>
                      <a:arcTo wR="10800" hR="10800" stAng="9733672" swAng="823005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46480" y="526284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92560" y="5340960"/>
                  <a:ext cx="26820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5" y="20437"/>
                      </a:moveTo>
                      <a:arcTo wR="10800" hR="10800" stAng="3790096" swAng="72088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5" y="20437"/>
                      </a:moveTo>
                      <a:arcTo wR="10800" hR="10800" stAng="3790096" swAng="72088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77600" y="540036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09800" y="5159880"/>
                  <a:ext cx="24516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8" y="248"/>
                      </a:moveTo>
                      <a:arcTo wR="10800" hR="10800" stAng="-6138481" swAng="80588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8" y="248"/>
                      </a:moveTo>
                      <a:arcTo wR="10800" hR="10800" stAng="-6138481" swAng="80588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16640" y="5254200"/>
                  <a:ext cx="271080" cy="16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5" y="2039"/>
                      </a:moveTo>
                      <a:arcTo wR="10800" hR="10800" stAng="-3252997" swAng="54509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5" y="2039"/>
                      </a:moveTo>
                      <a:arcTo wR="10800" hR="10800" stAng="-3252997" swAng="545094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17000" y="5306760"/>
                  <a:ext cx="246960" cy="24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30" y="7056"/>
                      </a:moveTo>
                      <a:arcTo wR="10800" hR="10800" stAng="-1216978" swAng="77196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30" y="7056"/>
                      </a:moveTo>
                      <a:arcTo wR="10800" hR="10800" stAng="-1216978" swAng="771968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6" name=""/>
            <p:cNvGrpSpPr/>
            <p:nvPr/>
          </p:nvGrpSpPr>
          <p:grpSpPr>
            <a:xfrm>
              <a:off x="538200" y="5095800"/>
              <a:ext cx="749880" cy="476640"/>
              <a:chOff x="538200" y="5095800"/>
              <a:chExt cx="749880" cy="47664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538200" y="5097240"/>
                <a:ext cx="745560" cy="475200"/>
                <a:chOff x="538200" y="5097240"/>
                <a:chExt cx="745560" cy="47520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94520" y="5097240"/>
                  <a:ext cx="3222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15600" y="5151240"/>
                  <a:ext cx="247680" cy="186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38200" y="5271120"/>
                  <a:ext cx="1666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88600" y="5337720"/>
                  <a:ext cx="249120" cy="173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70400" y="5370480"/>
                  <a:ext cx="371520" cy="201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008000" y="5156280"/>
                  <a:ext cx="243000" cy="149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043640" y="5253840"/>
                  <a:ext cx="240120" cy="147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024200" y="5288760"/>
                  <a:ext cx="234000" cy="250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76800" y="5212080"/>
                  <a:ext cx="481680" cy="246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539280" y="5095800"/>
                <a:ext cx="748800" cy="476280"/>
                <a:chOff x="539280" y="5095800"/>
                <a:chExt cx="748800" cy="4762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790920" y="509580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16680" y="5145840"/>
                  <a:ext cx="26748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4" y="14123"/>
                      </a:moveTo>
                      <a:arcTo wR="10800" hR="10800" stAng="9724966" swAng="82047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4" y="14123"/>
                      </a:moveTo>
                      <a:arcTo wR="10800" hR="10800" stAng="9724966" swAng="82047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39280" y="5254920"/>
                  <a:ext cx="2379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1" y="19426"/>
                      </a:moveTo>
                      <a:arcTo wR="10800" hR="10800" stAng="7619856" swAng="75013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1" y="19426"/>
                      </a:moveTo>
                      <a:arcTo wR="10800" hR="10800" stAng="7619856" swAng="750138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88240" y="5335920"/>
                  <a:ext cx="26964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76520" y="5398200"/>
                  <a:ext cx="361080" cy="17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009800" y="5158080"/>
                  <a:ext cx="242280" cy="14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008000" y="5252400"/>
                  <a:ext cx="280080" cy="16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33" y="2052"/>
                      </a:moveTo>
                      <a:arcTo wR="10800" hR="10800" stAng="-3245769" swAng="54292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33" y="2052"/>
                      </a:moveTo>
                      <a:arcTo wR="10800" hR="10800" stAng="-3245769" swAng="542929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008720" y="5300280"/>
                  <a:ext cx="25524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911160" y="5211720"/>
            <a:ext cx="432000" cy="281160"/>
          </a:xfrm>
          <a:prstGeom prst="rect">
            <a:avLst/>
          </a:prstGeom>
          <a:ln w="0">
            <a:noFill/>
          </a:ln>
        </p:spPr>
      </p:pic>
      <p:grpSp>
        <p:nvGrpSpPr>
          <p:cNvPr id="687" name=""/>
          <p:cNvGrpSpPr/>
          <p:nvPr/>
        </p:nvGrpSpPr>
        <p:grpSpPr>
          <a:xfrm>
            <a:off x="7191360" y="5070600"/>
            <a:ext cx="747720" cy="483840"/>
            <a:chOff x="7191360" y="5070600"/>
            <a:chExt cx="747720" cy="483840"/>
          </a:xfrm>
        </p:grpSpPr>
        <p:grpSp>
          <p:nvGrpSpPr>
            <p:cNvPr id="688" name=""/>
            <p:cNvGrpSpPr/>
            <p:nvPr/>
          </p:nvGrpSpPr>
          <p:grpSpPr>
            <a:xfrm>
              <a:off x="7197120" y="5073840"/>
              <a:ext cx="741960" cy="480600"/>
              <a:chOff x="7197120" y="5073840"/>
              <a:chExt cx="741960" cy="48060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7197120" y="5078880"/>
                <a:ext cx="736920" cy="474120"/>
                <a:chOff x="7197120" y="5078880"/>
                <a:chExt cx="736920" cy="4741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7451640" y="5078880"/>
                  <a:ext cx="3168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274160" y="5131080"/>
                  <a:ext cx="24264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197120" y="5251320"/>
                  <a:ext cx="16056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244640" y="5322960"/>
                  <a:ext cx="250200" cy="169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424640" y="5348880"/>
                  <a:ext cx="37548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666200" y="5132880"/>
                  <a:ext cx="23796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700040" y="5235840"/>
                  <a:ext cx="23400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673400" y="5268960"/>
                  <a:ext cx="239760" cy="254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328160" y="5192280"/>
                  <a:ext cx="482400" cy="247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198200" y="5073840"/>
                <a:ext cx="740880" cy="480600"/>
                <a:chOff x="7198200" y="5073840"/>
                <a:chExt cx="740880" cy="4806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449120" y="5073840"/>
                  <a:ext cx="32076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4" y="7100"/>
                      </a:moveTo>
                      <a:arcTo wR="10800" hR="10800" stAng="-9597752" swAng="8317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4" y="7100"/>
                      </a:moveTo>
                      <a:arcTo wR="10800" hR="10800" stAng="-9597752" swAng="831782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274160" y="5131080"/>
                  <a:ext cx="2620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6" y="14098"/>
                      </a:moveTo>
                      <a:arcTo wR="10800" hR="10800" stAng="9733138" swAng="82134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6" y="14098"/>
                      </a:moveTo>
                      <a:arcTo wR="10800" hR="10800" stAng="9733138" swAng="82134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198200" y="5236560"/>
                  <a:ext cx="228600" cy="18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60" y="19395"/>
                      </a:moveTo>
                      <a:arcTo wR="10800" hR="10800" stAng="7636219" swAng="749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60" y="19395"/>
                      </a:moveTo>
                      <a:arcTo wR="10800" hR="10800" stAng="7636219" swAng="749698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244280" y="5317920"/>
                  <a:ext cx="27036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50" y="20399"/>
                      </a:moveTo>
                      <a:arcTo wR="10800" hR="10800" stAng="3763384" swAng="72366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50" y="20399"/>
                      </a:moveTo>
                      <a:arcTo wR="10800" hR="10800" stAng="3763384" swAng="723664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427880" y="5376960"/>
                  <a:ext cx="361440" cy="17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662960" y="5134680"/>
                  <a:ext cx="24516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666560" y="5232600"/>
                  <a:ext cx="27252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03" y="2030"/>
                      </a:moveTo>
                      <a:arcTo wR="10800" hR="10800" stAng="-3257509" swAng="54677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03" y="2030"/>
                      </a:moveTo>
                      <a:arcTo wR="10800" hR="10800" stAng="-3257509" swAng="546777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667280" y="5284080"/>
                  <a:ext cx="25128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63" y="6879"/>
                      </a:moveTo>
                      <a:arcTo wR="10800" hR="10800" stAng="-1277417" swAng="78091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63" y="6879"/>
                      </a:moveTo>
                      <a:arcTo wR="10800" hR="10800" stAng="-1277417" swAng="780917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"/>
            <p:cNvGrpSpPr/>
            <p:nvPr/>
          </p:nvGrpSpPr>
          <p:grpSpPr>
            <a:xfrm>
              <a:off x="7191360" y="5070600"/>
              <a:ext cx="746640" cy="477720"/>
              <a:chOff x="7191360" y="5070600"/>
              <a:chExt cx="746640" cy="477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7191360" y="5072040"/>
                <a:ext cx="742680" cy="476280"/>
                <a:chOff x="7191360" y="5072040"/>
                <a:chExt cx="742680" cy="4762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7448760" y="5072040"/>
                  <a:ext cx="320040" cy="193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267320" y="5127840"/>
                  <a:ext cx="248400" cy="186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191360" y="5246280"/>
                  <a:ext cx="166680" cy="155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241760" y="5314680"/>
                  <a:ext cx="246960" cy="1742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422120" y="5344200"/>
                  <a:ext cx="37332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661880" y="5131080"/>
                  <a:ext cx="24228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697160" y="5231160"/>
                  <a:ext cx="236880" cy="146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73760" y="5265720"/>
                  <a:ext cx="23508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328160" y="5186880"/>
                  <a:ext cx="482400" cy="251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7192800" y="5070600"/>
                <a:ext cx="745200" cy="477360"/>
                <a:chOff x="7192800" y="5070600"/>
                <a:chExt cx="745200" cy="47736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7445520" y="5070600"/>
                  <a:ext cx="32580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9" y="7226"/>
                      </a:moveTo>
                      <a:arcTo wR="10800" hR="10800" stAng="-9640468" swAng="83920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9" y="7226"/>
                      </a:moveTo>
                      <a:arcTo wR="10800" hR="10800" stAng="-9640468" swAng="839202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266960" y="5122800"/>
                  <a:ext cx="265680" cy="17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192800" y="5231880"/>
                  <a:ext cx="2343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77" y="19408"/>
                      </a:moveTo>
                      <a:arcTo wR="10800" hR="10800" stAng="7629370" swAng="74885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77" y="19408"/>
                      </a:moveTo>
                      <a:arcTo wR="10800" hR="10800" stAng="7629370" swAng="748856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241760" y="5311800"/>
                  <a:ext cx="2664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49" y="20450"/>
                      </a:moveTo>
                      <a:arcTo wR="10800" hR="10800" stAng="3799460" swAng="7132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49" y="20450"/>
                      </a:moveTo>
                      <a:arcTo wR="10800" hR="10800" stAng="3799460" swAng="7132695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426440" y="5374800"/>
                  <a:ext cx="36000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662960" y="5131440"/>
                  <a:ext cx="24228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6" y="249"/>
                      </a:moveTo>
                      <a:arcTo wR="10800" hR="10800" stAng="-6139030" swAng="8012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6" y="249"/>
                      </a:moveTo>
                      <a:arcTo wR="10800" hR="10800" stAng="-6139030" swAng="8012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661880" y="5227560"/>
                  <a:ext cx="276120" cy="16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662600" y="5275080"/>
                  <a:ext cx="254520" cy="24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8" name=""/>
          <p:cNvGrpSpPr/>
          <p:nvPr/>
        </p:nvGrpSpPr>
        <p:grpSpPr>
          <a:xfrm>
            <a:off x="5875200" y="3502080"/>
            <a:ext cx="748440" cy="479880"/>
            <a:chOff x="5875200" y="3502080"/>
            <a:chExt cx="748440" cy="479880"/>
          </a:xfrm>
        </p:grpSpPr>
        <p:grpSp>
          <p:nvGrpSpPr>
            <p:cNvPr id="729" name=""/>
            <p:cNvGrpSpPr/>
            <p:nvPr/>
          </p:nvGrpSpPr>
          <p:grpSpPr>
            <a:xfrm>
              <a:off x="5880960" y="3505320"/>
              <a:ext cx="742680" cy="476640"/>
              <a:chOff x="5880960" y="3505320"/>
              <a:chExt cx="742680" cy="47664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5880960" y="3510360"/>
                <a:ext cx="740160" cy="471600"/>
                <a:chOff x="5880960" y="3510360"/>
                <a:chExt cx="740160" cy="4716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6135840" y="3510360"/>
                  <a:ext cx="31752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956920" y="356220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880960" y="3680640"/>
                  <a:ext cx="1594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930280" y="3753720"/>
                  <a:ext cx="248760" cy="167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109200" y="3778200"/>
                  <a:ext cx="3744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352200" y="3562200"/>
                  <a:ext cx="235800" cy="155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383880" y="3665520"/>
                  <a:ext cx="23724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60120" y="3700080"/>
                  <a:ext cx="235440" cy="25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015240" y="3621600"/>
                  <a:ext cx="4788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5882040" y="3505320"/>
                <a:ext cx="741600" cy="476280"/>
                <a:chOff x="5882040" y="3505320"/>
                <a:chExt cx="741600" cy="4762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6133320" y="3505320"/>
                  <a:ext cx="32292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9" y="7253"/>
                      </a:moveTo>
                      <a:arcTo wR="10800" hR="10800" stAng="-9649473" swAng="8410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9" y="7253"/>
                      </a:moveTo>
                      <a:arcTo wR="10800" hR="10800" stAng="-9649473" swAng="841029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956560" y="3562560"/>
                  <a:ext cx="26280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0" y="14080"/>
                      </a:moveTo>
                      <a:arcTo wR="10800" hR="10800" stAng="9739289" swAng="81990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0" y="14080"/>
                      </a:moveTo>
                      <a:arcTo wR="10800" hR="10800" stAng="9739289" swAng="819903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882040" y="366732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929920" y="3747240"/>
                  <a:ext cx="26784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96" y="20426"/>
                      </a:moveTo>
                      <a:arcTo wR="10800" hR="10800" stAng="3782412" swAng="72176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96" y="20426"/>
                      </a:moveTo>
                      <a:arcTo wR="10800" hR="10800" stAng="3782412" swAng="721761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111720" y="3808440"/>
                  <a:ext cx="36144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346080" y="3564360"/>
                  <a:ext cx="24552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52560" y="3664080"/>
                  <a:ext cx="271080" cy="16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071" y="2007"/>
                      </a:moveTo>
                      <a:arcTo wR="10800" hR="10800" stAng="-3270044" swAng="5485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071" y="2007"/>
                      </a:moveTo>
                      <a:arcTo wR="10800" hR="10800" stAng="-3270044" swAng="54852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352920" y="3713040"/>
                  <a:ext cx="246240" cy="23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3" y="7008"/>
                      </a:moveTo>
                      <a:arcTo wR="10800" hR="10800" stAng="-1233150" swAng="77367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3" y="7008"/>
                      </a:moveTo>
                      <a:arcTo wR="10800" hR="10800" stAng="-1233150" swAng="773676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5875200" y="3502080"/>
              <a:ext cx="747000" cy="478080"/>
              <a:chOff x="5875200" y="3502080"/>
              <a:chExt cx="747000" cy="4780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875200" y="3503520"/>
                <a:ext cx="745920" cy="475200"/>
                <a:chOff x="5875200" y="3503520"/>
                <a:chExt cx="745920" cy="4752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6131880" y="3503520"/>
                  <a:ext cx="3222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951160" y="3559320"/>
                  <a:ext cx="247680" cy="184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875200" y="3677400"/>
                  <a:ext cx="165600" cy="153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925960" y="3744000"/>
                  <a:ext cx="247680" cy="173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106680" y="3777120"/>
                  <a:ext cx="372960" cy="2016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345000" y="3562560"/>
                  <a:ext cx="243000" cy="149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381000" y="3662280"/>
                  <a:ext cx="240120" cy="145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360480" y="3695400"/>
                  <a:ext cx="23400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13800" y="3620160"/>
                  <a:ext cx="4806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5876640" y="3502080"/>
                <a:ext cx="745560" cy="478080"/>
                <a:chOff x="5876640" y="3502080"/>
                <a:chExt cx="745560" cy="47808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126840" y="350208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950800" y="3552480"/>
                  <a:ext cx="26640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876640" y="3664080"/>
                  <a:ext cx="237960" cy="18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16" y="19361"/>
                      </a:moveTo>
                      <a:arcTo wR="10800" hR="10800" stAng="7653817" swAng="7430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16" y="19361"/>
                      </a:moveTo>
                      <a:arcTo wR="10800" hR="10800" stAng="7653817" swAng="7430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924160" y="3742920"/>
                  <a:ext cx="269640" cy="17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113880" y="380340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347160" y="3564720"/>
                  <a:ext cx="24228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345360" y="3659040"/>
                  <a:ext cx="27684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346080" y="3706920"/>
                  <a:ext cx="255240" cy="24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25" y="7043"/>
                      </a:moveTo>
                      <a:arcTo wR="10800" hR="10800" stAng="-1221494" swAng="7732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25" y="7043"/>
                      </a:moveTo>
                      <a:arcTo wR="10800" hR="10800" stAng="-1221494" swAng="773252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9" name=""/>
          <p:cNvSpPr/>
          <p:nvPr/>
        </p:nvSpPr>
        <p:spPr>
          <a:xfrm flipH="1">
            <a:off x="5281200" y="3821040"/>
            <a:ext cx="569880" cy="51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5732640" y="3718080"/>
            <a:ext cx="326880" cy="2077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 flipH="1">
            <a:off x="5452920" y="5425920"/>
            <a:ext cx="1702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839960" y="4331880"/>
            <a:ext cx="750960" cy="87480"/>
          </a:xfrm>
          <a:prstGeom prst="line">
            <a:avLst/>
          </a:prstGeom>
          <a:ln w="2556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27320" y="4005360"/>
            <a:ext cx="760680" cy="516240"/>
            <a:chOff x="1327320" y="4005360"/>
            <a:chExt cx="760680" cy="516240"/>
          </a:xfrm>
        </p:grpSpPr>
        <p:grpSp>
          <p:nvGrpSpPr>
            <p:cNvPr id="774" name=""/>
            <p:cNvGrpSpPr/>
            <p:nvPr/>
          </p:nvGrpSpPr>
          <p:grpSpPr>
            <a:xfrm>
              <a:off x="1331640" y="4010760"/>
              <a:ext cx="756360" cy="510840"/>
              <a:chOff x="1331640" y="4010760"/>
              <a:chExt cx="756360" cy="51084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1331640" y="4014000"/>
                <a:ext cx="753480" cy="507600"/>
                <a:chOff x="1331640" y="4014000"/>
                <a:chExt cx="753480" cy="5076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594800" y="4014000"/>
                  <a:ext cx="322560" cy="207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410480" y="4069800"/>
                  <a:ext cx="248040" cy="205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1640" y="4202280"/>
                  <a:ext cx="1663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84920" y="4275360"/>
                  <a:ext cx="250920" cy="18144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566360" y="4305240"/>
                  <a:ext cx="381960" cy="216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11520" y="4072680"/>
                  <a:ext cx="240840" cy="164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847160" y="4185000"/>
                  <a:ext cx="237960" cy="1620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819440" y="4217760"/>
                  <a:ext cx="241920" cy="2707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469520" y="4132080"/>
                  <a:ext cx="484560" cy="272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1333080" y="4010760"/>
                <a:ext cx="754920" cy="510480"/>
                <a:chOff x="1333080" y="4010760"/>
                <a:chExt cx="754920" cy="51048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590120" y="4010760"/>
                  <a:ext cx="32940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6" y="7263"/>
                      </a:moveTo>
                      <a:arcTo wR="10800" hR="10800" stAng="-9653008" swAng="84425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6" y="7263"/>
                      </a:moveTo>
                      <a:arcTo wR="10800" hR="10800" stAng="-9653008" swAng="844250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410120" y="4069800"/>
                  <a:ext cx="2646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88" y="14009"/>
                      </a:moveTo>
                      <a:arcTo wR="10800" hR="10800" stAng="9762717" swAng="81911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88" y="14009"/>
                      </a:moveTo>
                      <a:arcTo wR="10800" hR="10800" stAng="9762717" swAng="819119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33080" y="4187160"/>
                  <a:ext cx="236520" cy="19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2" y="19426"/>
                      </a:moveTo>
                      <a:arcTo wR="10800" hR="10800" stAng="7619516" swAng="75126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2" y="19426"/>
                      </a:moveTo>
                      <a:arcTo wR="10800" hR="10800" stAng="7619516" swAng="751261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3120" y="4268880"/>
                  <a:ext cx="273240" cy="19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02" y="20424"/>
                      </a:moveTo>
                      <a:arcTo wR="10800" hR="10800" stAng="3780569" swAng="714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02" y="20424"/>
                      </a:moveTo>
                      <a:arcTo wR="10800" hR="10800" stAng="3780569" swAng="7142155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570320" y="4336560"/>
                  <a:ext cx="3654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34" y="16563"/>
                      </a:moveTo>
                      <a:arcTo wR="10800" hR="10800" stAng="1934832" swAng="8213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34" y="16563"/>
                      </a:moveTo>
                      <a:arcTo wR="10800" hR="10800" stAng="1934832" swAng="821372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808640" y="4075200"/>
                  <a:ext cx="24624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64" y="256"/>
                      </a:moveTo>
                      <a:arcTo wR="10800" hR="10800" stAng="-6149631" swAng="8021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64" y="256"/>
                      </a:moveTo>
                      <a:arcTo wR="10800" hR="10800" stAng="-6149631" swAng="80212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811880" y="4178880"/>
                  <a:ext cx="27612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81" y="2087"/>
                      </a:moveTo>
                      <a:arcTo wR="10800" hR="10800" stAng="-3226932" swAng="5389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81" y="2087"/>
                      </a:moveTo>
                      <a:arcTo wR="10800" hR="10800" stAng="-3226932" swAng="538943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811520" y="4230720"/>
                  <a:ext cx="252000" cy="26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9" y="7026"/>
                      </a:moveTo>
                      <a:arcTo wR="10800" hR="10800" stAng="-1227318" swAng="77402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9" y="7026"/>
                      </a:moveTo>
                      <a:arcTo wR="10800" hR="10800" stAng="-1227318" swAng="774024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1327320" y="4005360"/>
              <a:ext cx="758880" cy="509040"/>
              <a:chOff x="1327320" y="4005360"/>
              <a:chExt cx="758880" cy="50904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327320" y="4008600"/>
                <a:ext cx="758160" cy="505800"/>
                <a:chOff x="1327320" y="4008600"/>
                <a:chExt cx="758160" cy="5058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589040" y="4008600"/>
                  <a:ext cx="328680" cy="2059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406160" y="4066200"/>
                  <a:ext cx="250920" cy="2005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27320" y="4191480"/>
                  <a:ext cx="169560" cy="1677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79160" y="4266720"/>
                  <a:ext cx="254160" cy="18468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563480" y="4300200"/>
                  <a:ext cx="379440" cy="214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807560" y="4069800"/>
                  <a:ext cx="2455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846080" y="4177800"/>
                  <a:ext cx="239400" cy="158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819440" y="4214520"/>
                  <a:ext cx="240480" cy="266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468440" y="4130640"/>
                  <a:ext cx="486000" cy="268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1328400" y="4005360"/>
                <a:ext cx="757800" cy="509040"/>
                <a:chOff x="1328400" y="4005360"/>
                <a:chExt cx="757800" cy="5090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1585800" y="4005360"/>
                  <a:ext cx="33516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5" y="7097"/>
                      </a:moveTo>
                      <a:arcTo wR="10800" hR="10800" stAng="-9597028" swAng="8319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5" y="7097"/>
                      </a:moveTo>
                      <a:arcTo wR="10800" hR="10800" stAng="-9597028" swAng="831984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405800" y="4062960"/>
                  <a:ext cx="267840" cy="18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7" y="14133"/>
                      </a:moveTo>
                      <a:arcTo wR="10800" hR="10800" stAng="9721382" swAng="82126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7" y="14133"/>
                      </a:moveTo>
                      <a:arcTo wR="10800" hR="10800" stAng="9721382" swAng="8212608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328400" y="417852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48" y="19461"/>
                      </a:moveTo>
                      <a:arcTo wR="10800" hR="10800" stAng="7601164" swAng="75011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48" y="19461"/>
                      </a:moveTo>
                      <a:arcTo wR="10800" hR="10800" stAng="7601164" swAng="750114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377360" y="4264560"/>
                  <a:ext cx="2750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11" y="20469"/>
                      </a:moveTo>
                      <a:arcTo wR="10800" hR="10800" stAng="3812930" swAng="71113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11" y="20469"/>
                      </a:moveTo>
                      <a:arcTo wR="10800" hR="10800" stAng="3812930" swAng="71113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570680" y="4329720"/>
                  <a:ext cx="36756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24" y="16579"/>
                      </a:moveTo>
                      <a:arcTo wR="10800" hR="10800" stAng="1941131" swAng="82100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24" y="16579"/>
                      </a:moveTo>
                      <a:arcTo wR="10800" hR="10800" stAng="1941131" swAng="8210077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810080" y="4071600"/>
                  <a:ext cx="243720" cy="159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49" y="259"/>
                      </a:moveTo>
                      <a:arcTo wR="10800" hR="10800" stAng="-6154375" swAng="8071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49" y="259"/>
                      </a:moveTo>
                      <a:arcTo wR="10800" hR="10800" stAng="-6154375" swAng="807177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807920" y="4173120"/>
                  <a:ext cx="27828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30" y="2123"/>
                      </a:moveTo>
                      <a:arcTo wR="10800" hR="10800" stAng="-3207586" swAng="53915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30" y="2123"/>
                      </a:moveTo>
                      <a:arcTo wR="10800" hR="10800" stAng="-3207586" swAng="539156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807920" y="4226400"/>
                  <a:ext cx="257400" cy="263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06" swAng="78080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06" swAng="780806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1746360" y="4162320"/>
            <a:ext cx="404640" cy="3081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135800" y="436392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34720" y="536400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147360" y="36939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3000" y="52815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5"/>
          <a:stretch/>
        </p:blipFill>
        <p:spPr>
          <a:xfrm>
            <a:off x="4200480" y="4384800"/>
            <a:ext cx="399960" cy="50328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6"/>
          <a:stretch/>
        </p:blipFill>
        <p:spPr>
          <a:xfrm>
            <a:off x="4200480" y="4978440"/>
            <a:ext cx="401760" cy="5047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7"/>
          <a:stretch/>
        </p:blipFill>
        <p:spPr>
          <a:xfrm>
            <a:off x="3371760" y="4384800"/>
            <a:ext cx="403200" cy="50328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8"/>
          <a:stretch/>
        </p:blipFill>
        <p:spPr>
          <a:xfrm>
            <a:off x="3368520" y="4978440"/>
            <a:ext cx="405000" cy="504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9"/>
          <a:stretch/>
        </p:blipFill>
        <p:spPr>
          <a:xfrm>
            <a:off x="5094360" y="5140440"/>
            <a:ext cx="544320" cy="39348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10"/>
          <a:stretch/>
        </p:blipFill>
        <p:spPr>
          <a:xfrm>
            <a:off x="5022720" y="4219560"/>
            <a:ext cx="544680" cy="3938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11"/>
          <a:stretch/>
        </p:blipFill>
        <p:spPr>
          <a:xfrm>
            <a:off x="2517840" y="4219560"/>
            <a:ext cx="544320" cy="3938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12"/>
          <a:stretch/>
        </p:blipFill>
        <p:spPr>
          <a:xfrm>
            <a:off x="2590920" y="5222880"/>
            <a:ext cx="544320" cy="39528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5719680" y="377496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57240" y="43639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69920" y="50324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3"/>
          <a:stretch/>
        </p:blipFill>
        <p:spPr>
          <a:xfrm>
            <a:off x="7048440" y="5288040"/>
            <a:ext cx="328680" cy="2109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7080120" y="536400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256360" y="4148280"/>
            <a:ext cx="1125360" cy="931680"/>
          </a:xfrm>
          <a:custGeom>
            <a:avLst/>
            <a:gdLst/>
            <a:ahLst/>
            <a:rect l="l" t="t" r="r" b="b"/>
            <a:pathLst>
              <a:path w="504" h="360">
                <a:moveTo>
                  <a:pt x="408" y="0"/>
                </a:moveTo>
                <a:cubicBezTo>
                  <a:pt x="268" y="68"/>
                  <a:pt x="128" y="136"/>
                  <a:pt x="72" y="192"/>
                </a:cubicBezTo>
                <a:cubicBezTo>
                  <a:pt x="16" y="248"/>
                  <a:pt x="0" y="312"/>
                  <a:pt x="72" y="336"/>
                </a:cubicBezTo>
                <a:cubicBezTo>
                  <a:pt x="144" y="360"/>
                  <a:pt x="324" y="348"/>
                  <a:pt x="504" y="3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929200" y="4286160"/>
            <a:ext cx="248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1 Mb/s 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01800" y="3639960"/>
            <a:ext cx="3979800" cy="1595520"/>
          </a:xfrm>
          <a:custGeom>
            <a:avLst/>
            <a:gdLst/>
            <a:ahLst/>
            <a:rect l="l" t="t" r="r" b="b"/>
            <a:pathLst>
              <a:path w="2400" h="760">
                <a:moveTo>
                  <a:pt x="2400" y="0"/>
                </a:moveTo>
                <a:cubicBezTo>
                  <a:pt x="2196" y="180"/>
                  <a:pt x="1992" y="360"/>
                  <a:pt x="1728" y="480"/>
                </a:cubicBezTo>
                <a:cubicBezTo>
                  <a:pt x="1464" y="600"/>
                  <a:pt x="1104" y="680"/>
                  <a:pt x="816" y="720"/>
                </a:cubicBezTo>
                <a:cubicBezTo>
                  <a:pt x="528" y="760"/>
                  <a:pt x="264" y="740"/>
                  <a:pt x="0" y="72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28480" y="3132000"/>
            <a:ext cx="1441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2 Mb/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98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Guaranteed Bandwidth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701720"/>
            <a:ext cx="8294400" cy="1270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5000"/>
          </a:bodyPr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ranteed QoS” is a unidirectional point-to-point bandwidth guarantee from Site-Sx to Site-Sy 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The Pipe Mode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te” may include a single host, a “pooling point”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2409840" y="3521160"/>
            <a:ext cx="3367080" cy="257472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 flipH="1">
            <a:off x="1230120" y="5343480"/>
            <a:ext cx="1431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8200" y="5095800"/>
            <a:ext cx="749880" cy="481320"/>
            <a:chOff x="538200" y="5095800"/>
            <a:chExt cx="749880" cy="481320"/>
          </a:xfrm>
        </p:grpSpPr>
        <p:grpSp>
          <p:nvGrpSpPr>
            <p:cNvPr id="841" name=""/>
            <p:cNvGrpSpPr/>
            <p:nvPr/>
          </p:nvGrpSpPr>
          <p:grpSpPr>
            <a:xfrm>
              <a:off x="545400" y="5098680"/>
              <a:ext cx="742320" cy="478440"/>
              <a:chOff x="545400" y="5098680"/>
              <a:chExt cx="742320" cy="47844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545400" y="5104080"/>
                <a:ext cx="738000" cy="471960"/>
                <a:chOff x="545400" y="5104080"/>
                <a:chExt cx="738000" cy="4719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798840" y="5104080"/>
                  <a:ext cx="31788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19560" y="515592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45400" y="5276160"/>
                  <a:ext cx="159120" cy="15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92920" y="5347800"/>
                  <a:ext cx="250560" cy="1634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75080" y="5372280"/>
                  <a:ext cx="3726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016640" y="5157720"/>
                  <a:ext cx="23400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046520" y="5260320"/>
                  <a:ext cx="236880" cy="153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024200" y="5293440"/>
                  <a:ext cx="236880" cy="252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77880" y="5215320"/>
                  <a:ext cx="48024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546480" y="5098680"/>
                <a:ext cx="741240" cy="478440"/>
                <a:chOff x="546480" y="5098680"/>
                <a:chExt cx="741240" cy="4784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794880" y="5098680"/>
                  <a:ext cx="32472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3" y="7101"/>
                      </a:moveTo>
                      <a:arcTo wR="10800" hR="10800" stAng="-9598245" swAng="83190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3" y="7101"/>
                      </a:moveTo>
                      <a:arcTo wR="10800" hR="10800" stAng="-9598245" swAng="831905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19560" y="5156280"/>
                  <a:ext cx="2656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5" y="14097"/>
                      </a:moveTo>
                      <a:arcTo wR="10800" hR="10800" stAng="9733672" swAng="82300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5" y="14097"/>
                      </a:moveTo>
                      <a:arcTo wR="10800" hR="10800" stAng="9733672" swAng="823005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6480" y="526284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92560" y="5340960"/>
                  <a:ext cx="26820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5" y="20437"/>
                      </a:moveTo>
                      <a:arcTo wR="10800" hR="10800" stAng="3790096" swAng="72088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5" y="20437"/>
                      </a:moveTo>
                      <a:arcTo wR="10800" hR="10800" stAng="3790096" swAng="72088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77600" y="540036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09800" y="5159880"/>
                  <a:ext cx="24516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8" y="248"/>
                      </a:moveTo>
                      <a:arcTo wR="10800" hR="10800" stAng="-6138481" swAng="80588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8" y="248"/>
                      </a:moveTo>
                      <a:arcTo wR="10800" hR="10800" stAng="-6138481" swAng="80588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016640" y="5254200"/>
                  <a:ext cx="271080" cy="16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5" y="2039"/>
                      </a:moveTo>
                      <a:arcTo wR="10800" hR="10800" stAng="-3252997" swAng="54509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5" y="2039"/>
                      </a:moveTo>
                      <a:arcTo wR="10800" hR="10800" stAng="-3252997" swAng="545094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017000" y="5306760"/>
                  <a:ext cx="246960" cy="24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30" y="7056"/>
                      </a:moveTo>
                      <a:arcTo wR="10800" hR="10800" stAng="-1216978" swAng="77196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30" y="7056"/>
                      </a:moveTo>
                      <a:arcTo wR="10800" hR="10800" stAng="-1216978" swAng="771968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"/>
            <p:cNvGrpSpPr/>
            <p:nvPr/>
          </p:nvGrpSpPr>
          <p:grpSpPr>
            <a:xfrm>
              <a:off x="538200" y="5095800"/>
              <a:ext cx="749880" cy="476640"/>
              <a:chOff x="538200" y="5095800"/>
              <a:chExt cx="749880" cy="47664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538200" y="5097240"/>
                <a:ext cx="745560" cy="475200"/>
                <a:chOff x="538200" y="5097240"/>
                <a:chExt cx="745560" cy="4752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94520" y="5097240"/>
                  <a:ext cx="3222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15600" y="5151240"/>
                  <a:ext cx="247680" cy="186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38200" y="5271120"/>
                  <a:ext cx="1666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88600" y="5337720"/>
                  <a:ext cx="249120" cy="173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70400" y="5370480"/>
                  <a:ext cx="371520" cy="201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008000" y="5156280"/>
                  <a:ext cx="243000" cy="149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043640" y="5253840"/>
                  <a:ext cx="240120" cy="147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024200" y="5288760"/>
                  <a:ext cx="234000" cy="250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76800" y="5212080"/>
                  <a:ext cx="481680" cy="246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539280" y="5095800"/>
                <a:ext cx="748800" cy="476280"/>
                <a:chOff x="539280" y="5095800"/>
                <a:chExt cx="748800" cy="47628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790920" y="509580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16680" y="5145840"/>
                  <a:ext cx="26748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4" y="14123"/>
                      </a:moveTo>
                      <a:arcTo wR="10800" hR="10800" stAng="9724966" swAng="82047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4" y="14123"/>
                      </a:moveTo>
                      <a:arcTo wR="10800" hR="10800" stAng="9724966" swAng="82047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39280" y="5254920"/>
                  <a:ext cx="2379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1" y="19426"/>
                      </a:moveTo>
                      <a:arcTo wR="10800" hR="10800" stAng="7619856" swAng="75013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1" y="19426"/>
                      </a:moveTo>
                      <a:arcTo wR="10800" hR="10800" stAng="7619856" swAng="750138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88240" y="5335920"/>
                  <a:ext cx="26964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76520" y="5398200"/>
                  <a:ext cx="361080" cy="17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09800" y="5158080"/>
                  <a:ext cx="242280" cy="14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008000" y="5252400"/>
                  <a:ext cx="280080" cy="16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33" y="2052"/>
                      </a:moveTo>
                      <a:arcTo wR="10800" hR="10800" stAng="-3245769" swAng="54292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33" y="2052"/>
                      </a:moveTo>
                      <a:arcTo wR="10800" hR="10800" stAng="-3245769" swAng="542929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008720" y="5300280"/>
                  <a:ext cx="25524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911160" y="5211720"/>
            <a:ext cx="432000" cy="281160"/>
          </a:xfrm>
          <a:prstGeom prst="rect">
            <a:avLst/>
          </a:prstGeom>
          <a:ln w="0">
            <a:noFill/>
          </a:ln>
        </p:spPr>
      </p:pic>
      <p:grpSp>
        <p:nvGrpSpPr>
          <p:cNvPr id="882" name=""/>
          <p:cNvGrpSpPr/>
          <p:nvPr/>
        </p:nvGrpSpPr>
        <p:grpSpPr>
          <a:xfrm>
            <a:off x="7191360" y="5070600"/>
            <a:ext cx="747720" cy="483840"/>
            <a:chOff x="7191360" y="5070600"/>
            <a:chExt cx="747720" cy="483840"/>
          </a:xfrm>
        </p:grpSpPr>
        <p:grpSp>
          <p:nvGrpSpPr>
            <p:cNvPr id="883" name=""/>
            <p:cNvGrpSpPr/>
            <p:nvPr/>
          </p:nvGrpSpPr>
          <p:grpSpPr>
            <a:xfrm>
              <a:off x="7197120" y="5073840"/>
              <a:ext cx="741960" cy="480600"/>
              <a:chOff x="7197120" y="5073840"/>
              <a:chExt cx="741960" cy="48060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7197120" y="5078880"/>
                <a:ext cx="736920" cy="474120"/>
                <a:chOff x="7197120" y="5078880"/>
                <a:chExt cx="736920" cy="4741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451640" y="5078880"/>
                  <a:ext cx="3168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274160" y="5131080"/>
                  <a:ext cx="24264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97120" y="5251320"/>
                  <a:ext cx="16056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244640" y="5322960"/>
                  <a:ext cx="250200" cy="169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424640" y="5348880"/>
                  <a:ext cx="37548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666200" y="5132880"/>
                  <a:ext cx="23796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700040" y="5235840"/>
                  <a:ext cx="23400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673400" y="5268960"/>
                  <a:ext cx="239760" cy="254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328160" y="5192280"/>
                  <a:ext cx="482400" cy="247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7198200" y="5073840"/>
                <a:ext cx="740880" cy="480600"/>
                <a:chOff x="7198200" y="5073840"/>
                <a:chExt cx="740880" cy="4806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7449120" y="5073840"/>
                  <a:ext cx="32076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4" y="7100"/>
                      </a:moveTo>
                      <a:arcTo wR="10800" hR="10800" stAng="-9597752" swAng="8317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4" y="7100"/>
                      </a:moveTo>
                      <a:arcTo wR="10800" hR="10800" stAng="-9597752" swAng="831782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274160" y="5131080"/>
                  <a:ext cx="2620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6" y="14098"/>
                      </a:moveTo>
                      <a:arcTo wR="10800" hR="10800" stAng="9733138" swAng="82134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6" y="14098"/>
                      </a:moveTo>
                      <a:arcTo wR="10800" hR="10800" stAng="9733138" swAng="82134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198200" y="5236560"/>
                  <a:ext cx="228600" cy="18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60" y="19395"/>
                      </a:moveTo>
                      <a:arcTo wR="10800" hR="10800" stAng="7636219" swAng="749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60" y="19395"/>
                      </a:moveTo>
                      <a:arcTo wR="10800" hR="10800" stAng="7636219" swAng="749698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244280" y="5317920"/>
                  <a:ext cx="27036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50" y="20399"/>
                      </a:moveTo>
                      <a:arcTo wR="10800" hR="10800" stAng="3763384" swAng="72366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50" y="20399"/>
                      </a:moveTo>
                      <a:arcTo wR="10800" hR="10800" stAng="3763384" swAng="723664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427880" y="5376960"/>
                  <a:ext cx="361440" cy="17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662960" y="5134680"/>
                  <a:ext cx="24516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666560" y="5232600"/>
                  <a:ext cx="27252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03" y="2030"/>
                      </a:moveTo>
                      <a:arcTo wR="10800" hR="10800" stAng="-3257509" swAng="54677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03" y="2030"/>
                      </a:moveTo>
                      <a:arcTo wR="10800" hR="10800" stAng="-3257509" swAng="546777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667280" y="5284080"/>
                  <a:ext cx="25128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63" y="6879"/>
                      </a:moveTo>
                      <a:arcTo wR="10800" hR="10800" stAng="-1277417" swAng="78091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63" y="6879"/>
                      </a:moveTo>
                      <a:arcTo wR="10800" hR="10800" stAng="-1277417" swAng="780917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3" name=""/>
            <p:cNvGrpSpPr/>
            <p:nvPr/>
          </p:nvGrpSpPr>
          <p:grpSpPr>
            <a:xfrm>
              <a:off x="7191360" y="5070600"/>
              <a:ext cx="746640" cy="477720"/>
              <a:chOff x="7191360" y="5070600"/>
              <a:chExt cx="746640" cy="47772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7191360" y="5072040"/>
                <a:ext cx="742680" cy="476280"/>
                <a:chOff x="7191360" y="5072040"/>
                <a:chExt cx="742680" cy="4762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7448760" y="5072040"/>
                  <a:ext cx="320040" cy="193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267320" y="5127840"/>
                  <a:ext cx="248400" cy="186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191360" y="5246280"/>
                  <a:ext cx="166680" cy="155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241760" y="5314680"/>
                  <a:ext cx="246960" cy="1742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422120" y="5344200"/>
                  <a:ext cx="37332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661880" y="5131080"/>
                  <a:ext cx="24228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697160" y="5231160"/>
                  <a:ext cx="236880" cy="146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673760" y="5265720"/>
                  <a:ext cx="23508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7328160" y="5186880"/>
                  <a:ext cx="482400" cy="251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7192800" y="5070600"/>
                <a:ext cx="745200" cy="477360"/>
                <a:chOff x="7192800" y="5070600"/>
                <a:chExt cx="745200" cy="4773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7445520" y="5070600"/>
                  <a:ext cx="32580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9" y="7226"/>
                      </a:moveTo>
                      <a:arcTo wR="10800" hR="10800" stAng="-9640468" swAng="83920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9" y="7226"/>
                      </a:moveTo>
                      <a:arcTo wR="10800" hR="10800" stAng="-9640468" swAng="839202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266960" y="5122800"/>
                  <a:ext cx="265680" cy="17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192800" y="5231880"/>
                  <a:ext cx="2343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77" y="19408"/>
                      </a:moveTo>
                      <a:arcTo wR="10800" hR="10800" stAng="7629370" swAng="74885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77" y="19408"/>
                      </a:moveTo>
                      <a:arcTo wR="10800" hR="10800" stAng="7629370" swAng="748856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241760" y="5311800"/>
                  <a:ext cx="2664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49" y="20450"/>
                      </a:moveTo>
                      <a:arcTo wR="10800" hR="10800" stAng="3799460" swAng="7132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49" y="20450"/>
                      </a:moveTo>
                      <a:arcTo wR="10800" hR="10800" stAng="3799460" swAng="7132695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426440" y="5374800"/>
                  <a:ext cx="36000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662960" y="5131440"/>
                  <a:ext cx="24228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6" y="249"/>
                      </a:moveTo>
                      <a:arcTo wR="10800" hR="10800" stAng="-6139030" swAng="8012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6" y="249"/>
                      </a:moveTo>
                      <a:arcTo wR="10800" hR="10800" stAng="-6139030" swAng="8012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661880" y="5227560"/>
                  <a:ext cx="276120" cy="16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662600" y="5275080"/>
                  <a:ext cx="254520" cy="24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3" name=""/>
          <p:cNvGrpSpPr/>
          <p:nvPr/>
        </p:nvGrpSpPr>
        <p:grpSpPr>
          <a:xfrm>
            <a:off x="5875200" y="3502080"/>
            <a:ext cx="748440" cy="479880"/>
            <a:chOff x="5875200" y="3502080"/>
            <a:chExt cx="748440" cy="479880"/>
          </a:xfrm>
        </p:grpSpPr>
        <p:grpSp>
          <p:nvGrpSpPr>
            <p:cNvPr id="924" name=""/>
            <p:cNvGrpSpPr/>
            <p:nvPr/>
          </p:nvGrpSpPr>
          <p:grpSpPr>
            <a:xfrm>
              <a:off x="5880960" y="3505320"/>
              <a:ext cx="742680" cy="476640"/>
              <a:chOff x="5880960" y="3505320"/>
              <a:chExt cx="742680" cy="47664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5880960" y="3510360"/>
                <a:ext cx="740160" cy="471600"/>
                <a:chOff x="5880960" y="3510360"/>
                <a:chExt cx="740160" cy="4716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6135840" y="3510360"/>
                  <a:ext cx="31752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956920" y="356220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880960" y="3680640"/>
                  <a:ext cx="1594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930280" y="3753720"/>
                  <a:ext cx="248760" cy="167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09200" y="3778200"/>
                  <a:ext cx="3744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352200" y="3562200"/>
                  <a:ext cx="235800" cy="155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383880" y="3665520"/>
                  <a:ext cx="23724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360120" y="3700080"/>
                  <a:ext cx="235440" cy="25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015240" y="3621600"/>
                  <a:ext cx="4788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5882040" y="3505320"/>
                <a:ext cx="741600" cy="476280"/>
                <a:chOff x="5882040" y="3505320"/>
                <a:chExt cx="741600" cy="4762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133320" y="3505320"/>
                  <a:ext cx="32292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9" y="7253"/>
                      </a:moveTo>
                      <a:arcTo wR="10800" hR="10800" stAng="-9649473" swAng="8410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9" y="7253"/>
                      </a:moveTo>
                      <a:arcTo wR="10800" hR="10800" stAng="-9649473" swAng="841029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956560" y="3562560"/>
                  <a:ext cx="26280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0" y="14080"/>
                      </a:moveTo>
                      <a:arcTo wR="10800" hR="10800" stAng="9739289" swAng="81990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0" y="14080"/>
                      </a:moveTo>
                      <a:arcTo wR="10800" hR="10800" stAng="9739289" swAng="819903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882040" y="366732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29920" y="3747240"/>
                  <a:ext cx="26784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96" y="20426"/>
                      </a:moveTo>
                      <a:arcTo wR="10800" hR="10800" stAng="3782412" swAng="72176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96" y="20426"/>
                      </a:moveTo>
                      <a:arcTo wR="10800" hR="10800" stAng="3782412" swAng="721761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11720" y="3808440"/>
                  <a:ext cx="36144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346080" y="3564360"/>
                  <a:ext cx="24552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52560" y="3664080"/>
                  <a:ext cx="271080" cy="16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071" y="2007"/>
                      </a:moveTo>
                      <a:arcTo wR="10800" hR="10800" stAng="-3270044" swAng="5485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071" y="2007"/>
                      </a:moveTo>
                      <a:arcTo wR="10800" hR="10800" stAng="-3270044" swAng="54852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352920" y="3713040"/>
                  <a:ext cx="246240" cy="23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3" y="7008"/>
                      </a:moveTo>
                      <a:arcTo wR="10800" hR="10800" stAng="-1233150" swAng="77367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3" y="7008"/>
                      </a:moveTo>
                      <a:arcTo wR="10800" hR="10800" stAng="-1233150" swAng="773676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" name=""/>
            <p:cNvGrpSpPr/>
            <p:nvPr/>
          </p:nvGrpSpPr>
          <p:grpSpPr>
            <a:xfrm>
              <a:off x="5875200" y="3502080"/>
              <a:ext cx="747000" cy="478080"/>
              <a:chOff x="5875200" y="3502080"/>
              <a:chExt cx="747000" cy="47808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875200" y="3503520"/>
                <a:ext cx="745920" cy="475200"/>
                <a:chOff x="5875200" y="3503520"/>
                <a:chExt cx="745920" cy="47520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131880" y="3503520"/>
                  <a:ext cx="3222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951160" y="3559320"/>
                  <a:ext cx="247680" cy="184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875200" y="3677400"/>
                  <a:ext cx="165600" cy="153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925960" y="3744000"/>
                  <a:ext cx="247680" cy="173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106680" y="3777120"/>
                  <a:ext cx="372960" cy="2016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345000" y="3562560"/>
                  <a:ext cx="243000" cy="149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381000" y="3662280"/>
                  <a:ext cx="240120" cy="145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360480" y="3695400"/>
                  <a:ext cx="23400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013800" y="3620160"/>
                  <a:ext cx="4806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5876640" y="3502080"/>
                <a:ext cx="745560" cy="478080"/>
                <a:chOff x="5876640" y="3502080"/>
                <a:chExt cx="745560" cy="47808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126840" y="350208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50800" y="3552480"/>
                  <a:ext cx="26640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876640" y="3664080"/>
                  <a:ext cx="237960" cy="18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16" y="19361"/>
                      </a:moveTo>
                      <a:arcTo wR="10800" hR="10800" stAng="7653817" swAng="7430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16" y="19361"/>
                      </a:moveTo>
                      <a:arcTo wR="10800" hR="10800" stAng="7653817" swAng="7430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24160" y="3742920"/>
                  <a:ext cx="269640" cy="17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13880" y="380340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347160" y="3564720"/>
                  <a:ext cx="24228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345360" y="3659040"/>
                  <a:ext cx="27684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346080" y="3706920"/>
                  <a:ext cx="255240" cy="24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25" y="7043"/>
                      </a:moveTo>
                      <a:arcTo wR="10800" hR="10800" stAng="-1221494" swAng="7732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25" y="7043"/>
                      </a:moveTo>
                      <a:arcTo wR="10800" hR="10800" stAng="-1221494" swAng="773252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4" name=""/>
          <p:cNvSpPr/>
          <p:nvPr/>
        </p:nvSpPr>
        <p:spPr>
          <a:xfrm flipH="1">
            <a:off x="5281200" y="3821040"/>
            <a:ext cx="569880" cy="51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3"/>
          <a:stretch/>
        </p:blipFill>
        <p:spPr>
          <a:xfrm>
            <a:off x="5732640" y="3718080"/>
            <a:ext cx="326880" cy="207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 flipH="1">
            <a:off x="5452920" y="5425920"/>
            <a:ext cx="1702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1839960" y="4331880"/>
            <a:ext cx="750960" cy="87480"/>
          </a:xfrm>
          <a:prstGeom prst="line">
            <a:avLst/>
          </a:prstGeom>
          <a:ln w="2556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327320" y="4005360"/>
            <a:ext cx="760680" cy="516240"/>
            <a:chOff x="1327320" y="4005360"/>
            <a:chExt cx="760680" cy="516240"/>
          </a:xfrm>
        </p:grpSpPr>
        <p:grpSp>
          <p:nvGrpSpPr>
            <p:cNvPr id="969" name=""/>
            <p:cNvGrpSpPr/>
            <p:nvPr/>
          </p:nvGrpSpPr>
          <p:grpSpPr>
            <a:xfrm>
              <a:off x="1331640" y="4010760"/>
              <a:ext cx="756360" cy="510840"/>
              <a:chOff x="1331640" y="4010760"/>
              <a:chExt cx="756360" cy="51084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1331640" y="4014000"/>
                <a:ext cx="753480" cy="507600"/>
                <a:chOff x="1331640" y="4014000"/>
                <a:chExt cx="753480" cy="5076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1594800" y="4014000"/>
                  <a:ext cx="322560" cy="207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410480" y="4069800"/>
                  <a:ext cx="248040" cy="205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331640" y="4202280"/>
                  <a:ext cx="1663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384920" y="4275360"/>
                  <a:ext cx="250920" cy="18144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566360" y="4305240"/>
                  <a:ext cx="381960" cy="216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811520" y="4072680"/>
                  <a:ext cx="240840" cy="164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847160" y="4185000"/>
                  <a:ext cx="237960" cy="1620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819440" y="4217760"/>
                  <a:ext cx="241920" cy="2707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469520" y="4132080"/>
                  <a:ext cx="484560" cy="272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1333080" y="4010760"/>
                <a:ext cx="754920" cy="510480"/>
                <a:chOff x="1333080" y="4010760"/>
                <a:chExt cx="754920" cy="5104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590120" y="4010760"/>
                  <a:ext cx="32940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6" y="7263"/>
                      </a:moveTo>
                      <a:arcTo wR="10800" hR="10800" stAng="-9653008" swAng="84425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6" y="7263"/>
                      </a:moveTo>
                      <a:arcTo wR="10800" hR="10800" stAng="-9653008" swAng="844250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410120" y="4069800"/>
                  <a:ext cx="2646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88" y="14009"/>
                      </a:moveTo>
                      <a:arcTo wR="10800" hR="10800" stAng="9762717" swAng="81911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88" y="14009"/>
                      </a:moveTo>
                      <a:arcTo wR="10800" hR="10800" stAng="9762717" swAng="819119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333080" y="4187160"/>
                  <a:ext cx="236520" cy="19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2" y="19426"/>
                      </a:moveTo>
                      <a:arcTo wR="10800" hR="10800" stAng="7619516" swAng="75126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2" y="19426"/>
                      </a:moveTo>
                      <a:arcTo wR="10800" hR="10800" stAng="7619516" swAng="751261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383120" y="4268880"/>
                  <a:ext cx="273240" cy="19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02" y="20424"/>
                      </a:moveTo>
                      <a:arcTo wR="10800" hR="10800" stAng="3780569" swAng="714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02" y="20424"/>
                      </a:moveTo>
                      <a:arcTo wR="10800" hR="10800" stAng="3780569" swAng="7142155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70320" y="4336560"/>
                  <a:ext cx="3654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34" y="16563"/>
                      </a:moveTo>
                      <a:arcTo wR="10800" hR="10800" stAng="1934832" swAng="8213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34" y="16563"/>
                      </a:moveTo>
                      <a:arcTo wR="10800" hR="10800" stAng="1934832" swAng="821372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808640" y="4075200"/>
                  <a:ext cx="24624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64" y="256"/>
                      </a:moveTo>
                      <a:arcTo wR="10800" hR="10800" stAng="-6149631" swAng="8021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64" y="256"/>
                      </a:moveTo>
                      <a:arcTo wR="10800" hR="10800" stAng="-6149631" swAng="80212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811880" y="4178880"/>
                  <a:ext cx="27612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81" y="2087"/>
                      </a:moveTo>
                      <a:arcTo wR="10800" hR="10800" stAng="-3226932" swAng="5389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81" y="2087"/>
                      </a:moveTo>
                      <a:arcTo wR="10800" hR="10800" stAng="-3226932" swAng="538943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811520" y="4230720"/>
                  <a:ext cx="252000" cy="26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9" y="7026"/>
                      </a:moveTo>
                      <a:arcTo wR="10800" hR="10800" stAng="-1227318" swAng="77402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9" y="7026"/>
                      </a:moveTo>
                      <a:arcTo wR="10800" hR="10800" stAng="-1227318" swAng="774024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9" name=""/>
            <p:cNvGrpSpPr/>
            <p:nvPr/>
          </p:nvGrpSpPr>
          <p:grpSpPr>
            <a:xfrm>
              <a:off x="1327320" y="4005360"/>
              <a:ext cx="758880" cy="509040"/>
              <a:chOff x="1327320" y="4005360"/>
              <a:chExt cx="758880" cy="50904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1327320" y="4008600"/>
                <a:ext cx="758160" cy="505800"/>
                <a:chOff x="1327320" y="4008600"/>
                <a:chExt cx="758160" cy="5058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1589040" y="4008600"/>
                  <a:ext cx="328680" cy="2059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406160" y="4066200"/>
                  <a:ext cx="250920" cy="2005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327320" y="4191480"/>
                  <a:ext cx="169560" cy="1677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379160" y="4266720"/>
                  <a:ext cx="254160" cy="18468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563480" y="4300200"/>
                  <a:ext cx="379440" cy="214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807560" y="4069800"/>
                  <a:ext cx="2455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846080" y="4177800"/>
                  <a:ext cx="239400" cy="158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819440" y="4214520"/>
                  <a:ext cx="240480" cy="266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468440" y="4130640"/>
                  <a:ext cx="486000" cy="268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328400" y="4005360"/>
                <a:ext cx="757800" cy="509040"/>
                <a:chOff x="1328400" y="4005360"/>
                <a:chExt cx="757800" cy="50904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1585800" y="4005360"/>
                  <a:ext cx="33516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5" y="7097"/>
                      </a:moveTo>
                      <a:arcTo wR="10800" hR="10800" stAng="-9597028" swAng="8319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5" y="7097"/>
                      </a:moveTo>
                      <a:arcTo wR="10800" hR="10800" stAng="-9597028" swAng="831984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405800" y="4062960"/>
                  <a:ext cx="267840" cy="18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7" y="14133"/>
                      </a:moveTo>
                      <a:arcTo wR="10800" hR="10800" stAng="9721382" swAng="82126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7" y="14133"/>
                      </a:moveTo>
                      <a:arcTo wR="10800" hR="10800" stAng="9721382" swAng="8212608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328400" y="417852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48" y="19461"/>
                      </a:moveTo>
                      <a:arcTo wR="10800" hR="10800" stAng="7601164" swAng="75011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48" y="19461"/>
                      </a:moveTo>
                      <a:arcTo wR="10800" hR="10800" stAng="7601164" swAng="750114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377360" y="4264560"/>
                  <a:ext cx="2750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11" y="20469"/>
                      </a:moveTo>
                      <a:arcTo wR="10800" hR="10800" stAng="3812930" swAng="71113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11" y="20469"/>
                      </a:moveTo>
                      <a:arcTo wR="10800" hR="10800" stAng="3812930" swAng="71113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70680" y="4329720"/>
                  <a:ext cx="36756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24" y="16579"/>
                      </a:moveTo>
                      <a:arcTo wR="10800" hR="10800" stAng="1941131" swAng="82100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24" y="16579"/>
                      </a:moveTo>
                      <a:arcTo wR="10800" hR="10800" stAng="1941131" swAng="8210077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810080" y="4071600"/>
                  <a:ext cx="243720" cy="159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49" y="259"/>
                      </a:moveTo>
                      <a:arcTo wR="10800" hR="10800" stAng="-6154375" swAng="8071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49" y="259"/>
                      </a:moveTo>
                      <a:arcTo wR="10800" hR="10800" stAng="-6154375" swAng="807177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807920" y="4173120"/>
                  <a:ext cx="27828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30" y="2123"/>
                      </a:moveTo>
                      <a:arcTo wR="10800" hR="10800" stAng="-3207586" swAng="53915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30" y="2123"/>
                      </a:moveTo>
                      <a:arcTo wR="10800" hR="10800" stAng="-3207586" swAng="539156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807920" y="4226400"/>
                  <a:ext cx="257400" cy="263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06" swAng="78080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06" swAng="780806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09" name="" descr=""/>
          <p:cNvPicPr/>
          <p:nvPr/>
        </p:nvPicPr>
        <p:blipFill>
          <a:blip r:embed="rId4"/>
          <a:stretch/>
        </p:blipFill>
        <p:spPr>
          <a:xfrm>
            <a:off x="1746360" y="4162320"/>
            <a:ext cx="404640" cy="30816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1135800" y="436392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34720" y="536400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47360" y="36939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23000" y="52815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5"/>
          <a:stretch/>
        </p:blipFill>
        <p:spPr>
          <a:xfrm>
            <a:off x="4200480" y="4384800"/>
            <a:ext cx="399960" cy="50328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6"/>
          <a:stretch/>
        </p:blipFill>
        <p:spPr>
          <a:xfrm>
            <a:off x="4200480" y="4978440"/>
            <a:ext cx="401760" cy="50472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7"/>
          <a:stretch/>
        </p:blipFill>
        <p:spPr>
          <a:xfrm>
            <a:off x="3371760" y="4384800"/>
            <a:ext cx="403200" cy="5032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8"/>
          <a:stretch/>
        </p:blipFill>
        <p:spPr>
          <a:xfrm>
            <a:off x="3368520" y="4978440"/>
            <a:ext cx="405000" cy="504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9"/>
          <a:stretch/>
        </p:blipFill>
        <p:spPr>
          <a:xfrm>
            <a:off x="5094360" y="5140440"/>
            <a:ext cx="544320" cy="39348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0"/>
          <a:stretch/>
        </p:blipFill>
        <p:spPr>
          <a:xfrm>
            <a:off x="5022720" y="4219560"/>
            <a:ext cx="544680" cy="39384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1"/>
          <a:stretch/>
        </p:blipFill>
        <p:spPr>
          <a:xfrm>
            <a:off x="2517840" y="4219560"/>
            <a:ext cx="544320" cy="39384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2"/>
          <a:stretch/>
        </p:blipFill>
        <p:spPr>
          <a:xfrm>
            <a:off x="2590920" y="5222880"/>
            <a:ext cx="544320" cy="39528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5719680" y="377496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57240" y="43639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069920" y="50324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3"/>
          <a:stretch/>
        </p:blipFill>
        <p:spPr>
          <a:xfrm>
            <a:off x="7048440" y="5288040"/>
            <a:ext cx="328680" cy="21096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7080120" y="536400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929200" y="4286160"/>
            <a:ext cx="248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1 Mb/s 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752480" y="5407200"/>
            <a:ext cx="1295640" cy="74520"/>
          </a:xfrm>
          <a:custGeom>
            <a:avLst/>
            <a:gdLst/>
            <a:ahLst/>
            <a:rect l="l" t="t" r="r" b="b"/>
            <a:pathLst>
              <a:path w="2400" h="760">
                <a:moveTo>
                  <a:pt x="2400" y="0"/>
                </a:moveTo>
                <a:cubicBezTo>
                  <a:pt x="2196" y="180"/>
                  <a:pt x="1992" y="360"/>
                  <a:pt x="1728" y="480"/>
                </a:cubicBezTo>
                <a:cubicBezTo>
                  <a:pt x="1464" y="600"/>
                  <a:pt x="1104" y="680"/>
                  <a:pt x="816" y="720"/>
                </a:cubicBezTo>
                <a:cubicBezTo>
                  <a:pt x="528" y="760"/>
                  <a:pt x="264" y="740"/>
                  <a:pt x="0" y="72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14440" y="3352680"/>
            <a:ext cx="1441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2 Mb/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971800" y="4343400"/>
            <a:ext cx="2286000" cy="990720"/>
          </a:xfrm>
          <a:custGeom>
            <a:avLst/>
            <a:gdLst/>
            <a:ahLst/>
            <a:rect l="l" t="t" r="r" b="b"/>
            <a:pathLst>
              <a:path w="1440" h="624">
                <a:moveTo>
                  <a:pt x="1440" y="0"/>
                </a:moveTo>
                <a:cubicBezTo>
                  <a:pt x="1224" y="32"/>
                  <a:pt x="1008" y="64"/>
                  <a:pt x="912" y="144"/>
                </a:cubicBezTo>
                <a:cubicBezTo>
                  <a:pt x="816" y="224"/>
                  <a:pt x="952" y="416"/>
                  <a:pt x="864" y="480"/>
                </a:cubicBezTo>
                <a:cubicBezTo>
                  <a:pt x="776" y="544"/>
                  <a:pt x="528" y="504"/>
                  <a:pt x="384" y="528"/>
                </a:cubicBezTo>
                <a:cubicBezTo>
                  <a:pt x="240" y="552"/>
                  <a:pt x="120" y="588"/>
                  <a:pt x="0" y="624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86200"/>
            <a:ext cx="533520" cy="455760"/>
          </a:xfrm>
          <a:custGeom>
            <a:avLst/>
            <a:gdLst/>
            <a:ahLst/>
            <a:rect l="l" t="t" r="r" b="b"/>
            <a:pathLst>
              <a:path w="2400" h="760">
                <a:moveTo>
                  <a:pt x="2400" y="0"/>
                </a:moveTo>
                <a:cubicBezTo>
                  <a:pt x="2196" y="180"/>
                  <a:pt x="1992" y="360"/>
                  <a:pt x="1728" y="480"/>
                </a:cubicBezTo>
                <a:cubicBezTo>
                  <a:pt x="1464" y="600"/>
                  <a:pt x="1104" y="680"/>
                  <a:pt x="816" y="720"/>
                </a:cubicBezTo>
                <a:cubicBezTo>
                  <a:pt x="528" y="760"/>
                  <a:pt x="264" y="740"/>
                  <a:pt x="0" y="72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495680" y="4572000"/>
            <a:ext cx="774720" cy="838080"/>
          </a:xfrm>
          <a:custGeom>
            <a:avLst/>
            <a:gdLst/>
            <a:ahLst/>
            <a:rect l="l" t="t" r="r" b="b"/>
            <a:pathLst>
              <a:path w="392" h="528">
                <a:moveTo>
                  <a:pt x="392" y="0"/>
                </a:moveTo>
                <a:cubicBezTo>
                  <a:pt x="252" y="36"/>
                  <a:pt x="112" y="72"/>
                  <a:pt x="56" y="144"/>
                </a:cubicBezTo>
                <a:cubicBezTo>
                  <a:pt x="0" y="216"/>
                  <a:pt x="0" y="368"/>
                  <a:pt x="56" y="432"/>
                </a:cubicBezTo>
                <a:cubicBezTo>
                  <a:pt x="112" y="496"/>
                  <a:pt x="252" y="512"/>
                  <a:pt x="392" y="528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105520" y="5410080"/>
            <a:ext cx="1371600" cy="177840"/>
          </a:xfrm>
          <a:custGeom>
            <a:avLst/>
            <a:gdLst/>
            <a:ahLst/>
            <a:rect l="l" t="t" r="r" b="b"/>
            <a:pathLst>
              <a:path w="864" h="112">
                <a:moveTo>
                  <a:pt x="0" y="0"/>
                </a:moveTo>
                <a:cubicBezTo>
                  <a:pt x="168" y="40"/>
                  <a:pt x="336" y="80"/>
                  <a:pt x="480" y="96"/>
                </a:cubicBezTo>
                <a:cubicBezTo>
                  <a:pt x="624" y="112"/>
                  <a:pt x="744" y="104"/>
                  <a:pt x="864" y="9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257800" y="4483080"/>
            <a:ext cx="60948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384" y="8"/>
                </a:moveTo>
                <a:cubicBezTo>
                  <a:pt x="296" y="4"/>
                  <a:pt x="208" y="0"/>
                  <a:pt x="144" y="8"/>
                </a:cubicBezTo>
                <a:cubicBezTo>
                  <a:pt x="80" y="16"/>
                  <a:pt x="40" y="36"/>
                  <a:pt x="0" y="5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" y="6159600"/>
            <a:ext cx="60948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0" y="8"/>
                </a:moveTo>
                <a:cubicBezTo>
                  <a:pt x="64" y="4"/>
                  <a:pt x="128" y="0"/>
                  <a:pt x="192" y="8"/>
                </a:cubicBezTo>
                <a:cubicBezTo>
                  <a:pt x="256" y="16"/>
                  <a:pt x="320" y="36"/>
                  <a:pt x="384" y="56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175400" y="6019920"/>
            <a:ext cx="67932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S-TE LSP for AF or E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ed to transport Guaranteed Bandwidth traffic edge-to-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380880" y="464832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8200" rIns="8820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MPLS over Diff-Serv E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238640" cy="25574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3867120" y="4121280"/>
            <a:ext cx="1154160" cy="630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4013280" y="4055760"/>
            <a:ext cx="1041480" cy="7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867120" y="4055760"/>
            <a:ext cx="1154160" cy="65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3960720"/>
            <a:ext cx="1098360" cy="160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67120" y="4226040"/>
            <a:ext cx="104760" cy="525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22800" y="4019040"/>
            <a:ext cx="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122800" y="3960720"/>
            <a:ext cx="1336680" cy="42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729320" y="4811760"/>
            <a:ext cx="442800" cy="79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05240" y="4692600"/>
            <a:ext cx="1361880" cy="58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33960" y="4711680"/>
            <a:ext cx="961920" cy="61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584520" y="4851360"/>
            <a:ext cx="387360" cy="479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3971880" y="4811760"/>
            <a:ext cx="1150920" cy="39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2"/>
          <a:stretch/>
        </p:blipFill>
        <p:spPr>
          <a:xfrm>
            <a:off x="3722760" y="4481640"/>
            <a:ext cx="465120" cy="5983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4836960" y="3641760"/>
            <a:ext cx="462240" cy="59364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3249720" y="5213520"/>
            <a:ext cx="671400" cy="34416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2185920" y="4524480"/>
            <a:ext cx="666720" cy="3394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13280" y="5222880"/>
            <a:ext cx="666720" cy="33984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4402080" y="5408640"/>
            <a:ext cx="669960" cy="3412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8"/>
          <a:stretch/>
        </p:blipFill>
        <p:spPr>
          <a:xfrm>
            <a:off x="3643200" y="3720960"/>
            <a:ext cx="573120" cy="61776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6018120" y="3376440"/>
            <a:ext cx="1830600" cy="13748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9"/>
          <a:stretch/>
        </p:blipFill>
        <p:spPr>
          <a:xfrm>
            <a:off x="4857840" y="4468680"/>
            <a:ext cx="574560" cy="61776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10"/>
          <a:stretch/>
        </p:blipFill>
        <p:spPr>
          <a:xfrm>
            <a:off x="6172200" y="4064040"/>
            <a:ext cx="668160" cy="5335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7162920" y="337644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1"/>
          <a:stretch/>
        </p:blipFill>
        <p:spPr>
          <a:xfrm>
            <a:off x="7315200" y="208296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7604280" y="242892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7543800" y="307188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0" y="3683160"/>
            <a:ext cx="1522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6858000" y="3682800"/>
            <a:ext cx="30492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10280" y="4216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33960" y="43686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371600" y="2614680"/>
            <a:ext cx="1676520" cy="18320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2"/>
          <a:stretch/>
        </p:blipFill>
        <p:spPr>
          <a:xfrm>
            <a:off x="2478240" y="3868560"/>
            <a:ext cx="536400" cy="35100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 flipV="1">
            <a:off x="1828800" y="3376440"/>
            <a:ext cx="457200" cy="15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113360" y="2463840"/>
            <a:ext cx="917280" cy="6080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241880" y="3071880"/>
            <a:ext cx="2844720" cy="534960"/>
          </a:xfrm>
          <a:custGeom>
            <a:avLst/>
            <a:gdLst/>
            <a:ahLst/>
            <a:rect l="l" t="t" r="r" b="b"/>
            <a:pathLst>
              <a:path w="1792" h="336">
                <a:moveTo>
                  <a:pt x="256" y="0"/>
                </a:moveTo>
                <a:cubicBezTo>
                  <a:pt x="128" y="120"/>
                  <a:pt x="0" y="240"/>
                  <a:pt x="256" y="288"/>
                </a:cubicBezTo>
                <a:cubicBezTo>
                  <a:pt x="512" y="336"/>
                  <a:pt x="1152" y="312"/>
                  <a:pt x="1792" y="288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286000" y="2920320"/>
            <a:ext cx="2131920" cy="1508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960" y="0"/>
                </a:moveTo>
                <a:cubicBezTo>
                  <a:pt x="920" y="4"/>
                  <a:pt x="880" y="8"/>
                  <a:pt x="720" y="48"/>
                </a:cubicBezTo>
                <a:cubicBezTo>
                  <a:pt x="560" y="88"/>
                  <a:pt x="280" y="164"/>
                  <a:pt x="0" y="24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3454560"/>
            <a:ext cx="3812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3"/>
          <a:stretch/>
        </p:blipFill>
        <p:spPr>
          <a:xfrm>
            <a:off x="1447920" y="3225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14"/>
          <a:stretch/>
        </p:blipFill>
        <p:spPr>
          <a:xfrm>
            <a:off x="1447920" y="3833640"/>
            <a:ext cx="457200" cy="38268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 flipH="1">
            <a:off x="2133360" y="3149640"/>
            <a:ext cx="152280" cy="8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828800" y="368316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5680" y="4140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533520" y="276840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5"/>
          <a:stretch/>
        </p:blipFill>
        <p:spPr>
          <a:xfrm>
            <a:off x="608040" y="2692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 flipH="1">
            <a:off x="457200" y="34545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6"/>
          <a:stretch/>
        </p:blipFill>
        <p:spPr>
          <a:xfrm>
            <a:off x="304920" y="3376440"/>
            <a:ext cx="303120" cy="30672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 flipH="1">
            <a:off x="457200" y="41403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912960" y="4140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" y="4140360"/>
            <a:ext cx="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7"/>
          <a:stretch/>
        </p:blipFill>
        <p:spPr>
          <a:xfrm>
            <a:off x="304920" y="436896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18"/>
          <a:stretch/>
        </p:blipFill>
        <p:spPr>
          <a:xfrm>
            <a:off x="76212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19"/>
          <a:stretch/>
        </p:blipFill>
        <p:spPr>
          <a:xfrm>
            <a:off x="992160" y="1852560"/>
            <a:ext cx="1141560" cy="76212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1143000" y="200664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90040" y="2541600"/>
            <a:ext cx="942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20"/>
          <a:stretch/>
        </p:blipFill>
        <p:spPr>
          <a:xfrm>
            <a:off x="1447920" y="3454560"/>
            <a:ext cx="457200" cy="37908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21"/>
          <a:stretch/>
        </p:blipFill>
        <p:spPr>
          <a:xfrm>
            <a:off x="7315200" y="398952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2"/>
          <a:stretch/>
        </p:blipFill>
        <p:spPr>
          <a:xfrm>
            <a:off x="7389720" y="4292640"/>
            <a:ext cx="459000" cy="38088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23"/>
          <a:stretch/>
        </p:blipFill>
        <p:spPr>
          <a:xfrm>
            <a:off x="8381880" y="4597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7848720" y="4446720"/>
            <a:ext cx="5331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781680" y="421632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057400" y="246384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754280" y="2692440"/>
            <a:ext cx="531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4"/>
          <a:stretch/>
        </p:blipFill>
        <p:spPr>
          <a:xfrm>
            <a:off x="2703600" y="3446640"/>
            <a:ext cx="536400" cy="35064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2252520" y="1752480"/>
            <a:ext cx="518004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027160" y="2006640"/>
            <a:ext cx="2253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58040" y="2006640"/>
            <a:ext cx="225360" cy="25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579920" y="2260440"/>
            <a:ext cx="0" cy="169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14600" y="3225960"/>
            <a:ext cx="4267080" cy="45720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3124080" y="3886200"/>
            <a:ext cx="381240" cy="380880"/>
            <a:chOff x="3124080" y="3886200"/>
            <a:chExt cx="381240" cy="380880"/>
          </a:xfrm>
        </p:grpSpPr>
        <p:grpSp>
          <p:nvGrpSpPr>
            <p:cNvPr id="1111" name=""/>
            <p:cNvGrpSpPr/>
            <p:nvPr/>
          </p:nvGrpSpPr>
          <p:grpSpPr>
            <a:xfrm>
              <a:off x="3200400" y="3886200"/>
              <a:ext cx="304560" cy="380880"/>
              <a:chOff x="3200400" y="3886200"/>
              <a:chExt cx="304560" cy="380880"/>
            </a:xfrm>
          </p:grpSpPr>
          <p:sp>
            <p:nvSpPr>
              <p:cNvPr id="1112" name=""/>
              <p:cNvSpPr/>
              <p:nvPr/>
            </p:nvSpPr>
            <p:spPr>
              <a:xfrm>
                <a:off x="3200400" y="38862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00400" y="40766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3276720" y="3962520"/>
              <a:ext cx="15228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352680" y="411480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24080" y="411480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334120" y="3886200"/>
            <a:ext cx="380520" cy="380880"/>
            <a:chOff x="5334120" y="3886200"/>
            <a:chExt cx="380520" cy="380880"/>
          </a:xfrm>
        </p:grpSpPr>
        <p:grpSp>
          <p:nvGrpSpPr>
            <p:cNvPr id="1118" name=""/>
            <p:cNvGrpSpPr/>
            <p:nvPr/>
          </p:nvGrpSpPr>
          <p:grpSpPr>
            <a:xfrm>
              <a:off x="5410080" y="3886200"/>
              <a:ext cx="304560" cy="380880"/>
              <a:chOff x="5410080" y="3886200"/>
              <a:chExt cx="304560" cy="380880"/>
            </a:xfrm>
          </p:grpSpPr>
          <p:sp>
            <p:nvSpPr>
              <p:cNvPr id="1119" name=""/>
              <p:cNvSpPr/>
              <p:nvPr/>
            </p:nvSpPr>
            <p:spPr>
              <a:xfrm>
                <a:off x="5410080" y="38862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410080" y="40766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5486400" y="396252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6236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3412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267080" y="3733920"/>
            <a:ext cx="381240" cy="380880"/>
            <a:chOff x="4267080" y="3733920"/>
            <a:chExt cx="381240" cy="380880"/>
          </a:xfrm>
        </p:grpSpPr>
        <p:grpSp>
          <p:nvGrpSpPr>
            <p:cNvPr id="1125" name=""/>
            <p:cNvGrpSpPr/>
            <p:nvPr/>
          </p:nvGrpSpPr>
          <p:grpSpPr>
            <a:xfrm>
              <a:off x="4343400" y="3733920"/>
              <a:ext cx="304560" cy="380880"/>
              <a:chOff x="4343400" y="3733920"/>
              <a:chExt cx="304560" cy="380880"/>
            </a:xfrm>
          </p:grpSpPr>
          <p:sp>
            <p:nvSpPr>
              <p:cNvPr id="1126" name=""/>
              <p:cNvSpPr/>
              <p:nvPr/>
            </p:nvSpPr>
            <p:spPr>
              <a:xfrm>
                <a:off x="4343400" y="373392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43400" y="392436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419720" y="3810240"/>
              <a:ext cx="15228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495680" y="396252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67080" y="396252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3123000" y="3632040"/>
            <a:ext cx="681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202"/>
                </a:solidFill>
                <a:latin typeface="Arial"/>
              </a:rPr>
              <a:t>EF/P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200400" y="4267080"/>
            <a:ext cx="393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bc2"/>
                </a:solidFill>
                <a:latin typeface="Arial"/>
              </a:rPr>
              <a:t>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38080" y="3772080"/>
            <a:ext cx="7620120" cy="1257120"/>
          </a:xfrm>
          <a:custGeom>
            <a:avLst/>
            <a:gdLst/>
            <a:ahLst/>
            <a:rect l="l" t="t" r="r" b="b"/>
            <a:pathLst>
              <a:path w="4800" h="792">
                <a:moveTo>
                  <a:pt x="0" y="648"/>
                </a:moveTo>
                <a:cubicBezTo>
                  <a:pt x="160" y="580"/>
                  <a:pt x="320" y="512"/>
                  <a:pt x="480" y="408"/>
                </a:cubicBezTo>
                <a:cubicBezTo>
                  <a:pt x="640" y="304"/>
                  <a:pt x="824" y="48"/>
                  <a:pt x="960" y="24"/>
                </a:cubicBezTo>
                <a:cubicBezTo>
                  <a:pt x="1096" y="0"/>
                  <a:pt x="1184" y="184"/>
                  <a:pt x="1296" y="264"/>
                </a:cubicBezTo>
                <a:cubicBezTo>
                  <a:pt x="1408" y="344"/>
                  <a:pt x="1472" y="496"/>
                  <a:pt x="1632" y="504"/>
                </a:cubicBezTo>
                <a:cubicBezTo>
                  <a:pt x="1792" y="512"/>
                  <a:pt x="2072" y="344"/>
                  <a:pt x="2256" y="312"/>
                </a:cubicBezTo>
                <a:cubicBezTo>
                  <a:pt x="2440" y="280"/>
                  <a:pt x="2488" y="248"/>
                  <a:pt x="2736" y="312"/>
                </a:cubicBezTo>
                <a:cubicBezTo>
                  <a:pt x="2984" y="376"/>
                  <a:pt x="3480" y="632"/>
                  <a:pt x="3744" y="696"/>
                </a:cubicBezTo>
                <a:cubicBezTo>
                  <a:pt x="4008" y="760"/>
                  <a:pt x="4144" y="680"/>
                  <a:pt x="4320" y="696"/>
                </a:cubicBezTo>
                <a:cubicBezTo>
                  <a:pt x="4496" y="712"/>
                  <a:pt x="4648" y="752"/>
                  <a:pt x="4800" y="792"/>
                </a:cubicBezTo>
              </a:path>
            </a:pathLst>
          </a:custGeom>
          <a:noFill/>
          <a:ln w="57240">
            <a:solidFill>
              <a:srgbClr val="02c8f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089840" y="4923000"/>
            <a:ext cx="640800" cy="347400"/>
          </a:xfrm>
          <a:prstGeom prst="rect">
            <a:avLst/>
          </a:prstGeom>
          <a:solidFill>
            <a:srgbClr val="02c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952520" y="3124080"/>
            <a:ext cx="756360" cy="347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69920" y="5989680"/>
            <a:ext cx="14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990720" y="5867280"/>
            <a:ext cx="67816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EF load obviously very small compared to every link capacity (eg DWDM everywhere), then just works fine. That’s i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8200" rIns="8820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S aware TE Applications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ice Tru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7200" y="6248520"/>
            <a:ext cx="1371600" cy="304560"/>
          </a:xfrm>
          <a:custGeom>
            <a:avLst/>
            <a:gdLst/>
            <a:ahLst/>
            <a:rect l="l" t="t" r="r" b="b"/>
            <a:pathLst>
              <a:path w="2112" h="384">
                <a:moveTo>
                  <a:pt x="0" y="0"/>
                </a:moveTo>
                <a:cubicBezTo>
                  <a:pt x="172" y="140"/>
                  <a:pt x="344" y="280"/>
                  <a:pt x="576" y="288"/>
                </a:cubicBezTo>
                <a:cubicBezTo>
                  <a:pt x="808" y="296"/>
                  <a:pt x="1136" y="32"/>
                  <a:pt x="1392" y="48"/>
                </a:cubicBezTo>
                <a:cubicBezTo>
                  <a:pt x="1648" y="64"/>
                  <a:pt x="1880" y="224"/>
                  <a:pt x="2112" y="384"/>
                </a:cubicBezTo>
              </a:path>
            </a:pathLst>
          </a:custGeom>
          <a:noFill/>
          <a:ln w="152280">
            <a:solidFill>
              <a:srgbClr val="00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977840" y="6248520"/>
            <a:ext cx="2679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PLS TE Tunnel for 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238640" cy="255744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3867120" y="4121280"/>
            <a:ext cx="1154160" cy="630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013280" y="4055760"/>
            <a:ext cx="1041480" cy="7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867120" y="4055760"/>
            <a:ext cx="1154160" cy="65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714760" y="3960720"/>
            <a:ext cx="1098360" cy="160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67120" y="4226040"/>
            <a:ext cx="104760" cy="525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122800" y="4019040"/>
            <a:ext cx="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22800" y="3960720"/>
            <a:ext cx="1336680" cy="42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729320" y="4811760"/>
            <a:ext cx="442800" cy="79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05240" y="4692600"/>
            <a:ext cx="1361880" cy="58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133960" y="4711680"/>
            <a:ext cx="961920" cy="61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584520" y="4851360"/>
            <a:ext cx="387360" cy="479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3971880" y="4811760"/>
            <a:ext cx="1150920" cy="39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2"/>
          <a:stretch/>
        </p:blipFill>
        <p:spPr>
          <a:xfrm>
            <a:off x="3722760" y="4481640"/>
            <a:ext cx="465120" cy="59832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3"/>
          <a:stretch/>
        </p:blipFill>
        <p:spPr>
          <a:xfrm>
            <a:off x="4836960" y="3641760"/>
            <a:ext cx="462240" cy="593640"/>
          </a:xfrm>
          <a:prstGeom prst="rect">
            <a:avLst/>
          </a:prstGeom>
          <a:ln w="0">
            <a:noFill/>
          </a:ln>
        </p:spPr>
      </p:pic>
      <p:pic>
        <p:nvPicPr>
          <p:cNvPr id="1156" name="" descr=""/>
          <p:cNvPicPr/>
          <p:nvPr/>
        </p:nvPicPr>
        <p:blipFill>
          <a:blip r:embed="rId4"/>
          <a:stretch/>
        </p:blipFill>
        <p:spPr>
          <a:xfrm>
            <a:off x="3249720" y="5213520"/>
            <a:ext cx="671400" cy="34416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5"/>
          <a:stretch/>
        </p:blipFill>
        <p:spPr>
          <a:xfrm>
            <a:off x="2185920" y="4524480"/>
            <a:ext cx="666720" cy="3394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6"/>
          <a:stretch/>
        </p:blipFill>
        <p:spPr>
          <a:xfrm>
            <a:off x="5813280" y="5222880"/>
            <a:ext cx="666720" cy="33984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7"/>
          <a:stretch/>
        </p:blipFill>
        <p:spPr>
          <a:xfrm>
            <a:off x="4402080" y="5408640"/>
            <a:ext cx="669960" cy="34128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8"/>
          <a:stretch/>
        </p:blipFill>
        <p:spPr>
          <a:xfrm>
            <a:off x="3643200" y="3720960"/>
            <a:ext cx="573120" cy="61776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6018120" y="3376440"/>
            <a:ext cx="1830600" cy="13748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9"/>
          <a:stretch/>
        </p:blipFill>
        <p:spPr>
          <a:xfrm>
            <a:off x="4857840" y="4468680"/>
            <a:ext cx="574560" cy="61776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10"/>
          <a:stretch/>
        </p:blipFill>
        <p:spPr>
          <a:xfrm>
            <a:off x="6172200" y="4064040"/>
            <a:ext cx="668160" cy="53352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7162920" y="337644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1"/>
          <a:stretch/>
        </p:blipFill>
        <p:spPr>
          <a:xfrm>
            <a:off x="7315200" y="208296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/>
          <p:nvPr/>
        </p:nvSpPr>
        <p:spPr>
          <a:xfrm>
            <a:off x="7604280" y="242892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543800" y="307188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58000" y="3683160"/>
            <a:ext cx="1522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858000" y="3682800"/>
            <a:ext cx="30492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010280" y="4216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6933960" y="43686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371600" y="2614680"/>
            <a:ext cx="1676520" cy="18320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2"/>
          <a:stretch/>
        </p:blipFill>
        <p:spPr>
          <a:xfrm>
            <a:off x="2478240" y="3868560"/>
            <a:ext cx="536400" cy="3510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 flipV="1">
            <a:off x="1828800" y="3376440"/>
            <a:ext cx="457200" cy="15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113360" y="2463840"/>
            <a:ext cx="917280" cy="6080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241880" y="3071880"/>
            <a:ext cx="2844720" cy="534960"/>
          </a:xfrm>
          <a:custGeom>
            <a:avLst/>
            <a:gdLst/>
            <a:ahLst/>
            <a:rect l="l" t="t" r="r" b="b"/>
            <a:pathLst>
              <a:path w="1792" h="336">
                <a:moveTo>
                  <a:pt x="256" y="0"/>
                </a:moveTo>
                <a:cubicBezTo>
                  <a:pt x="128" y="120"/>
                  <a:pt x="0" y="240"/>
                  <a:pt x="256" y="288"/>
                </a:cubicBezTo>
                <a:cubicBezTo>
                  <a:pt x="512" y="336"/>
                  <a:pt x="1152" y="312"/>
                  <a:pt x="1792" y="288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2286000" y="2920320"/>
            <a:ext cx="2131920" cy="1508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960" y="0"/>
                </a:moveTo>
                <a:cubicBezTo>
                  <a:pt x="920" y="4"/>
                  <a:pt x="880" y="8"/>
                  <a:pt x="720" y="48"/>
                </a:cubicBezTo>
                <a:cubicBezTo>
                  <a:pt x="560" y="88"/>
                  <a:pt x="280" y="164"/>
                  <a:pt x="0" y="24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454560"/>
            <a:ext cx="3812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3"/>
          <a:stretch/>
        </p:blipFill>
        <p:spPr>
          <a:xfrm>
            <a:off x="1447920" y="3225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4"/>
          <a:stretch/>
        </p:blipFill>
        <p:spPr>
          <a:xfrm>
            <a:off x="1447920" y="3833640"/>
            <a:ext cx="457200" cy="38268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 flipH="1">
            <a:off x="2133360" y="3149640"/>
            <a:ext cx="152280" cy="8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828800" y="368316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525680" y="4140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533520" y="276840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5"/>
          <a:stretch/>
        </p:blipFill>
        <p:spPr>
          <a:xfrm>
            <a:off x="608040" y="2692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 flipH="1">
            <a:off x="457200" y="34545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6"/>
          <a:stretch/>
        </p:blipFill>
        <p:spPr>
          <a:xfrm>
            <a:off x="304920" y="3376440"/>
            <a:ext cx="303120" cy="30672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 flipH="1">
            <a:off x="457200" y="41403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912960" y="4140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7200" y="4140360"/>
            <a:ext cx="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7"/>
          <a:stretch/>
        </p:blipFill>
        <p:spPr>
          <a:xfrm>
            <a:off x="304920" y="436896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18"/>
          <a:stretch/>
        </p:blipFill>
        <p:spPr>
          <a:xfrm>
            <a:off x="76212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19"/>
          <a:stretch/>
        </p:blipFill>
        <p:spPr>
          <a:xfrm>
            <a:off x="992160" y="1852560"/>
            <a:ext cx="1141560" cy="7621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1143000" y="200664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190040" y="2541600"/>
            <a:ext cx="942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0"/>
          <a:stretch/>
        </p:blipFill>
        <p:spPr>
          <a:xfrm>
            <a:off x="1447920" y="3454560"/>
            <a:ext cx="457200" cy="37908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21"/>
          <a:stretch/>
        </p:blipFill>
        <p:spPr>
          <a:xfrm>
            <a:off x="7315200" y="398952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22"/>
          <a:stretch/>
        </p:blipFill>
        <p:spPr>
          <a:xfrm>
            <a:off x="7389720" y="4292640"/>
            <a:ext cx="459000" cy="38088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23"/>
          <a:stretch/>
        </p:blipFill>
        <p:spPr>
          <a:xfrm>
            <a:off x="8381880" y="4597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7848720" y="4446720"/>
            <a:ext cx="5331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6781680" y="421632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057400" y="246384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754280" y="2692440"/>
            <a:ext cx="531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4"/>
          <a:stretch/>
        </p:blipFill>
        <p:spPr>
          <a:xfrm>
            <a:off x="2703600" y="3446640"/>
            <a:ext cx="536400" cy="3506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2252520" y="1752480"/>
            <a:ext cx="518004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2027160" y="2006640"/>
            <a:ext cx="2253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358040" y="2006640"/>
            <a:ext cx="225360" cy="25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579920" y="2260440"/>
            <a:ext cx="0" cy="169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666880" y="2895480"/>
            <a:ext cx="4343400" cy="68580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5334120" y="3886200"/>
            <a:ext cx="380520" cy="380880"/>
            <a:chOff x="5334120" y="3886200"/>
            <a:chExt cx="380520" cy="380880"/>
          </a:xfrm>
        </p:grpSpPr>
        <p:grpSp>
          <p:nvGrpSpPr>
            <p:cNvPr id="1211" name=""/>
            <p:cNvGrpSpPr/>
            <p:nvPr/>
          </p:nvGrpSpPr>
          <p:grpSpPr>
            <a:xfrm>
              <a:off x="5410080" y="3886200"/>
              <a:ext cx="304560" cy="380880"/>
              <a:chOff x="5410080" y="3886200"/>
              <a:chExt cx="304560" cy="380880"/>
            </a:xfrm>
          </p:grpSpPr>
          <p:sp>
            <p:nvSpPr>
              <p:cNvPr id="1212" name=""/>
              <p:cNvSpPr/>
              <p:nvPr/>
            </p:nvSpPr>
            <p:spPr>
              <a:xfrm>
                <a:off x="5410080" y="38862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410080" y="40766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5486400" y="396252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6236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3412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4191120" y="4343400"/>
            <a:ext cx="380520" cy="380880"/>
            <a:chOff x="4191120" y="4343400"/>
            <a:chExt cx="380520" cy="380880"/>
          </a:xfrm>
        </p:grpSpPr>
        <p:grpSp>
          <p:nvGrpSpPr>
            <p:cNvPr id="1218" name=""/>
            <p:cNvGrpSpPr/>
            <p:nvPr/>
          </p:nvGrpSpPr>
          <p:grpSpPr>
            <a:xfrm>
              <a:off x="4267080" y="4343400"/>
              <a:ext cx="304560" cy="380880"/>
              <a:chOff x="4267080" y="4343400"/>
              <a:chExt cx="304560" cy="38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4267080" y="43434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267080" y="45338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4343400" y="441972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19360" y="45720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91120" y="45720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2742120" y="4038480"/>
            <a:ext cx="681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202"/>
                </a:solidFill>
                <a:latin typeface="Arial"/>
              </a:rPr>
              <a:t>EF/P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895480" y="4572000"/>
            <a:ext cx="393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bc2"/>
                </a:solidFill>
                <a:latin typeface="Arial"/>
              </a:rPr>
              <a:t>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971800" y="4191120"/>
            <a:ext cx="762120" cy="533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2819520" y="4267080"/>
            <a:ext cx="380520" cy="380880"/>
            <a:chOff x="2819520" y="4267080"/>
            <a:chExt cx="380520" cy="380880"/>
          </a:xfrm>
        </p:grpSpPr>
        <p:grpSp>
          <p:nvGrpSpPr>
            <p:cNvPr id="1228" name=""/>
            <p:cNvGrpSpPr/>
            <p:nvPr/>
          </p:nvGrpSpPr>
          <p:grpSpPr>
            <a:xfrm>
              <a:off x="2895480" y="4267080"/>
              <a:ext cx="304560" cy="380880"/>
              <a:chOff x="2895480" y="4267080"/>
              <a:chExt cx="304560" cy="380880"/>
            </a:xfrm>
          </p:grpSpPr>
          <p:sp>
            <p:nvSpPr>
              <p:cNvPr id="1229" name=""/>
              <p:cNvSpPr/>
              <p:nvPr/>
            </p:nvSpPr>
            <p:spPr>
              <a:xfrm>
                <a:off x="2895480" y="426708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95480" y="445752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2971800" y="434340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47760" y="449568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19520" y="449568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895480" y="3657600"/>
            <a:ext cx="3429000" cy="762120"/>
          </a:xfrm>
          <a:custGeom>
            <a:avLst/>
            <a:gdLst/>
            <a:ahLst/>
            <a:rect l="l" t="t" r="r" b="b"/>
            <a:pathLst>
              <a:path w="2112" h="384">
                <a:moveTo>
                  <a:pt x="0" y="0"/>
                </a:moveTo>
                <a:cubicBezTo>
                  <a:pt x="172" y="140"/>
                  <a:pt x="344" y="280"/>
                  <a:pt x="576" y="288"/>
                </a:cubicBezTo>
                <a:cubicBezTo>
                  <a:pt x="808" y="296"/>
                  <a:pt x="1136" y="32"/>
                  <a:pt x="1392" y="48"/>
                </a:cubicBezTo>
                <a:cubicBezTo>
                  <a:pt x="1648" y="64"/>
                  <a:pt x="1880" y="224"/>
                  <a:pt x="2112" y="384"/>
                </a:cubicBezTo>
              </a:path>
            </a:pathLst>
          </a:custGeom>
          <a:noFill/>
          <a:ln w="152280">
            <a:solidFill>
              <a:srgbClr val="00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362320" y="3200400"/>
            <a:ext cx="4647960" cy="60948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791320"/>
            <a:ext cx="914400" cy="7596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980000" y="5715000"/>
            <a:ext cx="2282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PLS Voice Tru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ice over MPL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S-aware TE Tunn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9000"/>
          </a:bodyPr>
          <a:p>
            <a:pPr marL="25704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ill use emerging “Diff-Serv aware MPLS TE” in order to perform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plicit Admission Control of “EF Traffic/Voice Trunk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F-aware Constraint Based Rou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 combination with “Diff-Serv over MPLS”, this provides hard QoS for Voice without relying on over-engineer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aximises the amount of Voice Traffic that can be transported on given set of resour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llows Fast Reroute of Vo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8200" rIns="8820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MPLS: DS-aware TE Tunnels with RSVP Aggre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2419200" y="2212920"/>
            <a:ext cx="4200840" cy="185256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3835440" y="2935440"/>
            <a:ext cx="1144440" cy="4554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3979800" y="2887560"/>
            <a:ext cx="1033560" cy="547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3835440" y="2887200"/>
            <a:ext cx="1144440" cy="47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693880" y="2819520"/>
            <a:ext cx="1087560" cy="11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835440" y="3011400"/>
            <a:ext cx="104760" cy="379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079960" y="2860200"/>
            <a:ext cx="0" cy="574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079960" y="2819520"/>
            <a:ext cx="1325520" cy="30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4689360" y="3435480"/>
            <a:ext cx="439920" cy="579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486160" y="3349800"/>
            <a:ext cx="1349280" cy="41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091120" y="3362400"/>
            <a:ext cx="954000" cy="44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3555720" y="3463920"/>
            <a:ext cx="384120" cy="34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940200" y="3435120"/>
            <a:ext cx="1139760" cy="28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692520" y="3195720"/>
            <a:ext cx="460440" cy="4334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4797360" y="2587680"/>
            <a:ext cx="457200" cy="43020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4"/>
          <a:stretch/>
        </p:blipFill>
        <p:spPr>
          <a:xfrm>
            <a:off x="3224160" y="3726000"/>
            <a:ext cx="665280" cy="24912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5"/>
          <a:stretch/>
        </p:blipFill>
        <p:spPr>
          <a:xfrm>
            <a:off x="2170080" y="3227400"/>
            <a:ext cx="660600" cy="2458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6"/>
          <a:stretch/>
        </p:blipFill>
        <p:spPr>
          <a:xfrm>
            <a:off x="5764320" y="3733920"/>
            <a:ext cx="662040" cy="24588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7"/>
          <a:stretch/>
        </p:blipFill>
        <p:spPr>
          <a:xfrm>
            <a:off x="4365720" y="3867120"/>
            <a:ext cx="663480" cy="24768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8"/>
          <a:stretch/>
        </p:blipFill>
        <p:spPr>
          <a:xfrm>
            <a:off x="3613320" y="2644920"/>
            <a:ext cx="568080" cy="4474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5967360" y="2395440"/>
            <a:ext cx="1814400" cy="99540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9"/>
          <a:stretch/>
        </p:blipFill>
        <p:spPr>
          <a:xfrm>
            <a:off x="4818240" y="3186000"/>
            <a:ext cx="568080" cy="44784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10"/>
          <a:stretch/>
        </p:blipFill>
        <p:spPr>
          <a:xfrm>
            <a:off x="6119640" y="2894040"/>
            <a:ext cx="663840" cy="38556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7102440" y="2395440"/>
            <a:ext cx="52884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1"/>
          <a:stretch/>
        </p:blipFill>
        <p:spPr>
          <a:xfrm>
            <a:off x="7253280" y="1459080"/>
            <a:ext cx="1585800" cy="82692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7539120" y="170964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7480080" y="2174760"/>
            <a:ext cx="74520" cy="22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799320" y="2617920"/>
            <a:ext cx="152280" cy="66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6799320" y="2617560"/>
            <a:ext cx="303120" cy="22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51600" y="3003480"/>
            <a:ext cx="22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H="1" flipV="1">
            <a:off x="6875640" y="3114720"/>
            <a:ext cx="52848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362240" y="1843200"/>
            <a:ext cx="1662120" cy="132696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2"/>
          <a:stretch/>
        </p:blipFill>
        <p:spPr>
          <a:xfrm>
            <a:off x="2459160" y="2752560"/>
            <a:ext cx="531720" cy="25416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 flipV="1">
            <a:off x="1816200" y="2395080"/>
            <a:ext cx="452160" cy="11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79880" y="1735200"/>
            <a:ext cx="909720" cy="439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06960" y="2174760"/>
            <a:ext cx="2819160" cy="387360"/>
          </a:xfrm>
          <a:custGeom>
            <a:avLst/>
            <a:gdLst/>
            <a:ahLst/>
            <a:rect l="l" t="t" r="r" b="b"/>
            <a:pathLst>
              <a:path w="1792" h="336">
                <a:moveTo>
                  <a:pt x="256" y="0"/>
                </a:moveTo>
                <a:cubicBezTo>
                  <a:pt x="128" y="120"/>
                  <a:pt x="0" y="240"/>
                  <a:pt x="256" y="288"/>
                </a:cubicBezTo>
                <a:cubicBezTo>
                  <a:pt x="512" y="336"/>
                  <a:pt x="1152" y="312"/>
                  <a:pt x="1792" y="288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2268360" y="2065320"/>
            <a:ext cx="2113200" cy="1094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960" y="0"/>
                </a:moveTo>
                <a:cubicBezTo>
                  <a:pt x="920" y="4"/>
                  <a:pt x="880" y="8"/>
                  <a:pt x="720" y="48"/>
                </a:cubicBezTo>
                <a:cubicBezTo>
                  <a:pt x="560" y="88"/>
                  <a:pt x="280" y="164"/>
                  <a:pt x="0" y="24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192400" y="2452680"/>
            <a:ext cx="377640" cy="22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3"/>
          <a:stretch/>
        </p:blipFill>
        <p:spPr>
          <a:xfrm>
            <a:off x="1438200" y="2286000"/>
            <a:ext cx="452520" cy="27612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/>
          <p:cNvPicPr/>
          <p:nvPr/>
        </p:nvPicPr>
        <p:blipFill>
          <a:blip r:embed="rId14"/>
          <a:stretch/>
        </p:blipFill>
        <p:spPr>
          <a:xfrm>
            <a:off x="1438200" y="2727360"/>
            <a:ext cx="452520" cy="27612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 flipH="1">
            <a:off x="2117880" y="2230560"/>
            <a:ext cx="150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1815840" y="2617920"/>
            <a:ext cx="376200" cy="16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514520" y="29480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531720" y="1955520"/>
            <a:ext cx="906480" cy="38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5"/>
          <a:stretch/>
        </p:blipFill>
        <p:spPr>
          <a:xfrm>
            <a:off x="604800" y="1900080"/>
            <a:ext cx="303120" cy="220680"/>
          </a:xfrm>
          <a:prstGeom prst="rect">
            <a:avLst/>
          </a:prstGeom>
          <a:ln w="0">
            <a:noFill/>
          </a:ln>
        </p:spPr>
      </p:pic>
      <p:sp>
        <p:nvSpPr>
          <p:cNvPr id="1286" name=""/>
          <p:cNvSpPr/>
          <p:nvPr/>
        </p:nvSpPr>
        <p:spPr>
          <a:xfrm flipH="1">
            <a:off x="455400" y="2452680"/>
            <a:ext cx="98244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6"/>
          <a:stretch/>
        </p:blipFill>
        <p:spPr>
          <a:xfrm>
            <a:off x="304920" y="2395440"/>
            <a:ext cx="299880" cy="22248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 flipH="1">
            <a:off x="455400" y="2948040"/>
            <a:ext cx="98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907920" y="2948040"/>
            <a:ext cx="0" cy="1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55760" y="2948040"/>
            <a:ext cx="0" cy="22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7"/>
          <a:stretch/>
        </p:blipFill>
        <p:spPr>
          <a:xfrm>
            <a:off x="304920" y="3114720"/>
            <a:ext cx="299880" cy="22068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/>
          <p:cNvPicPr/>
          <p:nvPr/>
        </p:nvPicPr>
        <p:blipFill>
          <a:blip r:embed="rId18"/>
          <a:stretch/>
        </p:blipFill>
        <p:spPr>
          <a:xfrm>
            <a:off x="757080" y="3059280"/>
            <a:ext cx="303480" cy="22032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/>
          <p:cNvPicPr/>
          <p:nvPr/>
        </p:nvPicPr>
        <p:blipFill>
          <a:blip r:embed="rId19"/>
          <a:stretch/>
        </p:blipFill>
        <p:spPr>
          <a:xfrm>
            <a:off x="985680" y="1292400"/>
            <a:ext cx="1132200" cy="5508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1135080" y="140328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155120" y="1790640"/>
            <a:ext cx="942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20"/>
          <a:stretch/>
        </p:blipFill>
        <p:spPr>
          <a:xfrm>
            <a:off x="1438200" y="2452680"/>
            <a:ext cx="452520" cy="27468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1"/>
          <a:stretch/>
        </p:blipFill>
        <p:spPr>
          <a:xfrm>
            <a:off x="7253280" y="2840040"/>
            <a:ext cx="452520" cy="27468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22"/>
          <a:stretch/>
        </p:blipFill>
        <p:spPr>
          <a:xfrm>
            <a:off x="7327800" y="3059280"/>
            <a:ext cx="453960" cy="27612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23"/>
          <a:stretch/>
        </p:blipFill>
        <p:spPr>
          <a:xfrm>
            <a:off x="8310600" y="3279600"/>
            <a:ext cx="301680" cy="22068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7781760" y="3170160"/>
            <a:ext cx="528840" cy="16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724800" y="3003120"/>
            <a:ext cx="226800" cy="5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041560" y="1735200"/>
            <a:ext cx="5284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741320" y="1900080"/>
            <a:ext cx="52704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24"/>
          <a:stretch/>
        </p:blipFill>
        <p:spPr>
          <a:xfrm>
            <a:off x="2682720" y="2446200"/>
            <a:ext cx="532080" cy="25416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2235240" y="1219320"/>
            <a:ext cx="5133960" cy="368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2011320" y="1403280"/>
            <a:ext cx="223920" cy="6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296120" y="1403280"/>
            <a:ext cx="222120" cy="184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541760" y="1587600"/>
            <a:ext cx="0" cy="122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289480" y="2765520"/>
            <a:ext cx="377640" cy="274320"/>
            <a:chOff x="5289480" y="2765520"/>
            <a:chExt cx="377640" cy="274320"/>
          </a:xfrm>
        </p:grpSpPr>
        <p:grpSp>
          <p:nvGrpSpPr>
            <p:cNvPr id="1310" name=""/>
            <p:cNvGrpSpPr/>
            <p:nvPr/>
          </p:nvGrpSpPr>
          <p:grpSpPr>
            <a:xfrm>
              <a:off x="5365080" y="2765520"/>
              <a:ext cx="302040" cy="274320"/>
              <a:chOff x="5365080" y="2765520"/>
              <a:chExt cx="302040" cy="274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5365080" y="2765520"/>
                <a:ext cx="302040" cy="1371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365080" y="2902680"/>
                <a:ext cx="302040" cy="1371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5440680" y="2820240"/>
              <a:ext cx="150840" cy="5472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15920" y="2930400"/>
              <a:ext cx="151200" cy="547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289480" y="2930400"/>
              <a:ext cx="151200" cy="547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2948040" y="2986200"/>
            <a:ext cx="755640" cy="385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797200" y="3040200"/>
            <a:ext cx="377640" cy="275760"/>
            <a:chOff x="2797200" y="3040200"/>
            <a:chExt cx="377640" cy="275760"/>
          </a:xfrm>
        </p:grpSpPr>
        <p:grpSp>
          <p:nvGrpSpPr>
            <p:cNvPr id="1318" name=""/>
            <p:cNvGrpSpPr/>
            <p:nvPr/>
          </p:nvGrpSpPr>
          <p:grpSpPr>
            <a:xfrm>
              <a:off x="2872800" y="3040200"/>
              <a:ext cx="302040" cy="275760"/>
              <a:chOff x="2872800" y="3040200"/>
              <a:chExt cx="302040" cy="275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2872800" y="3040200"/>
                <a:ext cx="302040" cy="13788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872800" y="3178080"/>
                <a:ext cx="302040" cy="13788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2948400" y="3095280"/>
              <a:ext cx="150840" cy="5508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23640" y="3205800"/>
              <a:ext cx="151200" cy="5508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97200" y="3205800"/>
              <a:ext cx="151200" cy="5508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676160" y="2819520"/>
            <a:ext cx="794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t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19520" y="2895480"/>
            <a:ext cx="3581280" cy="362160"/>
          </a:xfrm>
          <a:custGeom>
            <a:avLst/>
            <a:gdLst/>
            <a:ahLst/>
            <a:rect l="l" t="t" r="r" b="b"/>
            <a:pathLst>
              <a:path w="1824" h="564">
                <a:moveTo>
                  <a:pt x="0" y="272"/>
                </a:moveTo>
                <a:cubicBezTo>
                  <a:pt x="74" y="294"/>
                  <a:pt x="232" y="367"/>
                  <a:pt x="446" y="407"/>
                </a:cubicBezTo>
                <a:cubicBezTo>
                  <a:pt x="660" y="447"/>
                  <a:pt x="1125" y="564"/>
                  <a:pt x="1283" y="510"/>
                </a:cubicBezTo>
                <a:cubicBezTo>
                  <a:pt x="1441" y="456"/>
                  <a:pt x="1302" y="160"/>
                  <a:pt x="1392" y="80"/>
                </a:cubicBezTo>
                <a:cubicBezTo>
                  <a:pt x="1482" y="0"/>
                  <a:pt x="1680" y="20"/>
                  <a:pt x="1824" y="32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38280" y="2057400"/>
            <a:ext cx="38124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cubicBezTo>
                  <a:pt x="28" y="144"/>
                  <a:pt x="56" y="288"/>
                  <a:pt x="96" y="384"/>
                </a:cubicBezTo>
                <a:cubicBezTo>
                  <a:pt x="136" y="480"/>
                  <a:pt x="188" y="528"/>
                  <a:pt x="240" y="576"/>
                </a:cubicBezTo>
              </a:path>
            </a:pathLst>
          </a:custGeom>
          <a:noFill/>
          <a:ln w="3816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514600" y="1981080"/>
            <a:ext cx="38088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cubicBezTo>
                  <a:pt x="28" y="144"/>
                  <a:pt x="56" y="288"/>
                  <a:pt x="96" y="384"/>
                </a:cubicBezTo>
                <a:cubicBezTo>
                  <a:pt x="136" y="480"/>
                  <a:pt x="188" y="528"/>
                  <a:pt x="240" y="576"/>
                </a:cubicBezTo>
              </a:path>
            </a:pathLst>
          </a:custGeom>
          <a:noFill/>
          <a:ln w="3816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666880" y="1981080"/>
            <a:ext cx="38124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cubicBezTo>
                  <a:pt x="28" y="144"/>
                  <a:pt x="56" y="288"/>
                  <a:pt x="96" y="384"/>
                </a:cubicBezTo>
                <a:cubicBezTo>
                  <a:pt x="136" y="480"/>
                  <a:pt x="188" y="528"/>
                  <a:pt x="240" y="576"/>
                </a:cubicBezTo>
              </a:path>
            </a:pathLst>
          </a:custGeom>
          <a:noFill/>
          <a:ln w="3816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81080" y="2286000"/>
            <a:ext cx="685800" cy="76212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60" y="80"/>
                  <a:pt x="120" y="160"/>
                  <a:pt x="192" y="240"/>
                </a:cubicBezTo>
                <a:cubicBezTo>
                  <a:pt x="264" y="320"/>
                  <a:pt x="348" y="400"/>
                  <a:pt x="432" y="48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28800" y="2286000"/>
            <a:ext cx="83808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cubicBezTo>
                  <a:pt x="52" y="100"/>
                  <a:pt x="104" y="200"/>
                  <a:pt x="192" y="288"/>
                </a:cubicBezTo>
                <a:cubicBezTo>
                  <a:pt x="280" y="376"/>
                  <a:pt x="404" y="452"/>
                  <a:pt x="528" y="528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400800" y="24382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324480" y="2362320"/>
            <a:ext cx="60984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477120" y="25909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248520" y="228600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57320" y="2590920"/>
            <a:ext cx="2088360" cy="347400"/>
          </a:xfrm>
          <a:prstGeom prst="rect">
            <a:avLst/>
          </a:prstGeom>
          <a:solidFill>
            <a:srgbClr val="006c88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r call e2e 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710760" y="2743200"/>
            <a:ext cx="2088360" cy="347400"/>
          </a:xfrm>
          <a:prstGeom prst="rect">
            <a:avLst/>
          </a:prstGeom>
          <a:solidFill>
            <a:srgbClr val="006c88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r call e2e 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07440" y="4267080"/>
            <a:ext cx="8633880" cy="14446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SVP Aggreg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per call RSVP reservations aggregated into EF DS-TE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EF DS-TE Tunnel size dynamically adjusted to current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EF DS-TE Tunnel routed/rerouted/split (make-before-break) to fi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new per call RSVP reservation rejected if EF DS-TE Tunnel can’t be incre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590920" y="3124080"/>
            <a:ext cx="152280" cy="990720"/>
          </a:xfrm>
          <a:prstGeom prst="line">
            <a:avLst/>
          </a:prstGeom>
          <a:ln w="127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80880" y="525780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13372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-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2000"/>
          </a:bodyPr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ew work in IETF, emerging implemen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tensions over existing MPLS TE, to do CBR and CAC on a per Class(-Type) ba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llows tighter control of QoS performance for each class (helps solve Diff-Serv’s provisioning challeng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ables support of applications with tight QoS requirements such as “Guaranteed Bandwidth services”, Voice Trunks, Bandwidth Trading,…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==&gt; further step towards enabling IP/MPLS as the Multiservice Transport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ful in networks which cannot be assumed to be over-engineered everywhere all the tim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LogotagBLACKTIF" descr=""/>
          <p:cNvPicPr/>
          <p:nvPr/>
        </p:nvPicPr>
        <p:blipFill>
          <a:blip r:embed="rId1"/>
          <a:stretch/>
        </p:blipFill>
        <p:spPr>
          <a:xfrm>
            <a:off x="1739880" y="1166760"/>
            <a:ext cx="6170760" cy="468468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2996C42-A3BE-46AE-AF74-BE14984E679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7" name="cisco_url_sabonbold16_96" descr=""/>
          <p:cNvPicPr/>
          <p:nvPr/>
        </p:nvPicPr>
        <p:blipFill>
          <a:blip r:embed="rId2"/>
          <a:stretch/>
        </p:blipFill>
        <p:spPr>
          <a:xfrm>
            <a:off x="3900600" y="6573960"/>
            <a:ext cx="1361880" cy="15228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1091880" y="6634080"/>
            <a:ext cx="1324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0, Cisco Systems, Inc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44000" y="6466320"/>
            <a:ext cx="811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Apricot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support over MP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3317400"/>
            <a:ext cx="8076960" cy="3194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80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iff-Serv is supported over MPLS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&lt;draft-ietf-mpls-diff-ext-07.txt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ample above illustrates support of EF and AF1 on single E-LS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EF and AF1 packets travel on single LSP (single label) but are enqueued in different queues (different EXP value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6908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84520" y="2362320"/>
            <a:ext cx="973080" cy="271440"/>
          </a:xfrm>
          <a:custGeom>
            <a:avLst/>
            <a:gdLst/>
            <a:ahLst/>
            <a:rect l="l" t="t" r="r" b="b"/>
            <a:pathLst>
              <a:path w="817" h="241">
                <a:moveTo>
                  <a:pt x="0" y="0"/>
                </a:moveTo>
                <a:lnTo>
                  <a:pt x="816" y="0"/>
                </a:lnTo>
                <a:lnTo>
                  <a:pt x="816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48160" y="2368440"/>
            <a:ext cx="10296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7720" y="2368440"/>
            <a:ext cx="10620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2368440"/>
            <a:ext cx="10332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19560" y="2368440"/>
            <a:ext cx="10296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2368440"/>
            <a:ext cx="10332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724120"/>
            <a:ext cx="976320" cy="273240"/>
          </a:xfrm>
          <a:custGeom>
            <a:avLst/>
            <a:gdLst/>
            <a:ahLst/>
            <a:rect l="l" t="t" r="r" b="b"/>
            <a:pathLst>
              <a:path w="817" h="241">
                <a:moveTo>
                  <a:pt x="0" y="0"/>
                </a:moveTo>
                <a:lnTo>
                  <a:pt x="816" y="0"/>
                </a:lnTo>
                <a:lnTo>
                  <a:pt x="816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0520" y="2730600"/>
            <a:ext cx="10656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1920" y="2730600"/>
            <a:ext cx="10476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6400" y="2730600"/>
            <a:ext cx="10620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360" y="1905120"/>
            <a:ext cx="956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-L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61200" y="2135160"/>
            <a:ext cx="70956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59000" y="2127240"/>
            <a:ext cx="711360" cy="43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7600" y="1752480"/>
            <a:ext cx="665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981080"/>
            <a:ext cx="16765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981080"/>
            <a:ext cx="213336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33280" y="1600200"/>
            <a:ext cx="128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LDP/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00520" y="1600200"/>
            <a:ext cx="128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LDP/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648320" y="2133720"/>
            <a:ext cx="709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5334120" y="2362320"/>
            <a:ext cx="990000" cy="634680"/>
            <a:chOff x="5334120" y="2362320"/>
            <a:chExt cx="990000" cy="634680"/>
          </a:xfrm>
        </p:grpSpPr>
        <p:sp>
          <p:nvSpPr>
            <p:cNvPr id="120" name=""/>
            <p:cNvSpPr/>
            <p:nvPr/>
          </p:nvSpPr>
          <p:spPr>
            <a:xfrm>
              <a:off x="5350680" y="2362320"/>
              <a:ext cx="973440" cy="270720"/>
            </a:xfrm>
            <a:custGeom>
              <a:avLst/>
              <a:gdLst/>
              <a:ahLst/>
              <a:rect l="l" t="t" r="r" b="b"/>
              <a:pathLst>
                <a:path w="817" h="241">
                  <a:moveTo>
                    <a:pt x="0" y="0"/>
                  </a:moveTo>
                  <a:lnTo>
                    <a:pt x="816" y="0"/>
                  </a:lnTo>
                  <a:lnTo>
                    <a:pt x="816" y="24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14320" y="2368440"/>
              <a:ext cx="10404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54600" y="2368440"/>
              <a:ext cx="10656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71240" y="2368440"/>
              <a:ext cx="10296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85720" y="2368440"/>
              <a:ext cx="10404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0200" y="2368440"/>
              <a:ext cx="10296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4120" y="2724840"/>
              <a:ext cx="975960" cy="272160"/>
            </a:xfrm>
            <a:custGeom>
              <a:avLst/>
              <a:gdLst/>
              <a:ahLst/>
              <a:rect l="l" t="t" r="r" b="b"/>
              <a:pathLst>
                <a:path w="817" h="241">
                  <a:moveTo>
                    <a:pt x="0" y="0"/>
                  </a:moveTo>
                  <a:lnTo>
                    <a:pt x="816" y="0"/>
                  </a:lnTo>
                  <a:lnTo>
                    <a:pt x="816" y="24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7760" y="2730960"/>
              <a:ext cx="105480" cy="260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8800" y="2730960"/>
              <a:ext cx="105120" cy="260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3280" y="2730960"/>
              <a:ext cx="106560" cy="260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2819520" y="2286000"/>
            <a:ext cx="4701960" cy="792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538000">
            <a:off x="4496400" y="2285280"/>
            <a:ext cx="106200" cy="260280"/>
          </a:xfrm>
          <a:prstGeom prst="rect">
            <a:avLst/>
          </a:prstGeom>
          <a:solidFill>
            <a:srgbClr val="5f0b7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538000">
            <a:off x="4115520" y="2284920"/>
            <a:ext cx="106200" cy="260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438280"/>
            <a:ext cx="762120" cy="763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cubicBezTo>
                  <a:pt x="32" y="76"/>
                  <a:pt x="64" y="152"/>
                  <a:pt x="144" y="192"/>
                </a:cubicBezTo>
                <a:cubicBezTo>
                  <a:pt x="224" y="232"/>
                  <a:pt x="352" y="236"/>
                  <a:pt x="480" y="24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2514600"/>
            <a:ext cx="1218960" cy="380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cubicBezTo>
                  <a:pt x="32" y="76"/>
                  <a:pt x="64" y="152"/>
                  <a:pt x="144" y="192"/>
                </a:cubicBezTo>
                <a:cubicBezTo>
                  <a:pt x="224" y="232"/>
                  <a:pt x="352" y="236"/>
                  <a:pt x="480" y="24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080" y="2666880"/>
            <a:ext cx="439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440" y="2362320"/>
            <a:ext cx="565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538000">
            <a:off x="7011000" y="2285280"/>
            <a:ext cx="106200" cy="260280"/>
          </a:xfrm>
          <a:prstGeom prst="rect">
            <a:avLst/>
          </a:prstGeom>
          <a:solidFill>
            <a:srgbClr val="5f0b7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2286000"/>
            <a:ext cx="4701960" cy="792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Traffic Enginee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2200" y="1015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20 Mb/s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54960" y="1447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0 Mb/s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151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163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175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187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199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211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2666880"/>
            <a:ext cx="228600" cy="152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2819520"/>
            <a:ext cx="22860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971800"/>
            <a:ext cx="38088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3276720"/>
            <a:ext cx="30492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809880"/>
            <a:ext cx="30456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24280" y="3581280"/>
            <a:ext cx="60984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334120" y="312408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67280" y="2666880"/>
            <a:ext cx="53352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90920" y="3505320"/>
            <a:ext cx="60948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200400" y="3276360"/>
            <a:ext cx="83808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5520" y="2895120"/>
            <a:ext cx="68580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91320" y="2514600"/>
            <a:ext cx="45720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elationship between MPLS TE and Q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360" y="203184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0000"/>
          </a:bodyPr>
          <a:p>
            <a:pPr marL="231120" indent="-2311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PLS TE designed as tool to improve backbone efficiency independently of Q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PLS TE compute routes for aggregates across all PHB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PLS TE performs admission control over “global” bandwidth pool for all COS/PHBs (i.e., unaware of bandwidth allocated to each queu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120" indent="-2311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PLS TE and MPLS Diff-Serv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n run simultaneous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n provide their own benefit (ie TE distributes aggregate load, Diff-Serv provides differenti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re unaware of each other (TE cannot provide its benefit on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 per class basi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such as CAC and constraint based rout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74320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lay/Load Trade-Of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501920" y="1693800"/>
            <a:ext cx="0" cy="3216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01920" y="4910040"/>
            <a:ext cx="5856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72000" y="4002120"/>
            <a:ext cx="15199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8520" y="1270080"/>
            <a:ext cx="826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50360" y="4995720"/>
            <a:ext cx="514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90080" y="4952880"/>
            <a:ext cx="79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7400" y="4950000"/>
            <a:ext cx="603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5680" y="4064040"/>
            <a:ext cx="7657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27040" y="2624040"/>
            <a:ext cx="56311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60020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01920" y="3639960"/>
            <a:ext cx="56307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01920" y="4572000"/>
            <a:ext cx="56307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52388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152388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8640" y="2963880"/>
            <a:ext cx="1014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9240" y="1862280"/>
            <a:ext cx="11923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est-Eff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504040"/>
            <a:ext cx="8001000" cy="6829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I can keep EF traffic   &lt; </a:t>
            </a:r>
            <a:r>
              <a:rPr b="1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% , I will keep EF delay unde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I can keep AF1 traffic &lt; </a:t>
            </a:r>
            <a:r>
              <a:rPr b="1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% , I will keep AF1 delay unde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371600"/>
            <a:ext cx="3353040" cy="3505320"/>
          </a:xfrm>
          <a:custGeom>
            <a:avLst/>
            <a:gdLst/>
            <a:ahLst/>
            <a:rect l="l" t="t" r="r" b="b"/>
            <a:pathLst>
              <a:path w="2112" h="2208">
                <a:moveTo>
                  <a:pt x="0" y="2208"/>
                </a:moveTo>
                <a:cubicBezTo>
                  <a:pt x="436" y="2164"/>
                  <a:pt x="872" y="2120"/>
                  <a:pt x="1152" y="2016"/>
                </a:cubicBezTo>
                <a:cubicBezTo>
                  <a:pt x="1432" y="1912"/>
                  <a:pt x="1536" y="1792"/>
                  <a:pt x="1680" y="1584"/>
                </a:cubicBezTo>
                <a:cubicBezTo>
                  <a:pt x="1824" y="1376"/>
                  <a:pt x="1944" y="1032"/>
                  <a:pt x="2016" y="768"/>
                </a:cubicBezTo>
                <a:cubicBezTo>
                  <a:pt x="2088" y="504"/>
                  <a:pt x="2100" y="252"/>
                  <a:pt x="211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152388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37760" y="4952880"/>
            <a:ext cx="582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 for DS-aware 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1000"/>
          </a:bodyPr>
          <a:p>
            <a:pPr marL="262800" indent="-262800">
              <a:lnSpc>
                <a:spcPct val="90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us, with Diffserv, there are additional constraints to ensure the QoS of each clas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14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 EF behavior requires that aggregate EF traffic is less than small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4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 AF behaviors requires that aggregate AF traffic is less than reasonable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=&gt;Can not be enforced by current aggregate 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=&gt; Requires Diff-Serv aware 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Constraint Based Routing per Class with different bandwidth constrai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dmission Control per Class over different bandwidth pools (ie bandwidth allocated to class queu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0:04:55Z</dcterms:created>
  <dc:creator>Pixel Plant</dc:creator>
  <dc:description/>
  <dc:language>en-US</dc:language>
  <cp:lastModifiedBy>dapatter</cp:lastModifiedBy>
  <cp:lastPrinted>2000-08-31T10:07:32Z</cp:lastPrinted>
  <dcterms:modified xsi:type="dcterms:W3CDTF">2001-02-08T22:21:37Z</dcterms:modified>
  <cp:revision>56</cp:revision>
  <dc:subject>Guide for Creating Powerpoint Presentations</dc:subject>
  <dc:title>Geen diatitel</dc:title>
</cp:coreProperties>
</file>