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5.xml.rels" ContentType="application/vnd.openxmlformats-package.relationships+xml"/>
  <Override PartName="/ppt/notesSlides/notesSlide20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Lst>
  <p:sldSz cx="9144000" cy="6858000"/>
  <p:notesSz cx="7102475" cy="8993188"/>
  <p:custShowLst>
    <p:custShow name="pauls" id="0">
      <p:sldLst>
        <p:sld r:id="rId10"/>
        <p:sld r:id="rId7"/>
        <p:sld r:id="rId10"/>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ee3ee"/>
              </a:solidFill>
              <a:latin typeface="Times New Roman"/>
            </a:endParaRPr>
          </a:p>
        </p:txBody>
      </p:sp>
      <p:sp>
        <p:nvSpPr>
          <p:cNvPr id="9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4024440" y="0"/>
            <a:ext cx="3078000" cy="449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Click to move the slide</a:t>
            </a:r>
            <a:endParaRPr b="1" lang="en-US" sz="6600" spc="-1" strike="noStrike">
              <a:solidFill>
                <a:srgbClr val="ffffff"/>
              </a:solidFill>
              <a:latin typeface="Arial Narrow"/>
            </a:endParaRPr>
          </a:p>
        </p:txBody>
      </p:sp>
      <p:sp>
        <p:nvSpPr>
          <p:cNvPr id="9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0" y="8542440"/>
            <a:ext cx="3078000" cy="449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4024440" y="8542440"/>
            <a:ext cx="3078000" cy="449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38D6-07C8-4EC5-A356-B2D8F7AD0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024440" y="8542440"/>
            <a:ext cx="3078000" cy="449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FCBE-F0E9-4435-843B-3E382E227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0" y="8542440"/>
            <a:ext cx="3078000" cy="4492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0" y="0"/>
            <a:ext cx="3078000" cy="449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4024440" y="0"/>
            <a:ext cx="3078000" cy="449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303200" y="674640"/>
            <a:ext cx="4496040" cy="3371760"/>
          </a:xfrm>
          <a:prstGeom prst="rect">
            <a:avLst/>
          </a:prstGeom>
          <a:ln w="0">
            <a:noFill/>
          </a:ln>
        </p:spPr>
      </p:sp>
      <p:sp>
        <p:nvSpPr>
          <p:cNvPr id="589"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FC191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B96A6-D0C4-4577-A605-8E3254E0F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34" name="PlaceHolder 2"/>
          <p:cNvSpPr>
            <a:spLocks noGrp="1"/>
          </p:cNvSpPr>
          <p:nvPr>
            <p:ph/>
          </p:nvPr>
        </p:nvSpPr>
        <p:spPr>
          <a:xfrm>
            <a:off x="304920" y="1839960"/>
            <a:ext cx="861048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304920" y="4063320"/>
            <a:ext cx="861048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58BA7-2D2E-4A33-923E-C466A70C3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37" name="PlaceHolder 2"/>
          <p:cNvSpPr>
            <a:spLocks noGrp="1"/>
          </p:cNvSpPr>
          <p:nvPr>
            <p:ph/>
          </p:nvPr>
        </p:nvSpPr>
        <p:spPr>
          <a:xfrm>
            <a:off x="30492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471708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30492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471708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987ED-91B5-4FCD-ADDA-7F33336E1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42" name="PlaceHolder 2"/>
          <p:cNvSpPr>
            <a:spLocks noGrp="1"/>
          </p:cNvSpPr>
          <p:nvPr>
            <p:ph/>
          </p:nvPr>
        </p:nvSpPr>
        <p:spPr>
          <a:xfrm>
            <a:off x="304920" y="183996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3"/>
          <p:cNvSpPr>
            <a:spLocks noGrp="1"/>
          </p:cNvSpPr>
          <p:nvPr>
            <p:ph/>
          </p:nvPr>
        </p:nvSpPr>
        <p:spPr>
          <a:xfrm>
            <a:off x="3216240" y="183996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p:nvPr>
        </p:nvSpPr>
        <p:spPr>
          <a:xfrm>
            <a:off x="6127560" y="183996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p:nvPr>
        </p:nvSpPr>
        <p:spPr>
          <a:xfrm>
            <a:off x="304920" y="406332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6"/>
          <p:cNvSpPr>
            <a:spLocks noGrp="1"/>
          </p:cNvSpPr>
          <p:nvPr>
            <p:ph/>
          </p:nvPr>
        </p:nvSpPr>
        <p:spPr>
          <a:xfrm>
            <a:off x="3216240" y="406332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7"/>
          <p:cNvSpPr>
            <a:spLocks noGrp="1"/>
          </p:cNvSpPr>
          <p:nvPr>
            <p:ph/>
          </p:nvPr>
        </p:nvSpPr>
        <p:spPr>
          <a:xfrm>
            <a:off x="6127560" y="406332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59B9E-F4D9-4C1B-B443-8AD8A9AC9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C95A3B-6ED9-4D38-BAF1-7C97F2287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59" name="PlaceHolder 2"/>
          <p:cNvSpPr>
            <a:spLocks noGrp="1"/>
          </p:cNvSpPr>
          <p:nvPr>
            <p:ph type="subTitle"/>
          </p:nvPr>
        </p:nvSpPr>
        <p:spPr>
          <a:xfrm>
            <a:off x="304920" y="1839960"/>
            <a:ext cx="8610480" cy="425592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788E4-68A7-42D1-96CC-2278AAF96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6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9287F-4874-489C-9265-0629273CE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63" name="PlaceHolder 2"/>
          <p:cNvSpPr>
            <a:spLocks noGrp="1"/>
          </p:cNvSpPr>
          <p:nvPr>
            <p:ph/>
          </p:nvPr>
        </p:nvSpPr>
        <p:spPr>
          <a:xfrm>
            <a:off x="30492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471708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26B39-786F-4233-948B-5834824FE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8D183-5373-4F66-97C7-7DBD741AA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47480" y="380520"/>
            <a:ext cx="8467560" cy="529956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B2754-9E97-4A25-B386-7539C0841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68" name="PlaceHolder 2"/>
          <p:cNvSpPr>
            <a:spLocks noGrp="1"/>
          </p:cNvSpPr>
          <p:nvPr>
            <p:ph/>
          </p:nvPr>
        </p:nvSpPr>
        <p:spPr>
          <a:xfrm>
            <a:off x="30492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3"/>
          <p:cNvSpPr>
            <a:spLocks noGrp="1"/>
          </p:cNvSpPr>
          <p:nvPr>
            <p:ph/>
          </p:nvPr>
        </p:nvSpPr>
        <p:spPr>
          <a:xfrm>
            <a:off x="471708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4"/>
          <p:cNvSpPr>
            <a:spLocks noGrp="1"/>
          </p:cNvSpPr>
          <p:nvPr>
            <p:ph/>
          </p:nvPr>
        </p:nvSpPr>
        <p:spPr>
          <a:xfrm>
            <a:off x="30492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9224F-4237-4219-BB40-F688D1515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13" name="PlaceHolder 2"/>
          <p:cNvSpPr>
            <a:spLocks noGrp="1"/>
          </p:cNvSpPr>
          <p:nvPr>
            <p:ph type="subTitle"/>
          </p:nvPr>
        </p:nvSpPr>
        <p:spPr>
          <a:xfrm>
            <a:off x="304920" y="1839960"/>
            <a:ext cx="8610480" cy="425592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41C9D-5C3D-491A-B28F-607A6ACF9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72" name="PlaceHolder 2"/>
          <p:cNvSpPr>
            <a:spLocks noGrp="1"/>
          </p:cNvSpPr>
          <p:nvPr>
            <p:ph/>
          </p:nvPr>
        </p:nvSpPr>
        <p:spPr>
          <a:xfrm>
            <a:off x="30492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3"/>
          <p:cNvSpPr>
            <a:spLocks noGrp="1"/>
          </p:cNvSpPr>
          <p:nvPr>
            <p:ph/>
          </p:nvPr>
        </p:nvSpPr>
        <p:spPr>
          <a:xfrm>
            <a:off x="471708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4"/>
          <p:cNvSpPr>
            <a:spLocks noGrp="1"/>
          </p:cNvSpPr>
          <p:nvPr>
            <p:ph/>
          </p:nvPr>
        </p:nvSpPr>
        <p:spPr>
          <a:xfrm>
            <a:off x="471708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08E06-70BD-4809-9229-1E8CF8C46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76" name="PlaceHolder 2"/>
          <p:cNvSpPr>
            <a:spLocks noGrp="1"/>
          </p:cNvSpPr>
          <p:nvPr>
            <p:ph/>
          </p:nvPr>
        </p:nvSpPr>
        <p:spPr>
          <a:xfrm>
            <a:off x="30492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471708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304920" y="4063320"/>
            <a:ext cx="861048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64CEB-A8A2-4BE9-8790-8DB2F705C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80" name="PlaceHolder 2"/>
          <p:cNvSpPr>
            <a:spLocks noGrp="1"/>
          </p:cNvSpPr>
          <p:nvPr>
            <p:ph/>
          </p:nvPr>
        </p:nvSpPr>
        <p:spPr>
          <a:xfrm>
            <a:off x="304920" y="1839960"/>
            <a:ext cx="861048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3"/>
          <p:cNvSpPr>
            <a:spLocks noGrp="1"/>
          </p:cNvSpPr>
          <p:nvPr>
            <p:ph/>
          </p:nvPr>
        </p:nvSpPr>
        <p:spPr>
          <a:xfrm>
            <a:off x="304920" y="4063320"/>
            <a:ext cx="861048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73B77-E520-43E3-96CB-9CDE3F20F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83" name="PlaceHolder 2"/>
          <p:cNvSpPr>
            <a:spLocks noGrp="1"/>
          </p:cNvSpPr>
          <p:nvPr>
            <p:ph/>
          </p:nvPr>
        </p:nvSpPr>
        <p:spPr>
          <a:xfrm>
            <a:off x="30492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3"/>
          <p:cNvSpPr>
            <a:spLocks noGrp="1"/>
          </p:cNvSpPr>
          <p:nvPr>
            <p:ph/>
          </p:nvPr>
        </p:nvSpPr>
        <p:spPr>
          <a:xfrm>
            <a:off x="471708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4"/>
          <p:cNvSpPr>
            <a:spLocks noGrp="1"/>
          </p:cNvSpPr>
          <p:nvPr>
            <p:ph/>
          </p:nvPr>
        </p:nvSpPr>
        <p:spPr>
          <a:xfrm>
            <a:off x="30492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5"/>
          <p:cNvSpPr>
            <a:spLocks noGrp="1"/>
          </p:cNvSpPr>
          <p:nvPr>
            <p:ph/>
          </p:nvPr>
        </p:nvSpPr>
        <p:spPr>
          <a:xfrm>
            <a:off x="471708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FB0439-AB5F-415C-B0FB-6BE0FF2A5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88" name="PlaceHolder 2"/>
          <p:cNvSpPr>
            <a:spLocks noGrp="1"/>
          </p:cNvSpPr>
          <p:nvPr>
            <p:ph/>
          </p:nvPr>
        </p:nvSpPr>
        <p:spPr>
          <a:xfrm>
            <a:off x="304920" y="183996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3"/>
          <p:cNvSpPr>
            <a:spLocks noGrp="1"/>
          </p:cNvSpPr>
          <p:nvPr>
            <p:ph/>
          </p:nvPr>
        </p:nvSpPr>
        <p:spPr>
          <a:xfrm>
            <a:off x="3216240" y="183996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4"/>
          <p:cNvSpPr>
            <a:spLocks noGrp="1"/>
          </p:cNvSpPr>
          <p:nvPr>
            <p:ph/>
          </p:nvPr>
        </p:nvSpPr>
        <p:spPr>
          <a:xfrm>
            <a:off x="6127560" y="183996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5"/>
          <p:cNvSpPr>
            <a:spLocks noGrp="1"/>
          </p:cNvSpPr>
          <p:nvPr>
            <p:ph/>
          </p:nvPr>
        </p:nvSpPr>
        <p:spPr>
          <a:xfrm>
            <a:off x="304920" y="406332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6"/>
          <p:cNvSpPr>
            <a:spLocks noGrp="1"/>
          </p:cNvSpPr>
          <p:nvPr>
            <p:ph/>
          </p:nvPr>
        </p:nvSpPr>
        <p:spPr>
          <a:xfrm>
            <a:off x="3216240" y="406332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7"/>
          <p:cNvSpPr>
            <a:spLocks noGrp="1"/>
          </p:cNvSpPr>
          <p:nvPr>
            <p:ph/>
          </p:nvPr>
        </p:nvSpPr>
        <p:spPr>
          <a:xfrm>
            <a:off x="6127560" y="406332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5FCFF1-510A-4713-9B06-B30F4D8C1D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1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1AABE-64D6-49A8-8CB1-A77290831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17" name="PlaceHolder 2"/>
          <p:cNvSpPr>
            <a:spLocks noGrp="1"/>
          </p:cNvSpPr>
          <p:nvPr>
            <p:ph/>
          </p:nvPr>
        </p:nvSpPr>
        <p:spPr>
          <a:xfrm>
            <a:off x="30492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471708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B44C7-825B-4837-BFC4-3DA805198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4D3A6-6039-4D58-B04B-C0F13CFBF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47480" y="380520"/>
            <a:ext cx="8467560" cy="529956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F0102-C641-4D7C-951C-516DDF93C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22" name="PlaceHolder 2"/>
          <p:cNvSpPr>
            <a:spLocks noGrp="1"/>
          </p:cNvSpPr>
          <p:nvPr>
            <p:ph/>
          </p:nvPr>
        </p:nvSpPr>
        <p:spPr>
          <a:xfrm>
            <a:off x="30492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3"/>
          <p:cNvSpPr>
            <a:spLocks noGrp="1"/>
          </p:cNvSpPr>
          <p:nvPr>
            <p:ph/>
          </p:nvPr>
        </p:nvSpPr>
        <p:spPr>
          <a:xfrm>
            <a:off x="471708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4"/>
          <p:cNvSpPr>
            <a:spLocks noGrp="1"/>
          </p:cNvSpPr>
          <p:nvPr>
            <p:ph/>
          </p:nvPr>
        </p:nvSpPr>
        <p:spPr>
          <a:xfrm>
            <a:off x="30492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64E98-4412-40F8-844C-145230BDF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26" name="PlaceHolder 2"/>
          <p:cNvSpPr>
            <a:spLocks noGrp="1"/>
          </p:cNvSpPr>
          <p:nvPr>
            <p:ph/>
          </p:nvPr>
        </p:nvSpPr>
        <p:spPr>
          <a:xfrm>
            <a:off x="30492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3"/>
          <p:cNvSpPr>
            <a:spLocks noGrp="1"/>
          </p:cNvSpPr>
          <p:nvPr>
            <p:ph/>
          </p:nvPr>
        </p:nvSpPr>
        <p:spPr>
          <a:xfrm>
            <a:off x="471708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4"/>
          <p:cNvSpPr>
            <a:spLocks noGrp="1"/>
          </p:cNvSpPr>
          <p:nvPr>
            <p:ph/>
          </p:nvPr>
        </p:nvSpPr>
        <p:spPr>
          <a:xfrm>
            <a:off x="471708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CF6DF-DECA-4EBE-8EE3-0BB74D2C1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Narrow"/>
            </a:endParaRPr>
          </a:p>
        </p:txBody>
      </p:sp>
      <p:sp>
        <p:nvSpPr>
          <p:cNvPr id="30" name="PlaceHolder 2"/>
          <p:cNvSpPr>
            <a:spLocks noGrp="1"/>
          </p:cNvSpPr>
          <p:nvPr>
            <p:ph/>
          </p:nvPr>
        </p:nvSpPr>
        <p:spPr>
          <a:xfrm>
            <a:off x="30492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71708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304920" y="4063320"/>
            <a:ext cx="861048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DF984-BD0A-4923-9E22-9B51BE48F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lick to edit the title text format</a:t>
            </a:r>
            <a:endParaRPr b="1" lang="en-US" sz="4800" spc="-1" strike="noStrike">
              <a:solidFill>
                <a:srgbClr val="ffffff"/>
              </a:solidFill>
              <a:latin typeface="Arial Narrow"/>
            </a:endParaRPr>
          </a:p>
        </p:txBody>
      </p:sp>
      <p:sp>
        <p:nvSpPr>
          <p:cNvPr id="1" name="PlaceHolder 2"/>
          <p:cNvSpPr>
            <a:spLocks noGrp="1"/>
          </p:cNvSpPr>
          <p:nvPr>
            <p:ph type="body"/>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dee3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dee3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dee3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570360" y="6248520"/>
            <a:ext cx="1833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533400" y="625644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8392680" y="6248520"/>
            <a:ext cx="52236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8AFB-6BC1-4A0A-AA68-40777E7E3A78}" type="slidenum">
              <a:rPr b="0" lang="en-US" sz="1400" spc="-1" strike="noStrike">
                <a:solidFill>
                  <a:srgbClr val="ffcc99"/>
                </a:solidFill>
                <a:latin typeface="Arial"/>
              </a:rPr>
              <a:t>&lt;number&gt;</a:t>
            </a:fld>
            <a:endParaRPr b="0" lang="en-US" sz="1400" spc="-1" strike="noStrike">
              <a:solidFill>
                <a:srgbClr val="ffffff"/>
              </a:solidFill>
              <a:latin typeface="Times New Roman"/>
            </a:endParaRPr>
          </a:p>
        </p:txBody>
      </p:sp>
      <p:sp>
        <p:nvSpPr>
          <p:cNvPr id="5" name=""/>
          <p:cNvSpPr/>
          <p:nvPr/>
        </p:nvSpPr>
        <p:spPr>
          <a:xfrm>
            <a:off x="415800" y="1506600"/>
            <a:ext cx="853452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6" name=""/>
          <p:cNvSpPr/>
          <p:nvPr/>
        </p:nvSpPr>
        <p:spPr>
          <a:xfrm>
            <a:off x="380880" y="1471680"/>
            <a:ext cx="853452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grpSp>
        <p:nvGrpSpPr>
          <p:cNvPr id="7" name=""/>
          <p:cNvGrpSpPr/>
          <p:nvPr/>
        </p:nvGrpSpPr>
        <p:grpSpPr>
          <a:xfrm>
            <a:off x="257040" y="6203880"/>
            <a:ext cx="2516400" cy="459720"/>
            <a:chOff x="257040" y="6203880"/>
            <a:chExt cx="2516400" cy="459720"/>
          </a:xfrm>
        </p:grpSpPr>
        <p:sp>
          <p:nvSpPr>
            <p:cNvPr id="8" name=""/>
            <p:cNvSpPr/>
            <p:nvPr/>
          </p:nvSpPr>
          <p:spPr>
            <a:xfrm flipV="1">
              <a:off x="365040" y="6605280"/>
              <a:ext cx="2378160" cy="4680"/>
            </a:xfrm>
            <a:prstGeom prst="line">
              <a:avLst/>
            </a:prstGeom>
            <a:ln w="12600">
              <a:solidFill>
                <a:srgbClr val="010000"/>
              </a:solidFill>
              <a:miter/>
            </a:ln>
          </p:spPr>
          <p:style>
            <a:lnRef idx="0"/>
            <a:fillRef idx="0"/>
            <a:effectRef idx="0"/>
            <a:fontRef idx="minor"/>
          </p:style>
          <p:txBody>
            <a:bodyPr lIns="90000" rIns="90000" tIns="-42120" bIns="-42120" anchor="ctr">
              <a:noAutofit/>
            </a:bodyPr>
            <a:p>
              <a:endParaRPr b="0" lang="en-US" sz="2400" spc="-1" strike="noStrike">
                <a:solidFill>
                  <a:srgbClr val="dee3ee"/>
                </a:solidFill>
                <a:latin typeface="Times New Roman"/>
              </a:endParaRPr>
            </a:p>
          </p:txBody>
        </p:sp>
        <p:sp>
          <p:nvSpPr>
            <p:cNvPr id="9" name=""/>
            <p:cNvSpPr/>
            <p:nvPr/>
          </p:nvSpPr>
          <p:spPr>
            <a:xfrm>
              <a:off x="330120" y="6581880"/>
              <a:ext cx="2443320" cy="1440"/>
            </a:xfrm>
            <a:prstGeom prst="line">
              <a:avLst/>
            </a:prstGeom>
            <a:ln w="12600">
              <a:solidFill>
                <a:srgbClr val="010000"/>
              </a:solidFill>
              <a:miter/>
            </a:ln>
          </p:spPr>
          <p:style>
            <a:lnRef idx="0"/>
            <a:fillRef idx="0"/>
            <a:effectRef idx="0"/>
            <a:fontRef idx="minor"/>
          </p:style>
          <p:txBody>
            <a:bodyPr lIns="90000" rIns="90000" tIns="-45360" bIns="-45360" anchor="ctr">
              <a:noAutofit/>
            </a:bodyPr>
            <a:p>
              <a:endParaRPr b="0" lang="en-US" sz="2400" spc="-1" strike="noStrike">
                <a:solidFill>
                  <a:srgbClr val="dee3ee"/>
                </a:solidFill>
                <a:latin typeface="Times New Roman"/>
              </a:endParaRPr>
            </a:p>
          </p:txBody>
        </p:sp>
        <p:sp>
          <p:nvSpPr>
            <p:cNvPr id="10" name=""/>
            <p:cNvSpPr txBox="1"/>
            <p:nvPr/>
          </p:nvSpPr>
          <p:spPr>
            <a:xfrm>
              <a:off x="1022400" y="6321600"/>
              <a:ext cx="760320" cy="22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0000"/>
                    </a:solidFill>
                    <a:miter/>
                  </a:ln>
                  <a:noFill/>
                  <a:latin typeface="Arial Black"/>
                </a:rPr>
                <a:t>rack</a:t>
              </a:r>
              <a:endParaRPr b="1" i="1" lang="en-US" sz="2400" spc="1" strike="noStrike">
                <a:ln w="9360">
                  <a:solidFill>
                    <a:srgbClr val="ff0000"/>
                  </a:solidFill>
                  <a:miter/>
                </a:ln>
                <a:noFill/>
                <a:latin typeface="Arial Black"/>
                <a:ea typeface="Arial Black"/>
              </a:endParaRPr>
            </a:p>
          </p:txBody>
        </p:sp>
        <p:sp>
          <p:nvSpPr>
            <p:cNvPr id="11" name=""/>
            <p:cNvSpPr/>
            <p:nvPr/>
          </p:nvSpPr>
          <p:spPr>
            <a:xfrm>
              <a:off x="257040" y="6203880"/>
              <a:ext cx="15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Black"/>
                </a:rPr>
                <a:t>NeT</a:t>
              </a:r>
              <a:endParaRPr b="0" lang="en-US" sz="2400" spc="-1" strike="noStrike">
                <a:solidFill>
                  <a:srgbClr val="dee3ee"/>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Click to edit the title text format</a:t>
            </a:r>
            <a:endParaRPr b="1" lang="en-US" sz="6600" spc="-1" strike="noStrike">
              <a:solidFill>
                <a:srgbClr val="ffffff"/>
              </a:solidFill>
              <a:latin typeface="Arial Narrow"/>
            </a:endParaRPr>
          </a:p>
        </p:txBody>
      </p:sp>
      <p:sp>
        <p:nvSpPr>
          <p:cNvPr id="49" name="PlaceHolder 2"/>
          <p:cNvSpPr>
            <a:spLocks noGrp="1"/>
          </p:cNvSpPr>
          <p:nvPr>
            <p:ph type="dt" idx="4"/>
          </p:nvPr>
        </p:nvSpPr>
        <p:spPr>
          <a:xfrm>
            <a:off x="6550200" y="6248520"/>
            <a:ext cx="181440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Arial"/>
              </a:rPr>
              <a:t>&lt;date/time&gt;</a:t>
            </a:r>
            <a:endParaRPr b="0" lang="en-US" sz="1400" spc="-1" strike="noStrike">
              <a:solidFill>
                <a:srgbClr val="ffffff"/>
              </a:solidFill>
              <a:latin typeface="Times New Roman"/>
            </a:endParaRPr>
          </a:p>
        </p:txBody>
      </p:sp>
      <p:sp>
        <p:nvSpPr>
          <p:cNvPr id="50" name="PlaceHolder 3"/>
          <p:cNvSpPr>
            <a:spLocks noGrp="1"/>
          </p:cNvSpPr>
          <p:nvPr>
            <p:ph type="ftr" idx="5"/>
          </p:nvPr>
        </p:nvSpPr>
        <p:spPr>
          <a:xfrm>
            <a:off x="353988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Arial"/>
              </a:rPr>
              <a:t>&lt;footer&gt;</a:t>
            </a:r>
            <a:endParaRPr b="0" lang="en-US" sz="1400" spc="-1" strike="noStrike">
              <a:solidFill>
                <a:srgbClr val="ffffff"/>
              </a:solidFill>
              <a:latin typeface="Times New Roman"/>
            </a:endParaRPr>
          </a:p>
        </p:txBody>
      </p:sp>
      <p:sp>
        <p:nvSpPr>
          <p:cNvPr id="51" name="PlaceHolder 4"/>
          <p:cNvSpPr>
            <a:spLocks noGrp="1"/>
          </p:cNvSpPr>
          <p:nvPr>
            <p:ph type="sldNum" idx="6"/>
          </p:nvPr>
        </p:nvSpPr>
        <p:spPr>
          <a:xfrm>
            <a:off x="8353080" y="6248520"/>
            <a:ext cx="56196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228D1-C3CB-46DE-8AAB-855DD71AD422}" type="slidenum">
              <a:rPr b="0" lang="en-US" sz="1400" spc="-1" strike="noStrike">
                <a:solidFill>
                  <a:srgbClr val="ffcc99"/>
                </a:solidFill>
                <a:latin typeface="Arial"/>
              </a:rPr>
              <a:t>&lt;number&gt;</a:t>
            </a:fld>
            <a:endParaRPr b="0" lang="en-US" sz="1400" spc="-1" strike="noStrike">
              <a:solidFill>
                <a:srgbClr val="ffffff"/>
              </a:solidFill>
              <a:latin typeface="Times New Roman"/>
            </a:endParaRPr>
          </a:p>
        </p:txBody>
      </p:sp>
      <p:sp>
        <p:nvSpPr>
          <p:cNvPr id="52" name=""/>
          <p:cNvSpPr/>
          <p:nvPr/>
        </p:nvSpPr>
        <p:spPr>
          <a:xfrm>
            <a:off x="415800" y="1474920"/>
            <a:ext cx="853452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53" name=""/>
          <p:cNvSpPr/>
          <p:nvPr/>
        </p:nvSpPr>
        <p:spPr>
          <a:xfrm>
            <a:off x="380880" y="1440000"/>
            <a:ext cx="853452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grpSp>
        <p:nvGrpSpPr>
          <p:cNvPr id="54" name=""/>
          <p:cNvGrpSpPr/>
          <p:nvPr/>
        </p:nvGrpSpPr>
        <p:grpSpPr>
          <a:xfrm>
            <a:off x="453600" y="749160"/>
            <a:ext cx="2775240" cy="825120"/>
            <a:chOff x="453600" y="749160"/>
            <a:chExt cx="2775240" cy="825120"/>
          </a:xfrm>
        </p:grpSpPr>
        <p:sp>
          <p:nvSpPr>
            <p:cNvPr id="55" name=""/>
            <p:cNvSpPr/>
            <p:nvPr/>
          </p:nvSpPr>
          <p:spPr>
            <a:xfrm>
              <a:off x="453600" y="749160"/>
              <a:ext cx="1380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Arial Black"/>
                </a:rPr>
                <a:t>NeT </a:t>
              </a:r>
              <a:endParaRPr b="0" lang="en-US" sz="4800" spc="-1" strike="noStrike">
                <a:solidFill>
                  <a:srgbClr val="dee3ee"/>
                </a:solidFill>
                <a:latin typeface="Times New Roman"/>
              </a:endParaRPr>
            </a:p>
          </p:txBody>
        </p:sp>
        <p:sp>
          <p:nvSpPr>
            <p:cNvPr id="56" name=""/>
            <p:cNvSpPr txBox="1"/>
            <p:nvPr/>
          </p:nvSpPr>
          <p:spPr>
            <a:xfrm>
              <a:off x="1739880" y="903240"/>
              <a:ext cx="1488960" cy="47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2600">
                    <a:solidFill>
                      <a:srgbClr val="ff0000"/>
                    </a:solidFill>
                    <a:miter/>
                  </a:ln>
                  <a:noFill/>
                  <a:latin typeface="Arial Black"/>
                </a:rPr>
                <a:t>rack</a:t>
              </a:r>
              <a:endParaRPr b="0" i="1" lang="en-US" sz="2400" spc="1" strike="noStrike">
                <a:ln w="12600">
                  <a:solidFill>
                    <a:srgbClr val="ff0000"/>
                  </a:solidFill>
                  <a:miter/>
                </a:ln>
                <a:noFill/>
                <a:latin typeface="Arial Black"/>
                <a:ea typeface="Arial Black"/>
              </a:endParaRPr>
            </a:p>
          </p:txBody>
        </p:sp>
      </p:gr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cc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dee3ee"/>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dee3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dee3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barb@netrack.net" TargetMode="External"/><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ISP System Administration</a:t>
            </a:r>
            <a:endParaRPr b="1" lang="en-US" sz="6600" spc="-1" strike="noStrike">
              <a:solidFill>
                <a:srgbClr val="ffffff"/>
              </a:solidFill>
              <a:latin typeface="Arial Narrow"/>
            </a:endParaRPr>
          </a:p>
        </p:txBody>
      </p:sp>
      <p:sp>
        <p:nvSpPr>
          <p:cNvPr id="102"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ul Kooros</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ooros@Kooros.COM</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COT 2001</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uala Lumpur, Malays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onfig Language Comments</a:t>
            </a:r>
            <a:endParaRPr b="1" lang="en-US" sz="4800" spc="-1" strike="noStrike">
              <a:solidFill>
                <a:srgbClr val="ffffff"/>
              </a:solidFill>
              <a:latin typeface="Arial Narrow"/>
            </a:endParaRPr>
          </a:p>
        </p:txBody>
      </p:sp>
      <p:sp>
        <p:nvSpPr>
          <p:cNvPr id="12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ents can be C style, C++ style or shell styl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xxx type, one line onl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xxx */ type, may span multiple lines, cannot be nested</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xxx type, also only one lin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does not begin a comment, instead it ends a statemen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21A87F3-2E4F-4510-9884-1706A5FEB5A7}" type="slidenum">
              <a:t>1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ser/System Ratio examples</a:t>
            </a:r>
            <a:endParaRPr b="1" lang="en-US" sz="4800" spc="-1" strike="noStrike">
              <a:solidFill>
                <a:srgbClr val="ffffff"/>
              </a:solidFill>
              <a:latin typeface="Arial Narrow"/>
            </a:endParaRPr>
          </a:p>
        </p:txBody>
      </p:sp>
      <p:sp>
        <p:nvSpPr>
          <p:cNvPr id="35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web 4 % vmstat 5</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procs     memory      page                     disks      faults      cpu</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r  b w    avm    fre  flt  re  pi  po  fr  sr  s0  s1   in   sy  cs us sy  id</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2 0 331940  19432  194  35  24   0   0   2   5   9  223 1005 421 25 13  63</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9  2 0 338552  18652  548  86  51   0   0   0  25  24  509 3317 1113 41 46  13</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3 0 335352  20432  288  40  50   0   0   0  27   4  392 2508 1176 22 30  48</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2 0 331612  20668  318  87  58   0   0   0  10  22  375 1668 1147 15 25  60</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2 0 331060  20884  171  52  40   0   0   0   2   4  317 1294 1010 12 22  67</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43  2 0 329908  20528  293  68  64   0   0   0   0  16  351 1773 1145 21 29  50</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  2 0 331760  18140  285  41  45   0   0   0   1   6  377 1876 1360 59 34   6</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  2 0 336168  14844  397  58  57   0   0   0  12  21  384 1774 1150 63 37   0</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web2b % vmstat 5</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procs     memory      page                     disks      faults      cpu</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r  b w    avm    fre  flt  re  pi  po  fr  sr  s0  s1   in   sy  cs us sy  id</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0 0 151484 107772  102  38   2   0   0   0  22   9  109  156 165 22 15  63</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0 0 149888 108540  854 112   7   0   0   0   7   6  917 4951 5802 13 39  48</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8 0 151108 108212  509  75   4   0   0   0  32  32  763 3089 3574  8 23  69</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  0 0 152688 107344  610  44   5   0   0   0  34  11  834 3767 3718 12 28  60</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0 0 153276 107344  527  38   3   0   0   0   5   5  841 4176 4174  7 27  66</a:t>
            </a:r>
            <a:endParaRPr b="0" lang="en-US" sz="12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  0 0 148660 107264  432  23   4   0   0   0   7   6  814 4251 3108 11 21  6</a:t>
            </a: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C2A9BDC-5C2B-49F2-BA16-A107E6A1C6D0}" type="slidenum">
              <a:t>10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vmstat, cont.</a:t>
            </a:r>
            <a:endParaRPr b="1" lang="en-US" sz="4800" spc="-1" strike="noStrike">
              <a:solidFill>
                <a:srgbClr val="ffffff"/>
              </a:solidFill>
              <a:latin typeface="Arial Narrow"/>
            </a:endParaRPr>
          </a:p>
        </p:txBody>
      </p:sp>
      <p:sp>
        <p:nvSpPr>
          <p:cNvPr id="36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6000"/>
          </a:bodyPr>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ed headings</a:t>
            </a:r>
            <a:endParaRPr b="0" lang="en-US" sz="2000" spc="-1" strike="noStrike">
              <a:solidFill>
                <a:srgbClr val="ffffff"/>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s is process states</a:t>
            </a:r>
            <a:endParaRPr b="0" lang="en-US" sz="1800" spc="-1" strike="noStrike">
              <a:solidFill>
                <a:srgbClr val="ffffff"/>
              </a:solidFill>
              <a:latin typeface="Arial"/>
            </a:endParaRPr>
          </a:p>
          <a:p>
            <a:pPr lvl="2" marL="1097280" indent="-21924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runnable, should not have spikes</a:t>
            </a:r>
            <a:endParaRPr b="0" lang="en-US" sz="1600" spc="-1" strike="noStrike">
              <a:solidFill>
                <a:srgbClr val="ffffff"/>
              </a:solidFill>
              <a:latin typeface="Arial"/>
            </a:endParaRPr>
          </a:p>
          <a:p>
            <a:pPr lvl="2" marL="1097280" indent="-21924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 blocked</a:t>
            </a:r>
            <a:endParaRPr b="0" lang="en-US" sz="1600" spc="-1" strike="noStrike">
              <a:solidFill>
                <a:srgbClr val="ffffff"/>
              </a:solidFill>
              <a:latin typeface="Arial"/>
            </a:endParaRPr>
          </a:p>
          <a:p>
            <a:pPr lvl="2" marL="1097280" indent="-21924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 - swapped, if this is non-zero, buy more memory</a:t>
            </a:r>
            <a:endParaRPr b="0" lang="en-US" sz="1600" spc="-1" strike="noStrike">
              <a:solidFill>
                <a:srgbClr val="ffffff"/>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is state the cpu is running in</a:t>
            </a:r>
            <a:endParaRPr b="0" lang="en-US" sz="1800" spc="-1" strike="noStrike">
              <a:solidFill>
                <a:srgbClr val="ffffff"/>
              </a:solidFill>
              <a:latin typeface="Arial"/>
            </a:endParaRPr>
          </a:p>
          <a:p>
            <a:pPr lvl="2" marL="1097280" indent="-21924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 - user time, executing your programs instructions</a:t>
            </a:r>
            <a:endParaRPr b="0" lang="en-US" sz="1600" spc="-1" strike="noStrike">
              <a:solidFill>
                <a:srgbClr val="ffffff"/>
              </a:solidFill>
              <a:latin typeface="Arial"/>
            </a:endParaRPr>
          </a:p>
          <a:p>
            <a:pPr lvl="2" marL="1097280" indent="-21924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 - system time spent on your behalf, usually i/o</a:t>
            </a:r>
            <a:endParaRPr b="0" lang="en-US" sz="1600" spc="-1" strike="noStrike">
              <a:solidFill>
                <a:srgbClr val="ffffff"/>
              </a:solidFill>
              <a:latin typeface="Arial"/>
            </a:endParaRPr>
          </a:p>
          <a:p>
            <a:pPr lvl="2" marL="1097280" indent="-21924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 - idle time, deceptive, it measures when the cpu cannot do anything to move processes forward, might be waiting for disk or network</a:t>
            </a:r>
            <a:endParaRPr b="0" lang="en-US" sz="1600" spc="-1" strike="noStrike">
              <a:solidFill>
                <a:srgbClr val="ffffff"/>
              </a:solidFill>
              <a:latin typeface="Arial"/>
            </a:endParaRPr>
          </a:p>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I/O-bound machines really are in need of more RAM</a:t>
            </a:r>
            <a:endParaRPr b="0" lang="en-US" sz="2000" spc="-1" strike="noStrike">
              <a:solidFill>
                <a:srgbClr val="ffffff"/>
              </a:solidFill>
              <a:latin typeface="Arial"/>
            </a:endParaRPr>
          </a:p>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2b - I/O bound, 5 million hits/day</a:t>
            </a:r>
            <a:endParaRPr b="0" lang="en-US" sz="2000" spc="-1" strike="noStrike">
              <a:solidFill>
                <a:srgbClr val="ffffff"/>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s more disk controllers</a:t>
            </a:r>
            <a:endParaRPr b="0" lang="en-US" sz="1800" spc="-1" strike="noStrike">
              <a:solidFill>
                <a:srgbClr val="ffffff"/>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s more disk arms</a:t>
            </a:r>
            <a:endParaRPr b="0" lang="en-US" sz="1800" spc="-1" strike="noStrike">
              <a:solidFill>
                <a:srgbClr val="ffffff"/>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s more network interface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EBF6CEC-E85D-497C-A949-B5251B49A3CE}" type="slidenum">
              <a:t>10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uning somaxconn - symptoms</a:t>
            </a:r>
            <a:endParaRPr b="1" lang="en-US" sz="4800" spc="-1" strike="noStrike">
              <a:solidFill>
                <a:srgbClr val="ffffff"/>
              </a:solidFill>
              <a:latin typeface="Arial Narrow"/>
            </a:endParaRPr>
          </a:p>
        </p:txBody>
      </p:sp>
      <p:sp>
        <p:nvSpPr>
          <p:cNvPr id="36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a "good day" (i.e., when IP connectivity to most locations is stable), the web server is happy as a clam</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bad days, users often see "server is down or unreachable" or broken images, even when reachability to their site isn't affected</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ine load average is low </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bad" times, "telnet localhost 80" times out</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service is not in use (no reverse lookups for connection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A0E902D-6E2A-433F-A87E-5C680D705791}" type="slidenum">
              <a:t>10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uning somaxconn</a:t>
            </a:r>
            <a:endParaRPr b="1" lang="en-US" sz="4800" spc="-1" strike="noStrike">
              <a:solidFill>
                <a:srgbClr val="ffffff"/>
              </a:solidFill>
              <a:latin typeface="Arial Narrow"/>
            </a:endParaRPr>
          </a:p>
        </p:txBody>
      </p:sp>
      <p:sp>
        <p:nvSpPr>
          <p:cNvPr id="36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dump(1) of traffic inbound to the web server show that  connection requests arrived (SYN) and are acknowledged (SYN-ACK) but open acknowledgement (ACK) isn't received by web server from remote host</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stat -a -n" shows that a number of connections in SYN_RCVD state</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stat -a -n | grep tcp | awk '{print $6}' | sort | uniq -c"  always shows 5 connections in this state during the bad times,  a smaller number in good time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ons in this state tie up a slot in the "unaccepted socket queue", often referred to as the listen() queue</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ize of this queue needs to be adjusted on machines, such as web servers or mail hubs, that have lots of contact with the outside world</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ing this queue helps deal with SYN flooding attack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CFBD670-1001-4DEC-9115-4778CBB92BC1}" type="slidenum">
              <a:t>10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omaxconn - The Fix</a:t>
            </a:r>
            <a:endParaRPr b="1" lang="en-US" sz="4800" spc="-1" strike="noStrike">
              <a:solidFill>
                <a:srgbClr val="ffffff"/>
              </a:solidFill>
              <a:latin typeface="Arial Narrow"/>
            </a:endParaRPr>
          </a:p>
        </p:txBody>
      </p:sp>
      <p:sp>
        <p:nvSpPr>
          <p:cNvPr id="36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Solaris, you can adjust the size of this queue with the ndd(1m) command:</a:t>
            </a:r>
            <a:endParaRPr b="0" lang="en-US" sz="2000" spc="-1" strike="noStrike">
              <a:solidFill>
                <a:srgbClr val="ffffff"/>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ndd -set /dev/tcp tcp_conn_req_max 32</a:t>
            </a:r>
            <a:endParaRPr b="0" lang="en-US" sz="14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der IRIX, modify the value of </a:t>
            </a:r>
            <a:r>
              <a:rPr b="1" lang="en-US" sz="2000" spc="-1" strike="noStrike">
                <a:solidFill>
                  <a:srgbClr val="ffffff"/>
                </a:solidFill>
                <a:latin typeface="Courier New"/>
              </a:rPr>
              <a:t>somaxconn</a:t>
            </a:r>
            <a:r>
              <a:rPr b="0" lang="en-US" sz="2000" spc="-1" strike="noStrike">
                <a:solidFill>
                  <a:srgbClr val="ffffff"/>
                </a:solidFill>
                <a:latin typeface="Arial"/>
              </a:rPr>
              <a:t> in /var/sysgen/master.d/bsd:</a:t>
            </a:r>
            <a:endParaRPr b="0" lang="en-US" sz="20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int somaxconn = 32;</a:t>
            </a:r>
            <a:endParaRPr b="0" lang="en-US" sz="14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der BSD/OS, you can declare it as an option in your kernel config file:</a:t>
            </a:r>
            <a:endParaRPr b="0" lang="en-US" sz="20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ptions "SOMAXCONN=32"</a:t>
            </a:r>
            <a:endParaRPr b="0" lang="en-US" sz="14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der SunOS, you have to replace/edit uipc_socket.o</a:t>
            </a:r>
            <a:endParaRPr b="0" lang="en-US" sz="2000" spc="-1" strike="noStrike">
              <a:solidFill>
                <a:srgbClr val="ffffff"/>
              </a:solidFill>
              <a:latin typeface="Arial"/>
            </a:endParaRPr>
          </a:p>
          <a:p>
            <a:pPr lvl="1" marL="735480" indent="-28296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somaxconn=5 on SunOS 4.1.3</a:t>
            </a:r>
            <a:endParaRPr b="0" lang="en-US" sz="1800" spc="-1" strike="noStrike">
              <a:solidFill>
                <a:srgbClr val="ffffff"/>
              </a:solidFill>
              <a:latin typeface="Arial"/>
            </a:endParaRPr>
          </a:p>
          <a:p>
            <a:pPr lvl="1" marL="735480" indent="-282960">
              <a:lnSpc>
                <a:spcPct val="90000"/>
              </a:lnSpc>
              <a:spcBef>
                <a:spcPts val="400"/>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details, see </a:t>
            </a:r>
            <a:r>
              <a:rPr b="1" lang="en-US" sz="1600" spc="-1" strike="noStrike">
                <a:solidFill>
                  <a:srgbClr val="ffffff"/>
                </a:solidFill>
                <a:latin typeface="Courier New"/>
              </a:rPr>
              <a:t>http://www1.islandnet.com/~mark/somaxconn.html</a:t>
            </a:r>
            <a:endParaRPr b="0" lang="en-US" sz="1600" spc="-1" strike="noStrike">
              <a:solidFill>
                <a:srgbClr val="ffffff"/>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program to change uipc_socket.o</a:t>
            </a:r>
            <a:endParaRPr b="0" lang="en-US" sz="1600" spc="-1" strike="noStrike">
              <a:solidFill>
                <a:srgbClr val="ffffff"/>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te offsets to use adb or an editor to change</a:t>
            </a:r>
            <a:endParaRPr b="0" lang="en-US" sz="1600" spc="-1" strike="noStrike">
              <a:solidFill>
                <a:srgbClr val="ffffff"/>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fferences in the od (octal dump) output before and after the fix</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6677362-82B0-409E-B08B-CFF398861BB3}" type="slidenum">
              <a:t>10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NS reverse lookups</a:t>
            </a:r>
            <a:endParaRPr b="1" lang="en-US" sz="4800" spc="-1" strike="noStrike">
              <a:solidFill>
                <a:srgbClr val="ffffff"/>
              </a:solidFill>
              <a:latin typeface="Arial Narrow"/>
            </a:endParaRPr>
          </a:p>
        </p:txBody>
      </p:sp>
      <p:sp>
        <p:nvSpPr>
          <p:cNvPr id="36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N OFF DNS reverse lookups on your machine (web server) entirely</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if you have the cycles to do it, mis-configured user sites will introduce false delay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need the information from reverse lookups, consider processing the log files on a separate machine to do this (PERL).</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statslab.cam.ac.uk/~sret1/analog/ tool for reverse lookups</a:t>
            </a:r>
            <a:endParaRPr b="0" lang="en-US" sz="20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try to do all web access control (.htaccess, access.conf) using IP addresse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ache comes with a utility, libresolv, that does it efficiently</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CBC7FBC-ED1B-4DC4-9041-EBE430889B86}" type="slidenum">
              <a:t>105</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iostat</a:t>
            </a:r>
            <a:endParaRPr b="1" lang="en-US" sz="4800" spc="-1" strike="noStrike">
              <a:solidFill>
                <a:srgbClr val="ffffff"/>
              </a:solidFill>
              <a:latin typeface="Arial Narrow"/>
            </a:endParaRPr>
          </a:p>
        </p:txBody>
      </p:sp>
      <p:sp>
        <p:nvSpPr>
          <p:cNvPr id="37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s terminal and disk I/O activity</a:t>
            </a:r>
            <a:endParaRPr b="0" lang="en-US" sz="2000" spc="-1" strike="noStrike">
              <a:solidFill>
                <a:srgbClr val="ffffff"/>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minals</a:t>
            </a:r>
            <a:endParaRPr b="0" lang="en-US" sz="18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n - number of characters in</a:t>
            </a:r>
            <a:endParaRPr b="0" lang="en-US" sz="16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ut - number of characters out</a:t>
            </a:r>
            <a:endParaRPr b="0" lang="en-US" sz="1600" spc="-1" strike="noStrike">
              <a:solidFill>
                <a:srgbClr val="ffffff"/>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ks</a:t>
            </a:r>
            <a:endParaRPr b="0" lang="en-US" sz="18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ps or sps - blocks/sectors transferred per second</a:t>
            </a:r>
            <a:endParaRPr b="0" lang="en-US" sz="16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ps - transfers per second</a:t>
            </a:r>
            <a:endParaRPr b="0" lang="en-US" sz="16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ps - average milliseconds per seek</a:t>
            </a:r>
            <a:endParaRPr b="0" lang="en-US" sz="16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ty          sd0           sd1          nfs1          nfs2          cpu</a:t>
            </a:r>
            <a:endParaRPr b="0" lang="en-US" sz="12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tin tout kps tps serv  kps tps serv  kps tps serv  kps tps serv  us sy wt id</a:t>
            </a:r>
            <a:endParaRPr b="0" lang="en-US" sz="12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0   1   0   21    6   1   34    0   0    0    0   0    0   0  0  0 99</a:t>
            </a:r>
            <a:endParaRPr b="0" lang="en-US" sz="12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47   0   0    0   18   2   61    0   0    0    0   0    0   0  0  0 100</a:t>
            </a:r>
            <a:endParaRPr b="0" lang="en-US" sz="12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16   0   0    0    3   0   15    0   0    0    0   0    0   0  0  0 100</a:t>
            </a:r>
            <a:endParaRPr b="0" lang="en-US" sz="12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16  56   7  226   21   3   48    0   0    0    0   0    0   0  0  1 99</a:t>
            </a:r>
            <a:endParaRPr b="0" lang="en-US" sz="12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16   0   0    0    0   0    0    0   0    0    0   0    0   0  0  0 100</a:t>
            </a:r>
            <a:endParaRPr b="0" lang="en-US" sz="1200" spc="-1" strike="noStrike">
              <a:solidFill>
                <a:srgbClr val="ffffff"/>
              </a:solidFill>
              <a:latin typeface="Arial"/>
            </a:endParaRPr>
          </a:p>
          <a:p>
            <a:pPr marL="332640" indent="-3326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stat Example, lollipop, Solaris 2.6</a:t>
            </a:r>
            <a:endParaRPr b="0" lang="en-US" sz="2000" spc="-1" strike="noStrike">
              <a:solidFill>
                <a:srgbClr val="ffffff"/>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use this data to balance disk load across disk arms and controller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192C8D0-A5B8-4979-8F81-1952422EE88B}" type="slidenum">
              <a:t>10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nother iostat Example</a:t>
            </a:r>
            <a:endParaRPr b="1" lang="en-US" sz="4800" spc="-1" strike="noStrike">
              <a:solidFill>
                <a:srgbClr val="ffffff"/>
              </a:solidFill>
              <a:latin typeface="Arial Narrow"/>
            </a:endParaRPr>
          </a:p>
        </p:txBody>
      </p:sp>
      <p:sp>
        <p:nvSpPr>
          <p:cNvPr id="373"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fontScale="99000"/>
          </a:bodyPr>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tty          sd0           sd1           sd2          cpu</a:t>
            </a:r>
            <a:endParaRPr b="0" lang="en-US" sz="1400" spc="-1" strike="noStrike">
              <a:solidFill>
                <a:srgbClr val="ffffff"/>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tin tout sps tps msps  sps tps msps  sps tps msps  us ni sy in id</a:t>
            </a:r>
            <a:endParaRPr b="0" lang="en-US" sz="1400" spc="-1" strike="noStrike">
              <a:solidFill>
                <a:srgbClr val="ffffff"/>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0   62  58   5 12.6  133   9  8.8  136  10  8.8  24  0 13  0 63</a:t>
            </a:r>
            <a:endParaRPr b="0" lang="en-US" sz="1400" spc="-1" strike="noStrike">
              <a:solidFill>
                <a:srgbClr val="ffffff"/>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0   14  39   3 18.8   81   8 11.8  336  11 10.6  54  0 32  0 14</a:t>
            </a:r>
            <a:endParaRPr b="0" lang="en-US" sz="1400" spc="-1" strike="noStrike">
              <a:solidFill>
                <a:srgbClr val="ffffff"/>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7   48 158  11 11.8   88   7 12.3  126   5 10.3  13  0 24  0 63</a:t>
            </a:r>
            <a:endParaRPr b="0" lang="en-US" sz="1400" spc="-1" strike="noStrike">
              <a:solidFill>
                <a:srgbClr val="ffffff"/>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3   83  42   4 10.5   48   3  7.6   93   2 14.4  37  0 32  0 31</a:t>
            </a:r>
            <a:endParaRPr b="0" lang="en-US" sz="1400" spc="-1" strike="noStrike">
              <a:solidFill>
                <a:srgbClr val="ffffff"/>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3   39 152  11 14.7  524  38  9.0  318  19 10.4  49  0 43  0  7</a:t>
            </a:r>
            <a:endParaRPr b="0" lang="en-US" sz="1400" spc="-1" strike="noStrike">
              <a:solidFill>
                <a:srgbClr val="ffffff"/>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1   26 237  29 13.7  338  28 10.0   98   6 11.0  45  0 39  0 16</a:t>
            </a:r>
            <a:endParaRPr b="0" lang="en-US" sz="1400" spc="-1" strike="noStrike">
              <a:solidFill>
                <a:srgbClr val="ffffff"/>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3   37 125  14 14.1   44   7 11.9  101   6 10.2  50  0 45  0  4</a:t>
            </a:r>
            <a:endParaRPr b="0" lang="en-US" sz="14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web4, BSD/OS</a:t>
            </a:r>
            <a:endParaRPr b="0" lang="en-US" sz="20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id storage for web servers</a:t>
            </a:r>
            <a:endParaRPr b="0" lang="en-US" sz="2000" spc="-1" strike="noStrike">
              <a:solidFill>
                <a:srgbClr val="ffffff"/>
              </a:solidFill>
              <a:latin typeface="Arial"/>
            </a:endParaRPr>
          </a:p>
          <a:p>
            <a:pPr lvl="1" marL="735480" indent="-28296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ware raid requires CPU and overhead</a:t>
            </a:r>
            <a:endParaRPr b="0" lang="en-US" sz="1800" spc="-1" strike="noStrike">
              <a:solidFill>
                <a:srgbClr val="ffffff"/>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good for web servers</a:t>
            </a:r>
            <a:endParaRPr b="0" lang="en-US" sz="1600" spc="-1" strike="noStrike">
              <a:solidFill>
                <a:srgbClr val="ffffff"/>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ives reliability</a:t>
            </a:r>
            <a:endParaRPr b="0" lang="en-US" sz="1600" spc="-1" strike="noStrike">
              <a:solidFill>
                <a:srgbClr val="ffffff"/>
              </a:solidFill>
              <a:latin typeface="Arial"/>
            </a:endParaRPr>
          </a:p>
          <a:p>
            <a:pPr lvl="1" marL="735480" indent="-28296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raid real win in performance</a:t>
            </a:r>
            <a:endParaRPr b="0" lang="en-US" sz="1800" spc="-1" strike="noStrike">
              <a:solidFill>
                <a:srgbClr val="ffffff"/>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lots on the market</a:t>
            </a:r>
            <a:endParaRPr b="0" lang="en-US" sz="1600" spc="-1" strike="noStrike">
              <a:solidFill>
                <a:srgbClr val="ffffff"/>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d one that focuses on performance not reliability</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0F5FCD2-D2CD-42C9-B1F8-7FB7DF5FED05}" type="slidenum">
              <a:t>10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Virtual Adrian</a:t>
            </a:r>
            <a:endParaRPr b="1" lang="en-US" sz="4800" spc="-1" strike="noStrike">
              <a:solidFill>
                <a:srgbClr val="ffffff"/>
              </a:solidFill>
              <a:latin typeface="Arial Narrow"/>
            </a:endParaRPr>
          </a:p>
        </p:txBody>
      </p:sp>
      <p:sp>
        <p:nvSpPr>
          <p:cNvPr id="37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is users can benefit from the efforts of Adrian Cockcroft who documents and improves Solaris performanc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rian has a book out  "System and Performance Tuning: SPARC and Solaris (Sunsoft Press)" that documents many trick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 "Virtual Adrian" SE performance tool is available on the web from www.sun.com</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7D0F2A6-B1B9-4AE0-A104-79FD8CC9A584}" type="slidenum">
              <a:t>10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Other Kernel Parameters</a:t>
            </a:r>
            <a:endParaRPr b="1" lang="en-US" sz="4800" spc="-1" strike="noStrike">
              <a:solidFill>
                <a:srgbClr val="ffffff"/>
              </a:solidFill>
              <a:latin typeface="Arial Narrow"/>
            </a:endParaRPr>
          </a:p>
        </p:txBody>
      </p:sp>
      <p:sp>
        <p:nvSpPr>
          <p:cNvPr id="37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users determines a number of other kernel parameters: </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 of processes </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 of processes per user </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wide open files limit </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process open files limit </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 of mbuf clusters </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pgrp hash table size </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ndors set MAXUSERS at 8, 16 or maybe 32</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ious web server needs it at 512</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9A26207-52FD-4A34-84A2-4275AC5987BB}" type="slidenum">
              <a:t>10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onfig Language Statements</a:t>
            </a:r>
            <a:endParaRPr b="1" lang="en-US" sz="4800" spc="-1" strike="noStrike">
              <a:solidFill>
                <a:srgbClr val="ffffff"/>
              </a:solidFill>
              <a:latin typeface="Arial Narrow"/>
            </a:endParaRPr>
          </a:p>
        </p:txBody>
      </p:sp>
      <p:sp>
        <p:nvSpPr>
          <p:cNvPr id="12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l - defines access control lists of IP addresses and says what they can do</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 - includes a file, so zone files can stay neat and tid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 specifies key information for authentication</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ging - specifies what to log wher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s - specifies global configuration options, sets default valu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 - per server option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e - defines a zon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E20E318-5164-4D52-9D09-C43633E77A3F}" type="slidenum">
              <a:t>1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Parameters, cont.</a:t>
            </a:r>
            <a:endParaRPr b="1" lang="en-US" sz="4800" spc="-1" strike="noStrike">
              <a:solidFill>
                <a:srgbClr val="ffffff"/>
              </a:solidFill>
              <a:latin typeface="Arial Narrow"/>
            </a:endParaRPr>
          </a:p>
        </p:txBody>
      </p:sp>
      <p:sp>
        <p:nvSpPr>
          <p:cNvPr id="379"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MBCLUSTERS defines and number of mbuf clusters - defaults to 256. </a:t>
            </a:r>
            <a:endParaRPr b="0" lang="en-US" sz="20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changing this to something like 4096</a:t>
            </a:r>
            <a:endParaRPr b="0" lang="en-US" sz="18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627/2048 mbufs in use:</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10 mbufs allocated to data</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38 mbufs allocated to packet headers</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184 mbufs allocated to socket structures</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202 mbufs allocated to protocol control blocks</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183 mbufs allocated to routing table entries</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7 mbufs allocated to socket names and addresses</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3 mbufs allocated to interface addresses</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0/28 cluster buffers in use</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284 Kbytes allocated to network (27% in use)</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0 requests for memory denied</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0 requests for memory delayed</a:t>
            </a:r>
            <a:endParaRPr b="0" lang="en-US" sz="1400" spc="-1" strike="noStrike">
              <a:solidFill>
                <a:srgbClr val="ffffff"/>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0 calls to protocol drain routines</a:t>
            </a:r>
            <a:endParaRPr b="0" lang="en-US" sz="14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netstat -m" to determine if this needs to be changed.  </a:t>
            </a:r>
            <a:endParaRPr b="0" lang="en-US" sz="1800" spc="-1" strike="noStrike">
              <a:solidFill>
                <a:srgbClr val="ffffff"/>
              </a:solidFill>
              <a:latin typeface="Arial"/>
            </a:endParaRPr>
          </a:p>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_MAX controls the maximum number of process children</a:t>
            </a:r>
            <a:endParaRPr b="0" lang="en-US" sz="20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ter set this to something like 256</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9817962-DB24-4BAE-9924-C8FDA9FFF802}" type="slidenum">
              <a:t>11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Hardware Candidates</a:t>
            </a:r>
            <a:endParaRPr b="1" lang="en-US" sz="4800" spc="-1" strike="noStrike">
              <a:solidFill>
                <a:srgbClr val="ffffff"/>
              </a:solidFill>
              <a:latin typeface="Arial Narrow"/>
            </a:endParaRPr>
          </a:p>
        </p:txBody>
      </p:sp>
      <p:sp>
        <p:nvSpPr>
          <p:cNvPr id="38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rdware upgrade most likely to cause improved performance is adding more RAM</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balancing load across disk arm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I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rate disk arms for db indexes and data</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ossible, dedicate a separate physical disk for log fil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speed network interfac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speed disk controllers and buss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netstat -i to check for physical network problem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1B4883D-6569-4127-AD11-53AFE3B7FA9E}" type="slidenum">
              <a:t>11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oftware</a:t>
            </a:r>
            <a:endParaRPr b="1" lang="en-US" sz="4800" spc="-1" strike="noStrike">
              <a:solidFill>
                <a:srgbClr val="ffffff"/>
              </a:solidFill>
              <a:latin typeface="Arial Narrow"/>
            </a:endParaRPr>
          </a:p>
        </p:txBody>
      </p:sp>
      <p:sp>
        <p:nvSpPr>
          <p:cNvPr id="38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nt is often the limiting factor</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JPEG for pictur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reduced colorset GIFs for images with just a few colors (less than 32)</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e tune default settings in server</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ep-alive timeout</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 long hogs resources, but too short causes too many tcp setups</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timeou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9EDAE07-C7A2-4EC6-870E-8DF4C361578E}" type="slidenum">
              <a:t>11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WAN Performance</a:t>
            </a:r>
            <a:endParaRPr b="1" lang="en-US" sz="6600" spc="-1" strike="noStrike">
              <a:solidFill>
                <a:srgbClr val="ffffff"/>
              </a:solidFill>
              <a:latin typeface="Arial Narrow"/>
            </a:endParaRPr>
          </a:p>
        </p:txBody>
      </p:sp>
      <p:sp>
        <p:nvSpPr>
          <p:cNvPr id="385"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COT200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oul, South Kore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 Dijke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netrack.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ommercial Platforms</a:t>
            </a:r>
            <a:endParaRPr b="1" lang="en-US" sz="4800" spc="-1" strike="noStrike">
              <a:solidFill>
                <a:srgbClr val="ffffff"/>
              </a:solidFill>
              <a:latin typeface="Arial Narrow"/>
            </a:endParaRPr>
          </a:p>
        </p:txBody>
      </p:sp>
      <p:sp>
        <p:nvSpPr>
          <p:cNvPr id="38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rcial integrated network management platforms (INMP) provide a nice GUI interface to monitoring data</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vendor "drop-ins" customize generic platform interface for specific hardware</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iscoWorks</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pcom drop-in</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others</a:t>
            </a:r>
            <a:endParaRPr b="0" lang="en-US" sz="18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tforms may include capability to notify administrators in case of trouble via email, pager, telephone, etc.</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P's OpenView platform is by far the most mature platform in the industry -- but it still leaves a lot to be desired</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platforms are computing resource intensive -- typically requiring $15K-$20K workstation dedicated to the task</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8C7F77D-10DD-43D6-BB45-B0A5F116324E}" type="slidenum">
              <a:t>11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reely Available Software</a:t>
            </a:r>
            <a:endParaRPr b="1" lang="en-US" sz="4800" spc="-1" strike="noStrike">
              <a:solidFill>
                <a:srgbClr val="ffffff"/>
              </a:solidFill>
              <a:latin typeface="Arial Narrow"/>
            </a:endParaRPr>
          </a:p>
        </p:txBody>
      </p:sp>
      <p:sp>
        <p:nvSpPr>
          <p:cNvPr id="38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NMP Packages and Librarie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U (Carnegie Mellon University), good for C develope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T (Massachusetts Institute of Technology) development ki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 of California, Davis has a relatively new SNMP packag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SNMP package by Simon Leinen</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07F3DDE-D573-4DE1-A335-610D6986400E}" type="slidenum">
              <a:t>115</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reely available software - Cont.</a:t>
            </a:r>
            <a:endParaRPr b="1" lang="en-US" sz="4800" spc="-1" strike="noStrike">
              <a:solidFill>
                <a:srgbClr val="ffffff"/>
              </a:solidFill>
              <a:latin typeface="Arial Narrow"/>
            </a:endParaRPr>
          </a:p>
        </p:txBody>
      </p:sp>
      <p:sp>
        <p:nvSpPr>
          <p:cNvPr id="39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COL/NetConsole (Network Operation Center On-Line) - a network monitoring package that runs on Unix platforms and capable of monitoring network and system variables such as ICMP or RPC reachability, RMON variables, nameservers, Ethernet load, port reachability, host performance, SNMP traps, modem line usage, appletalk &amp; novell routes/services, BGP peers, etc.</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tty - TCL interpreter with extensions for network management; includes tkined, a network editor for drawing maps of network configurations (shipped with BSD/O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4FF3A4C-57EB-49D8-A866-BB90E7AA7015}" type="slidenum">
              <a:t>11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quick, easy, and accurate way</a:t>
            </a:r>
            <a:endParaRPr b="1" lang="en-US" sz="4800" spc="-1" strike="noStrike">
              <a:solidFill>
                <a:srgbClr val="ffffff"/>
              </a:solidFill>
              <a:latin typeface="Arial Narrow"/>
            </a:endParaRPr>
          </a:p>
        </p:txBody>
      </p:sp>
      <p:sp>
        <p:nvSpPr>
          <p:cNvPr id="39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performance measurement through benchmarking</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measurement by historical statistic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data gathering and graphing</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40AF7FC-C796-4775-996A-BC0E239015FE}" type="slidenum">
              <a:t>11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easurement through benchmarking</a:t>
            </a:r>
            <a:endParaRPr b="1" lang="en-US" sz="4800" spc="-1" strike="noStrike">
              <a:solidFill>
                <a:srgbClr val="ffffff"/>
              </a:solidFill>
              <a:latin typeface="Arial Narrow"/>
            </a:endParaRPr>
          </a:p>
        </p:txBody>
      </p:sp>
      <p:sp>
        <p:nvSpPr>
          <p:cNvPr id="39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3000"/>
          </a:bodyPr>
          <a:p>
            <a:pPr marL="318960" indent="-31896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ttcp</a:t>
            </a:r>
            <a:r>
              <a:rPr b="0" lang="en-US" sz="2000" spc="-1" strike="noStrike">
                <a:solidFill>
                  <a:srgbClr val="ffffff"/>
                </a:solidFill>
                <a:latin typeface="Arial"/>
              </a:rPr>
              <a:t> is a benchmarking tool for determining TCP and UDP performance between 2 systems.</a:t>
            </a:r>
            <a:endParaRPr b="0" lang="en-US" sz="2000" spc="-1" strike="noStrike">
              <a:solidFill>
                <a:srgbClr val="ffffff"/>
              </a:solidFill>
              <a:latin typeface="Arial"/>
            </a:endParaRPr>
          </a:p>
          <a:p>
            <a:pPr marL="318960" indent="-31896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ogram was created at the US Army Ballistics Research Lab (BRL) and is in the public domain (</a:t>
            </a:r>
            <a:r>
              <a:rPr b="1" lang="en-US" sz="1400" spc="-1" strike="noStrike">
                <a:solidFill>
                  <a:srgbClr val="ffffff"/>
                </a:solidFill>
                <a:latin typeface="Courier New"/>
              </a:rPr>
              <a:t>ftp://ftp.sgi.com/sgi/src/ttcp/</a:t>
            </a:r>
            <a:r>
              <a:rPr b="0" lang="en-US" sz="2000" spc="-1" strike="noStrike">
                <a:solidFill>
                  <a:srgbClr val="ffffff"/>
                </a:solidFill>
                <a:latin typeface="Arial"/>
              </a:rPr>
              <a:t>)</a:t>
            </a:r>
            <a:endParaRPr b="0" lang="en-US" sz="2000" spc="-1" strike="noStrike">
              <a:solidFill>
                <a:srgbClr val="ffffff"/>
              </a:solidFill>
              <a:latin typeface="Arial"/>
            </a:endParaRPr>
          </a:p>
          <a:p>
            <a:pPr marL="318960" indent="-31896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ice thing about </a:t>
            </a:r>
            <a:r>
              <a:rPr b="1" lang="en-US" sz="2000" spc="-1" strike="noStrike">
                <a:solidFill>
                  <a:srgbClr val="ffffff"/>
                </a:solidFill>
                <a:latin typeface="Courier New"/>
              </a:rPr>
              <a:t>ttcp</a:t>
            </a:r>
            <a:r>
              <a:rPr b="0" lang="en-US" sz="2000" spc="-1" strike="noStrike">
                <a:solidFill>
                  <a:srgbClr val="ffffff"/>
                </a:solidFill>
                <a:latin typeface="Arial"/>
              </a:rPr>
              <a:t> is that it shows the performance of your end-to-end network, no holes barred</a:t>
            </a:r>
            <a:endParaRPr b="0" lang="en-US" sz="2000" spc="-1" strike="noStrike">
              <a:solidFill>
                <a:srgbClr val="ffffff"/>
              </a:solidFill>
              <a:latin typeface="Arial"/>
            </a:endParaRPr>
          </a:p>
          <a:p>
            <a:pPr marL="318960" indent="-31896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basic use</a:t>
            </a:r>
            <a:endParaRPr b="0" lang="en-US" sz="2000" spc="-1" strike="noStrike">
              <a:solidFill>
                <a:srgbClr val="ffffff"/>
              </a:solidFill>
              <a:latin typeface="Arial"/>
            </a:endParaRPr>
          </a:p>
          <a:p>
            <a:pPr lvl="1" marL="690840" indent="-2656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r:  </a:t>
            </a:r>
            <a:r>
              <a:rPr b="1" lang="en-US" sz="1800" spc="-1" strike="noStrike">
                <a:solidFill>
                  <a:srgbClr val="ffffff"/>
                </a:solidFill>
                <a:latin typeface="Courier New"/>
              </a:rPr>
              <a:t>ttcp -r -s</a:t>
            </a:r>
            <a:endParaRPr b="0" lang="en-US" sz="18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tcp-t: buflen=8192, nbuf=2048, align=16384/0, port=5001  tcp  -&gt; xor.com</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tcp-t: socket</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tcp-t: connect</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tcp-t: 16777216 bytes in 19.99 real seconds = 819.55 KB/sec +++</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tcp-t: 2048 I/O calls, msec/call = 10.00, calls/sec = 102.44</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tcp-t: 0.0user 0.6sys 0:20real 3% 0i+0d 0maxrss 0+0pf 11092+2csw</a:t>
            </a:r>
            <a:endParaRPr b="0" lang="en-US" sz="1200" spc="-1" strike="noStrike">
              <a:solidFill>
                <a:srgbClr val="ffffff"/>
              </a:solidFill>
              <a:latin typeface="Arial"/>
            </a:endParaRPr>
          </a:p>
          <a:p>
            <a:pPr lvl="1" marL="690840" indent="-2656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der: </a:t>
            </a:r>
            <a:r>
              <a:rPr b="1" lang="en-US" sz="1800" spc="-1" strike="noStrike">
                <a:solidFill>
                  <a:srgbClr val="ffffff"/>
                </a:solidFill>
                <a:latin typeface="Courier New"/>
              </a:rPr>
              <a:t>ttcp -t -s host</a:t>
            </a:r>
            <a:endParaRPr b="0" lang="en-US" sz="1800" spc="-1" strike="noStrike">
              <a:solidFill>
                <a:srgbClr val="ffffff"/>
              </a:solidFill>
              <a:latin typeface="Arial"/>
            </a:endParaRPr>
          </a:p>
          <a:p>
            <a:pPr lvl="2" marL="1062720" indent="-212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s</a:t>
            </a:r>
            <a:r>
              <a:rPr b="0" lang="en-US" sz="1600" spc="-1" strike="noStrike">
                <a:solidFill>
                  <a:srgbClr val="ffffff"/>
                </a:solidFill>
                <a:latin typeface="Arial"/>
              </a:rPr>
              <a:t> for the receiver means throw away actual data transferred</a:t>
            </a:r>
            <a:endParaRPr b="0" lang="en-US" sz="1600" spc="-1" strike="noStrike">
              <a:solidFill>
                <a:srgbClr val="ffffff"/>
              </a:solidFill>
              <a:latin typeface="Arial"/>
            </a:endParaRPr>
          </a:p>
          <a:p>
            <a:pPr lvl="2" marL="1062720" indent="-212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s</a:t>
            </a:r>
            <a:r>
              <a:rPr b="0" lang="en-US" sz="1600" spc="-1" strike="noStrike">
                <a:solidFill>
                  <a:srgbClr val="ffffff"/>
                </a:solidFill>
                <a:latin typeface="Arial"/>
              </a:rPr>
              <a:t> for the sender means generate random data to send</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BC6007E-D8EC-44DB-A4A6-6E2E867D0C86}" type="slidenum">
              <a:t>11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ancy </a:t>
            </a:r>
            <a:r>
              <a:rPr b="1" lang="en-US" sz="4800" spc="-1" strike="noStrike">
                <a:solidFill>
                  <a:srgbClr val="ffffff"/>
                </a:solidFill>
                <a:latin typeface="Courier New"/>
              </a:rPr>
              <a:t>ttcp</a:t>
            </a:r>
            <a:endParaRPr b="1" lang="en-US" sz="4800" spc="-1" strike="noStrike">
              <a:solidFill>
                <a:srgbClr val="ffffff"/>
              </a:solidFill>
              <a:latin typeface="Arial Narrow"/>
            </a:endParaRPr>
          </a:p>
        </p:txBody>
      </p:sp>
      <p:sp>
        <p:nvSpPr>
          <p:cNvPr id="39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ttcp -t -s -l 64 -n 16384 xor.com</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tcp-t: buflen=64, nbuf=16384, align=16384/0, port=5001  tcp  -&gt; xor.com</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tcp-t: socke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tcp-t: connec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tcp-t: 1048576 bytes in 1.15 real seconds = 890.73 KB/sec +++</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ttcp -t -s -l 1024 -n 16384 xor.com</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tcp-t: buflen=1024, nbuf=16384, align=16384/0, port=5001  tcp  -&gt; xor.com</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tcp-t: socke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tcp-t: connec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tcp-t: 16777216 bytes in 20.65 real seconds = 793.27 KB/sec +++</a:t>
            </a: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10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a:t>
            </a:r>
            <a:r>
              <a:rPr b="0" lang="en-US" sz="1800" spc="-1" strike="noStrike">
                <a:solidFill>
                  <a:srgbClr val="ffffff"/>
                </a:solidFill>
                <a:latin typeface="Arial"/>
              </a:rPr>
              <a:t> specifies the length of the buffers</a:t>
            </a:r>
            <a:endParaRPr b="0" lang="en-US" sz="1800" spc="-1" strike="noStrike">
              <a:solidFill>
                <a:srgbClr val="ffffff"/>
              </a:solidFill>
              <a:latin typeface="Arial"/>
            </a:endParaRPr>
          </a:p>
          <a:p>
            <a:pPr lvl="2" marL="1143000" indent="-228600">
              <a:lnSpc>
                <a:spcPct val="10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a:t>
            </a:r>
            <a:r>
              <a:rPr b="0" lang="en-US" sz="1800" spc="-1" strike="noStrike">
                <a:solidFill>
                  <a:srgbClr val="ffffff"/>
                </a:solidFill>
                <a:latin typeface="Arial"/>
              </a:rPr>
              <a:t> specifies the number of the buffer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639F5FA-220B-464B-A8C4-67EC9F0BD57F}" type="slidenum">
              <a:t>11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Example, localhost zone</a:t>
            </a:r>
            <a:endParaRPr b="1" lang="en-US" sz="4800" spc="-1" strike="noStrike">
              <a:solidFill>
                <a:srgbClr val="ffffff"/>
              </a:solidFill>
              <a:latin typeface="Arial Narrow"/>
            </a:endParaRPr>
          </a:p>
        </p:txBody>
      </p:sp>
      <p:sp>
        <p:nvSpPr>
          <p:cNvPr id="124"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fontScale="99000"/>
          </a:bodyPr>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example</a:t>
            </a:r>
            <a:endParaRPr b="0" lang="en-US" sz="1400" spc="-1" strike="noStrike">
              <a:solidFill>
                <a:srgbClr val="ffffff"/>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options {</a:t>
            </a:r>
            <a:endParaRPr b="0" lang="en-US" sz="14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check-names response warn;</a:t>
            </a:r>
            <a:endParaRPr b="0" lang="en-US" sz="14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directory "/var/named";</a:t>
            </a:r>
            <a:endParaRPr b="0" lang="en-US" sz="14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recursion yes;</a:t>
            </a:r>
            <a:endParaRPr b="0" lang="en-US" sz="14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listen-on { 127.0.0.1; };</a:t>
            </a:r>
            <a:endParaRPr b="0" lang="en-US" sz="1400" spc="-1" strike="noStrike">
              <a:solidFill>
                <a:srgbClr val="ffffff"/>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ffffff"/>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zone "localhost" {</a:t>
            </a:r>
            <a:endParaRPr b="0" lang="en-US" sz="14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ype master;</a:t>
            </a:r>
            <a:endParaRPr b="0" lang="en-US" sz="14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file "inf/localhost";</a:t>
            </a:r>
            <a:endParaRPr b="0" lang="en-US" sz="1400" spc="-1" strike="noStrike">
              <a:solidFill>
                <a:srgbClr val="ffffff"/>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ffffff"/>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zone "0.0.127.in-addr.arpa" {</a:t>
            </a:r>
            <a:endParaRPr b="0" lang="en-US" sz="14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ype master;</a:t>
            </a:r>
            <a:endParaRPr b="0" lang="en-US" sz="14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file "inf/127.0.0";</a:t>
            </a:r>
            <a:endParaRPr b="0" lang="en-US" sz="1400" spc="-1" strike="noStrike">
              <a:solidFill>
                <a:srgbClr val="ffffff"/>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ffffff"/>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zone "." {</a:t>
            </a:r>
            <a:endParaRPr b="0" lang="en-US" sz="14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ype hint;</a:t>
            </a:r>
            <a:endParaRPr b="0" lang="en-US" sz="14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file "inf/cache.db";</a:t>
            </a:r>
            <a:endParaRPr b="0" lang="en-US" sz="1400" spc="-1" strike="noStrike">
              <a:solidFill>
                <a:srgbClr val="ffffff"/>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C1EE697-2088-4DEE-B667-2FFFEF3AF850}" type="slidenum">
              <a:t>1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easuring Expectations</a:t>
            </a:r>
            <a:endParaRPr b="1" lang="en-US" sz="4800" spc="-1" strike="noStrike">
              <a:solidFill>
                <a:srgbClr val="ffffff"/>
              </a:solidFill>
              <a:latin typeface="Arial Narrow"/>
            </a:endParaRPr>
          </a:p>
        </p:txBody>
      </p:sp>
      <p:sp>
        <p:nvSpPr>
          <p:cNvPr id="39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performance should we really expect from our WAN?</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it's a dedicated point-to-point circuit, then we should expect to get 92% or better of the purchased bandwidth</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1, 1.536Mb/s = .1536MB/s = 153.6KB/s</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3.6KB/s * .92 = 141.31KB/s</a:t>
            </a:r>
            <a:endParaRPr b="0" lang="en-US" sz="18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it's a frame-relay circuit, at best we could expect to get 80% of the purchased bandwidth, often 50%</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line errors in WAN circuits are unavoidable.  As a good rule of them, you should expect to see less than 1 error in every 1,000,000 packets for a "clean" line.</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times, circuits carried on copper like T1s may take a few errors per day </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ed for voice aggregated over copper, doesn't handle certain kinds of data well (lots of sequential zero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9FAB366-59C2-476E-8DF7-2F87B510E5F0}" type="slidenum">
              <a:t>12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easurement by history</a:t>
            </a:r>
            <a:endParaRPr b="1" lang="en-US" sz="4800" spc="-1" strike="noStrike">
              <a:solidFill>
                <a:srgbClr val="ffffff"/>
              </a:solidFill>
              <a:latin typeface="Arial Narrow"/>
            </a:endParaRPr>
          </a:p>
        </p:txBody>
      </p:sp>
      <p:sp>
        <p:nvSpPr>
          <p:cNvPr id="401" name="PlaceHolder 2"/>
          <p:cNvSpPr>
            <a:spLocks noGrp="1"/>
          </p:cNvSpPr>
          <p:nvPr>
            <p:ph/>
          </p:nvPr>
        </p:nvSpPr>
        <p:spPr>
          <a:xfrm>
            <a:off x="304920" y="1523880"/>
            <a:ext cx="8610480" cy="4572000"/>
          </a:xfrm>
          <a:prstGeom prst="rect">
            <a:avLst/>
          </a:prstGeom>
          <a:noFill/>
          <a:ln w="0">
            <a:noFill/>
          </a:ln>
        </p:spPr>
        <p:txBody>
          <a:bodyPr lIns="92160" rIns="92160" tIns="46080" bIns="46080" anchor="t">
            <a:normAutofit/>
          </a:bodyPr>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Hssi2/0 is up, line protocol is up </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Hardware is cxBus HSSI</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Internet address is 1.2.3.4/30</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MTU 4470 bytes, BW 45045 Kbit, DLY 200 usec, rely 255/255, load 42/255</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capsulation HDLC, loopback not set, keepalive set (10 sec)</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Last input 00:00:02, output 00:00:00, output hang never</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Last clearing of "show interface" counters never</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Queueing strategy: fifo</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Output queue 0/40, 7362 drops; input queue 0/75, 1721 drops</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minute input rate 5187000 bits/sec, 1519 packets/sec</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minute output rate 7590000 bits/sec, 2807 packets/sec</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624911546 packets input, 2931056137 bytes, 3 no buffer</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Received 508079 broadcasts, 0 runts, 0 giants</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parity</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251 input errors, 31 CRC, 3046 frame, 174 overrun, 0 ignored, 0 abort</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87423330 packets output, 3815049764 bytes, 0 underruns</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output errors, 0 applique, 2 interface resets</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output buffer failures, 0 output buffers swapped out</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3 carrier transitions</a:t>
            </a:r>
            <a:endParaRPr b="0" lang="en-US" sz="12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errors are .0002%</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ier transitions low</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7C62486-C164-49F4-BCA5-BACBF77BF779}" type="slidenum">
              <a:t>12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easurement by history (cont.)</a:t>
            </a:r>
            <a:endParaRPr b="1" lang="en-US" sz="4800" spc="-1" strike="noStrike">
              <a:solidFill>
                <a:srgbClr val="ffffff"/>
              </a:solidFill>
              <a:latin typeface="Arial Narrow"/>
            </a:endParaRPr>
          </a:p>
        </p:txBody>
      </p:sp>
      <p:sp>
        <p:nvSpPr>
          <p:cNvPr id="403"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fontScale="95000"/>
          </a:bodyPr>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Hssi4/0 is up, line protocol is up </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Hardware is cxBus HSSI</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Internet address is 3.4.5.6/30</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MTU 4470 bytes, BW 45045 Kbit, DLY 200 usec, rely 255/255, load 35/255</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Encapsulation HDLC, loopback not set, keepalive set (10 sec)</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Last input 00:00:00, output 00:00:03, output hang never</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Last clearing of "show interface" counters never</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Queueing strategy: fifo</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Output queue 0/40, 0 drops; input queue 1/75, 1727 drops</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minute input rate 1551000 bits/sec, 1221 packets/sec</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5 minute output rate 6298000 bits/sec, 1239 packets/sec</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1574691557 packets input, 956588456 bytes, 6 no buffer</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Received 563056 broadcasts, 0 runts, 3174 giants</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parity</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3995089 input errors, 13049 CRC, 3978697 frame, 169 overrun, 0 ignored </a:t>
            </a:r>
            <a:endParaRPr b="0" lang="en-US" sz="1200" spc="-1" strike="noStrike">
              <a:solidFill>
                <a:srgbClr val="ffffff"/>
              </a:solidFill>
              <a:latin typeface="Arial"/>
            </a:endParaRPr>
          </a:p>
          <a:p>
            <a:pPr lvl="4" marL="195444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abort</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2356338480 packets output, 1572466122 bytes, 0 underruns</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output errors, 0 applique, 483 interface resets</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0 output buffer failures, 0 output buffers swapped out</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6717 carrier transitions</a:t>
            </a:r>
            <a:endParaRPr b="0" lang="en-US" sz="12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errors are .25%</a:t>
            </a:r>
            <a:endParaRPr b="0" lang="en-US" sz="18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ier transitions too high</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B21D3F8-A108-4614-8D7D-9749FABDE545}" type="slidenum">
              <a:t>12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easurement by data gathering</a:t>
            </a:r>
            <a:endParaRPr b="1" lang="en-US" sz="4800" spc="-1" strike="noStrike">
              <a:solidFill>
                <a:srgbClr val="ffffff"/>
              </a:solidFill>
              <a:latin typeface="Arial Narrow"/>
            </a:endParaRPr>
          </a:p>
        </p:txBody>
      </p:sp>
      <p:sp>
        <p:nvSpPr>
          <p:cNvPr id="40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Router Traffic Grapher (MRTG) is a tool to monitor the traffic load on network-link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RTG is available under the GNU PUBLIC LICENS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the homepage at:</a:t>
            </a:r>
            <a:endParaRPr b="0" lang="en-US" sz="24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ttp://ee-staff.ethz.ch/~oetiker/webtools/mrtg/mrtg.html</a:t>
            </a:r>
            <a:endParaRPr b="0" lang="en-US" sz="18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s on most UNIX platforms and Windows NT </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Perl for easy customization, and has a highly portable  SNMP implementation written entirely in Perl thanks to Simon Leinen. There is no need to install any external SNMP package.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280839A-F70B-4BF5-9E24-03B640C40BB4}" type="slidenum">
              <a:t>12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Other Tools</a:t>
            </a:r>
            <a:endParaRPr b="1" lang="en-US" sz="4800" spc="-1" strike="noStrike">
              <a:solidFill>
                <a:srgbClr val="ffffff"/>
              </a:solidFill>
              <a:latin typeface="Arial Narrow"/>
            </a:endParaRPr>
          </a:p>
        </p:txBody>
      </p:sp>
      <p:sp>
        <p:nvSpPr>
          <p:cNvPr id="40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eScop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Freshwater software, www.freshtech.com</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 that monitors, reports, and alerts arbitrary objects including SNMP variables and scripts </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eSeer</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from Freshwat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 that monitors, reports, and alerts from outside your network</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Metrics and other services are like SiteSeer</a:t>
            </a:r>
            <a:endParaRPr b="0" lang="en-US" sz="2400" spc="-1" strike="noStrike">
              <a:solidFill>
                <a:srgbClr val="ffffff"/>
              </a:solidFill>
              <a:latin typeface="Arial"/>
            </a:endParaRPr>
          </a:p>
          <a:p>
            <a:pPr marL="343080" indent="-343080">
              <a:spcBef>
                <a:spcPts val="45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rdtool: </a:t>
            </a:r>
            <a:r>
              <a:rPr b="1" lang="en-US" sz="1800" spc="-1" strike="noStrike">
                <a:solidFill>
                  <a:srgbClr val="ffffff"/>
                </a:solidFill>
                <a:latin typeface="Courier New"/>
              </a:rPr>
              <a:t>http://ee-staff.ethz.ch/~oetiker/webtools/rrdtool/</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348F598-E20C-4029-B333-6965DCA21F37}" type="slidenum">
              <a:t>12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Routing Protocols</a:t>
            </a:r>
            <a:endParaRPr b="1" lang="en-US" sz="6600" spc="-1" strike="noStrike">
              <a:solidFill>
                <a:srgbClr val="ffffff"/>
              </a:solidFill>
              <a:latin typeface="Arial Narrow"/>
            </a:endParaRPr>
          </a:p>
        </p:txBody>
      </p:sp>
      <p:sp>
        <p:nvSpPr>
          <p:cNvPr id="409"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COT200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oul, South Kore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ara Dijke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netrack.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Routing Basics</a:t>
            </a:r>
            <a:endParaRPr b="1" lang="en-US" sz="4800" spc="-1" strike="noStrike">
              <a:solidFill>
                <a:srgbClr val="ffffff"/>
              </a:solidFill>
              <a:latin typeface="Arial Narrow"/>
            </a:endParaRPr>
          </a:p>
        </p:txBody>
      </p:sp>
      <p:sp>
        <p:nvSpPr>
          <p:cNvPr id="41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basic choices of routing model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ic</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c works, but doesn't scale well and is hard to maintain</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l talk about dynamic routing toda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uting Protocols are protocols that implement routing algorithms (BGP, OSPF, RIP, etc.).</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uted protocols are transport protocols that  are routed over an inter-network (IP, DECnet, IPX, etc.).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75139AE-857D-4521-B6A4-B4ADCC5A1029}" type="slidenum">
              <a:t>12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Routing Protocol Families</a:t>
            </a:r>
            <a:endParaRPr b="1" lang="en-US" sz="4800" spc="-1" strike="noStrike">
              <a:solidFill>
                <a:srgbClr val="ffffff"/>
              </a:solidFill>
              <a:latin typeface="Arial Narrow"/>
            </a:endParaRPr>
          </a:p>
        </p:txBody>
      </p:sp>
      <p:sp>
        <p:nvSpPr>
          <p:cNvPr id="41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families of distributed routing algorithm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Vecto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k state</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popular network routing protocols are based on one of thes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 Vector is also sometimes called "Bellman-Ford" routing, after the people that invented the algorithm</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1A4FFF8-48BD-46FB-8269-06E5EF16BD6D}" type="slidenum">
              <a:t>12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istance Vector Routing</a:t>
            </a:r>
            <a:endParaRPr b="1" lang="en-US" sz="4800" spc="-1" strike="noStrike">
              <a:solidFill>
                <a:srgbClr val="ffffff"/>
              </a:solidFill>
              <a:latin typeface="Arial Narrow"/>
            </a:endParaRPr>
          </a:p>
        </p:txBody>
      </p:sp>
      <p:sp>
        <p:nvSpPr>
          <p:cNvPr id="41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istance vector routing protocol requires that each router maintain a list of each possible destination and the distance to each of those destination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router advertises to its neighbors its list of destination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router saves the advertisements most recently received  from its neighbor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router calculates the shortest path to each destination based on information heard from neighbor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3EBB00B-BBD6-4F90-8683-18207D82BADF}" type="slidenum">
              <a:t>12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Link State Routing</a:t>
            </a:r>
            <a:endParaRPr b="1" lang="en-US" sz="4800" spc="-1" strike="noStrike">
              <a:solidFill>
                <a:srgbClr val="ffffff"/>
              </a:solidFill>
              <a:latin typeface="Arial Narrow"/>
            </a:endParaRPr>
          </a:p>
        </p:txBody>
      </p:sp>
      <p:sp>
        <p:nvSpPr>
          <p:cNvPr id="41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ink state routing protocol maintains a list of neighbors, their names, and a list of their link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router meets its neighbors and learns their names, and exchanges link state information with them</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router, having a full graph of the network, computes the shortest path to each destination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F622188-244B-4AA9-86E3-6AE476A2C2AC}" type="slidenum">
              <a:t>12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 Longer Example</a:t>
            </a:r>
            <a:endParaRPr b="1" lang="en-US" sz="4800" spc="-1" strike="noStrike">
              <a:solidFill>
                <a:srgbClr val="ffffff"/>
              </a:solidFill>
              <a:latin typeface="Arial Narrow"/>
            </a:endParaRPr>
          </a:p>
        </p:txBody>
      </p:sp>
      <p:sp>
        <p:nvSpPr>
          <p:cNvPr id="126" name="PlaceHolder 2"/>
          <p:cNvSpPr>
            <a:spLocks noGrp="1"/>
          </p:cNvSpPr>
          <p:nvPr>
            <p:ph/>
          </p:nvPr>
        </p:nvSpPr>
        <p:spPr>
          <a:xfrm>
            <a:off x="304920" y="1523880"/>
            <a:ext cx="8610480" cy="4572000"/>
          </a:xfrm>
          <a:prstGeom prst="rect">
            <a:avLst/>
          </a:prstGeom>
          <a:noFill/>
          <a:ln w="0">
            <a:noFill/>
          </a:ln>
        </p:spPr>
        <p:txBody>
          <a:bodyPr lIns="92160" rIns="92160" tIns="46080" bIns="46080" anchor="t">
            <a:normAutofit fontScale="91000"/>
          </a:bodyPr>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options {</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rectory "/var/named";</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pid-file "/var/run/named.pid";</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logging {</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category lame-servers { null; };</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category cname { null; };</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zone "isc.org" in {</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type master;</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file "master/isc.org";</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zone "vix.com" in {</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type slave;</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file "slave/vix.com";</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masters { 10.0.0.53; };</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zone "." in {</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type hint;</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file "named.cache";</a:t>
            </a:r>
            <a:endParaRPr b="0" lang="en-US" sz="1400" spc="-1" strike="noStrike">
              <a:solidFill>
                <a:srgbClr val="ffffff"/>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6E4111D-234E-4936-AFC6-3E1F7C75A860}" type="slidenum">
              <a:t>1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istance Vector vs. Link State</a:t>
            </a:r>
            <a:endParaRPr b="1" lang="en-US" sz="4800" spc="-1" strike="noStrike">
              <a:solidFill>
                <a:srgbClr val="ffffff"/>
              </a:solidFill>
              <a:latin typeface="Arial Narrow"/>
            </a:endParaRPr>
          </a:p>
        </p:txBody>
      </p:sp>
      <p:sp>
        <p:nvSpPr>
          <p:cNvPr id="41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 vector suffers from "count-to-infinity" problem</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inity can far away because of timing of synchronous updates</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 state can be complex to calculat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 state routing makes network topology easier to discover</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ubleshooting a network is easier with link state routing</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 state routing converges more quickly than distance vector</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E68E0EF-9997-43B6-BE28-50F30397F5BE}" type="slidenum">
              <a:t>13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utonomous Systems</a:t>
            </a:r>
            <a:endParaRPr b="1" lang="en-US" sz="4800" spc="-1" strike="noStrike">
              <a:solidFill>
                <a:srgbClr val="ffffff"/>
              </a:solidFill>
              <a:latin typeface="Arial Narrow"/>
            </a:endParaRPr>
          </a:p>
        </p:txBody>
      </p:sp>
      <p:sp>
        <p:nvSpPr>
          <p:cNvPr id="42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utonomous System (AS) is a group of routers controlled by the same administrative entit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AS has an AS number  </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s which use AS number as part of their route state information require a globally unique AS number for each entity -- you can apply for one from the NIC</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s which do not propagate AS information can be assigned AS numbers that are unique within your sit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it's easiest to think of an AS as a fun-filled routing club, focused on single routers meeting each other</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EB488F1-12E2-4FC1-BCBC-C61698BCFF68}" type="slidenum">
              <a:t>13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RIP</a:t>
            </a:r>
            <a:endParaRPr b="1" lang="en-US" sz="4800" spc="-1" strike="noStrike">
              <a:solidFill>
                <a:srgbClr val="ffffff"/>
              </a:solidFill>
              <a:latin typeface="Arial Narrow"/>
            </a:endParaRPr>
          </a:p>
        </p:txBody>
      </p:sp>
      <p:sp>
        <p:nvSpPr>
          <p:cNvPr id="42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uting Information Protocol</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vector, interior gateway protocol</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w out of Xerox XNS (last 70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by </a:t>
            </a:r>
            <a:r>
              <a:rPr b="1" lang="en-US" sz="2400" spc="-1" strike="noStrike">
                <a:solidFill>
                  <a:srgbClr val="ffffff"/>
                </a:solidFill>
                <a:latin typeface="Courier New"/>
              </a:rPr>
              <a:t>routed</a:t>
            </a:r>
            <a:r>
              <a:rPr b="0" lang="en-US" sz="2400" spc="-1" strike="noStrike">
                <a:solidFill>
                  <a:srgbClr val="ffffff"/>
                </a:solidFill>
                <a:latin typeface="Arial"/>
              </a:rPr>
              <a:t> on many workstation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imum metric of 15</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adcast routing protocol</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uting updates every 30 seconds </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 a router to network xxx.xxx.xxx.xxx in yy hop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7094782-E939-4E78-B49B-7DE9B50F2DE7}" type="slidenum">
              <a:t>13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RIP - cont.</a:t>
            </a:r>
            <a:endParaRPr b="1" lang="en-US" sz="4800" spc="-1" strike="noStrike">
              <a:solidFill>
                <a:srgbClr val="ffffff"/>
              </a:solidFill>
              <a:latin typeface="Arial Narrow"/>
            </a:endParaRPr>
          </a:p>
        </p:txBody>
      </p:sp>
      <p:sp>
        <p:nvSpPr>
          <p:cNvPr id="42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ient solution for LANs.  Spoken by:</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nter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b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boxes</a:t>
            </a:r>
            <a:endParaRPr b="0" lang="en-US" sz="20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misused, can cause extreme network congestion and chao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boxes should always run </a:t>
            </a:r>
            <a:r>
              <a:rPr b="1" lang="en-US" sz="2400" spc="-1" strike="noStrike">
                <a:solidFill>
                  <a:srgbClr val="ffffff"/>
                </a:solidFill>
                <a:latin typeface="Courier New"/>
              </a:rPr>
              <a:t>routed -q</a:t>
            </a:r>
            <a:r>
              <a:rPr b="0" lang="en-US" sz="2400" spc="-1" strike="noStrike">
                <a:solidFill>
                  <a:srgbClr val="ffffff"/>
                </a:solidFill>
                <a:latin typeface="Arial"/>
              </a:rPr>
              <a:t> to avoid advertising false information</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must use RIP, use it only to advertise a handful of networks and perhaps a default rout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2C37A67-0A50-4499-A0B6-5BF4F6F24DF7}" type="slidenum">
              <a:t>13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ebugging RIP</a:t>
            </a:r>
            <a:endParaRPr b="1" lang="en-US" sz="4800" spc="-1" strike="noStrike">
              <a:solidFill>
                <a:srgbClr val="ffffff"/>
              </a:solidFill>
              <a:latin typeface="Arial Narrow"/>
            </a:endParaRPr>
          </a:p>
        </p:txBody>
      </p:sp>
      <p:sp>
        <p:nvSpPr>
          <p:cNvPr id="42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3000"/>
          </a:bodyPr>
          <a:p>
            <a:pPr marL="318960" indent="-31896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a packet sniffer, or run </a:t>
            </a:r>
            <a:r>
              <a:rPr b="1" lang="en-US" sz="2000" spc="-1" strike="noStrike">
                <a:solidFill>
                  <a:srgbClr val="ffffff"/>
                </a:solidFill>
                <a:latin typeface="Courier New"/>
              </a:rPr>
              <a:t>routed -t</a:t>
            </a:r>
            <a:r>
              <a:rPr b="0" lang="en-US" sz="2000" spc="-1" strike="noStrike">
                <a:solidFill>
                  <a:srgbClr val="ffffff"/>
                </a:solidFill>
                <a:latin typeface="Arial"/>
              </a:rPr>
              <a:t> on a UNIX box...</a:t>
            </a:r>
            <a:endParaRPr b="0" lang="en-US" sz="20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in.routed -t</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SPONSE from 199.45.198.253.520:</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0.0.0.0 metric 1</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199.45.197.0 metric 1</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SPONSE from 199.45.198.10.520:</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0.0.0.0 metric 1</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199.45.197.0 metric 1</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SPONSE from 199.45.198.34.520:</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0.0.0.0 metric 1</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199.45.197.0 metric 1</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SPONSE from 199.45.198.254.520:</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0.0.0.0 metric 1</a:t>
            </a:r>
            <a:endParaRPr b="0" lang="en-US" sz="1200" spc="-1" strike="noStrike">
              <a:solidFill>
                <a:srgbClr val="ffffff"/>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199.45.197.0 metric 1</a:t>
            </a:r>
            <a:endParaRPr b="0" lang="en-US" sz="1200" spc="-1" strike="noStrike">
              <a:solidFill>
                <a:srgbClr val="ffffff"/>
              </a:solidFill>
              <a:latin typeface="Arial"/>
            </a:endParaRPr>
          </a:p>
          <a:p>
            <a:pPr marL="318960" indent="-31896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 mess</a:t>
            </a:r>
            <a:endParaRPr b="0" lang="en-US" sz="2000" spc="-1" strike="noStrike">
              <a:solidFill>
                <a:srgbClr val="ffffff"/>
              </a:solidFill>
              <a:latin typeface="Arial"/>
            </a:endParaRPr>
          </a:p>
          <a:p>
            <a:pPr lvl="1" marL="690840" indent="-2656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 different gateways all with the same metric</a:t>
            </a:r>
            <a:endParaRPr b="0" lang="en-US" sz="1800" spc="-1" strike="noStrike">
              <a:solidFill>
                <a:srgbClr val="ffffff"/>
              </a:solidFill>
              <a:latin typeface="Arial"/>
            </a:endParaRPr>
          </a:p>
          <a:p>
            <a:pPr lvl="1" marL="690840" indent="-2656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not all have the same capability (Sun 3 vs. Sparc Ultra)</a:t>
            </a:r>
            <a:endParaRPr b="0" lang="en-US" sz="1800" spc="-1" strike="noStrike">
              <a:solidFill>
                <a:srgbClr val="ffffff"/>
              </a:solidFill>
              <a:latin typeface="Arial"/>
            </a:endParaRPr>
          </a:p>
          <a:p>
            <a:pPr marL="318960" indent="-31896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running RIP, it's often a good idea run </a:t>
            </a:r>
            <a:r>
              <a:rPr b="1" lang="en-US" sz="2000" spc="-1" strike="noStrike">
                <a:solidFill>
                  <a:srgbClr val="ffffff"/>
                </a:solidFill>
                <a:latin typeface="Courier New"/>
              </a:rPr>
              <a:t>gated</a:t>
            </a:r>
            <a:r>
              <a:rPr b="0" lang="en-US" sz="2000" spc="-1" strike="noStrike">
                <a:solidFill>
                  <a:srgbClr val="ffffff"/>
                </a:solidFill>
                <a:latin typeface="Arial"/>
              </a:rPr>
              <a:t> instead of </a:t>
            </a:r>
            <a:r>
              <a:rPr b="1" lang="en-US" sz="2000" spc="-1" strike="noStrike">
                <a:solidFill>
                  <a:srgbClr val="ffffff"/>
                </a:solidFill>
                <a:latin typeface="Courier New"/>
              </a:rPr>
              <a:t>routed</a:t>
            </a:r>
            <a:r>
              <a:rPr b="0" lang="en-US" sz="2000" spc="-1" strike="noStrike">
                <a:solidFill>
                  <a:srgbClr val="ffffff"/>
                </a:solidFill>
                <a:latin typeface="Arial"/>
              </a:rPr>
              <a:t> on major gateways, artificially weighting metric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ADAAD74-D684-431D-95CD-ABB47DF8A9FA}" type="slidenum">
              <a:t>13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EIGRP</a:t>
            </a:r>
            <a:endParaRPr b="1" lang="en-US" sz="4800" spc="-1" strike="noStrike">
              <a:solidFill>
                <a:srgbClr val="ffffff"/>
              </a:solidFill>
              <a:latin typeface="Arial Narrow"/>
            </a:endParaRPr>
          </a:p>
        </p:txBody>
      </p:sp>
      <p:sp>
        <p:nvSpPr>
          <p:cNvPr id="42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d Interior Gateway Routing Protocol</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GRP originally developed by Cisco in mid-1980's to replace RIP</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vector, interior gateway protocol</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ASs to identify routing group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handy for all-cisco networks, no so handy for heterogeneous network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well in a WAN environment, can be easily distributed into RIP</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ting updates every 90 second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x metric includes factors for load, bandwidth, and reliability;  varies from 1-255</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F73EA91-C6ED-4CBE-9813-D96299EE3797}" type="slidenum">
              <a:t>135</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OSPF</a:t>
            </a:r>
            <a:endParaRPr b="1" lang="en-US" sz="4800" spc="-1" strike="noStrike">
              <a:solidFill>
                <a:srgbClr val="ffffff"/>
              </a:solidFill>
              <a:latin typeface="Arial Narrow"/>
            </a:endParaRPr>
          </a:p>
        </p:txBody>
      </p:sp>
      <p:sp>
        <p:nvSpPr>
          <p:cNvPr id="43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hortest Path First</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ior gateway, link-state protocol</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designed as a replacement for RIP</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alance load across multiple links</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operate within a hierarchy</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 of hierarchy is an AS</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s internal AS#'s, unique within the organization</a:t>
            </a:r>
            <a:endParaRPr b="0" lang="en-US" sz="18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AS is divided into "areas"</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k State information is exchanged by all routers within an area; summarized at borders of areas</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PF "backbone" (area 0) is responsible for exchanging information between area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86910C9-3185-440A-9ABE-D6EB09072299}" type="slidenum">
              <a:t>13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OSPF - SPF algorithm</a:t>
            </a:r>
            <a:endParaRPr b="1" lang="en-US" sz="4800" spc="-1" strike="noStrike">
              <a:solidFill>
                <a:srgbClr val="ffffff"/>
              </a:solidFill>
              <a:latin typeface="Arial Narrow"/>
            </a:endParaRPr>
          </a:p>
        </p:txBody>
      </p:sp>
      <p:sp>
        <p:nvSpPr>
          <p:cNvPr id="43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hortest Path First (SPF) [sometimes called Dijkstra] algorithm is the basis for operation of OSPF</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ce interfaces are initialized, a router sends OSPF HELLO to its neighbors</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iendly neighbor routers exchange link state information. Once they're synchronized, they are said to be "adjacent"</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k state information is re-transmitted periodically (say, every 90 minutes) or when a router's state changes</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router calculates a shortest path tree, with itself as the root.  This information is used to generate a routing table</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segments with more than one router elect a "designated router" which is responsible for maintaining link state information for that segmen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9FD1654-A929-469C-9523-C752CE04BF7E}" type="slidenum">
              <a:t>13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OSPF - cont.</a:t>
            </a:r>
            <a:endParaRPr b="1" lang="en-US" sz="4800" spc="-1" strike="noStrike">
              <a:solidFill>
                <a:srgbClr val="ffffff"/>
              </a:solidFill>
              <a:latin typeface="Arial Narrow"/>
            </a:endParaRPr>
          </a:p>
        </p:txBody>
      </p:sp>
      <p:sp>
        <p:nvSpPr>
          <p:cNvPr id="43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big feature of OSPF is support of variable-length subnet masks</a:t>
            </a:r>
            <a:endParaRPr b="0" lang="en-US" sz="2000" spc="-1" strike="noStrike">
              <a:solidFill>
                <a:srgbClr val="ffffff"/>
              </a:solidFill>
              <a:latin typeface="Arial"/>
            </a:endParaRPr>
          </a:p>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ly, </a:t>
            </a:r>
            <a:r>
              <a:rPr b="0" lang="en-US" sz="2000" spc="-1" strike="noStrike">
                <a:solidFill>
                  <a:srgbClr val="ffffff"/>
                </a:solidFill>
                <a:latin typeface="Courier New"/>
              </a:rPr>
              <a:t>gated</a:t>
            </a:r>
            <a:r>
              <a:rPr b="0" lang="en-US" sz="2000" spc="-1" strike="noStrike">
                <a:solidFill>
                  <a:srgbClr val="ffffff"/>
                </a:solidFill>
                <a:latin typeface="Arial"/>
              </a:rPr>
              <a:t> is the best way to support OSPF on a UNIX box</a:t>
            </a:r>
            <a:endParaRPr b="0" lang="en-US" sz="20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outer ospf 235</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network 199.45.100.0 0.0.0.255 area 4</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network 199.45.101.0 0.0.0.255 area 0</a:t>
            </a:r>
            <a:endParaRPr b="0" lang="en-US" sz="1200" spc="-1" strike="noStrike">
              <a:solidFill>
                <a:srgbClr val="ffffff"/>
              </a:solidFill>
              <a:latin typeface="Arial"/>
            </a:endParaRPr>
          </a:p>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Cisco router, your OSPF clause might look like:</a:t>
            </a:r>
            <a:endParaRPr b="0" lang="en-US" sz="20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choosen is 235</a:t>
            </a:r>
            <a:endParaRPr b="0" lang="en-US" sz="18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are willing to speak OSPF to the networks listed</a:t>
            </a:r>
            <a:endParaRPr b="0" lang="en-US" sz="18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how ip ospf</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Routing Process "ospf 235" with ID 199.45.141.67</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Supports only single TOS(TOS0) routes</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Number of areas in this router is 1</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Area 1.1.1.1</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Number of interfaces in this area is 1</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Area has no authentication</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SPF algorithm executed 29 times</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Area ranges are</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Link State Update Interval is 0:30:00 and due in 0:23:15</a:t>
            </a:r>
            <a:endParaRPr b="0" lang="en-US" sz="1200" spc="-1" strike="noStrike">
              <a:solidFill>
                <a:srgbClr val="ffffff"/>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Link State Age Interval is 0:20:00 and due in 0:03:15</a:t>
            </a: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97DD6EC-6710-4F9C-8843-89EF498152F7}" type="slidenum">
              <a:t>13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BGP</a:t>
            </a:r>
            <a:endParaRPr b="1" lang="en-US" sz="4800" spc="-1" strike="noStrike">
              <a:solidFill>
                <a:srgbClr val="ffffff"/>
              </a:solidFill>
              <a:latin typeface="Arial Narrow"/>
            </a:endParaRPr>
          </a:p>
        </p:txBody>
      </p:sp>
      <p:sp>
        <p:nvSpPr>
          <p:cNvPr id="43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rder Gateway Protocol</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terior Gateway Protocol, derived from EGP</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vector protocol</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ransmits a list of AS numbers (real ones assigned by RIR) in path to destination</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to detect routing loop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ily designed to exchange information between AS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types of messages: Open, Update, Keepalive, Notification</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TCP connections between peer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requires an AS number</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ly BGP version 4</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999071A-D5B2-44B5-8F5B-096B233F7E9F}" type="slidenum">
              <a:t>13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onfiguration Language Details</a:t>
            </a:r>
            <a:endParaRPr b="1" lang="en-US" sz="4800" spc="-1" strike="noStrike">
              <a:solidFill>
                <a:srgbClr val="ffffff"/>
              </a:solidFill>
              <a:latin typeface="Arial Narrow"/>
            </a:endParaRPr>
          </a:p>
        </p:txBody>
      </p:sp>
      <p:sp>
        <p:nvSpPr>
          <p:cNvPr id="12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s like C or gated config fil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l keyword defines the name of an access control list and the IP addresses that it pertains to</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acl's are pre-defined</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allows all host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e: denies all host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host: allows the IP addresses of all interfaces on the system</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nets: allows any host on a network for which system has an interfac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E6E7A73-754E-442E-96BE-15104567B49B}" type="slidenum">
              <a:t>1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BGP Update Packet Contents</a:t>
            </a:r>
            <a:endParaRPr b="1" lang="en-US" sz="4800" spc="-1" strike="noStrike">
              <a:solidFill>
                <a:srgbClr val="ffffff"/>
              </a:solidFill>
              <a:latin typeface="Arial Narrow"/>
            </a:endParaRPr>
          </a:p>
        </p:txBody>
      </p:sp>
      <p:sp>
        <p:nvSpPr>
          <p:cNvPr id="43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GP - learned within A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P - learned via EGP (obsolet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mplete - learned some other way</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path</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 hop</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reachable (now being used to black hole spammer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a-AS metric (if you are using BGP internally)</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38D7929-CF1C-43A9-8E31-53C1D5B599AE}" type="slidenum">
              <a:t>14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BGP Uses</a:t>
            </a:r>
            <a:endParaRPr b="1" lang="en-US" sz="4800" spc="-1" strike="noStrike">
              <a:solidFill>
                <a:srgbClr val="ffffff"/>
              </a:solidFill>
              <a:latin typeface="Arial Narrow"/>
            </a:endParaRPr>
          </a:p>
        </p:txBody>
      </p:sp>
      <p:sp>
        <p:nvSpPr>
          <p:cNvPr id="44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GP is commonly used when sharing information with backbone service providers, or between large corporate networks</a:t>
            </a:r>
            <a:endParaRPr b="0" lang="en-US" sz="24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outer bgp 101</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neighbor 199.45.255.6 remote-as 3404</a:t>
            </a:r>
            <a:endParaRPr b="0" lang="en-US" sz="12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must enable BGP routing, specify a real autonomous system number and the neighbors that will speak BGP to you</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GP then shares routing information with routers in other AS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vertised/accepted routes can be controlled with Access List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92479CB-3459-4FF7-ADDE-E39E2D56D8FC}" type="slidenum">
              <a:t>14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ebugging BGP</a:t>
            </a:r>
            <a:endParaRPr b="1" lang="en-US" sz="4800" spc="-1" strike="noStrike">
              <a:solidFill>
                <a:srgbClr val="ffffff"/>
              </a:solidFill>
              <a:latin typeface="Arial Narrow"/>
            </a:endParaRPr>
          </a:p>
        </p:txBody>
      </p:sp>
      <p:sp>
        <p:nvSpPr>
          <p:cNvPr id="44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gt; show ip bgp summary</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BGP table version is 13923, main routing table version 13923</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319 network entries (338 paths) using 52992 bytes of memory</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27 BGP path attribute entries using 1920 bytes of memory</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Neighbor        V    AS MsgRcvd MsgSent   TblVer  InQ OutQ Up/Down  State</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44.224.13.5    4  6176   82342   82320    13923    0    0 1w2d     </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99.45.132.75   4  3404   81205   80797    13923    0    0 6d07     </a:t>
            </a:r>
            <a:endParaRPr b="0" lang="en-US" sz="12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cisco...</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Q and OutQ fields represent BGP messages exchanged but not yet processed</a:t>
            </a:r>
            <a:endParaRPr b="0" lang="en-US" sz="1800" spc="-1" strike="noStrike">
              <a:solidFill>
                <a:srgbClr val="ffffff"/>
              </a:solidFill>
              <a:latin typeface="Arial"/>
            </a:endParaRPr>
          </a:p>
          <a:p>
            <a:pPr lvl="2" marL="1143000" indent="-2286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InQ field is ever non-zero, get a bigger router</a:t>
            </a:r>
            <a:endParaRPr b="0" lang="en-US" sz="16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 field uses unfortunate defaults</a:t>
            </a:r>
            <a:endParaRPr b="0" lang="en-US" sz="1800" spc="-1" strike="noStrike">
              <a:solidFill>
                <a:srgbClr val="ffffff"/>
              </a:solidFill>
              <a:latin typeface="Arial"/>
            </a:endParaRPr>
          </a:p>
          <a:p>
            <a:pPr lvl="2" marL="1143000" indent="-2286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ank means neighboring router is up and happy</a:t>
            </a:r>
            <a:endParaRPr b="0" lang="en-US" sz="1600" spc="-1" strike="noStrike">
              <a:solidFill>
                <a:srgbClr val="ffffff"/>
              </a:solidFill>
              <a:latin typeface="Arial"/>
            </a:endParaRPr>
          </a:p>
          <a:p>
            <a:pPr lvl="2" marL="1143000" indent="-2286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tive means its really broken and trying to re-establish things</a:t>
            </a:r>
            <a:endParaRPr b="0" lang="en-US" sz="1600" spc="-1" strike="noStrike">
              <a:solidFill>
                <a:srgbClr val="ffffff"/>
              </a:solidFill>
              <a:latin typeface="Arial"/>
            </a:endParaRPr>
          </a:p>
          <a:p>
            <a:pPr lvl="2" marL="1143000" indent="-2286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blank means neighbor is down or is coming up</a:t>
            </a:r>
            <a:endParaRPr b="0" lang="en-US" sz="16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own field shows time in current stat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504D72D-689A-40DB-B930-8B618841B7CA}" type="slidenum">
              <a:t>14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ebugging BGP, cont.</a:t>
            </a:r>
            <a:endParaRPr b="1" lang="en-US" sz="4800" spc="-1" strike="noStrike">
              <a:solidFill>
                <a:srgbClr val="ffffff"/>
              </a:solidFill>
              <a:latin typeface="Arial Narrow"/>
            </a:endParaRPr>
          </a:p>
        </p:txBody>
      </p:sp>
      <p:sp>
        <p:nvSpPr>
          <p:cNvPr id="44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gt; show ip bgp regexp 4151</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BGP table version is 13923, local router ID is 199.45.255.254</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Status codes: s suppressed, * valid, &gt; best, i - internal</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Origin codes: i - IGP, e - EGP, ? - incomplete</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Network          Next Hop        Metric LocPrf Weight Path</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i134.249.0.0      199.45.132.75   0      0 6582 4151 4151 4151 i</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i151.121.0.0      199.45.132.75   0      0 6582 4151 4151 4151 ?</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i160.232.0.0      199.45.132.75   0      0 6582 4151 4151 4151 i</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i162.79.0.0       199.45.132.75   0      0 6582 4151 4151 4151 i</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i165.221.0.0      199.45.132.75   0      0 6582 4151 4151 4151 ?</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i192.78.16.0      199.45.132.75   0      0 6582 4151 4151 4151 ?</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i192.153.14.0     199.45.132.75   0      0 6582 4151 4151 4151 i</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i198.22.127.0     199.45.132.75   0      0 6582 4151 4151 4151 ?</a:t>
            </a:r>
            <a:endParaRPr b="0" lang="en-US" sz="1400" spc="-1" strike="noStrike">
              <a:solidFill>
                <a:srgbClr val="ffffff"/>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i199.128.0.0/11   199.45.132.75   0      0 6582 4151 4151 4151 </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DA11812-2878-4993-823F-1797DE98204B}" type="slidenum">
              <a:t>14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ebugging BGP, cont.</a:t>
            </a:r>
            <a:endParaRPr b="1" lang="en-US" sz="4800" spc="-1" strike="noStrike">
              <a:solidFill>
                <a:srgbClr val="ffffff"/>
              </a:solidFill>
              <a:latin typeface="Arial Narrow"/>
            </a:endParaRPr>
          </a:p>
        </p:txBody>
      </p:sp>
      <p:sp>
        <p:nvSpPr>
          <p:cNvPr id="44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ain, on a Cisco...</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exp" clause is like a grep</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s ^ for beginning with, eg. ^4151</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s $ for ending with, eg. 4151$</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glue AS paths together, eg. ^4151_666$ means the AS path starts with AS 4151 and ends with AS 666</a:t>
            </a:r>
            <a:endParaRPr b="0" lang="en-US" sz="18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ce BGP tutorial on Cisco's web site (under tech support sec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63BD6B2-F744-408E-8831-DFEFB25756C7}" type="slidenum">
              <a:t>14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Network Crisis Case Studies</a:t>
            </a:r>
            <a:endParaRPr b="1" lang="en-US" sz="6600" spc="-1" strike="noStrike">
              <a:solidFill>
                <a:srgbClr val="ffffff"/>
              </a:solidFill>
              <a:latin typeface="Arial Narrow"/>
            </a:endParaRPr>
          </a:p>
        </p:txBody>
      </p:sp>
      <p:sp>
        <p:nvSpPr>
          <p:cNvPr id="449"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COT200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oul, South Kore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 Dijke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netrack.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etwork Crisis Case Studies</a:t>
            </a:r>
            <a:endParaRPr b="1" lang="en-US" sz="4800" spc="-1" strike="noStrike">
              <a:solidFill>
                <a:srgbClr val="ffffff"/>
              </a:solidFill>
              <a:latin typeface="Arial Narrow"/>
            </a:endParaRPr>
          </a:p>
        </p:txBody>
      </p:sp>
      <p:sp>
        <p:nvSpPr>
          <p:cNvPr id="45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tuations detailed here are all based on real-world network cris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mes and minor details have been changed to protect the innocent (or the guilty, as the case may b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each case, we were called in after local attempts to fix the problems failed.</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ten the fix took 2-3 hours of an expert consultants time after a month of in-house attempts to solve the problem.</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B5B29DF-763C-4209-BE6A-2B425DF9CF48}" type="slidenum">
              <a:t>14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ase #1: FloodDyne Industries</a:t>
            </a:r>
            <a:endParaRPr b="1" lang="en-US" sz="4800" spc="-1" strike="noStrike">
              <a:solidFill>
                <a:srgbClr val="ffffff"/>
              </a:solidFill>
              <a:latin typeface="Arial Narrow"/>
            </a:endParaRPr>
          </a:p>
        </p:txBody>
      </p:sp>
      <p:sp>
        <p:nvSpPr>
          <p:cNvPr id="45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oodDyne Industries recently moved into a new office building.</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iously, their network was 100% thinnet (10base2).</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ir new offices, they installed Level 5 UTP cabling and switched to 100% 10BaseT.</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have approximately 30 hosts on a single Ethernet.  </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one machine (a Sun Sparc 1) that acts as a hub for mail, data, and administrative task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st of their network consists of a variety of other hosts, including Macs, PCs, Suns, and SGI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ay they moved into the new facilities, the nightmare began.</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3D2EA3F-0AB8-4F55-A19A-0FCB7571C158}" type="slidenum">
              <a:t>14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Symptoms</a:t>
            </a:r>
            <a:endParaRPr b="1" lang="en-US" sz="4800" spc="-1" strike="noStrike">
              <a:solidFill>
                <a:srgbClr val="ffffff"/>
              </a:solidFill>
              <a:latin typeface="Arial Narrow"/>
            </a:endParaRPr>
          </a:p>
        </p:txBody>
      </p:sp>
      <p:sp>
        <p:nvSpPr>
          <p:cNvPr id="45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the moment the new network was brought online, it was apparent that a problem existed.</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rst noticeable problem was "NFS server not responding; NFS server OK" being spit out by a number of the cross mounted machines</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one engineer noticed that ftp throughput was hovering around 50Kb/sec, well below what a fairly idle Ethernet should be able to handle</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of the SGIs began spitting out "ec0: late collision" on their console.</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 512 bits: normal collision</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t; 546 bits: OK Ethernet packet</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between: late collision</a:t>
            </a:r>
            <a:endParaRPr b="0" lang="en-US" sz="18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ing across the LAN would result in about 5% lost packet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BA6DE2B-4C47-4E1D-B4AA-A854BD46E0D0}" type="slidenum">
              <a:t>14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Diagnosis</a:t>
            </a:r>
            <a:endParaRPr b="1" lang="en-US" sz="4800" spc="-1" strike="noStrike">
              <a:solidFill>
                <a:srgbClr val="ffffff"/>
              </a:solidFill>
              <a:latin typeface="Arial Narrow"/>
            </a:endParaRPr>
          </a:p>
        </p:txBody>
      </p:sp>
      <p:sp>
        <p:nvSpPr>
          <p:cNvPr id="45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the only aspect that had changed was the network media itself,  attention turned to examining the cabling in the walls -- that MUST be the problem!</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umber of tests were run, using a tester similar to the Siemon MD-CAT5.  </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all the wall cabling checked out OK.  </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 it was suspected that one of the hosts had been damaged during the move, and it was causing interference on the Ethernet.</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orts were made to isolate the "broken" host.  In particular, netstat and ping were used as tool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D9CA83B-789B-4EC5-B0F1-3B2BA876858A}" type="slidenum">
              <a:t>14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ddress List Format</a:t>
            </a:r>
            <a:endParaRPr b="1" lang="en-US" sz="4800" spc="-1" strike="noStrike">
              <a:solidFill>
                <a:srgbClr val="ffffff"/>
              </a:solidFill>
              <a:latin typeface="Arial Narrow"/>
            </a:endParaRPr>
          </a:p>
        </p:txBody>
      </p:sp>
      <p:sp>
        <p:nvSpPr>
          <p:cNvPr id="13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 of IP addresses in various format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tted decimal notatio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P prefix in the / notatio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ame of a previously defined address list</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eading ! negates an entr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egated, access is denied</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t, access is permitted</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9DE85E3-50EC-4363-A897-D15D8664A99A}" type="slidenum">
              <a:t>15</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iagnosis (cont.)</a:t>
            </a:r>
            <a:endParaRPr b="1" lang="en-US" sz="4800" spc="-1" strike="noStrike">
              <a:solidFill>
                <a:srgbClr val="ffffff"/>
              </a:solidFill>
              <a:latin typeface="Arial Narrow"/>
            </a:endParaRPr>
          </a:p>
        </p:txBody>
      </p:sp>
      <p:sp>
        <p:nvSpPr>
          <p:cNvPr id="45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itingly, a candidate "broken" host was found.</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an arbitrary workstation on the network, ping worked fairly reliably (2% or less packet loss) to all hosts on the network except the Sun server.</a:t>
            </a:r>
            <a:endParaRPr b="0" lang="en-US" sz="20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netstat -I le0 -i 5</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input   (le0)     output          </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packets errs  packets errs  colls</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86676   8982  85686   9240  92</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256     20     240    16     0    </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350     40     321    51     2 </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79     21     180    10     0</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53     17     128    14     0</a:t>
            </a:r>
            <a:endParaRPr b="0" lang="en-US" sz="12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stat on the Sun server showed an unusual number of input and output errors:</a:t>
            </a:r>
            <a:endParaRPr b="0" lang="en-US" sz="20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early (?), this must be the offending host; its Ethernet interface must be BROKEN.</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BEDF14D-1DFA-4622-8A9F-231DE47313B8}" type="slidenum">
              <a:t>15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iagnosis (cont.)</a:t>
            </a:r>
            <a:endParaRPr b="1" lang="en-US" sz="4800" spc="-1" strike="noStrike">
              <a:solidFill>
                <a:srgbClr val="ffffff"/>
              </a:solidFill>
              <a:latin typeface="Arial Narrow"/>
            </a:endParaRPr>
          </a:p>
        </p:txBody>
      </p:sp>
      <p:sp>
        <p:nvSpPr>
          <p:cNvPr id="46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ot stand-by was put in its place.  </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oblems continued, no better than before.</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lly, someone took a look at the whole picture.</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bling in wall has been certified "OK"</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sts at ends of cables have been certified "OK"</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ould be in-between?</a:t>
            </a:r>
            <a:endParaRPr b="0" lang="en-US" sz="18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lver-satin.  8 conductor silver-satin cable (flat) was used to connect between the wall jack and the host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he Sun had the most simultaneous transmit and receive traffic, it suffered from the largest amount of cross-talk.</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Use twisted-pair hookup and patch cables in a  twisted-pair network!</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57B1898-E10E-408D-8DB8-59B01BBB74FC}" type="slidenum">
              <a:t>15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ase #2:  Ajax Publishing</a:t>
            </a:r>
            <a:endParaRPr b="1" lang="en-US" sz="4800" spc="-1" strike="noStrike">
              <a:solidFill>
                <a:srgbClr val="ffffff"/>
              </a:solidFill>
              <a:latin typeface="Arial Narrow"/>
            </a:endParaRPr>
          </a:p>
        </p:txBody>
      </p:sp>
      <p:sp>
        <p:nvSpPr>
          <p:cNvPr id="46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jax Publishing is a publishing house that prints a weekly newsletter about their Coyote Abatement products.  This is their sole livelihood, no newsletter, no food on the table.</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have approximately 100 hosts on their network, which consists of two physical 10base5 cables connected by a handful of redundant gateway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ir network includes everything from the latest-and-greatest from manufacturers like HP and DEC, to some Sun3s, PCs, Macs, and an IBM mainframe.</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have about 80% TCP/IP and about 20% IPX traffic on their network.</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33E6E84-73A3-43BB-9B05-D505BFC7654C}" type="slidenum">
              <a:t>15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Problem</a:t>
            </a:r>
            <a:endParaRPr b="1" lang="en-US" sz="4800" spc="-1" strike="noStrike">
              <a:solidFill>
                <a:srgbClr val="ffffff"/>
              </a:solidFill>
              <a:latin typeface="Arial Narrow"/>
            </a:endParaRPr>
          </a:p>
        </p:txBody>
      </p:sp>
      <p:sp>
        <p:nvSpPr>
          <p:cNvPr id="46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have a proprietary typesetting system that is used to  typeset the articles in their newsletter.  It too speaks TCP/IP, and is based on PDP 11/34 processors with Excelan Ethernet boards.  They plan on replacing this system "real soon now."  But for  today, this system is mission critical to printing their newsletter.</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risis is thought to have begun months ago, when users started noticing short "hiccups" on the network when using it for interactive application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starting today, the PDP 11/34s refuse to speak to the rest of the network.  HELP!</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wo mission-critical hosts that must speak to each other (the PDP and a Sun) are on different networks.  So, at first a routing problem is suspected.</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FB857C6-9D4B-4BFB-BC94-73DE01C58264}" type="slidenum">
              <a:t>15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Problem (cont.)</a:t>
            </a:r>
            <a:endParaRPr b="1" lang="en-US" sz="4800" spc="-1" strike="noStrike">
              <a:solidFill>
                <a:srgbClr val="ffffff"/>
              </a:solidFill>
              <a:latin typeface="Arial Narrow"/>
            </a:endParaRPr>
          </a:p>
        </p:txBody>
      </p:sp>
      <p:sp>
        <p:nvSpPr>
          <p:cNvPr id="46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ite is running "dynamic" routing (RIP) so that if a gateway fails another one will step in.</a:t>
            </a:r>
            <a:endParaRPr b="0" lang="en-US" sz="20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in.routed -t</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SPONSE from 199.45.198.253.520:        (sun 2)</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0.0.0.0 metric 1</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199.45.197.0 metric 1</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SPONSE from 199.45.198.10.520:</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0.0.0.0 metric 1</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199.45.197.0 metric 1</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SPONSE from 199.45.198.34.520:</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0.0.0.0 metric 1</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199.45.197.0 metric 1</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SPONSE from 199.45.198.254.520:        (sparc 10)</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0.0.0.0 metric 1</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st 199.45.197.0 metric 1</a:t>
            </a:r>
            <a:endParaRPr b="0" lang="en-US" sz="12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 mess!  A variety of gateways all advertise routes to the same net with the same number of hops.  But, the gateways are not equivalent: 199.45.198.253 is a Sun-2, and 199.45.198.254 is a Sparc-10.  </a:t>
            </a:r>
            <a:endParaRPr b="0" lang="en-US" sz="2000" spc="-1" strike="noStrike">
              <a:solidFill>
                <a:srgbClr val="ffffff"/>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23D0875-7B9C-49CA-92C2-3695E17A6C31}" type="slidenum">
              <a:t>15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Diagnosis</a:t>
            </a:r>
            <a:endParaRPr b="1" lang="en-US" sz="4800" spc="-1" strike="noStrike">
              <a:solidFill>
                <a:srgbClr val="ffffff"/>
              </a:solidFill>
              <a:latin typeface="Arial Narrow"/>
            </a:endParaRPr>
          </a:p>
        </p:txBody>
      </p:sp>
      <p:sp>
        <p:nvSpPr>
          <p:cNvPr id="46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folks need to be running  gated(8) rather than routed(8) on their gateways, and artificially weighting the paths.  This is likely the cause of the "hiccups" users reported earlier.</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 if routing is OK, maybe it's the case that the network is too saturated.  Using a PC running LanWatch (from FTP Software), utilization of the network is analyzed.  It peaked around 30% with an average of about 9%.</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about we test the PDP?</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ing the Sun near the PDP (don't try it the other way around!), we constructed a network of just the Sun and the PDP.  That worked fin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85D51E8-580A-4D3E-8412-D5FAE9EC0646}" type="slidenum">
              <a:t>155</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iagnosis (cont.)</a:t>
            </a:r>
            <a:endParaRPr b="1" lang="en-US" sz="4800" spc="-1" strike="noStrike">
              <a:solidFill>
                <a:srgbClr val="ffffff"/>
              </a:solidFill>
              <a:latin typeface="Arial Narrow"/>
            </a:endParaRPr>
          </a:p>
        </p:txBody>
      </p:sp>
      <p:sp>
        <p:nvSpPr>
          <p:cNvPr id="471"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fontScale="96000"/>
          </a:bodyPr>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 far, we have:</a:t>
            </a:r>
            <a:endParaRPr b="0" lang="en-US" sz="2000" spc="-1" strike="noStrike">
              <a:solidFill>
                <a:srgbClr val="ffffff"/>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ied it's not a routing problem</a:t>
            </a:r>
            <a:endParaRPr b="0" lang="en-US" sz="1800" spc="-1" strike="noStrike">
              <a:solidFill>
                <a:srgbClr val="ffffff"/>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ied the Ethernet is operating at a reasonable utilization level</a:t>
            </a:r>
            <a:endParaRPr b="0" lang="en-US" sz="1800" spc="-1" strike="noStrike">
              <a:solidFill>
                <a:srgbClr val="ffffff"/>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ied that other hosts on the network (except the PDP) are happy</a:t>
            </a:r>
            <a:endParaRPr b="0" lang="en-US" sz="1800" spc="-1" strike="noStrike">
              <a:solidFill>
                <a:srgbClr val="ffffff"/>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ied the PDP is operational</a:t>
            </a:r>
            <a:endParaRPr b="0" lang="en-US" sz="1800" spc="-1" strike="noStrike">
              <a:solidFill>
                <a:srgbClr val="ffffff"/>
              </a:solidFill>
              <a:latin typeface="Arial"/>
            </a:endParaRPr>
          </a:p>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could it be?</a:t>
            </a:r>
            <a:endParaRPr b="0" lang="en-US" sz="2000" spc="-1" strike="noStrike">
              <a:solidFill>
                <a:srgbClr val="ffffff"/>
              </a:solidFill>
              <a:latin typeface="Arial"/>
            </a:endParaRPr>
          </a:p>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rather aged member of the network community scratched his head.  What had changed recently on our network? he asked.</a:t>
            </a:r>
            <a:endParaRPr b="0" lang="en-US" sz="2000" spc="-1" strike="noStrike">
              <a:solidFill>
                <a:srgbClr val="ffffff"/>
              </a:solidFill>
              <a:latin typeface="Arial"/>
            </a:endParaRPr>
          </a:p>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young wet-behind-the-ears SA said "well, we've recently upgraded some of the Ethernet cards in the PCs to FASTER ones."</a:t>
            </a:r>
            <a:endParaRPr b="0" lang="en-US" sz="2000" spc="-1" strike="noStrike">
              <a:solidFill>
                <a:srgbClr val="ffffff"/>
              </a:solidFill>
              <a:latin typeface="Arial"/>
            </a:endParaRPr>
          </a:p>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in fact, that led to a hunch later proven by timing measurements: the new high-performance cards "jump" the settling time between packets to gain an edge.  This hopelessly upsets the Excelan cards.</a:t>
            </a:r>
            <a:endParaRPr b="0" lang="en-US" sz="2000" spc="-1" strike="noStrike">
              <a:solidFill>
                <a:srgbClr val="ffffff"/>
              </a:solidFill>
              <a:latin typeface="Arial"/>
            </a:endParaRPr>
          </a:p>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Bridge the PDP onto a separate segment until it can be replaced.</a:t>
            </a:r>
            <a:endParaRPr b="0" lang="en-US" sz="2000" spc="-1" strike="noStrike">
              <a:solidFill>
                <a:srgbClr val="ffffff"/>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2949D8F-4FBD-4404-B591-DC08CEBDFD3E}" type="slidenum">
              <a:t>15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ase #3: SynthTree Laboratories</a:t>
            </a:r>
            <a:endParaRPr b="1" lang="en-US" sz="4800" spc="-1" strike="noStrike">
              <a:solidFill>
                <a:srgbClr val="ffffff"/>
              </a:solidFill>
              <a:latin typeface="Arial Narrow"/>
            </a:endParaRPr>
          </a:p>
        </p:txBody>
      </p:sp>
      <p:sp>
        <p:nvSpPr>
          <p:cNvPr id="47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hTree Labs is an International company with extensive LAN and WAN need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office has its own SA staff, and there is no central coordination.</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ir traffic mix is about 50% TCP/IP and 50% IPX.  </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ir company wide-network consists of over 600 hosts,  ranging from PCs and X-terminals to mainframe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segments are connected together using bridges and "Ethernet Switches", because "it's so much easier to administer"</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remote sites are connected (bridged) via 56KB dedicated circuit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0774CDF-5CF6-460E-87D4-0BDD141BBCCC}" type="slidenum">
              <a:t>15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Problem</a:t>
            </a:r>
            <a:endParaRPr b="1" lang="en-US" sz="4800" spc="-1" strike="noStrike">
              <a:solidFill>
                <a:srgbClr val="ffffff"/>
              </a:solidFill>
              <a:latin typeface="Arial Narrow"/>
            </a:endParaRPr>
          </a:p>
        </p:txBody>
      </p:sp>
      <p:sp>
        <p:nvSpPr>
          <p:cNvPr id="47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etwork is only usable about 50% of the work day.   For about 2 hours in the morning and 2 hours in the afternoon, the network is claimed by users to "stop" Some days, however, are better than other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services are inaccessible -- from printing to email.</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 is furious -- how could this happe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3203F77-AB9C-4C71-9D72-4D9319AE5FA9}" type="slidenum">
              <a:t>15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Diagnosis</a:t>
            </a:r>
            <a:endParaRPr b="1" lang="en-US" sz="4800" spc="-1" strike="noStrike">
              <a:solidFill>
                <a:srgbClr val="ffffff"/>
              </a:solidFill>
              <a:latin typeface="Arial Narrow"/>
            </a:endParaRPr>
          </a:p>
        </p:txBody>
      </p:sp>
      <p:sp>
        <p:nvSpPr>
          <p:cNvPr id="47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netstat -I le0 -i 5</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input   (le0)     output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packets errs  packets errs  colls</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33     0     59      0     0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00     0     33      0     30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59     0     29      0     3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21     0     28      0     4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54     0     61      0     0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08     0     43      0     1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88     0     75      0     0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31     0     67      0     52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92     0     97      0     0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65     0     73      0     1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38     0     99      0     0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07     0     61      0     3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22     0     33      0     0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32      0     20      0     17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03     0     30      0     0  </a:t>
            </a:r>
            <a:endParaRPr b="0" lang="en-US" sz="12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how collisions skyrocket at regular intervals -- approximately every 30 seconds.  This is the first clu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AAD7039-4D9C-491F-8FC0-1510F410B5D4}" type="slidenum">
              <a:t>15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ddress Lists, cont.</a:t>
            </a:r>
            <a:endParaRPr b="1" lang="en-US" sz="4800" spc="-1" strike="noStrike">
              <a:solidFill>
                <a:srgbClr val="ffffff"/>
              </a:solidFill>
              <a:latin typeface="Arial Narrow"/>
            </a:endParaRPr>
          </a:p>
        </p:txBody>
      </p:sp>
      <p:sp>
        <p:nvSpPr>
          <p:cNvPr id="13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comparing addresses, the first match is used</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ies that if you have nested sets of addresses, the more specific must go first</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1.2.3/24; is followed by ! 1.2.3.13; 1.2.3.13 is allowed through</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t use ! 1.2.3.13; followed by 1.2.3/24 to block host 13 but allow other hosts on the 1.2.3/24 net</a:t>
            </a:r>
            <a:endParaRPr b="0" lang="en-US" sz="18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 Lists are defined with the acl keyword and used with the topology, allow-query, allow-transfer, and allow-update option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9A2AF2D-CCDC-43AD-8AE0-14C4114F19C0}" type="slidenum">
              <a:t>1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iagnosis (cont.)</a:t>
            </a:r>
            <a:endParaRPr b="1" lang="en-US" sz="4800" spc="-1" strike="noStrike">
              <a:solidFill>
                <a:srgbClr val="ffffff"/>
              </a:solidFill>
              <a:latin typeface="Arial Narrow"/>
            </a:endParaRPr>
          </a:p>
        </p:txBody>
      </p:sp>
      <p:sp>
        <p:nvSpPr>
          <p:cNvPr id="47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4:35:01.589490 bulldozer.xor.com.525 &gt; 192.108.21.255.525: udp 76</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4:35:01.590005 bulldozer.xor.com.525 &gt; 192.108.21.255.525: udp 76</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4:35:01.590340 bulldozer.xor.com.525 &gt; 192.108.21.255.525: udp 76</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4:35:01.790240 phone.xor.com.525 &gt; 192.108.21.0.527: udp 76</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4:35:02.090100 phone.xor.com.525 &gt; 192.108.21.0.527: udp 76</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14:35:02.221030 phone.xor.com.525 &gt; 192.108.21.0.527: udp 76</a:t>
            </a:r>
            <a:endParaRPr b="0" lang="en-US" sz="12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could those bursts of collisions be from?   tcpdump shows us the actual traffic during those period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adcast traffic with mis-matched broadcast address</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lldozer thinks 255</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ne thinks 0</a:t>
            </a:r>
            <a:endParaRPr b="0" lang="en-US" sz="18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ket's hardware address is broadcast, but IP doesnt recognize the 0 as broadcast and so forwards the packet, on and on.</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69E2034-CFCC-4AF1-B68C-4FB084A822C8}" type="slidenum">
              <a:t>16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iagnosis (cont.)</a:t>
            </a:r>
            <a:endParaRPr b="1" lang="en-US" sz="4800" spc="-1" strike="noStrike">
              <a:solidFill>
                <a:srgbClr val="ffffff"/>
              </a:solidFill>
              <a:latin typeface="Arial Narrow"/>
            </a:endParaRPr>
          </a:p>
        </p:txBody>
      </p:sp>
      <p:sp>
        <p:nvSpPr>
          <p:cNvPr id="48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adcast traffic!  Since the bridges provide no firewall against broadcast traffic, broadcast "storms" are taking over the network</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1:  Look around for mis-configured hosts, hosts that do not match the specified broadcast addres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2: Turn off routed, rwhod, and other broadcast generators on everywhere but essential host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AA8BF67-96FD-4A02-A54C-F2DD9A02BF80}" type="slidenum">
              <a:t>16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ase #4: Web-footed Nation, Inc.</a:t>
            </a:r>
            <a:endParaRPr b="1" lang="en-US" sz="4800" spc="-1" strike="noStrike">
              <a:solidFill>
                <a:srgbClr val="ffffff"/>
              </a:solidFill>
              <a:latin typeface="Arial Narrow"/>
            </a:endParaRPr>
          </a:p>
        </p:txBody>
      </p:sp>
      <p:sp>
        <p:nvSpPr>
          <p:cNvPr id="48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footed Nation, Inc. recently moved their web server from an NT box to a UNIX-based box</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ir web traffic has been steadily increasing</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have a SPARC running Solaris 2.5 that acts as their web server.  It's a speedy little box, as Solaris go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box is also responsible for services such as email, and anonymous ftp.</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un the Apache web server, so it's gotta be good</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4C606DB-0F53-455D-98B5-1AA76FA1F1E9}" type="slidenum">
              <a:t>16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Symptoms</a:t>
            </a:r>
            <a:endParaRPr b="1" lang="en-US" sz="4800" spc="-1" strike="noStrike">
              <a:solidFill>
                <a:srgbClr val="ffffff"/>
              </a:solidFill>
              <a:latin typeface="Arial Narrow"/>
            </a:endParaRPr>
          </a:p>
        </p:txBody>
      </p:sp>
      <p:sp>
        <p:nvSpPr>
          <p:cNvPr id="48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a "good day" (i.e., when IP connectivity to most locations is stable), the web server is happy as a clam</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bad days, users often see "server is down or unreachable" or broken images, even when reachability to their site isn't affected</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ine load average is low (less than 0.20)</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bad" times, "telnet localhost 80" times out</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service is not in use (no reverse lookups for connection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4B11CA7-5DA5-4B65-907B-851584E7F08A}" type="slidenum">
              <a:t>16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inding the Cause</a:t>
            </a:r>
            <a:endParaRPr b="1" lang="en-US" sz="4800" spc="-1" strike="noStrike">
              <a:solidFill>
                <a:srgbClr val="ffffff"/>
              </a:solidFill>
              <a:latin typeface="Arial Narrow"/>
            </a:endParaRPr>
          </a:p>
        </p:txBody>
      </p:sp>
      <p:sp>
        <p:nvSpPr>
          <p:cNvPr id="48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dump(1) of traffic inbound to the web server show that  connection requests arrived (SYN) and are acknowledged (SYN-ACK) but open acknowledgement (ACK) isn't received by web server from remote host</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stat -A -n" shows that a number of connections in SYN_RCVD stat.  </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stat -A -n | grep SYN_RCVD | wc -l" always shows 5 connections in this state during the bad times, and a smaller number at other time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ons in this state tie up a slot in the "unaccepted socket queue", often referred to as the listen() queue.</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ize of this queue needs to be adjusted on machines, such as web servers or mail hubs, that have lots of contact with the outside world</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936E213-1012-4B37-ABD5-49C1F973A90F}" type="slidenum">
              <a:t>16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Fix</a:t>
            </a:r>
            <a:endParaRPr b="1" lang="en-US" sz="4800" spc="-1" strike="noStrike">
              <a:solidFill>
                <a:srgbClr val="ffffff"/>
              </a:solidFill>
              <a:latin typeface="Arial Narrow"/>
            </a:endParaRPr>
          </a:p>
        </p:txBody>
      </p:sp>
      <p:sp>
        <p:nvSpPr>
          <p:cNvPr id="48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Solaris, you can adjust the size of this queue with the ndd(1m) command:</a:t>
            </a:r>
            <a:endParaRPr b="0" lang="en-US" sz="2000" spc="-1" strike="noStrike">
              <a:solidFill>
                <a:srgbClr val="ffffff"/>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ndd -set /dev/tcp tcp_conn_req_max 32</a:t>
            </a:r>
            <a:endParaRPr b="0" lang="en-US" sz="14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der IRIX, modify the value of </a:t>
            </a:r>
            <a:r>
              <a:rPr b="1" lang="en-US" sz="2000" spc="-1" strike="noStrike">
                <a:solidFill>
                  <a:srgbClr val="ffffff"/>
                </a:solidFill>
                <a:latin typeface="Courier New"/>
              </a:rPr>
              <a:t>somaxconn</a:t>
            </a:r>
            <a:r>
              <a:rPr b="0" lang="en-US" sz="2000" spc="-1" strike="noStrike">
                <a:solidFill>
                  <a:srgbClr val="ffffff"/>
                </a:solidFill>
                <a:latin typeface="Arial"/>
              </a:rPr>
              <a:t> in /var/sysgen/master.d/bsd:</a:t>
            </a:r>
            <a:endParaRPr b="0" lang="en-US" sz="20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int somaxconn = 32;</a:t>
            </a:r>
            <a:endParaRPr b="0" lang="en-US" sz="14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der BSD/OS, you can declare it as an option in your kernel config file:</a:t>
            </a:r>
            <a:endParaRPr b="0" lang="en-US" sz="2000" spc="-1" strike="noStrike">
              <a:solidFill>
                <a:srgbClr val="ffffff"/>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options "SOMAXCONN=32"</a:t>
            </a:r>
            <a:endParaRPr b="0" lang="en-US" sz="14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der SunOS, you have to replace/edit uipc_socket.o</a:t>
            </a:r>
            <a:endParaRPr b="0" lang="en-US" sz="2000" spc="-1" strike="noStrike">
              <a:solidFill>
                <a:srgbClr val="ffffff"/>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http://www1.islandnet.com/~mark/somaxconn.html</a:t>
            </a:r>
            <a:endParaRPr b="0" lang="en-US" sz="1400" spc="-1" strike="noStrike">
              <a:solidFill>
                <a:srgbClr val="ffffff"/>
              </a:solidFill>
              <a:latin typeface="Arial"/>
            </a:endParaRPr>
          </a:p>
          <a:p>
            <a:pPr lvl="1" marL="735480" indent="-28296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details, see</a:t>
            </a:r>
            <a:endParaRPr b="0" lang="en-US" sz="1800" spc="-1" strike="noStrike">
              <a:solidFill>
                <a:srgbClr val="ffffff"/>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program to change uipc_socket.o</a:t>
            </a:r>
            <a:endParaRPr b="0" lang="en-US" sz="1600" spc="-1" strike="noStrike">
              <a:solidFill>
                <a:srgbClr val="ffffff"/>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te offsets to use adb or an editor to change</a:t>
            </a:r>
            <a:endParaRPr b="0" lang="en-US" sz="1600" spc="-1" strike="noStrike">
              <a:solidFill>
                <a:srgbClr val="ffffff"/>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fferences in the od (octal dump) output before and after the fix</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63D1960-EC67-4B9B-BA50-25609749F737}" type="slidenum">
              <a:t>165</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ase #5: AmeriRodent, Inc.</a:t>
            </a:r>
            <a:endParaRPr b="1" lang="en-US" sz="4800" spc="-1" strike="noStrike">
              <a:solidFill>
                <a:srgbClr val="ffffff"/>
              </a:solidFill>
              <a:latin typeface="Arial Narrow"/>
            </a:endParaRPr>
          </a:p>
        </p:txBody>
      </p:sp>
      <p:sp>
        <p:nvSpPr>
          <p:cNvPr id="49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eriRodent, Inc. recently moved into a new office building</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apidly expanding cheese delivery enterprise, they added another  28 desktops to their network following the move</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ve primarily Sun servers and NCD xterminal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er service representatives run an X-based GUI to assist customers with complaints about late cheese deliverie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based GUI interact with a herd of commercial database servers, also attached to the network</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ed response time to user queries is less than 5 second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A61839A-9908-4467-A73D-8749B9A703F3}" type="slidenum">
              <a:t>16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Symptoms</a:t>
            </a:r>
            <a:endParaRPr b="1" lang="en-US" sz="4800" spc="-1" strike="noStrike">
              <a:solidFill>
                <a:srgbClr val="ffffff"/>
              </a:solidFill>
              <a:latin typeface="Arial Narrow"/>
            </a:endParaRPr>
          </a:p>
        </p:txBody>
      </p:sp>
      <p:sp>
        <p:nvSpPr>
          <p:cNvPr id="49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er service agents report response times are much longer then 5 seconds, sometimes closer to 300.  "Worked fine when we were in our old office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of the X-terminals appear to "freeze" when starting new applications, sometimes for minutes at a time.   "Never did this in the old office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 was so unhappy with network performance, they handed pink slips to all the sys admins and hired an "outsourcing" firm to "fix their network"</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sourcing firm is still "looking into the cause of the problem"</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E65B31A-4DD0-42ED-91BE-F94443E66A10}" type="slidenum">
              <a:t>16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Diagnosis</a:t>
            </a:r>
            <a:endParaRPr b="1" lang="en-US" sz="4800" spc="-1" strike="noStrike">
              <a:solidFill>
                <a:srgbClr val="ffffff"/>
              </a:solidFill>
              <a:latin typeface="Arial Narrow"/>
            </a:endParaRPr>
          </a:p>
        </p:txBody>
      </p:sp>
      <p:sp>
        <p:nvSpPr>
          <p:cNvPr id="49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and physicals maps of network were requested.  None exist, or left the company when the sys admin staff was fired.</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ed rough mapping by hand.  Network is constructed of a single logical 10baseT Ethernet, with approximately 230 hosts on the segment.</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ided to measure network utilization.  Segment is over 80%  sustained utilization</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hernet knee</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1" lang="en-US" sz="1800" spc="-1" strike="noStrike">
                <a:solidFill>
                  <a:srgbClr val="ffffff"/>
                </a:solidFill>
                <a:latin typeface="Courier New"/>
              </a:rPr>
              <a:t>netstat -ni</a:t>
            </a:r>
            <a:r>
              <a:rPr b="0" lang="en-US" sz="1800" spc="-1" strike="noStrike">
                <a:solidFill>
                  <a:srgbClr val="ffffff"/>
                </a:solidFill>
                <a:latin typeface="Arial"/>
              </a:rPr>
              <a:t> to see collision rate</a:t>
            </a:r>
            <a:endParaRPr b="0" lang="en-US" sz="18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ignificant percentage of usage is NFS ... from the X-terminals. Rather than tftp fonts, they mount them via NFS.  [explains X-terminal freeze-up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90793FC-278A-4410-990F-31ED4288FAF2}" type="slidenum">
              <a:t>16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Fix</a:t>
            </a:r>
            <a:endParaRPr b="1" lang="en-US" sz="4800" spc="-1" strike="noStrike">
              <a:solidFill>
                <a:srgbClr val="ffffff"/>
              </a:solidFill>
              <a:latin typeface="Arial Narrow"/>
            </a:endParaRPr>
          </a:p>
        </p:txBody>
      </p:sp>
      <p:sp>
        <p:nvSpPr>
          <p:cNvPr id="49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 workstations on a single segment to 15-20 per segment</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X-terminal fonts don't use NFS with UDP (no congestion avoidance, so is terrible for a congested network)</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ftp or NFS over TCP</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use a font server if a small group of folks are sharing lots of fonts; can become a bottleneck if too heavily used</a:t>
            </a:r>
            <a:endParaRPr b="0" lang="en-US" sz="18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segments together via a router or a switch, with  high bandwidth connections for primary servers (100baseT, etc.).</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oid hiring "outsourcing" firms who are not familiar with TCP/IP and Ethernet to do network debugging</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413C06E-6367-48AC-B2F2-C420837F4B79}" type="slidenum">
              <a:t>16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Global Options</a:t>
            </a:r>
            <a:endParaRPr b="1" lang="en-US" sz="4800" spc="-1" strike="noStrike">
              <a:solidFill>
                <a:srgbClr val="ffffff"/>
              </a:solidFill>
              <a:latin typeface="Arial Narrow"/>
            </a:endParaRPr>
          </a:p>
        </p:txBody>
      </p:sp>
      <p:sp>
        <p:nvSpPr>
          <p:cNvPr id="13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s of global options, 31 to be exact</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on of servers working director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on of binari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on of pid fil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ther to be a recursive serv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ther to answer at all (access lists)</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 of hosts allowed to query server, defaults to allow all queries from all host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 of hosts allowed to receive zone transfers, defaults to allow transfers to any host</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55FC288-C6E6-43C0-9C13-05E3B0010657}" type="slidenum">
              <a:t>1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ase #6: Green Fountain Labs, Inc.</a:t>
            </a:r>
            <a:endParaRPr b="1" lang="en-US" sz="4800" spc="-1" strike="noStrike">
              <a:solidFill>
                <a:srgbClr val="ffffff"/>
              </a:solidFill>
              <a:latin typeface="Arial Narrow"/>
            </a:endParaRPr>
          </a:p>
        </p:txBody>
      </p:sp>
      <p:sp>
        <p:nvSpPr>
          <p:cNvPr id="49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en Fountain Labs, Inc. has been on the Internet for over 3 year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ir Internet connection is an important research tool, and provides information about their Fountain-coloring products to potential customer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have a packet-filtering firewall on their router, together with  a software firewall on their UNIX box  (including COPS and Crack).</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inced they've done enough, they weren't too concerned about network security</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E1A7039-A443-4D77-9AF1-4739B90797FC}" type="slidenum">
              <a:t>17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Problem</a:t>
            </a:r>
            <a:endParaRPr b="1" lang="en-US" sz="4800" spc="-1" strike="noStrike">
              <a:solidFill>
                <a:srgbClr val="ffffff"/>
              </a:solidFill>
              <a:latin typeface="Arial Narrow"/>
            </a:endParaRPr>
          </a:p>
        </p:txBody>
      </p:sp>
      <p:sp>
        <p:nvSpPr>
          <p:cNvPr id="50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day, a user logs in to discover that her home directory is filled with files she didn't put there -- including password files from other machines, etc.</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calls the system administrator, who correctly identifies the problem as a potential security breach.  He tells her to change her password right away.</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the days go by, more and more users find strange things lying around. The system administrator notices unusual log messages like "su root succeeded for jsmith" when jsmith is not a sys admin</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administrator goes on vacation.  Junior system administrator assigned to watch machine in his absence discovers that the machine is a "hacker nest", with 10 or more unauthorized users on at a tim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8152DBE-3B17-4F9F-A878-1B8EEE0CD03D}" type="slidenum">
              <a:t>17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What Happened?</a:t>
            </a:r>
            <a:endParaRPr b="1" lang="en-US" sz="4800" spc="-1" strike="noStrike">
              <a:solidFill>
                <a:srgbClr val="ffffff"/>
              </a:solidFill>
              <a:latin typeface="Arial Narrow"/>
            </a:endParaRPr>
          </a:p>
        </p:txBody>
      </p:sp>
      <p:sp>
        <p:nvSpPr>
          <p:cNvPr id="50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itimate user probably logged in from outside world and password as "sniffed"</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passwords on this machine are "reusable", hacker could log in under that account</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shadow passwords were not used on this machine, hacker could try to "Crack" password file to find other accounts. </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 admin hadn't installed vendor security fixes, so hacker could also get root.</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 admin ignored weekly mail from Crack which indicated problems with some password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8C5877C-2F50-4424-83B0-DB2406C051A4}" type="slidenum">
              <a:t>17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ISP Account Management</a:t>
            </a:r>
            <a:endParaRPr b="1" lang="en-US" sz="6600" spc="-1" strike="noStrike">
              <a:solidFill>
                <a:srgbClr val="ffffff"/>
              </a:solidFill>
              <a:latin typeface="Arial Narrow"/>
            </a:endParaRPr>
          </a:p>
        </p:txBody>
      </p:sp>
      <p:sp>
        <p:nvSpPr>
          <p:cNvPr id="505"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COT200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oul, South Kore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 Dijke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netrack.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ccount Management</a:t>
            </a:r>
            <a:endParaRPr b="1" lang="en-US" sz="4800" spc="-1" strike="noStrike">
              <a:solidFill>
                <a:srgbClr val="ffffff"/>
              </a:solidFill>
              <a:latin typeface="Arial Narrow"/>
            </a:endParaRPr>
          </a:p>
        </p:txBody>
      </p:sp>
      <p:sp>
        <p:nvSpPr>
          <p:cNvPr id="50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Adduser</a:t>
            </a:r>
            <a:r>
              <a:rPr b="0" lang="en-US" sz="2400" spc="-1" strike="noStrike">
                <a:solidFill>
                  <a:srgbClr val="ffffff"/>
                </a:solidFill>
                <a:latin typeface="Arial"/>
              </a:rPr>
              <a:t> Program</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rst job of a Sys Admin is often to write an </a:t>
            </a:r>
            <a:r>
              <a:rPr b="0" lang="en-US" sz="2000" spc="-1" strike="noStrike">
                <a:solidFill>
                  <a:srgbClr val="ffffff"/>
                </a:solidFill>
                <a:latin typeface="Courier New"/>
              </a:rPr>
              <a:t>adduser</a:t>
            </a:r>
            <a:r>
              <a:rPr b="0" lang="en-US" sz="2000" spc="-1" strike="noStrike">
                <a:solidFill>
                  <a:srgbClr val="ffffff"/>
                </a:solidFill>
                <a:latin typeface="Arial"/>
              </a:rPr>
              <a:t> program to implement user policy:</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can have an account</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he account is configured</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services does the account allow</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at an ISP, user accounts need to include information to track and bill their usag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pancies between what is billed and what is possible in the system configuration means LOST REVENU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n’t think your customers won’t notic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39FD966-96BD-4188-BAFB-5FC809950D21}" type="slidenum">
              <a:t>174</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Billing Integration</a:t>
            </a:r>
            <a:endParaRPr b="1" lang="en-US" sz="4800" spc="-1" strike="noStrike">
              <a:solidFill>
                <a:srgbClr val="ffffff"/>
              </a:solidFill>
              <a:latin typeface="Arial Narrow"/>
            </a:endParaRPr>
          </a:p>
        </p:txBody>
      </p:sp>
      <p:sp>
        <p:nvSpPr>
          <p:cNvPr id="50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you thought billing wasn’t your problem</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ers are charged for their system usag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requires:</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king usage</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ing use to only that which is paid for</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ting usage data into the billing system</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most Accounts Receivable managers know nothing about computers, guess who’s job it is to make this work.</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after it is setup and working, the Sys Admin must consider impact to billing issue for any system chang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BF16464-CE7F-42CC-B1AF-000DB43AA38B}" type="slidenum">
              <a:t>175</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Billing Example</a:t>
            </a:r>
            <a:endParaRPr b="1" lang="en-US" sz="4800" spc="-1" strike="noStrike">
              <a:solidFill>
                <a:srgbClr val="ffffff"/>
              </a:solidFill>
              <a:latin typeface="Arial Narrow"/>
            </a:endParaRPr>
          </a:p>
        </p:txBody>
      </p:sp>
      <p:sp>
        <p:nvSpPr>
          <p:cNvPr id="51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e an ISP that has a terminal server (Livingston Portmaster let’s say) and sells PPP accounts on the portmaster.</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you process the portmaster logs to charge customers by the hour for usag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you disable the features of the portmaster you don’t want your customers accessing, such as the ability to directly telnet from the portmaster command?</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use dynamic IP addresses, how do you track reported illicit activitie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you get the usage data from the portmaster into a system to bill it to your client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you ensure that sessions aren’t billed twice or not at all?</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081BC1D-AADF-4268-B4DD-56349E42F726}" type="slidenum">
              <a:t>176</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ccounts Receivable Software</a:t>
            </a:r>
            <a:endParaRPr b="1" lang="en-US" sz="4800" spc="-1" strike="noStrike">
              <a:solidFill>
                <a:srgbClr val="ffffff"/>
              </a:solidFill>
              <a:latin typeface="Arial Narrow"/>
            </a:endParaRPr>
          </a:p>
        </p:txBody>
      </p:sp>
      <p:sp>
        <p:nvSpPr>
          <p:cNvPr id="51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need to ask yourself those questions for every service you offer to your customer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many things you can do to make this much easier for each system.</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ll need some databases:</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ral billing account database - one entry per billable customer</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database - one entry per authorized user</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database - one entry per type of service available</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t integrated databases, then written or at least well-known processes to keep things in sync.</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ll need COMMERCIAL Accounts Receivable softwar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9C5546B-08A0-4A66-90A6-ED5A5932EAB6}" type="slidenum">
              <a:t>177</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ccounts Receivable Software</a:t>
            </a:r>
            <a:endParaRPr b="1" lang="en-US" sz="4800" spc="-1" strike="noStrike">
              <a:solidFill>
                <a:srgbClr val="ffffff"/>
              </a:solidFill>
              <a:latin typeface="Arial Narrow"/>
            </a:endParaRPr>
          </a:p>
        </p:txBody>
      </p:sp>
      <p:sp>
        <p:nvSpPr>
          <p:cNvPr id="51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write your own. It’s a bigger job than you think, and it has already been done real accounting professionals. So it’s a waste of your time.</a:t>
            </a:r>
            <a:endParaRPr b="0" lang="en-US" sz="2400" spc="-1" strike="noStrike">
              <a:solidFill>
                <a:srgbClr val="ffffff"/>
              </a:solidFill>
              <a:latin typeface="Arial"/>
            </a:endParaRPr>
          </a:p>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you may have to in extremely complex custom situations.</a:t>
            </a:r>
            <a:endParaRPr b="0" lang="en-US" sz="2400" spc="-1" strike="noStrike">
              <a:solidFill>
                <a:srgbClr val="ffffff"/>
              </a:solidFill>
              <a:latin typeface="Arial"/>
            </a:endParaRPr>
          </a:p>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e AR software with the following capabilities:</a:t>
            </a:r>
            <a:endParaRPr b="0" lang="en-US" sz="24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izable customer records</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 charges from external data files</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rt customer database</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tracking</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ctions reporting</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11D6274-9D95-4C3A-B45D-0AF9F5037687}" type="slidenum">
              <a:t>178</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ustomer Database</a:t>
            </a:r>
            <a:endParaRPr b="1" lang="en-US" sz="4800" spc="-1" strike="noStrike">
              <a:solidFill>
                <a:srgbClr val="ffffff"/>
              </a:solidFill>
              <a:latin typeface="Arial Narrow"/>
            </a:endParaRPr>
          </a:p>
        </p:txBody>
      </p:sp>
      <p:sp>
        <p:nvSpPr>
          <p:cNvPr id="51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ustomer database is usually implemented in the AR softwar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must be linked to the User database - to track which user accounts are billed to which customer.</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 is usually by a customer number added to the user databas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B82F916-B7C3-412D-964C-9B1124BB27AE}" type="slidenum">
              <a:t>179</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ore Options</a:t>
            </a:r>
            <a:endParaRPr b="1" lang="en-US" sz="4800" spc="-1" strike="noStrike">
              <a:solidFill>
                <a:srgbClr val="ffffff"/>
              </a:solidFill>
              <a:latin typeface="Arial Narrow"/>
            </a:endParaRPr>
          </a:p>
        </p:txBody>
      </p:sp>
      <p:sp>
        <p:nvSpPr>
          <p:cNvPr id="13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to do if name checking fails</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master zone, defaults to fail: log and reject bad data</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slave zones, defaults to warn: log but continuing processing</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responses, defaults to ignore: don't check</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 limiting parameters, memory usage, files, stack siz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to listen for queries, IP address and por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o forwarders are, IP addres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ology hints re. closeness of serve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one transfer control</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new format that puts multiple answers in one packet, faster, V8 only</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limit max time and size for inbound transfer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A913B20-1495-49B0-8455-716CD439C32A}" type="slidenum">
              <a:t>1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ustomer Database</a:t>
            </a:r>
            <a:endParaRPr b="1" lang="en-US" sz="4800" spc="-1" strike="noStrike">
              <a:solidFill>
                <a:srgbClr val="ffffff"/>
              </a:solidFill>
              <a:latin typeface="Arial Narrow"/>
            </a:endParaRPr>
          </a:p>
        </p:txBody>
      </p:sp>
      <p:sp>
        <p:nvSpPr>
          <p:cNvPr id="51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base Field Examples</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er Nam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lling Addres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lling Period (monthly, quarterly, annually)</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Billing arrangements (discount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lling method (paper, email, credit card)</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yment method (check, credit card, electronic draft)</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ount status (active, overdue, suspended, cancelled)</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ation Dat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iration Date if any</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lling history and/or balanc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yment history</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37E397A-C764-4F93-93D4-EFF4CB906BE3}" type="slidenum">
              <a:t>180</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ustomer Database</a:t>
            </a:r>
            <a:endParaRPr b="1" lang="en-US" sz="4800" spc="-1" strike="noStrike">
              <a:solidFill>
                <a:srgbClr val="ffffff"/>
              </a:solidFill>
              <a:latin typeface="Arial Narrow"/>
            </a:endParaRPr>
          </a:p>
        </p:txBody>
      </p:sp>
      <p:sp>
        <p:nvSpPr>
          <p:cNvPr id="52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base Field Examples (continued)</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lling rate plan </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ct person for bill payment issues</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ice telephone number</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x number</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ail address</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ct person for administrative issues (like security)</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ice telephone number</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x number</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ail address</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ct person for specific technical issues: DNS, News, Postmaster</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E3EB295-FBE0-41DA-AF41-18869C8F1D59}" type="slidenum">
              <a:t>181</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ser Database</a:t>
            </a:r>
            <a:endParaRPr b="1" lang="en-US" sz="4800" spc="-1" strike="noStrike">
              <a:solidFill>
                <a:srgbClr val="ffffff"/>
              </a:solidFill>
              <a:latin typeface="Arial Narrow"/>
            </a:endParaRPr>
          </a:p>
        </p:txBody>
      </p:sp>
      <p:sp>
        <p:nvSpPr>
          <p:cNvPr id="52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atabase will correspond to each separately billable item. For example, a PPP user, a special web page, DNS service, etc.</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ser database should be used to directly build the system configuration files such as:</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passwd</a:t>
            </a:r>
            <a:r>
              <a:rPr b="0" lang="en-US" sz="2000" spc="-1" strike="noStrike">
                <a:solidFill>
                  <a:srgbClr val="ffffff"/>
                </a:solidFill>
                <a:latin typeface="Arial"/>
              </a:rPr>
              <a:t> file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radiusd</a:t>
            </a:r>
            <a:r>
              <a:rPr b="0" lang="en-US" sz="2000" spc="-1" strike="noStrike">
                <a:solidFill>
                  <a:srgbClr val="ffffff"/>
                </a:solidFill>
                <a:latin typeface="Arial"/>
              </a:rPr>
              <a:t> password file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NS named.boot</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 virtual host</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 aliases file</a:t>
            </a:r>
            <a:endParaRPr b="0" lang="en-US" sz="20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ill ensure that your configuration files and billing data are kept in sync.</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2E4C605-35FE-47B4-B8A9-D09EDB05A49B}" type="slidenum">
              <a:t>182</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ser Database</a:t>
            </a:r>
            <a:endParaRPr b="1" lang="en-US" sz="4800" spc="-1" strike="noStrike">
              <a:solidFill>
                <a:srgbClr val="ffffff"/>
              </a:solidFill>
              <a:latin typeface="Arial Narrow"/>
            </a:endParaRPr>
          </a:p>
        </p:txBody>
      </p:sp>
      <p:sp>
        <p:nvSpPr>
          <p:cNvPr id="52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mary key for the User database would be a unique name for each user servic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should contain any and all definable user-specific service that may ever get billed.</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record must link to Customer database for billing. This would usually be by including a Customer number in each record.</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32B393A-2716-4C85-8187-2DE3F64145FB}" type="slidenum">
              <a:t>183</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ser Database</a:t>
            </a:r>
            <a:endParaRPr b="1" lang="en-US" sz="4800" spc="-1" strike="noStrike">
              <a:solidFill>
                <a:srgbClr val="ffffff"/>
              </a:solidFill>
              <a:latin typeface="Arial Narrow"/>
            </a:endParaRPr>
          </a:p>
        </p:txBody>
      </p:sp>
      <p:sp>
        <p:nvSpPr>
          <p:cNvPr id="52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atabase will need to have variable fields depending on the type of “user”. For exampl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 POP</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box 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wor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 server 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s full name</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 MAIL ALIA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 alias 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 addres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79CBA01-0077-42E8-A334-1B03958E80F9}" type="slidenum">
              <a:t>184</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ser Database</a:t>
            </a:r>
            <a:endParaRPr b="1" lang="en-US" sz="4800" spc="-1" strike="noStrike">
              <a:solidFill>
                <a:srgbClr val="ffffff"/>
              </a:solidFill>
              <a:latin typeface="Arial Narrow"/>
            </a:endParaRPr>
          </a:p>
        </p:txBody>
      </p:sp>
      <p:sp>
        <p:nvSpPr>
          <p:cNvPr id="52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 UNIX SHELL</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n 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wor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I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me director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s full 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ll</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ible server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E542259-A1A1-4E7F-82B4-CE72A7380557}" type="slidenum">
              <a:t>185</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ser Database</a:t>
            </a:r>
            <a:endParaRPr b="1" lang="en-US" sz="4800" spc="-1" strike="noStrike">
              <a:solidFill>
                <a:srgbClr val="ffffff"/>
              </a:solidFill>
              <a:latin typeface="Arial Narrow"/>
            </a:endParaRPr>
          </a:p>
        </p:txBody>
      </p:sp>
      <p:sp>
        <p:nvSpPr>
          <p:cNvPr id="53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 PPP</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n 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wor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hentication option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PP option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ible terminal serve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 DNS domai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main 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 type (primary or secondar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server IP address or file name of zone data</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304BC9E-7435-471E-92BC-F69E5C73B7EA}" type="slidenum">
              <a:t>186</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ser Database</a:t>
            </a:r>
            <a:endParaRPr b="1" lang="en-US" sz="4800" spc="-1" strike="noStrike">
              <a:solidFill>
                <a:srgbClr val="ffffff"/>
              </a:solidFill>
              <a:latin typeface="Arial Narrow"/>
            </a:endParaRPr>
          </a:p>
        </p:txBody>
      </p:sp>
      <p:sp>
        <p:nvSpPr>
          <p:cNvPr id="53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 VIRTUAL WEB HOST</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ual web server 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 server 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 IP addres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cument roo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min email addres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 file location</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 IP NETWORK NUMBER</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numb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mask</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teway</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02A6DBE-D9DD-4566-87E7-1333EB483946}" type="slidenum">
              <a:t>187</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ser Database</a:t>
            </a:r>
            <a:endParaRPr b="1" lang="en-US" sz="4800" spc="-1" strike="noStrike">
              <a:solidFill>
                <a:srgbClr val="ffffff"/>
              </a:solidFill>
              <a:latin typeface="Arial Narrow"/>
            </a:endParaRPr>
          </a:p>
        </p:txBody>
      </p:sp>
      <p:sp>
        <p:nvSpPr>
          <p:cNvPr id="53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 IP HOST NUMBER (static)</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P addres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t name</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 MAILING LIST</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ing list 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ing list manag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c/privat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rated &amp; moderato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fil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of recipient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913949D-83B9-4A26-AA25-39D44F5D3F3F}" type="slidenum">
              <a:t>188</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Putting it all together</a:t>
            </a:r>
            <a:endParaRPr b="1" lang="en-US" sz="4800" spc="-1" strike="noStrike">
              <a:solidFill>
                <a:srgbClr val="ffffff"/>
              </a:solidFill>
              <a:latin typeface="Arial Narrow"/>
            </a:endParaRPr>
          </a:p>
        </p:txBody>
      </p:sp>
      <p:sp>
        <p:nvSpPr>
          <p:cNvPr id="53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write </a:t>
            </a:r>
            <a:r>
              <a:rPr b="0" lang="en-US" sz="2400" spc="-1" strike="noStrike">
                <a:solidFill>
                  <a:srgbClr val="ffffff"/>
                </a:solidFill>
                <a:latin typeface="Courier New"/>
              </a:rPr>
              <a:t>adduser</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pt for customer name/number</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existence and statu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pt for user nam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unique/availabl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pt for user type and other information</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input</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to User databas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E397C50-22BE-4BF6-B70A-F14574E7D654}" type="slidenum">
              <a:t>189</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erver Specification</a:t>
            </a:r>
            <a:endParaRPr b="1" lang="en-US" sz="4800" spc="-1" strike="noStrike">
              <a:solidFill>
                <a:srgbClr val="ffffff"/>
              </a:solidFill>
              <a:latin typeface="Arial Narrow"/>
            </a:endParaRPr>
          </a:p>
        </p:txBody>
      </p:sp>
      <p:sp>
        <p:nvSpPr>
          <p:cNvPr id="13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specify server IP addres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qualify it with several parameter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gus keyword: marks it as bogus, giving out bad data, prevents further queries to i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fer-format keyword: allows you to specify one-answer or many-answers</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answer is what all BIND 4.x servers use for zone transfer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answers is new BIND 8.x format that is more efficient</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fers and keys keywords are for future us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E58FB58-5983-43E4-9AA2-AC3EFA9373DB}" type="slidenum">
              <a:t>1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ystem Configuration Files</a:t>
            </a:r>
            <a:endParaRPr b="1" lang="en-US" sz="4800" spc="-1" strike="noStrike">
              <a:solidFill>
                <a:srgbClr val="ffffff"/>
              </a:solidFill>
              <a:latin typeface="Arial Narrow"/>
            </a:endParaRPr>
          </a:p>
        </p:txBody>
      </p:sp>
      <p:sp>
        <p:nvSpPr>
          <p:cNvPr id="53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 system configuration files from User database and customer database (don’t enable a user for a customer that is suspended or cancelled).</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is regularly (like every night via </a:t>
            </a:r>
            <a:r>
              <a:rPr b="0" lang="en-US" sz="2400" spc="-1" strike="noStrike">
                <a:solidFill>
                  <a:srgbClr val="ffffff"/>
                </a:solidFill>
                <a:latin typeface="Courier New"/>
              </a:rPr>
              <a:t>cr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pproach ensures one source of data to avoid synchronization problem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ill require custom software. Use PERL.</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custom software for user services - like changing password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olves the problem of limiting use to only that which is billed/paid.</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D8337DD-3DD0-41DE-92AB-19AF38A9B82D}" type="slidenum">
              <a:t>190</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ervices Database</a:t>
            </a:r>
            <a:endParaRPr b="1" lang="en-US" sz="4800" spc="-1" strike="noStrike">
              <a:solidFill>
                <a:srgbClr val="ffffff"/>
              </a:solidFill>
              <a:latin typeface="Arial Narrow"/>
            </a:endParaRPr>
          </a:p>
        </p:txBody>
      </p:sp>
      <p:sp>
        <p:nvSpPr>
          <p:cNvPr id="54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may also be part of the AR software.</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need one entry for each “type” of user account.</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types may have multiple service charges, eg.</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 web host hit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 web host disk space</a:t>
            </a:r>
            <a:endParaRPr b="0" lang="en-US" sz="20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ach service you need:</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 rate (minimum charg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charg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 rat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ount scal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special algorithm</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62E95B0-EE47-4EFD-8C32-F5921D3D1D04}" type="slidenum">
              <a:t>191</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ools</a:t>
            </a:r>
            <a:endParaRPr b="1" lang="en-US" sz="4800" spc="-1" strike="noStrike">
              <a:solidFill>
                <a:srgbClr val="ffffff"/>
              </a:solidFill>
              <a:latin typeface="Arial Narrow"/>
            </a:endParaRPr>
          </a:p>
        </p:txBody>
      </p:sp>
      <p:sp>
        <p:nvSpPr>
          <p:cNvPr id="54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thing you write should have a web interfac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good tool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ache + SSLeay + mod_perl + fastcgi</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sql</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CF41957-B50F-4BC8-B95C-DB6932E0A83D}" type="slidenum">
              <a:t>192</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sage Tracking</a:t>
            </a:r>
            <a:endParaRPr b="1" lang="en-US" sz="4800" spc="-1" strike="noStrike">
              <a:solidFill>
                <a:srgbClr val="ffffff"/>
              </a:solidFill>
              <a:latin typeface="Arial Narrow"/>
            </a:endParaRPr>
          </a:p>
        </p:txBody>
      </p:sp>
      <p:sp>
        <p:nvSpPr>
          <p:cNvPr id="54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 or eliminate this issue by billing flat monthly rates not dependent upon usag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services can’t pay for themselves at what the market will bear in flat rat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age tracking depends on service implementation.</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require custom software to convert system logs into useful billing entri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rrelate log entries with User databas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DF20832-E4E4-437F-93B6-A5B44828CBC3}" type="slidenum">
              <a:t>193</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sage Tracking</a:t>
            </a:r>
            <a:endParaRPr b="1" lang="en-US" sz="4800" spc="-1" strike="noStrike">
              <a:solidFill>
                <a:srgbClr val="ffffff"/>
              </a:solidFill>
              <a:latin typeface="Arial Narrow"/>
            </a:endParaRPr>
          </a:p>
        </p:txBody>
      </p:sp>
      <p:sp>
        <p:nvSpPr>
          <p:cNvPr id="54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s:</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calculations and conversions (time zones, daylight savings time, time representation)</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lating start &amp; stop event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lating start &amp; stop events over file checkpoint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lating special service access points (toll free modems, high speed modem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age data volume and reduction</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age data archival</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discrete usage (like disk spac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rsion to billing system format</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 location distribution</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8F7F631-915C-40D7-A3DB-41178CDEDFB4}" type="slidenum">
              <a:t>194</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sage Tracking</a:t>
            </a:r>
            <a:endParaRPr b="1" lang="en-US" sz="4800" spc="-1" strike="noStrike">
              <a:solidFill>
                <a:srgbClr val="ffffff"/>
              </a:solidFill>
              <a:latin typeface="Arial Narrow"/>
            </a:endParaRPr>
          </a:p>
        </p:txBody>
      </p:sp>
      <p:sp>
        <p:nvSpPr>
          <p:cNvPr id="54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 and reduce your data daily to reduce volum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reduced data on a centralized and reliable disk system.</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e together the resources that are charged similarly, e.g. toll free modems all on one terminal server.</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sanity checks on the data, e.g. it is impossible for a connection to last more than 86400 seconds in one da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ata is also important for management to view trends in customer us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CB95601-F4EC-4F6A-B097-C65D8E68F80F}" type="slidenum">
              <a:t>195</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ummary</a:t>
            </a:r>
            <a:endParaRPr b="1" lang="en-US" sz="4800" spc="-1" strike="noStrike">
              <a:solidFill>
                <a:srgbClr val="ffffff"/>
              </a:solidFill>
              <a:latin typeface="Arial Narrow"/>
            </a:endParaRPr>
          </a:p>
        </p:txBody>
      </p:sp>
      <p:sp>
        <p:nvSpPr>
          <p:cNvPr id="55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y to use a commercial AR packag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 centralized database of user service setting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centralized database to build system configuration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 usage data to one loca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 PERL so you can make all this work</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0565144-2944-40B0-963B-BFA1BD9B1912}" type="slidenum">
              <a:t>196</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ISP Security</a:t>
            </a:r>
            <a:endParaRPr b="1" lang="en-US" sz="6600" spc="-1" strike="noStrike">
              <a:solidFill>
                <a:srgbClr val="ffffff"/>
              </a:solidFill>
              <a:latin typeface="Arial Narrow"/>
            </a:endParaRPr>
          </a:p>
        </p:txBody>
      </p:sp>
      <p:sp>
        <p:nvSpPr>
          <p:cNvPr id="553"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COT200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oul, South Kore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 Dijke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netrack.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ecurity</a:t>
            </a:r>
            <a:endParaRPr b="1" lang="en-US" sz="4800" spc="-1" strike="noStrike">
              <a:solidFill>
                <a:srgbClr val="ffffff"/>
              </a:solidFill>
              <a:latin typeface="Arial Narrow"/>
            </a:endParaRPr>
          </a:p>
        </p:txBody>
      </p:sp>
      <p:sp>
        <p:nvSpPr>
          <p:cNvPr id="55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net is not a friendly plac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que to ISPs:</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users are your enemy</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users are your revenue</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must protect your users’/customers’ data from</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utside world</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other</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must protect your staff systems &amp; data from</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utside world</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users/customer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other</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a big job</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C94D1A4-32B0-4B51-9E7F-8EFEA406EC79}" type="slidenum">
              <a:t>198</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venues of Attack</a:t>
            </a:r>
            <a:endParaRPr b="1" lang="en-US" sz="4800" spc="-1" strike="noStrike">
              <a:solidFill>
                <a:srgbClr val="ffffff"/>
              </a:solidFill>
              <a:latin typeface="Arial Narrow"/>
            </a:endParaRPr>
          </a:p>
        </p:txBody>
      </p:sp>
      <p:sp>
        <p:nvSpPr>
          <p:cNvPr id="55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popular avenues of attack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probes and exploitation</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e by those who don’t have user acces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oits vulnerabilities in socket services to gain acces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use information gained from snooping to gain access</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l exploitation</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e by those who have user acces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oits system configuration or software vulnerabilities</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ive snooping</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e by those who have network acces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hers information for future attack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9548414-C120-4445-B197-3D4456DCCE64}" type="slidenum">
              <a:t>199</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BIND v8</a:t>
            </a:r>
            <a:endParaRPr b="1" lang="en-US" sz="6600" spc="-1" strike="noStrike">
              <a:solidFill>
                <a:srgbClr val="ffffff"/>
              </a:solidFill>
              <a:latin typeface="Arial Narrow"/>
            </a:endParaRPr>
          </a:p>
        </p:txBody>
      </p:sp>
      <p:sp>
        <p:nvSpPr>
          <p:cNvPr id="104"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COT2001</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uala Lumpur, Malaysi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 Dijke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99"/>
                </a:solidFill>
                <a:uFillTx/>
                <a:latin typeface="Arial"/>
                <a:hlinkClick r:id="rId1"/>
              </a:rPr>
              <a:t>barb@netrack.net</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ctor: Paul Kooros</a:t>
            </a:r>
            <a:br>
              <a:rPr sz="2000"/>
            </a:br>
            <a:r>
              <a:rPr b="0" lang="en-US" sz="2000" spc="-1" strike="noStrike">
                <a:solidFill>
                  <a:srgbClr val="ffffff"/>
                </a:solidFill>
                <a:latin typeface="Arial"/>
              </a:rPr>
              <a:t>Kooros@kooros.co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Zone Specification</a:t>
            </a:r>
            <a:endParaRPr b="1" lang="en-US" sz="4800" spc="-1" strike="noStrike">
              <a:solidFill>
                <a:srgbClr val="ffffff"/>
              </a:solidFill>
              <a:latin typeface="Arial Narrow"/>
            </a:endParaRPr>
          </a:p>
        </p:txBody>
      </p:sp>
      <p:sp>
        <p:nvSpPr>
          <p:cNvPr id="14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e keyword identifies the domain name of the zone and the type of data (IN or HESIOD)</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s to IN if not specifie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type of server specification</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ter: formerly primary server</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ave: formerly secondary server</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b: sort of like a forwarding server, only replicates NS records of master</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formerly cache or root hints</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ter and hint zones require file specificatio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ave and stub zones require masters IP address and may include file specification</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25A2D5E-9924-4896-A868-4CFBD9A9F7E1}" type="slidenum">
              <a:t>2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Limit Customer Access</a:t>
            </a:r>
            <a:endParaRPr b="1" lang="en-US" sz="4800" spc="-1" strike="noStrike">
              <a:solidFill>
                <a:srgbClr val="ffffff"/>
              </a:solidFill>
              <a:latin typeface="Arial Narrow"/>
            </a:endParaRPr>
          </a:p>
        </p:txBody>
      </p:sp>
      <p:sp>
        <p:nvSpPr>
          <p:cNvPr id="55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oth protect the customers and to protect against them, limit their acces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provide UNIX shell account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restricted shells (</a:t>
            </a:r>
            <a:r>
              <a:rPr b="0" lang="en-US" sz="2000" spc="-1" strike="noStrike">
                <a:solidFill>
                  <a:srgbClr val="ffffff"/>
                </a:solidFill>
                <a:latin typeface="Courier New"/>
              </a:rPr>
              <a:t>chroot</a:t>
            </a:r>
            <a:r>
              <a:rPr b="0" lang="en-US" sz="2000" spc="-1" strike="noStrike">
                <a:solidFill>
                  <a:srgbClr val="ffffff"/>
                </a:solidFill>
                <a:latin typeface="Arial"/>
              </a:rPr>
              <a:t> or menu drive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OS filesystems read onl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llow executables and </a:t>
            </a:r>
            <a:r>
              <a:rPr b="0" lang="en-US" sz="2000" spc="-1" strike="noStrike">
                <a:solidFill>
                  <a:srgbClr val="ffffff"/>
                </a:solidFill>
                <a:latin typeface="Courier New"/>
              </a:rPr>
              <a:t>setuid</a:t>
            </a:r>
            <a:r>
              <a:rPr b="0" lang="en-US" sz="2000" spc="-1" strike="noStrike">
                <a:solidFill>
                  <a:srgbClr val="ffffff"/>
                </a:solidFill>
                <a:latin typeface="Arial"/>
              </a:rPr>
              <a:t> files (</a:t>
            </a:r>
            <a:r>
              <a:rPr b="0" lang="en-US" sz="2000" spc="-1" strike="noStrike">
                <a:solidFill>
                  <a:srgbClr val="ffffff"/>
                </a:solidFill>
                <a:latin typeface="Courier New"/>
              </a:rPr>
              <a:t>noexec</a:t>
            </a:r>
            <a:r>
              <a:rPr b="0" lang="en-US" sz="2000" spc="-1" strike="noStrike">
                <a:solidFill>
                  <a:srgbClr val="ffffff"/>
                </a:solidFill>
                <a:latin typeface="Arial"/>
              </a:rPr>
              <a:t>, </a:t>
            </a:r>
            <a:r>
              <a:rPr b="0" lang="en-US" sz="2000" spc="-1" strike="noStrike">
                <a:solidFill>
                  <a:srgbClr val="ffffff"/>
                </a:solidFill>
                <a:latin typeface="Courier New"/>
              </a:rPr>
              <a:t>nosuid</a:t>
            </a:r>
            <a:r>
              <a:rPr b="0" lang="en-US" sz="2000" spc="-1" strike="noStrike">
                <a:solidFill>
                  <a:srgbClr val="ffffff"/>
                </a:solidFill>
                <a:latin typeface="Arial"/>
              </a:rPr>
              <a:t>) on all filesystems except the O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ble read access on files that could be used for exploitatio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shadow password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defaults for file permissions, </a:t>
            </a:r>
            <a:r>
              <a:rPr b="0" lang="en-US" sz="2000" spc="-1" strike="noStrike">
                <a:solidFill>
                  <a:srgbClr val="ffffff"/>
                </a:solidFill>
                <a:latin typeface="Courier New"/>
              </a:rPr>
              <a:t>umask</a:t>
            </a:r>
            <a:r>
              <a:rPr b="0" lang="en-US" sz="2000" spc="-1" strike="noStrike">
                <a:solidFill>
                  <a:srgbClr val="ffffff"/>
                </a:solidFill>
                <a:latin typeface="Arial"/>
              </a:rPr>
              <a:t>, etc.</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A006FC4-4694-456B-A37A-5A99CEF13F3F}" type="slidenum">
              <a:t>200</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 Key to the City</a:t>
            </a:r>
            <a:endParaRPr b="1" lang="en-US" sz="4800" spc="-1" strike="noStrike">
              <a:solidFill>
                <a:srgbClr val="ffffff"/>
              </a:solidFill>
              <a:latin typeface="Arial Narrow"/>
            </a:endParaRPr>
          </a:p>
        </p:txBody>
      </p:sp>
      <p:sp>
        <p:nvSpPr>
          <p:cNvPr id="56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software programs are available to gain root access from a normal user account - no technical experience required.</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ing a normal user account on a UNIX machine to a stranger is practically like giving them the root password.</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provide UNIX shell accounts to any one without:</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ated and authentic identificatio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cumenting identificatio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ating contact information (address, phon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act signatur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B52E59F-FC61-4939-8B1A-9F2AC5979359}" type="slidenum">
              <a:t>201</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Beware of Restricted Accounts</a:t>
            </a:r>
            <a:endParaRPr b="1" lang="en-US" sz="4800" spc="-1" strike="noStrike">
              <a:solidFill>
                <a:srgbClr val="ffffff"/>
              </a:solidFill>
              <a:latin typeface="Arial Narrow"/>
            </a:endParaRPr>
          </a:p>
        </p:txBody>
      </p:sp>
      <p:sp>
        <p:nvSpPr>
          <p:cNvPr id="56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estricted or menu-based access mechanism may not be as foolproof as you might expect.</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assume it does what it claims to.</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y to break it.</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case scenario:</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 user access to systems which provide no special privileg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B81B1F4-614C-4847-A166-81F3161E8B4A}" type="slidenum">
              <a:t>202</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on’t lose your own visibility</a:t>
            </a:r>
            <a:endParaRPr b="1" lang="en-US" sz="4800" spc="-1" strike="noStrike">
              <a:solidFill>
                <a:srgbClr val="ffffff"/>
              </a:solidFill>
              <a:latin typeface="Arial Narrow"/>
            </a:endParaRPr>
          </a:p>
        </p:txBody>
      </p:sp>
      <p:sp>
        <p:nvSpPr>
          <p:cNvPr id="56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acker” will usually first replace these files:</a:t>
            </a:r>
            <a:endParaRPr b="0" lang="en-US" sz="2400" spc="-1" strike="noStrike">
              <a:solidFill>
                <a:srgbClr val="ffffff"/>
              </a:solidFill>
              <a:latin typeface="Arial"/>
            </a:endParaRPr>
          </a:p>
          <a:p>
            <a:pPr lvl="1" marL="743040" indent="-285840">
              <a:lnSpc>
                <a:spcPct val="10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bin/login</a:t>
            </a:r>
            <a:r>
              <a:rPr b="0" lang="en-US" sz="2000" spc="-1" strike="noStrike">
                <a:solidFill>
                  <a:srgbClr val="ffffff"/>
                </a:solidFill>
                <a:latin typeface="Arial"/>
              </a:rPr>
              <a:t>: to provide a back door or collect passwords</a:t>
            </a:r>
            <a:endParaRPr b="0" lang="en-US" sz="2000" spc="-1" strike="noStrike">
              <a:solidFill>
                <a:srgbClr val="ffffff"/>
              </a:solidFill>
              <a:latin typeface="Arial"/>
            </a:endParaRPr>
          </a:p>
          <a:p>
            <a:pPr lvl="1" marL="743040" indent="-285840">
              <a:lnSpc>
                <a:spcPct val="10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bin/ps</a:t>
            </a:r>
            <a:r>
              <a:rPr b="0" lang="en-US" sz="2000" spc="-1" strike="noStrike">
                <a:solidFill>
                  <a:srgbClr val="ffffff"/>
                </a:solidFill>
                <a:latin typeface="Arial"/>
              </a:rPr>
              <a:t>: to hide programs being run</a:t>
            </a:r>
            <a:endParaRPr b="0" lang="en-US" sz="2000" spc="-1" strike="noStrike">
              <a:solidFill>
                <a:srgbClr val="ffffff"/>
              </a:solidFill>
              <a:latin typeface="Arial"/>
            </a:endParaRPr>
          </a:p>
          <a:p>
            <a:pPr lvl="1" marL="743040" indent="-285840">
              <a:lnSpc>
                <a:spcPct val="10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bin/ls</a:t>
            </a:r>
            <a:r>
              <a:rPr b="0" lang="en-US" sz="2000" spc="-1" strike="noStrike">
                <a:solidFill>
                  <a:srgbClr val="ffffff"/>
                </a:solidFill>
                <a:latin typeface="Arial"/>
              </a:rPr>
              <a:t>: to hide files</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a valid vendor distribution copy of those programs handy ON A HARDWARE READ ONLY DEVICE (like a floppy) for regular bit-by-bit comparisons and monitoring system activit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other detailed monitoring tools handy, like ‘</a:t>
            </a:r>
            <a:r>
              <a:rPr b="0" lang="en-US" sz="2400" spc="-1" strike="noStrike">
                <a:solidFill>
                  <a:srgbClr val="ffffff"/>
                </a:solidFill>
                <a:latin typeface="Courier New"/>
              </a:rPr>
              <a:t>lsof</a:t>
            </a:r>
            <a:r>
              <a:rPr b="0" lang="en-US" sz="2400" spc="-1" strike="noStrike">
                <a:solidFill>
                  <a:srgbClr val="ffffff"/>
                </a:solidFill>
                <a:latin typeface="Arial"/>
              </a:rPr>
              <a:t>’, in a place a hacker may not look. (not under </a:t>
            </a:r>
            <a:r>
              <a:rPr b="0" lang="en-US" sz="2400" spc="-1" strike="noStrike">
                <a:solidFill>
                  <a:srgbClr val="ffffff"/>
                </a:solidFill>
                <a:latin typeface="Courier New"/>
              </a:rPr>
              <a:t>/usr</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A0648DE-734E-41AD-A890-12A51DD27DEC}" type="slidenum">
              <a:t>203</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irewalls</a:t>
            </a:r>
            <a:endParaRPr b="1" lang="en-US" sz="4800" spc="-1" strike="noStrike">
              <a:solidFill>
                <a:srgbClr val="ffffff"/>
              </a:solidFill>
              <a:latin typeface="Arial Narrow"/>
            </a:endParaRPr>
          </a:p>
        </p:txBody>
      </p:sp>
      <p:sp>
        <p:nvSpPr>
          <p:cNvPr id="56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systems need </a:t>
            </a:r>
            <a:r>
              <a:rPr b="0" i="1" lang="en-US" sz="2400" spc="-1" strike="noStrike">
                <a:solidFill>
                  <a:srgbClr val="ffffff"/>
                </a:solidFill>
                <a:latin typeface="Arial"/>
              </a:rPr>
              <a:t>almost</a:t>
            </a:r>
            <a:r>
              <a:rPr b="0" lang="en-US" sz="2400" spc="-1" strike="noStrike">
                <a:solidFill>
                  <a:srgbClr val="ffffff"/>
                </a:solidFill>
                <a:latin typeface="Arial"/>
              </a:rPr>
              <a:t> full access to the Internet, but not completely.</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up a firewall, as you would for a private company, that disallows typical spoofing accesses from outside while allowing your customers full acces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e your staff systems and data on a completely separate internal LAN.</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t a BIG and STRONG firewall between your staff systems and your customer system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 outgoing access to limit liability and acceptable use abuse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18BC6ED-2330-49E8-9056-8C20EA671F00}" type="slidenum">
              <a:t>204</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irewalls – Suggested Config</a:t>
            </a:r>
            <a:endParaRPr b="1" lang="en-US" sz="4800" spc="-1" strike="noStrike">
              <a:solidFill>
                <a:srgbClr val="ffffff"/>
              </a:solidFill>
              <a:latin typeface="Arial Narrow"/>
            </a:endParaRPr>
          </a:p>
        </p:txBody>
      </p:sp>
      <p:sp>
        <p:nvSpPr>
          <p:cNvPr id="56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le source routing</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le distribution of  packets to broadcast addres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ming Filter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ny source addresses inside your network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ny source addresses of </a:t>
            </a:r>
            <a:r>
              <a:rPr b="0" lang="en-US" sz="2000" spc="-1" strike="noStrike">
                <a:solidFill>
                  <a:srgbClr val="ffffff"/>
                </a:solidFill>
                <a:latin typeface="Courier New"/>
              </a:rPr>
              <a:t>localhost</a:t>
            </a:r>
            <a:r>
              <a:rPr b="0" lang="en-US" sz="2000" spc="-1" strike="noStrike">
                <a:solidFill>
                  <a:srgbClr val="ffffff"/>
                </a:solidFill>
                <a:latin typeface="Arial"/>
              </a:rPr>
              <a:t> (127)</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ny source addresses of RFC1597</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established session packet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specific services to specific hosts onl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be let ping through</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ny ALL  els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F6E6C6A-4CED-462C-BB9C-9C0F8671412A}" type="slidenum">
              <a:t>205</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irewalls (cont.)</a:t>
            </a:r>
            <a:endParaRPr b="1" lang="en-US" sz="4800" spc="-1" strike="noStrike">
              <a:solidFill>
                <a:srgbClr val="ffffff"/>
              </a:solidFill>
              <a:latin typeface="Arial Narrow"/>
            </a:endParaRPr>
          </a:p>
        </p:txBody>
      </p:sp>
      <p:sp>
        <p:nvSpPr>
          <p:cNvPr id="57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ing outgoing filters in addition to incoming filters on the same interface dramatically reduces performance</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outgoing filters on interior ports and incoming filters on exterior port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going Filters</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 access to specific services such as web, FTP, gopher, DNS</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ny ALL else</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ice SMTP is not in the allow list</a:t>
            </a:r>
            <a:endParaRPr b="0" lang="en-US" sz="18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you disallow limits what your customers can do and thus prevents participation in certain sorts of security attack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protects your liability and reduces the likelihood of being involved in complaints or legal action.</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501EC0F-819A-4B38-B1F3-8B8D765B7276}" type="slidenum">
              <a:t>206</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ustomer vs. Staff Systems</a:t>
            </a:r>
            <a:endParaRPr b="1" lang="en-US" sz="4800" spc="-1" strike="noStrike">
              <a:solidFill>
                <a:srgbClr val="ffffff"/>
              </a:solidFill>
              <a:latin typeface="Arial Narrow"/>
            </a:endParaRPr>
          </a:p>
        </p:txBody>
      </p:sp>
      <p:sp>
        <p:nvSpPr>
          <p:cNvPr id="57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er may be able to snoop your LAN that hosts customer access services: terminal servers, routers, customer shell systems, web servers, etc.</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 they can and do.</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 your customers are doing so to access your staff systems - the ones with the account and billing databases, master configuration files, etc.</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rypt all data between staff and customer LAN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ff should use </a:t>
            </a:r>
            <a:r>
              <a:rPr b="0" lang="en-US" sz="2400" spc="-1" strike="noStrike">
                <a:solidFill>
                  <a:srgbClr val="ffffff"/>
                </a:solidFill>
                <a:latin typeface="Courier New"/>
              </a:rPr>
              <a:t>ssh</a:t>
            </a:r>
            <a:r>
              <a:rPr b="0" lang="en-US" sz="2400" spc="-1" strike="noStrike">
                <a:solidFill>
                  <a:srgbClr val="ffffff"/>
                </a:solidFill>
                <a:latin typeface="Arial"/>
              </a:rPr>
              <a:t> or something similar.</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 YOUR ACCOUNT DATABASE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79EF395-12F8-4AAB-8AF1-95F4626EF0B9}" type="slidenum">
              <a:t>207</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on’t forget “insider” attacks</a:t>
            </a:r>
            <a:endParaRPr b="1" lang="en-US" sz="4800" spc="-1" strike="noStrike">
              <a:solidFill>
                <a:srgbClr val="ffffff"/>
              </a:solidFill>
              <a:latin typeface="Arial Narrow"/>
            </a:endParaRPr>
          </a:p>
        </p:txBody>
      </p:sp>
      <p:sp>
        <p:nvSpPr>
          <p:cNvPr id="57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security breaches are accomplished from the “insid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means by your own employe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they have to gain?</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oriety with friends &amp; pee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access for friends &amp; relativ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to customer data &amp; systems</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Ps are more vulnerable to this problem than most companies because of the concentration of customer data and fast growing demand for skilled employee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7A3EEEE-0BDE-4FD3-AFB6-F0B90B524DE3}" type="slidenum">
              <a:t>208</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Prevent “insider” attacks</a:t>
            </a:r>
            <a:endParaRPr b="1" lang="en-US" sz="4800" spc="-1" strike="noStrike">
              <a:solidFill>
                <a:srgbClr val="ffffff"/>
              </a:solidFill>
              <a:latin typeface="Arial Narrow"/>
            </a:endParaRPr>
          </a:p>
        </p:txBody>
      </p:sp>
      <p:sp>
        <p:nvSpPr>
          <p:cNvPr id="57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een prospective employees carefull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a strong and enforced policy of no tolerance for overstepping authority and privileg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ways to limit privileged access such as </a:t>
            </a:r>
            <a:r>
              <a:rPr b="0" lang="en-US" sz="2400" spc="-1" strike="noStrike">
                <a:solidFill>
                  <a:srgbClr val="ffffff"/>
                </a:solidFill>
                <a:latin typeface="Courier New"/>
              </a:rPr>
              <a:t>sudo</a:t>
            </a:r>
            <a:r>
              <a:rPr b="0" lang="en-US" sz="2400" spc="-1" strike="noStrike">
                <a:solidFill>
                  <a:srgbClr val="ffffff"/>
                </a:solidFill>
                <a:latin typeface="Arial"/>
              </a:rPr>
              <a:t> and customized interfaces to configuration fil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 incentives by providing free services to immediate family of staff with limitation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e staff regarding appropriate use of privileged access to customer data.</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alert to staff needs - don’t foster retribu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99ADF3B-E2C0-42FB-8161-D8F63B920A95}" type="slidenum">
              <a:t>209</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Options for Zones</a:t>
            </a:r>
            <a:endParaRPr b="1" lang="en-US" sz="4800" spc="-1" strike="noStrike">
              <a:solidFill>
                <a:srgbClr val="ffffff"/>
              </a:solidFill>
              <a:latin typeface="Arial Narrow"/>
            </a:endParaRPr>
          </a:p>
        </p:txBody>
      </p:sp>
      <p:sp>
        <p:nvSpPr>
          <p:cNvPr id="14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ypes of zone have lots of options that can be specified on a per zone basi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names option to determine what to do with hostnames that break the rul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updates, allow-query, allow-transfer options to control who can access data from the serv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y option to allow the master to drive the updates of the slav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27A3448-91EE-4683-81B2-96FF75378C34}" type="slidenum">
              <a:t>2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 firewall isn’t enough</a:t>
            </a:r>
            <a:endParaRPr b="1" lang="en-US" sz="4800" spc="-1" strike="noStrike">
              <a:solidFill>
                <a:srgbClr val="ffffff"/>
              </a:solidFill>
              <a:latin typeface="Arial Narrow"/>
            </a:endParaRPr>
          </a:p>
        </p:txBody>
      </p:sp>
      <p:sp>
        <p:nvSpPr>
          <p:cNvPr id="57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irewall doesn’t stop social engineering attack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vulnerabilities are discovered regularl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system on your networks requires a complete security analysi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n off all unused service port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sure all used services are secur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use NIS or NF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smap or something else secure for mail</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ep systems patched for security vulnerabiliti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USE LINUX or any other free O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238AA58-42E3-4713-BE75-A2134F28FDE1}" type="slidenum">
              <a:t>210</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ecurity Resources</a:t>
            </a:r>
            <a:endParaRPr b="1" lang="en-US" sz="4800" spc="-1" strike="noStrike">
              <a:solidFill>
                <a:srgbClr val="ffffff"/>
              </a:solidFill>
              <a:latin typeface="Arial Narrow"/>
            </a:endParaRPr>
          </a:p>
        </p:txBody>
      </p:sp>
      <p:sp>
        <p:nvSpPr>
          <p:cNvPr id="58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S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ttp://www.cs.purdue.edu/coast/archiv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ttp://www.cert.org</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MU</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ftp://www.tamu.edu/pub/securit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WTK</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Firewall Toolkit, http://www.tis.com/</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net Security Scanner</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G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hecks host vulnerabilities like COP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pwir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Detects file change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0A99315-2C78-4D13-B168-24E62E43854A}" type="slidenum">
              <a:t>211</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ecurity Mailing Lists</a:t>
            </a:r>
            <a:endParaRPr b="1" lang="en-US" sz="4800" spc="-1" strike="noStrike">
              <a:solidFill>
                <a:srgbClr val="ffffff"/>
              </a:solidFill>
              <a:latin typeface="Arial Narrow"/>
            </a:endParaRPr>
          </a:p>
        </p:txBody>
      </p:sp>
      <p:sp>
        <p:nvSpPr>
          <p:cNvPr id="58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T</a:t>
            </a:r>
            <a:endParaRPr b="0" lang="en-US" sz="24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ed disclosure</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ouncements only - no discussion</a:t>
            </a:r>
            <a:endParaRPr b="0" lang="en-US" sz="2000" spc="-1" strike="noStrike">
              <a:solidFill>
                <a:srgbClr val="ffffff"/>
              </a:solidFill>
              <a:latin typeface="Arial"/>
            </a:endParaRPr>
          </a:p>
          <a:p>
            <a:pPr lvl="1" marL="735480" indent="-282960">
              <a:lnSpc>
                <a:spcPct val="10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ert-advisory-request@cert.org</a:t>
            </a:r>
            <a:endParaRPr b="0" lang="en-US" sz="2000" spc="-1" strike="noStrike">
              <a:solidFill>
                <a:srgbClr val="ffffff"/>
              </a:solidFill>
              <a:latin typeface="Arial"/>
            </a:endParaRPr>
          </a:p>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gtraq</a:t>
            </a:r>
            <a:endParaRPr b="0" lang="en-US" sz="24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disclosure</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ussion and dissection of bugs</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gets CERT announcements</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a:t>
            </a:r>
            <a:r>
              <a:rPr b="0" lang="en-US" sz="2000" spc="-1" strike="noStrike">
                <a:solidFill>
                  <a:srgbClr val="ffffff"/>
                </a:solidFill>
                <a:latin typeface="Courier New"/>
              </a:rPr>
              <a:t>subscribe bugtraq” </a:t>
            </a:r>
            <a:r>
              <a:rPr b="0" lang="en-US" sz="2000" spc="-1" strike="noStrike">
                <a:solidFill>
                  <a:srgbClr val="ffffff"/>
                </a:solidFill>
                <a:latin typeface="Arial"/>
              </a:rPr>
              <a:t>to</a:t>
            </a:r>
            <a:r>
              <a:rPr b="0" lang="en-US" sz="2000" spc="-1" strike="noStrike">
                <a:solidFill>
                  <a:srgbClr val="ffffff"/>
                </a:solidFill>
                <a:latin typeface="Courier New"/>
              </a:rPr>
              <a:t> listserv@netspace.org</a:t>
            </a:r>
            <a:endParaRPr b="0" lang="en-US" sz="2000" spc="-1" strike="noStrike">
              <a:solidFill>
                <a:srgbClr val="ffffff"/>
              </a:solidFill>
              <a:latin typeface="Arial"/>
            </a:endParaRPr>
          </a:p>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 Security</a:t>
            </a:r>
            <a:endParaRPr b="0" lang="en-US" sz="24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a:t>
            </a:r>
            <a:r>
              <a:rPr b="0" lang="en-US" sz="2000" spc="-1" strike="noStrike">
                <a:solidFill>
                  <a:srgbClr val="ffffff"/>
                </a:solidFill>
                <a:latin typeface="Courier New"/>
              </a:rPr>
              <a:t>subscribe ntsecurity</a:t>
            </a:r>
            <a:r>
              <a:rPr b="0" lang="en-US" sz="2000" spc="-1" strike="noStrike">
                <a:solidFill>
                  <a:srgbClr val="ffffff"/>
                </a:solidFill>
                <a:latin typeface="Arial"/>
              </a:rPr>
              <a:t>" to </a:t>
            </a:r>
            <a:r>
              <a:rPr b="0" lang="en-US" sz="2000" spc="-1" strike="noStrike">
                <a:solidFill>
                  <a:srgbClr val="ffffff"/>
                </a:solidFill>
                <a:latin typeface="Courier New"/>
              </a:rPr>
              <a:t>majordomo@iss.ne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FA49570-5DF3-43A5-B635-2B33B7B95D84}" type="slidenum">
              <a:t>212</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ore Flexible Logging</a:t>
            </a:r>
            <a:endParaRPr b="1" lang="en-US" sz="4800" spc="-1" strike="noStrike">
              <a:solidFill>
                <a:srgbClr val="ffffff"/>
              </a:solidFill>
              <a:latin typeface="Arial Narrow"/>
            </a:endParaRPr>
          </a:p>
        </p:txBody>
      </p:sp>
      <p:sp>
        <p:nvSpPr>
          <p:cNvPr id="14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syslog flexibility include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ilities to identify program typ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ity levels to say how important messages ar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ons to say what to do with the messages</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logging specification allow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nels which name combinations of logging actions and severiti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egories which identify types of messages to be logge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many category/channel pairs as you like to fine tune logging</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ne are defined, sensible defaults are used</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0FCCC86-4CED-42BF-A21B-A4CE44430645}" type="slidenum">
              <a:t>2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Logging Channels</a:t>
            </a:r>
            <a:endParaRPr b="1" lang="en-US" sz="4800" spc="-1" strike="noStrike">
              <a:solidFill>
                <a:srgbClr val="ffffff"/>
              </a:solidFill>
              <a:latin typeface="Arial Narrow"/>
            </a:endParaRPr>
          </a:p>
        </p:txBody>
      </p:sp>
      <p:sp>
        <p:nvSpPr>
          <p:cNvPr id="14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channel definition must specify where messages go</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keyword</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es path name of file</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limit the size of the file</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pecify number of versions (file.1, file.2, file.3, ...)</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log keyword: specifies the syslog facility cod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ll keyword: to /dev/null, messages are discarded</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9DFDE60-111E-49AE-AE27-C88087AB8679}" type="slidenum">
              <a:t>2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hannels, cont.</a:t>
            </a:r>
            <a:endParaRPr b="1" lang="en-US" sz="4800" spc="-1" strike="noStrike">
              <a:solidFill>
                <a:srgbClr val="ffffff"/>
              </a:solidFill>
              <a:latin typeface="Arial Narrow"/>
            </a:endParaRPr>
          </a:p>
        </p:txBody>
      </p:sp>
      <p:sp>
        <p:nvSpPr>
          <p:cNvPr id="14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channel can limit the severity of messages it see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level is info, to change use the severity clause</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ke syslogs severity</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apply to files also</a:t>
            </a:r>
            <a:endParaRPr b="0" lang="en-US" sz="18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lso influence the format of the messages logged with boolean print modifier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nt-time keyword includes date and time message was logge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nt-category keyword includes the category of the messag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nt-severity keyword includes the serverity cod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4FDC4FD-6EC7-4EA7-8719-CD1D093FEA8C}" type="slidenum">
              <a:t>2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Pre-Defined Channels</a:t>
            </a:r>
            <a:endParaRPr b="1" lang="en-US" sz="4800" spc="-1" strike="noStrike">
              <a:solidFill>
                <a:srgbClr val="ffffff"/>
              </a:solidFill>
              <a:latin typeface="Arial Narrow"/>
            </a:endParaRPr>
          </a:p>
        </p:txBody>
      </p:sp>
      <p:sp>
        <p:nvSpPr>
          <p:cNvPr id="150"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fontScale="99000"/>
          </a:bodyPr>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hannel default_syslog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syslog daemon;</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severity info;</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a:r>
            <a:endParaRPr b="0" lang="en-US" sz="12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using syslog, daemon.info</a:t>
            </a:r>
            <a:endParaRPr b="0" lang="en-US" sz="20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hannel default_debug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file "named.run";</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severity dynamic;</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a:r>
            <a:endParaRPr b="0" lang="en-US" sz="12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for debugging, uses SIGUSR1 and SIGUSR2 to adjust debugging level</a:t>
            </a:r>
            <a:endParaRPr b="0" lang="en-US" sz="20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hannel default_stderr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severity info;</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a:r>
            <a:endParaRPr b="0" lang="en-US" sz="12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to stderr</a:t>
            </a:r>
            <a:endParaRPr b="0" lang="en-US" sz="20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hannel null {</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null;</a:t>
            </a:r>
            <a:endParaRPr b="0" lang="en-US" sz="1200" spc="-1" strike="noStrike">
              <a:solidFill>
                <a:srgbClr val="ffffff"/>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a:r>
            <a:endParaRPr b="0" lang="en-US" sz="1200" spc="-1" strike="noStrike">
              <a:solidFill>
                <a:srgbClr val="ffffff"/>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to bit bucke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9CA59F6-9F08-4B11-9E91-78DA1B783492}" type="slidenum">
              <a:t>25</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Logging Categories</a:t>
            </a:r>
            <a:endParaRPr b="1" lang="en-US" sz="4800" spc="-1" strike="noStrike">
              <a:solidFill>
                <a:srgbClr val="ffffff"/>
              </a:solidFill>
              <a:latin typeface="Arial Narrow"/>
            </a:endParaRPr>
          </a:p>
        </p:txBody>
      </p:sp>
      <p:sp>
        <p:nvSpPr>
          <p:cNvPr id="15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sages are divided into types called categori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ies of messages are associated with any number of channels to accomplish the actual logging</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y names must be from this fixed list</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catch-all for things that aren't classified ye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 high level config file processing</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ser: low level config file processing</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ries: for every query the server receiv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me-servers: lame delegation messag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istics: for stat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62B51E8-0387-423A-8D3D-B6039C81AE6A}" type="slidenum">
              <a:t>2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ategory Names, cont.</a:t>
            </a:r>
            <a:endParaRPr b="1" lang="en-US" sz="4800" spc="-1" strike="noStrike">
              <a:solidFill>
                <a:srgbClr val="ffffff"/>
              </a:solidFill>
              <a:latin typeface="Arial Narrow"/>
            </a:endParaRPr>
          </a:p>
        </p:txBody>
      </p:sp>
      <p:sp>
        <p:nvSpPr>
          <p:cNvPr id="15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nic: for internal server erro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 for dynamic updat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cache: negative caching (cache failures so you don't continually retry down machin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fer-in: zone transfers server is receiving</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fer-out: zone transfers server is sending</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 all database operation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lib: debugging info from the event system</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ket: dumps packets received and sen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y: the notify protocol</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D0C7A46-78F5-4609-BBF1-760DC947C261}" type="slidenum">
              <a:t>2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ategory Names, cont.</a:t>
            </a:r>
            <a:endParaRPr b="1" lang="en-US" sz="4800" spc="-1" strike="noStrike">
              <a:solidFill>
                <a:srgbClr val="ffffff"/>
              </a:solidFill>
              <a:latin typeface="Arial Narrow"/>
            </a:endParaRPr>
          </a:p>
        </p:txBody>
      </p:sp>
      <p:sp>
        <p:nvSpPr>
          <p:cNvPr id="15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name: messages about pointing to a C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approved and unapproved requests re. acl list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operating system problem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st: internal consistency check failur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enance: periodic maintenance event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ad: zone loading messag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e-checks: messages like malformed response, invalid RR type, etc.</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797367C-5A33-4B60-A47A-99BFCB8A3E43}" type="slidenum">
              <a:t>2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Pre-Defined Category Defaults</a:t>
            </a:r>
            <a:endParaRPr b="1" lang="en-US" sz="4800" spc="-1" strike="noStrike">
              <a:solidFill>
                <a:srgbClr val="ffffff"/>
              </a:solidFill>
              <a:latin typeface="Arial Narrow"/>
            </a:endParaRPr>
          </a:p>
        </p:txBody>
      </p:sp>
      <p:sp>
        <p:nvSpPr>
          <p:cNvPr id="15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categories have pre-defined default values</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overwritten if you define them</a:t>
            </a:r>
            <a:endParaRPr b="0" lang="en-US" sz="18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ategory panic {</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efault_syslog;</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efault_stderr;</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a:r>
            <a:endParaRPr b="0" lang="en-US" sz="12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egory panic</a:t>
            </a:r>
            <a:endParaRPr b="0" lang="en-US" sz="20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ategory eventlib {</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efault_debug;</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a:r>
            <a:endParaRPr b="0" lang="en-US" sz="12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egory eventlib</a:t>
            </a:r>
            <a:endParaRPr b="0" lang="en-US" sz="20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ategory packet {</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default_debug;</a:t>
            </a:r>
            <a:endParaRPr b="0"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a:r>
            <a:endParaRPr b="0" lang="en-US" sz="12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egory packe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6F36AEC-F864-40C7-ACC1-BBFD8784C044}" type="slidenum">
              <a:t>2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New BIND, Version 8.x</a:t>
            </a:r>
            <a:endParaRPr b="1" lang="en-US" sz="4800" spc="-1" strike="noStrike">
              <a:solidFill>
                <a:srgbClr val="ffffff"/>
              </a:solidFill>
              <a:latin typeface="Arial Narrow"/>
            </a:endParaRPr>
          </a:p>
        </p:txBody>
      </p:sp>
      <p:sp>
        <p:nvSpPr>
          <p:cNvPr id="10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new featur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new RRs (resource record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securit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by ISC, the Internet Software Consortium</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http://www.isc.org</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developer/maintainer: Paul Vixie, Vixie Enterprise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F1D47D0-F9E5-40A9-A758-07C9454588D1}" type="slidenum">
              <a:t>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he BIND 8.x Distribution</a:t>
            </a:r>
            <a:endParaRPr b="1" lang="en-US" sz="4800" spc="-1" strike="noStrike">
              <a:solidFill>
                <a:srgbClr val="ffffff"/>
              </a:solidFill>
              <a:latin typeface="Arial Narrow"/>
            </a:endParaRPr>
          </a:p>
        </p:txBody>
      </p:sp>
      <p:sp>
        <p:nvSpPr>
          <p:cNvPr id="16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ailable from the Internet Software Consortium for anonymous ftp</a:t>
            </a:r>
            <a:endParaRPr b="0" lang="en-US" sz="2000" spc="-1" strike="noStrike">
              <a:solidFill>
                <a:srgbClr val="ffffff"/>
              </a:solidFill>
              <a:latin typeface="Arial"/>
            </a:endParaRPr>
          </a:p>
          <a:p>
            <a:pPr lvl="1" marL="743040" indent="-285840">
              <a:lnSpc>
                <a:spcPct val="10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ftp://ftp.isc.org/isc/bind/cur</a:t>
            </a:r>
            <a:r>
              <a:rPr b="0" lang="en-US" sz="1800" spc="-1" strike="noStrike">
                <a:solidFill>
                  <a:srgbClr val="ffffff"/>
                </a:solidFill>
                <a:latin typeface="Arial"/>
              </a:rPr>
              <a:t> -  current production version</a:t>
            </a:r>
            <a:endParaRPr b="0" lang="en-US" sz="1800" spc="-1" strike="noStrike">
              <a:solidFill>
                <a:srgbClr val="ffffff"/>
              </a:solidFill>
              <a:latin typeface="Arial"/>
            </a:endParaRPr>
          </a:p>
          <a:p>
            <a:pPr lvl="1" marL="743040" indent="-285840">
              <a:lnSpc>
                <a:spcPct val="10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ftp://ftp.isc.org/isc/bind/src/testing</a:t>
            </a:r>
            <a:r>
              <a:rPr b="0" lang="en-US" sz="1800" spc="-1" strike="noStrike">
                <a:solidFill>
                  <a:srgbClr val="ffffff"/>
                </a:solidFill>
                <a:latin typeface="Arial"/>
              </a:rPr>
              <a:t> -  latest test release</a:t>
            </a:r>
            <a:endParaRPr b="0" lang="en-US" sz="18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ins src, doc, contrib tar.gz files with signatures which unpack into</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rc: source code for named, named-xfer, resolver libraries and a few stand alone tools like nslookup and dig</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 documentation for both BIND 4.x and BIND 8.x</a:t>
            </a:r>
            <a:endParaRPr b="0" lang="en-US" sz="18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iginal BOG (Name Server Operation Guide for BIND 4.9)</a:t>
            </a:r>
            <a:endParaRPr b="0" lang="en-US" sz="16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ML descriptions of new stuff</a:t>
            </a:r>
            <a:endParaRPr b="0" lang="en-US" sz="16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 pages</a:t>
            </a:r>
            <a:endParaRPr b="0" lang="en-US" sz="16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evant RFCs</a:t>
            </a:r>
            <a:endParaRPr b="0" lang="en-US" sz="16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rting notes</a:t>
            </a:r>
            <a:endParaRPr b="0" lang="en-US" sz="16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Q</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0D4F93E-6595-43B2-AC5E-7509FD91B446}" type="slidenum">
              <a:t>3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BIND 8 Distribution, cont.</a:t>
            </a:r>
            <a:endParaRPr b="1" lang="en-US" sz="4800" spc="-1" strike="noStrike">
              <a:solidFill>
                <a:srgbClr val="ffffff"/>
              </a:solidFill>
              <a:latin typeface="Arial Narrow"/>
            </a:endParaRPr>
          </a:p>
        </p:txBody>
      </p:sp>
      <p:sp>
        <p:nvSpPr>
          <p:cNvPr id="16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ib: contains goodies contributed by other folks</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focused on Bind 4.9</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to ease maintenance</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to find configuration error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tty documentation sometime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architecture specific (NextStep, OS2)</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ibutions welcom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FF6F5DA-7C07-46E6-A1CB-6B2D81EEF5D1}" type="slidenum">
              <a:t>3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Installing BIND 8</a:t>
            </a:r>
            <a:endParaRPr b="1" lang="en-US" sz="4800" spc="-1" strike="noStrike">
              <a:solidFill>
                <a:srgbClr val="ffffff"/>
              </a:solidFill>
              <a:latin typeface="Arial Narrow"/>
            </a:endParaRPr>
          </a:p>
        </p:txBody>
      </p:sp>
      <p:sp>
        <p:nvSpPr>
          <p:cNvPr id="16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about 20mb of disk space, an ANSI C compiler (gcc is fine), and Perl</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distribution and unpack it</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if your architecture is on the supported list (src/INSTALL document)</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o, follow the instructions in INSTALL, basically</a:t>
            </a:r>
            <a:endParaRPr b="0" lang="en-US" sz="2000" spc="-1" strike="noStrike">
              <a:solidFill>
                <a:srgbClr val="ffffff"/>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clean</a:t>
            </a:r>
            <a:endParaRPr b="0" lang="en-US" sz="1800" spc="-1" strike="noStrike">
              <a:solidFill>
                <a:srgbClr val="ffffff"/>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depend</a:t>
            </a:r>
            <a:endParaRPr b="0" lang="en-US" sz="1800" spc="-1" strike="noStrike">
              <a:solidFill>
                <a:srgbClr val="ffffff"/>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a:t>
            </a:r>
            <a:endParaRPr b="0" lang="en-US" sz="1800" spc="-1" strike="noStrike">
              <a:solidFill>
                <a:srgbClr val="ffffff"/>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vert your current boot file with named-bootconf.pl; tune it</a:t>
            </a:r>
            <a:endParaRPr b="0" lang="en-US" sz="1800" spc="-1" strike="noStrike">
              <a:solidFill>
                <a:srgbClr val="ffffff"/>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install</a:t>
            </a:r>
            <a:endParaRPr b="0" lang="en-US" sz="18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t, change to the src/port directory and read on</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2244B17-C8EB-4BF0-B38C-806549918D99}" type="slidenum">
              <a:t>3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onverting named.boot</a:t>
            </a:r>
            <a:endParaRPr b="1" lang="en-US" sz="4800" spc="-1" strike="noStrike">
              <a:solidFill>
                <a:srgbClr val="ffffff"/>
              </a:solidFill>
              <a:latin typeface="Arial Narrow"/>
            </a:endParaRPr>
          </a:p>
        </p:txBody>
      </p:sp>
      <p:sp>
        <p:nvSpPr>
          <p:cNvPr id="16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d-bootconf.pl PERL script to convert named.boot to named.conf</a:t>
            </a:r>
            <a:endParaRPr b="0" lang="en-US" sz="24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named-bootconf.pl &lt; named.boot &gt; named.conf</a:t>
            </a:r>
            <a:endParaRPr b="0" lang="en-US" sz="16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s like a filter</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ms to do the right thing</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rves comments, uses C++ styl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n't use any of the new featur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ely a good star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766E9ED-126F-4AB9-AABF-BEB25B3C17D1}" type="slidenum">
              <a:t>3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BIND References</a:t>
            </a:r>
            <a:endParaRPr b="1" lang="en-US" sz="4800" spc="-1" strike="noStrike">
              <a:solidFill>
                <a:srgbClr val="ffffff"/>
              </a:solidFill>
              <a:latin typeface="Arial Narrow"/>
            </a:endParaRPr>
          </a:p>
        </p:txBody>
      </p:sp>
      <p:sp>
        <p:nvSpPr>
          <p:cNvPr id="16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sgroups</a:t>
            </a:r>
            <a:endParaRPr b="0" lang="en-US" sz="20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protocols.dns.bind</a:t>
            </a:r>
            <a:endParaRPr b="0" lang="en-US" sz="18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protocols.dns.ops</a:t>
            </a:r>
            <a:endParaRPr b="0" lang="en-US" sz="18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protocols.dns.std</a:t>
            </a:r>
            <a:endParaRPr b="0" lang="en-US" sz="1800" spc="-1" strike="noStrike">
              <a:solidFill>
                <a:srgbClr val="ffffff"/>
              </a:solidFill>
              <a:latin typeface="Arial"/>
            </a:endParaRPr>
          </a:p>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ing lists</a:t>
            </a:r>
            <a:endParaRPr b="0" lang="en-US" sz="20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nd-users</a:t>
            </a:r>
            <a:endParaRPr b="0" lang="en-US" sz="1800" spc="-1" strike="noStrike">
              <a:solidFill>
                <a:srgbClr val="ffffff"/>
              </a:solidFill>
              <a:latin typeface="Arial"/>
            </a:endParaRPr>
          </a:p>
          <a:p>
            <a:pPr lvl="2" marL="1085760" indent="-217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ind-users-request@vix.com</a:t>
            </a:r>
            <a:endParaRPr b="0" lang="en-US" sz="1600" spc="-1" strike="noStrike">
              <a:solidFill>
                <a:srgbClr val="ffffff"/>
              </a:solidFill>
              <a:latin typeface="Arial"/>
            </a:endParaRPr>
          </a:p>
          <a:p>
            <a:pPr lvl="2" marL="1085760" indent="-217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ewayed to dns.bind newsgroup</a:t>
            </a:r>
            <a:endParaRPr b="0" lang="en-US" sz="16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droppers</a:t>
            </a:r>
            <a:endParaRPr b="0" lang="en-US" sz="1800" spc="-1" strike="noStrike">
              <a:solidFill>
                <a:srgbClr val="ffffff"/>
              </a:solidFill>
              <a:latin typeface="Arial"/>
            </a:endParaRPr>
          </a:p>
          <a:p>
            <a:pPr lvl="2" marL="1085760" indent="-217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droppers-request@internic.net</a:t>
            </a:r>
            <a:endParaRPr b="0" lang="en-US" sz="1600" spc="-1" strike="noStrike">
              <a:solidFill>
                <a:srgbClr val="ffffff"/>
              </a:solidFill>
              <a:latin typeface="Arial"/>
            </a:endParaRPr>
          </a:p>
          <a:p>
            <a:pPr lvl="2" marL="1085760" indent="-217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ewayed to dns.std newsgroup</a:t>
            </a:r>
            <a:endParaRPr b="0" lang="en-US" sz="1600" spc="-1" strike="noStrike">
              <a:solidFill>
                <a:srgbClr val="ffffff"/>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nd-workers</a:t>
            </a:r>
            <a:endParaRPr b="0" lang="en-US" sz="1800" spc="-1" strike="noStrike">
              <a:solidFill>
                <a:srgbClr val="ffffff"/>
              </a:solidFill>
              <a:latin typeface="Arial"/>
            </a:endParaRPr>
          </a:p>
          <a:p>
            <a:pPr lvl="2" marL="1085760" indent="-217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ind-workers-request@vix.com</a:t>
            </a:r>
            <a:endParaRPr b="0" lang="en-US" sz="1600" spc="-1" strike="noStrike">
              <a:solidFill>
                <a:srgbClr val="ffffff"/>
              </a:solidFill>
              <a:latin typeface="Arial"/>
            </a:endParaRPr>
          </a:p>
          <a:p>
            <a:pPr lvl="2" marL="1085760" indent="-217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xie requests "code warriors" only</a:t>
            </a:r>
            <a:endParaRPr b="0" lang="en-US" sz="1600" spc="-1" strike="noStrike">
              <a:solidFill>
                <a:srgbClr val="ffffff"/>
              </a:solidFill>
              <a:latin typeface="Arial"/>
            </a:endParaRPr>
          </a:p>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also the RFC repositori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ED46935-843A-43B0-8FDE-7E93E41C0CEE}" type="slidenum">
              <a:t>3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BIND 9</a:t>
            </a:r>
            <a:endParaRPr b="1" lang="en-US" sz="4800" spc="-1" strike="noStrike">
              <a:solidFill>
                <a:srgbClr val="ffffff"/>
              </a:solidFill>
              <a:latin typeface="Arial Narrow"/>
            </a:endParaRPr>
          </a:p>
        </p:txBody>
      </p:sp>
      <p:sp>
        <p:nvSpPr>
          <p:cNvPr id="17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mplete architecture redesign</a:t>
            </a:r>
            <a:endParaRPr b="0" lang="en-US" sz="2000" spc="-1" strike="noStrike">
              <a:solidFill>
                <a:srgbClr val="ffffff"/>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omain name system growth, particularly in very large zones such as .COM </a:t>
            </a:r>
            <a:endParaRPr b="0" lang="en-US" sz="1800" spc="-1" strike="noStrike">
              <a:solidFill>
                <a:srgbClr val="ffffff"/>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tocol enhancements necessary to securely query and update zones </a:t>
            </a:r>
            <a:endParaRPr b="0" lang="en-US" sz="1800" spc="-1" strike="noStrike">
              <a:solidFill>
                <a:srgbClr val="ffffff"/>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tocol enhancements necessary to take advantage of certain architectural features of IP version 6 </a:t>
            </a:r>
            <a:endParaRPr b="0" lang="en-US" sz="1800" spc="-1" strike="noStrike">
              <a:solidFill>
                <a:srgbClr val="ffffff"/>
              </a:solidFill>
              <a:latin typeface="Arial"/>
            </a:endParaRPr>
          </a:p>
          <a:p>
            <a:pPr marL="332640" indent="-3326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IND9 Features</a:t>
            </a:r>
            <a:endParaRPr b="0" lang="en-US" sz="2000" spc="-1" strike="noStrike">
              <a:solidFill>
                <a:srgbClr val="ffffff"/>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calability </a:t>
            </a:r>
            <a:endParaRPr b="0" lang="en-US" sz="18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read safe </a:t>
            </a:r>
            <a:endParaRPr b="0" lang="en-US" sz="16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ulti-processor scalability </a:t>
            </a:r>
            <a:endParaRPr b="0" lang="en-US" sz="16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upport for very large zones </a:t>
            </a:r>
            <a:endParaRPr b="0" lang="en-US" sz="1600" spc="-1" strike="noStrike">
              <a:solidFill>
                <a:srgbClr val="ffffff"/>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curity </a:t>
            </a:r>
            <a:endParaRPr b="0" lang="en-US" sz="18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upport for DNSSEC </a:t>
            </a:r>
            <a:endParaRPr b="0" lang="en-US" sz="16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upport for TSIG </a:t>
            </a:r>
            <a:endParaRPr b="0" lang="en-US" sz="16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uditability (code and operation) </a:t>
            </a:r>
            <a:endParaRPr b="0" lang="en-US" sz="1600" spc="-1" strike="noStrike">
              <a:solidFill>
                <a:srgbClr val="ffffff"/>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irewall support (split DNS) </a:t>
            </a:r>
            <a:endParaRPr b="0" lang="en-US" sz="1600" spc="-1" strike="noStrike">
              <a:solidFill>
                <a:srgbClr val="ffffff"/>
              </a:solidFill>
              <a:latin typeface="Arial"/>
            </a:endParaRPr>
          </a:p>
          <a:p>
            <a:pPr marL="3326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5F5E3AD-124D-40EE-B997-CC77C08EDE27}" type="slidenum">
              <a:t>35</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ore BIND 9 Features</a:t>
            </a:r>
            <a:endParaRPr b="1" lang="en-US" sz="4800" spc="-1" strike="noStrike">
              <a:solidFill>
                <a:srgbClr val="ffffff"/>
              </a:solidFill>
              <a:latin typeface="Arial Narrow"/>
            </a:endParaRPr>
          </a:p>
        </p:txBody>
      </p:sp>
      <p:sp>
        <p:nvSpPr>
          <p:cNvPr id="17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ortabilit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aintainability </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rotocol enhancements </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XFR, DDNS, Notify, EDNS(0,1) </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mproved standards conformance </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perational enhancements </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 availability and reliability </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upport for alternative back end database </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P version 6 support </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Pv6 resource records (A6, DNAME, etc.) </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tstring labels </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PIs </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F647EA4-19F7-4AF3-A0B5-AF7AAB250848}" type="slidenum">
              <a:t>3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Squid Web Cache</a:t>
            </a:r>
            <a:endParaRPr b="1" lang="en-US" sz="6600" spc="-1" strike="noStrike">
              <a:solidFill>
                <a:srgbClr val="ffffff"/>
              </a:solidFill>
              <a:latin typeface="Arial Narrow"/>
            </a:endParaRPr>
          </a:p>
        </p:txBody>
      </p:sp>
      <p:sp>
        <p:nvSpPr>
          <p:cNvPr id="174"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COT200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oul, South Kore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 Dijke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netrack.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aching</a:t>
            </a:r>
            <a:endParaRPr b="1" lang="en-US" sz="4800" spc="-1" strike="noStrike">
              <a:solidFill>
                <a:srgbClr val="ffffff"/>
              </a:solidFill>
              <a:latin typeface="Arial Narrow"/>
            </a:endParaRPr>
          </a:p>
        </p:txBody>
      </p:sp>
      <p:sp>
        <p:nvSpPr>
          <p:cNvPr id="17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ing saves objects (web pages) closer to the next requestor than the original</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s more disk space and cpu cycles on caching machin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s less network bandwidth and gives user the page with less delay</a:t>
            </a:r>
            <a:endParaRPr b="0" lang="en-US" sz="20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web traffic saved</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 - 40% at typical site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 - 70% at very focused sites</a:t>
            </a:r>
            <a:endParaRPr b="0" lang="en-US" sz="20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nential Growth</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rnet and the information on it is growing exponentially</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nly way to deal with exponential growth is by replication</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ing is a dynamic form of replication</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0DA9A6A-13C9-4AA3-BCBE-8DB5EF373813}" type="slidenum">
              <a:t>3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quid Web Caching Software</a:t>
            </a:r>
            <a:endParaRPr b="1" lang="en-US" sz="4800" spc="-1" strike="noStrike">
              <a:solidFill>
                <a:srgbClr val="ffffff"/>
              </a:solidFill>
              <a:latin typeface="Arial Narrow"/>
            </a:endParaRPr>
          </a:p>
        </p:txBody>
      </p:sp>
      <p:sp>
        <p:nvSpPr>
          <p:cNvPr id="17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id is derived from the Harvest project</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PA funded research project at the University of Colorado</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s led by Prof. Mike Schwartz (now at a startup after a stint at @Home)</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ly supported by NLANR, the National Laboratory for Applied Network Research</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ary developer/maintainer: Duane Wessels, NLANR</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a:t>
            </a:r>
            <a:r>
              <a:rPr b="1" lang="en-US" sz="1800" spc="-1" strike="noStrike">
                <a:solidFill>
                  <a:srgbClr val="ffffff"/>
                </a:solidFill>
                <a:latin typeface="Courier New"/>
              </a:rPr>
              <a:t>http://www.nlanr.net/Squid</a:t>
            </a:r>
            <a:endParaRPr b="0" lang="en-US" sz="18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ly available, ftp it from squid.nlanr.ne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324B906-75E7-4D80-AD14-C07CB9D45BEB}" type="slidenum">
              <a:t>3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ew Features</a:t>
            </a:r>
            <a:endParaRPr b="1" lang="en-US" sz="4800" spc="-1" strike="noStrike">
              <a:solidFill>
                <a:srgbClr val="ffffff"/>
              </a:solidFill>
              <a:latin typeface="Arial Narrow"/>
            </a:endParaRPr>
          </a:p>
        </p:txBody>
      </p:sp>
      <p:sp>
        <p:nvSpPr>
          <p:cNvPr id="10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Update (RFC 2136)</a:t>
            </a:r>
            <a:endParaRPr b="0" lang="en-US" sz="2400" spc="-1" strike="noStrike">
              <a:solidFill>
                <a:srgbClr val="ffffff"/>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Notification (RFC 1996)</a:t>
            </a:r>
            <a:endParaRPr b="0" lang="en-US" sz="2400" spc="-1" strike="noStrike">
              <a:solidFill>
                <a:srgbClr val="ffffff"/>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Resource Records</a:t>
            </a:r>
            <a:endParaRPr b="0" lang="en-US" sz="2400" spc="-1" strike="noStrike">
              <a:solidFill>
                <a:srgbClr val="ffffff"/>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syntax for configuration files</a:t>
            </a:r>
            <a:endParaRPr b="0" lang="en-US" sz="2400" spc="-1" strike="noStrike">
              <a:solidFill>
                <a:srgbClr val="ffffff"/>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 to map from old syntax to new one: src/bin/named/named-bootconf.pl</a:t>
            </a:r>
            <a:endParaRPr b="0" lang="en-US" sz="2000" spc="-1" strike="noStrike">
              <a:solidFill>
                <a:srgbClr val="ffffff"/>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initely flexible logging</a:t>
            </a:r>
            <a:endParaRPr b="0" lang="en-US" sz="2400" spc="-1" strike="noStrike">
              <a:solidFill>
                <a:srgbClr val="ffffff"/>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lists (per zone) for queries, xfers, updates</a:t>
            </a:r>
            <a:endParaRPr b="0" lang="en-US" sz="2400" spc="-1" strike="noStrike">
              <a:solidFill>
                <a:srgbClr val="ffffff"/>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efficient zone transfers</a:t>
            </a:r>
            <a:endParaRPr b="0" lang="en-US" sz="2400" spc="-1" strike="noStrike">
              <a:solidFill>
                <a:srgbClr val="ffffff"/>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performance for servers with lots of zones</a:t>
            </a:r>
            <a:endParaRPr b="0" lang="en-US" sz="2400" spc="-1" strike="noStrike">
              <a:solidFill>
                <a:srgbClr val="ffffff"/>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bug fixe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42330D0-ED80-4040-A433-E87FACB4F4F4}" type="slidenum">
              <a:t>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What is Squid</a:t>
            </a:r>
            <a:endParaRPr b="1" lang="en-US" sz="4800" spc="-1" strike="noStrike">
              <a:solidFill>
                <a:srgbClr val="ffffff"/>
              </a:solidFill>
              <a:latin typeface="Arial Narrow"/>
            </a:endParaRPr>
          </a:p>
        </p:txBody>
      </p:sp>
      <p:sp>
        <p:nvSpPr>
          <p:cNvPr id="18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client cach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than most commercial caches</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several protocols: HTTP, FTP, Gopher, SSL</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s cooperate in a hierarchy</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kes lots of disk and memory</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 data about cached objects kept in memor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s themselves are saved on disk</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t objects are also cached in memory</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D575207-B63F-4DC9-BFEB-95780B20E109}" type="slidenum">
              <a:t>4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Why Cache?</a:t>
            </a:r>
            <a:endParaRPr b="1" lang="en-US" sz="4800" spc="-1" strike="noStrike">
              <a:solidFill>
                <a:srgbClr val="ffffff"/>
              </a:solidFill>
              <a:latin typeface="Arial Narrow"/>
            </a:endParaRPr>
          </a:p>
        </p:txBody>
      </p:sp>
      <p:sp>
        <p:nvSpPr>
          <p:cNvPr id="18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uid motivated by studies on the NSFNet backbone (1993) showing that, at that time, half the packets were ftp and half of that half were duplicates</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placed caches would save that bandwidth</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dwidth hog is now the web</a:t>
            </a:r>
            <a:endParaRPr b="0" lang="en-US" sz="2000" spc="-1" strike="noStrike">
              <a:solidFill>
                <a:srgbClr val="ffffff"/>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70% of the packets</a:t>
            </a:r>
            <a:endParaRPr b="0" lang="en-US" sz="1800" spc="-1" strike="noStrike">
              <a:solidFill>
                <a:srgbClr val="ffffff"/>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75% of the bytes</a:t>
            </a:r>
            <a:endParaRPr b="0" lang="en-US" sz="18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ing assumes that several different people look at the same pag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es pages don't change too often</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es that people don't care where the pages come from as long as they get the right thing</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51F6FD6-147B-4A13-99BE-38AD2DD9F9A2}" type="slidenum">
              <a:t>4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Problems with Caching</a:t>
            </a:r>
            <a:endParaRPr b="1" lang="en-US" sz="4800" spc="-1" strike="noStrike">
              <a:solidFill>
                <a:srgbClr val="ffffff"/>
              </a:solidFill>
              <a:latin typeface="Arial Narrow"/>
            </a:endParaRPr>
          </a:p>
        </p:txBody>
      </p:sp>
      <p:sp>
        <p:nvSpPr>
          <p:cNvPr id="18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ly political, not technical</a:t>
            </a:r>
            <a:endParaRPr b="0" lang="en-US" sz="2400" spc="-1" strike="noStrike">
              <a:solidFill>
                <a:srgbClr val="ffffff"/>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s about who is responsible for content are scary</a:t>
            </a:r>
            <a:endParaRPr b="0" lang="en-US" sz="2400" spc="-1" strike="noStrike">
              <a:solidFill>
                <a:srgbClr val="ffffff"/>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contents are controlled dynamically by what users request</a:t>
            </a:r>
            <a:endParaRPr b="0" lang="en-US" sz="2000" spc="-1" strike="noStrike">
              <a:solidFill>
                <a:srgbClr val="ffffff"/>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not hold the ISP who owns the machine and provides caching service responsible</a:t>
            </a:r>
            <a:endParaRPr b="0" lang="en-US" sz="2000" spc="-1" strike="noStrike">
              <a:solidFill>
                <a:srgbClr val="ffffff"/>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 Issues</a:t>
            </a:r>
            <a:endParaRPr b="0" lang="en-US" sz="2400" spc="-1" strike="noStrike">
              <a:solidFill>
                <a:srgbClr val="ffffff"/>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operators have lots of demographic data</a:t>
            </a:r>
            <a:endParaRPr b="0" lang="en-US" sz="2000" spc="-1" strike="noStrike">
              <a:solidFill>
                <a:srgbClr val="ffffff"/>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eers gold mine of data</a:t>
            </a:r>
            <a:endParaRPr b="0" lang="en-US" sz="2000" spc="-1" strike="noStrike">
              <a:solidFill>
                <a:srgbClr val="ffffff"/>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s need correct headers</a:t>
            </a:r>
            <a:endParaRPr b="0" lang="en-US" sz="2400" spc="-1" strike="noStrike">
              <a:solidFill>
                <a:srgbClr val="ffffff"/>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 1.0 had 2 or 3 "freshness" headers</a:t>
            </a:r>
            <a:endParaRPr b="0" lang="en-US" sz="2000" spc="-1" strike="noStrike">
              <a:solidFill>
                <a:srgbClr val="ffffff"/>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 1.1 has 10 or more of them</a:t>
            </a:r>
            <a:endParaRPr b="0" lang="en-US" sz="2000" spc="-1" strike="noStrike">
              <a:solidFill>
                <a:srgbClr val="ffffff"/>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nsive to maintain</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301EBBB-1E5F-4866-9971-47DBA441A56C}" type="slidenum">
              <a:t>4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Problems, cont.</a:t>
            </a:r>
            <a:endParaRPr b="1" lang="en-US" sz="4800" spc="-1" strike="noStrike">
              <a:solidFill>
                <a:srgbClr val="ffffff"/>
              </a:solidFill>
              <a:latin typeface="Arial Narrow"/>
            </a:endParaRPr>
          </a:p>
        </p:txBody>
      </p:sp>
      <p:sp>
        <p:nvSpPr>
          <p:cNvPr id="18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an counting, who has the most hit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es that sell advertising care about hit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it a hit when a user gets their page from a cach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do the accounting</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RFC 2227 on hit metering</a:t>
            </a:r>
            <a:endParaRPr b="0" lang="en-US" sz="18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content changes with each fetch</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ttle ad blocks that randomly choose an ad for each instanc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ttle counters of number of visits to a pag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ny called matchlogic.com has solution with Java accounting scrip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08A4335-C5CD-4257-BA15-E218770E4CB7}" type="slidenum">
              <a:t>4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Problems, cont.</a:t>
            </a:r>
            <a:endParaRPr b="1" lang="en-US" sz="4800" spc="-1" strike="noStrike">
              <a:solidFill>
                <a:srgbClr val="ffffff"/>
              </a:solidFill>
              <a:latin typeface="Arial Narrow"/>
            </a:endParaRPr>
          </a:p>
        </p:txBody>
      </p:sp>
      <p:sp>
        <p:nvSpPr>
          <p:cNvPr id="18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ing the right TTL value for objects in the cache</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s are % of last modify time</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rmines how long objects stay in the cache</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uenced in one direction by folks to maximize saved bandwidth</a:t>
            </a:r>
            <a:endParaRPr b="0" lang="en-US" sz="18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OL, for example</a:t>
            </a:r>
            <a:endParaRPr b="0" lang="en-US" sz="16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Ps with pricy bandwidth</a:t>
            </a:r>
            <a:endParaRPr b="0" lang="en-US" sz="16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ults in stale data</a:t>
            </a:r>
            <a:endParaRPr b="0" lang="en-US" sz="16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uenced in other direction by folks who want every access to go direct to their site</a:t>
            </a:r>
            <a:endParaRPr b="0" lang="en-US" sz="18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crosoft, for example (set to 0)</a:t>
            </a:r>
            <a:endParaRPr b="0" lang="en-US" sz="16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ults in a conflict between cache managers and content providers</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communicate and cooperate</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accurate expire time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D31136E-CE1C-488D-A43D-B60F76F780D4}" type="slidenum">
              <a:t>4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quid Parts</a:t>
            </a:r>
            <a:endParaRPr b="1" lang="en-US" sz="4800" spc="-1" strike="noStrike">
              <a:solidFill>
                <a:srgbClr val="ffffff"/>
              </a:solidFill>
              <a:latin typeface="Arial Narrow"/>
            </a:endParaRPr>
          </a:p>
        </p:txBody>
      </p:sp>
      <p:sp>
        <p:nvSpPr>
          <p:cNvPr id="19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uid: main server program</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nsserver: domain name system lookup program</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tpget: a program to retrieve FTP data</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 a command-line browser to use for testing or managing squid</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CP: Internet cache protocol to talk to other caches (RFCs 2186, 2187)</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s of features</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SSL, the secure socket layer</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extensive access control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configurable logging</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351E439-7A40-4466-AE5B-3CEA1F2B3E1E}" type="slidenum">
              <a:t>45</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Installing Squid</a:t>
            </a:r>
            <a:endParaRPr b="1" lang="en-US" sz="4800" spc="-1" strike="noStrike">
              <a:solidFill>
                <a:srgbClr val="ffffff"/>
              </a:solidFill>
              <a:latin typeface="Arial Narrow"/>
            </a:endParaRPr>
          </a:p>
        </p:txBody>
      </p:sp>
      <p:sp>
        <p:nvSpPr>
          <p:cNvPr id="19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about 10mb of disk space and an ANSI C compiler (gcc is fin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distribution and unpack it</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if your architecture is on the supported list (AIX, FreeBSD, HP-UX, IRIX,  Linux, OSF/1, Solaris, SunO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t, try it anyway, send mail to squid</a:t>
            </a:r>
            <a:r>
              <a:rPr b="0" lang="en-US" sz="2400" spc="-1" strike="noStrike">
                <a:solidFill>
                  <a:srgbClr val="ffffff"/>
                </a:solidFill>
                <a:latin typeface="Arial"/>
                <a:ea typeface="Courier New"/>
              </a:rPr>
              <a:t>-</a:t>
            </a:r>
            <a:r>
              <a:rPr b="0" lang="en-US" sz="2400" spc="-1" strike="noStrike">
                <a:solidFill>
                  <a:srgbClr val="ffffff"/>
                </a:solidFill>
                <a:latin typeface="Arial"/>
              </a:rPr>
              <a:t>bugs@nlanr.net to report changes if you have problem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F0731C8-E005-4811-B601-54D36422D23C}" type="slidenum">
              <a:t>4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Installing Squid, cont</a:t>
            </a:r>
            <a:endParaRPr b="1" lang="en-US" sz="4800" spc="-1" strike="noStrike">
              <a:solidFill>
                <a:srgbClr val="ffffff"/>
              </a:solidFill>
              <a:latin typeface="Arial Narrow"/>
            </a:endParaRPr>
          </a:p>
        </p:txBody>
      </p:sp>
      <p:sp>
        <p:nvSpPr>
          <p:cNvPr id="19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 the instructions in INSTALL, basically</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configure</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umes you install it in /usr/local/squid</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1" lang="en-US" sz="1800" spc="-1" strike="noStrike">
                <a:solidFill>
                  <a:srgbClr val="ffffff"/>
                </a:solidFill>
                <a:latin typeface="Courier New"/>
              </a:rPr>
              <a:t>--prefix=/other/dir/squid</a:t>
            </a:r>
            <a:r>
              <a:rPr b="0" lang="en-US" sz="1800" spc="-1" strike="noStrike">
                <a:solidFill>
                  <a:srgbClr val="ffffff"/>
                </a:solidFill>
                <a:latin typeface="Arial"/>
              </a:rPr>
              <a:t> if you put it somewhere else</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all</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s a while (1/2 hour + on a P133 running BSDI)</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install</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n't do anything dangerou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installation is beneath /usr/local/squid</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ize the config file /usr/local/squid/etc/squid.conf</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the file QUICKSTART in the distribution for the minimal changes you must make to the sample squid.conf 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60EF03A-C15B-4B7A-9CEF-08207882A5D8}" type="slidenum">
              <a:t>4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onfiguring Squid</a:t>
            </a:r>
            <a:endParaRPr b="1" lang="en-US" sz="4800" spc="-1" strike="noStrike">
              <a:solidFill>
                <a:srgbClr val="ffffff"/>
              </a:solidFill>
              <a:latin typeface="Arial Narrow"/>
            </a:endParaRPr>
          </a:p>
        </p:txBody>
      </p:sp>
      <p:sp>
        <p:nvSpPr>
          <p:cNvPr id="19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one configuration file, in the squid/etc directory</a:t>
            </a:r>
            <a:endParaRPr b="0" lang="en-US" sz="2000" spc="-1" strike="noStrike">
              <a:solidFill>
                <a:srgbClr val="ffffff"/>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ed squid.conf Shipped with a squid.conf.default file that is extensively commented</a:t>
            </a:r>
            <a:endParaRPr b="0" lang="en-US" sz="1800" spc="-1" strike="noStrike">
              <a:solidFill>
                <a:srgbClr val="ffffff"/>
              </a:solidFill>
              <a:latin typeface="Arial"/>
            </a:endParaRPr>
          </a:p>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isions to be made in configuration</a:t>
            </a:r>
            <a:endParaRPr b="0" lang="en-US" sz="2000" spc="-1" strike="noStrike">
              <a:solidFill>
                <a:srgbClr val="ffffff"/>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 limits</a:t>
            </a:r>
            <a:endParaRPr b="0" lang="en-US" sz="1800" spc="-1" strike="noStrike">
              <a:solidFill>
                <a:srgbClr val="ffffff"/>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memory will you let squid take (he takes about 3x what you say :-)</a:t>
            </a:r>
            <a:endParaRPr b="0" lang="en-US" sz="1600" spc="-1" strike="noStrike">
              <a:solidFill>
                <a:srgbClr val="ffffff"/>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disk space do you have for storing pages</a:t>
            </a:r>
            <a:endParaRPr b="0" lang="en-US" sz="1600" spc="-1" strike="noStrike">
              <a:solidFill>
                <a:srgbClr val="ffffff"/>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caching topology</a:t>
            </a:r>
            <a:endParaRPr b="0" lang="en-US" sz="1800" spc="-1" strike="noStrike">
              <a:solidFill>
                <a:srgbClr val="ffffff"/>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o is your parent, or parents</a:t>
            </a:r>
            <a:endParaRPr b="0" lang="en-US" sz="1600" spc="-1" strike="noStrike">
              <a:solidFill>
                <a:srgbClr val="ffffff"/>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o are your siblings</a:t>
            </a:r>
            <a:endParaRPr b="0" lang="en-US" sz="1600" spc="-1" strike="noStrike">
              <a:solidFill>
                <a:srgbClr val="ffffff"/>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lists, who can use your cache</a:t>
            </a:r>
            <a:endParaRPr b="0" lang="en-US" sz="1800" spc="-1" strike="noStrike">
              <a:solidFill>
                <a:srgbClr val="ffffff"/>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one (not recommended)</a:t>
            </a:r>
            <a:endParaRPr b="0" lang="en-US" sz="1600" spc="-1" strike="noStrike">
              <a:solidFill>
                <a:srgbClr val="ffffff"/>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own site (definitely)</a:t>
            </a:r>
            <a:endParaRPr b="0" lang="en-US" sz="1600" spc="-1" strike="noStrike">
              <a:solidFill>
                <a:srgbClr val="ffffff"/>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stomers if you are an ISP (sure)</a:t>
            </a:r>
            <a:endParaRPr b="0" lang="en-US" sz="1600" spc="-1" strike="noStrike">
              <a:solidFill>
                <a:srgbClr val="ffffff"/>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ers (maybe)</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5C7D580-6FFC-4240-B3BD-39568B74CB0D}" type="slidenum">
              <a:t>4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quid Configuration, cont.</a:t>
            </a:r>
            <a:endParaRPr b="1" lang="en-US" sz="4800" spc="-1" strike="noStrike">
              <a:solidFill>
                <a:srgbClr val="ffffff"/>
              </a:solidFill>
              <a:latin typeface="Arial Narrow"/>
            </a:endParaRPr>
          </a:p>
        </p:txBody>
      </p:sp>
      <p:sp>
        <p:nvSpPr>
          <p:cNvPr id="19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datory things that must be changed</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_swap: the amount of disk you are willing to donate to the cach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_access: access control lists to monitor use of your cach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cp_access: access control lists to monitor other cache's access to you</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_mgr: email address of the squid-meister</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_effective_user: who the software should run as</a:t>
            </a:r>
            <a:endParaRPr b="0" lang="en-US" sz="2000" spc="-1" strike="noStrike">
              <a:solidFill>
                <a:srgbClr val="ffffff"/>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s to user nobody, group nogroup</a:t>
            </a:r>
            <a:endParaRPr b="0" lang="en-US" sz="1800" spc="-1" strike="noStrike">
              <a:solidFill>
                <a:srgbClr val="ffffff"/>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sure these exist</a:t>
            </a:r>
            <a:endParaRPr b="0" lang="en-US" sz="18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ible_hostname: hostname you advertise for the cache</a:t>
            </a:r>
            <a:endParaRPr b="0" lang="en-US" sz="2000" spc="-1" strike="noStrike">
              <a:solidFill>
                <a:srgbClr val="ffffff"/>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 DNS cname record to make this generic</a:t>
            </a:r>
            <a:endParaRPr b="0" lang="en-US" sz="1800" spc="-1" strike="noStrike">
              <a:solidFill>
                <a:srgbClr val="ffffff"/>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ier in case you want to change host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AB0CCA5-EA01-491C-805B-CA51B2805107}" type="slidenum">
              <a:t>4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Dynamic Updates</a:t>
            </a:r>
            <a:endParaRPr b="1" lang="en-US" sz="4800" spc="-1" strike="noStrike">
              <a:solidFill>
                <a:srgbClr val="ffffff"/>
              </a:solidFill>
              <a:latin typeface="Arial Narrow"/>
            </a:endParaRPr>
          </a:p>
        </p:txBody>
      </p:sp>
      <p:sp>
        <p:nvSpPr>
          <p:cNvPr id="11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all DNS updates were done to the master files for the zon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update allows changes to come across the network</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s can add or delete a single RR or set of R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s can depend on the existence or nonexistence of a particular R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s are atomic operations</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ts things like the DHCP server paradigm well</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tough, held up RFC for age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AEBFEAA-C787-47F6-A7C5-31BE7F0D7864}" type="slidenum">
              <a:t>5</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Other Config Parameters</a:t>
            </a:r>
            <a:endParaRPr b="1" lang="en-US" sz="4800" spc="-1" strike="noStrike">
              <a:solidFill>
                <a:srgbClr val="ffffff"/>
              </a:solidFill>
              <a:latin typeface="Arial Narrow"/>
            </a:endParaRPr>
          </a:p>
        </p:txBody>
      </p:sp>
      <p:sp>
        <p:nvSpPr>
          <p:cNvPr id="20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_stoplist pattern: doesn't cache URLs that match pattern</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_dir: directory where objects will be cached</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s to /usr/local/squid/cach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es each cache_dir is the same size (version 1.1, will be fixed in 1.2)</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log: specifies location of various log fil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d_filename: where to store pid of running proces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7AF8FA2-B577-4980-9D0F-B4E1A272924E}" type="slidenum">
              <a:t>50</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esting and Running Squid</a:t>
            </a:r>
            <a:endParaRPr b="1" lang="en-US" sz="4800" spc="-1" strike="noStrike">
              <a:solidFill>
                <a:srgbClr val="ffffff"/>
              </a:solidFill>
              <a:latin typeface="Arial Narrow"/>
            </a:endParaRPr>
          </a:p>
        </p:txBody>
      </p:sp>
      <p:sp>
        <p:nvSpPr>
          <p:cNvPr id="20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it by hand to build and zero out the directory structure where the cached web pages will be stored</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id -z</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s 16 directories under your cache root</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s 256 directories under each of them</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s a while</a:t>
            </a:r>
            <a:endParaRPr b="0" lang="en-US" sz="18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it by hand and test your web performanc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id &amp;</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ually do this at boot-time in the rc scripts</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usr/local/squid/bin/RunCache</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t it in the background</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2392129-145E-446E-A0EF-4FB1406179EC}" type="slidenum">
              <a:t>51</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Testing cont.</a:t>
            </a:r>
            <a:endParaRPr b="1" lang="en-US" sz="4800" spc="-1" strike="noStrike">
              <a:solidFill>
                <a:srgbClr val="ffffff"/>
              </a:solidFill>
              <a:latin typeface="Arial Narrow"/>
            </a:endParaRPr>
          </a:p>
        </p:txBody>
      </p:sp>
      <p:sp>
        <p:nvSpPr>
          <p:cNvPr id="20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with a browser if you can</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ear your local .netscape cache</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figure your browser's network preferences (under proxies)</a:t>
            </a:r>
            <a:endParaRPr b="0" lang="en-US" sz="1800" spc="-1" strike="noStrike">
              <a:solidFill>
                <a:srgbClr val="ffffff"/>
              </a:solidFill>
              <a:latin typeface="Arial"/>
            </a:endParaRPr>
          </a:p>
          <a:p>
            <a:pPr lvl="2" marL="1143000" indent="-2286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hand in the manual configuration section</a:t>
            </a:r>
            <a:endParaRPr b="0" lang="en-US" sz="1600" spc="-1" strike="noStrike">
              <a:solidFill>
                <a:srgbClr val="ffffff"/>
              </a:solidFill>
              <a:latin typeface="Arial"/>
            </a:endParaRPr>
          </a:p>
          <a:p>
            <a:pPr lvl="2" marL="1143000" indent="-2286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 proxy.pac file (java script) such as:</a:t>
            </a:r>
            <a:endParaRPr b="0" lang="en-US" sz="16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function FindProxyForURL(url, host)</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if (isPlainHostName(host))</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return "DIRECT";</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if (!isResolvable(host))</a:t>
            </a:r>
            <a:endParaRPr b="0" lang="en-US" sz="1200" spc="-1" strike="noStrike">
              <a:solidFill>
                <a:srgbClr val="ffffff"/>
              </a:solidFill>
              <a:latin typeface="Arial"/>
            </a:endParaRPr>
          </a:p>
          <a:p>
            <a:pPr lvl="4" marL="205740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turn "DIRECT";</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if (url.substring(0, 5) == "http:")</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return "PROXY 205.180.223.3:3128; DIRECT";</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if (url.substring(0, 4) == "ftp:")</a:t>
            </a:r>
            <a:endParaRPr b="0" lang="en-US" sz="1200" spc="-1" strike="noStrike">
              <a:solidFill>
                <a:srgbClr val="ffffff"/>
              </a:solidFill>
              <a:latin typeface="Arial"/>
            </a:endParaRPr>
          </a:p>
          <a:p>
            <a:pPr lvl="4" marL="205740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turn "PROXY 205.180.223.3:3128; DIRECT";</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return "DIRECT";</a:t>
            </a:r>
            <a:endParaRPr b="0" lang="en-US" sz="1200" spc="-1" strike="noStrike">
              <a:solidFill>
                <a:srgbClr val="ffffff"/>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t>
            </a:r>
            <a:endParaRPr b="0" lang="en-US" sz="12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don't have a browser, use /usr/local/squid/bin/client </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EE3C785-1D7C-46C4-9EDC-ADAE583FD5F3}" type="slidenum">
              <a:t>52</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onitoring Squid</a:t>
            </a:r>
            <a:endParaRPr b="1" lang="en-US" sz="4800" spc="-1" strike="noStrike">
              <a:solidFill>
                <a:srgbClr val="ffffff"/>
              </a:solidFill>
              <a:latin typeface="Arial Narrow"/>
            </a:endParaRPr>
          </a:p>
        </p:txBody>
      </p:sp>
      <p:sp>
        <p:nvSpPr>
          <p:cNvPr id="20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uid -k reconfigure</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e as sending squid a HUP signal</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ed if you edit the config file and want squid to re-read it</a:t>
            </a:r>
            <a:endParaRPr b="0" lang="en-US" sz="20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uid -k rotate</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e as sending squid a USR1 signal</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ls squid to rotate the log file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tates them in place, config file parameter tells how many to keep</a:t>
            </a:r>
            <a:endParaRPr b="0" lang="en-US" sz="20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ient program</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used to display statistics on the running squid process and the cach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meters are URLish with protocol field = cache_object</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list in squid configuration file comment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05E2983-8CA7-4CCE-BA37-7094DB50A3A0}" type="slidenum">
              <a:t>53</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lient Program Examples</a:t>
            </a:r>
            <a:endParaRPr b="1" lang="en-US" sz="4800" spc="-1" strike="noStrike">
              <a:solidFill>
                <a:srgbClr val="ffffff"/>
              </a:solidFill>
              <a:latin typeface="Arial Narrow"/>
            </a:endParaRPr>
          </a:p>
        </p:txBody>
      </p:sp>
      <p:sp>
        <p:nvSpPr>
          <p:cNvPr id="20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s that the hostname of the machine running squid is "squid"</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 cache_object://squid/info</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s lots of information about running cache</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ch the ratio of page faults to TCP connnections (should be .2 or so)</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ch LRU Expiration Age, if below 5 days increasing squids disk can help</a:t>
            </a:r>
            <a:endParaRPr b="0" lang="en-US" sz="18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 cache_object://squid/stats/dn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s stats on squid dns lookup processes</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ch last dnsserver, if used a lot, configure more servers (dns_childre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BA11198-1723-4D94-B2DF-BE83992DC153}" type="slidenum">
              <a:t>54</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quid References</a:t>
            </a:r>
            <a:endParaRPr b="1" lang="en-US" sz="4800" spc="-1" strike="noStrike">
              <a:solidFill>
                <a:srgbClr val="ffffff"/>
              </a:solidFill>
              <a:latin typeface="Arial Narrow"/>
            </a:endParaRPr>
          </a:p>
        </p:txBody>
      </p:sp>
      <p:sp>
        <p:nvSpPr>
          <p:cNvPr id="21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ling lists, join them by adding -request to the nam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id-users, general discussions about squid softwar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id-users-digest@nlanr.net, the users list digested dail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id-announce@nlanr.net, announcements of new version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id-bugs@nlanr.net, an alias for reporting bug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id@nlanr.net, an alias for sending feedback and idea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id-faq@nlanr.net, an alias for feedback and additions to the FAQ</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also the IETF Internet draft repositorie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s of info beneath the squid web page: </a:t>
            </a:r>
            <a:r>
              <a:rPr b="1" lang="en-US" sz="2400" spc="-1" strike="noStrike">
                <a:solidFill>
                  <a:srgbClr val="ffffff"/>
                </a:solidFill>
                <a:latin typeface="Courier New"/>
              </a:rPr>
              <a:t>http://www.nlanr.net/Squid</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9CD7965-FAD4-4A9E-9A26-BA678BEC40EE}" type="slidenum">
              <a:t>55</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aching References</a:t>
            </a:r>
            <a:endParaRPr b="1" lang="en-US" sz="4800" spc="-1" strike="noStrike">
              <a:solidFill>
                <a:srgbClr val="ffffff"/>
              </a:solidFill>
              <a:latin typeface="Arial Narrow"/>
            </a:endParaRPr>
          </a:p>
        </p:txBody>
      </p:sp>
      <p:sp>
        <p:nvSpPr>
          <p:cNvPr id="21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10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http://ircache.nlanr.net/Cache/reading-list.html</a:t>
            </a:r>
            <a:endParaRPr b="0" lang="en-US" sz="2000" spc="-1" strike="noStrike">
              <a:solidFill>
                <a:srgbClr val="ffffff"/>
              </a:solidFill>
              <a:latin typeface="Arial"/>
            </a:endParaRPr>
          </a:p>
          <a:p>
            <a:pPr marL="343080" indent="-343080">
              <a:lnSpc>
                <a:spcPct val="10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http://ircache.nlanr.net/Cache/Learn/</a:t>
            </a:r>
            <a:endParaRPr b="0" lang="en-US" sz="2000" spc="-1" strike="noStrike">
              <a:solidFill>
                <a:srgbClr val="ffffff"/>
              </a:solidFill>
              <a:latin typeface="Arial"/>
            </a:endParaRPr>
          </a:p>
          <a:p>
            <a:pPr marL="343080" indent="-343080">
              <a:lnSpc>
                <a:spcPct val="10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http://vancouver-webpages.com/CacheNow</a:t>
            </a:r>
            <a:endParaRPr b="0" lang="en-US" sz="2000" spc="-1" strike="noStrike">
              <a:solidFill>
                <a:srgbClr val="ffffff"/>
              </a:solidFill>
              <a:latin typeface="Arial"/>
            </a:endParaRPr>
          </a:p>
          <a:p>
            <a:pPr marL="343080" indent="-343080">
              <a:lnSpc>
                <a:spcPct val="10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http://home.netscape.com/comprod/ \\ announce/dss_prox.html</a:t>
            </a:r>
            <a:endParaRPr b="0" lang="en-US" sz="2000" spc="-1" strike="noStrike">
              <a:solidFill>
                <a:srgbClr val="ffffff"/>
              </a:solidFill>
              <a:latin typeface="Arial"/>
            </a:endParaRPr>
          </a:p>
          <a:p>
            <a:pPr marL="343080" indent="-343080">
              <a:lnSpc>
                <a:spcPct val="10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http://www.microsoft.com/proxy/default.asp (down?)</a:t>
            </a:r>
            <a:endParaRPr b="0" lang="en-US" sz="2000" spc="-1" strike="noStrike">
              <a:solidFill>
                <a:srgbClr val="ffffff"/>
              </a:solidFill>
              <a:latin typeface="Arial"/>
            </a:endParaRPr>
          </a:p>
          <a:p>
            <a:pPr marL="343080" indent="-343080">
              <a:lnSpc>
                <a:spcPct val="10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http://www.w3.org/Daemon/</a:t>
            </a:r>
            <a:endParaRPr b="0" lang="en-US" sz="2000" spc="-1" strike="noStrike">
              <a:solidFill>
                <a:srgbClr val="ffffff"/>
              </a:solidFill>
              <a:latin typeface="Arial"/>
            </a:endParaRPr>
          </a:p>
          <a:p>
            <a:pPr marL="343080" indent="-343080">
              <a:lnSpc>
                <a:spcPct val="10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http://www.netcache.com</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B180965-A6DC-48CA-8AA0-4772196908D8}" type="slidenum">
              <a:t>5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Other Options</a:t>
            </a:r>
            <a:endParaRPr b="1" lang="en-US" sz="4800" spc="-1" strike="noStrike">
              <a:solidFill>
                <a:srgbClr val="ffffff"/>
              </a:solidFill>
              <a:latin typeface="Arial Narrow"/>
            </a:endParaRPr>
          </a:p>
        </p:txBody>
      </p:sp>
      <p:sp>
        <p:nvSpPr>
          <p:cNvPr id="21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kamai</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are an ISP, they locate an Akamai server at your site. Large web sites like Yahoo pay Akamai money to mirror pages on all the distributed Akamai servers. URL magic causes your users to hit your local Akamai server rather than going all the way to the web hosting serv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call it their Accelerated Network Program for ISPs.  There is no cost to the ISP as long as you are big enough to be worth it.</a:t>
            </a:r>
            <a:endParaRPr b="0" lang="en-US" sz="2000" spc="-1" strike="noStrike">
              <a:solidFill>
                <a:srgbClr val="ffffff"/>
              </a:solidFill>
              <a:latin typeface="Arial"/>
            </a:endParaRPr>
          </a:p>
          <a:p>
            <a:pPr lvl="1" marL="743040" indent="-285840">
              <a:lnSpc>
                <a:spcPct val="10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http://www.akamai.com/</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391F6E8-E8B2-4A49-90F1-3DD9A4E7B3FC}" type="slidenum">
              <a:t>5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Managing Acceptable Use</a:t>
            </a:r>
            <a:endParaRPr b="1" lang="en-US" sz="6600" spc="-1" strike="noStrike">
              <a:solidFill>
                <a:srgbClr val="ffffff"/>
              </a:solidFill>
              <a:latin typeface="Arial Narrow"/>
            </a:endParaRPr>
          </a:p>
        </p:txBody>
      </p:sp>
      <p:sp>
        <p:nvSpPr>
          <p:cNvPr id="216"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COT200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oul, South Kore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 Dijke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netrack.net</a:t>
            </a:r>
            <a:endParaRPr b="0" lang="en-US" sz="2000" spc="-1" strike="noStrike">
              <a:solidFill>
                <a:srgbClr val="ffffff"/>
              </a:solidFill>
              <a:latin typeface="Arial"/>
            </a:endParaRPr>
          </a:p>
        </p:txBody>
      </p:sp>
    </p:spTree>
  </p:cSld>
  <p:transition spd="med">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cceptable Use</a:t>
            </a:r>
            <a:endParaRPr b="1" lang="en-US" sz="4800" spc="-1" strike="noStrike">
              <a:solidFill>
                <a:srgbClr val="ffffff"/>
              </a:solidFill>
              <a:latin typeface="Arial Narrow"/>
            </a:endParaRPr>
          </a:p>
        </p:txBody>
      </p:sp>
      <p:sp>
        <p:nvSpPr>
          <p:cNvPr id="21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cceptable us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users will try things you never thought of</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 possible use to the services you want to suppor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licitly prohibit uses which are</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legal</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ruptive</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olation of your upstream contract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 liability problems</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endParaRPr b="0" lang="en-US" sz="2000" spc="-1" strike="noStrike">
              <a:solidFill>
                <a:srgbClr val="ffffff"/>
              </a:solidFill>
              <a:latin typeface="Arial"/>
            </a:endParaRPr>
          </a:p>
          <a:p>
            <a:pPr lvl="2" marL="1143000" indent="-228600">
              <a:lnSpc>
                <a:spcPct val="10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ttp://www.coop.net/policy/aup.html</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5D828EE-97F7-44A4-AE67-3B8DF418FA1B}" type="slidenum">
              <a:t>59</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hange Notification</a:t>
            </a:r>
            <a:endParaRPr b="1" lang="en-US" sz="4800" spc="-1" strike="noStrike">
              <a:solidFill>
                <a:srgbClr val="ffffff"/>
              </a:solidFill>
              <a:latin typeface="Arial Narrow"/>
            </a:endParaRPr>
          </a:p>
        </p:txBody>
      </p:sp>
      <p:sp>
        <p:nvSpPr>
          <p:cNvPr id="11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secondaries probed the primary to see if they needed an update (serial number had changed)</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resh times were often long to reduce load on primary serv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ft zone incoherent for quite a while</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notification has the primary notify secondaries when data for the zone has changed</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longer a polling model</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ynchronous notification instead (an interrupt)</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s changes easier</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ing old answers still a problem</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3B3626C-5921-4048-BA6F-A79CDD09FBF6}" type="slidenum">
              <a:t>6</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Industry Norms</a:t>
            </a:r>
            <a:endParaRPr b="1" lang="en-US" sz="4800" spc="-1" strike="noStrike">
              <a:solidFill>
                <a:srgbClr val="ffffff"/>
              </a:solidFill>
              <a:latin typeface="Arial Narrow"/>
            </a:endParaRPr>
          </a:p>
        </p:txBody>
      </p:sp>
      <p:sp>
        <p:nvSpPr>
          <p:cNvPr id="22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Prohibition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compromis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related activity, i.e. hacking</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olating acceptable use of othe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solicited commercial email</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gery or fraudulent activit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etiquette” violation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efit of any above activity (mail drop)</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labyrinth.com/localhost/survey.html</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8968613-66C6-4917-B9CF-8F8D204B2073}" type="slidenum">
              <a:t>60</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What is Spam?</a:t>
            </a:r>
            <a:endParaRPr b="1" lang="en-US" sz="4800" spc="-1" strike="noStrike">
              <a:solidFill>
                <a:srgbClr val="ffffff"/>
              </a:solidFill>
              <a:latin typeface="Arial Narrow"/>
            </a:endParaRPr>
          </a:p>
        </p:txBody>
      </p:sp>
      <p:sp>
        <p:nvSpPr>
          <p:cNvPr id="22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f-topic</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than 10 groups regardless of content or cross-posting</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ing cross-post</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UC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solicited (including “subscriptions” if not validate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rcial</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ume is irrelevan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hod of delivery is irrelevan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9974CDF-8CC4-4FB4-95BC-FF2247C7DCA8}" type="slidenum">
              <a:t>61</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pam</a:t>
            </a:r>
            <a:endParaRPr b="1" lang="en-US" sz="4800" spc="-1" strike="noStrike">
              <a:solidFill>
                <a:srgbClr val="ffffff"/>
              </a:solidFill>
              <a:latin typeface="Arial Narrow"/>
            </a:endParaRPr>
          </a:p>
        </p:txBody>
      </p:sp>
      <p:sp>
        <p:nvSpPr>
          <p:cNvPr id="22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Spam?</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return!</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for paper) so Marketers love it!</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ap! Marketers love i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mediate! Marketers love it!</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 wasted bandwidth is unacceptabl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nsive - but not to the markete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oying - requires user action</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EEC2D395-DAEC-4C68-8879-D0363BF44350}" type="slidenum">
              <a:t>62</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PAM Profile</a:t>
            </a:r>
            <a:endParaRPr b="1" lang="en-US" sz="4800" spc="-1" strike="noStrike">
              <a:solidFill>
                <a:srgbClr val="ffffff"/>
              </a:solidFill>
              <a:latin typeface="Arial Narrow"/>
            </a:endParaRPr>
          </a:p>
        </p:txBody>
      </p:sp>
      <p:sp>
        <p:nvSpPr>
          <p:cNvPr id="226" name=""/>
          <p:cNvSpPr/>
          <p:nvPr/>
        </p:nvSpPr>
        <p:spPr>
          <a:xfrm>
            <a:off x="1447920" y="1981080"/>
            <a:ext cx="1752480" cy="1067040"/>
          </a:xfrm>
          <a:prstGeom prst="ellipse">
            <a:avLst/>
          </a:prstGeom>
          <a:gradFill rotWithShape="0">
            <a:gsLst>
              <a:gs pos="0">
                <a:srgbClr val="ff0000"/>
              </a:gs>
              <a:gs pos="100000">
                <a:srgbClr val="01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e3ee"/>
                </a:solidFill>
                <a:latin typeface="Times New Roman"/>
              </a:rPr>
              <a:t>Origin</a:t>
            </a:r>
            <a:endParaRPr b="0" lang="en-US" sz="2800" spc="-1" strike="noStrike">
              <a:solidFill>
                <a:srgbClr val="dee3ee"/>
              </a:solidFill>
              <a:latin typeface="Times New Roman"/>
            </a:endParaRPr>
          </a:p>
        </p:txBody>
      </p:sp>
      <p:sp>
        <p:nvSpPr>
          <p:cNvPr id="227" name=""/>
          <p:cNvSpPr/>
          <p:nvPr/>
        </p:nvSpPr>
        <p:spPr>
          <a:xfrm>
            <a:off x="1828800" y="4038480"/>
            <a:ext cx="1752480" cy="1067040"/>
          </a:xfrm>
          <a:prstGeom prst="ellipse">
            <a:avLst/>
          </a:prstGeom>
          <a:gradFill rotWithShape="0">
            <a:gsLst>
              <a:gs pos="0">
                <a:srgbClr val="ff0000"/>
              </a:gs>
              <a:gs pos="100000">
                <a:srgbClr val="01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e3ee"/>
                </a:solidFill>
                <a:latin typeface="Times New Roman"/>
              </a:rPr>
              <a:t>Patsy</a:t>
            </a:r>
            <a:endParaRPr b="0" lang="en-US" sz="2800" spc="-1" strike="noStrike">
              <a:solidFill>
                <a:srgbClr val="dee3ee"/>
              </a:solidFill>
              <a:latin typeface="Times New Roman"/>
            </a:endParaRPr>
          </a:p>
        </p:txBody>
      </p:sp>
      <p:sp>
        <p:nvSpPr>
          <p:cNvPr id="228" name=""/>
          <p:cNvSpPr/>
          <p:nvPr/>
        </p:nvSpPr>
        <p:spPr>
          <a:xfrm>
            <a:off x="4267080" y="1905120"/>
            <a:ext cx="1752840" cy="1066680"/>
          </a:xfrm>
          <a:prstGeom prst="ellipse">
            <a:avLst/>
          </a:prstGeom>
          <a:gradFill rotWithShape="0">
            <a:gsLst>
              <a:gs pos="0">
                <a:srgbClr val="ff0000"/>
              </a:gs>
              <a:gs pos="100000">
                <a:srgbClr val="01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e3ee"/>
                </a:solidFill>
                <a:latin typeface="Times New Roman"/>
              </a:rPr>
              <a:t>Beneficiary</a:t>
            </a:r>
            <a:endParaRPr b="0" lang="en-US" sz="2800" spc="-1" strike="noStrike">
              <a:solidFill>
                <a:srgbClr val="dee3ee"/>
              </a:solidFill>
              <a:latin typeface="Times New Roman"/>
            </a:endParaRPr>
          </a:p>
        </p:txBody>
      </p:sp>
      <p:sp>
        <p:nvSpPr>
          <p:cNvPr id="229" name=""/>
          <p:cNvSpPr/>
          <p:nvPr/>
        </p:nvSpPr>
        <p:spPr>
          <a:xfrm>
            <a:off x="4800600" y="4038480"/>
            <a:ext cx="1752480" cy="1067040"/>
          </a:xfrm>
          <a:prstGeom prst="ellipse">
            <a:avLst/>
          </a:prstGeom>
          <a:gradFill rotWithShape="0">
            <a:gsLst>
              <a:gs pos="0">
                <a:srgbClr val="ff0000"/>
              </a:gs>
              <a:gs pos="100000">
                <a:srgbClr val="01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e3ee"/>
                </a:solidFill>
                <a:latin typeface="Times New Roman"/>
              </a:rPr>
              <a:t>Recipient</a:t>
            </a:r>
            <a:endParaRPr b="0" lang="en-US" sz="2800" spc="-1" strike="noStrike">
              <a:solidFill>
                <a:srgbClr val="dee3ee"/>
              </a:solidFill>
              <a:latin typeface="Times New Roman"/>
            </a:endParaRPr>
          </a:p>
        </p:txBody>
      </p:sp>
      <p:sp>
        <p:nvSpPr>
          <p:cNvPr id="230" name=""/>
          <p:cNvSpPr/>
          <p:nvPr/>
        </p:nvSpPr>
        <p:spPr>
          <a:xfrm>
            <a:off x="6934320" y="2590920"/>
            <a:ext cx="1752480" cy="1066680"/>
          </a:xfrm>
          <a:prstGeom prst="ellipse">
            <a:avLst/>
          </a:prstGeom>
          <a:gradFill rotWithShape="0">
            <a:gsLst>
              <a:gs pos="0">
                <a:srgbClr val="ff0000"/>
              </a:gs>
              <a:gs pos="100000">
                <a:srgbClr val="01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e3ee"/>
                </a:solidFill>
                <a:latin typeface="Times New Roman"/>
              </a:rPr>
              <a:t>Scapegoat</a:t>
            </a:r>
            <a:endParaRPr b="0" lang="en-US" sz="2800" spc="-1" strike="noStrike">
              <a:solidFill>
                <a:srgbClr val="dee3ee"/>
              </a:solidFill>
              <a:latin typeface="Times New Roman"/>
            </a:endParaRPr>
          </a:p>
        </p:txBody>
      </p:sp>
      <p:sp>
        <p:nvSpPr>
          <p:cNvPr id="231" name=""/>
          <p:cNvSpPr/>
          <p:nvPr/>
        </p:nvSpPr>
        <p:spPr>
          <a:xfrm>
            <a:off x="2362320" y="3048120"/>
            <a:ext cx="228600" cy="990360"/>
          </a:xfrm>
          <a:prstGeom prst="line">
            <a:avLst/>
          </a:prstGeom>
          <a:ln w="12600">
            <a:solidFill>
              <a:srgbClr val="dee3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32" name=""/>
          <p:cNvSpPr/>
          <p:nvPr/>
        </p:nvSpPr>
        <p:spPr>
          <a:xfrm>
            <a:off x="3048120" y="2819520"/>
            <a:ext cx="1981080" cy="1371600"/>
          </a:xfrm>
          <a:prstGeom prst="line">
            <a:avLst/>
          </a:prstGeom>
          <a:ln w="12600">
            <a:solidFill>
              <a:srgbClr val="dee3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33" name=""/>
          <p:cNvSpPr/>
          <p:nvPr/>
        </p:nvSpPr>
        <p:spPr>
          <a:xfrm>
            <a:off x="3581280" y="4572000"/>
            <a:ext cx="1219320" cy="0"/>
          </a:xfrm>
          <a:prstGeom prst="line">
            <a:avLst/>
          </a:prstGeom>
          <a:ln w="12600">
            <a:solidFill>
              <a:srgbClr val="dee3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34" name=""/>
          <p:cNvSpPr/>
          <p:nvPr/>
        </p:nvSpPr>
        <p:spPr>
          <a:xfrm flipH="1" flipV="1">
            <a:off x="5257800" y="2971440"/>
            <a:ext cx="380880" cy="1066680"/>
          </a:xfrm>
          <a:prstGeom prst="line">
            <a:avLst/>
          </a:prstGeom>
          <a:ln w="12600">
            <a:solidFill>
              <a:srgbClr val="dee3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35" name=""/>
          <p:cNvSpPr/>
          <p:nvPr/>
        </p:nvSpPr>
        <p:spPr>
          <a:xfrm flipV="1">
            <a:off x="6477120" y="3580920"/>
            <a:ext cx="838080" cy="762120"/>
          </a:xfrm>
          <a:prstGeom prst="line">
            <a:avLst/>
          </a:prstGeom>
          <a:ln w="12600">
            <a:solidFill>
              <a:srgbClr val="dee3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36" name=""/>
          <p:cNvSpPr/>
          <p:nvPr/>
        </p:nvSpPr>
        <p:spPr>
          <a:xfrm>
            <a:off x="2512800" y="3429000"/>
            <a:ext cx="1521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enticement</a:t>
            </a:r>
            <a:endParaRPr b="0" lang="en-US" sz="2400" spc="-1" strike="noStrike">
              <a:solidFill>
                <a:srgbClr val="dee3ee"/>
              </a:solidFill>
              <a:latin typeface="Times New Roman"/>
            </a:endParaRPr>
          </a:p>
        </p:txBody>
      </p:sp>
      <p:sp>
        <p:nvSpPr>
          <p:cNvPr id="237" name=""/>
          <p:cNvSpPr/>
          <p:nvPr/>
        </p:nvSpPr>
        <p:spPr>
          <a:xfrm>
            <a:off x="5563440" y="3048120"/>
            <a:ext cx="1249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Desired</a:t>
            </a:r>
            <a:endParaRPr b="0" lang="en-US" sz="2400" spc="-1" strike="noStrike">
              <a:solidFill>
                <a:srgbClr val="dee3ee"/>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response</a:t>
            </a:r>
            <a:endParaRPr b="0" lang="en-US" sz="2400" spc="-1" strike="noStrike">
              <a:solidFill>
                <a:srgbClr val="dee3ee"/>
              </a:solidFill>
              <a:latin typeface="Times New Roman"/>
            </a:endParaRPr>
          </a:p>
        </p:txBody>
      </p:sp>
      <p:sp>
        <p:nvSpPr>
          <p:cNvPr id="238" name=""/>
          <p:cNvSpPr/>
          <p:nvPr/>
        </p:nvSpPr>
        <p:spPr>
          <a:xfrm>
            <a:off x="6705720" y="3962520"/>
            <a:ext cx="92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blame</a:t>
            </a:r>
            <a:endParaRPr b="0" lang="en-US" sz="2400" spc="-1" strike="noStrike">
              <a:solidFill>
                <a:srgbClr val="dee3ee"/>
              </a:solidFill>
              <a:latin typeface="Times New Roman"/>
            </a:endParaRPr>
          </a:p>
        </p:txBody>
      </p:sp>
      <p:sp>
        <p:nvSpPr>
          <p:cNvPr id="239" name=""/>
          <p:cNvSpPr/>
          <p:nvPr/>
        </p:nvSpPr>
        <p:spPr>
          <a:xfrm>
            <a:off x="2208960" y="5410080"/>
            <a:ext cx="203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Proactive Zone</a:t>
            </a:r>
            <a:endParaRPr b="0" lang="en-US" sz="2400" spc="-1" strike="noStrike">
              <a:solidFill>
                <a:srgbClr val="dee3ee"/>
              </a:solidFill>
              <a:latin typeface="Times New Roman"/>
            </a:endParaRPr>
          </a:p>
        </p:txBody>
      </p:sp>
      <p:sp>
        <p:nvSpPr>
          <p:cNvPr id="240" name=""/>
          <p:cNvSpPr/>
          <p:nvPr/>
        </p:nvSpPr>
        <p:spPr>
          <a:xfrm>
            <a:off x="914400" y="1828800"/>
            <a:ext cx="3733920" cy="3429000"/>
          </a:xfrm>
          <a:custGeom>
            <a:avLst/>
            <a:gdLst/>
            <a:ahLst/>
            <a:rect l="l" t="t" r="r" b="b"/>
            <a:pathLst>
              <a:path w="2352" h="2160">
                <a:moveTo>
                  <a:pt x="0" y="0"/>
                </a:moveTo>
                <a:lnTo>
                  <a:pt x="528" y="2160"/>
                </a:lnTo>
                <a:lnTo>
                  <a:pt x="2352" y="2160"/>
                </a:lnTo>
                <a:lnTo>
                  <a:pt x="1632" y="0"/>
                </a:lnTo>
                <a:lnTo>
                  <a:pt x="0" y="0"/>
                </a:lnTo>
                <a:close/>
              </a:path>
            </a:pathLst>
          </a:custGeom>
          <a:noFill/>
          <a:ln cap="rnd" w="9360">
            <a:solidFill>
              <a:srgbClr val="dee3ee"/>
            </a:solidFill>
            <a:custDash>
              <a:ds d="100000" sp="1000"/>
            </a:custDash>
            <a:round/>
          </a:ln>
        </p:spPr>
        <p:style>
          <a:lnRef idx="0"/>
          <a:fillRef idx="0"/>
          <a:effectRef idx="0"/>
          <a:fontRef idx="minor"/>
        </p:style>
        <p:txBody>
          <a:bodyPr wrap="none" anchor="ctr">
            <a:noAutofit/>
          </a:bodyPr>
          <a:p>
            <a:endParaRPr b="0" lang="en-US" sz="2400" spc="-1" strike="noStrike">
              <a:solidFill>
                <a:srgbClr val="dee3ee"/>
              </a:solidFill>
              <a:latin typeface="Times New Roman"/>
            </a:endParaRPr>
          </a:p>
        </p:txBody>
      </p:sp>
      <p:sp>
        <p:nvSpPr>
          <p:cNvPr id="241" name=""/>
          <p:cNvSpPr/>
          <p:nvPr/>
        </p:nvSpPr>
        <p:spPr>
          <a:xfrm>
            <a:off x="3581280" y="1752480"/>
            <a:ext cx="5334120" cy="3505320"/>
          </a:xfrm>
          <a:custGeom>
            <a:avLst/>
            <a:gdLst/>
            <a:ahLst/>
            <a:rect l="l" t="t" r="r" b="b"/>
            <a:pathLst>
              <a:path w="3408" h="2208">
                <a:moveTo>
                  <a:pt x="0" y="48"/>
                </a:moveTo>
                <a:lnTo>
                  <a:pt x="720" y="2208"/>
                </a:lnTo>
                <a:lnTo>
                  <a:pt x="3408" y="2208"/>
                </a:lnTo>
                <a:lnTo>
                  <a:pt x="3360" y="0"/>
                </a:lnTo>
                <a:lnTo>
                  <a:pt x="0" y="48"/>
                </a:lnTo>
                <a:close/>
              </a:path>
            </a:pathLst>
          </a:custGeom>
          <a:noFill/>
          <a:ln w="9360">
            <a:solidFill>
              <a:srgbClr val="dee3ee"/>
            </a:solidFill>
            <a:prstDash val="sysDot"/>
            <a:round/>
          </a:ln>
        </p:spPr>
        <p:style>
          <a:lnRef idx="0"/>
          <a:fillRef idx="0"/>
          <a:effectRef idx="0"/>
          <a:fontRef idx="minor"/>
        </p:style>
        <p:txBody>
          <a:bodyPr wrap="none" anchor="ctr">
            <a:noAutofit/>
          </a:bodyPr>
          <a:p>
            <a:endParaRPr b="0" lang="en-US" sz="2400" spc="-1" strike="noStrike">
              <a:solidFill>
                <a:srgbClr val="dee3ee"/>
              </a:solidFill>
              <a:latin typeface="Times New Roman"/>
            </a:endParaRPr>
          </a:p>
        </p:txBody>
      </p:sp>
      <p:sp>
        <p:nvSpPr>
          <p:cNvPr id="242" name=""/>
          <p:cNvSpPr/>
          <p:nvPr/>
        </p:nvSpPr>
        <p:spPr>
          <a:xfrm>
            <a:off x="5756760" y="541008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Reactive Zone</a:t>
            </a:r>
            <a:endParaRPr b="0" lang="en-US" sz="2400" spc="-1" strike="noStrike">
              <a:solidFill>
                <a:srgbClr val="dee3ee"/>
              </a:solidFill>
              <a:latin typeface="Times New Roman"/>
            </a:endParaRPr>
          </a:p>
        </p:txBody>
      </p:sp>
      <p:sp>
        <p:nvSpPr>
          <p:cNvPr id="243" name=""/>
          <p:cNvSpPr/>
          <p:nvPr/>
        </p:nvSpPr>
        <p:spPr>
          <a:xfrm>
            <a:off x="6481440" y="4800600"/>
            <a:ext cx="251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e3ee"/>
                </a:solidFill>
                <a:latin typeface="Times New Roman"/>
              </a:rPr>
              <a:t>YOU ARE HERE</a:t>
            </a:r>
            <a:endParaRPr b="0" lang="en-US" sz="2400" spc="-1" strike="noStrike">
              <a:solidFill>
                <a:srgbClr val="dee3ee"/>
              </a:solidFill>
              <a:latin typeface="Times New Roman"/>
            </a:endParaRPr>
          </a:p>
        </p:txBody>
      </p:sp>
      <p:sp>
        <p:nvSpPr>
          <p:cNvPr id="244" name=""/>
          <p:cNvSpPr/>
          <p:nvPr/>
        </p:nvSpPr>
        <p:spPr>
          <a:xfrm flipH="1" flipV="1">
            <a:off x="6172200" y="4800240"/>
            <a:ext cx="380880" cy="228600"/>
          </a:xfrm>
          <a:prstGeom prst="line">
            <a:avLst/>
          </a:prstGeom>
          <a:ln w="38160">
            <a:solidFill>
              <a:srgbClr val="dee3ee"/>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dee3ee"/>
              </a:solidFill>
              <a:latin typeface="Times New Roman"/>
            </a:endParaRPr>
          </a:p>
        </p:txBody>
      </p:sp>
      <p:sp>
        <p:nvSpPr>
          <p:cNvPr id="3" name="PlaceHolder 2"/>
          <p:cNvSpPr>
            <a:spLocks noGrp="1"/>
          </p:cNvSpPr>
          <p:nvPr>
            <p:ph type="ftr" idx="2"/>
          </p:nvPr>
        </p:nvSpPr>
        <p:spPr/>
        <p:txBody>
          <a:bodyPr/>
          <a:p>
            <a:r>
              <a:t>© Evi Nemeth &amp; Trent Hein</a:t>
            </a:r>
          </a:p>
        </p:txBody>
      </p:sp>
      <p:sp>
        <p:nvSpPr>
          <p:cNvPr id="4" name="PlaceHolder 3"/>
          <p:cNvSpPr>
            <a:spLocks noGrp="1"/>
          </p:cNvSpPr>
          <p:nvPr>
            <p:ph type="sldNum" idx="3"/>
          </p:nvPr>
        </p:nvSpPr>
        <p:spPr/>
        <p:txBody>
          <a:bodyPr/>
          <a:p>
            <a:fld id="{11A0AE18-5725-4A52-A612-15A21704949C}" type="slidenum">
              <a:t>63</a:t>
            </a:fld>
          </a:p>
        </p:txBody>
      </p:sp>
      <p:sp>
        <p:nvSpPr>
          <p:cNvPr id="5" name="PlaceHolder 4"/>
          <p:cNvSpPr>
            <a:spLocks noGrp="1"/>
          </p:cNvSpPr>
          <p:nvPr>
            <p:ph type="dt" idx="1"/>
          </p:nvPr>
        </p:nvSpPr>
        <p:spPr/>
        <p:txBody>
          <a:bodyPr/>
          <a:p>
            <a:r>
              <a:rPr lang="en-US"/>
              <a:t>26 Feb 2001</a:t>
            </a:r>
          </a:p>
        </p:txBody>
      </p:sp>
    </p:spTree>
  </p:cSld>
  <p:transition spd="med">
    <p:strips dir="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45" name=""/>
          <p:cNvSpPr/>
          <p:nvPr/>
        </p:nvSpPr>
        <p:spPr>
          <a:xfrm>
            <a:off x="633240" y="1828800"/>
            <a:ext cx="815364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Received: (from daemon@localhost) by labyrinth.com (NO SOLICITING) id PAA02925 for &lt;barb.dyker@labyrinth.com&gt;; Thu, 15 May 1997 15:52:13 -0600 (MD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From: adsnet@earthlink.ne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Received: from mail-gw2.pacbell.net(206.13.28.53) by morass.labyrinth.com via smap (V1.3) id sma002911; Thu May 15 15:51:55 1997</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Received: from mail.pacbell.net (hd31-076.hil.compuserve.com [206.175.222.76]) by mail-gw2.pacbell.net (8.8.5/8.7.1) with SMTP id OAA01857; Thu, 15 May 1997 14:49:58 -0700 (PD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Received: from mailhostcapelas.net(alt1.capelas.com(208.9.77.65)) by capelas.ne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 </a:t>
            </a:r>
            <a:r>
              <a:rPr b="0" lang="en-US" sz="1600" spc="-1" strike="noStrike">
                <a:solidFill>
                  <a:srgbClr val="dee3ee"/>
                </a:solidFill>
                <a:latin typeface="Times New Roman"/>
              </a:rPr>
              <a:t>(8.8.5/8.6.5) with SMTP id GAA00254 for &lt;a7@capelas.net&gt;; Tue, 15 Apr 1997 14:00:24 -0600 (ES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To: a7@capelas.ne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Message-ID: &lt;199702170025.GAA08056@capelas.net&g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Date: Tue, 15 Apr 97 14:00:24 ES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Subject: Free Subscription</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Reply-To: a7@capelas.ne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Comments: Authenticated sender is &lt;a7@capelas.net&gt;</a:t>
            </a:r>
            <a:endParaRPr b="0" lang="en-US" sz="1600" spc="-1" strike="noStrike">
              <a:solidFill>
                <a:srgbClr val="dee3ee"/>
              </a:solidFill>
              <a:latin typeface="Times New Roman"/>
            </a:endParaRPr>
          </a:p>
        </p:txBody>
      </p:sp>
      <p:sp>
        <p:nvSpPr>
          <p:cNvPr id="24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nalyzing Spam Headers</a:t>
            </a:r>
            <a:endParaRPr b="1" lang="en-US" sz="4800" spc="-1" strike="noStrike">
              <a:solidFill>
                <a:srgbClr val="ffffff"/>
              </a:solidFill>
              <a:latin typeface="Arial Narrow"/>
            </a:endParaRPr>
          </a:p>
        </p:txBody>
      </p:sp>
      <p:sp>
        <p:nvSpPr>
          <p:cNvPr id="247" name=""/>
          <p:cNvSpPr/>
          <p:nvPr/>
        </p:nvSpPr>
        <p:spPr>
          <a:xfrm>
            <a:off x="3944880" y="1862280"/>
            <a:ext cx="137340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48" name=""/>
          <p:cNvSpPr/>
          <p:nvPr/>
        </p:nvSpPr>
        <p:spPr>
          <a:xfrm>
            <a:off x="4997880" y="1447920"/>
            <a:ext cx="1870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CIPIENT</a:t>
            </a:r>
            <a:endParaRPr b="0" lang="en-US" sz="2400" spc="-1" strike="noStrike">
              <a:solidFill>
                <a:srgbClr val="dee3ee"/>
              </a:solidFill>
              <a:latin typeface="Times New Roman"/>
            </a:endParaRPr>
          </a:p>
        </p:txBody>
      </p:sp>
      <p:sp>
        <p:nvSpPr>
          <p:cNvPr id="249" name=""/>
          <p:cNvSpPr/>
          <p:nvPr/>
        </p:nvSpPr>
        <p:spPr>
          <a:xfrm>
            <a:off x="3108240" y="3048120"/>
            <a:ext cx="457200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50" name=""/>
          <p:cNvSpPr/>
          <p:nvPr/>
        </p:nvSpPr>
        <p:spPr>
          <a:xfrm>
            <a:off x="6741720" y="2743200"/>
            <a:ext cx="1332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IGIN</a:t>
            </a:r>
            <a:endParaRPr b="0" lang="en-US" sz="2400" spc="-1" strike="noStrike">
              <a:solidFill>
                <a:srgbClr val="dee3ee"/>
              </a:solidFill>
              <a:latin typeface="Times New Roman"/>
            </a:endParaRPr>
          </a:p>
        </p:txBody>
      </p:sp>
      <p:sp>
        <p:nvSpPr>
          <p:cNvPr id="251" name=""/>
          <p:cNvSpPr/>
          <p:nvPr/>
        </p:nvSpPr>
        <p:spPr>
          <a:xfrm>
            <a:off x="609480" y="3352680"/>
            <a:ext cx="144792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52" name=""/>
          <p:cNvSpPr/>
          <p:nvPr/>
        </p:nvSpPr>
        <p:spPr>
          <a:xfrm rot="19573800">
            <a:off x="-252000" y="3199680"/>
            <a:ext cx="1177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ATSY</a:t>
            </a:r>
            <a:endParaRPr b="0" lang="en-US" sz="2400" spc="-1" strike="noStrike">
              <a:solidFill>
                <a:srgbClr val="dee3ee"/>
              </a:solidFill>
              <a:latin typeface="Times New Roman"/>
            </a:endParaRPr>
          </a:p>
        </p:txBody>
      </p:sp>
      <p:sp>
        <p:nvSpPr>
          <p:cNvPr id="253" name=""/>
          <p:cNvSpPr/>
          <p:nvPr/>
        </p:nvSpPr>
        <p:spPr>
          <a:xfrm flipV="1">
            <a:off x="1515960" y="5510160"/>
            <a:ext cx="147816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54" name=""/>
          <p:cNvSpPr/>
          <p:nvPr/>
        </p:nvSpPr>
        <p:spPr>
          <a:xfrm>
            <a:off x="3081240" y="5361120"/>
            <a:ext cx="2075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CAPEGOAT</a:t>
            </a:r>
            <a:endParaRPr b="0" lang="en-US" sz="2400" spc="-1" strike="noStrike">
              <a:solidFill>
                <a:srgbClr val="dee3ee"/>
              </a:solidFill>
              <a:latin typeface="Times New Roman"/>
            </a:endParaRPr>
          </a:p>
        </p:txBody>
      </p:sp>
      <p:sp>
        <p:nvSpPr>
          <p:cNvPr id="255" name=""/>
          <p:cNvSpPr/>
          <p:nvPr/>
        </p:nvSpPr>
        <p:spPr>
          <a:xfrm>
            <a:off x="503280" y="3836880"/>
            <a:ext cx="8305920" cy="533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56" name=""/>
          <p:cNvSpPr/>
          <p:nvPr/>
        </p:nvSpPr>
        <p:spPr>
          <a:xfrm>
            <a:off x="7471080" y="4324320"/>
            <a:ext cx="1247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OGUS</a:t>
            </a:r>
            <a:endParaRPr b="0" lang="en-US" sz="2400" spc="-1" strike="noStrike">
              <a:solidFill>
                <a:srgbClr val="dee3ee"/>
              </a:solidFill>
              <a:latin typeface="Times New Roman"/>
            </a:endParaRPr>
          </a:p>
        </p:txBody>
      </p:sp>
      <p:sp>
        <p:nvSpPr>
          <p:cNvPr id="3" name="PlaceHolder 2"/>
          <p:cNvSpPr>
            <a:spLocks noGrp="1"/>
          </p:cNvSpPr>
          <p:nvPr>
            <p:ph type="ftr" idx="2"/>
          </p:nvPr>
        </p:nvSpPr>
        <p:spPr/>
        <p:txBody>
          <a:bodyPr/>
          <a:p>
            <a:r>
              <a:t>© Evi Nemeth &amp; Trent Hein</a:t>
            </a:r>
          </a:p>
        </p:txBody>
      </p:sp>
      <p:sp>
        <p:nvSpPr>
          <p:cNvPr id="4" name="PlaceHolder 3"/>
          <p:cNvSpPr>
            <a:spLocks noGrp="1"/>
          </p:cNvSpPr>
          <p:nvPr>
            <p:ph type="sldNum" idx="3"/>
          </p:nvPr>
        </p:nvSpPr>
        <p:spPr/>
        <p:txBody>
          <a:bodyPr/>
          <a:p>
            <a:fld id="{E61E4E3F-46C7-4705-BFE6-D8AC761C17A9}" type="slidenum">
              <a:t>64</a:t>
            </a:fld>
          </a:p>
        </p:txBody>
      </p:sp>
      <p:sp>
        <p:nvSpPr>
          <p:cNvPr id="5" name="PlaceHolder 4"/>
          <p:cNvSpPr>
            <a:spLocks noGrp="1"/>
          </p:cNvSpPr>
          <p:nvPr>
            <p:ph type="dt" idx="1"/>
          </p:nvPr>
        </p:nvSpPr>
        <p:spPr/>
        <p:txBody>
          <a:bodyPr/>
          <a:p>
            <a:r>
              <a:rPr lang="en-US"/>
              <a:t>26 Feb 2001</a:t>
            </a:r>
          </a:p>
        </p:txBody>
      </p:sp>
    </p:spTree>
  </p:cSld>
  <p:transition spd="med">
    <p:strips dir="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How to deal with Spam</a:t>
            </a:r>
            <a:endParaRPr b="1" lang="en-US" sz="4800" spc="-1" strike="noStrike">
              <a:solidFill>
                <a:srgbClr val="ffffff"/>
              </a:solidFill>
              <a:latin typeface="Arial Narrow"/>
            </a:endParaRPr>
          </a:p>
        </p:txBody>
      </p:sp>
      <p:sp>
        <p:nvSpPr>
          <p:cNvPr id="258" name="PlaceHolder 2"/>
          <p:cNvSpPr>
            <a:spLocks noGrp="1"/>
          </p:cNvSpPr>
          <p:nvPr>
            <p:ph/>
          </p:nvPr>
        </p:nvSpPr>
        <p:spPr>
          <a:xfrm>
            <a:off x="304920" y="1839960"/>
            <a:ext cx="421776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active / Prevention</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ters</a:t>
            </a:r>
            <a:endParaRPr b="0" lang="en-US" sz="18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utgoing</a:t>
            </a:r>
            <a:endParaRPr b="0" lang="en-US" sz="16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ying</a:t>
            </a:r>
            <a:endParaRPr b="0" lang="en-US" sz="16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cy as deterrent</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ucation</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P new account qualification</a:t>
            </a:r>
            <a:endParaRPr b="0" lang="en-US" sz="1800" spc="-1" strike="noStrike">
              <a:solidFill>
                <a:srgbClr val="ffffff"/>
              </a:solidFill>
              <a:latin typeface="Arial"/>
            </a:endParaRPr>
          </a:p>
        </p:txBody>
      </p:sp>
      <p:sp>
        <p:nvSpPr>
          <p:cNvPr id="259" name="PlaceHolder 3"/>
          <p:cNvSpPr>
            <a:spLocks noGrp="1"/>
          </p:cNvSpPr>
          <p:nvPr>
            <p:ph/>
          </p:nvPr>
        </p:nvSpPr>
        <p:spPr>
          <a:xfrm>
            <a:off x="4696920" y="1839960"/>
            <a:ext cx="421812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ctive</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ters</a:t>
            </a:r>
            <a:endParaRPr b="0" lang="en-US" sz="18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oming server</a:t>
            </a:r>
            <a:endParaRPr b="0" lang="en-US" sz="1600" spc="-1" strike="noStrike">
              <a:solidFill>
                <a:srgbClr val="ffffff"/>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ail agent</a:t>
            </a:r>
            <a:endParaRPr b="0" lang="en-US" sz="16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cy enforcement</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gal recourse</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orting</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ucation</a:t>
            </a: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 Evi Nemeth &amp; Trent Hein</a:t>
            </a:r>
          </a:p>
        </p:txBody>
      </p:sp>
      <p:sp>
        <p:nvSpPr>
          <p:cNvPr id="6" name="PlaceHolder 5"/>
          <p:cNvSpPr>
            <a:spLocks noGrp="1"/>
          </p:cNvSpPr>
          <p:nvPr>
            <p:ph type="sldNum" idx="3"/>
          </p:nvPr>
        </p:nvSpPr>
        <p:spPr/>
        <p:txBody>
          <a:bodyPr/>
          <a:p>
            <a:fld id="{B71ED4E2-6E8D-4CAF-B67A-0439BFC9F8DB}" type="slidenum">
              <a:t>65</a:t>
            </a:fld>
          </a:p>
        </p:txBody>
      </p:sp>
      <p:sp>
        <p:nvSpPr>
          <p:cNvPr id="7" name="PlaceHolder 6"/>
          <p:cNvSpPr>
            <a:spLocks noGrp="1"/>
          </p:cNvSpPr>
          <p:nvPr>
            <p:ph type="dt" idx="1"/>
          </p:nvPr>
        </p:nvSpPr>
        <p:spPr/>
        <p:txBody>
          <a:bodyPr/>
          <a:p>
            <a:r>
              <a:rPr lang="en-US"/>
              <a:t>26 Feb 2001</a:t>
            </a:r>
          </a:p>
        </p:txBody>
      </p:sp>
    </p:spTree>
  </p:cSld>
  <p:transition spd="med">
    <p:strips dir="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pam Scapegoats</a:t>
            </a:r>
            <a:endParaRPr b="1" lang="en-US" sz="4800" spc="-1" strike="noStrike">
              <a:solidFill>
                <a:srgbClr val="ffffff"/>
              </a:solidFill>
              <a:latin typeface="Arial Narrow"/>
            </a:endParaRPr>
          </a:p>
        </p:txBody>
      </p:sp>
      <p:sp>
        <p:nvSpPr>
          <p:cNvPr id="26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main or user names used in forgeries - never touched the spam</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heat from hasty complaine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recourse is reactive: legal</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ucate spam complainers on how to read mail headers to determine true player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EFF8820-05CC-41C1-AA2A-C8D3ABB9F19E}" type="slidenum">
              <a:t>66</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Legal recourse ineffective</a:t>
            </a:r>
            <a:endParaRPr b="1" lang="en-US" sz="4800" spc="-1" strike="noStrike">
              <a:solidFill>
                <a:srgbClr val="ffffff"/>
              </a:solidFill>
              <a:latin typeface="Arial Narrow"/>
            </a:endParaRPr>
          </a:p>
        </p:txBody>
      </p:sp>
      <p:sp>
        <p:nvSpPr>
          <p:cNvPr id="26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So sue me” attitud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t sue everyon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m &amp; ru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nymous spam &amp; ru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ck of jurisdiction: create a law making spam illegal and spammers go to another jurisdiction (including off-shor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unsolicited FAX law proves law is not a deterren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E63148E-5FAF-4CED-B945-BBBAF4892BFA}" type="slidenum">
              <a:t>67</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pam Characteristics</a:t>
            </a:r>
            <a:endParaRPr b="1" lang="en-US" sz="4800" spc="-1" strike="noStrike">
              <a:solidFill>
                <a:srgbClr val="ffffff"/>
              </a:solidFill>
              <a:latin typeface="Arial Narrow"/>
            </a:endParaRPr>
          </a:p>
        </p:txBody>
      </p:sp>
      <p:sp>
        <p:nvSpPr>
          <p:cNvPr id="26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cure origin</a:t>
            </a:r>
            <a:endParaRPr b="0" lang="en-US" sz="24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ged MAIL FROM (!= “From” header)</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O != peer name</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ra forged Received header (EST -0600)</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yed through unrelated third-party</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existent DNS domain name</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and envelope sender don’t match</a:t>
            </a:r>
            <a:endParaRPr b="0" lang="en-US" sz="2000" spc="-1" strike="noStrike">
              <a:solidFill>
                <a:srgbClr val="ffffff"/>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atches From:</a:t>
            </a:r>
            <a:endParaRPr b="0" lang="en-US" sz="2000" spc="-1" strike="noStrike">
              <a:solidFill>
                <a:srgbClr val="ffffff"/>
              </a:solidFill>
              <a:latin typeface="Arial"/>
            </a:endParaRPr>
          </a:p>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e of these are REQUIRED</a:t>
            </a:r>
            <a:endParaRPr b="0" lang="en-US" sz="2400" spc="-1" strike="noStrike">
              <a:solidFill>
                <a:srgbClr val="ffffff"/>
              </a:solidFill>
              <a:latin typeface="Arial"/>
            </a:endParaRPr>
          </a:p>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han 50% of Spam has legitimate (not forged) header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549A5E1-A465-4D7C-A864-5FBAAA4B3E94}" type="slidenum">
              <a:t>68</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What we can do: </a:t>
            </a:r>
            <a:endParaRPr b="1" lang="en-US" sz="4800" spc="-1" strike="noStrike">
              <a:solidFill>
                <a:srgbClr val="ffffff"/>
              </a:solidFill>
              <a:latin typeface="Arial Narrow"/>
            </a:endParaRPr>
          </a:p>
        </p:txBody>
      </p:sp>
      <p:sp>
        <p:nvSpPr>
          <p:cNvPr id="26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nel outgoing mail through a spam throttle SMTP serv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force valid MAIL FROM address including usernam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force valid headers - no forger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 envelope recipient lis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ttle frequency of SMTP connect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en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879369A-179F-4B4D-AC07-843094840203}" type="slidenum">
              <a:t>69</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ew Resource Records</a:t>
            </a:r>
            <a:endParaRPr b="1" lang="en-US" sz="4800" spc="-1" strike="noStrike">
              <a:solidFill>
                <a:srgbClr val="ffffff"/>
              </a:solidFill>
              <a:latin typeface="Arial Narrow"/>
            </a:endParaRPr>
          </a:p>
        </p:txBody>
      </p:sp>
      <p:sp>
        <p:nvSpPr>
          <p:cNvPr id="11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 resource record, for geographic location</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itude</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ngitude</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titude</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ze</a:t>
            </a:r>
            <a:endParaRPr b="0" lang="en-US" sz="18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RV resource record, for service location</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rt of WKS and MX</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closest server</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NS round robin complicates things</a:t>
            </a:r>
            <a:endParaRPr b="0" lang="en-US" sz="18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resource record, for security</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s public key</a:t>
            </a:r>
            <a:endParaRPr b="0" lang="en-US" sz="18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 resource record, for security</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s signature of a set of resource record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98F5909-7EF6-4E63-BDB7-C711286D317C}" type="slidenum">
              <a:t>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68" name=""/>
          <p:cNvSpPr/>
          <p:nvPr/>
        </p:nvSpPr>
        <p:spPr>
          <a:xfrm>
            <a:off x="1523880" y="228600"/>
            <a:ext cx="5715000" cy="990720"/>
          </a:xfrm>
          <a:custGeom>
            <a:avLst/>
            <a:gdLst/>
            <a:ahLst/>
            <a:rect l="l" t="t" r="r" b="b"/>
            <a:pathLst>
              <a:path w="3765" h="455">
                <a:moveTo>
                  <a:pt x="0" y="51"/>
                </a:moveTo>
                <a:cubicBezTo>
                  <a:pt x="114" y="447"/>
                  <a:pt x="249" y="307"/>
                  <a:pt x="786" y="382"/>
                </a:cubicBezTo>
                <a:cubicBezTo>
                  <a:pt x="869" y="368"/>
                  <a:pt x="952" y="360"/>
                  <a:pt x="1034" y="341"/>
                </a:cubicBezTo>
                <a:cubicBezTo>
                  <a:pt x="1098" y="326"/>
                  <a:pt x="1157" y="294"/>
                  <a:pt x="1221" y="279"/>
                </a:cubicBezTo>
                <a:cubicBezTo>
                  <a:pt x="1276" y="296"/>
                  <a:pt x="1332" y="311"/>
                  <a:pt x="1386" y="331"/>
                </a:cubicBezTo>
                <a:cubicBezTo>
                  <a:pt x="1436" y="350"/>
                  <a:pt x="1481" y="392"/>
                  <a:pt x="1531" y="413"/>
                </a:cubicBezTo>
                <a:cubicBezTo>
                  <a:pt x="1602" y="444"/>
                  <a:pt x="1683" y="442"/>
                  <a:pt x="1759" y="455"/>
                </a:cubicBezTo>
                <a:cubicBezTo>
                  <a:pt x="1869" y="448"/>
                  <a:pt x="1980" y="445"/>
                  <a:pt x="2090" y="434"/>
                </a:cubicBezTo>
                <a:cubicBezTo>
                  <a:pt x="2204" y="423"/>
                  <a:pt x="2298" y="373"/>
                  <a:pt x="2410" y="362"/>
                </a:cubicBezTo>
                <a:cubicBezTo>
                  <a:pt x="2493" y="306"/>
                  <a:pt x="2595" y="257"/>
                  <a:pt x="2690" y="227"/>
                </a:cubicBezTo>
                <a:cubicBezTo>
                  <a:pt x="2926" y="237"/>
                  <a:pt x="3157" y="266"/>
                  <a:pt x="3393" y="279"/>
                </a:cubicBezTo>
                <a:cubicBezTo>
                  <a:pt x="3455" y="275"/>
                  <a:pt x="3519" y="284"/>
                  <a:pt x="3579" y="268"/>
                </a:cubicBezTo>
                <a:cubicBezTo>
                  <a:pt x="3699" y="235"/>
                  <a:pt x="3719" y="91"/>
                  <a:pt x="3765" y="0"/>
                </a:cubicBezTo>
              </a:path>
            </a:pathLst>
          </a:custGeom>
          <a:gradFill rotWithShape="0">
            <a:gsLst>
              <a:gs pos="0">
                <a:srgbClr val="465e75"/>
              </a:gs>
              <a:gs pos="100000">
                <a:srgbClr val="99ccff"/>
              </a:gs>
            </a:gsLst>
            <a:lin ang="5400000"/>
          </a:gradFill>
          <a:ln w="9360">
            <a:solidFill>
              <a:srgbClr val="dee3ee"/>
            </a:solidFill>
            <a:round/>
          </a:ln>
        </p:spPr>
        <p:style>
          <a:lnRef idx="0"/>
          <a:fillRef idx="0"/>
          <a:effectRef idx="0"/>
          <a:fontRef idx="minor"/>
        </p:style>
        <p:txBody>
          <a:bodyPr wrap="none" anchor="ctr">
            <a:noAutofit/>
          </a:bodyPr>
          <a:p>
            <a:endParaRPr b="0" lang="en-US" sz="2400" spc="-1" strike="noStrike">
              <a:solidFill>
                <a:srgbClr val="dee3ee"/>
              </a:solidFill>
              <a:latin typeface="Times New Roman"/>
            </a:endParaRPr>
          </a:p>
        </p:txBody>
      </p:sp>
      <p:sp>
        <p:nvSpPr>
          <p:cNvPr id="269" name=""/>
          <p:cNvSpPr/>
          <p:nvPr/>
        </p:nvSpPr>
        <p:spPr>
          <a:xfrm>
            <a:off x="3879360" y="279360"/>
            <a:ext cx="799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Big I</a:t>
            </a:r>
            <a:endParaRPr b="0" lang="en-US" sz="2400" spc="-1" strike="noStrike">
              <a:solidFill>
                <a:srgbClr val="dee3ee"/>
              </a:solidFill>
              <a:latin typeface="Times New Roman"/>
            </a:endParaRPr>
          </a:p>
        </p:txBody>
      </p:sp>
      <p:sp>
        <p:nvSpPr>
          <p:cNvPr id="270" name=""/>
          <p:cNvSpPr/>
          <p:nvPr/>
        </p:nvSpPr>
        <p:spPr>
          <a:xfrm>
            <a:off x="1333440" y="2857680"/>
            <a:ext cx="6058080" cy="2781000"/>
          </a:xfrm>
          <a:custGeom>
            <a:avLst/>
            <a:gdLst/>
            <a:ahLst/>
            <a:rect l="l" t="t" r="r" b="b"/>
            <a:pathLst>
              <a:path w="4432" h="2064">
                <a:moveTo>
                  <a:pt x="72" y="1320"/>
                </a:moveTo>
                <a:cubicBezTo>
                  <a:pt x="0" y="1080"/>
                  <a:pt x="72" y="696"/>
                  <a:pt x="312" y="504"/>
                </a:cubicBezTo>
                <a:cubicBezTo>
                  <a:pt x="552" y="312"/>
                  <a:pt x="1000" y="240"/>
                  <a:pt x="1512" y="168"/>
                </a:cubicBezTo>
                <a:cubicBezTo>
                  <a:pt x="2024" y="96"/>
                  <a:pt x="2976" y="0"/>
                  <a:pt x="3384" y="72"/>
                </a:cubicBezTo>
                <a:cubicBezTo>
                  <a:pt x="3792" y="144"/>
                  <a:pt x="3824" y="360"/>
                  <a:pt x="3960" y="600"/>
                </a:cubicBezTo>
                <a:cubicBezTo>
                  <a:pt x="4096" y="840"/>
                  <a:pt x="4432" y="1280"/>
                  <a:pt x="4200" y="1512"/>
                </a:cubicBezTo>
                <a:cubicBezTo>
                  <a:pt x="3968" y="1744"/>
                  <a:pt x="3144" y="1920"/>
                  <a:pt x="2568" y="1992"/>
                </a:cubicBezTo>
                <a:cubicBezTo>
                  <a:pt x="1992" y="2064"/>
                  <a:pt x="1152" y="2056"/>
                  <a:pt x="744" y="1944"/>
                </a:cubicBezTo>
                <a:cubicBezTo>
                  <a:pt x="336" y="1832"/>
                  <a:pt x="144" y="1560"/>
                  <a:pt x="72" y="1320"/>
                </a:cubicBezTo>
                <a:close/>
              </a:path>
            </a:pathLst>
          </a:custGeom>
          <a:noFill/>
          <a:ln w="9360">
            <a:solidFill>
              <a:srgbClr val="dee3ee"/>
            </a:solidFill>
            <a:round/>
          </a:ln>
        </p:spPr>
        <p:style>
          <a:lnRef idx="0"/>
          <a:fillRef idx="0"/>
          <a:effectRef idx="0"/>
          <a:fontRef idx="minor"/>
        </p:style>
        <p:txBody>
          <a:bodyPr wrap="none" anchor="ctr">
            <a:noAutofit/>
          </a:bodyPr>
          <a:p>
            <a:endParaRPr b="0" lang="en-US" sz="2400" spc="-1" strike="noStrike">
              <a:solidFill>
                <a:srgbClr val="dee3ee"/>
              </a:solidFill>
              <a:latin typeface="Times New Roman"/>
            </a:endParaRPr>
          </a:p>
        </p:txBody>
      </p:sp>
      <p:sp>
        <p:nvSpPr>
          <p:cNvPr id="271" name=""/>
          <p:cNvSpPr/>
          <p:nvPr/>
        </p:nvSpPr>
        <p:spPr>
          <a:xfrm>
            <a:off x="4724280" y="3733920"/>
            <a:ext cx="1905120" cy="838080"/>
          </a:xfrm>
          <a:prstGeom prst="ellipse">
            <a:avLst/>
          </a:prstGeom>
          <a:gradFill rotWithShape="0">
            <a:gsLst>
              <a:gs pos="0">
                <a:srgbClr val="ff0000"/>
              </a:gs>
              <a:gs pos="100000">
                <a:srgbClr val="01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Mail Relay</a:t>
            </a:r>
            <a:endParaRPr b="0" lang="en-US" sz="2400" spc="-1" strike="noStrike">
              <a:solidFill>
                <a:srgbClr val="dee3ee"/>
              </a:solidFill>
              <a:latin typeface="Times New Roman"/>
            </a:endParaRPr>
          </a:p>
        </p:txBody>
      </p:sp>
      <p:sp>
        <p:nvSpPr>
          <p:cNvPr id="272" name=""/>
          <p:cNvSpPr/>
          <p:nvPr/>
        </p:nvSpPr>
        <p:spPr>
          <a:xfrm>
            <a:off x="1981080" y="3733920"/>
            <a:ext cx="1752840" cy="914400"/>
          </a:xfrm>
          <a:prstGeom prst="ellipse">
            <a:avLst/>
          </a:prstGeom>
          <a:gradFill rotWithShape="0">
            <a:gsLst>
              <a:gs pos="0">
                <a:srgbClr val="ff0000"/>
              </a:gs>
              <a:gs pos="100000">
                <a:srgbClr val="01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Mail Relay</a:t>
            </a:r>
            <a:endParaRPr b="0" lang="en-US" sz="2400" spc="-1" strike="noStrike">
              <a:solidFill>
                <a:srgbClr val="dee3ee"/>
              </a:solidFill>
              <a:latin typeface="Times New Roman"/>
            </a:endParaRPr>
          </a:p>
        </p:txBody>
      </p:sp>
      <p:sp>
        <p:nvSpPr>
          <p:cNvPr id="273" name=""/>
          <p:cNvSpPr/>
          <p:nvPr/>
        </p:nvSpPr>
        <p:spPr>
          <a:xfrm>
            <a:off x="2514600" y="2514600"/>
            <a:ext cx="3809880" cy="762120"/>
          </a:xfrm>
          <a:prstGeom prst="rect">
            <a:avLst/>
          </a:prstGeom>
          <a:solidFill>
            <a:srgbClr val="666699"/>
          </a:solidFill>
          <a:ln w="9360">
            <a:solidFill>
              <a:srgbClr val="dee3e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imes New Roman"/>
              </a:rPr>
              <a:t>   </a:t>
            </a:r>
            <a:r>
              <a:rPr b="0" lang="en-US" sz="2400" spc="-1" strike="noStrike">
                <a:solidFill>
                  <a:srgbClr val="dee3ee"/>
                </a:solidFill>
                <a:latin typeface="Times New Roman"/>
              </a:rPr>
              <a:t>Router</a:t>
            </a:r>
            <a:endParaRPr b="0" lang="en-US" sz="2400" spc="-1" strike="noStrike">
              <a:solidFill>
                <a:srgbClr val="dee3ee"/>
              </a:solidFill>
              <a:latin typeface="Times New Roman"/>
            </a:endParaRPr>
          </a:p>
        </p:txBody>
      </p:sp>
      <p:sp>
        <p:nvSpPr>
          <p:cNvPr id="274" name=""/>
          <p:cNvSpPr/>
          <p:nvPr/>
        </p:nvSpPr>
        <p:spPr>
          <a:xfrm flipV="1">
            <a:off x="3200400" y="1218960"/>
            <a:ext cx="838080" cy="251460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75" name=""/>
          <p:cNvSpPr/>
          <p:nvPr/>
        </p:nvSpPr>
        <p:spPr>
          <a:xfrm flipH="1" flipV="1">
            <a:off x="4191120" y="1218960"/>
            <a:ext cx="1371600" cy="251460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76" name=""/>
          <p:cNvSpPr/>
          <p:nvPr/>
        </p:nvSpPr>
        <p:spPr>
          <a:xfrm>
            <a:off x="5334120" y="5638680"/>
            <a:ext cx="685800" cy="304920"/>
          </a:xfrm>
          <a:prstGeom prst="ellipse">
            <a:avLst/>
          </a:prstGeom>
          <a:gradFill rotWithShape="0">
            <a:gsLst>
              <a:gs pos="0">
                <a:srgbClr val="ffffcc"/>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77" name=""/>
          <p:cNvSpPr/>
          <p:nvPr/>
        </p:nvSpPr>
        <p:spPr>
          <a:xfrm>
            <a:off x="6019920" y="5334120"/>
            <a:ext cx="685800" cy="304560"/>
          </a:xfrm>
          <a:prstGeom prst="ellipse">
            <a:avLst/>
          </a:prstGeom>
          <a:gradFill rotWithShape="0">
            <a:gsLst>
              <a:gs pos="0">
                <a:srgbClr val="ffffcc"/>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78" name=""/>
          <p:cNvSpPr/>
          <p:nvPr/>
        </p:nvSpPr>
        <p:spPr>
          <a:xfrm>
            <a:off x="7010280" y="5029200"/>
            <a:ext cx="685800" cy="304920"/>
          </a:xfrm>
          <a:prstGeom prst="ellipse">
            <a:avLst/>
          </a:prstGeom>
          <a:gradFill rotWithShape="0">
            <a:gsLst>
              <a:gs pos="0">
                <a:srgbClr val="ffffcc"/>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79" name=""/>
          <p:cNvSpPr/>
          <p:nvPr/>
        </p:nvSpPr>
        <p:spPr>
          <a:xfrm>
            <a:off x="6705720" y="5486400"/>
            <a:ext cx="685800" cy="304920"/>
          </a:xfrm>
          <a:prstGeom prst="ellipse">
            <a:avLst/>
          </a:prstGeom>
          <a:gradFill rotWithShape="0">
            <a:gsLst>
              <a:gs pos="0">
                <a:srgbClr val="ffffcc"/>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80" name=""/>
          <p:cNvSpPr/>
          <p:nvPr/>
        </p:nvSpPr>
        <p:spPr>
          <a:xfrm flipH="1" flipV="1">
            <a:off x="5409720" y="4571640"/>
            <a:ext cx="228600" cy="106668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81" name=""/>
          <p:cNvSpPr/>
          <p:nvPr/>
        </p:nvSpPr>
        <p:spPr>
          <a:xfrm flipH="1" flipV="1">
            <a:off x="5790960" y="4571640"/>
            <a:ext cx="533160" cy="76212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82" name=""/>
          <p:cNvSpPr/>
          <p:nvPr/>
        </p:nvSpPr>
        <p:spPr>
          <a:xfrm flipH="1" flipV="1">
            <a:off x="6172200" y="4495680"/>
            <a:ext cx="838080" cy="99072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83" name=""/>
          <p:cNvSpPr/>
          <p:nvPr/>
        </p:nvSpPr>
        <p:spPr>
          <a:xfrm flipH="1" flipV="1">
            <a:off x="6400800" y="4419360"/>
            <a:ext cx="914400" cy="60948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84" name=""/>
          <p:cNvSpPr/>
          <p:nvPr/>
        </p:nvSpPr>
        <p:spPr>
          <a:xfrm flipH="1" flipV="1">
            <a:off x="4647960" y="1218960"/>
            <a:ext cx="2819160" cy="380988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85" name=""/>
          <p:cNvSpPr/>
          <p:nvPr/>
        </p:nvSpPr>
        <p:spPr>
          <a:xfrm>
            <a:off x="6477480" y="5715000"/>
            <a:ext cx="1486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Customers</a:t>
            </a:r>
            <a:endParaRPr b="0" lang="en-US" sz="2400" spc="-1" strike="noStrike">
              <a:solidFill>
                <a:srgbClr val="dee3ee"/>
              </a:solidFill>
              <a:latin typeface="Times New Roman"/>
            </a:endParaRPr>
          </a:p>
        </p:txBody>
      </p:sp>
      <p:sp>
        <p:nvSpPr>
          <p:cNvPr id="286" name=""/>
          <p:cNvSpPr/>
          <p:nvPr/>
        </p:nvSpPr>
        <p:spPr>
          <a:xfrm>
            <a:off x="1828800" y="4800600"/>
            <a:ext cx="685800" cy="304920"/>
          </a:xfrm>
          <a:prstGeom prst="ellipse">
            <a:avLst/>
          </a:prstGeom>
          <a:gradFill rotWithShape="0">
            <a:gsLst>
              <a:gs pos="0">
                <a:srgbClr val="ffffcc"/>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87" name=""/>
          <p:cNvSpPr/>
          <p:nvPr/>
        </p:nvSpPr>
        <p:spPr>
          <a:xfrm>
            <a:off x="2666880" y="4952880"/>
            <a:ext cx="685800" cy="304920"/>
          </a:xfrm>
          <a:prstGeom prst="ellipse">
            <a:avLst/>
          </a:prstGeom>
          <a:gradFill rotWithShape="0">
            <a:gsLst>
              <a:gs pos="0">
                <a:srgbClr val="ffffcc"/>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88" name=""/>
          <p:cNvSpPr/>
          <p:nvPr/>
        </p:nvSpPr>
        <p:spPr>
          <a:xfrm>
            <a:off x="3505320" y="4952880"/>
            <a:ext cx="685800" cy="304920"/>
          </a:xfrm>
          <a:prstGeom prst="ellipse">
            <a:avLst/>
          </a:prstGeom>
          <a:gradFill rotWithShape="0">
            <a:gsLst>
              <a:gs pos="0">
                <a:srgbClr val="ffffcc"/>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89" name=""/>
          <p:cNvSpPr/>
          <p:nvPr/>
        </p:nvSpPr>
        <p:spPr>
          <a:xfrm flipH="1" flipV="1">
            <a:off x="3429000" y="4572000"/>
            <a:ext cx="380880" cy="38088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90" name=""/>
          <p:cNvSpPr/>
          <p:nvPr/>
        </p:nvSpPr>
        <p:spPr>
          <a:xfrm flipH="1" flipV="1">
            <a:off x="2895480" y="4648320"/>
            <a:ext cx="76320" cy="30456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91" name=""/>
          <p:cNvSpPr/>
          <p:nvPr/>
        </p:nvSpPr>
        <p:spPr>
          <a:xfrm flipV="1">
            <a:off x="2133720" y="4571640"/>
            <a:ext cx="228600" cy="22860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92" name=""/>
          <p:cNvSpPr/>
          <p:nvPr/>
        </p:nvSpPr>
        <p:spPr>
          <a:xfrm flipV="1">
            <a:off x="3886200" y="1218960"/>
            <a:ext cx="228600" cy="373356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93" name=""/>
          <p:cNvSpPr/>
          <p:nvPr/>
        </p:nvSpPr>
        <p:spPr>
          <a:xfrm>
            <a:off x="1447200" y="5715000"/>
            <a:ext cx="2274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Internal Network</a:t>
            </a:r>
            <a:endParaRPr b="0" lang="en-US" sz="2400" spc="-1" strike="noStrike">
              <a:solidFill>
                <a:srgbClr val="dee3ee"/>
              </a:solidFill>
              <a:latin typeface="Times New Roman"/>
            </a:endParaRPr>
          </a:p>
        </p:txBody>
      </p:sp>
      <p:sp>
        <p:nvSpPr>
          <p:cNvPr id="294" name=""/>
          <p:cNvSpPr/>
          <p:nvPr/>
        </p:nvSpPr>
        <p:spPr>
          <a:xfrm>
            <a:off x="2538000" y="5137200"/>
            <a:ext cx="1486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employees</a:t>
            </a:r>
            <a:endParaRPr b="0" lang="en-US" sz="2400" spc="-1" strike="noStrike">
              <a:solidFill>
                <a:srgbClr val="dee3ee"/>
              </a:solidFill>
              <a:latin typeface="Times New Roman"/>
            </a:endParaRPr>
          </a:p>
        </p:txBody>
      </p:sp>
      <p:sp>
        <p:nvSpPr>
          <p:cNvPr id="295" name=""/>
          <p:cNvSpPr/>
          <p:nvPr/>
        </p:nvSpPr>
        <p:spPr>
          <a:xfrm rot="21511800">
            <a:off x="3791520" y="2760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X</a:t>
            </a:r>
            <a:endParaRPr b="0" lang="en-US" sz="2400" spc="-1" strike="noStrike">
              <a:solidFill>
                <a:srgbClr val="dee3ee"/>
              </a:solidFill>
              <a:latin typeface="Times New Roman"/>
            </a:endParaRPr>
          </a:p>
        </p:txBody>
      </p:sp>
      <p:sp>
        <p:nvSpPr>
          <p:cNvPr id="296" name=""/>
          <p:cNvSpPr/>
          <p:nvPr/>
        </p:nvSpPr>
        <p:spPr>
          <a:xfrm rot="20061600">
            <a:off x="5715360" y="2668320"/>
            <a:ext cx="41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X</a:t>
            </a:r>
            <a:endParaRPr b="0" lang="en-US" sz="2400" spc="-1" strike="noStrike">
              <a:solidFill>
                <a:srgbClr val="dee3ee"/>
              </a:solidFill>
              <a:latin typeface="Times New Roman"/>
            </a:endParaRPr>
          </a:p>
        </p:txBody>
      </p:sp>
      <p:sp>
        <p:nvSpPr>
          <p:cNvPr id="2" name="PlaceHolder 1"/>
          <p:cNvSpPr>
            <a:spLocks noGrp="1"/>
          </p:cNvSpPr>
          <p:nvPr>
            <p:ph type="ftr" idx="2"/>
          </p:nvPr>
        </p:nvSpPr>
        <p:spPr/>
        <p:txBody>
          <a:bodyPr/>
          <a:p>
            <a:r>
              <a:t>© Evi Nemeth &amp; Trent Hein</a:t>
            </a:r>
          </a:p>
        </p:txBody>
      </p:sp>
      <p:sp>
        <p:nvSpPr>
          <p:cNvPr id="3" name="PlaceHolder 2"/>
          <p:cNvSpPr>
            <a:spLocks noGrp="1"/>
          </p:cNvSpPr>
          <p:nvPr>
            <p:ph type="sldNum" idx="3"/>
          </p:nvPr>
        </p:nvSpPr>
        <p:spPr/>
        <p:txBody>
          <a:bodyPr/>
          <a:p>
            <a:fld id="{64D550E9-3D4C-4BA3-B070-957EE345DC79}" type="slidenum">
              <a:t>70</a:t>
            </a:fld>
          </a:p>
        </p:txBody>
      </p:sp>
      <p:sp>
        <p:nvSpPr>
          <p:cNvPr id="4" name="PlaceHolder 3"/>
          <p:cNvSpPr>
            <a:spLocks noGrp="1"/>
          </p:cNvSpPr>
          <p:nvPr>
            <p:ph type="dt" idx="1"/>
          </p:nvPr>
        </p:nvSpPr>
        <p:spPr/>
        <p:txBody>
          <a:bodyPr/>
          <a:p>
            <a:r>
              <a:rPr lang="en-US"/>
              <a:t>26 Feb 2001</a:t>
            </a:r>
          </a:p>
        </p:txBody>
      </p:sp>
    </p:spTree>
  </p:cSld>
  <p:transition spd="med">
    <p:strips dir="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Why bother?</a:t>
            </a:r>
            <a:endParaRPr b="1" lang="en-US" sz="4800" spc="-1" strike="noStrike">
              <a:solidFill>
                <a:srgbClr val="ffffff"/>
              </a:solidFill>
              <a:latin typeface="Arial Narrow"/>
            </a:endParaRPr>
          </a:p>
        </p:txBody>
      </p:sp>
      <p:sp>
        <p:nvSpPr>
          <p:cNvPr id="29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ready spending time, money, and reputation dealing with complaint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embarrassing public apologies like Zoom, config.sys, and UUNET</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Revenue - charge premium rate for:</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relayed SMTP</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ed incoming mailbox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C2CA211-B9A2-4AC5-B5CA-42738C4E5F8A}" type="slidenum">
              <a:t>71</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What can we do: </a:t>
            </a:r>
            <a:endParaRPr b="1" lang="en-US" sz="4800" spc="-1" strike="noStrike">
              <a:solidFill>
                <a:srgbClr val="ffffff"/>
              </a:solidFill>
              <a:latin typeface="Arial Narrow"/>
            </a:endParaRPr>
          </a:p>
        </p:txBody>
      </p:sp>
      <p:sp>
        <p:nvSpPr>
          <p:cNvPr id="30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sy (relay)</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 valid envelope address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llow relay</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external recipients from external session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ally based only on envelope addresse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ammers can use ! And % mail syntax to get around this</a:t>
            </a:r>
            <a:endParaRPr b="0" lang="en-US" sz="18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n’t screw up your Received header record keeping (from [validated], by, fo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ck SMTP sessions from known spam networks and hosts (RBL or private lis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5474519-9D65-413F-9191-0685144AFA84}" type="slidenum">
              <a:t>72</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What can we do: Recipient</a:t>
            </a:r>
            <a:endParaRPr b="1" lang="en-US" sz="4800" spc="-1" strike="noStrike">
              <a:solidFill>
                <a:srgbClr val="ffffff"/>
              </a:solidFill>
              <a:latin typeface="Arial Narrow"/>
            </a:endParaRPr>
          </a:p>
        </p:txBody>
      </p:sp>
      <p:sp>
        <p:nvSpPr>
          <p:cNvPr id="302" name="PlaceHolder 2"/>
          <p:cNvSpPr>
            <a:spLocks noGrp="1"/>
          </p:cNvSpPr>
          <p:nvPr>
            <p:ph/>
          </p:nvPr>
        </p:nvSpPr>
        <p:spPr>
          <a:xfrm>
            <a:off x="304920" y="1839960"/>
            <a:ext cx="421776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 filters - reject connect/msg</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known spam hosts (RBL)</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invalid envelope address</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known spam address</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non-local users (no relay)</a:t>
            </a:r>
            <a:endParaRPr b="0" lang="en-US" sz="1800" spc="-1" strike="noStrike">
              <a:solidFill>
                <a:srgbClr val="ffffff"/>
              </a:solidFill>
              <a:latin typeface="Arial"/>
            </a:endParaRPr>
          </a:p>
        </p:txBody>
      </p:sp>
      <p:sp>
        <p:nvSpPr>
          <p:cNvPr id="303" name="PlaceHolder 3"/>
          <p:cNvSpPr>
            <a:spLocks noGrp="1"/>
          </p:cNvSpPr>
          <p:nvPr>
            <p:ph/>
          </p:nvPr>
        </p:nvSpPr>
        <p:spPr>
          <a:xfrm>
            <a:off x="4696920" y="1839960"/>
            <a:ext cx="421812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filters</a:t>
            </a:r>
            <a:endParaRPr b="0" lang="en-US" sz="20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st approach is to filter all mail except explicitly _to_ known addresses: personal or lists</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unce or refile others</a:t>
            </a:r>
            <a:endParaRPr b="0" lang="en-US" sz="1800" spc="-1" strike="noStrike">
              <a:solidFill>
                <a:srgbClr val="ffffff"/>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on’t get Bcc mail anymor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hing is 100%</a:t>
            </a: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 Evi Nemeth &amp; Trent Hein</a:t>
            </a:r>
          </a:p>
        </p:txBody>
      </p:sp>
      <p:sp>
        <p:nvSpPr>
          <p:cNvPr id="6" name="PlaceHolder 5"/>
          <p:cNvSpPr>
            <a:spLocks noGrp="1"/>
          </p:cNvSpPr>
          <p:nvPr>
            <p:ph type="sldNum" idx="3"/>
          </p:nvPr>
        </p:nvSpPr>
        <p:spPr/>
        <p:txBody>
          <a:bodyPr/>
          <a:p>
            <a:fld id="{4C03B11C-0547-4083-80CA-AFB91A65D64B}" type="slidenum">
              <a:t>73</a:t>
            </a:fld>
          </a:p>
        </p:txBody>
      </p:sp>
      <p:sp>
        <p:nvSpPr>
          <p:cNvPr id="7" name="PlaceHolder 6"/>
          <p:cNvSpPr>
            <a:spLocks noGrp="1"/>
          </p:cNvSpPr>
          <p:nvPr>
            <p:ph type="dt" idx="1"/>
          </p:nvPr>
        </p:nvSpPr>
        <p:spPr/>
        <p:txBody>
          <a:bodyPr/>
          <a:p>
            <a:r>
              <a:rPr lang="en-US"/>
              <a:t>26 Feb 2001</a:t>
            </a:r>
          </a:p>
        </p:txBody>
      </p:sp>
    </p:spTree>
  </p:cSld>
  <p:transition spd="med">
    <p:strips dir="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Resources: Sendmail</a:t>
            </a:r>
            <a:endParaRPr b="1" lang="en-US" sz="4800" spc="-1" strike="noStrike">
              <a:solidFill>
                <a:srgbClr val="ffffff"/>
              </a:solidFill>
              <a:latin typeface="Arial Narrow"/>
            </a:endParaRPr>
          </a:p>
        </p:txBody>
      </p:sp>
      <p:sp>
        <p:nvSpPr>
          <p:cNvPr id="30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sendmail v8.9+</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y is off by defaul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relay only to/from hosts in cw file by defaul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full relay control</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an arbitrary access database which can be fed by RBL</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FAQ 3.27 for relay exception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http://www.sendmail.org/m4/anti-spam.html</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ble to create your own rejection rul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sendmail.or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4DF5823-10BC-4A2F-A6CD-2566148F99DC}" type="slidenum">
              <a:t>74</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endmail MC Features</a:t>
            </a:r>
            <a:endParaRPr b="1" lang="en-US" sz="4800" spc="-1" strike="noStrike">
              <a:solidFill>
                <a:srgbClr val="ffffff"/>
              </a:solidFill>
              <a:latin typeface="Arial Narrow"/>
            </a:endParaRPr>
          </a:p>
        </p:txBody>
      </p:sp>
      <p:sp>
        <p:nvSpPr>
          <p:cNvPr id="30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ature(`relay_entire_domain')    $=m</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ature(`relay_local_from')       </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ature (`relay_hosts_only')         $=R</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ature(`relay_based_on_MX')    imperfect, but easier to manage</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ature(`access_db')                    private blackhole list</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ature(`rbl')                                  http://maps.vix.com/</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ature(`blacklist_recipients')       disable user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ature(`loose_relay_check')</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ature(`accept_unqualified_senders')</a:t>
            </a:r>
            <a:endParaRPr b="0" lang="en-US" sz="20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ature(`accept_unresolvable_domain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2E11FB6-047C-4743-9219-D9306729AC53}" type="slidenum">
              <a:t>75</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T Mail servers</a:t>
            </a:r>
            <a:endParaRPr b="1" lang="en-US" sz="4800" spc="-1" strike="noStrike">
              <a:solidFill>
                <a:srgbClr val="ffffff"/>
              </a:solidFill>
              <a:latin typeface="Arial Narrow"/>
            </a:endParaRPr>
          </a:p>
        </p:txBody>
      </p:sp>
      <p:sp>
        <p:nvSpPr>
          <p:cNvPr id="30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ese resources cost money, but they have filters and ways to disallow relaying</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mail (</a:t>
            </a:r>
            <a:r>
              <a:rPr b="1" lang="en-US" sz="2000" spc="-1" strike="noStrike">
                <a:solidFill>
                  <a:srgbClr val="ffffff"/>
                </a:solidFill>
                <a:latin typeface="Courier New"/>
              </a:rPr>
              <a:t>www.metainfo.com</a:t>
            </a:r>
            <a:r>
              <a:rPr b="0" lang="en-US" sz="2000" spc="-1" strike="noStrike">
                <a:solidFill>
                  <a:srgbClr val="ffffff"/>
                </a:solidFill>
                <a:latin typeface="Courier New"/>
              </a:rPr>
              <a: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Office</a:t>
            </a:r>
            <a:r>
              <a:rPr b="0" lang="en-US" sz="2000" spc="-1" strike="noStrike">
                <a:solidFill>
                  <a:srgbClr val="ffffff"/>
                </a:solidFill>
                <a:latin typeface="Courier New"/>
              </a:rPr>
              <a:t> (</a:t>
            </a:r>
            <a:r>
              <a:rPr b="1" lang="en-US" sz="2000" spc="-1" strike="noStrike">
                <a:solidFill>
                  <a:srgbClr val="ffffff"/>
                </a:solidFill>
                <a:latin typeface="Courier New"/>
              </a:rPr>
              <a:t>www.software.com</a:t>
            </a:r>
            <a:r>
              <a:rPr b="0" lang="en-US" sz="2000" spc="-1" strike="noStrike">
                <a:solidFill>
                  <a:srgbClr val="ffffff"/>
                </a:solidFill>
                <a:latin typeface="Courier New"/>
              </a:rPr>
              <a: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ail (</a:t>
            </a:r>
            <a:r>
              <a:rPr b="1" lang="en-US" sz="2000" spc="-1" strike="noStrike">
                <a:solidFill>
                  <a:srgbClr val="ffffff"/>
                </a:solidFill>
                <a:latin typeface="Courier New"/>
              </a:rPr>
              <a:t>www.ipswitch.com</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02820A9-FF4D-4A9E-A901-30EA8E7421F1}" type="slidenum">
              <a:t>76</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ail Client Resources</a:t>
            </a:r>
            <a:endParaRPr b="1" lang="en-US" sz="4800" spc="-1" strike="noStrike">
              <a:solidFill>
                <a:srgbClr val="ffffff"/>
              </a:solidFill>
              <a:latin typeface="Arial Narrow"/>
            </a:endParaRPr>
          </a:p>
        </p:txBody>
      </p:sp>
      <p:sp>
        <p:nvSpPr>
          <p:cNvPr id="31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look has a spam threshold and filter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udora has new &amp; improved filter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Favorite: SpamBeGone! (</a:t>
            </a:r>
            <a:r>
              <a:rPr b="1" lang="en-US" sz="2000" spc="-1" strike="noStrike">
                <a:solidFill>
                  <a:srgbClr val="ffffff"/>
                </a:solidFill>
                <a:latin typeface="Courier New"/>
              </a:rPr>
              <a:t>www.internz.com/SpamBeGon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lligent plug-in that learns what you think is spam</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with Eudora on Wi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ailable as UNIX binary command-line filter adding X-Priority for Solaris, Linux, IRIX, FreeBSD, Amiga</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3FF74A0-0DA4-4578-8C7D-2F203AC0F748}" type="slidenum">
              <a:t>7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ore Tools</a:t>
            </a:r>
            <a:endParaRPr b="1" lang="en-US" sz="4800" spc="-1" strike="noStrike">
              <a:solidFill>
                <a:srgbClr val="ffffff"/>
              </a:solidFill>
              <a:latin typeface="Arial Narrow"/>
            </a:endParaRPr>
          </a:p>
        </p:txBody>
      </p:sp>
      <p:sp>
        <p:nvSpPr>
          <p:cNvPr id="31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rely upon lists of known spam senders/recipients </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m Exterminato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m Attack Pro</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mScan97 (you need to provide your own list)</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help you complain, not necessarily correctly</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m Hater </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58ABE9C-27AF-45C0-9D06-EF44DF09B647}" type="slidenum">
              <a:t>7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omplaint Forwarding</a:t>
            </a:r>
            <a:endParaRPr b="1" lang="en-US" sz="4800" spc="-1" strike="noStrike">
              <a:solidFill>
                <a:srgbClr val="ffffff"/>
              </a:solidFill>
              <a:latin typeface="Arial Narrow"/>
            </a:endParaRPr>
          </a:p>
        </p:txBody>
      </p:sp>
      <p:sp>
        <p:nvSpPr>
          <p:cNvPr id="31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use.net</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 complaints to baddomain@abuse.net</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maintain a list of complaint addresses - Iff not on list, sends to postmaster@baddomai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registration and you have to figure out who is to blame</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mCop.net</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 (spamcop@spamcop.net) and web interfac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yzes spam and sends complaints to origin, relay, beneficiar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detailed analysis of how it figured out whom to blame</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wnside: bad sites can silently block smtp from abuse.net and spamcop.ne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4DBADD0-588F-48F9-9297-430A2F0CDC7A}" type="slidenum">
              <a:t>79</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ecure DNS</a:t>
            </a:r>
            <a:endParaRPr b="1" lang="en-US" sz="4800" spc="-1" strike="noStrike">
              <a:solidFill>
                <a:srgbClr val="ffffff"/>
              </a:solidFill>
              <a:latin typeface="Arial Narrow"/>
            </a:endParaRPr>
          </a:p>
        </p:txBody>
      </p:sp>
      <p:sp>
        <p:nvSpPr>
          <p:cNvPr id="11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 can verify that they got right data</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new KEY and SIG records, private key is kept offlin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RSA encryption, problems with export remain</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ed DNS messages are bigger</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e servers and clients are slower</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79FBA53-A82F-4012-A61A-49575DF3EB1D}" type="slidenum">
              <a:t>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Other Resources</a:t>
            </a:r>
            <a:endParaRPr b="1" lang="en-US" sz="4800" spc="-1" strike="noStrike">
              <a:solidFill>
                <a:srgbClr val="ffffff"/>
              </a:solidFill>
              <a:latin typeface="Arial Narrow"/>
            </a:endParaRPr>
          </a:p>
        </p:txBody>
      </p:sp>
      <p:sp>
        <p:nvSpPr>
          <p:cNvPr id="31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Tools – most have some level of filtering and/or RBL support</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qmail.org/</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mshield.conti.nu/</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obtuse.com/smtpd.html</a:t>
            </a:r>
            <a:endParaRPr b="0" lang="en-US" sz="2000" spc="-1" strike="noStrike">
              <a:solidFill>
                <a:srgbClr val="ffffff"/>
              </a:solidFill>
              <a:latin typeface="Arial"/>
            </a:endParaRPr>
          </a:p>
          <a:p>
            <a:pPr marL="343080" indent="-343080">
              <a:lnSpc>
                <a:spcPct val="90000"/>
              </a:lnSpc>
              <a:spcBef>
                <a:spcPts val="550"/>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eneral Info</a:t>
            </a:r>
            <a:endParaRPr b="0" lang="en-US" sz="22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m recycling center: www.chooseyourmail.com</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itical Action: www.cauce.org/</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Info: www.mids.org/nospam/</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vice: www.sprocket.com/Security/Stopping-UCE.html</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Advice: spam.abuse.net/spam/</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islation lookup: thomas.loc.gov/</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574EF72-AD94-4B93-A6D5-3DAFA7E42553}" type="slidenum">
              <a:t>80</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voiding Being a Target</a:t>
            </a:r>
            <a:endParaRPr b="1" lang="en-US" sz="4800" spc="-1" strike="noStrike">
              <a:solidFill>
                <a:srgbClr val="ffffff"/>
              </a:solidFill>
              <a:latin typeface="Arial Narrow"/>
            </a:endParaRPr>
          </a:p>
        </p:txBody>
      </p:sp>
      <p:sp>
        <p:nvSpPr>
          <p:cNvPr id="319" name="PlaceHolder 2"/>
          <p:cNvSpPr>
            <a:spLocks noGrp="1"/>
          </p:cNvSpPr>
          <p:nvPr>
            <p:ph/>
          </p:nvPr>
        </p:nvSpPr>
        <p:spPr>
          <a:xfrm>
            <a:off x="304560" y="1839960"/>
            <a:ext cx="423540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you get on Spam list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ML mailto or text with @</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b Browser preferences</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NET News postings</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d opt-in lists, surveys, etc.</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aints</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cation</a:t>
            </a:r>
            <a:endParaRPr b="0" lang="en-US" sz="1800" spc="-1" strike="noStrike">
              <a:solidFill>
                <a:srgbClr val="ffffff"/>
              </a:solidFill>
              <a:latin typeface="Arial"/>
            </a:endParaRPr>
          </a:p>
        </p:txBody>
      </p:sp>
      <p:sp>
        <p:nvSpPr>
          <p:cNvPr id="320" name="PlaceHolder 3"/>
          <p:cNvSpPr>
            <a:spLocks noGrp="1"/>
          </p:cNvSpPr>
          <p:nvPr>
            <p:ph/>
          </p:nvPr>
        </p:nvSpPr>
        <p:spPr>
          <a:xfrm>
            <a:off x="4679640" y="1839960"/>
            <a:ext cx="423540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not get on Spam list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use mailto or @ in html</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use a browser’s built-in email and don’t put your email in prefs</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modified news identity</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n with a modified identity</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ver complain to the originator</a:t>
            </a: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 Evi Nemeth &amp; Trent Hein</a:t>
            </a:r>
          </a:p>
        </p:txBody>
      </p:sp>
      <p:sp>
        <p:nvSpPr>
          <p:cNvPr id="6" name="PlaceHolder 5"/>
          <p:cNvSpPr>
            <a:spLocks noGrp="1"/>
          </p:cNvSpPr>
          <p:nvPr>
            <p:ph type="sldNum" idx="3"/>
          </p:nvPr>
        </p:nvSpPr>
        <p:spPr/>
        <p:txBody>
          <a:bodyPr/>
          <a:p>
            <a:fld id="{09C96A02-7D27-44D1-AAB9-26ED78876576}" type="slidenum">
              <a:t>81</a:t>
            </a:fld>
          </a:p>
        </p:txBody>
      </p:sp>
      <p:sp>
        <p:nvSpPr>
          <p:cNvPr id="7" name="PlaceHolder 6"/>
          <p:cNvSpPr>
            <a:spLocks noGrp="1"/>
          </p:cNvSpPr>
          <p:nvPr>
            <p:ph type="dt" idx="1"/>
          </p:nvPr>
        </p:nvSpPr>
        <p:spPr/>
        <p:txBody>
          <a:bodyPr/>
          <a:p>
            <a:r>
              <a:rPr lang="en-US"/>
              <a:t>26 Feb 2001</a:t>
            </a:r>
          </a:p>
        </p:txBody>
      </p:sp>
    </p:spTree>
  </p:cSld>
  <p:transition spd="med">
    <p:strips dir="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How to Complain Successfully</a:t>
            </a:r>
            <a:endParaRPr b="1" lang="en-US" sz="4800" spc="-1" strike="noStrike">
              <a:solidFill>
                <a:srgbClr val="ffffff"/>
              </a:solidFill>
              <a:latin typeface="Arial Narrow"/>
            </a:endParaRPr>
          </a:p>
        </p:txBody>
      </p:sp>
      <p:sp>
        <p:nvSpPr>
          <p:cNvPr id="32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ain to the RIGHT plac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se Received headers TOP-&gt;BOTTOM!</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op at discontinuit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y bogosity of remaining Received lin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iate between the roles playe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IP addresses of contributing parti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route and find ISP nearest to that host, not the host itself</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POLITE and INFORMATIVE message to their ISP</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offending message with FULL HEADERS</a:t>
            </a:r>
            <a:endParaRPr b="0" lang="en-US" sz="18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your analysis of the parties involved</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2E8DCE3-2319-46D4-A894-3948FB2AF7F7}" type="slidenum">
              <a:t>82</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ever complain to the Spammer!</a:t>
            </a:r>
            <a:endParaRPr b="1" lang="en-US" sz="4800" spc="-1" strike="noStrike">
              <a:solidFill>
                <a:srgbClr val="ffffff"/>
              </a:solidFill>
              <a:latin typeface="Arial Narrow"/>
            </a:endParaRPr>
          </a:p>
        </p:txBody>
      </p:sp>
      <p:sp>
        <p:nvSpPr>
          <p:cNvPr id="32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like valid recipient addresses and you just confirmed your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d addresses are worth MONEY even if they are never used.</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take you off one list and add you to another or sell your validated addres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cation programs automatically validates your address – so run them </a:t>
            </a:r>
            <a:r>
              <a:rPr b="0" i="1" lang="en-US" sz="2400" spc="-1" strike="noStrike">
                <a:solidFill>
                  <a:srgbClr val="ffffff"/>
                </a:solidFill>
                <a:latin typeface="Arial"/>
              </a:rPr>
              <a:t>after</a:t>
            </a:r>
            <a:r>
              <a:rPr b="0" lang="en-US" sz="2400" spc="-1" strike="noStrike">
                <a:solidFill>
                  <a:srgbClr val="ffffff"/>
                </a:solidFill>
                <a:latin typeface="Arial"/>
              </a:rPr>
              <a:t> your spam filter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block spam, give a “550 User Unknown” error</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1BC5AF6-0A17-4269-BAB8-6AE29F7AE20E}" type="slidenum">
              <a:t>83</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Recommended complaint</a:t>
            </a:r>
            <a:endParaRPr b="1" lang="en-US" sz="4800" spc="-1" strike="noStrike">
              <a:solidFill>
                <a:srgbClr val="ffffff"/>
              </a:solidFill>
              <a:latin typeface="Arial Narrow"/>
            </a:endParaRPr>
          </a:p>
        </p:txBody>
      </p:sp>
      <p:sp>
        <p:nvSpPr>
          <p:cNvPr id="326" name=""/>
          <p:cNvSpPr/>
          <p:nvPr/>
        </p:nvSpPr>
        <p:spPr>
          <a:xfrm>
            <a:off x="1219320" y="1600200"/>
            <a:ext cx="74595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I received this spam. Please take appropriate action.</a:t>
            </a: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joes.net - origination in your net from X.X.X.X</a:t>
            </a: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bobs.net - Bob, you’ve been used - disallow relaying on your server.  See www.sendmail.org/antispam.html</a:t>
            </a: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billy.net - your web site at THISURL is benefitting from this spam so you are a party to it.</a:t>
            </a: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Times New Roman"/>
            </a:endParaRPr>
          </a:p>
        </p:txBody>
      </p:sp>
      <p:sp>
        <p:nvSpPr>
          <p:cNvPr id="327" name=""/>
          <p:cNvSpPr/>
          <p:nvPr/>
        </p:nvSpPr>
        <p:spPr>
          <a:xfrm>
            <a:off x="914400" y="5257800"/>
            <a:ext cx="769608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dee3ee"/>
                </a:solidFill>
                <a:latin typeface="Times New Roman"/>
              </a:rPr>
              <a:t>Most of the time you will know more about mail than the folks you complain to. Be helpful and informative rather than derisive.</a:t>
            </a:r>
            <a:endParaRPr b="0" lang="en-US" sz="2200" spc="-1" strike="noStrike">
              <a:solidFill>
                <a:srgbClr val="dee3ee"/>
              </a:solidFill>
              <a:latin typeface="Times New Roman"/>
            </a:endParaRPr>
          </a:p>
        </p:txBody>
      </p:sp>
      <p:sp>
        <p:nvSpPr>
          <p:cNvPr id="3" name="PlaceHolder 2"/>
          <p:cNvSpPr>
            <a:spLocks noGrp="1"/>
          </p:cNvSpPr>
          <p:nvPr>
            <p:ph type="ftr" idx="2"/>
          </p:nvPr>
        </p:nvSpPr>
        <p:spPr/>
        <p:txBody>
          <a:bodyPr/>
          <a:p>
            <a:r>
              <a:t>© Evi Nemeth &amp; Trent Hein</a:t>
            </a:r>
          </a:p>
        </p:txBody>
      </p:sp>
      <p:sp>
        <p:nvSpPr>
          <p:cNvPr id="4" name="PlaceHolder 3"/>
          <p:cNvSpPr>
            <a:spLocks noGrp="1"/>
          </p:cNvSpPr>
          <p:nvPr>
            <p:ph type="sldNum" idx="3"/>
          </p:nvPr>
        </p:nvSpPr>
        <p:spPr/>
        <p:txBody>
          <a:bodyPr/>
          <a:p>
            <a:fld id="{F0D179CF-30BD-4D29-89EE-32DB69A85CC2}" type="slidenum">
              <a:t>84</a:t>
            </a:fld>
          </a:p>
        </p:txBody>
      </p:sp>
      <p:sp>
        <p:nvSpPr>
          <p:cNvPr id="5" name="PlaceHolder 4"/>
          <p:cNvSpPr>
            <a:spLocks noGrp="1"/>
          </p:cNvSpPr>
          <p:nvPr>
            <p:ph type="dt" idx="1"/>
          </p:nvPr>
        </p:nvSpPr>
        <p:spPr/>
        <p:txBody>
          <a:bodyPr/>
          <a:p>
            <a:r>
              <a:rPr lang="en-US"/>
              <a:t>26 Feb 2001</a:t>
            </a:r>
          </a:p>
        </p:txBody>
      </p:sp>
    </p:spTree>
  </p:cSld>
  <p:transition spd="med">
    <p:strips dir="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Pyramid Schemes</a:t>
            </a:r>
            <a:endParaRPr b="1" lang="en-US" sz="4800" spc="-1" strike="noStrike">
              <a:solidFill>
                <a:srgbClr val="ffffff"/>
              </a:solidFill>
              <a:latin typeface="Arial Narrow"/>
            </a:endParaRPr>
          </a:p>
        </p:txBody>
      </p:sp>
      <p:sp>
        <p:nvSpPr>
          <p:cNvPr id="32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nly spam that is actually illegal in US without question… as long as some part of it uses the USP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Postal Inspection Servic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s their job</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nt and mail to them</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 </a:t>
            </a:r>
            <a:r>
              <a:rPr b="1" lang="en-US" sz="2000" spc="-1" strike="noStrike">
                <a:solidFill>
                  <a:srgbClr val="ffffff"/>
                </a:solidFill>
                <a:latin typeface="Courier New"/>
              </a:rPr>
              <a:t>whois</a:t>
            </a:r>
            <a:r>
              <a:rPr b="0" lang="en-US" sz="2000" spc="-1" strike="noStrike">
                <a:solidFill>
                  <a:srgbClr val="ffffff"/>
                </a:solidFill>
                <a:latin typeface="Arial"/>
              </a:rPr>
              <a:t> of players</a:t>
            </a:r>
            <a:endParaRPr b="0" lang="en-US" sz="2000" spc="-1" strike="noStrike">
              <a:solidFill>
                <a:srgbClr val="ffffff"/>
              </a:solidFill>
              <a:latin typeface="Arial"/>
            </a:endParaRPr>
          </a:p>
          <a:p>
            <a:pPr lvl="1" marL="743040" indent="-285840">
              <a:lnSpc>
                <a:spcPct val="10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http://www.usps.gov/postalinspectors/pyramid.htm</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B2A8E0D-D578-4166-88DA-26ABB861E027}" type="slidenum">
              <a:t>85</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U S Laws</a:t>
            </a:r>
            <a:endParaRPr b="1" lang="en-US" sz="4800" spc="-1" strike="noStrike">
              <a:solidFill>
                <a:srgbClr val="ffffff"/>
              </a:solidFill>
              <a:latin typeface="Arial Narrow"/>
            </a:endParaRPr>
          </a:p>
        </p:txBody>
      </p:sp>
      <p:sp>
        <p:nvSpPr>
          <p:cNvPr id="33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1618 Consumer Anti-Scamming Act of </a:t>
            </a:r>
            <a:r>
              <a:rPr b="0" lang="en-US" sz="2400" spc="-1" strike="noStrike" u="sng">
                <a:solidFill>
                  <a:srgbClr val="ffffff"/>
                </a:solidFill>
                <a:uFillTx/>
                <a:latin typeface="Arial"/>
              </a:rPr>
              <a:t>1998</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ED!  Any email that refers to this law is definitely spam.</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lition Against Unsolicited Commercial Emaill (CAUC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cauce.org/legislation.html</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CF0B40A-4AC9-429A-9C82-4D3CA918547C}" type="slidenum">
              <a:t>86</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Responsible Bulk Email</a:t>
            </a:r>
            <a:endParaRPr b="1" lang="en-US" sz="4800" spc="-1" strike="noStrike">
              <a:solidFill>
                <a:srgbClr val="ffffff"/>
              </a:solidFill>
              <a:latin typeface="Arial Narrow"/>
            </a:endParaRPr>
          </a:p>
        </p:txBody>
      </p:sp>
      <p:sp>
        <p:nvSpPr>
          <p:cNvPr id="33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e opt-in requires validation</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n opt-out when you collect the addres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addresses by sending email confirming opt-in</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fall into typical marketing speak</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is the person is getting the messag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any information possible to ensure the recipient doesn’t consider the message to be unsolicited</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a “how’s my driving” address</a:t>
            </a:r>
            <a:endParaRPr b="0" lang="en-US" sz="20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an “abuse” email address that work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d to “abuse” email</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 at abuse.ne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802725B-6E37-4459-9952-9782A9101F7C}" type="slidenum">
              <a:t>87</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ISPs: Preventing other abuses</a:t>
            </a:r>
            <a:endParaRPr b="1" lang="en-US" sz="4800" spc="-1" strike="noStrike">
              <a:solidFill>
                <a:srgbClr val="ffffff"/>
              </a:solidFill>
              <a:latin typeface="Arial Narrow"/>
            </a:endParaRPr>
          </a:p>
        </p:txBody>
      </p:sp>
      <p:sp>
        <p:nvSpPr>
          <p:cNvPr id="33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ter everything except those activities you endorse</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hourly dialup users filter:</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incoming SYN (not established) packets</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outgoing packets except what you endorse</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going SMTP to any relay except your own</a:t>
            </a:r>
            <a:endParaRPr b="0" lang="en-US" sz="20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complicated for dedicated/business customers</a:t>
            </a:r>
            <a:endParaRPr b="0" lang="en-US" sz="2400" spc="-1" strike="noStrike">
              <a:solidFill>
                <a:srgbClr val="ffffff"/>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ways filter at your upstream &amp; downstream borders</a:t>
            </a:r>
            <a:endParaRPr b="0" lang="en-US" sz="24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FC1918</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7/8</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ed-broadcast</a:t>
            </a:r>
            <a:endParaRPr b="0" lang="en-US" sz="2000" spc="-1" strike="noStrike">
              <a:solidFill>
                <a:srgbClr val="ffffff"/>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rout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B60CB85-D5F1-4A7E-A6F3-9B8F699E3F5C}" type="slidenum">
              <a:t>88</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ISPs: Capitalize on Prevention</a:t>
            </a:r>
            <a:endParaRPr b="1" lang="en-US" sz="4800" spc="-1" strike="noStrike">
              <a:solidFill>
                <a:srgbClr val="ffffff"/>
              </a:solidFill>
              <a:latin typeface="Arial Narrow"/>
            </a:endParaRPr>
          </a:p>
        </p:txBody>
      </p:sp>
      <p:sp>
        <p:nvSpPr>
          <p:cNvPr id="33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9% of users only need these outgoing session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 to your POP serv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TP to your SMTP rela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 to anywhere</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ge extra for unrestricted client-side initiation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incoming “security” for free</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ge extra for unrestricted incoming</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FBA2574-838B-4E56-B1C3-D29ED9D87B07}" type="slidenum">
              <a:t>89</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ew Configuration Language</a:t>
            </a:r>
            <a:endParaRPr b="1" lang="en-US" sz="4800" spc="-1" strike="noStrike">
              <a:solidFill>
                <a:srgbClr val="ffffff"/>
              </a:solidFill>
              <a:latin typeface="Arial Narrow"/>
            </a:endParaRPr>
          </a:p>
        </p:txBody>
      </p:sp>
      <p:sp>
        <p:nvSpPr>
          <p:cNvPr id="11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gon change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name server --&gt; master name serv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ary name server --&gt; slave serv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file --&gt; hints file</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name change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named.boot --&gt; /etc/named.conf</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 consists of comments and statement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321B571-84D8-4E9B-8DB1-81FB2E0C1991}" type="slidenum">
              <a:t>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Internet Cafes</a:t>
            </a:r>
            <a:endParaRPr b="1" lang="en-US" sz="4800" spc="-1" strike="noStrike">
              <a:solidFill>
                <a:srgbClr val="ffffff"/>
              </a:solidFill>
              <a:latin typeface="Arial Narrow"/>
            </a:endParaRPr>
          </a:p>
        </p:txBody>
      </p:sp>
      <p:sp>
        <p:nvSpPr>
          <p:cNvPr id="33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problem of no user identification</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s Spam and run</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 identification and log customer access</a:t>
            </a: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le any means of abus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ve ALL applications not intended for us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browser in “kiosk” mod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ble client side tools like java</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 physical access to I/O, e.g. floppy/cd/serial</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ve system access, e.g. run, ms-dos, explorer</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4C8AEA6-E707-47C5-A93D-44A884C0DAEC}" type="slidenum">
              <a:t>90</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Monitoring Use</a:t>
            </a:r>
            <a:endParaRPr b="1" lang="en-US" sz="4800" spc="-1" strike="noStrike">
              <a:solidFill>
                <a:srgbClr val="ffffff"/>
              </a:solidFill>
              <a:latin typeface="Arial Narrow"/>
            </a:endParaRPr>
          </a:p>
        </p:txBody>
      </p:sp>
      <p:sp>
        <p:nvSpPr>
          <p:cNvPr id="34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LOG LOG</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 serv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 heade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 server</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log</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dius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ter packet filte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ewall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niffe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NMP monitors</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plicate log entries on a secure system</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6637C65-D904-4352-AB19-44E27932233A}" type="slidenum">
              <a:t>91</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Enforcement</a:t>
            </a:r>
            <a:endParaRPr b="1" lang="en-US" sz="4800" spc="-1" strike="noStrike">
              <a:solidFill>
                <a:srgbClr val="ffffff"/>
              </a:solidFill>
              <a:latin typeface="Arial Narrow"/>
            </a:endParaRPr>
          </a:p>
        </p:txBody>
      </p:sp>
      <p:sp>
        <p:nvSpPr>
          <p:cNvPr id="34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activ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ive measures already discusse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er awarenes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ow your customers - disallow anonymity</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ctiv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 action on each and every abuse</a:t>
            </a:r>
            <a:endParaRPr b="0" lang="en-US" sz="2000" spc="-1" strike="noStrike">
              <a:solidFill>
                <a:srgbClr val="ffffff"/>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ify, educate, and warn or sanction</a:t>
            </a:r>
            <a:endParaRPr b="0" lang="en-US" sz="18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nction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ning</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strikes, you’re ou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8CC3F95-C58E-4E9F-9285-76E9F5F841F1}" type="slidenum">
              <a:t>92</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ustomer Awareness</a:t>
            </a:r>
            <a:endParaRPr b="1" lang="en-US" sz="4800" spc="-1" strike="noStrike">
              <a:solidFill>
                <a:srgbClr val="ffffff"/>
              </a:solidFill>
              <a:latin typeface="Arial Narrow"/>
            </a:endParaRPr>
          </a:p>
        </p:txBody>
      </p:sp>
      <p:sp>
        <p:nvSpPr>
          <p:cNvPr id="34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customers are completely ignorant of acceptable use policy and issue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why technical prevention is crucial</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AUP readily availabl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 to AUP ofte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introductory training for user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good practices for marketing and advertising</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 to AUP ofte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 customer signature acknowledging sanction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 to AUP often</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a readable AUP</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859759F-6A0F-402C-8BF9-8E03A013919F}" type="slidenum">
              <a:t>93</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Writing your AUP</a:t>
            </a:r>
            <a:endParaRPr b="1" lang="en-US" sz="4800" spc="-1" strike="noStrike">
              <a:solidFill>
                <a:srgbClr val="ffffff"/>
              </a:solidFill>
              <a:latin typeface="Arial Narrow"/>
            </a:endParaRPr>
          </a:p>
        </p:txBody>
      </p:sp>
      <p:sp>
        <p:nvSpPr>
          <p:cNvPr id="34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your AUP should contain</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the AUP is necessar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the rules come from</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makes activities unacceptable and wh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of acceptable us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of unacceptable use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sible sanction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urse</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horit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ct for more information or clarification on specific activiti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1BEE505-1A35-4396-A5D0-FB41F4C89280}" type="slidenum">
              <a:t>94</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ummary</a:t>
            </a:r>
            <a:endParaRPr b="1" lang="en-US" sz="4800" spc="-1" strike="noStrike">
              <a:solidFill>
                <a:srgbClr val="ffffff"/>
              </a:solidFill>
              <a:latin typeface="Arial Narrow"/>
            </a:endParaRPr>
          </a:p>
        </p:txBody>
      </p:sp>
      <p:sp>
        <p:nvSpPr>
          <p:cNvPr id="34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UP is the cornerstone of use managemen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ion is the founda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B746857-4AD3-40D5-BA7F-398C9718ED91}" type="slidenum">
              <a:t>95</a:t>
            </a:fld>
          </a:p>
        </p:txBody>
      </p:sp>
      <p:sp>
        <p:nvSpPr>
          <p:cNvPr id="6" name="PlaceHolder 5"/>
          <p:cNvSpPr>
            <a:spLocks noGrp="1"/>
          </p:cNvSpPr>
          <p:nvPr>
            <p:ph type="dt" idx="1"/>
          </p:nvPr>
        </p:nvSpPr>
        <p:spPr/>
        <p:txBody>
          <a:bodyPr/>
          <a:p>
            <a:r>
              <a:rPr lang="en-US"/>
              <a:t>26 Feb 2001</a:t>
            </a:r>
          </a:p>
        </p:txBody>
      </p:sp>
    </p:spTree>
  </p:cSld>
  <p:transition spd="med">
    <p:strips dir="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Narrow"/>
              </a:rPr>
              <a:t>Web Server Performance</a:t>
            </a:r>
            <a:endParaRPr b="1" lang="en-US" sz="6600" spc="-1" strike="noStrike">
              <a:solidFill>
                <a:srgbClr val="ffffff"/>
              </a:solidFill>
              <a:latin typeface="Arial Narrow"/>
            </a:endParaRPr>
          </a:p>
        </p:txBody>
      </p:sp>
      <p:sp>
        <p:nvSpPr>
          <p:cNvPr id="351"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COT200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oul, South Kore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 Dijke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netrack.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Server Performance</a:t>
            </a:r>
            <a:endParaRPr b="1" lang="en-US" sz="4800" spc="-1" strike="noStrike">
              <a:solidFill>
                <a:srgbClr val="ffffff"/>
              </a:solidFill>
              <a:latin typeface="Arial Narrow"/>
            </a:endParaRPr>
          </a:p>
        </p:txBody>
      </p:sp>
      <p:sp>
        <p:nvSpPr>
          <p:cNvPr id="35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Variables</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U spee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bandwidth</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 speed</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al gotchas</a:t>
            </a:r>
            <a:endParaRPr b="0" lang="en-US" sz="20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a:t>
            </a:r>
            <a:endParaRPr b="0" lang="en-US" sz="2000" spc="-1" strike="noStrike">
              <a:solidFill>
                <a:srgbClr val="ffffff"/>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 to size web server in advance</a:t>
            </a:r>
            <a:endParaRPr b="0" lang="en-US" sz="2400" spc="-1" strike="noStrike">
              <a:solidFill>
                <a:srgbClr val="ffffff"/>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zing for 1-2 millions hits/day</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6E1F5AA-50BB-4282-915C-88728837BBF0}" type="slidenum">
              <a:t>97</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chieving Balance</a:t>
            </a:r>
            <a:endParaRPr b="1" lang="en-US" sz="4800" spc="-1" strike="noStrike">
              <a:solidFill>
                <a:srgbClr val="ffffff"/>
              </a:solidFill>
              <a:latin typeface="Arial Narrow"/>
            </a:endParaRPr>
          </a:p>
        </p:txBody>
      </p:sp>
      <p:sp>
        <p:nvSpPr>
          <p:cNvPr id="35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very important for overall performance</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all aspects of performance to run out of capacity at about the same point</a:t>
            </a:r>
            <a:endParaRPr b="0" lang="en-US" sz="18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the major advantages of UNIX over other web server platforms  is that it can be finely measured and tuned</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mysteries as to how things are architected</a:t>
            </a:r>
            <a:endParaRPr b="0" lang="en-US" sz="18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ed as a multi-user operating system from the start</a:t>
            </a:r>
            <a:endParaRPr b="0" lang="en-US" sz="18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st commonly misunderstood web server performance aspect is I/O</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most cases, more CPU's do not mean more performance</a:t>
            </a:r>
            <a:endParaRPr b="0" lang="en-US" sz="1800" spc="-1" strike="noStrike">
              <a:solidFill>
                <a:srgbClr val="ffffff"/>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s no magic performance "crystal ball"</a:t>
            </a:r>
            <a:endParaRPr b="0" lang="en-US" sz="2000" spc="-1" strike="noStrike">
              <a:solidFill>
                <a:srgbClr val="ffffff"/>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have to measure the performance of your actual production system  to ascertain bottleneck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CBD7AF0-E967-4922-87F0-3787AADB7889}" type="slidenum">
              <a:t>98</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Basic Balance</a:t>
            </a:r>
            <a:endParaRPr b="1" lang="en-US" sz="4800" spc="-1" strike="noStrike">
              <a:solidFill>
                <a:srgbClr val="ffffff"/>
              </a:solidFill>
              <a:latin typeface="Arial Narrow"/>
            </a:endParaRPr>
          </a:p>
        </p:txBody>
      </p:sp>
      <p:sp>
        <p:nvSpPr>
          <p:cNvPr id="357"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1 measure of UNIX performance health is how the machine spends its time</a:t>
            </a:r>
            <a:endParaRPr b="0" lang="en-US" sz="2000" spc="-1" strike="noStrike">
              <a:solidFill>
                <a:srgbClr val="ffffff"/>
              </a:solidFill>
              <a:latin typeface="Arial"/>
            </a:endParaRPr>
          </a:p>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olden rule" is a 50/50 mix between "user" time and "system time"</a:t>
            </a:r>
            <a:endParaRPr b="0" lang="en-US" sz="2000" spc="-1" strike="noStrike">
              <a:solidFill>
                <a:srgbClr val="ffffff"/>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ile this doesn't work for all UNIX applications, it's darn good for  web servers</a:t>
            </a:r>
            <a:endParaRPr b="0" lang="en-US" sz="1800" spc="-1" strike="noStrike">
              <a:solidFill>
                <a:srgbClr val="ffffff"/>
              </a:solidFill>
              <a:latin typeface="Arial"/>
            </a:endParaRPr>
          </a:p>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achine which tends to spend more cycles as "user" time may be CPU-bound</a:t>
            </a:r>
            <a:endParaRPr b="0" lang="en-US" sz="2000" spc="-1" strike="noStrike">
              <a:solidFill>
                <a:srgbClr val="ffffff"/>
              </a:solidFill>
              <a:latin typeface="Arial"/>
            </a:endParaRPr>
          </a:p>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achine which tends to spend more cycles as "system" time is  probably I/O-bound or might be virtual memory system</a:t>
            </a:r>
            <a:endParaRPr b="0" lang="en-US" sz="2000" spc="-1" strike="noStrike">
              <a:solidFill>
                <a:srgbClr val="ffffff"/>
              </a:solidFill>
              <a:latin typeface="Arial"/>
            </a:endParaRPr>
          </a:p>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ratios don't work if the machine suffers from other serious "illness"  </a:t>
            </a:r>
            <a:endParaRPr b="0" lang="en-US" sz="2000" spc="-1" strike="noStrike">
              <a:solidFill>
                <a:srgbClr val="ffffff"/>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away processes (CPU or memory)</a:t>
            </a:r>
            <a:endParaRPr b="0" lang="en-US" sz="1800" spc="-1" strike="noStrike">
              <a:solidFill>
                <a:srgbClr val="ffffff"/>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sy network (collisions)</a:t>
            </a:r>
            <a:endParaRPr b="0" lang="en-US" sz="1800" spc="-1" strike="noStrike">
              <a:solidFill>
                <a:srgbClr val="ffffff"/>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ks with bad blocks</a:t>
            </a:r>
            <a:endParaRPr b="0" lang="en-US" sz="1800" spc="-1" strike="noStrike">
              <a:solidFill>
                <a:srgbClr val="ffffff"/>
              </a:solidFill>
              <a:latin typeface="Arial"/>
            </a:endParaRPr>
          </a:p>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for general health before comparing user/system ratio</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26B2CF3-7673-4A48-88CF-01E1821D3246}" type="slidenum">
              <a:t>99</a:t>
            </a:fld>
          </a:p>
        </p:txBody>
      </p:sp>
      <p:sp>
        <p:nvSpPr>
          <p:cNvPr id="6" name="PlaceHolder 5"/>
          <p:cNvSpPr>
            <a:spLocks noGrp="1"/>
          </p:cNvSpPr>
          <p:nvPr>
            <p:ph type="dt" idx="1"/>
          </p:nvPr>
        </p:nvSpPr>
        <p:spPr/>
        <p:txBody>
          <a:bodyPr/>
          <a:p>
            <a:r>
              <a:rPr lang="en-US"/>
              <a:t>26 Feb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1T15:33:59Z</dcterms:created>
  <dc:creator>Barbara L. Dijker</dc:creator>
  <dc:description/>
  <dc:language>en-US</dc:language>
  <cp:lastModifiedBy>Paul T. Kooros</cp:lastModifiedBy>
  <dcterms:modified xsi:type="dcterms:W3CDTF">2001-02-16T01:06:52Z</dcterms:modified>
  <cp:revision>94</cp:revision>
  <dc:subject/>
  <dc:title>Routing Protocols</dc:title>
</cp:coreProperties>
</file>