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7F8-FAAA-4D18-BDBC-71A6F47E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DD4-8A8F-4F8E-A19F-06210B16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2092-C726-4043-AC33-409025DF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9E8-5F44-49DB-BF5F-685DC7A1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282B-5CC9-4097-B359-273DA754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219A-5C60-4143-952C-819A6179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7A74-FCCF-4BBB-8B6C-11DD67F2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381D-C692-401A-B7D8-8813C3DD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A64C-FAEA-4B26-AF68-69FF295B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E40B-6E3F-49AA-83A1-3702144C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30B1-2AE5-4C81-8F1D-83EA8CDE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492-415A-4468-9B7D-2E643E90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C4C4-610D-4141-AA60-A2D23C7C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BD57-08A0-4261-A5EA-1A325786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BB24-2F6B-45BB-98C7-A68EBFD3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8891-C40C-4929-A601-66BEC4D2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15C8-B9AA-4763-B565-85391E37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B3F-23B9-47D9-91F4-A2394DF8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FDE-7504-4DFA-B553-343ED6AA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16E-FDF9-4DBF-8911-609B2DDA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B9B2-8F7B-455A-8267-F9D7F9EA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568-FD7C-4570-BED7-A64DDF90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109-5C3C-4940-A838-7E2DA47F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DAB4-3325-4F13-8107-C0F42140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D192-954C-47A4-9F70-610F71D7534B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2A2E-4493-41B0-BAAD-4E294363A82F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pricot2001.net/" TargetMode="External"/><Relationship Id="rId2" Type="http://schemas.openxmlformats.org/officeDocument/2006/relationships/hyperlink" Target="mailto:nschen@mail.cc.nsysu.edu.tw" TargetMode="External"/><Relationship Id="rId3" Type="http://schemas.openxmlformats.org/officeDocument/2006/relationships/hyperlink" Target="mailto:nschen@mail.cc.nsysu.edu.tw" TargetMode="External"/><Relationship Id="rId4" Type="http://schemas.openxmlformats.org/officeDocument/2006/relationships/hyperlink" Target="mailto:nschen@mail.cc.nsysu.edu.tw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jds.nsysu.edu.tw/" TargetMode="External"/><Relationship Id="rId2" Type="http://schemas.openxmlformats.org/officeDocument/2006/relationships/hyperlink" Target="http://ajds.nsysu.edu.tw/" TargetMode="External"/><Relationship Id="rId3" Type="http://schemas.openxmlformats.org/officeDocument/2006/relationships/hyperlink" Target="http://ajds.nsysu.edu.tw/" TargetMode="External"/><Relationship Id="rId4" Type="http://schemas.openxmlformats.org/officeDocument/2006/relationships/hyperlink" Target="http://ajds.nsysu.edu.tw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jds.nsysu.edu.tw/" TargetMode="External"/><Relationship Id="rId2" Type="http://schemas.openxmlformats.org/officeDocument/2006/relationships/hyperlink" Target="http://ajds.nsysu.edu.tw/" TargetMode="External"/><Relationship Id="rId3" Type="http://schemas.openxmlformats.org/officeDocument/2006/relationships/hyperlink" Target="http://ajds.nsysu.edu.tw/" TargetMode="External"/><Relationship Id="rId4" Type="http://schemas.openxmlformats.org/officeDocument/2006/relationships/hyperlink" Target="http://ajds.nsysu.edu.tw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9339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ea typeface="Tahoma"/>
                <a:hlinkClick r:id="rId1"/>
              </a:rPr>
              <a:t>APRICOT200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ahoma"/>
              </a:rPr>
              <a:t>, Kuala Lumpur, Malaysia, 26th February - 2 March 2001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ahoma"/>
              </a:rPr>
              <a:t>APNG Education WG Meeting</a:t>
            </a:r>
            <a:br>
              <a:rPr sz="2400"/>
            </a:br>
            <a:br>
              <a:rPr sz="2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JET Digital School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12 Digital Scho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09680" y="4267080"/>
            <a:ext cx="6400800" cy="22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f. Nian-shing Ch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ir of APNG Education W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ational Sun Yat-sen Univers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nschen@mail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.cc.nsysu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4"/>
              </a:rPr>
              <a:t>.edu.tw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nvironment for students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e-learning on the platform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ctures delivered by teac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dia Master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-line (a)synchronous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lti-media forums and real-time chatting roo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ivities for stud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otes, teamwork and on-line tes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b-based Tools and ot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-line dictionary, calendar and track of the learning status and so 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dia Mas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orum Discuss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nvironment for teachers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bridge for “technological gap”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nerators for producing a p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ultiple group divis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ompilation of “learning tree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aluation in multiple for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llection of data for action resear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LL pract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LL (Computer Assisted Language Learning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ttom-up content constru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cro-skills of using I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edagogical iss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onomy &amp; Authentic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disciplinary concer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anguage Teaching in AJD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ad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ent-area learning material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ri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um discussion and assign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ste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ctures through Media Mas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mulated speaking through real-time ch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urriculum and Learning Mode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me-based mod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ared topics going with high school textboo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 festivals, food, sports and recre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ject-based / Mission-based mode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orded process of cooperative learning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 BAE expedition and CF tea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ject-based model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Provided lectures for autonomous lear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 computing, life education, litera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nvironment for Administra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 manag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t ag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ual syst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.g. the AJET off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amed” Teach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school coopera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disciplinary connec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national collabora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achers and student lectur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fessionalism of AJD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ers and teacher’s train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ers and researc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ers as action researc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ers’ social network for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nowledge manag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APNG Education WG Meeting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TIME: 1:30~3:00, Feb. 26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VENUE: Putra World Trade Centre, Kuala Lumpur, Malays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Morning Session: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11:30~11:40 Welcome Message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                     -- Chairman of APNG Prof. Goto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11:40~12:00 AJET Digital School, K12 Digital School Projects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                     -- Chair of Education WG Prof. Nian-Shing Ch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Afternoon Session: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1:30~1:50 Education Exchange Portal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                 -- Ms. Ong Hui Leng, Singapore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1:50~2:10 Changing English Education in Japan through international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                  exchange projects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                  -- Prof. Hiroyuki Watanabe, Japan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2:10~2:30 Two international exchange projects through international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                 collaborations-Developing worldwide education network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                  -- Mr. Makoto Kageto, Japan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2:30~2:50 The Malaysian Smart School and the MDC schools adoption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                 programme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                 -- Ms. Najat Haji. Ahmad Marzuki, Malaysia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2:50~3:00 Feedback &amp; Discuss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rom the Past to the fu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P 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yber Community 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rtal Site 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e-Learning 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 as a media (K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pa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fut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re and No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have AJET digital scho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/ajds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.nsysu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4"/>
              </a:rPr>
              <a:t>.edu.tw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JET 1998-200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JET in Taiw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JET1998-200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structured flexible learning mod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ructured experimental courses on C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JET2000-200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structured and structured curriculum i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JET Digital School</a:t>
            </a:r>
            <a:br>
              <a:rPr sz="2800"/>
            </a:b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/ajds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.nsysu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4"/>
              </a:rPr>
              <a:t>.edu.tw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-line Camp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igital School vs. traditional school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ducational institution operation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urriculum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aching method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arning attitudes of the student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les played by the instructors and the learn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gitalized Environ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stud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cyber school without wall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teachers and research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lab for “teachology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par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resources center for home edu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Digital? (Need Analysi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students  or e-gen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fe based on the Internet is a matter of cours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earning can take place regardless time, location and distanc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teac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T is a great instructional aid to fit students’ learning styl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-S interaction is easily achieve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par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uter is viewed as Information Appliance now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yber education becomes part of the household lif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Conceptualized AJDS</a:t>
            </a:r>
            <a:br>
              <a:rPr sz="1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79064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295280" y="1523880"/>
            <a:ext cx="7848360" cy="5334120"/>
            <a:chOff x="1295280" y="1523880"/>
            <a:chExt cx="7848360" cy="5334120"/>
          </a:xfrm>
        </p:grpSpPr>
        <p:sp>
          <p:nvSpPr>
            <p:cNvPr id="108" name=""/>
            <p:cNvSpPr/>
            <p:nvPr/>
          </p:nvSpPr>
          <p:spPr>
            <a:xfrm>
              <a:off x="2614680" y="1937880"/>
              <a:ext cx="5218200" cy="4539960"/>
            </a:xfrm>
            <a:prstGeom prst="donut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16400" y="3449880"/>
              <a:ext cx="1814760" cy="14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Times New Roman"/>
                </a:rPr>
                <a:t>        </a:t>
              </a:r>
              <a:r>
                <a:rPr b="1" lang="en-US" sz="1600" spc="-1" strike="noStrike">
                  <a:solidFill>
                    <a:srgbClr val="eaeaea"/>
                  </a:solidFill>
                  <a:latin typeface="Times New Roman"/>
                </a:rPr>
                <a:t>AJDS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eaeaea"/>
                  </a:solidFill>
                  <a:latin typeface="Times New Roman"/>
                </a:rPr>
                <a:t>Digital School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86160" y="1955160"/>
              <a:ext cx="0" cy="11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3960" y="5356080"/>
              <a:ext cx="0" cy="112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79640" y="3249720"/>
              <a:ext cx="1153080" cy="5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77400" y="4717440"/>
              <a:ext cx="11343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301440" y="2973600"/>
              <a:ext cx="1115280" cy="62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125160" y="4855320"/>
              <a:ext cx="1039680" cy="72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63640" y="2514240"/>
              <a:ext cx="149364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Teacher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17560" y="3948480"/>
              <a:ext cx="132696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Student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76880" y="2310840"/>
              <a:ext cx="155376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Resources on the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      </a:t>
              </a: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Life education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95320" y="3718440"/>
              <a:ext cx="1777320" cy="9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    </a:t>
              </a: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Activitie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on the platform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98360" y="5182200"/>
              <a:ext cx="164088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Team teaching &amp;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Instructional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model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98880" y="1523880"/>
              <a:ext cx="6068880" cy="5334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91480" y="152388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0560" y="684036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186160" y="1540800"/>
              <a:ext cx="1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186160" y="6858000"/>
              <a:ext cx="1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95280" y="3926520"/>
              <a:ext cx="1274040" cy="57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00b5b"/>
                  </a:solidFill>
                  <a:latin typeface="Times New Roman"/>
                </a:rPr>
                <a:t>Peopl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84720" y="3884040"/>
              <a:ext cx="1258920" cy="56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00b5b"/>
                  </a:solidFill>
                  <a:latin typeface="Times New Roman"/>
                </a:rPr>
                <a:t>Interfac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65480" y="5376600"/>
              <a:ext cx="218916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       </a:t>
              </a: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Parent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0" y="179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icip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-12 stud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JET core scho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igh schools all over Taiwan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extensive cours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achers and research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08:52:39Z</dcterms:created>
  <dc:creator>jinglu</dc:creator>
  <dc:description/>
  <dc:language>en-US</dc:language>
  <cp:lastModifiedBy>nschen</cp:lastModifiedBy>
  <dcterms:modified xsi:type="dcterms:W3CDTF">2001-02-21T01:55:06Z</dcterms:modified>
  <cp:revision>28</cp:revision>
  <dc:subject/>
  <dc:title>AJET Digital School</dc:title>
</cp:coreProperties>
</file>