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5C23-DB87-4188-A4A0-4C499727E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24D9-D2DE-4C98-B1EB-96F97E95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739D-75D9-475D-9029-43B3C300F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7FDD-95AE-44C1-96D6-2FD64B095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41E2-C4BB-49ED-8EBC-E1B7FB1A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F5D5-DC39-4A41-B219-F50529F8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C4FE-3476-4316-8E5B-0368B070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221A-3890-4891-BF0B-7D2EDF94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A805-3BEC-4F9A-B70B-CDE8A0EF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3A67-67CF-4D2C-A820-0C983E2C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6CED-2812-4D1A-9851-CA313B29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979C-DFE6-4923-8DDA-82E672C1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2747-3B52-4003-A1B3-00037A593DE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04920"/>
            <a:ext cx="838044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APRICOT2000 in SEOU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</a:rPr>
              <a:t>The Internet Phenomenon in Korea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3048120"/>
            <a:ext cx="82296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March 1, 200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Sang-Hyon Kyo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Graduate School of Managemen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Korea Advanced Institute of Science and Technolog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Seoul, Kore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3EEF-0B8A-4ACE-B14E-E3B71DB94AE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228600"/>
            <a:ext cx="8610480" cy="69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Cyber Korea 21” to Promote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Digital Economy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Global standards and international harmoniza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Promoting computer literac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Legal and institutional refor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Educational refor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Electronic government; The CIO Council; informatization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of social infrastructure and servic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Stimulating private sector productivity enhancement;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creating new industries and job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2B1D-E757-4417-BFB8-DFCB8E0681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95280" y="1828800"/>
            <a:ext cx="7239240" cy="48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User-Driven Innovations” in Action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Free Internet Phone Call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Internet Plazas and Starcraft Fever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Cyber Stock Trad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Popular Portal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025A-EA27-42E6-B06D-B3263EF65D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19320" y="1295280"/>
            <a:ext cx="7467480" cy="50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400" spc="-1" strike="noStrike">
                <a:solidFill>
                  <a:srgbClr val="000000"/>
                </a:solidFill>
                <a:latin typeface="Times New Roman"/>
              </a:rPr>
              <a:t>Free Internet Phone Calls</a:t>
            </a:r>
            <a:r>
              <a:rPr b="0" lang="ko-KR" sz="3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“Dialpad” of Serome Technolog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Java-based VoIP technology for PC-to-phone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Started in the US in October, 1999, and in Korea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in January, 200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Over 4 million users and growing rapidl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Several others are soon to join with their ow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technologi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3C06-A9E8-438A-B9A5-CACC831AE0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19320" y="1295280"/>
            <a:ext cx="7010280" cy="43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Internet Plazas and Starcraft Fever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Over 13,000 Internet Plazas all over the country;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provide Internet access and games; typically with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20~50 PCs and T1 link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Several major Internet game companies (Mari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Telecom, Nexon, NCSoft, etc.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Koreans dominate in most global Starcraft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competition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DCAA-D41A-4081-BBBF-D193A551F7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43000" y="1676520"/>
            <a:ext cx="7162920" cy="39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Cyber Stock Trading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Over 40% of total transactions on the Interne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Probably the highest percentage in the worl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Still growing; 3.7% in December, ‘98, and 40.2%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in December, ‘99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2E02-ABD6-4615-832D-7CC0F6DE34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62120" y="1523880"/>
            <a:ext cx="80010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Popular Portal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“Hanmail” of Daum Communication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6 million subscribers (13% of population; number of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AOL’s subscribers is about 8% of the US populatio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Still growing; 1 million in January, ‘99, and 6 mill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in January, 200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8FE8-B566-441B-B69D-2EFFA3BB59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057400" y="2057400"/>
            <a:ext cx="53341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ternet Phenomenon in Korea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in pretty good shape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3352680"/>
            <a:ext cx="495288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3927-4F84-4D11-8917-C612914460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09680" y="1523880"/>
            <a:ext cx="518184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Age of the Interne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Why and How?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Network Opennes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“User-Driven Innovations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Role of Government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26E8-5D9A-4609-A65A-777F952A37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koreamap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400800" cy="6629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75400" y="22860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56EE-F509-4DA5-B7F5-D7AFC9BFAF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90720" y="1066680"/>
            <a:ext cx="77724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Internet Phenomenon in Kore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State of Network Openness an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lecommunications Marke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State of Infrastructure Developmen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State of Internet Usag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“Cyber Korea 21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User-Driven Innovations in Ac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33CD-D20A-4FA4-B6B4-DBAFC4BDC9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72960" y="1162080"/>
            <a:ext cx="678744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te of Network Openness an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lecommunications Mark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Serious “network opening” and competition-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moting measures started in 199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Institutionally, “network openness” has bee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hieved and the market is fully competitiv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36 facilities-based providers; over 200 resellers;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ver 1,000 value-added provider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AE76-6C2B-4770-8A88-CDA0712A07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71600" y="1600200"/>
            <a:ext cx="693432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State of Infrastruct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Korea Information Infrastructure Initiativ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Public Sector KII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Commercial KII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C958-86F6-49AB-9B21-AC6553AB95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685800"/>
            <a:ext cx="891540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Public Sector KII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Public sector financing; built, owned and operated by PTOs;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public investment recovered through concessionary rates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for public sector usag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Provide low-cost advanced network services to government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agencies, public institutions, educational, R&amp;D and healthcar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institutions, and SM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Support development and test of technologies and application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Stimulate demand, private sector investment, and R&amp;D i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broadband infrastructure and servic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B7E5-F116-4EC2-9041-EC7FFCC576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43000" y="1219320"/>
            <a:ext cx="72388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Commercial KII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Private sector investment; built and operated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competitively by PTO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Facilities-based operators building ATM- an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WDM-based backbones in the country; also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participating in new international link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Local carriers in fierce competition for provis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of broadband access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5924-C240-46F2-8469-4F44569D8A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9480" y="1066680"/>
            <a:ext cx="853452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State of Internet Usage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93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94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95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96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97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98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No. Hosts         7,650    13,856   36,644   73,191  131,005  202,510  460,974*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No. Domains         61         192        579     2,664      8,045    26,166  207,023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No. Users              ---          138        366        731      1,634      3,103    10,860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(x1,000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(1) Source: Korea Network Information Center (http://www.nic.or.kr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(2) As of end of the year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* As of end of August.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981080"/>
            <a:ext cx="807696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24382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31240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373392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133720" y="19810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19810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7620120" y="19810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19810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19810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800600" y="19810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86200" y="19810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66B3-3773-4424-98AA-8874B2C474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5T08:32:02Z</dcterms:created>
  <dc:creator>서은진</dc:creator>
  <dc:description/>
  <dc:language>en-US</dc:language>
  <cp:lastModifiedBy>경상현</cp:lastModifiedBy>
  <cp:lastPrinted>2000-02-10T23:32:24Z</cp:lastPrinted>
  <dcterms:modified xsi:type="dcterms:W3CDTF">2000-02-11T00:53:18Z</dcterms:modified>
  <cp:revision>63</cp:revision>
  <dc:subject/>
  <dc:title>PowerPoint 프레젠테이션</dc:title>
</cp:coreProperties>
</file>