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700246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20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96684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lbertus Medium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96684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B6750F6-5C47-4D68-95C4-B15B845EA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2981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scriber access equipment converts services into bandwid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ss Sonet/SDH transport rings deliver bandwidth to carrier net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ing/routing equipment is an overlay on fiber transmis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 and data are sepearate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2979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ve private line one frame earlier as it’s one of the motivations for 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"/>
          <p:cNvSpPr txBox="1"/>
          <p:nvPr/>
        </p:nvSpPr>
        <p:spPr>
          <a:xfrm>
            <a:off x="396684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FD9382-FF34-4E13-919D-2E56E8E60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 txBox="1"/>
          <p:nvPr/>
        </p:nvSpPr>
        <p:spPr>
          <a:xfrm>
            <a:off x="-36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 txBox="1"/>
          <p:nvPr/>
        </p:nvSpPr>
        <p:spPr>
          <a:xfrm>
            <a:off x="396684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PlaceHolder 1"/>
          <p:cNvSpPr>
            <a:spLocks noGrp="1"/>
          </p:cNvSpPr>
          <p:nvPr>
            <p:ph type="body"/>
          </p:nvPr>
        </p:nvSpPr>
        <p:spPr>
          <a:xfrm>
            <a:off x="998280" y="4460400"/>
            <a:ext cx="51339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6000" cy="3468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"/>
          <p:cNvSpPr txBox="1"/>
          <p:nvPr/>
        </p:nvSpPr>
        <p:spPr>
          <a:xfrm>
            <a:off x="396684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BC2B359-F7F3-4B7F-8198-65E7517AA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 txBox="1"/>
          <p:nvPr/>
        </p:nvSpPr>
        <p:spPr>
          <a:xfrm>
            <a:off x="-360" y="882324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 txBox="1"/>
          <p:nvPr/>
        </p:nvSpPr>
        <p:spPr>
          <a:xfrm>
            <a:off x="396684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PlaceHolder 1"/>
          <p:cNvSpPr>
            <a:spLocks noGrp="1"/>
          </p:cNvSpPr>
          <p:nvPr>
            <p:ph type="body"/>
          </p:nvPr>
        </p:nvSpPr>
        <p:spPr>
          <a:xfrm>
            <a:off x="998280" y="4460400"/>
            <a:ext cx="51339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6000" cy="34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A4A55-5664-407E-8D82-057A9CABFD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3828600"/>
            <a:ext cx="7848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418F5-285D-4627-AA3E-7DA08E97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829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3320" y="1599840"/>
            <a:ext cx="3829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3828600"/>
            <a:ext cx="3829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3320" y="3828600"/>
            <a:ext cx="3829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E98C7-64F3-43E5-ABBF-80AFD6A2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2526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5320" y="1599840"/>
            <a:ext cx="2526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880" y="1599840"/>
            <a:ext cx="2526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3828600"/>
            <a:ext cx="2526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5320" y="3828600"/>
            <a:ext cx="2526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880" y="3828600"/>
            <a:ext cx="25268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B1F30-A2C9-45C0-80E0-38E7270E9E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44F9B-04C7-4ED0-B31B-4D245F77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04FF3-4451-4371-BB76-5821AC7E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829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3320" y="1599840"/>
            <a:ext cx="3829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BE975-0CAD-4C9D-AED2-65AD7769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A38D2-42B1-433B-B398-99D823A8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682A8-7907-43CA-88FD-3C17074E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829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3320" y="1599840"/>
            <a:ext cx="3829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3828600"/>
            <a:ext cx="3829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C3FED-D779-4DEA-A869-21629430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829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3320" y="1599840"/>
            <a:ext cx="3829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3320" y="3828600"/>
            <a:ext cx="3829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D88C6-02AF-447C-B05D-46C178B1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829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3320" y="1599840"/>
            <a:ext cx="3829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3828600"/>
            <a:ext cx="7848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1DA9F-B089-42E4-8BEF-0A5AB46C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lbertus Medium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1760" y="1599840"/>
            <a:ext cx="784836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199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1199"/>
              </a:spcBef>
              <a:buClr>
                <a:srgbClr val="a49788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1199"/>
              </a:spcBef>
              <a:buClr>
                <a:srgbClr val="a49788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943600" y="6552720"/>
            <a:ext cx="320040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0" y="655272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5CD4-A6FA-44B8-85CB-B30239F84D04}" type="slidenum">
              <a:rPr b="0" lang="en-US" sz="8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62012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Agenda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33360" y="990720"/>
            <a:ext cx="7010280" cy="425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	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굴림"/>
              </a:rPr>
              <a:t>Evolution of the Public Network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	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굴림"/>
              </a:rPr>
              <a:t>DWDM in the Public Network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Intelligent Optical Networking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굴림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235240"/>
            <a:ext cx="876312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3289320"/>
            <a:ext cx="876312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760" y="1335240"/>
            <a:ext cx="1776240" cy="67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9:00 - 10: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(10:30 - 11:00 brea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640" y="2589120"/>
            <a:ext cx="185868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11:00 - 12: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(12:30 - 2:00 lun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8280" y="3592800"/>
            <a:ext cx="1553760" cy="67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:00 - 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(3:30 - 4:00 brea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1003320"/>
            <a:ext cx="8763120" cy="334008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1003320"/>
            <a:ext cx="0" cy="334008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562720" y="4876920"/>
            <a:ext cx="2946240" cy="149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61140-4EEE-438A-91E9-501B79FF00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Alternative: IP over DWDM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816200" y="2106720"/>
            <a:ext cx="699840" cy="433440"/>
            <a:chOff x="1816200" y="2106720"/>
            <a:chExt cx="699840" cy="433440"/>
          </a:xfrm>
        </p:grpSpPr>
        <p:sp>
          <p:nvSpPr>
            <p:cNvPr id="184" name=""/>
            <p:cNvSpPr/>
            <p:nvPr/>
          </p:nvSpPr>
          <p:spPr>
            <a:xfrm>
              <a:off x="1822320" y="2113200"/>
              <a:ext cx="685440" cy="419040"/>
            </a:xfrm>
            <a:custGeom>
              <a:avLst/>
              <a:gdLst/>
              <a:ahLst/>
              <a:rect l="l" t="t" r="r" b="b"/>
              <a:pathLst>
                <a:path w="432" h="264">
                  <a:moveTo>
                    <a:pt x="216" y="0"/>
                  </a:move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4" y="211"/>
                  </a:lnTo>
                  <a:lnTo>
                    <a:pt x="10" y="217"/>
                  </a:lnTo>
                  <a:lnTo>
                    <a:pt x="17" y="224"/>
                  </a:lnTo>
                  <a:lnTo>
                    <a:pt x="26" y="229"/>
                  </a:lnTo>
                  <a:lnTo>
                    <a:pt x="37" y="235"/>
                  </a:lnTo>
                  <a:lnTo>
                    <a:pt x="49" y="240"/>
                  </a:lnTo>
                  <a:lnTo>
                    <a:pt x="63" y="245"/>
                  </a:lnTo>
                  <a:lnTo>
                    <a:pt x="79" y="249"/>
                  </a:lnTo>
                  <a:lnTo>
                    <a:pt x="95" y="253"/>
                  </a:lnTo>
                  <a:lnTo>
                    <a:pt x="113" y="256"/>
                  </a:lnTo>
                  <a:lnTo>
                    <a:pt x="132" y="259"/>
                  </a:lnTo>
                  <a:lnTo>
                    <a:pt x="173" y="263"/>
                  </a:lnTo>
                  <a:lnTo>
                    <a:pt x="216" y="264"/>
                  </a:lnTo>
                  <a:lnTo>
                    <a:pt x="259" y="263"/>
                  </a:lnTo>
                  <a:lnTo>
                    <a:pt x="300" y="259"/>
                  </a:lnTo>
                  <a:lnTo>
                    <a:pt x="319" y="256"/>
                  </a:lnTo>
                  <a:lnTo>
                    <a:pt x="337" y="253"/>
                  </a:lnTo>
                  <a:lnTo>
                    <a:pt x="353" y="249"/>
                  </a:lnTo>
                  <a:lnTo>
                    <a:pt x="369" y="245"/>
                  </a:lnTo>
                  <a:lnTo>
                    <a:pt x="383" y="240"/>
                  </a:lnTo>
                  <a:lnTo>
                    <a:pt x="395" y="235"/>
                  </a:lnTo>
                  <a:lnTo>
                    <a:pt x="406" y="229"/>
                  </a:lnTo>
                  <a:lnTo>
                    <a:pt x="415" y="224"/>
                  </a:lnTo>
                  <a:lnTo>
                    <a:pt x="422" y="217"/>
                  </a:lnTo>
                  <a:lnTo>
                    <a:pt x="428" y="211"/>
                  </a:lnTo>
                  <a:lnTo>
                    <a:pt x="431" y="205"/>
                  </a:lnTo>
                  <a:lnTo>
                    <a:pt x="432" y="198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22320" y="2113200"/>
              <a:ext cx="685440" cy="209520"/>
            </a:xfrm>
            <a:custGeom>
              <a:avLst/>
              <a:gdLst/>
              <a:ahLst/>
              <a:rect l="l" t="t" r="r" b="b"/>
              <a:pathLst>
                <a:path w="432" h="132">
                  <a:moveTo>
                    <a:pt x="0" y="66"/>
                  </a:moveTo>
                  <a:lnTo>
                    <a:pt x="1" y="73"/>
                  </a:lnTo>
                  <a:lnTo>
                    <a:pt x="4" y="79"/>
                  </a:lnTo>
                  <a:lnTo>
                    <a:pt x="10" y="85"/>
                  </a:lnTo>
                  <a:lnTo>
                    <a:pt x="17" y="92"/>
                  </a:lnTo>
                  <a:lnTo>
                    <a:pt x="26" y="97"/>
                  </a:lnTo>
                  <a:lnTo>
                    <a:pt x="37" y="103"/>
                  </a:lnTo>
                  <a:lnTo>
                    <a:pt x="49" y="108"/>
                  </a:lnTo>
                  <a:lnTo>
                    <a:pt x="63" y="113"/>
                  </a:lnTo>
                  <a:lnTo>
                    <a:pt x="79" y="117"/>
                  </a:lnTo>
                  <a:lnTo>
                    <a:pt x="95" y="121"/>
                  </a:lnTo>
                  <a:lnTo>
                    <a:pt x="113" y="124"/>
                  </a:lnTo>
                  <a:lnTo>
                    <a:pt x="132" y="127"/>
                  </a:lnTo>
                  <a:lnTo>
                    <a:pt x="173" y="131"/>
                  </a:lnTo>
                  <a:lnTo>
                    <a:pt x="216" y="132"/>
                  </a:lnTo>
                  <a:lnTo>
                    <a:pt x="259" y="131"/>
                  </a:lnTo>
                  <a:lnTo>
                    <a:pt x="300" y="127"/>
                  </a:lnTo>
                  <a:lnTo>
                    <a:pt x="319" y="124"/>
                  </a:lnTo>
                  <a:lnTo>
                    <a:pt x="337" y="121"/>
                  </a:lnTo>
                  <a:lnTo>
                    <a:pt x="353" y="117"/>
                  </a:lnTo>
                  <a:lnTo>
                    <a:pt x="369" y="113"/>
                  </a:lnTo>
                  <a:lnTo>
                    <a:pt x="383" y="108"/>
                  </a:lnTo>
                  <a:lnTo>
                    <a:pt x="395" y="103"/>
                  </a:lnTo>
                  <a:lnTo>
                    <a:pt x="406" y="97"/>
                  </a:lnTo>
                  <a:lnTo>
                    <a:pt x="415" y="92"/>
                  </a:lnTo>
                  <a:lnTo>
                    <a:pt x="422" y="85"/>
                  </a:lnTo>
                  <a:lnTo>
                    <a:pt x="428" y="79"/>
                  </a:lnTo>
                  <a:lnTo>
                    <a:pt x="431" y="73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16200" y="2106720"/>
              <a:ext cx="699840" cy="433440"/>
            </a:xfrm>
            <a:custGeom>
              <a:avLst/>
              <a:gdLst/>
              <a:ahLst/>
              <a:rect l="l" t="t" r="r" b="b"/>
              <a:pathLst>
                <a:path w="441" h="273">
                  <a:moveTo>
                    <a:pt x="177" y="1"/>
                  </a:moveTo>
                  <a:lnTo>
                    <a:pt x="136" y="5"/>
                  </a:lnTo>
                  <a:lnTo>
                    <a:pt x="117" y="8"/>
                  </a:lnTo>
                  <a:lnTo>
                    <a:pt x="99" y="11"/>
                  </a:lnTo>
                  <a:lnTo>
                    <a:pt x="83" y="15"/>
                  </a:lnTo>
                  <a:lnTo>
                    <a:pt x="67" y="19"/>
                  </a:lnTo>
                  <a:lnTo>
                    <a:pt x="53" y="24"/>
                  </a:lnTo>
                  <a:lnTo>
                    <a:pt x="41" y="29"/>
                  </a:lnTo>
                  <a:lnTo>
                    <a:pt x="38" y="30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4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2" y="212"/>
                  </a:lnTo>
                  <a:lnTo>
                    <a:pt x="5" y="218"/>
                  </a:lnTo>
                  <a:lnTo>
                    <a:pt x="11" y="224"/>
                  </a:lnTo>
                  <a:lnTo>
                    <a:pt x="18" y="231"/>
                  </a:lnTo>
                  <a:lnTo>
                    <a:pt x="27" y="236"/>
                  </a:lnTo>
                  <a:lnTo>
                    <a:pt x="38" y="242"/>
                  </a:lnTo>
                  <a:lnTo>
                    <a:pt x="41" y="243"/>
                  </a:lnTo>
                  <a:lnTo>
                    <a:pt x="53" y="248"/>
                  </a:lnTo>
                  <a:lnTo>
                    <a:pt x="67" y="253"/>
                  </a:lnTo>
                  <a:lnTo>
                    <a:pt x="83" y="257"/>
                  </a:lnTo>
                  <a:lnTo>
                    <a:pt x="99" y="261"/>
                  </a:lnTo>
                  <a:lnTo>
                    <a:pt x="117" y="264"/>
                  </a:lnTo>
                  <a:lnTo>
                    <a:pt x="136" y="267"/>
                  </a:lnTo>
                  <a:lnTo>
                    <a:pt x="177" y="271"/>
                  </a:lnTo>
                  <a:lnTo>
                    <a:pt x="220" y="273"/>
                  </a:lnTo>
                  <a:lnTo>
                    <a:pt x="263" y="271"/>
                  </a:lnTo>
                  <a:lnTo>
                    <a:pt x="304" y="267"/>
                  </a:lnTo>
                  <a:lnTo>
                    <a:pt x="323" y="264"/>
                  </a:lnTo>
                  <a:lnTo>
                    <a:pt x="341" y="261"/>
                  </a:lnTo>
                  <a:lnTo>
                    <a:pt x="357" y="257"/>
                  </a:lnTo>
                  <a:lnTo>
                    <a:pt x="373" y="253"/>
                  </a:lnTo>
                  <a:lnTo>
                    <a:pt x="387" y="248"/>
                  </a:lnTo>
                  <a:lnTo>
                    <a:pt x="399" y="243"/>
                  </a:lnTo>
                  <a:lnTo>
                    <a:pt x="402" y="242"/>
                  </a:lnTo>
                  <a:lnTo>
                    <a:pt x="413" y="236"/>
                  </a:lnTo>
                  <a:lnTo>
                    <a:pt x="422" y="231"/>
                  </a:lnTo>
                  <a:lnTo>
                    <a:pt x="429" y="224"/>
                  </a:lnTo>
                  <a:lnTo>
                    <a:pt x="435" y="218"/>
                  </a:lnTo>
                  <a:lnTo>
                    <a:pt x="438" y="212"/>
                  </a:lnTo>
                  <a:lnTo>
                    <a:pt x="439" y="209"/>
                  </a:lnTo>
                  <a:lnTo>
                    <a:pt x="441" y="202"/>
                  </a:lnTo>
                  <a:lnTo>
                    <a:pt x="441" y="70"/>
                  </a:lnTo>
                  <a:lnTo>
                    <a:pt x="439" y="63"/>
                  </a:lnTo>
                  <a:lnTo>
                    <a:pt x="438" y="60"/>
                  </a:lnTo>
                  <a:lnTo>
                    <a:pt x="435" y="54"/>
                  </a:lnTo>
                  <a:lnTo>
                    <a:pt x="429" y="48"/>
                  </a:lnTo>
                  <a:lnTo>
                    <a:pt x="422" y="42"/>
                  </a:lnTo>
                  <a:lnTo>
                    <a:pt x="413" y="36"/>
                  </a:lnTo>
                  <a:lnTo>
                    <a:pt x="402" y="30"/>
                  </a:lnTo>
                  <a:lnTo>
                    <a:pt x="399" y="29"/>
                  </a:lnTo>
                  <a:lnTo>
                    <a:pt x="387" y="24"/>
                  </a:lnTo>
                  <a:lnTo>
                    <a:pt x="373" y="19"/>
                  </a:lnTo>
                  <a:lnTo>
                    <a:pt x="357" y="15"/>
                  </a:lnTo>
                  <a:lnTo>
                    <a:pt x="341" y="11"/>
                  </a:lnTo>
                  <a:lnTo>
                    <a:pt x="323" y="8"/>
                  </a:lnTo>
                  <a:lnTo>
                    <a:pt x="304" y="5"/>
                  </a:lnTo>
                  <a:lnTo>
                    <a:pt x="263" y="1"/>
                  </a:lnTo>
                  <a:lnTo>
                    <a:pt x="220" y="0"/>
                  </a:lnTo>
                  <a:lnTo>
                    <a:pt x="177" y="1"/>
                  </a:lnTo>
                  <a:close/>
                  <a:moveTo>
                    <a:pt x="220" y="9"/>
                  </a:moveTo>
                  <a:lnTo>
                    <a:pt x="263" y="10"/>
                  </a:lnTo>
                  <a:lnTo>
                    <a:pt x="304" y="14"/>
                  </a:lnTo>
                  <a:lnTo>
                    <a:pt x="323" y="17"/>
                  </a:lnTo>
                  <a:lnTo>
                    <a:pt x="341" y="20"/>
                  </a:lnTo>
                  <a:lnTo>
                    <a:pt x="357" y="24"/>
                  </a:lnTo>
                  <a:lnTo>
                    <a:pt x="373" y="28"/>
                  </a:lnTo>
                  <a:lnTo>
                    <a:pt x="387" y="33"/>
                  </a:lnTo>
                  <a:lnTo>
                    <a:pt x="399" y="38"/>
                  </a:lnTo>
                  <a:lnTo>
                    <a:pt x="399" y="33"/>
                  </a:lnTo>
                  <a:lnTo>
                    <a:pt x="396" y="36"/>
                  </a:lnTo>
                  <a:lnTo>
                    <a:pt x="407" y="42"/>
                  </a:lnTo>
                  <a:lnTo>
                    <a:pt x="416" y="48"/>
                  </a:lnTo>
                  <a:lnTo>
                    <a:pt x="423" y="54"/>
                  </a:lnTo>
                  <a:lnTo>
                    <a:pt x="429" y="60"/>
                  </a:lnTo>
                  <a:lnTo>
                    <a:pt x="432" y="66"/>
                  </a:lnTo>
                  <a:lnTo>
                    <a:pt x="435" y="63"/>
                  </a:lnTo>
                  <a:lnTo>
                    <a:pt x="430" y="63"/>
                  </a:lnTo>
                  <a:lnTo>
                    <a:pt x="432" y="70"/>
                  </a:lnTo>
                  <a:lnTo>
                    <a:pt x="432" y="202"/>
                  </a:lnTo>
                  <a:lnTo>
                    <a:pt x="430" y="209"/>
                  </a:lnTo>
                  <a:lnTo>
                    <a:pt x="435" y="209"/>
                  </a:lnTo>
                  <a:lnTo>
                    <a:pt x="432" y="206"/>
                  </a:lnTo>
                  <a:lnTo>
                    <a:pt x="429" y="212"/>
                  </a:lnTo>
                  <a:lnTo>
                    <a:pt x="423" y="218"/>
                  </a:lnTo>
                  <a:lnTo>
                    <a:pt x="416" y="225"/>
                  </a:lnTo>
                  <a:lnTo>
                    <a:pt x="407" y="230"/>
                  </a:lnTo>
                  <a:lnTo>
                    <a:pt x="396" y="236"/>
                  </a:lnTo>
                  <a:lnTo>
                    <a:pt x="399" y="239"/>
                  </a:lnTo>
                  <a:lnTo>
                    <a:pt x="399" y="234"/>
                  </a:lnTo>
                  <a:lnTo>
                    <a:pt x="387" y="239"/>
                  </a:lnTo>
                  <a:lnTo>
                    <a:pt x="373" y="244"/>
                  </a:lnTo>
                  <a:lnTo>
                    <a:pt x="357" y="248"/>
                  </a:lnTo>
                  <a:lnTo>
                    <a:pt x="341" y="252"/>
                  </a:lnTo>
                  <a:lnTo>
                    <a:pt x="323" y="255"/>
                  </a:lnTo>
                  <a:lnTo>
                    <a:pt x="304" y="258"/>
                  </a:lnTo>
                  <a:lnTo>
                    <a:pt x="263" y="262"/>
                  </a:lnTo>
                  <a:lnTo>
                    <a:pt x="220" y="264"/>
                  </a:lnTo>
                  <a:lnTo>
                    <a:pt x="177" y="262"/>
                  </a:lnTo>
                  <a:lnTo>
                    <a:pt x="136" y="258"/>
                  </a:lnTo>
                  <a:lnTo>
                    <a:pt x="117" y="255"/>
                  </a:lnTo>
                  <a:lnTo>
                    <a:pt x="99" y="252"/>
                  </a:lnTo>
                  <a:lnTo>
                    <a:pt x="83" y="248"/>
                  </a:lnTo>
                  <a:lnTo>
                    <a:pt x="67" y="244"/>
                  </a:lnTo>
                  <a:lnTo>
                    <a:pt x="53" y="239"/>
                  </a:lnTo>
                  <a:lnTo>
                    <a:pt x="41" y="234"/>
                  </a:lnTo>
                  <a:lnTo>
                    <a:pt x="41" y="239"/>
                  </a:lnTo>
                  <a:lnTo>
                    <a:pt x="44" y="236"/>
                  </a:lnTo>
                  <a:lnTo>
                    <a:pt x="33" y="230"/>
                  </a:lnTo>
                  <a:lnTo>
                    <a:pt x="24" y="225"/>
                  </a:lnTo>
                  <a:lnTo>
                    <a:pt x="17" y="218"/>
                  </a:lnTo>
                  <a:lnTo>
                    <a:pt x="11" y="212"/>
                  </a:lnTo>
                  <a:lnTo>
                    <a:pt x="8" y="206"/>
                  </a:lnTo>
                  <a:lnTo>
                    <a:pt x="5" y="209"/>
                  </a:lnTo>
                  <a:lnTo>
                    <a:pt x="10" y="209"/>
                  </a:lnTo>
                  <a:lnTo>
                    <a:pt x="9" y="202"/>
                  </a:lnTo>
                  <a:lnTo>
                    <a:pt x="9" y="70"/>
                  </a:lnTo>
                  <a:lnTo>
                    <a:pt x="10" y="63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1" y="60"/>
                  </a:lnTo>
                  <a:lnTo>
                    <a:pt x="17" y="54"/>
                  </a:lnTo>
                  <a:lnTo>
                    <a:pt x="24" y="48"/>
                  </a:lnTo>
                  <a:lnTo>
                    <a:pt x="33" y="42"/>
                  </a:lnTo>
                  <a:lnTo>
                    <a:pt x="44" y="36"/>
                  </a:lnTo>
                  <a:lnTo>
                    <a:pt x="41" y="33"/>
                  </a:lnTo>
                  <a:lnTo>
                    <a:pt x="41" y="38"/>
                  </a:lnTo>
                  <a:lnTo>
                    <a:pt x="53" y="33"/>
                  </a:lnTo>
                  <a:lnTo>
                    <a:pt x="67" y="28"/>
                  </a:lnTo>
                  <a:lnTo>
                    <a:pt x="83" y="24"/>
                  </a:lnTo>
                  <a:lnTo>
                    <a:pt x="99" y="20"/>
                  </a:lnTo>
                  <a:lnTo>
                    <a:pt x="117" y="17"/>
                  </a:lnTo>
                  <a:lnTo>
                    <a:pt x="136" y="14"/>
                  </a:lnTo>
                  <a:lnTo>
                    <a:pt x="177" y="10"/>
                  </a:lnTo>
                  <a:lnTo>
                    <a:pt x="220" y="9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16200" y="2217960"/>
              <a:ext cx="699840" cy="112680"/>
            </a:xfrm>
            <a:custGeom>
              <a:avLst/>
              <a:gdLst/>
              <a:ahLst/>
              <a:rect l="l" t="t" r="r" b="b"/>
              <a:pathLst>
                <a:path w="441" h="71">
                  <a:moveTo>
                    <a:pt x="9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11" y="22"/>
                  </a:lnTo>
                  <a:lnTo>
                    <a:pt x="18" y="29"/>
                  </a:lnTo>
                  <a:lnTo>
                    <a:pt x="27" y="34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53" y="46"/>
                  </a:lnTo>
                  <a:lnTo>
                    <a:pt x="67" y="51"/>
                  </a:lnTo>
                  <a:lnTo>
                    <a:pt x="83" y="55"/>
                  </a:lnTo>
                  <a:lnTo>
                    <a:pt x="99" y="59"/>
                  </a:lnTo>
                  <a:lnTo>
                    <a:pt x="117" y="62"/>
                  </a:lnTo>
                  <a:lnTo>
                    <a:pt x="136" y="65"/>
                  </a:lnTo>
                  <a:lnTo>
                    <a:pt x="177" y="69"/>
                  </a:lnTo>
                  <a:lnTo>
                    <a:pt x="220" y="71"/>
                  </a:lnTo>
                  <a:lnTo>
                    <a:pt x="263" y="69"/>
                  </a:lnTo>
                  <a:lnTo>
                    <a:pt x="304" y="65"/>
                  </a:lnTo>
                  <a:lnTo>
                    <a:pt x="323" y="62"/>
                  </a:lnTo>
                  <a:lnTo>
                    <a:pt x="341" y="59"/>
                  </a:lnTo>
                  <a:lnTo>
                    <a:pt x="357" y="55"/>
                  </a:lnTo>
                  <a:lnTo>
                    <a:pt x="373" y="51"/>
                  </a:lnTo>
                  <a:lnTo>
                    <a:pt x="387" y="46"/>
                  </a:lnTo>
                  <a:lnTo>
                    <a:pt x="399" y="41"/>
                  </a:lnTo>
                  <a:lnTo>
                    <a:pt x="402" y="40"/>
                  </a:lnTo>
                  <a:lnTo>
                    <a:pt x="413" y="34"/>
                  </a:lnTo>
                  <a:lnTo>
                    <a:pt x="422" y="29"/>
                  </a:lnTo>
                  <a:lnTo>
                    <a:pt x="429" y="22"/>
                  </a:lnTo>
                  <a:lnTo>
                    <a:pt x="435" y="16"/>
                  </a:lnTo>
                  <a:lnTo>
                    <a:pt x="438" y="10"/>
                  </a:lnTo>
                  <a:lnTo>
                    <a:pt x="439" y="7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30" y="7"/>
                  </a:lnTo>
                  <a:lnTo>
                    <a:pt x="435" y="7"/>
                  </a:lnTo>
                  <a:lnTo>
                    <a:pt x="432" y="4"/>
                  </a:lnTo>
                  <a:lnTo>
                    <a:pt x="429" y="10"/>
                  </a:lnTo>
                  <a:lnTo>
                    <a:pt x="423" y="16"/>
                  </a:lnTo>
                  <a:lnTo>
                    <a:pt x="416" y="23"/>
                  </a:lnTo>
                  <a:lnTo>
                    <a:pt x="407" y="28"/>
                  </a:lnTo>
                  <a:lnTo>
                    <a:pt x="396" y="34"/>
                  </a:lnTo>
                  <a:lnTo>
                    <a:pt x="399" y="37"/>
                  </a:lnTo>
                  <a:lnTo>
                    <a:pt x="399" y="32"/>
                  </a:lnTo>
                  <a:lnTo>
                    <a:pt x="387" y="37"/>
                  </a:lnTo>
                  <a:lnTo>
                    <a:pt x="373" y="42"/>
                  </a:lnTo>
                  <a:lnTo>
                    <a:pt x="357" y="46"/>
                  </a:lnTo>
                  <a:lnTo>
                    <a:pt x="341" y="50"/>
                  </a:lnTo>
                  <a:lnTo>
                    <a:pt x="323" y="53"/>
                  </a:lnTo>
                  <a:lnTo>
                    <a:pt x="304" y="56"/>
                  </a:lnTo>
                  <a:lnTo>
                    <a:pt x="263" y="60"/>
                  </a:lnTo>
                  <a:lnTo>
                    <a:pt x="220" y="62"/>
                  </a:lnTo>
                  <a:lnTo>
                    <a:pt x="177" y="60"/>
                  </a:lnTo>
                  <a:lnTo>
                    <a:pt x="136" y="56"/>
                  </a:lnTo>
                  <a:lnTo>
                    <a:pt x="117" y="53"/>
                  </a:lnTo>
                  <a:lnTo>
                    <a:pt x="99" y="50"/>
                  </a:lnTo>
                  <a:lnTo>
                    <a:pt x="83" y="46"/>
                  </a:lnTo>
                  <a:lnTo>
                    <a:pt x="67" y="42"/>
                  </a:lnTo>
                  <a:lnTo>
                    <a:pt x="53" y="37"/>
                  </a:lnTo>
                  <a:lnTo>
                    <a:pt x="41" y="3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33" y="28"/>
                  </a:lnTo>
                  <a:lnTo>
                    <a:pt x="24" y="23"/>
                  </a:lnTo>
                  <a:lnTo>
                    <a:pt x="17" y="16"/>
                  </a:lnTo>
                  <a:lnTo>
                    <a:pt x="11" y="10"/>
                  </a:lnTo>
                  <a:lnTo>
                    <a:pt x="8" y="4"/>
                  </a:lnTo>
                  <a:lnTo>
                    <a:pt x="5" y="7"/>
                  </a:lnTo>
                  <a:lnTo>
                    <a:pt x="10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898280" y="2146320"/>
              <a:ext cx="515160" cy="146160"/>
              <a:chOff x="1898280" y="2146320"/>
              <a:chExt cx="515160" cy="146160"/>
            </a:xfrm>
          </p:grpSpPr>
          <p:sp>
            <p:nvSpPr>
              <p:cNvPr id="189" name=""/>
              <p:cNvSpPr/>
              <p:nvPr/>
            </p:nvSpPr>
            <p:spPr>
              <a:xfrm>
                <a:off x="2166480" y="2149560"/>
                <a:ext cx="24696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166480" y="2149560"/>
                <a:ext cx="24696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898280" y="2222640"/>
                <a:ext cx="247320" cy="66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898280" y="2222640"/>
                <a:ext cx="247320" cy="66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12320" y="2146320"/>
                <a:ext cx="24732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912320" y="2146320"/>
                <a:ext cx="24732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158560" y="2228760"/>
                <a:ext cx="245520" cy="63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158560" y="2228760"/>
                <a:ext cx="245520" cy="63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3200400" y="2286000"/>
            <a:ext cx="22096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819520" y="2077920"/>
            <a:ext cx="204480" cy="436680"/>
            <a:chOff x="2819520" y="2077920"/>
            <a:chExt cx="204480" cy="436680"/>
          </a:xfrm>
        </p:grpSpPr>
        <p:sp>
          <p:nvSpPr>
            <p:cNvPr id="199" name=""/>
            <p:cNvSpPr/>
            <p:nvPr/>
          </p:nvSpPr>
          <p:spPr>
            <a:xfrm>
              <a:off x="2819520" y="2077920"/>
              <a:ext cx="20448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19520" y="2223360"/>
              <a:ext cx="204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19520" y="2359800"/>
              <a:ext cx="20448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19520" y="2514600"/>
              <a:ext cx="204480" cy="0"/>
            </a:xfrm>
            <a:prstGeom prst="line">
              <a:avLst/>
            </a:prstGeom>
            <a:ln w="25560">
              <a:solidFill>
                <a:srgbClr val="f95a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 flipV="1" rot="5400000">
            <a:off x="2643120" y="2209680"/>
            <a:ext cx="990720" cy="228600"/>
          </a:xfrm>
          <a:custGeom>
            <a:avLst/>
            <a:gdLst>
              <a:gd name="textAreaLeft" fmla="*/ 217800 w 990720"/>
              <a:gd name="textAreaRight" fmla="*/ 772920 w 99072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562720" y="2077920"/>
            <a:ext cx="204480" cy="436680"/>
            <a:chOff x="5562720" y="2077920"/>
            <a:chExt cx="204480" cy="436680"/>
          </a:xfrm>
        </p:grpSpPr>
        <p:sp>
          <p:nvSpPr>
            <p:cNvPr id="205" name=""/>
            <p:cNvSpPr/>
            <p:nvPr/>
          </p:nvSpPr>
          <p:spPr>
            <a:xfrm flipH="1">
              <a:off x="5562720" y="2077920"/>
              <a:ext cx="20448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562720" y="2223360"/>
              <a:ext cx="204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562720" y="2359800"/>
              <a:ext cx="20448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562720" y="2514600"/>
              <a:ext cx="204480" cy="0"/>
            </a:xfrm>
            <a:prstGeom prst="line">
              <a:avLst/>
            </a:prstGeom>
            <a:ln w="25560">
              <a:solidFill>
                <a:srgbClr val="f95a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 flipH="1" flipV="1" rot="16200000">
            <a:off x="4952160" y="2209680"/>
            <a:ext cx="990720" cy="228600"/>
          </a:xfrm>
          <a:custGeom>
            <a:avLst/>
            <a:gdLst>
              <a:gd name="textAreaLeft" fmla="*/ 217800 w 990720"/>
              <a:gd name="textAreaRight" fmla="*/ 772920 w 99072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943600" y="2106720"/>
            <a:ext cx="700200" cy="433440"/>
            <a:chOff x="5943600" y="2106720"/>
            <a:chExt cx="700200" cy="433440"/>
          </a:xfrm>
        </p:grpSpPr>
        <p:sp>
          <p:nvSpPr>
            <p:cNvPr id="211" name=""/>
            <p:cNvSpPr/>
            <p:nvPr/>
          </p:nvSpPr>
          <p:spPr>
            <a:xfrm>
              <a:off x="5950080" y="2113200"/>
              <a:ext cx="685800" cy="419040"/>
            </a:xfrm>
            <a:custGeom>
              <a:avLst/>
              <a:gdLst/>
              <a:ahLst/>
              <a:rect l="l" t="t" r="r" b="b"/>
              <a:pathLst>
                <a:path w="432" h="264">
                  <a:moveTo>
                    <a:pt x="216" y="0"/>
                  </a:move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4" y="211"/>
                  </a:lnTo>
                  <a:lnTo>
                    <a:pt x="10" y="217"/>
                  </a:lnTo>
                  <a:lnTo>
                    <a:pt x="17" y="224"/>
                  </a:lnTo>
                  <a:lnTo>
                    <a:pt x="26" y="229"/>
                  </a:lnTo>
                  <a:lnTo>
                    <a:pt x="37" y="235"/>
                  </a:lnTo>
                  <a:lnTo>
                    <a:pt x="49" y="240"/>
                  </a:lnTo>
                  <a:lnTo>
                    <a:pt x="63" y="245"/>
                  </a:lnTo>
                  <a:lnTo>
                    <a:pt x="79" y="249"/>
                  </a:lnTo>
                  <a:lnTo>
                    <a:pt x="95" y="253"/>
                  </a:lnTo>
                  <a:lnTo>
                    <a:pt x="113" y="256"/>
                  </a:lnTo>
                  <a:lnTo>
                    <a:pt x="132" y="259"/>
                  </a:lnTo>
                  <a:lnTo>
                    <a:pt x="173" y="263"/>
                  </a:lnTo>
                  <a:lnTo>
                    <a:pt x="216" y="264"/>
                  </a:lnTo>
                  <a:lnTo>
                    <a:pt x="259" y="263"/>
                  </a:lnTo>
                  <a:lnTo>
                    <a:pt x="300" y="259"/>
                  </a:lnTo>
                  <a:lnTo>
                    <a:pt x="319" y="256"/>
                  </a:lnTo>
                  <a:lnTo>
                    <a:pt x="337" y="253"/>
                  </a:lnTo>
                  <a:lnTo>
                    <a:pt x="353" y="249"/>
                  </a:lnTo>
                  <a:lnTo>
                    <a:pt x="369" y="245"/>
                  </a:lnTo>
                  <a:lnTo>
                    <a:pt x="383" y="240"/>
                  </a:lnTo>
                  <a:lnTo>
                    <a:pt x="395" y="235"/>
                  </a:lnTo>
                  <a:lnTo>
                    <a:pt x="406" y="229"/>
                  </a:lnTo>
                  <a:lnTo>
                    <a:pt x="415" y="224"/>
                  </a:lnTo>
                  <a:lnTo>
                    <a:pt x="422" y="217"/>
                  </a:lnTo>
                  <a:lnTo>
                    <a:pt x="428" y="211"/>
                  </a:lnTo>
                  <a:lnTo>
                    <a:pt x="431" y="205"/>
                  </a:lnTo>
                  <a:lnTo>
                    <a:pt x="432" y="198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50080" y="2113200"/>
              <a:ext cx="685800" cy="209520"/>
            </a:xfrm>
            <a:custGeom>
              <a:avLst/>
              <a:gdLst/>
              <a:ahLst/>
              <a:rect l="l" t="t" r="r" b="b"/>
              <a:pathLst>
                <a:path w="432" h="132">
                  <a:moveTo>
                    <a:pt x="0" y="66"/>
                  </a:moveTo>
                  <a:lnTo>
                    <a:pt x="1" y="73"/>
                  </a:lnTo>
                  <a:lnTo>
                    <a:pt x="4" y="79"/>
                  </a:lnTo>
                  <a:lnTo>
                    <a:pt x="10" y="85"/>
                  </a:lnTo>
                  <a:lnTo>
                    <a:pt x="17" y="92"/>
                  </a:lnTo>
                  <a:lnTo>
                    <a:pt x="26" y="97"/>
                  </a:lnTo>
                  <a:lnTo>
                    <a:pt x="37" y="103"/>
                  </a:lnTo>
                  <a:lnTo>
                    <a:pt x="49" y="108"/>
                  </a:lnTo>
                  <a:lnTo>
                    <a:pt x="63" y="113"/>
                  </a:lnTo>
                  <a:lnTo>
                    <a:pt x="79" y="117"/>
                  </a:lnTo>
                  <a:lnTo>
                    <a:pt x="95" y="121"/>
                  </a:lnTo>
                  <a:lnTo>
                    <a:pt x="113" y="124"/>
                  </a:lnTo>
                  <a:lnTo>
                    <a:pt x="132" y="127"/>
                  </a:lnTo>
                  <a:lnTo>
                    <a:pt x="173" y="131"/>
                  </a:lnTo>
                  <a:lnTo>
                    <a:pt x="216" y="132"/>
                  </a:lnTo>
                  <a:lnTo>
                    <a:pt x="259" y="131"/>
                  </a:lnTo>
                  <a:lnTo>
                    <a:pt x="300" y="127"/>
                  </a:lnTo>
                  <a:lnTo>
                    <a:pt x="319" y="124"/>
                  </a:lnTo>
                  <a:lnTo>
                    <a:pt x="337" y="121"/>
                  </a:lnTo>
                  <a:lnTo>
                    <a:pt x="353" y="117"/>
                  </a:lnTo>
                  <a:lnTo>
                    <a:pt x="369" y="113"/>
                  </a:lnTo>
                  <a:lnTo>
                    <a:pt x="383" y="108"/>
                  </a:lnTo>
                  <a:lnTo>
                    <a:pt x="395" y="103"/>
                  </a:lnTo>
                  <a:lnTo>
                    <a:pt x="406" y="97"/>
                  </a:lnTo>
                  <a:lnTo>
                    <a:pt x="415" y="92"/>
                  </a:lnTo>
                  <a:lnTo>
                    <a:pt x="422" y="85"/>
                  </a:lnTo>
                  <a:lnTo>
                    <a:pt x="428" y="79"/>
                  </a:lnTo>
                  <a:lnTo>
                    <a:pt x="431" y="73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43600" y="2106720"/>
              <a:ext cx="700200" cy="433440"/>
            </a:xfrm>
            <a:custGeom>
              <a:avLst/>
              <a:gdLst/>
              <a:ahLst/>
              <a:rect l="l" t="t" r="r" b="b"/>
              <a:pathLst>
                <a:path w="441" h="273">
                  <a:moveTo>
                    <a:pt x="177" y="1"/>
                  </a:moveTo>
                  <a:lnTo>
                    <a:pt x="136" y="5"/>
                  </a:lnTo>
                  <a:lnTo>
                    <a:pt x="117" y="8"/>
                  </a:lnTo>
                  <a:lnTo>
                    <a:pt x="99" y="11"/>
                  </a:lnTo>
                  <a:lnTo>
                    <a:pt x="83" y="15"/>
                  </a:lnTo>
                  <a:lnTo>
                    <a:pt x="67" y="19"/>
                  </a:lnTo>
                  <a:lnTo>
                    <a:pt x="53" y="24"/>
                  </a:lnTo>
                  <a:lnTo>
                    <a:pt x="41" y="29"/>
                  </a:lnTo>
                  <a:lnTo>
                    <a:pt x="38" y="30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4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2" y="212"/>
                  </a:lnTo>
                  <a:lnTo>
                    <a:pt x="5" y="218"/>
                  </a:lnTo>
                  <a:lnTo>
                    <a:pt x="11" y="224"/>
                  </a:lnTo>
                  <a:lnTo>
                    <a:pt x="18" y="231"/>
                  </a:lnTo>
                  <a:lnTo>
                    <a:pt x="27" y="236"/>
                  </a:lnTo>
                  <a:lnTo>
                    <a:pt x="38" y="242"/>
                  </a:lnTo>
                  <a:lnTo>
                    <a:pt x="41" y="243"/>
                  </a:lnTo>
                  <a:lnTo>
                    <a:pt x="53" y="248"/>
                  </a:lnTo>
                  <a:lnTo>
                    <a:pt x="67" y="253"/>
                  </a:lnTo>
                  <a:lnTo>
                    <a:pt x="83" y="257"/>
                  </a:lnTo>
                  <a:lnTo>
                    <a:pt x="99" y="261"/>
                  </a:lnTo>
                  <a:lnTo>
                    <a:pt x="117" y="264"/>
                  </a:lnTo>
                  <a:lnTo>
                    <a:pt x="136" y="267"/>
                  </a:lnTo>
                  <a:lnTo>
                    <a:pt x="177" y="271"/>
                  </a:lnTo>
                  <a:lnTo>
                    <a:pt x="220" y="273"/>
                  </a:lnTo>
                  <a:lnTo>
                    <a:pt x="263" y="271"/>
                  </a:lnTo>
                  <a:lnTo>
                    <a:pt x="304" y="267"/>
                  </a:lnTo>
                  <a:lnTo>
                    <a:pt x="323" y="264"/>
                  </a:lnTo>
                  <a:lnTo>
                    <a:pt x="341" y="261"/>
                  </a:lnTo>
                  <a:lnTo>
                    <a:pt x="357" y="257"/>
                  </a:lnTo>
                  <a:lnTo>
                    <a:pt x="373" y="253"/>
                  </a:lnTo>
                  <a:lnTo>
                    <a:pt x="387" y="248"/>
                  </a:lnTo>
                  <a:lnTo>
                    <a:pt x="399" y="243"/>
                  </a:lnTo>
                  <a:lnTo>
                    <a:pt x="402" y="242"/>
                  </a:lnTo>
                  <a:lnTo>
                    <a:pt x="413" y="236"/>
                  </a:lnTo>
                  <a:lnTo>
                    <a:pt x="422" y="231"/>
                  </a:lnTo>
                  <a:lnTo>
                    <a:pt x="429" y="224"/>
                  </a:lnTo>
                  <a:lnTo>
                    <a:pt x="435" y="218"/>
                  </a:lnTo>
                  <a:lnTo>
                    <a:pt x="438" y="212"/>
                  </a:lnTo>
                  <a:lnTo>
                    <a:pt x="439" y="209"/>
                  </a:lnTo>
                  <a:lnTo>
                    <a:pt x="441" y="202"/>
                  </a:lnTo>
                  <a:lnTo>
                    <a:pt x="441" y="70"/>
                  </a:lnTo>
                  <a:lnTo>
                    <a:pt x="439" y="63"/>
                  </a:lnTo>
                  <a:lnTo>
                    <a:pt x="438" y="60"/>
                  </a:lnTo>
                  <a:lnTo>
                    <a:pt x="435" y="54"/>
                  </a:lnTo>
                  <a:lnTo>
                    <a:pt x="429" y="48"/>
                  </a:lnTo>
                  <a:lnTo>
                    <a:pt x="422" y="42"/>
                  </a:lnTo>
                  <a:lnTo>
                    <a:pt x="413" y="36"/>
                  </a:lnTo>
                  <a:lnTo>
                    <a:pt x="402" y="30"/>
                  </a:lnTo>
                  <a:lnTo>
                    <a:pt x="399" y="29"/>
                  </a:lnTo>
                  <a:lnTo>
                    <a:pt x="387" y="24"/>
                  </a:lnTo>
                  <a:lnTo>
                    <a:pt x="373" y="19"/>
                  </a:lnTo>
                  <a:lnTo>
                    <a:pt x="357" y="15"/>
                  </a:lnTo>
                  <a:lnTo>
                    <a:pt x="341" y="11"/>
                  </a:lnTo>
                  <a:lnTo>
                    <a:pt x="323" y="8"/>
                  </a:lnTo>
                  <a:lnTo>
                    <a:pt x="304" y="5"/>
                  </a:lnTo>
                  <a:lnTo>
                    <a:pt x="263" y="1"/>
                  </a:lnTo>
                  <a:lnTo>
                    <a:pt x="220" y="0"/>
                  </a:lnTo>
                  <a:lnTo>
                    <a:pt x="177" y="1"/>
                  </a:lnTo>
                  <a:close/>
                  <a:moveTo>
                    <a:pt x="220" y="9"/>
                  </a:moveTo>
                  <a:lnTo>
                    <a:pt x="263" y="10"/>
                  </a:lnTo>
                  <a:lnTo>
                    <a:pt x="304" y="14"/>
                  </a:lnTo>
                  <a:lnTo>
                    <a:pt x="323" y="17"/>
                  </a:lnTo>
                  <a:lnTo>
                    <a:pt x="341" y="20"/>
                  </a:lnTo>
                  <a:lnTo>
                    <a:pt x="357" y="24"/>
                  </a:lnTo>
                  <a:lnTo>
                    <a:pt x="373" y="28"/>
                  </a:lnTo>
                  <a:lnTo>
                    <a:pt x="387" y="33"/>
                  </a:lnTo>
                  <a:lnTo>
                    <a:pt x="399" y="38"/>
                  </a:lnTo>
                  <a:lnTo>
                    <a:pt x="399" y="33"/>
                  </a:lnTo>
                  <a:lnTo>
                    <a:pt x="396" y="36"/>
                  </a:lnTo>
                  <a:lnTo>
                    <a:pt x="407" y="42"/>
                  </a:lnTo>
                  <a:lnTo>
                    <a:pt x="416" y="48"/>
                  </a:lnTo>
                  <a:lnTo>
                    <a:pt x="423" y="54"/>
                  </a:lnTo>
                  <a:lnTo>
                    <a:pt x="429" y="60"/>
                  </a:lnTo>
                  <a:lnTo>
                    <a:pt x="432" y="66"/>
                  </a:lnTo>
                  <a:lnTo>
                    <a:pt x="435" y="63"/>
                  </a:lnTo>
                  <a:lnTo>
                    <a:pt x="430" y="63"/>
                  </a:lnTo>
                  <a:lnTo>
                    <a:pt x="432" y="70"/>
                  </a:lnTo>
                  <a:lnTo>
                    <a:pt x="432" y="202"/>
                  </a:lnTo>
                  <a:lnTo>
                    <a:pt x="430" y="209"/>
                  </a:lnTo>
                  <a:lnTo>
                    <a:pt x="435" y="209"/>
                  </a:lnTo>
                  <a:lnTo>
                    <a:pt x="432" y="206"/>
                  </a:lnTo>
                  <a:lnTo>
                    <a:pt x="429" y="212"/>
                  </a:lnTo>
                  <a:lnTo>
                    <a:pt x="423" y="218"/>
                  </a:lnTo>
                  <a:lnTo>
                    <a:pt x="416" y="225"/>
                  </a:lnTo>
                  <a:lnTo>
                    <a:pt x="407" y="230"/>
                  </a:lnTo>
                  <a:lnTo>
                    <a:pt x="396" y="236"/>
                  </a:lnTo>
                  <a:lnTo>
                    <a:pt x="399" y="239"/>
                  </a:lnTo>
                  <a:lnTo>
                    <a:pt x="399" y="234"/>
                  </a:lnTo>
                  <a:lnTo>
                    <a:pt x="387" y="239"/>
                  </a:lnTo>
                  <a:lnTo>
                    <a:pt x="373" y="244"/>
                  </a:lnTo>
                  <a:lnTo>
                    <a:pt x="357" y="248"/>
                  </a:lnTo>
                  <a:lnTo>
                    <a:pt x="341" y="252"/>
                  </a:lnTo>
                  <a:lnTo>
                    <a:pt x="323" y="255"/>
                  </a:lnTo>
                  <a:lnTo>
                    <a:pt x="304" y="258"/>
                  </a:lnTo>
                  <a:lnTo>
                    <a:pt x="263" y="262"/>
                  </a:lnTo>
                  <a:lnTo>
                    <a:pt x="220" y="264"/>
                  </a:lnTo>
                  <a:lnTo>
                    <a:pt x="177" y="262"/>
                  </a:lnTo>
                  <a:lnTo>
                    <a:pt x="136" y="258"/>
                  </a:lnTo>
                  <a:lnTo>
                    <a:pt x="117" y="255"/>
                  </a:lnTo>
                  <a:lnTo>
                    <a:pt x="99" y="252"/>
                  </a:lnTo>
                  <a:lnTo>
                    <a:pt x="83" y="248"/>
                  </a:lnTo>
                  <a:lnTo>
                    <a:pt x="67" y="244"/>
                  </a:lnTo>
                  <a:lnTo>
                    <a:pt x="53" y="239"/>
                  </a:lnTo>
                  <a:lnTo>
                    <a:pt x="41" y="234"/>
                  </a:lnTo>
                  <a:lnTo>
                    <a:pt x="41" y="239"/>
                  </a:lnTo>
                  <a:lnTo>
                    <a:pt x="44" y="236"/>
                  </a:lnTo>
                  <a:lnTo>
                    <a:pt x="33" y="230"/>
                  </a:lnTo>
                  <a:lnTo>
                    <a:pt x="24" y="225"/>
                  </a:lnTo>
                  <a:lnTo>
                    <a:pt x="17" y="218"/>
                  </a:lnTo>
                  <a:lnTo>
                    <a:pt x="11" y="212"/>
                  </a:lnTo>
                  <a:lnTo>
                    <a:pt x="8" y="206"/>
                  </a:lnTo>
                  <a:lnTo>
                    <a:pt x="5" y="209"/>
                  </a:lnTo>
                  <a:lnTo>
                    <a:pt x="10" y="209"/>
                  </a:lnTo>
                  <a:lnTo>
                    <a:pt x="9" y="202"/>
                  </a:lnTo>
                  <a:lnTo>
                    <a:pt x="9" y="70"/>
                  </a:lnTo>
                  <a:lnTo>
                    <a:pt x="10" y="63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1" y="60"/>
                  </a:lnTo>
                  <a:lnTo>
                    <a:pt x="17" y="54"/>
                  </a:lnTo>
                  <a:lnTo>
                    <a:pt x="24" y="48"/>
                  </a:lnTo>
                  <a:lnTo>
                    <a:pt x="33" y="42"/>
                  </a:lnTo>
                  <a:lnTo>
                    <a:pt x="44" y="36"/>
                  </a:lnTo>
                  <a:lnTo>
                    <a:pt x="41" y="33"/>
                  </a:lnTo>
                  <a:lnTo>
                    <a:pt x="41" y="38"/>
                  </a:lnTo>
                  <a:lnTo>
                    <a:pt x="53" y="33"/>
                  </a:lnTo>
                  <a:lnTo>
                    <a:pt x="67" y="28"/>
                  </a:lnTo>
                  <a:lnTo>
                    <a:pt x="83" y="24"/>
                  </a:lnTo>
                  <a:lnTo>
                    <a:pt x="99" y="20"/>
                  </a:lnTo>
                  <a:lnTo>
                    <a:pt x="117" y="17"/>
                  </a:lnTo>
                  <a:lnTo>
                    <a:pt x="136" y="14"/>
                  </a:lnTo>
                  <a:lnTo>
                    <a:pt x="177" y="10"/>
                  </a:lnTo>
                  <a:lnTo>
                    <a:pt x="220" y="9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43600" y="2217960"/>
              <a:ext cx="700200" cy="112680"/>
            </a:xfrm>
            <a:custGeom>
              <a:avLst/>
              <a:gdLst/>
              <a:ahLst/>
              <a:rect l="l" t="t" r="r" b="b"/>
              <a:pathLst>
                <a:path w="441" h="71">
                  <a:moveTo>
                    <a:pt x="9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11" y="22"/>
                  </a:lnTo>
                  <a:lnTo>
                    <a:pt x="18" y="29"/>
                  </a:lnTo>
                  <a:lnTo>
                    <a:pt x="27" y="34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53" y="46"/>
                  </a:lnTo>
                  <a:lnTo>
                    <a:pt x="67" y="51"/>
                  </a:lnTo>
                  <a:lnTo>
                    <a:pt x="83" y="55"/>
                  </a:lnTo>
                  <a:lnTo>
                    <a:pt x="99" y="59"/>
                  </a:lnTo>
                  <a:lnTo>
                    <a:pt x="117" y="62"/>
                  </a:lnTo>
                  <a:lnTo>
                    <a:pt x="136" y="65"/>
                  </a:lnTo>
                  <a:lnTo>
                    <a:pt x="177" y="69"/>
                  </a:lnTo>
                  <a:lnTo>
                    <a:pt x="220" y="71"/>
                  </a:lnTo>
                  <a:lnTo>
                    <a:pt x="263" y="69"/>
                  </a:lnTo>
                  <a:lnTo>
                    <a:pt x="304" y="65"/>
                  </a:lnTo>
                  <a:lnTo>
                    <a:pt x="323" y="62"/>
                  </a:lnTo>
                  <a:lnTo>
                    <a:pt x="341" y="59"/>
                  </a:lnTo>
                  <a:lnTo>
                    <a:pt x="357" y="55"/>
                  </a:lnTo>
                  <a:lnTo>
                    <a:pt x="373" y="51"/>
                  </a:lnTo>
                  <a:lnTo>
                    <a:pt x="387" y="46"/>
                  </a:lnTo>
                  <a:lnTo>
                    <a:pt x="399" y="41"/>
                  </a:lnTo>
                  <a:lnTo>
                    <a:pt x="402" y="40"/>
                  </a:lnTo>
                  <a:lnTo>
                    <a:pt x="413" y="34"/>
                  </a:lnTo>
                  <a:lnTo>
                    <a:pt x="422" y="29"/>
                  </a:lnTo>
                  <a:lnTo>
                    <a:pt x="429" y="22"/>
                  </a:lnTo>
                  <a:lnTo>
                    <a:pt x="435" y="16"/>
                  </a:lnTo>
                  <a:lnTo>
                    <a:pt x="438" y="10"/>
                  </a:lnTo>
                  <a:lnTo>
                    <a:pt x="439" y="7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30" y="7"/>
                  </a:lnTo>
                  <a:lnTo>
                    <a:pt x="435" y="7"/>
                  </a:lnTo>
                  <a:lnTo>
                    <a:pt x="432" y="4"/>
                  </a:lnTo>
                  <a:lnTo>
                    <a:pt x="429" y="10"/>
                  </a:lnTo>
                  <a:lnTo>
                    <a:pt x="423" y="16"/>
                  </a:lnTo>
                  <a:lnTo>
                    <a:pt x="416" y="23"/>
                  </a:lnTo>
                  <a:lnTo>
                    <a:pt x="407" y="28"/>
                  </a:lnTo>
                  <a:lnTo>
                    <a:pt x="396" y="34"/>
                  </a:lnTo>
                  <a:lnTo>
                    <a:pt x="399" y="37"/>
                  </a:lnTo>
                  <a:lnTo>
                    <a:pt x="399" y="32"/>
                  </a:lnTo>
                  <a:lnTo>
                    <a:pt x="387" y="37"/>
                  </a:lnTo>
                  <a:lnTo>
                    <a:pt x="373" y="42"/>
                  </a:lnTo>
                  <a:lnTo>
                    <a:pt x="357" y="46"/>
                  </a:lnTo>
                  <a:lnTo>
                    <a:pt x="341" y="50"/>
                  </a:lnTo>
                  <a:lnTo>
                    <a:pt x="323" y="53"/>
                  </a:lnTo>
                  <a:lnTo>
                    <a:pt x="304" y="56"/>
                  </a:lnTo>
                  <a:lnTo>
                    <a:pt x="263" y="60"/>
                  </a:lnTo>
                  <a:lnTo>
                    <a:pt x="220" y="62"/>
                  </a:lnTo>
                  <a:lnTo>
                    <a:pt x="177" y="60"/>
                  </a:lnTo>
                  <a:lnTo>
                    <a:pt x="136" y="56"/>
                  </a:lnTo>
                  <a:lnTo>
                    <a:pt x="117" y="53"/>
                  </a:lnTo>
                  <a:lnTo>
                    <a:pt x="99" y="50"/>
                  </a:lnTo>
                  <a:lnTo>
                    <a:pt x="83" y="46"/>
                  </a:lnTo>
                  <a:lnTo>
                    <a:pt x="67" y="42"/>
                  </a:lnTo>
                  <a:lnTo>
                    <a:pt x="53" y="37"/>
                  </a:lnTo>
                  <a:lnTo>
                    <a:pt x="41" y="3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33" y="28"/>
                  </a:lnTo>
                  <a:lnTo>
                    <a:pt x="24" y="23"/>
                  </a:lnTo>
                  <a:lnTo>
                    <a:pt x="17" y="16"/>
                  </a:lnTo>
                  <a:lnTo>
                    <a:pt x="11" y="10"/>
                  </a:lnTo>
                  <a:lnTo>
                    <a:pt x="8" y="4"/>
                  </a:lnTo>
                  <a:lnTo>
                    <a:pt x="5" y="7"/>
                  </a:lnTo>
                  <a:lnTo>
                    <a:pt x="10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026040" y="2146320"/>
              <a:ext cx="515880" cy="146160"/>
              <a:chOff x="6026040" y="2146320"/>
              <a:chExt cx="515880" cy="146160"/>
            </a:xfrm>
          </p:grpSpPr>
          <p:sp>
            <p:nvSpPr>
              <p:cNvPr id="216" name=""/>
              <p:cNvSpPr/>
              <p:nvPr/>
            </p:nvSpPr>
            <p:spPr>
              <a:xfrm>
                <a:off x="6294600" y="2149560"/>
                <a:ext cx="24732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94600" y="2149560"/>
                <a:ext cx="24732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6040" y="2222640"/>
                <a:ext cx="247680" cy="66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26040" y="2222640"/>
                <a:ext cx="247680" cy="66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40440" y="2146320"/>
                <a:ext cx="24768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40440" y="2146320"/>
                <a:ext cx="24768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286680" y="2228760"/>
                <a:ext cx="245880" cy="63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286680" y="2228760"/>
                <a:ext cx="245880" cy="63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6958080" y="1828800"/>
            <a:ext cx="433440" cy="990720"/>
            <a:chOff x="6958080" y="1828800"/>
            <a:chExt cx="433440" cy="990720"/>
          </a:xfrm>
        </p:grpSpPr>
        <p:grpSp>
          <p:nvGrpSpPr>
            <p:cNvPr id="225" name=""/>
            <p:cNvGrpSpPr/>
            <p:nvPr/>
          </p:nvGrpSpPr>
          <p:grpSpPr>
            <a:xfrm>
              <a:off x="6958080" y="2078280"/>
              <a:ext cx="204480" cy="436320"/>
              <a:chOff x="6958080" y="2078280"/>
              <a:chExt cx="204480" cy="436320"/>
            </a:xfrm>
          </p:grpSpPr>
          <p:sp>
            <p:nvSpPr>
              <p:cNvPr id="226" name=""/>
              <p:cNvSpPr/>
              <p:nvPr/>
            </p:nvSpPr>
            <p:spPr>
              <a:xfrm>
                <a:off x="6958080" y="2078280"/>
                <a:ext cx="204480" cy="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958080" y="2223720"/>
                <a:ext cx="204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958080" y="2359800"/>
                <a:ext cx="20448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958080" y="2514600"/>
                <a:ext cx="204480" cy="0"/>
              </a:xfrm>
              <a:prstGeom prst="line">
                <a:avLst/>
              </a:prstGeom>
              <a:ln w="25560">
                <a:solidFill>
                  <a:srgbClr val="f95a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 flipV="1" rot="5400000">
              <a:off x="6781680" y="2209680"/>
              <a:ext cx="990720" cy="228600"/>
            </a:xfrm>
            <a:custGeom>
              <a:avLst/>
              <a:gdLst>
                <a:gd name="textAreaLeft" fmla="*/ 217800 w 990720"/>
                <a:gd name="textAreaRight" fmla="*/ 772920 w 99072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816200" y="5334120"/>
            <a:ext cx="699840" cy="433440"/>
            <a:chOff x="1816200" y="5334120"/>
            <a:chExt cx="699840" cy="433440"/>
          </a:xfrm>
        </p:grpSpPr>
        <p:sp>
          <p:nvSpPr>
            <p:cNvPr id="232" name=""/>
            <p:cNvSpPr/>
            <p:nvPr/>
          </p:nvSpPr>
          <p:spPr>
            <a:xfrm>
              <a:off x="1822320" y="5340600"/>
              <a:ext cx="685440" cy="419040"/>
            </a:xfrm>
            <a:custGeom>
              <a:avLst/>
              <a:gdLst/>
              <a:ahLst/>
              <a:rect l="l" t="t" r="r" b="b"/>
              <a:pathLst>
                <a:path w="432" h="264">
                  <a:moveTo>
                    <a:pt x="216" y="0"/>
                  </a:move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4" y="211"/>
                  </a:lnTo>
                  <a:lnTo>
                    <a:pt x="10" y="217"/>
                  </a:lnTo>
                  <a:lnTo>
                    <a:pt x="17" y="224"/>
                  </a:lnTo>
                  <a:lnTo>
                    <a:pt x="26" y="229"/>
                  </a:lnTo>
                  <a:lnTo>
                    <a:pt x="37" y="235"/>
                  </a:lnTo>
                  <a:lnTo>
                    <a:pt x="49" y="240"/>
                  </a:lnTo>
                  <a:lnTo>
                    <a:pt x="63" y="245"/>
                  </a:lnTo>
                  <a:lnTo>
                    <a:pt x="79" y="249"/>
                  </a:lnTo>
                  <a:lnTo>
                    <a:pt x="95" y="253"/>
                  </a:lnTo>
                  <a:lnTo>
                    <a:pt x="113" y="256"/>
                  </a:lnTo>
                  <a:lnTo>
                    <a:pt x="132" y="259"/>
                  </a:lnTo>
                  <a:lnTo>
                    <a:pt x="173" y="263"/>
                  </a:lnTo>
                  <a:lnTo>
                    <a:pt x="216" y="264"/>
                  </a:lnTo>
                  <a:lnTo>
                    <a:pt x="259" y="263"/>
                  </a:lnTo>
                  <a:lnTo>
                    <a:pt x="300" y="259"/>
                  </a:lnTo>
                  <a:lnTo>
                    <a:pt x="319" y="256"/>
                  </a:lnTo>
                  <a:lnTo>
                    <a:pt x="337" y="253"/>
                  </a:lnTo>
                  <a:lnTo>
                    <a:pt x="353" y="249"/>
                  </a:lnTo>
                  <a:lnTo>
                    <a:pt x="369" y="245"/>
                  </a:lnTo>
                  <a:lnTo>
                    <a:pt x="383" y="240"/>
                  </a:lnTo>
                  <a:lnTo>
                    <a:pt x="395" y="235"/>
                  </a:lnTo>
                  <a:lnTo>
                    <a:pt x="406" y="229"/>
                  </a:lnTo>
                  <a:lnTo>
                    <a:pt x="415" y="224"/>
                  </a:lnTo>
                  <a:lnTo>
                    <a:pt x="422" y="217"/>
                  </a:lnTo>
                  <a:lnTo>
                    <a:pt x="428" y="211"/>
                  </a:lnTo>
                  <a:lnTo>
                    <a:pt x="431" y="205"/>
                  </a:lnTo>
                  <a:lnTo>
                    <a:pt x="432" y="198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22320" y="5340600"/>
              <a:ext cx="685440" cy="209520"/>
            </a:xfrm>
            <a:custGeom>
              <a:avLst/>
              <a:gdLst/>
              <a:ahLst/>
              <a:rect l="l" t="t" r="r" b="b"/>
              <a:pathLst>
                <a:path w="432" h="132">
                  <a:moveTo>
                    <a:pt x="0" y="66"/>
                  </a:moveTo>
                  <a:lnTo>
                    <a:pt x="1" y="73"/>
                  </a:lnTo>
                  <a:lnTo>
                    <a:pt x="4" y="79"/>
                  </a:lnTo>
                  <a:lnTo>
                    <a:pt x="10" y="85"/>
                  </a:lnTo>
                  <a:lnTo>
                    <a:pt x="17" y="92"/>
                  </a:lnTo>
                  <a:lnTo>
                    <a:pt x="26" y="97"/>
                  </a:lnTo>
                  <a:lnTo>
                    <a:pt x="37" y="103"/>
                  </a:lnTo>
                  <a:lnTo>
                    <a:pt x="49" y="108"/>
                  </a:lnTo>
                  <a:lnTo>
                    <a:pt x="63" y="113"/>
                  </a:lnTo>
                  <a:lnTo>
                    <a:pt x="79" y="117"/>
                  </a:lnTo>
                  <a:lnTo>
                    <a:pt x="95" y="121"/>
                  </a:lnTo>
                  <a:lnTo>
                    <a:pt x="113" y="124"/>
                  </a:lnTo>
                  <a:lnTo>
                    <a:pt x="132" y="127"/>
                  </a:lnTo>
                  <a:lnTo>
                    <a:pt x="173" y="131"/>
                  </a:lnTo>
                  <a:lnTo>
                    <a:pt x="216" y="132"/>
                  </a:lnTo>
                  <a:lnTo>
                    <a:pt x="259" y="131"/>
                  </a:lnTo>
                  <a:lnTo>
                    <a:pt x="300" y="127"/>
                  </a:lnTo>
                  <a:lnTo>
                    <a:pt x="319" y="124"/>
                  </a:lnTo>
                  <a:lnTo>
                    <a:pt x="337" y="121"/>
                  </a:lnTo>
                  <a:lnTo>
                    <a:pt x="353" y="117"/>
                  </a:lnTo>
                  <a:lnTo>
                    <a:pt x="369" y="113"/>
                  </a:lnTo>
                  <a:lnTo>
                    <a:pt x="383" y="108"/>
                  </a:lnTo>
                  <a:lnTo>
                    <a:pt x="395" y="103"/>
                  </a:lnTo>
                  <a:lnTo>
                    <a:pt x="406" y="97"/>
                  </a:lnTo>
                  <a:lnTo>
                    <a:pt x="415" y="92"/>
                  </a:lnTo>
                  <a:lnTo>
                    <a:pt x="422" y="85"/>
                  </a:lnTo>
                  <a:lnTo>
                    <a:pt x="428" y="79"/>
                  </a:lnTo>
                  <a:lnTo>
                    <a:pt x="431" y="73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16200" y="5334120"/>
              <a:ext cx="699840" cy="433440"/>
            </a:xfrm>
            <a:custGeom>
              <a:avLst/>
              <a:gdLst/>
              <a:ahLst/>
              <a:rect l="l" t="t" r="r" b="b"/>
              <a:pathLst>
                <a:path w="441" h="273">
                  <a:moveTo>
                    <a:pt x="177" y="1"/>
                  </a:moveTo>
                  <a:lnTo>
                    <a:pt x="136" y="5"/>
                  </a:lnTo>
                  <a:lnTo>
                    <a:pt x="117" y="8"/>
                  </a:lnTo>
                  <a:lnTo>
                    <a:pt x="99" y="11"/>
                  </a:lnTo>
                  <a:lnTo>
                    <a:pt x="83" y="15"/>
                  </a:lnTo>
                  <a:lnTo>
                    <a:pt x="67" y="19"/>
                  </a:lnTo>
                  <a:lnTo>
                    <a:pt x="53" y="24"/>
                  </a:lnTo>
                  <a:lnTo>
                    <a:pt x="41" y="29"/>
                  </a:lnTo>
                  <a:lnTo>
                    <a:pt x="38" y="30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4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2" y="212"/>
                  </a:lnTo>
                  <a:lnTo>
                    <a:pt x="5" y="218"/>
                  </a:lnTo>
                  <a:lnTo>
                    <a:pt x="11" y="224"/>
                  </a:lnTo>
                  <a:lnTo>
                    <a:pt x="18" y="231"/>
                  </a:lnTo>
                  <a:lnTo>
                    <a:pt x="27" y="236"/>
                  </a:lnTo>
                  <a:lnTo>
                    <a:pt x="38" y="242"/>
                  </a:lnTo>
                  <a:lnTo>
                    <a:pt x="41" y="243"/>
                  </a:lnTo>
                  <a:lnTo>
                    <a:pt x="53" y="248"/>
                  </a:lnTo>
                  <a:lnTo>
                    <a:pt x="67" y="253"/>
                  </a:lnTo>
                  <a:lnTo>
                    <a:pt x="83" y="257"/>
                  </a:lnTo>
                  <a:lnTo>
                    <a:pt x="99" y="261"/>
                  </a:lnTo>
                  <a:lnTo>
                    <a:pt x="117" y="264"/>
                  </a:lnTo>
                  <a:lnTo>
                    <a:pt x="136" y="267"/>
                  </a:lnTo>
                  <a:lnTo>
                    <a:pt x="177" y="271"/>
                  </a:lnTo>
                  <a:lnTo>
                    <a:pt x="220" y="273"/>
                  </a:lnTo>
                  <a:lnTo>
                    <a:pt x="263" y="271"/>
                  </a:lnTo>
                  <a:lnTo>
                    <a:pt x="304" y="267"/>
                  </a:lnTo>
                  <a:lnTo>
                    <a:pt x="323" y="264"/>
                  </a:lnTo>
                  <a:lnTo>
                    <a:pt x="341" y="261"/>
                  </a:lnTo>
                  <a:lnTo>
                    <a:pt x="357" y="257"/>
                  </a:lnTo>
                  <a:lnTo>
                    <a:pt x="373" y="253"/>
                  </a:lnTo>
                  <a:lnTo>
                    <a:pt x="387" y="248"/>
                  </a:lnTo>
                  <a:lnTo>
                    <a:pt x="399" y="243"/>
                  </a:lnTo>
                  <a:lnTo>
                    <a:pt x="402" y="242"/>
                  </a:lnTo>
                  <a:lnTo>
                    <a:pt x="413" y="236"/>
                  </a:lnTo>
                  <a:lnTo>
                    <a:pt x="422" y="231"/>
                  </a:lnTo>
                  <a:lnTo>
                    <a:pt x="429" y="224"/>
                  </a:lnTo>
                  <a:lnTo>
                    <a:pt x="435" y="218"/>
                  </a:lnTo>
                  <a:lnTo>
                    <a:pt x="438" y="212"/>
                  </a:lnTo>
                  <a:lnTo>
                    <a:pt x="439" y="209"/>
                  </a:lnTo>
                  <a:lnTo>
                    <a:pt x="441" y="202"/>
                  </a:lnTo>
                  <a:lnTo>
                    <a:pt x="441" y="70"/>
                  </a:lnTo>
                  <a:lnTo>
                    <a:pt x="439" y="63"/>
                  </a:lnTo>
                  <a:lnTo>
                    <a:pt x="438" y="60"/>
                  </a:lnTo>
                  <a:lnTo>
                    <a:pt x="435" y="54"/>
                  </a:lnTo>
                  <a:lnTo>
                    <a:pt x="429" y="48"/>
                  </a:lnTo>
                  <a:lnTo>
                    <a:pt x="422" y="42"/>
                  </a:lnTo>
                  <a:lnTo>
                    <a:pt x="413" y="36"/>
                  </a:lnTo>
                  <a:lnTo>
                    <a:pt x="402" y="30"/>
                  </a:lnTo>
                  <a:lnTo>
                    <a:pt x="399" y="29"/>
                  </a:lnTo>
                  <a:lnTo>
                    <a:pt x="387" y="24"/>
                  </a:lnTo>
                  <a:lnTo>
                    <a:pt x="373" y="19"/>
                  </a:lnTo>
                  <a:lnTo>
                    <a:pt x="357" y="15"/>
                  </a:lnTo>
                  <a:lnTo>
                    <a:pt x="341" y="11"/>
                  </a:lnTo>
                  <a:lnTo>
                    <a:pt x="323" y="8"/>
                  </a:lnTo>
                  <a:lnTo>
                    <a:pt x="304" y="5"/>
                  </a:lnTo>
                  <a:lnTo>
                    <a:pt x="263" y="1"/>
                  </a:lnTo>
                  <a:lnTo>
                    <a:pt x="220" y="0"/>
                  </a:lnTo>
                  <a:lnTo>
                    <a:pt x="177" y="1"/>
                  </a:lnTo>
                  <a:close/>
                  <a:moveTo>
                    <a:pt x="220" y="9"/>
                  </a:moveTo>
                  <a:lnTo>
                    <a:pt x="263" y="10"/>
                  </a:lnTo>
                  <a:lnTo>
                    <a:pt x="304" y="14"/>
                  </a:lnTo>
                  <a:lnTo>
                    <a:pt x="323" y="17"/>
                  </a:lnTo>
                  <a:lnTo>
                    <a:pt x="341" y="20"/>
                  </a:lnTo>
                  <a:lnTo>
                    <a:pt x="357" y="24"/>
                  </a:lnTo>
                  <a:lnTo>
                    <a:pt x="373" y="28"/>
                  </a:lnTo>
                  <a:lnTo>
                    <a:pt x="387" y="33"/>
                  </a:lnTo>
                  <a:lnTo>
                    <a:pt x="399" y="38"/>
                  </a:lnTo>
                  <a:lnTo>
                    <a:pt x="399" y="33"/>
                  </a:lnTo>
                  <a:lnTo>
                    <a:pt x="396" y="36"/>
                  </a:lnTo>
                  <a:lnTo>
                    <a:pt x="407" y="42"/>
                  </a:lnTo>
                  <a:lnTo>
                    <a:pt x="416" y="48"/>
                  </a:lnTo>
                  <a:lnTo>
                    <a:pt x="423" y="54"/>
                  </a:lnTo>
                  <a:lnTo>
                    <a:pt x="429" y="60"/>
                  </a:lnTo>
                  <a:lnTo>
                    <a:pt x="432" y="66"/>
                  </a:lnTo>
                  <a:lnTo>
                    <a:pt x="435" y="63"/>
                  </a:lnTo>
                  <a:lnTo>
                    <a:pt x="430" y="63"/>
                  </a:lnTo>
                  <a:lnTo>
                    <a:pt x="432" y="70"/>
                  </a:lnTo>
                  <a:lnTo>
                    <a:pt x="432" y="202"/>
                  </a:lnTo>
                  <a:lnTo>
                    <a:pt x="430" y="209"/>
                  </a:lnTo>
                  <a:lnTo>
                    <a:pt x="435" y="209"/>
                  </a:lnTo>
                  <a:lnTo>
                    <a:pt x="432" y="206"/>
                  </a:lnTo>
                  <a:lnTo>
                    <a:pt x="429" y="212"/>
                  </a:lnTo>
                  <a:lnTo>
                    <a:pt x="423" y="218"/>
                  </a:lnTo>
                  <a:lnTo>
                    <a:pt x="416" y="225"/>
                  </a:lnTo>
                  <a:lnTo>
                    <a:pt x="407" y="230"/>
                  </a:lnTo>
                  <a:lnTo>
                    <a:pt x="396" y="236"/>
                  </a:lnTo>
                  <a:lnTo>
                    <a:pt x="399" y="239"/>
                  </a:lnTo>
                  <a:lnTo>
                    <a:pt x="399" y="234"/>
                  </a:lnTo>
                  <a:lnTo>
                    <a:pt x="387" y="239"/>
                  </a:lnTo>
                  <a:lnTo>
                    <a:pt x="373" y="244"/>
                  </a:lnTo>
                  <a:lnTo>
                    <a:pt x="357" y="248"/>
                  </a:lnTo>
                  <a:lnTo>
                    <a:pt x="341" y="252"/>
                  </a:lnTo>
                  <a:lnTo>
                    <a:pt x="323" y="255"/>
                  </a:lnTo>
                  <a:lnTo>
                    <a:pt x="304" y="258"/>
                  </a:lnTo>
                  <a:lnTo>
                    <a:pt x="263" y="262"/>
                  </a:lnTo>
                  <a:lnTo>
                    <a:pt x="220" y="264"/>
                  </a:lnTo>
                  <a:lnTo>
                    <a:pt x="177" y="262"/>
                  </a:lnTo>
                  <a:lnTo>
                    <a:pt x="136" y="258"/>
                  </a:lnTo>
                  <a:lnTo>
                    <a:pt x="117" y="255"/>
                  </a:lnTo>
                  <a:lnTo>
                    <a:pt x="99" y="252"/>
                  </a:lnTo>
                  <a:lnTo>
                    <a:pt x="83" y="248"/>
                  </a:lnTo>
                  <a:lnTo>
                    <a:pt x="67" y="244"/>
                  </a:lnTo>
                  <a:lnTo>
                    <a:pt x="53" y="239"/>
                  </a:lnTo>
                  <a:lnTo>
                    <a:pt x="41" y="234"/>
                  </a:lnTo>
                  <a:lnTo>
                    <a:pt x="41" y="239"/>
                  </a:lnTo>
                  <a:lnTo>
                    <a:pt x="44" y="236"/>
                  </a:lnTo>
                  <a:lnTo>
                    <a:pt x="33" y="230"/>
                  </a:lnTo>
                  <a:lnTo>
                    <a:pt x="24" y="225"/>
                  </a:lnTo>
                  <a:lnTo>
                    <a:pt x="17" y="218"/>
                  </a:lnTo>
                  <a:lnTo>
                    <a:pt x="11" y="212"/>
                  </a:lnTo>
                  <a:lnTo>
                    <a:pt x="8" y="206"/>
                  </a:lnTo>
                  <a:lnTo>
                    <a:pt x="5" y="209"/>
                  </a:lnTo>
                  <a:lnTo>
                    <a:pt x="10" y="209"/>
                  </a:lnTo>
                  <a:lnTo>
                    <a:pt x="9" y="202"/>
                  </a:lnTo>
                  <a:lnTo>
                    <a:pt x="9" y="70"/>
                  </a:lnTo>
                  <a:lnTo>
                    <a:pt x="10" y="63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1" y="60"/>
                  </a:lnTo>
                  <a:lnTo>
                    <a:pt x="17" y="54"/>
                  </a:lnTo>
                  <a:lnTo>
                    <a:pt x="24" y="48"/>
                  </a:lnTo>
                  <a:lnTo>
                    <a:pt x="33" y="42"/>
                  </a:lnTo>
                  <a:lnTo>
                    <a:pt x="44" y="36"/>
                  </a:lnTo>
                  <a:lnTo>
                    <a:pt x="41" y="33"/>
                  </a:lnTo>
                  <a:lnTo>
                    <a:pt x="41" y="38"/>
                  </a:lnTo>
                  <a:lnTo>
                    <a:pt x="53" y="33"/>
                  </a:lnTo>
                  <a:lnTo>
                    <a:pt x="67" y="28"/>
                  </a:lnTo>
                  <a:lnTo>
                    <a:pt x="83" y="24"/>
                  </a:lnTo>
                  <a:lnTo>
                    <a:pt x="99" y="20"/>
                  </a:lnTo>
                  <a:lnTo>
                    <a:pt x="117" y="17"/>
                  </a:lnTo>
                  <a:lnTo>
                    <a:pt x="136" y="14"/>
                  </a:lnTo>
                  <a:lnTo>
                    <a:pt x="177" y="10"/>
                  </a:lnTo>
                  <a:lnTo>
                    <a:pt x="220" y="9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16200" y="5445360"/>
              <a:ext cx="699840" cy="112680"/>
            </a:xfrm>
            <a:custGeom>
              <a:avLst/>
              <a:gdLst/>
              <a:ahLst/>
              <a:rect l="l" t="t" r="r" b="b"/>
              <a:pathLst>
                <a:path w="441" h="71">
                  <a:moveTo>
                    <a:pt x="9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11" y="22"/>
                  </a:lnTo>
                  <a:lnTo>
                    <a:pt x="18" y="29"/>
                  </a:lnTo>
                  <a:lnTo>
                    <a:pt x="27" y="34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53" y="46"/>
                  </a:lnTo>
                  <a:lnTo>
                    <a:pt x="67" y="51"/>
                  </a:lnTo>
                  <a:lnTo>
                    <a:pt x="83" y="55"/>
                  </a:lnTo>
                  <a:lnTo>
                    <a:pt x="99" y="59"/>
                  </a:lnTo>
                  <a:lnTo>
                    <a:pt x="117" y="62"/>
                  </a:lnTo>
                  <a:lnTo>
                    <a:pt x="136" y="65"/>
                  </a:lnTo>
                  <a:lnTo>
                    <a:pt x="177" y="69"/>
                  </a:lnTo>
                  <a:lnTo>
                    <a:pt x="220" y="71"/>
                  </a:lnTo>
                  <a:lnTo>
                    <a:pt x="263" y="69"/>
                  </a:lnTo>
                  <a:lnTo>
                    <a:pt x="304" y="65"/>
                  </a:lnTo>
                  <a:lnTo>
                    <a:pt x="323" y="62"/>
                  </a:lnTo>
                  <a:lnTo>
                    <a:pt x="341" y="59"/>
                  </a:lnTo>
                  <a:lnTo>
                    <a:pt x="357" y="55"/>
                  </a:lnTo>
                  <a:lnTo>
                    <a:pt x="373" y="51"/>
                  </a:lnTo>
                  <a:lnTo>
                    <a:pt x="387" y="46"/>
                  </a:lnTo>
                  <a:lnTo>
                    <a:pt x="399" y="41"/>
                  </a:lnTo>
                  <a:lnTo>
                    <a:pt x="402" y="40"/>
                  </a:lnTo>
                  <a:lnTo>
                    <a:pt x="413" y="34"/>
                  </a:lnTo>
                  <a:lnTo>
                    <a:pt x="422" y="29"/>
                  </a:lnTo>
                  <a:lnTo>
                    <a:pt x="429" y="22"/>
                  </a:lnTo>
                  <a:lnTo>
                    <a:pt x="435" y="16"/>
                  </a:lnTo>
                  <a:lnTo>
                    <a:pt x="438" y="10"/>
                  </a:lnTo>
                  <a:lnTo>
                    <a:pt x="439" y="7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30" y="7"/>
                  </a:lnTo>
                  <a:lnTo>
                    <a:pt x="435" y="7"/>
                  </a:lnTo>
                  <a:lnTo>
                    <a:pt x="432" y="4"/>
                  </a:lnTo>
                  <a:lnTo>
                    <a:pt x="429" y="10"/>
                  </a:lnTo>
                  <a:lnTo>
                    <a:pt x="423" y="16"/>
                  </a:lnTo>
                  <a:lnTo>
                    <a:pt x="416" y="23"/>
                  </a:lnTo>
                  <a:lnTo>
                    <a:pt x="407" y="28"/>
                  </a:lnTo>
                  <a:lnTo>
                    <a:pt x="396" y="34"/>
                  </a:lnTo>
                  <a:lnTo>
                    <a:pt x="399" y="37"/>
                  </a:lnTo>
                  <a:lnTo>
                    <a:pt x="399" y="32"/>
                  </a:lnTo>
                  <a:lnTo>
                    <a:pt x="387" y="37"/>
                  </a:lnTo>
                  <a:lnTo>
                    <a:pt x="373" y="42"/>
                  </a:lnTo>
                  <a:lnTo>
                    <a:pt x="357" y="46"/>
                  </a:lnTo>
                  <a:lnTo>
                    <a:pt x="341" y="50"/>
                  </a:lnTo>
                  <a:lnTo>
                    <a:pt x="323" y="53"/>
                  </a:lnTo>
                  <a:lnTo>
                    <a:pt x="304" y="56"/>
                  </a:lnTo>
                  <a:lnTo>
                    <a:pt x="263" y="60"/>
                  </a:lnTo>
                  <a:lnTo>
                    <a:pt x="220" y="62"/>
                  </a:lnTo>
                  <a:lnTo>
                    <a:pt x="177" y="60"/>
                  </a:lnTo>
                  <a:lnTo>
                    <a:pt x="136" y="56"/>
                  </a:lnTo>
                  <a:lnTo>
                    <a:pt x="117" y="53"/>
                  </a:lnTo>
                  <a:lnTo>
                    <a:pt x="99" y="50"/>
                  </a:lnTo>
                  <a:lnTo>
                    <a:pt x="83" y="46"/>
                  </a:lnTo>
                  <a:lnTo>
                    <a:pt x="67" y="42"/>
                  </a:lnTo>
                  <a:lnTo>
                    <a:pt x="53" y="37"/>
                  </a:lnTo>
                  <a:lnTo>
                    <a:pt x="41" y="3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33" y="28"/>
                  </a:lnTo>
                  <a:lnTo>
                    <a:pt x="24" y="23"/>
                  </a:lnTo>
                  <a:lnTo>
                    <a:pt x="17" y="16"/>
                  </a:lnTo>
                  <a:lnTo>
                    <a:pt x="11" y="10"/>
                  </a:lnTo>
                  <a:lnTo>
                    <a:pt x="8" y="4"/>
                  </a:lnTo>
                  <a:lnTo>
                    <a:pt x="5" y="7"/>
                  </a:lnTo>
                  <a:lnTo>
                    <a:pt x="10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898280" y="5373720"/>
              <a:ext cx="515160" cy="146160"/>
              <a:chOff x="1898280" y="5373720"/>
              <a:chExt cx="515160" cy="146160"/>
            </a:xfrm>
          </p:grpSpPr>
          <p:sp>
            <p:nvSpPr>
              <p:cNvPr id="237" name=""/>
              <p:cNvSpPr/>
              <p:nvPr/>
            </p:nvSpPr>
            <p:spPr>
              <a:xfrm>
                <a:off x="2166480" y="5376960"/>
                <a:ext cx="24696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6480" y="5376960"/>
                <a:ext cx="24696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98280" y="5450040"/>
                <a:ext cx="247320" cy="66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98280" y="5450040"/>
                <a:ext cx="247320" cy="66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912320" y="5373720"/>
                <a:ext cx="24732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912320" y="5373720"/>
                <a:ext cx="24732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158560" y="5456160"/>
                <a:ext cx="245520" cy="63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58560" y="5456160"/>
                <a:ext cx="245520" cy="63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1674720" y="2790720"/>
            <a:ext cx="990720" cy="2363400"/>
            <a:chOff x="1674720" y="2790720"/>
            <a:chExt cx="990720" cy="2363400"/>
          </a:xfrm>
        </p:grpSpPr>
        <p:sp>
          <p:nvSpPr>
            <p:cNvPr id="246" name=""/>
            <p:cNvSpPr/>
            <p:nvPr/>
          </p:nvSpPr>
          <p:spPr>
            <a:xfrm>
              <a:off x="2171880" y="3198600"/>
              <a:ext cx="0" cy="15242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1979280" y="2790720"/>
              <a:ext cx="436680" cy="204480"/>
              <a:chOff x="1979280" y="2790720"/>
              <a:chExt cx="436680" cy="204480"/>
            </a:xfrm>
          </p:grpSpPr>
          <p:sp>
            <p:nvSpPr>
              <p:cNvPr id="248" name=""/>
              <p:cNvSpPr/>
              <p:nvPr/>
            </p:nvSpPr>
            <p:spPr>
              <a:xfrm>
                <a:off x="2415960" y="2790720"/>
                <a:ext cx="0" cy="20448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270520" y="2790720"/>
                <a:ext cx="0" cy="2044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134080" y="2790720"/>
                <a:ext cx="0" cy="20448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979280" y="2790720"/>
                <a:ext cx="0" cy="204480"/>
              </a:xfrm>
              <a:prstGeom prst="line">
                <a:avLst/>
              </a:prstGeom>
              <a:ln w="25560">
                <a:solidFill>
                  <a:srgbClr val="f95a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 flipH="1">
              <a:off x="1674720" y="2997000"/>
              <a:ext cx="990720" cy="228600"/>
            </a:xfrm>
            <a:custGeom>
              <a:avLst/>
              <a:gdLst>
                <a:gd name="textAreaLeft" fmla="*/ 217800 w 990720"/>
                <a:gd name="textAreaRight" fmla="*/ 772920 w 99072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1978200" y="4949640"/>
              <a:ext cx="436320" cy="204480"/>
              <a:chOff x="1978200" y="4949640"/>
              <a:chExt cx="436320" cy="204480"/>
            </a:xfrm>
          </p:grpSpPr>
          <p:sp>
            <p:nvSpPr>
              <p:cNvPr id="254" name=""/>
              <p:cNvSpPr/>
              <p:nvPr/>
            </p:nvSpPr>
            <p:spPr>
              <a:xfrm flipV="1">
                <a:off x="2414520" y="4949640"/>
                <a:ext cx="0" cy="20448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2269080" y="4949640"/>
                <a:ext cx="0" cy="2044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2133000" y="4949640"/>
                <a:ext cx="0" cy="20448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1978200" y="4949640"/>
                <a:ext cx="0" cy="204480"/>
              </a:xfrm>
              <a:prstGeom prst="line">
                <a:avLst/>
              </a:prstGeom>
              <a:ln w="25560">
                <a:solidFill>
                  <a:srgbClr val="f95a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 flipH="1" flipV="1">
              <a:off x="1674720" y="4720320"/>
              <a:ext cx="990720" cy="228600"/>
            </a:xfrm>
            <a:custGeom>
              <a:avLst/>
              <a:gdLst>
                <a:gd name="textAreaLeft" fmla="*/ 217800 w 990720"/>
                <a:gd name="textAreaRight" fmla="*/ 772920 w 99072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865840" y="2792520"/>
            <a:ext cx="990720" cy="2363400"/>
            <a:chOff x="5865840" y="2792520"/>
            <a:chExt cx="990720" cy="2363400"/>
          </a:xfrm>
        </p:grpSpPr>
        <p:sp>
          <p:nvSpPr>
            <p:cNvPr id="260" name=""/>
            <p:cNvSpPr/>
            <p:nvPr/>
          </p:nvSpPr>
          <p:spPr>
            <a:xfrm>
              <a:off x="6362640" y="3200400"/>
              <a:ext cx="0" cy="15238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6170760" y="2792520"/>
              <a:ext cx="436320" cy="204480"/>
              <a:chOff x="6170760" y="2792520"/>
              <a:chExt cx="436320" cy="204480"/>
            </a:xfrm>
          </p:grpSpPr>
          <p:sp>
            <p:nvSpPr>
              <p:cNvPr id="262" name=""/>
              <p:cNvSpPr/>
              <p:nvPr/>
            </p:nvSpPr>
            <p:spPr>
              <a:xfrm>
                <a:off x="6607080" y="2792520"/>
                <a:ext cx="0" cy="20448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461640" y="2792520"/>
                <a:ext cx="0" cy="2044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325560" y="2792520"/>
                <a:ext cx="0" cy="20448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170760" y="2792520"/>
                <a:ext cx="0" cy="204480"/>
              </a:xfrm>
              <a:prstGeom prst="line">
                <a:avLst/>
              </a:prstGeom>
              <a:ln w="25560">
                <a:solidFill>
                  <a:srgbClr val="f95a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 flipH="1">
              <a:off x="5865840" y="2998800"/>
              <a:ext cx="990720" cy="228600"/>
            </a:xfrm>
            <a:custGeom>
              <a:avLst/>
              <a:gdLst>
                <a:gd name="textAreaLeft" fmla="*/ 217800 w 990720"/>
                <a:gd name="textAreaRight" fmla="*/ 772920 w 99072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6168600" y="4951440"/>
              <a:ext cx="436680" cy="204480"/>
              <a:chOff x="6168600" y="4951440"/>
              <a:chExt cx="436680" cy="204480"/>
            </a:xfrm>
          </p:grpSpPr>
          <p:sp>
            <p:nvSpPr>
              <p:cNvPr id="268" name=""/>
              <p:cNvSpPr/>
              <p:nvPr/>
            </p:nvSpPr>
            <p:spPr>
              <a:xfrm flipV="1">
                <a:off x="6605280" y="4951440"/>
                <a:ext cx="0" cy="20448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6459840" y="4951440"/>
                <a:ext cx="0" cy="2044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323400" y="4951440"/>
                <a:ext cx="0" cy="20448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6168600" y="4951440"/>
                <a:ext cx="0" cy="204480"/>
              </a:xfrm>
              <a:prstGeom prst="line">
                <a:avLst/>
              </a:prstGeom>
              <a:ln w="25560">
                <a:solidFill>
                  <a:srgbClr val="f95a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 flipH="1" flipV="1">
              <a:off x="5865840" y="4722120"/>
              <a:ext cx="990720" cy="228600"/>
            </a:xfrm>
            <a:custGeom>
              <a:avLst/>
              <a:gdLst>
                <a:gd name="textAreaLeft" fmla="*/ 217800 w 990720"/>
                <a:gd name="textAreaRight" fmla="*/ 772920 w 99072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019920" y="5334120"/>
            <a:ext cx="699840" cy="433440"/>
            <a:chOff x="6019920" y="5334120"/>
            <a:chExt cx="699840" cy="433440"/>
          </a:xfrm>
        </p:grpSpPr>
        <p:sp>
          <p:nvSpPr>
            <p:cNvPr id="274" name=""/>
            <p:cNvSpPr/>
            <p:nvPr/>
          </p:nvSpPr>
          <p:spPr>
            <a:xfrm>
              <a:off x="6026040" y="5340600"/>
              <a:ext cx="685440" cy="419040"/>
            </a:xfrm>
            <a:custGeom>
              <a:avLst/>
              <a:gdLst/>
              <a:ahLst/>
              <a:rect l="l" t="t" r="r" b="b"/>
              <a:pathLst>
                <a:path w="432" h="264">
                  <a:moveTo>
                    <a:pt x="216" y="0"/>
                  </a:move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4" y="211"/>
                  </a:lnTo>
                  <a:lnTo>
                    <a:pt x="10" y="217"/>
                  </a:lnTo>
                  <a:lnTo>
                    <a:pt x="17" y="224"/>
                  </a:lnTo>
                  <a:lnTo>
                    <a:pt x="26" y="229"/>
                  </a:lnTo>
                  <a:lnTo>
                    <a:pt x="37" y="235"/>
                  </a:lnTo>
                  <a:lnTo>
                    <a:pt x="49" y="240"/>
                  </a:lnTo>
                  <a:lnTo>
                    <a:pt x="63" y="245"/>
                  </a:lnTo>
                  <a:lnTo>
                    <a:pt x="79" y="249"/>
                  </a:lnTo>
                  <a:lnTo>
                    <a:pt x="95" y="253"/>
                  </a:lnTo>
                  <a:lnTo>
                    <a:pt x="113" y="256"/>
                  </a:lnTo>
                  <a:lnTo>
                    <a:pt x="132" y="259"/>
                  </a:lnTo>
                  <a:lnTo>
                    <a:pt x="173" y="263"/>
                  </a:lnTo>
                  <a:lnTo>
                    <a:pt x="216" y="264"/>
                  </a:lnTo>
                  <a:lnTo>
                    <a:pt x="259" y="263"/>
                  </a:lnTo>
                  <a:lnTo>
                    <a:pt x="300" y="259"/>
                  </a:lnTo>
                  <a:lnTo>
                    <a:pt x="319" y="256"/>
                  </a:lnTo>
                  <a:lnTo>
                    <a:pt x="337" y="253"/>
                  </a:lnTo>
                  <a:lnTo>
                    <a:pt x="353" y="249"/>
                  </a:lnTo>
                  <a:lnTo>
                    <a:pt x="369" y="245"/>
                  </a:lnTo>
                  <a:lnTo>
                    <a:pt x="383" y="240"/>
                  </a:lnTo>
                  <a:lnTo>
                    <a:pt x="395" y="235"/>
                  </a:lnTo>
                  <a:lnTo>
                    <a:pt x="406" y="229"/>
                  </a:lnTo>
                  <a:lnTo>
                    <a:pt x="415" y="224"/>
                  </a:lnTo>
                  <a:lnTo>
                    <a:pt x="422" y="217"/>
                  </a:lnTo>
                  <a:lnTo>
                    <a:pt x="428" y="211"/>
                  </a:lnTo>
                  <a:lnTo>
                    <a:pt x="431" y="205"/>
                  </a:lnTo>
                  <a:lnTo>
                    <a:pt x="432" y="198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26040" y="5340600"/>
              <a:ext cx="685440" cy="209520"/>
            </a:xfrm>
            <a:custGeom>
              <a:avLst/>
              <a:gdLst/>
              <a:ahLst/>
              <a:rect l="l" t="t" r="r" b="b"/>
              <a:pathLst>
                <a:path w="432" h="132">
                  <a:moveTo>
                    <a:pt x="0" y="66"/>
                  </a:moveTo>
                  <a:lnTo>
                    <a:pt x="1" y="73"/>
                  </a:lnTo>
                  <a:lnTo>
                    <a:pt x="4" y="79"/>
                  </a:lnTo>
                  <a:lnTo>
                    <a:pt x="10" y="85"/>
                  </a:lnTo>
                  <a:lnTo>
                    <a:pt x="17" y="92"/>
                  </a:lnTo>
                  <a:lnTo>
                    <a:pt x="26" y="97"/>
                  </a:lnTo>
                  <a:lnTo>
                    <a:pt x="37" y="103"/>
                  </a:lnTo>
                  <a:lnTo>
                    <a:pt x="49" y="108"/>
                  </a:lnTo>
                  <a:lnTo>
                    <a:pt x="63" y="113"/>
                  </a:lnTo>
                  <a:lnTo>
                    <a:pt x="79" y="117"/>
                  </a:lnTo>
                  <a:lnTo>
                    <a:pt x="95" y="121"/>
                  </a:lnTo>
                  <a:lnTo>
                    <a:pt x="113" y="124"/>
                  </a:lnTo>
                  <a:lnTo>
                    <a:pt x="132" y="127"/>
                  </a:lnTo>
                  <a:lnTo>
                    <a:pt x="173" y="131"/>
                  </a:lnTo>
                  <a:lnTo>
                    <a:pt x="216" y="132"/>
                  </a:lnTo>
                  <a:lnTo>
                    <a:pt x="259" y="131"/>
                  </a:lnTo>
                  <a:lnTo>
                    <a:pt x="300" y="127"/>
                  </a:lnTo>
                  <a:lnTo>
                    <a:pt x="319" y="124"/>
                  </a:lnTo>
                  <a:lnTo>
                    <a:pt x="337" y="121"/>
                  </a:lnTo>
                  <a:lnTo>
                    <a:pt x="353" y="117"/>
                  </a:lnTo>
                  <a:lnTo>
                    <a:pt x="369" y="113"/>
                  </a:lnTo>
                  <a:lnTo>
                    <a:pt x="383" y="108"/>
                  </a:lnTo>
                  <a:lnTo>
                    <a:pt x="395" y="103"/>
                  </a:lnTo>
                  <a:lnTo>
                    <a:pt x="406" y="97"/>
                  </a:lnTo>
                  <a:lnTo>
                    <a:pt x="415" y="92"/>
                  </a:lnTo>
                  <a:lnTo>
                    <a:pt x="422" y="85"/>
                  </a:lnTo>
                  <a:lnTo>
                    <a:pt x="428" y="79"/>
                  </a:lnTo>
                  <a:lnTo>
                    <a:pt x="431" y="73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19920" y="5334120"/>
              <a:ext cx="699840" cy="433440"/>
            </a:xfrm>
            <a:custGeom>
              <a:avLst/>
              <a:gdLst/>
              <a:ahLst/>
              <a:rect l="l" t="t" r="r" b="b"/>
              <a:pathLst>
                <a:path w="441" h="273">
                  <a:moveTo>
                    <a:pt x="177" y="1"/>
                  </a:moveTo>
                  <a:lnTo>
                    <a:pt x="136" y="5"/>
                  </a:lnTo>
                  <a:lnTo>
                    <a:pt x="117" y="8"/>
                  </a:lnTo>
                  <a:lnTo>
                    <a:pt x="99" y="11"/>
                  </a:lnTo>
                  <a:lnTo>
                    <a:pt x="83" y="15"/>
                  </a:lnTo>
                  <a:lnTo>
                    <a:pt x="67" y="19"/>
                  </a:lnTo>
                  <a:lnTo>
                    <a:pt x="53" y="24"/>
                  </a:lnTo>
                  <a:lnTo>
                    <a:pt x="41" y="29"/>
                  </a:lnTo>
                  <a:lnTo>
                    <a:pt x="38" y="30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4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2" y="212"/>
                  </a:lnTo>
                  <a:lnTo>
                    <a:pt x="5" y="218"/>
                  </a:lnTo>
                  <a:lnTo>
                    <a:pt x="11" y="224"/>
                  </a:lnTo>
                  <a:lnTo>
                    <a:pt x="18" y="231"/>
                  </a:lnTo>
                  <a:lnTo>
                    <a:pt x="27" y="236"/>
                  </a:lnTo>
                  <a:lnTo>
                    <a:pt x="38" y="242"/>
                  </a:lnTo>
                  <a:lnTo>
                    <a:pt x="41" y="243"/>
                  </a:lnTo>
                  <a:lnTo>
                    <a:pt x="53" y="248"/>
                  </a:lnTo>
                  <a:lnTo>
                    <a:pt x="67" y="253"/>
                  </a:lnTo>
                  <a:lnTo>
                    <a:pt x="83" y="257"/>
                  </a:lnTo>
                  <a:lnTo>
                    <a:pt x="99" y="261"/>
                  </a:lnTo>
                  <a:lnTo>
                    <a:pt x="117" y="264"/>
                  </a:lnTo>
                  <a:lnTo>
                    <a:pt x="136" y="267"/>
                  </a:lnTo>
                  <a:lnTo>
                    <a:pt x="177" y="271"/>
                  </a:lnTo>
                  <a:lnTo>
                    <a:pt x="220" y="273"/>
                  </a:lnTo>
                  <a:lnTo>
                    <a:pt x="263" y="271"/>
                  </a:lnTo>
                  <a:lnTo>
                    <a:pt x="304" y="267"/>
                  </a:lnTo>
                  <a:lnTo>
                    <a:pt x="323" y="264"/>
                  </a:lnTo>
                  <a:lnTo>
                    <a:pt x="341" y="261"/>
                  </a:lnTo>
                  <a:lnTo>
                    <a:pt x="357" y="257"/>
                  </a:lnTo>
                  <a:lnTo>
                    <a:pt x="373" y="253"/>
                  </a:lnTo>
                  <a:lnTo>
                    <a:pt x="387" y="248"/>
                  </a:lnTo>
                  <a:lnTo>
                    <a:pt x="399" y="243"/>
                  </a:lnTo>
                  <a:lnTo>
                    <a:pt x="402" y="242"/>
                  </a:lnTo>
                  <a:lnTo>
                    <a:pt x="413" y="236"/>
                  </a:lnTo>
                  <a:lnTo>
                    <a:pt x="422" y="231"/>
                  </a:lnTo>
                  <a:lnTo>
                    <a:pt x="429" y="224"/>
                  </a:lnTo>
                  <a:lnTo>
                    <a:pt x="435" y="218"/>
                  </a:lnTo>
                  <a:lnTo>
                    <a:pt x="438" y="212"/>
                  </a:lnTo>
                  <a:lnTo>
                    <a:pt x="439" y="209"/>
                  </a:lnTo>
                  <a:lnTo>
                    <a:pt x="441" y="202"/>
                  </a:lnTo>
                  <a:lnTo>
                    <a:pt x="441" y="70"/>
                  </a:lnTo>
                  <a:lnTo>
                    <a:pt x="439" y="63"/>
                  </a:lnTo>
                  <a:lnTo>
                    <a:pt x="438" y="60"/>
                  </a:lnTo>
                  <a:lnTo>
                    <a:pt x="435" y="54"/>
                  </a:lnTo>
                  <a:lnTo>
                    <a:pt x="429" y="48"/>
                  </a:lnTo>
                  <a:lnTo>
                    <a:pt x="422" y="42"/>
                  </a:lnTo>
                  <a:lnTo>
                    <a:pt x="413" y="36"/>
                  </a:lnTo>
                  <a:lnTo>
                    <a:pt x="402" y="30"/>
                  </a:lnTo>
                  <a:lnTo>
                    <a:pt x="399" y="29"/>
                  </a:lnTo>
                  <a:lnTo>
                    <a:pt x="387" y="24"/>
                  </a:lnTo>
                  <a:lnTo>
                    <a:pt x="373" y="19"/>
                  </a:lnTo>
                  <a:lnTo>
                    <a:pt x="357" y="15"/>
                  </a:lnTo>
                  <a:lnTo>
                    <a:pt x="341" y="11"/>
                  </a:lnTo>
                  <a:lnTo>
                    <a:pt x="323" y="8"/>
                  </a:lnTo>
                  <a:lnTo>
                    <a:pt x="304" y="5"/>
                  </a:lnTo>
                  <a:lnTo>
                    <a:pt x="263" y="1"/>
                  </a:lnTo>
                  <a:lnTo>
                    <a:pt x="220" y="0"/>
                  </a:lnTo>
                  <a:lnTo>
                    <a:pt x="177" y="1"/>
                  </a:lnTo>
                  <a:close/>
                  <a:moveTo>
                    <a:pt x="220" y="9"/>
                  </a:moveTo>
                  <a:lnTo>
                    <a:pt x="263" y="10"/>
                  </a:lnTo>
                  <a:lnTo>
                    <a:pt x="304" y="14"/>
                  </a:lnTo>
                  <a:lnTo>
                    <a:pt x="323" y="17"/>
                  </a:lnTo>
                  <a:lnTo>
                    <a:pt x="341" y="20"/>
                  </a:lnTo>
                  <a:lnTo>
                    <a:pt x="357" y="24"/>
                  </a:lnTo>
                  <a:lnTo>
                    <a:pt x="373" y="28"/>
                  </a:lnTo>
                  <a:lnTo>
                    <a:pt x="387" y="33"/>
                  </a:lnTo>
                  <a:lnTo>
                    <a:pt x="399" y="38"/>
                  </a:lnTo>
                  <a:lnTo>
                    <a:pt x="399" y="33"/>
                  </a:lnTo>
                  <a:lnTo>
                    <a:pt x="396" y="36"/>
                  </a:lnTo>
                  <a:lnTo>
                    <a:pt x="407" y="42"/>
                  </a:lnTo>
                  <a:lnTo>
                    <a:pt x="416" y="48"/>
                  </a:lnTo>
                  <a:lnTo>
                    <a:pt x="423" y="54"/>
                  </a:lnTo>
                  <a:lnTo>
                    <a:pt x="429" y="60"/>
                  </a:lnTo>
                  <a:lnTo>
                    <a:pt x="432" y="66"/>
                  </a:lnTo>
                  <a:lnTo>
                    <a:pt x="435" y="63"/>
                  </a:lnTo>
                  <a:lnTo>
                    <a:pt x="430" y="63"/>
                  </a:lnTo>
                  <a:lnTo>
                    <a:pt x="432" y="70"/>
                  </a:lnTo>
                  <a:lnTo>
                    <a:pt x="432" y="202"/>
                  </a:lnTo>
                  <a:lnTo>
                    <a:pt x="430" y="209"/>
                  </a:lnTo>
                  <a:lnTo>
                    <a:pt x="435" y="209"/>
                  </a:lnTo>
                  <a:lnTo>
                    <a:pt x="432" y="206"/>
                  </a:lnTo>
                  <a:lnTo>
                    <a:pt x="429" y="212"/>
                  </a:lnTo>
                  <a:lnTo>
                    <a:pt x="423" y="218"/>
                  </a:lnTo>
                  <a:lnTo>
                    <a:pt x="416" y="225"/>
                  </a:lnTo>
                  <a:lnTo>
                    <a:pt x="407" y="230"/>
                  </a:lnTo>
                  <a:lnTo>
                    <a:pt x="396" y="236"/>
                  </a:lnTo>
                  <a:lnTo>
                    <a:pt x="399" y="239"/>
                  </a:lnTo>
                  <a:lnTo>
                    <a:pt x="399" y="234"/>
                  </a:lnTo>
                  <a:lnTo>
                    <a:pt x="387" y="239"/>
                  </a:lnTo>
                  <a:lnTo>
                    <a:pt x="373" y="244"/>
                  </a:lnTo>
                  <a:lnTo>
                    <a:pt x="357" y="248"/>
                  </a:lnTo>
                  <a:lnTo>
                    <a:pt x="341" y="252"/>
                  </a:lnTo>
                  <a:lnTo>
                    <a:pt x="323" y="255"/>
                  </a:lnTo>
                  <a:lnTo>
                    <a:pt x="304" y="258"/>
                  </a:lnTo>
                  <a:lnTo>
                    <a:pt x="263" y="262"/>
                  </a:lnTo>
                  <a:lnTo>
                    <a:pt x="220" y="264"/>
                  </a:lnTo>
                  <a:lnTo>
                    <a:pt x="177" y="262"/>
                  </a:lnTo>
                  <a:lnTo>
                    <a:pt x="136" y="258"/>
                  </a:lnTo>
                  <a:lnTo>
                    <a:pt x="117" y="255"/>
                  </a:lnTo>
                  <a:lnTo>
                    <a:pt x="99" y="252"/>
                  </a:lnTo>
                  <a:lnTo>
                    <a:pt x="83" y="248"/>
                  </a:lnTo>
                  <a:lnTo>
                    <a:pt x="67" y="244"/>
                  </a:lnTo>
                  <a:lnTo>
                    <a:pt x="53" y="239"/>
                  </a:lnTo>
                  <a:lnTo>
                    <a:pt x="41" y="234"/>
                  </a:lnTo>
                  <a:lnTo>
                    <a:pt x="41" y="239"/>
                  </a:lnTo>
                  <a:lnTo>
                    <a:pt x="44" y="236"/>
                  </a:lnTo>
                  <a:lnTo>
                    <a:pt x="33" y="230"/>
                  </a:lnTo>
                  <a:lnTo>
                    <a:pt x="24" y="225"/>
                  </a:lnTo>
                  <a:lnTo>
                    <a:pt x="17" y="218"/>
                  </a:lnTo>
                  <a:lnTo>
                    <a:pt x="11" y="212"/>
                  </a:lnTo>
                  <a:lnTo>
                    <a:pt x="8" y="206"/>
                  </a:lnTo>
                  <a:lnTo>
                    <a:pt x="5" y="209"/>
                  </a:lnTo>
                  <a:lnTo>
                    <a:pt x="10" y="209"/>
                  </a:lnTo>
                  <a:lnTo>
                    <a:pt x="9" y="202"/>
                  </a:lnTo>
                  <a:lnTo>
                    <a:pt x="9" y="70"/>
                  </a:lnTo>
                  <a:lnTo>
                    <a:pt x="10" y="63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1" y="60"/>
                  </a:lnTo>
                  <a:lnTo>
                    <a:pt x="17" y="54"/>
                  </a:lnTo>
                  <a:lnTo>
                    <a:pt x="24" y="48"/>
                  </a:lnTo>
                  <a:lnTo>
                    <a:pt x="33" y="42"/>
                  </a:lnTo>
                  <a:lnTo>
                    <a:pt x="44" y="36"/>
                  </a:lnTo>
                  <a:lnTo>
                    <a:pt x="41" y="33"/>
                  </a:lnTo>
                  <a:lnTo>
                    <a:pt x="41" y="38"/>
                  </a:lnTo>
                  <a:lnTo>
                    <a:pt x="53" y="33"/>
                  </a:lnTo>
                  <a:lnTo>
                    <a:pt x="67" y="28"/>
                  </a:lnTo>
                  <a:lnTo>
                    <a:pt x="83" y="24"/>
                  </a:lnTo>
                  <a:lnTo>
                    <a:pt x="99" y="20"/>
                  </a:lnTo>
                  <a:lnTo>
                    <a:pt x="117" y="17"/>
                  </a:lnTo>
                  <a:lnTo>
                    <a:pt x="136" y="14"/>
                  </a:lnTo>
                  <a:lnTo>
                    <a:pt x="177" y="10"/>
                  </a:lnTo>
                  <a:lnTo>
                    <a:pt x="220" y="9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5445360"/>
              <a:ext cx="699840" cy="112680"/>
            </a:xfrm>
            <a:custGeom>
              <a:avLst/>
              <a:gdLst/>
              <a:ahLst/>
              <a:rect l="l" t="t" r="r" b="b"/>
              <a:pathLst>
                <a:path w="441" h="71">
                  <a:moveTo>
                    <a:pt x="9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11" y="22"/>
                  </a:lnTo>
                  <a:lnTo>
                    <a:pt x="18" y="29"/>
                  </a:lnTo>
                  <a:lnTo>
                    <a:pt x="27" y="34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53" y="46"/>
                  </a:lnTo>
                  <a:lnTo>
                    <a:pt x="67" y="51"/>
                  </a:lnTo>
                  <a:lnTo>
                    <a:pt x="83" y="55"/>
                  </a:lnTo>
                  <a:lnTo>
                    <a:pt x="99" y="59"/>
                  </a:lnTo>
                  <a:lnTo>
                    <a:pt x="117" y="62"/>
                  </a:lnTo>
                  <a:lnTo>
                    <a:pt x="136" y="65"/>
                  </a:lnTo>
                  <a:lnTo>
                    <a:pt x="177" y="69"/>
                  </a:lnTo>
                  <a:lnTo>
                    <a:pt x="220" y="71"/>
                  </a:lnTo>
                  <a:lnTo>
                    <a:pt x="263" y="69"/>
                  </a:lnTo>
                  <a:lnTo>
                    <a:pt x="304" y="65"/>
                  </a:lnTo>
                  <a:lnTo>
                    <a:pt x="323" y="62"/>
                  </a:lnTo>
                  <a:lnTo>
                    <a:pt x="341" y="59"/>
                  </a:lnTo>
                  <a:lnTo>
                    <a:pt x="357" y="55"/>
                  </a:lnTo>
                  <a:lnTo>
                    <a:pt x="373" y="51"/>
                  </a:lnTo>
                  <a:lnTo>
                    <a:pt x="387" y="46"/>
                  </a:lnTo>
                  <a:lnTo>
                    <a:pt x="399" y="41"/>
                  </a:lnTo>
                  <a:lnTo>
                    <a:pt x="402" y="40"/>
                  </a:lnTo>
                  <a:lnTo>
                    <a:pt x="413" y="34"/>
                  </a:lnTo>
                  <a:lnTo>
                    <a:pt x="422" y="29"/>
                  </a:lnTo>
                  <a:lnTo>
                    <a:pt x="429" y="22"/>
                  </a:lnTo>
                  <a:lnTo>
                    <a:pt x="435" y="16"/>
                  </a:lnTo>
                  <a:lnTo>
                    <a:pt x="438" y="10"/>
                  </a:lnTo>
                  <a:lnTo>
                    <a:pt x="439" y="7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30" y="7"/>
                  </a:lnTo>
                  <a:lnTo>
                    <a:pt x="435" y="7"/>
                  </a:lnTo>
                  <a:lnTo>
                    <a:pt x="432" y="4"/>
                  </a:lnTo>
                  <a:lnTo>
                    <a:pt x="429" y="10"/>
                  </a:lnTo>
                  <a:lnTo>
                    <a:pt x="423" y="16"/>
                  </a:lnTo>
                  <a:lnTo>
                    <a:pt x="416" y="23"/>
                  </a:lnTo>
                  <a:lnTo>
                    <a:pt x="407" y="28"/>
                  </a:lnTo>
                  <a:lnTo>
                    <a:pt x="396" y="34"/>
                  </a:lnTo>
                  <a:lnTo>
                    <a:pt x="399" y="37"/>
                  </a:lnTo>
                  <a:lnTo>
                    <a:pt x="399" y="32"/>
                  </a:lnTo>
                  <a:lnTo>
                    <a:pt x="387" y="37"/>
                  </a:lnTo>
                  <a:lnTo>
                    <a:pt x="373" y="42"/>
                  </a:lnTo>
                  <a:lnTo>
                    <a:pt x="357" y="46"/>
                  </a:lnTo>
                  <a:lnTo>
                    <a:pt x="341" y="50"/>
                  </a:lnTo>
                  <a:lnTo>
                    <a:pt x="323" y="53"/>
                  </a:lnTo>
                  <a:lnTo>
                    <a:pt x="304" y="56"/>
                  </a:lnTo>
                  <a:lnTo>
                    <a:pt x="263" y="60"/>
                  </a:lnTo>
                  <a:lnTo>
                    <a:pt x="220" y="62"/>
                  </a:lnTo>
                  <a:lnTo>
                    <a:pt x="177" y="60"/>
                  </a:lnTo>
                  <a:lnTo>
                    <a:pt x="136" y="56"/>
                  </a:lnTo>
                  <a:lnTo>
                    <a:pt x="117" y="53"/>
                  </a:lnTo>
                  <a:lnTo>
                    <a:pt x="99" y="50"/>
                  </a:lnTo>
                  <a:lnTo>
                    <a:pt x="83" y="46"/>
                  </a:lnTo>
                  <a:lnTo>
                    <a:pt x="67" y="42"/>
                  </a:lnTo>
                  <a:lnTo>
                    <a:pt x="53" y="37"/>
                  </a:lnTo>
                  <a:lnTo>
                    <a:pt x="41" y="3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33" y="28"/>
                  </a:lnTo>
                  <a:lnTo>
                    <a:pt x="24" y="23"/>
                  </a:lnTo>
                  <a:lnTo>
                    <a:pt x="17" y="16"/>
                  </a:lnTo>
                  <a:lnTo>
                    <a:pt x="11" y="10"/>
                  </a:lnTo>
                  <a:lnTo>
                    <a:pt x="8" y="4"/>
                  </a:lnTo>
                  <a:lnTo>
                    <a:pt x="5" y="7"/>
                  </a:lnTo>
                  <a:lnTo>
                    <a:pt x="10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102000" y="5373720"/>
              <a:ext cx="515160" cy="146160"/>
              <a:chOff x="6102000" y="5373720"/>
              <a:chExt cx="515160" cy="146160"/>
            </a:xfrm>
          </p:grpSpPr>
          <p:sp>
            <p:nvSpPr>
              <p:cNvPr id="279" name=""/>
              <p:cNvSpPr/>
              <p:nvPr/>
            </p:nvSpPr>
            <p:spPr>
              <a:xfrm>
                <a:off x="6370200" y="5376960"/>
                <a:ext cx="24696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370200" y="5376960"/>
                <a:ext cx="24696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102000" y="5450040"/>
                <a:ext cx="247320" cy="66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102000" y="5450040"/>
                <a:ext cx="247320" cy="66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16040" y="5373720"/>
                <a:ext cx="24732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16040" y="5373720"/>
                <a:ext cx="24732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62280" y="5456160"/>
                <a:ext cx="245520" cy="63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362280" y="5456160"/>
                <a:ext cx="245520" cy="63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>
            <a:off x="1906560" y="1522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6560" y="586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3640" y="586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91520" y="2286000"/>
            <a:ext cx="6858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7680" y="1522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11680" y="24375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W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14800" y="1981080"/>
            <a:ext cx="304920" cy="3049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F0C33-8E81-499B-9247-2FE486E99D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5447160" y="1906560"/>
            <a:ext cx="2291400" cy="3910680"/>
            <a:chOff x="5447160" y="1906560"/>
            <a:chExt cx="2291400" cy="3910680"/>
          </a:xfrm>
        </p:grpSpPr>
        <p:sp>
          <p:nvSpPr>
            <p:cNvPr id="295" name=""/>
            <p:cNvSpPr/>
            <p:nvPr/>
          </p:nvSpPr>
          <p:spPr>
            <a:xfrm>
              <a:off x="5447160" y="5510160"/>
              <a:ext cx="229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ynchronous Packet TD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54080" y="4719600"/>
              <a:ext cx="208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ynchronous Cell TD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68640" y="3917880"/>
              <a:ext cx="16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ynchronous TD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34560" y="290520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DWD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34560" y="190656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D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793320" y="1096920"/>
            <a:ext cx="1284120" cy="5085000"/>
            <a:chOff x="3793320" y="1096920"/>
            <a:chExt cx="1284120" cy="5085000"/>
          </a:xfrm>
        </p:grpSpPr>
        <p:sp>
          <p:nvSpPr>
            <p:cNvPr id="301" name=""/>
            <p:cNvSpPr/>
            <p:nvPr/>
          </p:nvSpPr>
          <p:spPr>
            <a:xfrm>
              <a:off x="4365720" y="5486400"/>
              <a:ext cx="152280" cy="380880"/>
            </a:xfrm>
            <a:prstGeom prst="upArrow">
              <a:avLst>
                <a:gd name="adj1" fmla="val 50000"/>
                <a:gd name="adj2" fmla="val 625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90840" y="3711600"/>
              <a:ext cx="289080" cy="509400"/>
            </a:xfrm>
            <a:prstGeom prst="upArrow">
              <a:avLst>
                <a:gd name="adj1" fmla="val 50000"/>
                <a:gd name="adj2" fmla="val 4405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29000" y="4640400"/>
              <a:ext cx="228600" cy="4572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11200" y="5935680"/>
              <a:ext cx="65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ff"/>
                  </a:solidFill>
                  <a:latin typeface="Arial"/>
                </a:rPr>
                <a:t>Pack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72400" y="51656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ffff"/>
                  </a:solidFill>
                  <a:latin typeface="Arial"/>
                </a:rPr>
                <a:t>Ce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19040" y="428940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ff"/>
                  </a:solidFill>
                  <a:latin typeface="Arial"/>
                </a:rPr>
                <a:t>Circu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37040" y="331776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Wa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05360" y="2259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Arial"/>
                </a:rPr>
                <a:t>Fib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93320" y="109692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ff"/>
                  </a:solidFill>
                  <a:latin typeface="Arial"/>
                </a:rPr>
                <a:t>Condu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45120" y="2652840"/>
              <a:ext cx="395280" cy="593640"/>
            </a:xfrm>
            <a:prstGeom prst="upArrow">
              <a:avLst>
                <a:gd name="adj1" fmla="val 50000"/>
                <a:gd name="adj2" fmla="val 3754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91120" y="1530360"/>
              <a:ext cx="487080" cy="709560"/>
            </a:xfrm>
            <a:prstGeom prst="upArrow">
              <a:avLst>
                <a:gd name="adj1" fmla="val 50000"/>
                <a:gd name="adj2" fmla="val 3641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3422880" y="9540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75000" y="388800"/>
            <a:ext cx="160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98800" y="100080"/>
            <a:ext cx="186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ultipl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4240" y="106200"/>
            <a:ext cx="278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vailable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6960" y="231300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pto-mechanical Swit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2960" y="3137040"/>
            <a:ext cx="322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ptical Mux / Dem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pto-mechanical Swit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ferometric Wavelength Conver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9000" y="4079880"/>
            <a:ext cx="309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ointer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ynchronous Electrical Swit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ynchronous Reconfigurable Swit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2920" y="4935600"/>
            <a:ext cx="3198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ell Buff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ynchronous Reconfigurable Swit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abel Look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1760" y="5703840"/>
            <a:ext cx="3198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acket Buff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ynchronous Reconfigurable Swit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acket Header Look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60080" y="116532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ne To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8319960" y="1004760"/>
            <a:ext cx="373320" cy="5175360"/>
            <a:chOff x="8319960" y="1004760"/>
            <a:chExt cx="373320" cy="5175360"/>
          </a:xfrm>
        </p:grpSpPr>
        <p:sp>
          <p:nvSpPr>
            <p:cNvPr id="323" name=""/>
            <p:cNvSpPr/>
            <p:nvPr/>
          </p:nvSpPr>
          <p:spPr>
            <a:xfrm flipV="1">
              <a:off x="8319960" y="1004760"/>
              <a:ext cx="0" cy="5175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93280" y="1004760"/>
              <a:ext cx="0" cy="5175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 rot="16200000">
            <a:off x="7171560" y="3495240"/>
            <a:ext cx="187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creasing Bandwid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5400000">
            <a:off x="7935480" y="3488040"/>
            <a:ext cx="19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creasing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45F21-9111-4C8E-AF8D-5D1A000E65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Driver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Industry shift from fiber multiplication to optical networking 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Revenue opportunities change the role of the optical layer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Shorter service contracts --&gt; faster depreciation --&gt; faster network technology adopt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Commoditization of optical components enable powerful and economical network design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Network simplification and equipment consolidat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B1AD1-F1CD-4836-B3A3-2325FB66C5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Agenda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086600" cy="426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The public network challenge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Intelligent optical networking technologies and network element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Intelligent optical networking architectur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Internetworking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Future trend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14D0F-0A9F-4CA5-AADD-F020B3176A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ing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Requirements for Intelligent Optical Network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925040" cy="403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Cost effective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Rapid easy service provisioning 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Scalability of system, optics, HW, SW, and NM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Network element and topology auto-discovery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Gradual and seamless introduction of new technology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Grooming of sub-rate circuit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Protection and restoration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Fault isolation and performance monitoring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209A4-A601-4827-B6A8-D6D15E2AF8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7631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Layering the Intelligent Optical Network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066680" y="1981080"/>
            <a:ext cx="7239240" cy="3808440"/>
            <a:chOff x="1066680" y="1981080"/>
            <a:chExt cx="7239240" cy="3808440"/>
          </a:xfrm>
        </p:grpSpPr>
        <p:sp>
          <p:nvSpPr>
            <p:cNvPr id="335" name=""/>
            <p:cNvSpPr/>
            <p:nvPr/>
          </p:nvSpPr>
          <p:spPr>
            <a:xfrm>
              <a:off x="1066680" y="5027400"/>
              <a:ext cx="56390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IBER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4036680"/>
              <a:ext cx="56390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AVE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3046320"/>
              <a:ext cx="563904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IGHTPA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58000" y="1981080"/>
              <a:ext cx="1447920" cy="3797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imes New Roman"/>
                </a:rPr>
                <a:t>NETWORK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imes New Roman"/>
                </a:rPr>
                <a:t>MANAGEMENT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imes New Roman"/>
                </a:rPr>
                <a:t>AND CONTRO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2055600"/>
              <a:ext cx="1571400" cy="714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00400" y="2055600"/>
              <a:ext cx="1571760" cy="714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52880" y="2055600"/>
              <a:ext cx="1571760" cy="714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27520" y="5087520"/>
              <a:ext cx="377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ransport and switching of WDM sig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07480" y="3960360"/>
              <a:ext cx="229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avelength Networ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93200" y="2969640"/>
              <a:ext cx="43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nd-to-End Electro-optic Lightpath Networ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66680" y="3579480"/>
              <a:ext cx="56390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DAPTATION LA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C9159-0B58-4DD7-8CC8-924356B377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Network Element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487692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Fiber Layer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In-line optical amplifier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Optical protection switche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Optical fiber cross-connect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Wave Layer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Open terminal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Open OADN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Wavelength selective switche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00600" y="1295280"/>
            <a:ext cx="426708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ightpath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daptation Sub-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losed termi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losed OA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generation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ightpath switching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fibergraphic" descr=""/>
          <p:cNvPicPr/>
          <p:nvPr/>
        </p:nvPicPr>
        <p:blipFill>
          <a:blip r:embed="rId1"/>
          <a:stretch/>
        </p:blipFill>
        <p:spPr>
          <a:xfrm>
            <a:off x="1523880" y="4876920"/>
            <a:ext cx="6400800" cy="159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0FA5B-C5B8-4079-98D2-2F8A398006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Point-to-Point Example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77840" y="1471680"/>
          <a:ext cx="8802720" cy="5157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471680"/>
                    <a:ext cx="880272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5451E-FC18-47E0-9743-FB4E67409F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Fiber Layer</a:t>
            </a: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848720" cy="426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Function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Transport and monitoring of wavelength multiplexed signal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Network element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In-line optical amplifier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Optical switches for 1+1, loopback and 1:N protect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Optical cross-connec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3916-8D6F-4B19-A46C-90C33B24EE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Fiber Layer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848720" cy="426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Optical switches for 1+1, 1:N, and loopback protect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3124080"/>
            <a:ext cx="5335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81480" y="3200400"/>
            <a:ext cx="30492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181120" y="3200400"/>
            <a:ext cx="30492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19680" y="2590920"/>
            <a:ext cx="39614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19680" y="3047400"/>
            <a:ext cx="39614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15000" y="3200400"/>
            <a:ext cx="18288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4267080"/>
            <a:ext cx="53316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828800" y="4114800"/>
            <a:ext cx="380880" cy="152280"/>
            <a:chOff x="1828800" y="4114800"/>
            <a:chExt cx="380880" cy="152280"/>
          </a:xfrm>
        </p:grpSpPr>
        <p:sp>
          <p:nvSpPr>
            <p:cNvPr id="365" name=""/>
            <p:cNvSpPr/>
            <p:nvPr/>
          </p:nvSpPr>
          <p:spPr>
            <a:xfrm>
              <a:off x="1905120" y="4114800"/>
              <a:ext cx="228600" cy="152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1828800" y="4114800"/>
              <a:ext cx="380880" cy="152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14400" y="46483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48769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14400" y="51055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53341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14400" y="55627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362320" y="4419720"/>
            <a:ext cx="7617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4648320"/>
            <a:ext cx="7617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62320" y="4876920"/>
            <a:ext cx="7617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362320" y="5105520"/>
            <a:ext cx="7617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62320" y="5334120"/>
            <a:ext cx="7617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362320" y="5562720"/>
            <a:ext cx="7617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62320" y="5791320"/>
            <a:ext cx="7617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76520" y="556272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33412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510552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76520" y="487692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76520" y="4648320"/>
            <a:ext cx="685800" cy="1143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6520" y="441972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666880" y="4572000"/>
            <a:ext cx="152640" cy="1522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2666880" y="4571640"/>
            <a:ext cx="152640" cy="1522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48320" y="464832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48320" y="487692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533412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648320" y="556272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464832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34320" y="487692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533412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34320" y="556272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4191120"/>
            <a:ext cx="99072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095520" y="4038480"/>
            <a:ext cx="837720" cy="152280"/>
            <a:chOff x="6095520" y="4038480"/>
            <a:chExt cx="837720" cy="152280"/>
          </a:xfrm>
        </p:grpSpPr>
        <p:sp>
          <p:nvSpPr>
            <p:cNvPr id="398" name=""/>
            <p:cNvSpPr/>
            <p:nvPr/>
          </p:nvSpPr>
          <p:spPr>
            <a:xfrm>
              <a:off x="6263640" y="4038480"/>
              <a:ext cx="502920" cy="152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6095520" y="4038480"/>
              <a:ext cx="837720" cy="152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7391520" y="4419720"/>
            <a:ext cx="761760" cy="1600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7467480" y="4419720"/>
            <a:ext cx="609840" cy="1600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43600" y="4648320"/>
            <a:ext cx="6094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53080" y="464832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943240" y="5562720"/>
            <a:ext cx="6094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43600" y="533412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324480" y="487692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5943600" y="487692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136C8-F80D-4BEA-B56C-C9AD79C1F2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1918080"/>
            <a:ext cx="861048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00"/>
                </a:solidFill>
                <a:latin typeface="Times New Roman"/>
              </a:rPr>
              <a:t>Intelligent Optical Networking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84E07-F838-465B-945B-79C642CCDD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Fiber Layer</a:t>
            </a: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48720" cy="495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Optical cross-connect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Micro-electrical machines (MEMs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Thermo-optic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Opto-mechanica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4600" y="43434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52880" y="4343400"/>
            <a:ext cx="1295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09880" y="4191120"/>
            <a:ext cx="99072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962520" y="4038480"/>
            <a:ext cx="837360" cy="152280"/>
            <a:chOff x="3962520" y="4038480"/>
            <a:chExt cx="837360" cy="152280"/>
          </a:xfrm>
        </p:grpSpPr>
        <p:sp>
          <p:nvSpPr>
            <p:cNvPr id="414" name=""/>
            <p:cNvSpPr/>
            <p:nvPr/>
          </p:nvSpPr>
          <p:spPr>
            <a:xfrm>
              <a:off x="4130280" y="4038480"/>
              <a:ext cx="502560" cy="152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962520" y="4038480"/>
              <a:ext cx="837360" cy="152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2514600" y="449568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4495680"/>
            <a:ext cx="1295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64832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4648320"/>
            <a:ext cx="1295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14600" y="4800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4800600"/>
            <a:ext cx="1295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14600" y="495288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952880" y="4952880"/>
            <a:ext cx="1295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14600" y="510552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952880" y="5105520"/>
            <a:ext cx="1295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514600" y="52578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52880" y="5257800"/>
            <a:ext cx="1295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14600" y="541008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952880" y="5410080"/>
            <a:ext cx="1295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514600" y="556272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52880" y="5562720"/>
            <a:ext cx="1295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514600" y="57150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2880" y="5715000"/>
            <a:ext cx="1295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14600" y="586728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952880" y="5867280"/>
            <a:ext cx="1295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09880" y="4343400"/>
            <a:ext cx="1143000" cy="10666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09880" y="4495680"/>
            <a:ext cx="1143000" cy="12193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809880" y="4343040"/>
            <a:ext cx="1143000" cy="304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3809880" y="4647960"/>
            <a:ext cx="1143000" cy="152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5105520"/>
            <a:ext cx="114300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9880" y="5562720"/>
            <a:ext cx="114300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257440"/>
            <a:ext cx="114300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809880" y="4800240"/>
            <a:ext cx="114300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809880" y="4495680"/>
            <a:ext cx="1143000" cy="4572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809880" y="4952520"/>
            <a:ext cx="1143000" cy="304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09880" y="5715000"/>
            <a:ext cx="1143000" cy="152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76C7B-FD04-4E26-A04E-C9EF471AF2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Wave Layer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84836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Function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Routing and switching of wavelength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Monitoring of wavelength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Protection switching at the wave layer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Network element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Open terminal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Open optical add-drop nod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Wavelength selective switch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6EA90-1F66-4C35-BB0E-1EBBB8B0AC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Wave Layer: Open Terminal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Open Architecture”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Eliminates two 1310 nm O/E/O’s per link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523880" y="3200400"/>
            <a:ext cx="6477120" cy="2971800"/>
            <a:chOff x="1523880" y="3200400"/>
            <a:chExt cx="6477120" cy="2971800"/>
          </a:xfrm>
        </p:grpSpPr>
        <p:sp>
          <p:nvSpPr>
            <p:cNvPr id="452" name=""/>
            <p:cNvSpPr/>
            <p:nvPr/>
          </p:nvSpPr>
          <p:spPr>
            <a:xfrm rot="16200000">
              <a:off x="4228920" y="4152960"/>
              <a:ext cx="1981440" cy="990720"/>
            </a:xfrm>
            <a:custGeom>
              <a:avLst/>
              <a:gdLst>
                <a:gd name="textAreaLeft" fmla="*/ 435600 w 1981440"/>
                <a:gd name="textAreaRight" fmla="*/ 1545840 w 1981440"/>
                <a:gd name="textAreaTop" fmla="*/ 217800 h 990720"/>
                <a:gd name="textAreaBottom" fmla="*/ 77292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715000" y="4800600"/>
              <a:ext cx="22860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26080" y="4341960"/>
              <a:ext cx="992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D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3352680" y="3657240"/>
              <a:ext cx="1294920" cy="305280"/>
              <a:chOff x="3352680" y="3657240"/>
              <a:chExt cx="1294920" cy="30528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3352680" y="3657240"/>
                <a:ext cx="380880" cy="305280"/>
                <a:chOff x="3352680" y="3657240"/>
                <a:chExt cx="380880" cy="3052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3352680" y="3962520"/>
                  <a:ext cx="2282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V="1">
                  <a:off x="3580920" y="365724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733560" y="3657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580920" y="365760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3720600" y="3657240"/>
                <a:ext cx="380880" cy="305280"/>
                <a:chOff x="3720600" y="3657240"/>
                <a:chExt cx="380880" cy="30528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720600" y="3962520"/>
                  <a:ext cx="2282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V="1">
                  <a:off x="3948840" y="365724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101480" y="3657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948840" y="365760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4114440" y="3657240"/>
                <a:ext cx="380520" cy="305280"/>
                <a:chOff x="4114440" y="3657240"/>
                <a:chExt cx="380520" cy="3052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4114440" y="3962520"/>
                  <a:ext cx="2278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V="1">
                  <a:off x="4342320" y="365724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494960" y="3657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342320" y="365760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1" name=""/>
              <p:cNvSpPr/>
              <p:nvPr/>
            </p:nvSpPr>
            <p:spPr>
              <a:xfrm>
                <a:off x="4495320" y="39625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352680" y="4343040"/>
              <a:ext cx="1294920" cy="305280"/>
              <a:chOff x="3352680" y="4343040"/>
              <a:chExt cx="1294920" cy="305280"/>
            </a:xfrm>
          </p:grpSpPr>
          <p:grpSp>
            <p:nvGrpSpPr>
              <p:cNvPr id="473" name=""/>
              <p:cNvGrpSpPr/>
              <p:nvPr/>
            </p:nvGrpSpPr>
            <p:grpSpPr>
              <a:xfrm>
                <a:off x="3352680" y="4343040"/>
                <a:ext cx="380880" cy="305280"/>
                <a:chOff x="3352680" y="4343040"/>
                <a:chExt cx="380880" cy="30528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352680" y="464832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3580920" y="434304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733560" y="43434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580920" y="434340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3720600" y="4343040"/>
                <a:ext cx="380880" cy="305280"/>
                <a:chOff x="3720600" y="4343040"/>
                <a:chExt cx="380880" cy="3052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720600" y="464832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V="1">
                  <a:off x="3948840" y="434304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101480" y="43434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948840" y="434340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4114440" y="4343040"/>
                <a:ext cx="380520" cy="305280"/>
                <a:chOff x="4114440" y="4343040"/>
                <a:chExt cx="380520" cy="3052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114440" y="4648320"/>
                  <a:ext cx="22788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V="1">
                  <a:off x="4342320" y="434304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494960" y="43434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342320" y="434340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8" name=""/>
              <p:cNvSpPr/>
              <p:nvPr/>
            </p:nvSpPr>
            <p:spPr>
              <a:xfrm>
                <a:off x="4495320" y="4648320"/>
                <a:ext cx="15228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4116240" y="4343040"/>
              <a:ext cx="295200" cy="947160"/>
              <a:chOff x="4116240" y="4343040"/>
              <a:chExt cx="295200" cy="947160"/>
            </a:xfrm>
          </p:grpSpPr>
          <p:sp>
            <p:nvSpPr>
              <p:cNvPr id="490" name=""/>
              <p:cNvSpPr/>
              <p:nvPr/>
            </p:nvSpPr>
            <p:spPr>
              <a:xfrm>
                <a:off x="4116240" y="4343040"/>
                <a:ext cx="29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116240" y="4495320"/>
                <a:ext cx="29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116240" y="4647600"/>
                <a:ext cx="29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3352680" y="5333760"/>
              <a:ext cx="1294920" cy="305280"/>
              <a:chOff x="3352680" y="5333760"/>
              <a:chExt cx="1294920" cy="305280"/>
            </a:xfrm>
          </p:grpSpPr>
          <p:grpSp>
            <p:nvGrpSpPr>
              <p:cNvPr id="494" name=""/>
              <p:cNvGrpSpPr/>
              <p:nvPr/>
            </p:nvGrpSpPr>
            <p:grpSpPr>
              <a:xfrm>
                <a:off x="3352680" y="5333760"/>
                <a:ext cx="380880" cy="305280"/>
                <a:chOff x="3352680" y="5333760"/>
                <a:chExt cx="380880" cy="30528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352680" y="5639040"/>
                  <a:ext cx="228240" cy="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3580920" y="5333760"/>
                  <a:ext cx="0" cy="30492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733560" y="5334120"/>
                  <a:ext cx="0" cy="30492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580920" y="5334120"/>
                  <a:ext cx="152280" cy="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3720600" y="5333760"/>
                <a:ext cx="380880" cy="305280"/>
                <a:chOff x="3720600" y="5333760"/>
                <a:chExt cx="380880" cy="30528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3720600" y="5639040"/>
                  <a:ext cx="228240" cy="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3948840" y="5333760"/>
                  <a:ext cx="0" cy="30492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101480" y="5334120"/>
                  <a:ext cx="0" cy="30492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948840" y="5334120"/>
                  <a:ext cx="152280" cy="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4114440" y="5333760"/>
                <a:ext cx="380520" cy="305280"/>
                <a:chOff x="4114440" y="5333760"/>
                <a:chExt cx="380520" cy="3052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4114440" y="5639040"/>
                  <a:ext cx="227880" cy="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4342320" y="5333760"/>
                  <a:ext cx="0" cy="30492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4494960" y="5334120"/>
                  <a:ext cx="0" cy="30492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4342320" y="5334120"/>
                  <a:ext cx="152280" cy="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>
                <a:off x="4495320" y="5639040"/>
                <a:ext cx="15228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6482520" y="4327560"/>
              <a:ext cx="1117800" cy="397440"/>
              <a:chOff x="6482520" y="4327560"/>
              <a:chExt cx="1117800" cy="397440"/>
            </a:xfrm>
          </p:grpSpPr>
          <p:sp>
            <p:nvSpPr>
              <p:cNvPr id="511" name=""/>
              <p:cNvSpPr/>
              <p:nvPr/>
            </p:nvSpPr>
            <p:spPr>
              <a:xfrm>
                <a:off x="6482520" y="4327560"/>
                <a:ext cx="477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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806160" y="4327560"/>
                <a:ext cx="4014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ff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1200" spc="-1" strike="noStrike">
                    <a:solidFill>
                      <a:srgbClr val="00ff00"/>
                    </a:solidFill>
                    <a:latin typeface="Symbol"/>
                    <a:ea typeface="Symbol"/>
                  </a:rPr>
                  <a:t>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111800" y="4327560"/>
                <a:ext cx="1836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416360" y="4327560"/>
                <a:ext cx="18396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504240" y="320040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</a:t>
              </a:r>
              <a:r>
                <a:rPr b="1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91640" y="3886200"/>
              <a:ext cx="48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</a:t>
              </a: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3428640" y="4800600"/>
              <a:ext cx="557640" cy="519120"/>
              <a:chOff x="3428640" y="4800600"/>
              <a:chExt cx="557640" cy="519120"/>
            </a:xfrm>
          </p:grpSpPr>
          <p:sp>
            <p:nvSpPr>
              <p:cNvPr id="518" name=""/>
              <p:cNvSpPr/>
              <p:nvPr/>
            </p:nvSpPr>
            <p:spPr>
              <a:xfrm>
                <a:off x="3428640" y="4800600"/>
                <a:ext cx="3801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ccff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663720" y="48916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66ccff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7492680" y="4343400"/>
              <a:ext cx="430200" cy="442440"/>
              <a:chOff x="7492680" y="4343400"/>
              <a:chExt cx="430200" cy="442440"/>
            </a:xfrm>
          </p:grpSpPr>
          <p:sp>
            <p:nvSpPr>
              <p:cNvPr id="521" name=""/>
              <p:cNvSpPr/>
              <p:nvPr/>
            </p:nvSpPr>
            <p:spPr>
              <a:xfrm>
                <a:off x="7492680" y="4343400"/>
                <a:ext cx="3099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ccff"/>
                    </a:solidFill>
                    <a:latin typeface="Symbol"/>
                    <a:ea typeface="Symbol"/>
                  </a:rPr>
                  <a:t>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643160" y="4478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66ccff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7081920" y="42663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. .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29000" y="3276720"/>
              <a:ext cx="2971800" cy="289548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523880" y="3581640"/>
              <a:ext cx="533520" cy="533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23880" y="4267440"/>
              <a:ext cx="533520" cy="533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23880" y="5257800"/>
              <a:ext cx="533520" cy="533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5400000">
              <a:off x="5918400" y="4658760"/>
              <a:ext cx="376200" cy="282600"/>
            </a:xfrm>
            <a:prstGeom prst="triangle">
              <a:avLst>
                <a:gd name="adj" fmla="val 50000"/>
              </a:avLst>
            </a:prstGeom>
            <a:solidFill>
              <a:srgbClr val="66cc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2057400" y="3657240"/>
              <a:ext cx="1294920" cy="305280"/>
              <a:chOff x="2057400" y="3657240"/>
              <a:chExt cx="1294920" cy="3052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2057400" y="3657240"/>
                <a:ext cx="380880" cy="305280"/>
                <a:chOff x="2057400" y="3657240"/>
                <a:chExt cx="380880" cy="30528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2057400" y="3962520"/>
                  <a:ext cx="2282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2285640" y="365724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438280" y="3657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285640" y="365760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2425320" y="3657240"/>
                <a:ext cx="380880" cy="305280"/>
                <a:chOff x="2425320" y="3657240"/>
                <a:chExt cx="380880" cy="3052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2425320" y="3962520"/>
                  <a:ext cx="2282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V="1">
                  <a:off x="2653560" y="365724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806200" y="3657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653560" y="365760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2819160" y="3657240"/>
                <a:ext cx="380520" cy="305280"/>
                <a:chOff x="2819160" y="3657240"/>
                <a:chExt cx="380520" cy="30528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2819160" y="3962520"/>
                  <a:ext cx="2278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V="1">
                  <a:off x="3047040" y="365724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199680" y="3657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047040" y="365760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5" name=""/>
              <p:cNvSpPr/>
              <p:nvPr/>
            </p:nvSpPr>
            <p:spPr>
              <a:xfrm>
                <a:off x="3200040" y="39625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2057400" y="4343040"/>
              <a:ext cx="1294920" cy="305280"/>
              <a:chOff x="2057400" y="4343040"/>
              <a:chExt cx="1294920" cy="305280"/>
            </a:xfrm>
          </p:grpSpPr>
          <p:grpSp>
            <p:nvGrpSpPr>
              <p:cNvPr id="547" name=""/>
              <p:cNvGrpSpPr/>
              <p:nvPr/>
            </p:nvGrpSpPr>
            <p:grpSpPr>
              <a:xfrm>
                <a:off x="2057400" y="4343040"/>
                <a:ext cx="380880" cy="305280"/>
                <a:chOff x="2057400" y="4343040"/>
                <a:chExt cx="380880" cy="30528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2057400" y="464832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V="1">
                  <a:off x="2285640" y="434304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438280" y="43434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285640" y="434340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2425320" y="4343040"/>
                <a:ext cx="380880" cy="305280"/>
                <a:chOff x="2425320" y="4343040"/>
                <a:chExt cx="380880" cy="30528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2425320" y="464832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V="1">
                  <a:off x="2653560" y="434304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806200" y="43434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653560" y="434340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2819160" y="4343040"/>
                <a:ext cx="380520" cy="305280"/>
                <a:chOff x="2819160" y="4343040"/>
                <a:chExt cx="380520" cy="3052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2819160" y="4648320"/>
                  <a:ext cx="22788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V="1">
                  <a:off x="3047040" y="434304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199680" y="43434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047040" y="4343400"/>
                  <a:ext cx="15228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>
                <a:off x="3200040" y="4648320"/>
                <a:ext cx="15228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057400" y="5333760"/>
              <a:ext cx="1294920" cy="305280"/>
              <a:chOff x="2057400" y="5333760"/>
              <a:chExt cx="1294920" cy="30528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2057400" y="5333760"/>
                <a:ext cx="380880" cy="305280"/>
                <a:chOff x="2057400" y="5333760"/>
                <a:chExt cx="380880" cy="30528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2057400" y="5639040"/>
                  <a:ext cx="228240" cy="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V="1">
                  <a:off x="2285640" y="5333760"/>
                  <a:ext cx="0" cy="30492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438280" y="5334120"/>
                  <a:ext cx="0" cy="30492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285640" y="5334120"/>
                  <a:ext cx="152280" cy="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2425320" y="5333760"/>
                <a:ext cx="380880" cy="305280"/>
                <a:chOff x="2425320" y="5333760"/>
                <a:chExt cx="380880" cy="3052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2425320" y="5639040"/>
                  <a:ext cx="228240" cy="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V="1">
                  <a:off x="2653560" y="5333760"/>
                  <a:ext cx="0" cy="30492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806200" y="5334120"/>
                  <a:ext cx="0" cy="30492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653560" y="5334120"/>
                  <a:ext cx="152280" cy="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2819160" y="5333760"/>
                <a:ext cx="380520" cy="305280"/>
                <a:chOff x="2819160" y="5333760"/>
                <a:chExt cx="380520" cy="30528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2819160" y="5639040"/>
                  <a:ext cx="227880" cy="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V="1">
                  <a:off x="3047040" y="5333760"/>
                  <a:ext cx="0" cy="30492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199680" y="5334120"/>
                  <a:ext cx="0" cy="30492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047040" y="5334120"/>
                  <a:ext cx="152280" cy="0"/>
                </a:xfrm>
                <a:prstGeom prst="line">
                  <a:avLst/>
                </a:prstGeom>
                <a:ln w="2844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3200040" y="5639040"/>
                <a:ext cx="15228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7681F-1700-4B76-85DB-2B65074AB1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Fixed Open Optical Add-Drop Node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581" name=""/>
          <p:cNvSpPr/>
          <p:nvPr/>
        </p:nvSpPr>
        <p:spPr>
          <a:xfrm>
            <a:off x="1143000" y="4572000"/>
            <a:ext cx="6578640" cy="9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5816520" y="4353840"/>
            <a:ext cx="35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16200000">
            <a:off x="5892840" y="4353840"/>
            <a:ext cx="35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 rot="5400000">
            <a:off x="369720" y="4531320"/>
            <a:ext cx="1692360" cy="158760"/>
          </a:xfrm>
          <a:custGeom>
            <a:avLst/>
            <a:gdLst>
              <a:gd name="textAreaLeft" fmla="*/ 371880 w 1692360"/>
              <a:gd name="textAreaRight" fmla="*/ 1320480 w 1692360"/>
              <a:gd name="textAreaTop" fmla="*/ 34920 h 158760"/>
              <a:gd name="textAreaBottom" fmla="*/ 12384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38160" y="3925800"/>
            <a:ext cx="16524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938160" y="4383000"/>
            <a:ext cx="1652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38160" y="4811760"/>
            <a:ext cx="165240" cy="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38160" y="5297400"/>
            <a:ext cx="16524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 rot="16200000">
            <a:off x="6900120" y="4508280"/>
            <a:ext cx="1692000" cy="158760"/>
          </a:xfrm>
          <a:custGeom>
            <a:avLst/>
            <a:gdLst>
              <a:gd name="textAreaLeft" fmla="*/ 371880 w 1692000"/>
              <a:gd name="textAreaRight" fmla="*/ 1320120 w 1692000"/>
              <a:gd name="textAreaTop" fmla="*/ 34920 h 158760"/>
              <a:gd name="textAreaBottom" fmla="*/ 12384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834320" y="3902040"/>
            <a:ext cx="2160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7834320" y="4359240"/>
            <a:ext cx="216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834320" y="4788000"/>
            <a:ext cx="216000" cy="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7834320" y="5273640"/>
            <a:ext cx="21600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303200" y="5256360"/>
            <a:ext cx="406440" cy="711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40200" y="5634000"/>
            <a:ext cx="1361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veleng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multiplex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6600" y="5581800"/>
            <a:ext cx="1230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veleng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ultiplex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103480" y="4741920"/>
            <a:ext cx="482400" cy="530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33920" y="3733920"/>
            <a:ext cx="1600200" cy="1676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962520" y="4343400"/>
            <a:ext cx="106668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038480" y="4495680"/>
            <a:ext cx="990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990720" cy="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038480" y="4876920"/>
            <a:ext cx="38124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419720" y="4863600"/>
            <a:ext cx="0" cy="11430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 rot="16200000">
            <a:off x="3118680" y="4500360"/>
            <a:ext cx="1692000" cy="158760"/>
          </a:xfrm>
          <a:custGeom>
            <a:avLst/>
            <a:gdLst>
              <a:gd name="textAreaLeft" fmla="*/ 371880 w 1692000"/>
              <a:gd name="textAreaRight" fmla="*/ 1320120 w 1692000"/>
              <a:gd name="textAreaTop" fmla="*/ 34920 h 158760"/>
              <a:gd name="textAreaBottom" fmla="*/ 12384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 rot="5400000">
            <a:off x="4267080" y="4495680"/>
            <a:ext cx="1676160" cy="152280"/>
          </a:xfrm>
          <a:custGeom>
            <a:avLst/>
            <a:gdLst>
              <a:gd name="textAreaLeft" fmla="*/ 368280 w 1676160"/>
              <a:gd name="textAreaRight" fmla="*/ 1307880 w 167616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648320" y="4876560"/>
            <a:ext cx="380880" cy="1143000"/>
            <a:chOff x="4648320" y="4876560"/>
            <a:chExt cx="380880" cy="1143000"/>
          </a:xfrm>
        </p:grpSpPr>
        <p:sp>
          <p:nvSpPr>
            <p:cNvPr id="607" name=""/>
            <p:cNvSpPr/>
            <p:nvPr/>
          </p:nvSpPr>
          <p:spPr>
            <a:xfrm flipH="1">
              <a:off x="4648320" y="4889520"/>
              <a:ext cx="380880" cy="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4648320" y="4876560"/>
              <a:ext cx="0" cy="114300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962520" y="55627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105520" y="55623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4647240" y="5410080"/>
            <a:ext cx="509400" cy="458280"/>
            <a:chOff x="4647240" y="5410080"/>
            <a:chExt cx="509400" cy="458280"/>
          </a:xfrm>
        </p:grpSpPr>
        <p:sp>
          <p:nvSpPr>
            <p:cNvPr id="612" name=""/>
            <p:cNvSpPr/>
            <p:nvPr/>
          </p:nvSpPr>
          <p:spPr>
            <a:xfrm>
              <a:off x="4647240" y="5410080"/>
              <a:ext cx="35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ff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795920" y="5501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ff"/>
                  </a:solidFill>
                  <a:latin typeface="Times New Roman"/>
                </a:rPr>
                <a:t>4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380160" y="3600360"/>
            <a:ext cx="464760" cy="458280"/>
            <a:chOff x="380160" y="3600360"/>
            <a:chExt cx="464760" cy="458280"/>
          </a:xfrm>
        </p:grpSpPr>
        <p:sp>
          <p:nvSpPr>
            <p:cNvPr id="615" name=""/>
            <p:cNvSpPr/>
            <p:nvPr/>
          </p:nvSpPr>
          <p:spPr>
            <a:xfrm>
              <a:off x="380160" y="3600360"/>
              <a:ext cx="35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74200" y="3691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380160" y="4133880"/>
            <a:ext cx="464760" cy="458280"/>
            <a:chOff x="380160" y="4133880"/>
            <a:chExt cx="464760" cy="458280"/>
          </a:xfrm>
        </p:grpSpPr>
        <p:sp>
          <p:nvSpPr>
            <p:cNvPr id="618" name=""/>
            <p:cNvSpPr/>
            <p:nvPr/>
          </p:nvSpPr>
          <p:spPr>
            <a:xfrm>
              <a:off x="380160" y="4133880"/>
              <a:ext cx="35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74200" y="42249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380160" y="4591080"/>
            <a:ext cx="464760" cy="458280"/>
            <a:chOff x="380160" y="4591080"/>
            <a:chExt cx="464760" cy="458280"/>
          </a:xfrm>
        </p:grpSpPr>
        <p:sp>
          <p:nvSpPr>
            <p:cNvPr id="621" name=""/>
            <p:cNvSpPr/>
            <p:nvPr/>
          </p:nvSpPr>
          <p:spPr>
            <a:xfrm>
              <a:off x="380160" y="4591080"/>
              <a:ext cx="35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4200" y="46821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380160" y="5048280"/>
            <a:ext cx="464760" cy="458280"/>
            <a:chOff x="380160" y="5048280"/>
            <a:chExt cx="464760" cy="458280"/>
          </a:xfrm>
        </p:grpSpPr>
        <p:sp>
          <p:nvSpPr>
            <p:cNvPr id="624" name=""/>
            <p:cNvSpPr/>
            <p:nvPr/>
          </p:nvSpPr>
          <p:spPr>
            <a:xfrm>
              <a:off x="380160" y="5048280"/>
              <a:ext cx="35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ff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4200" y="51393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961800" y="5410080"/>
            <a:ext cx="464760" cy="458280"/>
            <a:chOff x="3961800" y="5410080"/>
            <a:chExt cx="464760" cy="458280"/>
          </a:xfrm>
        </p:grpSpPr>
        <p:sp>
          <p:nvSpPr>
            <p:cNvPr id="627" name=""/>
            <p:cNvSpPr/>
            <p:nvPr/>
          </p:nvSpPr>
          <p:spPr>
            <a:xfrm>
              <a:off x="3961800" y="5410080"/>
              <a:ext cx="35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ff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155840" y="55011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4267080" y="6019920"/>
            <a:ext cx="53352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8076600" y="3576600"/>
            <a:ext cx="464760" cy="458280"/>
            <a:chOff x="8076600" y="3576600"/>
            <a:chExt cx="464760" cy="458280"/>
          </a:xfrm>
        </p:grpSpPr>
        <p:sp>
          <p:nvSpPr>
            <p:cNvPr id="631" name=""/>
            <p:cNvSpPr/>
            <p:nvPr/>
          </p:nvSpPr>
          <p:spPr>
            <a:xfrm>
              <a:off x="8076600" y="3576600"/>
              <a:ext cx="35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270640" y="3667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8076600" y="4110120"/>
            <a:ext cx="464760" cy="458280"/>
            <a:chOff x="8076600" y="4110120"/>
            <a:chExt cx="464760" cy="458280"/>
          </a:xfrm>
        </p:grpSpPr>
        <p:sp>
          <p:nvSpPr>
            <p:cNvPr id="634" name=""/>
            <p:cNvSpPr/>
            <p:nvPr/>
          </p:nvSpPr>
          <p:spPr>
            <a:xfrm>
              <a:off x="8076600" y="4110120"/>
              <a:ext cx="35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270640" y="42012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8076600" y="4567320"/>
            <a:ext cx="464760" cy="458280"/>
            <a:chOff x="8076600" y="4567320"/>
            <a:chExt cx="464760" cy="458280"/>
          </a:xfrm>
        </p:grpSpPr>
        <p:sp>
          <p:nvSpPr>
            <p:cNvPr id="637" name=""/>
            <p:cNvSpPr/>
            <p:nvPr/>
          </p:nvSpPr>
          <p:spPr>
            <a:xfrm>
              <a:off x="8076600" y="4567320"/>
              <a:ext cx="35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270640" y="4658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8076240" y="5024520"/>
            <a:ext cx="509400" cy="458280"/>
            <a:chOff x="8076240" y="5024520"/>
            <a:chExt cx="509400" cy="458280"/>
          </a:xfrm>
        </p:grpSpPr>
        <p:sp>
          <p:nvSpPr>
            <p:cNvPr id="640" name=""/>
            <p:cNvSpPr/>
            <p:nvPr/>
          </p:nvSpPr>
          <p:spPr>
            <a:xfrm>
              <a:off x="8076240" y="5024520"/>
              <a:ext cx="35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ff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224920" y="5115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ff"/>
                  </a:solidFill>
                  <a:latin typeface="Times New Roman"/>
                </a:rPr>
                <a:t>4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84836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Technologies / Architectur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Mux/demux + patch panel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Thin film add/drop filter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Fiber bragg gratings (FBG) + circulator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Mach-Zehnder + FBG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F4CB5-4A18-42D9-96BF-9D5DA4F635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2408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Configurable Open OADN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644" name=""/>
          <p:cNvSpPr/>
          <p:nvPr/>
        </p:nvSpPr>
        <p:spPr>
          <a:xfrm>
            <a:off x="304920" y="1371600"/>
            <a:ext cx="861048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echnologies/archit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88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Fixed add/drop (mux/demux, thin film, FBG...) + switches (opto-mechanical, thermo-optic, MEMs,…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88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Thermally tunable fiber bragg grating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88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Acousto-optic switch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88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Liquid crystal switch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88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Planar lightwave circui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3429000" y="4037760"/>
            <a:ext cx="5420880" cy="2567520"/>
            <a:chOff x="3429000" y="4037760"/>
            <a:chExt cx="5420880" cy="2567520"/>
          </a:xfrm>
        </p:grpSpPr>
        <p:sp>
          <p:nvSpPr>
            <p:cNvPr id="646" name=""/>
            <p:cNvSpPr/>
            <p:nvPr/>
          </p:nvSpPr>
          <p:spPr>
            <a:xfrm>
              <a:off x="4151880" y="4291560"/>
              <a:ext cx="390312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24240" y="4580640"/>
              <a:ext cx="39031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51880" y="4869720"/>
              <a:ext cx="39031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24240" y="5303880"/>
              <a:ext cx="383076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6200000">
              <a:off x="7412400" y="497196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8055720" y="4037760"/>
              <a:ext cx="794160" cy="1590840"/>
              <a:chOff x="8055720" y="4037760"/>
              <a:chExt cx="794160" cy="1590840"/>
            </a:xfrm>
          </p:grpSpPr>
          <p:sp>
            <p:nvSpPr>
              <p:cNvPr id="652" name=""/>
              <p:cNvSpPr/>
              <p:nvPr/>
            </p:nvSpPr>
            <p:spPr>
              <a:xfrm flipH="1">
                <a:off x="8283960" y="4827600"/>
                <a:ext cx="565920" cy="10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 rot="5400000">
                <a:off x="7404840" y="4688280"/>
                <a:ext cx="1590840" cy="289080"/>
              </a:xfrm>
              <a:custGeom>
                <a:avLst/>
                <a:gdLst>
                  <a:gd name="textAreaLeft" fmla="*/ 349560 w 1590840"/>
                  <a:gd name="textAreaRight" fmla="*/ 1241280 w 1590840"/>
                  <a:gd name="textAreaTop" fmla="*/ 63360 h 289080"/>
                  <a:gd name="textAreaBottom" fmla="*/ 22572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3429000" y="4037760"/>
              <a:ext cx="794520" cy="1590840"/>
              <a:chOff x="3429000" y="4037760"/>
              <a:chExt cx="794520" cy="1590840"/>
            </a:xfrm>
          </p:grpSpPr>
          <p:sp>
            <p:nvSpPr>
              <p:cNvPr id="655" name=""/>
              <p:cNvSpPr/>
              <p:nvPr/>
            </p:nvSpPr>
            <p:spPr>
              <a:xfrm>
                <a:off x="3429000" y="4827600"/>
                <a:ext cx="566280" cy="10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 flipV="1" rot="16200000">
                <a:off x="3283200" y="4688280"/>
                <a:ext cx="1590840" cy="289080"/>
              </a:xfrm>
              <a:custGeom>
                <a:avLst/>
                <a:gdLst>
                  <a:gd name="textAreaLeft" fmla="*/ 349560 w 1590840"/>
                  <a:gd name="textAreaRight" fmla="*/ 1241280 w 1590840"/>
                  <a:gd name="textAreaTop" fmla="*/ 63360 h 289080"/>
                  <a:gd name="textAreaBottom" fmla="*/ 22572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658040" y="4182840"/>
              <a:ext cx="216720" cy="216720"/>
              <a:chOff x="4658040" y="4182840"/>
              <a:chExt cx="216720" cy="216720"/>
            </a:xfrm>
          </p:grpSpPr>
          <p:sp>
            <p:nvSpPr>
              <p:cNvPr id="658" name=""/>
              <p:cNvSpPr/>
              <p:nvPr/>
            </p:nvSpPr>
            <p:spPr>
              <a:xfrm>
                <a:off x="4658040" y="4182840"/>
                <a:ext cx="216720" cy="216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694040" y="4226040"/>
                <a:ext cx="144360" cy="1299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4693680" y="4226040"/>
                <a:ext cx="144360" cy="1299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5669640" y="4472280"/>
              <a:ext cx="216720" cy="216720"/>
              <a:chOff x="5669640" y="4472280"/>
              <a:chExt cx="216720" cy="216720"/>
            </a:xfrm>
          </p:grpSpPr>
          <p:sp>
            <p:nvSpPr>
              <p:cNvPr id="662" name=""/>
              <p:cNvSpPr/>
              <p:nvPr/>
            </p:nvSpPr>
            <p:spPr>
              <a:xfrm>
                <a:off x="5669640" y="4472280"/>
                <a:ext cx="216720" cy="216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705640" y="4515480"/>
                <a:ext cx="144360" cy="1299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5705280" y="4515480"/>
                <a:ext cx="144360" cy="1299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6826320" y="4761720"/>
              <a:ext cx="216720" cy="216720"/>
              <a:chOff x="6826320" y="4761720"/>
              <a:chExt cx="216720" cy="216720"/>
            </a:xfrm>
          </p:grpSpPr>
          <p:sp>
            <p:nvSpPr>
              <p:cNvPr id="666" name=""/>
              <p:cNvSpPr/>
              <p:nvPr/>
            </p:nvSpPr>
            <p:spPr>
              <a:xfrm>
                <a:off x="6826320" y="4761720"/>
                <a:ext cx="216720" cy="216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862320" y="4804920"/>
                <a:ext cx="144360" cy="1299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6861960" y="4804920"/>
                <a:ext cx="144360" cy="1299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4512960" y="6099120"/>
              <a:ext cx="505800" cy="506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25280" y="6099120"/>
              <a:ext cx="505440" cy="506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681600" y="6099120"/>
              <a:ext cx="505800" cy="506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658040" y="4435920"/>
              <a:ext cx="0" cy="16628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874760" y="4413600"/>
              <a:ext cx="0" cy="16628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669640" y="4748040"/>
              <a:ext cx="0" cy="13510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886720" y="4725360"/>
              <a:ext cx="0" cy="13014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26320" y="5037120"/>
              <a:ext cx="0" cy="106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043400" y="5014440"/>
              <a:ext cx="0" cy="1084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BC176-F560-4EFD-9147-A98DA935B3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br>
              <a:rPr sz="1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Wavelength Selective Switch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4648320" y="3809880"/>
            <a:ext cx="3886200" cy="2743200"/>
            <a:chOff x="4648320" y="3809880"/>
            <a:chExt cx="3886200" cy="2743200"/>
          </a:xfrm>
        </p:grpSpPr>
        <p:sp>
          <p:nvSpPr>
            <p:cNvPr id="680" name=""/>
            <p:cNvSpPr/>
            <p:nvPr/>
          </p:nvSpPr>
          <p:spPr>
            <a:xfrm>
              <a:off x="4648320" y="3809880"/>
              <a:ext cx="3886200" cy="2743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832720" y="4176720"/>
              <a:ext cx="1030320" cy="159876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7292880" y="6031080"/>
              <a:ext cx="539640" cy="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7203960" y="5934240"/>
              <a:ext cx="53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7118280" y="5835600"/>
              <a:ext cx="53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032600" y="5737320"/>
              <a:ext cx="5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6945480" y="5640480"/>
              <a:ext cx="54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6860880" y="5543640"/>
              <a:ext cx="5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36120" y="5707080"/>
              <a:ext cx="258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7194600" y="5487840"/>
              <a:ext cx="53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7108560" y="5391000"/>
              <a:ext cx="5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7021440" y="5292720"/>
              <a:ext cx="5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6935760" y="5194440"/>
              <a:ext cx="5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6848640" y="5097600"/>
              <a:ext cx="54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824960" y="5262480"/>
              <a:ext cx="262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7102440" y="5043600"/>
              <a:ext cx="53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016760" y="4944960"/>
              <a:ext cx="5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6929280" y="4846680"/>
              <a:ext cx="53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6843600" y="4748040"/>
              <a:ext cx="53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820280" y="4913280"/>
              <a:ext cx="260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203960" y="4695840"/>
              <a:ext cx="53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7118280" y="4597560"/>
              <a:ext cx="53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7032600" y="4498920"/>
              <a:ext cx="5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6945480" y="4402080"/>
              <a:ext cx="54000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6860880" y="4303800"/>
              <a:ext cx="5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36120" y="4468680"/>
              <a:ext cx="258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921640" y="4273560"/>
              <a:ext cx="1027080" cy="159876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005880" y="4371840"/>
              <a:ext cx="1027080" cy="15987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93000" y="4468680"/>
              <a:ext cx="1027080" cy="159876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77240" y="4567320"/>
              <a:ext cx="1027080" cy="159840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266160" y="4664160"/>
              <a:ext cx="1027080" cy="1598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29440" y="4340160"/>
              <a:ext cx="48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413680" y="4437000"/>
              <a:ext cx="48744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500800" y="4533840"/>
              <a:ext cx="48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85040" y="4635360"/>
              <a:ext cx="487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673960" y="4732200"/>
              <a:ext cx="482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59640" y="4829040"/>
              <a:ext cx="486000" cy="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4956480" y="4664160"/>
              <a:ext cx="420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339160" y="4786200"/>
              <a:ext cx="48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26280" y="4883040"/>
              <a:ext cx="48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10520" y="4981680"/>
              <a:ext cx="487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97640" y="5079960"/>
              <a:ext cx="48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83320" y="5176800"/>
              <a:ext cx="48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769360" y="5275440"/>
              <a:ext cx="48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4969080" y="5110200"/>
              <a:ext cx="4190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45280" y="5133960"/>
              <a:ext cx="48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430960" y="5230800"/>
              <a:ext cx="48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518440" y="5329080"/>
              <a:ext cx="48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604120" y="5425920"/>
              <a:ext cx="48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689800" y="5524560"/>
              <a:ext cx="48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75480" y="5622840"/>
              <a:ext cx="48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973760" y="5457960"/>
              <a:ext cx="4190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29440" y="5580000"/>
              <a:ext cx="48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413680" y="5676840"/>
              <a:ext cx="487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500800" y="5775480"/>
              <a:ext cx="48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585040" y="5873760"/>
              <a:ext cx="487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358400" y="4726080"/>
              <a:ext cx="546120" cy="520560"/>
            </a:xfrm>
            <a:custGeom>
              <a:avLst/>
              <a:gdLst/>
              <a:ahLst/>
              <a:rect l="l" t="t" r="r" b="b"/>
              <a:pathLst>
                <a:path w="327" h="328">
                  <a:moveTo>
                    <a:pt x="0" y="0"/>
                  </a:moveTo>
                  <a:lnTo>
                    <a:pt x="272" y="327"/>
                  </a:lnTo>
                  <a:lnTo>
                    <a:pt x="326" y="232"/>
                  </a:lnTo>
                  <a:lnTo>
                    <a:pt x="156" y="2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73960" y="5970600"/>
              <a:ext cx="482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759640" y="6067440"/>
              <a:ext cx="486000" cy="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4956480" y="5905440"/>
              <a:ext cx="420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18200" y="4340160"/>
              <a:ext cx="536760" cy="496800"/>
            </a:xfrm>
            <a:custGeom>
              <a:avLst/>
              <a:gdLst/>
              <a:ahLst/>
              <a:rect l="l" t="t" r="r" b="b"/>
              <a:pathLst>
                <a:path w="321" h="312">
                  <a:moveTo>
                    <a:pt x="58" y="0"/>
                  </a:moveTo>
                  <a:lnTo>
                    <a:pt x="0" y="123"/>
                  </a:lnTo>
                  <a:lnTo>
                    <a:pt x="129" y="280"/>
                  </a:lnTo>
                  <a:lnTo>
                    <a:pt x="320" y="311"/>
                  </a:lnTo>
                  <a:lnTo>
                    <a:pt x="58" y="0"/>
                  </a:lnTo>
                </a:path>
              </a:pathLst>
            </a:custGeom>
            <a:solidFill>
              <a:srgbClr val="80808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18200" y="4786200"/>
              <a:ext cx="536760" cy="497160"/>
            </a:xfrm>
            <a:custGeom>
              <a:avLst/>
              <a:gdLst/>
              <a:ahLst/>
              <a:rect l="l" t="t" r="r" b="b"/>
              <a:pathLst>
                <a:path w="321" h="313">
                  <a:moveTo>
                    <a:pt x="58" y="0"/>
                  </a:moveTo>
                  <a:lnTo>
                    <a:pt x="0" y="123"/>
                  </a:lnTo>
                  <a:lnTo>
                    <a:pt x="129" y="281"/>
                  </a:lnTo>
                  <a:lnTo>
                    <a:pt x="320" y="312"/>
                  </a:lnTo>
                  <a:lnTo>
                    <a:pt x="58" y="0"/>
                  </a:lnTo>
                </a:path>
              </a:pathLst>
            </a:custGeom>
            <a:solidFill>
              <a:srgbClr val="80808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229360" y="5140440"/>
              <a:ext cx="533520" cy="495360"/>
            </a:xfrm>
            <a:custGeom>
              <a:avLst/>
              <a:gdLst/>
              <a:ahLst/>
              <a:rect l="l" t="t" r="r" b="b"/>
              <a:pathLst>
                <a:path w="320" h="312">
                  <a:moveTo>
                    <a:pt x="58" y="0"/>
                  </a:moveTo>
                  <a:lnTo>
                    <a:pt x="0" y="123"/>
                  </a:lnTo>
                  <a:lnTo>
                    <a:pt x="129" y="280"/>
                  </a:lnTo>
                  <a:lnTo>
                    <a:pt x="319" y="311"/>
                  </a:lnTo>
                  <a:lnTo>
                    <a:pt x="58" y="0"/>
                  </a:lnTo>
                </a:path>
              </a:pathLst>
            </a:custGeom>
            <a:solidFill>
              <a:srgbClr val="80808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385400" y="5084640"/>
              <a:ext cx="549000" cy="520920"/>
            </a:xfrm>
            <a:custGeom>
              <a:avLst/>
              <a:gdLst/>
              <a:ahLst/>
              <a:rect l="l" t="t" r="r" b="b"/>
              <a:pathLst>
                <a:path w="328" h="328">
                  <a:moveTo>
                    <a:pt x="0" y="0"/>
                  </a:moveTo>
                  <a:lnTo>
                    <a:pt x="273" y="327"/>
                  </a:lnTo>
                  <a:lnTo>
                    <a:pt x="327" y="232"/>
                  </a:lnTo>
                  <a:lnTo>
                    <a:pt x="157" y="2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23240" y="5573880"/>
              <a:ext cx="534960" cy="495000"/>
            </a:xfrm>
            <a:custGeom>
              <a:avLst/>
              <a:gdLst/>
              <a:ahLst/>
              <a:rect l="l" t="t" r="r" b="b"/>
              <a:pathLst>
                <a:path w="320" h="312">
                  <a:moveTo>
                    <a:pt x="58" y="0"/>
                  </a:moveTo>
                  <a:lnTo>
                    <a:pt x="0" y="123"/>
                  </a:lnTo>
                  <a:lnTo>
                    <a:pt x="129" y="280"/>
                  </a:lnTo>
                  <a:lnTo>
                    <a:pt x="319" y="311"/>
                  </a:lnTo>
                  <a:lnTo>
                    <a:pt x="58" y="0"/>
                  </a:lnTo>
                </a:path>
              </a:pathLst>
            </a:custGeom>
            <a:solidFill>
              <a:srgbClr val="80808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385400" y="4286160"/>
              <a:ext cx="549000" cy="520920"/>
            </a:xfrm>
            <a:custGeom>
              <a:avLst/>
              <a:gdLst/>
              <a:ahLst/>
              <a:rect l="l" t="t" r="r" b="b"/>
              <a:pathLst>
                <a:path w="328" h="328">
                  <a:moveTo>
                    <a:pt x="0" y="0"/>
                  </a:moveTo>
                  <a:lnTo>
                    <a:pt x="273" y="327"/>
                  </a:lnTo>
                  <a:lnTo>
                    <a:pt x="327" y="232"/>
                  </a:lnTo>
                  <a:lnTo>
                    <a:pt x="157" y="2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385400" y="5518080"/>
              <a:ext cx="549000" cy="520920"/>
            </a:xfrm>
            <a:custGeom>
              <a:avLst/>
              <a:gdLst/>
              <a:ahLst/>
              <a:rect l="l" t="t" r="r" b="b"/>
              <a:pathLst>
                <a:path w="328" h="328">
                  <a:moveTo>
                    <a:pt x="0" y="0"/>
                  </a:moveTo>
                  <a:lnTo>
                    <a:pt x="273" y="327"/>
                  </a:lnTo>
                  <a:lnTo>
                    <a:pt x="327" y="232"/>
                  </a:lnTo>
                  <a:lnTo>
                    <a:pt x="157" y="2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7286400" y="4805280"/>
              <a:ext cx="577800" cy="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7293240" y="5140440"/>
              <a:ext cx="42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7281720" y="5238720"/>
              <a:ext cx="5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273800" y="5580000"/>
              <a:ext cx="53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77320" y="4848120"/>
              <a:ext cx="1004760" cy="117000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349960" y="4683240"/>
              <a:ext cx="403560" cy="13320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4826160" y="4676760"/>
              <a:ext cx="519120" cy="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802640" y="5732640"/>
              <a:ext cx="19080" cy="28548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809120" y="5719680"/>
              <a:ext cx="480960" cy="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4816440" y="4646520"/>
              <a:ext cx="51732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5334120" y="4417560"/>
              <a:ext cx="54000" cy="23508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502760" y="4414680"/>
              <a:ext cx="279360" cy="3492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802640" y="4456080"/>
              <a:ext cx="40644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6277320" y="4792680"/>
              <a:ext cx="1004760" cy="129384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02640" y="4500720"/>
              <a:ext cx="27000" cy="28548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802640" y="4481640"/>
              <a:ext cx="406440" cy="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361120" y="5940360"/>
              <a:ext cx="392400" cy="11448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988160" y="5927760"/>
              <a:ext cx="351000" cy="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53416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Switching architectures/technologi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  <a:ea typeface="굴림"/>
              </a:rPr>
              <a:t>Mux/demux + switching (opto-mechanical, MEMs, …)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  <a:ea typeface="굴림"/>
              </a:rPr>
              <a:t>Arrayed Waveguide mux/demux w/ integrated thermo-optic switche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  <a:ea typeface="굴림"/>
              </a:rPr>
              <a:t>Arrays of semi-conductor amplifier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  <a:ea typeface="굴림"/>
              </a:rPr>
              <a:t>Acousto-optic switche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  <a:ea typeface="굴림"/>
              </a:rPr>
              <a:t>Liquid crystal switche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  <a:ea typeface="굴림"/>
              </a:rPr>
              <a:t>Electro-optic (LiNbO3)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E2A9E-9B4C-49F0-9208-14C5FDC1EC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Wavelength Selective Switch w/ Wavelength Changer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648320" y="3429000"/>
            <a:ext cx="4038480" cy="2914560"/>
            <a:chOff x="4648320" y="3429000"/>
            <a:chExt cx="4038480" cy="2914560"/>
          </a:xfrm>
        </p:grpSpPr>
        <p:sp>
          <p:nvSpPr>
            <p:cNvPr id="768" name=""/>
            <p:cNvSpPr/>
            <p:nvPr/>
          </p:nvSpPr>
          <p:spPr>
            <a:xfrm>
              <a:off x="4648320" y="3429000"/>
              <a:ext cx="4038480" cy="291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122880" y="3791160"/>
              <a:ext cx="431280" cy="2103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981320" y="4133880"/>
              <a:ext cx="5266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4981320" y="4828680"/>
              <a:ext cx="5266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987800" y="5545080"/>
              <a:ext cx="51408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 flipV="1" rot="16200000">
              <a:off x="5263920" y="4079880"/>
              <a:ext cx="622440" cy="109080"/>
            </a:xfrm>
            <a:custGeom>
              <a:avLst/>
              <a:gdLst>
                <a:gd name="textAreaLeft" fmla="*/ 136800 w 622440"/>
                <a:gd name="textAreaRight" fmla="*/ 485640 w 622440"/>
                <a:gd name="textAreaTop" fmla="*/ 23760 h 109080"/>
                <a:gd name="textAreaBottom" fmla="*/ 85320 h 10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 rot="16200000">
              <a:off x="5263920" y="4786200"/>
              <a:ext cx="622440" cy="109080"/>
            </a:xfrm>
            <a:custGeom>
              <a:avLst/>
              <a:gdLst>
                <a:gd name="textAreaLeft" fmla="*/ 136800 w 622440"/>
                <a:gd name="textAreaRight" fmla="*/ 485640 w 622440"/>
                <a:gd name="textAreaTop" fmla="*/ 23760 h 109080"/>
                <a:gd name="textAreaBottom" fmla="*/ 85320 h 10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 rot="16200000">
              <a:off x="5263200" y="5491800"/>
              <a:ext cx="623880" cy="109080"/>
            </a:xfrm>
            <a:custGeom>
              <a:avLst/>
              <a:gdLst>
                <a:gd name="textAreaLeft" fmla="*/ 137160 w 623880"/>
                <a:gd name="textAreaRight" fmla="*/ 486720 w 623880"/>
                <a:gd name="textAreaTop" fmla="*/ 23760 h 109080"/>
                <a:gd name="textAreaBottom" fmla="*/ 85320 h 10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653080" y="3919680"/>
              <a:ext cx="448920" cy="144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5656320" y="4040280"/>
              <a:ext cx="448560" cy="3312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653080" y="4199040"/>
              <a:ext cx="46296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5657760" y="4334040"/>
              <a:ext cx="4536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653080" y="4624560"/>
              <a:ext cx="46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653080" y="4750920"/>
              <a:ext cx="469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5638680" y="4900320"/>
              <a:ext cx="48852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653080" y="5041800"/>
              <a:ext cx="469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656320" y="5326200"/>
              <a:ext cx="450360" cy="468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5653080" y="5459400"/>
              <a:ext cx="46152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57760" y="5608800"/>
              <a:ext cx="46332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5661000" y="5740560"/>
              <a:ext cx="4536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554520" y="3919680"/>
              <a:ext cx="464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6561000" y="4047840"/>
              <a:ext cx="4600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572160" y="4199040"/>
              <a:ext cx="448920" cy="612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6568920" y="4334040"/>
              <a:ext cx="45216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572160" y="4624560"/>
              <a:ext cx="45036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6564240" y="4750920"/>
              <a:ext cx="4662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6556320" y="4893840"/>
              <a:ext cx="475920" cy="3348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564240" y="5041800"/>
              <a:ext cx="466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561000" y="5326200"/>
              <a:ext cx="4600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6564240" y="5459400"/>
              <a:ext cx="46332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568920" y="5608800"/>
              <a:ext cx="46152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6573600" y="5740560"/>
              <a:ext cx="45396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7040520" y="3859200"/>
              <a:ext cx="118440" cy="528480"/>
              <a:chOff x="7040520" y="3859200"/>
              <a:chExt cx="118440" cy="528480"/>
            </a:xfrm>
          </p:grpSpPr>
          <p:sp>
            <p:nvSpPr>
              <p:cNvPr id="801" name=""/>
              <p:cNvSpPr/>
              <p:nvPr/>
            </p:nvSpPr>
            <p:spPr>
              <a:xfrm>
                <a:off x="7040520" y="3859200"/>
                <a:ext cx="103320" cy="105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052040" y="4010400"/>
                <a:ext cx="101880" cy="106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055640" y="4141440"/>
                <a:ext cx="103320" cy="105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052040" y="4286160"/>
                <a:ext cx="100080" cy="101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7034040" y="4573440"/>
              <a:ext cx="118440" cy="529920"/>
              <a:chOff x="7034040" y="4573440"/>
              <a:chExt cx="118440" cy="529920"/>
            </a:xfrm>
          </p:grpSpPr>
          <p:sp>
            <p:nvSpPr>
              <p:cNvPr id="806" name=""/>
              <p:cNvSpPr/>
              <p:nvPr/>
            </p:nvSpPr>
            <p:spPr>
              <a:xfrm>
                <a:off x="7034040" y="4573440"/>
                <a:ext cx="103680" cy="105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047360" y="4721400"/>
                <a:ext cx="103320" cy="106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049160" y="4856760"/>
                <a:ext cx="103320" cy="100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044120" y="4996440"/>
                <a:ext cx="103320" cy="106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7037280" y="5248440"/>
              <a:ext cx="116640" cy="526680"/>
              <a:chOff x="7037280" y="5248440"/>
              <a:chExt cx="116640" cy="526680"/>
            </a:xfrm>
          </p:grpSpPr>
          <p:sp>
            <p:nvSpPr>
              <p:cNvPr id="811" name=""/>
              <p:cNvSpPr/>
              <p:nvPr/>
            </p:nvSpPr>
            <p:spPr>
              <a:xfrm>
                <a:off x="7037280" y="5248440"/>
                <a:ext cx="105120" cy="105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048800" y="5397840"/>
                <a:ext cx="103320" cy="106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052400" y="5530320"/>
                <a:ext cx="101520" cy="105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048800" y="5669640"/>
                <a:ext cx="101520" cy="105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7805520" y="4132440"/>
              <a:ext cx="66024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7799400" y="4827600"/>
              <a:ext cx="628200" cy="3024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797600" y="552600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 rot="5400000">
              <a:off x="7407360" y="4066920"/>
              <a:ext cx="622440" cy="112320"/>
            </a:xfrm>
            <a:custGeom>
              <a:avLst/>
              <a:gdLst>
                <a:gd name="textAreaLeft" fmla="*/ 136800 w 622440"/>
                <a:gd name="textAreaRight" fmla="*/ 485640 w 622440"/>
                <a:gd name="textAreaTop" fmla="*/ 24480 h 112320"/>
                <a:gd name="textAreaBottom" fmla="*/ 87840 h 11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 rot="5400000">
              <a:off x="7409880" y="4772520"/>
              <a:ext cx="617400" cy="112320"/>
            </a:xfrm>
            <a:custGeom>
              <a:avLst/>
              <a:gdLst>
                <a:gd name="textAreaLeft" fmla="*/ 135720 w 617400"/>
                <a:gd name="textAreaRight" fmla="*/ 481680 w 617400"/>
                <a:gd name="textAreaTop" fmla="*/ 24480 h 112320"/>
                <a:gd name="textAreaBottom" fmla="*/ 87840 h 11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 rot="5400000">
              <a:off x="7409160" y="5479560"/>
              <a:ext cx="619200" cy="112320"/>
            </a:xfrm>
            <a:custGeom>
              <a:avLst/>
              <a:gdLst>
                <a:gd name="textAreaLeft" fmla="*/ 136080 w 619200"/>
                <a:gd name="textAreaRight" fmla="*/ 483120 w 619200"/>
                <a:gd name="textAreaTop" fmla="*/ 24480 h 112320"/>
                <a:gd name="textAreaBottom" fmla="*/ 87840 h 11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7175520" y="3909960"/>
              <a:ext cx="4867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 flipV="1">
              <a:off x="7171920" y="4040280"/>
              <a:ext cx="48852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7157520" y="4191120"/>
              <a:ext cx="504360" cy="612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7171920" y="4322880"/>
              <a:ext cx="4806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156080" y="4616640"/>
              <a:ext cx="50580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160760" y="4751280"/>
              <a:ext cx="49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7148160" y="4886280"/>
              <a:ext cx="529560" cy="2880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7160760" y="5029200"/>
              <a:ext cx="4950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7170480" y="5316480"/>
              <a:ext cx="4903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7167240" y="5446800"/>
              <a:ext cx="48852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7162560" y="5597640"/>
              <a:ext cx="4903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 flipV="1">
              <a:off x="7167240" y="5729400"/>
              <a:ext cx="4806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132240" y="3932280"/>
              <a:ext cx="398160" cy="98748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05440" y="4124520"/>
              <a:ext cx="505800" cy="792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5511240" y="3932280"/>
              <a:ext cx="144360" cy="18720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677000" y="4836960"/>
              <a:ext cx="107640" cy="8244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5537160" y="5319720"/>
              <a:ext cx="91800" cy="24768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6132240" y="4624560"/>
              <a:ext cx="423720" cy="72216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677000" y="4629240"/>
              <a:ext cx="99720" cy="17928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804080" y="4802040"/>
              <a:ext cx="60444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013360" y="4170240"/>
              <a:ext cx="497880" cy="190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5537160" y="4054680"/>
              <a:ext cx="97920" cy="15696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132240" y="4081320"/>
              <a:ext cx="423720" cy="101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7667640" y="4127400"/>
              <a:ext cx="109080" cy="7488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4419720" cy="25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Wavelength Changing Technologi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Electro-optic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Semi-conductor amplifier gain switching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Phase conjugation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FEB83-8A1D-4C4B-AA72-A2900AE60D1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Lightpath Layer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Function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End-to-end networking of circuit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Routing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Protection and restoration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Management of circuit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Network element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Adaptation sub-layer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Closed terminal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Closed OADN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Regeneration node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Lightpath switch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0E70D-DBB0-4C62-9A93-C89444C6EB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Lightpath Layer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848360" cy="426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Adaptation technologies: optic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Laser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Receiver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Dispersion compensat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Polarization manipulat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Amplifier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VOA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Trends to smaller size, lower cost, better performance, and integrat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52C68-9420-473C-ACC1-BAE7B026F8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Lightpath Layer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Adaptation technologies: electronic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SONET/SDH processing ASIC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Packet over SONET/SDH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Packet over ATM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Forward Error Correction (FEC) and digital wrapper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F4123-4422-4EBD-BC15-895F57066A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Agenda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543800" cy="403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The public network challenge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Intelligent optical networking technologies and network element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Intelligent optical networking architectur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Internetworking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Future trend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55964-00D8-4D0E-A53B-E50E690318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60948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</a:rPr>
              <a:t>Layering the Intelligent Optical Network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Digital Wrap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62120" y="1600200"/>
            <a:ext cx="784836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EC +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914400" y="2133720"/>
            <a:ext cx="3123720" cy="1980720"/>
            <a:chOff x="914400" y="2133720"/>
            <a:chExt cx="3123720" cy="1980720"/>
          </a:xfrm>
        </p:grpSpPr>
        <p:sp>
          <p:nvSpPr>
            <p:cNvPr id="855" name=""/>
            <p:cNvSpPr/>
            <p:nvPr/>
          </p:nvSpPr>
          <p:spPr>
            <a:xfrm>
              <a:off x="914400" y="2133720"/>
              <a:ext cx="3123720" cy="1980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449720" y="2133720"/>
              <a:ext cx="0" cy="1980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985400" y="2133720"/>
              <a:ext cx="0" cy="1980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521080" y="2133720"/>
              <a:ext cx="0" cy="1980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056400" y="2133720"/>
              <a:ext cx="0" cy="1980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592080" y="2133720"/>
              <a:ext cx="0" cy="1980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914400" y="2699640"/>
              <a:ext cx="3034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914400" y="3407040"/>
              <a:ext cx="3034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914400" y="4114440"/>
              <a:ext cx="3034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5486040" y="2133720"/>
            <a:ext cx="3048120" cy="1980720"/>
            <a:chOff x="5486040" y="2133720"/>
            <a:chExt cx="3048120" cy="1980720"/>
          </a:xfrm>
        </p:grpSpPr>
        <p:sp>
          <p:nvSpPr>
            <p:cNvPr id="865" name=""/>
            <p:cNvSpPr/>
            <p:nvPr/>
          </p:nvSpPr>
          <p:spPr>
            <a:xfrm>
              <a:off x="5486400" y="2133720"/>
              <a:ext cx="3047760" cy="1980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008760" y="2133720"/>
              <a:ext cx="0" cy="1980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531480" y="2133720"/>
              <a:ext cx="0" cy="1980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053840" y="2133720"/>
              <a:ext cx="0" cy="1980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576560" y="2133720"/>
              <a:ext cx="0" cy="1980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098920" y="2133720"/>
              <a:ext cx="0" cy="1980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5486040" y="2699640"/>
              <a:ext cx="29610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5486040" y="3407040"/>
              <a:ext cx="29610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5486040" y="4114440"/>
              <a:ext cx="29610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4648320" y="2133720"/>
            <a:ext cx="838080" cy="19810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992160" y="2723400"/>
            <a:ext cx="2962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PTICAL TRANSPORT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OT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rot="5400000">
            <a:off x="4016880" y="2774880"/>
            <a:ext cx="2079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PARITY CHE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487840" y="2723400"/>
            <a:ext cx="2962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PTICAL TRANSPORT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OT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114800" y="312408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09480" y="4648320"/>
            <a:ext cx="37339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Times New Roman"/>
              </a:rPr>
              <a:t>BENEF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EC for greater dist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Overhead for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Conceptually works for any client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No disruption of any client overh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572000" y="4648320"/>
            <a:ext cx="43434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00"/>
                </a:solidFill>
                <a:uFillTx/>
                <a:latin typeface="Times New Roman"/>
              </a:rPr>
              <a:t>CURRENT SHORT COM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Not yet standard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No provisions yet for muxing wrapp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Issues with legacy equi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Issues with future proof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May require reinvention of SONET functions: timing, performance management,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BE7A5-5113-488C-9735-04AE888F69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1371600" y="2133720"/>
            <a:ext cx="15238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Digital Wrappers: Future Issue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883" name=""/>
          <p:cNvSpPr/>
          <p:nvPr/>
        </p:nvSpPr>
        <p:spPr>
          <a:xfrm>
            <a:off x="4189320" y="2457360"/>
            <a:ext cx="1079640" cy="3859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4246560" y="1963440"/>
            <a:ext cx="965160" cy="3841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5383080" y="2292480"/>
            <a:ext cx="851040" cy="66024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361040" y="2347920"/>
            <a:ext cx="187308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5383080" y="1963800"/>
            <a:ext cx="851040" cy="21888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99040" y="1743120"/>
            <a:ext cx="284040" cy="439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64200" y="2017800"/>
            <a:ext cx="284040" cy="439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26440" y="3071880"/>
            <a:ext cx="738000" cy="110016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 flipV="1">
            <a:off x="6324120" y="2209320"/>
            <a:ext cx="1219320" cy="7621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76640" y="2238480"/>
            <a:ext cx="284400" cy="439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569360" y="2962440"/>
            <a:ext cx="226800" cy="274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086600" y="2743200"/>
            <a:ext cx="1419120" cy="17035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962520" y="1523880"/>
            <a:ext cx="2612880" cy="17035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838080" y="3200400"/>
            <a:ext cx="522360" cy="312840"/>
            <a:chOff x="838080" y="3200400"/>
            <a:chExt cx="522360" cy="312840"/>
          </a:xfrm>
        </p:grpSpPr>
        <p:sp>
          <p:nvSpPr>
            <p:cNvPr id="897" name=""/>
            <p:cNvSpPr/>
            <p:nvPr/>
          </p:nvSpPr>
          <p:spPr>
            <a:xfrm>
              <a:off x="842760" y="3204720"/>
              <a:ext cx="511560" cy="302400"/>
            </a:xfrm>
            <a:custGeom>
              <a:avLst/>
              <a:gdLst/>
              <a:ahLst/>
              <a:rect l="l" t="t" r="r" b="b"/>
              <a:pathLst>
                <a:path w="432" h="264">
                  <a:moveTo>
                    <a:pt x="216" y="0"/>
                  </a:move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4" y="211"/>
                  </a:lnTo>
                  <a:lnTo>
                    <a:pt x="10" y="217"/>
                  </a:lnTo>
                  <a:lnTo>
                    <a:pt x="17" y="224"/>
                  </a:lnTo>
                  <a:lnTo>
                    <a:pt x="26" y="229"/>
                  </a:lnTo>
                  <a:lnTo>
                    <a:pt x="37" y="235"/>
                  </a:lnTo>
                  <a:lnTo>
                    <a:pt x="49" y="240"/>
                  </a:lnTo>
                  <a:lnTo>
                    <a:pt x="63" y="245"/>
                  </a:lnTo>
                  <a:lnTo>
                    <a:pt x="79" y="249"/>
                  </a:lnTo>
                  <a:lnTo>
                    <a:pt x="95" y="253"/>
                  </a:lnTo>
                  <a:lnTo>
                    <a:pt x="113" y="256"/>
                  </a:lnTo>
                  <a:lnTo>
                    <a:pt x="132" y="259"/>
                  </a:lnTo>
                  <a:lnTo>
                    <a:pt x="173" y="263"/>
                  </a:lnTo>
                  <a:lnTo>
                    <a:pt x="216" y="264"/>
                  </a:lnTo>
                  <a:lnTo>
                    <a:pt x="259" y="263"/>
                  </a:lnTo>
                  <a:lnTo>
                    <a:pt x="300" y="259"/>
                  </a:lnTo>
                  <a:lnTo>
                    <a:pt x="319" y="256"/>
                  </a:lnTo>
                  <a:lnTo>
                    <a:pt x="337" y="253"/>
                  </a:lnTo>
                  <a:lnTo>
                    <a:pt x="353" y="249"/>
                  </a:lnTo>
                  <a:lnTo>
                    <a:pt x="369" y="245"/>
                  </a:lnTo>
                  <a:lnTo>
                    <a:pt x="383" y="240"/>
                  </a:lnTo>
                  <a:lnTo>
                    <a:pt x="395" y="235"/>
                  </a:lnTo>
                  <a:lnTo>
                    <a:pt x="406" y="229"/>
                  </a:lnTo>
                  <a:lnTo>
                    <a:pt x="415" y="224"/>
                  </a:lnTo>
                  <a:lnTo>
                    <a:pt x="422" y="217"/>
                  </a:lnTo>
                  <a:lnTo>
                    <a:pt x="428" y="211"/>
                  </a:lnTo>
                  <a:lnTo>
                    <a:pt x="431" y="205"/>
                  </a:lnTo>
                  <a:lnTo>
                    <a:pt x="432" y="198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2760" y="3204720"/>
              <a:ext cx="511560" cy="151200"/>
            </a:xfrm>
            <a:custGeom>
              <a:avLst/>
              <a:gdLst/>
              <a:ahLst/>
              <a:rect l="l" t="t" r="r" b="b"/>
              <a:pathLst>
                <a:path w="432" h="132">
                  <a:moveTo>
                    <a:pt x="0" y="66"/>
                  </a:moveTo>
                  <a:lnTo>
                    <a:pt x="1" y="73"/>
                  </a:lnTo>
                  <a:lnTo>
                    <a:pt x="4" y="79"/>
                  </a:lnTo>
                  <a:lnTo>
                    <a:pt x="10" y="85"/>
                  </a:lnTo>
                  <a:lnTo>
                    <a:pt x="17" y="92"/>
                  </a:lnTo>
                  <a:lnTo>
                    <a:pt x="26" y="97"/>
                  </a:lnTo>
                  <a:lnTo>
                    <a:pt x="37" y="103"/>
                  </a:lnTo>
                  <a:lnTo>
                    <a:pt x="49" y="108"/>
                  </a:lnTo>
                  <a:lnTo>
                    <a:pt x="63" y="113"/>
                  </a:lnTo>
                  <a:lnTo>
                    <a:pt x="79" y="117"/>
                  </a:lnTo>
                  <a:lnTo>
                    <a:pt x="95" y="121"/>
                  </a:lnTo>
                  <a:lnTo>
                    <a:pt x="113" y="124"/>
                  </a:lnTo>
                  <a:lnTo>
                    <a:pt x="132" y="127"/>
                  </a:lnTo>
                  <a:lnTo>
                    <a:pt x="173" y="131"/>
                  </a:lnTo>
                  <a:lnTo>
                    <a:pt x="216" y="132"/>
                  </a:lnTo>
                  <a:lnTo>
                    <a:pt x="259" y="131"/>
                  </a:lnTo>
                  <a:lnTo>
                    <a:pt x="300" y="127"/>
                  </a:lnTo>
                  <a:lnTo>
                    <a:pt x="319" y="124"/>
                  </a:lnTo>
                  <a:lnTo>
                    <a:pt x="337" y="121"/>
                  </a:lnTo>
                  <a:lnTo>
                    <a:pt x="353" y="117"/>
                  </a:lnTo>
                  <a:lnTo>
                    <a:pt x="369" y="113"/>
                  </a:lnTo>
                  <a:lnTo>
                    <a:pt x="383" y="108"/>
                  </a:lnTo>
                  <a:lnTo>
                    <a:pt x="395" y="103"/>
                  </a:lnTo>
                  <a:lnTo>
                    <a:pt x="406" y="97"/>
                  </a:lnTo>
                  <a:lnTo>
                    <a:pt x="415" y="92"/>
                  </a:lnTo>
                  <a:lnTo>
                    <a:pt x="422" y="85"/>
                  </a:lnTo>
                  <a:lnTo>
                    <a:pt x="428" y="79"/>
                  </a:lnTo>
                  <a:lnTo>
                    <a:pt x="431" y="73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38080" y="3200400"/>
              <a:ext cx="522360" cy="312840"/>
            </a:xfrm>
            <a:custGeom>
              <a:avLst/>
              <a:gdLst/>
              <a:ahLst/>
              <a:rect l="l" t="t" r="r" b="b"/>
              <a:pathLst>
                <a:path w="441" h="273">
                  <a:moveTo>
                    <a:pt x="177" y="1"/>
                  </a:moveTo>
                  <a:lnTo>
                    <a:pt x="136" y="5"/>
                  </a:lnTo>
                  <a:lnTo>
                    <a:pt x="117" y="8"/>
                  </a:lnTo>
                  <a:lnTo>
                    <a:pt x="99" y="11"/>
                  </a:lnTo>
                  <a:lnTo>
                    <a:pt x="83" y="15"/>
                  </a:lnTo>
                  <a:lnTo>
                    <a:pt x="67" y="19"/>
                  </a:lnTo>
                  <a:lnTo>
                    <a:pt x="53" y="24"/>
                  </a:lnTo>
                  <a:lnTo>
                    <a:pt x="41" y="29"/>
                  </a:lnTo>
                  <a:lnTo>
                    <a:pt x="38" y="30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4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2" y="212"/>
                  </a:lnTo>
                  <a:lnTo>
                    <a:pt x="5" y="218"/>
                  </a:lnTo>
                  <a:lnTo>
                    <a:pt x="11" y="224"/>
                  </a:lnTo>
                  <a:lnTo>
                    <a:pt x="18" y="231"/>
                  </a:lnTo>
                  <a:lnTo>
                    <a:pt x="27" y="236"/>
                  </a:lnTo>
                  <a:lnTo>
                    <a:pt x="38" y="242"/>
                  </a:lnTo>
                  <a:lnTo>
                    <a:pt x="41" y="243"/>
                  </a:lnTo>
                  <a:lnTo>
                    <a:pt x="53" y="248"/>
                  </a:lnTo>
                  <a:lnTo>
                    <a:pt x="67" y="253"/>
                  </a:lnTo>
                  <a:lnTo>
                    <a:pt x="83" y="257"/>
                  </a:lnTo>
                  <a:lnTo>
                    <a:pt x="99" y="261"/>
                  </a:lnTo>
                  <a:lnTo>
                    <a:pt x="117" y="264"/>
                  </a:lnTo>
                  <a:lnTo>
                    <a:pt x="136" y="267"/>
                  </a:lnTo>
                  <a:lnTo>
                    <a:pt x="177" y="271"/>
                  </a:lnTo>
                  <a:lnTo>
                    <a:pt x="220" y="273"/>
                  </a:lnTo>
                  <a:lnTo>
                    <a:pt x="263" y="271"/>
                  </a:lnTo>
                  <a:lnTo>
                    <a:pt x="304" y="267"/>
                  </a:lnTo>
                  <a:lnTo>
                    <a:pt x="323" y="264"/>
                  </a:lnTo>
                  <a:lnTo>
                    <a:pt x="341" y="261"/>
                  </a:lnTo>
                  <a:lnTo>
                    <a:pt x="357" y="257"/>
                  </a:lnTo>
                  <a:lnTo>
                    <a:pt x="373" y="253"/>
                  </a:lnTo>
                  <a:lnTo>
                    <a:pt x="387" y="248"/>
                  </a:lnTo>
                  <a:lnTo>
                    <a:pt x="399" y="243"/>
                  </a:lnTo>
                  <a:lnTo>
                    <a:pt x="402" y="242"/>
                  </a:lnTo>
                  <a:lnTo>
                    <a:pt x="413" y="236"/>
                  </a:lnTo>
                  <a:lnTo>
                    <a:pt x="422" y="231"/>
                  </a:lnTo>
                  <a:lnTo>
                    <a:pt x="429" y="224"/>
                  </a:lnTo>
                  <a:lnTo>
                    <a:pt x="435" y="218"/>
                  </a:lnTo>
                  <a:lnTo>
                    <a:pt x="438" y="212"/>
                  </a:lnTo>
                  <a:lnTo>
                    <a:pt x="439" y="209"/>
                  </a:lnTo>
                  <a:lnTo>
                    <a:pt x="441" y="202"/>
                  </a:lnTo>
                  <a:lnTo>
                    <a:pt x="441" y="70"/>
                  </a:lnTo>
                  <a:lnTo>
                    <a:pt x="439" y="63"/>
                  </a:lnTo>
                  <a:lnTo>
                    <a:pt x="438" y="60"/>
                  </a:lnTo>
                  <a:lnTo>
                    <a:pt x="435" y="54"/>
                  </a:lnTo>
                  <a:lnTo>
                    <a:pt x="429" y="48"/>
                  </a:lnTo>
                  <a:lnTo>
                    <a:pt x="422" y="42"/>
                  </a:lnTo>
                  <a:lnTo>
                    <a:pt x="413" y="36"/>
                  </a:lnTo>
                  <a:lnTo>
                    <a:pt x="402" y="30"/>
                  </a:lnTo>
                  <a:lnTo>
                    <a:pt x="399" y="29"/>
                  </a:lnTo>
                  <a:lnTo>
                    <a:pt x="387" y="24"/>
                  </a:lnTo>
                  <a:lnTo>
                    <a:pt x="373" y="19"/>
                  </a:lnTo>
                  <a:lnTo>
                    <a:pt x="357" y="15"/>
                  </a:lnTo>
                  <a:lnTo>
                    <a:pt x="341" y="11"/>
                  </a:lnTo>
                  <a:lnTo>
                    <a:pt x="323" y="8"/>
                  </a:lnTo>
                  <a:lnTo>
                    <a:pt x="304" y="5"/>
                  </a:lnTo>
                  <a:lnTo>
                    <a:pt x="263" y="1"/>
                  </a:lnTo>
                  <a:lnTo>
                    <a:pt x="220" y="0"/>
                  </a:lnTo>
                  <a:lnTo>
                    <a:pt x="177" y="1"/>
                  </a:lnTo>
                  <a:close/>
                  <a:moveTo>
                    <a:pt x="220" y="9"/>
                  </a:moveTo>
                  <a:lnTo>
                    <a:pt x="263" y="10"/>
                  </a:lnTo>
                  <a:lnTo>
                    <a:pt x="304" y="14"/>
                  </a:lnTo>
                  <a:lnTo>
                    <a:pt x="323" y="17"/>
                  </a:lnTo>
                  <a:lnTo>
                    <a:pt x="341" y="20"/>
                  </a:lnTo>
                  <a:lnTo>
                    <a:pt x="357" y="24"/>
                  </a:lnTo>
                  <a:lnTo>
                    <a:pt x="373" y="28"/>
                  </a:lnTo>
                  <a:lnTo>
                    <a:pt x="387" y="33"/>
                  </a:lnTo>
                  <a:lnTo>
                    <a:pt x="399" y="38"/>
                  </a:lnTo>
                  <a:lnTo>
                    <a:pt x="399" y="33"/>
                  </a:lnTo>
                  <a:lnTo>
                    <a:pt x="396" y="36"/>
                  </a:lnTo>
                  <a:lnTo>
                    <a:pt x="407" y="42"/>
                  </a:lnTo>
                  <a:lnTo>
                    <a:pt x="416" y="48"/>
                  </a:lnTo>
                  <a:lnTo>
                    <a:pt x="423" y="54"/>
                  </a:lnTo>
                  <a:lnTo>
                    <a:pt x="429" y="60"/>
                  </a:lnTo>
                  <a:lnTo>
                    <a:pt x="432" y="66"/>
                  </a:lnTo>
                  <a:lnTo>
                    <a:pt x="435" y="63"/>
                  </a:lnTo>
                  <a:lnTo>
                    <a:pt x="430" y="63"/>
                  </a:lnTo>
                  <a:lnTo>
                    <a:pt x="432" y="70"/>
                  </a:lnTo>
                  <a:lnTo>
                    <a:pt x="432" y="202"/>
                  </a:lnTo>
                  <a:lnTo>
                    <a:pt x="430" y="209"/>
                  </a:lnTo>
                  <a:lnTo>
                    <a:pt x="435" y="209"/>
                  </a:lnTo>
                  <a:lnTo>
                    <a:pt x="432" y="206"/>
                  </a:lnTo>
                  <a:lnTo>
                    <a:pt x="429" y="212"/>
                  </a:lnTo>
                  <a:lnTo>
                    <a:pt x="423" y="218"/>
                  </a:lnTo>
                  <a:lnTo>
                    <a:pt x="416" y="225"/>
                  </a:lnTo>
                  <a:lnTo>
                    <a:pt x="407" y="230"/>
                  </a:lnTo>
                  <a:lnTo>
                    <a:pt x="396" y="236"/>
                  </a:lnTo>
                  <a:lnTo>
                    <a:pt x="399" y="239"/>
                  </a:lnTo>
                  <a:lnTo>
                    <a:pt x="399" y="234"/>
                  </a:lnTo>
                  <a:lnTo>
                    <a:pt x="387" y="239"/>
                  </a:lnTo>
                  <a:lnTo>
                    <a:pt x="373" y="244"/>
                  </a:lnTo>
                  <a:lnTo>
                    <a:pt x="357" y="248"/>
                  </a:lnTo>
                  <a:lnTo>
                    <a:pt x="341" y="252"/>
                  </a:lnTo>
                  <a:lnTo>
                    <a:pt x="323" y="255"/>
                  </a:lnTo>
                  <a:lnTo>
                    <a:pt x="304" y="258"/>
                  </a:lnTo>
                  <a:lnTo>
                    <a:pt x="263" y="262"/>
                  </a:lnTo>
                  <a:lnTo>
                    <a:pt x="220" y="264"/>
                  </a:lnTo>
                  <a:lnTo>
                    <a:pt x="177" y="262"/>
                  </a:lnTo>
                  <a:lnTo>
                    <a:pt x="136" y="258"/>
                  </a:lnTo>
                  <a:lnTo>
                    <a:pt x="117" y="255"/>
                  </a:lnTo>
                  <a:lnTo>
                    <a:pt x="99" y="252"/>
                  </a:lnTo>
                  <a:lnTo>
                    <a:pt x="83" y="248"/>
                  </a:lnTo>
                  <a:lnTo>
                    <a:pt x="67" y="244"/>
                  </a:lnTo>
                  <a:lnTo>
                    <a:pt x="53" y="239"/>
                  </a:lnTo>
                  <a:lnTo>
                    <a:pt x="41" y="234"/>
                  </a:lnTo>
                  <a:lnTo>
                    <a:pt x="41" y="239"/>
                  </a:lnTo>
                  <a:lnTo>
                    <a:pt x="44" y="236"/>
                  </a:lnTo>
                  <a:lnTo>
                    <a:pt x="33" y="230"/>
                  </a:lnTo>
                  <a:lnTo>
                    <a:pt x="24" y="225"/>
                  </a:lnTo>
                  <a:lnTo>
                    <a:pt x="17" y="218"/>
                  </a:lnTo>
                  <a:lnTo>
                    <a:pt x="11" y="212"/>
                  </a:lnTo>
                  <a:lnTo>
                    <a:pt x="8" y="206"/>
                  </a:lnTo>
                  <a:lnTo>
                    <a:pt x="5" y="209"/>
                  </a:lnTo>
                  <a:lnTo>
                    <a:pt x="10" y="209"/>
                  </a:lnTo>
                  <a:lnTo>
                    <a:pt x="9" y="202"/>
                  </a:lnTo>
                  <a:lnTo>
                    <a:pt x="9" y="70"/>
                  </a:lnTo>
                  <a:lnTo>
                    <a:pt x="10" y="63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1" y="60"/>
                  </a:lnTo>
                  <a:lnTo>
                    <a:pt x="17" y="54"/>
                  </a:lnTo>
                  <a:lnTo>
                    <a:pt x="24" y="48"/>
                  </a:lnTo>
                  <a:lnTo>
                    <a:pt x="33" y="42"/>
                  </a:lnTo>
                  <a:lnTo>
                    <a:pt x="44" y="36"/>
                  </a:lnTo>
                  <a:lnTo>
                    <a:pt x="41" y="33"/>
                  </a:lnTo>
                  <a:lnTo>
                    <a:pt x="41" y="38"/>
                  </a:lnTo>
                  <a:lnTo>
                    <a:pt x="53" y="33"/>
                  </a:lnTo>
                  <a:lnTo>
                    <a:pt x="67" y="28"/>
                  </a:lnTo>
                  <a:lnTo>
                    <a:pt x="83" y="24"/>
                  </a:lnTo>
                  <a:lnTo>
                    <a:pt x="99" y="20"/>
                  </a:lnTo>
                  <a:lnTo>
                    <a:pt x="117" y="17"/>
                  </a:lnTo>
                  <a:lnTo>
                    <a:pt x="136" y="14"/>
                  </a:lnTo>
                  <a:lnTo>
                    <a:pt x="177" y="10"/>
                  </a:lnTo>
                  <a:lnTo>
                    <a:pt x="220" y="9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38080" y="3280680"/>
              <a:ext cx="522360" cy="81000"/>
            </a:xfrm>
            <a:custGeom>
              <a:avLst/>
              <a:gdLst/>
              <a:ahLst/>
              <a:rect l="l" t="t" r="r" b="b"/>
              <a:pathLst>
                <a:path w="441" h="71">
                  <a:moveTo>
                    <a:pt x="9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11" y="22"/>
                  </a:lnTo>
                  <a:lnTo>
                    <a:pt x="18" y="29"/>
                  </a:lnTo>
                  <a:lnTo>
                    <a:pt x="27" y="34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53" y="46"/>
                  </a:lnTo>
                  <a:lnTo>
                    <a:pt x="67" y="51"/>
                  </a:lnTo>
                  <a:lnTo>
                    <a:pt x="83" y="55"/>
                  </a:lnTo>
                  <a:lnTo>
                    <a:pt x="99" y="59"/>
                  </a:lnTo>
                  <a:lnTo>
                    <a:pt x="117" y="62"/>
                  </a:lnTo>
                  <a:lnTo>
                    <a:pt x="136" y="65"/>
                  </a:lnTo>
                  <a:lnTo>
                    <a:pt x="177" y="69"/>
                  </a:lnTo>
                  <a:lnTo>
                    <a:pt x="220" y="71"/>
                  </a:lnTo>
                  <a:lnTo>
                    <a:pt x="263" y="69"/>
                  </a:lnTo>
                  <a:lnTo>
                    <a:pt x="304" y="65"/>
                  </a:lnTo>
                  <a:lnTo>
                    <a:pt x="323" y="62"/>
                  </a:lnTo>
                  <a:lnTo>
                    <a:pt x="341" y="59"/>
                  </a:lnTo>
                  <a:lnTo>
                    <a:pt x="357" y="55"/>
                  </a:lnTo>
                  <a:lnTo>
                    <a:pt x="373" y="51"/>
                  </a:lnTo>
                  <a:lnTo>
                    <a:pt x="387" y="46"/>
                  </a:lnTo>
                  <a:lnTo>
                    <a:pt x="399" y="41"/>
                  </a:lnTo>
                  <a:lnTo>
                    <a:pt x="402" y="40"/>
                  </a:lnTo>
                  <a:lnTo>
                    <a:pt x="413" y="34"/>
                  </a:lnTo>
                  <a:lnTo>
                    <a:pt x="422" y="29"/>
                  </a:lnTo>
                  <a:lnTo>
                    <a:pt x="429" y="22"/>
                  </a:lnTo>
                  <a:lnTo>
                    <a:pt x="435" y="16"/>
                  </a:lnTo>
                  <a:lnTo>
                    <a:pt x="438" y="10"/>
                  </a:lnTo>
                  <a:lnTo>
                    <a:pt x="439" y="7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30" y="7"/>
                  </a:lnTo>
                  <a:lnTo>
                    <a:pt x="435" y="7"/>
                  </a:lnTo>
                  <a:lnTo>
                    <a:pt x="432" y="4"/>
                  </a:lnTo>
                  <a:lnTo>
                    <a:pt x="429" y="10"/>
                  </a:lnTo>
                  <a:lnTo>
                    <a:pt x="423" y="16"/>
                  </a:lnTo>
                  <a:lnTo>
                    <a:pt x="416" y="23"/>
                  </a:lnTo>
                  <a:lnTo>
                    <a:pt x="407" y="28"/>
                  </a:lnTo>
                  <a:lnTo>
                    <a:pt x="396" y="34"/>
                  </a:lnTo>
                  <a:lnTo>
                    <a:pt x="399" y="37"/>
                  </a:lnTo>
                  <a:lnTo>
                    <a:pt x="399" y="32"/>
                  </a:lnTo>
                  <a:lnTo>
                    <a:pt x="387" y="37"/>
                  </a:lnTo>
                  <a:lnTo>
                    <a:pt x="373" y="42"/>
                  </a:lnTo>
                  <a:lnTo>
                    <a:pt x="357" y="46"/>
                  </a:lnTo>
                  <a:lnTo>
                    <a:pt x="341" y="50"/>
                  </a:lnTo>
                  <a:lnTo>
                    <a:pt x="323" y="53"/>
                  </a:lnTo>
                  <a:lnTo>
                    <a:pt x="304" y="56"/>
                  </a:lnTo>
                  <a:lnTo>
                    <a:pt x="263" y="60"/>
                  </a:lnTo>
                  <a:lnTo>
                    <a:pt x="220" y="62"/>
                  </a:lnTo>
                  <a:lnTo>
                    <a:pt x="177" y="60"/>
                  </a:lnTo>
                  <a:lnTo>
                    <a:pt x="136" y="56"/>
                  </a:lnTo>
                  <a:lnTo>
                    <a:pt x="117" y="53"/>
                  </a:lnTo>
                  <a:lnTo>
                    <a:pt x="99" y="50"/>
                  </a:lnTo>
                  <a:lnTo>
                    <a:pt x="83" y="46"/>
                  </a:lnTo>
                  <a:lnTo>
                    <a:pt x="67" y="42"/>
                  </a:lnTo>
                  <a:lnTo>
                    <a:pt x="53" y="37"/>
                  </a:lnTo>
                  <a:lnTo>
                    <a:pt x="41" y="3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33" y="28"/>
                  </a:lnTo>
                  <a:lnTo>
                    <a:pt x="24" y="23"/>
                  </a:lnTo>
                  <a:lnTo>
                    <a:pt x="17" y="16"/>
                  </a:lnTo>
                  <a:lnTo>
                    <a:pt x="11" y="10"/>
                  </a:lnTo>
                  <a:lnTo>
                    <a:pt x="8" y="4"/>
                  </a:lnTo>
                  <a:lnTo>
                    <a:pt x="5" y="7"/>
                  </a:lnTo>
                  <a:lnTo>
                    <a:pt x="10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899280" y="3228840"/>
              <a:ext cx="384480" cy="105120"/>
              <a:chOff x="899280" y="3228840"/>
              <a:chExt cx="384480" cy="105120"/>
            </a:xfrm>
          </p:grpSpPr>
          <p:sp>
            <p:nvSpPr>
              <p:cNvPr id="902" name=""/>
              <p:cNvSpPr/>
              <p:nvPr/>
            </p:nvSpPr>
            <p:spPr>
              <a:xfrm>
                <a:off x="1099440" y="3231000"/>
                <a:ext cx="18432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099440" y="3231000"/>
                <a:ext cx="18432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99280" y="3283920"/>
                <a:ext cx="184680" cy="4788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99280" y="3283920"/>
                <a:ext cx="184680" cy="4788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909720" y="3228840"/>
                <a:ext cx="18468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909720" y="3228840"/>
                <a:ext cx="18468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093680" y="3288240"/>
                <a:ext cx="183240" cy="45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093680" y="3288240"/>
                <a:ext cx="183240" cy="45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0" name=""/>
          <p:cNvGrpSpPr/>
          <p:nvPr/>
        </p:nvGrpSpPr>
        <p:grpSpPr>
          <a:xfrm>
            <a:off x="7647120" y="5145120"/>
            <a:ext cx="522000" cy="312840"/>
            <a:chOff x="7647120" y="5145120"/>
            <a:chExt cx="522000" cy="312840"/>
          </a:xfrm>
        </p:grpSpPr>
        <p:sp>
          <p:nvSpPr>
            <p:cNvPr id="911" name=""/>
            <p:cNvSpPr/>
            <p:nvPr/>
          </p:nvSpPr>
          <p:spPr>
            <a:xfrm>
              <a:off x="7651800" y="5149440"/>
              <a:ext cx="511200" cy="302400"/>
            </a:xfrm>
            <a:custGeom>
              <a:avLst/>
              <a:gdLst/>
              <a:ahLst/>
              <a:rect l="l" t="t" r="r" b="b"/>
              <a:pathLst>
                <a:path w="432" h="264">
                  <a:moveTo>
                    <a:pt x="216" y="0"/>
                  </a:move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4" y="211"/>
                  </a:lnTo>
                  <a:lnTo>
                    <a:pt x="10" y="217"/>
                  </a:lnTo>
                  <a:lnTo>
                    <a:pt x="17" y="224"/>
                  </a:lnTo>
                  <a:lnTo>
                    <a:pt x="26" y="229"/>
                  </a:lnTo>
                  <a:lnTo>
                    <a:pt x="37" y="235"/>
                  </a:lnTo>
                  <a:lnTo>
                    <a:pt x="49" y="240"/>
                  </a:lnTo>
                  <a:lnTo>
                    <a:pt x="63" y="245"/>
                  </a:lnTo>
                  <a:lnTo>
                    <a:pt x="79" y="249"/>
                  </a:lnTo>
                  <a:lnTo>
                    <a:pt x="95" y="253"/>
                  </a:lnTo>
                  <a:lnTo>
                    <a:pt x="113" y="256"/>
                  </a:lnTo>
                  <a:lnTo>
                    <a:pt x="132" y="259"/>
                  </a:lnTo>
                  <a:lnTo>
                    <a:pt x="173" y="263"/>
                  </a:lnTo>
                  <a:lnTo>
                    <a:pt x="216" y="264"/>
                  </a:lnTo>
                  <a:lnTo>
                    <a:pt x="259" y="263"/>
                  </a:lnTo>
                  <a:lnTo>
                    <a:pt x="300" y="259"/>
                  </a:lnTo>
                  <a:lnTo>
                    <a:pt x="319" y="256"/>
                  </a:lnTo>
                  <a:lnTo>
                    <a:pt x="337" y="253"/>
                  </a:lnTo>
                  <a:lnTo>
                    <a:pt x="353" y="249"/>
                  </a:lnTo>
                  <a:lnTo>
                    <a:pt x="369" y="245"/>
                  </a:lnTo>
                  <a:lnTo>
                    <a:pt x="383" y="240"/>
                  </a:lnTo>
                  <a:lnTo>
                    <a:pt x="395" y="235"/>
                  </a:lnTo>
                  <a:lnTo>
                    <a:pt x="406" y="229"/>
                  </a:lnTo>
                  <a:lnTo>
                    <a:pt x="415" y="224"/>
                  </a:lnTo>
                  <a:lnTo>
                    <a:pt x="422" y="217"/>
                  </a:lnTo>
                  <a:lnTo>
                    <a:pt x="428" y="211"/>
                  </a:lnTo>
                  <a:lnTo>
                    <a:pt x="431" y="205"/>
                  </a:lnTo>
                  <a:lnTo>
                    <a:pt x="432" y="198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51800" y="5149440"/>
              <a:ext cx="511200" cy="151200"/>
            </a:xfrm>
            <a:custGeom>
              <a:avLst/>
              <a:gdLst/>
              <a:ahLst/>
              <a:rect l="l" t="t" r="r" b="b"/>
              <a:pathLst>
                <a:path w="432" h="132">
                  <a:moveTo>
                    <a:pt x="0" y="66"/>
                  </a:moveTo>
                  <a:lnTo>
                    <a:pt x="1" y="73"/>
                  </a:lnTo>
                  <a:lnTo>
                    <a:pt x="4" y="79"/>
                  </a:lnTo>
                  <a:lnTo>
                    <a:pt x="10" y="85"/>
                  </a:lnTo>
                  <a:lnTo>
                    <a:pt x="17" y="92"/>
                  </a:lnTo>
                  <a:lnTo>
                    <a:pt x="26" y="97"/>
                  </a:lnTo>
                  <a:lnTo>
                    <a:pt x="37" y="103"/>
                  </a:lnTo>
                  <a:lnTo>
                    <a:pt x="49" y="108"/>
                  </a:lnTo>
                  <a:lnTo>
                    <a:pt x="63" y="113"/>
                  </a:lnTo>
                  <a:lnTo>
                    <a:pt x="79" y="117"/>
                  </a:lnTo>
                  <a:lnTo>
                    <a:pt x="95" y="121"/>
                  </a:lnTo>
                  <a:lnTo>
                    <a:pt x="113" y="124"/>
                  </a:lnTo>
                  <a:lnTo>
                    <a:pt x="132" y="127"/>
                  </a:lnTo>
                  <a:lnTo>
                    <a:pt x="173" y="131"/>
                  </a:lnTo>
                  <a:lnTo>
                    <a:pt x="216" y="132"/>
                  </a:lnTo>
                  <a:lnTo>
                    <a:pt x="259" y="131"/>
                  </a:lnTo>
                  <a:lnTo>
                    <a:pt x="300" y="127"/>
                  </a:lnTo>
                  <a:lnTo>
                    <a:pt x="319" y="124"/>
                  </a:lnTo>
                  <a:lnTo>
                    <a:pt x="337" y="121"/>
                  </a:lnTo>
                  <a:lnTo>
                    <a:pt x="353" y="117"/>
                  </a:lnTo>
                  <a:lnTo>
                    <a:pt x="369" y="113"/>
                  </a:lnTo>
                  <a:lnTo>
                    <a:pt x="383" y="108"/>
                  </a:lnTo>
                  <a:lnTo>
                    <a:pt x="395" y="103"/>
                  </a:lnTo>
                  <a:lnTo>
                    <a:pt x="406" y="97"/>
                  </a:lnTo>
                  <a:lnTo>
                    <a:pt x="415" y="92"/>
                  </a:lnTo>
                  <a:lnTo>
                    <a:pt x="422" y="85"/>
                  </a:lnTo>
                  <a:lnTo>
                    <a:pt x="428" y="79"/>
                  </a:lnTo>
                  <a:lnTo>
                    <a:pt x="431" y="73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47120" y="5145120"/>
              <a:ext cx="522000" cy="312840"/>
            </a:xfrm>
            <a:custGeom>
              <a:avLst/>
              <a:gdLst/>
              <a:ahLst/>
              <a:rect l="l" t="t" r="r" b="b"/>
              <a:pathLst>
                <a:path w="441" h="273">
                  <a:moveTo>
                    <a:pt x="177" y="1"/>
                  </a:moveTo>
                  <a:lnTo>
                    <a:pt x="136" y="5"/>
                  </a:lnTo>
                  <a:lnTo>
                    <a:pt x="117" y="8"/>
                  </a:lnTo>
                  <a:lnTo>
                    <a:pt x="99" y="11"/>
                  </a:lnTo>
                  <a:lnTo>
                    <a:pt x="83" y="15"/>
                  </a:lnTo>
                  <a:lnTo>
                    <a:pt x="67" y="19"/>
                  </a:lnTo>
                  <a:lnTo>
                    <a:pt x="53" y="24"/>
                  </a:lnTo>
                  <a:lnTo>
                    <a:pt x="41" y="29"/>
                  </a:lnTo>
                  <a:lnTo>
                    <a:pt x="38" y="30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4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2" y="212"/>
                  </a:lnTo>
                  <a:lnTo>
                    <a:pt x="5" y="218"/>
                  </a:lnTo>
                  <a:lnTo>
                    <a:pt x="11" y="224"/>
                  </a:lnTo>
                  <a:lnTo>
                    <a:pt x="18" y="231"/>
                  </a:lnTo>
                  <a:lnTo>
                    <a:pt x="27" y="236"/>
                  </a:lnTo>
                  <a:lnTo>
                    <a:pt x="38" y="242"/>
                  </a:lnTo>
                  <a:lnTo>
                    <a:pt x="41" y="243"/>
                  </a:lnTo>
                  <a:lnTo>
                    <a:pt x="53" y="248"/>
                  </a:lnTo>
                  <a:lnTo>
                    <a:pt x="67" y="253"/>
                  </a:lnTo>
                  <a:lnTo>
                    <a:pt x="83" y="257"/>
                  </a:lnTo>
                  <a:lnTo>
                    <a:pt x="99" y="261"/>
                  </a:lnTo>
                  <a:lnTo>
                    <a:pt x="117" y="264"/>
                  </a:lnTo>
                  <a:lnTo>
                    <a:pt x="136" y="267"/>
                  </a:lnTo>
                  <a:lnTo>
                    <a:pt x="177" y="271"/>
                  </a:lnTo>
                  <a:lnTo>
                    <a:pt x="220" y="273"/>
                  </a:lnTo>
                  <a:lnTo>
                    <a:pt x="263" y="271"/>
                  </a:lnTo>
                  <a:lnTo>
                    <a:pt x="304" y="267"/>
                  </a:lnTo>
                  <a:lnTo>
                    <a:pt x="323" y="264"/>
                  </a:lnTo>
                  <a:lnTo>
                    <a:pt x="341" y="261"/>
                  </a:lnTo>
                  <a:lnTo>
                    <a:pt x="357" y="257"/>
                  </a:lnTo>
                  <a:lnTo>
                    <a:pt x="373" y="253"/>
                  </a:lnTo>
                  <a:lnTo>
                    <a:pt x="387" y="248"/>
                  </a:lnTo>
                  <a:lnTo>
                    <a:pt x="399" y="243"/>
                  </a:lnTo>
                  <a:lnTo>
                    <a:pt x="402" y="242"/>
                  </a:lnTo>
                  <a:lnTo>
                    <a:pt x="413" y="236"/>
                  </a:lnTo>
                  <a:lnTo>
                    <a:pt x="422" y="231"/>
                  </a:lnTo>
                  <a:lnTo>
                    <a:pt x="429" y="224"/>
                  </a:lnTo>
                  <a:lnTo>
                    <a:pt x="435" y="218"/>
                  </a:lnTo>
                  <a:lnTo>
                    <a:pt x="438" y="212"/>
                  </a:lnTo>
                  <a:lnTo>
                    <a:pt x="439" y="209"/>
                  </a:lnTo>
                  <a:lnTo>
                    <a:pt x="441" y="202"/>
                  </a:lnTo>
                  <a:lnTo>
                    <a:pt x="441" y="70"/>
                  </a:lnTo>
                  <a:lnTo>
                    <a:pt x="439" y="63"/>
                  </a:lnTo>
                  <a:lnTo>
                    <a:pt x="438" y="60"/>
                  </a:lnTo>
                  <a:lnTo>
                    <a:pt x="435" y="54"/>
                  </a:lnTo>
                  <a:lnTo>
                    <a:pt x="429" y="48"/>
                  </a:lnTo>
                  <a:lnTo>
                    <a:pt x="422" y="42"/>
                  </a:lnTo>
                  <a:lnTo>
                    <a:pt x="413" y="36"/>
                  </a:lnTo>
                  <a:lnTo>
                    <a:pt x="402" y="30"/>
                  </a:lnTo>
                  <a:lnTo>
                    <a:pt x="399" y="29"/>
                  </a:lnTo>
                  <a:lnTo>
                    <a:pt x="387" y="24"/>
                  </a:lnTo>
                  <a:lnTo>
                    <a:pt x="373" y="19"/>
                  </a:lnTo>
                  <a:lnTo>
                    <a:pt x="357" y="15"/>
                  </a:lnTo>
                  <a:lnTo>
                    <a:pt x="341" y="11"/>
                  </a:lnTo>
                  <a:lnTo>
                    <a:pt x="323" y="8"/>
                  </a:lnTo>
                  <a:lnTo>
                    <a:pt x="304" y="5"/>
                  </a:lnTo>
                  <a:lnTo>
                    <a:pt x="263" y="1"/>
                  </a:lnTo>
                  <a:lnTo>
                    <a:pt x="220" y="0"/>
                  </a:lnTo>
                  <a:lnTo>
                    <a:pt x="177" y="1"/>
                  </a:lnTo>
                  <a:close/>
                  <a:moveTo>
                    <a:pt x="220" y="9"/>
                  </a:moveTo>
                  <a:lnTo>
                    <a:pt x="263" y="10"/>
                  </a:lnTo>
                  <a:lnTo>
                    <a:pt x="304" y="14"/>
                  </a:lnTo>
                  <a:lnTo>
                    <a:pt x="323" y="17"/>
                  </a:lnTo>
                  <a:lnTo>
                    <a:pt x="341" y="20"/>
                  </a:lnTo>
                  <a:lnTo>
                    <a:pt x="357" y="24"/>
                  </a:lnTo>
                  <a:lnTo>
                    <a:pt x="373" y="28"/>
                  </a:lnTo>
                  <a:lnTo>
                    <a:pt x="387" y="33"/>
                  </a:lnTo>
                  <a:lnTo>
                    <a:pt x="399" y="38"/>
                  </a:lnTo>
                  <a:lnTo>
                    <a:pt x="399" y="33"/>
                  </a:lnTo>
                  <a:lnTo>
                    <a:pt x="396" y="36"/>
                  </a:lnTo>
                  <a:lnTo>
                    <a:pt x="407" y="42"/>
                  </a:lnTo>
                  <a:lnTo>
                    <a:pt x="416" y="48"/>
                  </a:lnTo>
                  <a:lnTo>
                    <a:pt x="423" y="54"/>
                  </a:lnTo>
                  <a:lnTo>
                    <a:pt x="429" y="60"/>
                  </a:lnTo>
                  <a:lnTo>
                    <a:pt x="432" y="66"/>
                  </a:lnTo>
                  <a:lnTo>
                    <a:pt x="435" y="63"/>
                  </a:lnTo>
                  <a:lnTo>
                    <a:pt x="430" y="63"/>
                  </a:lnTo>
                  <a:lnTo>
                    <a:pt x="432" y="70"/>
                  </a:lnTo>
                  <a:lnTo>
                    <a:pt x="432" y="202"/>
                  </a:lnTo>
                  <a:lnTo>
                    <a:pt x="430" y="209"/>
                  </a:lnTo>
                  <a:lnTo>
                    <a:pt x="435" y="209"/>
                  </a:lnTo>
                  <a:lnTo>
                    <a:pt x="432" y="206"/>
                  </a:lnTo>
                  <a:lnTo>
                    <a:pt x="429" y="212"/>
                  </a:lnTo>
                  <a:lnTo>
                    <a:pt x="423" y="218"/>
                  </a:lnTo>
                  <a:lnTo>
                    <a:pt x="416" y="225"/>
                  </a:lnTo>
                  <a:lnTo>
                    <a:pt x="407" y="230"/>
                  </a:lnTo>
                  <a:lnTo>
                    <a:pt x="396" y="236"/>
                  </a:lnTo>
                  <a:lnTo>
                    <a:pt x="399" y="239"/>
                  </a:lnTo>
                  <a:lnTo>
                    <a:pt x="399" y="234"/>
                  </a:lnTo>
                  <a:lnTo>
                    <a:pt x="387" y="239"/>
                  </a:lnTo>
                  <a:lnTo>
                    <a:pt x="373" y="244"/>
                  </a:lnTo>
                  <a:lnTo>
                    <a:pt x="357" y="248"/>
                  </a:lnTo>
                  <a:lnTo>
                    <a:pt x="341" y="252"/>
                  </a:lnTo>
                  <a:lnTo>
                    <a:pt x="323" y="255"/>
                  </a:lnTo>
                  <a:lnTo>
                    <a:pt x="304" y="258"/>
                  </a:lnTo>
                  <a:lnTo>
                    <a:pt x="263" y="262"/>
                  </a:lnTo>
                  <a:lnTo>
                    <a:pt x="220" y="264"/>
                  </a:lnTo>
                  <a:lnTo>
                    <a:pt x="177" y="262"/>
                  </a:lnTo>
                  <a:lnTo>
                    <a:pt x="136" y="258"/>
                  </a:lnTo>
                  <a:lnTo>
                    <a:pt x="117" y="255"/>
                  </a:lnTo>
                  <a:lnTo>
                    <a:pt x="99" y="252"/>
                  </a:lnTo>
                  <a:lnTo>
                    <a:pt x="83" y="248"/>
                  </a:lnTo>
                  <a:lnTo>
                    <a:pt x="67" y="244"/>
                  </a:lnTo>
                  <a:lnTo>
                    <a:pt x="53" y="239"/>
                  </a:lnTo>
                  <a:lnTo>
                    <a:pt x="41" y="234"/>
                  </a:lnTo>
                  <a:lnTo>
                    <a:pt x="41" y="239"/>
                  </a:lnTo>
                  <a:lnTo>
                    <a:pt x="44" y="236"/>
                  </a:lnTo>
                  <a:lnTo>
                    <a:pt x="33" y="230"/>
                  </a:lnTo>
                  <a:lnTo>
                    <a:pt x="24" y="225"/>
                  </a:lnTo>
                  <a:lnTo>
                    <a:pt x="17" y="218"/>
                  </a:lnTo>
                  <a:lnTo>
                    <a:pt x="11" y="212"/>
                  </a:lnTo>
                  <a:lnTo>
                    <a:pt x="8" y="206"/>
                  </a:lnTo>
                  <a:lnTo>
                    <a:pt x="5" y="209"/>
                  </a:lnTo>
                  <a:lnTo>
                    <a:pt x="10" y="209"/>
                  </a:lnTo>
                  <a:lnTo>
                    <a:pt x="9" y="202"/>
                  </a:lnTo>
                  <a:lnTo>
                    <a:pt x="9" y="70"/>
                  </a:lnTo>
                  <a:lnTo>
                    <a:pt x="10" y="63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1" y="60"/>
                  </a:lnTo>
                  <a:lnTo>
                    <a:pt x="17" y="54"/>
                  </a:lnTo>
                  <a:lnTo>
                    <a:pt x="24" y="48"/>
                  </a:lnTo>
                  <a:lnTo>
                    <a:pt x="33" y="42"/>
                  </a:lnTo>
                  <a:lnTo>
                    <a:pt x="44" y="36"/>
                  </a:lnTo>
                  <a:lnTo>
                    <a:pt x="41" y="33"/>
                  </a:lnTo>
                  <a:lnTo>
                    <a:pt x="41" y="38"/>
                  </a:lnTo>
                  <a:lnTo>
                    <a:pt x="53" y="33"/>
                  </a:lnTo>
                  <a:lnTo>
                    <a:pt x="67" y="28"/>
                  </a:lnTo>
                  <a:lnTo>
                    <a:pt x="83" y="24"/>
                  </a:lnTo>
                  <a:lnTo>
                    <a:pt x="99" y="20"/>
                  </a:lnTo>
                  <a:lnTo>
                    <a:pt x="117" y="17"/>
                  </a:lnTo>
                  <a:lnTo>
                    <a:pt x="136" y="14"/>
                  </a:lnTo>
                  <a:lnTo>
                    <a:pt x="177" y="10"/>
                  </a:lnTo>
                  <a:lnTo>
                    <a:pt x="220" y="9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647120" y="5225400"/>
              <a:ext cx="522000" cy="81000"/>
            </a:xfrm>
            <a:custGeom>
              <a:avLst/>
              <a:gdLst/>
              <a:ahLst/>
              <a:rect l="l" t="t" r="r" b="b"/>
              <a:pathLst>
                <a:path w="441" h="71">
                  <a:moveTo>
                    <a:pt x="9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11" y="22"/>
                  </a:lnTo>
                  <a:lnTo>
                    <a:pt x="18" y="29"/>
                  </a:lnTo>
                  <a:lnTo>
                    <a:pt x="27" y="34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53" y="46"/>
                  </a:lnTo>
                  <a:lnTo>
                    <a:pt x="67" y="51"/>
                  </a:lnTo>
                  <a:lnTo>
                    <a:pt x="83" y="55"/>
                  </a:lnTo>
                  <a:lnTo>
                    <a:pt x="99" y="59"/>
                  </a:lnTo>
                  <a:lnTo>
                    <a:pt x="117" y="62"/>
                  </a:lnTo>
                  <a:lnTo>
                    <a:pt x="136" y="65"/>
                  </a:lnTo>
                  <a:lnTo>
                    <a:pt x="177" y="69"/>
                  </a:lnTo>
                  <a:lnTo>
                    <a:pt x="220" y="71"/>
                  </a:lnTo>
                  <a:lnTo>
                    <a:pt x="263" y="69"/>
                  </a:lnTo>
                  <a:lnTo>
                    <a:pt x="304" y="65"/>
                  </a:lnTo>
                  <a:lnTo>
                    <a:pt x="323" y="62"/>
                  </a:lnTo>
                  <a:lnTo>
                    <a:pt x="341" y="59"/>
                  </a:lnTo>
                  <a:lnTo>
                    <a:pt x="357" y="55"/>
                  </a:lnTo>
                  <a:lnTo>
                    <a:pt x="373" y="51"/>
                  </a:lnTo>
                  <a:lnTo>
                    <a:pt x="387" y="46"/>
                  </a:lnTo>
                  <a:lnTo>
                    <a:pt x="399" y="41"/>
                  </a:lnTo>
                  <a:lnTo>
                    <a:pt x="402" y="40"/>
                  </a:lnTo>
                  <a:lnTo>
                    <a:pt x="413" y="34"/>
                  </a:lnTo>
                  <a:lnTo>
                    <a:pt x="422" y="29"/>
                  </a:lnTo>
                  <a:lnTo>
                    <a:pt x="429" y="22"/>
                  </a:lnTo>
                  <a:lnTo>
                    <a:pt x="435" y="16"/>
                  </a:lnTo>
                  <a:lnTo>
                    <a:pt x="438" y="10"/>
                  </a:lnTo>
                  <a:lnTo>
                    <a:pt x="439" y="7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30" y="7"/>
                  </a:lnTo>
                  <a:lnTo>
                    <a:pt x="435" y="7"/>
                  </a:lnTo>
                  <a:lnTo>
                    <a:pt x="432" y="4"/>
                  </a:lnTo>
                  <a:lnTo>
                    <a:pt x="429" y="10"/>
                  </a:lnTo>
                  <a:lnTo>
                    <a:pt x="423" y="16"/>
                  </a:lnTo>
                  <a:lnTo>
                    <a:pt x="416" y="23"/>
                  </a:lnTo>
                  <a:lnTo>
                    <a:pt x="407" y="28"/>
                  </a:lnTo>
                  <a:lnTo>
                    <a:pt x="396" y="34"/>
                  </a:lnTo>
                  <a:lnTo>
                    <a:pt x="399" y="37"/>
                  </a:lnTo>
                  <a:lnTo>
                    <a:pt x="399" y="32"/>
                  </a:lnTo>
                  <a:lnTo>
                    <a:pt x="387" y="37"/>
                  </a:lnTo>
                  <a:lnTo>
                    <a:pt x="373" y="42"/>
                  </a:lnTo>
                  <a:lnTo>
                    <a:pt x="357" y="46"/>
                  </a:lnTo>
                  <a:lnTo>
                    <a:pt x="341" y="50"/>
                  </a:lnTo>
                  <a:lnTo>
                    <a:pt x="323" y="53"/>
                  </a:lnTo>
                  <a:lnTo>
                    <a:pt x="304" y="56"/>
                  </a:lnTo>
                  <a:lnTo>
                    <a:pt x="263" y="60"/>
                  </a:lnTo>
                  <a:lnTo>
                    <a:pt x="220" y="62"/>
                  </a:lnTo>
                  <a:lnTo>
                    <a:pt x="177" y="60"/>
                  </a:lnTo>
                  <a:lnTo>
                    <a:pt x="136" y="56"/>
                  </a:lnTo>
                  <a:lnTo>
                    <a:pt x="117" y="53"/>
                  </a:lnTo>
                  <a:lnTo>
                    <a:pt x="99" y="50"/>
                  </a:lnTo>
                  <a:lnTo>
                    <a:pt x="83" y="46"/>
                  </a:lnTo>
                  <a:lnTo>
                    <a:pt x="67" y="42"/>
                  </a:lnTo>
                  <a:lnTo>
                    <a:pt x="53" y="37"/>
                  </a:lnTo>
                  <a:lnTo>
                    <a:pt x="41" y="3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33" y="28"/>
                  </a:lnTo>
                  <a:lnTo>
                    <a:pt x="24" y="23"/>
                  </a:lnTo>
                  <a:lnTo>
                    <a:pt x="17" y="16"/>
                  </a:lnTo>
                  <a:lnTo>
                    <a:pt x="11" y="10"/>
                  </a:lnTo>
                  <a:lnTo>
                    <a:pt x="8" y="4"/>
                  </a:lnTo>
                  <a:lnTo>
                    <a:pt x="5" y="7"/>
                  </a:lnTo>
                  <a:lnTo>
                    <a:pt x="10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7708320" y="5173560"/>
              <a:ext cx="384480" cy="105120"/>
              <a:chOff x="7708320" y="5173560"/>
              <a:chExt cx="384480" cy="105120"/>
            </a:xfrm>
          </p:grpSpPr>
          <p:sp>
            <p:nvSpPr>
              <p:cNvPr id="916" name=""/>
              <p:cNvSpPr/>
              <p:nvPr/>
            </p:nvSpPr>
            <p:spPr>
              <a:xfrm>
                <a:off x="7908480" y="5175720"/>
                <a:ext cx="18432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908480" y="5175720"/>
                <a:ext cx="18432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708320" y="5228640"/>
                <a:ext cx="184320" cy="4788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708320" y="5228640"/>
                <a:ext cx="184320" cy="4788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718760" y="5173560"/>
                <a:ext cx="18432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718760" y="5173560"/>
                <a:ext cx="18432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902360" y="5232960"/>
                <a:ext cx="183240" cy="45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902360" y="5232960"/>
                <a:ext cx="183240" cy="45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4" name=""/>
          <p:cNvSpPr/>
          <p:nvPr/>
        </p:nvSpPr>
        <p:spPr>
          <a:xfrm flipH="1" flipV="1">
            <a:off x="7722720" y="4307040"/>
            <a:ext cx="228600" cy="914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261320" y="29919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T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068480" y="2057400"/>
            <a:ext cx="226800" cy="2761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743200" y="2057400"/>
            <a:ext cx="227160" cy="2746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38080" y="1752480"/>
            <a:ext cx="2362320" cy="9144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02360" y="24379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T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905120" y="2057400"/>
            <a:ext cx="226800" cy="2761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48120" y="2133720"/>
            <a:ext cx="914400" cy="3045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877880" y="41986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T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1066680" y="2286000"/>
            <a:ext cx="76320" cy="914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771360" y="3718800"/>
            <a:ext cx="28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rapped (OC-768) cap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034280" y="531900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rapped (OC-48) cap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 flipV="1">
            <a:off x="2286000" y="2742840"/>
            <a:ext cx="76320" cy="24382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2514600" y="4038120"/>
            <a:ext cx="4495680" cy="12956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2514600" y="3276360"/>
            <a:ext cx="1447920" cy="205740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5257800" y="3276720"/>
            <a:ext cx="0" cy="45720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57200" y="571500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914400" y="5948280"/>
            <a:ext cx="769608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o provisions yet included for multiplexing multiple lower rate wrapped signals into a higher rate sig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569360" y="4062240"/>
            <a:ext cx="226800" cy="2746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211720" y="2678040"/>
            <a:ext cx="284040" cy="439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69D6B-A88C-480C-80EE-90C3589B14B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1371600" y="2133720"/>
            <a:ext cx="15238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Digital Wrappers: Legacy Issue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946" name=""/>
          <p:cNvSpPr/>
          <p:nvPr/>
        </p:nvSpPr>
        <p:spPr>
          <a:xfrm>
            <a:off x="4189320" y="2457360"/>
            <a:ext cx="1079640" cy="3859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4246560" y="1963440"/>
            <a:ext cx="965160" cy="3841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5383080" y="2292480"/>
            <a:ext cx="851040" cy="66024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361040" y="2347920"/>
            <a:ext cx="187308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 flipV="1">
            <a:off x="5383080" y="1963800"/>
            <a:ext cx="851040" cy="21888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099040" y="1743120"/>
            <a:ext cx="284040" cy="439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64200" y="2017800"/>
            <a:ext cx="284040" cy="439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426440" y="3071880"/>
            <a:ext cx="738000" cy="110016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 flipV="1">
            <a:off x="6324120" y="2209320"/>
            <a:ext cx="1219320" cy="7621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569360" y="2962440"/>
            <a:ext cx="226800" cy="274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086600" y="2743200"/>
            <a:ext cx="1419120" cy="17035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962520" y="1523880"/>
            <a:ext cx="2612880" cy="17035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838080" y="3200400"/>
            <a:ext cx="522360" cy="312840"/>
            <a:chOff x="838080" y="3200400"/>
            <a:chExt cx="522360" cy="312840"/>
          </a:xfrm>
        </p:grpSpPr>
        <p:sp>
          <p:nvSpPr>
            <p:cNvPr id="959" name=""/>
            <p:cNvSpPr/>
            <p:nvPr/>
          </p:nvSpPr>
          <p:spPr>
            <a:xfrm>
              <a:off x="842760" y="3204720"/>
              <a:ext cx="511560" cy="302400"/>
            </a:xfrm>
            <a:custGeom>
              <a:avLst/>
              <a:gdLst/>
              <a:ahLst/>
              <a:rect l="l" t="t" r="r" b="b"/>
              <a:pathLst>
                <a:path w="432" h="264">
                  <a:moveTo>
                    <a:pt x="216" y="0"/>
                  </a:move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4" y="211"/>
                  </a:lnTo>
                  <a:lnTo>
                    <a:pt x="10" y="217"/>
                  </a:lnTo>
                  <a:lnTo>
                    <a:pt x="17" y="224"/>
                  </a:lnTo>
                  <a:lnTo>
                    <a:pt x="26" y="229"/>
                  </a:lnTo>
                  <a:lnTo>
                    <a:pt x="37" y="235"/>
                  </a:lnTo>
                  <a:lnTo>
                    <a:pt x="49" y="240"/>
                  </a:lnTo>
                  <a:lnTo>
                    <a:pt x="63" y="245"/>
                  </a:lnTo>
                  <a:lnTo>
                    <a:pt x="79" y="249"/>
                  </a:lnTo>
                  <a:lnTo>
                    <a:pt x="95" y="253"/>
                  </a:lnTo>
                  <a:lnTo>
                    <a:pt x="113" y="256"/>
                  </a:lnTo>
                  <a:lnTo>
                    <a:pt x="132" y="259"/>
                  </a:lnTo>
                  <a:lnTo>
                    <a:pt x="173" y="263"/>
                  </a:lnTo>
                  <a:lnTo>
                    <a:pt x="216" y="264"/>
                  </a:lnTo>
                  <a:lnTo>
                    <a:pt x="259" y="263"/>
                  </a:lnTo>
                  <a:lnTo>
                    <a:pt x="300" y="259"/>
                  </a:lnTo>
                  <a:lnTo>
                    <a:pt x="319" y="256"/>
                  </a:lnTo>
                  <a:lnTo>
                    <a:pt x="337" y="253"/>
                  </a:lnTo>
                  <a:lnTo>
                    <a:pt x="353" y="249"/>
                  </a:lnTo>
                  <a:lnTo>
                    <a:pt x="369" y="245"/>
                  </a:lnTo>
                  <a:lnTo>
                    <a:pt x="383" y="240"/>
                  </a:lnTo>
                  <a:lnTo>
                    <a:pt x="395" y="235"/>
                  </a:lnTo>
                  <a:lnTo>
                    <a:pt x="406" y="229"/>
                  </a:lnTo>
                  <a:lnTo>
                    <a:pt x="415" y="224"/>
                  </a:lnTo>
                  <a:lnTo>
                    <a:pt x="422" y="217"/>
                  </a:lnTo>
                  <a:lnTo>
                    <a:pt x="428" y="211"/>
                  </a:lnTo>
                  <a:lnTo>
                    <a:pt x="431" y="205"/>
                  </a:lnTo>
                  <a:lnTo>
                    <a:pt x="432" y="198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42760" y="3204720"/>
              <a:ext cx="511560" cy="151200"/>
            </a:xfrm>
            <a:custGeom>
              <a:avLst/>
              <a:gdLst/>
              <a:ahLst/>
              <a:rect l="l" t="t" r="r" b="b"/>
              <a:pathLst>
                <a:path w="432" h="132">
                  <a:moveTo>
                    <a:pt x="0" y="66"/>
                  </a:moveTo>
                  <a:lnTo>
                    <a:pt x="1" y="73"/>
                  </a:lnTo>
                  <a:lnTo>
                    <a:pt x="4" y="79"/>
                  </a:lnTo>
                  <a:lnTo>
                    <a:pt x="10" y="85"/>
                  </a:lnTo>
                  <a:lnTo>
                    <a:pt x="17" y="92"/>
                  </a:lnTo>
                  <a:lnTo>
                    <a:pt x="26" y="97"/>
                  </a:lnTo>
                  <a:lnTo>
                    <a:pt x="37" y="103"/>
                  </a:lnTo>
                  <a:lnTo>
                    <a:pt x="49" y="108"/>
                  </a:lnTo>
                  <a:lnTo>
                    <a:pt x="63" y="113"/>
                  </a:lnTo>
                  <a:lnTo>
                    <a:pt x="79" y="117"/>
                  </a:lnTo>
                  <a:lnTo>
                    <a:pt x="95" y="121"/>
                  </a:lnTo>
                  <a:lnTo>
                    <a:pt x="113" y="124"/>
                  </a:lnTo>
                  <a:lnTo>
                    <a:pt x="132" y="127"/>
                  </a:lnTo>
                  <a:lnTo>
                    <a:pt x="173" y="131"/>
                  </a:lnTo>
                  <a:lnTo>
                    <a:pt x="216" y="132"/>
                  </a:lnTo>
                  <a:lnTo>
                    <a:pt x="259" y="131"/>
                  </a:lnTo>
                  <a:lnTo>
                    <a:pt x="300" y="127"/>
                  </a:lnTo>
                  <a:lnTo>
                    <a:pt x="319" y="124"/>
                  </a:lnTo>
                  <a:lnTo>
                    <a:pt x="337" y="121"/>
                  </a:lnTo>
                  <a:lnTo>
                    <a:pt x="353" y="117"/>
                  </a:lnTo>
                  <a:lnTo>
                    <a:pt x="369" y="113"/>
                  </a:lnTo>
                  <a:lnTo>
                    <a:pt x="383" y="108"/>
                  </a:lnTo>
                  <a:lnTo>
                    <a:pt x="395" y="103"/>
                  </a:lnTo>
                  <a:lnTo>
                    <a:pt x="406" y="97"/>
                  </a:lnTo>
                  <a:lnTo>
                    <a:pt x="415" y="92"/>
                  </a:lnTo>
                  <a:lnTo>
                    <a:pt x="422" y="85"/>
                  </a:lnTo>
                  <a:lnTo>
                    <a:pt x="428" y="79"/>
                  </a:lnTo>
                  <a:lnTo>
                    <a:pt x="431" y="73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38080" y="3200400"/>
              <a:ext cx="522360" cy="312840"/>
            </a:xfrm>
            <a:custGeom>
              <a:avLst/>
              <a:gdLst/>
              <a:ahLst/>
              <a:rect l="l" t="t" r="r" b="b"/>
              <a:pathLst>
                <a:path w="441" h="273">
                  <a:moveTo>
                    <a:pt x="177" y="1"/>
                  </a:moveTo>
                  <a:lnTo>
                    <a:pt x="136" y="5"/>
                  </a:lnTo>
                  <a:lnTo>
                    <a:pt x="117" y="8"/>
                  </a:lnTo>
                  <a:lnTo>
                    <a:pt x="99" y="11"/>
                  </a:lnTo>
                  <a:lnTo>
                    <a:pt x="83" y="15"/>
                  </a:lnTo>
                  <a:lnTo>
                    <a:pt x="67" y="19"/>
                  </a:lnTo>
                  <a:lnTo>
                    <a:pt x="53" y="24"/>
                  </a:lnTo>
                  <a:lnTo>
                    <a:pt x="41" y="29"/>
                  </a:lnTo>
                  <a:lnTo>
                    <a:pt x="38" y="30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4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2" y="212"/>
                  </a:lnTo>
                  <a:lnTo>
                    <a:pt x="5" y="218"/>
                  </a:lnTo>
                  <a:lnTo>
                    <a:pt x="11" y="224"/>
                  </a:lnTo>
                  <a:lnTo>
                    <a:pt x="18" y="231"/>
                  </a:lnTo>
                  <a:lnTo>
                    <a:pt x="27" y="236"/>
                  </a:lnTo>
                  <a:lnTo>
                    <a:pt x="38" y="242"/>
                  </a:lnTo>
                  <a:lnTo>
                    <a:pt x="41" y="243"/>
                  </a:lnTo>
                  <a:lnTo>
                    <a:pt x="53" y="248"/>
                  </a:lnTo>
                  <a:lnTo>
                    <a:pt x="67" y="253"/>
                  </a:lnTo>
                  <a:lnTo>
                    <a:pt x="83" y="257"/>
                  </a:lnTo>
                  <a:lnTo>
                    <a:pt x="99" y="261"/>
                  </a:lnTo>
                  <a:lnTo>
                    <a:pt x="117" y="264"/>
                  </a:lnTo>
                  <a:lnTo>
                    <a:pt x="136" y="267"/>
                  </a:lnTo>
                  <a:lnTo>
                    <a:pt x="177" y="271"/>
                  </a:lnTo>
                  <a:lnTo>
                    <a:pt x="220" y="273"/>
                  </a:lnTo>
                  <a:lnTo>
                    <a:pt x="263" y="271"/>
                  </a:lnTo>
                  <a:lnTo>
                    <a:pt x="304" y="267"/>
                  </a:lnTo>
                  <a:lnTo>
                    <a:pt x="323" y="264"/>
                  </a:lnTo>
                  <a:lnTo>
                    <a:pt x="341" y="261"/>
                  </a:lnTo>
                  <a:lnTo>
                    <a:pt x="357" y="257"/>
                  </a:lnTo>
                  <a:lnTo>
                    <a:pt x="373" y="253"/>
                  </a:lnTo>
                  <a:lnTo>
                    <a:pt x="387" y="248"/>
                  </a:lnTo>
                  <a:lnTo>
                    <a:pt x="399" y="243"/>
                  </a:lnTo>
                  <a:lnTo>
                    <a:pt x="402" y="242"/>
                  </a:lnTo>
                  <a:lnTo>
                    <a:pt x="413" y="236"/>
                  </a:lnTo>
                  <a:lnTo>
                    <a:pt x="422" y="231"/>
                  </a:lnTo>
                  <a:lnTo>
                    <a:pt x="429" y="224"/>
                  </a:lnTo>
                  <a:lnTo>
                    <a:pt x="435" y="218"/>
                  </a:lnTo>
                  <a:lnTo>
                    <a:pt x="438" y="212"/>
                  </a:lnTo>
                  <a:lnTo>
                    <a:pt x="439" y="209"/>
                  </a:lnTo>
                  <a:lnTo>
                    <a:pt x="441" y="202"/>
                  </a:lnTo>
                  <a:lnTo>
                    <a:pt x="441" y="70"/>
                  </a:lnTo>
                  <a:lnTo>
                    <a:pt x="439" y="63"/>
                  </a:lnTo>
                  <a:lnTo>
                    <a:pt x="438" y="60"/>
                  </a:lnTo>
                  <a:lnTo>
                    <a:pt x="435" y="54"/>
                  </a:lnTo>
                  <a:lnTo>
                    <a:pt x="429" y="48"/>
                  </a:lnTo>
                  <a:lnTo>
                    <a:pt x="422" y="42"/>
                  </a:lnTo>
                  <a:lnTo>
                    <a:pt x="413" y="36"/>
                  </a:lnTo>
                  <a:lnTo>
                    <a:pt x="402" y="30"/>
                  </a:lnTo>
                  <a:lnTo>
                    <a:pt x="399" y="29"/>
                  </a:lnTo>
                  <a:lnTo>
                    <a:pt x="387" y="24"/>
                  </a:lnTo>
                  <a:lnTo>
                    <a:pt x="373" y="19"/>
                  </a:lnTo>
                  <a:lnTo>
                    <a:pt x="357" y="15"/>
                  </a:lnTo>
                  <a:lnTo>
                    <a:pt x="341" y="11"/>
                  </a:lnTo>
                  <a:lnTo>
                    <a:pt x="323" y="8"/>
                  </a:lnTo>
                  <a:lnTo>
                    <a:pt x="304" y="5"/>
                  </a:lnTo>
                  <a:lnTo>
                    <a:pt x="263" y="1"/>
                  </a:lnTo>
                  <a:lnTo>
                    <a:pt x="220" y="0"/>
                  </a:lnTo>
                  <a:lnTo>
                    <a:pt x="177" y="1"/>
                  </a:lnTo>
                  <a:close/>
                  <a:moveTo>
                    <a:pt x="220" y="9"/>
                  </a:moveTo>
                  <a:lnTo>
                    <a:pt x="263" y="10"/>
                  </a:lnTo>
                  <a:lnTo>
                    <a:pt x="304" y="14"/>
                  </a:lnTo>
                  <a:lnTo>
                    <a:pt x="323" y="17"/>
                  </a:lnTo>
                  <a:lnTo>
                    <a:pt x="341" y="20"/>
                  </a:lnTo>
                  <a:lnTo>
                    <a:pt x="357" y="24"/>
                  </a:lnTo>
                  <a:lnTo>
                    <a:pt x="373" y="28"/>
                  </a:lnTo>
                  <a:lnTo>
                    <a:pt x="387" y="33"/>
                  </a:lnTo>
                  <a:lnTo>
                    <a:pt x="399" y="38"/>
                  </a:lnTo>
                  <a:lnTo>
                    <a:pt x="399" y="33"/>
                  </a:lnTo>
                  <a:lnTo>
                    <a:pt x="396" y="36"/>
                  </a:lnTo>
                  <a:lnTo>
                    <a:pt x="407" y="42"/>
                  </a:lnTo>
                  <a:lnTo>
                    <a:pt x="416" y="48"/>
                  </a:lnTo>
                  <a:lnTo>
                    <a:pt x="423" y="54"/>
                  </a:lnTo>
                  <a:lnTo>
                    <a:pt x="429" y="60"/>
                  </a:lnTo>
                  <a:lnTo>
                    <a:pt x="432" y="66"/>
                  </a:lnTo>
                  <a:lnTo>
                    <a:pt x="435" y="63"/>
                  </a:lnTo>
                  <a:lnTo>
                    <a:pt x="430" y="63"/>
                  </a:lnTo>
                  <a:lnTo>
                    <a:pt x="432" y="70"/>
                  </a:lnTo>
                  <a:lnTo>
                    <a:pt x="432" y="202"/>
                  </a:lnTo>
                  <a:lnTo>
                    <a:pt x="430" y="209"/>
                  </a:lnTo>
                  <a:lnTo>
                    <a:pt x="435" y="209"/>
                  </a:lnTo>
                  <a:lnTo>
                    <a:pt x="432" y="206"/>
                  </a:lnTo>
                  <a:lnTo>
                    <a:pt x="429" y="212"/>
                  </a:lnTo>
                  <a:lnTo>
                    <a:pt x="423" y="218"/>
                  </a:lnTo>
                  <a:lnTo>
                    <a:pt x="416" y="225"/>
                  </a:lnTo>
                  <a:lnTo>
                    <a:pt x="407" y="230"/>
                  </a:lnTo>
                  <a:lnTo>
                    <a:pt x="396" y="236"/>
                  </a:lnTo>
                  <a:lnTo>
                    <a:pt x="399" y="239"/>
                  </a:lnTo>
                  <a:lnTo>
                    <a:pt x="399" y="234"/>
                  </a:lnTo>
                  <a:lnTo>
                    <a:pt x="387" y="239"/>
                  </a:lnTo>
                  <a:lnTo>
                    <a:pt x="373" y="244"/>
                  </a:lnTo>
                  <a:lnTo>
                    <a:pt x="357" y="248"/>
                  </a:lnTo>
                  <a:lnTo>
                    <a:pt x="341" y="252"/>
                  </a:lnTo>
                  <a:lnTo>
                    <a:pt x="323" y="255"/>
                  </a:lnTo>
                  <a:lnTo>
                    <a:pt x="304" y="258"/>
                  </a:lnTo>
                  <a:lnTo>
                    <a:pt x="263" y="262"/>
                  </a:lnTo>
                  <a:lnTo>
                    <a:pt x="220" y="264"/>
                  </a:lnTo>
                  <a:lnTo>
                    <a:pt x="177" y="262"/>
                  </a:lnTo>
                  <a:lnTo>
                    <a:pt x="136" y="258"/>
                  </a:lnTo>
                  <a:lnTo>
                    <a:pt x="117" y="255"/>
                  </a:lnTo>
                  <a:lnTo>
                    <a:pt x="99" y="252"/>
                  </a:lnTo>
                  <a:lnTo>
                    <a:pt x="83" y="248"/>
                  </a:lnTo>
                  <a:lnTo>
                    <a:pt x="67" y="244"/>
                  </a:lnTo>
                  <a:lnTo>
                    <a:pt x="53" y="239"/>
                  </a:lnTo>
                  <a:lnTo>
                    <a:pt x="41" y="234"/>
                  </a:lnTo>
                  <a:lnTo>
                    <a:pt x="41" y="239"/>
                  </a:lnTo>
                  <a:lnTo>
                    <a:pt x="44" y="236"/>
                  </a:lnTo>
                  <a:lnTo>
                    <a:pt x="33" y="230"/>
                  </a:lnTo>
                  <a:lnTo>
                    <a:pt x="24" y="225"/>
                  </a:lnTo>
                  <a:lnTo>
                    <a:pt x="17" y="218"/>
                  </a:lnTo>
                  <a:lnTo>
                    <a:pt x="11" y="212"/>
                  </a:lnTo>
                  <a:lnTo>
                    <a:pt x="8" y="206"/>
                  </a:lnTo>
                  <a:lnTo>
                    <a:pt x="5" y="209"/>
                  </a:lnTo>
                  <a:lnTo>
                    <a:pt x="10" y="209"/>
                  </a:lnTo>
                  <a:lnTo>
                    <a:pt x="9" y="202"/>
                  </a:lnTo>
                  <a:lnTo>
                    <a:pt x="9" y="70"/>
                  </a:lnTo>
                  <a:lnTo>
                    <a:pt x="10" y="63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1" y="60"/>
                  </a:lnTo>
                  <a:lnTo>
                    <a:pt x="17" y="54"/>
                  </a:lnTo>
                  <a:lnTo>
                    <a:pt x="24" y="48"/>
                  </a:lnTo>
                  <a:lnTo>
                    <a:pt x="33" y="42"/>
                  </a:lnTo>
                  <a:lnTo>
                    <a:pt x="44" y="36"/>
                  </a:lnTo>
                  <a:lnTo>
                    <a:pt x="41" y="33"/>
                  </a:lnTo>
                  <a:lnTo>
                    <a:pt x="41" y="38"/>
                  </a:lnTo>
                  <a:lnTo>
                    <a:pt x="53" y="33"/>
                  </a:lnTo>
                  <a:lnTo>
                    <a:pt x="67" y="28"/>
                  </a:lnTo>
                  <a:lnTo>
                    <a:pt x="83" y="24"/>
                  </a:lnTo>
                  <a:lnTo>
                    <a:pt x="99" y="20"/>
                  </a:lnTo>
                  <a:lnTo>
                    <a:pt x="117" y="17"/>
                  </a:lnTo>
                  <a:lnTo>
                    <a:pt x="136" y="14"/>
                  </a:lnTo>
                  <a:lnTo>
                    <a:pt x="177" y="10"/>
                  </a:lnTo>
                  <a:lnTo>
                    <a:pt x="220" y="9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38080" y="3280680"/>
              <a:ext cx="522360" cy="81000"/>
            </a:xfrm>
            <a:custGeom>
              <a:avLst/>
              <a:gdLst/>
              <a:ahLst/>
              <a:rect l="l" t="t" r="r" b="b"/>
              <a:pathLst>
                <a:path w="441" h="71">
                  <a:moveTo>
                    <a:pt x="9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11" y="22"/>
                  </a:lnTo>
                  <a:lnTo>
                    <a:pt x="18" y="29"/>
                  </a:lnTo>
                  <a:lnTo>
                    <a:pt x="27" y="34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53" y="46"/>
                  </a:lnTo>
                  <a:lnTo>
                    <a:pt x="67" y="51"/>
                  </a:lnTo>
                  <a:lnTo>
                    <a:pt x="83" y="55"/>
                  </a:lnTo>
                  <a:lnTo>
                    <a:pt x="99" y="59"/>
                  </a:lnTo>
                  <a:lnTo>
                    <a:pt x="117" y="62"/>
                  </a:lnTo>
                  <a:lnTo>
                    <a:pt x="136" y="65"/>
                  </a:lnTo>
                  <a:lnTo>
                    <a:pt x="177" y="69"/>
                  </a:lnTo>
                  <a:lnTo>
                    <a:pt x="220" y="71"/>
                  </a:lnTo>
                  <a:lnTo>
                    <a:pt x="263" y="69"/>
                  </a:lnTo>
                  <a:lnTo>
                    <a:pt x="304" y="65"/>
                  </a:lnTo>
                  <a:lnTo>
                    <a:pt x="323" y="62"/>
                  </a:lnTo>
                  <a:lnTo>
                    <a:pt x="341" y="59"/>
                  </a:lnTo>
                  <a:lnTo>
                    <a:pt x="357" y="55"/>
                  </a:lnTo>
                  <a:lnTo>
                    <a:pt x="373" y="51"/>
                  </a:lnTo>
                  <a:lnTo>
                    <a:pt x="387" y="46"/>
                  </a:lnTo>
                  <a:lnTo>
                    <a:pt x="399" y="41"/>
                  </a:lnTo>
                  <a:lnTo>
                    <a:pt x="402" y="40"/>
                  </a:lnTo>
                  <a:lnTo>
                    <a:pt x="413" y="34"/>
                  </a:lnTo>
                  <a:lnTo>
                    <a:pt x="422" y="29"/>
                  </a:lnTo>
                  <a:lnTo>
                    <a:pt x="429" y="22"/>
                  </a:lnTo>
                  <a:lnTo>
                    <a:pt x="435" y="16"/>
                  </a:lnTo>
                  <a:lnTo>
                    <a:pt x="438" y="10"/>
                  </a:lnTo>
                  <a:lnTo>
                    <a:pt x="439" y="7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30" y="7"/>
                  </a:lnTo>
                  <a:lnTo>
                    <a:pt x="435" y="7"/>
                  </a:lnTo>
                  <a:lnTo>
                    <a:pt x="432" y="4"/>
                  </a:lnTo>
                  <a:lnTo>
                    <a:pt x="429" y="10"/>
                  </a:lnTo>
                  <a:lnTo>
                    <a:pt x="423" y="16"/>
                  </a:lnTo>
                  <a:lnTo>
                    <a:pt x="416" y="23"/>
                  </a:lnTo>
                  <a:lnTo>
                    <a:pt x="407" y="28"/>
                  </a:lnTo>
                  <a:lnTo>
                    <a:pt x="396" y="34"/>
                  </a:lnTo>
                  <a:lnTo>
                    <a:pt x="399" y="37"/>
                  </a:lnTo>
                  <a:lnTo>
                    <a:pt x="399" y="32"/>
                  </a:lnTo>
                  <a:lnTo>
                    <a:pt x="387" y="37"/>
                  </a:lnTo>
                  <a:lnTo>
                    <a:pt x="373" y="42"/>
                  </a:lnTo>
                  <a:lnTo>
                    <a:pt x="357" y="46"/>
                  </a:lnTo>
                  <a:lnTo>
                    <a:pt x="341" y="50"/>
                  </a:lnTo>
                  <a:lnTo>
                    <a:pt x="323" y="53"/>
                  </a:lnTo>
                  <a:lnTo>
                    <a:pt x="304" y="56"/>
                  </a:lnTo>
                  <a:lnTo>
                    <a:pt x="263" y="60"/>
                  </a:lnTo>
                  <a:lnTo>
                    <a:pt x="220" y="62"/>
                  </a:lnTo>
                  <a:lnTo>
                    <a:pt x="177" y="60"/>
                  </a:lnTo>
                  <a:lnTo>
                    <a:pt x="136" y="56"/>
                  </a:lnTo>
                  <a:lnTo>
                    <a:pt x="117" y="53"/>
                  </a:lnTo>
                  <a:lnTo>
                    <a:pt x="99" y="50"/>
                  </a:lnTo>
                  <a:lnTo>
                    <a:pt x="83" y="46"/>
                  </a:lnTo>
                  <a:lnTo>
                    <a:pt x="67" y="42"/>
                  </a:lnTo>
                  <a:lnTo>
                    <a:pt x="53" y="37"/>
                  </a:lnTo>
                  <a:lnTo>
                    <a:pt x="41" y="3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33" y="28"/>
                  </a:lnTo>
                  <a:lnTo>
                    <a:pt x="24" y="23"/>
                  </a:lnTo>
                  <a:lnTo>
                    <a:pt x="17" y="16"/>
                  </a:lnTo>
                  <a:lnTo>
                    <a:pt x="11" y="10"/>
                  </a:lnTo>
                  <a:lnTo>
                    <a:pt x="8" y="4"/>
                  </a:lnTo>
                  <a:lnTo>
                    <a:pt x="5" y="7"/>
                  </a:lnTo>
                  <a:lnTo>
                    <a:pt x="10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899280" y="3228840"/>
              <a:ext cx="384480" cy="105120"/>
              <a:chOff x="899280" y="3228840"/>
              <a:chExt cx="384480" cy="105120"/>
            </a:xfrm>
          </p:grpSpPr>
          <p:sp>
            <p:nvSpPr>
              <p:cNvPr id="964" name=""/>
              <p:cNvSpPr/>
              <p:nvPr/>
            </p:nvSpPr>
            <p:spPr>
              <a:xfrm>
                <a:off x="1099440" y="3231000"/>
                <a:ext cx="18432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099440" y="3231000"/>
                <a:ext cx="18432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99280" y="3283920"/>
                <a:ext cx="184680" cy="4788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99280" y="3283920"/>
                <a:ext cx="184680" cy="4788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909720" y="3228840"/>
                <a:ext cx="18468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909720" y="3228840"/>
                <a:ext cx="18468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093680" y="3288240"/>
                <a:ext cx="183240" cy="45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093680" y="3288240"/>
                <a:ext cx="183240" cy="45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2" name=""/>
          <p:cNvGrpSpPr/>
          <p:nvPr/>
        </p:nvGrpSpPr>
        <p:grpSpPr>
          <a:xfrm>
            <a:off x="7647120" y="5145120"/>
            <a:ext cx="522000" cy="312840"/>
            <a:chOff x="7647120" y="5145120"/>
            <a:chExt cx="522000" cy="312840"/>
          </a:xfrm>
        </p:grpSpPr>
        <p:sp>
          <p:nvSpPr>
            <p:cNvPr id="973" name=""/>
            <p:cNvSpPr/>
            <p:nvPr/>
          </p:nvSpPr>
          <p:spPr>
            <a:xfrm>
              <a:off x="7651800" y="5149440"/>
              <a:ext cx="511200" cy="302400"/>
            </a:xfrm>
            <a:custGeom>
              <a:avLst/>
              <a:gdLst/>
              <a:ahLst/>
              <a:rect l="l" t="t" r="r" b="b"/>
              <a:pathLst>
                <a:path w="432" h="264">
                  <a:moveTo>
                    <a:pt x="216" y="0"/>
                  </a:move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4" y="211"/>
                  </a:lnTo>
                  <a:lnTo>
                    <a:pt x="10" y="217"/>
                  </a:lnTo>
                  <a:lnTo>
                    <a:pt x="17" y="224"/>
                  </a:lnTo>
                  <a:lnTo>
                    <a:pt x="26" y="229"/>
                  </a:lnTo>
                  <a:lnTo>
                    <a:pt x="37" y="235"/>
                  </a:lnTo>
                  <a:lnTo>
                    <a:pt x="49" y="240"/>
                  </a:lnTo>
                  <a:lnTo>
                    <a:pt x="63" y="245"/>
                  </a:lnTo>
                  <a:lnTo>
                    <a:pt x="79" y="249"/>
                  </a:lnTo>
                  <a:lnTo>
                    <a:pt x="95" y="253"/>
                  </a:lnTo>
                  <a:lnTo>
                    <a:pt x="113" y="256"/>
                  </a:lnTo>
                  <a:lnTo>
                    <a:pt x="132" y="259"/>
                  </a:lnTo>
                  <a:lnTo>
                    <a:pt x="173" y="263"/>
                  </a:lnTo>
                  <a:lnTo>
                    <a:pt x="216" y="264"/>
                  </a:lnTo>
                  <a:lnTo>
                    <a:pt x="259" y="263"/>
                  </a:lnTo>
                  <a:lnTo>
                    <a:pt x="300" y="259"/>
                  </a:lnTo>
                  <a:lnTo>
                    <a:pt x="319" y="256"/>
                  </a:lnTo>
                  <a:lnTo>
                    <a:pt x="337" y="253"/>
                  </a:lnTo>
                  <a:lnTo>
                    <a:pt x="353" y="249"/>
                  </a:lnTo>
                  <a:lnTo>
                    <a:pt x="369" y="245"/>
                  </a:lnTo>
                  <a:lnTo>
                    <a:pt x="383" y="240"/>
                  </a:lnTo>
                  <a:lnTo>
                    <a:pt x="395" y="235"/>
                  </a:lnTo>
                  <a:lnTo>
                    <a:pt x="406" y="229"/>
                  </a:lnTo>
                  <a:lnTo>
                    <a:pt x="415" y="224"/>
                  </a:lnTo>
                  <a:lnTo>
                    <a:pt x="422" y="217"/>
                  </a:lnTo>
                  <a:lnTo>
                    <a:pt x="428" y="211"/>
                  </a:lnTo>
                  <a:lnTo>
                    <a:pt x="431" y="205"/>
                  </a:lnTo>
                  <a:lnTo>
                    <a:pt x="432" y="198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51800" y="5149440"/>
              <a:ext cx="511200" cy="151200"/>
            </a:xfrm>
            <a:custGeom>
              <a:avLst/>
              <a:gdLst/>
              <a:ahLst/>
              <a:rect l="l" t="t" r="r" b="b"/>
              <a:pathLst>
                <a:path w="432" h="132">
                  <a:moveTo>
                    <a:pt x="0" y="66"/>
                  </a:moveTo>
                  <a:lnTo>
                    <a:pt x="1" y="73"/>
                  </a:lnTo>
                  <a:lnTo>
                    <a:pt x="4" y="79"/>
                  </a:lnTo>
                  <a:lnTo>
                    <a:pt x="10" y="85"/>
                  </a:lnTo>
                  <a:lnTo>
                    <a:pt x="17" y="92"/>
                  </a:lnTo>
                  <a:lnTo>
                    <a:pt x="26" y="97"/>
                  </a:lnTo>
                  <a:lnTo>
                    <a:pt x="37" y="103"/>
                  </a:lnTo>
                  <a:lnTo>
                    <a:pt x="49" y="108"/>
                  </a:lnTo>
                  <a:lnTo>
                    <a:pt x="63" y="113"/>
                  </a:lnTo>
                  <a:lnTo>
                    <a:pt x="79" y="117"/>
                  </a:lnTo>
                  <a:lnTo>
                    <a:pt x="95" y="121"/>
                  </a:lnTo>
                  <a:lnTo>
                    <a:pt x="113" y="124"/>
                  </a:lnTo>
                  <a:lnTo>
                    <a:pt x="132" y="127"/>
                  </a:lnTo>
                  <a:lnTo>
                    <a:pt x="173" y="131"/>
                  </a:lnTo>
                  <a:lnTo>
                    <a:pt x="216" y="132"/>
                  </a:lnTo>
                  <a:lnTo>
                    <a:pt x="259" y="131"/>
                  </a:lnTo>
                  <a:lnTo>
                    <a:pt x="300" y="127"/>
                  </a:lnTo>
                  <a:lnTo>
                    <a:pt x="319" y="124"/>
                  </a:lnTo>
                  <a:lnTo>
                    <a:pt x="337" y="121"/>
                  </a:lnTo>
                  <a:lnTo>
                    <a:pt x="353" y="117"/>
                  </a:lnTo>
                  <a:lnTo>
                    <a:pt x="369" y="113"/>
                  </a:lnTo>
                  <a:lnTo>
                    <a:pt x="383" y="108"/>
                  </a:lnTo>
                  <a:lnTo>
                    <a:pt x="395" y="103"/>
                  </a:lnTo>
                  <a:lnTo>
                    <a:pt x="406" y="97"/>
                  </a:lnTo>
                  <a:lnTo>
                    <a:pt x="415" y="92"/>
                  </a:lnTo>
                  <a:lnTo>
                    <a:pt x="422" y="85"/>
                  </a:lnTo>
                  <a:lnTo>
                    <a:pt x="428" y="79"/>
                  </a:lnTo>
                  <a:lnTo>
                    <a:pt x="431" y="73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647120" y="5145120"/>
              <a:ext cx="522000" cy="312840"/>
            </a:xfrm>
            <a:custGeom>
              <a:avLst/>
              <a:gdLst/>
              <a:ahLst/>
              <a:rect l="l" t="t" r="r" b="b"/>
              <a:pathLst>
                <a:path w="441" h="273">
                  <a:moveTo>
                    <a:pt x="177" y="1"/>
                  </a:moveTo>
                  <a:lnTo>
                    <a:pt x="136" y="5"/>
                  </a:lnTo>
                  <a:lnTo>
                    <a:pt x="117" y="8"/>
                  </a:lnTo>
                  <a:lnTo>
                    <a:pt x="99" y="11"/>
                  </a:lnTo>
                  <a:lnTo>
                    <a:pt x="83" y="15"/>
                  </a:lnTo>
                  <a:lnTo>
                    <a:pt x="67" y="19"/>
                  </a:lnTo>
                  <a:lnTo>
                    <a:pt x="53" y="24"/>
                  </a:lnTo>
                  <a:lnTo>
                    <a:pt x="41" y="29"/>
                  </a:lnTo>
                  <a:lnTo>
                    <a:pt x="38" y="30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4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2" y="212"/>
                  </a:lnTo>
                  <a:lnTo>
                    <a:pt x="5" y="218"/>
                  </a:lnTo>
                  <a:lnTo>
                    <a:pt x="11" y="224"/>
                  </a:lnTo>
                  <a:lnTo>
                    <a:pt x="18" y="231"/>
                  </a:lnTo>
                  <a:lnTo>
                    <a:pt x="27" y="236"/>
                  </a:lnTo>
                  <a:lnTo>
                    <a:pt x="38" y="242"/>
                  </a:lnTo>
                  <a:lnTo>
                    <a:pt x="41" y="243"/>
                  </a:lnTo>
                  <a:lnTo>
                    <a:pt x="53" y="248"/>
                  </a:lnTo>
                  <a:lnTo>
                    <a:pt x="67" y="253"/>
                  </a:lnTo>
                  <a:lnTo>
                    <a:pt x="83" y="257"/>
                  </a:lnTo>
                  <a:lnTo>
                    <a:pt x="99" y="261"/>
                  </a:lnTo>
                  <a:lnTo>
                    <a:pt x="117" y="264"/>
                  </a:lnTo>
                  <a:lnTo>
                    <a:pt x="136" y="267"/>
                  </a:lnTo>
                  <a:lnTo>
                    <a:pt x="177" y="271"/>
                  </a:lnTo>
                  <a:lnTo>
                    <a:pt x="220" y="273"/>
                  </a:lnTo>
                  <a:lnTo>
                    <a:pt x="263" y="271"/>
                  </a:lnTo>
                  <a:lnTo>
                    <a:pt x="304" y="267"/>
                  </a:lnTo>
                  <a:lnTo>
                    <a:pt x="323" y="264"/>
                  </a:lnTo>
                  <a:lnTo>
                    <a:pt x="341" y="261"/>
                  </a:lnTo>
                  <a:lnTo>
                    <a:pt x="357" y="257"/>
                  </a:lnTo>
                  <a:lnTo>
                    <a:pt x="373" y="253"/>
                  </a:lnTo>
                  <a:lnTo>
                    <a:pt x="387" y="248"/>
                  </a:lnTo>
                  <a:lnTo>
                    <a:pt x="399" y="243"/>
                  </a:lnTo>
                  <a:lnTo>
                    <a:pt x="402" y="242"/>
                  </a:lnTo>
                  <a:lnTo>
                    <a:pt x="413" y="236"/>
                  </a:lnTo>
                  <a:lnTo>
                    <a:pt x="422" y="231"/>
                  </a:lnTo>
                  <a:lnTo>
                    <a:pt x="429" y="224"/>
                  </a:lnTo>
                  <a:lnTo>
                    <a:pt x="435" y="218"/>
                  </a:lnTo>
                  <a:lnTo>
                    <a:pt x="438" y="212"/>
                  </a:lnTo>
                  <a:lnTo>
                    <a:pt x="439" y="209"/>
                  </a:lnTo>
                  <a:lnTo>
                    <a:pt x="441" y="202"/>
                  </a:lnTo>
                  <a:lnTo>
                    <a:pt x="441" y="70"/>
                  </a:lnTo>
                  <a:lnTo>
                    <a:pt x="439" y="63"/>
                  </a:lnTo>
                  <a:lnTo>
                    <a:pt x="438" y="60"/>
                  </a:lnTo>
                  <a:lnTo>
                    <a:pt x="435" y="54"/>
                  </a:lnTo>
                  <a:lnTo>
                    <a:pt x="429" y="48"/>
                  </a:lnTo>
                  <a:lnTo>
                    <a:pt x="422" y="42"/>
                  </a:lnTo>
                  <a:lnTo>
                    <a:pt x="413" y="36"/>
                  </a:lnTo>
                  <a:lnTo>
                    <a:pt x="402" y="30"/>
                  </a:lnTo>
                  <a:lnTo>
                    <a:pt x="399" y="29"/>
                  </a:lnTo>
                  <a:lnTo>
                    <a:pt x="387" y="24"/>
                  </a:lnTo>
                  <a:lnTo>
                    <a:pt x="373" y="19"/>
                  </a:lnTo>
                  <a:lnTo>
                    <a:pt x="357" y="15"/>
                  </a:lnTo>
                  <a:lnTo>
                    <a:pt x="341" y="11"/>
                  </a:lnTo>
                  <a:lnTo>
                    <a:pt x="323" y="8"/>
                  </a:lnTo>
                  <a:lnTo>
                    <a:pt x="304" y="5"/>
                  </a:lnTo>
                  <a:lnTo>
                    <a:pt x="263" y="1"/>
                  </a:lnTo>
                  <a:lnTo>
                    <a:pt x="220" y="0"/>
                  </a:lnTo>
                  <a:lnTo>
                    <a:pt x="177" y="1"/>
                  </a:lnTo>
                  <a:close/>
                  <a:moveTo>
                    <a:pt x="220" y="9"/>
                  </a:moveTo>
                  <a:lnTo>
                    <a:pt x="263" y="10"/>
                  </a:lnTo>
                  <a:lnTo>
                    <a:pt x="304" y="14"/>
                  </a:lnTo>
                  <a:lnTo>
                    <a:pt x="323" y="17"/>
                  </a:lnTo>
                  <a:lnTo>
                    <a:pt x="341" y="20"/>
                  </a:lnTo>
                  <a:lnTo>
                    <a:pt x="357" y="24"/>
                  </a:lnTo>
                  <a:lnTo>
                    <a:pt x="373" y="28"/>
                  </a:lnTo>
                  <a:lnTo>
                    <a:pt x="387" y="33"/>
                  </a:lnTo>
                  <a:lnTo>
                    <a:pt x="399" y="38"/>
                  </a:lnTo>
                  <a:lnTo>
                    <a:pt x="399" y="33"/>
                  </a:lnTo>
                  <a:lnTo>
                    <a:pt x="396" y="36"/>
                  </a:lnTo>
                  <a:lnTo>
                    <a:pt x="407" y="42"/>
                  </a:lnTo>
                  <a:lnTo>
                    <a:pt x="416" y="48"/>
                  </a:lnTo>
                  <a:lnTo>
                    <a:pt x="423" y="54"/>
                  </a:lnTo>
                  <a:lnTo>
                    <a:pt x="429" y="60"/>
                  </a:lnTo>
                  <a:lnTo>
                    <a:pt x="432" y="66"/>
                  </a:lnTo>
                  <a:lnTo>
                    <a:pt x="435" y="63"/>
                  </a:lnTo>
                  <a:lnTo>
                    <a:pt x="430" y="63"/>
                  </a:lnTo>
                  <a:lnTo>
                    <a:pt x="432" y="70"/>
                  </a:lnTo>
                  <a:lnTo>
                    <a:pt x="432" y="202"/>
                  </a:lnTo>
                  <a:lnTo>
                    <a:pt x="430" y="209"/>
                  </a:lnTo>
                  <a:lnTo>
                    <a:pt x="435" y="209"/>
                  </a:lnTo>
                  <a:lnTo>
                    <a:pt x="432" y="206"/>
                  </a:lnTo>
                  <a:lnTo>
                    <a:pt x="429" y="212"/>
                  </a:lnTo>
                  <a:lnTo>
                    <a:pt x="423" y="218"/>
                  </a:lnTo>
                  <a:lnTo>
                    <a:pt x="416" y="225"/>
                  </a:lnTo>
                  <a:lnTo>
                    <a:pt x="407" y="230"/>
                  </a:lnTo>
                  <a:lnTo>
                    <a:pt x="396" y="236"/>
                  </a:lnTo>
                  <a:lnTo>
                    <a:pt x="399" y="239"/>
                  </a:lnTo>
                  <a:lnTo>
                    <a:pt x="399" y="234"/>
                  </a:lnTo>
                  <a:lnTo>
                    <a:pt x="387" y="239"/>
                  </a:lnTo>
                  <a:lnTo>
                    <a:pt x="373" y="244"/>
                  </a:lnTo>
                  <a:lnTo>
                    <a:pt x="357" y="248"/>
                  </a:lnTo>
                  <a:lnTo>
                    <a:pt x="341" y="252"/>
                  </a:lnTo>
                  <a:lnTo>
                    <a:pt x="323" y="255"/>
                  </a:lnTo>
                  <a:lnTo>
                    <a:pt x="304" y="258"/>
                  </a:lnTo>
                  <a:lnTo>
                    <a:pt x="263" y="262"/>
                  </a:lnTo>
                  <a:lnTo>
                    <a:pt x="220" y="264"/>
                  </a:lnTo>
                  <a:lnTo>
                    <a:pt x="177" y="262"/>
                  </a:lnTo>
                  <a:lnTo>
                    <a:pt x="136" y="258"/>
                  </a:lnTo>
                  <a:lnTo>
                    <a:pt x="117" y="255"/>
                  </a:lnTo>
                  <a:lnTo>
                    <a:pt x="99" y="252"/>
                  </a:lnTo>
                  <a:lnTo>
                    <a:pt x="83" y="248"/>
                  </a:lnTo>
                  <a:lnTo>
                    <a:pt x="67" y="244"/>
                  </a:lnTo>
                  <a:lnTo>
                    <a:pt x="53" y="239"/>
                  </a:lnTo>
                  <a:lnTo>
                    <a:pt x="41" y="234"/>
                  </a:lnTo>
                  <a:lnTo>
                    <a:pt x="41" y="239"/>
                  </a:lnTo>
                  <a:lnTo>
                    <a:pt x="44" y="236"/>
                  </a:lnTo>
                  <a:lnTo>
                    <a:pt x="33" y="230"/>
                  </a:lnTo>
                  <a:lnTo>
                    <a:pt x="24" y="225"/>
                  </a:lnTo>
                  <a:lnTo>
                    <a:pt x="17" y="218"/>
                  </a:lnTo>
                  <a:lnTo>
                    <a:pt x="11" y="212"/>
                  </a:lnTo>
                  <a:lnTo>
                    <a:pt x="8" y="206"/>
                  </a:lnTo>
                  <a:lnTo>
                    <a:pt x="5" y="209"/>
                  </a:lnTo>
                  <a:lnTo>
                    <a:pt x="10" y="209"/>
                  </a:lnTo>
                  <a:lnTo>
                    <a:pt x="9" y="202"/>
                  </a:lnTo>
                  <a:lnTo>
                    <a:pt x="9" y="70"/>
                  </a:lnTo>
                  <a:lnTo>
                    <a:pt x="10" y="63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1" y="60"/>
                  </a:lnTo>
                  <a:lnTo>
                    <a:pt x="17" y="54"/>
                  </a:lnTo>
                  <a:lnTo>
                    <a:pt x="24" y="48"/>
                  </a:lnTo>
                  <a:lnTo>
                    <a:pt x="33" y="42"/>
                  </a:lnTo>
                  <a:lnTo>
                    <a:pt x="44" y="36"/>
                  </a:lnTo>
                  <a:lnTo>
                    <a:pt x="41" y="33"/>
                  </a:lnTo>
                  <a:lnTo>
                    <a:pt x="41" y="38"/>
                  </a:lnTo>
                  <a:lnTo>
                    <a:pt x="53" y="33"/>
                  </a:lnTo>
                  <a:lnTo>
                    <a:pt x="67" y="28"/>
                  </a:lnTo>
                  <a:lnTo>
                    <a:pt x="83" y="24"/>
                  </a:lnTo>
                  <a:lnTo>
                    <a:pt x="99" y="20"/>
                  </a:lnTo>
                  <a:lnTo>
                    <a:pt x="117" y="17"/>
                  </a:lnTo>
                  <a:lnTo>
                    <a:pt x="136" y="14"/>
                  </a:lnTo>
                  <a:lnTo>
                    <a:pt x="177" y="10"/>
                  </a:lnTo>
                  <a:lnTo>
                    <a:pt x="220" y="9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47120" y="5225400"/>
              <a:ext cx="522000" cy="81000"/>
            </a:xfrm>
            <a:custGeom>
              <a:avLst/>
              <a:gdLst/>
              <a:ahLst/>
              <a:rect l="l" t="t" r="r" b="b"/>
              <a:pathLst>
                <a:path w="441" h="71">
                  <a:moveTo>
                    <a:pt x="9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11" y="22"/>
                  </a:lnTo>
                  <a:lnTo>
                    <a:pt x="18" y="29"/>
                  </a:lnTo>
                  <a:lnTo>
                    <a:pt x="27" y="34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53" y="46"/>
                  </a:lnTo>
                  <a:lnTo>
                    <a:pt x="67" y="51"/>
                  </a:lnTo>
                  <a:lnTo>
                    <a:pt x="83" y="55"/>
                  </a:lnTo>
                  <a:lnTo>
                    <a:pt x="99" y="59"/>
                  </a:lnTo>
                  <a:lnTo>
                    <a:pt x="117" y="62"/>
                  </a:lnTo>
                  <a:lnTo>
                    <a:pt x="136" y="65"/>
                  </a:lnTo>
                  <a:lnTo>
                    <a:pt x="177" y="69"/>
                  </a:lnTo>
                  <a:lnTo>
                    <a:pt x="220" y="71"/>
                  </a:lnTo>
                  <a:lnTo>
                    <a:pt x="263" y="69"/>
                  </a:lnTo>
                  <a:lnTo>
                    <a:pt x="304" y="65"/>
                  </a:lnTo>
                  <a:lnTo>
                    <a:pt x="323" y="62"/>
                  </a:lnTo>
                  <a:lnTo>
                    <a:pt x="341" y="59"/>
                  </a:lnTo>
                  <a:lnTo>
                    <a:pt x="357" y="55"/>
                  </a:lnTo>
                  <a:lnTo>
                    <a:pt x="373" y="51"/>
                  </a:lnTo>
                  <a:lnTo>
                    <a:pt x="387" y="46"/>
                  </a:lnTo>
                  <a:lnTo>
                    <a:pt x="399" y="41"/>
                  </a:lnTo>
                  <a:lnTo>
                    <a:pt x="402" y="40"/>
                  </a:lnTo>
                  <a:lnTo>
                    <a:pt x="413" y="34"/>
                  </a:lnTo>
                  <a:lnTo>
                    <a:pt x="422" y="29"/>
                  </a:lnTo>
                  <a:lnTo>
                    <a:pt x="429" y="22"/>
                  </a:lnTo>
                  <a:lnTo>
                    <a:pt x="435" y="16"/>
                  </a:lnTo>
                  <a:lnTo>
                    <a:pt x="438" y="10"/>
                  </a:lnTo>
                  <a:lnTo>
                    <a:pt x="439" y="7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30" y="7"/>
                  </a:lnTo>
                  <a:lnTo>
                    <a:pt x="435" y="7"/>
                  </a:lnTo>
                  <a:lnTo>
                    <a:pt x="432" y="4"/>
                  </a:lnTo>
                  <a:lnTo>
                    <a:pt x="429" y="10"/>
                  </a:lnTo>
                  <a:lnTo>
                    <a:pt x="423" y="16"/>
                  </a:lnTo>
                  <a:lnTo>
                    <a:pt x="416" y="23"/>
                  </a:lnTo>
                  <a:lnTo>
                    <a:pt x="407" y="28"/>
                  </a:lnTo>
                  <a:lnTo>
                    <a:pt x="396" y="34"/>
                  </a:lnTo>
                  <a:lnTo>
                    <a:pt x="399" y="37"/>
                  </a:lnTo>
                  <a:lnTo>
                    <a:pt x="399" y="32"/>
                  </a:lnTo>
                  <a:lnTo>
                    <a:pt x="387" y="37"/>
                  </a:lnTo>
                  <a:lnTo>
                    <a:pt x="373" y="42"/>
                  </a:lnTo>
                  <a:lnTo>
                    <a:pt x="357" y="46"/>
                  </a:lnTo>
                  <a:lnTo>
                    <a:pt x="341" y="50"/>
                  </a:lnTo>
                  <a:lnTo>
                    <a:pt x="323" y="53"/>
                  </a:lnTo>
                  <a:lnTo>
                    <a:pt x="304" y="56"/>
                  </a:lnTo>
                  <a:lnTo>
                    <a:pt x="263" y="60"/>
                  </a:lnTo>
                  <a:lnTo>
                    <a:pt x="220" y="62"/>
                  </a:lnTo>
                  <a:lnTo>
                    <a:pt x="177" y="60"/>
                  </a:lnTo>
                  <a:lnTo>
                    <a:pt x="136" y="56"/>
                  </a:lnTo>
                  <a:lnTo>
                    <a:pt x="117" y="53"/>
                  </a:lnTo>
                  <a:lnTo>
                    <a:pt x="99" y="50"/>
                  </a:lnTo>
                  <a:lnTo>
                    <a:pt x="83" y="46"/>
                  </a:lnTo>
                  <a:lnTo>
                    <a:pt x="67" y="42"/>
                  </a:lnTo>
                  <a:lnTo>
                    <a:pt x="53" y="37"/>
                  </a:lnTo>
                  <a:lnTo>
                    <a:pt x="41" y="3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33" y="28"/>
                  </a:lnTo>
                  <a:lnTo>
                    <a:pt x="24" y="23"/>
                  </a:lnTo>
                  <a:lnTo>
                    <a:pt x="17" y="16"/>
                  </a:lnTo>
                  <a:lnTo>
                    <a:pt x="11" y="10"/>
                  </a:lnTo>
                  <a:lnTo>
                    <a:pt x="8" y="4"/>
                  </a:lnTo>
                  <a:lnTo>
                    <a:pt x="5" y="7"/>
                  </a:lnTo>
                  <a:lnTo>
                    <a:pt x="10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7708320" y="5173560"/>
              <a:ext cx="384480" cy="105120"/>
              <a:chOff x="7708320" y="5173560"/>
              <a:chExt cx="384480" cy="105120"/>
            </a:xfrm>
          </p:grpSpPr>
          <p:sp>
            <p:nvSpPr>
              <p:cNvPr id="978" name=""/>
              <p:cNvSpPr/>
              <p:nvPr/>
            </p:nvSpPr>
            <p:spPr>
              <a:xfrm>
                <a:off x="7908480" y="5175720"/>
                <a:ext cx="18432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908480" y="5175720"/>
                <a:ext cx="18432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708320" y="5228640"/>
                <a:ext cx="184320" cy="4788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708320" y="5228640"/>
                <a:ext cx="184320" cy="4788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718760" y="5173560"/>
                <a:ext cx="18432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718760" y="5173560"/>
                <a:ext cx="18432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902360" y="5232960"/>
                <a:ext cx="183240" cy="45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902360" y="5232960"/>
                <a:ext cx="183240" cy="45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6" name=""/>
          <p:cNvSpPr/>
          <p:nvPr/>
        </p:nvSpPr>
        <p:spPr>
          <a:xfrm flipH="1" flipV="1">
            <a:off x="7722720" y="4307040"/>
            <a:ext cx="228600" cy="914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948480" y="2991960"/>
            <a:ext cx="298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TN w/ Transponder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068480" y="2057400"/>
            <a:ext cx="226800" cy="2761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743200" y="2057400"/>
            <a:ext cx="227160" cy="2746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38080" y="1752480"/>
            <a:ext cx="2362320" cy="9144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602360" y="24379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T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05120" y="2057400"/>
            <a:ext cx="226800" cy="2761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048120" y="2133720"/>
            <a:ext cx="914400" cy="3045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877880" y="41986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T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1066680" y="2286000"/>
            <a:ext cx="76320" cy="914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784680" y="3580920"/>
            <a:ext cx="29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Unwrapped OC-48 cap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~2.5 G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71600" y="5319000"/>
            <a:ext cx="39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rapped (OC-48) capable (~2.6 Gb/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2286000" y="2742840"/>
            <a:ext cx="76320" cy="243828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2514600" y="4038120"/>
            <a:ext cx="4495680" cy="129564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2514600" y="3276360"/>
            <a:ext cx="1447920" cy="205740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5257800" y="3276720"/>
            <a:ext cx="0" cy="45720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" y="571500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33520" y="5750640"/>
            <a:ext cx="769608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ot a near term solu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ot an end-to-end solu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ignals have to be unwrapped to be transmitted through legacy DWDM equip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569360" y="4062240"/>
            <a:ext cx="226800" cy="2746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211720" y="2678040"/>
            <a:ext cx="284040" cy="439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076640" y="2238480"/>
            <a:ext cx="284400" cy="439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853B8-C9B3-4FAB-824A-9F07C78435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Closed Terminals and OADNs</a:t>
            </a: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008" name=""/>
          <p:cNvSpPr/>
          <p:nvPr/>
        </p:nvSpPr>
        <p:spPr>
          <a:xfrm rot="16200000">
            <a:off x="4991040" y="4609440"/>
            <a:ext cx="1981080" cy="990720"/>
          </a:xfrm>
          <a:custGeom>
            <a:avLst/>
            <a:gdLst>
              <a:gd name="textAreaLeft" fmla="*/ 435600 w 1981080"/>
              <a:gd name="textAreaRight" fmla="*/ 1545480 w 1981080"/>
              <a:gd name="textAreaTop" fmla="*/ 217800 h 990720"/>
              <a:gd name="textAreaBottom" fmla="*/ 7729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477120" y="5257800"/>
            <a:ext cx="2286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553720" y="486000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1676520" y="4114440"/>
            <a:ext cx="1294920" cy="305280"/>
            <a:chOff x="1676520" y="4114440"/>
            <a:chExt cx="1294920" cy="305280"/>
          </a:xfrm>
        </p:grpSpPr>
        <p:grpSp>
          <p:nvGrpSpPr>
            <p:cNvPr id="1012" name=""/>
            <p:cNvGrpSpPr/>
            <p:nvPr/>
          </p:nvGrpSpPr>
          <p:grpSpPr>
            <a:xfrm>
              <a:off x="1676520" y="4114440"/>
              <a:ext cx="380880" cy="305280"/>
              <a:chOff x="1676520" y="4114440"/>
              <a:chExt cx="380880" cy="305280"/>
            </a:xfrm>
          </p:grpSpPr>
          <p:sp>
            <p:nvSpPr>
              <p:cNvPr id="1013" name=""/>
              <p:cNvSpPr/>
              <p:nvPr/>
            </p:nvSpPr>
            <p:spPr>
              <a:xfrm>
                <a:off x="1676520" y="4419720"/>
                <a:ext cx="22824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V="1">
                <a:off x="1904760" y="4114440"/>
                <a:ext cx="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057400" y="4114800"/>
                <a:ext cx="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04760" y="4114800"/>
                <a:ext cx="152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7" name=""/>
            <p:cNvGrpSpPr/>
            <p:nvPr/>
          </p:nvGrpSpPr>
          <p:grpSpPr>
            <a:xfrm>
              <a:off x="2044440" y="4114440"/>
              <a:ext cx="380880" cy="305280"/>
              <a:chOff x="2044440" y="4114440"/>
              <a:chExt cx="380880" cy="305280"/>
            </a:xfrm>
          </p:grpSpPr>
          <p:sp>
            <p:nvSpPr>
              <p:cNvPr id="1018" name=""/>
              <p:cNvSpPr/>
              <p:nvPr/>
            </p:nvSpPr>
            <p:spPr>
              <a:xfrm>
                <a:off x="2044440" y="4419720"/>
                <a:ext cx="22824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V="1">
                <a:off x="2272680" y="4114440"/>
                <a:ext cx="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425320" y="4114800"/>
                <a:ext cx="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272680" y="4114800"/>
                <a:ext cx="152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2438280" y="4114440"/>
              <a:ext cx="380520" cy="305280"/>
              <a:chOff x="2438280" y="4114440"/>
              <a:chExt cx="380520" cy="305280"/>
            </a:xfrm>
          </p:grpSpPr>
          <p:sp>
            <p:nvSpPr>
              <p:cNvPr id="1023" name=""/>
              <p:cNvSpPr/>
              <p:nvPr/>
            </p:nvSpPr>
            <p:spPr>
              <a:xfrm>
                <a:off x="2438280" y="4419720"/>
                <a:ext cx="2278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V="1">
                <a:off x="2666160" y="4114440"/>
                <a:ext cx="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818800" y="4114800"/>
                <a:ext cx="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666160" y="4114800"/>
                <a:ext cx="152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2819160" y="4419720"/>
              <a:ext cx="152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1676520" y="4571640"/>
            <a:ext cx="1294920" cy="305280"/>
            <a:chOff x="1676520" y="4571640"/>
            <a:chExt cx="1294920" cy="305280"/>
          </a:xfrm>
        </p:grpSpPr>
        <p:grpSp>
          <p:nvGrpSpPr>
            <p:cNvPr id="1029" name=""/>
            <p:cNvGrpSpPr/>
            <p:nvPr/>
          </p:nvGrpSpPr>
          <p:grpSpPr>
            <a:xfrm>
              <a:off x="1676520" y="4571640"/>
              <a:ext cx="380880" cy="305280"/>
              <a:chOff x="1676520" y="4571640"/>
              <a:chExt cx="380880" cy="305280"/>
            </a:xfrm>
          </p:grpSpPr>
          <p:sp>
            <p:nvSpPr>
              <p:cNvPr id="1030" name=""/>
              <p:cNvSpPr/>
              <p:nvPr/>
            </p:nvSpPr>
            <p:spPr>
              <a:xfrm>
                <a:off x="1676520" y="4876920"/>
                <a:ext cx="22824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V="1">
                <a:off x="1904760" y="4571640"/>
                <a:ext cx="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057400" y="4572000"/>
                <a:ext cx="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904760" y="4572000"/>
                <a:ext cx="152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2044440" y="4571640"/>
              <a:ext cx="380880" cy="305280"/>
              <a:chOff x="2044440" y="4571640"/>
              <a:chExt cx="380880" cy="305280"/>
            </a:xfrm>
          </p:grpSpPr>
          <p:sp>
            <p:nvSpPr>
              <p:cNvPr id="1035" name=""/>
              <p:cNvSpPr/>
              <p:nvPr/>
            </p:nvSpPr>
            <p:spPr>
              <a:xfrm>
                <a:off x="2044440" y="4876920"/>
                <a:ext cx="22824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2272680" y="4571640"/>
                <a:ext cx="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425320" y="4572000"/>
                <a:ext cx="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272680" y="4572000"/>
                <a:ext cx="152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2438280" y="4571640"/>
              <a:ext cx="380520" cy="305280"/>
              <a:chOff x="2438280" y="4571640"/>
              <a:chExt cx="380520" cy="305280"/>
            </a:xfrm>
          </p:grpSpPr>
          <p:sp>
            <p:nvSpPr>
              <p:cNvPr id="1040" name=""/>
              <p:cNvSpPr/>
              <p:nvPr/>
            </p:nvSpPr>
            <p:spPr>
              <a:xfrm>
                <a:off x="2438280" y="4876920"/>
                <a:ext cx="2278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V="1">
                <a:off x="2666160" y="4571640"/>
                <a:ext cx="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818800" y="4572000"/>
                <a:ext cx="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666160" y="4572000"/>
                <a:ext cx="152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4" name=""/>
            <p:cNvSpPr/>
            <p:nvPr/>
          </p:nvSpPr>
          <p:spPr>
            <a:xfrm>
              <a:off x="2819160" y="4876920"/>
              <a:ext cx="152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2210760" y="4723200"/>
            <a:ext cx="282960" cy="886320"/>
            <a:chOff x="2210760" y="4723200"/>
            <a:chExt cx="282960" cy="886320"/>
          </a:xfrm>
        </p:grpSpPr>
        <p:sp>
          <p:nvSpPr>
            <p:cNvPr id="1046" name=""/>
            <p:cNvSpPr/>
            <p:nvPr/>
          </p:nvSpPr>
          <p:spPr>
            <a:xfrm>
              <a:off x="2210760" y="4723200"/>
              <a:ext cx="28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210760" y="4875840"/>
              <a:ext cx="28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210760" y="5028120"/>
              <a:ext cx="28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1676520" y="5714640"/>
            <a:ext cx="1294920" cy="305280"/>
            <a:chOff x="1676520" y="5714640"/>
            <a:chExt cx="1294920" cy="305280"/>
          </a:xfrm>
        </p:grpSpPr>
        <p:grpSp>
          <p:nvGrpSpPr>
            <p:cNvPr id="1050" name=""/>
            <p:cNvGrpSpPr/>
            <p:nvPr/>
          </p:nvGrpSpPr>
          <p:grpSpPr>
            <a:xfrm>
              <a:off x="1676520" y="5714640"/>
              <a:ext cx="380880" cy="305280"/>
              <a:chOff x="1676520" y="5714640"/>
              <a:chExt cx="380880" cy="305280"/>
            </a:xfrm>
          </p:grpSpPr>
          <p:sp>
            <p:nvSpPr>
              <p:cNvPr id="1051" name=""/>
              <p:cNvSpPr/>
              <p:nvPr/>
            </p:nvSpPr>
            <p:spPr>
              <a:xfrm>
                <a:off x="1676520" y="6019920"/>
                <a:ext cx="22824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1904760" y="5714640"/>
                <a:ext cx="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057400" y="5715000"/>
                <a:ext cx="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04760" y="5715000"/>
                <a:ext cx="152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2044440" y="5714640"/>
              <a:ext cx="380880" cy="305280"/>
              <a:chOff x="2044440" y="5714640"/>
              <a:chExt cx="380880" cy="305280"/>
            </a:xfrm>
          </p:grpSpPr>
          <p:sp>
            <p:nvSpPr>
              <p:cNvPr id="1056" name=""/>
              <p:cNvSpPr/>
              <p:nvPr/>
            </p:nvSpPr>
            <p:spPr>
              <a:xfrm>
                <a:off x="2044440" y="6019920"/>
                <a:ext cx="22824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V="1">
                <a:off x="2272680" y="5714640"/>
                <a:ext cx="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425320" y="5715000"/>
                <a:ext cx="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272680" y="5715000"/>
                <a:ext cx="152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2438280" y="5714640"/>
              <a:ext cx="380520" cy="305280"/>
              <a:chOff x="2438280" y="5714640"/>
              <a:chExt cx="380520" cy="305280"/>
            </a:xfrm>
          </p:grpSpPr>
          <p:sp>
            <p:nvSpPr>
              <p:cNvPr id="1061" name=""/>
              <p:cNvSpPr/>
              <p:nvPr/>
            </p:nvSpPr>
            <p:spPr>
              <a:xfrm>
                <a:off x="2438280" y="6019920"/>
                <a:ext cx="2278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2666160" y="5714640"/>
                <a:ext cx="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818800" y="5715000"/>
                <a:ext cx="0" cy="304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666160" y="5715000"/>
                <a:ext cx="1522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2819160" y="6019920"/>
              <a:ext cx="152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1972800" y="617184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C-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20720" y="4038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601640" y="4463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601640" y="5682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4114800" y="4114440"/>
            <a:ext cx="1294920" cy="305280"/>
            <a:chOff x="4114800" y="4114440"/>
            <a:chExt cx="1294920" cy="305280"/>
          </a:xfrm>
        </p:grpSpPr>
        <p:grpSp>
          <p:nvGrpSpPr>
            <p:cNvPr id="1071" name=""/>
            <p:cNvGrpSpPr/>
            <p:nvPr/>
          </p:nvGrpSpPr>
          <p:grpSpPr>
            <a:xfrm>
              <a:off x="4114800" y="4114440"/>
              <a:ext cx="380880" cy="305280"/>
              <a:chOff x="4114800" y="4114440"/>
              <a:chExt cx="380880" cy="305280"/>
            </a:xfrm>
          </p:grpSpPr>
          <p:sp>
            <p:nvSpPr>
              <p:cNvPr id="1072" name=""/>
              <p:cNvSpPr/>
              <p:nvPr/>
            </p:nvSpPr>
            <p:spPr>
              <a:xfrm>
                <a:off x="4114800" y="4419720"/>
                <a:ext cx="228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4343040" y="4114440"/>
                <a:ext cx="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495680" y="4114800"/>
                <a:ext cx="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343040" y="411480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4482720" y="4114440"/>
              <a:ext cx="380880" cy="305280"/>
              <a:chOff x="4482720" y="4114440"/>
              <a:chExt cx="380880" cy="305280"/>
            </a:xfrm>
          </p:grpSpPr>
          <p:sp>
            <p:nvSpPr>
              <p:cNvPr id="1077" name=""/>
              <p:cNvSpPr/>
              <p:nvPr/>
            </p:nvSpPr>
            <p:spPr>
              <a:xfrm>
                <a:off x="4482720" y="4419720"/>
                <a:ext cx="228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V="1">
                <a:off x="4710960" y="4114440"/>
                <a:ext cx="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4863600" y="4114800"/>
                <a:ext cx="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710960" y="411480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876560" y="4114440"/>
              <a:ext cx="380520" cy="305280"/>
              <a:chOff x="4876560" y="4114440"/>
              <a:chExt cx="380520" cy="305280"/>
            </a:xfrm>
          </p:grpSpPr>
          <p:sp>
            <p:nvSpPr>
              <p:cNvPr id="1082" name=""/>
              <p:cNvSpPr/>
              <p:nvPr/>
            </p:nvSpPr>
            <p:spPr>
              <a:xfrm>
                <a:off x="4876560" y="4419720"/>
                <a:ext cx="227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>
                <a:off x="5104440" y="4114440"/>
                <a:ext cx="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257080" y="4114800"/>
                <a:ext cx="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104440" y="411480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6" name=""/>
            <p:cNvSpPr/>
            <p:nvPr/>
          </p:nvSpPr>
          <p:spPr>
            <a:xfrm>
              <a:off x="5257440" y="4419720"/>
              <a:ext cx="152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4114800" y="4800240"/>
            <a:ext cx="1294920" cy="305280"/>
            <a:chOff x="4114800" y="4800240"/>
            <a:chExt cx="1294920" cy="305280"/>
          </a:xfrm>
        </p:grpSpPr>
        <p:grpSp>
          <p:nvGrpSpPr>
            <p:cNvPr id="1088" name=""/>
            <p:cNvGrpSpPr/>
            <p:nvPr/>
          </p:nvGrpSpPr>
          <p:grpSpPr>
            <a:xfrm>
              <a:off x="4114800" y="4800240"/>
              <a:ext cx="380880" cy="305280"/>
              <a:chOff x="4114800" y="4800240"/>
              <a:chExt cx="380880" cy="305280"/>
            </a:xfrm>
          </p:grpSpPr>
          <p:sp>
            <p:nvSpPr>
              <p:cNvPr id="1089" name=""/>
              <p:cNvSpPr/>
              <p:nvPr/>
            </p:nvSpPr>
            <p:spPr>
              <a:xfrm>
                <a:off x="4114800" y="5105520"/>
                <a:ext cx="22824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4343040" y="4800240"/>
                <a:ext cx="0" cy="30492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495680" y="4800600"/>
                <a:ext cx="0" cy="30492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343040" y="4800600"/>
                <a:ext cx="15228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4482720" y="4800240"/>
              <a:ext cx="380880" cy="305280"/>
              <a:chOff x="4482720" y="4800240"/>
              <a:chExt cx="380880" cy="305280"/>
            </a:xfrm>
          </p:grpSpPr>
          <p:sp>
            <p:nvSpPr>
              <p:cNvPr id="1094" name=""/>
              <p:cNvSpPr/>
              <p:nvPr/>
            </p:nvSpPr>
            <p:spPr>
              <a:xfrm>
                <a:off x="4482720" y="5105520"/>
                <a:ext cx="22824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4710960" y="4800240"/>
                <a:ext cx="0" cy="30492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863600" y="4800600"/>
                <a:ext cx="0" cy="30492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710960" y="4800600"/>
                <a:ext cx="15228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4876560" y="4800240"/>
              <a:ext cx="380520" cy="305280"/>
              <a:chOff x="4876560" y="4800240"/>
              <a:chExt cx="380520" cy="305280"/>
            </a:xfrm>
          </p:grpSpPr>
          <p:sp>
            <p:nvSpPr>
              <p:cNvPr id="1099" name=""/>
              <p:cNvSpPr/>
              <p:nvPr/>
            </p:nvSpPr>
            <p:spPr>
              <a:xfrm>
                <a:off x="4876560" y="5105520"/>
                <a:ext cx="22788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>
                <a:off x="5104440" y="4800240"/>
                <a:ext cx="0" cy="30492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257080" y="4800600"/>
                <a:ext cx="0" cy="30492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104440" y="4800600"/>
                <a:ext cx="15228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3" name=""/>
            <p:cNvSpPr/>
            <p:nvPr/>
          </p:nvSpPr>
          <p:spPr>
            <a:xfrm>
              <a:off x="5257440" y="5105520"/>
              <a:ext cx="1522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4" name=""/>
          <p:cNvGrpSpPr/>
          <p:nvPr/>
        </p:nvGrpSpPr>
        <p:grpSpPr>
          <a:xfrm>
            <a:off x="4878360" y="4800240"/>
            <a:ext cx="295200" cy="947160"/>
            <a:chOff x="4878360" y="4800240"/>
            <a:chExt cx="295200" cy="947160"/>
          </a:xfrm>
        </p:grpSpPr>
        <p:sp>
          <p:nvSpPr>
            <p:cNvPr id="1105" name=""/>
            <p:cNvSpPr/>
            <p:nvPr/>
          </p:nvSpPr>
          <p:spPr>
            <a:xfrm>
              <a:off x="4878360" y="480024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878360" y="495252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878360" y="510480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114800" y="5791320"/>
            <a:ext cx="1294920" cy="304560"/>
            <a:chOff x="4114800" y="5791320"/>
            <a:chExt cx="1294920" cy="304560"/>
          </a:xfrm>
        </p:grpSpPr>
        <p:grpSp>
          <p:nvGrpSpPr>
            <p:cNvPr id="1109" name=""/>
            <p:cNvGrpSpPr/>
            <p:nvPr/>
          </p:nvGrpSpPr>
          <p:grpSpPr>
            <a:xfrm>
              <a:off x="4114800" y="5791320"/>
              <a:ext cx="380880" cy="304560"/>
              <a:chOff x="4114800" y="5791320"/>
              <a:chExt cx="380880" cy="304560"/>
            </a:xfrm>
          </p:grpSpPr>
          <p:sp>
            <p:nvSpPr>
              <p:cNvPr id="1110" name=""/>
              <p:cNvSpPr/>
              <p:nvPr/>
            </p:nvSpPr>
            <p:spPr>
              <a:xfrm>
                <a:off x="4114800" y="6095880"/>
                <a:ext cx="22824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4343040" y="5791320"/>
                <a:ext cx="0" cy="30456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495680" y="5791320"/>
                <a:ext cx="0" cy="30456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343040" y="5791320"/>
                <a:ext cx="15228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4482720" y="5791320"/>
              <a:ext cx="380880" cy="304560"/>
              <a:chOff x="4482720" y="5791320"/>
              <a:chExt cx="380880" cy="304560"/>
            </a:xfrm>
          </p:grpSpPr>
          <p:sp>
            <p:nvSpPr>
              <p:cNvPr id="1115" name=""/>
              <p:cNvSpPr/>
              <p:nvPr/>
            </p:nvSpPr>
            <p:spPr>
              <a:xfrm>
                <a:off x="4482720" y="6095880"/>
                <a:ext cx="22824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V="1">
                <a:off x="4710960" y="5791320"/>
                <a:ext cx="0" cy="30456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863600" y="5791320"/>
                <a:ext cx="0" cy="30456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710960" y="5791320"/>
                <a:ext cx="15228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4876560" y="5791320"/>
              <a:ext cx="380520" cy="304560"/>
              <a:chOff x="4876560" y="5791320"/>
              <a:chExt cx="380520" cy="304560"/>
            </a:xfrm>
          </p:grpSpPr>
          <p:sp>
            <p:nvSpPr>
              <p:cNvPr id="1120" name=""/>
              <p:cNvSpPr/>
              <p:nvPr/>
            </p:nvSpPr>
            <p:spPr>
              <a:xfrm>
                <a:off x="4876560" y="6095880"/>
                <a:ext cx="22788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5104440" y="5791320"/>
                <a:ext cx="0" cy="30456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257080" y="5791320"/>
                <a:ext cx="0" cy="30456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104440" y="5791320"/>
                <a:ext cx="15228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4" name=""/>
            <p:cNvSpPr/>
            <p:nvPr/>
          </p:nvSpPr>
          <p:spPr>
            <a:xfrm>
              <a:off x="5257440" y="6095880"/>
              <a:ext cx="152280" cy="0"/>
            </a:xfrm>
            <a:prstGeom prst="line">
              <a:avLst/>
            </a:prstGeom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7244640" y="4784760"/>
            <a:ext cx="1117800" cy="397440"/>
            <a:chOff x="7244640" y="4784760"/>
            <a:chExt cx="1117800" cy="397440"/>
          </a:xfrm>
        </p:grpSpPr>
        <p:sp>
          <p:nvSpPr>
            <p:cNvPr id="1126" name=""/>
            <p:cNvSpPr/>
            <p:nvPr/>
          </p:nvSpPr>
          <p:spPr>
            <a:xfrm>
              <a:off x="7244640" y="4784760"/>
              <a:ext cx="477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</a:t>
              </a:r>
              <a:r>
                <a:rPr b="1" lang="en-US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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568280" y="4784760"/>
              <a:ext cx="401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</a:t>
              </a:r>
              <a:r>
                <a:rPr b="1" lang="en-US" sz="12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873920" y="4784760"/>
              <a:ext cx="183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178480" y="4784760"/>
              <a:ext cx="183960" cy="2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4266360" y="3657600"/>
            <a:ext cx="48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253760" y="4343400"/>
            <a:ext cx="48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00ff00"/>
                </a:solidFill>
                <a:latin typeface="Symbol"/>
                <a:ea typeface="Symbol"/>
              </a:rPr>
              <a:t>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4190760" y="5257800"/>
            <a:ext cx="557640" cy="519120"/>
            <a:chOff x="4190760" y="5257800"/>
            <a:chExt cx="557640" cy="519120"/>
          </a:xfrm>
        </p:grpSpPr>
        <p:sp>
          <p:nvSpPr>
            <p:cNvPr id="1133" name=""/>
            <p:cNvSpPr/>
            <p:nvPr/>
          </p:nvSpPr>
          <p:spPr>
            <a:xfrm>
              <a:off x="4190760" y="5257800"/>
              <a:ext cx="380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ccff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425840" y="5348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66ccff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8254800" y="4800600"/>
            <a:ext cx="430200" cy="442440"/>
            <a:chOff x="8254800" y="4800600"/>
            <a:chExt cx="430200" cy="442440"/>
          </a:xfrm>
        </p:grpSpPr>
        <p:sp>
          <p:nvSpPr>
            <p:cNvPr id="1136" name=""/>
            <p:cNvSpPr/>
            <p:nvPr/>
          </p:nvSpPr>
          <p:spPr>
            <a:xfrm>
              <a:off x="8254800" y="4800600"/>
              <a:ext cx="309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cc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405280" y="4935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6ccff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7844040" y="4723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124080" y="3733920"/>
            <a:ext cx="4038840" cy="2895480"/>
          </a:xfrm>
          <a:prstGeom prst="rect">
            <a:avLst/>
          </a:prstGeom>
          <a:noFill/>
          <a:ln w="284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990720" y="4038480"/>
            <a:ext cx="533160" cy="2210040"/>
            <a:chOff x="990720" y="4038480"/>
            <a:chExt cx="533160" cy="2210040"/>
          </a:xfrm>
        </p:grpSpPr>
        <p:sp>
          <p:nvSpPr>
            <p:cNvPr id="1141" name=""/>
            <p:cNvSpPr/>
            <p:nvPr/>
          </p:nvSpPr>
          <p:spPr>
            <a:xfrm>
              <a:off x="990720" y="4038480"/>
              <a:ext cx="533160" cy="533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990720" y="4724280"/>
              <a:ext cx="533160" cy="533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990720" y="5715000"/>
              <a:ext cx="533160" cy="533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4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429000" y="4724280"/>
            <a:ext cx="5335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429000" y="5715000"/>
            <a:ext cx="5335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rot="5400000">
            <a:off x="6680520" y="5115600"/>
            <a:ext cx="376200" cy="28260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Closed Architecture”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No wavelength specific sparing of router PHY card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Fault isolation and performance monitoring end-to-end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Transmitter / Receiver technology matches link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LTE transponders can perform electronic grooming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DCB69-BEC6-4730-9CC6-6B761B75ECE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Regeneration Node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150" name=""/>
          <p:cNvSpPr/>
          <p:nvPr/>
        </p:nvSpPr>
        <p:spPr>
          <a:xfrm rot="16200000">
            <a:off x="5819760" y="4238640"/>
            <a:ext cx="1828800" cy="749520"/>
          </a:xfrm>
          <a:custGeom>
            <a:avLst/>
            <a:gdLst>
              <a:gd name="textAreaLeft" fmla="*/ 402120 w 1828800"/>
              <a:gd name="textAreaRight" fmla="*/ 1426680 w 1828800"/>
              <a:gd name="textAreaTop" fmla="*/ 164880 h 749520"/>
              <a:gd name="textAreaBottom" fmla="*/ 584640 h 74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108920" y="4753080"/>
            <a:ext cx="17301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306120" y="435996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5321160" y="3699000"/>
            <a:ext cx="981360" cy="280800"/>
            <a:chOff x="5321160" y="3699000"/>
            <a:chExt cx="981360" cy="280800"/>
          </a:xfrm>
        </p:grpSpPr>
        <p:grpSp>
          <p:nvGrpSpPr>
            <p:cNvPr id="1154" name=""/>
            <p:cNvGrpSpPr/>
            <p:nvPr/>
          </p:nvGrpSpPr>
          <p:grpSpPr>
            <a:xfrm>
              <a:off x="5321160" y="3699000"/>
              <a:ext cx="288720" cy="280800"/>
              <a:chOff x="5321160" y="3699000"/>
              <a:chExt cx="288720" cy="280800"/>
            </a:xfrm>
          </p:grpSpPr>
          <p:sp>
            <p:nvSpPr>
              <p:cNvPr id="1155" name=""/>
              <p:cNvSpPr/>
              <p:nvPr/>
            </p:nvSpPr>
            <p:spPr>
              <a:xfrm>
                <a:off x="5321160" y="3979800"/>
                <a:ext cx="1731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5494320" y="3699000"/>
                <a:ext cx="0" cy="280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609880" y="3699000"/>
                <a:ext cx="0" cy="280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494320" y="3699000"/>
                <a:ext cx="115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5599800" y="3699000"/>
              <a:ext cx="288720" cy="280800"/>
              <a:chOff x="5599800" y="3699000"/>
              <a:chExt cx="288720" cy="280800"/>
            </a:xfrm>
          </p:grpSpPr>
          <p:sp>
            <p:nvSpPr>
              <p:cNvPr id="1160" name=""/>
              <p:cNvSpPr/>
              <p:nvPr/>
            </p:nvSpPr>
            <p:spPr>
              <a:xfrm>
                <a:off x="5599800" y="3979800"/>
                <a:ext cx="1731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V="1">
                <a:off x="5772960" y="3699000"/>
                <a:ext cx="0" cy="280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888520" y="3699000"/>
                <a:ext cx="0" cy="280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772960" y="3699000"/>
                <a:ext cx="115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5898240" y="3699000"/>
              <a:ext cx="288360" cy="280800"/>
              <a:chOff x="5898240" y="3699000"/>
              <a:chExt cx="288360" cy="280800"/>
            </a:xfrm>
          </p:grpSpPr>
          <p:sp>
            <p:nvSpPr>
              <p:cNvPr id="1165" name=""/>
              <p:cNvSpPr/>
              <p:nvPr/>
            </p:nvSpPr>
            <p:spPr>
              <a:xfrm>
                <a:off x="5898240" y="3979800"/>
                <a:ext cx="172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V="1">
                <a:off x="6071040" y="3699000"/>
                <a:ext cx="0" cy="280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186600" y="3699000"/>
                <a:ext cx="0" cy="280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071040" y="3699000"/>
                <a:ext cx="115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9" name=""/>
            <p:cNvSpPr/>
            <p:nvPr/>
          </p:nvSpPr>
          <p:spPr>
            <a:xfrm>
              <a:off x="6186960" y="3979800"/>
              <a:ext cx="115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5321160" y="4331880"/>
            <a:ext cx="981360" cy="281520"/>
            <a:chOff x="5321160" y="4331880"/>
            <a:chExt cx="981360" cy="281520"/>
          </a:xfrm>
        </p:grpSpPr>
        <p:grpSp>
          <p:nvGrpSpPr>
            <p:cNvPr id="1171" name=""/>
            <p:cNvGrpSpPr/>
            <p:nvPr/>
          </p:nvGrpSpPr>
          <p:grpSpPr>
            <a:xfrm>
              <a:off x="5321160" y="4331880"/>
              <a:ext cx="288720" cy="281520"/>
              <a:chOff x="5321160" y="4331880"/>
              <a:chExt cx="288720" cy="281520"/>
            </a:xfrm>
          </p:grpSpPr>
          <p:sp>
            <p:nvSpPr>
              <p:cNvPr id="1172" name=""/>
              <p:cNvSpPr/>
              <p:nvPr/>
            </p:nvSpPr>
            <p:spPr>
              <a:xfrm>
                <a:off x="5321160" y="4613400"/>
                <a:ext cx="17316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V="1">
                <a:off x="5494320" y="4331880"/>
                <a:ext cx="0" cy="28116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609880" y="4332240"/>
                <a:ext cx="0" cy="28116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494320" y="4332240"/>
                <a:ext cx="11556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5599800" y="4331880"/>
              <a:ext cx="288720" cy="281520"/>
              <a:chOff x="5599800" y="4331880"/>
              <a:chExt cx="288720" cy="281520"/>
            </a:xfrm>
          </p:grpSpPr>
          <p:sp>
            <p:nvSpPr>
              <p:cNvPr id="1177" name=""/>
              <p:cNvSpPr/>
              <p:nvPr/>
            </p:nvSpPr>
            <p:spPr>
              <a:xfrm>
                <a:off x="5599800" y="4613400"/>
                <a:ext cx="17316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5772960" y="4331880"/>
                <a:ext cx="0" cy="28116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888520" y="4332240"/>
                <a:ext cx="0" cy="28116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772960" y="4332240"/>
                <a:ext cx="11556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5898240" y="4331880"/>
              <a:ext cx="288360" cy="281520"/>
              <a:chOff x="5898240" y="4331880"/>
              <a:chExt cx="288360" cy="28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5898240" y="4613400"/>
                <a:ext cx="17280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V="1">
                <a:off x="6071040" y="4331880"/>
                <a:ext cx="0" cy="28116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186600" y="4332240"/>
                <a:ext cx="0" cy="28116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071040" y="4332240"/>
                <a:ext cx="11520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>
              <a:off x="6186960" y="4613400"/>
              <a:ext cx="1155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5864040" y="4307760"/>
            <a:ext cx="295200" cy="923400"/>
            <a:chOff x="5864040" y="4307760"/>
            <a:chExt cx="295200" cy="923400"/>
          </a:xfrm>
        </p:grpSpPr>
        <p:sp>
          <p:nvSpPr>
            <p:cNvPr id="1188" name=""/>
            <p:cNvSpPr/>
            <p:nvPr/>
          </p:nvSpPr>
          <p:spPr>
            <a:xfrm>
              <a:off x="5864040" y="430776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864040" y="444960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864040" y="458856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5321160" y="5246280"/>
            <a:ext cx="981360" cy="281520"/>
            <a:chOff x="5321160" y="5246280"/>
            <a:chExt cx="981360" cy="281520"/>
          </a:xfrm>
        </p:grpSpPr>
        <p:grpSp>
          <p:nvGrpSpPr>
            <p:cNvPr id="1192" name=""/>
            <p:cNvGrpSpPr/>
            <p:nvPr/>
          </p:nvGrpSpPr>
          <p:grpSpPr>
            <a:xfrm>
              <a:off x="5321160" y="5246280"/>
              <a:ext cx="288720" cy="281520"/>
              <a:chOff x="5321160" y="5246280"/>
              <a:chExt cx="288720" cy="281520"/>
            </a:xfrm>
          </p:grpSpPr>
          <p:sp>
            <p:nvSpPr>
              <p:cNvPr id="1193" name=""/>
              <p:cNvSpPr/>
              <p:nvPr/>
            </p:nvSpPr>
            <p:spPr>
              <a:xfrm>
                <a:off x="5321160" y="5527800"/>
                <a:ext cx="17316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V="1">
                <a:off x="5494320" y="5246280"/>
                <a:ext cx="0" cy="28116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609880" y="5246640"/>
                <a:ext cx="0" cy="28116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494320" y="5246640"/>
                <a:ext cx="11556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5599800" y="5246280"/>
              <a:ext cx="288720" cy="281520"/>
              <a:chOff x="5599800" y="5246280"/>
              <a:chExt cx="288720" cy="281520"/>
            </a:xfrm>
          </p:grpSpPr>
          <p:sp>
            <p:nvSpPr>
              <p:cNvPr id="1198" name=""/>
              <p:cNvSpPr/>
              <p:nvPr/>
            </p:nvSpPr>
            <p:spPr>
              <a:xfrm>
                <a:off x="5599800" y="5527800"/>
                <a:ext cx="17316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V="1">
                <a:off x="5772960" y="5246280"/>
                <a:ext cx="0" cy="28116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888520" y="5246640"/>
                <a:ext cx="0" cy="28116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772960" y="5246640"/>
                <a:ext cx="11556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5898240" y="5246280"/>
              <a:ext cx="288360" cy="281520"/>
              <a:chOff x="5898240" y="5246280"/>
              <a:chExt cx="288360" cy="281520"/>
            </a:xfrm>
          </p:grpSpPr>
          <p:sp>
            <p:nvSpPr>
              <p:cNvPr id="1203" name=""/>
              <p:cNvSpPr/>
              <p:nvPr/>
            </p:nvSpPr>
            <p:spPr>
              <a:xfrm>
                <a:off x="5898240" y="5527800"/>
                <a:ext cx="17280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V="1">
                <a:off x="6071040" y="5246280"/>
                <a:ext cx="0" cy="28116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86600" y="5246640"/>
                <a:ext cx="0" cy="28116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071040" y="5246640"/>
                <a:ext cx="11520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7" name=""/>
            <p:cNvSpPr/>
            <p:nvPr/>
          </p:nvSpPr>
          <p:spPr>
            <a:xfrm>
              <a:off x="6186960" y="5527800"/>
              <a:ext cx="115560" cy="0"/>
            </a:xfrm>
            <a:prstGeom prst="line">
              <a:avLst/>
            </a:prstGeom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686000" y="4316400"/>
            <a:ext cx="871920" cy="397440"/>
            <a:chOff x="7686000" y="4316400"/>
            <a:chExt cx="871920" cy="397440"/>
          </a:xfrm>
        </p:grpSpPr>
        <p:sp>
          <p:nvSpPr>
            <p:cNvPr id="1209" name=""/>
            <p:cNvSpPr/>
            <p:nvPr/>
          </p:nvSpPr>
          <p:spPr>
            <a:xfrm>
              <a:off x="7686000" y="4316400"/>
              <a:ext cx="477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</a:t>
              </a:r>
              <a:r>
                <a:rPr b="1" lang="en-US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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934760" y="4316400"/>
              <a:ext cx="401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</a:t>
              </a:r>
              <a:r>
                <a:rPr b="1" lang="en-US" sz="12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143200" y="4316400"/>
              <a:ext cx="18504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374320" y="4316400"/>
              <a:ext cx="1836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"/>
          <p:cNvSpPr/>
          <p:nvPr/>
        </p:nvSpPr>
        <p:spPr>
          <a:xfrm>
            <a:off x="5436360" y="3260880"/>
            <a:ext cx="48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427000" y="3909960"/>
            <a:ext cx="48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00ff00"/>
                </a:solidFill>
                <a:latin typeface="Symbol"/>
                <a:ea typeface="Symbol"/>
              </a:rPr>
              <a:t>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5" name=""/>
          <p:cNvGrpSpPr/>
          <p:nvPr/>
        </p:nvGrpSpPr>
        <p:grpSpPr>
          <a:xfrm>
            <a:off x="5379480" y="4753080"/>
            <a:ext cx="460440" cy="519120"/>
            <a:chOff x="5379480" y="4753080"/>
            <a:chExt cx="460440" cy="519120"/>
          </a:xfrm>
        </p:grpSpPr>
        <p:sp>
          <p:nvSpPr>
            <p:cNvPr id="1216" name=""/>
            <p:cNvSpPr/>
            <p:nvPr/>
          </p:nvSpPr>
          <p:spPr>
            <a:xfrm>
              <a:off x="5379480" y="4753080"/>
              <a:ext cx="380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ccff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17360" y="4817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66ccff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8454600" y="4332240"/>
            <a:ext cx="360360" cy="420120"/>
            <a:chOff x="8454600" y="4332240"/>
            <a:chExt cx="360360" cy="420120"/>
          </a:xfrm>
        </p:grpSpPr>
        <p:sp>
          <p:nvSpPr>
            <p:cNvPr id="1219" name=""/>
            <p:cNvSpPr/>
            <p:nvPr/>
          </p:nvSpPr>
          <p:spPr>
            <a:xfrm>
              <a:off x="8454600" y="4332240"/>
              <a:ext cx="309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cc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535240" y="4445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6ccff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8161920" y="4316760"/>
            <a:ext cx="44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. . 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677960" y="3346560"/>
            <a:ext cx="6019920" cy="2673360"/>
          </a:xfrm>
          <a:prstGeom prst="rect">
            <a:avLst/>
          </a:prstGeom>
          <a:noFill/>
          <a:ln w="284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rot="5400000">
            <a:off x="7233120" y="4649040"/>
            <a:ext cx="345960" cy="21420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 rot="5400000">
            <a:off x="1801800" y="4238640"/>
            <a:ext cx="1828800" cy="749520"/>
          </a:xfrm>
          <a:custGeom>
            <a:avLst/>
            <a:gdLst>
              <a:gd name="textAreaLeft" fmla="*/ 402120 w 1828800"/>
              <a:gd name="textAreaRight" fmla="*/ 1426680 w 1828800"/>
              <a:gd name="textAreaTop" fmla="*/ 164880 h 749520"/>
              <a:gd name="textAreaBottom" fmla="*/ 584640 h 74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11280" y="4753080"/>
            <a:ext cx="17301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2282040" y="435996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3147840" y="3699000"/>
            <a:ext cx="981360" cy="280800"/>
            <a:chOff x="3147840" y="3699000"/>
            <a:chExt cx="981360" cy="280800"/>
          </a:xfrm>
        </p:grpSpPr>
        <p:grpSp>
          <p:nvGrpSpPr>
            <p:cNvPr id="1228" name=""/>
            <p:cNvGrpSpPr/>
            <p:nvPr/>
          </p:nvGrpSpPr>
          <p:grpSpPr>
            <a:xfrm>
              <a:off x="3840480" y="3699000"/>
              <a:ext cx="288720" cy="280800"/>
              <a:chOff x="3840480" y="3699000"/>
              <a:chExt cx="288720" cy="280800"/>
            </a:xfrm>
          </p:grpSpPr>
          <p:sp>
            <p:nvSpPr>
              <p:cNvPr id="1229" name=""/>
              <p:cNvSpPr/>
              <p:nvPr/>
            </p:nvSpPr>
            <p:spPr>
              <a:xfrm flipH="1">
                <a:off x="3956040" y="3979800"/>
                <a:ext cx="1731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V="1">
                <a:off x="3956040" y="3699000"/>
                <a:ext cx="0" cy="280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840480" y="3699000"/>
                <a:ext cx="0" cy="280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H="1">
                <a:off x="3840480" y="3699000"/>
                <a:ext cx="115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3561840" y="3699000"/>
              <a:ext cx="288720" cy="280800"/>
              <a:chOff x="3561840" y="3699000"/>
              <a:chExt cx="288720" cy="280800"/>
            </a:xfrm>
          </p:grpSpPr>
          <p:sp>
            <p:nvSpPr>
              <p:cNvPr id="1234" name=""/>
              <p:cNvSpPr/>
              <p:nvPr/>
            </p:nvSpPr>
            <p:spPr>
              <a:xfrm flipH="1">
                <a:off x="3677400" y="3979800"/>
                <a:ext cx="1731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V="1">
                <a:off x="3677400" y="3699000"/>
                <a:ext cx="0" cy="280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561840" y="3699000"/>
                <a:ext cx="0" cy="280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H="1">
                <a:off x="3561840" y="3699000"/>
                <a:ext cx="115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3263760" y="3699000"/>
              <a:ext cx="288360" cy="280800"/>
              <a:chOff x="3263760" y="3699000"/>
              <a:chExt cx="288360" cy="280800"/>
            </a:xfrm>
          </p:grpSpPr>
          <p:sp>
            <p:nvSpPr>
              <p:cNvPr id="1239" name=""/>
              <p:cNvSpPr/>
              <p:nvPr/>
            </p:nvSpPr>
            <p:spPr>
              <a:xfrm flipH="1">
                <a:off x="3379320" y="3979800"/>
                <a:ext cx="172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V="1">
                <a:off x="3379320" y="3699000"/>
                <a:ext cx="0" cy="280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263760" y="3699000"/>
                <a:ext cx="0" cy="280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>
                <a:off x="3264120" y="3699000"/>
                <a:ext cx="115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3" name=""/>
            <p:cNvSpPr/>
            <p:nvPr/>
          </p:nvSpPr>
          <p:spPr>
            <a:xfrm flipH="1">
              <a:off x="3147840" y="3979800"/>
              <a:ext cx="115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3147840" y="4331880"/>
            <a:ext cx="981360" cy="281520"/>
            <a:chOff x="3147840" y="4331880"/>
            <a:chExt cx="981360" cy="281520"/>
          </a:xfrm>
        </p:grpSpPr>
        <p:grpSp>
          <p:nvGrpSpPr>
            <p:cNvPr id="1245" name=""/>
            <p:cNvGrpSpPr/>
            <p:nvPr/>
          </p:nvGrpSpPr>
          <p:grpSpPr>
            <a:xfrm>
              <a:off x="3840480" y="4331880"/>
              <a:ext cx="288720" cy="281520"/>
              <a:chOff x="3840480" y="4331880"/>
              <a:chExt cx="288720" cy="281520"/>
            </a:xfrm>
          </p:grpSpPr>
          <p:sp>
            <p:nvSpPr>
              <p:cNvPr id="1246" name=""/>
              <p:cNvSpPr/>
              <p:nvPr/>
            </p:nvSpPr>
            <p:spPr>
              <a:xfrm flipH="1">
                <a:off x="3956040" y="4613400"/>
                <a:ext cx="17316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V="1">
                <a:off x="3956040" y="4331880"/>
                <a:ext cx="0" cy="28116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840480" y="4332240"/>
                <a:ext cx="0" cy="28116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840480" y="4332240"/>
                <a:ext cx="11556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3561840" y="4331880"/>
              <a:ext cx="288720" cy="281520"/>
              <a:chOff x="3561840" y="4331880"/>
              <a:chExt cx="288720" cy="281520"/>
            </a:xfrm>
          </p:grpSpPr>
          <p:sp>
            <p:nvSpPr>
              <p:cNvPr id="1251" name=""/>
              <p:cNvSpPr/>
              <p:nvPr/>
            </p:nvSpPr>
            <p:spPr>
              <a:xfrm flipH="1">
                <a:off x="3677400" y="4613400"/>
                <a:ext cx="17316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V="1">
                <a:off x="3677400" y="4331880"/>
                <a:ext cx="0" cy="28116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561840" y="4332240"/>
                <a:ext cx="0" cy="28116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3561840" y="4332240"/>
                <a:ext cx="11556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3263760" y="4331880"/>
              <a:ext cx="288360" cy="281520"/>
              <a:chOff x="3263760" y="4331880"/>
              <a:chExt cx="288360" cy="281520"/>
            </a:xfrm>
          </p:grpSpPr>
          <p:sp>
            <p:nvSpPr>
              <p:cNvPr id="1256" name=""/>
              <p:cNvSpPr/>
              <p:nvPr/>
            </p:nvSpPr>
            <p:spPr>
              <a:xfrm flipH="1">
                <a:off x="3379320" y="4613400"/>
                <a:ext cx="17280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3379320" y="4331880"/>
                <a:ext cx="0" cy="28116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263760" y="4332240"/>
                <a:ext cx="0" cy="28116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>
                <a:off x="3264120" y="4332240"/>
                <a:ext cx="11520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0" name=""/>
            <p:cNvSpPr/>
            <p:nvPr/>
          </p:nvSpPr>
          <p:spPr>
            <a:xfrm flipH="1">
              <a:off x="3147840" y="4613400"/>
              <a:ext cx="1155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1" name=""/>
          <p:cNvGrpSpPr/>
          <p:nvPr/>
        </p:nvGrpSpPr>
        <p:grpSpPr>
          <a:xfrm>
            <a:off x="3147840" y="5246280"/>
            <a:ext cx="981360" cy="281520"/>
            <a:chOff x="3147840" y="5246280"/>
            <a:chExt cx="981360" cy="281520"/>
          </a:xfrm>
        </p:grpSpPr>
        <p:grpSp>
          <p:nvGrpSpPr>
            <p:cNvPr id="1262" name=""/>
            <p:cNvGrpSpPr/>
            <p:nvPr/>
          </p:nvGrpSpPr>
          <p:grpSpPr>
            <a:xfrm>
              <a:off x="3840480" y="5246280"/>
              <a:ext cx="288720" cy="281520"/>
              <a:chOff x="3840480" y="5246280"/>
              <a:chExt cx="288720" cy="281520"/>
            </a:xfrm>
          </p:grpSpPr>
          <p:sp>
            <p:nvSpPr>
              <p:cNvPr id="1263" name=""/>
              <p:cNvSpPr/>
              <p:nvPr/>
            </p:nvSpPr>
            <p:spPr>
              <a:xfrm flipH="1">
                <a:off x="3956040" y="5527800"/>
                <a:ext cx="17316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3956040" y="5246280"/>
                <a:ext cx="0" cy="28116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840480" y="5246640"/>
                <a:ext cx="0" cy="28116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H="1">
                <a:off x="3840480" y="5246640"/>
                <a:ext cx="11556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7" name=""/>
            <p:cNvGrpSpPr/>
            <p:nvPr/>
          </p:nvGrpSpPr>
          <p:grpSpPr>
            <a:xfrm>
              <a:off x="3561840" y="5246280"/>
              <a:ext cx="288720" cy="281520"/>
              <a:chOff x="3561840" y="5246280"/>
              <a:chExt cx="288720" cy="281520"/>
            </a:xfrm>
          </p:grpSpPr>
          <p:sp>
            <p:nvSpPr>
              <p:cNvPr id="1268" name=""/>
              <p:cNvSpPr/>
              <p:nvPr/>
            </p:nvSpPr>
            <p:spPr>
              <a:xfrm flipH="1">
                <a:off x="3677400" y="5527800"/>
                <a:ext cx="17316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V="1">
                <a:off x="3677400" y="5246280"/>
                <a:ext cx="0" cy="28116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561840" y="5246640"/>
                <a:ext cx="0" cy="28116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>
                <a:off x="3561840" y="5246640"/>
                <a:ext cx="11556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3263760" y="5246280"/>
              <a:ext cx="288360" cy="281520"/>
              <a:chOff x="3263760" y="5246280"/>
              <a:chExt cx="288360" cy="281520"/>
            </a:xfrm>
          </p:grpSpPr>
          <p:sp>
            <p:nvSpPr>
              <p:cNvPr id="1273" name=""/>
              <p:cNvSpPr/>
              <p:nvPr/>
            </p:nvSpPr>
            <p:spPr>
              <a:xfrm flipH="1">
                <a:off x="3379320" y="5527800"/>
                <a:ext cx="17280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>
                <a:off x="3379320" y="5246280"/>
                <a:ext cx="0" cy="28116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263760" y="5246640"/>
                <a:ext cx="0" cy="28116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H="1">
                <a:off x="3264120" y="5246640"/>
                <a:ext cx="11520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7" name=""/>
            <p:cNvSpPr/>
            <p:nvPr/>
          </p:nvSpPr>
          <p:spPr>
            <a:xfrm flipH="1">
              <a:off x="3147840" y="5527800"/>
              <a:ext cx="115560" cy="0"/>
            </a:xfrm>
            <a:prstGeom prst="line">
              <a:avLst/>
            </a:prstGeom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1114560" y="4316400"/>
            <a:ext cx="3252240" cy="380880"/>
            <a:chOff x="1114560" y="4316400"/>
            <a:chExt cx="3252240" cy="380880"/>
          </a:xfrm>
        </p:grpSpPr>
        <p:sp>
          <p:nvSpPr>
            <p:cNvPr id="1279" name=""/>
            <p:cNvSpPr/>
            <p:nvPr/>
          </p:nvSpPr>
          <p:spPr>
            <a:xfrm flipH="1">
              <a:off x="3990240" y="4316400"/>
              <a:ext cx="183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4182480" y="4316400"/>
              <a:ext cx="18396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1114560" y="4316400"/>
              <a:ext cx="183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1114560" y="4316400"/>
              <a:ext cx="183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3" name=""/>
          <p:cNvSpPr/>
          <p:nvPr/>
        </p:nvSpPr>
        <p:spPr>
          <a:xfrm flipH="1">
            <a:off x="3531600" y="3247920"/>
            <a:ext cx="48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3540960" y="3886200"/>
            <a:ext cx="48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00ff00"/>
                </a:solidFill>
                <a:latin typeface="Symbol"/>
                <a:ea typeface="Symbol"/>
              </a:rPr>
              <a:t>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5" name=""/>
          <p:cNvGrpSpPr/>
          <p:nvPr/>
        </p:nvGrpSpPr>
        <p:grpSpPr>
          <a:xfrm>
            <a:off x="4242960" y="3629160"/>
            <a:ext cx="405000" cy="2037960"/>
            <a:chOff x="4242960" y="3629160"/>
            <a:chExt cx="405000" cy="2037960"/>
          </a:xfrm>
        </p:grpSpPr>
        <p:sp>
          <p:nvSpPr>
            <p:cNvPr id="1286" name=""/>
            <p:cNvSpPr/>
            <p:nvPr/>
          </p:nvSpPr>
          <p:spPr>
            <a:xfrm flipH="1">
              <a:off x="4242600" y="3629160"/>
              <a:ext cx="405000" cy="491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4242600" y="4261680"/>
              <a:ext cx="405000" cy="491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4242600" y="5175360"/>
              <a:ext cx="405000" cy="491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 rot="5400000">
            <a:off x="1761120" y="4649040"/>
            <a:ext cx="345960" cy="21420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442080" y="4341960"/>
            <a:ext cx="871920" cy="397440"/>
            <a:chOff x="442080" y="4341960"/>
            <a:chExt cx="871920" cy="397440"/>
          </a:xfrm>
        </p:grpSpPr>
        <p:sp>
          <p:nvSpPr>
            <p:cNvPr id="1291" name=""/>
            <p:cNvSpPr/>
            <p:nvPr/>
          </p:nvSpPr>
          <p:spPr>
            <a:xfrm>
              <a:off x="442080" y="4341960"/>
              <a:ext cx="477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</a:t>
              </a:r>
              <a:r>
                <a:rPr b="1" lang="en-US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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90840" y="4341960"/>
              <a:ext cx="401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</a:t>
              </a:r>
              <a:r>
                <a:rPr b="1" lang="en-US" sz="12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99280" y="4341960"/>
              <a:ext cx="18504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130400" y="4341960"/>
              <a:ext cx="1836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1211040" y="4357800"/>
            <a:ext cx="360360" cy="420120"/>
            <a:chOff x="1211040" y="4357800"/>
            <a:chExt cx="360360" cy="420120"/>
          </a:xfrm>
        </p:grpSpPr>
        <p:sp>
          <p:nvSpPr>
            <p:cNvPr id="1296" name=""/>
            <p:cNvSpPr/>
            <p:nvPr/>
          </p:nvSpPr>
          <p:spPr>
            <a:xfrm>
              <a:off x="1211040" y="4357800"/>
              <a:ext cx="309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cc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291680" y="4470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6ccff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8" name=""/>
          <p:cNvSpPr/>
          <p:nvPr/>
        </p:nvSpPr>
        <p:spPr>
          <a:xfrm>
            <a:off x="918360" y="4342320"/>
            <a:ext cx="44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. . 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3501360" y="4724280"/>
            <a:ext cx="460440" cy="519120"/>
            <a:chOff x="3501360" y="4724280"/>
            <a:chExt cx="460440" cy="519120"/>
          </a:xfrm>
        </p:grpSpPr>
        <p:sp>
          <p:nvSpPr>
            <p:cNvPr id="1300" name=""/>
            <p:cNvSpPr/>
            <p:nvPr/>
          </p:nvSpPr>
          <p:spPr>
            <a:xfrm>
              <a:off x="3501360" y="4724280"/>
              <a:ext cx="380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ccff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639240" y="4789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66ccff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4649760" y="3962520"/>
            <a:ext cx="457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649760" y="4495680"/>
            <a:ext cx="457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649760" y="5410080"/>
            <a:ext cx="457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802040" y="3629160"/>
            <a:ext cx="405000" cy="49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802040" y="4260960"/>
            <a:ext cx="405000" cy="49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802040" y="5175360"/>
            <a:ext cx="405000" cy="49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26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R regeneration of signal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Performance monitoring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Optional add/drop and grooming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3278160" y="4342680"/>
            <a:ext cx="295200" cy="923400"/>
            <a:chOff x="3278160" y="4342680"/>
            <a:chExt cx="295200" cy="923400"/>
          </a:xfrm>
        </p:grpSpPr>
        <p:sp>
          <p:nvSpPr>
            <p:cNvPr id="1310" name=""/>
            <p:cNvSpPr/>
            <p:nvPr/>
          </p:nvSpPr>
          <p:spPr>
            <a:xfrm>
              <a:off x="3278160" y="434268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278160" y="448452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278160" y="462348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16A0-31FD-4F85-98F7-FA09F61F70C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Lightpath Switching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314" name=""/>
          <p:cNvSpPr/>
          <p:nvPr/>
        </p:nvSpPr>
        <p:spPr>
          <a:xfrm>
            <a:off x="2743200" y="1371600"/>
            <a:ext cx="518148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257800" y="1523880"/>
            <a:ext cx="2971800" cy="335304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8381880" y="1371600"/>
            <a:ext cx="0" cy="510552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6858000" y="1371600"/>
            <a:ext cx="1447920" cy="175248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572000" y="1066680"/>
            <a:ext cx="6094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924680" y="914400"/>
            <a:ext cx="6098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324480" y="2819520"/>
            <a:ext cx="6098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8001000" y="4495680"/>
            <a:ext cx="609480" cy="91440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62120" y="2819520"/>
            <a:ext cx="2895480" cy="28191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4fcfa"/>
              </a:gs>
            </a:gsLst>
            <a:lin ang="135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1371600" y="3467160"/>
            <a:ext cx="304560" cy="609480"/>
            <a:chOff x="1371600" y="3467160"/>
            <a:chExt cx="304560" cy="609480"/>
          </a:xfrm>
        </p:grpSpPr>
        <p:sp>
          <p:nvSpPr>
            <p:cNvPr id="1324" name=""/>
            <p:cNvSpPr/>
            <p:nvPr/>
          </p:nvSpPr>
          <p:spPr>
            <a:xfrm>
              <a:off x="1371600" y="3467160"/>
              <a:ext cx="30456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371600" y="3619440"/>
              <a:ext cx="30456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371600" y="3771720"/>
              <a:ext cx="30456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371600" y="3924000"/>
              <a:ext cx="30456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371600" y="4076640"/>
              <a:ext cx="30456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2666880" y="3467160"/>
            <a:ext cx="304920" cy="609480"/>
            <a:chOff x="2666880" y="3467160"/>
            <a:chExt cx="304920" cy="609480"/>
          </a:xfrm>
        </p:grpSpPr>
        <p:sp>
          <p:nvSpPr>
            <p:cNvPr id="1330" name=""/>
            <p:cNvSpPr/>
            <p:nvPr/>
          </p:nvSpPr>
          <p:spPr>
            <a:xfrm>
              <a:off x="2666880" y="3467160"/>
              <a:ext cx="3049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666880" y="3619440"/>
              <a:ext cx="3049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666880" y="3771720"/>
              <a:ext cx="3049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666880" y="3924000"/>
              <a:ext cx="3049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666880" y="4076640"/>
              <a:ext cx="3049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1828800" y="4266720"/>
            <a:ext cx="609480" cy="304920"/>
            <a:chOff x="1828800" y="4266720"/>
            <a:chExt cx="609480" cy="304920"/>
          </a:xfrm>
        </p:grpSpPr>
        <p:sp>
          <p:nvSpPr>
            <p:cNvPr id="1336" name=""/>
            <p:cNvSpPr/>
            <p:nvPr/>
          </p:nvSpPr>
          <p:spPr>
            <a:xfrm flipV="1">
              <a:off x="1828800" y="4266720"/>
              <a:ext cx="0" cy="3049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V="1">
              <a:off x="1981080" y="4266720"/>
              <a:ext cx="0" cy="3049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2133360" y="4266720"/>
              <a:ext cx="0" cy="3049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2286000" y="4266720"/>
              <a:ext cx="0" cy="3049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2438280" y="4266720"/>
              <a:ext cx="0" cy="3049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1" name=""/>
          <p:cNvSpPr/>
          <p:nvPr/>
        </p:nvSpPr>
        <p:spPr>
          <a:xfrm flipH="1" flipV="1" rot="16200000">
            <a:off x="608760" y="3618360"/>
            <a:ext cx="1219320" cy="304920"/>
          </a:xfrm>
          <a:custGeom>
            <a:avLst/>
            <a:gdLst>
              <a:gd name="textAreaLeft" fmla="*/ 267840 w 1219320"/>
              <a:gd name="textAreaRight" fmla="*/ 951480 w 12193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 rot="5400000">
            <a:off x="2514600" y="3618360"/>
            <a:ext cx="1219320" cy="304920"/>
          </a:xfrm>
          <a:custGeom>
            <a:avLst/>
            <a:gdLst>
              <a:gd name="textAreaLeft" fmla="*/ 267840 w 1219320"/>
              <a:gd name="textAreaRight" fmla="*/ 951480 w 12193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523880" y="4572000"/>
            <a:ext cx="12193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914400" y="6095880"/>
            <a:ext cx="700200" cy="433440"/>
            <a:chOff x="914400" y="6095880"/>
            <a:chExt cx="700200" cy="433440"/>
          </a:xfrm>
        </p:grpSpPr>
        <p:sp>
          <p:nvSpPr>
            <p:cNvPr id="1345" name=""/>
            <p:cNvSpPr/>
            <p:nvPr/>
          </p:nvSpPr>
          <p:spPr>
            <a:xfrm>
              <a:off x="920880" y="6102360"/>
              <a:ext cx="685800" cy="419040"/>
            </a:xfrm>
            <a:custGeom>
              <a:avLst/>
              <a:gdLst/>
              <a:ahLst/>
              <a:rect l="l" t="t" r="r" b="b"/>
              <a:pathLst>
                <a:path w="432" h="264">
                  <a:moveTo>
                    <a:pt x="216" y="0"/>
                  </a:move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4" y="211"/>
                  </a:lnTo>
                  <a:lnTo>
                    <a:pt x="10" y="217"/>
                  </a:lnTo>
                  <a:lnTo>
                    <a:pt x="17" y="224"/>
                  </a:lnTo>
                  <a:lnTo>
                    <a:pt x="26" y="229"/>
                  </a:lnTo>
                  <a:lnTo>
                    <a:pt x="37" y="235"/>
                  </a:lnTo>
                  <a:lnTo>
                    <a:pt x="49" y="240"/>
                  </a:lnTo>
                  <a:lnTo>
                    <a:pt x="63" y="245"/>
                  </a:lnTo>
                  <a:lnTo>
                    <a:pt x="79" y="249"/>
                  </a:lnTo>
                  <a:lnTo>
                    <a:pt x="95" y="253"/>
                  </a:lnTo>
                  <a:lnTo>
                    <a:pt x="113" y="256"/>
                  </a:lnTo>
                  <a:lnTo>
                    <a:pt x="132" y="259"/>
                  </a:lnTo>
                  <a:lnTo>
                    <a:pt x="173" y="263"/>
                  </a:lnTo>
                  <a:lnTo>
                    <a:pt x="216" y="264"/>
                  </a:lnTo>
                  <a:lnTo>
                    <a:pt x="259" y="263"/>
                  </a:lnTo>
                  <a:lnTo>
                    <a:pt x="300" y="259"/>
                  </a:lnTo>
                  <a:lnTo>
                    <a:pt x="319" y="256"/>
                  </a:lnTo>
                  <a:lnTo>
                    <a:pt x="337" y="253"/>
                  </a:lnTo>
                  <a:lnTo>
                    <a:pt x="353" y="249"/>
                  </a:lnTo>
                  <a:lnTo>
                    <a:pt x="369" y="245"/>
                  </a:lnTo>
                  <a:lnTo>
                    <a:pt x="383" y="240"/>
                  </a:lnTo>
                  <a:lnTo>
                    <a:pt x="395" y="235"/>
                  </a:lnTo>
                  <a:lnTo>
                    <a:pt x="406" y="229"/>
                  </a:lnTo>
                  <a:lnTo>
                    <a:pt x="415" y="224"/>
                  </a:lnTo>
                  <a:lnTo>
                    <a:pt x="422" y="217"/>
                  </a:lnTo>
                  <a:lnTo>
                    <a:pt x="428" y="211"/>
                  </a:lnTo>
                  <a:lnTo>
                    <a:pt x="431" y="205"/>
                  </a:lnTo>
                  <a:lnTo>
                    <a:pt x="432" y="198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920880" y="6102360"/>
              <a:ext cx="685800" cy="209520"/>
            </a:xfrm>
            <a:custGeom>
              <a:avLst/>
              <a:gdLst/>
              <a:ahLst/>
              <a:rect l="l" t="t" r="r" b="b"/>
              <a:pathLst>
                <a:path w="432" h="132">
                  <a:moveTo>
                    <a:pt x="0" y="66"/>
                  </a:moveTo>
                  <a:lnTo>
                    <a:pt x="1" y="73"/>
                  </a:lnTo>
                  <a:lnTo>
                    <a:pt x="4" y="79"/>
                  </a:lnTo>
                  <a:lnTo>
                    <a:pt x="10" y="85"/>
                  </a:lnTo>
                  <a:lnTo>
                    <a:pt x="17" y="92"/>
                  </a:lnTo>
                  <a:lnTo>
                    <a:pt x="26" y="97"/>
                  </a:lnTo>
                  <a:lnTo>
                    <a:pt x="37" y="103"/>
                  </a:lnTo>
                  <a:lnTo>
                    <a:pt x="49" y="108"/>
                  </a:lnTo>
                  <a:lnTo>
                    <a:pt x="63" y="113"/>
                  </a:lnTo>
                  <a:lnTo>
                    <a:pt x="79" y="117"/>
                  </a:lnTo>
                  <a:lnTo>
                    <a:pt x="95" y="121"/>
                  </a:lnTo>
                  <a:lnTo>
                    <a:pt x="113" y="124"/>
                  </a:lnTo>
                  <a:lnTo>
                    <a:pt x="132" y="127"/>
                  </a:lnTo>
                  <a:lnTo>
                    <a:pt x="173" y="131"/>
                  </a:lnTo>
                  <a:lnTo>
                    <a:pt x="216" y="132"/>
                  </a:lnTo>
                  <a:lnTo>
                    <a:pt x="259" y="131"/>
                  </a:lnTo>
                  <a:lnTo>
                    <a:pt x="300" y="127"/>
                  </a:lnTo>
                  <a:lnTo>
                    <a:pt x="319" y="124"/>
                  </a:lnTo>
                  <a:lnTo>
                    <a:pt x="337" y="121"/>
                  </a:lnTo>
                  <a:lnTo>
                    <a:pt x="353" y="117"/>
                  </a:lnTo>
                  <a:lnTo>
                    <a:pt x="369" y="113"/>
                  </a:lnTo>
                  <a:lnTo>
                    <a:pt x="383" y="108"/>
                  </a:lnTo>
                  <a:lnTo>
                    <a:pt x="395" y="103"/>
                  </a:lnTo>
                  <a:lnTo>
                    <a:pt x="406" y="97"/>
                  </a:lnTo>
                  <a:lnTo>
                    <a:pt x="415" y="92"/>
                  </a:lnTo>
                  <a:lnTo>
                    <a:pt x="422" y="85"/>
                  </a:lnTo>
                  <a:lnTo>
                    <a:pt x="428" y="79"/>
                  </a:lnTo>
                  <a:lnTo>
                    <a:pt x="431" y="73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914400" y="6095880"/>
              <a:ext cx="700200" cy="433440"/>
            </a:xfrm>
            <a:custGeom>
              <a:avLst/>
              <a:gdLst/>
              <a:ahLst/>
              <a:rect l="l" t="t" r="r" b="b"/>
              <a:pathLst>
                <a:path w="441" h="273">
                  <a:moveTo>
                    <a:pt x="177" y="1"/>
                  </a:moveTo>
                  <a:lnTo>
                    <a:pt x="136" y="5"/>
                  </a:lnTo>
                  <a:lnTo>
                    <a:pt x="117" y="8"/>
                  </a:lnTo>
                  <a:lnTo>
                    <a:pt x="99" y="11"/>
                  </a:lnTo>
                  <a:lnTo>
                    <a:pt x="83" y="15"/>
                  </a:lnTo>
                  <a:lnTo>
                    <a:pt x="67" y="19"/>
                  </a:lnTo>
                  <a:lnTo>
                    <a:pt x="53" y="24"/>
                  </a:lnTo>
                  <a:lnTo>
                    <a:pt x="41" y="29"/>
                  </a:lnTo>
                  <a:lnTo>
                    <a:pt x="38" y="30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4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2" y="212"/>
                  </a:lnTo>
                  <a:lnTo>
                    <a:pt x="5" y="218"/>
                  </a:lnTo>
                  <a:lnTo>
                    <a:pt x="11" y="224"/>
                  </a:lnTo>
                  <a:lnTo>
                    <a:pt x="18" y="231"/>
                  </a:lnTo>
                  <a:lnTo>
                    <a:pt x="27" y="236"/>
                  </a:lnTo>
                  <a:lnTo>
                    <a:pt x="38" y="242"/>
                  </a:lnTo>
                  <a:lnTo>
                    <a:pt x="41" y="243"/>
                  </a:lnTo>
                  <a:lnTo>
                    <a:pt x="53" y="248"/>
                  </a:lnTo>
                  <a:lnTo>
                    <a:pt x="67" y="253"/>
                  </a:lnTo>
                  <a:lnTo>
                    <a:pt x="83" y="257"/>
                  </a:lnTo>
                  <a:lnTo>
                    <a:pt x="99" y="261"/>
                  </a:lnTo>
                  <a:lnTo>
                    <a:pt x="117" y="264"/>
                  </a:lnTo>
                  <a:lnTo>
                    <a:pt x="136" y="267"/>
                  </a:lnTo>
                  <a:lnTo>
                    <a:pt x="177" y="271"/>
                  </a:lnTo>
                  <a:lnTo>
                    <a:pt x="220" y="273"/>
                  </a:lnTo>
                  <a:lnTo>
                    <a:pt x="263" y="271"/>
                  </a:lnTo>
                  <a:lnTo>
                    <a:pt x="304" y="267"/>
                  </a:lnTo>
                  <a:lnTo>
                    <a:pt x="323" y="264"/>
                  </a:lnTo>
                  <a:lnTo>
                    <a:pt x="341" y="261"/>
                  </a:lnTo>
                  <a:lnTo>
                    <a:pt x="357" y="257"/>
                  </a:lnTo>
                  <a:lnTo>
                    <a:pt x="373" y="253"/>
                  </a:lnTo>
                  <a:lnTo>
                    <a:pt x="387" y="248"/>
                  </a:lnTo>
                  <a:lnTo>
                    <a:pt x="399" y="243"/>
                  </a:lnTo>
                  <a:lnTo>
                    <a:pt x="402" y="242"/>
                  </a:lnTo>
                  <a:lnTo>
                    <a:pt x="413" y="236"/>
                  </a:lnTo>
                  <a:lnTo>
                    <a:pt x="422" y="231"/>
                  </a:lnTo>
                  <a:lnTo>
                    <a:pt x="429" y="224"/>
                  </a:lnTo>
                  <a:lnTo>
                    <a:pt x="435" y="218"/>
                  </a:lnTo>
                  <a:lnTo>
                    <a:pt x="438" y="212"/>
                  </a:lnTo>
                  <a:lnTo>
                    <a:pt x="439" y="209"/>
                  </a:lnTo>
                  <a:lnTo>
                    <a:pt x="441" y="202"/>
                  </a:lnTo>
                  <a:lnTo>
                    <a:pt x="441" y="70"/>
                  </a:lnTo>
                  <a:lnTo>
                    <a:pt x="439" y="63"/>
                  </a:lnTo>
                  <a:lnTo>
                    <a:pt x="438" y="60"/>
                  </a:lnTo>
                  <a:lnTo>
                    <a:pt x="435" y="54"/>
                  </a:lnTo>
                  <a:lnTo>
                    <a:pt x="429" y="48"/>
                  </a:lnTo>
                  <a:lnTo>
                    <a:pt x="422" y="42"/>
                  </a:lnTo>
                  <a:lnTo>
                    <a:pt x="413" y="36"/>
                  </a:lnTo>
                  <a:lnTo>
                    <a:pt x="402" y="30"/>
                  </a:lnTo>
                  <a:lnTo>
                    <a:pt x="399" y="29"/>
                  </a:lnTo>
                  <a:lnTo>
                    <a:pt x="387" y="24"/>
                  </a:lnTo>
                  <a:lnTo>
                    <a:pt x="373" y="19"/>
                  </a:lnTo>
                  <a:lnTo>
                    <a:pt x="357" y="15"/>
                  </a:lnTo>
                  <a:lnTo>
                    <a:pt x="341" y="11"/>
                  </a:lnTo>
                  <a:lnTo>
                    <a:pt x="323" y="8"/>
                  </a:lnTo>
                  <a:lnTo>
                    <a:pt x="304" y="5"/>
                  </a:lnTo>
                  <a:lnTo>
                    <a:pt x="263" y="1"/>
                  </a:lnTo>
                  <a:lnTo>
                    <a:pt x="220" y="0"/>
                  </a:lnTo>
                  <a:lnTo>
                    <a:pt x="177" y="1"/>
                  </a:lnTo>
                  <a:close/>
                  <a:moveTo>
                    <a:pt x="220" y="9"/>
                  </a:moveTo>
                  <a:lnTo>
                    <a:pt x="263" y="10"/>
                  </a:lnTo>
                  <a:lnTo>
                    <a:pt x="304" y="14"/>
                  </a:lnTo>
                  <a:lnTo>
                    <a:pt x="323" y="17"/>
                  </a:lnTo>
                  <a:lnTo>
                    <a:pt x="341" y="20"/>
                  </a:lnTo>
                  <a:lnTo>
                    <a:pt x="357" y="24"/>
                  </a:lnTo>
                  <a:lnTo>
                    <a:pt x="373" y="28"/>
                  </a:lnTo>
                  <a:lnTo>
                    <a:pt x="387" y="33"/>
                  </a:lnTo>
                  <a:lnTo>
                    <a:pt x="399" y="38"/>
                  </a:lnTo>
                  <a:lnTo>
                    <a:pt x="399" y="33"/>
                  </a:lnTo>
                  <a:lnTo>
                    <a:pt x="396" y="36"/>
                  </a:lnTo>
                  <a:lnTo>
                    <a:pt x="407" y="42"/>
                  </a:lnTo>
                  <a:lnTo>
                    <a:pt x="416" y="48"/>
                  </a:lnTo>
                  <a:lnTo>
                    <a:pt x="423" y="54"/>
                  </a:lnTo>
                  <a:lnTo>
                    <a:pt x="429" y="60"/>
                  </a:lnTo>
                  <a:lnTo>
                    <a:pt x="432" y="66"/>
                  </a:lnTo>
                  <a:lnTo>
                    <a:pt x="435" y="63"/>
                  </a:lnTo>
                  <a:lnTo>
                    <a:pt x="430" y="63"/>
                  </a:lnTo>
                  <a:lnTo>
                    <a:pt x="432" y="70"/>
                  </a:lnTo>
                  <a:lnTo>
                    <a:pt x="432" y="202"/>
                  </a:lnTo>
                  <a:lnTo>
                    <a:pt x="430" y="209"/>
                  </a:lnTo>
                  <a:lnTo>
                    <a:pt x="435" y="209"/>
                  </a:lnTo>
                  <a:lnTo>
                    <a:pt x="432" y="206"/>
                  </a:lnTo>
                  <a:lnTo>
                    <a:pt x="429" y="212"/>
                  </a:lnTo>
                  <a:lnTo>
                    <a:pt x="423" y="218"/>
                  </a:lnTo>
                  <a:lnTo>
                    <a:pt x="416" y="225"/>
                  </a:lnTo>
                  <a:lnTo>
                    <a:pt x="407" y="230"/>
                  </a:lnTo>
                  <a:lnTo>
                    <a:pt x="396" y="236"/>
                  </a:lnTo>
                  <a:lnTo>
                    <a:pt x="399" y="239"/>
                  </a:lnTo>
                  <a:lnTo>
                    <a:pt x="399" y="234"/>
                  </a:lnTo>
                  <a:lnTo>
                    <a:pt x="387" y="239"/>
                  </a:lnTo>
                  <a:lnTo>
                    <a:pt x="373" y="244"/>
                  </a:lnTo>
                  <a:lnTo>
                    <a:pt x="357" y="248"/>
                  </a:lnTo>
                  <a:lnTo>
                    <a:pt x="341" y="252"/>
                  </a:lnTo>
                  <a:lnTo>
                    <a:pt x="323" y="255"/>
                  </a:lnTo>
                  <a:lnTo>
                    <a:pt x="304" y="258"/>
                  </a:lnTo>
                  <a:lnTo>
                    <a:pt x="263" y="262"/>
                  </a:lnTo>
                  <a:lnTo>
                    <a:pt x="220" y="264"/>
                  </a:lnTo>
                  <a:lnTo>
                    <a:pt x="177" y="262"/>
                  </a:lnTo>
                  <a:lnTo>
                    <a:pt x="136" y="258"/>
                  </a:lnTo>
                  <a:lnTo>
                    <a:pt x="117" y="255"/>
                  </a:lnTo>
                  <a:lnTo>
                    <a:pt x="99" y="252"/>
                  </a:lnTo>
                  <a:lnTo>
                    <a:pt x="83" y="248"/>
                  </a:lnTo>
                  <a:lnTo>
                    <a:pt x="67" y="244"/>
                  </a:lnTo>
                  <a:lnTo>
                    <a:pt x="53" y="239"/>
                  </a:lnTo>
                  <a:lnTo>
                    <a:pt x="41" y="234"/>
                  </a:lnTo>
                  <a:lnTo>
                    <a:pt x="41" y="239"/>
                  </a:lnTo>
                  <a:lnTo>
                    <a:pt x="44" y="236"/>
                  </a:lnTo>
                  <a:lnTo>
                    <a:pt x="33" y="230"/>
                  </a:lnTo>
                  <a:lnTo>
                    <a:pt x="24" y="225"/>
                  </a:lnTo>
                  <a:lnTo>
                    <a:pt x="17" y="218"/>
                  </a:lnTo>
                  <a:lnTo>
                    <a:pt x="11" y="212"/>
                  </a:lnTo>
                  <a:lnTo>
                    <a:pt x="8" y="206"/>
                  </a:lnTo>
                  <a:lnTo>
                    <a:pt x="5" y="209"/>
                  </a:lnTo>
                  <a:lnTo>
                    <a:pt x="10" y="209"/>
                  </a:lnTo>
                  <a:lnTo>
                    <a:pt x="9" y="202"/>
                  </a:lnTo>
                  <a:lnTo>
                    <a:pt x="9" y="70"/>
                  </a:lnTo>
                  <a:lnTo>
                    <a:pt x="10" y="63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1" y="60"/>
                  </a:lnTo>
                  <a:lnTo>
                    <a:pt x="17" y="54"/>
                  </a:lnTo>
                  <a:lnTo>
                    <a:pt x="24" y="48"/>
                  </a:lnTo>
                  <a:lnTo>
                    <a:pt x="33" y="42"/>
                  </a:lnTo>
                  <a:lnTo>
                    <a:pt x="44" y="36"/>
                  </a:lnTo>
                  <a:lnTo>
                    <a:pt x="41" y="33"/>
                  </a:lnTo>
                  <a:lnTo>
                    <a:pt x="41" y="38"/>
                  </a:lnTo>
                  <a:lnTo>
                    <a:pt x="53" y="33"/>
                  </a:lnTo>
                  <a:lnTo>
                    <a:pt x="67" y="28"/>
                  </a:lnTo>
                  <a:lnTo>
                    <a:pt x="83" y="24"/>
                  </a:lnTo>
                  <a:lnTo>
                    <a:pt x="99" y="20"/>
                  </a:lnTo>
                  <a:lnTo>
                    <a:pt x="117" y="17"/>
                  </a:lnTo>
                  <a:lnTo>
                    <a:pt x="136" y="14"/>
                  </a:lnTo>
                  <a:lnTo>
                    <a:pt x="177" y="10"/>
                  </a:lnTo>
                  <a:lnTo>
                    <a:pt x="220" y="9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914400" y="6207120"/>
              <a:ext cx="700200" cy="112680"/>
            </a:xfrm>
            <a:custGeom>
              <a:avLst/>
              <a:gdLst/>
              <a:ahLst/>
              <a:rect l="l" t="t" r="r" b="b"/>
              <a:pathLst>
                <a:path w="441" h="71">
                  <a:moveTo>
                    <a:pt x="9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11" y="22"/>
                  </a:lnTo>
                  <a:lnTo>
                    <a:pt x="18" y="29"/>
                  </a:lnTo>
                  <a:lnTo>
                    <a:pt x="27" y="34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53" y="46"/>
                  </a:lnTo>
                  <a:lnTo>
                    <a:pt x="67" y="51"/>
                  </a:lnTo>
                  <a:lnTo>
                    <a:pt x="83" y="55"/>
                  </a:lnTo>
                  <a:lnTo>
                    <a:pt x="99" y="59"/>
                  </a:lnTo>
                  <a:lnTo>
                    <a:pt x="117" y="62"/>
                  </a:lnTo>
                  <a:lnTo>
                    <a:pt x="136" y="65"/>
                  </a:lnTo>
                  <a:lnTo>
                    <a:pt x="177" y="69"/>
                  </a:lnTo>
                  <a:lnTo>
                    <a:pt x="220" y="71"/>
                  </a:lnTo>
                  <a:lnTo>
                    <a:pt x="263" y="69"/>
                  </a:lnTo>
                  <a:lnTo>
                    <a:pt x="304" y="65"/>
                  </a:lnTo>
                  <a:lnTo>
                    <a:pt x="323" y="62"/>
                  </a:lnTo>
                  <a:lnTo>
                    <a:pt x="341" y="59"/>
                  </a:lnTo>
                  <a:lnTo>
                    <a:pt x="357" y="55"/>
                  </a:lnTo>
                  <a:lnTo>
                    <a:pt x="373" y="51"/>
                  </a:lnTo>
                  <a:lnTo>
                    <a:pt x="387" y="46"/>
                  </a:lnTo>
                  <a:lnTo>
                    <a:pt x="399" y="41"/>
                  </a:lnTo>
                  <a:lnTo>
                    <a:pt x="402" y="40"/>
                  </a:lnTo>
                  <a:lnTo>
                    <a:pt x="413" y="34"/>
                  </a:lnTo>
                  <a:lnTo>
                    <a:pt x="422" y="29"/>
                  </a:lnTo>
                  <a:lnTo>
                    <a:pt x="429" y="22"/>
                  </a:lnTo>
                  <a:lnTo>
                    <a:pt x="435" y="16"/>
                  </a:lnTo>
                  <a:lnTo>
                    <a:pt x="438" y="10"/>
                  </a:lnTo>
                  <a:lnTo>
                    <a:pt x="439" y="7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30" y="7"/>
                  </a:lnTo>
                  <a:lnTo>
                    <a:pt x="435" y="7"/>
                  </a:lnTo>
                  <a:lnTo>
                    <a:pt x="432" y="4"/>
                  </a:lnTo>
                  <a:lnTo>
                    <a:pt x="429" y="10"/>
                  </a:lnTo>
                  <a:lnTo>
                    <a:pt x="423" y="16"/>
                  </a:lnTo>
                  <a:lnTo>
                    <a:pt x="416" y="23"/>
                  </a:lnTo>
                  <a:lnTo>
                    <a:pt x="407" y="28"/>
                  </a:lnTo>
                  <a:lnTo>
                    <a:pt x="396" y="34"/>
                  </a:lnTo>
                  <a:lnTo>
                    <a:pt x="399" y="37"/>
                  </a:lnTo>
                  <a:lnTo>
                    <a:pt x="399" y="32"/>
                  </a:lnTo>
                  <a:lnTo>
                    <a:pt x="387" y="37"/>
                  </a:lnTo>
                  <a:lnTo>
                    <a:pt x="373" y="42"/>
                  </a:lnTo>
                  <a:lnTo>
                    <a:pt x="357" y="46"/>
                  </a:lnTo>
                  <a:lnTo>
                    <a:pt x="341" y="50"/>
                  </a:lnTo>
                  <a:lnTo>
                    <a:pt x="323" y="53"/>
                  </a:lnTo>
                  <a:lnTo>
                    <a:pt x="304" y="56"/>
                  </a:lnTo>
                  <a:lnTo>
                    <a:pt x="263" y="60"/>
                  </a:lnTo>
                  <a:lnTo>
                    <a:pt x="220" y="62"/>
                  </a:lnTo>
                  <a:lnTo>
                    <a:pt x="177" y="60"/>
                  </a:lnTo>
                  <a:lnTo>
                    <a:pt x="136" y="56"/>
                  </a:lnTo>
                  <a:lnTo>
                    <a:pt x="117" y="53"/>
                  </a:lnTo>
                  <a:lnTo>
                    <a:pt x="99" y="50"/>
                  </a:lnTo>
                  <a:lnTo>
                    <a:pt x="83" y="46"/>
                  </a:lnTo>
                  <a:lnTo>
                    <a:pt x="67" y="42"/>
                  </a:lnTo>
                  <a:lnTo>
                    <a:pt x="53" y="37"/>
                  </a:lnTo>
                  <a:lnTo>
                    <a:pt x="41" y="3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33" y="28"/>
                  </a:lnTo>
                  <a:lnTo>
                    <a:pt x="24" y="23"/>
                  </a:lnTo>
                  <a:lnTo>
                    <a:pt x="17" y="16"/>
                  </a:lnTo>
                  <a:lnTo>
                    <a:pt x="11" y="10"/>
                  </a:lnTo>
                  <a:lnTo>
                    <a:pt x="8" y="4"/>
                  </a:lnTo>
                  <a:lnTo>
                    <a:pt x="5" y="7"/>
                  </a:lnTo>
                  <a:lnTo>
                    <a:pt x="10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9" name=""/>
            <p:cNvGrpSpPr/>
            <p:nvPr/>
          </p:nvGrpSpPr>
          <p:grpSpPr>
            <a:xfrm>
              <a:off x="996840" y="6135480"/>
              <a:ext cx="515880" cy="146160"/>
              <a:chOff x="996840" y="6135480"/>
              <a:chExt cx="515880" cy="146160"/>
            </a:xfrm>
          </p:grpSpPr>
          <p:sp>
            <p:nvSpPr>
              <p:cNvPr id="1350" name=""/>
              <p:cNvSpPr/>
              <p:nvPr/>
            </p:nvSpPr>
            <p:spPr>
              <a:xfrm>
                <a:off x="1265400" y="6138720"/>
                <a:ext cx="24732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265400" y="6138720"/>
                <a:ext cx="24732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996840" y="6211800"/>
                <a:ext cx="247680" cy="66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996840" y="6211800"/>
                <a:ext cx="247680" cy="66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011240" y="6135480"/>
                <a:ext cx="24768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1011240" y="6135480"/>
                <a:ext cx="24768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257480" y="6217920"/>
                <a:ext cx="245880" cy="63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257480" y="6217920"/>
                <a:ext cx="245880" cy="63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58" name="switch" descr=""/>
          <p:cNvPicPr/>
          <p:nvPr/>
        </p:nvPicPr>
        <p:blipFill>
          <a:blip r:embed="rId1"/>
          <a:stretch/>
        </p:blipFill>
        <p:spPr>
          <a:xfrm>
            <a:off x="1828800" y="6095880"/>
            <a:ext cx="533520" cy="522360"/>
          </a:xfrm>
          <a:prstGeom prst="rect">
            <a:avLst/>
          </a:prstGeom>
          <a:ln w="0">
            <a:noFill/>
          </a:ln>
        </p:spPr>
      </p:pic>
      <p:sp>
        <p:nvSpPr>
          <p:cNvPr id="1359" name=""/>
          <p:cNvSpPr/>
          <p:nvPr/>
        </p:nvSpPr>
        <p:spPr>
          <a:xfrm>
            <a:off x="5562720" y="6477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2667960" y="5715000"/>
            <a:ext cx="702000" cy="914040"/>
            <a:chOff x="2667960" y="5715000"/>
            <a:chExt cx="702000" cy="914040"/>
          </a:xfrm>
        </p:grpSpPr>
        <p:sp>
          <p:nvSpPr>
            <p:cNvPr id="1361" name=""/>
            <p:cNvSpPr/>
            <p:nvPr/>
          </p:nvSpPr>
          <p:spPr>
            <a:xfrm>
              <a:off x="2754360" y="5715000"/>
              <a:ext cx="535320" cy="9140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667960" y="5836680"/>
              <a:ext cx="70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o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"/>
          <p:cNvSpPr/>
          <p:nvPr/>
        </p:nvSpPr>
        <p:spPr>
          <a:xfrm>
            <a:off x="1752480" y="52578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3720" y="525780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514600" y="52578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447920" y="579132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447920" y="5791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514600" y="601992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638360" y="3352680"/>
            <a:ext cx="99072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X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838080" y="3733920"/>
            <a:ext cx="22860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289320" y="3733920"/>
            <a:ext cx="22860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75E4-BAA4-43F1-9634-A6C91743CF7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Lightpath Routing and Wavelength Assignment</a:t>
            </a: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373" name=""/>
          <p:cNvSpPr/>
          <p:nvPr/>
        </p:nvSpPr>
        <p:spPr>
          <a:xfrm>
            <a:off x="2743200" y="1371600"/>
            <a:ext cx="518148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257800" y="1523880"/>
            <a:ext cx="2971800" cy="335304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8381880" y="1371600"/>
            <a:ext cx="0" cy="510552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6858000" y="1371600"/>
            <a:ext cx="1447920" cy="175248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572000" y="1066680"/>
            <a:ext cx="6094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924680" y="914400"/>
            <a:ext cx="6098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324480" y="2819520"/>
            <a:ext cx="6098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001000" y="4495680"/>
            <a:ext cx="609480" cy="914400"/>
          </a:xfrm>
          <a:prstGeom prst="rect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62120" y="2819520"/>
            <a:ext cx="2895480" cy="28191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4fcfa"/>
              </a:gs>
            </a:gsLst>
            <a:lin ang="135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1371600" y="3467160"/>
            <a:ext cx="304560" cy="609480"/>
            <a:chOff x="1371600" y="3467160"/>
            <a:chExt cx="304560" cy="609480"/>
          </a:xfrm>
        </p:grpSpPr>
        <p:sp>
          <p:nvSpPr>
            <p:cNvPr id="1383" name=""/>
            <p:cNvSpPr/>
            <p:nvPr/>
          </p:nvSpPr>
          <p:spPr>
            <a:xfrm>
              <a:off x="1371600" y="3467160"/>
              <a:ext cx="30456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371600" y="3619440"/>
              <a:ext cx="30456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371600" y="3771720"/>
              <a:ext cx="30456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371600" y="3924000"/>
              <a:ext cx="30456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371600" y="4076640"/>
              <a:ext cx="30456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8" name=""/>
          <p:cNvGrpSpPr/>
          <p:nvPr/>
        </p:nvGrpSpPr>
        <p:grpSpPr>
          <a:xfrm>
            <a:off x="2666880" y="3467160"/>
            <a:ext cx="304920" cy="609480"/>
            <a:chOff x="2666880" y="3467160"/>
            <a:chExt cx="304920" cy="609480"/>
          </a:xfrm>
        </p:grpSpPr>
        <p:sp>
          <p:nvSpPr>
            <p:cNvPr id="1389" name=""/>
            <p:cNvSpPr/>
            <p:nvPr/>
          </p:nvSpPr>
          <p:spPr>
            <a:xfrm>
              <a:off x="2666880" y="3467160"/>
              <a:ext cx="3049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666880" y="3619440"/>
              <a:ext cx="3049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666880" y="3771720"/>
              <a:ext cx="3049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666880" y="3924000"/>
              <a:ext cx="3049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66880" y="4076640"/>
              <a:ext cx="3049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1828800" y="4266720"/>
            <a:ext cx="609480" cy="304920"/>
            <a:chOff x="1828800" y="4266720"/>
            <a:chExt cx="609480" cy="304920"/>
          </a:xfrm>
        </p:grpSpPr>
        <p:sp>
          <p:nvSpPr>
            <p:cNvPr id="1395" name=""/>
            <p:cNvSpPr/>
            <p:nvPr/>
          </p:nvSpPr>
          <p:spPr>
            <a:xfrm flipV="1">
              <a:off x="1828800" y="4266720"/>
              <a:ext cx="0" cy="3049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1981080" y="4266720"/>
              <a:ext cx="0" cy="3049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2133360" y="4266720"/>
              <a:ext cx="0" cy="3049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V="1">
              <a:off x="2286000" y="4266720"/>
              <a:ext cx="0" cy="3049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2438280" y="4266720"/>
              <a:ext cx="0" cy="3049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0" name=""/>
          <p:cNvSpPr/>
          <p:nvPr/>
        </p:nvSpPr>
        <p:spPr>
          <a:xfrm flipH="1" flipV="1" rot="16200000">
            <a:off x="608760" y="3618360"/>
            <a:ext cx="1219320" cy="304920"/>
          </a:xfrm>
          <a:custGeom>
            <a:avLst/>
            <a:gdLst>
              <a:gd name="textAreaLeft" fmla="*/ 267840 w 1219320"/>
              <a:gd name="textAreaRight" fmla="*/ 951480 w 12193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 rot="5400000">
            <a:off x="2514600" y="3618360"/>
            <a:ext cx="1219320" cy="304920"/>
          </a:xfrm>
          <a:custGeom>
            <a:avLst/>
            <a:gdLst>
              <a:gd name="textAreaLeft" fmla="*/ 267840 w 1219320"/>
              <a:gd name="textAreaRight" fmla="*/ 951480 w 12193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523880" y="4572000"/>
            <a:ext cx="12193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914400" y="6095880"/>
            <a:ext cx="700200" cy="433440"/>
            <a:chOff x="914400" y="6095880"/>
            <a:chExt cx="700200" cy="433440"/>
          </a:xfrm>
        </p:grpSpPr>
        <p:sp>
          <p:nvSpPr>
            <p:cNvPr id="1404" name=""/>
            <p:cNvSpPr/>
            <p:nvPr/>
          </p:nvSpPr>
          <p:spPr>
            <a:xfrm>
              <a:off x="920880" y="6102360"/>
              <a:ext cx="685800" cy="419040"/>
            </a:xfrm>
            <a:custGeom>
              <a:avLst/>
              <a:gdLst/>
              <a:ahLst/>
              <a:rect l="l" t="t" r="r" b="b"/>
              <a:pathLst>
                <a:path w="432" h="264">
                  <a:moveTo>
                    <a:pt x="216" y="0"/>
                  </a:move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4" y="211"/>
                  </a:lnTo>
                  <a:lnTo>
                    <a:pt x="10" y="217"/>
                  </a:lnTo>
                  <a:lnTo>
                    <a:pt x="17" y="224"/>
                  </a:lnTo>
                  <a:lnTo>
                    <a:pt x="26" y="229"/>
                  </a:lnTo>
                  <a:lnTo>
                    <a:pt x="37" y="235"/>
                  </a:lnTo>
                  <a:lnTo>
                    <a:pt x="49" y="240"/>
                  </a:lnTo>
                  <a:lnTo>
                    <a:pt x="63" y="245"/>
                  </a:lnTo>
                  <a:lnTo>
                    <a:pt x="79" y="249"/>
                  </a:lnTo>
                  <a:lnTo>
                    <a:pt x="95" y="253"/>
                  </a:lnTo>
                  <a:lnTo>
                    <a:pt x="113" y="256"/>
                  </a:lnTo>
                  <a:lnTo>
                    <a:pt x="132" y="259"/>
                  </a:lnTo>
                  <a:lnTo>
                    <a:pt x="173" y="263"/>
                  </a:lnTo>
                  <a:lnTo>
                    <a:pt x="216" y="264"/>
                  </a:lnTo>
                  <a:lnTo>
                    <a:pt x="259" y="263"/>
                  </a:lnTo>
                  <a:lnTo>
                    <a:pt x="300" y="259"/>
                  </a:lnTo>
                  <a:lnTo>
                    <a:pt x="319" y="256"/>
                  </a:lnTo>
                  <a:lnTo>
                    <a:pt x="337" y="253"/>
                  </a:lnTo>
                  <a:lnTo>
                    <a:pt x="353" y="249"/>
                  </a:lnTo>
                  <a:lnTo>
                    <a:pt x="369" y="245"/>
                  </a:lnTo>
                  <a:lnTo>
                    <a:pt x="383" y="240"/>
                  </a:lnTo>
                  <a:lnTo>
                    <a:pt x="395" y="235"/>
                  </a:lnTo>
                  <a:lnTo>
                    <a:pt x="406" y="229"/>
                  </a:lnTo>
                  <a:lnTo>
                    <a:pt x="415" y="224"/>
                  </a:lnTo>
                  <a:lnTo>
                    <a:pt x="422" y="217"/>
                  </a:lnTo>
                  <a:lnTo>
                    <a:pt x="428" y="211"/>
                  </a:lnTo>
                  <a:lnTo>
                    <a:pt x="431" y="205"/>
                  </a:lnTo>
                  <a:lnTo>
                    <a:pt x="432" y="198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920880" y="6102360"/>
              <a:ext cx="685800" cy="209520"/>
            </a:xfrm>
            <a:custGeom>
              <a:avLst/>
              <a:gdLst/>
              <a:ahLst/>
              <a:rect l="l" t="t" r="r" b="b"/>
              <a:pathLst>
                <a:path w="432" h="132">
                  <a:moveTo>
                    <a:pt x="0" y="66"/>
                  </a:moveTo>
                  <a:lnTo>
                    <a:pt x="1" y="73"/>
                  </a:lnTo>
                  <a:lnTo>
                    <a:pt x="4" y="79"/>
                  </a:lnTo>
                  <a:lnTo>
                    <a:pt x="10" y="85"/>
                  </a:lnTo>
                  <a:lnTo>
                    <a:pt x="17" y="92"/>
                  </a:lnTo>
                  <a:lnTo>
                    <a:pt x="26" y="97"/>
                  </a:lnTo>
                  <a:lnTo>
                    <a:pt x="37" y="103"/>
                  </a:lnTo>
                  <a:lnTo>
                    <a:pt x="49" y="108"/>
                  </a:lnTo>
                  <a:lnTo>
                    <a:pt x="63" y="113"/>
                  </a:lnTo>
                  <a:lnTo>
                    <a:pt x="79" y="117"/>
                  </a:lnTo>
                  <a:lnTo>
                    <a:pt x="95" y="121"/>
                  </a:lnTo>
                  <a:lnTo>
                    <a:pt x="113" y="124"/>
                  </a:lnTo>
                  <a:lnTo>
                    <a:pt x="132" y="127"/>
                  </a:lnTo>
                  <a:lnTo>
                    <a:pt x="173" y="131"/>
                  </a:lnTo>
                  <a:lnTo>
                    <a:pt x="216" y="132"/>
                  </a:lnTo>
                  <a:lnTo>
                    <a:pt x="259" y="131"/>
                  </a:lnTo>
                  <a:lnTo>
                    <a:pt x="300" y="127"/>
                  </a:lnTo>
                  <a:lnTo>
                    <a:pt x="319" y="124"/>
                  </a:lnTo>
                  <a:lnTo>
                    <a:pt x="337" y="121"/>
                  </a:lnTo>
                  <a:lnTo>
                    <a:pt x="353" y="117"/>
                  </a:lnTo>
                  <a:lnTo>
                    <a:pt x="369" y="113"/>
                  </a:lnTo>
                  <a:lnTo>
                    <a:pt x="383" y="108"/>
                  </a:lnTo>
                  <a:lnTo>
                    <a:pt x="395" y="103"/>
                  </a:lnTo>
                  <a:lnTo>
                    <a:pt x="406" y="97"/>
                  </a:lnTo>
                  <a:lnTo>
                    <a:pt x="415" y="92"/>
                  </a:lnTo>
                  <a:lnTo>
                    <a:pt x="422" y="85"/>
                  </a:lnTo>
                  <a:lnTo>
                    <a:pt x="428" y="79"/>
                  </a:lnTo>
                  <a:lnTo>
                    <a:pt x="431" y="73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914400" y="6095880"/>
              <a:ext cx="700200" cy="433440"/>
            </a:xfrm>
            <a:custGeom>
              <a:avLst/>
              <a:gdLst/>
              <a:ahLst/>
              <a:rect l="l" t="t" r="r" b="b"/>
              <a:pathLst>
                <a:path w="441" h="273">
                  <a:moveTo>
                    <a:pt x="177" y="1"/>
                  </a:moveTo>
                  <a:lnTo>
                    <a:pt x="136" y="5"/>
                  </a:lnTo>
                  <a:lnTo>
                    <a:pt x="117" y="8"/>
                  </a:lnTo>
                  <a:lnTo>
                    <a:pt x="99" y="11"/>
                  </a:lnTo>
                  <a:lnTo>
                    <a:pt x="83" y="15"/>
                  </a:lnTo>
                  <a:lnTo>
                    <a:pt x="67" y="19"/>
                  </a:lnTo>
                  <a:lnTo>
                    <a:pt x="53" y="24"/>
                  </a:lnTo>
                  <a:lnTo>
                    <a:pt x="41" y="29"/>
                  </a:lnTo>
                  <a:lnTo>
                    <a:pt x="38" y="30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4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2" y="212"/>
                  </a:lnTo>
                  <a:lnTo>
                    <a:pt x="5" y="218"/>
                  </a:lnTo>
                  <a:lnTo>
                    <a:pt x="11" y="224"/>
                  </a:lnTo>
                  <a:lnTo>
                    <a:pt x="18" y="231"/>
                  </a:lnTo>
                  <a:lnTo>
                    <a:pt x="27" y="236"/>
                  </a:lnTo>
                  <a:lnTo>
                    <a:pt x="38" y="242"/>
                  </a:lnTo>
                  <a:lnTo>
                    <a:pt x="41" y="243"/>
                  </a:lnTo>
                  <a:lnTo>
                    <a:pt x="53" y="248"/>
                  </a:lnTo>
                  <a:lnTo>
                    <a:pt x="67" y="253"/>
                  </a:lnTo>
                  <a:lnTo>
                    <a:pt x="83" y="257"/>
                  </a:lnTo>
                  <a:lnTo>
                    <a:pt x="99" y="261"/>
                  </a:lnTo>
                  <a:lnTo>
                    <a:pt x="117" y="264"/>
                  </a:lnTo>
                  <a:lnTo>
                    <a:pt x="136" y="267"/>
                  </a:lnTo>
                  <a:lnTo>
                    <a:pt x="177" y="271"/>
                  </a:lnTo>
                  <a:lnTo>
                    <a:pt x="220" y="273"/>
                  </a:lnTo>
                  <a:lnTo>
                    <a:pt x="263" y="271"/>
                  </a:lnTo>
                  <a:lnTo>
                    <a:pt x="304" y="267"/>
                  </a:lnTo>
                  <a:lnTo>
                    <a:pt x="323" y="264"/>
                  </a:lnTo>
                  <a:lnTo>
                    <a:pt x="341" y="261"/>
                  </a:lnTo>
                  <a:lnTo>
                    <a:pt x="357" y="257"/>
                  </a:lnTo>
                  <a:lnTo>
                    <a:pt x="373" y="253"/>
                  </a:lnTo>
                  <a:lnTo>
                    <a:pt x="387" y="248"/>
                  </a:lnTo>
                  <a:lnTo>
                    <a:pt x="399" y="243"/>
                  </a:lnTo>
                  <a:lnTo>
                    <a:pt x="402" y="242"/>
                  </a:lnTo>
                  <a:lnTo>
                    <a:pt x="413" y="236"/>
                  </a:lnTo>
                  <a:lnTo>
                    <a:pt x="422" y="231"/>
                  </a:lnTo>
                  <a:lnTo>
                    <a:pt x="429" y="224"/>
                  </a:lnTo>
                  <a:lnTo>
                    <a:pt x="435" y="218"/>
                  </a:lnTo>
                  <a:lnTo>
                    <a:pt x="438" y="212"/>
                  </a:lnTo>
                  <a:lnTo>
                    <a:pt x="439" y="209"/>
                  </a:lnTo>
                  <a:lnTo>
                    <a:pt x="441" y="202"/>
                  </a:lnTo>
                  <a:lnTo>
                    <a:pt x="441" y="70"/>
                  </a:lnTo>
                  <a:lnTo>
                    <a:pt x="439" y="63"/>
                  </a:lnTo>
                  <a:lnTo>
                    <a:pt x="438" y="60"/>
                  </a:lnTo>
                  <a:lnTo>
                    <a:pt x="435" y="54"/>
                  </a:lnTo>
                  <a:lnTo>
                    <a:pt x="429" y="48"/>
                  </a:lnTo>
                  <a:lnTo>
                    <a:pt x="422" y="42"/>
                  </a:lnTo>
                  <a:lnTo>
                    <a:pt x="413" y="36"/>
                  </a:lnTo>
                  <a:lnTo>
                    <a:pt x="402" y="30"/>
                  </a:lnTo>
                  <a:lnTo>
                    <a:pt x="399" y="29"/>
                  </a:lnTo>
                  <a:lnTo>
                    <a:pt x="387" y="24"/>
                  </a:lnTo>
                  <a:lnTo>
                    <a:pt x="373" y="19"/>
                  </a:lnTo>
                  <a:lnTo>
                    <a:pt x="357" y="15"/>
                  </a:lnTo>
                  <a:lnTo>
                    <a:pt x="341" y="11"/>
                  </a:lnTo>
                  <a:lnTo>
                    <a:pt x="323" y="8"/>
                  </a:lnTo>
                  <a:lnTo>
                    <a:pt x="304" y="5"/>
                  </a:lnTo>
                  <a:lnTo>
                    <a:pt x="263" y="1"/>
                  </a:lnTo>
                  <a:lnTo>
                    <a:pt x="220" y="0"/>
                  </a:lnTo>
                  <a:lnTo>
                    <a:pt x="177" y="1"/>
                  </a:lnTo>
                  <a:close/>
                  <a:moveTo>
                    <a:pt x="220" y="9"/>
                  </a:moveTo>
                  <a:lnTo>
                    <a:pt x="263" y="10"/>
                  </a:lnTo>
                  <a:lnTo>
                    <a:pt x="304" y="14"/>
                  </a:lnTo>
                  <a:lnTo>
                    <a:pt x="323" y="17"/>
                  </a:lnTo>
                  <a:lnTo>
                    <a:pt x="341" y="20"/>
                  </a:lnTo>
                  <a:lnTo>
                    <a:pt x="357" y="24"/>
                  </a:lnTo>
                  <a:lnTo>
                    <a:pt x="373" y="28"/>
                  </a:lnTo>
                  <a:lnTo>
                    <a:pt x="387" y="33"/>
                  </a:lnTo>
                  <a:lnTo>
                    <a:pt x="399" y="38"/>
                  </a:lnTo>
                  <a:lnTo>
                    <a:pt x="399" y="33"/>
                  </a:lnTo>
                  <a:lnTo>
                    <a:pt x="396" y="36"/>
                  </a:lnTo>
                  <a:lnTo>
                    <a:pt x="407" y="42"/>
                  </a:lnTo>
                  <a:lnTo>
                    <a:pt x="416" y="48"/>
                  </a:lnTo>
                  <a:lnTo>
                    <a:pt x="423" y="54"/>
                  </a:lnTo>
                  <a:lnTo>
                    <a:pt x="429" y="60"/>
                  </a:lnTo>
                  <a:lnTo>
                    <a:pt x="432" y="66"/>
                  </a:lnTo>
                  <a:lnTo>
                    <a:pt x="435" y="63"/>
                  </a:lnTo>
                  <a:lnTo>
                    <a:pt x="430" y="63"/>
                  </a:lnTo>
                  <a:lnTo>
                    <a:pt x="432" y="70"/>
                  </a:lnTo>
                  <a:lnTo>
                    <a:pt x="432" y="202"/>
                  </a:lnTo>
                  <a:lnTo>
                    <a:pt x="430" y="209"/>
                  </a:lnTo>
                  <a:lnTo>
                    <a:pt x="435" y="209"/>
                  </a:lnTo>
                  <a:lnTo>
                    <a:pt x="432" y="206"/>
                  </a:lnTo>
                  <a:lnTo>
                    <a:pt x="429" y="212"/>
                  </a:lnTo>
                  <a:lnTo>
                    <a:pt x="423" y="218"/>
                  </a:lnTo>
                  <a:lnTo>
                    <a:pt x="416" y="225"/>
                  </a:lnTo>
                  <a:lnTo>
                    <a:pt x="407" y="230"/>
                  </a:lnTo>
                  <a:lnTo>
                    <a:pt x="396" y="236"/>
                  </a:lnTo>
                  <a:lnTo>
                    <a:pt x="399" y="239"/>
                  </a:lnTo>
                  <a:lnTo>
                    <a:pt x="399" y="234"/>
                  </a:lnTo>
                  <a:lnTo>
                    <a:pt x="387" y="239"/>
                  </a:lnTo>
                  <a:lnTo>
                    <a:pt x="373" y="244"/>
                  </a:lnTo>
                  <a:lnTo>
                    <a:pt x="357" y="248"/>
                  </a:lnTo>
                  <a:lnTo>
                    <a:pt x="341" y="252"/>
                  </a:lnTo>
                  <a:lnTo>
                    <a:pt x="323" y="255"/>
                  </a:lnTo>
                  <a:lnTo>
                    <a:pt x="304" y="258"/>
                  </a:lnTo>
                  <a:lnTo>
                    <a:pt x="263" y="262"/>
                  </a:lnTo>
                  <a:lnTo>
                    <a:pt x="220" y="264"/>
                  </a:lnTo>
                  <a:lnTo>
                    <a:pt x="177" y="262"/>
                  </a:lnTo>
                  <a:lnTo>
                    <a:pt x="136" y="258"/>
                  </a:lnTo>
                  <a:lnTo>
                    <a:pt x="117" y="255"/>
                  </a:lnTo>
                  <a:lnTo>
                    <a:pt x="99" y="252"/>
                  </a:lnTo>
                  <a:lnTo>
                    <a:pt x="83" y="248"/>
                  </a:lnTo>
                  <a:lnTo>
                    <a:pt x="67" y="244"/>
                  </a:lnTo>
                  <a:lnTo>
                    <a:pt x="53" y="239"/>
                  </a:lnTo>
                  <a:lnTo>
                    <a:pt x="41" y="234"/>
                  </a:lnTo>
                  <a:lnTo>
                    <a:pt x="41" y="239"/>
                  </a:lnTo>
                  <a:lnTo>
                    <a:pt x="44" y="236"/>
                  </a:lnTo>
                  <a:lnTo>
                    <a:pt x="33" y="230"/>
                  </a:lnTo>
                  <a:lnTo>
                    <a:pt x="24" y="225"/>
                  </a:lnTo>
                  <a:lnTo>
                    <a:pt x="17" y="218"/>
                  </a:lnTo>
                  <a:lnTo>
                    <a:pt x="11" y="212"/>
                  </a:lnTo>
                  <a:lnTo>
                    <a:pt x="8" y="206"/>
                  </a:lnTo>
                  <a:lnTo>
                    <a:pt x="5" y="209"/>
                  </a:lnTo>
                  <a:lnTo>
                    <a:pt x="10" y="209"/>
                  </a:lnTo>
                  <a:lnTo>
                    <a:pt x="9" y="202"/>
                  </a:lnTo>
                  <a:lnTo>
                    <a:pt x="9" y="70"/>
                  </a:lnTo>
                  <a:lnTo>
                    <a:pt x="10" y="63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1" y="60"/>
                  </a:lnTo>
                  <a:lnTo>
                    <a:pt x="17" y="54"/>
                  </a:lnTo>
                  <a:lnTo>
                    <a:pt x="24" y="48"/>
                  </a:lnTo>
                  <a:lnTo>
                    <a:pt x="33" y="42"/>
                  </a:lnTo>
                  <a:lnTo>
                    <a:pt x="44" y="36"/>
                  </a:lnTo>
                  <a:lnTo>
                    <a:pt x="41" y="33"/>
                  </a:lnTo>
                  <a:lnTo>
                    <a:pt x="41" y="38"/>
                  </a:lnTo>
                  <a:lnTo>
                    <a:pt x="53" y="33"/>
                  </a:lnTo>
                  <a:lnTo>
                    <a:pt x="67" y="28"/>
                  </a:lnTo>
                  <a:lnTo>
                    <a:pt x="83" y="24"/>
                  </a:lnTo>
                  <a:lnTo>
                    <a:pt x="99" y="20"/>
                  </a:lnTo>
                  <a:lnTo>
                    <a:pt x="117" y="17"/>
                  </a:lnTo>
                  <a:lnTo>
                    <a:pt x="136" y="14"/>
                  </a:lnTo>
                  <a:lnTo>
                    <a:pt x="177" y="10"/>
                  </a:lnTo>
                  <a:lnTo>
                    <a:pt x="220" y="9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914400" y="6207120"/>
              <a:ext cx="700200" cy="112680"/>
            </a:xfrm>
            <a:custGeom>
              <a:avLst/>
              <a:gdLst/>
              <a:ahLst/>
              <a:rect l="l" t="t" r="r" b="b"/>
              <a:pathLst>
                <a:path w="441" h="71">
                  <a:moveTo>
                    <a:pt x="9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11" y="22"/>
                  </a:lnTo>
                  <a:lnTo>
                    <a:pt x="18" y="29"/>
                  </a:lnTo>
                  <a:lnTo>
                    <a:pt x="27" y="34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53" y="46"/>
                  </a:lnTo>
                  <a:lnTo>
                    <a:pt x="67" y="51"/>
                  </a:lnTo>
                  <a:lnTo>
                    <a:pt x="83" y="55"/>
                  </a:lnTo>
                  <a:lnTo>
                    <a:pt x="99" y="59"/>
                  </a:lnTo>
                  <a:lnTo>
                    <a:pt x="117" y="62"/>
                  </a:lnTo>
                  <a:lnTo>
                    <a:pt x="136" y="65"/>
                  </a:lnTo>
                  <a:lnTo>
                    <a:pt x="177" y="69"/>
                  </a:lnTo>
                  <a:lnTo>
                    <a:pt x="220" y="71"/>
                  </a:lnTo>
                  <a:lnTo>
                    <a:pt x="263" y="69"/>
                  </a:lnTo>
                  <a:lnTo>
                    <a:pt x="304" y="65"/>
                  </a:lnTo>
                  <a:lnTo>
                    <a:pt x="323" y="62"/>
                  </a:lnTo>
                  <a:lnTo>
                    <a:pt x="341" y="59"/>
                  </a:lnTo>
                  <a:lnTo>
                    <a:pt x="357" y="55"/>
                  </a:lnTo>
                  <a:lnTo>
                    <a:pt x="373" y="51"/>
                  </a:lnTo>
                  <a:lnTo>
                    <a:pt x="387" y="46"/>
                  </a:lnTo>
                  <a:lnTo>
                    <a:pt x="399" y="41"/>
                  </a:lnTo>
                  <a:lnTo>
                    <a:pt x="402" y="40"/>
                  </a:lnTo>
                  <a:lnTo>
                    <a:pt x="413" y="34"/>
                  </a:lnTo>
                  <a:lnTo>
                    <a:pt x="422" y="29"/>
                  </a:lnTo>
                  <a:lnTo>
                    <a:pt x="429" y="22"/>
                  </a:lnTo>
                  <a:lnTo>
                    <a:pt x="435" y="16"/>
                  </a:lnTo>
                  <a:lnTo>
                    <a:pt x="438" y="10"/>
                  </a:lnTo>
                  <a:lnTo>
                    <a:pt x="439" y="7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30" y="7"/>
                  </a:lnTo>
                  <a:lnTo>
                    <a:pt x="435" y="7"/>
                  </a:lnTo>
                  <a:lnTo>
                    <a:pt x="432" y="4"/>
                  </a:lnTo>
                  <a:lnTo>
                    <a:pt x="429" y="10"/>
                  </a:lnTo>
                  <a:lnTo>
                    <a:pt x="423" y="16"/>
                  </a:lnTo>
                  <a:lnTo>
                    <a:pt x="416" y="23"/>
                  </a:lnTo>
                  <a:lnTo>
                    <a:pt x="407" y="28"/>
                  </a:lnTo>
                  <a:lnTo>
                    <a:pt x="396" y="34"/>
                  </a:lnTo>
                  <a:lnTo>
                    <a:pt x="399" y="37"/>
                  </a:lnTo>
                  <a:lnTo>
                    <a:pt x="399" y="32"/>
                  </a:lnTo>
                  <a:lnTo>
                    <a:pt x="387" y="37"/>
                  </a:lnTo>
                  <a:lnTo>
                    <a:pt x="373" y="42"/>
                  </a:lnTo>
                  <a:lnTo>
                    <a:pt x="357" y="46"/>
                  </a:lnTo>
                  <a:lnTo>
                    <a:pt x="341" y="50"/>
                  </a:lnTo>
                  <a:lnTo>
                    <a:pt x="323" y="53"/>
                  </a:lnTo>
                  <a:lnTo>
                    <a:pt x="304" y="56"/>
                  </a:lnTo>
                  <a:lnTo>
                    <a:pt x="263" y="60"/>
                  </a:lnTo>
                  <a:lnTo>
                    <a:pt x="220" y="62"/>
                  </a:lnTo>
                  <a:lnTo>
                    <a:pt x="177" y="60"/>
                  </a:lnTo>
                  <a:lnTo>
                    <a:pt x="136" y="56"/>
                  </a:lnTo>
                  <a:lnTo>
                    <a:pt x="117" y="53"/>
                  </a:lnTo>
                  <a:lnTo>
                    <a:pt x="99" y="50"/>
                  </a:lnTo>
                  <a:lnTo>
                    <a:pt x="83" y="46"/>
                  </a:lnTo>
                  <a:lnTo>
                    <a:pt x="67" y="42"/>
                  </a:lnTo>
                  <a:lnTo>
                    <a:pt x="53" y="37"/>
                  </a:lnTo>
                  <a:lnTo>
                    <a:pt x="41" y="3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33" y="28"/>
                  </a:lnTo>
                  <a:lnTo>
                    <a:pt x="24" y="23"/>
                  </a:lnTo>
                  <a:lnTo>
                    <a:pt x="17" y="16"/>
                  </a:lnTo>
                  <a:lnTo>
                    <a:pt x="11" y="10"/>
                  </a:lnTo>
                  <a:lnTo>
                    <a:pt x="8" y="4"/>
                  </a:lnTo>
                  <a:lnTo>
                    <a:pt x="5" y="7"/>
                  </a:lnTo>
                  <a:lnTo>
                    <a:pt x="10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8" name=""/>
            <p:cNvGrpSpPr/>
            <p:nvPr/>
          </p:nvGrpSpPr>
          <p:grpSpPr>
            <a:xfrm>
              <a:off x="996840" y="6135480"/>
              <a:ext cx="515880" cy="146160"/>
              <a:chOff x="996840" y="6135480"/>
              <a:chExt cx="515880" cy="146160"/>
            </a:xfrm>
          </p:grpSpPr>
          <p:sp>
            <p:nvSpPr>
              <p:cNvPr id="1409" name=""/>
              <p:cNvSpPr/>
              <p:nvPr/>
            </p:nvSpPr>
            <p:spPr>
              <a:xfrm>
                <a:off x="1265400" y="6138720"/>
                <a:ext cx="24732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265400" y="6138720"/>
                <a:ext cx="24732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996840" y="6211800"/>
                <a:ext cx="247680" cy="66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996840" y="6211800"/>
                <a:ext cx="247680" cy="66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011240" y="6135480"/>
                <a:ext cx="24768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011240" y="6135480"/>
                <a:ext cx="24768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257480" y="6217920"/>
                <a:ext cx="245880" cy="63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257480" y="6217920"/>
                <a:ext cx="245880" cy="63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17" name="switch" descr=""/>
          <p:cNvPicPr/>
          <p:nvPr/>
        </p:nvPicPr>
        <p:blipFill>
          <a:blip r:embed="rId1"/>
          <a:stretch/>
        </p:blipFill>
        <p:spPr>
          <a:xfrm>
            <a:off x="1828800" y="6095880"/>
            <a:ext cx="533520" cy="52236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>
            <a:off x="5562720" y="6477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9" name=""/>
          <p:cNvGrpSpPr/>
          <p:nvPr/>
        </p:nvGrpSpPr>
        <p:grpSpPr>
          <a:xfrm>
            <a:off x="2667960" y="5715000"/>
            <a:ext cx="702000" cy="914040"/>
            <a:chOff x="2667960" y="5715000"/>
            <a:chExt cx="702000" cy="914040"/>
          </a:xfrm>
        </p:grpSpPr>
        <p:sp>
          <p:nvSpPr>
            <p:cNvPr id="1420" name=""/>
            <p:cNvSpPr/>
            <p:nvPr/>
          </p:nvSpPr>
          <p:spPr>
            <a:xfrm>
              <a:off x="2754360" y="5715000"/>
              <a:ext cx="535320" cy="9140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667960" y="5836680"/>
              <a:ext cx="70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o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1752480" y="52578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133720" y="525780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514600" y="52578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447920" y="579132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447920" y="5791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514600" y="601992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638360" y="3352680"/>
            <a:ext cx="99072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X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838080" y="3733920"/>
            <a:ext cx="22860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289320" y="3733920"/>
            <a:ext cx="22860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666880" y="1295280"/>
            <a:ext cx="2438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105520" y="1295280"/>
            <a:ext cx="1523880" cy="16765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629400" y="2971800"/>
            <a:ext cx="1523880" cy="17524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8153280" y="4724280"/>
            <a:ext cx="0" cy="16765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H="1">
            <a:off x="6857640" y="1447920"/>
            <a:ext cx="1219320" cy="1523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858000" y="2971800"/>
            <a:ext cx="15228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010280" y="3352680"/>
            <a:ext cx="1219320" cy="1371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8229600" y="4724280"/>
            <a:ext cx="0" cy="1905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8077320" y="380880"/>
            <a:ext cx="0" cy="10670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28600" y="3733920"/>
            <a:ext cx="1523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752480" y="373392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2438280" y="3428640"/>
            <a:ext cx="0" cy="12193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438280" y="3429000"/>
            <a:ext cx="6858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124080" y="3429000"/>
            <a:ext cx="152640" cy="228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276720" y="3657600"/>
            <a:ext cx="9144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AC98-077E-4034-9B28-575A6502714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1143000" y="228600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447920" y="228600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Protection and Restoration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pic>
        <p:nvPicPr>
          <p:cNvPr id="1449" name="cloudbig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858000" cy="3511440"/>
          </a:xfrm>
          <a:prstGeom prst="rect">
            <a:avLst/>
          </a:prstGeom>
          <a:ln w="0">
            <a:noFill/>
          </a:ln>
        </p:spPr>
      </p:pic>
      <p:sp>
        <p:nvSpPr>
          <p:cNvPr id="1450" name=""/>
          <p:cNvSpPr/>
          <p:nvPr/>
        </p:nvSpPr>
        <p:spPr>
          <a:xfrm>
            <a:off x="787320" y="1981080"/>
            <a:ext cx="990720" cy="30492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916200" y="2819520"/>
            <a:ext cx="566280" cy="420480"/>
            <a:chOff x="916200" y="2819520"/>
            <a:chExt cx="566280" cy="420480"/>
          </a:xfrm>
        </p:grpSpPr>
        <p:sp>
          <p:nvSpPr>
            <p:cNvPr id="1452" name=""/>
            <p:cNvSpPr/>
            <p:nvPr/>
          </p:nvSpPr>
          <p:spPr>
            <a:xfrm>
              <a:off x="990720" y="2819520"/>
              <a:ext cx="420480" cy="4204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916200" y="289404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3049920" y="2743200"/>
            <a:ext cx="566280" cy="420840"/>
            <a:chOff x="3049920" y="2743200"/>
            <a:chExt cx="566280" cy="420840"/>
          </a:xfrm>
        </p:grpSpPr>
        <p:sp>
          <p:nvSpPr>
            <p:cNvPr id="1455" name=""/>
            <p:cNvSpPr/>
            <p:nvPr/>
          </p:nvSpPr>
          <p:spPr>
            <a:xfrm>
              <a:off x="3124440" y="2743200"/>
              <a:ext cx="420480" cy="4208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9920" y="281844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4650120" y="2743200"/>
            <a:ext cx="566280" cy="420840"/>
            <a:chOff x="4650120" y="2743200"/>
            <a:chExt cx="566280" cy="420840"/>
          </a:xfrm>
        </p:grpSpPr>
        <p:sp>
          <p:nvSpPr>
            <p:cNvPr id="1458" name=""/>
            <p:cNvSpPr/>
            <p:nvPr/>
          </p:nvSpPr>
          <p:spPr>
            <a:xfrm>
              <a:off x="4724640" y="2743200"/>
              <a:ext cx="420480" cy="4208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650120" y="281844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2668680" y="3962520"/>
            <a:ext cx="566280" cy="420480"/>
            <a:chOff x="2668680" y="3962520"/>
            <a:chExt cx="566280" cy="420480"/>
          </a:xfrm>
        </p:grpSpPr>
        <p:sp>
          <p:nvSpPr>
            <p:cNvPr id="1461" name=""/>
            <p:cNvSpPr/>
            <p:nvPr/>
          </p:nvSpPr>
          <p:spPr>
            <a:xfrm>
              <a:off x="2743200" y="3962520"/>
              <a:ext cx="420480" cy="4204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668680" y="403704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3" name=""/>
          <p:cNvSpPr/>
          <p:nvPr/>
        </p:nvSpPr>
        <p:spPr>
          <a:xfrm>
            <a:off x="457200" y="3733920"/>
            <a:ext cx="0" cy="2514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57200" y="6248520"/>
            <a:ext cx="67816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238880" y="3733920"/>
            <a:ext cx="0" cy="2514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781680" y="3657600"/>
            <a:ext cx="420840" cy="42084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819520" y="626184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Network Pro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86080" y="234612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 +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657600" y="2743200"/>
            <a:ext cx="10666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657600" y="3048120"/>
            <a:ext cx="10666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862440" y="272700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 +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848720" y="3657600"/>
            <a:ext cx="990360" cy="30492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523880" y="297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257800" y="2895480"/>
            <a:ext cx="152388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5943600" y="3885840"/>
            <a:ext cx="8380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781680" y="3733920"/>
            <a:ext cx="152640" cy="75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6781680" y="3809880"/>
            <a:ext cx="152640" cy="76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5411880" y="3962520"/>
            <a:ext cx="566280" cy="420480"/>
            <a:chOff x="5411880" y="3962520"/>
            <a:chExt cx="566280" cy="420480"/>
          </a:xfrm>
        </p:grpSpPr>
        <p:sp>
          <p:nvSpPr>
            <p:cNvPr id="1479" name=""/>
            <p:cNvSpPr/>
            <p:nvPr/>
          </p:nvSpPr>
          <p:spPr>
            <a:xfrm>
              <a:off x="5486400" y="3962520"/>
              <a:ext cx="420480" cy="4204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411880" y="403704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1" name=""/>
          <p:cNvSpPr/>
          <p:nvPr/>
        </p:nvSpPr>
        <p:spPr>
          <a:xfrm>
            <a:off x="6934320" y="380988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523880" y="2971800"/>
            <a:ext cx="121932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419112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285360" y="32076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l Pro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6A8D2-5789-4230-A46C-CA80E003892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Important Technologie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84872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Adaptation optics and electronic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960120" indent="-1918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Transceivers, optic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960120" indent="-1918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SONET ASICs, PoS, FEC, and wrappe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8000" indent="-28800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Switching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960120" indent="-1918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High-speed electronic switching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960120" indent="-1918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Grooming ASIC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960120" indent="-1918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VCSEL and other low cost high speed interface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8000" indent="-28800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Trends to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960120" indent="-1918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Higher speeds and port coun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960120" indent="-1918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More integr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960120" indent="-1918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Better densit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960120" indent="-1918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More functionalit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80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40E7A-95B9-4DC8-8660-2C8E8319C72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Key Software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848360" cy="426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Routing, signaling, and wavelength assignmen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Efficient, scalable, and facilitate internetworking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Coordination of multiple layer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Grooming algorithms and resource allocation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End-to-end performance monitoring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Protection and restorat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Coordination of multiple layer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Hardware and network abstractions to allow new technologies to be incrementally absorbed into infrastructure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50EDE-DE32-4AE8-B868-CFE96612DC1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The  Public Network Challenge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Service delivery requirements changing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  <a:ea typeface="굴림"/>
              </a:rPr>
              <a:t>Growing demand to interconnect OC-48c/OC-192c router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  <a:ea typeface="굴림"/>
              </a:rPr>
              <a:t>OC-N private line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  <a:ea typeface="굴림"/>
              </a:rPr>
              <a:t>Competitive pressures force re-evaluation of traditional service platforms and network cost structure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Limitations of existing architecture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  <a:ea typeface="굴림"/>
              </a:rPr>
              <a:t>Existing SONET/SDH ring-based architecture failing 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  <a:ea typeface="굴림"/>
              </a:rPr>
              <a:t>Optimized for voice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524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  <a:ea typeface="굴림"/>
              </a:rPr>
              <a:t>Can’t scale fast enough for data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Problem is bandwidth creation and distribution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8334A-4390-4AEB-B4E8-133C5287AC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Service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26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Basic transport servic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Advanced transport servic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Network and service management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E5F94-D405-40AA-9778-06C68DD2C0E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Basic Transport Service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492" name=""/>
          <p:cNvSpPr/>
          <p:nvPr/>
        </p:nvSpPr>
        <p:spPr>
          <a:xfrm>
            <a:off x="2057400" y="1447920"/>
            <a:ext cx="4876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62120" y="16002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543800" y="16002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057400" y="152388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934320" y="152388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447920" y="179064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934320" y="179064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057400" y="1790640"/>
            <a:ext cx="4876920" cy="0"/>
          </a:xfrm>
          <a:prstGeom prst="line">
            <a:avLst/>
          </a:prstGeom>
          <a:ln w="3816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036240" y="2156400"/>
            <a:ext cx="28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it Pipe or 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protected or unprotec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057400" y="3457440"/>
            <a:ext cx="4876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057400" y="353376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34320" y="353376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447920" y="3733920"/>
            <a:ext cx="609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934320" y="38005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057400" y="3800520"/>
            <a:ext cx="4876920" cy="0"/>
          </a:xfrm>
          <a:prstGeom prst="line">
            <a:avLst/>
          </a:prstGeom>
          <a:ln w="3816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036240" y="4166280"/>
            <a:ext cx="28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it Pipe, STE, L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protected or unprotec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762120" y="3657600"/>
            <a:ext cx="699840" cy="433440"/>
            <a:chOff x="762120" y="3657600"/>
            <a:chExt cx="699840" cy="433440"/>
          </a:xfrm>
        </p:grpSpPr>
        <p:sp>
          <p:nvSpPr>
            <p:cNvPr id="1509" name=""/>
            <p:cNvSpPr/>
            <p:nvPr/>
          </p:nvSpPr>
          <p:spPr>
            <a:xfrm>
              <a:off x="768240" y="3664080"/>
              <a:ext cx="685440" cy="419040"/>
            </a:xfrm>
            <a:custGeom>
              <a:avLst/>
              <a:gdLst/>
              <a:ahLst/>
              <a:rect l="l" t="t" r="r" b="b"/>
              <a:pathLst>
                <a:path w="432" h="264">
                  <a:moveTo>
                    <a:pt x="216" y="0"/>
                  </a:move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4" y="211"/>
                  </a:lnTo>
                  <a:lnTo>
                    <a:pt x="10" y="217"/>
                  </a:lnTo>
                  <a:lnTo>
                    <a:pt x="17" y="224"/>
                  </a:lnTo>
                  <a:lnTo>
                    <a:pt x="26" y="229"/>
                  </a:lnTo>
                  <a:lnTo>
                    <a:pt x="37" y="235"/>
                  </a:lnTo>
                  <a:lnTo>
                    <a:pt x="49" y="240"/>
                  </a:lnTo>
                  <a:lnTo>
                    <a:pt x="63" y="245"/>
                  </a:lnTo>
                  <a:lnTo>
                    <a:pt x="79" y="249"/>
                  </a:lnTo>
                  <a:lnTo>
                    <a:pt x="95" y="253"/>
                  </a:lnTo>
                  <a:lnTo>
                    <a:pt x="113" y="256"/>
                  </a:lnTo>
                  <a:lnTo>
                    <a:pt x="132" y="259"/>
                  </a:lnTo>
                  <a:lnTo>
                    <a:pt x="173" y="263"/>
                  </a:lnTo>
                  <a:lnTo>
                    <a:pt x="216" y="264"/>
                  </a:lnTo>
                  <a:lnTo>
                    <a:pt x="259" y="263"/>
                  </a:lnTo>
                  <a:lnTo>
                    <a:pt x="300" y="259"/>
                  </a:lnTo>
                  <a:lnTo>
                    <a:pt x="319" y="256"/>
                  </a:lnTo>
                  <a:lnTo>
                    <a:pt x="337" y="253"/>
                  </a:lnTo>
                  <a:lnTo>
                    <a:pt x="353" y="249"/>
                  </a:lnTo>
                  <a:lnTo>
                    <a:pt x="369" y="245"/>
                  </a:lnTo>
                  <a:lnTo>
                    <a:pt x="383" y="240"/>
                  </a:lnTo>
                  <a:lnTo>
                    <a:pt x="395" y="235"/>
                  </a:lnTo>
                  <a:lnTo>
                    <a:pt x="406" y="229"/>
                  </a:lnTo>
                  <a:lnTo>
                    <a:pt x="415" y="224"/>
                  </a:lnTo>
                  <a:lnTo>
                    <a:pt x="422" y="217"/>
                  </a:lnTo>
                  <a:lnTo>
                    <a:pt x="428" y="211"/>
                  </a:lnTo>
                  <a:lnTo>
                    <a:pt x="431" y="205"/>
                  </a:lnTo>
                  <a:lnTo>
                    <a:pt x="432" y="198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68240" y="3664080"/>
              <a:ext cx="685440" cy="209520"/>
            </a:xfrm>
            <a:custGeom>
              <a:avLst/>
              <a:gdLst/>
              <a:ahLst/>
              <a:rect l="l" t="t" r="r" b="b"/>
              <a:pathLst>
                <a:path w="432" h="132">
                  <a:moveTo>
                    <a:pt x="0" y="66"/>
                  </a:moveTo>
                  <a:lnTo>
                    <a:pt x="1" y="73"/>
                  </a:lnTo>
                  <a:lnTo>
                    <a:pt x="4" y="79"/>
                  </a:lnTo>
                  <a:lnTo>
                    <a:pt x="10" y="85"/>
                  </a:lnTo>
                  <a:lnTo>
                    <a:pt x="17" y="92"/>
                  </a:lnTo>
                  <a:lnTo>
                    <a:pt x="26" y="97"/>
                  </a:lnTo>
                  <a:lnTo>
                    <a:pt x="37" y="103"/>
                  </a:lnTo>
                  <a:lnTo>
                    <a:pt x="49" y="108"/>
                  </a:lnTo>
                  <a:lnTo>
                    <a:pt x="63" y="113"/>
                  </a:lnTo>
                  <a:lnTo>
                    <a:pt x="79" y="117"/>
                  </a:lnTo>
                  <a:lnTo>
                    <a:pt x="95" y="121"/>
                  </a:lnTo>
                  <a:lnTo>
                    <a:pt x="113" y="124"/>
                  </a:lnTo>
                  <a:lnTo>
                    <a:pt x="132" y="127"/>
                  </a:lnTo>
                  <a:lnTo>
                    <a:pt x="173" y="131"/>
                  </a:lnTo>
                  <a:lnTo>
                    <a:pt x="216" y="132"/>
                  </a:lnTo>
                  <a:lnTo>
                    <a:pt x="259" y="131"/>
                  </a:lnTo>
                  <a:lnTo>
                    <a:pt x="300" y="127"/>
                  </a:lnTo>
                  <a:lnTo>
                    <a:pt x="319" y="124"/>
                  </a:lnTo>
                  <a:lnTo>
                    <a:pt x="337" y="121"/>
                  </a:lnTo>
                  <a:lnTo>
                    <a:pt x="353" y="117"/>
                  </a:lnTo>
                  <a:lnTo>
                    <a:pt x="369" y="113"/>
                  </a:lnTo>
                  <a:lnTo>
                    <a:pt x="383" y="108"/>
                  </a:lnTo>
                  <a:lnTo>
                    <a:pt x="395" y="103"/>
                  </a:lnTo>
                  <a:lnTo>
                    <a:pt x="406" y="97"/>
                  </a:lnTo>
                  <a:lnTo>
                    <a:pt x="415" y="92"/>
                  </a:lnTo>
                  <a:lnTo>
                    <a:pt x="422" y="85"/>
                  </a:lnTo>
                  <a:lnTo>
                    <a:pt x="428" y="79"/>
                  </a:lnTo>
                  <a:lnTo>
                    <a:pt x="431" y="73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62120" y="3657600"/>
              <a:ext cx="699840" cy="433440"/>
            </a:xfrm>
            <a:custGeom>
              <a:avLst/>
              <a:gdLst/>
              <a:ahLst/>
              <a:rect l="l" t="t" r="r" b="b"/>
              <a:pathLst>
                <a:path w="441" h="273">
                  <a:moveTo>
                    <a:pt x="177" y="1"/>
                  </a:moveTo>
                  <a:lnTo>
                    <a:pt x="136" y="5"/>
                  </a:lnTo>
                  <a:lnTo>
                    <a:pt x="117" y="8"/>
                  </a:lnTo>
                  <a:lnTo>
                    <a:pt x="99" y="11"/>
                  </a:lnTo>
                  <a:lnTo>
                    <a:pt x="83" y="15"/>
                  </a:lnTo>
                  <a:lnTo>
                    <a:pt x="67" y="19"/>
                  </a:lnTo>
                  <a:lnTo>
                    <a:pt x="53" y="24"/>
                  </a:lnTo>
                  <a:lnTo>
                    <a:pt x="41" y="29"/>
                  </a:lnTo>
                  <a:lnTo>
                    <a:pt x="38" y="30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4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2" y="212"/>
                  </a:lnTo>
                  <a:lnTo>
                    <a:pt x="5" y="218"/>
                  </a:lnTo>
                  <a:lnTo>
                    <a:pt x="11" y="224"/>
                  </a:lnTo>
                  <a:lnTo>
                    <a:pt x="18" y="231"/>
                  </a:lnTo>
                  <a:lnTo>
                    <a:pt x="27" y="236"/>
                  </a:lnTo>
                  <a:lnTo>
                    <a:pt x="38" y="242"/>
                  </a:lnTo>
                  <a:lnTo>
                    <a:pt x="41" y="243"/>
                  </a:lnTo>
                  <a:lnTo>
                    <a:pt x="53" y="248"/>
                  </a:lnTo>
                  <a:lnTo>
                    <a:pt x="67" y="253"/>
                  </a:lnTo>
                  <a:lnTo>
                    <a:pt x="83" y="257"/>
                  </a:lnTo>
                  <a:lnTo>
                    <a:pt x="99" y="261"/>
                  </a:lnTo>
                  <a:lnTo>
                    <a:pt x="117" y="264"/>
                  </a:lnTo>
                  <a:lnTo>
                    <a:pt x="136" y="267"/>
                  </a:lnTo>
                  <a:lnTo>
                    <a:pt x="177" y="271"/>
                  </a:lnTo>
                  <a:lnTo>
                    <a:pt x="220" y="273"/>
                  </a:lnTo>
                  <a:lnTo>
                    <a:pt x="263" y="271"/>
                  </a:lnTo>
                  <a:lnTo>
                    <a:pt x="304" y="267"/>
                  </a:lnTo>
                  <a:lnTo>
                    <a:pt x="323" y="264"/>
                  </a:lnTo>
                  <a:lnTo>
                    <a:pt x="341" y="261"/>
                  </a:lnTo>
                  <a:lnTo>
                    <a:pt x="357" y="257"/>
                  </a:lnTo>
                  <a:lnTo>
                    <a:pt x="373" y="253"/>
                  </a:lnTo>
                  <a:lnTo>
                    <a:pt x="387" y="248"/>
                  </a:lnTo>
                  <a:lnTo>
                    <a:pt x="399" y="243"/>
                  </a:lnTo>
                  <a:lnTo>
                    <a:pt x="402" y="242"/>
                  </a:lnTo>
                  <a:lnTo>
                    <a:pt x="413" y="236"/>
                  </a:lnTo>
                  <a:lnTo>
                    <a:pt x="422" y="231"/>
                  </a:lnTo>
                  <a:lnTo>
                    <a:pt x="429" y="224"/>
                  </a:lnTo>
                  <a:lnTo>
                    <a:pt x="435" y="218"/>
                  </a:lnTo>
                  <a:lnTo>
                    <a:pt x="438" y="212"/>
                  </a:lnTo>
                  <a:lnTo>
                    <a:pt x="439" y="209"/>
                  </a:lnTo>
                  <a:lnTo>
                    <a:pt x="441" y="202"/>
                  </a:lnTo>
                  <a:lnTo>
                    <a:pt x="441" y="70"/>
                  </a:lnTo>
                  <a:lnTo>
                    <a:pt x="439" y="63"/>
                  </a:lnTo>
                  <a:lnTo>
                    <a:pt x="438" y="60"/>
                  </a:lnTo>
                  <a:lnTo>
                    <a:pt x="435" y="54"/>
                  </a:lnTo>
                  <a:lnTo>
                    <a:pt x="429" y="48"/>
                  </a:lnTo>
                  <a:lnTo>
                    <a:pt x="422" y="42"/>
                  </a:lnTo>
                  <a:lnTo>
                    <a:pt x="413" y="36"/>
                  </a:lnTo>
                  <a:lnTo>
                    <a:pt x="402" y="30"/>
                  </a:lnTo>
                  <a:lnTo>
                    <a:pt x="399" y="29"/>
                  </a:lnTo>
                  <a:lnTo>
                    <a:pt x="387" y="24"/>
                  </a:lnTo>
                  <a:lnTo>
                    <a:pt x="373" y="19"/>
                  </a:lnTo>
                  <a:lnTo>
                    <a:pt x="357" y="15"/>
                  </a:lnTo>
                  <a:lnTo>
                    <a:pt x="341" y="11"/>
                  </a:lnTo>
                  <a:lnTo>
                    <a:pt x="323" y="8"/>
                  </a:lnTo>
                  <a:lnTo>
                    <a:pt x="304" y="5"/>
                  </a:lnTo>
                  <a:lnTo>
                    <a:pt x="263" y="1"/>
                  </a:lnTo>
                  <a:lnTo>
                    <a:pt x="220" y="0"/>
                  </a:lnTo>
                  <a:lnTo>
                    <a:pt x="177" y="1"/>
                  </a:lnTo>
                  <a:close/>
                  <a:moveTo>
                    <a:pt x="220" y="9"/>
                  </a:moveTo>
                  <a:lnTo>
                    <a:pt x="263" y="10"/>
                  </a:lnTo>
                  <a:lnTo>
                    <a:pt x="304" y="14"/>
                  </a:lnTo>
                  <a:lnTo>
                    <a:pt x="323" y="17"/>
                  </a:lnTo>
                  <a:lnTo>
                    <a:pt x="341" y="20"/>
                  </a:lnTo>
                  <a:lnTo>
                    <a:pt x="357" y="24"/>
                  </a:lnTo>
                  <a:lnTo>
                    <a:pt x="373" y="28"/>
                  </a:lnTo>
                  <a:lnTo>
                    <a:pt x="387" y="33"/>
                  </a:lnTo>
                  <a:lnTo>
                    <a:pt x="399" y="38"/>
                  </a:lnTo>
                  <a:lnTo>
                    <a:pt x="399" y="33"/>
                  </a:lnTo>
                  <a:lnTo>
                    <a:pt x="396" y="36"/>
                  </a:lnTo>
                  <a:lnTo>
                    <a:pt x="407" y="42"/>
                  </a:lnTo>
                  <a:lnTo>
                    <a:pt x="416" y="48"/>
                  </a:lnTo>
                  <a:lnTo>
                    <a:pt x="423" y="54"/>
                  </a:lnTo>
                  <a:lnTo>
                    <a:pt x="429" y="60"/>
                  </a:lnTo>
                  <a:lnTo>
                    <a:pt x="432" y="66"/>
                  </a:lnTo>
                  <a:lnTo>
                    <a:pt x="435" y="63"/>
                  </a:lnTo>
                  <a:lnTo>
                    <a:pt x="430" y="63"/>
                  </a:lnTo>
                  <a:lnTo>
                    <a:pt x="432" y="70"/>
                  </a:lnTo>
                  <a:lnTo>
                    <a:pt x="432" y="202"/>
                  </a:lnTo>
                  <a:lnTo>
                    <a:pt x="430" y="209"/>
                  </a:lnTo>
                  <a:lnTo>
                    <a:pt x="435" y="209"/>
                  </a:lnTo>
                  <a:lnTo>
                    <a:pt x="432" y="206"/>
                  </a:lnTo>
                  <a:lnTo>
                    <a:pt x="429" y="212"/>
                  </a:lnTo>
                  <a:lnTo>
                    <a:pt x="423" y="218"/>
                  </a:lnTo>
                  <a:lnTo>
                    <a:pt x="416" y="225"/>
                  </a:lnTo>
                  <a:lnTo>
                    <a:pt x="407" y="230"/>
                  </a:lnTo>
                  <a:lnTo>
                    <a:pt x="396" y="236"/>
                  </a:lnTo>
                  <a:lnTo>
                    <a:pt x="399" y="239"/>
                  </a:lnTo>
                  <a:lnTo>
                    <a:pt x="399" y="234"/>
                  </a:lnTo>
                  <a:lnTo>
                    <a:pt x="387" y="239"/>
                  </a:lnTo>
                  <a:lnTo>
                    <a:pt x="373" y="244"/>
                  </a:lnTo>
                  <a:lnTo>
                    <a:pt x="357" y="248"/>
                  </a:lnTo>
                  <a:lnTo>
                    <a:pt x="341" y="252"/>
                  </a:lnTo>
                  <a:lnTo>
                    <a:pt x="323" y="255"/>
                  </a:lnTo>
                  <a:lnTo>
                    <a:pt x="304" y="258"/>
                  </a:lnTo>
                  <a:lnTo>
                    <a:pt x="263" y="262"/>
                  </a:lnTo>
                  <a:lnTo>
                    <a:pt x="220" y="264"/>
                  </a:lnTo>
                  <a:lnTo>
                    <a:pt x="177" y="262"/>
                  </a:lnTo>
                  <a:lnTo>
                    <a:pt x="136" y="258"/>
                  </a:lnTo>
                  <a:lnTo>
                    <a:pt x="117" y="255"/>
                  </a:lnTo>
                  <a:lnTo>
                    <a:pt x="99" y="252"/>
                  </a:lnTo>
                  <a:lnTo>
                    <a:pt x="83" y="248"/>
                  </a:lnTo>
                  <a:lnTo>
                    <a:pt x="67" y="244"/>
                  </a:lnTo>
                  <a:lnTo>
                    <a:pt x="53" y="239"/>
                  </a:lnTo>
                  <a:lnTo>
                    <a:pt x="41" y="234"/>
                  </a:lnTo>
                  <a:lnTo>
                    <a:pt x="41" y="239"/>
                  </a:lnTo>
                  <a:lnTo>
                    <a:pt x="44" y="236"/>
                  </a:lnTo>
                  <a:lnTo>
                    <a:pt x="33" y="230"/>
                  </a:lnTo>
                  <a:lnTo>
                    <a:pt x="24" y="225"/>
                  </a:lnTo>
                  <a:lnTo>
                    <a:pt x="17" y="218"/>
                  </a:lnTo>
                  <a:lnTo>
                    <a:pt x="11" y="212"/>
                  </a:lnTo>
                  <a:lnTo>
                    <a:pt x="8" y="206"/>
                  </a:lnTo>
                  <a:lnTo>
                    <a:pt x="5" y="209"/>
                  </a:lnTo>
                  <a:lnTo>
                    <a:pt x="10" y="209"/>
                  </a:lnTo>
                  <a:lnTo>
                    <a:pt x="9" y="202"/>
                  </a:lnTo>
                  <a:lnTo>
                    <a:pt x="9" y="70"/>
                  </a:lnTo>
                  <a:lnTo>
                    <a:pt x="10" y="63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1" y="60"/>
                  </a:lnTo>
                  <a:lnTo>
                    <a:pt x="17" y="54"/>
                  </a:lnTo>
                  <a:lnTo>
                    <a:pt x="24" y="48"/>
                  </a:lnTo>
                  <a:lnTo>
                    <a:pt x="33" y="42"/>
                  </a:lnTo>
                  <a:lnTo>
                    <a:pt x="44" y="36"/>
                  </a:lnTo>
                  <a:lnTo>
                    <a:pt x="41" y="33"/>
                  </a:lnTo>
                  <a:lnTo>
                    <a:pt x="41" y="38"/>
                  </a:lnTo>
                  <a:lnTo>
                    <a:pt x="53" y="33"/>
                  </a:lnTo>
                  <a:lnTo>
                    <a:pt x="67" y="28"/>
                  </a:lnTo>
                  <a:lnTo>
                    <a:pt x="83" y="24"/>
                  </a:lnTo>
                  <a:lnTo>
                    <a:pt x="99" y="20"/>
                  </a:lnTo>
                  <a:lnTo>
                    <a:pt x="117" y="17"/>
                  </a:lnTo>
                  <a:lnTo>
                    <a:pt x="136" y="14"/>
                  </a:lnTo>
                  <a:lnTo>
                    <a:pt x="177" y="10"/>
                  </a:lnTo>
                  <a:lnTo>
                    <a:pt x="220" y="9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62120" y="3768840"/>
              <a:ext cx="699840" cy="112680"/>
            </a:xfrm>
            <a:custGeom>
              <a:avLst/>
              <a:gdLst/>
              <a:ahLst/>
              <a:rect l="l" t="t" r="r" b="b"/>
              <a:pathLst>
                <a:path w="441" h="71">
                  <a:moveTo>
                    <a:pt x="9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11" y="22"/>
                  </a:lnTo>
                  <a:lnTo>
                    <a:pt x="18" y="29"/>
                  </a:lnTo>
                  <a:lnTo>
                    <a:pt x="27" y="34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53" y="46"/>
                  </a:lnTo>
                  <a:lnTo>
                    <a:pt x="67" y="51"/>
                  </a:lnTo>
                  <a:lnTo>
                    <a:pt x="83" y="55"/>
                  </a:lnTo>
                  <a:lnTo>
                    <a:pt x="99" y="59"/>
                  </a:lnTo>
                  <a:lnTo>
                    <a:pt x="117" y="62"/>
                  </a:lnTo>
                  <a:lnTo>
                    <a:pt x="136" y="65"/>
                  </a:lnTo>
                  <a:lnTo>
                    <a:pt x="177" y="69"/>
                  </a:lnTo>
                  <a:lnTo>
                    <a:pt x="220" y="71"/>
                  </a:lnTo>
                  <a:lnTo>
                    <a:pt x="263" y="69"/>
                  </a:lnTo>
                  <a:lnTo>
                    <a:pt x="304" y="65"/>
                  </a:lnTo>
                  <a:lnTo>
                    <a:pt x="323" y="62"/>
                  </a:lnTo>
                  <a:lnTo>
                    <a:pt x="341" y="59"/>
                  </a:lnTo>
                  <a:lnTo>
                    <a:pt x="357" y="55"/>
                  </a:lnTo>
                  <a:lnTo>
                    <a:pt x="373" y="51"/>
                  </a:lnTo>
                  <a:lnTo>
                    <a:pt x="387" y="46"/>
                  </a:lnTo>
                  <a:lnTo>
                    <a:pt x="399" y="41"/>
                  </a:lnTo>
                  <a:lnTo>
                    <a:pt x="402" y="40"/>
                  </a:lnTo>
                  <a:lnTo>
                    <a:pt x="413" y="34"/>
                  </a:lnTo>
                  <a:lnTo>
                    <a:pt x="422" y="29"/>
                  </a:lnTo>
                  <a:lnTo>
                    <a:pt x="429" y="22"/>
                  </a:lnTo>
                  <a:lnTo>
                    <a:pt x="435" y="16"/>
                  </a:lnTo>
                  <a:lnTo>
                    <a:pt x="438" y="10"/>
                  </a:lnTo>
                  <a:lnTo>
                    <a:pt x="439" y="7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30" y="7"/>
                  </a:lnTo>
                  <a:lnTo>
                    <a:pt x="435" y="7"/>
                  </a:lnTo>
                  <a:lnTo>
                    <a:pt x="432" y="4"/>
                  </a:lnTo>
                  <a:lnTo>
                    <a:pt x="429" y="10"/>
                  </a:lnTo>
                  <a:lnTo>
                    <a:pt x="423" y="16"/>
                  </a:lnTo>
                  <a:lnTo>
                    <a:pt x="416" y="23"/>
                  </a:lnTo>
                  <a:lnTo>
                    <a:pt x="407" y="28"/>
                  </a:lnTo>
                  <a:lnTo>
                    <a:pt x="396" y="34"/>
                  </a:lnTo>
                  <a:lnTo>
                    <a:pt x="399" y="37"/>
                  </a:lnTo>
                  <a:lnTo>
                    <a:pt x="399" y="32"/>
                  </a:lnTo>
                  <a:lnTo>
                    <a:pt x="387" y="37"/>
                  </a:lnTo>
                  <a:lnTo>
                    <a:pt x="373" y="42"/>
                  </a:lnTo>
                  <a:lnTo>
                    <a:pt x="357" y="46"/>
                  </a:lnTo>
                  <a:lnTo>
                    <a:pt x="341" y="50"/>
                  </a:lnTo>
                  <a:lnTo>
                    <a:pt x="323" y="53"/>
                  </a:lnTo>
                  <a:lnTo>
                    <a:pt x="304" y="56"/>
                  </a:lnTo>
                  <a:lnTo>
                    <a:pt x="263" y="60"/>
                  </a:lnTo>
                  <a:lnTo>
                    <a:pt x="220" y="62"/>
                  </a:lnTo>
                  <a:lnTo>
                    <a:pt x="177" y="60"/>
                  </a:lnTo>
                  <a:lnTo>
                    <a:pt x="136" y="56"/>
                  </a:lnTo>
                  <a:lnTo>
                    <a:pt x="117" y="53"/>
                  </a:lnTo>
                  <a:lnTo>
                    <a:pt x="99" y="50"/>
                  </a:lnTo>
                  <a:lnTo>
                    <a:pt x="83" y="46"/>
                  </a:lnTo>
                  <a:lnTo>
                    <a:pt x="67" y="42"/>
                  </a:lnTo>
                  <a:lnTo>
                    <a:pt x="53" y="37"/>
                  </a:lnTo>
                  <a:lnTo>
                    <a:pt x="41" y="3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33" y="28"/>
                  </a:lnTo>
                  <a:lnTo>
                    <a:pt x="24" y="23"/>
                  </a:lnTo>
                  <a:lnTo>
                    <a:pt x="17" y="16"/>
                  </a:lnTo>
                  <a:lnTo>
                    <a:pt x="11" y="10"/>
                  </a:lnTo>
                  <a:lnTo>
                    <a:pt x="8" y="4"/>
                  </a:lnTo>
                  <a:lnTo>
                    <a:pt x="5" y="7"/>
                  </a:lnTo>
                  <a:lnTo>
                    <a:pt x="10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3" name=""/>
            <p:cNvGrpSpPr/>
            <p:nvPr/>
          </p:nvGrpSpPr>
          <p:grpSpPr>
            <a:xfrm>
              <a:off x="844200" y="3697200"/>
              <a:ext cx="515160" cy="146160"/>
              <a:chOff x="844200" y="3697200"/>
              <a:chExt cx="515160" cy="146160"/>
            </a:xfrm>
          </p:grpSpPr>
          <p:sp>
            <p:nvSpPr>
              <p:cNvPr id="1514" name=""/>
              <p:cNvSpPr/>
              <p:nvPr/>
            </p:nvSpPr>
            <p:spPr>
              <a:xfrm>
                <a:off x="1112400" y="3700440"/>
                <a:ext cx="24696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112400" y="3700440"/>
                <a:ext cx="24696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844200" y="3773520"/>
                <a:ext cx="247320" cy="66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844200" y="3773520"/>
                <a:ext cx="247320" cy="66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858240" y="3697200"/>
                <a:ext cx="24732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858240" y="3697200"/>
                <a:ext cx="24732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104480" y="3779640"/>
                <a:ext cx="245520" cy="63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104480" y="3779640"/>
                <a:ext cx="245520" cy="63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2" name=""/>
          <p:cNvSpPr/>
          <p:nvPr/>
        </p:nvSpPr>
        <p:spPr>
          <a:xfrm>
            <a:off x="868320" y="312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7529400" y="3657600"/>
            <a:ext cx="700200" cy="433440"/>
            <a:chOff x="7529400" y="3657600"/>
            <a:chExt cx="700200" cy="433440"/>
          </a:xfrm>
        </p:grpSpPr>
        <p:sp>
          <p:nvSpPr>
            <p:cNvPr id="1524" name=""/>
            <p:cNvSpPr/>
            <p:nvPr/>
          </p:nvSpPr>
          <p:spPr>
            <a:xfrm>
              <a:off x="7535880" y="3664080"/>
              <a:ext cx="685800" cy="419040"/>
            </a:xfrm>
            <a:custGeom>
              <a:avLst/>
              <a:gdLst/>
              <a:ahLst/>
              <a:rect l="l" t="t" r="r" b="b"/>
              <a:pathLst>
                <a:path w="432" h="264">
                  <a:moveTo>
                    <a:pt x="216" y="0"/>
                  </a:move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4" y="211"/>
                  </a:lnTo>
                  <a:lnTo>
                    <a:pt x="10" y="217"/>
                  </a:lnTo>
                  <a:lnTo>
                    <a:pt x="17" y="224"/>
                  </a:lnTo>
                  <a:lnTo>
                    <a:pt x="26" y="229"/>
                  </a:lnTo>
                  <a:lnTo>
                    <a:pt x="37" y="235"/>
                  </a:lnTo>
                  <a:lnTo>
                    <a:pt x="49" y="240"/>
                  </a:lnTo>
                  <a:lnTo>
                    <a:pt x="63" y="245"/>
                  </a:lnTo>
                  <a:lnTo>
                    <a:pt x="79" y="249"/>
                  </a:lnTo>
                  <a:lnTo>
                    <a:pt x="95" y="253"/>
                  </a:lnTo>
                  <a:lnTo>
                    <a:pt x="113" y="256"/>
                  </a:lnTo>
                  <a:lnTo>
                    <a:pt x="132" y="259"/>
                  </a:lnTo>
                  <a:lnTo>
                    <a:pt x="173" y="263"/>
                  </a:lnTo>
                  <a:lnTo>
                    <a:pt x="216" y="264"/>
                  </a:lnTo>
                  <a:lnTo>
                    <a:pt x="259" y="263"/>
                  </a:lnTo>
                  <a:lnTo>
                    <a:pt x="300" y="259"/>
                  </a:lnTo>
                  <a:lnTo>
                    <a:pt x="319" y="256"/>
                  </a:lnTo>
                  <a:lnTo>
                    <a:pt x="337" y="253"/>
                  </a:lnTo>
                  <a:lnTo>
                    <a:pt x="353" y="249"/>
                  </a:lnTo>
                  <a:lnTo>
                    <a:pt x="369" y="245"/>
                  </a:lnTo>
                  <a:lnTo>
                    <a:pt x="383" y="240"/>
                  </a:lnTo>
                  <a:lnTo>
                    <a:pt x="395" y="235"/>
                  </a:lnTo>
                  <a:lnTo>
                    <a:pt x="406" y="229"/>
                  </a:lnTo>
                  <a:lnTo>
                    <a:pt x="415" y="224"/>
                  </a:lnTo>
                  <a:lnTo>
                    <a:pt x="422" y="217"/>
                  </a:lnTo>
                  <a:lnTo>
                    <a:pt x="428" y="211"/>
                  </a:lnTo>
                  <a:lnTo>
                    <a:pt x="431" y="205"/>
                  </a:lnTo>
                  <a:lnTo>
                    <a:pt x="432" y="198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535880" y="3664080"/>
              <a:ext cx="685800" cy="209520"/>
            </a:xfrm>
            <a:custGeom>
              <a:avLst/>
              <a:gdLst/>
              <a:ahLst/>
              <a:rect l="l" t="t" r="r" b="b"/>
              <a:pathLst>
                <a:path w="432" h="132">
                  <a:moveTo>
                    <a:pt x="0" y="66"/>
                  </a:moveTo>
                  <a:lnTo>
                    <a:pt x="1" y="73"/>
                  </a:lnTo>
                  <a:lnTo>
                    <a:pt x="4" y="79"/>
                  </a:lnTo>
                  <a:lnTo>
                    <a:pt x="10" y="85"/>
                  </a:lnTo>
                  <a:lnTo>
                    <a:pt x="17" y="92"/>
                  </a:lnTo>
                  <a:lnTo>
                    <a:pt x="26" y="97"/>
                  </a:lnTo>
                  <a:lnTo>
                    <a:pt x="37" y="103"/>
                  </a:lnTo>
                  <a:lnTo>
                    <a:pt x="49" y="108"/>
                  </a:lnTo>
                  <a:lnTo>
                    <a:pt x="63" y="113"/>
                  </a:lnTo>
                  <a:lnTo>
                    <a:pt x="79" y="117"/>
                  </a:lnTo>
                  <a:lnTo>
                    <a:pt x="95" y="121"/>
                  </a:lnTo>
                  <a:lnTo>
                    <a:pt x="113" y="124"/>
                  </a:lnTo>
                  <a:lnTo>
                    <a:pt x="132" y="127"/>
                  </a:lnTo>
                  <a:lnTo>
                    <a:pt x="173" y="131"/>
                  </a:lnTo>
                  <a:lnTo>
                    <a:pt x="216" y="132"/>
                  </a:lnTo>
                  <a:lnTo>
                    <a:pt x="259" y="131"/>
                  </a:lnTo>
                  <a:lnTo>
                    <a:pt x="300" y="127"/>
                  </a:lnTo>
                  <a:lnTo>
                    <a:pt x="319" y="124"/>
                  </a:lnTo>
                  <a:lnTo>
                    <a:pt x="337" y="121"/>
                  </a:lnTo>
                  <a:lnTo>
                    <a:pt x="353" y="117"/>
                  </a:lnTo>
                  <a:lnTo>
                    <a:pt x="369" y="113"/>
                  </a:lnTo>
                  <a:lnTo>
                    <a:pt x="383" y="108"/>
                  </a:lnTo>
                  <a:lnTo>
                    <a:pt x="395" y="103"/>
                  </a:lnTo>
                  <a:lnTo>
                    <a:pt x="406" y="97"/>
                  </a:lnTo>
                  <a:lnTo>
                    <a:pt x="415" y="92"/>
                  </a:lnTo>
                  <a:lnTo>
                    <a:pt x="422" y="85"/>
                  </a:lnTo>
                  <a:lnTo>
                    <a:pt x="428" y="79"/>
                  </a:lnTo>
                  <a:lnTo>
                    <a:pt x="431" y="73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529400" y="3657600"/>
              <a:ext cx="700200" cy="433440"/>
            </a:xfrm>
            <a:custGeom>
              <a:avLst/>
              <a:gdLst/>
              <a:ahLst/>
              <a:rect l="l" t="t" r="r" b="b"/>
              <a:pathLst>
                <a:path w="441" h="273">
                  <a:moveTo>
                    <a:pt x="177" y="1"/>
                  </a:moveTo>
                  <a:lnTo>
                    <a:pt x="136" y="5"/>
                  </a:lnTo>
                  <a:lnTo>
                    <a:pt x="117" y="8"/>
                  </a:lnTo>
                  <a:lnTo>
                    <a:pt x="99" y="11"/>
                  </a:lnTo>
                  <a:lnTo>
                    <a:pt x="83" y="15"/>
                  </a:lnTo>
                  <a:lnTo>
                    <a:pt x="67" y="19"/>
                  </a:lnTo>
                  <a:lnTo>
                    <a:pt x="53" y="24"/>
                  </a:lnTo>
                  <a:lnTo>
                    <a:pt x="41" y="29"/>
                  </a:lnTo>
                  <a:lnTo>
                    <a:pt x="38" y="30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4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2" y="212"/>
                  </a:lnTo>
                  <a:lnTo>
                    <a:pt x="5" y="218"/>
                  </a:lnTo>
                  <a:lnTo>
                    <a:pt x="11" y="224"/>
                  </a:lnTo>
                  <a:lnTo>
                    <a:pt x="18" y="231"/>
                  </a:lnTo>
                  <a:lnTo>
                    <a:pt x="27" y="236"/>
                  </a:lnTo>
                  <a:lnTo>
                    <a:pt x="38" y="242"/>
                  </a:lnTo>
                  <a:lnTo>
                    <a:pt x="41" y="243"/>
                  </a:lnTo>
                  <a:lnTo>
                    <a:pt x="53" y="248"/>
                  </a:lnTo>
                  <a:lnTo>
                    <a:pt x="67" y="253"/>
                  </a:lnTo>
                  <a:lnTo>
                    <a:pt x="83" y="257"/>
                  </a:lnTo>
                  <a:lnTo>
                    <a:pt x="99" y="261"/>
                  </a:lnTo>
                  <a:lnTo>
                    <a:pt x="117" y="264"/>
                  </a:lnTo>
                  <a:lnTo>
                    <a:pt x="136" y="267"/>
                  </a:lnTo>
                  <a:lnTo>
                    <a:pt x="177" y="271"/>
                  </a:lnTo>
                  <a:lnTo>
                    <a:pt x="220" y="273"/>
                  </a:lnTo>
                  <a:lnTo>
                    <a:pt x="263" y="271"/>
                  </a:lnTo>
                  <a:lnTo>
                    <a:pt x="304" y="267"/>
                  </a:lnTo>
                  <a:lnTo>
                    <a:pt x="323" y="264"/>
                  </a:lnTo>
                  <a:lnTo>
                    <a:pt x="341" y="261"/>
                  </a:lnTo>
                  <a:lnTo>
                    <a:pt x="357" y="257"/>
                  </a:lnTo>
                  <a:lnTo>
                    <a:pt x="373" y="253"/>
                  </a:lnTo>
                  <a:lnTo>
                    <a:pt x="387" y="248"/>
                  </a:lnTo>
                  <a:lnTo>
                    <a:pt x="399" y="243"/>
                  </a:lnTo>
                  <a:lnTo>
                    <a:pt x="402" y="242"/>
                  </a:lnTo>
                  <a:lnTo>
                    <a:pt x="413" y="236"/>
                  </a:lnTo>
                  <a:lnTo>
                    <a:pt x="422" y="231"/>
                  </a:lnTo>
                  <a:lnTo>
                    <a:pt x="429" y="224"/>
                  </a:lnTo>
                  <a:lnTo>
                    <a:pt x="435" y="218"/>
                  </a:lnTo>
                  <a:lnTo>
                    <a:pt x="438" y="212"/>
                  </a:lnTo>
                  <a:lnTo>
                    <a:pt x="439" y="209"/>
                  </a:lnTo>
                  <a:lnTo>
                    <a:pt x="441" y="202"/>
                  </a:lnTo>
                  <a:lnTo>
                    <a:pt x="441" y="70"/>
                  </a:lnTo>
                  <a:lnTo>
                    <a:pt x="439" y="63"/>
                  </a:lnTo>
                  <a:lnTo>
                    <a:pt x="438" y="60"/>
                  </a:lnTo>
                  <a:lnTo>
                    <a:pt x="435" y="54"/>
                  </a:lnTo>
                  <a:lnTo>
                    <a:pt x="429" y="48"/>
                  </a:lnTo>
                  <a:lnTo>
                    <a:pt x="422" y="42"/>
                  </a:lnTo>
                  <a:lnTo>
                    <a:pt x="413" y="36"/>
                  </a:lnTo>
                  <a:lnTo>
                    <a:pt x="402" y="30"/>
                  </a:lnTo>
                  <a:lnTo>
                    <a:pt x="399" y="29"/>
                  </a:lnTo>
                  <a:lnTo>
                    <a:pt x="387" y="24"/>
                  </a:lnTo>
                  <a:lnTo>
                    <a:pt x="373" y="19"/>
                  </a:lnTo>
                  <a:lnTo>
                    <a:pt x="357" y="15"/>
                  </a:lnTo>
                  <a:lnTo>
                    <a:pt x="341" y="11"/>
                  </a:lnTo>
                  <a:lnTo>
                    <a:pt x="323" y="8"/>
                  </a:lnTo>
                  <a:lnTo>
                    <a:pt x="304" y="5"/>
                  </a:lnTo>
                  <a:lnTo>
                    <a:pt x="263" y="1"/>
                  </a:lnTo>
                  <a:lnTo>
                    <a:pt x="220" y="0"/>
                  </a:lnTo>
                  <a:lnTo>
                    <a:pt x="177" y="1"/>
                  </a:lnTo>
                  <a:close/>
                  <a:moveTo>
                    <a:pt x="220" y="9"/>
                  </a:moveTo>
                  <a:lnTo>
                    <a:pt x="263" y="10"/>
                  </a:lnTo>
                  <a:lnTo>
                    <a:pt x="304" y="14"/>
                  </a:lnTo>
                  <a:lnTo>
                    <a:pt x="323" y="17"/>
                  </a:lnTo>
                  <a:lnTo>
                    <a:pt x="341" y="20"/>
                  </a:lnTo>
                  <a:lnTo>
                    <a:pt x="357" y="24"/>
                  </a:lnTo>
                  <a:lnTo>
                    <a:pt x="373" y="28"/>
                  </a:lnTo>
                  <a:lnTo>
                    <a:pt x="387" y="33"/>
                  </a:lnTo>
                  <a:lnTo>
                    <a:pt x="399" y="38"/>
                  </a:lnTo>
                  <a:lnTo>
                    <a:pt x="399" y="33"/>
                  </a:lnTo>
                  <a:lnTo>
                    <a:pt x="396" y="36"/>
                  </a:lnTo>
                  <a:lnTo>
                    <a:pt x="407" y="42"/>
                  </a:lnTo>
                  <a:lnTo>
                    <a:pt x="416" y="48"/>
                  </a:lnTo>
                  <a:lnTo>
                    <a:pt x="423" y="54"/>
                  </a:lnTo>
                  <a:lnTo>
                    <a:pt x="429" y="60"/>
                  </a:lnTo>
                  <a:lnTo>
                    <a:pt x="432" y="66"/>
                  </a:lnTo>
                  <a:lnTo>
                    <a:pt x="435" y="63"/>
                  </a:lnTo>
                  <a:lnTo>
                    <a:pt x="430" y="63"/>
                  </a:lnTo>
                  <a:lnTo>
                    <a:pt x="432" y="70"/>
                  </a:lnTo>
                  <a:lnTo>
                    <a:pt x="432" y="202"/>
                  </a:lnTo>
                  <a:lnTo>
                    <a:pt x="430" y="209"/>
                  </a:lnTo>
                  <a:lnTo>
                    <a:pt x="435" y="209"/>
                  </a:lnTo>
                  <a:lnTo>
                    <a:pt x="432" y="206"/>
                  </a:lnTo>
                  <a:lnTo>
                    <a:pt x="429" y="212"/>
                  </a:lnTo>
                  <a:lnTo>
                    <a:pt x="423" y="218"/>
                  </a:lnTo>
                  <a:lnTo>
                    <a:pt x="416" y="225"/>
                  </a:lnTo>
                  <a:lnTo>
                    <a:pt x="407" y="230"/>
                  </a:lnTo>
                  <a:lnTo>
                    <a:pt x="396" y="236"/>
                  </a:lnTo>
                  <a:lnTo>
                    <a:pt x="399" y="239"/>
                  </a:lnTo>
                  <a:lnTo>
                    <a:pt x="399" y="234"/>
                  </a:lnTo>
                  <a:lnTo>
                    <a:pt x="387" y="239"/>
                  </a:lnTo>
                  <a:lnTo>
                    <a:pt x="373" y="244"/>
                  </a:lnTo>
                  <a:lnTo>
                    <a:pt x="357" y="248"/>
                  </a:lnTo>
                  <a:lnTo>
                    <a:pt x="341" y="252"/>
                  </a:lnTo>
                  <a:lnTo>
                    <a:pt x="323" y="255"/>
                  </a:lnTo>
                  <a:lnTo>
                    <a:pt x="304" y="258"/>
                  </a:lnTo>
                  <a:lnTo>
                    <a:pt x="263" y="262"/>
                  </a:lnTo>
                  <a:lnTo>
                    <a:pt x="220" y="264"/>
                  </a:lnTo>
                  <a:lnTo>
                    <a:pt x="177" y="262"/>
                  </a:lnTo>
                  <a:lnTo>
                    <a:pt x="136" y="258"/>
                  </a:lnTo>
                  <a:lnTo>
                    <a:pt x="117" y="255"/>
                  </a:lnTo>
                  <a:lnTo>
                    <a:pt x="99" y="252"/>
                  </a:lnTo>
                  <a:lnTo>
                    <a:pt x="83" y="248"/>
                  </a:lnTo>
                  <a:lnTo>
                    <a:pt x="67" y="244"/>
                  </a:lnTo>
                  <a:lnTo>
                    <a:pt x="53" y="239"/>
                  </a:lnTo>
                  <a:lnTo>
                    <a:pt x="41" y="234"/>
                  </a:lnTo>
                  <a:lnTo>
                    <a:pt x="41" y="239"/>
                  </a:lnTo>
                  <a:lnTo>
                    <a:pt x="44" y="236"/>
                  </a:lnTo>
                  <a:lnTo>
                    <a:pt x="33" y="230"/>
                  </a:lnTo>
                  <a:lnTo>
                    <a:pt x="24" y="225"/>
                  </a:lnTo>
                  <a:lnTo>
                    <a:pt x="17" y="218"/>
                  </a:lnTo>
                  <a:lnTo>
                    <a:pt x="11" y="212"/>
                  </a:lnTo>
                  <a:lnTo>
                    <a:pt x="8" y="206"/>
                  </a:lnTo>
                  <a:lnTo>
                    <a:pt x="5" y="209"/>
                  </a:lnTo>
                  <a:lnTo>
                    <a:pt x="10" y="209"/>
                  </a:lnTo>
                  <a:lnTo>
                    <a:pt x="9" y="202"/>
                  </a:lnTo>
                  <a:lnTo>
                    <a:pt x="9" y="70"/>
                  </a:lnTo>
                  <a:lnTo>
                    <a:pt x="10" y="63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1" y="60"/>
                  </a:lnTo>
                  <a:lnTo>
                    <a:pt x="17" y="54"/>
                  </a:lnTo>
                  <a:lnTo>
                    <a:pt x="24" y="48"/>
                  </a:lnTo>
                  <a:lnTo>
                    <a:pt x="33" y="42"/>
                  </a:lnTo>
                  <a:lnTo>
                    <a:pt x="44" y="36"/>
                  </a:lnTo>
                  <a:lnTo>
                    <a:pt x="41" y="33"/>
                  </a:lnTo>
                  <a:lnTo>
                    <a:pt x="41" y="38"/>
                  </a:lnTo>
                  <a:lnTo>
                    <a:pt x="53" y="33"/>
                  </a:lnTo>
                  <a:lnTo>
                    <a:pt x="67" y="28"/>
                  </a:lnTo>
                  <a:lnTo>
                    <a:pt x="83" y="24"/>
                  </a:lnTo>
                  <a:lnTo>
                    <a:pt x="99" y="20"/>
                  </a:lnTo>
                  <a:lnTo>
                    <a:pt x="117" y="17"/>
                  </a:lnTo>
                  <a:lnTo>
                    <a:pt x="136" y="14"/>
                  </a:lnTo>
                  <a:lnTo>
                    <a:pt x="177" y="10"/>
                  </a:lnTo>
                  <a:lnTo>
                    <a:pt x="220" y="9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529400" y="3768840"/>
              <a:ext cx="700200" cy="112680"/>
            </a:xfrm>
            <a:custGeom>
              <a:avLst/>
              <a:gdLst/>
              <a:ahLst/>
              <a:rect l="l" t="t" r="r" b="b"/>
              <a:pathLst>
                <a:path w="441" h="71">
                  <a:moveTo>
                    <a:pt x="9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11" y="22"/>
                  </a:lnTo>
                  <a:lnTo>
                    <a:pt x="18" y="29"/>
                  </a:lnTo>
                  <a:lnTo>
                    <a:pt x="27" y="34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53" y="46"/>
                  </a:lnTo>
                  <a:lnTo>
                    <a:pt x="67" y="51"/>
                  </a:lnTo>
                  <a:lnTo>
                    <a:pt x="83" y="55"/>
                  </a:lnTo>
                  <a:lnTo>
                    <a:pt x="99" y="59"/>
                  </a:lnTo>
                  <a:lnTo>
                    <a:pt x="117" y="62"/>
                  </a:lnTo>
                  <a:lnTo>
                    <a:pt x="136" y="65"/>
                  </a:lnTo>
                  <a:lnTo>
                    <a:pt x="177" y="69"/>
                  </a:lnTo>
                  <a:lnTo>
                    <a:pt x="220" y="71"/>
                  </a:lnTo>
                  <a:lnTo>
                    <a:pt x="263" y="69"/>
                  </a:lnTo>
                  <a:lnTo>
                    <a:pt x="304" y="65"/>
                  </a:lnTo>
                  <a:lnTo>
                    <a:pt x="323" y="62"/>
                  </a:lnTo>
                  <a:lnTo>
                    <a:pt x="341" y="59"/>
                  </a:lnTo>
                  <a:lnTo>
                    <a:pt x="357" y="55"/>
                  </a:lnTo>
                  <a:lnTo>
                    <a:pt x="373" y="51"/>
                  </a:lnTo>
                  <a:lnTo>
                    <a:pt x="387" y="46"/>
                  </a:lnTo>
                  <a:lnTo>
                    <a:pt x="399" y="41"/>
                  </a:lnTo>
                  <a:lnTo>
                    <a:pt x="402" y="40"/>
                  </a:lnTo>
                  <a:lnTo>
                    <a:pt x="413" y="34"/>
                  </a:lnTo>
                  <a:lnTo>
                    <a:pt x="422" y="29"/>
                  </a:lnTo>
                  <a:lnTo>
                    <a:pt x="429" y="22"/>
                  </a:lnTo>
                  <a:lnTo>
                    <a:pt x="435" y="16"/>
                  </a:lnTo>
                  <a:lnTo>
                    <a:pt x="438" y="10"/>
                  </a:lnTo>
                  <a:lnTo>
                    <a:pt x="439" y="7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30" y="7"/>
                  </a:lnTo>
                  <a:lnTo>
                    <a:pt x="435" y="7"/>
                  </a:lnTo>
                  <a:lnTo>
                    <a:pt x="432" y="4"/>
                  </a:lnTo>
                  <a:lnTo>
                    <a:pt x="429" y="10"/>
                  </a:lnTo>
                  <a:lnTo>
                    <a:pt x="423" y="16"/>
                  </a:lnTo>
                  <a:lnTo>
                    <a:pt x="416" y="23"/>
                  </a:lnTo>
                  <a:lnTo>
                    <a:pt x="407" y="28"/>
                  </a:lnTo>
                  <a:lnTo>
                    <a:pt x="396" y="34"/>
                  </a:lnTo>
                  <a:lnTo>
                    <a:pt x="399" y="37"/>
                  </a:lnTo>
                  <a:lnTo>
                    <a:pt x="399" y="32"/>
                  </a:lnTo>
                  <a:lnTo>
                    <a:pt x="387" y="37"/>
                  </a:lnTo>
                  <a:lnTo>
                    <a:pt x="373" y="42"/>
                  </a:lnTo>
                  <a:lnTo>
                    <a:pt x="357" y="46"/>
                  </a:lnTo>
                  <a:lnTo>
                    <a:pt x="341" y="50"/>
                  </a:lnTo>
                  <a:lnTo>
                    <a:pt x="323" y="53"/>
                  </a:lnTo>
                  <a:lnTo>
                    <a:pt x="304" y="56"/>
                  </a:lnTo>
                  <a:lnTo>
                    <a:pt x="263" y="60"/>
                  </a:lnTo>
                  <a:lnTo>
                    <a:pt x="220" y="62"/>
                  </a:lnTo>
                  <a:lnTo>
                    <a:pt x="177" y="60"/>
                  </a:lnTo>
                  <a:lnTo>
                    <a:pt x="136" y="56"/>
                  </a:lnTo>
                  <a:lnTo>
                    <a:pt x="117" y="53"/>
                  </a:lnTo>
                  <a:lnTo>
                    <a:pt x="99" y="50"/>
                  </a:lnTo>
                  <a:lnTo>
                    <a:pt x="83" y="46"/>
                  </a:lnTo>
                  <a:lnTo>
                    <a:pt x="67" y="42"/>
                  </a:lnTo>
                  <a:lnTo>
                    <a:pt x="53" y="37"/>
                  </a:lnTo>
                  <a:lnTo>
                    <a:pt x="41" y="3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33" y="28"/>
                  </a:lnTo>
                  <a:lnTo>
                    <a:pt x="24" y="23"/>
                  </a:lnTo>
                  <a:lnTo>
                    <a:pt x="17" y="16"/>
                  </a:lnTo>
                  <a:lnTo>
                    <a:pt x="11" y="10"/>
                  </a:lnTo>
                  <a:lnTo>
                    <a:pt x="8" y="4"/>
                  </a:lnTo>
                  <a:lnTo>
                    <a:pt x="5" y="7"/>
                  </a:lnTo>
                  <a:lnTo>
                    <a:pt x="10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8" name=""/>
            <p:cNvGrpSpPr/>
            <p:nvPr/>
          </p:nvGrpSpPr>
          <p:grpSpPr>
            <a:xfrm>
              <a:off x="7611840" y="3697200"/>
              <a:ext cx="515880" cy="146160"/>
              <a:chOff x="7611840" y="3697200"/>
              <a:chExt cx="515880" cy="146160"/>
            </a:xfrm>
          </p:grpSpPr>
          <p:sp>
            <p:nvSpPr>
              <p:cNvPr id="1529" name=""/>
              <p:cNvSpPr/>
              <p:nvPr/>
            </p:nvSpPr>
            <p:spPr>
              <a:xfrm>
                <a:off x="7880400" y="3700440"/>
                <a:ext cx="24732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880400" y="3700440"/>
                <a:ext cx="24732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611840" y="3773520"/>
                <a:ext cx="247680" cy="66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611840" y="3773520"/>
                <a:ext cx="247680" cy="66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626240" y="3697200"/>
                <a:ext cx="24768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626240" y="3697200"/>
                <a:ext cx="24768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872480" y="3779640"/>
                <a:ext cx="245880" cy="63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872480" y="3779640"/>
                <a:ext cx="245880" cy="63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7" name=""/>
          <p:cNvSpPr/>
          <p:nvPr/>
        </p:nvSpPr>
        <p:spPr>
          <a:xfrm>
            <a:off x="7635960" y="312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447920" y="4038480"/>
            <a:ext cx="609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448640" y="3732840"/>
            <a:ext cx="5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 +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057400" y="5362560"/>
            <a:ext cx="4876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057400" y="543888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934320" y="543888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934320" y="570564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057400" y="5705640"/>
            <a:ext cx="4876920" cy="0"/>
          </a:xfrm>
          <a:prstGeom prst="line">
            <a:avLst/>
          </a:prstGeom>
          <a:ln w="3816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192480" y="618552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tical Clear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543800" y="5562720"/>
            <a:ext cx="990720" cy="30456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447920" y="57150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9480" y="5562720"/>
            <a:ext cx="990720" cy="30456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057400" y="5562720"/>
            <a:ext cx="838080" cy="304560"/>
          </a:xfrm>
          <a:custGeom>
            <a:avLst/>
            <a:gdLst>
              <a:gd name="textAreaLeft" fmla="*/ 0 w 838080"/>
              <a:gd name="textAreaRight" fmla="*/ 838440 w 8380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121440" y="5549760"/>
            <a:ext cx="838080" cy="304920"/>
          </a:xfrm>
          <a:custGeom>
            <a:avLst/>
            <a:gdLst>
              <a:gd name="textAreaLeft" fmla="*/ 0 w 838080"/>
              <a:gd name="textAreaRight" fmla="*/ 838440 w 8380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A6BD6-E48C-47D2-AFE2-FDD9C394F4B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1" name="cloudbig" descr=""/>
          <p:cNvPicPr/>
          <p:nvPr/>
        </p:nvPicPr>
        <p:blipFill>
          <a:blip r:embed="rId1"/>
          <a:stretch/>
        </p:blipFill>
        <p:spPr>
          <a:xfrm>
            <a:off x="1371600" y="3733920"/>
            <a:ext cx="5257800" cy="2692440"/>
          </a:xfrm>
          <a:prstGeom prst="rect">
            <a:avLst/>
          </a:prstGeom>
          <a:ln w="0">
            <a:noFill/>
          </a:ln>
        </p:spPr>
      </p:pic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Advanced Service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Customer Network Management (CNM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Optical Virtual Private Networks (OVPNs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Service Level Agreements (SLAs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54" name="" descr=""/>
          <p:cNvPicPr/>
          <p:nvPr/>
        </p:nvPicPr>
        <p:blipFill>
          <a:blip r:embed="rId2"/>
          <a:stretch/>
        </p:blipFill>
        <p:spPr>
          <a:xfrm>
            <a:off x="5257800" y="4038480"/>
            <a:ext cx="3048120" cy="1801800"/>
          </a:xfrm>
          <a:prstGeom prst="rect">
            <a:avLst/>
          </a:prstGeom>
          <a:ln w="0">
            <a:noFill/>
          </a:ln>
        </p:spPr>
      </p:pic>
      <p:sp>
        <p:nvSpPr>
          <p:cNvPr id="1555" name=""/>
          <p:cNvSpPr/>
          <p:nvPr/>
        </p:nvSpPr>
        <p:spPr>
          <a:xfrm>
            <a:off x="2515320" y="4343040"/>
            <a:ext cx="174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Intelli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Op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52EF3-0A14-4AB4-BE0A-04A1551741A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Layering the Intelligent Optical Network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Network and Service Management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3657600" cy="289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Optical network visibility and control - CNM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77560" indent="-2775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Performance monitoring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77560" indent="-2775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Ease of service provisioning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77560" indent="-2775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Fault managemen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Historical/live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Correlation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Context sensitive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58" name="map" descr=""/>
          <p:cNvPicPr/>
          <p:nvPr/>
        </p:nvPicPr>
        <p:blipFill>
          <a:blip r:embed="rId1"/>
          <a:stretch/>
        </p:blipFill>
        <p:spPr>
          <a:xfrm>
            <a:off x="3962520" y="1981080"/>
            <a:ext cx="4647960" cy="356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53729-22F3-42B6-A8C6-53DC5A84B08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266760" y="-360"/>
            <a:ext cx="86868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Tying it All Together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All-Optical Island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560" name=""/>
          <p:cNvSpPr/>
          <p:nvPr/>
        </p:nvSpPr>
        <p:spPr>
          <a:xfrm>
            <a:off x="3429000" y="2209680"/>
            <a:ext cx="1447920" cy="5335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3505320" y="1523880"/>
            <a:ext cx="1295280" cy="5335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5028840" y="1981080"/>
            <a:ext cx="1143000" cy="91440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657600" y="2057400"/>
            <a:ext cx="251460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H="1" flipV="1">
            <a:off x="5028840" y="1523520"/>
            <a:ext cx="1143000" cy="3049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800600" y="2514600"/>
            <a:ext cx="3808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276720" y="1905120"/>
            <a:ext cx="3808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648320" y="1219320"/>
            <a:ext cx="3808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943600" y="1600200"/>
            <a:ext cx="3808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124080" y="914400"/>
            <a:ext cx="3505320" cy="2362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3809880" y="4572000"/>
            <a:ext cx="1295640" cy="1904760"/>
            <a:chOff x="3809880" y="4572000"/>
            <a:chExt cx="1295640" cy="1904760"/>
          </a:xfrm>
        </p:grpSpPr>
        <p:sp>
          <p:nvSpPr>
            <p:cNvPr id="1571" name=""/>
            <p:cNvSpPr/>
            <p:nvPr/>
          </p:nvSpPr>
          <p:spPr>
            <a:xfrm>
              <a:off x="4038480" y="4724280"/>
              <a:ext cx="990720" cy="152388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229280" y="4572000"/>
              <a:ext cx="3045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809880" y="5333760"/>
              <a:ext cx="304920" cy="38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800600" y="5333760"/>
              <a:ext cx="304920" cy="38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229280" y="6095880"/>
              <a:ext cx="3045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3581280" y="4267080"/>
            <a:ext cx="1905120" cy="2362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162920" y="4267080"/>
            <a:ext cx="990360" cy="152424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353360" y="4114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353360" y="5638680"/>
            <a:ext cx="3049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705720" y="3809880"/>
            <a:ext cx="1904760" cy="2362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990720" y="3962520"/>
            <a:ext cx="990360" cy="152388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181160" y="3809880"/>
            <a:ext cx="3049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181160" y="533412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33520" y="3505320"/>
            <a:ext cx="1904760" cy="23619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1981080" y="2895480"/>
            <a:ext cx="5465880" cy="1141560"/>
            <a:chOff x="1981080" y="2895480"/>
            <a:chExt cx="5465880" cy="1141560"/>
          </a:xfrm>
        </p:grpSpPr>
        <p:grpSp>
          <p:nvGrpSpPr>
            <p:cNvPr id="1586" name=""/>
            <p:cNvGrpSpPr/>
            <p:nvPr/>
          </p:nvGrpSpPr>
          <p:grpSpPr>
            <a:xfrm>
              <a:off x="1981080" y="2895480"/>
              <a:ext cx="436680" cy="379440"/>
              <a:chOff x="1981080" y="2895480"/>
              <a:chExt cx="436680" cy="379440"/>
            </a:xfrm>
          </p:grpSpPr>
          <p:sp>
            <p:nvSpPr>
              <p:cNvPr id="1587" name=""/>
              <p:cNvSpPr/>
              <p:nvPr/>
            </p:nvSpPr>
            <p:spPr>
              <a:xfrm>
                <a:off x="1981080" y="2895480"/>
                <a:ext cx="436680" cy="379440"/>
              </a:xfrm>
              <a:prstGeom prst="rect">
                <a:avLst/>
              </a:prstGeom>
              <a:solidFill>
                <a:srgbClr val="00cc99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8" name=""/>
              <p:cNvGrpSpPr/>
              <p:nvPr/>
            </p:nvGrpSpPr>
            <p:grpSpPr>
              <a:xfrm>
                <a:off x="2043360" y="2958480"/>
                <a:ext cx="291960" cy="295920"/>
                <a:chOff x="2043360" y="2958480"/>
                <a:chExt cx="291960" cy="295920"/>
              </a:xfrm>
            </p:grpSpPr>
            <p:sp>
              <p:nvSpPr>
                <p:cNvPr id="1589" name=""/>
                <p:cNvSpPr/>
                <p:nvPr/>
              </p:nvSpPr>
              <p:spPr>
                <a:xfrm>
                  <a:off x="2043360" y="2958480"/>
                  <a:ext cx="290160" cy="292320"/>
                </a:xfrm>
                <a:custGeom>
                  <a:avLst/>
                  <a:gdLst/>
                  <a:ahLst/>
                  <a:rect l="l" t="t" r="r" b="b"/>
                  <a:pathLst>
                    <a:path w="1087" h="1001">
                      <a:moveTo>
                        <a:pt x="157" y="0"/>
                      </a:moveTo>
                      <a:lnTo>
                        <a:pt x="157" y="128"/>
                      </a:lnTo>
                      <a:lnTo>
                        <a:pt x="408" y="128"/>
                      </a:lnTo>
                      <a:lnTo>
                        <a:pt x="539" y="392"/>
                      </a:lnTo>
                      <a:lnTo>
                        <a:pt x="678" y="128"/>
                      </a:lnTo>
                      <a:lnTo>
                        <a:pt x="931" y="128"/>
                      </a:lnTo>
                      <a:lnTo>
                        <a:pt x="931" y="0"/>
                      </a:lnTo>
                      <a:lnTo>
                        <a:pt x="1087" y="157"/>
                      </a:lnTo>
                      <a:lnTo>
                        <a:pt x="931" y="314"/>
                      </a:lnTo>
                      <a:lnTo>
                        <a:pt x="931" y="206"/>
                      </a:lnTo>
                      <a:lnTo>
                        <a:pt x="748" y="206"/>
                      </a:lnTo>
                      <a:lnTo>
                        <a:pt x="600" y="500"/>
                      </a:lnTo>
                      <a:lnTo>
                        <a:pt x="748" y="804"/>
                      </a:lnTo>
                      <a:lnTo>
                        <a:pt x="931" y="804"/>
                      </a:lnTo>
                      <a:lnTo>
                        <a:pt x="931" y="696"/>
                      </a:lnTo>
                      <a:lnTo>
                        <a:pt x="1087" y="844"/>
                      </a:lnTo>
                      <a:lnTo>
                        <a:pt x="931" y="1001"/>
                      </a:lnTo>
                      <a:lnTo>
                        <a:pt x="931" y="883"/>
                      </a:lnTo>
                      <a:lnTo>
                        <a:pt x="678" y="883"/>
                      </a:lnTo>
                      <a:lnTo>
                        <a:pt x="539" y="608"/>
                      </a:lnTo>
                      <a:lnTo>
                        <a:pt x="408" y="893"/>
                      </a:lnTo>
                      <a:lnTo>
                        <a:pt x="157" y="893"/>
                      </a:lnTo>
                      <a:lnTo>
                        <a:pt x="157" y="1001"/>
                      </a:lnTo>
                      <a:lnTo>
                        <a:pt x="0" y="844"/>
                      </a:lnTo>
                      <a:lnTo>
                        <a:pt x="157" y="696"/>
                      </a:lnTo>
                      <a:lnTo>
                        <a:pt x="157" y="804"/>
                      </a:lnTo>
                      <a:lnTo>
                        <a:pt x="330" y="804"/>
                      </a:lnTo>
                      <a:lnTo>
                        <a:pt x="487" y="500"/>
                      </a:lnTo>
                      <a:lnTo>
                        <a:pt x="330" y="206"/>
                      </a:lnTo>
                      <a:lnTo>
                        <a:pt x="157" y="206"/>
                      </a:lnTo>
                      <a:lnTo>
                        <a:pt x="157" y="305"/>
                      </a:lnTo>
                      <a:lnTo>
                        <a:pt x="0" y="157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2043360" y="2958480"/>
                  <a:ext cx="290160" cy="292320"/>
                </a:xfrm>
                <a:custGeom>
                  <a:avLst/>
                  <a:gdLst/>
                  <a:ahLst/>
                  <a:rect l="l" t="t" r="r" b="b"/>
                  <a:pathLst>
                    <a:path w="1087" h="1001">
                      <a:moveTo>
                        <a:pt x="157" y="0"/>
                      </a:moveTo>
                      <a:lnTo>
                        <a:pt x="157" y="128"/>
                      </a:lnTo>
                      <a:lnTo>
                        <a:pt x="408" y="128"/>
                      </a:lnTo>
                      <a:lnTo>
                        <a:pt x="539" y="392"/>
                      </a:lnTo>
                      <a:lnTo>
                        <a:pt x="678" y="128"/>
                      </a:lnTo>
                      <a:lnTo>
                        <a:pt x="931" y="128"/>
                      </a:lnTo>
                      <a:lnTo>
                        <a:pt x="931" y="0"/>
                      </a:lnTo>
                      <a:lnTo>
                        <a:pt x="1087" y="157"/>
                      </a:lnTo>
                      <a:lnTo>
                        <a:pt x="931" y="314"/>
                      </a:lnTo>
                      <a:lnTo>
                        <a:pt x="931" y="206"/>
                      </a:lnTo>
                      <a:lnTo>
                        <a:pt x="748" y="206"/>
                      </a:lnTo>
                      <a:lnTo>
                        <a:pt x="600" y="500"/>
                      </a:lnTo>
                      <a:lnTo>
                        <a:pt x="748" y="804"/>
                      </a:lnTo>
                      <a:lnTo>
                        <a:pt x="931" y="804"/>
                      </a:lnTo>
                      <a:lnTo>
                        <a:pt x="931" y="696"/>
                      </a:lnTo>
                      <a:lnTo>
                        <a:pt x="1087" y="844"/>
                      </a:lnTo>
                      <a:lnTo>
                        <a:pt x="931" y="1001"/>
                      </a:lnTo>
                      <a:lnTo>
                        <a:pt x="931" y="883"/>
                      </a:lnTo>
                      <a:lnTo>
                        <a:pt x="678" y="883"/>
                      </a:lnTo>
                      <a:lnTo>
                        <a:pt x="539" y="608"/>
                      </a:lnTo>
                      <a:lnTo>
                        <a:pt x="408" y="893"/>
                      </a:lnTo>
                      <a:lnTo>
                        <a:pt x="157" y="893"/>
                      </a:lnTo>
                      <a:lnTo>
                        <a:pt x="157" y="1001"/>
                      </a:lnTo>
                      <a:lnTo>
                        <a:pt x="0" y="844"/>
                      </a:lnTo>
                      <a:lnTo>
                        <a:pt x="157" y="696"/>
                      </a:lnTo>
                      <a:lnTo>
                        <a:pt x="157" y="804"/>
                      </a:lnTo>
                      <a:lnTo>
                        <a:pt x="330" y="804"/>
                      </a:lnTo>
                      <a:lnTo>
                        <a:pt x="487" y="500"/>
                      </a:lnTo>
                      <a:lnTo>
                        <a:pt x="330" y="206"/>
                      </a:lnTo>
                      <a:lnTo>
                        <a:pt x="157" y="206"/>
                      </a:lnTo>
                      <a:lnTo>
                        <a:pt x="157" y="305"/>
                      </a:lnTo>
                      <a:lnTo>
                        <a:pt x="0" y="157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2046240" y="2960640"/>
                  <a:ext cx="289080" cy="293760"/>
                </a:xfrm>
                <a:custGeom>
                  <a:avLst/>
                  <a:gdLst/>
                  <a:ahLst/>
                  <a:rect l="l" t="t" r="r" b="b"/>
                  <a:pathLst>
                    <a:path w="1088" h="1000">
                      <a:moveTo>
                        <a:pt x="157" y="0"/>
                      </a:moveTo>
                      <a:lnTo>
                        <a:pt x="157" y="128"/>
                      </a:lnTo>
                      <a:lnTo>
                        <a:pt x="409" y="128"/>
                      </a:lnTo>
                      <a:lnTo>
                        <a:pt x="540" y="392"/>
                      </a:lnTo>
                      <a:lnTo>
                        <a:pt x="679" y="128"/>
                      </a:lnTo>
                      <a:lnTo>
                        <a:pt x="932" y="128"/>
                      </a:lnTo>
                      <a:lnTo>
                        <a:pt x="932" y="0"/>
                      </a:lnTo>
                      <a:lnTo>
                        <a:pt x="1088" y="157"/>
                      </a:lnTo>
                      <a:lnTo>
                        <a:pt x="932" y="314"/>
                      </a:lnTo>
                      <a:lnTo>
                        <a:pt x="932" y="206"/>
                      </a:lnTo>
                      <a:lnTo>
                        <a:pt x="749" y="206"/>
                      </a:lnTo>
                      <a:lnTo>
                        <a:pt x="601" y="500"/>
                      </a:lnTo>
                      <a:lnTo>
                        <a:pt x="749" y="804"/>
                      </a:lnTo>
                      <a:lnTo>
                        <a:pt x="932" y="804"/>
                      </a:lnTo>
                      <a:lnTo>
                        <a:pt x="932" y="696"/>
                      </a:lnTo>
                      <a:lnTo>
                        <a:pt x="1088" y="843"/>
                      </a:lnTo>
                      <a:lnTo>
                        <a:pt x="932" y="1000"/>
                      </a:lnTo>
                      <a:lnTo>
                        <a:pt x="932" y="883"/>
                      </a:lnTo>
                      <a:lnTo>
                        <a:pt x="679" y="883"/>
                      </a:lnTo>
                      <a:lnTo>
                        <a:pt x="540" y="608"/>
                      </a:lnTo>
                      <a:lnTo>
                        <a:pt x="409" y="892"/>
                      </a:lnTo>
                      <a:lnTo>
                        <a:pt x="157" y="892"/>
                      </a:lnTo>
                      <a:lnTo>
                        <a:pt x="157" y="1000"/>
                      </a:lnTo>
                      <a:lnTo>
                        <a:pt x="0" y="843"/>
                      </a:lnTo>
                      <a:lnTo>
                        <a:pt x="157" y="696"/>
                      </a:lnTo>
                      <a:lnTo>
                        <a:pt x="157" y="804"/>
                      </a:lnTo>
                      <a:lnTo>
                        <a:pt x="330" y="804"/>
                      </a:lnTo>
                      <a:lnTo>
                        <a:pt x="487" y="500"/>
                      </a:lnTo>
                      <a:lnTo>
                        <a:pt x="330" y="206"/>
                      </a:lnTo>
                      <a:lnTo>
                        <a:pt x="157" y="206"/>
                      </a:lnTo>
                      <a:lnTo>
                        <a:pt x="157" y="304"/>
                      </a:lnTo>
                      <a:lnTo>
                        <a:pt x="0" y="157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2046240" y="2960640"/>
                  <a:ext cx="289080" cy="293760"/>
                </a:xfrm>
                <a:custGeom>
                  <a:avLst/>
                  <a:gdLst/>
                  <a:ahLst/>
                  <a:rect l="l" t="t" r="r" b="b"/>
                  <a:pathLst>
                    <a:path w="1088" h="1000">
                      <a:moveTo>
                        <a:pt x="157" y="0"/>
                      </a:moveTo>
                      <a:lnTo>
                        <a:pt x="157" y="128"/>
                      </a:lnTo>
                      <a:lnTo>
                        <a:pt x="409" y="128"/>
                      </a:lnTo>
                      <a:lnTo>
                        <a:pt x="540" y="392"/>
                      </a:lnTo>
                      <a:lnTo>
                        <a:pt x="679" y="128"/>
                      </a:lnTo>
                      <a:lnTo>
                        <a:pt x="932" y="128"/>
                      </a:lnTo>
                      <a:lnTo>
                        <a:pt x="932" y="0"/>
                      </a:lnTo>
                      <a:lnTo>
                        <a:pt x="1088" y="157"/>
                      </a:lnTo>
                      <a:lnTo>
                        <a:pt x="932" y="314"/>
                      </a:lnTo>
                      <a:lnTo>
                        <a:pt x="932" y="206"/>
                      </a:lnTo>
                      <a:lnTo>
                        <a:pt x="749" y="206"/>
                      </a:lnTo>
                      <a:lnTo>
                        <a:pt x="601" y="500"/>
                      </a:lnTo>
                      <a:lnTo>
                        <a:pt x="749" y="804"/>
                      </a:lnTo>
                      <a:lnTo>
                        <a:pt x="932" y="804"/>
                      </a:lnTo>
                      <a:lnTo>
                        <a:pt x="932" y="696"/>
                      </a:lnTo>
                      <a:lnTo>
                        <a:pt x="1088" y="843"/>
                      </a:lnTo>
                      <a:lnTo>
                        <a:pt x="932" y="1000"/>
                      </a:lnTo>
                      <a:lnTo>
                        <a:pt x="932" y="883"/>
                      </a:lnTo>
                      <a:lnTo>
                        <a:pt x="679" y="883"/>
                      </a:lnTo>
                      <a:lnTo>
                        <a:pt x="540" y="608"/>
                      </a:lnTo>
                      <a:lnTo>
                        <a:pt x="409" y="892"/>
                      </a:lnTo>
                      <a:lnTo>
                        <a:pt x="157" y="892"/>
                      </a:lnTo>
                      <a:lnTo>
                        <a:pt x="157" y="1000"/>
                      </a:lnTo>
                      <a:lnTo>
                        <a:pt x="0" y="843"/>
                      </a:lnTo>
                      <a:lnTo>
                        <a:pt x="157" y="696"/>
                      </a:lnTo>
                      <a:lnTo>
                        <a:pt x="157" y="804"/>
                      </a:lnTo>
                      <a:lnTo>
                        <a:pt x="330" y="804"/>
                      </a:lnTo>
                      <a:lnTo>
                        <a:pt x="487" y="500"/>
                      </a:lnTo>
                      <a:lnTo>
                        <a:pt x="330" y="206"/>
                      </a:lnTo>
                      <a:lnTo>
                        <a:pt x="157" y="206"/>
                      </a:lnTo>
                      <a:lnTo>
                        <a:pt x="157" y="304"/>
                      </a:lnTo>
                      <a:lnTo>
                        <a:pt x="0" y="157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3" name=""/>
            <p:cNvGrpSpPr/>
            <p:nvPr/>
          </p:nvGrpSpPr>
          <p:grpSpPr>
            <a:xfrm>
              <a:off x="4495680" y="3657600"/>
              <a:ext cx="436680" cy="379440"/>
              <a:chOff x="4495680" y="3657600"/>
              <a:chExt cx="436680" cy="379440"/>
            </a:xfrm>
          </p:grpSpPr>
          <p:sp>
            <p:nvSpPr>
              <p:cNvPr id="1594" name=""/>
              <p:cNvSpPr/>
              <p:nvPr/>
            </p:nvSpPr>
            <p:spPr>
              <a:xfrm>
                <a:off x="4495680" y="3657600"/>
                <a:ext cx="436680" cy="379440"/>
              </a:xfrm>
              <a:prstGeom prst="rect">
                <a:avLst/>
              </a:prstGeom>
              <a:solidFill>
                <a:srgbClr val="00cc99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5" name=""/>
              <p:cNvGrpSpPr/>
              <p:nvPr/>
            </p:nvGrpSpPr>
            <p:grpSpPr>
              <a:xfrm>
                <a:off x="4557960" y="3720600"/>
                <a:ext cx="291960" cy="295920"/>
                <a:chOff x="4557960" y="3720600"/>
                <a:chExt cx="291960" cy="295920"/>
              </a:xfrm>
            </p:grpSpPr>
            <p:sp>
              <p:nvSpPr>
                <p:cNvPr id="1596" name=""/>
                <p:cNvSpPr/>
                <p:nvPr/>
              </p:nvSpPr>
              <p:spPr>
                <a:xfrm>
                  <a:off x="4557960" y="3720600"/>
                  <a:ext cx="290160" cy="292320"/>
                </a:xfrm>
                <a:custGeom>
                  <a:avLst/>
                  <a:gdLst/>
                  <a:ahLst/>
                  <a:rect l="l" t="t" r="r" b="b"/>
                  <a:pathLst>
                    <a:path w="1087" h="1001">
                      <a:moveTo>
                        <a:pt x="157" y="0"/>
                      </a:moveTo>
                      <a:lnTo>
                        <a:pt x="157" y="128"/>
                      </a:lnTo>
                      <a:lnTo>
                        <a:pt x="408" y="128"/>
                      </a:lnTo>
                      <a:lnTo>
                        <a:pt x="539" y="392"/>
                      </a:lnTo>
                      <a:lnTo>
                        <a:pt x="678" y="128"/>
                      </a:lnTo>
                      <a:lnTo>
                        <a:pt x="931" y="128"/>
                      </a:lnTo>
                      <a:lnTo>
                        <a:pt x="931" y="0"/>
                      </a:lnTo>
                      <a:lnTo>
                        <a:pt x="1087" y="157"/>
                      </a:lnTo>
                      <a:lnTo>
                        <a:pt x="931" y="314"/>
                      </a:lnTo>
                      <a:lnTo>
                        <a:pt x="931" y="206"/>
                      </a:lnTo>
                      <a:lnTo>
                        <a:pt x="748" y="206"/>
                      </a:lnTo>
                      <a:lnTo>
                        <a:pt x="600" y="500"/>
                      </a:lnTo>
                      <a:lnTo>
                        <a:pt x="748" y="804"/>
                      </a:lnTo>
                      <a:lnTo>
                        <a:pt x="931" y="804"/>
                      </a:lnTo>
                      <a:lnTo>
                        <a:pt x="931" y="696"/>
                      </a:lnTo>
                      <a:lnTo>
                        <a:pt x="1087" y="844"/>
                      </a:lnTo>
                      <a:lnTo>
                        <a:pt x="931" y="1001"/>
                      </a:lnTo>
                      <a:lnTo>
                        <a:pt x="931" y="883"/>
                      </a:lnTo>
                      <a:lnTo>
                        <a:pt x="678" y="883"/>
                      </a:lnTo>
                      <a:lnTo>
                        <a:pt x="539" y="608"/>
                      </a:lnTo>
                      <a:lnTo>
                        <a:pt x="408" y="893"/>
                      </a:lnTo>
                      <a:lnTo>
                        <a:pt x="157" y="893"/>
                      </a:lnTo>
                      <a:lnTo>
                        <a:pt x="157" y="1001"/>
                      </a:lnTo>
                      <a:lnTo>
                        <a:pt x="0" y="844"/>
                      </a:lnTo>
                      <a:lnTo>
                        <a:pt x="157" y="696"/>
                      </a:lnTo>
                      <a:lnTo>
                        <a:pt x="157" y="804"/>
                      </a:lnTo>
                      <a:lnTo>
                        <a:pt x="330" y="804"/>
                      </a:lnTo>
                      <a:lnTo>
                        <a:pt x="487" y="500"/>
                      </a:lnTo>
                      <a:lnTo>
                        <a:pt x="330" y="206"/>
                      </a:lnTo>
                      <a:lnTo>
                        <a:pt x="157" y="206"/>
                      </a:lnTo>
                      <a:lnTo>
                        <a:pt x="157" y="305"/>
                      </a:lnTo>
                      <a:lnTo>
                        <a:pt x="0" y="157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4557960" y="3720600"/>
                  <a:ext cx="290160" cy="292320"/>
                </a:xfrm>
                <a:custGeom>
                  <a:avLst/>
                  <a:gdLst/>
                  <a:ahLst/>
                  <a:rect l="l" t="t" r="r" b="b"/>
                  <a:pathLst>
                    <a:path w="1087" h="1001">
                      <a:moveTo>
                        <a:pt x="157" y="0"/>
                      </a:moveTo>
                      <a:lnTo>
                        <a:pt x="157" y="128"/>
                      </a:lnTo>
                      <a:lnTo>
                        <a:pt x="408" y="128"/>
                      </a:lnTo>
                      <a:lnTo>
                        <a:pt x="539" y="392"/>
                      </a:lnTo>
                      <a:lnTo>
                        <a:pt x="678" y="128"/>
                      </a:lnTo>
                      <a:lnTo>
                        <a:pt x="931" y="128"/>
                      </a:lnTo>
                      <a:lnTo>
                        <a:pt x="931" y="0"/>
                      </a:lnTo>
                      <a:lnTo>
                        <a:pt x="1087" y="157"/>
                      </a:lnTo>
                      <a:lnTo>
                        <a:pt x="931" y="314"/>
                      </a:lnTo>
                      <a:lnTo>
                        <a:pt x="931" y="206"/>
                      </a:lnTo>
                      <a:lnTo>
                        <a:pt x="748" y="206"/>
                      </a:lnTo>
                      <a:lnTo>
                        <a:pt x="600" y="500"/>
                      </a:lnTo>
                      <a:lnTo>
                        <a:pt x="748" y="804"/>
                      </a:lnTo>
                      <a:lnTo>
                        <a:pt x="931" y="804"/>
                      </a:lnTo>
                      <a:lnTo>
                        <a:pt x="931" y="696"/>
                      </a:lnTo>
                      <a:lnTo>
                        <a:pt x="1087" y="844"/>
                      </a:lnTo>
                      <a:lnTo>
                        <a:pt x="931" y="1001"/>
                      </a:lnTo>
                      <a:lnTo>
                        <a:pt x="931" y="883"/>
                      </a:lnTo>
                      <a:lnTo>
                        <a:pt x="678" y="883"/>
                      </a:lnTo>
                      <a:lnTo>
                        <a:pt x="539" y="608"/>
                      </a:lnTo>
                      <a:lnTo>
                        <a:pt x="408" y="893"/>
                      </a:lnTo>
                      <a:lnTo>
                        <a:pt x="157" y="893"/>
                      </a:lnTo>
                      <a:lnTo>
                        <a:pt x="157" y="1001"/>
                      </a:lnTo>
                      <a:lnTo>
                        <a:pt x="0" y="844"/>
                      </a:lnTo>
                      <a:lnTo>
                        <a:pt x="157" y="696"/>
                      </a:lnTo>
                      <a:lnTo>
                        <a:pt x="157" y="804"/>
                      </a:lnTo>
                      <a:lnTo>
                        <a:pt x="330" y="804"/>
                      </a:lnTo>
                      <a:lnTo>
                        <a:pt x="487" y="500"/>
                      </a:lnTo>
                      <a:lnTo>
                        <a:pt x="330" y="206"/>
                      </a:lnTo>
                      <a:lnTo>
                        <a:pt x="157" y="206"/>
                      </a:lnTo>
                      <a:lnTo>
                        <a:pt x="157" y="305"/>
                      </a:lnTo>
                      <a:lnTo>
                        <a:pt x="0" y="157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4560840" y="3722760"/>
                  <a:ext cx="289080" cy="293760"/>
                </a:xfrm>
                <a:custGeom>
                  <a:avLst/>
                  <a:gdLst/>
                  <a:ahLst/>
                  <a:rect l="l" t="t" r="r" b="b"/>
                  <a:pathLst>
                    <a:path w="1088" h="1000">
                      <a:moveTo>
                        <a:pt x="157" y="0"/>
                      </a:moveTo>
                      <a:lnTo>
                        <a:pt x="157" y="128"/>
                      </a:lnTo>
                      <a:lnTo>
                        <a:pt x="409" y="128"/>
                      </a:lnTo>
                      <a:lnTo>
                        <a:pt x="540" y="392"/>
                      </a:lnTo>
                      <a:lnTo>
                        <a:pt x="679" y="128"/>
                      </a:lnTo>
                      <a:lnTo>
                        <a:pt x="932" y="128"/>
                      </a:lnTo>
                      <a:lnTo>
                        <a:pt x="932" y="0"/>
                      </a:lnTo>
                      <a:lnTo>
                        <a:pt x="1088" y="157"/>
                      </a:lnTo>
                      <a:lnTo>
                        <a:pt x="932" y="314"/>
                      </a:lnTo>
                      <a:lnTo>
                        <a:pt x="932" y="206"/>
                      </a:lnTo>
                      <a:lnTo>
                        <a:pt x="749" y="206"/>
                      </a:lnTo>
                      <a:lnTo>
                        <a:pt x="601" y="500"/>
                      </a:lnTo>
                      <a:lnTo>
                        <a:pt x="749" y="804"/>
                      </a:lnTo>
                      <a:lnTo>
                        <a:pt x="932" y="804"/>
                      </a:lnTo>
                      <a:lnTo>
                        <a:pt x="932" y="696"/>
                      </a:lnTo>
                      <a:lnTo>
                        <a:pt x="1088" y="843"/>
                      </a:lnTo>
                      <a:lnTo>
                        <a:pt x="932" y="1000"/>
                      </a:lnTo>
                      <a:lnTo>
                        <a:pt x="932" y="883"/>
                      </a:lnTo>
                      <a:lnTo>
                        <a:pt x="679" y="883"/>
                      </a:lnTo>
                      <a:lnTo>
                        <a:pt x="540" y="608"/>
                      </a:lnTo>
                      <a:lnTo>
                        <a:pt x="409" y="892"/>
                      </a:lnTo>
                      <a:lnTo>
                        <a:pt x="157" y="892"/>
                      </a:lnTo>
                      <a:lnTo>
                        <a:pt x="157" y="1000"/>
                      </a:lnTo>
                      <a:lnTo>
                        <a:pt x="0" y="843"/>
                      </a:lnTo>
                      <a:lnTo>
                        <a:pt x="157" y="696"/>
                      </a:lnTo>
                      <a:lnTo>
                        <a:pt x="157" y="804"/>
                      </a:lnTo>
                      <a:lnTo>
                        <a:pt x="330" y="804"/>
                      </a:lnTo>
                      <a:lnTo>
                        <a:pt x="487" y="500"/>
                      </a:lnTo>
                      <a:lnTo>
                        <a:pt x="330" y="206"/>
                      </a:lnTo>
                      <a:lnTo>
                        <a:pt x="157" y="206"/>
                      </a:lnTo>
                      <a:lnTo>
                        <a:pt x="157" y="304"/>
                      </a:lnTo>
                      <a:lnTo>
                        <a:pt x="0" y="157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4560840" y="3722760"/>
                  <a:ext cx="289080" cy="293760"/>
                </a:xfrm>
                <a:custGeom>
                  <a:avLst/>
                  <a:gdLst/>
                  <a:ahLst/>
                  <a:rect l="l" t="t" r="r" b="b"/>
                  <a:pathLst>
                    <a:path w="1088" h="1000">
                      <a:moveTo>
                        <a:pt x="157" y="0"/>
                      </a:moveTo>
                      <a:lnTo>
                        <a:pt x="157" y="128"/>
                      </a:lnTo>
                      <a:lnTo>
                        <a:pt x="409" y="128"/>
                      </a:lnTo>
                      <a:lnTo>
                        <a:pt x="540" y="392"/>
                      </a:lnTo>
                      <a:lnTo>
                        <a:pt x="679" y="128"/>
                      </a:lnTo>
                      <a:lnTo>
                        <a:pt x="932" y="128"/>
                      </a:lnTo>
                      <a:lnTo>
                        <a:pt x="932" y="0"/>
                      </a:lnTo>
                      <a:lnTo>
                        <a:pt x="1088" y="157"/>
                      </a:lnTo>
                      <a:lnTo>
                        <a:pt x="932" y="314"/>
                      </a:lnTo>
                      <a:lnTo>
                        <a:pt x="932" y="206"/>
                      </a:lnTo>
                      <a:lnTo>
                        <a:pt x="749" y="206"/>
                      </a:lnTo>
                      <a:lnTo>
                        <a:pt x="601" y="500"/>
                      </a:lnTo>
                      <a:lnTo>
                        <a:pt x="749" y="804"/>
                      </a:lnTo>
                      <a:lnTo>
                        <a:pt x="932" y="804"/>
                      </a:lnTo>
                      <a:lnTo>
                        <a:pt x="932" y="696"/>
                      </a:lnTo>
                      <a:lnTo>
                        <a:pt x="1088" y="843"/>
                      </a:lnTo>
                      <a:lnTo>
                        <a:pt x="932" y="1000"/>
                      </a:lnTo>
                      <a:lnTo>
                        <a:pt x="932" y="883"/>
                      </a:lnTo>
                      <a:lnTo>
                        <a:pt x="679" y="883"/>
                      </a:lnTo>
                      <a:lnTo>
                        <a:pt x="540" y="608"/>
                      </a:lnTo>
                      <a:lnTo>
                        <a:pt x="409" y="892"/>
                      </a:lnTo>
                      <a:lnTo>
                        <a:pt x="157" y="892"/>
                      </a:lnTo>
                      <a:lnTo>
                        <a:pt x="157" y="1000"/>
                      </a:lnTo>
                      <a:lnTo>
                        <a:pt x="0" y="843"/>
                      </a:lnTo>
                      <a:lnTo>
                        <a:pt x="157" y="696"/>
                      </a:lnTo>
                      <a:lnTo>
                        <a:pt x="157" y="804"/>
                      </a:lnTo>
                      <a:lnTo>
                        <a:pt x="330" y="804"/>
                      </a:lnTo>
                      <a:lnTo>
                        <a:pt x="487" y="500"/>
                      </a:lnTo>
                      <a:lnTo>
                        <a:pt x="330" y="206"/>
                      </a:lnTo>
                      <a:lnTo>
                        <a:pt x="157" y="206"/>
                      </a:lnTo>
                      <a:lnTo>
                        <a:pt x="157" y="304"/>
                      </a:lnTo>
                      <a:lnTo>
                        <a:pt x="0" y="157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0" name=""/>
            <p:cNvGrpSpPr/>
            <p:nvPr/>
          </p:nvGrpSpPr>
          <p:grpSpPr>
            <a:xfrm>
              <a:off x="7010280" y="2971800"/>
              <a:ext cx="436680" cy="379440"/>
              <a:chOff x="7010280" y="2971800"/>
              <a:chExt cx="436680" cy="379440"/>
            </a:xfrm>
          </p:grpSpPr>
          <p:sp>
            <p:nvSpPr>
              <p:cNvPr id="1601" name=""/>
              <p:cNvSpPr/>
              <p:nvPr/>
            </p:nvSpPr>
            <p:spPr>
              <a:xfrm>
                <a:off x="7010280" y="2971800"/>
                <a:ext cx="436680" cy="379440"/>
              </a:xfrm>
              <a:prstGeom prst="rect">
                <a:avLst/>
              </a:prstGeom>
              <a:solidFill>
                <a:srgbClr val="00cc99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2" name=""/>
              <p:cNvGrpSpPr/>
              <p:nvPr/>
            </p:nvGrpSpPr>
            <p:grpSpPr>
              <a:xfrm>
                <a:off x="7072560" y="3034800"/>
                <a:ext cx="291960" cy="295920"/>
                <a:chOff x="7072560" y="3034800"/>
                <a:chExt cx="291960" cy="295920"/>
              </a:xfrm>
            </p:grpSpPr>
            <p:sp>
              <p:nvSpPr>
                <p:cNvPr id="1603" name=""/>
                <p:cNvSpPr/>
                <p:nvPr/>
              </p:nvSpPr>
              <p:spPr>
                <a:xfrm>
                  <a:off x="7072560" y="3034800"/>
                  <a:ext cx="290160" cy="292320"/>
                </a:xfrm>
                <a:custGeom>
                  <a:avLst/>
                  <a:gdLst/>
                  <a:ahLst/>
                  <a:rect l="l" t="t" r="r" b="b"/>
                  <a:pathLst>
                    <a:path w="1087" h="1001">
                      <a:moveTo>
                        <a:pt x="157" y="0"/>
                      </a:moveTo>
                      <a:lnTo>
                        <a:pt x="157" y="128"/>
                      </a:lnTo>
                      <a:lnTo>
                        <a:pt x="408" y="128"/>
                      </a:lnTo>
                      <a:lnTo>
                        <a:pt x="539" y="392"/>
                      </a:lnTo>
                      <a:lnTo>
                        <a:pt x="678" y="128"/>
                      </a:lnTo>
                      <a:lnTo>
                        <a:pt x="931" y="128"/>
                      </a:lnTo>
                      <a:lnTo>
                        <a:pt x="931" y="0"/>
                      </a:lnTo>
                      <a:lnTo>
                        <a:pt x="1087" y="157"/>
                      </a:lnTo>
                      <a:lnTo>
                        <a:pt x="931" y="314"/>
                      </a:lnTo>
                      <a:lnTo>
                        <a:pt x="931" y="206"/>
                      </a:lnTo>
                      <a:lnTo>
                        <a:pt x="748" y="206"/>
                      </a:lnTo>
                      <a:lnTo>
                        <a:pt x="600" y="500"/>
                      </a:lnTo>
                      <a:lnTo>
                        <a:pt x="748" y="804"/>
                      </a:lnTo>
                      <a:lnTo>
                        <a:pt x="931" y="804"/>
                      </a:lnTo>
                      <a:lnTo>
                        <a:pt x="931" y="696"/>
                      </a:lnTo>
                      <a:lnTo>
                        <a:pt x="1087" y="844"/>
                      </a:lnTo>
                      <a:lnTo>
                        <a:pt x="931" y="1001"/>
                      </a:lnTo>
                      <a:lnTo>
                        <a:pt x="931" y="883"/>
                      </a:lnTo>
                      <a:lnTo>
                        <a:pt x="678" y="883"/>
                      </a:lnTo>
                      <a:lnTo>
                        <a:pt x="539" y="608"/>
                      </a:lnTo>
                      <a:lnTo>
                        <a:pt x="408" y="893"/>
                      </a:lnTo>
                      <a:lnTo>
                        <a:pt x="157" y="893"/>
                      </a:lnTo>
                      <a:lnTo>
                        <a:pt x="157" y="1001"/>
                      </a:lnTo>
                      <a:lnTo>
                        <a:pt x="0" y="844"/>
                      </a:lnTo>
                      <a:lnTo>
                        <a:pt x="157" y="696"/>
                      </a:lnTo>
                      <a:lnTo>
                        <a:pt x="157" y="804"/>
                      </a:lnTo>
                      <a:lnTo>
                        <a:pt x="330" y="804"/>
                      </a:lnTo>
                      <a:lnTo>
                        <a:pt x="487" y="500"/>
                      </a:lnTo>
                      <a:lnTo>
                        <a:pt x="330" y="206"/>
                      </a:lnTo>
                      <a:lnTo>
                        <a:pt x="157" y="206"/>
                      </a:lnTo>
                      <a:lnTo>
                        <a:pt x="157" y="305"/>
                      </a:lnTo>
                      <a:lnTo>
                        <a:pt x="0" y="157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7072560" y="3034800"/>
                  <a:ext cx="290160" cy="292320"/>
                </a:xfrm>
                <a:custGeom>
                  <a:avLst/>
                  <a:gdLst/>
                  <a:ahLst/>
                  <a:rect l="l" t="t" r="r" b="b"/>
                  <a:pathLst>
                    <a:path w="1087" h="1001">
                      <a:moveTo>
                        <a:pt x="157" y="0"/>
                      </a:moveTo>
                      <a:lnTo>
                        <a:pt x="157" y="128"/>
                      </a:lnTo>
                      <a:lnTo>
                        <a:pt x="408" y="128"/>
                      </a:lnTo>
                      <a:lnTo>
                        <a:pt x="539" y="392"/>
                      </a:lnTo>
                      <a:lnTo>
                        <a:pt x="678" y="128"/>
                      </a:lnTo>
                      <a:lnTo>
                        <a:pt x="931" y="128"/>
                      </a:lnTo>
                      <a:lnTo>
                        <a:pt x="931" y="0"/>
                      </a:lnTo>
                      <a:lnTo>
                        <a:pt x="1087" y="157"/>
                      </a:lnTo>
                      <a:lnTo>
                        <a:pt x="931" y="314"/>
                      </a:lnTo>
                      <a:lnTo>
                        <a:pt x="931" y="206"/>
                      </a:lnTo>
                      <a:lnTo>
                        <a:pt x="748" y="206"/>
                      </a:lnTo>
                      <a:lnTo>
                        <a:pt x="600" y="500"/>
                      </a:lnTo>
                      <a:lnTo>
                        <a:pt x="748" y="804"/>
                      </a:lnTo>
                      <a:lnTo>
                        <a:pt x="931" y="804"/>
                      </a:lnTo>
                      <a:lnTo>
                        <a:pt x="931" y="696"/>
                      </a:lnTo>
                      <a:lnTo>
                        <a:pt x="1087" y="844"/>
                      </a:lnTo>
                      <a:lnTo>
                        <a:pt x="931" y="1001"/>
                      </a:lnTo>
                      <a:lnTo>
                        <a:pt x="931" y="883"/>
                      </a:lnTo>
                      <a:lnTo>
                        <a:pt x="678" y="883"/>
                      </a:lnTo>
                      <a:lnTo>
                        <a:pt x="539" y="608"/>
                      </a:lnTo>
                      <a:lnTo>
                        <a:pt x="408" y="893"/>
                      </a:lnTo>
                      <a:lnTo>
                        <a:pt x="157" y="893"/>
                      </a:lnTo>
                      <a:lnTo>
                        <a:pt x="157" y="1001"/>
                      </a:lnTo>
                      <a:lnTo>
                        <a:pt x="0" y="844"/>
                      </a:lnTo>
                      <a:lnTo>
                        <a:pt x="157" y="696"/>
                      </a:lnTo>
                      <a:lnTo>
                        <a:pt x="157" y="804"/>
                      </a:lnTo>
                      <a:lnTo>
                        <a:pt x="330" y="804"/>
                      </a:lnTo>
                      <a:lnTo>
                        <a:pt x="487" y="500"/>
                      </a:lnTo>
                      <a:lnTo>
                        <a:pt x="330" y="206"/>
                      </a:lnTo>
                      <a:lnTo>
                        <a:pt x="157" y="206"/>
                      </a:lnTo>
                      <a:lnTo>
                        <a:pt x="157" y="305"/>
                      </a:lnTo>
                      <a:lnTo>
                        <a:pt x="0" y="157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7075440" y="3036960"/>
                  <a:ext cx="289080" cy="293760"/>
                </a:xfrm>
                <a:custGeom>
                  <a:avLst/>
                  <a:gdLst/>
                  <a:ahLst/>
                  <a:rect l="l" t="t" r="r" b="b"/>
                  <a:pathLst>
                    <a:path w="1088" h="1000">
                      <a:moveTo>
                        <a:pt x="157" y="0"/>
                      </a:moveTo>
                      <a:lnTo>
                        <a:pt x="157" y="128"/>
                      </a:lnTo>
                      <a:lnTo>
                        <a:pt x="409" y="128"/>
                      </a:lnTo>
                      <a:lnTo>
                        <a:pt x="540" y="392"/>
                      </a:lnTo>
                      <a:lnTo>
                        <a:pt x="679" y="128"/>
                      </a:lnTo>
                      <a:lnTo>
                        <a:pt x="932" y="128"/>
                      </a:lnTo>
                      <a:lnTo>
                        <a:pt x="932" y="0"/>
                      </a:lnTo>
                      <a:lnTo>
                        <a:pt x="1088" y="157"/>
                      </a:lnTo>
                      <a:lnTo>
                        <a:pt x="932" y="314"/>
                      </a:lnTo>
                      <a:lnTo>
                        <a:pt x="932" y="206"/>
                      </a:lnTo>
                      <a:lnTo>
                        <a:pt x="749" y="206"/>
                      </a:lnTo>
                      <a:lnTo>
                        <a:pt x="601" y="500"/>
                      </a:lnTo>
                      <a:lnTo>
                        <a:pt x="749" y="804"/>
                      </a:lnTo>
                      <a:lnTo>
                        <a:pt x="932" y="804"/>
                      </a:lnTo>
                      <a:lnTo>
                        <a:pt x="932" y="696"/>
                      </a:lnTo>
                      <a:lnTo>
                        <a:pt x="1088" y="843"/>
                      </a:lnTo>
                      <a:lnTo>
                        <a:pt x="932" y="1000"/>
                      </a:lnTo>
                      <a:lnTo>
                        <a:pt x="932" y="883"/>
                      </a:lnTo>
                      <a:lnTo>
                        <a:pt x="679" y="883"/>
                      </a:lnTo>
                      <a:lnTo>
                        <a:pt x="540" y="608"/>
                      </a:lnTo>
                      <a:lnTo>
                        <a:pt x="409" y="892"/>
                      </a:lnTo>
                      <a:lnTo>
                        <a:pt x="157" y="892"/>
                      </a:lnTo>
                      <a:lnTo>
                        <a:pt x="157" y="1000"/>
                      </a:lnTo>
                      <a:lnTo>
                        <a:pt x="0" y="843"/>
                      </a:lnTo>
                      <a:lnTo>
                        <a:pt x="157" y="696"/>
                      </a:lnTo>
                      <a:lnTo>
                        <a:pt x="157" y="804"/>
                      </a:lnTo>
                      <a:lnTo>
                        <a:pt x="330" y="804"/>
                      </a:lnTo>
                      <a:lnTo>
                        <a:pt x="487" y="500"/>
                      </a:lnTo>
                      <a:lnTo>
                        <a:pt x="330" y="206"/>
                      </a:lnTo>
                      <a:lnTo>
                        <a:pt x="157" y="206"/>
                      </a:lnTo>
                      <a:lnTo>
                        <a:pt x="157" y="304"/>
                      </a:lnTo>
                      <a:lnTo>
                        <a:pt x="0" y="157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7075440" y="3036960"/>
                  <a:ext cx="289080" cy="293760"/>
                </a:xfrm>
                <a:custGeom>
                  <a:avLst/>
                  <a:gdLst/>
                  <a:ahLst/>
                  <a:rect l="l" t="t" r="r" b="b"/>
                  <a:pathLst>
                    <a:path w="1088" h="1000">
                      <a:moveTo>
                        <a:pt x="157" y="0"/>
                      </a:moveTo>
                      <a:lnTo>
                        <a:pt x="157" y="128"/>
                      </a:lnTo>
                      <a:lnTo>
                        <a:pt x="409" y="128"/>
                      </a:lnTo>
                      <a:lnTo>
                        <a:pt x="540" y="392"/>
                      </a:lnTo>
                      <a:lnTo>
                        <a:pt x="679" y="128"/>
                      </a:lnTo>
                      <a:lnTo>
                        <a:pt x="932" y="128"/>
                      </a:lnTo>
                      <a:lnTo>
                        <a:pt x="932" y="0"/>
                      </a:lnTo>
                      <a:lnTo>
                        <a:pt x="1088" y="157"/>
                      </a:lnTo>
                      <a:lnTo>
                        <a:pt x="932" y="314"/>
                      </a:lnTo>
                      <a:lnTo>
                        <a:pt x="932" y="206"/>
                      </a:lnTo>
                      <a:lnTo>
                        <a:pt x="749" y="206"/>
                      </a:lnTo>
                      <a:lnTo>
                        <a:pt x="601" y="500"/>
                      </a:lnTo>
                      <a:lnTo>
                        <a:pt x="749" y="804"/>
                      </a:lnTo>
                      <a:lnTo>
                        <a:pt x="932" y="804"/>
                      </a:lnTo>
                      <a:lnTo>
                        <a:pt x="932" y="696"/>
                      </a:lnTo>
                      <a:lnTo>
                        <a:pt x="1088" y="843"/>
                      </a:lnTo>
                      <a:lnTo>
                        <a:pt x="932" y="1000"/>
                      </a:lnTo>
                      <a:lnTo>
                        <a:pt x="932" y="883"/>
                      </a:lnTo>
                      <a:lnTo>
                        <a:pt x="679" y="883"/>
                      </a:lnTo>
                      <a:lnTo>
                        <a:pt x="540" y="608"/>
                      </a:lnTo>
                      <a:lnTo>
                        <a:pt x="409" y="892"/>
                      </a:lnTo>
                      <a:lnTo>
                        <a:pt x="157" y="892"/>
                      </a:lnTo>
                      <a:lnTo>
                        <a:pt x="157" y="1000"/>
                      </a:lnTo>
                      <a:lnTo>
                        <a:pt x="0" y="843"/>
                      </a:lnTo>
                      <a:lnTo>
                        <a:pt x="157" y="696"/>
                      </a:lnTo>
                      <a:lnTo>
                        <a:pt x="157" y="804"/>
                      </a:lnTo>
                      <a:lnTo>
                        <a:pt x="330" y="804"/>
                      </a:lnTo>
                      <a:lnTo>
                        <a:pt x="487" y="500"/>
                      </a:lnTo>
                      <a:lnTo>
                        <a:pt x="330" y="206"/>
                      </a:lnTo>
                      <a:lnTo>
                        <a:pt x="157" y="206"/>
                      </a:lnTo>
                      <a:lnTo>
                        <a:pt x="157" y="304"/>
                      </a:lnTo>
                      <a:lnTo>
                        <a:pt x="0" y="157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07" name=""/>
          <p:cNvGrpSpPr/>
          <p:nvPr/>
        </p:nvGrpSpPr>
        <p:grpSpPr>
          <a:xfrm>
            <a:off x="533520" y="914400"/>
            <a:ext cx="8076600" cy="5715000"/>
            <a:chOff x="533520" y="914400"/>
            <a:chExt cx="8076600" cy="5715000"/>
          </a:xfrm>
        </p:grpSpPr>
        <p:sp>
          <p:nvSpPr>
            <p:cNvPr id="1608" name=""/>
            <p:cNvSpPr/>
            <p:nvPr/>
          </p:nvSpPr>
          <p:spPr>
            <a:xfrm>
              <a:off x="3124080" y="914400"/>
              <a:ext cx="3504600" cy="236232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581280" y="4267440"/>
              <a:ext cx="1904400" cy="236196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705360" y="3810240"/>
              <a:ext cx="1904760" cy="236196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33520" y="3505320"/>
              <a:ext cx="1904760" cy="236232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691A1-70C4-476B-9D89-F1435936130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Tying it All Together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All-Optical Island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613" name=""/>
          <p:cNvSpPr/>
          <p:nvPr/>
        </p:nvSpPr>
        <p:spPr>
          <a:xfrm>
            <a:off x="3429000" y="2209680"/>
            <a:ext cx="1447920" cy="5335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V="1">
            <a:off x="3505320" y="1523880"/>
            <a:ext cx="1295280" cy="5335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5028840" y="1981080"/>
            <a:ext cx="1143000" cy="91440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657600" y="2057400"/>
            <a:ext cx="251460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 flipV="1">
            <a:off x="5028840" y="1523520"/>
            <a:ext cx="1143000" cy="3049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648320" y="1219320"/>
            <a:ext cx="3808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943600" y="1600200"/>
            <a:ext cx="3808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162920" y="4267080"/>
            <a:ext cx="990360" cy="152424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353360" y="5638680"/>
            <a:ext cx="3049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990720" y="3962520"/>
            <a:ext cx="990360" cy="152388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181160" y="533412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V="1">
            <a:off x="2286000" y="2285640"/>
            <a:ext cx="1143000" cy="68580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1447920" y="3276720"/>
            <a:ext cx="685800" cy="76176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 flipV="1">
            <a:off x="2361960" y="3123720"/>
            <a:ext cx="1981080" cy="160020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4952880" y="3047760"/>
            <a:ext cx="0" cy="60948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V="1">
            <a:off x="4419720" y="3809880"/>
            <a:ext cx="380880" cy="91440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 flipV="1">
            <a:off x="6171840" y="2057400"/>
            <a:ext cx="1143000" cy="9907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H="1" flipV="1">
            <a:off x="7314840" y="3200040"/>
            <a:ext cx="304920" cy="114300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V="1">
            <a:off x="4952880" y="3124080"/>
            <a:ext cx="2210040" cy="60984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00600" y="2514600"/>
            <a:ext cx="3808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276720" y="1905120"/>
            <a:ext cx="3808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4" name=""/>
          <p:cNvGrpSpPr/>
          <p:nvPr/>
        </p:nvGrpSpPr>
        <p:grpSpPr>
          <a:xfrm>
            <a:off x="3809880" y="4572000"/>
            <a:ext cx="1295640" cy="1904760"/>
            <a:chOff x="3809880" y="4572000"/>
            <a:chExt cx="1295640" cy="1904760"/>
          </a:xfrm>
        </p:grpSpPr>
        <p:sp>
          <p:nvSpPr>
            <p:cNvPr id="1635" name=""/>
            <p:cNvSpPr/>
            <p:nvPr/>
          </p:nvSpPr>
          <p:spPr>
            <a:xfrm>
              <a:off x="4038480" y="4724280"/>
              <a:ext cx="990720" cy="152388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229280" y="4572000"/>
              <a:ext cx="3045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809880" y="5333760"/>
              <a:ext cx="304920" cy="38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800600" y="5333760"/>
              <a:ext cx="304920" cy="38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229280" y="6095880"/>
              <a:ext cx="3045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7353360" y="4114800"/>
            <a:ext cx="304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181160" y="3809880"/>
            <a:ext cx="3049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2" name=""/>
          <p:cNvGrpSpPr/>
          <p:nvPr/>
        </p:nvGrpSpPr>
        <p:grpSpPr>
          <a:xfrm>
            <a:off x="1981080" y="2895480"/>
            <a:ext cx="436680" cy="379440"/>
            <a:chOff x="1981080" y="2895480"/>
            <a:chExt cx="436680" cy="379440"/>
          </a:xfrm>
        </p:grpSpPr>
        <p:sp>
          <p:nvSpPr>
            <p:cNvPr id="1643" name=""/>
            <p:cNvSpPr/>
            <p:nvPr/>
          </p:nvSpPr>
          <p:spPr>
            <a:xfrm>
              <a:off x="1981080" y="2895480"/>
              <a:ext cx="436680" cy="379440"/>
            </a:xfrm>
            <a:prstGeom prst="rect">
              <a:avLst/>
            </a:prstGeom>
            <a:solidFill>
              <a:srgbClr val="00cc99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4" name=""/>
            <p:cNvGrpSpPr/>
            <p:nvPr/>
          </p:nvGrpSpPr>
          <p:grpSpPr>
            <a:xfrm>
              <a:off x="2043360" y="2958480"/>
              <a:ext cx="291960" cy="295920"/>
              <a:chOff x="2043360" y="2958480"/>
              <a:chExt cx="291960" cy="295920"/>
            </a:xfrm>
          </p:grpSpPr>
          <p:sp>
            <p:nvSpPr>
              <p:cNvPr id="1645" name=""/>
              <p:cNvSpPr/>
              <p:nvPr/>
            </p:nvSpPr>
            <p:spPr>
              <a:xfrm>
                <a:off x="2043360" y="2958480"/>
                <a:ext cx="290160" cy="292320"/>
              </a:xfrm>
              <a:custGeom>
                <a:avLst/>
                <a:gdLst/>
                <a:ahLst/>
                <a:rect l="l" t="t" r="r" b="b"/>
                <a:pathLst>
                  <a:path w="1087" h="1001">
                    <a:moveTo>
                      <a:pt x="157" y="0"/>
                    </a:moveTo>
                    <a:lnTo>
                      <a:pt x="157" y="128"/>
                    </a:lnTo>
                    <a:lnTo>
                      <a:pt x="408" y="128"/>
                    </a:lnTo>
                    <a:lnTo>
                      <a:pt x="539" y="392"/>
                    </a:lnTo>
                    <a:lnTo>
                      <a:pt x="678" y="128"/>
                    </a:lnTo>
                    <a:lnTo>
                      <a:pt x="931" y="128"/>
                    </a:lnTo>
                    <a:lnTo>
                      <a:pt x="931" y="0"/>
                    </a:lnTo>
                    <a:lnTo>
                      <a:pt x="1087" y="157"/>
                    </a:lnTo>
                    <a:lnTo>
                      <a:pt x="931" y="314"/>
                    </a:lnTo>
                    <a:lnTo>
                      <a:pt x="931" y="206"/>
                    </a:lnTo>
                    <a:lnTo>
                      <a:pt x="748" y="206"/>
                    </a:lnTo>
                    <a:lnTo>
                      <a:pt x="600" y="500"/>
                    </a:lnTo>
                    <a:lnTo>
                      <a:pt x="748" y="804"/>
                    </a:lnTo>
                    <a:lnTo>
                      <a:pt x="931" y="804"/>
                    </a:lnTo>
                    <a:lnTo>
                      <a:pt x="931" y="696"/>
                    </a:lnTo>
                    <a:lnTo>
                      <a:pt x="1087" y="844"/>
                    </a:lnTo>
                    <a:lnTo>
                      <a:pt x="931" y="1001"/>
                    </a:lnTo>
                    <a:lnTo>
                      <a:pt x="931" y="883"/>
                    </a:lnTo>
                    <a:lnTo>
                      <a:pt x="678" y="883"/>
                    </a:lnTo>
                    <a:lnTo>
                      <a:pt x="539" y="608"/>
                    </a:lnTo>
                    <a:lnTo>
                      <a:pt x="408" y="893"/>
                    </a:lnTo>
                    <a:lnTo>
                      <a:pt x="157" y="893"/>
                    </a:lnTo>
                    <a:lnTo>
                      <a:pt x="157" y="1001"/>
                    </a:lnTo>
                    <a:lnTo>
                      <a:pt x="0" y="844"/>
                    </a:lnTo>
                    <a:lnTo>
                      <a:pt x="157" y="696"/>
                    </a:lnTo>
                    <a:lnTo>
                      <a:pt x="157" y="804"/>
                    </a:lnTo>
                    <a:lnTo>
                      <a:pt x="330" y="804"/>
                    </a:lnTo>
                    <a:lnTo>
                      <a:pt x="487" y="500"/>
                    </a:lnTo>
                    <a:lnTo>
                      <a:pt x="330" y="206"/>
                    </a:lnTo>
                    <a:lnTo>
                      <a:pt x="157" y="206"/>
                    </a:lnTo>
                    <a:lnTo>
                      <a:pt x="157" y="305"/>
                    </a:lnTo>
                    <a:lnTo>
                      <a:pt x="0" y="157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043360" y="2958480"/>
                <a:ext cx="290160" cy="292320"/>
              </a:xfrm>
              <a:custGeom>
                <a:avLst/>
                <a:gdLst/>
                <a:ahLst/>
                <a:rect l="l" t="t" r="r" b="b"/>
                <a:pathLst>
                  <a:path w="1087" h="1001">
                    <a:moveTo>
                      <a:pt x="157" y="0"/>
                    </a:moveTo>
                    <a:lnTo>
                      <a:pt x="157" y="128"/>
                    </a:lnTo>
                    <a:lnTo>
                      <a:pt x="408" y="128"/>
                    </a:lnTo>
                    <a:lnTo>
                      <a:pt x="539" y="392"/>
                    </a:lnTo>
                    <a:lnTo>
                      <a:pt x="678" y="128"/>
                    </a:lnTo>
                    <a:lnTo>
                      <a:pt x="931" y="128"/>
                    </a:lnTo>
                    <a:lnTo>
                      <a:pt x="931" y="0"/>
                    </a:lnTo>
                    <a:lnTo>
                      <a:pt x="1087" y="157"/>
                    </a:lnTo>
                    <a:lnTo>
                      <a:pt x="931" y="314"/>
                    </a:lnTo>
                    <a:lnTo>
                      <a:pt x="931" y="206"/>
                    </a:lnTo>
                    <a:lnTo>
                      <a:pt x="748" y="206"/>
                    </a:lnTo>
                    <a:lnTo>
                      <a:pt x="600" y="500"/>
                    </a:lnTo>
                    <a:lnTo>
                      <a:pt x="748" y="804"/>
                    </a:lnTo>
                    <a:lnTo>
                      <a:pt x="931" y="804"/>
                    </a:lnTo>
                    <a:lnTo>
                      <a:pt x="931" y="696"/>
                    </a:lnTo>
                    <a:lnTo>
                      <a:pt x="1087" y="844"/>
                    </a:lnTo>
                    <a:lnTo>
                      <a:pt x="931" y="1001"/>
                    </a:lnTo>
                    <a:lnTo>
                      <a:pt x="931" y="883"/>
                    </a:lnTo>
                    <a:lnTo>
                      <a:pt x="678" y="883"/>
                    </a:lnTo>
                    <a:lnTo>
                      <a:pt x="539" y="608"/>
                    </a:lnTo>
                    <a:lnTo>
                      <a:pt x="408" y="893"/>
                    </a:lnTo>
                    <a:lnTo>
                      <a:pt x="157" y="893"/>
                    </a:lnTo>
                    <a:lnTo>
                      <a:pt x="157" y="1001"/>
                    </a:lnTo>
                    <a:lnTo>
                      <a:pt x="0" y="844"/>
                    </a:lnTo>
                    <a:lnTo>
                      <a:pt x="157" y="696"/>
                    </a:lnTo>
                    <a:lnTo>
                      <a:pt x="157" y="804"/>
                    </a:lnTo>
                    <a:lnTo>
                      <a:pt x="330" y="804"/>
                    </a:lnTo>
                    <a:lnTo>
                      <a:pt x="487" y="500"/>
                    </a:lnTo>
                    <a:lnTo>
                      <a:pt x="330" y="206"/>
                    </a:lnTo>
                    <a:lnTo>
                      <a:pt x="157" y="206"/>
                    </a:lnTo>
                    <a:lnTo>
                      <a:pt x="157" y="305"/>
                    </a:lnTo>
                    <a:lnTo>
                      <a:pt x="0" y="157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046240" y="2960640"/>
                <a:ext cx="289080" cy="293760"/>
              </a:xfrm>
              <a:custGeom>
                <a:avLst/>
                <a:gdLst/>
                <a:ahLst/>
                <a:rect l="l" t="t" r="r" b="b"/>
                <a:pathLst>
                  <a:path w="1088" h="1000">
                    <a:moveTo>
                      <a:pt x="157" y="0"/>
                    </a:moveTo>
                    <a:lnTo>
                      <a:pt x="157" y="128"/>
                    </a:lnTo>
                    <a:lnTo>
                      <a:pt x="409" y="128"/>
                    </a:lnTo>
                    <a:lnTo>
                      <a:pt x="540" y="392"/>
                    </a:lnTo>
                    <a:lnTo>
                      <a:pt x="679" y="128"/>
                    </a:lnTo>
                    <a:lnTo>
                      <a:pt x="932" y="128"/>
                    </a:lnTo>
                    <a:lnTo>
                      <a:pt x="932" y="0"/>
                    </a:lnTo>
                    <a:lnTo>
                      <a:pt x="1088" y="157"/>
                    </a:lnTo>
                    <a:lnTo>
                      <a:pt x="932" y="314"/>
                    </a:lnTo>
                    <a:lnTo>
                      <a:pt x="932" y="206"/>
                    </a:lnTo>
                    <a:lnTo>
                      <a:pt x="749" y="206"/>
                    </a:lnTo>
                    <a:lnTo>
                      <a:pt x="601" y="500"/>
                    </a:lnTo>
                    <a:lnTo>
                      <a:pt x="749" y="804"/>
                    </a:lnTo>
                    <a:lnTo>
                      <a:pt x="932" y="804"/>
                    </a:lnTo>
                    <a:lnTo>
                      <a:pt x="932" y="696"/>
                    </a:lnTo>
                    <a:lnTo>
                      <a:pt x="1088" y="843"/>
                    </a:lnTo>
                    <a:lnTo>
                      <a:pt x="932" y="1000"/>
                    </a:lnTo>
                    <a:lnTo>
                      <a:pt x="932" y="883"/>
                    </a:lnTo>
                    <a:lnTo>
                      <a:pt x="679" y="883"/>
                    </a:lnTo>
                    <a:lnTo>
                      <a:pt x="540" y="608"/>
                    </a:lnTo>
                    <a:lnTo>
                      <a:pt x="409" y="892"/>
                    </a:lnTo>
                    <a:lnTo>
                      <a:pt x="157" y="892"/>
                    </a:lnTo>
                    <a:lnTo>
                      <a:pt x="157" y="1000"/>
                    </a:lnTo>
                    <a:lnTo>
                      <a:pt x="0" y="843"/>
                    </a:lnTo>
                    <a:lnTo>
                      <a:pt x="157" y="696"/>
                    </a:lnTo>
                    <a:lnTo>
                      <a:pt x="157" y="804"/>
                    </a:lnTo>
                    <a:lnTo>
                      <a:pt x="330" y="804"/>
                    </a:lnTo>
                    <a:lnTo>
                      <a:pt x="487" y="500"/>
                    </a:lnTo>
                    <a:lnTo>
                      <a:pt x="330" y="206"/>
                    </a:lnTo>
                    <a:lnTo>
                      <a:pt x="157" y="206"/>
                    </a:lnTo>
                    <a:lnTo>
                      <a:pt x="157" y="304"/>
                    </a:lnTo>
                    <a:lnTo>
                      <a:pt x="0" y="157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046240" y="2960640"/>
                <a:ext cx="289080" cy="293760"/>
              </a:xfrm>
              <a:custGeom>
                <a:avLst/>
                <a:gdLst/>
                <a:ahLst/>
                <a:rect l="l" t="t" r="r" b="b"/>
                <a:pathLst>
                  <a:path w="1088" h="1000">
                    <a:moveTo>
                      <a:pt x="157" y="0"/>
                    </a:moveTo>
                    <a:lnTo>
                      <a:pt x="157" y="128"/>
                    </a:lnTo>
                    <a:lnTo>
                      <a:pt x="409" y="128"/>
                    </a:lnTo>
                    <a:lnTo>
                      <a:pt x="540" y="392"/>
                    </a:lnTo>
                    <a:lnTo>
                      <a:pt x="679" y="128"/>
                    </a:lnTo>
                    <a:lnTo>
                      <a:pt x="932" y="128"/>
                    </a:lnTo>
                    <a:lnTo>
                      <a:pt x="932" y="0"/>
                    </a:lnTo>
                    <a:lnTo>
                      <a:pt x="1088" y="157"/>
                    </a:lnTo>
                    <a:lnTo>
                      <a:pt x="932" y="314"/>
                    </a:lnTo>
                    <a:lnTo>
                      <a:pt x="932" y="206"/>
                    </a:lnTo>
                    <a:lnTo>
                      <a:pt x="749" y="206"/>
                    </a:lnTo>
                    <a:lnTo>
                      <a:pt x="601" y="500"/>
                    </a:lnTo>
                    <a:lnTo>
                      <a:pt x="749" y="804"/>
                    </a:lnTo>
                    <a:lnTo>
                      <a:pt x="932" y="804"/>
                    </a:lnTo>
                    <a:lnTo>
                      <a:pt x="932" y="696"/>
                    </a:lnTo>
                    <a:lnTo>
                      <a:pt x="1088" y="843"/>
                    </a:lnTo>
                    <a:lnTo>
                      <a:pt x="932" y="1000"/>
                    </a:lnTo>
                    <a:lnTo>
                      <a:pt x="932" y="883"/>
                    </a:lnTo>
                    <a:lnTo>
                      <a:pt x="679" y="883"/>
                    </a:lnTo>
                    <a:lnTo>
                      <a:pt x="540" y="608"/>
                    </a:lnTo>
                    <a:lnTo>
                      <a:pt x="409" y="892"/>
                    </a:lnTo>
                    <a:lnTo>
                      <a:pt x="157" y="892"/>
                    </a:lnTo>
                    <a:lnTo>
                      <a:pt x="157" y="1000"/>
                    </a:lnTo>
                    <a:lnTo>
                      <a:pt x="0" y="843"/>
                    </a:lnTo>
                    <a:lnTo>
                      <a:pt x="157" y="696"/>
                    </a:lnTo>
                    <a:lnTo>
                      <a:pt x="157" y="804"/>
                    </a:lnTo>
                    <a:lnTo>
                      <a:pt x="330" y="804"/>
                    </a:lnTo>
                    <a:lnTo>
                      <a:pt x="487" y="500"/>
                    </a:lnTo>
                    <a:lnTo>
                      <a:pt x="330" y="206"/>
                    </a:lnTo>
                    <a:lnTo>
                      <a:pt x="157" y="206"/>
                    </a:lnTo>
                    <a:lnTo>
                      <a:pt x="157" y="304"/>
                    </a:lnTo>
                    <a:lnTo>
                      <a:pt x="0" y="157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9" name=""/>
          <p:cNvGrpSpPr/>
          <p:nvPr/>
        </p:nvGrpSpPr>
        <p:grpSpPr>
          <a:xfrm>
            <a:off x="4495680" y="3657600"/>
            <a:ext cx="436680" cy="379440"/>
            <a:chOff x="4495680" y="3657600"/>
            <a:chExt cx="436680" cy="379440"/>
          </a:xfrm>
        </p:grpSpPr>
        <p:sp>
          <p:nvSpPr>
            <p:cNvPr id="1650" name=""/>
            <p:cNvSpPr/>
            <p:nvPr/>
          </p:nvSpPr>
          <p:spPr>
            <a:xfrm>
              <a:off x="4495680" y="3657600"/>
              <a:ext cx="436680" cy="379440"/>
            </a:xfrm>
            <a:prstGeom prst="rect">
              <a:avLst/>
            </a:prstGeom>
            <a:solidFill>
              <a:srgbClr val="00cc99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1" name=""/>
            <p:cNvGrpSpPr/>
            <p:nvPr/>
          </p:nvGrpSpPr>
          <p:grpSpPr>
            <a:xfrm>
              <a:off x="4557960" y="3720600"/>
              <a:ext cx="291960" cy="295920"/>
              <a:chOff x="4557960" y="3720600"/>
              <a:chExt cx="291960" cy="295920"/>
            </a:xfrm>
          </p:grpSpPr>
          <p:sp>
            <p:nvSpPr>
              <p:cNvPr id="1652" name=""/>
              <p:cNvSpPr/>
              <p:nvPr/>
            </p:nvSpPr>
            <p:spPr>
              <a:xfrm>
                <a:off x="4557960" y="3720600"/>
                <a:ext cx="290160" cy="292320"/>
              </a:xfrm>
              <a:custGeom>
                <a:avLst/>
                <a:gdLst/>
                <a:ahLst/>
                <a:rect l="l" t="t" r="r" b="b"/>
                <a:pathLst>
                  <a:path w="1087" h="1001">
                    <a:moveTo>
                      <a:pt x="157" y="0"/>
                    </a:moveTo>
                    <a:lnTo>
                      <a:pt x="157" y="128"/>
                    </a:lnTo>
                    <a:lnTo>
                      <a:pt x="408" y="128"/>
                    </a:lnTo>
                    <a:lnTo>
                      <a:pt x="539" y="392"/>
                    </a:lnTo>
                    <a:lnTo>
                      <a:pt x="678" y="128"/>
                    </a:lnTo>
                    <a:lnTo>
                      <a:pt x="931" y="128"/>
                    </a:lnTo>
                    <a:lnTo>
                      <a:pt x="931" y="0"/>
                    </a:lnTo>
                    <a:lnTo>
                      <a:pt x="1087" y="157"/>
                    </a:lnTo>
                    <a:lnTo>
                      <a:pt x="931" y="314"/>
                    </a:lnTo>
                    <a:lnTo>
                      <a:pt x="931" y="206"/>
                    </a:lnTo>
                    <a:lnTo>
                      <a:pt x="748" y="206"/>
                    </a:lnTo>
                    <a:lnTo>
                      <a:pt x="600" y="500"/>
                    </a:lnTo>
                    <a:lnTo>
                      <a:pt x="748" y="804"/>
                    </a:lnTo>
                    <a:lnTo>
                      <a:pt x="931" y="804"/>
                    </a:lnTo>
                    <a:lnTo>
                      <a:pt x="931" y="696"/>
                    </a:lnTo>
                    <a:lnTo>
                      <a:pt x="1087" y="844"/>
                    </a:lnTo>
                    <a:lnTo>
                      <a:pt x="931" y="1001"/>
                    </a:lnTo>
                    <a:lnTo>
                      <a:pt x="931" y="883"/>
                    </a:lnTo>
                    <a:lnTo>
                      <a:pt x="678" y="883"/>
                    </a:lnTo>
                    <a:lnTo>
                      <a:pt x="539" y="608"/>
                    </a:lnTo>
                    <a:lnTo>
                      <a:pt x="408" y="893"/>
                    </a:lnTo>
                    <a:lnTo>
                      <a:pt x="157" y="893"/>
                    </a:lnTo>
                    <a:lnTo>
                      <a:pt x="157" y="1001"/>
                    </a:lnTo>
                    <a:lnTo>
                      <a:pt x="0" y="844"/>
                    </a:lnTo>
                    <a:lnTo>
                      <a:pt x="157" y="696"/>
                    </a:lnTo>
                    <a:lnTo>
                      <a:pt x="157" y="804"/>
                    </a:lnTo>
                    <a:lnTo>
                      <a:pt x="330" y="804"/>
                    </a:lnTo>
                    <a:lnTo>
                      <a:pt x="487" y="500"/>
                    </a:lnTo>
                    <a:lnTo>
                      <a:pt x="330" y="206"/>
                    </a:lnTo>
                    <a:lnTo>
                      <a:pt x="157" y="206"/>
                    </a:lnTo>
                    <a:lnTo>
                      <a:pt x="157" y="305"/>
                    </a:lnTo>
                    <a:lnTo>
                      <a:pt x="0" y="157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557960" y="3720600"/>
                <a:ext cx="290160" cy="292320"/>
              </a:xfrm>
              <a:custGeom>
                <a:avLst/>
                <a:gdLst/>
                <a:ahLst/>
                <a:rect l="l" t="t" r="r" b="b"/>
                <a:pathLst>
                  <a:path w="1087" h="1001">
                    <a:moveTo>
                      <a:pt x="157" y="0"/>
                    </a:moveTo>
                    <a:lnTo>
                      <a:pt x="157" y="128"/>
                    </a:lnTo>
                    <a:lnTo>
                      <a:pt x="408" y="128"/>
                    </a:lnTo>
                    <a:lnTo>
                      <a:pt x="539" y="392"/>
                    </a:lnTo>
                    <a:lnTo>
                      <a:pt x="678" y="128"/>
                    </a:lnTo>
                    <a:lnTo>
                      <a:pt x="931" y="128"/>
                    </a:lnTo>
                    <a:lnTo>
                      <a:pt x="931" y="0"/>
                    </a:lnTo>
                    <a:lnTo>
                      <a:pt x="1087" y="157"/>
                    </a:lnTo>
                    <a:lnTo>
                      <a:pt x="931" y="314"/>
                    </a:lnTo>
                    <a:lnTo>
                      <a:pt x="931" y="206"/>
                    </a:lnTo>
                    <a:lnTo>
                      <a:pt x="748" y="206"/>
                    </a:lnTo>
                    <a:lnTo>
                      <a:pt x="600" y="500"/>
                    </a:lnTo>
                    <a:lnTo>
                      <a:pt x="748" y="804"/>
                    </a:lnTo>
                    <a:lnTo>
                      <a:pt x="931" y="804"/>
                    </a:lnTo>
                    <a:lnTo>
                      <a:pt x="931" y="696"/>
                    </a:lnTo>
                    <a:lnTo>
                      <a:pt x="1087" y="844"/>
                    </a:lnTo>
                    <a:lnTo>
                      <a:pt x="931" y="1001"/>
                    </a:lnTo>
                    <a:lnTo>
                      <a:pt x="931" y="883"/>
                    </a:lnTo>
                    <a:lnTo>
                      <a:pt x="678" y="883"/>
                    </a:lnTo>
                    <a:lnTo>
                      <a:pt x="539" y="608"/>
                    </a:lnTo>
                    <a:lnTo>
                      <a:pt x="408" y="893"/>
                    </a:lnTo>
                    <a:lnTo>
                      <a:pt x="157" y="893"/>
                    </a:lnTo>
                    <a:lnTo>
                      <a:pt x="157" y="1001"/>
                    </a:lnTo>
                    <a:lnTo>
                      <a:pt x="0" y="844"/>
                    </a:lnTo>
                    <a:lnTo>
                      <a:pt x="157" y="696"/>
                    </a:lnTo>
                    <a:lnTo>
                      <a:pt x="157" y="804"/>
                    </a:lnTo>
                    <a:lnTo>
                      <a:pt x="330" y="804"/>
                    </a:lnTo>
                    <a:lnTo>
                      <a:pt x="487" y="500"/>
                    </a:lnTo>
                    <a:lnTo>
                      <a:pt x="330" y="206"/>
                    </a:lnTo>
                    <a:lnTo>
                      <a:pt x="157" y="206"/>
                    </a:lnTo>
                    <a:lnTo>
                      <a:pt x="157" y="305"/>
                    </a:lnTo>
                    <a:lnTo>
                      <a:pt x="0" y="157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560840" y="3722760"/>
                <a:ext cx="289080" cy="293760"/>
              </a:xfrm>
              <a:custGeom>
                <a:avLst/>
                <a:gdLst/>
                <a:ahLst/>
                <a:rect l="l" t="t" r="r" b="b"/>
                <a:pathLst>
                  <a:path w="1088" h="1000">
                    <a:moveTo>
                      <a:pt x="157" y="0"/>
                    </a:moveTo>
                    <a:lnTo>
                      <a:pt x="157" y="128"/>
                    </a:lnTo>
                    <a:lnTo>
                      <a:pt x="409" y="128"/>
                    </a:lnTo>
                    <a:lnTo>
                      <a:pt x="540" y="392"/>
                    </a:lnTo>
                    <a:lnTo>
                      <a:pt x="679" y="128"/>
                    </a:lnTo>
                    <a:lnTo>
                      <a:pt x="932" y="128"/>
                    </a:lnTo>
                    <a:lnTo>
                      <a:pt x="932" y="0"/>
                    </a:lnTo>
                    <a:lnTo>
                      <a:pt x="1088" y="157"/>
                    </a:lnTo>
                    <a:lnTo>
                      <a:pt x="932" y="314"/>
                    </a:lnTo>
                    <a:lnTo>
                      <a:pt x="932" y="206"/>
                    </a:lnTo>
                    <a:lnTo>
                      <a:pt x="749" y="206"/>
                    </a:lnTo>
                    <a:lnTo>
                      <a:pt x="601" y="500"/>
                    </a:lnTo>
                    <a:lnTo>
                      <a:pt x="749" y="804"/>
                    </a:lnTo>
                    <a:lnTo>
                      <a:pt x="932" y="804"/>
                    </a:lnTo>
                    <a:lnTo>
                      <a:pt x="932" y="696"/>
                    </a:lnTo>
                    <a:lnTo>
                      <a:pt x="1088" y="843"/>
                    </a:lnTo>
                    <a:lnTo>
                      <a:pt x="932" y="1000"/>
                    </a:lnTo>
                    <a:lnTo>
                      <a:pt x="932" y="883"/>
                    </a:lnTo>
                    <a:lnTo>
                      <a:pt x="679" y="883"/>
                    </a:lnTo>
                    <a:lnTo>
                      <a:pt x="540" y="608"/>
                    </a:lnTo>
                    <a:lnTo>
                      <a:pt x="409" y="892"/>
                    </a:lnTo>
                    <a:lnTo>
                      <a:pt x="157" y="892"/>
                    </a:lnTo>
                    <a:lnTo>
                      <a:pt x="157" y="1000"/>
                    </a:lnTo>
                    <a:lnTo>
                      <a:pt x="0" y="843"/>
                    </a:lnTo>
                    <a:lnTo>
                      <a:pt x="157" y="696"/>
                    </a:lnTo>
                    <a:lnTo>
                      <a:pt x="157" y="804"/>
                    </a:lnTo>
                    <a:lnTo>
                      <a:pt x="330" y="804"/>
                    </a:lnTo>
                    <a:lnTo>
                      <a:pt x="487" y="500"/>
                    </a:lnTo>
                    <a:lnTo>
                      <a:pt x="330" y="206"/>
                    </a:lnTo>
                    <a:lnTo>
                      <a:pt x="157" y="206"/>
                    </a:lnTo>
                    <a:lnTo>
                      <a:pt x="157" y="304"/>
                    </a:lnTo>
                    <a:lnTo>
                      <a:pt x="0" y="157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4560840" y="3722760"/>
                <a:ext cx="289080" cy="293760"/>
              </a:xfrm>
              <a:custGeom>
                <a:avLst/>
                <a:gdLst/>
                <a:ahLst/>
                <a:rect l="l" t="t" r="r" b="b"/>
                <a:pathLst>
                  <a:path w="1088" h="1000">
                    <a:moveTo>
                      <a:pt x="157" y="0"/>
                    </a:moveTo>
                    <a:lnTo>
                      <a:pt x="157" y="128"/>
                    </a:lnTo>
                    <a:lnTo>
                      <a:pt x="409" y="128"/>
                    </a:lnTo>
                    <a:lnTo>
                      <a:pt x="540" y="392"/>
                    </a:lnTo>
                    <a:lnTo>
                      <a:pt x="679" y="128"/>
                    </a:lnTo>
                    <a:lnTo>
                      <a:pt x="932" y="128"/>
                    </a:lnTo>
                    <a:lnTo>
                      <a:pt x="932" y="0"/>
                    </a:lnTo>
                    <a:lnTo>
                      <a:pt x="1088" y="157"/>
                    </a:lnTo>
                    <a:lnTo>
                      <a:pt x="932" y="314"/>
                    </a:lnTo>
                    <a:lnTo>
                      <a:pt x="932" y="206"/>
                    </a:lnTo>
                    <a:lnTo>
                      <a:pt x="749" y="206"/>
                    </a:lnTo>
                    <a:lnTo>
                      <a:pt x="601" y="500"/>
                    </a:lnTo>
                    <a:lnTo>
                      <a:pt x="749" y="804"/>
                    </a:lnTo>
                    <a:lnTo>
                      <a:pt x="932" y="804"/>
                    </a:lnTo>
                    <a:lnTo>
                      <a:pt x="932" y="696"/>
                    </a:lnTo>
                    <a:lnTo>
                      <a:pt x="1088" y="843"/>
                    </a:lnTo>
                    <a:lnTo>
                      <a:pt x="932" y="1000"/>
                    </a:lnTo>
                    <a:lnTo>
                      <a:pt x="932" y="883"/>
                    </a:lnTo>
                    <a:lnTo>
                      <a:pt x="679" y="883"/>
                    </a:lnTo>
                    <a:lnTo>
                      <a:pt x="540" y="608"/>
                    </a:lnTo>
                    <a:lnTo>
                      <a:pt x="409" y="892"/>
                    </a:lnTo>
                    <a:lnTo>
                      <a:pt x="157" y="892"/>
                    </a:lnTo>
                    <a:lnTo>
                      <a:pt x="157" y="1000"/>
                    </a:lnTo>
                    <a:lnTo>
                      <a:pt x="0" y="843"/>
                    </a:lnTo>
                    <a:lnTo>
                      <a:pt x="157" y="696"/>
                    </a:lnTo>
                    <a:lnTo>
                      <a:pt x="157" y="804"/>
                    </a:lnTo>
                    <a:lnTo>
                      <a:pt x="330" y="804"/>
                    </a:lnTo>
                    <a:lnTo>
                      <a:pt x="487" y="500"/>
                    </a:lnTo>
                    <a:lnTo>
                      <a:pt x="330" y="206"/>
                    </a:lnTo>
                    <a:lnTo>
                      <a:pt x="157" y="206"/>
                    </a:lnTo>
                    <a:lnTo>
                      <a:pt x="157" y="304"/>
                    </a:lnTo>
                    <a:lnTo>
                      <a:pt x="0" y="157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6" name=""/>
          <p:cNvGrpSpPr/>
          <p:nvPr/>
        </p:nvGrpSpPr>
        <p:grpSpPr>
          <a:xfrm>
            <a:off x="7010280" y="2971800"/>
            <a:ext cx="436680" cy="379440"/>
            <a:chOff x="7010280" y="2971800"/>
            <a:chExt cx="436680" cy="379440"/>
          </a:xfrm>
        </p:grpSpPr>
        <p:sp>
          <p:nvSpPr>
            <p:cNvPr id="1657" name=""/>
            <p:cNvSpPr/>
            <p:nvPr/>
          </p:nvSpPr>
          <p:spPr>
            <a:xfrm>
              <a:off x="7010280" y="2971800"/>
              <a:ext cx="436680" cy="379440"/>
            </a:xfrm>
            <a:prstGeom prst="rect">
              <a:avLst/>
            </a:prstGeom>
            <a:solidFill>
              <a:srgbClr val="00cc99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8" name=""/>
            <p:cNvGrpSpPr/>
            <p:nvPr/>
          </p:nvGrpSpPr>
          <p:grpSpPr>
            <a:xfrm>
              <a:off x="7072560" y="3034800"/>
              <a:ext cx="291960" cy="295920"/>
              <a:chOff x="7072560" y="3034800"/>
              <a:chExt cx="291960" cy="295920"/>
            </a:xfrm>
          </p:grpSpPr>
          <p:sp>
            <p:nvSpPr>
              <p:cNvPr id="1659" name=""/>
              <p:cNvSpPr/>
              <p:nvPr/>
            </p:nvSpPr>
            <p:spPr>
              <a:xfrm>
                <a:off x="7072560" y="3034800"/>
                <a:ext cx="290160" cy="292320"/>
              </a:xfrm>
              <a:custGeom>
                <a:avLst/>
                <a:gdLst/>
                <a:ahLst/>
                <a:rect l="l" t="t" r="r" b="b"/>
                <a:pathLst>
                  <a:path w="1087" h="1001">
                    <a:moveTo>
                      <a:pt x="157" y="0"/>
                    </a:moveTo>
                    <a:lnTo>
                      <a:pt x="157" y="128"/>
                    </a:lnTo>
                    <a:lnTo>
                      <a:pt x="408" y="128"/>
                    </a:lnTo>
                    <a:lnTo>
                      <a:pt x="539" y="392"/>
                    </a:lnTo>
                    <a:lnTo>
                      <a:pt x="678" y="128"/>
                    </a:lnTo>
                    <a:lnTo>
                      <a:pt x="931" y="128"/>
                    </a:lnTo>
                    <a:lnTo>
                      <a:pt x="931" y="0"/>
                    </a:lnTo>
                    <a:lnTo>
                      <a:pt x="1087" y="157"/>
                    </a:lnTo>
                    <a:lnTo>
                      <a:pt x="931" y="314"/>
                    </a:lnTo>
                    <a:lnTo>
                      <a:pt x="931" y="206"/>
                    </a:lnTo>
                    <a:lnTo>
                      <a:pt x="748" y="206"/>
                    </a:lnTo>
                    <a:lnTo>
                      <a:pt x="600" y="500"/>
                    </a:lnTo>
                    <a:lnTo>
                      <a:pt x="748" y="804"/>
                    </a:lnTo>
                    <a:lnTo>
                      <a:pt x="931" y="804"/>
                    </a:lnTo>
                    <a:lnTo>
                      <a:pt x="931" y="696"/>
                    </a:lnTo>
                    <a:lnTo>
                      <a:pt x="1087" y="844"/>
                    </a:lnTo>
                    <a:lnTo>
                      <a:pt x="931" y="1001"/>
                    </a:lnTo>
                    <a:lnTo>
                      <a:pt x="931" y="883"/>
                    </a:lnTo>
                    <a:lnTo>
                      <a:pt x="678" y="883"/>
                    </a:lnTo>
                    <a:lnTo>
                      <a:pt x="539" y="608"/>
                    </a:lnTo>
                    <a:lnTo>
                      <a:pt x="408" y="893"/>
                    </a:lnTo>
                    <a:lnTo>
                      <a:pt x="157" y="893"/>
                    </a:lnTo>
                    <a:lnTo>
                      <a:pt x="157" y="1001"/>
                    </a:lnTo>
                    <a:lnTo>
                      <a:pt x="0" y="844"/>
                    </a:lnTo>
                    <a:lnTo>
                      <a:pt x="157" y="696"/>
                    </a:lnTo>
                    <a:lnTo>
                      <a:pt x="157" y="804"/>
                    </a:lnTo>
                    <a:lnTo>
                      <a:pt x="330" y="804"/>
                    </a:lnTo>
                    <a:lnTo>
                      <a:pt x="487" y="500"/>
                    </a:lnTo>
                    <a:lnTo>
                      <a:pt x="330" y="206"/>
                    </a:lnTo>
                    <a:lnTo>
                      <a:pt x="157" y="206"/>
                    </a:lnTo>
                    <a:lnTo>
                      <a:pt x="157" y="305"/>
                    </a:lnTo>
                    <a:lnTo>
                      <a:pt x="0" y="157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072560" y="3034800"/>
                <a:ext cx="290160" cy="292320"/>
              </a:xfrm>
              <a:custGeom>
                <a:avLst/>
                <a:gdLst/>
                <a:ahLst/>
                <a:rect l="l" t="t" r="r" b="b"/>
                <a:pathLst>
                  <a:path w="1087" h="1001">
                    <a:moveTo>
                      <a:pt x="157" y="0"/>
                    </a:moveTo>
                    <a:lnTo>
                      <a:pt x="157" y="128"/>
                    </a:lnTo>
                    <a:lnTo>
                      <a:pt x="408" y="128"/>
                    </a:lnTo>
                    <a:lnTo>
                      <a:pt x="539" y="392"/>
                    </a:lnTo>
                    <a:lnTo>
                      <a:pt x="678" y="128"/>
                    </a:lnTo>
                    <a:lnTo>
                      <a:pt x="931" y="128"/>
                    </a:lnTo>
                    <a:lnTo>
                      <a:pt x="931" y="0"/>
                    </a:lnTo>
                    <a:lnTo>
                      <a:pt x="1087" y="157"/>
                    </a:lnTo>
                    <a:lnTo>
                      <a:pt x="931" y="314"/>
                    </a:lnTo>
                    <a:lnTo>
                      <a:pt x="931" y="206"/>
                    </a:lnTo>
                    <a:lnTo>
                      <a:pt x="748" y="206"/>
                    </a:lnTo>
                    <a:lnTo>
                      <a:pt x="600" y="500"/>
                    </a:lnTo>
                    <a:lnTo>
                      <a:pt x="748" y="804"/>
                    </a:lnTo>
                    <a:lnTo>
                      <a:pt x="931" y="804"/>
                    </a:lnTo>
                    <a:lnTo>
                      <a:pt x="931" y="696"/>
                    </a:lnTo>
                    <a:lnTo>
                      <a:pt x="1087" y="844"/>
                    </a:lnTo>
                    <a:lnTo>
                      <a:pt x="931" y="1001"/>
                    </a:lnTo>
                    <a:lnTo>
                      <a:pt x="931" y="883"/>
                    </a:lnTo>
                    <a:lnTo>
                      <a:pt x="678" y="883"/>
                    </a:lnTo>
                    <a:lnTo>
                      <a:pt x="539" y="608"/>
                    </a:lnTo>
                    <a:lnTo>
                      <a:pt x="408" y="893"/>
                    </a:lnTo>
                    <a:lnTo>
                      <a:pt x="157" y="893"/>
                    </a:lnTo>
                    <a:lnTo>
                      <a:pt x="157" y="1001"/>
                    </a:lnTo>
                    <a:lnTo>
                      <a:pt x="0" y="844"/>
                    </a:lnTo>
                    <a:lnTo>
                      <a:pt x="157" y="696"/>
                    </a:lnTo>
                    <a:lnTo>
                      <a:pt x="157" y="804"/>
                    </a:lnTo>
                    <a:lnTo>
                      <a:pt x="330" y="804"/>
                    </a:lnTo>
                    <a:lnTo>
                      <a:pt x="487" y="500"/>
                    </a:lnTo>
                    <a:lnTo>
                      <a:pt x="330" y="206"/>
                    </a:lnTo>
                    <a:lnTo>
                      <a:pt x="157" y="206"/>
                    </a:lnTo>
                    <a:lnTo>
                      <a:pt x="157" y="305"/>
                    </a:lnTo>
                    <a:lnTo>
                      <a:pt x="0" y="157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075440" y="3036960"/>
                <a:ext cx="289080" cy="293760"/>
              </a:xfrm>
              <a:custGeom>
                <a:avLst/>
                <a:gdLst/>
                <a:ahLst/>
                <a:rect l="l" t="t" r="r" b="b"/>
                <a:pathLst>
                  <a:path w="1088" h="1000">
                    <a:moveTo>
                      <a:pt x="157" y="0"/>
                    </a:moveTo>
                    <a:lnTo>
                      <a:pt x="157" y="128"/>
                    </a:lnTo>
                    <a:lnTo>
                      <a:pt x="409" y="128"/>
                    </a:lnTo>
                    <a:lnTo>
                      <a:pt x="540" y="392"/>
                    </a:lnTo>
                    <a:lnTo>
                      <a:pt x="679" y="128"/>
                    </a:lnTo>
                    <a:lnTo>
                      <a:pt x="932" y="128"/>
                    </a:lnTo>
                    <a:lnTo>
                      <a:pt x="932" y="0"/>
                    </a:lnTo>
                    <a:lnTo>
                      <a:pt x="1088" y="157"/>
                    </a:lnTo>
                    <a:lnTo>
                      <a:pt x="932" y="314"/>
                    </a:lnTo>
                    <a:lnTo>
                      <a:pt x="932" y="206"/>
                    </a:lnTo>
                    <a:lnTo>
                      <a:pt x="749" y="206"/>
                    </a:lnTo>
                    <a:lnTo>
                      <a:pt x="601" y="500"/>
                    </a:lnTo>
                    <a:lnTo>
                      <a:pt x="749" y="804"/>
                    </a:lnTo>
                    <a:lnTo>
                      <a:pt x="932" y="804"/>
                    </a:lnTo>
                    <a:lnTo>
                      <a:pt x="932" y="696"/>
                    </a:lnTo>
                    <a:lnTo>
                      <a:pt x="1088" y="843"/>
                    </a:lnTo>
                    <a:lnTo>
                      <a:pt x="932" y="1000"/>
                    </a:lnTo>
                    <a:lnTo>
                      <a:pt x="932" y="883"/>
                    </a:lnTo>
                    <a:lnTo>
                      <a:pt x="679" y="883"/>
                    </a:lnTo>
                    <a:lnTo>
                      <a:pt x="540" y="608"/>
                    </a:lnTo>
                    <a:lnTo>
                      <a:pt x="409" y="892"/>
                    </a:lnTo>
                    <a:lnTo>
                      <a:pt x="157" y="892"/>
                    </a:lnTo>
                    <a:lnTo>
                      <a:pt x="157" y="1000"/>
                    </a:lnTo>
                    <a:lnTo>
                      <a:pt x="0" y="843"/>
                    </a:lnTo>
                    <a:lnTo>
                      <a:pt x="157" y="696"/>
                    </a:lnTo>
                    <a:lnTo>
                      <a:pt x="157" y="804"/>
                    </a:lnTo>
                    <a:lnTo>
                      <a:pt x="330" y="804"/>
                    </a:lnTo>
                    <a:lnTo>
                      <a:pt x="487" y="500"/>
                    </a:lnTo>
                    <a:lnTo>
                      <a:pt x="330" y="206"/>
                    </a:lnTo>
                    <a:lnTo>
                      <a:pt x="157" y="206"/>
                    </a:lnTo>
                    <a:lnTo>
                      <a:pt x="157" y="304"/>
                    </a:lnTo>
                    <a:lnTo>
                      <a:pt x="0" y="157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7075440" y="3036960"/>
                <a:ext cx="289080" cy="293760"/>
              </a:xfrm>
              <a:custGeom>
                <a:avLst/>
                <a:gdLst/>
                <a:ahLst/>
                <a:rect l="l" t="t" r="r" b="b"/>
                <a:pathLst>
                  <a:path w="1088" h="1000">
                    <a:moveTo>
                      <a:pt x="157" y="0"/>
                    </a:moveTo>
                    <a:lnTo>
                      <a:pt x="157" y="128"/>
                    </a:lnTo>
                    <a:lnTo>
                      <a:pt x="409" y="128"/>
                    </a:lnTo>
                    <a:lnTo>
                      <a:pt x="540" y="392"/>
                    </a:lnTo>
                    <a:lnTo>
                      <a:pt x="679" y="128"/>
                    </a:lnTo>
                    <a:lnTo>
                      <a:pt x="932" y="128"/>
                    </a:lnTo>
                    <a:lnTo>
                      <a:pt x="932" y="0"/>
                    </a:lnTo>
                    <a:lnTo>
                      <a:pt x="1088" y="157"/>
                    </a:lnTo>
                    <a:lnTo>
                      <a:pt x="932" y="314"/>
                    </a:lnTo>
                    <a:lnTo>
                      <a:pt x="932" y="206"/>
                    </a:lnTo>
                    <a:lnTo>
                      <a:pt x="749" y="206"/>
                    </a:lnTo>
                    <a:lnTo>
                      <a:pt x="601" y="500"/>
                    </a:lnTo>
                    <a:lnTo>
                      <a:pt x="749" y="804"/>
                    </a:lnTo>
                    <a:lnTo>
                      <a:pt x="932" y="804"/>
                    </a:lnTo>
                    <a:lnTo>
                      <a:pt x="932" y="696"/>
                    </a:lnTo>
                    <a:lnTo>
                      <a:pt x="1088" y="843"/>
                    </a:lnTo>
                    <a:lnTo>
                      <a:pt x="932" y="1000"/>
                    </a:lnTo>
                    <a:lnTo>
                      <a:pt x="932" y="883"/>
                    </a:lnTo>
                    <a:lnTo>
                      <a:pt x="679" y="883"/>
                    </a:lnTo>
                    <a:lnTo>
                      <a:pt x="540" y="608"/>
                    </a:lnTo>
                    <a:lnTo>
                      <a:pt x="409" y="892"/>
                    </a:lnTo>
                    <a:lnTo>
                      <a:pt x="157" y="892"/>
                    </a:lnTo>
                    <a:lnTo>
                      <a:pt x="157" y="1000"/>
                    </a:lnTo>
                    <a:lnTo>
                      <a:pt x="0" y="843"/>
                    </a:lnTo>
                    <a:lnTo>
                      <a:pt x="157" y="696"/>
                    </a:lnTo>
                    <a:lnTo>
                      <a:pt x="157" y="804"/>
                    </a:lnTo>
                    <a:lnTo>
                      <a:pt x="330" y="804"/>
                    </a:lnTo>
                    <a:lnTo>
                      <a:pt x="487" y="500"/>
                    </a:lnTo>
                    <a:lnTo>
                      <a:pt x="330" y="206"/>
                    </a:lnTo>
                    <a:lnTo>
                      <a:pt x="157" y="206"/>
                    </a:lnTo>
                    <a:lnTo>
                      <a:pt x="157" y="304"/>
                    </a:lnTo>
                    <a:lnTo>
                      <a:pt x="0" y="157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3" name=""/>
          <p:cNvSpPr/>
          <p:nvPr/>
        </p:nvSpPr>
        <p:spPr>
          <a:xfrm>
            <a:off x="380880" y="1676520"/>
            <a:ext cx="8001000" cy="2514600"/>
          </a:xfrm>
          <a:custGeom>
            <a:avLst/>
            <a:gdLst/>
            <a:ahLst/>
            <a:rect l="l" t="t" r="r" b="b"/>
            <a:pathLst>
              <a:path w="4656" h="1576">
                <a:moveTo>
                  <a:pt x="0" y="1488"/>
                </a:moveTo>
                <a:cubicBezTo>
                  <a:pt x="180" y="1532"/>
                  <a:pt x="360" y="1576"/>
                  <a:pt x="528" y="1488"/>
                </a:cubicBezTo>
                <a:cubicBezTo>
                  <a:pt x="696" y="1400"/>
                  <a:pt x="808" y="1136"/>
                  <a:pt x="1008" y="960"/>
                </a:cubicBezTo>
                <a:cubicBezTo>
                  <a:pt x="1208" y="784"/>
                  <a:pt x="1432" y="480"/>
                  <a:pt x="1728" y="432"/>
                </a:cubicBezTo>
                <a:cubicBezTo>
                  <a:pt x="2024" y="384"/>
                  <a:pt x="2480" y="728"/>
                  <a:pt x="2784" y="672"/>
                </a:cubicBezTo>
                <a:cubicBezTo>
                  <a:pt x="3088" y="616"/>
                  <a:pt x="3240" y="192"/>
                  <a:pt x="3552" y="96"/>
                </a:cubicBezTo>
                <a:cubicBezTo>
                  <a:pt x="3864" y="0"/>
                  <a:pt x="4472" y="96"/>
                  <a:pt x="4656" y="96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87520" y="762120"/>
            <a:ext cx="3936960" cy="5664240"/>
          </a:xfrm>
          <a:custGeom>
            <a:avLst/>
            <a:gdLst/>
            <a:ahLst/>
            <a:rect l="l" t="t" r="r" b="b"/>
            <a:pathLst>
              <a:path w="2480" h="3568">
                <a:moveTo>
                  <a:pt x="2480" y="0"/>
                </a:moveTo>
                <a:cubicBezTo>
                  <a:pt x="2276" y="28"/>
                  <a:pt x="2072" y="56"/>
                  <a:pt x="1904" y="144"/>
                </a:cubicBezTo>
                <a:cubicBezTo>
                  <a:pt x="1736" y="232"/>
                  <a:pt x="1680" y="416"/>
                  <a:pt x="1472" y="528"/>
                </a:cubicBezTo>
                <a:cubicBezTo>
                  <a:pt x="1264" y="640"/>
                  <a:pt x="888" y="688"/>
                  <a:pt x="656" y="816"/>
                </a:cubicBezTo>
                <a:cubicBezTo>
                  <a:pt x="424" y="944"/>
                  <a:pt x="160" y="1152"/>
                  <a:pt x="80" y="1296"/>
                </a:cubicBezTo>
                <a:cubicBezTo>
                  <a:pt x="0" y="1440"/>
                  <a:pt x="16" y="1496"/>
                  <a:pt x="176" y="1680"/>
                </a:cubicBezTo>
                <a:cubicBezTo>
                  <a:pt x="336" y="1864"/>
                  <a:pt x="872" y="2216"/>
                  <a:pt x="1040" y="2400"/>
                </a:cubicBezTo>
                <a:cubicBezTo>
                  <a:pt x="1208" y="2584"/>
                  <a:pt x="1184" y="2688"/>
                  <a:pt x="1184" y="2784"/>
                </a:cubicBezTo>
                <a:cubicBezTo>
                  <a:pt x="1184" y="2880"/>
                  <a:pt x="1024" y="2864"/>
                  <a:pt x="1040" y="2976"/>
                </a:cubicBezTo>
                <a:cubicBezTo>
                  <a:pt x="1056" y="3088"/>
                  <a:pt x="1176" y="3360"/>
                  <a:pt x="1280" y="3456"/>
                </a:cubicBezTo>
                <a:cubicBezTo>
                  <a:pt x="1384" y="3552"/>
                  <a:pt x="1504" y="3536"/>
                  <a:pt x="1664" y="3552"/>
                </a:cubicBezTo>
                <a:cubicBezTo>
                  <a:pt x="1824" y="3568"/>
                  <a:pt x="2032" y="3560"/>
                  <a:pt x="2240" y="3552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543480" y="304920"/>
            <a:ext cx="4457520" cy="6172200"/>
          </a:xfrm>
          <a:custGeom>
            <a:avLst/>
            <a:gdLst/>
            <a:ahLst/>
            <a:rect l="l" t="t" r="r" b="b"/>
            <a:pathLst>
              <a:path w="2808" h="3888">
                <a:moveTo>
                  <a:pt x="2808" y="3888"/>
                </a:moveTo>
                <a:cubicBezTo>
                  <a:pt x="2640" y="3756"/>
                  <a:pt x="2472" y="3624"/>
                  <a:pt x="2376" y="3456"/>
                </a:cubicBezTo>
                <a:cubicBezTo>
                  <a:pt x="2280" y="3288"/>
                  <a:pt x="2200" y="3072"/>
                  <a:pt x="2232" y="2880"/>
                </a:cubicBezTo>
                <a:cubicBezTo>
                  <a:pt x="2264" y="2688"/>
                  <a:pt x="2544" y="2496"/>
                  <a:pt x="2568" y="2304"/>
                </a:cubicBezTo>
                <a:cubicBezTo>
                  <a:pt x="2592" y="2112"/>
                  <a:pt x="2528" y="1920"/>
                  <a:pt x="2376" y="1728"/>
                </a:cubicBezTo>
                <a:cubicBezTo>
                  <a:pt x="2224" y="1536"/>
                  <a:pt x="1872" y="1192"/>
                  <a:pt x="1656" y="1152"/>
                </a:cubicBezTo>
                <a:cubicBezTo>
                  <a:pt x="1440" y="1112"/>
                  <a:pt x="1288" y="1456"/>
                  <a:pt x="1080" y="1488"/>
                </a:cubicBezTo>
                <a:cubicBezTo>
                  <a:pt x="872" y="1520"/>
                  <a:pt x="584" y="1400"/>
                  <a:pt x="408" y="1344"/>
                </a:cubicBezTo>
                <a:cubicBezTo>
                  <a:pt x="232" y="1288"/>
                  <a:pt x="48" y="1224"/>
                  <a:pt x="24" y="1152"/>
                </a:cubicBezTo>
                <a:cubicBezTo>
                  <a:pt x="0" y="1080"/>
                  <a:pt x="144" y="976"/>
                  <a:pt x="264" y="912"/>
                </a:cubicBezTo>
                <a:cubicBezTo>
                  <a:pt x="384" y="848"/>
                  <a:pt x="656" y="800"/>
                  <a:pt x="744" y="768"/>
                </a:cubicBezTo>
                <a:cubicBezTo>
                  <a:pt x="832" y="736"/>
                  <a:pt x="720" y="792"/>
                  <a:pt x="792" y="720"/>
                </a:cubicBezTo>
                <a:cubicBezTo>
                  <a:pt x="864" y="648"/>
                  <a:pt x="1000" y="416"/>
                  <a:pt x="1176" y="336"/>
                </a:cubicBezTo>
                <a:cubicBezTo>
                  <a:pt x="1352" y="256"/>
                  <a:pt x="1840" y="296"/>
                  <a:pt x="1848" y="240"/>
                </a:cubicBezTo>
                <a:cubicBezTo>
                  <a:pt x="1856" y="184"/>
                  <a:pt x="1540" y="92"/>
                  <a:pt x="1224" y="0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796FA-1DA8-4BE4-90C1-8550B3C3416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Optics, not electronics, is now the cost effective method to utilize the large BW of optical fiber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“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The Electronic Bottleneck”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Transparency allows multiple protocols/bit rates to co-exist on fibers, as well as future proofing infrastructure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Optical amplifiers enable large island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09480" y="304920"/>
            <a:ext cx="86868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</a:rPr>
              <a:t>Tying it All Together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All-Optical Islands: Moti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837D-F699-4A2A-B6A3-7BD5354F7FB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784836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Physical impairments still limit scalability of all-optical network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Segmentation allows carriers to adopt new technology incrementally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50 GHz --&gt; 25 GHz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OC-48 --&gt; OC-192 --&gt; OC-768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L-band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Multi-vendor environmen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Subnetworks are easier to monitor and manage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09480" y="304920"/>
            <a:ext cx="86868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</a:rPr>
              <a:t>Tying it All Together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Why Not End-to-End All-Optical?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D4090-695D-420B-9E5C-20EEFF5D2BC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Agenda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99956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The public network challenge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Intelligent optical networking technologies and network element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Intelligent optical networking architectur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Internetworking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Future trend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222FF-7CF9-4ADB-B1E2-268ABF07EC0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/>
          <p:nvPr/>
        </p:nvSpPr>
        <p:spPr>
          <a:xfrm>
            <a:off x="457200" y="1409760"/>
            <a:ext cx="2362320" cy="50673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9172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ing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2700" spc="-1" strike="noStrike">
                <a:solidFill>
                  <a:srgbClr val="ffff00"/>
                </a:solidFill>
                <a:latin typeface="Albertus Medium"/>
                <a:ea typeface="굴림"/>
              </a:rPr>
              <a:t>Lightpath Networking: Architectures and Topologies</a:t>
            </a:r>
            <a:endParaRPr b="1" lang="en-US" sz="27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2286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50"/>
              </a:spcBef>
              <a:buClr>
                <a:srgbClr val="9c4e9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굴림"/>
              </a:rPr>
              <a:t>Super capacity &amp; distances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950"/>
              </a:spcBef>
              <a:buClr>
                <a:srgbClr val="9c4e9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굴림"/>
              </a:rPr>
              <a:t>IP, ATM, SONET/SDH backbones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950"/>
              </a:spcBef>
              <a:buClr>
                <a:srgbClr val="9c4e9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굴림"/>
              </a:rPr>
              <a:t>Bandwidth: 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spcBef>
                <a:spcPts val="425"/>
              </a:spcBef>
              <a:buClr>
                <a:srgbClr val="a49788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굴림"/>
              </a:rPr>
              <a:t>OC-192</a:t>
            </a:r>
            <a:endParaRPr b="1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spcBef>
                <a:spcPts val="425"/>
              </a:spcBef>
              <a:buClr>
                <a:srgbClr val="a49788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굴림"/>
              </a:rPr>
              <a:t>OC-768</a:t>
            </a:r>
            <a:endParaRPr b="1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950"/>
              </a:spcBef>
              <a:buClr>
                <a:srgbClr val="9c4e9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굴림"/>
              </a:rPr>
              <a:t>Point-to-point, mesh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950"/>
              </a:spcBef>
              <a:buClr>
                <a:srgbClr val="9c4e9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굴림"/>
              </a:rPr>
              <a:t>Need to regen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950"/>
              </a:spcBef>
              <a:buClr>
                <a:srgbClr val="9c4e9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-vendor environment 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419640" y="1409760"/>
            <a:ext cx="2361960" cy="50673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238800" y="1409760"/>
            <a:ext cx="2362320" cy="50673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952560" y="98964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331800" y="9896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tro, Interoff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089400" y="989640"/>
            <a:ext cx="259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cess and Enterp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419640" y="14860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9c4e9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raffic mi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9c4e9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ccess to B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buClr>
                <a:srgbClr val="a49788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ings prevala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buClr>
                <a:srgbClr val="a49788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iber rich in areas, poor in oth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9c4e9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horter distan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9c4e9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wer spee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buClr>
                <a:srgbClr val="a49788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C-3/12/48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315120" y="14860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9c4e9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ow cost poi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9c4e9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arger variety of traffic typ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buClr>
                <a:srgbClr val="a49788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Gigabit Eth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buClr>
                <a:srgbClr val="a49788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SC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buClr>
                <a:srgbClr val="a49788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DD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9c4e9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Uncontrolled environ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9c4e9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curity issu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a49788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E9134-CF4B-44E6-899E-EF9559F22AE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05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The Public Network Challeng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Limitations of SONET RING Architecture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54380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5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  <a:ea typeface="굴림"/>
              </a:rPr>
              <a:t>IP and private line requirements approaching OC-48c and OC-192c</a:t>
            </a:r>
            <a:endParaRPr b="1" lang="en-US" sz="23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115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  <a:ea typeface="굴림"/>
              </a:rPr>
              <a:t>Rings inefficient for large pipes</a:t>
            </a:r>
            <a:endParaRPr b="1" lang="en-US" sz="23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115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  <a:ea typeface="굴림"/>
              </a:rPr>
              <a:t>Interconnection of rings does not allow end-to-end provisioning and management</a:t>
            </a:r>
            <a:endParaRPr b="1" lang="en-US" sz="23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115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  <a:ea typeface="굴림"/>
              </a:rPr>
              <a:t>Upgrading requires upgrading of many rings</a:t>
            </a:r>
            <a:endParaRPr b="1" lang="en-US" sz="23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115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  <a:ea typeface="굴림"/>
              </a:rPr>
              <a:t>IP does not always need the protection BW of rings</a:t>
            </a:r>
            <a:endParaRPr b="1" lang="en-US" sz="23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115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  <a:ea typeface="굴림"/>
              </a:rPr>
              <a:t>Meshes are more efficient</a:t>
            </a:r>
            <a:endParaRPr b="1" lang="en-US" sz="23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Access to protection bandwidth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Shared protection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BW can be added where and when needed 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3FE69-AAC7-4581-B1E0-436EB4504A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2" name=""/>
          <p:cNvGrpSpPr/>
          <p:nvPr/>
        </p:nvGrpSpPr>
        <p:grpSpPr>
          <a:xfrm>
            <a:off x="487440" y="1295280"/>
            <a:ext cx="7970760" cy="5487480"/>
            <a:chOff x="487440" y="1295280"/>
            <a:chExt cx="7970760" cy="5487480"/>
          </a:xfrm>
        </p:grpSpPr>
        <p:sp>
          <p:nvSpPr>
            <p:cNvPr id="1683" name=""/>
            <p:cNvSpPr/>
            <p:nvPr/>
          </p:nvSpPr>
          <p:spPr>
            <a:xfrm>
              <a:off x="7032600" y="3591720"/>
              <a:ext cx="1425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ollection 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Distribution 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543640" y="4206240"/>
              <a:ext cx="142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952720" y="3973320"/>
              <a:ext cx="14238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109600" y="4817160"/>
              <a:ext cx="1714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Busines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cces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773760" y="5534640"/>
              <a:ext cx="1425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ollection 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Distribution 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324480" y="32684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645240" y="5151240"/>
              <a:ext cx="0" cy="517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498760" y="3757320"/>
              <a:ext cx="2316240" cy="8096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36400" y="1295280"/>
              <a:ext cx="1514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ong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Di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Backb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-  Internat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-  Nat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-  Reg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31720" y="3461040"/>
              <a:ext cx="1554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etro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nterOff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349960" y="4049640"/>
              <a:ext cx="1785960" cy="62532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584760" y="4257720"/>
              <a:ext cx="184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433600" y="3119400"/>
              <a:ext cx="37576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693880" y="2754360"/>
              <a:ext cx="776520" cy="9712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722240" y="4738680"/>
              <a:ext cx="356256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305080" y="5840280"/>
              <a:ext cx="284940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87440" y="4866120"/>
              <a:ext cx="1554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c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nterpr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84960" y="1847880"/>
              <a:ext cx="207324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835360" y="5734080"/>
              <a:ext cx="1689120" cy="80784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774880" y="5998320"/>
              <a:ext cx="171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Gigabit 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413320" y="4438440"/>
              <a:ext cx="0" cy="13604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2887560" y="1782720"/>
              <a:ext cx="1036800" cy="9064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017880" y="2754360"/>
              <a:ext cx="14238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081240" y="1458720"/>
              <a:ext cx="2656080" cy="103680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V="1">
              <a:off x="4441680" y="2495160"/>
              <a:ext cx="1231920" cy="258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413320" y="5086080"/>
              <a:ext cx="453960" cy="45432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9" name=""/>
            <p:cNvGrpSpPr/>
            <p:nvPr/>
          </p:nvGrpSpPr>
          <p:grpSpPr>
            <a:xfrm>
              <a:off x="5219640" y="5734080"/>
              <a:ext cx="388800" cy="464760"/>
              <a:chOff x="5219640" y="5734080"/>
              <a:chExt cx="388800" cy="464760"/>
            </a:xfrm>
          </p:grpSpPr>
          <p:sp>
            <p:nvSpPr>
              <p:cNvPr id="1710" name=""/>
              <p:cNvSpPr/>
              <p:nvPr/>
            </p:nvSpPr>
            <p:spPr>
              <a:xfrm flipH="1">
                <a:off x="5219640" y="5734080"/>
                <a:ext cx="194400" cy="45432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414040" y="5734080"/>
                <a:ext cx="194400" cy="45432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414040" y="5874480"/>
                <a:ext cx="0" cy="324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3" name=""/>
            <p:cNvSpPr/>
            <p:nvPr/>
          </p:nvSpPr>
          <p:spPr>
            <a:xfrm>
              <a:off x="2170080" y="4633920"/>
              <a:ext cx="1689120" cy="1035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4" name=""/>
            <p:cNvGrpSpPr/>
            <p:nvPr/>
          </p:nvGrpSpPr>
          <p:grpSpPr>
            <a:xfrm>
              <a:off x="6450120" y="5734080"/>
              <a:ext cx="388800" cy="464760"/>
              <a:chOff x="6450120" y="5734080"/>
              <a:chExt cx="388800" cy="464760"/>
            </a:xfrm>
          </p:grpSpPr>
          <p:sp>
            <p:nvSpPr>
              <p:cNvPr id="1715" name=""/>
              <p:cNvSpPr/>
              <p:nvPr/>
            </p:nvSpPr>
            <p:spPr>
              <a:xfrm flipH="1">
                <a:off x="6450120" y="5734080"/>
                <a:ext cx="194400" cy="45432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644520" y="5734080"/>
                <a:ext cx="194400" cy="45432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644520" y="5874480"/>
                <a:ext cx="0" cy="324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8" name=""/>
            <p:cNvSpPr/>
            <p:nvPr/>
          </p:nvSpPr>
          <p:spPr>
            <a:xfrm flipH="1">
              <a:off x="5932080" y="3660480"/>
              <a:ext cx="647640" cy="260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708600" y="3336840"/>
              <a:ext cx="648000" cy="19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7486560" y="3336840"/>
              <a:ext cx="9064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flipV="1">
              <a:off x="7486560" y="3336480"/>
              <a:ext cx="906480" cy="260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256440" y="4633920"/>
              <a:ext cx="1785960" cy="62388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680240" y="5086080"/>
              <a:ext cx="266760" cy="1699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450120" y="4779000"/>
              <a:ext cx="1425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Fee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989520" y="1717560"/>
              <a:ext cx="2460600" cy="13032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V="1">
              <a:off x="5932440" y="1912320"/>
              <a:ext cx="712800" cy="582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239920" y="5344920"/>
              <a:ext cx="264960" cy="17136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814480" y="4405320"/>
              <a:ext cx="316080" cy="2887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154480" y="4244760"/>
              <a:ext cx="316080" cy="2890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693880" y="6122880"/>
              <a:ext cx="265320" cy="1699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535200" y="6446880"/>
              <a:ext cx="266760" cy="16956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376520" y="5994360"/>
              <a:ext cx="266760" cy="1699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219640" y="5021280"/>
              <a:ext cx="264960" cy="17136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508800" y="4568760"/>
              <a:ext cx="264960" cy="1699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321240" y="1652400"/>
              <a:ext cx="427320" cy="3463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341520" y="3660480"/>
              <a:ext cx="243000" cy="2239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563920" y="2560680"/>
              <a:ext cx="428400" cy="344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665520" y="1589040"/>
              <a:ext cx="426960" cy="344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118040" y="2625480"/>
              <a:ext cx="428400" cy="344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313160" y="4373280"/>
              <a:ext cx="316080" cy="2890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284800" y="5734080"/>
              <a:ext cx="264960" cy="16956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737320" y="5410080"/>
              <a:ext cx="266400" cy="1699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514920" y="5734080"/>
              <a:ext cx="265320" cy="16956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514920" y="3531960"/>
              <a:ext cx="265320" cy="1699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292880" y="3273480"/>
              <a:ext cx="265320" cy="16956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514920" y="5151240"/>
              <a:ext cx="265320" cy="1699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276720" y="5605200"/>
              <a:ext cx="264960" cy="1699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130640" y="6506280"/>
              <a:ext cx="31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SCON, FDDI, Fiber Channel, Gigabit Eth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608440" y="2535120"/>
              <a:ext cx="459000" cy="14256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715000" y="3855960"/>
              <a:ext cx="244440" cy="2221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622840" y="2365200"/>
              <a:ext cx="428760" cy="3459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128840" y="4912560"/>
              <a:ext cx="74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-3, 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852800" y="3550320"/>
              <a:ext cx="59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-4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446640" y="220428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-48/192/76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Architectures and Topologie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756" name=""/>
          <p:cNvSpPr/>
          <p:nvPr/>
        </p:nvSpPr>
        <p:spPr>
          <a:xfrm>
            <a:off x="2513520" y="1782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E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251400" y="2345400"/>
            <a:ext cx="173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PSED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124440" y="399168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565240" y="574416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11571-D6B0-45EC-89A7-90CD86F88CF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05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ing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Network Architectures and Topologie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51055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Linear with OADM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Backbone mesh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Collapsed ring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Interoffice ring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Access ring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Dual homed ring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Tre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76B2D-9D70-4811-8E03-11D42525F42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 Architectures and Topologies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Linear with OADM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763" name=""/>
          <p:cNvSpPr/>
          <p:nvPr/>
        </p:nvSpPr>
        <p:spPr>
          <a:xfrm>
            <a:off x="5562720" y="6477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589320" y="3105720"/>
            <a:ext cx="8201880" cy="3066120"/>
            <a:chOff x="589320" y="3105720"/>
            <a:chExt cx="8201880" cy="3066120"/>
          </a:xfrm>
        </p:grpSpPr>
        <p:sp>
          <p:nvSpPr>
            <p:cNvPr id="1765" name=""/>
            <p:cNvSpPr/>
            <p:nvPr/>
          </p:nvSpPr>
          <p:spPr>
            <a:xfrm>
              <a:off x="1612800" y="4572000"/>
              <a:ext cx="60199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 rot="5400000">
              <a:off x="763560" y="4512240"/>
              <a:ext cx="1692360" cy="158760"/>
            </a:xfrm>
            <a:custGeom>
              <a:avLst/>
              <a:gdLst>
                <a:gd name="textAreaLeft" fmla="*/ 371880 w 1692360"/>
                <a:gd name="textAreaRight" fmla="*/ 1320480 w 1692360"/>
                <a:gd name="textAreaTop" fmla="*/ 34920 h 158760"/>
                <a:gd name="textAreaBottom" fmla="*/ 123840 h 1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7" name=""/>
            <p:cNvGrpSpPr/>
            <p:nvPr/>
          </p:nvGrpSpPr>
          <p:grpSpPr>
            <a:xfrm>
              <a:off x="1003320" y="3906720"/>
              <a:ext cx="492840" cy="1427040"/>
              <a:chOff x="1003320" y="3906720"/>
              <a:chExt cx="492840" cy="1427040"/>
            </a:xfrm>
          </p:grpSpPr>
          <p:sp>
            <p:nvSpPr>
              <p:cNvPr id="1768" name=""/>
              <p:cNvSpPr/>
              <p:nvPr/>
            </p:nvSpPr>
            <p:spPr>
              <a:xfrm>
                <a:off x="1003320" y="3906720"/>
                <a:ext cx="492840" cy="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1003320" y="4382280"/>
                <a:ext cx="4928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003320" y="4828320"/>
                <a:ext cx="49284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1003320" y="5333760"/>
                <a:ext cx="492840" cy="0"/>
              </a:xfrm>
              <a:prstGeom prst="line">
                <a:avLst/>
              </a:prstGeom>
              <a:ln w="25560">
                <a:solidFill>
                  <a:srgbClr val="f95a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2" name=""/>
            <p:cNvSpPr/>
            <p:nvPr/>
          </p:nvSpPr>
          <p:spPr>
            <a:xfrm flipH="1" flipV="1" rot="16200000">
              <a:off x="6865200" y="4512240"/>
              <a:ext cx="1692360" cy="158760"/>
            </a:xfrm>
            <a:custGeom>
              <a:avLst/>
              <a:gdLst>
                <a:gd name="textAreaLeft" fmla="*/ 371880 w 1692360"/>
                <a:gd name="textAreaRight" fmla="*/ 1320480 w 1692360"/>
                <a:gd name="textAreaTop" fmla="*/ 34920 h 158760"/>
                <a:gd name="textAreaBottom" fmla="*/ 123840 h 1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3" name=""/>
            <p:cNvGrpSpPr/>
            <p:nvPr/>
          </p:nvGrpSpPr>
          <p:grpSpPr>
            <a:xfrm>
              <a:off x="7799400" y="3906720"/>
              <a:ext cx="594720" cy="1351080"/>
              <a:chOff x="7799400" y="3906720"/>
              <a:chExt cx="594720" cy="1351080"/>
            </a:xfrm>
          </p:grpSpPr>
          <p:sp>
            <p:nvSpPr>
              <p:cNvPr id="1774" name=""/>
              <p:cNvSpPr/>
              <p:nvPr/>
            </p:nvSpPr>
            <p:spPr>
              <a:xfrm flipH="1">
                <a:off x="7799400" y="3906720"/>
                <a:ext cx="594720" cy="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H="1">
                <a:off x="7799400" y="4357080"/>
                <a:ext cx="5947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H="1">
                <a:off x="7799400" y="4779000"/>
                <a:ext cx="59472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H="1">
                <a:off x="7799400" y="5257800"/>
                <a:ext cx="594720" cy="0"/>
              </a:xfrm>
              <a:prstGeom prst="line">
                <a:avLst/>
              </a:prstGeom>
              <a:ln w="25560">
                <a:solidFill>
                  <a:srgbClr val="f95a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8" name=""/>
            <p:cNvSpPr/>
            <p:nvPr/>
          </p:nvSpPr>
          <p:spPr>
            <a:xfrm>
              <a:off x="4432320" y="4343400"/>
              <a:ext cx="228600" cy="2286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336760" y="4267080"/>
              <a:ext cx="175248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AD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0" name=""/>
            <p:cNvGrpSpPr/>
            <p:nvPr/>
          </p:nvGrpSpPr>
          <p:grpSpPr>
            <a:xfrm>
              <a:off x="2298600" y="4952520"/>
              <a:ext cx="1828800" cy="1219320"/>
              <a:chOff x="2298600" y="4952520"/>
              <a:chExt cx="1828800" cy="1219320"/>
            </a:xfrm>
          </p:grpSpPr>
          <p:grpSp>
            <p:nvGrpSpPr>
              <p:cNvPr id="1781" name=""/>
              <p:cNvGrpSpPr/>
              <p:nvPr/>
            </p:nvGrpSpPr>
            <p:grpSpPr>
              <a:xfrm>
                <a:off x="2298600" y="5790960"/>
                <a:ext cx="685800" cy="380880"/>
                <a:chOff x="2298600" y="5790960"/>
                <a:chExt cx="685800" cy="380880"/>
              </a:xfrm>
            </p:grpSpPr>
            <p:sp>
              <p:nvSpPr>
                <p:cNvPr id="1782" name=""/>
                <p:cNvSpPr/>
                <p:nvPr/>
              </p:nvSpPr>
              <p:spPr>
                <a:xfrm>
                  <a:off x="2298600" y="5790960"/>
                  <a:ext cx="685800" cy="3808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2329560" y="5827680"/>
                  <a:ext cx="604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AD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4" name=""/>
              <p:cNvGrpSpPr/>
              <p:nvPr/>
            </p:nvGrpSpPr>
            <p:grpSpPr>
              <a:xfrm>
                <a:off x="3441600" y="5790960"/>
                <a:ext cx="685800" cy="380880"/>
                <a:chOff x="3441600" y="5790960"/>
                <a:chExt cx="685800" cy="380880"/>
              </a:xfrm>
            </p:grpSpPr>
            <p:sp>
              <p:nvSpPr>
                <p:cNvPr id="1785" name=""/>
                <p:cNvSpPr/>
                <p:nvPr/>
              </p:nvSpPr>
              <p:spPr>
                <a:xfrm>
                  <a:off x="3441600" y="5790960"/>
                  <a:ext cx="685800" cy="3808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3472560" y="5827680"/>
                  <a:ext cx="604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AD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7" name=""/>
              <p:cNvGrpSpPr/>
              <p:nvPr/>
            </p:nvGrpSpPr>
            <p:grpSpPr>
              <a:xfrm>
                <a:off x="2489040" y="4952520"/>
                <a:ext cx="304920" cy="686160"/>
                <a:chOff x="2489040" y="4952520"/>
                <a:chExt cx="304920" cy="686160"/>
              </a:xfrm>
            </p:grpSpPr>
            <p:sp>
              <p:nvSpPr>
                <p:cNvPr id="1788" name=""/>
                <p:cNvSpPr/>
                <p:nvPr/>
              </p:nvSpPr>
              <p:spPr>
                <a:xfrm flipV="1">
                  <a:off x="2489040" y="4952520"/>
                  <a:ext cx="0" cy="68580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2793960" y="4952880"/>
                  <a:ext cx="0" cy="68580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0" name=""/>
              <p:cNvGrpSpPr/>
              <p:nvPr/>
            </p:nvGrpSpPr>
            <p:grpSpPr>
              <a:xfrm>
                <a:off x="3632040" y="4952520"/>
                <a:ext cx="304920" cy="686160"/>
                <a:chOff x="3632040" y="4952520"/>
                <a:chExt cx="304920" cy="686160"/>
              </a:xfrm>
            </p:grpSpPr>
            <p:sp>
              <p:nvSpPr>
                <p:cNvPr id="1791" name=""/>
                <p:cNvSpPr/>
                <p:nvPr/>
              </p:nvSpPr>
              <p:spPr>
                <a:xfrm flipV="1">
                  <a:off x="3632040" y="4952520"/>
                  <a:ext cx="0" cy="68580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3936960" y="4952880"/>
                  <a:ext cx="0" cy="68580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93" name=""/>
            <p:cNvSpPr/>
            <p:nvPr/>
          </p:nvSpPr>
          <p:spPr>
            <a:xfrm>
              <a:off x="5079960" y="4267080"/>
              <a:ext cx="175248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AD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4" name=""/>
            <p:cNvGrpSpPr/>
            <p:nvPr/>
          </p:nvGrpSpPr>
          <p:grpSpPr>
            <a:xfrm>
              <a:off x="5041800" y="4952520"/>
              <a:ext cx="1828800" cy="1219320"/>
              <a:chOff x="5041800" y="4952520"/>
              <a:chExt cx="1828800" cy="1219320"/>
            </a:xfrm>
          </p:grpSpPr>
          <p:grpSp>
            <p:nvGrpSpPr>
              <p:cNvPr id="1795" name=""/>
              <p:cNvGrpSpPr/>
              <p:nvPr/>
            </p:nvGrpSpPr>
            <p:grpSpPr>
              <a:xfrm>
                <a:off x="5041800" y="5790960"/>
                <a:ext cx="685800" cy="380880"/>
                <a:chOff x="5041800" y="5790960"/>
                <a:chExt cx="685800" cy="380880"/>
              </a:xfrm>
            </p:grpSpPr>
            <p:sp>
              <p:nvSpPr>
                <p:cNvPr id="1796" name=""/>
                <p:cNvSpPr/>
                <p:nvPr/>
              </p:nvSpPr>
              <p:spPr>
                <a:xfrm>
                  <a:off x="5041800" y="5790960"/>
                  <a:ext cx="685800" cy="3808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5072760" y="5827680"/>
                  <a:ext cx="604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AD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8" name=""/>
              <p:cNvGrpSpPr/>
              <p:nvPr/>
            </p:nvGrpSpPr>
            <p:grpSpPr>
              <a:xfrm>
                <a:off x="6184800" y="5790960"/>
                <a:ext cx="685800" cy="380880"/>
                <a:chOff x="6184800" y="5790960"/>
                <a:chExt cx="685800" cy="380880"/>
              </a:xfrm>
            </p:grpSpPr>
            <p:sp>
              <p:nvSpPr>
                <p:cNvPr id="1799" name=""/>
                <p:cNvSpPr/>
                <p:nvPr/>
              </p:nvSpPr>
              <p:spPr>
                <a:xfrm>
                  <a:off x="6184800" y="5790960"/>
                  <a:ext cx="685800" cy="3808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6215760" y="5827680"/>
                  <a:ext cx="604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AD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5232240" y="4952520"/>
                <a:ext cx="304920" cy="686160"/>
                <a:chOff x="5232240" y="4952520"/>
                <a:chExt cx="304920" cy="686160"/>
              </a:xfrm>
            </p:grpSpPr>
            <p:sp>
              <p:nvSpPr>
                <p:cNvPr id="1802" name=""/>
                <p:cNvSpPr/>
                <p:nvPr/>
              </p:nvSpPr>
              <p:spPr>
                <a:xfrm flipV="1">
                  <a:off x="5232240" y="4952520"/>
                  <a:ext cx="0" cy="68580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5537160" y="4952880"/>
                  <a:ext cx="0" cy="68580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4" name=""/>
              <p:cNvGrpSpPr/>
              <p:nvPr/>
            </p:nvGrpSpPr>
            <p:grpSpPr>
              <a:xfrm>
                <a:off x="6375240" y="4952520"/>
                <a:ext cx="304920" cy="686160"/>
                <a:chOff x="6375240" y="4952520"/>
                <a:chExt cx="304920" cy="686160"/>
              </a:xfrm>
            </p:grpSpPr>
            <p:sp>
              <p:nvSpPr>
                <p:cNvPr id="1805" name=""/>
                <p:cNvSpPr/>
                <p:nvPr/>
              </p:nvSpPr>
              <p:spPr>
                <a:xfrm flipV="1">
                  <a:off x="6375240" y="4952520"/>
                  <a:ext cx="0" cy="68580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6680160" y="4952880"/>
                  <a:ext cx="0" cy="68580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7" name=""/>
            <p:cNvGrpSpPr/>
            <p:nvPr/>
          </p:nvGrpSpPr>
          <p:grpSpPr>
            <a:xfrm>
              <a:off x="8470800" y="3822840"/>
              <a:ext cx="320400" cy="1505880"/>
              <a:chOff x="8470800" y="3822840"/>
              <a:chExt cx="320400" cy="1505880"/>
            </a:xfrm>
          </p:grpSpPr>
          <p:sp>
            <p:nvSpPr>
              <p:cNvPr id="1808" name=""/>
              <p:cNvSpPr/>
              <p:nvPr/>
            </p:nvSpPr>
            <p:spPr>
              <a:xfrm>
                <a:off x="8470800" y="3822840"/>
                <a:ext cx="320400" cy="1598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8470800" y="4279680"/>
                <a:ext cx="320400" cy="1598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8470800" y="4724280"/>
                <a:ext cx="320400" cy="1598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8470800" y="5168520"/>
                <a:ext cx="320400" cy="160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"/>
            <p:cNvGrpSpPr/>
            <p:nvPr/>
          </p:nvGrpSpPr>
          <p:grpSpPr>
            <a:xfrm>
              <a:off x="609480" y="3873600"/>
              <a:ext cx="320400" cy="1506600"/>
              <a:chOff x="609480" y="3873600"/>
              <a:chExt cx="320400" cy="1506600"/>
            </a:xfrm>
          </p:grpSpPr>
          <p:sp>
            <p:nvSpPr>
              <p:cNvPr id="1813" name=""/>
              <p:cNvSpPr/>
              <p:nvPr/>
            </p:nvSpPr>
            <p:spPr>
              <a:xfrm>
                <a:off x="609480" y="3873600"/>
                <a:ext cx="320400" cy="160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609480" y="4330800"/>
                <a:ext cx="320400" cy="160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09480" y="4775400"/>
                <a:ext cx="320400" cy="160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09480" y="5219640"/>
                <a:ext cx="320400" cy="160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7" name=""/>
            <p:cNvSpPr/>
            <p:nvPr/>
          </p:nvSpPr>
          <p:spPr>
            <a:xfrm>
              <a:off x="589320" y="310572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W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001360" y="310752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9644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굴림"/>
              </a:rPr>
              <a:t>Fixed wavelength (static)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3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굴림"/>
              </a:rPr>
              <a:t>Wavelength selectable (configurable)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197F7-8E30-459D-AFE0-F2DA949B3E3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 Architectures and Topologies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Backbone Mesh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821" name=""/>
          <p:cNvSpPr/>
          <p:nvPr/>
        </p:nvSpPr>
        <p:spPr>
          <a:xfrm>
            <a:off x="2743200" y="1371600"/>
            <a:ext cx="518148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5257800" y="1523880"/>
            <a:ext cx="2971800" cy="335304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flipV="1">
            <a:off x="8381880" y="1371600"/>
            <a:ext cx="0" cy="510552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6858000" y="1371600"/>
            <a:ext cx="1447920" cy="175248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572000" y="1066680"/>
            <a:ext cx="6094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914400"/>
            <a:ext cx="6098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6324480" y="2819520"/>
            <a:ext cx="6098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8001000" y="4495680"/>
            <a:ext cx="6094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762120" y="2819520"/>
            <a:ext cx="2895480" cy="28191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4fcfa"/>
              </a:gs>
            </a:gsLst>
            <a:lin ang="135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1371600" y="3467160"/>
            <a:ext cx="304560" cy="609480"/>
            <a:chOff x="1371600" y="3467160"/>
            <a:chExt cx="304560" cy="609480"/>
          </a:xfrm>
        </p:grpSpPr>
        <p:sp>
          <p:nvSpPr>
            <p:cNvPr id="1831" name=""/>
            <p:cNvSpPr/>
            <p:nvPr/>
          </p:nvSpPr>
          <p:spPr>
            <a:xfrm>
              <a:off x="1371600" y="3467160"/>
              <a:ext cx="30456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371600" y="3619440"/>
              <a:ext cx="30456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371600" y="3771720"/>
              <a:ext cx="30456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371600" y="3924000"/>
              <a:ext cx="30456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371600" y="4076640"/>
              <a:ext cx="30456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6" name=""/>
          <p:cNvGrpSpPr/>
          <p:nvPr/>
        </p:nvGrpSpPr>
        <p:grpSpPr>
          <a:xfrm>
            <a:off x="2666880" y="3467160"/>
            <a:ext cx="304920" cy="609480"/>
            <a:chOff x="2666880" y="3467160"/>
            <a:chExt cx="304920" cy="609480"/>
          </a:xfrm>
        </p:grpSpPr>
        <p:sp>
          <p:nvSpPr>
            <p:cNvPr id="1837" name=""/>
            <p:cNvSpPr/>
            <p:nvPr/>
          </p:nvSpPr>
          <p:spPr>
            <a:xfrm>
              <a:off x="2666880" y="3467160"/>
              <a:ext cx="3049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666880" y="3619440"/>
              <a:ext cx="3049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666880" y="3771720"/>
              <a:ext cx="3049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666880" y="3924000"/>
              <a:ext cx="3049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666880" y="4076640"/>
              <a:ext cx="3049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2" name=""/>
          <p:cNvGrpSpPr/>
          <p:nvPr/>
        </p:nvGrpSpPr>
        <p:grpSpPr>
          <a:xfrm>
            <a:off x="1828800" y="4266720"/>
            <a:ext cx="609480" cy="304920"/>
            <a:chOff x="1828800" y="4266720"/>
            <a:chExt cx="609480" cy="304920"/>
          </a:xfrm>
        </p:grpSpPr>
        <p:sp>
          <p:nvSpPr>
            <p:cNvPr id="1843" name=""/>
            <p:cNvSpPr/>
            <p:nvPr/>
          </p:nvSpPr>
          <p:spPr>
            <a:xfrm flipV="1">
              <a:off x="1828800" y="4266720"/>
              <a:ext cx="0" cy="3049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1981080" y="4266720"/>
              <a:ext cx="0" cy="3049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2133360" y="4266720"/>
              <a:ext cx="0" cy="3049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V="1">
              <a:off x="2286000" y="4266720"/>
              <a:ext cx="0" cy="3049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2438280" y="4266720"/>
              <a:ext cx="0" cy="3049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8" name=""/>
          <p:cNvSpPr/>
          <p:nvPr/>
        </p:nvSpPr>
        <p:spPr>
          <a:xfrm flipH="1" flipV="1" rot="16200000">
            <a:off x="608760" y="3618360"/>
            <a:ext cx="1219320" cy="304920"/>
          </a:xfrm>
          <a:custGeom>
            <a:avLst/>
            <a:gdLst>
              <a:gd name="textAreaLeft" fmla="*/ 267840 w 1219320"/>
              <a:gd name="textAreaRight" fmla="*/ 951480 w 12193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V="1" rot="5400000">
            <a:off x="2514600" y="3618360"/>
            <a:ext cx="1219320" cy="304920"/>
          </a:xfrm>
          <a:custGeom>
            <a:avLst/>
            <a:gdLst>
              <a:gd name="textAreaLeft" fmla="*/ 267840 w 1219320"/>
              <a:gd name="textAreaRight" fmla="*/ 951480 w 12193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523880" y="4572000"/>
            <a:ext cx="12193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1" name=""/>
          <p:cNvGrpSpPr/>
          <p:nvPr/>
        </p:nvGrpSpPr>
        <p:grpSpPr>
          <a:xfrm>
            <a:off x="914400" y="6095880"/>
            <a:ext cx="700200" cy="433440"/>
            <a:chOff x="914400" y="6095880"/>
            <a:chExt cx="700200" cy="433440"/>
          </a:xfrm>
        </p:grpSpPr>
        <p:sp>
          <p:nvSpPr>
            <p:cNvPr id="1852" name=""/>
            <p:cNvSpPr/>
            <p:nvPr/>
          </p:nvSpPr>
          <p:spPr>
            <a:xfrm>
              <a:off x="920880" y="6102360"/>
              <a:ext cx="685800" cy="419040"/>
            </a:xfrm>
            <a:custGeom>
              <a:avLst/>
              <a:gdLst/>
              <a:ahLst/>
              <a:rect l="l" t="t" r="r" b="b"/>
              <a:pathLst>
                <a:path w="432" h="264">
                  <a:moveTo>
                    <a:pt x="216" y="0"/>
                  </a:move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4" y="211"/>
                  </a:lnTo>
                  <a:lnTo>
                    <a:pt x="10" y="217"/>
                  </a:lnTo>
                  <a:lnTo>
                    <a:pt x="17" y="224"/>
                  </a:lnTo>
                  <a:lnTo>
                    <a:pt x="26" y="229"/>
                  </a:lnTo>
                  <a:lnTo>
                    <a:pt x="37" y="235"/>
                  </a:lnTo>
                  <a:lnTo>
                    <a:pt x="49" y="240"/>
                  </a:lnTo>
                  <a:lnTo>
                    <a:pt x="63" y="245"/>
                  </a:lnTo>
                  <a:lnTo>
                    <a:pt x="79" y="249"/>
                  </a:lnTo>
                  <a:lnTo>
                    <a:pt x="95" y="253"/>
                  </a:lnTo>
                  <a:lnTo>
                    <a:pt x="113" y="256"/>
                  </a:lnTo>
                  <a:lnTo>
                    <a:pt x="132" y="259"/>
                  </a:lnTo>
                  <a:lnTo>
                    <a:pt x="173" y="263"/>
                  </a:lnTo>
                  <a:lnTo>
                    <a:pt x="216" y="264"/>
                  </a:lnTo>
                  <a:lnTo>
                    <a:pt x="259" y="263"/>
                  </a:lnTo>
                  <a:lnTo>
                    <a:pt x="300" y="259"/>
                  </a:lnTo>
                  <a:lnTo>
                    <a:pt x="319" y="256"/>
                  </a:lnTo>
                  <a:lnTo>
                    <a:pt x="337" y="253"/>
                  </a:lnTo>
                  <a:lnTo>
                    <a:pt x="353" y="249"/>
                  </a:lnTo>
                  <a:lnTo>
                    <a:pt x="369" y="245"/>
                  </a:lnTo>
                  <a:lnTo>
                    <a:pt x="383" y="240"/>
                  </a:lnTo>
                  <a:lnTo>
                    <a:pt x="395" y="235"/>
                  </a:lnTo>
                  <a:lnTo>
                    <a:pt x="406" y="229"/>
                  </a:lnTo>
                  <a:lnTo>
                    <a:pt x="415" y="224"/>
                  </a:lnTo>
                  <a:lnTo>
                    <a:pt x="422" y="217"/>
                  </a:lnTo>
                  <a:lnTo>
                    <a:pt x="428" y="211"/>
                  </a:lnTo>
                  <a:lnTo>
                    <a:pt x="431" y="205"/>
                  </a:lnTo>
                  <a:lnTo>
                    <a:pt x="432" y="198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920880" y="6102360"/>
              <a:ext cx="685800" cy="209520"/>
            </a:xfrm>
            <a:custGeom>
              <a:avLst/>
              <a:gdLst/>
              <a:ahLst/>
              <a:rect l="l" t="t" r="r" b="b"/>
              <a:pathLst>
                <a:path w="432" h="132">
                  <a:moveTo>
                    <a:pt x="0" y="66"/>
                  </a:moveTo>
                  <a:lnTo>
                    <a:pt x="1" y="73"/>
                  </a:lnTo>
                  <a:lnTo>
                    <a:pt x="4" y="79"/>
                  </a:lnTo>
                  <a:lnTo>
                    <a:pt x="10" y="85"/>
                  </a:lnTo>
                  <a:lnTo>
                    <a:pt x="17" y="92"/>
                  </a:lnTo>
                  <a:lnTo>
                    <a:pt x="26" y="97"/>
                  </a:lnTo>
                  <a:lnTo>
                    <a:pt x="37" y="103"/>
                  </a:lnTo>
                  <a:lnTo>
                    <a:pt x="49" y="108"/>
                  </a:lnTo>
                  <a:lnTo>
                    <a:pt x="63" y="113"/>
                  </a:lnTo>
                  <a:lnTo>
                    <a:pt x="79" y="117"/>
                  </a:lnTo>
                  <a:lnTo>
                    <a:pt x="95" y="121"/>
                  </a:lnTo>
                  <a:lnTo>
                    <a:pt x="113" y="124"/>
                  </a:lnTo>
                  <a:lnTo>
                    <a:pt x="132" y="127"/>
                  </a:lnTo>
                  <a:lnTo>
                    <a:pt x="173" y="131"/>
                  </a:lnTo>
                  <a:lnTo>
                    <a:pt x="216" y="132"/>
                  </a:lnTo>
                  <a:lnTo>
                    <a:pt x="259" y="131"/>
                  </a:lnTo>
                  <a:lnTo>
                    <a:pt x="300" y="127"/>
                  </a:lnTo>
                  <a:lnTo>
                    <a:pt x="319" y="124"/>
                  </a:lnTo>
                  <a:lnTo>
                    <a:pt x="337" y="121"/>
                  </a:lnTo>
                  <a:lnTo>
                    <a:pt x="353" y="117"/>
                  </a:lnTo>
                  <a:lnTo>
                    <a:pt x="369" y="113"/>
                  </a:lnTo>
                  <a:lnTo>
                    <a:pt x="383" y="108"/>
                  </a:lnTo>
                  <a:lnTo>
                    <a:pt x="395" y="103"/>
                  </a:lnTo>
                  <a:lnTo>
                    <a:pt x="406" y="97"/>
                  </a:lnTo>
                  <a:lnTo>
                    <a:pt x="415" y="92"/>
                  </a:lnTo>
                  <a:lnTo>
                    <a:pt x="422" y="85"/>
                  </a:lnTo>
                  <a:lnTo>
                    <a:pt x="428" y="79"/>
                  </a:lnTo>
                  <a:lnTo>
                    <a:pt x="431" y="73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914400" y="6095880"/>
              <a:ext cx="700200" cy="433440"/>
            </a:xfrm>
            <a:custGeom>
              <a:avLst/>
              <a:gdLst/>
              <a:ahLst/>
              <a:rect l="l" t="t" r="r" b="b"/>
              <a:pathLst>
                <a:path w="441" h="273">
                  <a:moveTo>
                    <a:pt x="177" y="1"/>
                  </a:moveTo>
                  <a:lnTo>
                    <a:pt x="136" y="5"/>
                  </a:lnTo>
                  <a:lnTo>
                    <a:pt x="117" y="8"/>
                  </a:lnTo>
                  <a:lnTo>
                    <a:pt x="99" y="11"/>
                  </a:lnTo>
                  <a:lnTo>
                    <a:pt x="83" y="15"/>
                  </a:lnTo>
                  <a:lnTo>
                    <a:pt x="67" y="19"/>
                  </a:lnTo>
                  <a:lnTo>
                    <a:pt x="53" y="24"/>
                  </a:lnTo>
                  <a:lnTo>
                    <a:pt x="41" y="29"/>
                  </a:lnTo>
                  <a:lnTo>
                    <a:pt x="38" y="30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4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2" y="212"/>
                  </a:lnTo>
                  <a:lnTo>
                    <a:pt x="5" y="218"/>
                  </a:lnTo>
                  <a:lnTo>
                    <a:pt x="11" y="224"/>
                  </a:lnTo>
                  <a:lnTo>
                    <a:pt x="18" y="231"/>
                  </a:lnTo>
                  <a:lnTo>
                    <a:pt x="27" y="236"/>
                  </a:lnTo>
                  <a:lnTo>
                    <a:pt x="38" y="242"/>
                  </a:lnTo>
                  <a:lnTo>
                    <a:pt x="41" y="243"/>
                  </a:lnTo>
                  <a:lnTo>
                    <a:pt x="53" y="248"/>
                  </a:lnTo>
                  <a:lnTo>
                    <a:pt x="67" y="253"/>
                  </a:lnTo>
                  <a:lnTo>
                    <a:pt x="83" y="257"/>
                  </a:lnTo>
                  <a:lnTo>
                    <a:pt x="99" y="261"/>
                  </a:lnTo>
                  <a:lnTo>
                    <a:pt x="117" y="264"/>
                  </a:lnTo>
                  <a:lnTo>
                    <a:pt x="136" y="267"/>
                  </a:lnTo>
                  <a:lnTo>
                    <a:pt x="177" y="271"/>
                  </a:lnTo>
                  <a:lnTo>
                    <a:pt x="220" y="273"/>
                  </a:lnTo>
                  <a:lnTo>
                    <a:pt x="263" y="271"/>
                  </a:lnTo>
                  <a:lnTo>
                    <a:pt x="304" y="267"/>
                  </a:lnTo>
                  <a:lnTo>
                    <a:pt x="323" y="264"/>
                  </a:lnTo>
                  <a:lnTo>
                    <a:pt x="341" y="261"/>
                  </a:lnTo>
                  <a:lnTo>
                    <a:pt x="357" y="257"/>
                  </a:lnTo>
                  <a:lnTo>
                    <a:pt x="373" y="253"/>
                  </a:lnTo>
                  <a:lnTo>
                    <a:pt x="387" y="248"/>
                  </a:lnTo>
                  <a:lnTo>
                    <a:pt x="399" y="243"/>
                  </a:lnTo>
                  <a:lnTo>
                    <a:pt x="402" y="242"/>
                  </a:lnTo>
                  <a:lnTo>
                    <a:pt x="413" y="236"/>
                  </a:lnTo>
                  <a:lnTo>
                    <a:pt x="422" y="231"/>
                  </a:lnTo>
                  <a:lnTo>
                    <a:pt x="429" y="224"/>
                  </a:lnTo>
                  <a:lnTo>
                    <a:pt x="435" y="218"/>
                  </a:lnTo>
                  <a:lnTo>
                    <a:pt x="438" y="212"/>
                  </a:lnTo>
                  <a:lnTo>
                    <a:pt x="439" y="209"/>
                  </a:lnTo>
                  <a:lnTo>
                    <a:pt x="441" y="202"/>
                  </a:lnTo>
                  <a:lnTo>
                    <a:pt x="441" y="70"/>
                  </a:lnTo>
                  <a:lnTo>
                    <a:pt x="439" y="63"/>
                  </a:lnTo>
                  <a:lnTo>
                    <a:pt x="438" y="60"/>
                  </a:lnTo>
                  <a:lnTo>
                    <a:pt x="435" y="54"/>
                  </a:lnTo>
                  <a:lnTo>
                    <a:pt x="429" y="48"/>
                  </a:lnTo>
                  <a:lnTo>
                    <a:pt x="422" y="42"/>
                  </a:lnTo>
                  <a:lnTo>
                    <a:pt x="413" y="36"/>
                  </a:lnTo>
                  <a:lnTo>
                    <a:pt x="402" y="30"/>
                  </a:lnTo>
                  <a:lnTo>
                    <a:pt x="399" y="29"/>
                  </a:lnTo>
                  <a:lnTo>
                    <a:pt x="387" y="24"/>
                  </a:lnTo>
                  <a:lnTo>
                    <a:pt x="373" y="19"/>
                  </a:lnTo>
                  <a:lnTo>
                    <a:pt x="357" y="15"/>
                  </a:lnTo>
                  <a:lnTo>
                    <a:pt x="341" y="11"/>
                  </a:lnTo>
                  <a:lnTo>
                    <a:pt x="323" y="8"/>
                  </a:lnTo>
                  <a:lnTo>
                    <a:pt x="304" y="5"/>
                  </a:lnTo>
                  <a:lnTo>
                    <a:pt x="263" y="1"/>
                  </a:lnTo>
                  <a:lnTo>
                    <a:pt x="220" y="0"/>
                  </a:lnTo>
                  <a:lnTo>
                    <a:pt x="177" y="1"/>
                  </a:lnTo>
                  <a:close/>
                  <a:moveTo>
                    <a:pt x="220" y="9"/>
                  </a:moveTo>
                  <a:lnTo>
                    <a:pt x="263" y="10"/>
                  </a:lnTo>
                  <a:lnTo>
                    <a:pt x="304" y="14"/>
                  </a:lnTo>
                  <a:lnTo>
                    <a:pt x="323" y="17"/>
                  </a:lnTo>
                  <a:lnTo>
                    <a:pt x="341" y="20"/>
                  </a:lnTo>
                  <a:lnTo>
                    <a:pt x="357" y="24"/>
                  </a:lnTo>
                  <a:lnTo>
                    <a:pt x="373" y="28"/>
                  </a:lnTo>
                  <a:lnTo>
                    <a:pt x="387" y="33"/>
                  </a:lnTo>
                  <a:lnTo>
                    <a:pt x="399" y="38"/>
                  </a:lnTo>
                  <a:lnTo>
                    <a:pt x="399" y="33"/>
                  </a:lnTo>
                  <a:lnTo>
                    <a:pt x="396" y="36"/>
                  </a:lnTo>
                  <a:lnTo>
                    <a:pt x="407" y="42"/>
                  </a:lnTo>
                  <a:lnTo>
                    <a:pt x="416" y="48"/>
                  </a:lnTo>
                  <a:lnTo>
                    <a:pt x="423" y="54"/>
                  </a:lnTo>
                  <a:lnTo>
                    <a:pt x="429" y="60"/>
                  </a:lnTo>
                  <a:lnTo>
                    <a:pt x="432" y="66"/>
                  </a:lnTo>
                  <a:lnTo>
                    <a:pt x="435" y="63"/>
                  </a:lnTo>
                  <a:lnTo>
                    <a:pt x="430" y="63"/>
                  </a:lnTo>
                  <a:lnTo>
                    <a:pt x="432" y="70"/>
                  </a:lnTo>
                  <a:lnTo>
                    <a:pt x="432" y="202"/>
                  </a:lnTo>
                  <a:lnTo>
                    <a:pt x="430" y="209"/>
                  </a:lnTo>
                  <a:lnTo>
                    <a:pt x="435" y="209"/>
                  </a:lnTo>
                  <a:lnTo>
                    <a:pt x="432" y="206"/>
                  </a:lnTo>
                  <a:lnTo>
                    <a:pt x="429" y="212"/>
                  </a:lnTo>
                  <a:lnTo>
                    <a:pt x="423" y="218"/>
                  </a:lnTo>
                  <a:lnTo>
                    <a:pt x="416" y="225"/>
                  </a:lnTo>
                  <a:lnTo>
                    <a:pt x="407" y="230"/>
                  </a:lnTo>
                  <a:lnTo>
                    <a:pt x="396" y="236"/>
                  </a:lnTo>
                  <a:lnTo>
                    <a:pt x="399" y="239"/>
                  </a:lnTo>
                  <a:lnTo>
                    <a:pt x="399" y="234"/>
                  </a:lnTo>
                  <a:lnTo>
                    <a:pt x="387" y="239"/>
                  </a:lnTo>
                  <a:lnTo>
                    <a:pt x="373" y="244"/>
                  </a:lnTo>
                  <a:lnTo>
                    <a:pt x="357" y="248"/>
                  </a:lnTo>
                  <a:lnTo>
                    <a:pt x="341" y="252"/>
                  </a:lnTo>
                  <a:lnTo>
                    <a:pt x="323" y="255"/>
                  </a:lnTo>
                  <a:lnTo>
                    <a:pt x="304" y="258"/>
                  </a:lnTo>
                  <a:lnTo>
                    <a:pt x="263" y="262"/>
                  </a:lnTo>
                  <a:lnTo>
                    <a:pt x="220" y="264"/>
                  </a:lnTo>
                  <a:lnTo>
                    <a:pt x="177" y="262"/>
                  </a:lnTo>
                  <a:lnTo>
                    <a:pt x="136" y="258"/>
                  </a:lnTo>
                  <a:lnTo>
                    <a:pt x="117" y="255"/>
                  </a:lnTo>
                  <a:lnTo>
                    <a:pt x="99" y="252"/>
                  </a:lnTo>
                  <a:lnTo>
                    <a:pt x="83" y="248"/>
                  </a:lnTo>
                  <a:lnTo>
                    <a:pt x="67" y="244"/>
                  </a:lnTo>
                  <a:lnTo>
                    <a:pt x="53" y="239"/>
                  </a:lnTo>
                  <a:lnTo>
                    <a:pt x="41" y="234"/>
                  </a:lnTo>
                  <a:lnTo>
                    <a:pt x="41" y="239"/>
                  </a:lnTo>
                  <a:lnTo>
                    <a:pt x="44" y="236"/>
                  </a:lnTo>
                  <a:lnTo>
                    <a:pt x="33" y="230"/>
                  </a:lnTo>
                  <a:lnTo>
                    <a:pt x="24" y="225"/>
                  </a:lnTo>
                  <a:lnTo>
                    <a:pt x="17" y="218"/>
                  </a:lnTo>
                  <a:lnTo>
                    <a:pt x="11" y="212"/>
                  </a:lnTo>
                  <a:lnTo>
                    <a:pt x="8" y="206"/>
                  </a:lnTo>
                  <a:lnTo>
                    <a:pt x="5" y="209"/>
                  </a:lnTo>
                  <a:lnTo>
                    <a:pt x="10" y="209"/>
                  </a:lnTo>
                  <a:lnTo>
                    <a:pt x="9" y="202"/>
                  </a:lnTo>
                  <a:lnTo>
                    <a:pt x="9" y="70"/>
                  </a:lnTo>
                  <a:lnTo>
                    <a:pt x="10" y="63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1" y="60"/>
                  </a:lnTo>
                  <a:lnTo>
                    <a:pt x="17" y="54"/>
                  </a:lnTo>
                  <a:lnTo>
                    <a:pt x="24" y="48"/>
                  </a:lnTo>
                  <a:lnTo>
                    <a:pt x="33" y="42"/>
                  </a:lnTo>
                  <a:lnTo>
                    <a:pt x="44" y="36"/>
                  </a:lnTo>
                  <a:lnTo>
                    <a:pt x="41" y="33"/>
                  </a:lnTo>
                  <a:lnTo>
                    <a:pt x="41" y="38"/>
                  </a:lnTo>
                  <a:lnTo>
                    <a:pt x="53" y="33"/>
                  </a:lnTo>
                  <a:lnTo>
                    <a:pt x="67" y="28"/>
                  </a:lnTo>
                  <a:lnTo>
                    <a:pt x="83" y="24"/>
                  </a:lnTo>
                  <a:lnTo>
                    <a:pt x="99" y="20"/>
                  </a:lnTo>
                  <a:lnTo>
                    <a:pt x="117" y="17"/>
                  </a:lnTo>
                  <a:lnTo>
                    <a:pt x="136" y="14"/>
                  </a:lnTo>
                  <a:lnTo>
                    <a:pt x="177" y="10"/>
                  </a:lnTo>
                  <a:lnTo>
                    <a:pt x="220" y="9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914400" y="6207120"/>
              <a:ext cx="700200" cy="112680"/>
            </a:xfrm>
            <a:custGeom>
              <a:avLst/>
              <a:gdLst/>
              <a:ahLst/>
              <a:rect l="l" t="t" r="r" b="b"/>
              <a:pathLst>
                <a:path w="441" h="71">
                  <a:moveTo>
                    <a:pt x="9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11" y="22"/>
                  </a:lnTo>
                  <a:lnTo>
                    <a:pt x="18" y="29"/>
                  </a:lnTo>
                  <a:lnTo>
                    <a:pt x="27" y="34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53" y="46"/>
                  </a:lnTo>
                  <a:lnTo>
                    <a:pt x="67" y="51"/>
                  </a:lnTo>
                  <a:lnTo>
                    <a:pt x="83" y="55"/>
                  </a:lnTo>
                  <a:lnTo>
                    <a:pt x="99" y="59"/>
                  </a:lnTo>
                  <a:lnTo>
                    <a:pt x="117" y="62"/>
                  </a:lnTo>
                  <a:lnTo>
                    <a:pt x="136" y="65"/>
                  </a:lnTo>
                  <a:lnTo>
                    <a:pt x="177" y="69"/>
                  </a:lnTo>
                  <a:lnTo>
                    <a:pt x="220" y="71"/>
                  </a:lnTo>
                  <a:lnTo>
                    <a:pt x="263" y="69"/>
                  </a:lnTo>
                  <a:lnTo>
                    <a:pt x="304" y="65"/>
                  </a:lnTo>
                  <a:lnTo>
                    <a:pt x="323" y="62"/>
                  </a:lnTo>
                  <a:lnTo>
                    <a:pt x="341" y="59"/>
                  </a:lnTo>
                  <a:lnTo>
                    <a:pt x="357" y="55"/>
                  </a:lnTo>
                  <a:lnTo>
                    <a:pt x="373" y="51"/>
                  </a:lnTo>
                  <a:lnTo>
                    <a:pt x="387" y="46"/>
                  </a:lnTo>
                  <a:lnTo>
                    <a:pt x="399" y="41"/>
                  </a:lnTo>
                  <a:lnTo>
                    <a:pt x="402" y="40"/>
                  </a:lnTo>
                  <a:lnTo>
                    <a:pt x="413" y="34"/>
                  </a:lnTo>
                  <a:lnTo>
                    <a:pt x="422" y="29"/>
                  </a:lnTo>
                  <a:lnTo>
                    <a:pt x="429" y="22"/>
                  </a:lnTo>
                  <a:lnTo>
                    <a:pt x="435" y="16"/>
                  </a:lnTo>
                  <a:lnTo>
                    <a:pt x="438" y="10"/>
                  </a:lnTo>
                  <a:lnTo>
                    <a:pt x="439" y="7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30" y="7"/>
                  </a:lnTo>
                  <a:lnTo>
                    <a:pt x="435" y="7"/>
                  </a:lnTo>
                  <a:lnTo>
                    <a:pt x="432" y="4"/>
                  </a:lnTo>
                  <a:lnTo>
                    <a:pt x="429" y="10"/>
                  </a:lnTo>
                  <a:lnTo>
                    <a:pt x="423" y="16"/>
                  </a:lnTo>
                  <a:lnTo>
                    <a:pt x="416" y="23"/>
                  </a:lnTo>
                  <a:lnTo>
                    <a:pt x="407" y="28"/>
                  </a:lnTo>
                  <a:lnTo>
                    <a:pt x="396" y="34"/>
                  </a:lnTo>
                  <a:lnTo>
                    <a:pt x="399" y="37"/>
                  </a:lnTo>
                  <a:lnTo>
                    <a:pt x="399" y="32"/>
                  </a:lnTo>
                  <a:lnTo>
                    <a:pt x="387" y="37"/>
                  </a:lnTo>
                  <a:lnTo>
                    <a:pt x="373" y="42"/>
                  </a:lnTo>
                  <a:lnTo>
                    <a:pt x="357" y="46"/>
                  </a:lnTo>
                  <a:lnTo>
                    <a:pt x="341" y="50"/>
                  </a:lnTo>
                  <a:lnTo>
                    <a:pt x="323" y="53"/>
                  </a:lnTo>
                  <a:lnTo>
                    <a:pt x="304" y="56"/>
                  </a:lnTo>
                  <a:lnTo>
                    <a:pt x="263" y="60"/>
                  </a:lnTo>
                  <a:lnTo>
                    <a:pt x="220" y="62"/>
                  </a:lnTo>
                  <a:lnTo>
                    <a:pt x="177" y="60"/>
                  </a:lnTo>
                  <a:lnTo>
                    <a:pt x="136" y="56"/>
                  </a:lnTo>
                  <a:lnTo>
                    <a:pt x="117" y="53"/>
                  </a:lnTo>
                  <a:lnTo>
                    <a:pt x="99" y="50"/>
                  </a:lnTo>
                  <a:lnTo>
                    <a:pt x="83" y="46"/>
                  </a:lnTo>
                  <a:lnTo>
                    <a:pt x="67" y="42"/>
                  </a:lnTo>
                  <a:lnTo>
                    <a:pt x="53" y="37"/>
                  </a:lnTo>
                  <a:lnTo>
                    <a:pt x="41" y="3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33" y="28"/>
                  </a:lnTo>
                  <a:lnTo>
                    <a:pt x="24" y="23"/>
                  </a:lnTo>
                  <a:lnTo>
                    <a:pt x="17" y="16"/>
                  </a:lnTo>
                  <a:lnTo>
                    <a:pt x="11" y="10"/>
                  </a:lnTo>
                  <a:lnTo>
                    <a:pt x="8" y="4"/>
                  </a:lnTo>
                  <a:lnTo>
                    <a:pt x="5" y="7"/>
                  </a:lnTo>
                  <a:lnTo>
                    <a:pt x="10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6" name=""/>
            <p:cNvGrpSpPr/>
            <p:nvPr/>
          </p:nvGrpSpPr>
          <p:grpSpPr>
            <a:xfrm>
              <a:off x="996840" y="6135480"/>
              <a:ext cx="515880" cy="146160"/>
              <a:chOff x="996840" y="6135480"/>
              <a:chExt cx="515880" cy="146160"/>
            </a:xfrm>
          </p:grpSpPr>
          <p:sp>
            <p:nvSpPr>
              <p:cNvPr id="1857" name=""/>
              <p:cNvSpPr/>
              <p:nvPr/>
            </p:nvSpPr>
            <p:spPr>
              <a:xfrm>
                <a:off x="1265400" y="6138720"/>
                <a:ext cx="24732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65400" y="6138720"/>
                <a:ext cx="24732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996840" y="6211800"/>
                <a:ext cx="247680" cy="66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996840" y="6211800"/>
                <a:ext cx="247680" cy="66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011240" y="6135480"/>
                <a:ext cx="24768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011240" y="6135480"/>
                <a:ext cx="247680" cy="6336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7480" y="6217920"/>
                <a:ext cx="245880" cy="63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7480" y="6217920"/>
                <a:ext cx="245880" cy="63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865" name="switch" descr=""/>
          <p:cNvPicPr/>
          <p:nvPr/>
        </p:nvPicPr>
        <p:blipFill>
          <a:blip r:embed="rId1"/>
          <a:stretch/>
        </p:blipFill>
        <p:spPr>
          <a:xfrm>
            <a:off x="1828800" y="6095880"/>
            <a:ext cx="533520" cy="522360"/>
          </a:xfrm>
          <a:prstGeom prst="rect">
            <a:avLst/>
          </a:prstGeom>
          <a:ln w="0">
            <a:noFill/>
          </a:ln>
        </p:spPr>
      </p:pic>
      <p:sp>
        <p:nvSpPr>
          <p:cNvPr id="1866" name=""/>
          <p:cNvSpPr/>
          <p:nvPr/>
        </p:nvSpPr>
        <p:spPr>
          <a:xfrm>
            <a:off x="5562720" y="6477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7" name=""/>
          <p:cNvGrpSpPr/>
          <p:nvPr/>
        </p:nvGrpSpPr>
        <p:grpSpPr>
          <a:xfrm>
            <a:off x="2667960" y="5715000"/>
            <a:ext cx="702000" cy="914040"/>
            <a:chOff x="2667960" y="5715000"/>
            <a:chExt cx="702000" cy="914040"/>
          </a:xfrm>
        </p:grpSpPr>
        <p:sp>
          <p:nvSpPr>
            <p:cNvPr id="1868" name=""/>
            <p:cNvSpPr/>
            <p:nvPr/>
          </p:nvSpPr>
          <p:spPr>
            <a:xfrm>
              <a:off x="2754360" y="5715000"/>
              <a:ext cx="535320" cy="9140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667960" y="5836680"/>
              <a:ext cx="70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o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S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0" name=""/>
          <p:cNvSpPr/>
          <p:nvPr/>
        </p:nvSpPr>
        <p:spPr>
          <a:xfrm>
            <a:off x="1752480" y="52578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133720" y="525780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2514600" y="52578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1447920" y="579132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1447920" y="5791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2514600" y="601992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1638360" y="3352680"/>
            <a:ext cx="99072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X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838080" y="3733920"/>
            <a:ext cx="22860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289320" y="3733920"/>
            <a:ext cx="22860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05E25-FE58-4096-8974-176CE763FBB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 Architectures and Topologies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Collapsed Ring with Integrated Work and Protect</a:t>
            </a:r>
            <a:endParaRPr b="1" lang="en-US" sz="28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880" name=""/>
          <p:cNvSpPr/>
          <p:nvPr/>
        </p:nvSpPr>
        <p:spPr>
          <a:xfrm>
            <a:off x="4419720" y="5105520"/>
            <a:ext cx="3045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0" y="4419720"/>
            <a:ext cx="0" cy="6094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4648320" y="4419720"/>
            <a:ext cx="0" cy="6094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4419720" y="6172200"/>
            <a:ext cx="3045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572000" y="5486400"/>
            <a:ext cx="0" cy="6094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4648320" y="5486400"/>
            <a:ext cx="0" cy="6094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6" name="cloudbig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3124080" cy="1600200"/>
          </a:xfrm>
          <a:prstGeom prst="rect">
            <a:avLst/>
          </a:prstGeom>
          <a:ln w="0">
            <a:noFill/>
          </a:ln>
        </p:spPr>
      </p:pic>
      <p:sp>
        <p:nvSpPr>
          <p:cNvPr id="1887" name=""/>
          <p:cNvSpPr/>
          <p:nvPr/>
        </p:nvSpPr>
        <p:spPr>
          <a:xfrm>
            <a:off x="2631600" y="3800880"/>
            <a:ext cx="212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Backbone Op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059440" y="5393160"/>
            <a:ext cx="12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1600200" y="1796760"/>
            <a:ext cx="5409720" cy="1175400"/>
            <a:chOff x="1600200" y="1796760"/>
            <a:chExt cx="5409720" cy="1175400"/>
          </a:xfrm>
        </p:grpSpPr>
        <p:sp>
          <p:nvSpPr>
            <p:cNvPr id="1890" name=""/>
            <p:cNvSpPr/>
            <p:nvPr/>
          </p:nvSpPr>
          <p:spPr>
            <a:xfrm>
              <a:off x="2361960" y="2178000"/>
              <a:ext cx="4190760" cy="45684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997080" y="179676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937320" y="263484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rot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600200" y="1949400"/>
              <a:ext cx="609480" cy="914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400440" y="1949400"/>
              <a:ext cx="609480" cy="914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13992-76C6-475E-90D8-15A48B65A30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 Architectures and Topologies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Interoffice Ring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896" name=""/>
          <p:cNvSpPr/>
          <p:nvPr/>
        </p:nvSpPr>
        <p:spPr>
          <a:xfrm>
            <a:off x="3048120" y="2819520"/>
            <a:ext cx="5410080" cy="1828800"/>
          </a:xfrm>
          <a:prstGeom prst="ellipse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2590920" y="3048120"/>
            <a:ext cx="6094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AD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8" name=""/>
          <p:cNvGrpSpPr/>
          <p:nvPr/>
        </p:nvGrpSpPr>
        <p:grpSpPr>
          <a:xfrm>
            <a:off x="152280" y="1295280"/>
            <a:ext cx="2916360" cy="1494000"/>
            <a:chOff x="152280" y="1295280"/>
            <a:chExt cx="2916360" cy="1494000"/>
          </a:xfrm>
        </p:grpSpPr>
        <p:pic>
          <p:nvPicPr>
            <p:cNvPr id="1899" name="cloudbig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291636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0" name=""/>
            <p:cNvSpPr/>
            <p:nvPr/>
          </p:nvSpPr>
          <p:spPr>
            <a:xfrm>
              <a:off x="435600" y="1697760"/>
              <a:ext cx="212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Backbone Opt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1" name=""/>
          <p:cNvSpPr/>
          <p:nvPr/>
        </p:nvSpPr>
        <p:spPr>
          <a:xfrm>
            <a:off x="4038480" y="4267080"/>
            <a:ext cx="6098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AD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7010280" y="4114800"/>
            <a:ext cx="6098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AD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6324480" y="2209680"/>
            <a:ext cx="60984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AD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228600" y="3962160"/>
            <a:ext cx="2819520" cy="190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Path and line protection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Optical and electrical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spcBef>
                <a:spcPts val="11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Groom to share lambda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362320" y="2743200"/>
            <a:ext cx="2133360" cy="3657600"/>
          </a:xfrm>
          <a:custGeom>
            <a:avLst/>
            <a:gdLst/>
            <a:ahLst/>
            <a:rect l="l" t="t" r="r" b="b"/>
            <a:pathLst>
              <a:path w="1344" h="2304">
                <a:moveTo>
                  <a:pt x="960" y="2304"/>
                </a:moveTo>
                <a:cubicBezTo>
                  <a:pt x="1104" y="2184"/>
                  <a:pt x="1248" y="2064"/>
                  <a:pt x="1296" y="1920"/>
                </a:cubicBezTo>
                <a:cubicBezTo>
                  <a:pt x="1344" y="1776"/>
                  <a:pt x="1328" y="1568"/>
                  <a:pt x="1248" y="1440"/>
                </a:cubicBezTo>
                <a:cubicBezTo>
                  <a:pt x="1168" y="1312"/>
                  <a:pt x="944" y="1232"/>
                  <a:pt x="816" y="1152"/>
                </a:cubicBezTo>
                <a:cubicBezTo>
                  <a:pt x="688" y="1072"/>
                  <a:pt x="560" y="1048"/>
                  <a:pt x="480" y="960"/>
                </a:cubicBezTo>
                <a:cubicBezTo>
                  <a:pt x="400" y="872"/>
                  <a:pt x="360" y="744"/>
                  <a:pt x="336" y="624"/>
                </a:cubicBezTo>
                <a:cubicBezTo>
                  <a:pt x="312" y="504"/>
                  <a:pt x="392" y="344"/>
                  <a:pt x="336" y="240"/>
                </a:cubicBezTo>
                <a:cubicBezTo>
                  <a:pt x="280" y="136"/>
                  <a:pt x="56" y="40"/>
                  <a:pt x="0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590920" y="2590920"/>
            <a:ext cx="6172200" cy="3276360"/>
          </a:xfrm>
          <a:custGeom>
            <a:avLst/>
            <a:gdLst/>
            <a:ahLst/>
            <a:rect l="l" t="t" r="r" b="b"/>
            <a:pathLst>
              <a:path w="3888" h="2064">
                <a:moveTo>
                  <a:pt x="3888" y="2064"/>
                </a:moveTo>
                <a:cubicBezTo>
                  <a:pt x="3788" y="1792"/>
                  <a:pt x="3688" y="1520"/>
                  <a:pt x="3552" y="1392"/>
                </a:cubicBezTo>
                <a:cubicBezTo>
                  <a:pt x="3416" y="1264"/>
                  <a:pt x="3264" y="1296"/>
                  <a:pt x="3072" y="1296"/>
                </a:cubicBezTo>
                <a:cubicBezTo>
                  <a:pt x="2880" y="1296"/>
                  <a:pt x="2648" y="1376"/>
                  <a:pt x="2400" y="1392"/>
                </a:cubicBezTo>
                <a:cubicBezTo>
                  <a:pt x="2152" y="1408"/>
                  <a:pt x="1800" y="1392"/>
                  <a:pt x="1584" y="1392"/>
                </a:cubicBezTo>
                <a:cubicBezTo>
                  <a:pt x="1368" y="1392"/>
                  <a:pt x="1256" y="1432"/>
                  <a:pt x="1104" y="1392"/>
                </a:cubicBezTo>
                <a:cubicBezTo>
                  <a:pt x="952" y="1352"/>
                  <a:pt x="784" y="1216"/>
                  <a:pt x="672" y="1152"/>
                </a:cubicBezTo>
                <a:cubicBezTo>
                  <a:pt x="560" y="1088"/>
                  <a:pt x="496" y="1080"/>
                  <a:pt x="432" y="1008"/>
                </a:cubicBezTo>
                <a:cubicBezTo>
                  <a:pt x="368" y="936"/>
                  <a:pt x="296" y="832"/>
                  <a:pt x="288" y="720"/>
                </a:cubicBezTo>
                <a:cubicBezTo>
                  <a:pt x="280" y="608"/>
                  <a:pt x="432" y="456"/>
                  <a:pt x="384" y="336"/>
                </a:cubicBezTo>
                <a:cubicBezTo>
                  <a:pt x="336" y="216"/>
                  <a:pt x="64" y="56"/>
                  <a:pt x="0" y="0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2895480" y="1219320"/>
            <a:ext cx="5181840" cy="2070000"/>
          </a:xfrm>
          <a:custGeom>
            <a:avLst/>
            <a:gdLst/>
            <a:ahLst/>
            <a:rect l="l" t="t" r="r" b="b"/>
            <a:pathLst>
              <a:path w="3264" h="1304">
                <a:moveTo>
                  <a:pt x="3264" y="0"/>
                </a:moveTo>
                <a:cubicBezTo>
                  <a:pt x="3128" y="40"/>
                  <a:pt x="2992" y="80"/>
                  <a:pt x="2880" y="192"/>
                </a:cubicBezTo>
                <a:cubicBezTo>
                  <a:pt x="2768" y="304"/>
                  <a:pt x="2680" y="528"/>
                  <a:pt x="2592" y="672"/>
                </a:cubicBezTo>
                <a:cubicBezTo>
                  <a:pt x="2504" y="816"/>
                  <a:pt x="2472" y="992"/>
                  <a:pt x="2352" y="1056"/>
                </a:cubicBezTo>
                <a:cubicBezTo>
                  <a:pt x="2232" y="1120"/>
                  <a:pt x="2072" y="1048"/>
                  <a:pt x="1872" y="1056"/>
                </a:cubicBezTo>
                <a:cubicBezTo>
                  <a:pt x="1672" y="1064"/>
                  <a:pt x="1376" y="1064"/>
                  <a:pt x="1152" y="1104"/>
                </a:cubicBezTo>
                <a:cubicBezTo>
                  <a:pt x="928" y="1144"/>
                  <a:pt x="672" y="1288"/>
                  <a:pt x="528" y="1296"/>
                </a:cubicBezTo>
                <a:cubicBezTo>
                  <a:pt x="384" y="1304"/>
                  <a:pt x="352" y="1232"/>
                  <a:pt x="288" y="1152"/>
                </a:cubicBezTo>
                <a:cubicBezTo>
                  <a:pt x="224" y="1072"/>
                  <a:pt x="192" y="888"/>
                  <a:pt x="144" y="816"/>
                </a:cubicBezTo>
                <a:cubicBezTo>
                  <a:pt x="96" y="744"/>
                  <a:pt x="24" y="736"/>
                  <a:pt x="0" y="72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2057400" y="2819520"/>
            <a:ext cx="2374920" cy="3581280"/>
          </a:xfrm>
          <a:custGeom>
            <a:avLst/>
            <a:gdLst/>
            <a:ahLst/>
            <a:rect l="l" t="t" r="r" b="b"/>
            <a:pathLst>
              <a:path w="1496" h="2256">
                <a:moveTo>
                  <a:pt x="0" y="0"/>
                </a:moveTo>
                <a:cubicBezTo>
                  <a:pt x="128" y="40"/>
                  <a:pt x="256" y="80"/>
                  <a:pt x="336" y="144"/>
                </a:cubicBezTo>
                <a:cubicBezTo>
                  <a:pt x="416" y="208"/>
                  <a:pt x="464" y="312"/>
                  <a:pt x="480" y="384"/>
                </a:cubicBezTo>
                <a:cubicBezTo>
                  <a:pt x="496" y="456"/>
                  <a:pt x="416" y="480"/>
                  <a:pt x="432" y="576"/>
                </a:cubicBezTo>
                <a:cubicBezTo>
                  <a:pt x="448" y="672"/>
                  <a:pt x="432" y="832"/>
                  <a:pt x="576" y="960"/>
                </a:cubicBezTo>
                <a:cubicBezTo>
                  <a:pt x="720" y="1088"/>
                  <a:pt x="1152" y="1208"/>
                  <a:pt x="1296" y="1344"/>
                </a:cubicBezTo>
                <a:cubicBezTo>
                  <a:pt x="1440" y="1480"/>
                  <a:pt x="1496" y="1624"/>
                  <a:pt x="1440" y="1776"/>
                </a:cubicBezTo>
                <a:cubicBezTo>
                  <a:pt x="1384" y="1928"/>
                  <a:pt x="1040" y="2176"/>
                  <a:pt x="960" y="2256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A42DF-D2D7-438F-B36F-61EA6A6DFB6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 Architectures and Topologies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Access Ring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910" name=""/>
          <p:cNvSpPr/>
          <p:nvPr/>
        </p:nvSpPr>
        <p:spPr>
          <a:xfrm>
            <a:off x="2057400" y="1981080"/>
            <a:ext cx="5410080" cy="1828800"/>
          </a:xfrm>
          <a:prstGeom prst="ellipse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600200" y="2209680"/>
            <a:ext cx="6094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AD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048120" y="3429000"/>
            <a:ext cx="6094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AD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6019920" y="3276720"/>
            <a:ext cx="6094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AD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334120" y="1371600"/>
            <a:ext cx="6094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AD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2764800" y="5013000"/>
            <a:ext cx="15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Gibab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008400" y="50587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imes New Roman"/>
              </a:rPr>
              <a:t>FD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101000" y="132480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457200" y="2705040"/>
            <a:ext cx="3060720" cy="2247840"/>
          </a:xfrm>
          <a:custGeom>
            <a:avLst/>
            <a:gdLst/>
            <a:ahLst/>
            <a:rect l="l" t="t" r="r" b="b"/>
            <a:pathLst>
              <a:path w="1928" h="1416">
                <a:moveTo>
                  <a:pt x="1872" y="1416"/>
                </a:moveTo>
                <a:cubicBezTo>
                  <a:pt x="1900" y="1192"/>
                  <a:pt x="1928" y="968"/>
                  <a:pt x="1872" y="840"/>
                </a:cubicBezTo>
                <a:cubicBezTo>
                  <a:pt x="1816" y="712"/>
                  <a:pt x="1664" y="712"/>
                  <a:pt x="1536" y="648"/>
                </a:cubicBezTo>
                <a:cubicBezTo>
                  <a:pt x="1408" y="584"/>
                  <a:pt x="1200" y="536"/>
                  <a:pt x="1104" y="456"/>
                </a:cubicBezTo>
                <a:cubicBezTo>
                  <a:pt x="1008" y="376"/>
                  <a:pt x="1048" y="240"/>
                  <a:pt x="960" y="168"/>
                </a:cubicBezTo>
                <a:cubicBezTo>
                  <a:pt x="872" y="96"/>
                  <a:pt x="736" y="48"/>
                  <a:pt x="576" y="24"/>
                </a:cubicBezTo>
                <a:cubicBezTo>
                  <a:pt x="416" y="0"/>
                  <a:pt x="96" y="24"/>
                  <a:pt x="0" y="24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57200" y="2565360"/>
            <a:ext cx="6184800" cy="2387520"/>
          </a:xfrm>
          <a:custGeom>
            <a:avLst/>
            <a:gdLst/>
            <a:ahLst/>
            <a:rect l="l" t="t" r="r" b="b"/>
            <a:pathLst>
              <a:path w="3896" h="1504">
                <a:moveTo>
                  <a:pt x="3840" y="1504"/>
                </a:moveTo>
                <a:cubicBezTo>
                  <a:pt x="3868" y="1300"/>
                  <a:pt x="3896" y="1096"/>
                  <a:pt x="3840" y="976"/>
                </a:cubicBezTo>
                <a:cubicBezTo>
                  <a:pt x="3784" y="856"/>
                  <a:pt x="3648" y="800"/>
                  <a:pt x="3504" y="784"/>
                </a:cubicBezTo>
                <a:cubicBezTo>
                  <a:pt x="3360" y="768"/>
                  <a:pt x="3168" y="864"/>
                  <a:pt x="2976" y="880"/>
                </a:cubicBezTo>
                <a:cubicBezTo>
                  <a:pt x="2784" y="896"/>
                  <a:pt x="2592" y="912"/>
                  <a:pt x="2352" y="880"/>
                </a:cubicBezTo>
                <a:cubicBezTo>
                  <a:pt x="2112" y="848"/>
                  <a:pt x="1728" y="752"/>
                  <a:pt x="1536" y="688"/>
                </a:cubicBezTo>
                <a:cubicBezTo>
                  <a:pt x="1344" y="624"/>
                  <a:pt x="1280" y="568"/>
                  <a:pt x="1200" y="496"/>
                </a:cubicBezTo>
                <a:cubicBezTo>
                  <a:pt x="1120" y="424"/>
                  <a:pt x="1112" y="320"/>
                  <a:pt x="1056" y="256"/>
                </a:cubicBezTo>
                <a:cubicBezTo>
                  <a:pt x="1000" y="192"/>
                  <a:pt x="944" y="152"/>
                  <a:pt x="864" y="112"/>
                </a:cubicBezTo>
                <a:cubicBezTo>
                  <a:pt x="784" y="72"/>
                  <a:pt x="720" y="32"/>
                  <a:pt x="576" y="16"/>
                </a:cubicBezTo>
                <a:cubicBezTo>
                  <a:pt x="432" y="0"/>
                  <a:pt x="96" y="16"/>
                  <a:pt x="0" y="16"/>
                </a:cubicBezTo>
              </a:path>
            </a:pathLst>
          </a:custGeom>
          <a:noFill/>
          <a:ln w="2844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57200" y="1562040"/>
            <a:ext cx="6553080" cy="965160"/>
          </a:xfrm>
          <a:custGeom>
            <a:avLst/>
            <a:gdLst/>
            <a:ahLst/>
            <a:rect l="l" t="t" r="r" b="b"/>
            <a:pathLst>
              <a:path w="4128" h="608">
                <a:moveTo>
                  <a:pt x="4128" y="24"/>
                </a:moveTo>
                <a:cubicBezTo>
                  <a:pt x="3992" y="12"/>
                  <a:pt x="3856" y="0"/>
                  <a:pt x="3744" y="24"/>
                </a:cubicBezTo>
                <a:cubicBezTo>
                  <a:pt x="3632" y="48"/>
                  <a:pt x="3592" y="144"/>
                  <a:pt x="3456" y="168"/>
                </a:cubicBezTo>
                <a:cubicBezTo>
                  <a:pt x="3320" y="192"/>
                  <a:pt x="3088" y="168"/>
                  <a:pt x="2928" y="168"/>
                </a:cubicBezTo>
                <a:cubicBezTo>
                  <a:pt x="2768" y="168"/>
                  <a:pt x="2704" y="152"/>
                  <a:pt x="2496" y="168"/>
                </a:cubicBezTo>
                <a:cubicBezTo>
                  <a:pt x="2288" y="184"/>
                  <a:pt x="1904" y="208"/>
                  <a:pt x="1680" y="264"/>
                </a:cubicBezTo>
                <a:cubicBezTo>
                  <a:pt x="1456" y="320"/>
                  <a:pt x="1312" y="448"/>
                  <a:pt x="1152" y="504"/>
                </a:cubicBezTo>
                <a:cubicBezTo>
                  <a:pt x="992" y="560"/>
                  <a:pt x="856" y="592"/>
                  <a:pt x="720" y="600"/>
                </a:cubicBezTo>
                <a:cubicBezTo>
                  <a:pt x="584" y="608"/>
                  <a:pt x="456" y="560"/>
                  <a:pt x="336" y="552"/>
                </a:cubicBezTo>
                <a:cubicBezTo>
                  <a:pt x="216" y="544"/>
                  <a:pt x="56" y="552"/>
                  <a:pt x="0" y="5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92877-B161-4033-B21B-4B71C08B7A7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 Architectures and Topologies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Access Tree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922" name=""/>
          <p:cNvSpPr/>
          <p:nvPr/>
        </p:nvSpPr>
        <p:spPr>
          <a:xfrm>
            <a:off x="1176480" y="1809720"/>
            <a:ext cx="4221000" cy="14256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734280" y="594252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Gibab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478200" y="617112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Times New Roman"/>
              </a:rPr>
              <a:t>FD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7849440" y="47995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S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105520" y="4114800"/>
            <a:ext cx="380880" cy="3808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572000" y="3200400"/>
            <a:ext cx="533520" cy="106668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477120" y="4229280"/>
            <a:ext cx="380880" cy="3808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5486400" y="5951520"/>
            <a:ext cx="380880" cy="3808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5257800" y="4419720"/>
            <a:ext cx="3505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5257800" y="4495680"/>
            <a:ext cx="609480" cy="221004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924680" y="4229280"/>
            <a:ext cx="381240" cy="3808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6705720" y="3580920"/>
            <a:ext cx="1752480" cy="83844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820800" y="1987560"/>
            <a:ext cx="474480" cy="712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OA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949400" y="2938320"/>
            <a:ext cx="474840" cy="7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OA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267080" y="2819520"/>
            <a:ext cx="476280" cy="714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OA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732120" y="1333440"/>
            <a:ext cx="476280" cy="712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OA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152280" y="2438280"/>
            <a:ext cx="5537160" cy="4038840"/>
          </a:xfrm>
          <a:custGeom>
            <a:avLst/>
            <a:gdLst/>
            <a:ahLst/>
            <a:rect l="l" t="t" r="r" b="b"/>
            <a:pathLst>
              <a:path w="3488" h="2544">
                <a:moveTo>
                  <a:pt x="3072" y="2544"/>
                </a:moveTo>
                <a:cubicBezTo>
                  <a:pt x="3184" y="2492"/>
                  <a:pt x="3296" y="2440"/>
                  <a:pt x="3360" y="2352"/>
                </a:cubicBezTo>
                <a:cubicBezTo>
                  <a:pt x="3424" y="2264"/>
                  <a:pt x="3488" y="2240"/>
                  <a:pt x="3456" y="2016"/>
                </a:cubicBezTo>
                <a:cubicBezTo>
                  <a:pt x="3424" y="1792"/>
                  <a:pt x="3264" y="1248"/>
                  <a:pt x="3168" y="1008"/>
                </a:cubicBezTo>
                <a:cubicBezTo>
                  <a:pt x="3072" y="768"/>
                  <a:pt x="3112" y="648"/>
                  <a:pt x="2880" y="576"/>
                </a:cubicBezTo>
                <a:cubicBezTo>
                  <a:pt x="2648" y="504"/>
                  <a:pt x="2120" y="600"/>
                  <a:pt x="1776" y="576"/>
                </a:cubicBezTo>
                <a:cubicBezTo>
                  <a:pt x="1432" y="552"/>
                  <a:pt x="1024" y="512"/>
                  <a:pt x="816" y="432"/>
                </a:cubicBezTo>
                <a:cubicBezTo>
                  <a:pt x="608" y="352"/>
                  <a:pt x="664" y="168"/>
                  <a:pt x="528" y="96"/>
                </a:cubicBezTo>
                <a:cubicBezTo>
                  <a:pt x="392" y="24"/>
                  <a:pt x="88" y="16"/>
                  <a:pt x="0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04920" y="2057400"/>
            <a:ext cx="8153280" cy="2476440"/>
          </a:xfrm>
          <a:custGeom>
            <a:avLst/>
            <a:gdLst/>
            <a:ahLst/>
            <a:rect l="l" t="t" r="r" b="b"/>
            <a:pathLst>
              <a:path w="5136" h="1560">
                <a:moveTo>
                  <a:pt x="5136" y="1224"/>
                </a:moveTo>
                <a:cubicBezTo>
                  <a:pt x="5104" y="1344"/>
                  <a:pt x="5072" y="1464"/>
                  <a:pt x="4848" y="1512"/>
                </a:cubicBezTo>
                <a:cubicBezTo>
                  <a:pt x="4624" y="1560"/>
                  <a:pt x="4096" y="1552"/>
                  <a:pt x="3792" y="1512"/>
                </a:cubicBezTo>
                <a:cubicBezTo>
                  <a:pt x="3488" y="1472"/>
                  <a:pt x="3200" y="1416"/>
                  <a:pt x="3024" y="1272"/>
                </a:cubicBezTo>
                <a:cubicBezTo>
                  <a:pt x="2848" y="1128"/>
                  <a:pt x="2920" y="744"/>
                  <a:pt x="2736" y="648"/>
                </a:cubicBezTo>
                <a:cubicBezTo>
                  <a:pt x="2552" y="552"/>
                  <a:pt x="2232" y="728"/>
                  <a:pt x="1920" y="696"/>
                </a:cubicBezTo>
                <a:cubicBezTo>
                  <a:pt x="1608" y="664"/>
                  <a:pt x="1104" y="560"/>
                  <a:pt x="864" y="456"/>
                </a:cubicBezTo>
                <a:cubicBezTo>
                  <a:pt x="624" y="352"/>
                  <a:pt x="624" y="144"/>
                  <a:pt x="480" y="72"/>
                </a:cubicBezTo>
                <a:cubicBezTo>
                  <a:pt x="336" y="0"/>
                  <a:pt x="80" y="32"/>
                  <a:pt x="0" y="2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886200" y="1447920"/>
            <a:ext cx="2590920" cy="5029200"/>
          </a:xfrm>
          <a:custGeom>
            <a:avLst/>
            <a:gdLst/>
            <a:ahLst/>
            <a:rect l="l" t="t" r="r" b="b"/>
            <a:pathLst>
              <a:path w="1632" h="3168">
                <a:moveTo>
                  <a:pt x="1632" y="3168"/>
                </a:moveTo>
                <a:cubicBezTo>
                  <a:pt x="1468" y="3164"/>
                  <a:pt x="1304" y="3160"/>
                  <a:pt x="1152" y="2928"/>
                </a:cubicBezTo>
                <a:cubicBezTo>
                  <a:pt x="1000" y="2696"/>
                  <a:pt x="832" y="2048"/>
                  <a:pt x="720" y="1776"/>
                </a:cubicBezTo>
                <a:cubicBezTo>
                  <a:pt x="608" y="1504"/>
                  <a:pt x="472" y="1432"/>
                  <a:pt x="480" y="1296"/>
                </a:cubicBezTo>
                <a:cubicBezTo>
                  <a:pt x="488" y="1160"/>
                  <a:pt x="696" y="1064"/>
                  <a:pt x="768" y="960"/>
                </a:cubicBezTo>
                <a:cubicBezTo>
                  <a:pt x="840" y="856"/>
                  <a:pt x="920" y="752"/>
                  <a:pt x="912" y="672"/>
                </a:cubicBezTo>
                <a:cubicBezTo>
                  <a:pt x="904" y="592"/>
                  <a:pt x="848" y="536"/>
                  <a:pt x="720" y="480"/>
                </a:cubicBezTo>
                <a:cubicBezTo>
                  <a:pt x="592" y="424"/>
                  <a:pt x="240" y="400"/>
                  <a:pt x="144" y="336"/>
                </a:cubicBezTo>
                <a:cubicBezTo>
                  <a:pt x="48" y="272"/>
                  <a:pt x="0" y="152"/>
                  <a:pt x="144" y="96"/>
                </a:cubicBezTo>
                <a:cubicBezTo>
                  <a:pt x="288" y="40"/>
                  <a:pt x="864" y="16"/>
                  <a:pt x="1008" y="0"/>
                </a:cubicBezTo>
              </a:path>
            </a:pathLst>
          </a:custGeom>
          <a:noFill/>
          <a:ln w="28440">
            <a:solidFill>
              <a:srgbClr val="33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4D2A4-11C5-4AA4-86D4-C2C1F4F15FE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 Architectures and Topologies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Dual Homed Ring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grpSp>
        <p:nvGrpSpPr>
          <p:cNvPr id="1942" name=""/>
          <p:cNvGrpSpPr/>
          <p:nvPr/>
        </p:nvGrpSpPr>
        <p:grpSpPr>
          <a:xfrm>
            <a:off x="2590920" y="1523880"/>
            <a:ext cx="4542840" cy="4964040"/>
            <a:chOff x="2590920" y="1523880"/>
            <a:chExt cx="4542840" cy="4964040"/>
          </a:xfrm>
        </p:grpSpPr>
        <p:sp>
          <p:nvSpPr>
            <p:cNvPr id="1943" name=""/>
            <p:cNvSpPr/>
            <p:nvPr/>
          </p:nvSpPr>
          <p:spPr>
            <a:xfrm>
              <a:off x="2933640" y="1935360"/>
              <a:ext cx="4045680" cy="96012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070440" y="2072520"/>
              <a:ext cx="3771720" cy="68580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864880" y="5159160"/>
              <a:ext cx="4046040" cy="96048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002040" y="5296680"/>
              <a:ext cx="3771360" cy="68544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727720" y="5296680"/>
              <a:ext cx="428400" cy="642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373640" y="5845320"/>
              <a:ext cx="428400" cy="642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567840" y="5433480"/>
              <a:ext cx="428400" cy="642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590920" y="2278080"/>
              <a:ext cx="428400" cy="642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304880" y="1523880"/>
              <a:ext cx="428400" cy="642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705360" y="2072520"/>
              <a:ext cx="428400" cy="642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3" name=""/>
            <p:cNvGrpSpPr/>
            <p:nvPr/>
          </p:nvGrpSpPr>
          <p:grpSpPr>
            <a:xfrm>
              <a:off x="4330800" y="3101400"/>
              <a:ext cx="136800" cy="1851840"/>
              <a:chOff x="4330800" y="3101400"/>
              <a:chExt cx="136800" cy="1851840"/>
            </a:xfrm>
          </p:grpSpPr>
          <p:sp>
            <p:nvSpPr>
              <p:cNvPr id="1954" name=""/>
              <p:cNvSpPr/>
              <p:nvPr/>
            </p:nvSpPr>
            <p:spPr>
              <a:xfrm>
                <a:off x="4330800" y="3101400"/>
                <a:ext cx="0" cy="18518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467600" y="3101400"/>
                <a:ext cx="0" cy="18518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6" name=""/>
            <p:cNvGrpSpPr/>
            <p:nvPr/>
          </p:nvGrpSpPr>
          <p:grpSpPr>
            <a:xfrm>
              <a:off x="5342400" y="3033000"/>
              <a:ext cx="136800" cy="1851840"/>
              <a:chOff x="5342400" y="3033000"/>
              <a:chExt cx="136800" cy="1851840"/>
            </a:xfrm>
          </p:grpSpPr>
          <p:sp>
            <p:nvSpPr>
              <p:cNvPr id="1957" name=""/>
              <p:cNvSpPr/>
              <p:nvPr/>
            </p:nvSpPr>
            <p:spPr>
              <a:xfrm>
                <a:off x="5342400" y="3033000"/>
                <a:ext cx="0" cy="18518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479200" y="3033000"/>
                <a:ext cx="0" cy="18518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9" name=""/>
            <p:cNvSpPr/>
            <p:nvPr/>
          </p:nvSpPr>
          <p:spPr>
            <a:xfrm>
              <a:off x="4185000" y="4747680"/>
              <a:ext cx="428400" cy="642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196600" y="4747680"/>
              <a:ext cx="428400" cy="642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185000" y="2518200"/>
              <a:ext cx="428400" cy="642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196600" y="2518200"/>
              <a:ext cx="428400" cy="642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185000" y="3581640"/>
              <a:ext cx="428400" cy="642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196600" y="3581640"/>
              <a:ext cx="428400" cy="642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104000" y="373500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X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144400" y="373500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X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8FCA3-AC33-4145-9149-CA2BF9FBBE3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 Architectures and Topologies</a:t>
            </a:r>
            <a:r>
              <a:rPr b="1" lang="en-US" sz="2800" spc="-1" strike="noStrike">
                <a:solidFill>
                  <a:srgbClr val="ffff00"/>
                </a:solidFill>
                <a:latin typeface="Albertus Medium"/>
                <a:ea typeface="굴림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All-Optical Evolution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968" name=""/>
          <p:cNvSpPr/>
          <p:nvPr/>
        </p:nvSpPr>
        <p:spPr>
          <a:xfrm>
            <a:off x="1791360" y="160704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282840" y="1836720"/>
            <a:ext cx="9144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388760" y="160704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5797440" y="1836720"/>
            <a:ext cx="9144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6859800" y="160704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ME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1676520" y="213264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0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286000" y="27421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276720" y="31993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038480" y="38088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0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811320" y="441864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xed add/d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268880" y="495180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able add/d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436360" y="5485320"/>
            <a:ext cx="30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able 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5529960" y="594252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velength chan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1828800" y="312408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1828800" y="3657600"/>
            <a:ext cx="63244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1828800" y="4343400"/>
            <a:ext cx="64771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1905120" y="4876920"/>
            <a:ext cx="64008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1905120" y="5410080"/>
            <a:ext cx="647676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1828800" y="5943600"/>
            <a:ext cx="6095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1828800" y="6477120"/>
            <a:ext cx="66294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828800" y="25909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1777680" y="128700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Early-Mid ‘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3778560" y="1287000"/>
            <a:ext cx="20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Late ‘90s - Early ‘0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959880" y="128700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Early ‘0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216000" y="236196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Early ‘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273960" y="289512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Mid ‘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57760" y="347292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Late ‘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307080" y="415872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Late ‘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16440" y="469224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Late ‘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81160" y="522576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Early ‘0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01680" y="575892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Early ‘0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714240" y="6248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A0707-AB11-4782-BFAD-7813CAB5289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1600200" y="1447920"/>
            <a:ext cx="5715000" cy="4647960"/>
            <a:chOff x="1600200" y="1447920"/>
            <a:chExt cx="5715000" cy="4647960"/>
          </a:xfrm>
        </p:grpSpPr>
        <p:sp>
          <p:nvSpPr>
            <p:cNvPr id="66" name=""/>
            <p:cNvSpPr/>
            <p:nvPr/>
          </p:nvSpPr>
          <p:spPr>
            <a:xfrm>
              <a:off x="1600200" y="1447920"/>
              <a:ext cx="5715000" cy="4647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713400" y="2431800"/>
              <a:ext cx="1488960" cy="2679120"/>
              <a:chOff x="3713400" y="2431800"/>
              <a:chExt cx="1488960" cy="267912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3713400" y="4069800"/>
                <a:ext cx="1488960" cy="482400"/>
                <a:chOff x="3713400" y="4069800"/>
                <a:chExt cx="1488960" cy="4824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713400" y="4069800"/>
                  <a:ext cx="1488960" cy="48240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790800" y="4174560"/>
                  <a:ext cx="1334160" cy="27468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ONET/SD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3713400" y="3523680"/>
                <a:ext cx="1488960" cy="487080"/>
                <a:chOff x="3713400" y="3523680"/>
                <a:chExt cx="1488960" cy="48708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3713400" y="3523680"/>
                  <a:ext cx="1488960" cy="487080"/>
                </a:xfrm>
                <a:prstGeom prst="rect">
                  <a:avLst/>
                </a:pr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209840" y="3629880"/>
                  <a:ext cx="496080" cy="274680"/>
                </a:xfrm>
                <a:prstGeom prst="rect">
                  <a:avLst/>
                </a:pr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3713400" y="2977560"/>
                <a:ext cx="1488960" cy="487080"/>
                <a:chOff x="3713400" y="2977560"/>
                <a:chExt cx="1488960" cy="48708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713400" y="2977560"/>
                  <a:ext cx="1488960" cy="487080"/>
                </a:xfrm>
                <a:prstGeom prst="rect">
                  <a:avLst/>
                </a:prstGeom>
                <a:solidFill>
                  <a:srgbClr val="66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778920" y="3053520"/>
                  <a:ext cx="1357200" cy="274680"/>
                </a:xfrm>
                <a:prstGeom prst="rect">
                  <a:avLst/>
                </a:prstGeom>
                <a:solidFill>
                  <a:srgbClr val="66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rame Rela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3713400" y="2431800"/>
                <a:ext cx="1488960" cy="487080"/>
                <a:chOff x="3713400" y="2431800"/>
                <a:chExt cx="1488960" cy="4870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3713400" y="2431800"/>
                  <a:ext cx="1488960" cy="487080"/>
                </a:xfrm>
                <a:prstGeom prst="rect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349520" y="2537640"/>
                  <a:ext cx="2170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3713400" y="4628520"/>
                <a:ext cx="1488960" cy="482400"/>
                <a:chOff x="3713400" y="4628520"/>
                <a:chExt cx="1488960" cy="4824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713400" y="4628520"/>
                  <a:ext cx="1488960" cy="48240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177440" y="4731480"/>
                  <a:ext cx="560160" cy="2746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i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3" name=""/>
          <p:cNvGrpSpPr/>
          <p:nvPr/>
        </p:nvGrpSpPr>
        <p:grpSpPr>
          <a:xfrm>
            <a:off x="1600200" y="1447920"/>
            <a:ext cx="5715000" cy="4647960"/>
            <a:chOff x="1600200" y="1447920"/>
            <a:chExt cx="5715000" cy="4647960"/>
          </a:xfrm>
        </p:grpSpPr>
        <p:sp>
          <p:nvSpPr>
            <p:cNvPr id="84" name=""/>
            <p:cNvSpPr/>
            <p:nvPr/>
          </p:nvSpPr>
          <p:spPr>
            <a:xfrm>
              <a:off x="1600200" y="1447920"/>
              <a:ext cx="5715000" cy="4647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2847960" y="2381400"/>
              <a:ext cx="3219480" cy="2780640"/>
              <a:chOff x="2847960" y="2381400"/>
              <a:chExt cx="3219480" cy="278064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2847960" y="4108320"/>
                <a:ext cx="3200400" cy="526680"/>
                <a:chOff x="2847960" y="4108320"/>
                <a:chExt cx="3200400" cy="5266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847960" y="4108320"/>
                  <a:ext cx="3200400" cy="52668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781080" y="4235040"/>
                  <a:ext cx="13341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ONET/SD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867040" y="3562200"/>
                <a:ext cx="3200400" cy="456840"/>
                <a:chOff x="2867040" y="3562200"/>
                <a:chExt cx="3200400" cy="45684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867040" y="3562200"/>
                  <a:ext cx="3200400" cy="456840"/>
                </a:xfrm>
                <a:prstGeom prst="rect">
                  <a:avLst/>
                </a:pr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219200" y="3652560"/>
                  <a:ext cx="4960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867040" y="4705200"/>
                <a:ext cx="3200400" cy="456840"/>
                <a:chOff x="2867040" y="4705200"/>
                <a:chExt cx="3200400" cy="45684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867040" y="4705200"/>
                  <a:ext cx="3200400" cy="45684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187160" y="4795200"/>
                  <a:ext cx="560160" cy="2746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i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67040" y="2971440"/>
                <a:ext cx="1599840" cy="475920"/>
                <a:chOff x="2867040" y="2971440"/>
                <a:chExt cx="1599840" cy="4759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867040" y="2971440"/>
                  <a:ext cx="1599840" cy="475920"/>
                </a:xfrm>
                <a:prstGeom prst="rect">
                  <a:avLst/>
                </a:prstGeom>
                <a:solidFill>
                  <a:srgbClr val="66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937600" y="3075120"/>
                  <a:ext cx="1357200" cy="274680"/>
                </a:xfrm>
                <a:prstGeom prst="rect">
                  <a:avLst/>
                </a:prstGeom>
                <a:solidFill>
                  <a:srgbClr val="66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rame Rela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2867040" y="2381400"/>
                <a:ext cx="3200400" cy="1076760"/>
                <a:chOff x="2867040" y="2381400"/>
                <a:chExt cx="3200400" cy="1076760"/>
              </a:xfrm>
            </p:grpSpPr>
            <p:grpSp>
              <p:nvGrpSpPr>
                <p:cNvPr id="99" name=""/>
                <p:cNvGrpSpPr/>
                <p:nvPr/>
              </p:nvGrpSpPr>
              <p:grpSpPr>
                <a:xfrm>
                  <a:off x="4568760" y="2914560"/>
                  <a:ext cx="1498320" cy="543600"/>
                  <a:chOff x="4568760" y="2914560"/>
                  <a:chExt cx="1498320" cy="54360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4568760" y="2914560"/>
                    <a:ext cx="1498320" cy="54360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5204520" y="3001320"/>
                    <a:ext cx="217080" cy="27468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" name=""/>
                <p:cNvSpPr/>
                <p:nvPr/>
              </p:nvSpPr>
              <p:spPr>
                <a:xfrm>
                  <a:off x="2867040" y="2381400"/>
                  <a:ext cx="3200400" cy="533160"/>
                </a:xfrm>
                <a:prstGeom prst="rect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05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The Public Network Challeng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The Intelligent Optical Network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04" name=""/>
          <p:cNvSpPr/>
          <p:nvPr/>
        </p:nvSpPr>
        <p:spPr>
          <a:xfrm>
            <a:off x="4457880" y="3665520"/>
            <a:ext cx="360" cy="36504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3665520"/>
            <a:ext cx="360" cy="365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600200" y="1447920"/>
            <a:ext cx="5715000" cy="4647960"/>
            <a:chOff x="1600200" y="1447920"/>
            <a:chExt cx="5715000" cy="4647960"/>
          </a:xfrm>
        </p:grpSpPr>
        <p:sp>
          <p:nvSpPr>
            <p:cNvPr id="107" name=""/>
            <p:cNvSpPr/>
            <p:nvPr/>
          </p:nvSpPr>
          <p:spPr>
            <a:xfrm>
              <a:off x="1600200" y="1447920"/>
              <a:ext cx="5715000" cy="4647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847960" y="2057400"/>
              <a:ext cx="3219480" cy="3428280"/>
              <a:chOff x="2847960" y="2057400"/>
              <a:chExt cx="3219480" cy="3428280"/>
            </a:xfrm>
          </p:grpSpPr>
          <p:sp>
            <p:nvSpPr>
              <p:cNvPr id="109" name=""/>
              <p:cNvSpPr/>
              <p:nvPr/>
            </p:nvSpPr>
            <p:spPr>
              <a:xfrm>
                <a:off x="2847960" y="3860640"/>
                <a:ext cx="3200400" cy="5266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781440" y="4000320"/>
                <a:ext cx="1334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ONET/SD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2867040" y="3263760"/>
                <a:ext cx="1489320" cy="487080"/>
                <a:chOff x="2867040" y="3263760"/>
                <a:chExt cx="1489320" cy="4870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867040" y="3263760"/>
                  <a:ext cx="1489320" cy="487080"/>
                </a:xfrm>
                <a:prstGeom prst="rect">
                  <a:avLst/>
                </a:pr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363840" y="3369600"/>
                  <a:ext cx="4960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2867040" y="4495680"/>
                <a:ext cx="3200400" cy="466200"/>
                <a:chOff x="2867040" y="4495680"/>
                <a:chExt cx="3200400" cy="4662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867040" y="4495680"/>
                  <a:ext cx="3200400" cy="46620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098960" y="4590720"/>
                  <a:ext cx="736920" cy="27468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WD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867040" y="5028840"/>
                <a:ext cx="3200400" cy="456840"/>
                <a:chOff x="2867040" y="5028840"/>
                <a:chExt cx="3200400" cy="4568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867040" y="5028840"/>
                  <a:ext cx="3200400" cy="45684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187160" y="5118840"/>
                  <a:ext cx="560160" cy="2746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i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867040" y="3047760"/>
                <a:ext cx="685800" cy="151920"/>
              </a:xfrm>
              <a:prstGeom prst="rect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2867040" y="2057400"/>
                <a:ext cx="3200400" cy="1676160"/>
                <a:chOff x="2867040" y="2057400"/>
                <a:chExt cx="3200400" cy="16761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416480" y="2057400"/>
                  <a:ext cx="1650960" cy="1676160"/>
                </a:xfrm>
                <a:prstGeom prst="rect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867040" y="2057400"/>
                  <a:ext cx="3124440" cy="761760"/>
                </a:xfrm>
                <a:prstGeom prst="rect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867040" y="2133360"/>
                  <a:ext cx="1676520" cy="837720"/>
                </a:xfrm>
                <a:prstGeom prst="rect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629160" y="2361960"/>
                  <a:ext cx="1676520" cy="837720"/>
                </a:xfrm>
                <a:prstGeom prst="rect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429440" y="2819160"/>
                  <a:ext cx="304560" cy="837720"/>
                </a:xfrm>
                <a:prstGeom prst="rect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143320" y="2977920"/>
                  <a:ext cx="217080" cy="274680"/>
                </a:xfrm>
                <a:prstGeom prst="rect">
                  <a:avLst/>
                </a:pr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8" name=""/>
          <p:cNvGrpSpPr/>
          <p:nvPr/>
        </p:nvGrpSpPr>
        <p:grpSpPr>
          <a:xfrm>
            <a:off x="1600200" y="1447920"/>
            <a:ext cx="5715000" cy="4647960"/>
            <a:chOff x="1600200" y="1447920"/>
            <a:chExt cx="5715000" cy="4647960"/>
          </a:xfrm>
        </p:grpSpPr>
        <p:sp>
          <p:nvSpPr>
            <p:cNvPr id="129" name=""/>
            <p:cNvSpPr/>
            <p:nvPr/>
          </p:nvSpPr>
          <p:spPr>
            <a:xfrm>
              <a:off x="1600200" y="1447920"/>
              <a:ext cx="5715000" cy="4647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828800" y="2057400"/>
              <a:ext cx="5257800" cy="3428280"/>
              <a:chOff x="1828800" y="2057400"/>
              <a:chExt cx="5257800" cy="342828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1828800" y="3885840"/>
                <a:ext cx="1752480" cy="533160"/>
                <a:chOff x="1828800" y="3885840"/>
                <a:chExt cx="1752480" cy="5331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828800" y="3885840"/>
                  <a:ext cx="1752480" cy="53316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037960" y="4015800"/>
                  <a:ext cx="13341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ONET/SD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2438280" y="3327120"/>
                <a:ext cx="1905120" cy="482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34720" y="3433680"/>
                <a:ext cx="496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1828800" y="4495680"/>
                <a:ext cx="5257440" cy="456840"/>
                <a:chOff x="1828800" y="4495680"/>
                <a:chExt cx="5257440" cy="4568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828800" y="4495680"/>
                  <a:ext cx="5257440" cy="45684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851640" y="4588920"/>
                  <a:ext cx="865080" cy="27468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WD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828800" y="5028840"/>
                <a:ext cx="5257440" cy="456840"/>
                <a:chOff x="1828800" y="5028840"/>
                <a:chExt cx="5257440" cy="4568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828800" y="5028840"/>
                  <a:ext cx="5257440" cy="45684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97440" y="5118840"/>
                  <a:ext cx="560160" cy="2746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i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2450880" y="3124080"/>
                <a:ext cx="685800" cy="151920"/>
              </a:xfrm>
              <a:prstGeom prst="rect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452840" y="2057400"/>
                <a:ext cx="2633760" cy="23619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81080" y="2057400"/>
                <a:ext cx="4983120" cy="7617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981080" y="2133360"/>
                <a:ext cx="2666880" cy="91404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197160" y="2425320"/>
                <a:ext cx="2670120" cy="83808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73360" y="2819160"/>
                <a:ext cx="486000" cy="83772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612760" y="2977920"/>
                <a:ext cx="217080" cy="27468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57600" y="3733560"/>
                <a:ext cx="685800" cy="68544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28800" y="2057400"/>
                <a:ext cx="533160" cy="16761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1600200" y="1447920"/>
            <a:ext cx="5715000" cy="4647960"/>
            <a:chOff x="1600200" y="1447920"/>
            <a:chExt cx="5715000" cy="4647960"/>
          </a:xfrm>
        </p:grpSpPr>
        <p:sp>
          <p:nvSpPr>
            <p:cNvPr id="152" name=""/>
            <p:cNvSpPr/>
            <p:nvPr/>
          </p:nvSpPr>
          <p:spPr>
            <a:xfrm>
              <a:off x="1600200" y="1447920"/>
              <a:ext cx="5715000" cy="4647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822320" y="1790640"/>
              <a:ext cx="5270400" cy="4076640"/>
              <a:chOff x="1822320" y="1790640"/>
              <a:chExt cx="5270400" cy="407664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1822320" y="3619440"/>
                <a:ext cx="1752480" cy="533520"/>
                <a:chOff x="1822320" y="3619440"/>
                <a:chExt cx="1752480" cy="5335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822320" y="3619440"/>
                  <a:ext cx="1752480" cy="53352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031480" y="3749760"/>
                  <a:ext cx="13341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ONET/SD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2432160" y="3238560"/>
                <a:ext cx="1904760" cy="304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1822320" y="5295960"/>
                <a:ext cx="5257440" cy="457200"/>
                <a:chOff x="1822320" y="5295960"/>
                <a:chExt cx="5257440" cy="4572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822320" y="5295960"/>
                  <a:ext cx="5257440" cy="45720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990960" y="5386320"/>
                  <a:ext cx="560160" cy="2746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i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2432160" y="3009960"/>
                <a:ext cx="685800" cy="152280"/>
              </a:xfrm>
              <a:prstGeom prst="rect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13240" y="1790640"/>
                <a:ext cx="2666880" cy="236232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74960" y="1790640"/>
                <a:ext cx="4983120" cy="76212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974960" y="1866960"/>
                <a:ext cx="2666880" cy="106668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191040" y="2158920"/>
                <a:ext cx="2670120" cy="100332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67240" y="2552760"/>
                <a:ext cx="485640" cy="83808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03040" y="2324160"/>
                <a:ext cx="217080" cy="27468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651120" y="3467160"/>
                <a:ext cx="685800" cy="6858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822320" y="1790640"/>
                <a:ext cx="533520" cy="175284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5873760" y="2629080"/>
                <a:ext cx="1218960" cy="1523880"/>
                <a:chOff x="5873760" y="2629080"/>
                <a:chExt cx="1218960" cy="15238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873760" y="2629080"/>
                  <a:ext cx="1218960" cy="1523880"/>
                </a:xfrm>
                <a:prstGeom prst="rect">
                  <a:avLst/>
                </a:prstGeom>
                <a:solidFill>
                  <a:srgbClr val="cc99ff"/>
                </a:solidFill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127560" y="2977920"/>
                  <a:ext cx="71100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C-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riva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Lin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3727080" y="3726000"/>
                <a:ext cx="48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822320" y="4229280"/>
                <a:ext cx="5264280" cy="1638000"/>
              </a:xfrm>
              <a:prstGeom prst="rect">
                <a:avLst/>
              </a:prstGeom>
              <a:solidFill>
                <a:srgbClr val="00cc66"/>
              </a:solidFill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7480" y="4419720"/>
                <a:ext cx="3010680" cy="97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660066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660066"/>
                    </a:solidFill>
                    <a:latin typeface="Times New Roman"/>
                  </a:rPr>
                  <a:t>The Intelligen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660066"/>
                    </a:solidFill>
                    <a:latin typeface="Times New Roman"/>
                  </a:rPr>
                  <a:t>Optical Network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D0EFC-9C9E-441B-B8A1-DA9DDFB1E3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6201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Agenda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99956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The public network challenge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Intelligent optical networking technologies and network element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Intelligent optical networking architectur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Internetworking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Future trend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F8B9F-EA2C-47A7-90DB-2BA49B52C24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Internetworking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003" name=""/>
          <p:cNvSpPr/>
          <p:nvPr/>
        </p:nvSpPr>
        <p:spPr>
          <a:xfrm>
            <a:off x="3224160" y="2360520"/>
            <a:ext cx="1079640" cy="3859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V="1">
            <a:off x="3281400" y="1866600"/>
            <a:ext cx="965160" cy="3841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H="1">
            <a:off x="4417920" y="2195640"/>
            <a:ext cx="851040" cy="66024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395520" y="2251080"/>
            <a:ext cx="187344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H="1" flipV="1">
            <a:off x="4417920" y="1866960"/>
            <a:ext cx="851040" cy="21888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133880" y="1646280"/>
            <a:ext cx="284040" cy="439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099040" y="1920960"/>
            <a:ext cx="284040" cy="439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006960" y="3844800"/>
            <a:ext cx="738360" cy="110016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49880" y="4835520"/>
            <a:ext cx="227160" cy="2746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5029200"/>
            <a:ext cx="227160" cy="2761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V="1">
            <a:off x="2373480" y="2415960"/>
            <a:ext cx="850680" cy="49500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flipV="1">
            <a:off x="1747800" y="3130560"/>
            <a:ext cx="511200" cy="55080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flipH="1" flipV="1">
            <a:off x="2430000" y="3021120"/>
            <a:ext cx="1476360" cy="115416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V="1">
            <a:off x="4361040" y="2965320"/>
            <a:ext cx="0" cy="4399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flipV="1">
            <a:off x="3962520" y="3516480"/>
            <a:ext cx="284040" cy="65880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 flipV="1">
            <a:off x="5268960" y="2251080"/>
            <a:ext cx="852480" cy="71424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 flipV="1">
            <a:off x="6121440" y="3076200"/>
            <a:ext cx="226800" cy="82404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 flipV="1">
            <a:off x="4361040" y="3020760"/>
            <a:ext cx="1645920" cy="43956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246560" y="2581200"/>
            <a:ext cx="284040" cy="439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111480" y="2141640"/>
            <a:ext cx="284040" cy="439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679920" y="4175280"/>
            <a:ext cx="738000" cy="110016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821040" y="4065480"/>
            <a:ext cx="227160" cy="2746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508200" y="4614840"/>
            <a:ext cx="227160" cy="2761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4267080" y="4572000"/>
            <a:ext cx="227160" cy="2761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821040" y="5165640"/>
            <a:ext cx="227160" cy="2746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6149880" y="3735360"/>
            <a:ext cx="227160" cy="2746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1549440" y="3581280"/>
            <a:ext cx="226800" cy="2746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2146320" y="2855880"/>
            <a:ext cx="325440" cy="274680"/>
          </a:xfrm>
          <a:prstGeom prst="rect">
            <a:avLst/>
          </a:prstGeom>
          <a:solidFill>
            <a:srgbClr val="00cc99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2192400" y="2901960"/>
            <a:ext cx="217080" cy="213840"/>
            <a:chOff x="2192400" y="2901960"/>
            <a:chExt cx="217080" cy="213840"/>
          </a:xfrm>
        </p:grpSpPr>
        <p:sp>
          <p:nvSpPr>
            <p:cNvPr id="2032" name=""/>
            <p:cNvSpPr/>
            <p:nvPr/>
          </p:nvSpPr>
          <p:spPr>
            <a:xfrm>
              <a:off x="2192400" y="2901960"/>
              <a:ext cx="215640" cy="211320"/>
            </a:xfrm>
            <a:custGeom>
              <a:avLst/>
              <a:gdLst/>
              <a:ahLst/>
              <a:rect l="l" t="t" r="r" b="b"/>
              <a:pathLst>
                <a:path w="1087" h="1001">
                  <a:moveTo>
                    <a:pt x="157" y="0"/>
                  </a:moveTo>
                  <a:lnTo>
                    <a:pt x="157" y="128"/>
                  </a:lnTo>
                  <a:lnTo>
                    <a:pt x="408" y="128"/>
                  </a:lnTo>
                  <a:lnTo>
                    <a:pt x="539" y="392"/>
                  </a:lnTo>
                  <a:lnTo>
                    <a:pt x="678" y="128"/>
                  </a:lnTo>
                  <a:lnTo>
                    <a:pt x="931" y="128"/>
                  </a:lnTo>
                  <a:lnTo>
                    <a:pt x="931" y="0"/>
                  </a:lnTo>
                  <a:lnTo>
                    <a:pt x="1087" y="157"/>
                  </a:lnTo>
                  <a:lnTo>
                    <a:pt x="931" y="314"/>
                  </a:lnTo>
                  <a:lnTo>
                    <a:pt x="931" y="206"/>
                  </a:lnTo>
                  <a:lnTo>
                    <a:pt x="748" y="206"/>
                  </a:lnTo>
                  <a:lnTo>
                    <a:pt x="600" y="500"/>
                  </a:lnTo>
                  <a:lnTo>
                    <a:pt x="748" y="804"/>
                  </a:lnTo>
                  <a:lnTo>
                    <a:pt x="931" y="804"/>
                  </a:lnTo>
                  <a:lnTo>
                    <a:pt x="931" y="696"/>
                  </a:lnTo>
                  <a:lnTo>
                    <a:pt x="1087" y="844"/>
                  </a:lnTo>
                  <a:lnTo>
                    <a:pt x="931" y="1001"/>
                  </a:lnTo>
                  <a:lnTo>
                    <a:pt x="931" y="883"/>
                  </a:lnTo>
                  <a:lnTo>
                    <a:pt x="678" y="883"/>
                  </a:lnTo>
                  <a:lnTo>
                    <a:pt x="539" y="608"/>
                  </a:lnTo>
                  <a:lnTo>
                    <a:pt x="408" y="893"/>
                  </a:lnTo>
                  <a:lnTo>
                    <a:pt x="157" y="893"/>
                  </a:lnTo>
                  <a:lnTo>
                    <a:pt x="157" y="1001"/>
                  </a:lnTo>
                  <a:lnTo>
                    <a:pt x="0" y="844"/>
                  </a:lnTo>
                  <a:lnTo>
                    <a:pt x="157" y="696"/>
                  </a:lnTo>
                  <a:lnTo>
                    <a:pt x="157" y="804"/>
                  </a:lnTo>
                  <a:lnTo>
                    <a:pt x="330" y="804"/>
                  </a:lnTo>
                  <a:lnTo>
                    <a:pt x="487" y="500"/>
                  </a:lnTo>
                  <a:lnTo>
                    <a:pt x="330" y="206"/>
                  </a:lnTo>
                  <a:lnTo>
                    <a:pt x="157" y="206"/>
                  </a:lnTo>
                  <a:lnTo>
                    <a:pt x="157" y="305"/>
                  </a:lnTo>
                  <a:lnTo>
                    <a:pt x="0" y="157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192400" y="2901960"/>
              <a:ext cx="215640" cy="211320"/>
            </a:xfrm>
            <a:custGeom>
              <a:avLst/>
              <a:gdLst/>
              <a:ahLst/>
              <a:rect l="l" t="t" r="r" b="b"/>
              <a:pathLst>
                <a:path w="1087" h="1001">
                  <a:moveTo>
                    <a:pt x="157" y="0"/>
                  </a:moveTo>
                  <a:lnTo>
                    <a:pt x="157" y="128"/>
                  </a:lnTo>
                  <a:lnTo>
                    <a:pt x="408" y="128"/>
                  </a:lnTo>
                  <a:lnTo>
                    <a:pt x="539" y="392"/>
                  </a:lnTo>
                  <a:lnTo>
                    <a:pt x="678" y="128"/>
                  </a:lnTo>
                  <a:lnTo>
                    <a:pt x="931" y="128"/>
                  </a:lnTo>
                  <a:lnTo>
                    <a:pt x="931" y="0"/>
                  </a:lnTo>
                  <a:lnTo>
                    <a:pt x="1087" y="157"/>
                  </a:lnTo>
                  <a:lnTo>
                    <a:pt x="931" y="314"/>
                  </a:lnTo>
                  <a:lnTo>
                    <a:pt x="931" y="206"/>
                  </a:lnTo>
                  <a:lnTo>
                    <a:pt x="748" y="206"/>
                  </a:lnTo>
                  <a:lnTo>
                    <a:pt x="600" y="500"/>
                  </a:lnTo>
                  <a:lnTo>
                    <a:pt x="748" y="804"/>
                  </a:lnTo>
                  <a:lnTo>
                    <a:pt x="931" y="804"/>
                  </a:lnTo>
                  <a:lnTo>
                    <a:pt x="931" y="696"/>
                  </a:lnTo>
                  <a:lnTo>
                    <a:pt x="1087" y="844"/>
                  </a:lnTo>
                  <a:lnTo>
                    <a:pt x="931" y="1001"/>
                  </a:lnTo>
                  <a:lnTo>
                    <a:pt x="931" y="883"/>
                  </a:lnTo>
                  <a:lnTo>
                    <a:pt x="678" y="883"/>
                  </a:lnTo>
                  <a:lnTo>
                    <a:pt x="539" y="608"/>
                  </a:lnTo>
                  <a:lnTo>
                    <a:pt x="408" y="893"/>
                  </a:lnTo>
                  <a:lnTo>
                    <a:pt x="157" y="893"/>
                  </a:lnTo>
                  <a:lnTo>
                    <a:pt x="157" y="1001"/>
                  </a:lnTo>
                  <a:lnTo>
                    <a:pt x="0" y="844"/>
                  </a:lnTo>
                  <a:lnTo>
                    <a:pt x="157" y="696"/>
                  </a:lnTo>
                  <a:lnTo>
                    <a:pt x="157" y="804"/>
                  </a:lnTo>
                  <a:lnTo>
                    <a:pt x="330" y="804"/>
                  </a:lnTo>
                  <a:lnTo>
                    <a:pt x="487" y="500"/>
                  </a:lnTo>
                  <a:lnTo>
                    <a:pt x="330" y="206"/>
                  </a:lnTo>
                  <a:lnTo>
                    <a:pt x="157" y="206"/>
                  </a:lnTo>
                  <a:lnTo>
                    <a:pt x="157" y="305"/>
                  </a:lnTo>
                  <a:lnTo>
                    <a:pt x="0" y="157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194560" y="2903400"/>
              <a:ext cx="214920" cy="212400"/>
            </a:xfrm>
            <a:custGeom>
              <a:avLst/>
              <a:gdLst/>
              <a:ahLst/>
              <a:rect l="l" t="t" r="r" b="b"/>
              <a:pathLst>
                <a:path w="1088" h="1000">
                  <a:moveTo>
                    <a:pt x="157" y="0"/>
                  </a:moveTo>
                  <a:lnTo>
                    <a:pt x="157" y="128"/>
                  </a:lnTo>
                  <a:lnTo>
                    <a:pt x="409" y="128"/>
                  </a:lnTo>
                  <a:lnTo>
                    <a:pt x="540" y="392"/>
                  </a:lnTo>
                  <a:lnTo>
                    <a:pt x="679" y="128"/>
                  </a:lnTo>
                  <a:lnTo>
                    <a:pt x="932" y="128"/>
                  </a:lnTo>
                  <a:lnTo>
                    <a:pt x="932" y="0"/>
                  </a:lnTo>
                  <a:lnTo>
                    <a:pt x="1088" y="157"/>
                  </a:lnTo>
                  <a:lnTo>
                    <a:pt x="932" y="314"/>
                  </a:lnTo>
                  <a:lnTo>
                    <a:pt x="932" y="206"/>
                  </a:lnTo>
                  <a:lnTo>
                    <a:pt x="749" y="206"/>
                  </a:lnTo>
                  <a:lnTo>
                    <a:pt x="601" y="500"/>
                  </a:lnTo>
                  <a:lnTo>
                    <a:pt x="749" y="804"/>
                  </a:lnTo>
                  <a:lnTo>
                    <a:pt x="932" y="804"/>
                  </a:lnTo>
                  <a:lnTo>
                    <a:pt x="932" y="696"/>
                  </a:lnTo>
                  <a:lnTo>
                    <a:pt x="1088" y="843"/>
                  </a:lnTo>
                  <a:lnTo>
                    <a:pt x="932" y="1000"/>
                  </a:lnTo>
                  <a:lnTo>
                    <a:pt x="932" y="883"/>
                  </a:lnTo>
                  <a:lnTo>
                    <a:pt x="679" y="883"/>
                  </a:lnTo>
                  <a:lnTo>
                    <a:pt x="540" y="608"/>
                  </a:lnTo>
                  <a:lnTo>
                    <a:pt x="409" y="892"/>
                  </a:lnTo>
                  <a:lnTo>
                    <a:pt x="157" y="892"/>
                  </a:lnTo>
                  <a:lnTo>
                    <a:pt x="157" y="1000"/>
                  </a:lnTo>
                  <a:lnTo>
                    <a:pt x="0" y="843"/>
                  </a:lnTo>
                  <a:lnTo>
                    <a:pt x="157" y="696"/>
                  </a:lnTo>
                  <a:lnTo>
                    <a:pt x="157" y="804"/>
                  </a:lnTo>
                  <a:lnTo>
                    <a:pt x="330" y="804"/>
                  </a:lnTo>
                  <a:lnTo>
                    <a:pt x="487" y="500"/>
                  </a:lnTo>
                  <a:lnTo>
                    <a:pt x="330" y="206"/>
                  </a:lnTo>
                  <a:lnTo>
                    <a:pt x="157" y="206"/>
                  </a:lnTo>
                  <a:lnTo>
                    <a:pt x="157" y="304"/>
                  </a:lnTo>
                  <a:lnTo>
                    <a:pt x="0" y="157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194560" y="2903400"/>
              <a:ext cx="214920" cy="212400"/>
            </a:xfrm>
            <a:custGeom>
              <a:avLst/>
              <a:gdLst/>
              <a:ahLst/>
              <a:rect l="l" t="t" r="r" b="b"/>
              <a:pathLst>
                <a:path w="1088" h="1000">
                  <a:moveTo>
                    <a:pt x="157" y="0"/>
                  </a:moveTo>
                  <a:lnTo>
                    <a:pt x="157" y="128"/>
                  </a:lnTo>
                  <a:lnTo>
                    <a:pt x="409" y="128"/>
                  </a:lnTo>
                  <a:lnTo>
                    <a:pt x="540" y="392"/>
                  </a:lnTo>
                  <a:lnTo>
                    <a:pt x="679" y="128"/>
                  </a:lnTo>
                  <a:lnTo>
                    <a:pt x="932" y="128"/>
                  </a:lnTo>
                  <a:lnTo>
                    <a:pt x="932" y="0"/>
                  </a:lnTo>
                  <a:lnTo>
                    <a:pt x="1088" y="157"/>
                  </a:lnTo>
                  <a:lnTo>
                    <a:pt x="932" y="314"/>
                  </a:lnTo>
                  <a:lnTo>
                    <a:pt x="932" y="206"/>
                  </a:lnTo>
                  <a:lnTo>
                    <a:pt x="749" y="206"/>
                  </a:lnTo>
                  <a:lnTo>
                    <a:pt x="601" y="500"/>
                  </a:lnTo>
                  <a:lnTo>
                    <a:pt x="749" y="804"/>
                  </a:lnTo>
                  <a:lnTo>
                    <a:pt x="932" y="804"/>
                  </a:lnTo>
                  <a:lnTo>
                    <a:pt x="932" y="696"/>
                  </a:lnTo>
                  <a:lnTo>
                    <a:pt x="1088" y="843"/>
                  </a:lnTo>
                  <a:lnTo>
                    <a:pt x="932" y="1000"/>
                  </a:lnTo>
                  <a:lnTo>
                    <a:pt x="932" y="883"/>
                  </a:lnTo>
                  <a:lnTo>
                    <a:pt x="679" y="883"/>
                  </a:lnTo>
                  <a:lnTo>
                    <a:pt x="540" y="608"/>
                  </a:lnTo>
                  <a:lnTo>
                    <a:pt x="409" y="892"/>
                  </a:lnTo>
                  <a:lnTo>
                    <a:pt x="157" y="892"/>
                  </a:lnTo>
                  <a:lnTo>
                    <a:pt x="157" y="1000"/>
                  </a:lnTo>
                  <a:lnTo>
                    <a:pt x="0" y="843"/>
                  </a:lnTo>
                  <a:lnTo>
                    <a:pt x="157" y="696"/>
                  </a:lnTo>
                  <a:lnTo>
                    <a:pt x="157" y="804"/>
                  </a:lnTo>
                  <a:lnTo>
                    <a:pt x="330" y="804"/>
                  </a:lnTo>
                  <a:lnTo>
                    <a:pt x="487" y="500"/>
                  </a:lnTo>
                  <a:lnTo>
                    <a:pt x="330" y="206"/>
                  </a:lnTo>
                  <a:lnTo>
                    <a:pt x="157" y="206"/>
                  </a:lnTo>
                  <a:lnTo>
                    <a:pt x="157" y="304"/>
                  </a:lnTo>
                  <a:lnTo>
                    <a:pt x="0" y="157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6" name=""/>
          <p:cNvSpPr/>
          <p:nvPr/>
        </p:nvSpPr>
        <p:spPr>
          <a:xfrm>
            <a:off x="4019400" y="3405240"/>
            <a:ext cx="325440" cy="274680"/>
          </a:xfrm>
          <a:prstGeom prst="rect">
            <a:avLst/>
          </a:prstGeom>
          <a:solidFill>
            <a:srgbClr val="00cc99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7" name=""/>
          <p:cNvGrpSpPr/>
          <p:nvPr/>
        </p:nvGrpSpPr>
        <p:grpSpPr>
          <a:xfrm>
            <a:off x="4065480" y="3451320"/>
            <a:ext cx="217080" cy="213840"/>
            <a:chOff x="4065480" y="3451320"/>
            <a:chExt cx="217080" cy="213840"/>
          </a:xfrm>
        </p:grpSpPr>
        <p:sp>
          <p:nvSpPr>
            <p:cNvPr id="2038" name=""/>
            <p:cNvSpPr/>
            <p:nvPr/>
          </p:nvSpPr>
          <p:spPr>
            <a:xfrm>
              <a:off x="4065480" y="3451320"/>
              <a:ext cx="215640" cy="211320"/>
            </a:xfrm>
            <a:custGeom>
              <a:avLst/>
              <a:gdLst/>
              <a:ahLst/>
              <a:rect l="l" t="t" r="r" b="b"/>
              <a:pathLst>
                <a:path w="1087" h="1001">
                  <a:moveTo>
                    <a:pt x="157" y="0"/>
                  </a:moveTo>
                  <a:lnTo>
                    <a:pt x="157" y="128"/>
                  </a:lnTo>
                  <a:lnTo>
                    <a:pt x="408" y="128"/>
                  </a:lnTo>
                  <a:lnTo>
                    <a:pt x="539" y="392"/>
                  </a:lnTo>
                  <a:lnTo>
                    <a:pt x="678" y="128"/>
                  </a:lnTo>
                  <a:lnTo>
                    <a:pt x="931" y="128"/>
                  </a:lnTo>
                  <a:lnTo>
                    <a:pt x="931" y="0"/>
                  </a:lnTo>
                  <a:lnTo>
                    <a:pt x="1087" y="157"/>
                  </a:lnTo>
                  <a:lnTo>
                    <a:pt x="931" y="314"/>
                  </a:lnTo>
                  <a:lnTo>
                    <a:pt x="931" y="206"/>
                  </a:lnTo>
                  <a:lnTo>
                    <a:pt x="748" y="206"/>
                  </a:lnTo>
                  <a:lnTo>
                    <a:pt x="600" y="500"/>
                  </a:lnTo>
                  <a:lnTo>
                    <a:pt x="748" y="804"/>
                  </a:lnTo>
                  <a:lnTo>
                    <a:pt x="931" y="804"/>
                  </a:lnTo>
                  <a:lnTo>
                    <a:pt x="931" y="696"/>
                  </a:lnTo>
                  <a:lnTo>
                    <a:pt x="1087" y="844"/>
                  </a:lnTo>
                  <a:lnTo>
                    <a:pt x="931" y="1001"/>
                  </a:lnTo>
                  <a:lnTo>
                    <a:pt x="931" y="883"/>
                  </a:lnTo>
                  <a:lnTo>
                    <a:pt x="678" y="883"/>
                  </a:lnTo>
                  <a:lnTo>
                    <a:pt x="539" y="608"/>
                  </a:lnTo>
                  <a:lnTo>
                    <a:pt x="408" y="893"/>
                  </a:lnTo>
                  <a:lnTo>
                    <a:pt x="157" y="893"/>
                  </a:lnTo>
                  <a:lnTo>
                    <a:pt x="157" y="1001"/>
                  </a:lnTo>
                  <a:lnTo>
                    <a:pt x="0" y="844"/>
                  </a:lnTo>
                  <a:lnTo>
                    <a:pt x="157" y="696"/>
                  </a:lnTo>
                  <a:lnTo>
                    <a:pt x="157" y="804"/>
                  </a:lnTo>
                  <a:lnTo>
                    <a:pt x="330" y="804"/>
                  </a:lnTo>
                  <a:lnTo>
                    <a:pt x="487" y="500"/>
                  </a:lnTo>
                  <a:lnTo>
                    <a:pt x="330" y="206"/>
                  </a:lnTo>
                  <a:lnTo>
                    <a:pt x="157" y="206"/>
                  </a:lnTo>
                  <a:lnTo>
                    <a:pt x="157" y="305"/>
                  </a:lnTo>
                  <a:lnTo>
                    <a:pt x="0" y="157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065480" y="3451320"/>
              <a:ext cx="215640" cy="211320"/>
            </a:xfrm>
            <a:custGeom>
              <a:avLst/>
              <a:gdLst/>
              <a:ahLst/>
              <a:rect l="l" t="t" r="r" b="b"/>
              <a:pathLst>
                <a:path w="1087" h="1001">
                  <a:moveTo>
                    <a:pt x="157" y="0"/>
                  </a:moveTo>
                  <a:lnTo>
                    <a:pt x="157" y="128"/>
                  </a:lnTo>
                  <a:lnTo>
                    <a:pt x="408" y="128"/>
                  </a:lnTo>
                  <a:lnTo>
                    <a:pt x="539" y="392"/>
                  </a:lnTo>
                  <a:lnTo>
                    <a:pt x="678" y="128"/>
                  </a:lnTo>
                  <a:lnTo>
                    <a:pt x="931" y="128"/>
                  </a:lnTo>
                  <a:lnTo>
                    <a:pt x="931" y="0"/>
                  </a:lnTo>
                  <a:lnTo>
                    <a:pt x="1087" y="157"/>
                  </a:lnTo>
                  <a:lnTo>
                    <a:pt x="931" y="314"/>
                  </a:lnTo>
                  <a:lnTo>
                    <a:pt x="931" y="206"/>
                  </a:lnTo>
                  <a:lnTo>
                    <a:pt x="748" y="206"/>
                  </a:lnTo>
                  <a:lnTo>
                    <a:pt x="600" y="500"/>
                  </a:lnTo>
                  <a:lnTo>
                    <a:pt x="748" y="804"/>
                  </a:lnTo>
                  <a:lnTo>
                    <a:pt x="931" y="804"/>
                  </a:lnTo>
                  <a:lnTo>
                    <a:pt x="931" y="696"/>
                  </a:lnTo>
                  <a:lnTo>
                    <a:pt x="1087" y="844"/>
                  </a:lnTo>
                  <a:lnTo>
                    <a:pt x="931" y="1001"/>
                  </a:lnTo>
                  <a:lnTo>
                    <a:pt x="931" y="883"/>
                  </a:lnTo>
                  <a:lnTo>
                    <a:pt x="678" y="883"/>
                  </a:lnTo>
                  <a:lnTo>
                    <a:pt x="539" y="608"/>
                  </a:lnTo>
                  <a:lnTo>
                    <a:pt x="408" y="893"/>
                  </a:lnTo>
                  <a:lnTo>
                    <a:pt x="157" y="893"/>
                  </a:lnTo>
                  <a:lnTo>
                    <a:pt x="157" y="1001"/>
                  </a:lnTo>
                  <a:lnTo>
                    <a:pt x="0" y="844"/>
                  </a:lnTo>
                  <a:lnTo>
                    <a:pt x="157" y="696"/>
                  </a:lnTo>
                  <a:lnTo>
                    <a:pt x="157" y="804"/>
                  </a:lnTo>
                  <a:lnTo>
                    <a:pt x="330" y="804"/>
                  </a:lnTo>
                  <a:lnTo>
                    <a:pt x="487" y="500"/>
                  </a:lnTo>
                  <a:lnTo>
                    <a:pt x="330" y="206"/>
                  </a:lnTo>
                  <a:lnTo>
                    <a:pt x="157" y="206"/>
                  </a:lnTo>
                  <a:lnTo>
                    <a:pt x="157" y="305"/>
                  </a:lnTo>
                  <a:lnTo>
                    <a:pt x="0" y="157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4067640" y="3452760"/>
              <a:ext cx="214920" cy="212400"/>
            </a:xfrm>
            <a:custGeom>
              <a:avLst/>
              <a:gdLst/>
              <a:ahLst/>
              <a:rect l="l" t="t" r="r" b="b"/>
              <a:pathLst>
                <a:path w="1088" h="1000">
                  <a:moveTo>
                    <a:pt x="157" y="0"/>
                  </a:moveTo>
                  <a:lnTo>
                    <a:pt x="157" y="128"/>
                  </a:lnTo>
                  <a:lnTo>
                    <a:pt x="409" y="128"/>
                  </a:lnTo>
                  <a:lnTo>
                    <a:pt x="540" y="392"/>
                  </a:lnTo>
                  <a:lnTo>
                    <a:pt x="679" y="128"/>
                  </a:lnTo>
                  <a:lnTo>
                    <a:pt x="932" y="128"/>
                  </a:lnTo>
                  <a:lnTo>
                    <a:pt x="932" y="0"/>
                  </a:lnTo>
                  <a:lnTo>
                    <a:pt x="1088" y="157"/>
                  </a:lnTo>
                  <a:lnTo>
                    <a:pt x="932" y="314"/>
                  </a:lnTo>
                  <a:lnTo>
                    <a:pt x="932" y="206"/>
                  </a:lnTo>
                  <a:lnTo>
                    <a:pt x="749" y="206"/>
                  </a:lnTo>
                  <a:lnTo>
                    <a:pt x="601" y="500"/>
                  </a:lnTo>
                  <a:lnTo>
                    <a:pt x="749" y="804"/>
                  </a:lnTo>
                  <a:lnTo>
                    <a:pt x="932" y="804"/>
                  </a:lnTo>
                  <a:lnTo>
                    <a:pt x="932" y="696"/>
                  </a:lnTo>
                  <a:lnTo>
                    <a:pt x="1088" y="843"/>
                  </a:lnTo>
                  <a:lnTo>
                    <a:pt x="932" y="1000"/>
                  </a:lnTo>
                  <a:lnTo>
                    <a:pt x="932" y="883"/>
                  </a:lnTo>
                  <a:lnTo>
                    <a:pt x="679" y="883"/>
                  </a:lnTo>
                  <a:lnTo>
                    <a:pt x="540" y="608"/>
                  </a:lnTo>
                  <a:lnTo>
                    <a:pt x="409" y="892"/>
                  </a:lnTo>
                  <a:lnTo>
                    <a:pt x="157" y="892"/>
                  </a:lnTo>
                  <a:lnTo>
                    <a:pt x="157" y="1000"/>
                  </a:lnTo>
                  <a:lnTo>
                    <a:pt x="0" y="843"/>
                  </a:lnTo>
                  <a:lnTo>
                    <a:pt x="157" y="696"/>
                  </a:lnTo>
                  <a:lnTo>
                    <a:pt x="157" y="804"/>
                  </a:lnTo>
                  <a:lnTo>
                    <a:pt x="330" y="804"/>
                  </a:lnTo>
                  <a:lnTo>
                    <a:pt x="487" y="500"/>
                  </a:lnTo>
                  <a:lnTo>
                    <a:pt x="330" y="206"/>
                  </a:lnTo>
                  <a:lnTo>
                    <a:pt x="157" y="206"/>
                  </a:lnTo>
                  <a:lnTo>
                    <a:pt x="157" y="304"/>
                  </a:lnTo>
                  <a:lnTo>
                    <a:pt x="0" y="157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067640" y="3452760"/>
              <a:ext cx="214920" cy="212400"/>
            </a:xfrm>
            <a:custGeom>
              <a:avLst/>
              <a:gdLst/>
              <a:ahLst/>
              <a:rect l="l" t="t" r="r" b="b"/>
              <a:pathLst>
                <a:path w="1088" h="1000">
                  <a:moveTo>
                    <a:pt x="157" y="0"/>
                  </a:moveTo>
                  <a:lnTo>
                    <a:pt x="157" y="128"/>
                  </a:lnTo>
                  <a:lnTo>
                    <a:pt x="409" y="128"/>
                  </a:lnTo>
                  <a:lnTo>
                    <a:pt x="540" y="392"/>
                  </a:lnTo>
                  <a:lnTo>
                    <a:pt x="679" y="128"/>
                  </a:lnTo>
                  <a:lnTo>
                    <a:pt x="932" y="128"/>
                  </a:lnTo>
                  <a:lnTo>
                    <a:pt x="932" y="0"/>
                  </a:lnTo>
                  <a:lnTo>
                    <a:pt x="1088" y="157"/>
                  </a:lnTo>
                  <a:lnTo>
                    <a:pt x="932" y="314"/>
                  </a:lnTo>
                  <a:lnTo>
                    <a:pt x="932" y="206"/>
                  </a:lnTo>
                  <a:lnTo>
                    <a:pt x="749" y="206"/>
                  </a:lnTo>
                  <a:lnTo>
                    <a:pt x="601" y="500"/>
                  </a:lnTo>
                  <a:lnTo>
                    <a:pt x="749" y="804"/>
                  </a:lnTo>
                  <a:lnTo>
                    <a:pt x="932" y="804"/>
                  </a:lnTo>
                  <a:lnTo>
                    <a:pt x="932" y="696"/>
                  </a:lnTo>
                  <a:lnTo>
                    <a:pt x="1088" y="843"/>
                  </a:lnTo>
                  <a:lnTo>
                    <a:pt x="932" y="1000"/>
                  </a:lnTo>
                  <a:lnTo>
                    <a:pt x="932" y="883"/>
                  </a:lnTo>
                  <a:lnTo>
                    <a:pt x="679" y="883"/>
                  </a:lnTo>
                  <a:lnTo>
                    <a:pt x="540" y="608"/>
                  </a:lnTo>
                  <a:lnTo>
                    <a:pt x="409" y="892"/>
                  </a:lnTo>
                  <a:lnTo>
                    <a:pt x="157" y="892"/>
                  </a:lnTo>
                  <a:lnTo>
                    <a:pt x="157" y="1000"/>
                  </a:lnTo>
                  <a:lnTo>
                    <a:pt x="0" y="843"/>
                  </a:lnTo>
                  <a:lnTo>
                    <a:pt x="157" y="696"/>
                  </a:lnTo>
                  <a:lnTo>
                    <a:pt x="157" y="804"/>
                  </a:lnTo>
                  <a:lnTo>
                    <a:pt x="330" y="804"/>
                  </a:lnTo>
                  <a:lnTo>
                    <a:pt x="487" y="500"/>
                  </a:lnTo>
                  <a:lnTo>
                    <a:pt x="330" y="206"/>
                  </a:lnTo>
                  <a:lnTo>
                    <a:pt x="157" y="206"/>
                  </a:lnTo>
                  <a:lnTo>
                    <a:pt x="157" y="304"/>
                  </a:lnTo>
                  <a:lnTo>
                    <a:pt x="0" y="157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2" name=""/>
          <p:cNvSpPr/>
          <p:nvPr/>
        </p:nvSpPr>
        <p:spPr>
          <a:xfrm>
            <a:off x="5894280" y="2911320"/>
            <a:ext cx="325440" cy="273240"/>
          </a:xfrm>
          <a:prstGeom prst="rect">
            <a:avLst/>
          </a:prstGeom>
          <a:solidFill>
            <a:srgbClr val="00cc99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3" name=""/>
          <p:cNvGrpSpPr/>
          <p:nvPr/>
        </p:nvGrpSpPr>
        <p:grpSpPr>
          <a:xfrm>
            <a:off x="5940360" y="2957400"/>
            <a:ext cx="217080" cy="214200"/>
            <a:chOff x="5940360" y="2957400"/>
            <a:chExt cx="217080" cy="214200"/>
          </a:xfrm>
        </p:grpSpPr>
        <p:sp>
          <p:nvSpPr>
            <p:cNvPr id="2044" name=""/>
            <p:cNvSpPr/>
            <p:nvPr/>
          </p:nvSpPr>
          <p:spPr>
            <a:xfrm>
              <a:off x="5940360" y="2957400"/>
              <a:ext cx="215640" cy="211680"/>
            </a:xfrm>
            <a:custGeom>
              <a:avLst/>
              <a:gdLst/>
              <a:ahLst/>
              <a:rect l="l" t="t" r="r" b="b"/>
              <a:pathLst>
                <a:path w="1087" h="1001">
                  <a:moveTo>
                    <a:pt x="157" y="0"/>
                  </a:moveTo>
                  <a:lnTo>
                    <a:pt x="157" y="128"/>
                  </a:lnTo>
                  <a:lnTo>
                    <a:pt x="408" y="128"/>
                  </a:lnTo>
                  <a:lnTo>
                    <a:pt x="539" y="392"/>
                  </a:lnTo>
                  <a:lnTo>
                    <a:pt x="678" y="128"/>
                  </a:lnTo>
                  <a:lnTo>
                    <a:pt x="931" y="128"/>
                  </a:lnTo>
                  <a:lnTo>
                    <a:pt x="931" y="0"/>
                  </a:lnTo>
                  <a:lnTo>
                    <a:pt x="1087" y="157"/>
                  </a:lnTo>
                  <a:lnTo>
                    <a:pt x="931" y="314"/>
                  </a:lnTo>
                  <a:lnTo>
                    <a:pt x="931" y="206"/>
                  </a:lnTo>
                  <a:lnTo>
                    <a:pt x="748" y="206"/>
                  </a:lnTo>
                  <a:lnTo>
                    <a:pt x="600" y="500"/>
                  </a:lnTo>
                  <a:lnTo>
                    <a:pt x="748" y="804"/>
                  </a:lnTo>
                  <a:lnTo>
                    <a:pt x="931" y="804"/>
                  </a:lnTo>
                  <a:lnTo>
                    <a:pt x="931" y="696"/>
                  </a:lnTo>
                  <a:lnTo>
                    <a:pt x="1087" y="844"/>
                  </a:lnTo>
                  <a:lnTo>
                    <a:pt x="931" y="1001"/>
                  </a:lnTo>
                  <a:lnTo>
                    <a:pt x="931" y="883"/>
                  </a:lnTo>
                  <a:lnTo>
                    <a:pt x="678" y="883"/>
                  </a:lnTo>
                  <a:lnTo>
                    <a:pt x="539" y="608"/>
                  </a:lnTo>
                  <a:lnTo>
                    <a:pt x="408" y="893"/>
                  </a:lnTo>
                  <a:lnTo>
                    <a:pt x="157" y="893"/>
                  </a:lnTo>
                  <a:lnTo>
                    <a:pt x="157" y="1001"/>
                  </a:lnTo>
                  <a:lnTo>
                    <a:pt x="0" y="844"/>
                  </a:lnTo>
                  <a:lnTo>
                    <a:pt x="157" y="696"/>
                  </a:lnTo>
                  <a:lnTo>
                    <a:pt x="157" y="804"/>
                  </a:lnTo>
                  <a:lnTo>
                    <a:pt x="330" y="804"/>
                  </a:lnTo>
                  <a:lnTo>
                    <a:pt x="487" y="500"/>
                  </a:lnTo>
                  <a:lnTo>
                    <a:pt x="330" y="206"/>
                  </a:lnTo>
                  <a:lnTo>
                    <a:pt x="157" y="206"/>
                  </a:lnTo>
                  <a:lnTo>
                    <a:pt x="157" y="305"/>
                  </a:lnTo>
                  <a:lnTo>
                    <a:pt x="0" y="157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940360" y="2957400"/>
              <a:ext cx="215640" cy="211680"/>
            </a:xfrm>
            <a:custGeom>
              <a:avLst/>
              <a:gdLst/>
              <a:ahLst/>
              <a:rect l="l" t="t" r="r" b="b"/>
              <a:pathLst>
                <a:path w="1087" h="1001">
                  <a:moveTo>
                    <a:pt x="157" y="0"/>
                  </a:moveTo>
                  <a:lnTo>
                    <a:pt x="157" y="128"/>
                  </a:lnTo>
                  <a:lnTo>
                    <a:pt x="408" y="128"/>
                  </a:lnTo>
                  <a:lnTo>
                    <a:pt x="539" y="392"/>
                  </a:lnTo>
                  <a:lnTo>
                    <a:pt x="678" y="128"/>
                  </a:lnTo>
                  <a:lnTo>
                    <a:pt x="931" y="128"/>
                  </a:lnTo>
                  <a:lnTo>
                    <a:pt x="931" y="0"/>
                  </a:lnTo>
                  <a:lnTo>
                    <a:pt x="1087" y="157"/>
                  </a:lnTo>
                  <a:lnTo>
                    <a:pt x="931" y="314"/>
                  </a:lnTo>
                  <a:lnTo>
                    <a:pt x="931" y="206"/>
                  </a:lnTo>
                  <a:lnTo>
                    <a:pt x="748" y="206"/>
                  </a:lnTo>
                  <a:lnTo>
                    <a:pt x="600" y="500"/>
                  </a:lnTo>
                  <a:lnTo>
                    <a:pt x="748" y="804"/>
                  </a:lnTo>
                  <a:lnTo>
                    <a:pt x="931" y="804"/>
                  </a:lnTo>
                  <a:lnTo>
                    <a:pt x="931" y="696"/>
                  </a:lnTo>
                  <a:lnTo>
                    <a:pt x="1087" y="844"/>
                  </a:lnTo>
                  <a:lnTo>
                    <a:pt x="931" y="1001"/>
                  </a:lnTo>
                  <a:lnTo>
                    <a:pt x="931" y="883"/>
                  </a:lnTo>
                  <a:lnTo>
                    <a:pt x="678" y="883"/>
                  </a:lnTo>
                  <a:lnTo>
                    <a:pt x="539" y="608"/>
                  </a:lnTo>
                  <a:lnTo>
                    <a:pt x="408" y="893"/>
                  </a:lnTo>
                  <a:lnTo>
                    <a:pt x="157" y="893"/>
                  </a:lnTo>
                  <a:lnTo>
                    <a:pt x="157" y="1001"/>
                  </a:lnTo>
                  <a:lnTo>
                    <a:pt x="0" y="844"/>
                  </a:lnTo>
                  <a:lnTo>
                    <a:pt x="157" y="696"/>
                  </a:lnTo>
                  <a:lnTo>
                    <a:pt x="157" y="804"/>
                  </a:lnTo>
                  <a:lnTo>
                    <a:pt x="330" y="804"/>
                  </a:lnTo>
                  <a:lnTo>
                    <a:pt x="487" y="500"/>
                  </a:lnTo>
                  <a:lnTo>
                    <a:pt x="330" y="206"/>
                  </a:lnTo>
                  <a:lnTo>
                    <a:pt x="157" y="206"/>
                  </a:lnTo>
                  <a:lnTo>
                    <a:pt x="157" y="305"/>
                  </a:lnTo>
                  <a:lnTo>
                    <a:pt x="0" y="157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942520" y="2958840"/>
              <a:ext cx="214920" cy="212760"/>
            </a:xfrm>
            <a:custGeom>
              <a:avLst/>
              <a:gdLst/>
              <a:ahLst/>
              <a:rect l="l" t="t" r="r" b="b"/>
              <a:pathLst>
                <a:path w="1088" h="1000">
                  <a:moveTo>
                    <a:pt x="157" y="0"/>
                  </a:moveTo>
                  <a:lnTo>
                    <a:pt x="157" y="128"/>
                  </a:lnTo>
                  <a:lnTo>
                    <a:pt x="409" y="128"/>
                  </a:lnTo>
                  <a:lnTo>
                    <a:pt x="540" y="392"/>
                  </a:lnTo>
                  <a:lnTo>
                    <a:pt x="679" y="128"/>
                  </a:lnTo>
                  <a:lnTo>
                    <a:pt x="932" y="128"/>
                  </a:lnTo>
                  <a:lnTo>
                    <a:pt x="932" y="0"/>
                  </a:lnTo>
                  <a:lnTo>
                    <a:pt x="1088" y="157"/>
                  </a:lnTo>
                  <a:lnTo>
                    <a:pt x="932" y="314"/>
                  </a:lnTo>
                  <a:lnTo>
                    <a:pt x="932" y="206"/>
                  </a:lnTo>
                  <a:lnTo>
                    <a:pt x="749" y="206"/>
                  </a:lnTo>
                  <a:lnTo>
                    <a:pt x="601" y="500"/>
                  </a:lnTo>
                  <a:lnTo>
                    <a:pt x="749" y="804"/>
                  </a:lnTo>
                  <a:lnTo>
                    <a:pt x="932" y="804"/>
                  </a:lnTo>
                  <a:lnTo>
                    <a:pt x="932" y="696"/>
                  </a:lnTo>
                  <a:lnTo>
                    <a:pt x="1088" y="843"/>
                  </a:lnTo>
                  <a:lnTo>
                    <a:pt x="932" y="1000"/>
                  </a:lnTo>
                  <a:lnTo>
                    <a:pt x="932" y="883"/>
                  </a:lnTo>
                  <a:lnTo>
                    <a:pt x="679" y="883"/>
                  </a:lnTo>
                  <a:lnTo>
                    <a:pt x="540" y="608"/>
                  </a:lnTo>
                  <a:lnTo>
                    <a:pt x="409" y="892"/>
                  </a:lnTo>
                  <a:lnTo>
                    <a:pt x="157" y="892"/>
                  </a:lnTo>
                  <a:lnTo>
                    <a:pt x="157" y="1000"/>
                  </a:lnTo>
                  <a:lnTo>
                    <a:pt x="0" y="843"/>
                  </a:lnTo>
                  <a:lnTo>
                    <a:pt x="157" y="696"/>
                  </a:lnTo>
                  <a:lnTo>
                    <a:pt x="157" y="804"/>
                  </a:lnTo>
                  <a:lnTo>
                    <a:pt x="330" y="804"/>
                  </a:lnTo>
                  <a:lnTo>
                    <a:pt x="487" y="500"/>
                  </a:lnTo>
                  <a:lnTo>
                    <a:pt x="330" y="206"/>
                  </a:lnTo>
                  <a:lnTo>
                    <a:pt x="157" y="206"/>
                  </a:lnTo>
                  <a:lnTo>
                    <a:pt x="157" y="304"/>
                  </a:lnTo>
                  <a:lnTo>
                    <a:pt x="0" y="157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942520" y="2958840"/>
              <a:ext cx="214920" cy="212760"/>
            </a:xfrm>
            <a:custGeom>
              <a:avLst/>
              <a:gdLst/>
              <a:ahLst/>
              <a:rect l="l" t="t" r="r" b="b"/>
              <a:pathLst>
                <a:path w="1088" h="1000">
                  <a:moveTo>
                    <a:pt x="157" y="0"/>
                  </a:moveTo>
                  <a:lnTo>
                    <a:pt x="157" y="128"/>
                  </a:lnTo>
                  <a:lnTo>
                    <a:pt x="409" y="128"/>
                  </a:lnTo>
                  <a:lnTo>
                    <a:pt x="540" y="392"/>
                  </a:lnTo>
                  <a:lnTo>
                    <a:pt x="679" y="128"/>
                  </a:lnTo>
                  <a:lnTo>
                    <a:pt x="932" y="128"/>
                  </a:lnTo>
                  <a:lnTo>
                    <a:pt x="932" y="0"/>
                  </a:lnTo>
                  <a:lnTo>
                    <a:pt x="1088" y="157"/>
                  </a:lnTo>
                  <a:lnTo>
                    <a:pt x="932" y="314"/>
                  </a:lnTo>
                  <a:lnTo>
                    <a:pt x="932" y="206"/>
                  </a:lnTo>
                  <a:lnTo>
                    <a:pt x="749" y="206"/>
                  </a:lnTo>
                  <a:lnTo>
                    <a:pt x="601" y="500"/>
                  </a:lnTo>
                  <a:lnTo>
                    <a:pt x="749" y="804"/>
                  </a:lnTo>
                  <a:lnTo>
                    <a:pt x="932" y="804"/>
                  </a:lnTo>
                  <a:lnTo>
                    <a:pt x="932" y="696"/>
                  </a:lnTo>
                  <a:lnTo>
                    <a:pt x="1088" y="843"/>
                  </a:lnTo>
                  <a:lnTo>
                    <a:pt x="932" y="1000"/>
                  </a:lnTo>
                  <a:lnTo>
                    <a:pt x="932" y="883"/>
                  </a:lnTo>
                  <a:lnTo>
                    <a:pt x="679" y="883"/>
                  </a:lnTo>
                  <a:lnTo>
                    <a:pt x="540" y="608"/>
                  </a:lnTo>
                  <a:lnTo>
                    <a:pt x="409" y="892"/>
                  </a:lnTo>
                  <a:lnTo>
                    <a:pt x="157" y="892"/>
                  </a:lnTo>
                  <a:lnTo>
                    <a:pt x="157" y="1000"/>
                  </a:lnTo>
                  <a:lnTo>
                    <a:pt x="0" y="843"/>
                  </a:lnTo>
                  <a:lnTo>
                    <a:pt x="157" y="696"/>
                  </a:lnTo>
                  <a:lnTo>
                    <a:pt x="157" y="804"/>
                  </a:lnTo>
                  <a:lnTo>
                    <a:pt x="330" y="804"/>
                  </a:lnTo>
                  <a:lnTo>
                    <a:pt x="487" y="500"/>
                  </a:lnTo>
                  <a:lnTo>
                    <a:pt x="330" y="206"/>
                  </a:lnTo>
                  <a:lnTo>
                    <a:pt x="157" y="206"/>
                  </a:lnTo>
                  <a:lnTo>
                    <a:pt x="157" y="304"/>
                  </a:lnTo>
                  <a:lnTo>
                    <a:pt x="0" y="157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8" name=""/>
          <p:cNvSpPr/>
          <p:nvPr/>
        </p:nvSpPr>
        <p:spPr>
          <a:xfrm>
            <a:off x="1066680" y="3352680"/>
            <a:ext cx="1419480" cy="22100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338640" y="3844800"/>
            <a:ext cx="1419120" cy="17049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5667480" y="3516480"/>
            <a:ext cx="1419120" cy="17031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2997360" y="1427040"/>
            <a:ext cx="2612880" cy="17035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2" name=""/>
          <p:cNvGrpSpPr/>
          <p:nvPr/>
        </p:nvGrpSpPr>
        <p:grpSpPr>
          <a:xfrm>
            <a:off x="228600" y="1981080"/>
            <a:ext cx="522360" cy="312840"/>
            <a:chOff x="228600" y="1981080"/>
            <a:chExt cx="522360" cy="312840"/>
          </a:xfrm>
        </p:grpSpPr>
        <p:sp>
          <p:nvSpPr>
            <p:cNvPr id="2053" name=""/>
            <p:cNvSpPr/>
            <p:nvPr/>
          </p:nvSpPr>
          <p:spPr>
            <a:xfrm>
              <a:off x="233280" y="1985400"/>
              <a:ext cx="511560" cy="302400"/>
            </a:xfrm>
            <a:custGeom>
              <a:avLst/>
              <a:gdLst/>
              <a:ahLst/>
              <a:rect l="l" t="t" r="r" b="b"/>
              <a:pathLst>
                <a:path w="432" h="264">
                  <a:moveTo>
                    <a:pt x="216" y="0"/>
                  </a:move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4" y="211"/>
                  </a:lnTo>
                  <a:lnTo>
                    <a:pt x="10" y="217"/>
                  </a:lnTo>
                  <a:lnTo>
                    <a:pt x="17" y="224"/>
                  </a:lnTo>
                  <a:lnTo>
                    <a:pt x="26" y="229"/>
                  </a:lnTo>
                  <a:lnTo>
                    <a:pt x="37" y="235"/>
                  </a:lnTo>
                  <a:lnTo>
                    <a:pt x="49" y="240"/>
                  </a:lnTo>
                  <a:lnTo>
                    <a:pt x="63" y="245"/>
                  </a:lnTo>
                  <a:lnTo>
                    <a:pt x="79" y="249"/>
                  </a:lnTo>
                  <a:lnTo>
                    <a:pt x="95" y="253"/>
                  </a:lnTo>
                  <a:lnTo>
                    <a:pt x="113" y="256"/>
                  </a:lnTo>
                  <a:lnTo>
                    <a:pt x="132" y="259"/>
                  </a:lnTo>
                  <a:lnTo>
                    <a:pt x="173" y="263"/>
                  </a:lnTo>
                  <a:lnTo>
                    <a:pt x="216" y="264"/>
                  </a:lnTo>
                  <a:lnTo>
                    <a:pt x="259" y="263"/>
                  </a:lnTo>
                  <a:lnTo>
                    <a:pt x="300" y="259"/>
                  </a:lnTo>
                  <a:lnTo>
                    <a:pt x="319" y="256"/>
                  </a:lnTo>
                  <a:lnTo>
                    <a:pt x="337" y="253"/>
                  </a:lnTo>
                  <a:lnTo>
                    <a:pt x="353" y="249"/>
                  </a:lnTo>
                  <a:lnTo>
                    <a:pt x="369" y="245"/>
                  </a:lnTo>
                  <a:lnTo>
                    <a:pt x="383" y="240"/>
                  </a:lnTo>
                  <a:lnTo>
                    <a:pt x="395" y="235"/>
                  </a:lnTo>
                  <a:lnTo>
                    <a:pt x="406" y="229"/>
                  </a:lnTo>
                  <a:lnTo>
                    <a:pt x="415" y="224"/>
                  </a:lnTo>
                  <a:lnTo>
                    <a:pt x="422" y="217"/>
                  </a:lnTo>
                  <a:lnTo>
                    <a:pt x="428" y="211"/>
                  </a:lnTo>
                  <a:lnTo>
                    <a:pt x="431" y="205"/>
                  </a:lnTo>
                  <a:lnTo>
                    <a:pt x="432" y="198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33280" y="1985400"/>
              <a:ext cx="511560" cy="151200"/>
            </a:xfrm>
            <a:custGeom>
              <a:avLst/>
              <a:gdLst/>
              <a:ahLst/>
              <a:rect l="l" t="t" r="r" b="b"/>
              <a:pathLst>
                <a:path w="432" h="132">
                  <a:moveTo>
                    <a:pt x="0" y="66"/>
                  </a:moveTo>
                  <a:lnTo>
                    <a:pt x="1" y="73"/>
                  </a:lnTo>
                  <a:lnTo>
                    <a:pt x="4" y="79"/>
                  </a:lnTo>
                  <a:lnTo>
                    <a:pt x="10" y="85"/>
                  </a:lnTo>
                  <a:lnTo>
                    <a:pt x="17" y="92"/>
                  </a:lnTo>
                  <a:lnTo>
                    <a:pt x="26" y="97"/>
                  </a:lnTo>
                  <a:lnTo>
                    <a:pt x="37" y="103"/>
                  </a:lnTo>
                  <a:lnTo>
                    <a:pt x="49" y="108"/>
                  </a:lnTo>
                  <a:lnTo>
                    <a:pt x="63" y="113"/>
                  </a:lnTo>
                  <a:lnTo>
                    <a:pt x="79" y="117"/>
                  </a:lnTo>
                  <a:lnTo>
                    <a:pt x="95" y="121"/>
                  </a:lnTo>
                  <a:lnTo>
                    <a:pt x="113" y="124"/>
                  </a:lnTo>
                  <a:lnTo>
                    <a:pt x="132" y="127"/>
                  </a:lnTo>
                  <a:lnTo>
                    <a:pt x="173" y="131"/>
                  </a:lnTo>
                  <a:lnTo>
                    <a:pt x="216" y="132"/>
                  </a:lnTo>
                  <a:lnTo>
                    <a:pt x="259" y="131"/>
                  </a:lnTo>
                  <a:lnTo>
                    <a:pt x="300" y="127"/>
                  </a:lnTo>
                  <a:lnTo>
                    <a:pt x="319" y="124"/>
                  </a:lnTo>
                  <a:lnTo>
                    <a:pt x="337" y="121"/>
                  </a:lnTo>
                  <a:lnTo>
                    <a:pt x="353" y="117"/>
                  </a:lnTo>
                  <a:lnTo>
                    <a:pt x="369" y="113"/>
                  </a:lnTo>
                  <a:lnTo>
                    <a:pt x="383" y="108"/>
                  </a:lnTo>
                  <a:lnTo>
                    <a:pt x="395" y="103"/>
                  </a:lnTo>
                  <a:lnTo>
                    <a:pt x="406" y="97"/>
                  </a:lnTo>
                  <a:lnTo>
                    <a:pt x="415" y="92"/>
                  </a:lnTo>
                  <a:lnTo>
                    <a:pt x="422" y="85"/>
                  </a:lnTo>
                  <a:lnTo>
                    <a:pt x="428" y="79"/>
                  </a:lnTo>
                  <a:lnTo>
                    <a:pt x="431" y="73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28600" y="1981080"/>
              <a:ext cx="522360" cy="312840"/>
            </a:xfrm>
            <a:custGeom>
              <a:avLst/>
              <a:gdLst/>
              <a:ahLst/>
              <a:rect l="l" t="t" r="r" b="b"/>
              <a:pathLst>
                <a:path w="441" h="273">
                  <a:moveTo>
                    <a:pt x="177" y="1"/>
                  </a:moveTo>
                  <a:lnTo>
                    <a:pt x="136" y="5"/>
                  </a:lnTo>
                  <a:lnTo>
                    <a:pt x="117" y="8"/>
                  </a:lnTo>
                  <a:lnTo>
                    <a:pt x="99" y="11"/>
                  </a:lnTo>
                  <a:lnTo>
                    <a:pt x="83" y="15"/>
                  </a:lnTo>
                  <a:lnTo>
                    <a:pt x="67" y="19"/>
                  </a:lnTo>
                  <a:lnTo>
                    <a:pt x="53" y="24"/>
                  </a:lnTo>
                  <a:lnTo>
                    <a:pt x="41" y="29"/>
                  </a:lnTo>
                  <a:lnTo>
                    <a:pt x="38" y="30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4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2" y="212"/>
                  </a:lnTo>
                  <a:lnTo>
                    <a:pt x="5" y="218"/>
                  </a:lnTo>
                  <a:lnTo>
                    <a:pt x="11" y="224"/>
                  </a:lnTo>
                  <a:lnTo>
                    <a:pt x="18" y="231"/>
                  </a:lnTo>
                  <a:lnTo>
                    <a:pt x="27" y="236"/>
                  </a:lnTo>
                  <a:lnTo>
                    <a:pt x="38" y="242"/>
                  </a:lnTo>
                  <a:lnTo>
                    <a:pt x="41" y="243"/>
                  </a:lnTo>
                  <a:lnTo>
                    <a:pt x="53" y="248"/>
                  </a:lnTo>
                  <a:lnTo>
                    <a:pt x="67" y="253"/>
                  </a:lnTo>
                  <a:lnTo>
                    <a:pt x="83" y="257"/>
                  </a:lnTo>
                  <a:lnTo>
                    <a:pt x="99" y="261"/>
                  </a:lnTo>
                  <a:lnTo>
                    <a:pt x="117" y="264"/>
                  </a:lnTo>
                  <a:lnTo>
                    <a:pt x="136" y="267"/>
                  </a:lnTo>
                  <a:lnTo>
                    <a:pt x="177" y="271"/>
                  </a:lnTo>
                  <a:lnTo>
                    <a:pt x="220" y="273"/>
                  </a:lnTo>
                  <a:lnTo>
                    <a:pt x="263" y="271"/>
                  </a:lnTo>
                  <a:lnTo>
                    <a:pt x="304" y="267"/>
                  </a:lnTo>
                  <a:lnTo>
                    <a:pt x="323" y="264"/>
                  </a:lnTo>
                  <a:lnTo>
                    <a:pt x="341" y="261"/>
                  </a:lnTo>
                  <a:lnTo>
                    <a:pt x="357" y="257"/>
                  </a:lnTo>
                  <a:lnTo>
                    <a:pt x="373" y="253"/>
                  </a:lnTo>
                  <a:lnTo>
                    <a:pt x="387" y="248"/>
                  </a:lnTo>
                  <a:lnTo>
                    <a:pt x="399" y="243"/>
                  </a:lnTo>
                  <a:lnTo>
                    <a:pt x="402" y="242"/>
                  </a:lnTo>
                  <a:lnTo>
                    <a:pt x="413" y="236"/>
                  </a:lnTo>
                  <a:lnTo>
                    <a:pt x="422" y="231"/>
                  </a:lnTo>
                  <a:lnTo>
                    <a:pt x="429" y="224"/>
                  </a:lnTo>
                  <a:lnTo>
                    <a:pt x="435" y="218"/>
                  </a:lnTo>
                  <a:lnTo>
                    <a:pt x="438" y="212"/>
                  </a:lnTo>
                  <a:lnTo>
                    <a:pt x="439" y="209"/>
                  </a:lnTo>
                  <a:lnTo>
                    <a:pt x="441" y="202"/>
                  </a:lnTo>
                  <a:lnTo>
                    <a:pt x="441" y="70"/>
                  </a:lnTo>
                  <a:lnTo>
                    <a:pt x="439" y="63"/>
                  </a:lnTo>
                  <a:lnTo>
                    <a:pt x="438" y="60"/>
                  </a:lnTo>
                  <a:lnTo>
                    <a:pt x="435" y="54"/>
                  </a:lnTo>
                  <a:lnTo>
                    <a:pt x="429" y="48"/>
                  </a:lnTo>
                  <a:lnTo>
                    <a:pt x="422" y="42"/>
                  </a:lnTo>
                  <a:lnTo>
                    <a:pt x="413" y="36"/>
                  </a:lnTo>
                  <a:lnTo>
                    <a:pt x="402" y="30"/>
                  </a:lnTo>
                  <a:lnTo>
                    <a:pt x="399" y="29"/>
                  </a:lnTo>
                  <a:lnTo>
                    <a:pt x="387" y="24"/>
                  </a:lnTo>
                  <a:lnTo>
                    <a:pt x="373" y="19"/>
                  </a:lnTo>
                  <a:lnTo>
                    <a:pt x="357" y="15"/>
                  </a:lnTo>
                  <a:lnTo>
                    <a:pt x="341" y="11"/>
                  </a:lnTo>
                  <a:lnTo>
                    <a:pt x="323" y="8"/>
                  </a:lnTo>
                  <a:lnTo>
                    <a:pt x="304" y="5"/>
                  </a:lnTo>
                  <a:lnTo>
                    <a:pt x="263" y="1"/>
                  </a:lnTo>
                  <a:lnTo>
                    <a:pt x="220" y="0"/>
                  </a:lnTo>
                  <a:lnTo>
                    <a:pt x="177" y="1"/>
                  </a:lnTo>
                  <a:close/>
                  <a:moveTo>
                    <a:pt x="220" y="9"/>
                  </a:moveTo>
                  <a:lnTo>
                    <a:pt x="263" y="10"/>
                  </a:lnTo>
                  <a:lnTo>
                    <a:pt x="304" y="14"/>
                  </a:lnTo>
                  <a:lnTo>
                    <a:pt x="323" y="17"/>
                  </a:lnTo>
                  <a:lnTo>
                    <a:pt x="341" y="20"/>
                  </a:lnTo>
                  <a:lnTo>
                    <a:pt x="357" y="24"/>
                  </a:lnTo>
                  <a:lnTo>
                    <a:pt x="373" y="28"/>
                  </a:lnTo>
                  <a:lnTo>
                    <a:pt x="387" y="33"/>
                  </a:lnTo>
                  <a:lnTo>
                    <a:pt x="399" y="38"/>
                  </a:lnTo>
                  <a:lnTo>
                    <a:pt x="399" y="33"/>
                  </a:lnTo>
                  <a:lnTo>
                    <a:pt x="396" y="36"/>
                  </a:lnTo>
                  <a:lnTo>
                    <a:pt x="407" y="42"/>
                  </a:lnTo>
                  <a:lnTo>
                    <a:pt x="416" y="48"/>
                  </a:lnTo>
                  <a:lnTo>
                    <a:pt x="423" y="54"/>
                  </a:lnTo>
                  <a:lnTo>
                    <a:pt x="429" y="60"/>
                  </a:lnTo>
                  <a:lnTo>
                    <a:pt x="432" y="66"/>
                  </a:lnTo>
                  <a:lnTo>
                    <a:pt x="435" y="63"/>
                  </a:lnTo>
                  <a:lnTo>
                    <a:pt x="430" y="63"/>
                  </a:lnTo>
                  <a:lnTo>
                    <a:pt x="432" y="70"/>
                  </a:lnTo>
                  <a:lnTo>
                    <a:pt x="432" y="202"/>
                  </a:lnTo>
                  <a:lnTo>
                    <a:pt x="430" y="209"/>
                  </a:lnTo>
                  <a:lnTo>
                    <a:pt x="435" y="209"/>
                  </a:lnTo>
                  <a:lnTo>
                    <a:pt x="432" y="206"/>
                  </a:lnTo>
                  <a:lnTo>
                    <a:pt x="429" y="212"/>
                  </a:lnTo>
                  <a:lnTo>
                    <a:pt x="423" y="218"/>
                  </a:lnTo>
                  <a:lnTo>
                    <a:pt x="416" y="225"/>
                  </a:lnTo>
                  <a:lnTo>
                    <a:pt x="407" y="230"/>
                  </a:lnTo>
                  <a:lnTo>
                    <a:pt x="396" y="236"/>
                  </a:lnTo>
                  <a:lnTo>
                    <a:pt x="399" y="239"/>
                  </a:lnTo>
                  <a:lnTo>
                    <a:pt x="399" y="234"/>
                  </a:lnTo>
                  <a:lnTo>
                    <a:pt x="387" y="239"/>
                  </a:lnTo>
                  <a:lnTo>
                    <a:pt x="373" y="244"/>
                  </a:lnTo>
                  <a:lnTo>
                    <a:pt x="357" y="248"/>
                  </a:lnTo>
                  <a:lnTo>
                    <a:pt x="341" y="252"/>
                  </a:lnTo>
                  <a:lnTo>
                    <a:pt x="323" y="255"/>
                  </a:lnTo>
                  <a:lnTo>
                    <a:pt x="304" y="258"/>
                  </a:lnTo>
                  <a:lnTo>
                    <a:pt x="263" y="262"/>
                  </a:lnTo>
                  <a:lnTo>
                    <a:pt x="220" y="264"/>
                  </a:lnTo>
                  <a:lnTo>
                    <a:pt x="177" y="262"/>
                  </a:lnTo>
                  <a:lnTo>
                    <a:pt x="136" y="258"/>
                  </a:lnTo>
                  <a:lnTo>
                    <a:pt x="117" y="255"/>
                  </a:lnTo>
                  <a:lnTo>
                    <a:pt x="99" y="252"/>
                  </a:lnTo>
                  <a:lnTo>
                    <a:pt x="83" y="248"/>
                  </a:lnTo>
                  <a:lnTo>
                    <a:pt x="67" y="244"/>
                  </a:lnTo>
                  <a:lnTo>
                    <a:pt x="53" y="239"/>
                  </a:lnTo>
                  <a:lnTo>
                    <a:pt x="41" y="234"/>
                  </a:lnTo>
                  <a:lnTo>
                    <a:pt x="41" y="239"/>
                  </a:lnTo>
                  <a:lnTo>
                    <a:pt x="44" y="236"/>
                  </a:lnTo>
                  <a:lnTo>
                    <a:pt x="33" y="230"/>
                  </a:lnTo>
                  <a:lnTo>
                    <a:pt x="24" y="225"/>
                  </a:lnTo>
                  <a:lnTo>
                    <a:pt x="17" y="218"/>
                  </a:lnTo>
                  <a:lnTo>
                    <a:pt x="11" y="212"/>
                  </a:lnTo>
                  <a:lnTo>
                    <a:pt x="8" y="206"/>
                  </a:lnTo>
                  <a:lnTo>
                    <a:pt x="5" y="209"/>
                  </a:lnTo>
                  <a:lnTo>
                    <a:pt x="10" y="209"/>
                  </a:lnTo>
                  <a:lnTo>
                    <a:pt x="9" y="202"/>
                  </a:lnTo>
                  <a:lnTo>
                    <a:pt x="9" y="70"/>
                  </a:lnTo>
                  <a:lnTo>
                    <a:pt x="10" y="63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1" y="60"/>
                  </a:lnTo>
                  <a:lnTo>
                    <a:pt x="17" y="54"/>
                  </a:lnTo>
                  <a:lnTo>
                    <a:pt x="24" y="48"/>
                  </a:lnTo>
                  <a:lnTo>
                    <a:pt x="33" y="42"/>
                  </a:lnTo>
                  <a:lnTo>
                    <a:pt x="44" y="36"/>
                  </a:lnTo>
                  <a:lnTo>
                    <a:pt x="41" y="33"/>
                  </a:lnTo>
                  <a:lnTo>
                    <a:pt x="41" y="38"/>
                  </a:lnTo>
                  <a:lnTo>
                    <a:pt x="53" y="33"/>
                  </a:lnTo>
                  <a:lnTo>
                    <a:pt x="67" y="28"/>
                  </a:lnTo>
                  <a:lnTo>
                    <a:pt x="83" y="24"/>
                  </a:lnTo>
                  <a:lnTo>
                    <a:pt x="99" y="20"/>
                  </a:lnTo>
                  <a:lnTo>
                    <a:pt x="117" y="17"/>
                  </a:lnTo>
                  <a:lnTo>
                    <a:pt x="136" y="14"/>
                  </a:lnTo>
                  <a:lnTo>
                    <a:pt x="177" y="10"/>
                  </a:lnTo>
                  <a:lnTo>
                    <a:pt x="220" y="9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228600" y="2061360"/>
              <a:ext cx="522360" cy="81000"/>
            </a:xfrm>
            <a:custGeom>
              <a:avLst/>
              <a:gdLst/>
              <a:ahLst/>
              <a:rect l="l" t="t" r="r" b="b"/>
              <a:pathLst>
                <a:path w="441" h="71">
                  <a:moveTo>
                    <a:pt x="9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11" y="22"/>
                  </a:lnTo>
                  <a:lnTo>
                    <a:pt x="18" y="29"/>
                  </a:lnTo>
                  <a:lnTo>
                    <a:pt x="27" y="34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53" y="46"/>
                  </a:lnTo>
                  <a:lnTo>
                    <a:pt x="67" y="51"/>
                  </a:lnTo>
                  <a:lnTo>
                    <a:pt x="83" y="55"/>
                  </a:lnTo>
                  <a:lnTo>
                    <a:pt x="99" y="59"/>
                  </a:lnTo>
                  <a:lnTo>
                    <a:pt x="117" y="62"/>
                  </a:lnTo>
                  <a:lnTo>
                    <a:pt x="136" y="65"/>
                  </a:lnTo>
                  <a:lnTo>
                    <a:pt x="177" y="69"/>
                  </a:lnTo>
                  <a:lnTo>
                    <a:pt x="220" y="71"/>
                  </a:lnTo>
                  <a:lnTo>
                    <a:pt x="263" y="69"/>
                  </a:lnTo>
                  <a:lnTo>
                    <a:pt x="304" y="65"/>
                  </a:lnTo>
                  <a:lnTo>
                    <a:pt x="323" y="62"/>
                  </a:lnTo>
                  <a:lnTo>
                    <a:pt x="341" y="59"/>
                  </a:lnTo>
                  <a:lnTo>
                    <a:pt x="357" y="55"/>
                  </a:lnTo>
                  <a:lnTo>
                    <a:pt x="373" y="51"/>
                  </a:lnTo>
                  <a:lnTo>
                    <a:pt x="387" y="46"/>
                  </a:lnTo>
                  <a:lnTo>
                    <a:pt x="399" y="41"/>
                  </a:lnTo>
                  <a:lnTo>
                    <a:pt x="402" y="40"/>
                  </a:lnTo>
                  <a:lnTo>
                    <a:pt x="413" y="34"/>
                  </a:lnTo>
                  <a:lnTo>
                    <a:pt x="422" y="29"/>
                  </a:lnTo>
                  <a:lnTo>
                    <a:pt x="429" y="22"/>
                  </a:lnTo>
                  <a:lnTo>
                    <a:pt x="435" y="16"/>
                  </a:lnTo>
                  <a:lnTo>
                    <a:pt x="438" y="10"/>
                  </a:lnTo>
                  <a:lnTo>
                    <a:pt x="439" y="7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30" y="7"/>
                  </a:lnTo>
                  <a:lnTo>
                    <a:pt x="435" y="7"/>
                  </a:lnTo>
                  <a:lnTo>
                    <a:pt x="432" y="4"/>
                  </a:lnTo>
                  <a:lnTo>
                    <a:pt x="429" y="10"/>
                  </a:lnTo>
                  <a:lnTo>
                    <a:pt x="423" y="16"/>
                  </a:lnTo>
                  <a:lnTo>
                    <a:pt x="416" y="23"/>
                  </a:lnTo>
                  <a:lnTo>
                    <a:pt x="407" y="28"/>
                  </a:lnTo>
                  <a:lnTo>
                    <a:pt x="396" y="34"/>
                  </a:lnTo>
                  <a:lnTo>
                    <a:pt x="399" y="37"/>
                  </a:lnTo>
                  <a:lnTo>
                    <a:pt x="399" y="32"/>
                  </a:lnTo>
                  <a:lnTo>
                    <a:pt x="387" y="37"/>
                  </a:lnTo>
                  <a:lnTo>
                    <a:pt x="373" y="42"/>
                  </a:lnTo>
                  <a:lnTo>
                    <a:pt x="357" y="46"/>
                  </a:lnTo>
                  <a:lnTo>
                    <a:pt x="341" y="50"/>
                  </a:lnTo>
                  <a:lnTo>
                    <a:pt x="323" y="53"/>
                  </a:lnTo>
                  <a:lnTo>
                    <a:pt x="304" y="56"/>
                  </a:lnTo>
                  <a:lnTo>
                    <a:pt x="263" y="60"/>
                  </a:lnTo>
                  <a:lnTo>
                    <a:pt x="220" y="62"/>
                  </a:lnTo>
                  <a:lnTo>
                    <a:pt x="177" y="60"/>
                  </a:lnTo>
                  <a:lnTo>
                    <a:pt x="136" y="56"/>
                  </a:lnTo>
                  <a:lnTo>
                    <a:pt x="117" y="53"/>
                  </a:lnTo>
                  <a:lnTo>
                    <a:pt x="99" y="50"/>
                  </a:lnTo>
                  <a:lnTo>
                    <a:pt x="83" y="46"/>
                  </a:lnTo>
                  <a:lnTo>
                    <a:pt x="67" y="42"/>
                  </a:lnTo>
                  <a:lnTo>
                    <a:pt x="53" y="37"/>
                  </a:lnTo>
                  <a:lnTo>
                    <a:pt x="41" y="3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33" y="28"/>
                  </a:lnTo>
                  <a:lnTo>
                    <a:pt x="24" y="23"/>
                  </a:lnTo>
                  <a:lnTo>
                    <a:pt x="17" y="16"/>
                  </a:lnTo>
                  <a:lnTo>
                    <a:pt x="11" y="10"/>
                  </a:lnTo>
                  <a:lnTo>
                    <a:pt x="8" y="4"/>
                  </a:lnTo>
                  <a:lnTo>
                    <a:pt x="5" y="7"/>
                  </a:lnTo>
                  <a:lnTo>
                    <a:pt x="10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7" name=""/>
            <p:cNvGrpSpPr/>
            <p:nvPr/>
          </p:nvGrpSpPr>
          <p:grpSpPr>
            <a:xfrm>
              <a:off x="289800" y="2009520"/>
              <a:ext cx="384480" cy="105120"/>
              <a:chOff x="289800" y="2009520"/>
              <a:chExt cx="384480" cy="105120"/>
            </a:xfrm>
          </p:grpSpPr>
          <p:sp>
            <p:nvSpPr>
              <p:cNvPr id="2058" name=""/>
              <p:cNvSpPr/>
              <p:nvPr/>
            </p:nvSpPr>
            <p:spPr>
              <a:xfrm>
                <a:off x="489960" y="2011680"/>
                <a:ext cx="18432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89960" y="2011680"/>
                <a:ext cx="18432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89800" y="2064600"/>
                <a:ext cx="184680" cy="4788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89800" y="2064600"/>
                <a:ext cx="184680" cy="4788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00240" y="2009520"/>
                <a:ext cx="18468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0240" y="2009520"/>
                <a:ext cx="18468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484200" y="2068920"/>
                <a:ext cx="183240" cy="45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484200" y="2068920"/>
                <a:ext cx="183240" cy="45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066" name="switch" descr=""/>
          <p:cNvPicPr/>
          <p:nvPr/>
        </p:nvPicPr>
        <p:blipFill>
          <a:blip r:embed="rId1"/>
          <a:stretch/>
        </p:blipFill>
        <p:spPr>
          <a:xfrm>
            <a:off x="304920" y="5334120"/>
            <a:ext cx="396720" cy="376200"/>
          </a:xfrm>
          <a:prstGeom prst="rect">
            <a:avLst/>
          </a:prstGeom>
          <a:ln w="0">
            <a:noFill/>
          </a:ln>
        </p:spPr>
      </p:pic>
      <p:grpSp>
        <p:nvGrpSpPr>
          <p:cNvPr id="2067" name=""/>
          <p:cNvGrpSpPr/>
          <p:nvPr/>
        </p:nvGrpSpPr>
        <p:grpSpPr>
          <a:xfrm>
            <a:off x="7543800" y="990720"/>
            <a:ext cx="589320" cy="659880"/>
            <a:chOff x="7543800" y="990720"/>
            <a:chExt cx="589320" cy="659880"/>
          </a:xfrm>
        </p:grpSpPr>
        <p:sp>
          <p:nvSpPr>
            <p:cNvPr id="2068" name=""/>
            <p:cNvSpPr/>
            <p:nvPr/>
          </p:nvSpPr>
          <p:spPr>
            <a:xfrm>
              <a:off x="7640640" y="990720"/>
              <a:ext cx="397800" cy="659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543800" y="1052640"/>
              <a:ext cx="58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D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0" name=""/>
          <p:cNvGrpSpPr/>
          <p:nvPr/>
        </p:nvGrpSpPr>
        <p:grpSpPr>
          <a:xfrm>
            <a:off x="6934320" y="6172200"/>
            <a:ext cx="522000" cy="312840"/>
            <a:chOff x="6934320" y="6172200"/>
            <a:chExt cx="522000" cy="312840"/>
          </a:xfrm>
        </p:grpSpPr>
        <p:sp>
          <p:nvSpPr>
            <p:cNvPr id="2071" name=""/>
            <p:cNvSpPr/>
            <p:nvPr/>
          </p:nvSpPr>
          <p:spPr>
            <a:xfrm>
              <a:off x="6939000" y="6176520"/>
              <a:ext cx="511200" cy="302400"/>
            </a:xfrm>
            <a:custGeom>
              <a:avLst/>
              <a:gdLst/>
              <a:ahLst/>
              <a:rect l="l" t="t" r="r" b="b"/>
              <a:pathLst>
                <a:path w="432" h="264">
                  <a:moveTo>
                    <a:pt x="216" y="0"/>
                  </a:move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4" y="211"/>
                  </a:lnTo>
                  <a:lnTo>
                    <a:pt x="10" y="217"/>
                  </a:lnTo>
                  <a:lnTo>
                    <a:pt x="17" y="224"/>
                  </a:lnTo>
                  <a:lnTo>
                    <a:pt x="26" y="229"/>
                  </a:lnTo>
                  <a:lnTo>
                    <a:pt x="37" y="235"/>
                  </a:lnTo>
                  <a:lnTo>
                    <a:pt x="49" y="240"/>
                  </a:lnTo>
                  <a:lnTo>
                    <a:pt x="63" y="245"/>
                  </a:lnTo>
                  <a:lnTo>
                    <a:pt x="79" y="249"/>
                  </a:lnTo>
                  <a:lnTo>
                    <a:pt x="95" y="253"/>
                  </a:lnTo>
                  <a:lnTo>
                    <a:pt x="113" y="256"/>
                  </a:lnTo>
                  <a:lnTo>
                    <a:pt x="132" y="259"/>
                  </a:lnTo>
                  <a:lnTo>
                    <a:pt x="173" y="263"/>
                  </a:lnTo>
                  <a:lnTo>
                    <a:pt x="216" y="264"/>
                  </a:lnTo>
                  <a:lnTo>
                    <a:pt x="259" y="263"/>
                  </a:lnTo>
                  <a:lnTo>
                    <a:pt x="300" y="259"/>
                  </a:lnTo>
                  <a:lnTo>
                    <a:pt x="319" y="256"/>
                  </a:lnTo>
                  <a:lnTo>
                    <a:pt x="337" y="253"/>
                  </a:lnTo>
                  <a:lnTo>
                    <a:pt x="353" y="249"/>
                  </a:lnTo>
                  <a:lnTo>
                    <a:pt x="369" y="245"/>
                  </a:lnTo>
                  <a:lnTo>
                    <a:pt x="383" y="240"/>
                  </a:lnTo>
                  <a:lnTo>
                    <a:pt x="395" y="235"/>
                  </a:lnTo>
                  <a:lnTo>
                    <a:pt x="406" y="229"/>
                  </a:lnTo>
                  <a:lnTo>
                    <a:pt x="415" y="224"/>
                  </a:lnTo>
                  <a:lnTo>
                    <a:pt x="422" y="217"/>
                  </a:lnTo>
                  <a:lnTo>
                    <a:pt x="428" y="211"/>
                  </a:lnTo>
                  <a:lnTo>
                    <a:pt x="431" y="205"/>
                  </a:lnTo>
                  <a:lnTo>
                    <a:pt x="432" y="198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939000" y="6176520"/>
              <a:ext cx="511200" cy="151200"/>
            </a:xfrm>
            <a:custGeom>
              <a:avLst/>
              <a:gdLst/>
              <a:ahLst/>
              <a:rect l="l" t="t" r="r" b="b"/>
              <a:pathLst>
                <a:path w="432" h="132">
                  <a:moveTo>
                    <a:pt x="0" y="66"/>
                  </a:moveTo>
                  <a:lnTo>
                    <a:pt x="1" y="73"/>
                  </a:lnTo>
                  <a:lnTo>
                    <a:pt x="4" y="79"/>
                  </a:lnTo>
                  <a:lnTo>
                    <a:pt x="10" y="85"/>
                  </a:lnTo>
                  <a:lnTo>
                    <a:pt x="17" y="92"/>
                  </a:lnTo>
                  <a:lnTo>
                    <a:pt x="26" y="97"/>
                  </a:lnTo>
                  <a:lnTo>
                    <a:pt x="37" y="103"/>
                  </a:lnTo>
                  <a:lnTo>
                    <a:pt x="49" y="108"/>
                  </a:lnTo>
                  <a:lnTo>
                    <a:pt x="63" y="113"/>
                  </a:lnTo>
                  <a:lnTo>
                    <a:pt x="79" y="117"/>
                  </a:lnTo>
                  <a:lnTo>
                    <a:pt x="95" y="121"/>
                  </a:lnTo>
                  <a:lnTo>
                    <a:pt x="113" y="124"/>
                  </a:lnTo>
                  <a:lnTo>
                    <a:pt x="132" y="127"/>
                  </a:lnTo>
                  <a:lnTo>
                    <a:pt x="173" y="131"/>
                  </a:lnTo>
                  <a:lnTo>
                    <a:pt x="216" y="132"/>
                  </a:lnTo>
                  <a:lnTo>
                    <a:pt x="259" y="131"/>
                  </a:lnTo>
                  <a:lnTo>
                    <a:pt x="300" y="127"/>
                  </a:lnTo>
                  <a:lnTo>
                    <a:pt x="319" y="124"/>
                  </a:lnTo>
                  <a:lnTo>
                    <a:pt x="337" y="121"/>
                  </a:lnTo>
                  <a:lnTo>
                    <a:pt x="353" y="117"/>
                  </a:lnTo>
                  <a:lnTo>
                    <a:pt x="369" y="113"/>
                  </a:lnTo>
                  <a:lnTo>
                    <a:pt x="383" y="108"/>
                  </a:lnTo>
                  <a:lnTo>
                    <a:pt x="395" y="103"/>
                  </a:lnTo>
                  <a:lnTo>
                    <a:pt x="406" y="97"/>
                  </a:lnTo>
                  <a:lnTo>
                    <a:pt x="415" y="92"/>
                  </a:lnTo>
                  <a:lnTo>
                    <a:pt x="422" y="85"/>
                  </a:lnTo>
                  <a:lnTo>
                    <a:pt x="428" y="79"/>
                  </a:lnTo>
                  <a:lnTo>
                    <a:pt x="431" y="73"/>
                  </a:lnTo>
                  <a:lnTo>
                    <a:pt x="432" y="66"/>
                  </a:lnTo>
                  <a:lnTo>
                    <a:pt x="431" y="59"/>
                  </a:lnTo>
                  <a:lnTo>
                    <a:pt x="428" y="53"/>
                  </a:lnTo>
                  <a:lnTo>
                    <a:pt x="422" y="47"/>
                  </a:lnTo>
                  <a:lnTo>
                    <a:pt x="415" y="41"/>
                  </a:lnTo>
                  <a:lnTo>
                    <a:pt x="406" y="35"/>
                  </a:lnTo>
                  <a:lnTo>
                    <a:pt x="395" y="29"/>
                  </a:lnTo>
                  <a:lnTo>
                    <a:pt x="383" y="24"/>
                  </a:lnTo>
                  <a:lnTo>
                    <a:pt x="369" y="20"/>
                  </a:lnTo>
                  <a:lnTo>
                    <a:pt x="353" y="15"/>
                  </a:lnTo>
                  <a:lnTo>
                    <a:pt x="337" y="11"/>
                  </a:lnTo>
                  <a:lnTo>
                    <a:pt x="319" y="8"/>
                  </a:lnTo>
                  <a:lnTo>
                    <a:pt x="300" y="5"/>
                  </a:lnTo>
                  <a:lnTo>
                    <a:pt x="259" y="1"/>
                  </a:lnTo>
                  <a:lnTo>
                    <a:pt x="216" y="0"/>
                  </a:lnTo>
                  <a:lnTo>
                    <a:pt x="173" y="1"/>
                  </a:lnTo>
                  <a:lnTo>
                    <a:pt x="132" y="5"/>
                  </a:lnTo>
                  <a:lnTo>
                    <a:pt x="113" y="8"/>
                  </a:lnTo>
                  <a:lnTo>
                    <a:pt x="95" y="11"/>
                  </a:lnTo>
                  <a:lnTo>
                    <a:pt x="79" y="15"/>
                  </a:lnTo>
                  <a:lnTo>
                    <a:pt x="63" y="20"/>
                  </a:lnTo>
                  <a:lnTo>
                    <a:pt x="49" y="24"/>
                  </a:lnTo>
                  <a:lnTo>
                    <a:pt x="37" y="29"/>
                  </a:lnTo>
                  <a:lnTo>
                    <a:pt x="26" y="35"/>
                  </a:lnTo>
                  <a:lnTo>
                    <a:pt x="17" y="41"/>
                  </a:lnTo>
                  <a:lnTo>
                    <a:pt x="10" y="47"/>
                  </a:lnTo>
                  <a:lnTo>
                    <a:pt x="4" y="53"/>
                  </a:lnTo>
                  <a:lnTo>
                    <a:pt x="1" y="59"/>
                  </a:lnTo>
                  <a:lnTo>
                    <a:pt x="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934320" y="6172200"/>
              <a:ext cx="522000" cy="312840"/>
            </a:xfrm>
            <a:custGeom>
              <a:avLst/>
              <a:gdLst/>
              <a:ahLst/>
              <a:rect l="l" t="t" r="r" b="b"/>
              <a:pathLst>
                <a:path w="441" h="273">
                  <a:moveTo>
                    <a:pt x="177" y="1"/>
                  </a:moveTo>
                  <a:lnTo>
                    <a:pt x="136" y="5"/>
                  </a:lnTo>
                  <a:lnTo>
                    <a:pt x="117" y="8"/>
                  </a:lnTo>
                  <a:lnTo>
                    <a:pt x="99" y="11"/>
                  </a:lnTo>
                  <a:lnTo>
                    <a:pt x="83" y="15"/>
                  </a:lnTo>
                  <a:lnTo>
                    <a:pt x="67" y="19"/>
                  </a:lnTo>
                  <a:lnTo>
                    <a:pt x="53" y="24"/>
                  </a:lnTo>
                  <a:lnTo>
                    <a:pt x="41" y="29"/>
                  </a:lnTo>
                  <a:lnTo>
                    <a:pt x="38" y="30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4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2" y="212"/>
                  </a:lnTo>
                  <a:lnTo>
                    <a:pt x="5" y="218"/>
                  </a:lnTo>
                  <a:lnTo>
                    <a:pt x="11" y="224"/>
                  </a:lnTo>
                  <a:lnTo>
                    <a:pt x="18" y="231"/>
                  </a:lnTo>
                  <a:lnTo>
                    <a:pt x="27" y="236"/>
                  </a:lnTo>
                  <a:lnTo>
                    <a:pt x="38" y="242"/>
                  </a:lnTo>
                  <a:lnTo>
                    <a:pt x="41" y="243"/>
                  </a:lnTo>
                  <a:lnTo>
                    <a:pt x="53" y="248"/>
                  </a:lnTo>
                  <a:lnTo>
                    <a:pt x="67" y="253"/>
                  </a:lnTo>
                  <a:lnTo>
                    <a:pt x="83" y="257"/>
                  </a:lnTo>
                  <a:lnTo>
                    <a:pt x="99" y="261"/>
                  </a:lnTo>
                  <a:lnTo>
                    <a:pt x="117" y="264"/>
                  </a:lnTo>
                  <a:lnTo>
                    <a:pt x="136" y="267"/>
                  </a:lnTo>
                  <a:lnTo>
                    <a:pt x="177" y="271"/>
                  </a:lnTo>
                  <a:lnTo>
                    <a:pt x="220" y="273"/>
                  </a:lnTo>
                  <a:lnTo>
                    <a:pt x="263" y="271"/>
                  </a:lnTo>
                  <a:lnTo>
                    <a:pt x="304" y="267"/>
                  </a:lnTo>
                  <a:lnTo>
                    <a:pt x="323" y="264"/>
                  </a:lnTo>
                  <a:lnTo>
                    <a:pt x="341" y="261"/>
                  </a:lnTo>
                  <a:lnTo>
                    <a:pt x="357" y="257"/>
                  </a:lnTo>
                  <a:lnTo>
                    <a:pt x="373" y="253"/>
                  </a:lnTo>
                  <a:lnTo>
                    <a:pt x="387" y="248"/>
                  </a:lnTo>
                  <a:lnTo>
                    <a:pt x="399" y="243"/>
                  </a:lnTo>
                  <a:lnTo>
                    <a:pt x="402" y="242"/>
                  </a:lnTo>
                  <a:lnTo>
                    <a:pt x="413" y="236"/>
                  </a:lnTo>
                  <a:lnTo>
                    <a:pt x="422" y="231"/>
                  </a:lnTo>
                  <a:lnTo>
                    <a:pt x="429" y="224"/>
                  </a:lnTo>
                  <a:lnTo>
                    <a:pt x="435" y="218"/>
                  </a:lnTo>
                  <a:lnTo>
                    <a:pt x="438" y="212"/>
                  </a:lnTo>
                  <a:lnTo>
                    <a:pt x="439" y="209"/>
                  </a:lnTo>
                  <a:lnTo>
                    <a:pt x="441" y="202"/>
                  </a:lnTo>
                  <a:lnTo>
                    <a:pt x="441" y="70"/>
                  </a:lnTo>
                  <a:lnTo>
                    <a:pt x="439" y="63"/>
                  </a:lnTo>
                  <a:lnTo>
                    <a:pt x="438" y="60"/>
                  </a:lnTo>
                  <a:lnTo>
                    <a:pt x="435" y="54"/>
                  </a:lnTo>
                  <a:lnTo>
                    <a:pt x="429" y="48"/>
                  </a:lnTo>
                  <a:lnTo>
                    <a:pt x="422" y="42"/>
                  </a:lnTo>
                  <a:lnTo>
                    <a:pt x="413" y="36"/>
                  </a:lnTo>
                  <a:lnTo>
                    <a:pt x="402" y="30"/>
                  </a:lnTo>
                  <a:lnTo>
                    <a:pt x="399" y="29"/>
                  </a:lnTo>
                  <a:lnTo>
                    <a:pt x="387" y="24"/>
                  </a:lnTo>
                  <a:lnTo>
                    <a:pt x="373" y="19"/>
                  </a:lnTo>
                  <a:lnTo>
                    <a:pt x="357" y="15"/>
                  </a:lnTo>
                  <a:lnTo>
                    <a:pt x="341" y="11"/>
                  </a:lnTo>
                  <a:lnTo>
                    <a:pt x="323" y="8"/>
                  </a:lnTo>
                  <a:lnTo>
                    <a:pt x="304" y="5"/>
                  </a:lnTo>
                  <a:lnTo>
                    <a:pt x="263" y="1"/>
                  </a:lnTo>
                  <a:lnTo>
                    <a:pt x="220" y="0"/>
                  </a:lnTo>
                  <a:lnTo>
                    <a:pt x="177" y="1"/>
                  </a:lnTo>
                  <a:close/>
                  <a:moveTo>
                    <a:pt x="220" y="9"/>
                  </a:moveTo>
                  <a:lnTo>
                    <a:pt x="263" y="10"/>
                  </a:lnTo>
                  <a:lnTo>
                    <a:pt x="304" y="14"/>
                  </a:lnTo>
                  <a:lnTo>
                    <a:pt x="323" y="17"/>
                  </a:lnTo>
                  <a:lnTo>
                    <a:pt x="341" y="20"/>
                  </a:lnTo>
                  <a:lnTo>
                    <a:pt x="357" y="24"/>
                  </a:lnTo>
                  <a:lnTo>
                    <a:pt x="373" y="28"/>
                  </a:lnTo>
                  <a:lnTo>
                    <a:pt x="387" y="33"/>
                  </a:lnTo>
                  <a:lnTo>
                    <a:pt x="399" y="38"/>
                  </a:lnTo>
                  <a:lnTo>
                    <a:pt x="399" y="33"/>
                  </a:lnTo>
                  <a:lnTo>
                    <a:pt x="396" y="36"/>
                  </a:lnTo>
                  <a:lnTo>
                    <a:pt x="407" y="42"/>
                  </a:lnTo>
                  <a:lnTo>
                    <a:pt x="416" y="48"/>
                  </a:lnTo>
                  <a:lnTo>
                    <a:pt x="423" y="54"/>
                  </a:lnTo>
                  <a:lnTo>
                    <a:pt x="429" y="60"/>
                  </a:lnTo>
                  <a:lnTo>
                    <a:pt x="432" y="66"/>
                  </a:lnTo>
                  <a:lnTo>
                    <a:pt x="435" y="63"/>
                  </a:lnTo>
                  <a:lnTo>
                    <a:pt x="430" y="63"/>
                  </a:lnTo>
                  <a:lnTo>
                    <a:pt x="432" y="70"/>
                  </a:lnTo>
                  <a:lnTo>
                    <a:pt x="432" y="202"/>
                  </a:lnTo>
                  <a:lnTo>
                    <a:pt x="430" y="209"/>
                  </a:lnTo>
                  <a:lnTo>
                    <a:pt x="435" y="209"/>
                  </a:lnTo>
                  <a:lnTo>
                    <a:pt x="432" y="206"/>
                  </a:lnTo>
                  <a:lnTo>
                    <a:pt x="429" y="212"/>
                  </a:lnTo>
                  <a:lnTo>
                    <a:pt x="423" y="218"/>
                  </a:lnTo>
                  <a:lnTo>
                    <a:pt x="416" y="225"/>
                  </a:lnTo>
                  <a:lnTo>
                    <a:pt x="407" y="230"/>
                  </a:lnTo>
                  <a:lnTo>
                    <a:pt x="396" y="236"/>
                  </a:lnTo>
                  <a:lnTo>
                    <a:pt x="399" y="239"/>
                  </a:lnTo>
                  <a:lnTo>
                    <a:pt x="399" y="234"/>
                  </a:lnTo>
                  <a:lnTo>
                    <a:pt x="387" y="239"/>
                  </a:lnTo>
                  <a:lnTo>
                    <a:pt x="373" y="244"/>
                  </a:lnTo>
                  <a:lnTo>
                    <a:pt x="357" y="248"/>
                  </a:lnTo>
                  <a:lnTo>
                    <a:pt x="341" y="252"/>
                  </a:lnTo>
                  <a:lnTo>
                    <a:pt x="323" y="255"/>
                  </a:lnTo>
                  <a:lnTo>
                    <a:pt x="304" y="258"/>
                  </a:lnTo>
                  <a:lnTo>
                    <a:pt x="263" y="262"/>
                  </a:lnTo>
                  <a:lnTo>
                    <a:pt x="220" y="264"/>
                  </a:lnTo>
                  <a:lnTo>
                    <a:pt x="177" y="262"/>
                  </a:lnTo>
                  <a:lnTo>
                    <a:pt x="136" y="258"/>
                  </a:lnTo>
                  <a:lnTo>
                    <a:pt x="117" y="255"/>
                  </a:lnTo>
                  <a:lnTo>
                    <a:pt x="99" y="252"/>
                  </a:lnTo>
                  <a:lnTo>
                    <a:pt x="83" y="248"/>
                  </a:lnTo>
                  <a:lnTo>
                    <a:pt x="67" y="244"/>
                  </a:lnTo>
                  <a:lnTo>
                    <a:pt x="53" y="239"/>
                  </a:lnTo>
                  <a:lnTo>
                    <a:pt x="41" y="234"/>
                  </a:lnTo>
                  <a:lnTo>
                    <a:pt x="41" y="239"/>
                  </a:lnTo>
                  <a:lnTo>
                    <a:pt x="44" y="236"/>
                  </a:lnTo>
                  <a:lnTo>
                    <a:pt x="33" y="230"/>
                  </a:lnTo>
                  <a:lnTo>
                    <a:pt x="24" y="225"/>
                  </a:lnTo>
                  <a:lnTo>
                    <a:pt x="17" y="218"/>
                  </a:lnTo>
                  <a:lnTo>
                    <a:pt x="11" y="212"/>
                  </a:lnTo>
                  <a:lnTo>
                    <a:pt x="8" y="206"/>
                  </a:lnTo>
                  <a:lnTo>
                    <a:pt x="5" y="209"/>
                  </a:lnTo>
                  <a:lnTo>
                    <a:pt x="10" y="209"/>
                  </a:lnTo>
                  <a:lnTo>
                    <a:pt x="9" y="202"/>
                  </a:lnTo>
                  <a:lnTo>
                    <a:pt x="9" y="70"/>
                  </a:lnTo>
                  <a:lnTo>
                    <a:pt x="10" y="63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1" y="60"/>
                  </a:lnTo>
                  <a:lnTo>
                    <a:pt x="17" y="54"/>
                  </a:lnTo>
                  <a:lnTo>
                    <a:pt x="24" y="48"/>
                  </a:lnTo>
                  <a:lnTo>
                    <a:pt x="33" y="42"/>
                  </a:lnTo>
                  <a:lnTo>
                    <a:pt x="44" y="36"/>
                  </a:lnTo>
                  <a:lnTo>
                    <a:pt x="41" y="33"/>
                  </a:lnTo>
                  <a:lnTo>
                    <a:pt x="41" y="38"/>
                  </a:lnTo>
                  <a:lnTo>
                    <a:pt x="53" y="33"/>
                  </a:lnTo>
                  <a:lnTo>
                    <a:pt x="67" y="28"/>
                  </a:lnTo>
                  <a:lnTo>
                    <a:pt x="83" y="24"/>
                  </a:lnTo>
                  <a:lnTo>
                    <a:pt x="99" y="20"/>
                  </a:lnTo>
                  <a:lnTo>
                    <a:pt x="117" y="17"/>
                  </a:lnTo>
                  <a:lnTo>
                    <a:pt x="136" y="14"/>
                  </a:lnTo>
                  <a:lnTo>
                    <a:pt x="177" y="10"/>
                  </a:lnTo>
                  <a:lnTo>
                    <a:pt x="220" y="9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934320" y="6252480"/>
              <a:ext cx="522000" cy="81000"/>
            </a:xfrm>
            <a:custGeom>
              <a:avLst/>
              <a:gdLst/>
              <a:ahLst/>
              <a:rect l="l" t="t" r="r" b="b"/>
              <a:pathLst>
                <a:path w="441" h="71">
                  <a:moveTo>
                    <a:pt x="9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11" y="22"/>
                  </a:lnTo>
                  <a:lnTo>
                    <a:pt x="18" y="29"/>
                  </a:lnTo>
                  <a:lnTo>
                    <a:pt x="27" y="34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53" y="46"/>
                  </a:lnTo>
                  <a:lnTo>
                    <a:pt x="67" y="51"/>
                  </a:lnTo>
                  <a:lnTo>
                    <a:pt x="83" y="55"/>
                  </a:lnTo>
                  <a:lnTo>
                    <a:pt x="99" y="59"/>
                  </a:lnTo>
                  <a:lnTo>
                    <a:pt x="117" y="62"/>
                  </a:lnTo>
                  <a:lnTo>
                    <a:pt x="136" y="65"/>
                  </a:lnTo>
                  <a:lnTo>
                    <a:pt x="177" y="69"/>
                  </a:lnTo>
                  <a:lnTo>
                    <a:pt x="220" y="71"/>
                  </a:lnTo>
                  <a:lnTo>
                    <a:pt x="263" y="69"/>
                  </a:lnTo>
                  <a:lnTo>
                    <a:pt x="304" y="65"/>
                  </a:lnTo>
                  <a:lnTo>
                    <a:pt x="323" y="62"/>
                  </a:lnTo>
                  <a:lnTo>
                    <a:pt x="341" y="59"/>
                  </a:lnTo>
                  <a:lnTo>
                    <a:pt x="357" y="55"/>
                  </a:lnTo>
                  <a:lnTo>
                    <a:pt x="373" y="51"/>
                  </a:lnTo>
                  <a:lnTo>
                    <a:pt x="387" y="46"/>
                  </a:lnTo>
                  <a:lnTo>
                    <a:pt x="399" y="41"/>
                  </a:lnTo>
                  <a:lnTo>
                    <a:pt x="402" y="40"/>
                  </a:lnTo>
                  <a:lnTo>
                    <a:pt x="413" y="34"/>
                  </a:lnTo>
                  <a:lnTo>
                    <a:pt x="422" y="29"/>
                  </a:lnTo>
                  <a:lnTo>
                    <a:pt x="429" y="22"/>
                  </a:lnTo>
                  <a:lnTo>
                    <a:pt x="435" y="16"/>
                  </a:lnTo>
                  <a:lnTo>
                    <a:pt x="438" y="10"/>
                  </a:lnTo>
                  <a:lnTo>
                    <a:pt x="439" y="7"/>
                  </a:lnTo>
                  <a:lnTo>
                    <a:pt x="441" y="0"/>
                  </a:lnTo>
                  <a:lnTo>
                    <a:pt x="432" y="0"/>
                  </a:lnTo>
                  <a:lnTo>
                    <a:pt x="430" y="7"/>
                  </a:lnTo>
                  <a:lnTo>
                    <a:pt x="435" y="7"/>
                  </a:lnTo>
                  <a:lnTo>
                    <a:pt x="432" y="4"/>
                  </a:lnTo>
                  <a:lnTo>
                    <a:pt x="429" y="10"/>
                  </a:lnTo>
                  <a:lnTo>
                    <a:pt x="423" y="16"/>
                  </a:lnTo>
                  <a:lnTo>
                    <a:pt x="416" y="23"/>
                  </a:lnTo>
                  <a:lnTo>
                    <a:pt x="407" y="28"/>
                  </a:lnTo>
                  <a:lnTo>
                    <a:pt x="396" y="34"/>
                  </a:lnTo>
                  <a:lnTo>
                    <a:pt x="399" y="37"/>
                  </a:lnTo>
                  <a:lnTo>
                    <a:pt x="399" y="32"/>
                  </a:lnTo>
                  <a:lnTo>
                    <a:pt x="387" y="37"/>
                  </a:lnTo>
                  <a:lnTo>
                    <a:pt x="373" y="42"/>
                  </a:lnTo>
                  <a:lnTo>
                    <a:pt x="357" y="46"/>
                  </a:lnTo>
                  <a:lnTo>
                    <a:pt x="341" y="50"/>
                  </a:lnTo>
                  <a:lnTo>
                    <a:pt x="323" y="53"/>
                  </a:lnTo>
                  <a:lnTo>
                    <a:pt x="304" y="56"/>
                  </a:lnTo>
                  <a:lnTo>
                    <a:pt x="263" y="60"/>
                  </a:lnTo>
                  <a:lnTo>
                    <a:pt x="220" y="62"/>
                  </a:lnTo>
                  <a:lnTo>
                    <a:pt x="177" y="60"/>
                  </a:lnTo>
                  <a:lnTo>
                    <a:pt x="136" y="56"/>
                  </a:lnTo>
                  <a:lnTo>
                    <a:pt x="117" y="53"/>
                  </a:lnTo>
                  <a:lnTo>
                    <a:pt x="99" y="50"/>
                  </a:lnTo>
                  <a:lnTo>
                    <a:pt x="83" y="46"/>
                  </a:lnTo>
                  <a:lnTo>
                    <a:pt x="67" y="42"/>
                  </a:lnTo>
                  <a:lnTo>
                    <a:pt x="53" y="37"/>
                  </a:lnTo>
                  <a:lnTo>
                    <a:pt x="41" y="32"/>
                  </a:lnTo>
                  <a:lnTo>
                    <a:pt x="41" y="37"/>
                  </a:lnTo>
                  <a:lnTo>
                    <a:pt x="44" y="34"/>
                  </a:lnTo>
                  <a:lnTo>
                    <a:pt x="33" y="28"/>
                  </a:lnTo>
                  <a:lnTo>
                    <a:pt x="24" y="23"/>
                  </a:lnTo>
                  <a:lnTo>
                    <a:pt x="17" y="16"/>
                  </a:lnTo>
                  <a:lnTo>
                    <a:pt x="11" y="10"/>
                  </a:lnTo>
                  <a:lnTo>
                    <a:pt x="8" y="4"/>
                  </a:lnTo>
                  <a:lnTo>
                    <a:pt x="5" y="7"/>
                  </a:lnTo>
                  <a:lnTo>
                    <a:pt x="10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5" name=""/>
            <p:cNvGrpSpPr/>
            <p:nvPr/>
          </p:nvGrpSpPr>
          <p:grpSpPr>
            <a:xfrm>
              <a:off x="6995520" y="6200640"/>
              <a:ext cx="384480" cy="105120"/>
              <a:chOff x="6995520" y="6200640"/>
              <a:chExt cx="384480" cy="105120"/>
            </a:xfrm>
          </p:grpSpPr>
          <p:sp>
            <p:nvSpPr>
              <p:cNvPr id="2076" name=""/>
              <p:cNvSpPr/>
              <p:nvPr/>
            </p:nvSpPr>
            <p:spPr>
              <a:xfrm>
                <a:off x="7195680" y="6202800"/>
                <a:ext cx="18432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195680" y="6202800"/>
                <a:ext cx="18432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30"/>
                    </a:moveTo>
                    <a:lnTo>
                      <a:pt x="34" y="39"/>
                    </a:lnTo>
                    <a:lnTo>
                      <a:pt x="118" y="13"/>
                    </a:lnTo>
                    <a:lnTo>
                      <a:pt x="155" y="21"/>
                    </a:lnTo>
                    <a:lnTo>
                      <a:pt x="135" y="0"/>
                    </a:lnTo>
                    <a:lnTo>
                      <a:pt x="37" y="0"/>
                    </a:lnTo>
                    <a:lnTo>
                      <a:pt x="77" y="6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995520" y="6255720"/>
                <a:ext cx="184320" cy="4788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6995520" y="6255720"/>
                <a:ext cx="184320" cy="4788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5" y="9"/>
                    </a:moveTo>
                    <a:lnTo>
                      <a:pt x="121" y="0"/>
                    </a:lnTo>
                    <a:lnTo>
                      <a:pt x="40" y="26"/>
                    </a:lnTo>
                    <a:lnTo>
                      <a:pt x="0" y="17"/>
                    </a:lnTo>
                    <a:lnTo>
                      <a:pt x="20" y="41"/>
                    </a:lnTo>
                    <a:lnTo>
                      <a:pt x="121" y="41"/>
                    </a:lnTo>
                    <a:lnTo>
                      <a:pt x="78" y="32"/>
                    </a:lnTo>
                    <a:lnTo>
                      <a:pt x="155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7005960" y="6200640"/>
                <a:ext cx="18432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05960" y="6200640"/>
                <a:ext cx="184320" cy="45720"/>
              </a:xfrm>
              <a:custGeom>
                <a:avLst/>
                <a:gdLst/>
                <a:ahLst/>
                <a:rect l="l" t="t" r="r" b="b"/>
                <a:pathLst>
                  <a:path w="156" h="40">
                    <a:moveTo>
                      <a:pt x="0" y="9"/>
                    </a:moveTo>
                    <a:lnTo>
                      <a:pt x="34" y="0"/>
                    </a:lnTo>
                    <a:lnTo>
                      <a:pt x="118" y="24"/>
                    </a:lnTo>
                    <a:lnTo>
                      <a:pt x="155" y="17"/>
                    </a:lnTo>
                    <a:lnTo>
                      <a:pt x="135" y="39"/>
                    </a:lnTo>
                    <a:lnTo>
                      <a:pt x="37" y="39"/>
                    </a:lnTo>
                    <a:lnTo>
                      <a:pt x="78" y="33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7189560" y="6260040"/>
                <a:ext cx="183240" cy="45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7189560" y="6260040"/>
                <a:ext cx="183240" cy="4572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154" y="30"/>
                    </a:moveTo>
                    <a:lnTo>
                      <a:pt x="119" y="39"/>
                    </a:lnTo>
                    <a:lnTo>
                      <a:pt x="39" y="13"/>
                    </a:lnTo>
                    <a:lnTo>
                      <a:pt x="0" y="22"/>
                    </a:lnTo>
                    <a:lnTo>
                      <a:pt x="20" y="0"/>
                    </a:lnTo>
                    <a:lnTo>
                      <a:pt x="119" y="0"/>
                    </a:lnTo>
                    <a:lnTo>
                      <a:pt x="76" y="7"/>
                    </a:lnTo>
                    <a:lnTo>
                      <a:pt x="154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4" name=""/>
          <p:cNvGrpSpPr/>
          <p:nvPr/>
        </p:nvGrpSpPr>
        <p:grpSpPr>
          <a:xfrm>
            <a:off x="2590920" y="6095880"/>
            <a:ext cx="589320" cy="660240"/>
            <a:chOff x="2590920" y="6095880"/>
            <a:chExt cx="589320" cy="660240"/>
          </a:xfrm>
        </p:grpSpPr>
        <p:sp>
          <p:nvSpPr>
            <p:cNvPr id="2085" name=""/>
            <p:cNvSpPr/>
            <p:nvPr/>
          </p:nvSpPr>
          <p:spPr>
            <a:xfrm>
              <a:off x="2687760" y="6095880"/>
              <a:ext cx="397800" cy="660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590920" y="6157800"/>
              <a:ext cx="58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o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D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87" name="switch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396720" cy="377640"/>
          </a:xfrm>
          <a:prstGeom prst="rect">
            <a:avLst/>
          </a:prstGeom>
          <a:ln w="0">
            <a:noFill/>
          </a:ln>
        </p:spPr>
      </p:pic>
      <p:sp>
        <p:nvSpPr>
          <p:cNvPr id="2088" name=""/>
          <p:cNvSpPr/>
          <p:nvPr/>
        </p:nvSpPr>
        <p:spPr>
          <a:xfrm flipV="1">
            <a:off x="609480" y="5105520"/>
            <a:ext cx="91440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 flipV="1">
            <a:off x="685800" y="5181120"/>
            <a:ext cx="91440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762120" y="2209680"/>
            <a:ext cx="1496880" cy="590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6291000" y="2286000"/>
            <a:ext cx="1252440" cy="569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 flipV="1">
            <a:off x="6405480" y="5054760"/>
            <a:ext cx="604800" cy="1117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 flipH="1">
            <a:off x="5495400" y="1219320"/>
            <a:ext cx="2124360" cy="812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flipH="1">
            <a:off x="5495400" y="1066680"/>
            <a:ext cx="2124360" cy="800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flipV="1">
            <a:off x="2819520" y="4726080"/>
            <a:ext cx="688680" cy="1217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 flipV="1">
            <a:off x="3048120" y="5330520"/>
            <a:ext cx="744480" cy="91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6517800" y="5000760"/>
            <a:ext cx="644760" cy="117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838080" y="1143000"/>
            <a:ext cx="6400800" cy="4648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922320" y="5530320"/>
            <a:ext cx="256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lligent Optical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541880" y="312372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819600" y="53017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5721840" y="495252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llapsed 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278520" y="289512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V="1">
            <a:off x="1752480" y="3733920"/>
            <a:ext cx="0" cy="121896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1523880" y="4343400"/>
            <a:ext cx="227160" cy="2761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8153280" y="990720"/>
            <a:ext cx="762120" cy="480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6400800" y="2971800"/>
            <a:ext cx="17524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 rot="5400000">
            <a:off x="7963560" y="328104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8305920" y="2819520"/>
            <a:ext cx="325440" cy="272880"/>
          </a:xfrm>
          <a:prstGeom prst="rect">
            <a:avLst/>
          </a:prstGeom>
          <a:solidFill>
            <a:srgbClr val="00cc99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0" name=""/>
          <p:cNvGrpSpPr/>
          <p:nvPr/>
        </p:nvGrpSpPr>
        <p:grpSpPr>
          <a:xfrm>
            <a:off x="8381880" y="2819520"/>
            <a:ext cx="217080" cy="213840"/>
            <a:chOff x="8381880" y="2819520"/>
            <a:chExt cx="217080" cy="213840"/>
          </a:xfrm>
        </p:grpSpPr>
        <p:sp>
          <p:nvSpPr>
            <p:cNvPr id="2111" name=""/>
            <p:cNvSpPr/>
            <p:nvPr/>
          </p:nvSpPr>
          <p:spPr>
            <a:xfrm>
              <a:off x="8381880" y="2819520"/>
              <a:ext cx="215640" cy="211320"/>
            </a:xfrm>
            <a:custGeom>
              <a:avLst/>
              <a:gdLst/>
              <a:ahLst/>
              <a:rect l="l" t="t" r="r" b="b"/>
              <a:pathLst>
                <a:path w="1087" h="1001">
                  <a:moveTo>
                    <a:pt x="157" y="0"/>
                  </a:moveTo>
                  <a:lnTo>
                    <a:pt x="157" y="128"/>
                  </a:lnTo>
                  <a:lnTo>
                    <a:pt x="408" y="128"/>
                  </a:lnTo>
                  <a:lnTo>
                    <a:pt x="539" y="392"/>
                  </a:lnTo>
                  <a:lnTo>
                    <a:pt x="678" y="128"/>
                  </a:lnTo>
                  <a:lnTo>
                    <a:pt x="931" y="128"/>
                  </a:lnTo>
                  <a:lnTo>
                    <a:pt x="931" y="0"/>
                  </a:lnTo>
                  <a:lnTo>
                    <a:pt x="1087" y="157"/>
                  </a:lnTo>
                  <a:lnTo>
                    <a:pt x="931" y="314"/>
                  </a:lnTo>
                  <a:lnTo>
                    <a:pt x="931" y="206"/>
                  </a:lnTo>
                  <a:lnTo>
                    <a:pt x="748" y="206"/>
                  </a:lnTo>
                  <a:lnTo>
                    <a:pt x="600" y="500"/>
                  </a:lnTo>
                  <a:lnTo>
                    <a:pt x="748" y="804"/>
                  </a:lnTo>
                  <a:lnTo>
                    <a:pt x="931" y="804"/>
                  </a:lnTo>
                  <a:lnTo>
                    <a:pt x="931" y="696"/>
                  </a:lnTo>
                  <a:lnTo>
                    <a:pt x="1087" y="844"/>
                  </a:lnTo>
                  <a:lnTo>
                    <a:pt x="931" y="1001"/>
                  </a:lnTo>
                  <a:lnTo>
                    <a:pt x="931" y="883"/>
                  </a:lnTo>
                  <a:lnTo>
                    <a:pt x="678" y="883"/>
                  </a:lnTo>
                  <a:lnTo>
                    <a:pt x="539" y="608"/>
                  </a:lnTo>
                  <a:lnTo>
                    <a:pt x="408" y="893"/>
                  </a:lnTo>
                  <a:lnTo>
                    <a:pt x="157" y="893"/>
                  </a:lnTo>
                  <a:lnTo>
                    <a:pt x="157" y="1001"/>
                  </a:lnTo>
                  <a:lnTo>
                    <a:pt x="0" y="844"/>
                  </a:lnTo>
                  <a:lnTo>
                    <a:pt x="157" y="696"/>
                  </a:lnTo>
                  <a:lnTo>
                    <a:pt x="157" y="804"/>
                  </a:lnTo>
                  <a:lnTo>
                    <a:pt x="330" y="804"/>
                  </a:lnTo>
                  <a:lnTo>
                    <a:pt x="487" y="500"/>
                  </a:lnTo>
                  <a:lnTo>
                    <a:pt x="330" y="206"/>
                  </a:lnTo>
                  <a:lnTo>
                    <a:pt x="157" y="206"/>
                  </a:lnTo>
                  <a:lnTo>
                    <a:pt x="157" y="305"/>
                  </a:lnTo>
                  <a:lnTo>
                    <a:pt x="0" y="157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381880" y="2819520"/>
              <a:ext cx="215640" cy="211320"/>
            </a:xfrm>
            <a:custGeom>
              <a:avLst/>
              <a:gdLst/>
              <a:ahLst/>
              <a:rect l="l" t="t" r="r" b="b"/>
              <a:pathLst>
                <a:path w="1087" h="1001">
                  <a:moveTo>
                    <a:pt x="157" y="0"/>
                  </a:moveTo>
                  <a:lnTo>
                    <a:pt x="157" y="128"/>
                  </a:lnTo>
                  <a:lnTo>
                    <a:pt x="408" y="128"/>
                  </a:lnTo>
                  <a:lnTo>
                    <a:pt x="539" y="392"/>
                  </a:lnTo>
                  <a:lnTo>
                    <a:pt x="678" y="128"/>
                  </a:lnTo>
                  <a:lnTo>
                    <a:pt x="931" y="128"/>
                  </a:lnTo>
                  <a:lnTo>
                    <a:pt x="931" y="0"/>
                  </a:lnTo>
                  <a:lnTo>
                    <a:pt x="1087" y="157"/>
                  </a:lnTo>
                  <a:lnTo>
                    <a:pt x="931" y="314"/>
                  </a:lnTo>
                  <a:lnTo>
                    <a:pt x="931" y="206"/>
                  </a:lnTo>
                  <a:lnTo>
                    <a:pt x="748" y="206"/>
                  </a:lnTo>
                  <a:lnTo>
                    <a:pt x="600" y="500"/>
                  </a:lnTo>
                  <a:lnTo>
                    <a:pt x="748" y="804"/>
                  </a:lnTo>
                  <a:lnTo>
                    <a:pt x="931" y="804"/>
                  </a:lnTo>
                  <a:lnTo>
                    <a:pt x="931" y="696"/>
                  </a:lnTo>
                  <a:lnTo>
                    <a:pt x="1087" y="844"/>
                  </a:lnTo>
                  <a:lnTo>
                    <a:pt x="931" y="1001"/>
                  </a:lnTo>
                  <a:lnTo>
                    <a:pt x="931" y="883"/>
                  </a:lnTo>
                  <a:lnTo>
                    <a:pt x="678" y="883"/>
                  </a:lnTo>
                  <a:lnTo>
                    <a:pt x="539" y="608"/>
                  </a:lnTo>
                  <a:lnTo>
                    <a:pt x="408" y="893"/>
                  </a:lnTo>
                  <a:lnTo>
                    <a:pt x="157" y="893"/>
                  </a:lnTo>
                  <a:lnTo>
                    <a:pt x="157" y="1001"/>
                  </a:lnTo>
                  <a:lnTo>
                    <a:pt x="0" y="844"/>
                  </a:lnTo>
                  <a:lnTo>
                    <a:pt x="157" y="696"/>
                  </a:lnTo>
                  <a:lnTo>
                    <a:pt x="157" y="804"/>
                  </a:lnTo>
                  <a:lnTo>
                    <a:pt x="330" y="804"/>
                  </a:lnTo>
                  <a:lnTo>
                    <a:pt x="487" y="500"/>
                  </a:lnTo>
                  <a:lnTo>
                    <a:pt x="330" y="206"/>
                  </a:lnTo>
                  <a:lnTo>
                    <a:pt x="157" y="206"/>
                  </a:lnTo>
                  <a:lnTo>
                    <a:pt x="157" y="305"/>
                  </a:lnTo>
                  <a:lnTo>
                    <a:pt x="0" y="157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384040" y="2820960"/>
              <a:ext cx="214920" cy="212400"/>
            </a:xfrm>
            <a:custGeom>
              <a:avLst/>
              <a:gdLst/>
              <a:ahLst/>
              <a:rect l="l" t="t" r="r" b="b"/>
              <a:pathLst>
                <a:path w="1088" h="1000">
                  <a:moveTo>
                    <a:pt x="157" y="0"/>
                  </a:moveTo>
                  <a:lnTo>
                    <a:pt x="157" y="128"/>
                  </a:lnTo>
                  <a:lnTo>
                    <a:pt x="409" y="128"/>
                  </a:lnTo>
                  <a:lnTo>
                    <a:pt x="540" y="392"/>
                  </a:lnTo>
                  <a:lnTo>
                    <a:pt x="679" y="128"/>
                  </a:lnTo>
                  <a:lnTo>
                    <a:pt x="932" y="128"/>
                  </a:lnTo>
                  <a:lnTo>
                    <a:pt x="932" y="0"/>
                  </a:lnTo>
                  <a:lnTo>
                    <a:pt x="1088" y="157"/>
                  </a:lnTo>
                  <a:lnTo>
                    <a:pt x="932" y="314"/>
                  </a:lnTo>
                  <a:lnTo>
                    <a:pt x="932" y="206"/>
                  </a:lnTo>
                  <a:lnTo>
                    <a:pt x="749" y="206"/>
                  </a:lnTo>
                  <a:lnTo>
                    <a:pt x="601" y="500"/>
                  </a:lnTo>
                  <a:lnTo>
                    <a:pt x="749" y="804"/>
                  </a:lnTo>
                  <a:lnTo>
                    <a:pt x="932" y="804"/>
                  </a:lnTo>
                  <a:lnTo>
                    <a:pt x="932" y="696"/>
                  </a:lnTo>
                  <a:lnTo>
                    <a:pt x="1088" y="843"/>
                  </a:lnTo>
                  <a:lnTo>
                    <a:pt x="932" y="1000"/>
                  </a:lnTo>
                  <a:lnTo>
                    <a:pt x="932" y="883"/>
                  </a:lnTo>
                  <a:lnTo>
                    <a:pt x="679" y="883"/>
                  </a:lnTo>
                  <a:lnTo>
                    <a:pt x="540" y="608"/>
                  </a:lnTo>
                  <a:lnTo>
                    <a:pt x="409" y="892"/>
                  </a:lnTo>
                  <a:lnTo>
                    <a:pt x="157" y="892"/>
                  </a:lnTo>
                  <a:lnTo>
                    <a:pt x="157" y="1000"/>
                  </a:lnTo>
                  <a:lnTo>
                    <a:pt x="0" y="843"/>
                  </a:lnTo>
                  <a:lnTo>
                    <a:pt x="157" y="696"/>
                  </a:lnTo>
                  <a:lnTo>
                    <a:pt x="157" y="804"/>
                  </a:lnTo>
                  <a:lnTo>
                    <a:pt x="330" y="804"/>
                  </a:lnTo>
                  <a:lnTo>
                    <a:pt x="487" y="500"/>
                  </a:lnTo>
                  <a:lnTo>
                    <a:pt x="330" y="206"/>
                  </a:lnTo>
                  <a:lnTo>
                    <a:pt x="157" y="206"/>
                  </a:lnTo>
                  <a:lnTo>
                    <a:pt x="157" y="304"/>
                  </a:lnTo>
                  <a:lnTo>
                    <a:pt x="0" y="157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8384040" y="2820960"/>
              <a:ext cx="214920" cy="212400"/>
            </a:xfrm>
            <a:custGeom>
              <a:avLst/>
              <a:gdLst/>
              <a:ahLst/>
              <a:rect l="l" t="t" r="r" b="b"/>
              <a:pathLst>
                <a:path w="1088" h="1000">
                  <a:moveTo>
                    <a:pt x="157" y="0"/>
                  </a:moveTo>
                  <a:lnTo>
                    <a:pt x="157" y="128"/>
                  </a:lnTo>
                  <a:lnTo>
                    <a:pt x="409" y="128"/>
                  </a:lnTo>
                  <a:lnTo>
                    <a:pt x="540" y="392"/>
                  </a:lnTo>
                  <a:lnTo>
                    <a:pt x="679" y="128"/>
                  </a:lnTo>
                  <a:lnTo>
                    <a:pt x="932" y="128"/>
                  </a:lnTo>
                  <a:lnTo>
                    <a:pt x="932" y="0"/>
                  </a:lnTo>
                  <a:lnTo>
                    <a:pt x="1088" y="157"/>
                  </a:lnTo>
                  <a:lnTo>
                    <a:pt x="932" y="314"/>
                  </a:lnTo>
                  <a:lnTo>
                    <a:pt x="932" y="206"/>
                  </a:lnTo>
                  <a:lnTo>
                    <a:pt x="749" y="206"/>
                  </a:lnTo>
                  <a:lnTo>
                    <a:pt x="601" y="500"/>
                  </a:lnTo>
                  <a:lnTo>
                    <a:pt x="749" y="804"/>
                  </a:lnTo>
                  <a:lnTo>
                    <a:pt x="932" y="804"/>
                  </a:lnTo>
                  <a:lnTo>
                    <a:pt x="932" y="696"/>
                  </a:lnTo>
                  <a:lnTo>
                    <a:pt x="1088" y="843"/>
                  </a:lnTo>
                  <a:lnTo>
                    <a:pt x="932" y="1000"/>
                  </a:lnTo>
                  <a:lnTo>
                    <a:pt x="932" y="883"/>
                  </a:lnTo>
                  <a:lnTo>
                    <a:pt x="679" y="883"/>
                  </a:lnTo>
                  <a:lnTo>
                    <a:pt x="540" y="608"/>
                  </a:lnTo>
                  <a:lnTo>
                    <a:pt x="409" y="892"/>
                  </a:lnTo>
                  <a:lnTo>
                    <a:pt x="157" y="892"/>
                  </a:lnTo>
                  <a:lnTo>
                    <a:pt x="157" y="1000"/>
                  </a:lnTo>
                  <a:lnTo>
                    <a:pt x="0" y="843"/>
                  </a:lnTo>
                  <a:lnTo>
                    <a:pt x="157" y="696"/>
                  </a:lnTo>
                  <a:lnTo>
                    <a:pt x="157" y="804"/>
                  </a:lnTo>
                  <a:lnTo>
                    <a:pt x="330" y="804"/>
                  </a:lnTo>
                  <a:lnTo>
                    <a:pt x="487" y="500"/>
                  </a:lnTo>
                  <a:lnTo>
                    <a:pt x="330" y="206"/>
                  </a:lnTo>
                  <a:lnTo>
                    <a:pt x="157" y="206"/>
                  </a:lnTo>
                  <a:lnTo>
                    <a:pt x="157" y="304"/>
                  </a:lnTo>
                  <a:lnTo>
                    <a:pt x="0" y="157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97E01-08C5-44AA-B9FA-008C9951507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Internetworking Topic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848720" cy="426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ION* to 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Same vendor, different carrier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Same vendor, same carrier, different domain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Different vendor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Clients to 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IP to ION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ATM to ION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SONET to ION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Other (GE, FC, ESCON, PDH, …) to ION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Network element to network elemen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All-optical and electro-optic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897720" y="6248160"/>
            <a:ext cx="45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*ION here refers to “Intelligent Optical Network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0410D-9D99-4762-8914-915F718C53C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8153640" cy="518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ITU -- “within cloud”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Wavelength grid, fiber specifications, ...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Optical transport network reference model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All-optical hand-offs between all-optical island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ONE - ONE interface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Transport service definition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Optical Internetworking Forum (OIF) -- “between clouds”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Client - ION interface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ION - ION interface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Emphasis on IP and data networking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Issues: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굴림"/>
              </a:rPr>
              <a:t>Signaling, Routing, and Addressing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굴림"/>
              </a:rPr>
              <a:t>Transport Service Agreemen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굴림"/>
              </a:rPr>
              <a:t>Low cost interfac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609480" y="152280"/>
            <a:ext cx="86868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</a:rPr>
              <a:t>Intelligent Optical Network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Intenet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540680" y="6444720"/>
            <a:ext cx="45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*ION here refers to “Intelligent Optical Network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48F7E-57D5-4AE6-B22F-8C0D79A7D61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ITU OTN Layering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84872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Optical channel layer network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End-to-end networking of optical channel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Optical channel connection, overhead, and supervisory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Optical multiplex section layer network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Networking multi-wavelength signal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Supervisory and overhead function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Optical transmission section layer network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Transmitting multi-wavelength signal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Supervisory and overhead function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Physical media layer network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The fiber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9229B-0AE2-4739-9A7E-07A97288542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Agenda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99956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The public network challenge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Intelligent optical networking technologies and network element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Intelligent optical networking architectur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Internetworking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Future trend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9819D-AFAA-49D8-A18B-8459FF23C56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Future Trends in Optical Networking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99956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Increasing capacity and distance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All-optical switching and routing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Architectur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8DB84-4E40-415B-818E-B8BAB986080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6201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Future Trends</a:t>
            </a:r>
            <a:br>
              <a:rPr sz="1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Increasing Capacity and Distance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848720" cy="426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Faster transmission speeds 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More waves in the C-band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Opening up more wavelength band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Bidirectional interleaved transmiss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Distributed amplificat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Wavelength power equalizat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C6EC6-3B60-4F83-95A9-6942F886395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Future Trends</a:t>
            </a:r>
            <a:br>
              <a:rPr sz="1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OC-768 and Beyond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84872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40-160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Gb/s transmiss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Very sensitive to polarization mode dispers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Newer fibers have reduced PMD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Components within system can be specified with low PMD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Polarization mode dispersion compensation likely required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Very sensitive to chromatic dispers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New transmission formats (solitons) help combat chromatic dispersion and PMD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Very sensitive to noise accumulat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Raman gain and FEC can help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M-ary signaling can alleviate impairmen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2D013-115F-4C59-8013-C90B38C2E95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"/>
          <p:cNvSpPr/>
          <p:nvPr/>
        </p:nvSpPr>
        <p:spPr>
          <a:xfrm>
            <a:off x="1981080" y="2006640"/>
            <a:ext cx="4876920" cy="396252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Future Trends</a:t>
            </a:r>
            <a:br>
              <a:rPr sz="1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More Waves in the C-Band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133" name=""/>
          <p:cNvSpPr/>
          <p:nvPr/>
        </p:nvSpPr>
        <p:spPr>
          <a:xfrm>
            <a:off x="2360880" y="2173320"/>
            <a:ext cx="426060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Spacing   </a:t>
            </a: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  # of Wav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400 GHz</a:t>
            </a: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10</a:t>
            </a: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200 GHz</a:t>
            </a: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20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100 GHz</a:t>
            </a: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40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50 GHz</a:t>
            </a: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80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25 GHz</a:t>
            </a: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160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10 GHz</a:t>
            </a: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ffff66"/>
                </a:solidFill>
                <a:latin typeface="Times New Roman"/>
              </a:rPr>
              <a:t>400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81080" y="2768760"/>
            <a:ext cx="4876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981080" y="3301920"/>
            <a:ext cx="4876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81080" y="3835440"/>
            <a:ext cx="4876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81080" y="4368960"/>
            <a:ext cx="4876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81080" y="4902120"/>
            <a:ext cx="4876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981080" y="5435640"/>
            <a:ext cx="4876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981080" y="5969160"/>
            <a:ext cx="4876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419720" y="2006640"/>
            <a:ext cx="0" cy="3962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81080" y="2006640"/>
            <a:ext cx="4876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 flipV="1">
            <a:off x="6858000" y="5816520"/>
            <a:ext cx="15228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81080" y="2006640"/>
            <a:ext cx="0" cy="3962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 flipV="1">
            <a:off x="6858000" y="1854000"/>
            <a:ext cx="15228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 flipV="1">
            <a:off x="1981080" y="1854000"/>
            <a:ext cx="15264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2133720" y="1846440"/>
            <a:ext cx="4876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010280" y="1854360"/>
            <a:ext cx="0" cy="3962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6858000" y="2006640"/>
            <a:ext cx="0" cy="3962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9CDB0-0A18-4AA3-8E90-266CFAF6DAD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3059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From Fiber Multiplication to Lightpath Networking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25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3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굴림"/>
              </a:rPr>
              <a:t>DWDM fiber multiplication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527400" indent="-20268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Move waves over distance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43360" indent="-243360">
              <a:spcBef>
                <a:spcPts val="13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굴림"/>
              </a:rPr>
              <a:t>Intelligent optical networking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527400" indent="-20268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System for delivering services over wave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2" marL="811440" indent="-16200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Move waves over distan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811440" indent="-16200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Map services onto wav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811440" indent="-162000">
              <a:spcBef>
                <a:spcPts val="601"/>
              </a:spcBef>
              <a:buClr>
                <a:srgbClr val="a49788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Provision, switch and manage lightpath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527400" indent="-20268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DWDM is only the physical layer of the Intelligent Optical Network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1FDFE-26B6-4E2D-86E6-0C04CCF4AD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Future Trends</a:t>
            </a:r>
            <a:br>
              <a:rPr sz="1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Opening Up New Wavelength Band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grpSp>
        <p:nvGrpSpPr>
          <p:cNvPr id="2151" name=""/>
          <p:cNvGrpSpPr/>
          <p:nvPr/>
        </p:nvGrpSpPr>
        <p:grpSpPr>
          <a:xfrm>
            <a:off x="152280" y="-533160"/>
            <a:ext cx="8839440" cy="6095880"/>
            <a:chOff x="152280" y="-533160"/>
            <a:chExt cx="8839440" cy="6095880"/>
          </a:xfrm>
        </p:grpSpPr>
        <p:sp>
          <p:nvSpPr>
            <p:cNvPr id="2152" name=""/>
            <p:cNvSpPr/>
            <p:nvPr/>
          </p:nvSpPr>
          <p:spPr>
            <a:xfrm>
              <a:off x="152280" y="1523880"/>
              <a:ext cx="8837640" cy="4038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lin ang="5400000"/>
            </a:grad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57200" y="175248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>
              <a:off x="457200" y="44956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98520" y="-533160"/>
              <a:ext cx="5454720" cy="39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3852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3852637"/>
                </a:path>
              </a:pathLst>
            </a:custGeom>
            <a:noFill/>
            <a:ln cap="rnd"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284560" y="1904760"/>
              <a:ext cx="167904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83" y="11408"/>
                  </a:moveTo>
                  <a:arcTo wR="10800" hR="10800" stAng="193535" swAng="520646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83" y="11408"/>
                  </a:moveTo>
                  <a:arcTo wR="10800" hR="10800" stAng="193535" swAng="5206465"/>
                </a:path>
              </a:pathLst>
            </a:custGeom>
            <a:noFill/>
            <a:ln cap="rnd"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192560" y="2210040"/>
              <a:ext cx="289548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918240" y="2668680"/>
              <a:ext cx="27396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02" y="2749"/>
                  </a:moveTo>
                  <a:arcTo wR="10800" hR="10800" stAng="-7907855" swAng="7701599"/>
                  <a:lnTo>
                    <a:pt x="10800" y="10800"/>
                  </a:lnTo>
                  <a:close/>
                </a:path>
                <a:path fill="none" w="21600" h="21600">
                  <a:moveTo>
                    <a:pt x="3602" y="2749"/>
                  </a:moveTo>
                  <a:arcTo wR="10800" hR="10800" stAng="-7907855" swAng="7701599"/>
                </a:path>
              </a:pathLst>
            </a:custGeom>
            <a:noFill/>
            <a:ln cap="rnd"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353040" y="1904760"/>
              <a:ext cx="4419000" cy="198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819520" y="3429000"/>
              <a:ext cx="2133360" cy="3808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63680" y="4197240"/>
              <a:ext cx="596880" cy="292320"/>
            </a:xfrm>
            <a:prstGeom prst="rect">
              <a:avLst/>
            </a:prstGeom>
            <a:solidFill>
              <a:srgbClr val="fd61f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216160" y="4197240"/>
              <a:ext cx="825480" cy="292320"/>
            </a:xfrm>
            <a:prstGeom prst="rect">
              <a:avLst/>
            </a:prstGeom>
            <a:solidFill>
              <a:srgbClr val="a36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92880" y="4197240"/>
              <a:ext cx="749160" cy="292320"/>
            </a:xfrm>
            <a:prstGeom prst="rect">
              <a:avLst/>
            </a:prstGeom>
            <a:solidFill>
              <a:srgbClr val="64fb8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59160" y="4197240"/>
              <a:ext cx="1434960" cy="292320"/>
            </a:xfrm>
            <a:prstGeom prst="rect">
              <a:avLst/>
            </a:prstGeom>
            <a:solidFill>
              <a:srgbClr val="63f3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6291360" y="4197240"/>
              <a:ext cx="718920" cy="292320"/>
            </a:xfrm>
            <a:prstGeom prst="rect">
              <a:avLst/>
            </a:prstGeom>
            <a:solidFill>
              <a:srgbClr val="ffe86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429720" y="2286000"/>
              <a:ext cx="1312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80049"/>
                  </a:solidFill>
                  <a:latin typeface="Arial"/>
                </a:rPr>
                <a:t>water-pea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906200" y="5081760"/>
              <a:ext cx="1337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80049"/>
                  </a:solidFill>
                  <a:latin typeface="Arial"/>
                </a:rPr>
                <a:t>1260-136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79880" y="5081760"/>
              <a:ext cx="56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80049"/>
                  </a:solidFill>
                  <a:latin typeface="Arial"/>
                </a:rPr>
                <a:t>8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078160" y="5081760"/>
              <a:ext cx="1273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80049"/>
                  </a:solidFill>
                  <a:latin typeface="Arial"/>
                </a:rPr>
                <a:t>1530-15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>
              <a:off x="1904760" y="45720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905120" y="48006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04720" y="165276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80049"/>
                  </a:solidFill>
                  <a:latin typeface="Arial"/>
                </a:rPr>
                <a:t>Lo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435800" y="5060880"/>
              <a:ext cx="65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80049"/>
                  </a:solidFill>
                  <a:latin typeface="Arial"/>
                </a:rPr>
                <a:t>(n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402000" y="5081760"/>
              <a:ext cx="1273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80049"/>
                  </a:solidFill>
                  <a:latin typeface="Arial"/>
                </a:rPr>
                <a:t>1365-15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249960" y="5081760"/>
              <a:ext cx="1273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80049"/>
                  </a:solidFill>
                  <a:latin typeface="Arial"/>
                </a:rPr>
                <a:t>1570-16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352680" y="45720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800600" y="45720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048120" y="45720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066680" y="45720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57200" y="45720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6234120" y="45640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 flipH="1">
              <a:off x="5257440" y="45720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257800" y="48006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7037280" y="45720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265880" y="48006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74760" y="4556160"/>
              <a:ext cx="62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1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153880" y="4556160"/>
              <a:ext cx="726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2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540400" y="4556160"/>
              <a:ext cx="659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3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462360" y="4556160"/>
              <a:ext cx="642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4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795480" y="4556160"/>
              <a:ext cx="642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5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336280" y="3862440"/>
              <a:ext cx="931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80049"/>
                  </a:solidFill>
                  <a:latin typeface="Arial"/>
                </a:rPr>
                <a:t>C-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240600" y="3863880"/>
              <a:ext cx="901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80049"/>
                  </a:solidFill>
                  <a:latin typeface="Arial"/>
                </a:rPr>
                <a:t>L-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793840" y="3405240"/>
              <a:ext cx="909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80049"/>
                  </a:solidFill>
                  <a:latin typeface="Arial"/>
                </a:rPr>
                <a:t>EDF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210440" y="3987720"/>
              <a:ext cx="1741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# of wa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@ 50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299280" y="45655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032440" y="1623960"/>
              <a:ext cx="2015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-band (convention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0 chann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30 - 1562 n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638680" y="24382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553080" y="2133720"/>
              <a:ext cx="243864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-band (long wavelength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0 chann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70 - 1620 n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858000" y="28954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4EADD-1A28-4BD1-93B4-21829A9AF72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Future Trends</a:t>
            </a:r>
            <a:br>
              <a:rPr sz="1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Bidirectional Interleaved Transmission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201" name=""/>
          <p:cNvSpPr/>
          <p:nvPr/>
        </p:nvSpPr>
        <p:spPr>
          <a:xfrm>
            <a:off x="1219320" y="1905120"/>
            <a:ext cx="6553080" cy="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1143000" y="2209680"/>
            <a:ext cx="6553080" cy="0"/>
          </a:xfrm>
          <a:prstGeom prst="line">
            <a:avLst/>
          </a:prstGeom>
          <a:ln w="9360">
            <a:solidFill>
              <a:srgbClr val="33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1143000" y="3886200"/>
            <a:ext cx="6553080" cy="0"/>
          </a:xfrm>
          <a:prstGeom prst="line">
            <a:avLst/>
          </a:prstGeom>
          <a:ln w="9360">
            <a:solidFill>
              <a:srgbClr val="33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143000" y="5257800"/>
            <a:ext cx="6553080" cy="0"/>
          </a:xfrm>
          <a:prstGeom prst="line">
            <a:avLst/>
          </a:prstGeom>
          <a:ln w="9360">
            <a:solidFill>
              <a:srgbClr val="33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 flipV="1">
            <a:off x="138708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 flipV="1">
            <a:off x="153936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V="1">
            <a:off x="1691640" y="1533960"/>
            <a:ext cx="123480" cy="36072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 flipV="1">
            <a:off x="184428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V="1">
            <a:off x="199656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 flipV="1">
            <a:off x="2148840" y="1533960"/>
            <a:ext cx="123480" cy="36072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V="1">
            <a:off x="230148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245376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V="1">
            <a:off x="2606040" y="1533960"/>
            <a:ext cx="123480" cy="36072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 flipV="1">
            <a:off x="275868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91096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V="1">
            <a:off x="3063240" y="1533960"/>
            <a:ext cx="123480" cy="36072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 flipV="1">
            <a:off x="321588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 flipV="1">
            <a:off x="336816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V="1">
            <a:off x="3520440" y="1533960"/>
            <a:ext cx="123480" cy="36072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V="1">
            <a:off x="367308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V="1">
            <a:off x="382536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 flipV="1">
            <a:off x="3977640" y="1533960"/>
            <a:ext cx="123480" cy="36072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 flipV="1">
            <a:off x="413028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V="1">
            <a:off x="428256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4434840" y="1533960"/>
            <a:ext cx="123480" cy="36072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 flipV="1">
            <a:off x="458748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 flipV="1">
            <a:off x="473976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 flipV="1">
            <a:off x="4892040" y="1533960"/>
            <a:ext cx="123480" cy="36072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 flipV="1">
            <a:off x="504468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 flipV="1">
            <a:off x="519696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 flipV="1">
            <a:off x="5349240" y="1533960"/>
            <a:ext cx="123480" cy="36072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 flipV="1">
            <a:off x="550188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flipV="1">
            <a:off x="565416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 flipV="1">
            <a:off x="5806440" y="1533960"/>
            <a:ext cx="123480" cy="36072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flipV="1">
            <a:off x="595908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 flipV="1">
            <a:off x="611136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>
            <a:off x="6263640" y="1533960"/>
            <a:ext cx="123480" cy="36072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 flipV="1">
            <a:off x="641628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 flipV="1">
            <a:off x="656856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 flipV="1">
            <a:off x="6720840" y="1533960"/>
            <a:ext cx="123480" cy="36072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V="1">
            <a:off x="687348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 flipV="1">
            <a:off x="702576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 flipV="1">
            <a:off x="7178040" y="1533960"/>
            <a:ext cx="123480" cy="36072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 flipV="1">
            <a:off x="733068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 flipV="1">
            <a:off x="7482960" y="1533600"/>
            <a:ext cx="123120" cy="361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H="1">
            <a:off x="139032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 flipH="1">
            <a:off x="154260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 flipH="1">
            <a:off x="1695240" y="2218680"/>
            <a:ext cx="11592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 flipH="1">
            <a:off x="184752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 flipH="1">
            <a:off x="199980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 flipH="1">
            <a:off x="2152440" y="2218680"/>
            <a:ext cx="11592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 flipH="1">
            <a:off x="230472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245700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H="1">
            <a:off x="2609640" y="2218680"/>
            <a:ext cx="11592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276192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 flipH="1">
            <a:off x="291420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 flipH="1">
            <a:off x="3066840" y="2218680"/>
            <a:ext cx="11592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 flipH="1">
            <a:off x="321912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 flipH="1">
            <a:off x="337140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 flipH="1">
            <a:off x="3524040" y="2218680"/>
            <a:ext cx="11592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flipH="1">
            <a:off x="367632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 flipH="1">
            <a:off x="382860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3981240" y="2218680"/>
            <a:ext cx="11592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 flipH="1">
            <a:off x="413352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>
            <a:off x="428580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4438440" y="2218680"/>
            <a:ext cx="11592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459072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 flipH="1">
            <a:off x="474300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4895640" y="2218680"/>
            <a:ext cx="11592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 flipH="1">
            <a:off x="504792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520020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 flipH="1">
            <a:off x="5352840" y="2218680"/>
            <a:ext cx="11592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 flipH="1">
            <a:off x="550512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 flipH="1">
            <a:off x="565740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5810040" y="2218680"/>
            <a:ext cx="11592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596232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611460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6267240" y="2218680"/>
            <a:ext cx="11592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H="1">
            <a:off x="641952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657180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H="1">
            <a:off x="6724440" y="2218680"/>
            <a:ext cx="11592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 flipH="1">
            <a:off x="687672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702900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 flipH="1">
            <a:off x="7181640" y="2218680"/>
            <a:ext cx="11592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 flipH="1">
            <a:off x="733392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7486200" y="2218680"/>
            <a:ext cx="116280" cy="3632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V="1">
            <a:off x="1316160" y="35139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 flipV="1">
            <a:off x="1468440" y="3513960"/>
            <a:ext cx="11268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 flipV="1">
            <a:off x="1621080" y="35139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 flipV="1">
            <a:off x="1773360" y="35139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 flipV="1">
            <a:off x="1925640" y="3513960"/>
            <a:ext cx="11268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 flipV="1">
            <a:off x="2078280" y="35139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V="1">
            <a:off x="2230560" y="35139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 flipV="1">
            <a:off x="2382840" y="3513960"/>
            <a:ext cx="11268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 flipV="1">
            <a:off x="2535480" y="35139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 flipV="1">
            <a:off x="2687760" y="35139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 flipV="1">
            <a:off x="2840040" y="3513960"/>
            <a:ext cx="11268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 flipV="1">
            <a:off x="2992680" y="35139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V="1">
            <a:off x="3144960" y="35139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 flipV="1">
            <a:off x="3297240" y="3513960"/>
            <a:ext cx="11268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 flipV="1">
            <a:off x="3449880" y="35139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 flipV="1">
            <a:off x="3602160" y="35139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 flipV="1">
            <a:off x="3754440" y="3513960"/>
            <a:ext cx="11268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V="1">
            <a:off x="3907080" y="35139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 flipH="1">
            <a:off x="4965120" y="3897720"/>
            <a:ext cx="129600" cy="3578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 flipH="1">
            <a:off x="5117760" y="3897720"/>
            <a:ext cx="129240" cy="3582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 flipH="1">
            <a:off x="5270040" y="3897720"/>
            <a:ext cx="129600" cy="3578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 flipH="1">
            <a:off x="5422320" y="3897720"/>
            <a:ext cx="129600" cy="3578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 flipH="1">
            <a:off x="5574960" y="3897720"/>
            <a:ext cx="129240" cy="3582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 flipH="1">
            <a:off x="5727240" y="3897720"/>
            <a:ext cx="129600" cy="3578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5879520" y="3897720"/>
            <a:ext cx="129600" cy="3578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 flipH="1">
            <a:off x="6032160" y="3897720"/>
            <a:ext cx="129240" cy="3582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 flipH="1">
            <a:off x="6184440" y="3897720"/>
            <a:ext cx="129600" cy="3578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 flipH="1">
            <a:off x="6336720" y="3897720"/>
            <a:ext cx="129600" cy="3578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6489360" y="3897720"/>
            <a:ext cx="129240" cy="3582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 flipH="1">
            <a:off x="6641640" y="3897720"/>
            <a:ext cx="129600" cy="3578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 flipH="1">
            <a:off x="6793920" y="3897720"/>
            <a:ext cx="129600" cy="3578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 flipH="1">
            <a:off x="6946560" y="3897720"/>
            <a:ext cx="129240" cy="3582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 flipH="1">
            <a:off x="7098840" y="3897720"/>
            <a:ext cx="129600" cy="3578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 flipH="1">
            <a:off x="7251120" y="3897720"/>
            <a:ext cx="129600" cy="3578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 flipH="1">
            <a:off x="7403760" y="3897720"/>
            <a:ext cx="129240" cy="3582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 flipH="1">
            <a:off x="7556040" y="3897720"/>
            <a:ext cx="129600" cy="3578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 flipV="1">
            <a:off x="1239840" y="4885560"/>
            <a:ext cx="11268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 flipV="1">
            <a:off x="139248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 flipV="1">
            <a:off x="154476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1697040" y="4885560"/>
            <a:ext cx="11268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 flipV="1">
            <a:off x="184968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V="1">
            <a:off x="200196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 flipV="1">
            <a:off x="2154240" y="4885560"/>
            <a:ext cx="11268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 flipV="1">
            <a:off x="230688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245916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V="1">
            <a:off x="2611440" y="4885560"/>
            <a:ext cx="11268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V="1">
            <a:off x="276408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V="1">
            <a:off x="291636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V="1">
            <a:off x="3068640" y="4885560"/>
            <a:ext cx="11268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 flipV="1">
            <a:off x="322128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V="1">
            <a:off x="337356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525840" y="4885560"/>
            <a:ext cx="11268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 flipV="1">
            <a:off x="367848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flipV="1">
            <a:off x="383076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V="1">
            <a:off x="3983040" y="4885560"/>
            <a:ext cx="11268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 flipV="1">
            <a:off x="413568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V="1">
            <a:off x="428796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flipV="1">
            <a:off x="4440240" y="4885560"/>
            <a:ext cx="11268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 flipV="1">
            <a:off x="459288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474516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 flipV="1">
            <a:off x="4897440" y="4885560"/>
            <a:ext cx="11268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 flipV="1">
            <a:off x="505008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520236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 flipV="1">
            <a:off x="5354640" y="4885560"/>
            <a:ext cx="11268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 flipV="1">
            <a:off x="550728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 flipV="1">
            <a:off x="565956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 flipV="1">
            <a:off x="5811840" y="4885560"/>
            <a:ext cx="11268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 flipV="1">
            <a:off x="596448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 flipV="1">
            <a:off x="611676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 flipV="1">
            <a:off x="6269040" y="4885560"/>
            <a:ext cx="11268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642168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V="1">
            <a:off x="657396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6726240" y="4885560"/>
            <a:ext cx="11268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 flipV="1">
            <a:off x="687888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V="1">
            <a:off x="703116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7183440" y="4885560"/>
            <a:ext cx="11268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7336080" y="4885560"/>
            <a:ext cx="112320" cy="36360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129996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 flipH="1">
            <a:off x="1452600" y="527220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 flipH="1">
            <a:off x="160488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 flipH="1">
            <a:off x="175716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 flipH="1">
            <a:off x="1909800" y="527220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206208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 flipH="1">
            <a:off x="221436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2367000" y="527220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 flipH="1">
            <a:off x="251928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267156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 flipH="1">
            <a:off x="2824200" y="527220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 flipH="1">
            <a:off x="297648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 flipH="1">
            <a:off x="312876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 flipH="1">
            <a:off x="3281400" y="527220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 flipH="1">
            <a:off x="343368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 flipH="1">
            <a:off x="358596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 flipH="1">
            <a:off x="3738600" y="527220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 flipH="1">
            <a:off x="389088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 flipH="1">
            <a:off x="404316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 flipH="1">
            <a:off x="4195800" y="527220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 flipH="1">
            <a:off x="434808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 flipH="1">
            <a:off x="450036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 flipH="1">
            <a:off x="4653000" y="527220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 flipH="1">
            <a:off x="480528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 flipH="1">
            <a:off x="495756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H="1">
            <a:off x="5110200" y="527220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 flipH="1">
            <a:off x="526248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 flipH="1">
            <a:off x="541476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flipH="1">
            <a:off x="5567400" y="527220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 flipH="1">
            <a:off x="571968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 flipH="1">
            <a:off x="587196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 flipH="1">
            <a:off x="6024600" y="527220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 flipH="1">
            <a:off x="617688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 flipH="1">
            <a:off x="632916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 flipH="1">
            <a:off x="6481800" y="527220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 flipH="1">
            <a:off x="663408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 flipH="1">
            <a:off x="678636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 flipH="1">
            <a:off x="6939000" y="527220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 flipH="1">
            <a:off x="709128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 flipH="1">
            <a:off x="7243560" y="527220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H="1">
            <a:off x="7396200" y="527220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83640" y="1066680"/>
            <a:ext cx="68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-directional Transmission: 80x80, 50 GHz sp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681120" y="281952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ntional Bi-directional Transmission: 32x32, 50 GHz sp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80040" y="4343400"/>
            <a:ext cx="83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-directional Interleaved Transmission: 160x160, 50 GHz sp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1143000" y="6248520"/>
            <a:ext cx="6553080" cy="0"/>
          </a:xfrm>
          <a:prstGeom prst="line">
            <a:avLst/>
          </a:prstGeom>
          <a:ln w="9360">
            <a:solidFill>
              <a:srgbClr val="33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 flipV="1">
            <a:off x="1239840" y="5875560"/>
            <a:ext cx="11268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 flipV="1">
            <a:off x="139248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 flipV="1">
            <a:off x="154476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 flipV="1">
            <a:off x="1697040" y="5875560"/>
            <a:ext cx="11268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 flipV="1">
            <a:off x="184968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 flipV="1">
            <a:off x="200196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 flipV="1">
            <a:off x="2154240" y="5875560"/>
            <a:ext cx="11268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 flipV="1">
            <a:off x="230688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V="1">
            <a:off x="245916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 flipV="1">
            <a:off x="2611440" y="5875560"/>
            <a:ext cx="11268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V="1">
            <a:off x="276408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291636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 flipV="1">
            <a:off x="3068640" y="5875560"/>
            <a:ext cx="11268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 flipV="1">
            <a:off x="322128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 flipV="1">
            <a:off x="337356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 flipV="1">
            <a:off x="3525840" y="5875560"/>
            <a:ext cx="11268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 flipV="1">
            <a:off x="367848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 flipV="1">
            <a:off x="383076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 flipV="1">
            <a:off x="3983040" y="5875560"/>
            <a:ext cx="11268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 flipV="1">
            <a:off x="413568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 flipV="1">
            <a:off x="428796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 flipV="1">
            <a:off x="4440240" y="5875560"/>
            <a:ext cx="11268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 flipV="1">
            <a:off x="459288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 flipV="1">
            <a:off x="474516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 flipV="1">
            <a:off x="4897440" y="5875560"/>
            <a:ext cx="11268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 flipV="1">
            <a:off x="505008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520236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 flipV="1">
            <a:off x="5354640" y="5875560"/>
            <a:ext cx="11268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V="1">
            <a:off x="550728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 flipV="1">
            <a:off x="565956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 flipV="1">
            <a:off x="5811840" y="5875560"/>
            <a:ext cx="11268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 flipV="1">
            <a:off x="596448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 flipV="1">
            <a:off x="611676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 flipV="1">
            <a:off x="6269040" y="5875560"/>
            <a:ext cx="11268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 flipV="1">
            <a:off x="642168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 flipV="1">
            <a:off x="657396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 flipV="1">
            <a:off x="6726240" y="5875560"/>
            <a:ext cx="11268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 flipV="1">
            <a:off x="687888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 flipV="1">
            <a:off x="703116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 flipV="1">
            <a:off x="7183440" y="5875560"/>
            <a:ext cx="11268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 flipV="1">
            <a:off x="7336080" y="5875560"/>
            <a:ext cx="112320" cy="3639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129996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1452600" y="626292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 flipH="1">
            <a:off x="160488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 flipH="1">
            <a:off x="175716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 flipH="1">
            <a:off x="1909800" y="626292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206208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 flipH="1">
            <a:off x="221436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 flipH="1">
            <a:off x="2367000" y="626292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 flipH="1">
            <a:off x="251928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 flipH="1">
            <a:off x="267156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 flipH="1">
            <a:off x="2824200" y="626292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 flipH="1">
            <a:off x="297648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 flipH="1">
            <a:off x="312876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 flipH="1">
            <a:off x="3281400" y="626292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 flipH="1">
            <a:off x="343368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 flipH="1">
            <a:off x="358596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 flipH="1">
            <a:off x="3738600" y="626292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 flipH="1">
            <a:off x="389088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404316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4195800" y="626292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H="1">
            <a:off x="434808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 flipH="1">
            <a:off x="450036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 flipH="1">
            <a:off x="4653000" y="626292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480528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 flipH="1">
            <a:off x="495756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 flipH="1">
            <a:off x="5110200" y="626292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 flipH="1">
            <a:off x="526248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541476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 flipH="1">
            <a:off x="5567400" y="626292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H="1">
            <a:off x="571968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 flipH="1">
            <a:off x="587196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024600" y="626292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 flipH="1">
            <a:off x="617688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 flipH="1">
            <a:off x="632916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 flipH="1">
            <a:off x="6481800" y="626292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663408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 flipH="1">
            <a:off x="678636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 flipH="1">
            <a:off x="6939000" y="626292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 flipH="1">
            <a:off x="709128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7243560" y="6262920"/>
            <a:ext cx="144720" cy="35208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7396200" y="6262920"/>
            <a:ext cx="144360" cy="3524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C3F4D-8783-4789-B655-60EE722EE7F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5943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Future Trends</a:t>
            </a:r>
            <a:br>
              <a:rPr sz="1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Lumped Amplification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492" name=""/>
          <p:cNvSpPr/>
          <p:nvPr/>
        </p:nvSpPr>
        <p:spPr>
          <a:xfrm>
            <a:off x="457200" y="1935000"/>
            <a:ext cx="84582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V="1">
            <a:off x="2057400" y="1325160"/>
            <a:ext cx="0" cy="6094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 flipV="1">
            <a:off x="4800600" y="1325160"/>
            <a:ext cx="0" cy="6094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 flipV="1">
            <a:off x="7620120" y="1325160"/>
            <a:ext cx="0" cy="6094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 flipV="1">
            <a:off x="4191120" y="1706040"/>
            <a:ext cx="0" cy="2286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 flipV="1">
            <a:off x="7010280" y="1706040"/>
            <a:ext cx="0" cy="2286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057400" y="1325520"/>
            <a:ext cx="2057400" cy="380880"/>
          </a:xfrm>
          <a:prstGeom prst="line">
            <a:avLst/>
          </a:prstGeom>
          <a:ln cap="rnd" w="936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876920" y="1325520"/>
            <a:ext cx="2057400" cy="380880"/>
          </a:xfrm>
          <a:prstGeom prst="line">
            <a:avLst/>
          </a:prstGeom>
          <a:ln cap="rnd" w="936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7696080" y="1325520"/>
            <a:ext cx="144648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228600" y="1477800"/>
            <a:ext cx="1371600" cy="228600"/>
          </a:xfrm>
          <a:prstGeom prst="line">
            <a:avLst/>
          </a:prstGeom>
          <a:ln cap="rnd" w="936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 flipV="1">
            <a:off x="1523880" y="1706040"/>
            <a:ext cx="0" cy="2286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228600" y="24685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lbertus Medium"/>
              </a:rPr>
              <a:t>Distributed Raman Ampl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380880" y="4221000"/>
            <a:ext cx="84582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 flipV="1">
            <a:off x="1981080" y="3611160"/>
            <a:ext cx="0" cy="6094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V="1">
            <a:off x="4724280" y="3611160"/>
            <a:ext cx="0" cy="6094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7543800" y="3611160"/>
            <a:ext cx="0" cy="6094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 flipV="1">
            <a:off x="3124080" y="3763800"/>
            <a:ext cx="0" cy="4572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1981080" y="3611520"/>
            <a:ext cx="2210040" cy="228600"/>
          </a:xfrm>
          <a:prstGeom prst="line">
            <a:avLst/>
          </a:prstGeom>
          <a:ln cap="rnd" w="936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4800600" y="3611520"/>
            <a:ext cx="2209680" cy="228600"/>
          </a:xfrm>
          <a:prstGeom prst="line">
            <a:avLst/>
          </a:prstGeom>
          <a:ln cap="rnd" w="936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7620120" y="3611520"/>
            <a:ext cx="152388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3582000" y="4221000"/>
            <a:ext cx="76104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4109400" y="452592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6400800" y="4221000"/>
            <a:ext cx="76176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6935400" y="452592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838800" y="4221000"/>
            <a:ext cx="76104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372680" y="452592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 flipV="1">
            <a:off x="4191120" y="3840120"/>
            <a:ext cx="0" cy="3808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 flipV="1">
            <a:off x="5943600" y="3763800"/>
            <a:ext cx="0" cy="4572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 flipV="1">
            <a:off x="7010280" y="3840120"/>
            <a:ext cx="0" cy="3808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1365120" y="4952880"/>
            <a:ext cx="679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kes link “look” 5-7 dB shorter --&gt; better OSN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quires very high power pumps (~1-2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Reliability 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Eye safety 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Connectorization concerns -- new outside plant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Harder to do C- and L-ban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 rot="5400000">
            <a:off x="1676160" y="174456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rot="5400000">
            <a:off x="4381200" y="174456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 rot="5400000">
            <a:off x="7200720" y="174456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 rot="5400000">
            <a:off x="1599840" y="4030560"/>
            <a:ext cx="304920" cy="3812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rot="5400000">
            <a:off x="4304880" y="4030560"/>
            <a:ext cx="304920" cy="3812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 rot="5400000">
            <a:off x="7124400" y="403056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1447920" y="3840120"/>
            <a:ext cx="0" cy="3808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228600" y="3687840"/>
            <a:ext cx="228600" cy="75960"/>
          </a:xfrm>
          <a:prstGeom prst="line">
            <a:avLst/>
          </a:prstGeom>
          <a:ln cap="rnd" w="936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D42B6-0614-4EB5-B8D8-25428D26237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Future Trends</a:t>
            </a:r>
            <a:br>
              <a:rPr sz="1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Wavelength Power Equalization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531" name=""/>
          <p:cNvSpPr/>
          <p:nvPr/>
        </p:nvSpPr>
        <p:spPr>
          <a:xfrm>
            <a:off x="457200" y="2819520"/>
            <a:ext cx="84582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 flipV="1">
            <a:off x="2057400" y="2209680"/>
            <a:ext cx="0" cy="6098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7696080" y="2209680"/>
            <a:ext cx="205740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flipV="1">
            <a:off x="2209680" y="2286000"/>
            <a:ext cx="0" cy="533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 flipV="1">
            <a:off x="2362320" y="2209680"/>
            <a:ext cx="0" cy="6098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 flipV="1">
            <a:off x="2514600" y="2209680"/>
            <a:ext cx="0" cy="6098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2666880" y="2209680"/>
            <a:ext cx="0" cy="6098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 flipV="1">
            <a:off x="2819520" y="2286000"/>
            <a:ext cx="0" cy="533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 flipV="1">
            <a:off x="4800600" y="1980720"/>
            <a:ext cx="0" cy="8384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 flipV="1">
            <a:off x="4952880" y="2362320"/>
            <a:ext cx="0" cy="4572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 flipV="1">
            <a:off x="5105520" y="2209680"/>
            <a:ext cx="0" cy="6098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 flipV="1">
            <a:off x="5257800" y="2133360"/>
            <a:ext cx="0" cy="6858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 flipV="1">
            <a:off x="5410080" y="2133360"/>
            <a:ext cx="0" cy="6858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 flipV="1">
            <a:off x="5562720" y="2362320"/>
            <a:ext cx="0" cy="4572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 flipV="1">
            <a:off x="7620120" y="1828800"/>
            <a:ext cx="0" cy="9907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 flipV="1">
            <a:off x="7772400" y="2437920"/>
            <a:ext cx="0" cy="3812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 flipV="1">
            <a:off x="7924680" y="2133360"/>
            <a:ext cx="0" cy="6858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 flipV="1">
            <a:off x="8077320" y="2286000"/>
            <a:ext cx="0" cy="533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 flipV="1">
            <a:off x="8229600" y="2133360"/>
            <a:ext cx="0" cy="6858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 flipV="1">
            <a:off x="8381880" y="2437920"/>
            <a:ext cx="0" cy="3812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8915400" y="2819520"/>
            <a:ext cx="0" cy="7617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 flipH="1">
            <a:off x="380520" y="3581280"/>
            <a:ext cx="85345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380880" y="3581280"/>
            <a:ext cx="0" cy="10670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 flipV="1">
            <a:off x="4724280" y="3809520"/>
            <a:ext cx="0" cy="8384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 flipV="1">
            <a:off x="4876920" y="4191120"/>
            <a:ext cx="0" cy="4572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 flipV="1">
            <a:off x="5029200" y="4038480"/>
            <a:ext cx="0" cy="6098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 flipV="1">
            <a:off x="5181480" y="3962160"/>
            <a:ext cx="0" cy="6858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 flipV="1">
            <a:off x="5334120" y="3962160"/>
            <a:ext cx="0" cy="6858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 flipV="1">
            <a:off x="5486400" y="4191120"/>
            <a:ext cx="0" cy="4572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 flipV="1">
            <a:off x="7543800" y="3657600"/>
            <a:ext cx="0" cy="9907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 flipV="1">
            <a:off x="7696080" y="4266720"/>
            <a:ext cx="0" cy="3812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 flipV="1">
            <a:off x="7848720" y="3962160"/>
            <a:ext cx="0" cy="6858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 flipV="1">
            <a:off x="8001000" y="4114800"/>
            <a:ext cx="0" cy="533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 flipV="1">
            <a:off x="8153280" y="3962160"/>
            <a:ext cx="0" cy="6858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 flipV="1">
            <a:off x="8305920" y="4266720"/>
            <a:ext cx="0" cy="3812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609480" y="335268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Q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 flipV="1">
            <a:off x="1981080" y="4038480"/>
            <a:ext cx="0" cy="6098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 flipV="1">
            <a:off x="2133720" y="4114800"/>
            <a:ext cx="0" cy="533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 flipV="1">
            <a:off x="2286000" y="4038480"/>
            <a:ext cx="0" cy="6098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 flipV="1">
            <a:off x="2438280" y="4038480"/>
            <a:ext cx="0" cy="6098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 flipV="1">
            <a:off x="2590920" y="4038480"/>
            <a:ext cx="0" cy="60984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 flipV="1">
            <a:off x="2743200" y="4114800"/>
            <a:ext cx="0" cy="533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rot="5400000">
            <a:off x="4381200" y="26287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rot="5400000">
            <a:off x="1676160" y="26287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7200720" y="26287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 rot="5400000">
            <a:off x="1599840" y="4457520"/>
            <a:ext cx="304920" cy="3812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 rot="5400000">
            <a:off x="4304880" y="4457520"/>
            <a:ext cx="304920" cy="3812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 rot="5400000">
            <a:off x="7124400" y="44575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3ADFD-F92F-4014-B952-50B4CCF364F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Approximate Evolution and Speculation of OC-48 DWDM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609480" y="1600200"/>
            <a:ext cx="7772400" cy="4876920"/>
            <a:chOff x="609480" y="1600200"/>
            <a:chExt cx="7772400" cy="4876920"/>
          </a:xfrm>
        </p:grpSpPr>
        <p:sp>
          <p:nvSpPr>
            <p:cNvPr id="2582" name=""/>
            <p:cNvSpPr/>
            <p:nvPr/>
          </p:nvSpPr>
          <p:spPr>
            <a:xfrm>
              <a:off x="609480" y="1600200"/>
              <a:ext cx="7772400" cy="4876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09480" y="1600200"/>
              <a:ext cx="7772400" cy="48769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09480" y="2209680"/>
              <a:ext cx="77724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300-400k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0 G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609480" y="2743200"/>
              <a:ext cx="77724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500-600k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 G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09480" y="3276720"/>
              <a:ext cx="77724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2-4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500-600k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 GHz, G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09480" y="3809880"/>
              <a:ext cx="77724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4-10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500-600k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GHz, C+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09480" y="4343400"/>
              <a:ext cx="77724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500-600k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-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09480" y="4876920"/>
              <a:ext cx="77724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~1200k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C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609480" y="5410080"/>
              <a:ext cx="77724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~3000k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m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609480" y="5943600"/>
              <a:ext cx="77724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2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~3000k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 G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09480" y="1600200"/>
              <a:ext cx="1828800" cy="487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809880" y="1600200"/>
              <a:ext cx="1981080" cy="487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438280" y="1600200"/>
              <a:ext cx="1371600" cy="487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09840" y="1676520"/>
              <a:ext cx="71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av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anc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85800" y="3886200"/>
              <a:ext cx="7696080" cy="91440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65AAA-F2C8-4062-A14A-72DE170C4B8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7" name=""/>
          <p:cNvGrpSpPr/>
          <p:nvPr/>
        </p:nvGrpSpPr>
        <p:grpSpPr>
          <a:xfrm>
            <a:off x="609480" y="1600200"/>
            <a:ext cx="7772400" cy="4876920"/>
            <a:chOff x="609480" y="1600200"/>
            <a:chExt cx="7772400" cy="4876920"/>
          </a:xfrm>
        </p:grpSpPr>
        <p:sp>
          <p:nvSpPr>
            <p:cNvPr id="2598" name=""/>
            <p:cNvSpPr/>
            <p:nvPr/>
          </p:nvSpPr>
          <p:spPr>
            <a:xfrm>
              <a:off x="609480" y="1600200"/>
              <a:ext cx="7772400" cy="4876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09480" y="2209680"/>
              <a:ext cx="77724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300-400km      400 GHz, Bi-Di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09480" y="2743200"/>
              <a:ext cx="77724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300-400km       200 GHz, Bi-Di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09480" y="3276720"/>
              <a:ext cx="77724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1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400-500km       100 GHz, Bi-Di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09480" y="3809880"/>
              <a:ext cx="77724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2-4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500-600km      100 GHz, Uni-Di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09480" y="4343400"/>
              <a:ext cx="77724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4-8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500-600k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-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09480" y="4876920"/>
              <a:ext cx="777240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500-600k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 GHz, Bi-Dir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609480" y="5410080"/>
              <a:ext cx="77724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~1200k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609480" y="5943600"/>
              <a:ext cx="77724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~3000k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m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609480" y="1600200"/>
              <a:ext cx="1828800" cy="487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809880" y="1600200"/>
              <a:ext cx="1981080" cy="487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438280" y="1600200"/>
              <a:ext cx="1371600" cy="487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09840" y="1676520"/>
              <a:ext cx="71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av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anc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914400" y="3809880"/>
              <a:ext cx="7315200" cy="114300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2" name=""/>
          <p:cNvSpPr/>
          <p:nvPr/>
        </p:nvSpPr>
        <p:spPr>
          <a:xfrm>
            <a:off x="685800" y="0"/>
            <a:ext cx="67816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Approximate Evolution and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Speculation of OC-192 DWD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5D134-51A6-4503-A38E-8C3D820A353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Future Trend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Evolution of DWDM Capacity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614" name=""/>
          <p:cNvSpPr/>
          <p:nvPr/>
        </p:nvSpPr>
        <p:spPr>
          <a:xfrm>
            <a:off x="230400" y="1324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b/s*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7238880" y="58197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6" name=""/>
          <p:cNvGraphicFramePr/>
          <p:nvPr/>
        </p:nvGraphicFramePr>
        <p:xfrm>
          <a:off x="1371600" y="1552680"/>
          <a:ext cx="606096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52680"/>
                    <a:ext cx="606096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8" name=""/>
          <p:cNvSpPr/>
          <p:nvPr/>
        </p:nvSpPr>
        <p:spPr>
          <a:xfrm>
            <a:off x="7316640" y="2467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OC-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5488560" y="19335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OC-1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AA47F-D966-43B4-BD21-D2613D4E85F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Future Trends</a:t>
            </a:r>
            <a:br>
              <a:rPr sz="18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Evolution of Capacity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BW*Distance ~doubles each generat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Today: ~120-160 Tb/s*km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80xOC-48: 200 Gb/s over 600km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40xOC-192: 400 Gb/s over 400km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Trend to OC-192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FEC, Raman will provide x5-10 gain 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OC-192 systems can exceed 2000 Tb/s*km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Trend to OC-768?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B142E-8C83-4AF5-BDFD-7E8E992DD45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Future Trends in Optical Networking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999560" cy="41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Increasing capacity and distance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All-optical switching and routing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Architectur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11E38-6D58-42AB-80FB-0956C3DBCB4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Future Trend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Wavelength Routing Network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625" name=""/>
          <p:cNvSpPr/>
          <p:nvPr/>
        </p:nvSpPr>
        <p:spPr>
          <a:xfrm>
            <a:off x="685800" y="1295280"/>
            <a:ext cx="7861320" cy="515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2673360" y="2198520"/>
            <a:ext cx="3844800" cy="1938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cc99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2225520" y="2184480"/>
            <a:ext cx="428760" cy="30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3421080" y="2505240"/>
            <a:ext cx="366840" cy="264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5433840" y="3470400"/>
            <a:ext cx="368640" cy="26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4552920" y="2963880"/>
            <a:ext cx="368280" cy="264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5749920" y="2687760"/>
            <a:ext cx="366840" cy="264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3106800" y="3424320"/>
            <a:ext cx="366480" cy="26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6756480" y="3699000"/>
            <a:ext cx="428400" cy="311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2682720" y="2360520"/>
            <a:ext cx="72720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3827520" y="2716200"/>
            <a:ext cx="687240" cy="298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 flipV="1">
            <a:off x="4960800" y="2831760"/>
            <a:ext cx="749520" cy="250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4897440" y="3220920"/>
            <a:ext cx="498600" cy="301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3827520" y="2624040"/>
            <a:ext cx="1882800" cy="117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3513240" y="3589200"/>
            <a:ext cx="1882800" cy="25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5813280" y="3654360"/>
            <a:ext cx="932040" cy="21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 flipH="1">
            <a:off x="5648400" y="2992320"/>
            <a:ext cx="318960" cy="43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2098800" y="2733840"/>
            <a:ext cx="430200" cy="30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2792520" y="4021200"/>
            <a:ext cx="430200" cy="30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1911240" y="3606840"/>
            <a:ext cx="430200" cy="311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6694560" y="2643120"/>
            <a:ext cx="428400" cy="30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6505560" y="2043000"/>
            <a:ext cx="428760" cy="31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6316560" y="4203720"/>
            <a:ext cx="428760" cy="311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 flipV="1">
            <a:off x="2540160" y="2722680"/>
            <a:ext cx="93312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 flipV="1">
            <a:off x="2379600" y="3566880"/>
            <a:ext cx="68760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 flipV="1">
            <a:off x="3106800" y="3687840"/>
            <a:ext cx="11592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 flipH="1">
            <a:off x="5989320" y="2228760"/>
            <a:ext cx="51588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 flipH="1">
            <a:off x="6116400" y="2822400"/>
            <a:ext cx="57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5749920" y="3699000"/>
            <a:ext cx="554040" cy="67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1980360" y="35575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6831720" y="3666960"/>
            <a:ext cx="379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 flipH="1" flipV="1">
            <a:off x="4814640" y="3230280"/>
            <a:ext cx="917640" cy="156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4817160" y="4749840"/>
            <a:ext cx="33498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avelength Routing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Broadcast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Wavelength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Frequency Selectiv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Wavelength Cha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964080" y="477360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ON-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V="1">
            <a:off x="1766880" y="3924000"/>
            <a:ext cx="395280" cy="850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 flipH="1">
            <a:off x="3286080" y="2817720"/>
            <a:ext cx="318960" cy="5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2346480" y="1397160"/>
            <a:ext cx="180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-  SINGLE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-  FIBER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3495600" y="2081160"/>
            <a:ext cx="633600" cy="46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1078560" y="6005520"/>
            <a:ext cx="360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993366"/>
                </a:solidFill>
                <a:latin typeface="Arial"/>
              </a:rPr>
              <a:t>Electro-optic control and management not sh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2352600" y="3419640"/>
            <a:ext cx="276480" cy="50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934920" y="3182760"/>
            <a:ext cx="175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User-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2360520" y="3673440"/>
            <a:ext cx="11160" cy="184320"/>
          </a:xfrm>
          <a:custGeom>
            <a:avLst/>
            <a:gdLst>
              <a:gd name="textAreaLeft" fmla="*/ 360 w 11160"/>
              <a:gd name="textAreaRight" fmla="*/ 10800 w 11160"/>
              <a:gd name="textAreaTop" fmla="*/ 360 h 184320"/>
              <a:gd name="textAreaBottom" fmla="*/ 183960 h 184320"/>
            </a:gdLst>
            <a:ahLst/>
            <a:rect l="textAreaLeft" t="textAreaTop" r="textAreaRight" b="textAreaBottom"/>
            <a:pathLst>
              <a:path w="21600" h="346275">
                <a:moveTo>
                  <a:pt x="2699" y="0"/>
                </a:moveTo>
                <a:arcTo wR="2699" hR="2699" stAng="16200000" swAng="-5400000"/>
                <a:lnTo>
                  <a:pt x="0" y="343576"/>
                </a:lnTo>
                <a:arcTo wR="2699" hR="2699" stAng="10800000" swAng="-5400000"/>
                <a:lnTo>
                  <a:pt x="18901" y="346275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2546280" y="2792520"/>
            <a:ext cx="12600" cy="183960"/>
          </a:xfrm>
          <a:custGeom>
            <a:avLst/>
            <a:gdLst>
              <a:gd name="textAreaLeft" fmla="*/ 360 w 12600"/>
              <a:gd name="textAreaRight" fmla="*/ 12240 w 12600"/>
              <a:gd name="textAreaTop" fmla="*/ 360 h 183960"/>
              <a:gd name="textAreaBottom" fmla="*/ 183600 h 183960"/>
            </a:gdLst>
            <a:ahLst/>
            <a:rect l="textAreaLeft" t="textAreaTop" r="textAreaRight" b="textAreaBottom"/>
            <a:pathLst>
              <a:path w="21600" h="307200">
                <a:moveTo>
                  <a:pt x="2699" y="0"/>
                </a:moveTo>
                <a:arcTo wR="2699" hR="2699" stAng="16200000" swAng="-5400000"/>
                <a:lnTo>
                  <a:pt x="0" y="304501"/>
                </a:lnTo>
                <a:arcTo wR="2699" hR="2699" stAng="10800000" swAng="-5400000"/>
                <a:lnTo>
                  <a:pt x="18901" y="307200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2665440" y="2249640"/>
            <a:ext cx="11160" cy="183960"/>
          </a:xfrm>
          <a:custGeom>
            <a:avLst/>
            <a:gdLst>
              <a:gd name="textAreaLeft" fmla="*/ 360 w 11160"/>
              <a:gd name="textAreaRight" fmla="*/ 10800 w 11160"/>
              <a:gd name="textAreaTop" fmla="*/ 360 h 183960"/>
              <a:gd name="textAreaBottom" fmla="*/ 183600 h 183960"/>
            </a:gdLst>
            <a:ahLst/>
            <a:rect l="textAreaLeft" t="textAreaTop" r="textAreaRight" b="textAreaBottom"/>
            <a:pathLst>
              <a:path w="21600" h="345600">
                <a:moveTo>
                  <a:pt x="2699" y="0"/>
                </a:moveTo>
                <a:arcTo wR="2699" hR="2699" stAng="16200000" swAng="-5400000"/>
                <a:lnTo>
                  <a:pt x="0" y="342901"/>
                </a:lnTo>
                <a:arcTo wR="2699" hR="2699" stAng="10800000" swAng="-5400000"/>
                <a:lnTo>
                  <a:pt x="18901" y="345600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6470640" y="2131920"/>
            <a:ext cx="11160" cy="182520"/>
          </a:xfrm>
          <a:custGeom>
            <a:avLst/>
            <a:gdLst>
              <a:gd name="textAreaLeft" fmla="*/ 360 w 11160"/>
              <a:gd name="textAreaRight" fmla="*/ 10800 w 11160"/>
              <a:gd name="textAreaTop" fmla="*/ 360 h 182520"/>
              <a:gd name="textAreaBottom" fmla="*/ 182160 h 182520"/>
            </a:gdLst>
            <a:ahLst/>
            <a:rect l="textAreaLeft" t="textAreaTop" r="textAreaRight" b="textAreaBottom"/>
            <a:pathLst>
              <a:path w="21600" h="342900">
                <a:moveTo>
                  <a:pt x="2699" y="0"/>
                </a:moveTo>
                <a:arcTo wR="2699" hR="2699" stAng="16200000" swAng="-5400000"/>
                <a:lnTo>
                  <a:pt x="0" y="340201"/>
                </a:lnTo>
                <a:arcTo wR="2699" hR="2699" stAng="10800000" swAng="-5400000"/>
                <a:lnTo>
                  <a:pt x="18901" y="342900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6673680" y="2716200"/>
            <a:ext cx="11160" cy="184320"/>
          </a:xfrm>
          <a:custGeom>
            <a:avLst/>
            <a:gdLst>
              <a:gd name="textAreaLeft" fmla="*/ 360 w 11160"/>
              <a:gd name="textAreaRight" fmla="*/ 10800 w 11160"/>
              <a:gd name="textAreaTop" fmla="*/ 360 h 184320"/>
              <a:gd name="textAreaBottom" fmla="*/ 183960 h 184320"/>
            </a:gdLst>
            <a:ahLst/>
            <a:rect l="textAreaLeft" t="textAreaTop" r="textAreaRight" b="textAreaBottom"/>
            <a:pathLst>
              <a:path w="21600" h="346275">
                <a:moveTo>
                  <a:pt x="2699" y="0"/>
                </a:moveTo>
                <a:arcTo wR="2699" hR="2699" stAng="16200000" swAng="-5400000"/>
                <a:lnTo>
                  <a:pt x="0" y="343576"/>
                </a:lnTo>
                <a:arcTo wR="2699" hR="2699" stAng="10800000" swAng="-5400000"/>
                <a:lnTo>
                  <a:pt x="18901" y="346275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6724800" y="3782880"/>
            <a:ext cx="10800" cy="184320"/>
          </a:xfrm>
          <a:custGeom>
            <a:avLst/>
            <a:gdLst>
              <a:gd name="textAreaLeft" fmla="*/ 360 w 10800"/>
              <a:gd name="textAreaRight" fmla="*/ 10440 w 10800"/>
              <a:gd name="textAreaTop" fmla="*/ 360 h 184320"/>
              <a:gd name="textAreaBottom" fmla="*/ 183960 h 184320"/>
            </a:gdLst>
            <a:ahLst/>
            <a:rect l="textAreaLeft" t="textAreaTop" r="textAreaRight" b="textAreaBottom"/>
            <a:pathLst>
              <a:path w="21600" h="357445">
                <a:moveTo>
                  <a:pt x="2699" y="0"/>
                </a:moveTo>
                <a:arcTo wR="2699" hR="2699" stAng="16200000" swAng="-5400000"/>
                <a:lnTo>
                  <a:pt x="0" y="354746"/>
                </a:lnTo>
                <a:arcTo wR="2699" hR="2699" stAng="10800000" swAng="-5400000"/>
                <a:lnTo>
                  <a:pt x="18901" y="357445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EC988-704B-482B-B774-AF6F8566E0DC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Motivation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38044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Cost and efficienci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01560" indent="-23148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Switching waves cheaper than switching packet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01560" indent="-23148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Eliminates costly O/E/O conversion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01560" indent="-23148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Eliminates and consolidates equipment and simplifies network infrastructure 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77560" indent="-2775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Flexibility and Managemen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01560" indent="-23148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“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Just-in-time” point-and-click service provisioning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01560" indent="-231480">
              <a:spcBef>
                <a:spcPts val="550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굴림"/>
              </a:rPr>
              <a:t>Traffic engineering at the wave level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277560" indent="-2775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Revenue Opportuniti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Fast provisioned Wave service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OC-N private line service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IP services through backbone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Scaled services: protected, unprotected, ...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EAA70-5B3C-4F91-B8C2-B0A544799F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2" name=""/>
          <p:cNvGrpSpPr/>
          <p:nvPr/>
        </p:nvGrpSpPr>
        <p:grpSpPr>
          <a:xfrm>
            <a:off x="685800" y="1371600"/>
            <a:ext cx="7778880" cy="5230800"/>
            <a:chOff x="685800" y="1371600"/>
            <a:chExt cx="7778880" cy="5230800"/>
          </a:xfrm>
        </p:grpSpPr>
        <p:sp>
          <p:nvSpPr>
            <p:cNvPr id="2673" name=""/>
            <p:cNvSpPr/>
            <p:nvPr/>
          </p:nvSpPr>
          <p:spPr>
            <a:xfrm>
              <a:off x="685800" y="1371600"/>
              <a:ext cx="7778880" cy="523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4" name=""/>
            <p:cNvGrpSpPr/>
            <p:nvPr/>
          </p:nvGrpSpPr>
          <p:grpSpPr>
            <a:xfrm>
              <a:off x="5452200" y="1550520"/>
              <a:ext cx="2179080" cy="1650960"/>
              <a:chOff x="5452200" y="1550520"/>
              <a:chExt cx="2179080" cy="1650960"/>
            </a:xfrm>
          </p:grpSpPr>
          <p:grpSp>
            <p:nvGrpSpPr>
              <p:cNvPr id="2675" name=""/>
              <p:cNvGrpSpPr/>
              <p:nvPr/>
            </p:nvGrpSpPr>
            <p:grpSpPr>
              <a:xfrm>
                <a:off x="5592960" y="1550520"/>
                <a:ext cx="2023200" cy="1650960"/>
                <a:chOff x="5592960" y="1550520"/>
                <a:chExt cx="2023200" cy="1650960"/>
              </a:xfrm>
            </p:grpSpPr>
            <p:sp>
              <p:nvSpPr>
                <p:cNvPr id="2676" name=""/>
                <p:cNvSpPr/>
                <p:nvPr/>
              </p:nvSpPr>
              <p:spPr>
                <a:xfrm>
                  <a:off x="6010560" y="1550520"/>
                  <a:ext cx="1020960" cy="1650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5613840" y="2935800"/>
                  <a:ext cx="2002320" cy="0"/>
                </a:xfrm>
                <a:prstGeom prst="line">
                  <a:avLst/>
                </a:prstGeom>
                <a:ln w="25560">
                  <a:solidFill>
                    <a:srgbClr val="cc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5592960" y="2394000"/>
                  <a:ext cx="2001960" cy="0"/>
                </a:xfrm>
                <a:prstGeom prst="line">
                  <a:avLst/>
                </a:prstGeom>
                <a:ln w="25560">
                  <a:solidFill>
                    <a:srgbClr val="cc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5613840" y="1850760"/>
                  <a:ext cx="2002320" cy="0"/>
                </a:xfrm>
                <a:prstGeom prst="line">
                  <a:avLst/>
                </a:prstGeom>
                <a:ln w="25560">
                  <a:solidFill>
                    <a:srgbClr val="cc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0" name=""/>
              <p:cNvSpPr/>
              <p:nvPr/>
            </p:nvSpPr>
            <p:spPr>
              <a:xfrm flipV="1">
                <a:off x="7064280" y="2976120"/>
                <a:ext cx="554400" cy="334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074360" y="2433240"/>
                <a:ext cx="523440" cy="122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053120" y="1902240"/>
                <a:ext cx="5655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5463000" y="2987640"/>
                <a:ext cx="5558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5473080" y="2421720"/>
                <a:ext cx="5461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5452200" y="1889640"/>
                <a:ext cx="5670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6030720" y="1889640"/>
                <a:ext cx="1020960" cy="5320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6019200" y="2444400"/>
                <a:ext cx="1063080" cy="5432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 flipV="1">
                <a:off x="6030720" y="1890720"/>
                <a:ext cx="1000080" cy="11077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V="1">
                <a:off x="7075440" y="3015720"/>
                <a:ext cx="555840" cy="3312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086600" y="2472120"/>
                <a:ext cx="523800" cy="1260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064280" y="1941480"/>
                <a:ext cx="56700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5474160" y="3026880"/>
                <a:ext cx="55620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5485680" y="2460960"/>
                <a:ext cx="54468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5464800" y="1928880"/>
                <a:ext cx="56556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6041520" y="1928880"/>
                <a:ext cx="1011240" cy="108648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 flipV="1">
                <a:off x="6041520" y="1929960"/>
                <a:ext cx="1011240" cy="54180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V="1">
                <a:off x="6041520" y="2460960"/>
                <a:ext cx="1000080" cy="57672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8" name=""/>
            <p:cNvSpPr/>
            <p:nvPr/>
          </p:nvSpPr>
          <p:spPr>
            <a:xfrm>
              <a:off x="5498280" y="3362400"/>
              <a:ext cx="22266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VELENGTH 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PASSIV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9" name=""/>
            <p:cNvGrpSpPr/>
            <p:nvPr/>
          </p:nvGrpSpPr>
          <p:grpSpPr>
            <a:xfrm>
              <a:off x="1786680" y="1645200"/>
              <a:ext cx="1881360" cy="2015640"/>
              <a:chOff x="1786680" y="1645200"/>
              <a:chExt cx="1881360" cy="2015640"/>
            </a:xfrm>
          </p:grpSpPr>
          <p:sp>
            <p:nvSpPr>
              <p:cNvPr id="2700" name=""/>
              <p:cNvSpPr/>
              <p:nvPr/>
            </p:nvSpPr>
            <p:spPr>
              <a:xfrm>
                <a:off x="2518920" y="1930320"/>
                <a:ext cx="390960" cy="390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1920960" y="1667520"/>
                <a:ext cx="782280" cy="40500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1786680" y="2125800"/>
                <a:ext cx="908280" cy="792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1855800" y="3145680"/>
                <a:ext cx="181224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ROADCAST ST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(PASSIVE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1794960" y="2167920"/>
                <a:ext cx="8910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1971000" y="2206440"/>
                <a:ext cx="656640" cy="357480"/>
              </a:xfrm>
              <a:prstGeom prst="line">
                <a:avLst/>
              </a:prstGeom>
              <a:ln w="25560">
                <a:solidFill>
                  <a:srgbClr val="f95a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 flipV="1">
                <a:off x="2717280" y="1645200"/>
                <a:ext cx="518040" cy="44100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2717280" y="2117520"/>
                <a:ext cx="681840" cy="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2725560" y="2095200"/>
                <a:ext cx="501480" cy="49284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V="1">
                <a:off x="2717280" y="1670040"/>
                <a:ext cx="534960" cy="47484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2717280" y="2142720"/>
                <a:ext cx="677520" cy="792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2729880" y="2149560"/>
                <a:ext cx="467640" cy="45936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V="1">
                <a:off x="2717280" y="1712160"/>
                <a:ext cx="531000" cy="483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2725560" y="2176200"/>
                <a:ext cx="673200" cy="165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2733840" y="2195640"/>
                <a:ext cx="459720" cy="4636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2641680" y="1749600"/>
                <a:ext cx="614520" cy="479160"/>
              </a:xfrm>
              <a:prstGeom prst="line">
                <a:avLst/>
              </a:prstGeom>
              <a:ln w="25560">
                <a:solidFill>
                  <a:srgbClr val="f95a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2666880" y="2220840"/>
                <a:ext cx="723960" cy="2520"/>
              </a:xfrm>
              <a:prstGeom prst="line">
                <a:avLst/>
              </a:prstGeom>
              <a:ln w="25560">
                <a:solidFill>
                  <a:srgbClr val="f95a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2712960" y="2225160"/>
                <a:ext cx="446760" cy="446760"/>
              </a:xfrm>
              <a:prstGeom prst="line">
                <a:avLst/>
              </a:prstGeom>
              <a:ln w="25560">
                <a:solidFill>
                  <a:srgbClr val="f95a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8" name=""/>
            <p:cNvGrpSpPr/>
            <p:nvPr/>
          </p:nvGrpSpPr>
          <p:grpSpPr>
            <a:xfrm>
              <a:off x="1379880" y="3908520"/>
              <a:ext cx="2904840" cy="1836000"/>
              <a:chOff x="1379880" y="3908520"/>
              <a:chExt cx="2904840" cy="1836000"/>
            </a:xfrm>
          </p:grpSpPr>
          <p:sp>
            <p:nvSpPr>
              <p:cNvPr id="2719" name=""/>
              <p:cNvSpPr/>
              <p:nvPr/>
            </p:nvSpPr>
            <p:spPr>
              <a:xfrm>
                <a:off x="2230920" y="3908520"/>
                <a:ext cx="860760" cy="140544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H="1">
                <a:off x="3450600" y="5540400"/>
                <a:ext cx="451440" cy="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 flipH="1">
                <a:off x="3377880" y="5455080"/>
                <a:ext cx="45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>
                <a:off x="3305160" y="5368680"/>
                <a:ext cx="45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 flipH="1">
                <a:off x="3233880" y="5281920"/>
                <a:ext cx="449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3161520" y="5196600"/>
                <a:ext cx="45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H="1">
                <a:off x="3089880" y="5111280"/>
                <a:ext cx="449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3906360" y="5255280"/>
                <a:ext cx="216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>
                <a:off x="3369600" y="5062680"/>
                <a:ext cx="45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 flipH="1">
                <a:off x="3296520" y="4977360"/>
                <a:ext cx="449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3224160" y="4890600"/>
                <a:ext cx="45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H="1">
                <a:off x="3152880" y="4804200"/>
                <a:ext cx="449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 flipH="1">
                <a:off x="3080160" y="4718880"/>
                <a:ext cx="45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3896640" y="4864320"/>
                <a:ext cx="217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 flipH="1">
                <a:off x="3291480" y="4671360"/>
                <a:ext cx="45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3219840" y="4584600"/>
                <a:ext cx="45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H="1">
                <a:off x="3147480" y="4497840"/>
                <a:ext cx="45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flipH="1">
                <a:off x="3076200" y="4412880"/>
                <a:ext cx="45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892320" y="4556880"/>
                <a:ext cx="217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 flipH="1">
                <a:off x="3377880" y="4365360"/>
                <a:ext cx="45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3305160" y="4278600"/>
                <a:ext cx="45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H="1">
                <a:off x="3233880" y="4192200"/>
                <a:ext cx="449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 flipH="1">
                <a:off x="3161520" y="4106880"/>
                <a:ext cx="451440" cy="0"/>
              </a:xfrm>
              <a:prstGeom prst="line">
                <a:avLst/>
              </a:prstGeom>
              <a:ln w="2556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>
                <a:off x="3089880" y="4020120"/>
                <a:ext cx="449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3906360" y="4165560"/>
                <a:ext cx="216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2303640" y="3993480"/>
                <a:ext cx="858960" cy="1406880"/>
              </a:xfrm>
              <a:prstGeom prst="rect">
                <a:avLst/>
              </a:prstGeom>
              <a:solidFill>
                <a:srgbClr val="c1ce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2374920" y="4080240"/>
                <a:ext cx="858960" cy="1406520"/>
              </a:xfrm>
              <a:prstGeom prst="rect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2447640" y="4165560"/>
                <a:ext cx="858960" cy="1406520"/>
              </a:xfrm>
              <a:prstGeom prst="rect">
                <a:avLst/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2518920" y="4251960"/>
                <a:ext cx="858960" cy="1406880"/>
              </a:xfrm>
              <a:prstGeom prst="rect">
                <a:avLst/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2593080" y="4339080"/>
                <a:ext cx="858960" cy="14054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1809000" y="4053600"/>
                <a:ext cx="405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1880280" y="4138920"/>
                <a:ext cx="406440" cy="0"/>
              </a:xfrm>
              <a:prstGeom prst="line">
                <a:avLst/>
              </a:prstGeom>
              <a:ln w="2556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1953000" y="4224240"/>
                <a:ext cx="405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2024280" y="4312440"/>
                <a:ext cx="406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096640" y="4397400"/>
                <a:ext cx="405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2169360" y="4482720"/>
                <a:ext cx="406800" cy="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H="1">
                <a:off x="1497240" y="4339080"/>
                <a:ext cx="352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1817280" y="4444920"/>
                <a:ext cx="406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1890360" y="4530240"/>
                <a:ext cx="40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1961280" y="4616640"/>
                <a:ext cx="40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2034000" y="4703760"/>
                <a:ext cx="405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2105280" y="4788720"/>
                <a:ext cx="406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2178000" y="4875480"/>
                <a:ext cx="406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>
                <a:off x="1506960" y="4730040"/>
                <a:ext cx="3506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1823040" y="4750920"/>
                <a:ext cx="405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1894320" y="4835880"/>
                <a:ext cx="406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1967040" y="4923000"/>
                <a:ext cx="405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2038320" y="5007960"/>
                <a:ext cx="406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2110680" y="5094720"/>
                <a:ext cx="405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2181960" y="5181480"/>
                <a:ext cx="406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1511280" y="5036040"/>
                <a:ext cx="3506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1809000" y="5143680"/>
                <a:ext cx="405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1880280" y="5229000"/>
                <a:ext cx="406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1953000" y="5313960"/>
                <a:ext cx="405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2024280" y="5401800"/>
                <a:ext cx="406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3506760" y="4392000"/>
                <a:ext cx="456840" cy="458280"/>
              </a:xfrm>
              <a:custGeom>
                <a:avLst/>
                <a:gdLst/>
                <a:ahLst/>
                <a:rect l="l" t="t" r="r" b="b"/>
                <a:pathLst>
                  <a:path w="327" h="328">
                    <a:moveTo>
                      <a:pt x="0" y="0"/>
                    </a:moveTo>
                    <a:lnTo>
                      <a:pt x="272" y="327"/>
                    </a:lnTo>
                    <a:lnTo>
                      <a:pt x="326" y="232"/>
                    </a:lnTo>
                    <a:lnTo>
                      <a:pt x="156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2096640" y="5487120"/>
                <a:ext cx="405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2169360" y="5572440"/>
                <a:ext cx="406800" cy="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>
                <a:off x="1497240" y="5428440"/>
                <a:ext cx="352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1716840" y="4053600"/>
                <a:ext cx="448200" cy="435960"/>
              </a:xfrm>
              <a:custGeom>
                <a:avLst/>
                <a:gdLst/>
                <a:ahLst/>
                <a:rect l="l" t="t" r="r" b="b"/>
                <a:pathLst>
                  <a:path w="321" h="312">
                    <a:moveTo>
                      <a:pt x="58" y="0"/>
                    </a:moveTo>
                    <a:lnTo>
                      <a:pt x="0" y="123"/>
                    </a:lnTo>
                    <a:lnTo>
                      <a:pt x="129" y="280"/>
                    </a:lnTo>
                    <a:lnTo>
                      <a:pt x="320" y="311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80808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1716840" y="4444920"/>
                <a:ext cx="448200" cy="437040"/>
              </a:xfrm>
              <a:custGeom>
                <a:avLst/>
                <a:gdLst/>
                <a:ahLst/>
                <a:rect l="l" t="t" r="r" b="b"/>
                <a:pathLst>
                  <a:path w="321" h="313">
                    <a:moveTo>
                      <a:pt x="58" y="0"/>
                    </a:moveTo>
                    <a:lnTo>
                      <a:pt x="0" y="123"/>
                    </a:lnTo>
                    <a:lnTo>
                      <a:pt x="129" y="281"/>
                    </a:lnTo>
                    <a:lnTo>
                      <a:pt x="320" y="31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80808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1725120" y="4756680"/>
                <a:ext cx="446760" cy="435960"/>
              </a:xfrm>
              <a:custGeom>
                <a:avLst/>
                <a:gdLst/>
                <a:ahLst/>
                <a:rect l="l" t="t" r="r" b="b"/>
                <a:pathLst>
                  <a:path w="320" h="312">
                    <a:moveTo>
                      <a:pt x="58" y="0"/>
                    </a:moveTo>
                    <a:lnTo>
                      <a:pt x="0" y="123"/>
                    </a:lnTo>
                    <a:lnTo>
                      <a:pt x="129" y="280"/>
                    </a:lnTo>
                    <a:lnTo>
                      <a:pt x="319" y="311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80808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3529080" y="4707720"/>
                <a:ext cx="458280" cy="457920"/>
              </a:xfrm>
              <a:custGeom>
                <a:avLst/>
                <a:gdLst/>
                <a:ahLst/>
                <a:rect l="l" t="t" r="r" b="b"/>
                <a:pathLst>
                  <a:path w="328" h="328">
                    <a:moveTo>
                      <a:pt x="0" y="0"/>
                    </a:moveTo>
                    <a:lnTo>
                      <a:pt x="273" y="327"/>
                    </a:lnTo>
                    <a:lnTo>
                      <a:pt x="327" y="232"/>
                    </a:lnTo>
                    <a:lnTo>
                      <a:pt x="157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1721160" y="5137920"/>
                <a:ext cx="446760" cy="435960"/>
              </a:xfrm>
              <a:custGeom>
                <a:avLst/>
                <a:gdLst/>
                <a:ahLst/>
                <a:rect l="l" t="t" r="r" b="b"/>
                <a:pathLst>
                  <a:path w="320" h="312">
                    <a:moveTo>
                      <a:pt x="58" y="0"/>
                    </a:moveTo>
                    <a:lnTo>
                      <a:pt x="0" y="123"/>
                    </a:lnTo>
                    <a:lnTo>
                      <a:pt x="129" y="280"/>
                    </a:lnTo>
                    <a:lnTo>
                      <a:pt x="319" y="311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80808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3529080" y="4005000"/>
                <a:ext cx="458280" cy="457920"/>
              </a:xfrm>
              <a:custGeom>
                <a:avLst/>
                <a:gdLst/>
                <a:ahLst/>
                <a:rect l="l" t="t" r="r" b="b"/>
                <a:pathLst>
                  <a:path w="328" h="328">
                    <a:moveTo>
                      <a:pt x="0" y="0"/>
                    </a:moveTo>
                    <a:lnTo>
                      <a:pt x="273" y="327"/>
                    </a:lnTo>
                    <a:lnTo>
                      <a:pt x="327" y="232"/>
                    </a:lnTo>
                    <a:lnTo>
                      <a:pt x="157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3529080" y="5089320"/>
                <a:ext cx="458280" cy="457920"/>
              </a:xfrm>
              <a:custGeom>
                <a:avLst/>
                <a:gdLst/>
                <a:ahLst/>
                <a:rect l="l" t="t" r="r" b="b"/>
                <a:pathLst>
                  <a:path w="328" h="328">
                    <a:moveTo>
                      <a:pt x="0" y="0"/>
                    </a:moveTo>
                    <a:lnTo>
                      <a:pt x="273" y="327"/>
                    </a:lnTo>
                    <a:lnTo>
                      <a:pt x="327" y="232"/>
                    </a:lnTo>
                    <a:lnTo>
                      <a:pt x="157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H="1">
                <a:off x="3446640" y="4461840"/>
                <a:ext cx="481680" cy="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 flipH="1">
                <a:off x="3450600" y="4756680"/>
                <a:ext cx="35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 flipH="1">
                <a:off x="3441960" y="4843080"/>
                <a:ext cx="449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 flipH="1">
                <a:off x="3436200" y="5143680"/>
                <a:ext cx="45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2602440" y="4499640"/>
                <a:ext cx="839880" cy="102960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1827000" y="4354200"/>
                <a:ext cx="336600" cy="11736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 flipH="1">
                <a:off x="1387800" y="4348440"/>
                <a:ext cx="434520" cy="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3878280" y="5277600"/>
                <a:ext cx="15120" cy="25128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3883680" y="5266440"/>
                <a:ext cx="401040" cy="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 flipH="1">
                <a:off x="1379880" y="4322160"/>
                <a:ext cx="433080" cy="0"/>
              </a:xfrm>
              <a:prstGeom prst="line">
                <a:avLst/>
              </a:prstGeom>
              <a:ln w="2556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 flipV="1">
                <a:off x="1813320" y="4122360"/>
                <a:ext cx="44640" cy="205200"/>
              </a:xfrm>
              <a:prstGeom prst="line">
                <a:avLst/>
              </a:prstGeom>
              <a:ln w="2556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3627000" y="4118040"/>
                <a:ext cx="234720" cy="30600"/>
              </a:xfrm>
              <a:prstGeom prst="line">
                <a:avLst/>
              </a:prstGeom>
              <a:ln w="2556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3878280" y="4155840"/>
                <a:ext cx="339120" cy="0"/>
              </a:xfrm>
              <a:prstGeom prst="line">
                <a:avLst/>
              </a:prstGeom>
              <a:ln w="2556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flipV="1">
                <a:off x="2602440" y="4449960"/>
                <a:ext cx="839880" cy="113868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3878280" y="4193640"/>
                <a:ext cx="21960" cy="25128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3878280" y="4176720"/>
                <a:ext cx="339120" cy="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1835640" y="5460840"/>
                <a:ext cx="327960" cy="10008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1523880" y="5449320"/>
                <a:ext cx="293400" cy="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3" name=""/>
            <p:cNvSpPr/>
            <p:nvPr/>
          </p:nvSpPr>
          <p:spPr>
            <a:xfrm>
              <a:off x="1231200" y="5864760"/>
              <a:ext cx="31287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EQUENCY SELECTIVE SWITCH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CONFIGURAB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4" name=""/>
            <p:cNvGrpSpPr/>
            <p:nvPr/>
          </p:nvGrpSpPr>
          <p:grpSpPr>
            <a:xfrm>
              <a:off x="5021640" y="3939480"/>
              <a:ext cx="2918520" cy="1728000"/>
              <a:chOff x="5021640" y="3939480"/>
              <a:chExt cx="2918520" cy="1728000"/>
            </a:xfrm>
          </p:grpSpPr>
          <p:sp>
            <p:nvSpPr>
              <p:cNvPr id="2805" name=""/>
              <p:cNvSpPr/>
              <p:nvPr/>
            </p:nvSpPr>
            <p:spPr>
              <a:xfrm>
                <a:off x="5976000" y="3939480"/>
                <a:ext cx="361800" cy="1728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5021640" y="4221720"/>
                <a:ext cx="441360" cy="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 flipV="1">
                <a:off x="5021640" y="4793040"/>
                <a:ext cx="44136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5026680" y="5380920"/>
                <a:ext cx="430560" cy="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 flipH="1" flipV="1" rot="16200000">
                <a:off x="5263200" y="4177080"/>
                <a:ext cx="511200" cy="92160"/>
              </a:xfrm>
              <a:custGeom>
                <a:avLst/>
                <a:gdLst>
                  <a:gd name="textAreaLeft" fmla="*/ 112320 w 511200"/>
                  <a:gd name="textAreaRight" fmla="*/ 398880 w 511200"/>
                  <a:gd name="textAreaTop" fmla="*/ 20160 h 92160"/>
                  <a:gd name="textAreaBottom" fmla="*/ 72000 h 9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 flipH="1" flipV="1" rot="16200000">
                <a:off x="5263200" y="4756680"/>
                <a:ext cx="511200" cy="92160"/>
              </a:xfrm>
              <a:custGeom>
                <a:avLst/>
                <a:gdLst>
                  <a:gd name="textAreaLeft" fmla="*/ 112320 w 511200"/>
                  <a:gd name="textAreaRight" fmla="*/ 398880 w 511200"/>
                  <a:gd name="textAreaTop" fmla="*/ 20160 h 92160"/>
                  <a:gd name="textAreaBottom" fmla="*/ 72000 h 9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 flipH="1" flipV="1" rot="16200000">
                <a:off x="5263200" y="5336280"/>
                <a:ext cx="511200" cy="92160"/>
              </a:xfrm>
              <a:custGeom>
                <a:avLst/>
                <a:gdLst>
                  <a:gd name="textAreaLeft" fmla="*/ 112320 w 511200"/>
                  <a:gd name="textAreaRight" fmla="*/ 398880 w 511200"/>
                  <a:gd name="textAreaTop" fmla="*/ 20160 h 92160"/>
                  <a:gd name="textAreaBottom" fmla="*/ 72000 h 9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5582880" y="4045680"/>
                <a:ext cx="375840" cy="108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 flipV="1">
                <a:off x="5585760" y="4144680"/>
                <a:ext cx="375480" cy="2628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5582880" y="4274640"/>
                <a:ext cx="3884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 flipV="1">
                <a:off x="5587200" y="4385160"/>
                <a:ext cx="37980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582880" y="4623840"/>
                <a:ext cx="39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 flipV="1">
                <a:off x="5582880" y="4728600"/>
                <a:ext cx="39276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5570640" y="4851720"/>
                <a:ext cx="4093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582880" y="4967640"/>
                <a:ext cx="3927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585760" y="5200560"/>
                <a:ext cx="377280" cy="432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 flipV="1">
                <a:off x="5582880" y="5309280"/>
                <a:ext cx="38700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5587200" y="5432760"/>
                <a:ext cx="38664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 flipV="1">
                <a:off x="5590080" y="5540400"/>
                <a:ext cx="38016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6337800" y="4045680"/>
                <a:ext cx="3884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 flipV="1">
                <a:off x="6343200" y="4150080"/>
                <a:ext cx="38412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6351480" y="4274640"/>
                <a:ext cx="375480" cy="50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V="1">
                <a:off x="6348960" y="4385160"/>
                <a:ext cx="37836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6351480" y="4623840"/>
                <a:ext cx="376920" cy="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V="1">
                <a:off x="6346080" y="4728600"/>
                <a:ext cx="38952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 flipV="1">
                <a:off x="6338880" y="4845600"/>
                <a:ext cx="398160" cy="2628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6346080" y="4967640"/>
                <a:ext cx="3895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6343200" y="5200560"/>
                <a:ext cx="38412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V="1">
                <a:off x="6346080" y="5309280"/>
                <a:ext cx="38700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6348960" y="5432760"/>
                <a:ext cx="38664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 flipV="1">
                <a:off x="6352920" y="5540400"/>
                <a:ext cx="380160" cy="1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6" name=""/>
              <p:cNvGrpSpPr/>
              <p:nvPr/>
            </p:nvGrpSpPr>
            <p:grpSpPr>
              <a:xfrm>
                <a:off x="6744240" y="3995280"/>
                <a:ext cx="98640" cy="433800"/>
                <a:chOff x="6744240" y="3995280"/>
                <a:chExt cx="98640" cy="433800"/>
              </a:xfrm>
            </p:grpSpPr>
            <p:sp>
              <p:nvSpPr>
                <p:cNvPr id="2837" name=""/>
                <p:cNvSpPr/>
                <p:nvPr/>
              </p:nvSpPr>
              <p:spPr>
                <a:xfrm>
                  <a:off x="6744240" y="3995280"/>
                  <a:ext cx="86040" cy="864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>
                  <a:off x="6753960" y="4119120"/>
                  <a:ext cx="84960" cy="878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6756840" y="4226760"/>
                  <a:ext cx="86040" cy="864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>
                  <a:off x="6753960" y="4345560"/>
                  <a:ext cx="83520" cy="835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1" name=""/>
              <p:cNvGrpSpPr/>
              <p:nvPr/>
            </p:nvGrpSpPr>
            <p:grpSpPr>
              <a:xfrm>
                <a:off x="6738480" y="4582080"/>
                <a:ext cx="98640" cy="435240"/>
                <a:chOff x="6738480" y="4582080"/>
                <a:chExt cx="98640" cy="435240"/>
              </a:xfrm>
            </p:grpSpPr>
            <p:sp>
              <p:nvSpPr>
                <p:cNvPr id="2842" name=""/>
                <p:cNvSpPr/>
                <p:nvPr/>
              </p:nvSpPr>
              <p:spPr>
                <a:xfrm>
                  <a:off x="6738480" y="4582080"/>
                  <a:ext cx="86400" cy="864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>
                  <a:off x="6749640" y="4703400"/>
                  <a:ext cx="86040" cy="874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>
                  <a:off x="6751080" y="4815000"/>
                  <a:ext cx="86040" cy="820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6746760" y="4929480"/>
                  <a:ext cx="86040" cy="878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6" name=""/>
              <p:cNvGrpSpPr/>
              <p:nvPr/>
            </p:nvGrpSpPr>
            <p:grpSpPr>
              <a:xfrm>
                <a:off x="6741360" y="5136840"/>
                <a:ext cx="97560" cy="432360"/>
                <a:chOff x="6741360" y="5136840"/>
                <a:chExt cx="97560" cy="432360"/>
              </a:xfrm>
            </p:grpSpPr>
            <p:sp>
              <p:nvSpPr>
                <p:cNvPr id="2847" name=""/>
                <p:cNvSpPr/>
                <p:nvPr/>
              </p:nvSpPr>
              <p:spPr>
                <a:xfrm>
                  <a:off x="6741360" y="5136840"/>
                  <a:ext cx="87480" cy="864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6751080" y="5259600"/>
                  <a:ext cx="86040" cy="874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6753960" y="5368320"/>
                  <a:ext cx="84960" cy="864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>
                  <a:off x="6751080" y="5482800"/>
                  <a:ext cx="84960" cy="864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51" name=""/>
              <p:cNvSpPr/>
              <p:nvPr/>
            </p:nvSpPr>
            <p:spPr>
              <a:xfrm>
                <a:off x="7384320" y="4220280"/>
                <a:ext cx="551520" cy="0"/>
              </a:xfrm>
              <a:prstGeom prst="line">
                <a:avLst/>
              </a:prstGeom>
              <a:ln w="2556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 flipV="1">
                <a:off x="7378560" y="4791240"/>
                <a:ext cx="525240" cy="23400"/>
              </a:xfrm>
              <a:prstGeom prst="line">
                <a:avLst/>
              </a:prstGeom>
              <a:ln w="2556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7377120" y="5364360"/>
                <a:ext cx="56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 flipV="1" rot="5400000">
                <a:off x="7055640" y="4165920"/>
                <a:ext cx="511200" cy="95040"/>
              </a:xfrm>
              <a:custGeom>
                <a:avLst/>
                <a:gdLst>
                  <a:gd name="textAreaLeft" fmla="*/ 112320 w 511200"/>
                  <a:gd name="textAreaRight" fmla="*/ 398880 w 511200"/>
                  <a:gd name="textAreaTop" fmla="*/ 20880 h 95040"/>
                  <a:gd name="textAreaBottom" fmla="*/ 74160 h 9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 flipV="1" rot="5400000">
                <a:off x="7057080" y="4745160"/>
                <a:ext cx="508320" cy="95040"/>
              </a:xfrm>
              <a:custGeom>
                <a:avLst/>
                <a:gdLst>
                  <a:gd name="textAreaLeft" fmla="*/ 111600 w 508320"/>
                  <a:gd name="textAreaRight" fmla="*/ 396720 w 508320"/>
                  <a:gd name="textAreaTop" fmla="*/ 20880 h 95040"/>
                  <a:gd name="textAreaBottom" fmla="*/ 74160 h 9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 flipV="1" rot="5400000">
                <a:off x="7057080" y="5325120"/>
                <a:ext cx="508320" cy="95040"/>
              </a:xfrm>
              <a:custGeom>
                <a:avLst/>
                <a:gdLst>
                  <a:gd name="textAreaLeft" fmla="*/ 111600 w 508320"/>
                  <a:gd name="textAreaRight" fmla="*/ 396720 w 508320"/>
                  <a:gd name="textAreaTop" fmla="*/ 20880 h 95040"/>
                  <a:gd name="textAreaBottom" fmla="*/ 74160 h 9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 flipH="1">
                <a:off x="6856200" y="4037040"/>
                <a:ext cx="40752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 flipH="1" flipV="1">
                <a:off x="6854040" y="4145040"/>
                <a:ext cx="40788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 flipH="1">
                <a:off x="6841800" y="4267800"/>
                <a:ext cx="421560" cy="5040"/>
              </a:xfrm>
              <a:prstGeom prst="line">
                <a:avLst/>
              </a:prstGeom>
              <a:ln w="2556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H="1" flipV="1">
                <a:off x="6854040" y="4376880"/>
                <a:ext cx="40212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H="1">
                <a:off x="6840360" y="4617000"/>
                <a:ext cx="423000" cy="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H="1">
                <a:off x="6844320" y="4728600"/>
                <a:ext cx="41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 flipH="1" flipV="1">
                <a:off x="6833160" y="4838760"/>
                <a:ext cx="443880" cy="23400"/>
              </a:xfrm>
              <a:prstGeom prst="line">
                <a:avLst/>
              </a:prstGeom>
              <a:ln w="2556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H="1">
                <a:off x="6844320" y="4956480"/>
                <a:ext cx="413640" cy="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 flipH="1">
                <a:off x="6852960" y="5192640"/>
                <a:ext cx="409320" cy="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flipH="1" flipV="1">
                <a:off x="6850080" y="5299560"/>
                <a:ext cx="4078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flipH="1">
                <a:off x="6846120" y="5423040"/>
                <a:ext cx="4104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H="1" flipV="1">
                <a:off x="6850080" y="5531400"/>
                <a:ext cx="40212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5983920" y="4055400"/>
                <a:ext cx="333720" cy="81144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040720" y="4213440"/>
                <a:ext cx="423360" cy="684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 flipH="1">
                <a:off x="5464080" y="4055400"/>
                <a:ext cx="121320" cy="15336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 flipV="1">
                <a:off x="7276680" y="4798440"/>
                <a:ext cx="89280" cy="68400"/>
              </a:xfrm>
              <a:prstGeom prst="line">
                <a:avLst/>
              </a:prstGeom>
              <a:ln w="2556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 flipV="1">
                <a:off x="5486760" y="5195160"/>
                <a:ext cx="76680" cy="20376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V="1">
                <a:off x="5983920" y="4623480"/>
                <a:ext cx="354600" cy="59364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276680" y="4628160"/>
                <a:ext cx="83880" cy="14652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7382880" y="4770360"/>
                <a:ext cx="505440" cy="0"/>
              </a:xfrm>
              <a:prstGeom prst="line">
                <a:avLst/>
              </a:prstGeom>
              <a:ln w="255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5047920" y="4250880"/>
                <a:ext cx="416520" cy="1512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5486760" y="4155480"/>
                <a:ext cx="82080" cy="12852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5983920" y="4178160"/>
                <a:ext cx="354600" cy="8388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7268400" y="4216320"/>
                <a:ext cx="92160" cy="61200"/>
              </a:xfrm>
              <a:prstGeom prst="line">
                <a:avLst/>
              </a:prstGeom>
              <a:ln w="2556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1" name=""/>
            <p:cNvSpPr/>
            <p:nvPr/>
          </p:nvSpPr>
          <p:spPr>
            <a:xfrm>
              <a:off x="4976640" y="5803200"/>
              <a:ext cx="307872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EQUENCY SELECTIVE SWIT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TH WAVELENGTH CHANG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CONFIGURAB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Future Trend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Common All-Optical Node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C6EDE-C3B5-478E-B816-5CAE4765C68B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"/>
          <p:cNvSpPr/>
          <p:nvPr/>
        </p:nvSpPr>
        <p:spPr>
          <a:xfrm>
            <a:off x="457200" y="1279440"/>
            <a:ext cx="8153280" cy="527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839880" y="4391640"/>
            <a:ext cx="6110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work-Network Interfaces Between Subn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-use of waveleng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ependent management and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olving Wavelength Confli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udies have shown not much difference in rings, (none in some architectu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-40% reduction in capacity in common backbone mesh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ffic uncertainty exacerbates confli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ood algorithms can reduce confli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5" name=""/>
          <p:cNvGrpSpPr/>
          <p:nvPr/>
        </p:nvGrpSpPr>
        <p:grpSpPr>
          <a:xfrm>
            <a:off x="2209680" y="1676520"/>
            <a:ext cx="5311440" cy="2678040"/>
            <a:chOff x="2209680" y="1676520"/>
            <a:chExt cx="5311440" cy="2678040"/>
          </a:xfrm>
        </p:grpSpPr>
        <p:sp>
          <p:nvSpPr>
            <p:cNvPr id="2886" name=""/>
            <p:cNvSpPr/>
            <p:nvPr/>
          </p:nvSpPr>
          <p:spPr>
            <a:xfrm>
              <a:off x="2526840" y="2000520"/>
              <a:ext cx="430200" cy="31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3729960" y="2324520"/>
              <a:ext cx="369720" cy="26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5757840" y="3296880"/>
              <a:ext cx="369720" cy="265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869720" y="2787480"/>
              <a:ext cx="370080" cy="265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6074640" y="2508120"/>
              <a:ext cx="370080" cy="267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412800" y="3250440"/>
              <a:ext cx="370080" cy="265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7089480" y="3526560"/>
              <a:ext cx="431640" cy="31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2973960" y="2144520"/>
              <a:ext cx="738720" cy="253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117320" y="2514960"/>
              <a:ext cx="735120" cy="34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V="1">
              <a:off x="5252040" y="2680920"/>
              <a:ext cx="81216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5176800" y="2952000"/>
              <a:ext cx="606600" cy="38556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4110480" y="2415600"/>
              <a:ext cx="195372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>
              <a:off x="3655800" y="2602440"/>
              <a:ext cx="263880" cy="63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779640" y="3384360"/>
              <a:ext cx="195192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6144840" y="3486960"/>
              <a:ext cx="927360" cy="20736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6000840" y="2787480"/>
              <a:ext cx="265320" cy="49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2398320" y="2556360"/>
              <a:ext cx="431640" cy="30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476160" y="1676520"/>
              <a:ext cx="431640" cy="31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097800" y="3852000"/>
              <a:ext cx="431640" cy="31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2209680" y="3435480"/>
              <a:ext cx="432000" cy="31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6835680" y="1859760"/>
              <a:ext cx="433440" cy="31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6645600" y="4037400"/>
              <a:ext cx="431640" cy="31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729960" y="2000520"/>
              <a:ext cx="177840" cy="31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V="1">
              <a:off x="2842200" y="2544120"/>
              <a:ext cx="94068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V="1">
              <a:off x="2653920" y="3423240"/>
              <a:ext cx="74700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 flipV="1">
              <a:off x="3417840" y="3511080"/>
              <a:ext cx="106200" cy="34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 flipH="1">
              <a:off x="6316200" y="2045160"/>
              <a:ext cx="519120" cy="4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H="1">
              <a:off x="6445080" y="2643480"/>
              <a:ext cx="58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6081480" y="3533040"/>
              <a:ext cx="546840" cy="672120"/>
            </a:xfrm>
            <a:prstGeom prst="line">
              <a:avLst/>
            </a:prstGeom>
            <a:ln w="255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2560680" y="196776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123680" y="34938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 flipV="1">
              <a:off x="3784680" y="2974680"/>
              <a:ext cx="1292040" cy="352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5077080" y="2974680"/>
              <a:ext cx="654480" cy="423360"/>
            </a:xfrm>
            <a:prstGeom prst="line">
              <a:avLst/>
            </a:prstGeom>
            <a:ln w="255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4878360" y="2883600"/>
              <a:ext cx="275760" cy="547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 flipV="1">
              <a:off x="3546720" y="3322080"/>
              <a:ext cx="207360" cy="201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733560" y="2413800"/>
              <a:ext cx="344160" cy="716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5772960" y="3430440"/>
              <a:ext cx="284400" cy="88920"/>
            </a:xfrm>
            <a:prstGeom prst="line">
              <a:avLst/>
            </a:prstGeom>
            <a:ln w="255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5798520" y="3361680"/>
              <a:ext cx="361800" cy="106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200400" y="3828240"/>
              <a:ext cx="245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708240" y="399132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 flipV="1">
              <a:off x="2619000" y="3317040"/>
              <a:ext cx="954720" cy="27252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V="1">
              <a:off x="3574080" y="2633040"/>
              <a:ext cx="2594520" cy="68400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 flipV="1">
              <a:off x="6168960" y="2620800"/>
              <a:ext cx="877320" cy="1188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027560" y="2463120"/>
              <a:ext cx="431640" cy="31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2267640" y="337212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114680" y="241560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2" name=""/>
          <p:cNvSpPr/>
          <p:nvPr/>
        </p:nvSpPr>
        <p:spPr>
          <a:xfrm>
            <a:off x="53352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</a:rPr>
              <a:t>Future Trend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</a:rPr>
              <a:t>Wavelength Chan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9D73A-EA31-4032-8037-EC45196E12BB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Future Trends in Optical Networking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99956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Increasing capacity and distance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굴림"/>
              </a:rPr>
              <a:t>All-optical switching and routing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굴림"/>
              </a:rPr>
              <a:t>Architectur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E14E1-EF02-4AC7-A3BC-8208ED2A9F5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Future Trend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Architectures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8229600" cy="426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AON and MONET: All-optical end-to-end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AON: LAN, MAN, and WAN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MONET: WAN, MAN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ON-RAMP: Jointly designed electro-optic access network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Fiber to the mome and PON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Various architectures based on tree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Drive for low cost optic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All-optical BW Sharing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Synchronous and statistical multiplexing of wavelength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MAC protocols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a49788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Useful for LANs (e.g. RAINBOW) and access networks 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67B32-73B5-42B3-A1AB-F71AFD7D30A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6201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Future Trend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And One Day…..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8224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01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굴림"/>
              </a:rPr>
              <a:t>Optical Time Division Multiplexing (OTDM) Networks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939" name=""/>
          <p:cNvGrpSpPr/>
          <p:nvPr/>
        </p:nvGrpSpPr>
        <p:grpSpPr>
          <a:xfrm>
            <a:off x="990720" y="2971800"/>
            <a:ext cx="7315200" cy="3352320"/>
            <a:chOff x="990720" y="2971800"/>
            <a:chExt cx="7315200" cy="3352320"/>
          </a:xfrm>
        </p:grpSpPr>
        <p:sp>
          <p:nvSpPr>
            <p:cNvPr id="2940" name=""/>
            <p:cNvSpPr/>
            <p:nvPr/>
          </p:nvSpPr>
          <p:spPr>
            <a:xfrm>
              <a:off x="1067040" y="3047760"/>
              <a:ext cx="7596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1371600" y="3047760"/>
              <a:ext cx="763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1524240" y="3047760"/>
              <a:ext cx="7596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1828800" y="3047760"/>
              <a:ext cx="763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2133720" y="3047760"/>
              <a:ext cx="763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2286000" y="3047760"/>
              <a:ext cx="763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2438640" y="3047760"/>
              <a:ext cx="7596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2590920" y="3047760"/>
              <a:ext cx="763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2895840" y="3047760"/>
              <a:ext cx="7596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048120" y="3047760"/>
              <a:ext cx="763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353040" y="3047760"/>
              <a:ext cx="7596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990720" y="3352680"/>
              <a:ext cx="2895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886200" y="2971800"/>
              <a:ext cx="1371600" cy="68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ll-Op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rocess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 rot="5400000">
              <a:off x="4686120" y="3769920"/>
              <a:ext cx="7596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 rot="5400000">
              <a:off x="4686120" y="4074480"/>
              <a:ext cx="7560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 rot="5400000">
              <a:off x="4686120" y="4227120"/>
              <a:ext cx="7596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 rot="5400000">
              <a:off x="4686120" y="4531680"/>
              <a:ext cx="7560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rot="5400000">
              <a:off x="4686120" y="4836600"/>
              <a:ext cx="7596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rot="5400000">
              <a:off x="4686120" y="4988880"/>
              <a:ext cx="7560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 rot="5400000">
              <a:off x="4686120" y="5141520"/>
              <a:ext cx="7596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 rot="5400000">
              <a:off x="4686120" y="5293800"/>
              <a:ext cx="7596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 rot="5400000">
              <a:off x="4686120" y="5598720"/>
              <a:ext cx="7596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rot="5400000">
              <a:off x="4686120" y="5751000"/>
              <a:ext cx="7596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 rot="5400000">
              <a:off x="4686120" y="6055920"/>
              <a:ext cx="7596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4" name=""/>
            <p:cNvGrpSpPr/>
            <p:nvPr/>
          </p:nvGrpSpPr>
          <p:grpSpPr>
            <a:xfrm>
              <a:off x="5486400" y="3047760"/>
              <a:ext cx="2362320" cy="304560"/>
              <a:chOff x="5486400" y="3047760"/>
              <a:chExt cx="2362320" cy="304560"/>
            </a:xfrm>
          </p:grpSpPr>
          <p:sp>
            <p:nvSpPr>
              <p:cNvPr id="2965" name=""/>
              <p:cNvSpPr/>
              <p:nvPr/>
            </p:nvSpPr>
            <p:spPr>
              <a:xfrm>
                <a:off x="5486400" y="3047760"/>
                <a:ext cx="7632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5791320" y="3047760"/>
                <a:ext cx="7632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943600" y="3047760"/>
                <a:ext cx="7632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6248520" y="3047760"/>
                <a:ext cx="7632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6553440" y="3047760"/>
                <a:ext cx="7596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705720" y="3047760"/>
                <a:ext cx="7632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6858000" y="3047760"/>
                <a:ext cx="7632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010640" y="3047760"/>
                <a:ext cx="7596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7315200" y="3047760"/>
                <a:ext cx="7632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467840" y="3047760"/>
                <a:ext cx="7596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772400" y="3047760"/>
                <a:ext cx="7632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6" name=""/>
            <p:cNvSpPr/>
            <p:nvPr/>
          </p:nvSpPr>
          <p:spPr>
            <a:xfrm>
              <a:off x="5410440" y="3352680"/>
              <a:ext cx="2895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572000" y="3657240"/>
              <a:ext cx="0" cy="266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BD4B3-3D9C-4ED2-AE91-3A52A0F42386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24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99"/>
                </a:solidFill>
                <a:latin typeface="Albertus Medium"/>
                <a:ea typeface="굴림"/>
              </a:rPr>
              <a:t>Intelligent Optical Network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lbertus Medium"/>
                <a:ea typeface="굴림"/>
              </a:rPr>
              <a:t>Motivations (cont.)</a:t>
            </a:r>
            <a:endParaRPr b="1" lang="en-US" sz="3200" spc="-1" strike="noStrike">
              <a:solidFill>
                <a:srgbClr val="ffff00"/>
              </a:solidFill>
              <a:latin typeface="Albertus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Scalable, evolutionary path to all-optical networking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Allows gradual and seamless adoption of new technologies into network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Supports migration to mesh network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c4e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굴림"/>
              </a:rPr>
              <a:t>Provides access to protection bandwidth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78FF7-2AA6-4A77-B6DD-29A2479742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7:22:53Z</dcterms:created>
  <dc:creator>Anita J. Brearton</dc:creator>
  <dc:description>Presented to Ameritech, SBC, and Worldcom.</dc:description>
  <dc:language>en-US</dc:language>
  <cp:lastModifiedBy>강혜영</cp:lastModifiedBy>
  <cp:lastPrinted>1999-08-27T14:33:20Z</cp:lastPrinted>
  <dcterms:modified xsi:type="dcterms:W3CDTF">2000-02-26T13:51:42Z</dcterms:modified>
  <cp:revision>1872</cp:revision>
  <dc:subject/>
  <dc:title>Telecom Business Anaheim Conference March 31, 1999 Rick Barry Founder, Director Architecture Sycamore Networks</dc:title>
</cp:coreProperties>
</file>