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wmf" ContentType="image/x-wmf"/>
  <Override PartName="/ppt/media/image10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00246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20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A3A7D8-0BD9-428F-B546-C957112F2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13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"/>
          <p:cNvSpPr txBox="1"/>
          <p:nvPr/>
        </p:nvSpPr>
        <p:spPr>
          <a:xfrm>
            <a:off x="396684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A8F2E4-BC5C-4F75-BE03-2BF4072BF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 txBox="1"/>
          <p:nvPr/>
        </p:nvSpPr>
        <p:spPr>
          <a:xfrm>
            <a:off x="-36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 txBox="1"/>
          <p:nvPr/>
        </p:nvSpPr>
        <p:spPr>
          <a:xfrm>
            <a:off x="396684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PlaceHolder 1"/>
          <p:cNvSpPr>
            <a:spLocks noGrp="1"/>
          </p:cNvSpPr>
          <p:nvPr>
            <p:ph type="sldImg"/>
          </p:nvPr>
        </p:nvSpPr>
        <p:spPr>
          <a:xfrm>
            <a:off x="1141560" y="679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923760" y="4443480"/>
            <a:ext cx="51530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F819-F5AE-4B5E-A39C-53D650A201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28600"/>
            <a:ext cx="7848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2DE2-90F7-4AF3-B767-29D66219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332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2860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3320" y="382860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11E2-280A-4625-AF45-DB8B9461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5320" y="159984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880" y="159984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2860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5320" y="382860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880" y="382860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B93C-EE71-440F-BF73-E392952D65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062C-2504-4E72-BA08-915D88B0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35B4-95BD-40AF-8D4E-CEF515BE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29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3320" y="1599840"/>
            <a:ext cx="3829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61B2-9B07-4DCF-BC15-BD735C3B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48BE-CD86-4BE7-A3A2-ABF324E8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65A8-3F46-4022-B385-FAE81C1A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3320" y="1599840"/>
            <a:ext cx="3829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2860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19EA-8AE9-4966-9D47-4C91C117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29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332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3320" y="382860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CFAB-B429-4D31-98B1-CDB40412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332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28600"/>
            <a:ext cx="7848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51CD-F338-4C20-A5F5-65178F4D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1760" y="1599840"/>
            <a:ext cx="78483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1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1199"/>
              </a:spcBef>
              <a:buClr>
                <a:srgbClr val="a49788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1199"/>
              </a:spcBef>
              <a:buClr>
                <a:srgbClr val="a49788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943600" y="6552720"/>
            <a:ext cx="32004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0" y="655272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E035-8804-4D14-AAE7-C440BA1D6FD0}" type="slidenum">
              <a:rPr b="0" lang="en-US" sz="8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837000"/>
            <a:ext cx="80010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ptical Net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riving the Evolution of the Public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de Rubi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or of Network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camor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ainpic1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716292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logo_index_over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2946600" cy="149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0273-678E-4D2B-9418-E4F6D7CF4C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Evolution of the Public Network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lbertus Medium"/>
              </a:rPr>
              <a:t>From Asynchronous to SONET/SDH</a:t>
            </a:r>
            <a:endParaRPr b="1" lang="en-US" sz="36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SONET/SDH?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Set of standards for high capacity optical communications: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ynchronou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ptical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NET</a:t>
            </a: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work (North American ANSI standard)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ynchronou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</a:t>
            </a: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igital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</a:t>
            </a: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ierarchy (ITU standard)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4481640"/>
            <a:ext cx="1676520" cy="6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26280" y="4481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S Electr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514600" y="3733920"/>
            <a:ext cx="2514600" cy="2133360"/>
            <a:chOff x="2514600" y="3733920"/>
            <a:chExt cx="2514600" cy="2133360"/>
          </a:xfrm>
        </p:grpSpPr>
        <p:sp>
          <p:nvSpPr>
            <p:cNvPr id="343" name=""/>
            <p:cNvSpPr/>
            <p:nvPr/>
          </p:nvSpPr>
          <p:spPr>
            <a:xfrm>
              <a:off x="2514600" y="3733920"/>
              <a:ext cx="2514600" cy="2133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02240" y="4084560"/>
              <a:ext cx="1939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based on TD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029200" y="4481640"/>
            <a:ext cx="1219320" cy="623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93360" y="4503600"/>
            <a:ext cx="82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89040" y="5157720"/>
            <a:ext cx="160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   Short 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   Intermediate 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3)   Long r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4080" y="510516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fiber 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4762440"/>
            <a:ext cx="761760" cy="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010280" y="4572000"/>
            <a:ext cx="1828440" cy="380880"/>
            <a:chOff x="7010280" y="4572000"/>
            <a:chExt cx="1828440" cy="38088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8038800" y="4152960"/>
              <a:ext cx="380880" cy="1218960"/>
            </a:xfrm>
            <a:prstGeom prst="can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466040" y="4505040"/>
              <a:ext cx="260280" cy="514080"/>
            </a:xfrm>
            <a:prstGeom prst="can">
              <a:avLst>
                <a:gd name="adj" fmla="val 25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211880" y="4550760"/>
              <a:ext cx="19080" cy="422640"/>
            </a:xfrm>
            <a:prstGeom prst="can">
              <a:avLst>
                <a:gd name="adj" fmla="val 5555"/>
              </a:avLst>
            </a:prstGeom>
            <a:solidFill>
              <a:srgbClr val="aec6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551280" y="3198600"/>
            <a:ext cx="141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1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5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WDM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emerg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85080" y="4191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1D6E-DB50-4B92-8538-4CF3855272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Evolution of the Public Network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lbertus Medium"/>
              </a:rPr>
              <a:t>From Asynchronous to SONET/SDH</a:t>
            </a:r>
            <a:endParaRPr b="1" lang="en-US" sz="36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6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rivers behind SONET/SDH: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Standards-based: allows multi-vendor interworking 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Cost: leveraged emerging fiber optic transport technologi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Synchronous transmission: addresses timing variations 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Reduces manual operations: automation of OAM&amp;P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imes New Roman"/>
              </a:rPr>
              <a:t>Lack of reliability and management capability of PDH/asynchronous network systems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Network scalability: Simple to multiplex lower-speed streams onto single high-speed transport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9F60-05C9-402C-A405-C725E52BE1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Evolution of the Public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SONET/SDH Overview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586764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TS-1, payloads and virtual tributarie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cket over SONET (PoS)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ultiplexing and frame format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Line rate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Network layer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hysical characteristic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Network elements and topologie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rotec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pplication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ummary of benefit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B71B-9801-4625-B3E8-1BDDC3B638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1171440"/>
            <a:ext cx="8153280" cy="515952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03520" y="1168560"/>
            <a:ext cx="609480" cy="518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2819520"/>
            <a:ext cx="1905120" cy="3504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68560"/>
            <a:ext cx="1905120" cy="1676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STS-1 Frame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65" name=""/>
          <p:cNvSpPr/>
          <p:nvPr/>
        </p:nvSpPr>
        <p:spPr>
          <a:xfrm>
            <a:off x="133344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6056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9120" y="1143000"/>
            <a:ext cx="0" cy="51814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804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4660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7372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0228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3084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5796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70496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2274840"/>
            <a:ext cx="8153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846520"/>
            <a:ext cx="8153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3417840"/>
            <a:ext cx="8153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989520"/>
            <a:ext cx="8191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559400"/>
            <a:ext cx="8153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5156280"/>
            <a:ext cx="8153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5753160"/>
            <a:ext cx="8153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2120" y="6350040"/>
            <a:ext cx="62244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2324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8816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53440" y="1143000"/>
            <a:ext cx="0" cy="518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94920" y="6399720"/>
            <a:ext cx="7239600" cy="459720"/>
            <a:chOff x="1294920" y="6399720"/>
            <a:chExt cx="7239600" cy="459720"/>
          </a:xfrm>
        </p:grpSpPr>
        <p:sp>
          <p:nvSpPr>
            <p:cNvPr id="387" name=""/>
            <p:cNvSpPr/>
            <p:nvPr/>
          </p:nvSpPr>
          <p:spPr>
            <a:xfrm>
              <a:off x="4116960" y="639972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0 Colum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920" y="6629400"/>
              <a:ext cx="2514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294920" y="6629400"/>
              <a:ext cx="2514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00440" y="1371600"/>
            <a:ext cx="459720" cy="4495680"/>
            <a:chOff x="100440" y="1371600"/>
            <a:chExt cx="459720" cy="4495680"/>
          </a:xfrm>
        </p:grpSpPr>
        <p:sp>
          <p:nvSpPr>
            <p:cNvPr id="391" name=""/>
            <p:cNvSpPr/>
            <p:nvPr/>
          </p:nvSpPr>
          <p:spPr>
            <a:xfrm rot="16200000">
              <a:off x="-229320" y="344088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 R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30120" y="1371600"/>
              <a:ext cx="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0120" y="4419720"/>
              <a:ext cx="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876920" y="1371600"/>
            <a:ext cx="3581280" cy="4800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04680" y="2497680"/>
            <a:ext cx="2584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87 Columns of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TS-1 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ayload 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(STS-1 S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3124080"/>
            <a:ext cx="266724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7840" y="12711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49000" y="12711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43280" y="128628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O/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2160" y="180468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53680" y="180468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08160" y="1804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7840" y="23760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9000" y="23760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96640" y="23760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2440" y="2999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3600" y="2999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91240" y="2999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12160" y="35190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0" y="3519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91240" y="3519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07840" y="41288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49000" y="41288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96640" y="41288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07840" y="4676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9000" y="4676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96640" y="4676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8680" y="52099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97880" y="52099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45520" y="52099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8640" y="58050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/Z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89880" y="58057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0/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01320" y="58050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18720" y="1271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01440" y="180468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96760" y="23760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91360" y="29998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08280" y="3519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91360" y="41288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01440" y="46764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01440" y="520992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01440" y="58050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14640" y="4564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ction Trace/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98600" y="90180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0" y="888840"/>
            <a:ext cx="2743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63504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16600" y="6094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3429000"/>
            <a:ext cx="635040" cy="546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43280" y="1155600"/>
            <a:ext cx="634680" cy="546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1714680"/>
            <a:ext cx="635040" cy="545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28600" y="4860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BIP-8/BI: Parity Che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409760" y="1816200"/>
            <a:ext cx="32004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457200"/>
            <a:ext cx="0" cy="1371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10080" y="518076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BIP-8/B2: Error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447920" y="3517920"/>
            <a:ext cx="35812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29200" y="3505320"/>
            <a:ext cx="0" cy="19047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5410080"/>
            <a:ext cx="3049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F99A-44AA-47F1-B7C7-014929A20F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839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Virtual Tributaries (VT)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49" name=""/>
          <p:cNvSpPr/>
          <p:nvPr/>
        </p:nvSpPr>
        <p:spPr>
          <a:xfrm>
            <a:off x="4776840" y="338472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78440" y="30956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35680" y="3095640"/>
            <a:ext cx="0" cy="81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78440" y="30956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ransports and switches payloads smaller than STS-1 rat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.g., DSO, DS-2, PCM30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aps these channels onto the STS fram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.g., VT 1.5, VT 2, VT 3, VT 6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724280" y="2590920"/>
            <a:ext cx="1733760" cy="2468520"/>
            <a:chOff x="4724280" y="2590920"/>
            <a:chExt cx="1733760" cy="2468520"/>
          </a:xfrm>
        </p:grpSpPr>
        <p:sp>
          <p:nvSpPr>
            <p:cNvPr id="455" name=""/>
            <p:cNvSpPr/>
            <p:nvPr/>
          </p:nvSpPr>
          <p:spPr>
            <a:xfrm>
              <a:off x="4724280" y="2590920"/>
              <a:ext cx="1729080" cy="2468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4280" y="2936880"/>
              <a:ext cx="17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24280" y="3281400"/>
              <a:ext cx="17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24280" y="3627360"/>
              <a:ext cx="17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24280" y="3973680"/>
              <a:ext cx="17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24280" y="4317840"/>
              <a:ext cx="17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56280" y="2590920"/>
              <a:ext cx="1440" cy="246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89720" y="2590920"/>
              <a:ext cx="0" cy="246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21360" y="2590920"/>
              <a:ext cx="0" cy="246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080" y="4689360"/>
              <a:ext cx="173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4495680" y="5104440"/>
            <a:ext cx="20354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S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8 VT1.5s multiple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to the STS-1 sig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1447920"/>
            <a:ext cx="1828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467480" y="1676520"/>
            <a:ext cx="1592280" cy="1909800"/>
            <a:chOff x="7467480" y="1676520"/>
            <a:chExt cx="1592280" cy="1909800"/>
          </a:xfrm>
        </p:grpSpPr>
        <p:sp>
          <p:nvSpPr>
            <p:cNvPr id="468" name=""/>
            <p:cNvSpPr/>
            <p:nvPr/>
          </p:nvSpPr>
          <p:spPr>
            <a:xfrm>
              <a:off x="7467480" y="1676520"/>
              <a:ext cx="1592280" cy="190980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67480" y="1995480"/>
              <a:ext cx="15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67480" y="2313000"/>
              <a:ext cx="15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67480" y="2631960"/>
              <a:ext cx="15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67480" y="2949480"/>
              <a:ext cx="15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67480" y="3267000"/>
              <a:ext cx="15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66000" y="1676520"/>
              <a:ext cx="0" cy="19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4520" y="1676520"/>
              <a:ext cx="0" cy="19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661240" y="1676520"/>
              <a:ext cx="0" cy="190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243200" y="3748320"/>
            <a:ext cx="983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T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72400" y="-1440"/>
            <a:ext cx="1058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S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24 DS-0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05920" y="838080"/>
            <a:ext cx="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9280" y="1758240"/>
            <a:ext cx="1604520" cy="246240"/>
            <a:chOff x="7469280" y="1758240"/>
            <a:chExt cx="1604520" cy="246240"/>
          </a:xfrm>
        </p:grpSpPr>
        <p:sp>
          <p:nvSpPr>
            <p:cNvPr id="481" name=""/>
            <p:cNvSpPr/>
            <p:nvPr/>
          </p:nvSpPr>
          <p:spPr>
            <a:xfrm>
              <a:off x="7469280" y="175824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837560" y="175824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244000" y="175824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624880" y="175824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7469280" y="2056680"/>
            <a:ext cx="1604520" cy="246240"/>
            <a:chOff x="7469280" y="2056680"/>
            <a:chExt cx="1604520" cy="246240"/>
          </a:xfrm>
        </p:grpSpPr>
        <p:sp>
          <p:nvSpPr>
            <p:cNvPr id="486" name=""/>
            <p:cNvSpPr/>
            <p:nvPr/>
          </p:nvSpPr>
          <p:spPr>
            <a:xfrm>
              <a:off x="7469280" y="20566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37560" y="20566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244000" y="20566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624880" y="20566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469280" y="2355120"/>
            <a:ext cx="1604520" cy="246240"/>
            <a:chOff x="7469280" y="2355120"/>
            <a:chExt cx="1604520" cy="246240"/>
          </a:xfrm>
        </p:grpSpPr>
        <p:sp>
          <p:nvSpPr>
            <p:cNvPr id="491" name=""/>
            <p:cNvSpPr/>
            <p:nvPr/>
          </p:nvSpPr>
          <p:spPr>
            <a:xfrm>
              <a:off x="7469280" y="23551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37560" y="23551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44000" y="23551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24880" y="23551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469280" y="2653560"/>
            <a:ext cx="1604520" cy="246240"/>
            <a:chOff x="7469280" y="2653560"/>
            <a:chExt cx="1604520" cy="246240"/>
          </a:xfrm>
        </p:grpSpPr>
        <p:sp>
          <p:nvSpPr>
            <p:cNvPr id="496" name=""/>
            <p:cNvSpPr/>
            <p:nvPr/>
          </p:nvSpPr>
          <p:spPr>
            <a:xfrm>
              <a:off x="7469280" y="26535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7560" y="26535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244000" y="26535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24880" y="26535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469280" y="2977560"/>
            <a:ext cx="1604520" cy="246240"/>
            <a:chOff x="7469280" y="2977560"/>
            <a:chExt cx="1604520" cy="246240"/>
          </a:xfrm>
        </p:grpSpPr>
        <p:sp>
          <p:nvSpPr>
            <p:cNvPr id="501" name=""/>
            <p:cNvSpPr/>
            <p:nvPr/>
          </p:nvSpPr>
          <p:spPr>
            <a:xfrm>
              <a:off x="7469280" y="29775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37560" y="29775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244000" y="29775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24880" y="29775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469280" y="3288600"/>
            <a:ext cx="1604520" cy="246240"/>
            <a:chOff x="7469280" y="3288600"/>
            <a:chExt cx="1604520" cy="246240"/>
          </a:xfrm>
        </p:grpSpPr>
        <p:sp>
          <p:nvSpPr>
            <p:cNvPr id="506" name=""/>
            <p:cNvSpPr/>
            <p:nvPr/>
          </p:nvSpPr>
          <p:spPr>
            <a:xfrm>
              <a:off x="7469280" y="32886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37560" y="32886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244000" y="32886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624880" y="32886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695840" y="2666160"/>
            <a:ext cx="1781280" cy="246240"/>
            <a:chOff x="4695840" y="2666160"/>
            <a:chExt cx="1781280" cy="246240"/>
          </a:xfrm>
        </p:grpSpPr>
        <p:sp>
          <p:nvSpPr>
            <p:cNvPr id="511" name=""/>
            <p:cNvSpPr/>
            <p:nvPr/>
          </p:nvSpPr>
          <p:spPr>
            <a:xfrm>
              <a:off x="4695840" y="26661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06960" y="26661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43280" y="26661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67360" y="26661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725720" y="2996640"/>
            <a:ext cx="1781280" cy="246240"/>
            <a:chOff x="4725720" y="2996640"/>
            <a:chExt cx="1781280" cy="246240"/>
          </a:xfrm>
        </p:grpSpPr>
        <p:sp>
          <p:nvSpPr>
            <p:cNvPr id="516" name=""/>
            <p:cNvSpPr/>
            <p:nvPr/>
          </p:nvSpPr>
          <p:spPr>
            <a:xfrm>
              <a:off x="4725720" y="299664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36840" y="299664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73160" y="299664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97240" y="299664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692600" y="3326760"/>
            <a:ext cx="1781280" cy="246240"/>
            <a:chOff x="4692600" y="3326760"/>
            <a:chExt cx="1781280" cy="246240"/>
          </a:xfrm>
        </p:grpSpPr>
        <p:sp>
          <p:nvSpPr>
            <p:cNvPr id="521" name=""/>
            <p:cNvSpPr/>
            <p:nvPr/>
          </p:nvSpPr>
          <p:spPr>
            <a:xfrm>
              <a:off x="4692600" y="33267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3720" y="33267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40040" y="33267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64120" y="33267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697280" y="3656880"/>
            <a:ext cx="1781280" cy="246240"/>
            <a:chOff x="4697280" y="3656880"/>
            <a:chExt cx="1781280" cy="246240"/>
          </a:xfrm>
        </p:grpSpPr>
        <p:sp>
          <p:nvSpPr>
            <p:cNvPr id="526" name=""/>
            <p:cNvSpPr/>
            <p:nvPr/>
          </p:nvSpPr>
          <p:spPr>
            <a:xfrm>
              <a:off x="4697280" y="365688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08400" y="365688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4720" y="365688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8800" y="365688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676760" y="4012560"/>
            <a:ext cx="1781280" cy="246240"/>
            <a:chOff x="4676760" y="4012560"/>
            <a:chExt cx="1781280" cy="246240"/>
          </a:xfrm>
        </p:grpSpPr>
        <p:sp>
          <p:nvSpPr>
            <p:cNvPr id="531" name=""/>
            <p:cNvSpPr/>
            <p:nvPr/>
          </p:nvSpPr>
          <p:spPr>
            <a:xfrm>
              <a:off x="4676760" y="40125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87880" y="40125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24200" y="40125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48280" y="40125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694040" y="4368240"/>
            <a:ext cx="1725840" cy="246240"/>
            <a:chOff x="4694040" y="4368240"/>
            <a:chExt cx="1725840" cy="246240"/>
          </a:xfrm>
        </p:grpSpPr>
        <p:sp>
          <p:nvSpPr>
            <p:cNvPr id="536" name=""/>
            <p:cNvSpPr/>
            <p:nvPr/>
          </p:nvSpPr>
          <p:spPr>
            <a:xfrm>
              <a:off x="4694040" y="436824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05160" y="436824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41480" y="436824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9560" y="4368240"/>
              <a:ext cx="40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711680" y="4723560"/>
            <a:ext cx="1617480" cy="246240"/>
            <a:chOff x="4711680" y="4723560"/>
            <a:chExt cx="1617480" cy="246240"/>
          </a:xfrm>
        </p:grpSpPr>
        <p:sp>
          <p:nvSpPr>
            <p:cNvPr id="541" name=""/>
            <p:cNvSpPr/>
            <p:nvPr/>
          </p:nvSpPr>
          <p:spPr>
            <a:xfrm>
              <a:off x="4711680" y="47235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22800" y="47235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59120" y="472356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45200" y="472428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01520" y="4572000"/>
            <a:ext cx="4343400" cy="1676520"/>
            <a:chOff x="101520" y="4572000"/>
            <a:chExt cx="4343400" cy="1676520"/>
          </a:xfrm>
        </p:grpSpPr>
        <p:sp>
          <p:nvSpPr>
            <p:cNvPr id="546" name=""/>
            <p:cNvSpPr/>
            <p:nvPr/>
          </p:nvSpPr>
          <p:spPr>
            <a:xfrm>
              <a:off x="101520" y="4572000"/>
              <a:ext cx="4343400" cy="16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5240" y="4650480"/>
              <a:ext cx="39297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DH Signa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T1.5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DS-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.544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T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E-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048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T3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DS-1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.152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T6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DS-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312 Mp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1520" y="5029200"/>
              <a:ext cx="4343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41480" y="4572000"/>
              <a:ext cx="0" cy="1676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16120" y="4572000"/>
              <a:ext cx="0" cy="1676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1520" y="5435640"/>
              <a:ext cx="4343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1520" y="5676840"/>
              <a:ext cx="4343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01520" y="5918040"/>
              <a:ext cx="4343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509C-C426-4317-AD15-A86B9B6BB4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STS-1 Multiplexing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33520" y="3429000"/>
            <a:ext cx="8254440" cy="2219760"/>
            <a:chOff x="533520" y="3429000"/>
            <a:chExt cx="8254440" cy="2219760"/>
          </a:xfrm>
        </p:grpSpPr>
        <p:sp>
          <p:nvSpPr>
            <p:cNvPr id="556" name=""/>
            <p:cNvSpPr/>
            <p:nvPr/>
          </p:nvSpPr>
          <p:spPr>
            <a:xfrm>
              <a:off x="533520" y="3738240"/>
              <a:ext cx="578880" cy="21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6880" y="3941640"/>
              <a:ext cx="150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TS-1 Signal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85120" y="3738240"/>
              <a:ext cx="578880" cy="21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36720" y="3738240"/>
              <a:ext cx="578880" cy="21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3520" y="4317480"/>
              <a:ext cx="578880" cy="217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2640" y="4521240"/>
              <a:ext cx="148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TS-1 Signal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85120" y="4317480"/>
              <a:ext cx="578880" cy="217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36720" y="4317480"/>
              <a:ext cx="578880" cy="217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3520" y="4932720"/>
              <a:ext cx="578880" cy="21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6880" y="5136840"/>
              <a:ext cx="150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TS-1 Signal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85120" y="4932720"/>
              <a:ext cx="578880" cy="21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36720" y="4932720"/>
              <a:ext cx="578880" cy="21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67800" y="4080600"/>
              <a:ext cx="144360" cy="108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84880" y="4080600"/>
              <a:ext cx="144360" cy="108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2320" y="4080600"/>
              <a:ext cx="144360" cy="108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19400" y="4080600"/>
              <a:ext cx="144360" cy="108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36840" y="4080600"/>
              <a:ext cx="144360" cy="108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53920" y="4080600"/>
              <a:ext cx="144360" cy="108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71000" y="4080600"/>
              <a:ext cx="144360" cy="108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88440" y="4080600"/>
              <a:ext cx="144360" cy="108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05520" y="4080600"/>
              <a:ext cx="144360" cy="108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2960" y="4080600"/>
              <a:ext cx="144360" cy="108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40040" y="4080600"/>
              <a:ext cx="144360" cy="108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57120" y="4080600"/>
              <a:ext cx="144360" cy="108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74560" y="4080600"/>
              <a:ext cx="144360" cy="1086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91640" y="4080600"/>
              <a:ext cx="144360" cy="1086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09080" y="4080600"/>
              <a:ext cx="144360" cy="108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59040" y="5311440"/>
              <a:ext cx="225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TS-3 Combin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2561040" y="3429000"/>
              <a:ext cx="2389320" cy="2027520"/>
              <a:chOff x="2561040" y="3429000"/>
              <a:chExt cx="2389320" cy="2027520"/>
            </a:xfrm>
          </p:grpSpPr>
          <p:sp>
            <p:nvSpPr>
              <p:cNvPr id="585" name=""/>
              <p:cNvSpPr/>
              <p:nvPr/>
            </p:nvSpPr>
            <p:spPr>
              <a:xfrm>
                <a:off x="2561040" y="3429000"/>
                <a:ext cx="2389320" cy="20275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785680" y="3762360"/>
                <a:ext cx="193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O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U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QUIP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950360" y="5166720"/>
              <a:ext cx="3837600" cy="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382680" y="19800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x 51.840 Mb/s   =  3 x STS1 =  STS-3  =  155.520 Mb/s (OC-3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021360" y="2801520"/>
            <a:ext cx="1099800" cy="1084680"/>
            <a:chOff x="6021360" y="2801520"/>
            <a:chExt cx="1099800" cy="1084680"/>
          </a:xfrm>
        </p:grpSpPr>
        <p:sp>
          <p:nvSpPr>
            <p:cNvPr id="590" name=""/>
            <p:cNvSpPr/>
            <p:nvPr/>
          </p:nvSpPr>
          <p:spPr>
            <a:xfrm>
              <a:off x="6021360" y="2801520"/>
              <a:ext cx="109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ime Sl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53080" y="320040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9364-FA9F-4791-8AFB-15EFA89E04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acket over SONET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thod to pack IP into SONET SP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CF 1619, 1661, 166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eater than 10,000 PoS interfaces deploye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C-48c now shipp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C-192c shipping next year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AF6E-FD08-4547-A0F0-85BDC86A08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lbertus Medium"/>
              </a:rPr>
              <a:t>Multiplexing Frame Format </a:t>
            </a:r>
            <a:endParaRPr b="1" lang="en-US" sz="36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595" name=""/>
          <p:cNvSpPr/>
          <p:nvPr/>
        </p:nvSpPr>
        <p:spPr>
          <a:xfrm>
            <a:off x="613440" y="4572000"/>
            <a:ext cx="1922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 column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port overhe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h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6324480"/>
            <a:ext cx="2286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62320" y="5791320"/>
            <a:ext cx="228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62320" y="5334120"/>
            <a:ext cx="228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916200" y="1243080"/>
            <a:ext cx="7594200" cy="3441600"/>
            <a:chOff x="916200" y="1243080"/>
            <a:chExt cx="7594200" cy="3441600"/>
          </a:xfrm>
        </p:grpSpPr>
        <p:sp>
          <p:nvSpPr>
            <p:cNvPr id="600" name=""/>
            <p:cNvSpPr/>
            <p:nvPr/>
          </p:nvSpPr>
          <p:spPr>
            <a:xfrm>
              <a:off x="1827360" y="2692080"/>
              <a:ext cx="5379120" cy="146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7360" y="2692080"/>
              <a:ext cx="488880" cy="146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7360" y="2692080"/>
              <a:ext cx="488880" cy="488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316600" y="2692080"/>
              <a:ext cx="162720" cy="1465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30600" y="1945800"/>
              <a:ext cx="7579800" cy="33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13000" y="1952280"/>
              <a:ext cx="0" cy="32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9044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7360" y="2855160"/>
              <a:ext cx="537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27360" y="3018240"/>
              <a:ext cx="537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27360" y="3180960"/>
              <a:ext cx="537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7360" y="3343680"/>
              <a:ext cx="537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7360" y="3507120"/>
              <a:ext cx="537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27360" y="3669840"/>
              <a:ext cx="537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7360" y="3832560"/>
              <a:ext cx="537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27360" y="3995640"/>
              <a:ext cx="537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27360" y="4158360"/>
              <a:ext cx="53791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5316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16600" y="2692080"/>
              <a:ext cx="0" cy="146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7932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64240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0548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6856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3128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9472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5744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62016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8360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4632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0940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7248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3556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9828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6172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2444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8752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5060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1368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7640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3984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0256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6528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2872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9144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5452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1760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88068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43400" y="2692080"/>
              <a:ext cx="0" cy="14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28040" y="1950480"/>
              <a:ext cx="0" cy="325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02560" y="1952280"/>
              <a:ext cx="0" cy="32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90840" y="1977120"/>
              <a:ext cx="21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H                          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908720" y="2283840"/>
              <a:ext cx="5297760" cy="407160"/>
            </a:xfrm>
            <a:custGeom>
              <a:avLst/>
              <a:gdLst>
                <a:gd name="textAreaLeft" fmla="*/ 1164960 w 5297760"/>
                <a:gd name="textAreaRight" fmla="*/ 4132800 w 5297760"/>
                <a:gd name="textAreaTop" fmla="*/ 89280 h 407160"/>
                <a:gd name="textAreaBottom" fmla="*/ 317880 h 40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ccff"/>
                </a:gs>
              </a:gsLst>
              <a:lin ang="5400000"/>
            </a:gradFill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8800" y="1950480"/>
              <a:ext cx="0" cy="325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51600" y="1977120"/>
              <a:ext cx="21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H                          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54120" y="1950480"/>
              <a:ext cx="0" cy="325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16200" y="1977120"/>
              <a:ext cx="21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H                          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31320" y="3237120"/>
              <a:ext cx="68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Times New Roman"/>
                </a:rPr>
                <a:t>9 r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64280" y="2773800"/>
              <a:ext cx="0" cy="13028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8800" y="4377600"/>
              <a:ext cx="290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Times New Roman"/>
                </a:rPr>
                <a:t>90 columns (87 columns of paylo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27360" y="4321440"/>
              <a:ext cx="53791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01880" y="2692080"/>
              <a:ext cx="2118960" cy="146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S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nchron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y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vel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98120" y="1243080"/>
              <a:ext cx="58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810 bytes x 8000 frame/sec x 8 bits + 51,840,000 bi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E877-CDC2-4AF4-80A2-FBEFF088AB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600200" y="1447920"/>
            <a:ext cx="7086600" cy="4267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f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Line Rat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663" name=""/>
          <p:cNvSpPr/>
          <p:nvPr/>
        </p:nvSpPr>
        <p:spPr>
          <a:xfrm>
            <a:off x="1549440" y="1654200"/>
            <a:ext cx="10699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00200" y="1722600"/>
            <a:ext cx="1071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S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41760" y="1722600"/>
            <a:ext cx="10684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M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0120" y="1790640"/>
            <a:ext cx="13338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e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10200" y="2284560"/>
            <a:ext cx="10699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50240" y="2284560"/>
            <a:ext cx="7365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772400" y="2284560"/>
            <a:ext cx="10699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00200" y="3151080"/>
            <a:ext cx="106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63920" y="3151080"/>
            <a:ext cx="107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S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81360" y="3151080"/>
            <a:ext cx="106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78280" y="3151080"/>
            <a:ext cx="133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.84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10200" y="3151080"/>
            <a:ext cx="106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50240" y="3151080"/>
            <a:ext cx="73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772400" y="3151080"/>
            <a:ext cx="106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00200" y="3570120"/>
            <a:ext cx="106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563920" y="3570120"/>
            <a:ext cx="107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S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30600" y="3570120"/>
            <a:ext cx="1068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78280" y="3570120"/>
            <a:ext cx="133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5.5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10200" y="3570120"/>
            <a:ext cx="106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050240" y="3570120"/>
            <a:ext cx="73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72400" y="3570120"/>
            <a:ext cx="106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00200" y="4168800"/>
            <a:ext cx="106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63920" y="4168800"/>
            <a:ext cx="1071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S-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30600" y="4168800"/>
            <a:ext cx="106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M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78280" y="4168800"/>
            <a:ext cx="133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2.08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0200" y="4168800"/>
            <a:ext cx="106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50240" y="4168800"/>
            <a:ext cx="73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772400" y="4168800"/>
            <a:ext cx="106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4767120"/>
            <a:ext cx="10699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63920" y="4767120"/>
            <a:ext cx="1071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S-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630600" y="4767120"/>
            <a:ext cx="1068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M-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78280" y="4767120"/>
            <a:ext cx="1333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8.320 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10200" y="4767120"/>
            <a:ext cx="10699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2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50240" y="4767120"/>
            <a:ext cx="7365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772400" y="4767120"/>
            <a:ext cx="10699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00200" y="5367240"/>
            <a:ext cx="10699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-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63920" y="5367240"/>
            <a:ext cx="1071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S-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78280" y="5367240"/>
            <a:ext cx="1333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953.280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10200" y="5367240"/>
            <a:ext cx="10699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9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50240" y="5367240"/>
            <a:ext cx="7365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3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772400" y="5367240"/>
            <a:ext cx="10699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612800" y="2751120"/>
            <a:ext cx="706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12800" y="3436920"/>
            <a:ext cx="706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12800" y="3986280"/>
            <a:ext cx="706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12800" y="5219640"/>
            <a:ext cx="706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22520" y="14479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703760" y="14479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61040" y="14479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15320" y="2201760"/>
            <a:ext cx="0" cy="351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881840" y="2201760"/>
            <a:ext cx="0" cy="351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72200" y="22017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727680" y="1654200"/>
            <a:ext cx="13352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valent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120" y="2819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66840" y="352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4038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7480" y="4723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52578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0020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06840" y="1447920"/>
            <a:ext cx="126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9400" y="179748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681360" y="5367240"/>
            <a:ext cx="1068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06840" y="5362560"/>
            <a:ext cx="1068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9840" indent="-69840"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M-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1600200" y="5727600"/>
            <a:ext cx="7175520" cy="749520"/>
            <a:chOff x="1600200" y="5727600"/>
            <a:chExt cx="7175520" cy="749520"/>
          </a:xfrm>
        </p:grpSpPr>
        <p:grpSp>
          <p:nvGrpSpPr>
            <p:cNvPr id="726" name=""/>
            <p:cNvGrpSpPr/>
            <p:nvPr/>
          </p:nvGrpSpPr>
          <p:grpSpPr>
            <a:xfrm>
              <a:off x="1600200" y="5727600"/>
              <a:ext cx="7093080" cy="749520"/>
              <a:chOff x="1600200" y="5727600"/>
              <a:chExt cx="7093080" cy="749520"/>
            </a:xfrm>
          </p:grpSpPr>
          <p:sp>
            <p:nvSpPr>
              <p:cNvPr id="727" name=""/>
              <p:cNvSpPr/>
              <p:nvPr/>
            </p:nvSpPr>
            <p:spPr>
              <a:xfrm>
                <a:off x="7062840" y="5891040"/>
                <a:ext cx="7365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marL="69840" indent="-6984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625760" y="5727600"/>
                <a:ext cx="706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00200" y="5791320"/>
                <a:ext cx="7086600" cy="6858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eeec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27200" y="5791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619440" y="5791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711680" y="5791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159600" y="5791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791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899480" y="5791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1600200" y="5919840"/>
              <a:ext cx="9936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69840" indent="-6984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C-7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87680" y="5919840"/>
              <a:ext cx="9936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69840" indent="-6984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S-7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57600" y="5919840"/>
              <a:ext cx="9936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69840" indent="-6984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M-2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37240" y="5923080"/>
              <a:ext cx="14475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69840" indent="-6984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9813.12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45120" y="5938920"/>
              <a:ext cx="1067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69840" indent="-6984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1609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8000" y="5938920"/>
              <a:ext cx="1066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69840" indent="-6984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15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09040" y="5940360"/>
              <a:ext cx="1066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69840" indent="-6984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0CE6-7B21-4DF6-B798-7255CD2696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lbertus Medium"/>
              </a:rPr>
              <a:t>Layers</a:t>
            </a:r>
            <a:endParaRPr b="1" lang="en-US" sz="36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744" name=""/>
          <p:cNvSpPr/>
          <p:nvPr/>
        </p:nvSpPr>
        <p:spPr>
          <a:xfrm>
            <a:off x="685800" y="1689120"/>
            <a:ext cx="1352520" cy="62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2898720"/>
            <a:ext cx="1352520" cy="6224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048200"/>
            <a:ext cx="1352520" cy="62208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5257800"/>
            <a:ext cx="1352520" cy="6224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81480" y="4429080"/>
            <a:ext cx="3429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S-1 Frame Structu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 columns of  transport overhe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h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91320" y="5191200"/>
            <a:ext cx="2286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91320" y="5648400"/>
            <a:ext cx="2286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91320" y="6181560"/>
            <a:ext cx="228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05320" y="1828800"/>
            <a:ext cx="50292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05320" y="1828800"/>
            <a:ext cx="457200" cy="1371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1828800"/>
            <a:ext cx="4572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62520" y="1828800"/>
            <a:ext cx="152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6576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505320" y="19810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05320" y="21337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05320" y="2286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05320" y="24382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505320" y="25909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5320" y="27432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05320" y="28954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05320" y="30481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05320" y="3200400"/>
            <a:ext cx="50292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98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148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1972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7242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7692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1814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412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864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386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132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9436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58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24852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008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530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0572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580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102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6292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3152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012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7724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9246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07732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2960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381880" y="1828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3352680"/>
            <a:ext cx="25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Times New Roman"/>
              </a:rPr>
              <a:t>90 columns (87 columns of payloa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57800" y="1828800"/>
            <a:ext cx="198108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S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819520" y="236232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Times New Roman"/>
              </a:rPr>
              <a:t>9 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2209680" y="2057400"/>
            <a:ext cx="13716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2819520"/>
            <a:ext cx="457200" cy="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86000" y="3200400"/>
            <a:ext cx="838080" cy="0"/>
          </a:xfrm>
          <a:prstGeom prst="line">
            <a:avLst/>
          </a:prstGeom>
          <a:ln w="93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24080" y="2819520"/>
            <a:ext cx="0" cy="38088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038480" y="3124080"/>
            <a:ext cx="0" cy="12193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2209680" y="4343400"/>
            <a:ext cx="182880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388960" y="1141920"/>
            <a:ext cx="64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 layers of overhead and transport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4F1D-16D8-43CC-B1B7-DED3A9CBCA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1976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Agenda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3360" y="1143000"/>
            <a:ext cx="7010280" cy="425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olution of the Public Net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DWDM Fundamental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Intelligent Optical Networking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387520"/>
            <a:ext cx="87631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441600"/>
            <a:ext cx="87631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7760" y="1487520"/>
            <a:ext cx="177624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9:00 - 10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(10:30 - 11:00 bre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5640" y="2741400"/>
            <a:ext cx="185868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11:00 - 12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(12:30 - 2:00 lun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280" y="3745080"/>
            <a:ext cx="155376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:00 - 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(3:30 - 4:00 bre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155600"/>
            <a:ext cx="8763120" cy="341640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1155600"/>
            <a:ext cx="0" cy="34164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ogo_index_over" descr=""/>
          <p:cNvPicPr/>
          <p:nvPr/>
        </p:nvPicPr>
        <p:blipFill>
          <a:blip r:embed="rId2"/>
          <a:stretch/>
        </p:blipFill>
        <p:spPr>
          <a:xfrm>
            <a:off x="5638680" y="4952880"/>
            <a:ext cx="294660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C86A-D60E-40DD-89F5-1EAA431B0E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lbertus Medium"/>
              </a:rPr>
              <a:t>Layers</a:t>
            </a:r>
            <a:endParaRPr b="1" lang="en-US" sz="36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762120" y="2286000"/>
            <a:ext cx="7966080" cy="3156840"/>
            <a:chOff x="762120" y="2286000"/>
            <a:chExt cx="7966080" cy="3156840"/>
          </a:xfrm>
        </p:grpSpPr>
        <p:sp>
          <p:nvSpPr>
            <p:cNvPr id="809" name=""/>
            <p:cNvSpPr/>
            <p:nvPr/>
          </p:nvSpPr>
          <p:spPr>
            <a:xfrm>
              <a:off x="1739880" y="2826000"/>
              <a:ext cx="6054840" cy="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92040" y="2286000"/>
              <a:ext cx="947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Repe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605200" y="2305080"/>
              <a:ext cx="947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Repea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43080" y="2657520"/>
              <a:ext cx="50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858080" y="2567160"/>
              <a:ext cx="50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546360" y="3160800"/>
              <a:ext cx="0" cy="26352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80040" y="3179880"/>
              <a:ext cx="0" cy="26352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68680" y="3291120"/>
              <a:ext cx="2492280" cy="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51680" y="3416400"/>
              <a:ext cx="91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739880" y="3996000"/>
              <a:ext cx="6035760" cy="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540320" y="4213440"/>
              <a:ext cx="60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7320" y="4910400"/>
              <a:ext cx="7940880" cy="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5360" y="4665960"/>
              <a:ext cx="0" cy="47304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728200" y="4665960"/>
              <a:ext cx="0" cy="47304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03600" y="5106960"/>
              <a:ext cx="623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1074600" y="2597400"/>
              <a:ext cx="282240" cy="457200"/>
              <a:chOff x="1074600" y="2597400"/>
              <a:chExt cx="282240" cy="457200"/>
            </a:xfrm>
          </p:grpSpPr>
          <p:sp>
            <p:nvSpPr>
              <p:cNvPr id="825" name=""/>
              <p:cNvSpPr/>
              <p:nvPr/>
            </p:nvSpPr>
            <p:spPr>
              <a:xfrm>
                <a:off x="1074600" y="2597400"/>
                <a:ext cx="282240" cy="0"/>
              </a:xfrm>
              <a:prstGeom prst="line">
                <a:avLst/>
              </a:prstGeom>
              <a:ln w="255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074600" y="2749680"/>
                <a:ext cx="282240" cy="0"/>
              </a:xfrm>
              <a:prstGeom prst="line">
                <a:avLst/>
              </a:prstGeom>
              <a:ln w="255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074600" y="2902320"/>
                <a:ext cx="282240" cy="0"/>
              </a:xfrm>
              <a:prstGeom prst="line">
                <a:avLst/>
              </a:prstGeom>
              <a:ln w="255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74600" y="3054600"/>
                <a:ext cx="282240" cy="0"/>
              </a:xfrm>
              <a:prstGeom prst="line">
                <a:avLst/>
              </a:prstGeom>
              <a:ln w="255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8183520" y="2568600"/>
              <a:ext cx="282240" cy="514440"/>
              <a:chOff x="8183520" y="2568600"/>
              <a:chExt cx="282240" cy="514440"/>
            </a:xfrm>
          </p:grpSpPr>
          <p:sp>
            <p:nvSpPr>
              <p:cNvPr id="830" name=""/>
              <p:cNvSpPr/>
              <p:nvPr/>
            </p:nvSpPr>
            <p:spPr>
              <a:xfrm>
                <a:off x="8183520" y="2568600"/>
                <a:ext cx="282240" cy="0"/>
              </a:xfrm>
              <a:prstGeom prst="line">
                <a:avLst/>
              </a:prstGeom>
              <a:ln w="255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183520" y="2739960"/>
                <a:ext cx="282240" cy="0"/>
              </a:xfrm>
              <a:prstGeom prst="line">
                <a:avLst/>
              </a:prstGeom>
              <a:ln w="255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183520" y="2911320"/>
                <a:ext cx="282240" cy="0"/>
              </a:xfrm>
              <a:prstGeom prst="line">
                <a:avLst/>
              </a:prstGeom>
              <a:ln w="255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183520" y="3083040"/>
                <a:ext cx="282240" cy="0"/>
              </a:xfrm>
              <a:prstGeom prst="line">
                <a:avLst/>
              </a:prstGeom>
              <a:ln w="255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1357200" y="2482920"/>
              <a:ext cx="381240" cy="685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802640" y="2482920"/>
              <a:ext cx="380880" cy="685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60600" y="2673360"/>
              <a:ext cx="333720" cy="331920"/>
            </a:xfrm>
            <a:prstGeom prst="diamond">
              <a:avLst/>
            </a:prstGeom>
            <a:solidFill>
              <a:srgbClr val="ff66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75200" y="2673360"/>
              <a:ext cx="333720" cy="331920"/>
            </a:xfrm>
            <a:prstGeom prst="diamond">
              <a:avLst/>
            </a:prstGeom>
            <a:solidFill>
              <a:srgbClr val="ff66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56240" y="2521080"/>
              <a:ext cx="304560" cy="3049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35200" y="2826000"/>
              <a:ext cx="0" cy="990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792920" y="2826000"/>
              <a:ext cx="0" cy="990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2120" y="2548080"/>
              <a:ext cx="0" cy="190512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712360" y="2548080"/>
              <a:ext cx="0" cy="190512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B4D8-27FE-42E0-B5AD-3EFBA4DA8F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lbertus Medium"/>
              </a:rPr>
              <a:t>Layers</a:t>
            </a:r>
            <a:endParaRPr b="1" lang="en-US" sz="36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844" name=""/>
          <p:cNvSpPr/>
          <p:nvPr/>
        </p:nvSpPr>
        <p:spPr>
          <a:xfrm>
            <a:off x="1776240" y="2805120"/>
            <a:ext cx="101448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76240" y="3543480"/>
            <a:ext cx="1014480" cy="4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776240" y="4280040"/>
            <a:ext cx="1014480" cy="466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41800" y="3543480"/>
            <a:ext cx="1014120" cy="4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41800" y="4280040"/>
            <a:ext cx="1014120" cy="466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53080" y="3543480"/>
            <a:ext cx="1014480" cy="4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753080" y="4280040"/>
            <a:ext cx="1014480" cy="466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275520" y="2805120"/>
            <a:ext cx="101412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275520" y="3543480"/>
            <a:ext cx="1014120" cy="4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75520" y="4280040"/>
            <a:ext cx="1014120" cy="466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746840" y="2068560"/>
            <a:ext cx="101448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746840" y="2805120"/>
            <a:ext cx="101448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46840" y="3543480"/>
            <a:ext cx="1014480" cy="4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46840" y="4280040"/>
            <a:ext cx="1014480" cy="466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23880" y="2286000"/>
            <a:ext cx="6019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22480" y="305928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1395360" y="3059280"/>
            <a:ext cx="304560" cy="1371600"/>
            <a:chOff x="1395360" y="3059280"/>
            <a:chExt cx="304560" cy="1371600"/>
          </a:xfrm>
        </p:grpSpPr>
        <p:sp>
          <p:nvSpPr>
            <p:cNvPr id="861" name=""/>
            <p:cNvSpPr/>
            <p:nvPr/>
          </p:nvSpPr>
          <p:spPr>
            <a:xfrm>
              <a:off x="1395360" y="305928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1395360" y="3745080"/>
              <a:ext cx="304560" cy="685800"/>
              <a:chOff x="1395360" y="3745080"/>
              <a:chExt cx="304560" cy="685800"/>
            </a:xfrm>
          </p:grpSpPr>
          <p:sp>
            <p:nvSpPr>
              <p:cNvPr id="863" name=""/>
              <p:cNvSpPr/>
              <p:nvPr/>
            </p:nvSpPr>
            <p:spPr>
              <a:xfrm>
                <a:off x="1395360" y="374508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395360" y="443088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7365960" y="3059280"/>
            <a:ext cx="304560" cy="1371600"/>
            <a:chOff x="7365960" y="3059280"/>
            <a:chExt cx="304560" cy="1371600"/>
          </a:xfrm>
        </p:grpSpPr>
        <p:sp>
          <p:nvSpPr>
            <p:cNvPr id="866" name=""/>
            <p:cNvSpPr/>
            <p:nvPr/>
          </p:nvSpPr>
          <p:spPr>
            <a:xfrm>
              <a:off x="7365960" y="305928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7365960" y="3745080"/>
              <a:ext cx="304560" cy="685800"/>
              <a:chOff x="7365960" y="3745080"/>
              <a:chExt cx="304560" cy="685800"/>
            </a:xfrm>
          </p:grpSpPr>
          <p:sp>
            <p:nvSpPr>
              <p:cNvPr id="868" name=""/>
              <p:cNvSpPr/>
              <p:nvPr/>
            </p:nvSpPr>
            <p:spPr>
              <a:xfrm>
                <a:off x="7365960" y="374508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365960" y="443088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0" name=""/>
          <p:cNvGrpSpPr/>
          <p:nvPr/>
        </p:nvGrpSpPr>
        <p:grpSpPr>
          <a:xfrm>
            <a:off x="2867040" y="3745080"/>
            <a:ext cx="304560" cy="685800"/>
            <a:chOff x="2867040" y="3745080"/>
            <a:chExt cx="304560" cy="685800"/>
          </a:xfrm>
        </p:grpSpPr>
        <p:sp>
          <p:nvSpPr>
            <p:cNvPr id="871" name=""/>
            <p:cNvSpPr/>
            <p:nvPr/>
          </p:nvSpPr>
          <p:spPr>
            <a:xfrm>
              <a:off x="2867040" y="374508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867040" y="443088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383000" y="3745080"/>
            <a:ext cx="304560" cy="685800"/>
            <a:chOff x="4383000" y="3745080"/>
            <a:chExt cx="304560" cy="685800"/>
          </a:xfrm>
        </p:grpSpPr>
        <p:sp>
          <p:nvSpPr>
            <p:cNvPr id="874" name=""/>
            <p:cNvSpPr/>
            <p:nvPr/>
          </p:nvSpPr>
          <p:spPr>
            <a:xfrm>
              <a:off x="4383000" y="374508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83000" y="443088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894280" y="3745080"/>
            <a:ext cx="304560" cy="685800"/>
            <a:chOff x="5894280" y="3745080"/>
            <a:chExt cx="304560" cy="685800"/>
          </a:xfrm>
        </p:grpSpPr>
        <p:sp>
          <p:nvSpPr>
            <p:cNvPr id="877" name=""/>
            <p:cNvSpPr/>
            <p:nvPr/>
          </p:nvSpPr>
          <p:spPr>
            <a:xfrm>
              <a:off x="5894280" y="374508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894280" y="4430880"/>
              <a:ext cx="30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304920" y="2068560"/>
            <a:ext cx="1014120" cy="4665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920" y="2805120"/>
            <a:ext cx="101412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4920" y="3543480"/>
            <a:ext cx="1014120" cy="4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04920" y="4280040"/>
            <a:ext cx="1014120" cy="466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0000" y="4906800"/>
            <a:ext cx="8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28880" y="490680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S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117240" y="502884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28520" y="502884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27800" y="490680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S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813080" y="4906800"/>
            <a:ext cx="8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254840" y="18230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254840" y="3245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254840" y="26215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555F-D5F7-445E-86FA-9A7512AAF4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hysical Characteristic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ne interfac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ort reach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mediate reach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ng reach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550 nm vs 1310 nm optic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 regenerators to extend distanc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310 n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550 n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plifier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550 nm amp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E39C-46FE-47F6-B3BD-4F5877BD28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Low Loss Window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895" name=""/>
          <p:cNvSpPr/>
          <p:nvPr/>
        </p:nvSpPr>
        <p:spPr>
          <a:xfrm>
            <a:off x="1306440" y="1219320"/>
            <a:ext cx="6573960" cy="520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195640" y="4633920"/>
            <a:ext cx="4978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195640" y="3616200"/>
            <a:ext cx="497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195640" y="2612880"/>
            <a:ext cx="497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195640" y="1595520"/>
            <a:ext cx="497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59200" y="1595520"/>
            <a:ext cx="3240" cy="404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510160" y="1595520"/>
            <a:ext cx="1800" cy="404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174080" y="1595520"/>
            <a:ext cx="1440" cy="404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195640" y="1595520"/>
            <a:ext cx="4978440" cy="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74080" y="1595520"/>
            <a:ext cx="1440" cy="404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2195280" y="5637240"/>
            <a:ext cx="4978440" cy="1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195640" y="1595160"/>
            <a:ext cx="1440" cy="4041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195640" y="1595520"/>
            <a:ext cx="1440" cy="404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95640" y="563724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195640" y="5437080"/>
            <a:ext cx="28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95640" y="523728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95640" y="503568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195640" y="483408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195640" y="461952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195640" y="441972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195640" y="421812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195640" y="401796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195640" y="381636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95640" y="361620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95640" y="341640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95640" y="321480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195640" y="301320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195640" y="28144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95640" y="261288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195640" y="239724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195640" y="2197080"/>
            <a:ext cx="28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195640" y="199692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95640" y="179532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195640" y="159552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152800" y="5637240"/>
            <a:ext cx="85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52800" y="4633920"/>
            <a:ext cx="85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152800" y="3616200"/>
            <a:ext cx="8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52800" y="2612880"/>
            <a:ext cx="8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152800" y="1595520"/>
            <a:ext cx="85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195640" y="5608440"/>
            <a:ext cx="14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2523960" y="5608440"/>
            <a:ext cx="32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855880" y="5608440"/>
            <a:ext cx="180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3186000" y="5608440"/>
            <a:ext cx="180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3529080" y="5608440"/>
            <a:ext cx="14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849920" y="5608440"/>
            <a:ext cx="14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178600" y="5608440"/>
            <a:ext cx="14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5510160" y="5608440"/>
            <a:ext cx="180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6842160" y="5608440"/>
            <a:ext cx="32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7174080" y="5608440"/>
            <a:ext cx="14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195640" y="5594400"/>
            <a:ext cx="144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5510160" y="5594400"/>
            <a:ext cx="180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7174080" y="5594400"/>
            <a:ext cx="144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41560" y="173844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2927520" y="170928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2955960" y="1693800"/>
            <a:ext cx="14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955960" y="170964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955960" y="170964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941560" y="1693800"/>
            <a:ext cx="428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70360" y="1709640"/>
            <a:ext cx="14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970360" y="1738440"/>
            <a:ext cx="144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965320" y="1781280"/>
            <a:ext cx="2232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984400" y="1824120"/>
            <a:ext cx="180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984400" y="185256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970360" y="1881360"/>
            <a:ext cx="42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98800" y="186696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998800" y="189540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998800" y="188136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84400" y="189540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13200" y="190980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013200" y="1924200"/>
            <a:ext cx="144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98800" y="1938240"/>
            <a:ext cx="428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027240" y="1968480"/>
            <a:ext cx="3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027240" y="1968480"/>
            <a:ext cx="3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027240" y="1968480"/>
            <a:ext cx="3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3013200" y="1938240"/>
            <a:ext cx="428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041640" y="1952640"/>
            <a:ext cx="32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041640" y="1923840"/>
            <a:ext cx="324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27240" y="1924200"/>
            <a:ext cx="4464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056040" y="1952640"/>
            <a:ext cx="32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56040" y="1938240"/>
            <a:ext cx="32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56040" y="1968480"/>
            <a:ext cx="32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049560" y="1996920"/>
            <a:ext cx="284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71880" y="202572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71880" y="2039760"/>
            <a:ext cx="14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56040" y="2082960"/>
            <a:ext cx="44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086280" y="208296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3086280" y="205380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086280" y="2039760"/>
            <a:ext cx="144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71880" y="2054160"/>
            <a:ext cx="42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00320" y="205416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00320" y="2039760"/>
            <a:ext cx="180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086280" y="2068560"/>
            <a:ext cx="42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114720" y="205416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14720" y="206856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14720" y="208296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100320" y="209700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129120" y="212580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29120" y="211140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14720" y="2139840"/>
            <a:ext cx="42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143160" y="212580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43160" y="213984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143160" y="216864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129120" y="215424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157560" y="216864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157560" y="2182680"/>
            <a:ext cx="14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143160" y="2211480"/>
            <a:ext cx="42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71960" y="2197080"/>
            <a:ext cx="14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171960" y="221148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57560" y="2241720"/>
            <a:ext cx="42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186000" y="2227320"/>
            <a:ext cx="1800" cy="4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186000" y="2241720"/>
            <a:ext cx="1800" cy="4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86000" y="226836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71960" y="225432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200400" y="228276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00400" y="2268360"/>
            <a:ext cx="144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186000" y="228276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14800" y="229716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14800" y="231156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214800" y="232560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200400" y="234000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28840" y="236844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228840" y="236844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14800" y="235440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43240" y="238284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243240" y="238284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43240" y="238284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228840" y="2382840"/>
            <a:ext cx="42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257640" y="235404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257640" y="236844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243240" y="2368440"/>
            <a:ext cx="42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71680" y="235440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71680" y="238284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71680" y="236844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257640" y="238284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86080" y="2397240"/>
            <a:ext cx="32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86080" y="2411280"/>
            <a:ext cx="32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271680" y="2440080"/>
            <a:ext cx="4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0480" y="2425680"/>
            <a:ext cx="32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00480" y="2454120"/>
            <a:ext cx="3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300480" y="2454120"/>
            <a:ext cx="3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86080" y="2454120"/>
            <a:ext cx="4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14880" y="2454120"/>
            <a:ext cx="2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14880" y="2454120"/>
            <a:ext cx="2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300480" y="2454120"/>
            <a:ext cx="41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3330720" y="242532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330720" y="244008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330720" y="244008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314880" y="2440080"/>
            <a:ext cx="42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41520" y="2425680"/>
            <a:ext cx="32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341520" y="2454120"/>
            <a:ext cx="3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330720" y="2440080"/>
            <a:ext cx="410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7720" y="2468520"/>
            <a:ext cx="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57720" y="2468520"/>
            <a:ext cx="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341520" y="2468520"/>
            <a:ext cx="446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371760" y="245412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371760" y="2482920"/>
            <a:ext cx="18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371760" y="2482920"/>
            <a:ext cx="18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357720" y="2482920"/>
            <a:ext cx="42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86160" y="2482920"/>
            <a:ext cx="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86160" y="2468520"/>
            <a:ext cx="14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371760" y="2496960"/>
            <a:ext cx="42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400560" y="2482920"/>
            <a:ext cx="144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400560" y="2496960"/>
            <a:ext cx="14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400560" y="252720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386160" y="251316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414600" y="254160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414600" y="252720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400560" y="2556000"/>
            <a:ext cx="42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429000" y="255600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29000" y="255600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29000" y="255600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414600" y="254160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443400" y="257004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443400" y="255600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429000" y="257004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57440" y="259884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57440" y="258444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457440" y="259884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443400" y="2627280"/>
            <a:ext cx="42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71840" y="262728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471840" y="261288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57440" y="2641680"/>
            <a:ext cx="42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86240" y="262728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486240" y="264168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86240" y="2655720"/>
            <a:ext cx="144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471840" y="267012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00280" y="269892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00280" y="268452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86240" y="2712960"/>
            <a:ext cx="42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14680" y="271296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14680" y="271296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500280" y="2712960"/>
            <a:ext cx="43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842160" y="4181400"/>
            <a:ext cx="3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6842160" y="41540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827760" y="4167360"/>
            <a:ext cx="42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6856560" y="4140360"/>
            <a:ext cx="2880" cy="4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6856560" y="4125600"/>
            <a:ext cx="288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6856560" y="4111200"/>
            <a:ext cx="288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42160" y="4125960"/>
            <a:ext cx="44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6870600" y="4097160"/>
            <a:ext cx="324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6870600" y="4082760"/>
            <a:ext cx="32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6856560" y="4068360"/>
            <a:ext cx="4428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886440" y="408312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886440" y="405396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886440" y="4068720"/>
            <a:ext cx="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870600" y="4039920"/>
            <a:ext cx="446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900840" y="402552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00840" y="404028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6886440" y="401112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6915240" y="399708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6915240" y="398268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6915240" y="3966840"/>
            <a:ext cx="144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6900840" y="3952800"/>
            <a:ext cx="428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929280" y="3938400"/>
            <a:ext cx="1800" cy="4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929280" y="3952800"/>
            <a:ext cx="18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6915240" y="392400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6943680" y="390960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6943680" y="3895560"/>
            <a:ext cx="180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6943680" y="388116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6929280" y="3866760"/>
            <a:ext cx="432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958080" y="388152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958080" y="385236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6943680" y="383832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972480" y="382392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972480" y="380952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972480" y="3824280"/>
            <a:ext cx="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58080" y="379548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6986520" y="378108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6986520" y="376668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6978600" y="3738240"/>
            <a:ext cx="302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7000920" y="3708000"/>
            <a:ext cx="14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7000920" y="3679560"/>
            <a:ext cx="144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7000920" y="366516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6993000" y="3637080"/>
            <a:ext cx="30240" cy="5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15320" y="365112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015320" y="365112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7000920" y="362232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029360" y="3637080"/>
            <a:ext cx="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7029360" y="360792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7015320" y="359388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7043760" y="357948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7043760" y="3565080"/>
            <a:ext cx="14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043760" y="3536640"/>
            <a:ext cx="144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029360" y="3524400"/>
            <a:ext cx="42840" cy="4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058160" y="3509640"/>
            <a:ext cx="14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058160" y="3495240"/>
            <a:ext cx="14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043760" y="3481200"/>
            <a:ext cx="4284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072200" y="346680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072200" y="3452400"/>
            <a:ext cx="18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7072200" y="3438360"/>
            <a:ext cx="1800" cy="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7058160" y="3422520"/>
            <a:ext cx="428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086600" y="3438360"/>
            <a:ext cx="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48160" y="54864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748160" y="4483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748160" y="3463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748160" y="24620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748160" y="14428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935000" y="57164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598920" y="57164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248440" y="57164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913440" y="57164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934800" y="6016680"/>
            <a:ext cx="143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28160" y="3562200"/>
            <a:ext cx="925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16200000">
            <a:off x="404280" y="3689280"/>
            <a:ext cx="2117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tenuation (dB/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114800" y="1701720"/>
            <a:ext cx="380880" cy="3936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3514680" y="2692440"/>
            <a:ext cx="846000" cy="872640"/>
            <a:chOff x="3514680" y="2692440"/>
            <a:chExt cx="846000" cy="872640"/>
          </a:xfrm>
        </p:grpSpPr>
        <p:sp>
          <p:nvSpPr>
            <p:cNvPr id="1161" name=""/>
            <p:cNvSpPr/>
            <p:nvPr/>
          </p:nvSpPr>
          <p:spPr>
            <a:xfrm>
              <a:off x="3529080" y="26924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529080" y="27064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29080" y="27208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514680" y="273528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543480" y="27496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43480" y="27640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529080" y="2792880"/>
              <a:ext cx="42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557520" y="27928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57520" y="27928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557520" y="27928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43480" y="27928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71920" y="27781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571920" y="28072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557520" y="279288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86680" y="28213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86680" y="28213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86680" y="28213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571920" y="282132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00720" y="28072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600720" y="28213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86680" y="283608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15120" y="28645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15120" y="2850480"/>
              <a:ext cx="180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15120" y="2864520"/>
              <a:ext cx="180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00720" y="2878920"/>
              <a:ext cx="4284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29880" y="29055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29880" y="28915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15120" y="29203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43920" y="29055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643920" y="2934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643920" y="2934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629880" y="2920320"/>
              <a:ext cx="424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658320" y="29487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658320" y="29487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643920" y="29487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672720" y="29347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672720" y="29635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72720" y="29635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58320" y="294876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87120" y="2977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87120" y="296352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72720" y="29919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01520" y="29779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701520" y="30063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687120" y="299196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715920" y="30211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715920" y="300636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715920" y="30351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701520" y="302112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30320" y="30495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30320" y="30351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15920" y="30643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44720" y="30495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44720" y="30783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44720" y="306432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730320" y="309276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59120" y="30927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59120" y="30783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744720" y="31068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73160" y="309276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773160" y="31215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773160" y="310680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759120" y="31359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87920" y="312156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787920" y="31500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773160" y="31500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802320" y="31500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802320" y="31500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02320" y="31500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87920" y="3135960"/>
              <a:ext cx="424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16360" y="31644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16360" y="31644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02320" y="31644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30760" y="315000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0760" y="31791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30760" y="31791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16360" y="316440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45520" y="31932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845520" y="31791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830760" y="32076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859560" y="32076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859560" y="31932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59560" y="32223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45520" y="320760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73960" y="32364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73960" y="32364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59560" y="322236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88720" y="32508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8720" y="32364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73960" y="325080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2760" y="32796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02760" y="32648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902760" y="32940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88720" y="3279600"/>
              <a:ext cx="424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917160" y="330804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917160" y="329400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902760" y="332280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31200" y="33228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31200" y="33228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31200" y="33228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917160" y="332280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945960" y="33228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945960" y="33228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31200" y="332280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60360" y="33228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60360" y="33080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60360" y="33372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945960" y="332280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74400" y="335124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974400" y="333720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960360" y="336564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989160" y="33656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989160" y="33656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989160" y="33512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74400" y="338040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03560" y="33804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003560" y="33804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989160" y="3380400"/>
              <a:ext cx="42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17600" y="33656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017600" y="33944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17600" y="33944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03560" y="338040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32000" y="340884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032000" y="340884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017600" y="339444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046760" y="34228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46760" y="34228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46760" y="34088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32000" y="343764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60800" y="34376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60800" y="34228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46760" y="3452040"/>
              <a:ext cx="42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75200" y="34520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075200" y="34520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060800" y="345204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089600" y="34520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89600" y="34520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89600" y="34520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75200" y="345204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04000" y="34520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04000" y="34520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089600" y="345204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18400" y="34520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18400" y="34376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18400" y="34660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04000" y="346608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32800" y="345204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32800" y="34808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18400" y="3466080"/>
              <a:ext cx="410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147200" y="34952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47200" y="34952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47200" y="34952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132800" y="3495240"/>
              <a:ext cx="41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59440" y="34952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59440" y="34952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47200" y="3495240"/>
              <a:ext cx="41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74200" y="34952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74200" y="34952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74200" y="34952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159440" y="349524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188600" y="34952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8600" y="34952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74200" y="349524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02640" y="34952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202640" y="3480840"/>
              <a:ext cx="180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02640" y="35092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88600" y="350928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217400" y="3509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217400" y="3509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202640" y="350928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231800" y="3509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231800" y="3509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231800" y="3509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217400" y="350928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245840" y="35092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245840" y="35092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1800" y="3495240"/>
              <a:ext cx="4284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260240" y="35236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260240" y="35236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245840" y="3509280"/>
              <a:ext cx="4284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275000" y="3536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75000" y="3536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275000" y="3536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60240" y="353628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289040" y="3536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289040" y="3536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275000" y="353628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303440" y="35362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03440" y="35362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3440" y="35362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289040" y="353628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18200" y="3523680"/>
              <a:ext cx="144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18200" y="35510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03440" y="355104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32240" y="35510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32240" y="35510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332240" y="35510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4318200" y="3523320"/>
              <a:ext cx="4248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46640" y="3536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346640" y="35362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4332240" y="1846080"/>
            <a:ext cx="859680" cy="2436480"/>
            <a:chOff x="4332240" y="1846080"/>
            <a:chExt cx="859680" cy="2436480"/>
          </a:xfrm>
        </p:grpSpPr>
        <p:sp>
          <p:nvSpPr>
            <p:cNvPr id="1362" name=""/>
            <p:cNvSpPr/>
            <p:nvPr/>
          </p:nvSpPr>
          <p:spPr>
            <a:xfrm>
              <a:off x="4332240" y="35370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360680" y="35370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360680" y="35370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360680" y="35370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346280" y="35370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375080" y="35370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375080" y="35370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4360680" y="3509640"/>
              <a:ext cx="4284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89480" y="35244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389480" y="35244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4389480" y="3495960"/>
              <a:ext cx="144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375080" y="351000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4403880" y="3481560"/>
              <a:ext cx="180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4403880" y="346644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4389480" y="345240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4417920" y="343800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4417920" y="3409200"/>
              <a:ext cx="1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4417920" y="339480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4412880" y="3351600"/>
              <a:ext cx="2340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4432680" y="332316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4432680" y="3279960"/>
              <a:ext cx="144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4427280" y="3236760"/>
              <a:ext cx="2304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4447080" y="3179520"/>
              <a:ext cx="144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4447080" y="3122280"/>
              <a:ext cx="144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4443120" y="3049560"/>
              <a:ext cx="19800" cy="10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4461120" y="2977920"/>
              <a:ext cx="1800" cy="10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4461120" y="2891520"/>
              <a:ext cx="1800" cy="11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4461120" y="2821320"/>
              <a:ext cx="1800" cy="9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4457520" y="2735640"/>
              <a:ext cx="18000" cy="11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4475880" y="2649240"/>
              <a:ext cx="1440" cy="11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4475880" y="2577600"/>
              <a:ext cx="144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4472280" y="2519640"/>
              <a:ext cx="21240" cy="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4490280" y="2447640"/>
              <a:ext cx="1440" cy="10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4490280" y="2376000"/>
              <a:ext cx="1440" cy="10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4490280" y="2304000"/>
              <a:ext cx="1440" cy="10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4486320" y="2233800"/>
              <a:ext cx="19800" cy="9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4504320" y="2162160"/>
              <a:ext cx="1800" cy="9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4504320" y="2090160"/>
              <a:ext cx="1800" cy="10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4500720" y="2032560"/>
              <a:ext cx="21240" cy="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4518720" y="1989720"/>
              <a:ext cx="180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4518720" y="1946520"/>
              <a:ext cx="180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4518720" y="1917720"/>
              <a:ext cx="1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4504320" y="190332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4533120" y="188928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4533120" y="18745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4518720" y="186012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547520" y="18748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4547520" y="18460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547520" y="18604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533120" y="18604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561920" y="184644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561920" y="186048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47520" y="18892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576320" y="18748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76320" y="188928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576320" y="191808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570920" y="1946880"/>
              <a:ext cx="2340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590720" y="199008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90720" y="201852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83520" y="2047680"/>
              <a:ext cx="28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605120" y="20761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05120" y="2090520"/>
              <a:ext cx="1440" cy="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605120" y="211932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599720" y="2148120"/>
              <a:ext cx="2304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619160" y="2190960"/>
              <a:ext cx="180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619160" y="2234160"/>
              <a:ext cx="180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614120" y="2261160"/>
              <a:ext cx="23040" cy="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633920" y="230436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33920" y="2333160"/>
              <a:ext cx="144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626720" y="2376360"/>
              <a:ext cx="28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648320" y="2404800"/>
              <a:ext cx="1440" cy="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648320" y="2448000"/>
              <a:ext cx="144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648320" y="2491200"/>
              <a:ext cx="144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642920" y="2534400"/>
              <a:ext cx="23040" cy="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62360" y="2577600"/>
              <a:ext cx="1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62360" y="2606400"/>
              <a:ext cx="1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263520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76760" y="2649600"/>
              <a:ext cx="1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76760" y="2678040"/>
              <a:ext cx="1800" cy="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676760" y="270684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669920" y="2721240"/>
              <a:ext cx="28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691520" y="275004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91520" y="27784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83960" y="2793240"/>
              <a:ext cx="28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05560" y="28216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705560" y="283644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705560" y="2850840"/>
              <a:ext cx="144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91520" y="2864880"/>
              <a:ext cx="4284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719960" y="2879280"/>
              <a:ext cx="180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719960" y="289188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713120" y="2906280"/>
              <a:ext cx="28440" cy="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734360" y="293508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734360" y="296388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734360" y="297828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727160" y="3006720"/>
              <a:ext cx="28440" cy="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748760" y="30358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748760" y="30499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741560" y="3064680"/>
              <a:ext cx="28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63160" y="30931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763160" y="3107520"/>
              <a:ext cx="1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763160" y="3136320"/>
              <a:ext cx="1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55600" y="3164760"/>
              <a:ext cx="28800" cy="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777200" y="3193920"/>
              <a:ext cx="1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777200" y="3222720"/>
              <a:ext cx="1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63160" y="325116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791960" y="3265560"/>
              <a:ext cx="1440" cy="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791960" y="32943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791960" y="33087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777200" y="332352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6360" y="333756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6360" y="33663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798800" y="3380760"/>
              <a:ext cx="28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20400" y="3409560"/>
              <a:ext cx="1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820400" y="343836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813560" y="3452760"/>
              <a:ext cx="28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835160" y="348156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835160" y="3495960"/>
              <a:ext cx="144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835160" y="3510000"/>
              <a:ext cx="144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820400" y="3524400"/>
              <a:ext cx="4284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849560" y="35370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849560" y="355176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842000" y="3565800"/>
              <a:ext cx="2880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63600" y="35946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63600" y="36090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63600" y="3623400"/>
              <a:ext cx="144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49560" y="365220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78000" y="366660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878000" y="368064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63600" y="369504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92760" y="370980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92760" y="37238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92760" y="37382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78000" y="375264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906800" y="37670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906800" y="37958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92760" y="3781440"/>
              <a:ext cx="424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21200" y="379584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21200" y="38246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921200" y="3810240"/>
              <a:ext cx="180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906800" y="382464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35240" y="383904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935240" y="385308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921200" y="3867840"/>
              <a:ext cx="414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950000" y="38822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50000" y="39110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950000" y="38962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935240" y="3911040"/>
              <a:ext cx="4140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962600" y="39394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962600" y="39254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950000" y="3953880"/>
              <a:ext cx="41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977000" y="39394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977000" y="39686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977000" y="39538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962600" y="3968640"/>
              <a:ext cx="4248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991040" y="398268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991040" y="40111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977000" y="399708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005440" y="40258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005440" y="40111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991040" y="40402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020200" y="40402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020200" y="40258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020200" y="40543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005440" y="404028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034240" y="40690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034240" y="40543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020200" y="40834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048640" y="4069080"/>
              <a:ext cx="180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048640" y="40975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048640" y="40975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034240" y="408348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063400" y="41119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063400" y="40975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048640" y="41266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077440" y="41119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077440" y="4140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077440" y="4126680"/>
              <a:ext cx="144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063400" y="415512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091840" y="4140720"/>
              <a:ext cx="180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091840" y="41677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077440" y="4155120"/>
              <a:ext cx="4284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105880" y="41821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105880" y="41677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105880" y="41968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091840" y="418212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120640" y="4210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120640" y="4210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105880" y="42109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35040" y="41968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35040" y="42253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35040" y="42253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120640" y="4210920"/>
              <a:ext cx="424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149080" y="42400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149080" y="42400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135040" y="422532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163480" y="42541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163480" y="42541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163480" y="4240080"/>
              <a:ext cx="180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149080" y="42685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178240" y="4268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" name=""/>
          <p:cNvSpPr/>
          <p:nvPr/>
        </p:nvSpPr>
        <p:spPr>
          <a:xfrm>
            <a:off x="5638680" y="1701720"/>
            <a:ext cx="838440" cy="3936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253960" y="396144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310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402080" y="48250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550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42900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5164200" y="4253040"/>
            <a:ext cx="859680" cy="502560"/>
            <a:chOff x="5164200" y="4253040"/>
            <a:chExt cx="859680" cy="502560"/>
          </a:xfrm>
        </p:grpSpPr>
        <p:sp>
          <p:nvSpPr>
            <p:cNvPr id="1567" name=""/>
            <p:cNvSpPr/>
            <p:nvPr/>
          </p:nvSpPr>
          <p:spPr>
            <a:xfrm>
              <a:off x="5178600" y="42530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164200" y="428148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93000" y="42814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93000" y="42670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78600" y="42958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207040" y="42958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207040" y="428148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207040" y="43102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193000" y="429588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21800" y="43246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21800" y="43246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207040" y="431028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36200" y="43387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236200" y="43387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236200" y="43387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221800" y="4324680"/>
              <a:ext cx="424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250240" y="43534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250240" y="43534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236200" y="43534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264640" y="43387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264640" y="43678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264640" y="435348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250240" y="438192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279400" y="43819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279400" y="43819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264640" y="438192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293440" y="43678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293440" y="43966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293440" y="43966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279400" y="43966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307840" y="43966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07840" y="43819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293440" y="44110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322240" y="44110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322240" y="44110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322240" y="439668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307840" y="442512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336640" y="44251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336640" y="44110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322240" y="443952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351040" y="44395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351040" y="44395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351040" y="44251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336640" y="44542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365080" y="44542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65080" y="44395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351040" y="44683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379840" y="44683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379840" y="44683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65080" y="44683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94240" y="44683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394240" y="44542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94240" y="44827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379840" y="448272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408280" y="44827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408280" y="44683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394240" y="44974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422680" y="44974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422680" y="44974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422680" y="44974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408280" y="448272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437080" y="4511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437080" y="4511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422680" y="45115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451480" y="4511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451480" y="4511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451480" y="4511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437080" y="45115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465880" y="4497480"/>
              <a:ext cx="180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465880" y="45259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451480" y="45259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480280" y="4525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480280" y="4525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80280" y="4525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65880" y="451152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94680" y="45399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94680" y="45399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80280" y="453996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508720" y="4539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508720" y="4539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508720" y="45259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94680" y="45547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523120" y="45547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523120" y="45547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508720" y="45547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537880" y="4554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537880" y="4554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523120" y="45547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51920" y="45399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51920" y="45691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551920" y="45691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537880" y="45691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66320" y="45691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6320" y="45691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551920" y="455472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81080" y="45831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581080" y="45831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81080" y="45831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566320" y="456912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595120" y="45975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595120" y="45975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581080" y="459756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09520" y="45975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609520" y="45975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609520" y="458316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595120" y="46123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623560" y="46123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623560" y="46123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609520" y="46123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638320" y="45975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638320" y="46263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638320" y="46263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623560" y="46263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652720" y="46263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652720" y="46263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638320" y="4626360"/>
              <a:ext cx="42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666760" y="46263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666760" y="461232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66760" y="46407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52720" y="46407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81160" y="46407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81160" y="46407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66760" y="46407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695920" y="46407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695920" y="46263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695920" y="4655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681160" y="46555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09960" y="4655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709960" y="4655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695920" y="464076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24360" y="46695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724360" y="46695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709960" y="46695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739120" y="46695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739120" y="46695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739120" y="46695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724360" y="46695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753160" y="465552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753160" y="46839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739120" y="4683960"/>
              <a:ext cx="41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767560" y="4683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767560" y="4683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767560" y="4683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753160" y="4683960"/>
              <a:ext cx="41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780160" y="46839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780160" y="46839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767560" y="4683960"/>
              <a:ext cx="41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94200" y="4683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794200" y="4683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94200" y="466956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780160" y="46983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08960" y="46983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808960" y="46983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794200" y="46983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823360" y="46983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823360" y="46983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823360" y="46983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808960" y="469836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837400" y="46983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837400" y="468396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823360" y="47127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851800" y="47127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851800" y="47127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851800" y="47127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37400" y="47127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866560" y="4712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866560" y="4712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851800" y="47127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880600" y="4712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880600" y="4712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880600" y="4712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6560" y="47127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895000" y="47127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895000" y="47127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880600" y="47127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909400" y="46983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90940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895000" y="47271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92380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92380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92380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909400" y="4727160"/>
              <a:ext cx="42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93820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93820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923800" y="47271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952240" y="47271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952240" y="47271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952240" y="47271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938200" y="47271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96700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96700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52240" y="47271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98104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98104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98104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967000" y="4712760"/>
              <a:ext cx="424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995440" y="47415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995440" y="47415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981040" y="47415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009840" y="47415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5996160" y="4167000"/>
            <a:ext cx="860040" cy="603000"/>
            <a:chOff x="5996160" y="4167000"/>
            <a:chExt cx="860040" cy="603000"/>
          </a:xfrm>
        </p:grpSpPr>
        <p:sp>
          <p:nvSpPr>
            <p:cNvPr id="1768" name=""/>
            <p:cNvSpPr/>
            <p:nvPr/>
          </p:nvSpPr>
          <p:spPr>
            <a:xfrm>
              <a:off x="601020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01020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996160" y="47412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02496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02496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10200" y="47412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03900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03900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03900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024960" y="47412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05340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05340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39000" y="47412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06816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06816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68160" y="47271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053400" y="47559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6082200" y="47268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08220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068160" y="474120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09660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660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082200" y="47412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11100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11100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11100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096600" y="47412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12540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12540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11000" y="472716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13980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13980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13980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125400" y="47559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154200" y="47559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154200" y="47559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139800" y="47559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16860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16860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16860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154200" y="47559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8300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18300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168600" y="4755960"/>
              <a:ext cx="42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9704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19704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197040" y="47559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183000" y="47559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211440" y="47559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211440" y="47559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6197040" y="472680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22620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22620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22620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211440" y="47412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24024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240240" y="47412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226200" y="4741200"/>
              <a:ext cx="42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25464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5464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5464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40240" y="47412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26904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269040" y="47412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254640" y="47412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6283440" y="47124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28344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269040" y="47271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9784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29784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29784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283440" y="47271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312240" y="47271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312240" y="47271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297840" y="47271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32664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32664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326640" y="47271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V="1">
              <a:off x="6312240" y="469764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341040" y="4712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341040" y="47127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326640" y="4712760"/>
              <a:ext cx="42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355440" y="47127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355440" y="47127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355440" y="47127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6341040" y="468360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369480" y="46980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369480" y="469800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355440" y="46980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384240" y="46980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84240" y="46980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384240" y="469800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69480" y="46980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6398280" y="46692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98280" y="46839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384240" y="46839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412680" y="4683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412680" y="4683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412680" y="468396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398280" y="46839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6427440" y="465552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427440" y="46695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412680" y="466956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441480" y="46695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441480" y="46695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41480" y="466956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27440" y="4669560"/>
              <a:ext cx="42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6455880" y="46404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455880" y="4655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441480" y="46555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470280" y="46555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470280" y="46555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455880" y="46555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484680" y="46555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6484680" y="46260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84680" y="46407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470280" y="46407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499080" y="46407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6499080" y="46119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484680" y="4626360"/>
              <a:ext cx="42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513480" y="46263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513480" y="46263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513480" y="462636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499080" y="459720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527520" y="46123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527520" y="46123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513480" y="46123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6542280" y="45831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542280" y="45975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542280" y="45975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527520" y="459756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556680" y="45975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556680" y="459756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542280" y="456876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70720" y="45835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570720" y="458352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6570720" y="4555080"/>
              <a:ext cx="180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556680" y="4569120"/>
              <a:ext cx="41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585480" y="45691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6585480" y="453996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570720" y="4555080"/>
              <a:ext cx="41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97720" y="45550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597720" y="45550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6597720" y="452556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585480" y="4540320"/>
              <a:ext cx="41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612480" y="45403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6612480" y="45115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597720" y="452592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626520" y="4525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626520" y="45259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6626520" y="449748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12480" y="45118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640920" y="45118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6640920" y="448236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626520" y="449748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6655680" y="44683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655680" y="448272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640920" y="448272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6669720" y="44539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669720" y="44686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669720" y="446868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6655680" y="4439520"/>
              <a:ext cx="424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684120" y="44542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684120" y="445428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6669720" y="442512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698160" y="44398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98160" y="44398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698160" y="441108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684120" y="442548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712920" y="442548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6712920" y="439704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698160" y="4411440"/>
              <a:ext cx="4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6727320" y="438192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727320" y="43970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6727320" y="43678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712920" y="438228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6741360" y="435348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741360" y="43682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6727320" y="433908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756120" y="43538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6756120" y="43246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756120" y="43394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741360" y="4310280"/>
              <a:ext cx="428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770520" y="4325040"/>
              <a:ext cx="1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6770520" y="4296600"/>
              <a:ext cx="14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756120" y="4310640"/>
              <a:ext cx="42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6784560" y="428148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784560" y="42966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6784560" y="42674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70520" y="428184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6798960" y="4253040"/>
              <a:ext cx="1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98960" y="42678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6784560" y="4239360"/>
              <a:ext cx="42840" cy="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813720" y="425340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6813720" y="42242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6813720" y="42098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98960" y="4224600"/>
              <a:ext cx="42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6827760" y="419580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6827760" y="4181040"/>
              <a:ext cx="144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6813720" y="4167000"/>
              <a:ext cx="424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8" name=""/>
          <p:cNvSpPr/>
          <p:nvPr/>
        </p:nvSpPr>
        <p:spPr>
          <a:xfrm>
            <a:off x="5562720" y="5130720"/>
            <a:ext cx="5331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V="1">
            <a:off x="3859200" y="5608440"/>
            <a:ext cx="32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V="1">
            <a:off x="4189320" y="5608440"/>
            <a:ext cx="180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 flipV="1">
            <a:off x="4519440" y="5608440"/>
            <a:ext cx="180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V="1">
            <a:off x="3859200" y="5594400"/>
            <a:ext cx="3240" cy="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5826240" y="560844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6170760" y="560844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6513480" y="5608440"/>
            <a:ext cx="180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195640" y="5637240"/>
            <a:ext cx="497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85468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89284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93100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96916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0696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04512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08328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12144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15960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19776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235560" y="4343400"/>
            <a:ext cx="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B115-515A-4227-813B-EC7E6B0F62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Network Elements and Topologi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228600" y="4343400"/>
            <a:ext cx="5181480" cy="2287440"/>
            <a:chOff x="228600" y="4343400"/>
            <a:chExt cx="5181480" cy="2287440"/>
          </a:xfrm>
        </p:grpSpPr>
        <p:grpSp>
          <p:nvGrpSpPr>
            <p:cNvPr id="1990" name=""/>
            <p:cNvGrpSpPr/>
            <p:nvPr/>
          </p:nvGrpSpPr>
          <p:grpSpPr>
            <a:xfrm>
              <a:off x="838080" y="4343400"/>
              <a:ext cx="4000320" cy="1657440"/>
              <a:chOff x="838080" y="4343400"/>
              <a:chExt cx="4000320" cy="1657440"/>
            </a:xfrm>
          </p:grpSpPr>
          <p:sp>
            <p:nvSpPr>
              <p:cNvPr id="1991" name=""/>
              <p:cNvSpPr/>
              <p:nvPr/>
            </p:nvSpPr>
            <p:spPr>
              <a:xfrm>
                <a:off x="1600200" y="4343400"/>
                <a:ext cx="2438280" cy="1067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2" name=""/>
              <p:cNvGrpSpPr/>
              <p:nvPr/>
            </p:nvGrpSpPr>
            <p:grpSpPr>
              <a:xfrm>
                <a:off x="838080" y="4876920"/>
                <a:ext cx="1257120" cy="1123920"/>
                <a:chOff x="838080" y="4876920"/>
                <a:chExt cx="1257120" cy="112392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838080" y="4876920"/>
                  <a:ext cx="342720" cy="285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838080" y="5715000"/>
                  <a:ext cx="342720" cy="2858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1752480" y="4876920"/>
                  <a:ext cx="342720" cy="285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1752480" y="5715000"/>
                  <a:ext cx="342720" cy="2858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7" name=""/>
              <p:cNvGrpSpPr/>
              <p:nvPr/>
            </p:nvGrpSpPr>
            <p:grpSpPr>
              <a:xfrm>
                <a:off x="3581280" y="4876920"/>
                <a:ext cx="1257120" cy="1123920"/>
                <a:chOff x="3581280" y="4876920"/>
                <a:chExt cx="1257120" cy="112392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3581280" y="4876920"/>
                  <a:ext cx="342720" cy="285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581280" y="5715000"/>
                  <a:ext cx="342720" cy="2858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495680" y="4876920"/>
                  <a:ext cx="342720" cy="285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495680" y="5715000"/>
                  <a:ext cx="342720" cy="2858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2" name=""/>
              <p:cNvSpPr/>
              <p:nvPr/>
            </p:nvSpPr>
            <p:spPr>
              <a:xfrm>
                <a:off x="2666880" y="4876920"/>
                <a:ext cx="343080" cy="2858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990360" y="5028840"/>
                <a:ext cx="0" cy="76212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>
                <a:off x="990360" y="5867640"/>
                <a:ext cx="914400" cy="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3733560" y="5029200"/>
                <a:ext cx="0" cy="45720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>
                <a:off x="3733560" y="5791320"/>
                <a:ext cx="609840" cy="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294560" y="4953240"/>
                <a:ext cx="685800" cy="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037760" y="4953240"/>
                <a:ext cx="304920" cy="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133360" y="4953240"/>
                <a:ext cx="144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092960" y="5257440"/>
                <a:ext cx="83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ddddd"/>
                    </a:solidFill>
                    <a:latin typeface="Times New Roman"/>
                  </a:rPr>
                  <a:t>Ring #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904760" y="5257800"/>
                <a:ext cx="0" cy="53352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734280" y="5181480"/>
                <a:ext cx="83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ddddd"/>
                    </a:solidFill>
                    <a:latin typeface="Times New Roman"/>
                  </a:rPr>
                  <a:t>Ring #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4647960" y="4953240"/>
                <a:ext cx="0" cy="914400"/>
              </a:xfrm>
              <a:prstGeom prst="line">
                <a:avLst/>
              </a:prstGeom>
              <a:ln w="9360">
                <a:solidFill>
                  <a:srgbClr val="cc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4" name=""/>
            <p:cNvSpPr/>
            <p:nvPr/>
          </p:nvSpPr>
          <p:spPr>
            <a:xfrm>
              <a:off x="1796400" y="6171120"/>
              <a:ext cx="20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ross Conn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099880" y="4401720"/>
              <a:ext cx="142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entral Off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28600" y="4952880"/>
              <a:ext cx="4572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952880" y="4952880"/>
              <a:ext cx="4572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3276720" y="1828440"/>
            <a:ext cx="3502080" cy="2362680"/>
            <a:chOff x="3276720" y="1828440"/>
            <a:chExt cx="3502080" cy="2362680"/>
          </a:xfrm>
        </p:grpSpPr>
        <p:sp>
          <p:nvSpPr>
            <p:cNvPr id="2019" name=""/>
            <p:cNvSpPr/>
            <p:nvPr/>
          </p:nvSpPr>
          <p:spPr>
            <a:xfrm>
              <a:off x="3276720" y="2422800"/>
              <a:ext cx="3254040" cy="103500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311360" y="3400560"/>
              <a:ext cx="444240" cy="369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868560" y="2362320"/>
              <a:ext cx="442440" cy="369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238800" y="2860920"/>
              <a:ext cx="443880" cy="371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106960" y="36565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231080" y="342648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812040" y="243756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174360" y="289476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419360" y="3886200"/>
              <a:ext cx="0" cy="30492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4647960" y="3885840"/>
              <a:ext cx="0" cy="30492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62160" y="1828800"/>
              <a:ext cx="0" cy="30492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4190760" y="1828440"/>
              <a:ext cx="0" cy="30492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400440" y="3353040"/>
              <a:ext cx="0" cy="30456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6629040" y="3353040"/>
              <a:ext cx="0" cy="304560"/>
            </a:xfrm>
            <a:prstGeom prst="line">
              <a:avLst/>
            </a:prstGeom>
            <a:ln w="93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6553080" y="1066320"/>
            <a:ext cx="2057400" cy="1391040"/>
            <a:chOff x="6553080" y="1066320"/>
            <a:chExt cx="2057400" cy="1391040"/>
          </a:xfrm>
        </p:grpSpPr>
        <p:sp>
          <p:nvSpPr>
            <p:cNvPr id="2034" name=""/>
            <p:cNvSpPr/>
            <p:nvPr/>
          </p:nvSpPr>
          <p:spPr>
            <a:xfrm>
              <a:off x="6781680" y="1389240"/>
              <a:ext cx="1600200" cy="30456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5" name=""/>
            <p:cNvGrpSpPr/>
            <p:nvPr/>
          </p:nvGrpSpPr>
          <p:grpSpPr>
            <a:xfrm>
              <a:off x="6553080" y="1465200"/>
              <a:ext cx="2057400" cy="285840"/>
              <a:chOff x="6553080" y="1465200"/>
              <a:chExt cx="2057400" cy="285840"/>
            </a:xfrm>
          </p:grpSpPr>
          <p:sp>
            <p:nvSpPr>
              <p:cNvPr id="2036" name=""/>
              <p:cNvSpPr/>
              <p:nvPr/>
            </p:nvSpPr>
            <p:spPr>
              <a:xfrm>
                <a:off x="6781680" y="1531800"/>
                <a:ext cx="1600200" cy="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553080" y="1465200"/>
                <a:ext cx="343080" cy="2858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8267760" y="1465200"/>
                <a:ext cx="342720" cy="2858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7050960" y="19976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Line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239240" y="10663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179120" y="164124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ot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200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rminal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dd/drop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oss-connec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48DB-8424-49E4-B37D-9611DB36C8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rotection Schem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near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ing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ien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C0A0-CA13-4A7E-A96D-22DA6C5E51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rotection Schemes: 1 + 1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046" name=""/>
          <p:cNvSpPr/>
          <p:nvPr/>
        </p:nvSpPr>
        <p:spPr>
          <a:xfrm>
            <a:off x="1067400" y="449568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Sour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181160" y="3124080"/>
            <a:ext cx="779400" cy="1251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860880" y="4495680"/>
            <a:ext cx="142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Destin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182000" y="3124080"/>
            <a:ext cx="779400" cy="1251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600200" y="3505320"/>
            <a:ext cx="5867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1" name=""/>
          <p:cNvGrpSpPr/>
          <p:nvPr/>
        </p:nvGrpSpPr>
        <p:grpSpPr>
          <a:xfrm>
            <a:off x="1600200" y="3506040"/>
            <a:ext cx="5866920" cy="608400"/>
            <a:chOff x="1600200" y="3506040"/>
            <a:chExt cx="5866920" cy="608400"/>
          </a:xfrm>
        </p:grpSpPr>
        <p:sp>
          <p:nvSpPr>
            <p:cNvPr id="2052" name=""/>
            <p:cNvSpPr/>
            <p:nvPr/>
          </p:nvSpPr>
          <p:spPr>
            <a:xfrm>
              <a:off x="1909080" y="4114440"/>
              <a:ext cx="52491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600200" y="3506040"/>
              <a:ext cx="308880" cy="6084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H="1">
              <a:off x="7158240" y="3506040"/>
              <a:ext cx="308880" cy="6084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5" name=""/>
          <p:cNvSpPr/>
          <p:nvPr/>
        </p:nvSpPr>
        <p:spPr>
          <a:xfrm>
            <a:off x="3339720" y="2971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orking Fac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276000" y="43570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Protection Fac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742480" y="5728320"/>
            <a:ext cx="3608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+ 1 Protection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50% bandwidth util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1143000" y="2438280"/>
            <a:ext cx="6781680" cy="152640"/>
            <a:chOff x="1143000" y="2438280"/>
            <a:chExt cx="6781680" cy="152640"/>
          </a:xfrm>
        </p:grpSpPr>
        <p:sp>
          <p:nvSpPr>
            <p:cNvPr id="2059" name=""/>
            <p:cNvSpPr/>
            <p:nvPr/>
          </p:nvSpPr>
          <p:spPr>
            <a:xfrm>
              <a:off x="114300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43000" y="2438280"/>
              <a:ext cx="6781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92468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>
            <a:off x="3645720" y="2071440"/>
            <a:ext cx="17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twork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155600" y="350532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1897200" y="4114800"/>
            <a:ext cx="5341680" cy="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600200" y="3505320"/>
            <a:ext cx="309600" cy="6094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7157880" y="3505320"/>
            <a:ext cx="309600" cy="6094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562720" y="3505320"/>
            <a:ext cx="19810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7467480" y="350532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7467480" y="350532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600200" y="3505320"/>
            <a:ext cx="4038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25780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143000" y="350532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25780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25780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25780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525780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25780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7E3A-F762-449E-BA23-88DC34E287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rotection Schemes: 1:n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079" name=""/>
          <p:cNvSpPr/>
          <p:nvPr/>
        </p:nvSpPr>
        <p:spPr>
          <a:xfrm>
            <a:off x="1067400" y="45576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Sour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181160" y="3110040"/>
            <a:ext cx="779400" cy="1251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860880" y="4557600"/>
            <a:ext cx="142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Destin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182000" y="3110040"/>
            <a:ext cx="779400" cy="1251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981080" y="3262320"/>
            <a:ext cx="5181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981080" y="4253040"/>
            <a:ext cx="51818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669840" y="28044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orking Fac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606120" y="440460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Protection Fac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819160" y="5591520"/>
            <a:ext cx="3477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:n  Protection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Bandwidth Efficienc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219320" y="326232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7238880" y="32623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81080" y="3490920"/>
            <a:ext cx="5181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219320" y="349092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7238880" y="34909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981080" y="3719520"/>
            <a:ext cx="5181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219320" y="371952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238880" y="37195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4281120" y="3420000"/>
            <a:ext cx="282960" cy="886320"/>
            <a:chOff x="4281120" y="3420000"/>
            <a:chExt cx="282960" cy="886320"/>
          </a:xfrm>
        </p:grpSpPr>
        <p:sp>
          <p:nvSpPr>
            <p:cNvPr id="2097" name=""/>
            <p:cNvSpPr/>
            <p:nvPr/>
          </p:nvSpPr>
          <p:spPr>
            <a:xfrm>
              <a:off x="4281120" y="342000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281120" y="35726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281120" y="372492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0" name=""/>
          <p:cNvSpPr/>
          <p:nvPr/>
        </p:nvSpPr>
        <p:spPr>
          <a:xfrm>
            <a:off x="1600200" y="3490920"/>
            <a:ext cx="380880" cy="76212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981080" y="4253040"/>
            <a:ext cx="5181840" cy="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7162920" y="3490920"/>
            <a:ext cx="380880" cy="76212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7543800" y="3490920"/>
            <a:ext cx="457200" cy="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776640" y="2981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782760" y="3210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789240" y="3439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971800" y="3490920"/>
            <a:ext cx="41911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1143000" y="2500200"/>
            <a:ext cx="6781680" cy="152640"/>
            <a:chOff x="1143000" y="2500200"/>
            <a:chExt cx="6781680" cy="152640"/>
          </a:xfrm>
        </p:grpSpPr>
        <p:sp>
          <p:nvSpPr>
            <p:cNvPr id="2109" name=""/>
            <p:cNvSpPr/>
            <p:nvPr/>
          </p:nvSpPr>
          <p:spPr>
            <a:xfrm>
              <a:off x="1143000" y="250020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143000" y="2500200"/>
              <a:ext cx="6781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924680" y="250020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>
            <a:off x="3645720" y="2133360"/>
            <a:ext cx="17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twork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981080" y="3490920"/>
            <a:ext cx="990720" cy="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143000" y="3505320"/>
            <a:ext cx="457200" cy="14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59092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59092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59092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9092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590920" y="3048120"/>
            <a:ext cx="685800" cy="685800"/>
          </a:xfrm>
          <a:prstGeom prst="lightningBol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05C4C-EC9B-4D0E-AEEF-ADB0D78DB7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rotection and Restoration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122" name=""/>
          <p:cNvSpPr/>
          <p:nvPr/>
        </p:nvSpPr>
        <p:spPr>
          <a:xfrm>
            <a:off x="1066680" y="2895480"/>
            <a:ext cx="2743200" cy="2514600"/>
          </a:xfrm>
          <a:prstGeom prst="ellipse">
            <a:avLst/>
          </a:prstGeom>
          <a:noFill/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977760" y="4444920"/>
            <a:ext cx="343080" cy="285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048120" y="5029200"/>
            <a:ext cx="342720" cy="285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523880" y="2971800"/>
            <a:ext cx="343080" cy="285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6" name=""/>
          <p:cNvGrpSpPr/>
          <p:nvPr/>
        </p:nvGrpSpPr>
        <p:grpSpPr>
          <a:xfrm>
            <a:off x="1309320" y="3582000"/>
            <a:ext cx="2334240" cy="1675800"/>
            <a:chOff x="1309320" y="3582000"/>
            <a:chExt cx="2334240" cy="1675800"/>
          </a:xfrm>
        </p:grpSpPr>
        <p:sp>
          <p:nvSpPr>
            <p:cNvPr id="2127" name=""/>
            <p:cNvSpPr/>
            <p:nvPr/>
          </p:nvSpPr>
          <p:spPr>
            <a:xfrm rot="10800000">
              <a:off x="1371960" y="3582000"/>
              <a:ext cx="2271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rot="10800000">
              <a:off x="1309320" y="3582000"/>
              <a:ext cx="2271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9" name=""/>
          <p:cNvSpPr/>
          <p:nvPr/>
        </p:nvSpPr>
        <p:spPr>
          <a:xfrm flipV="1">
            <a:off x="3581280" y="3809880"/>
            <a:ext cx="0" cy="60984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590920" y="2743200"/>
            <a:ext cx="342720" cy="285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487160" y="2941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982800" y="4419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619440" y="3535200"/>
            <a:ext cx="343080" cy="285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582720" y="35049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119320" y="577440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181480" y="2971800"/>
            <a:ext cx="2743200" cy="2514600"/>
          </a:xfrm>
          <a:prstGeom prst="ellipse">
            <a:avLst/>
          </a:prstGeom>
          <a:noFill/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092560" y="4521240"/>
            <a:ext cx="343080" cy="285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162920" y="5105520"/>
            <a:ext cx="342720" cy="2854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rot="16200000">
            <a:off x="4474440" y="3668040"/>
            <a:ext cx="2480760" cy="136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35" y="63"/>
                </a:moveTo>
                <a:arcTo wR="10800" hR="10800" stAng="-5771416" swAng="5227581"/>
                <a:lnTo>
                  <a:pt x="10800" y="10800"/>
                </a:lnTo>
                <a:close/>
              </a:path>
              <a:path fill="none" w="21600" h="21600">
                <a:moveTo>
                  <a:pt x="9635" y="63"/>
                </a:moveTo>
                <a:arcTo wR="10800" hR="10800" stAng="-5771416" swAng="52275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638680" y="3048120"/>
            <a:ext cx="343080" cy="2854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rot="15679200">
            <a:off x="5339160" y="3264840"/>
            <a:ext cx="2110320" cy="19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0147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01477"/>
              </a:path>
            </a:pathLst>
          </a:cu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flipH="1" rot="15679800">
            <a:off x="5328720" y="3205800"/>
            <a:ext cx="2111040" cy="19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6880320" y="3094920"/>
            <a:ext cx="536400" cy="529920"/>
          </a:xfrm>
          <a:prstGeom prst="line">
            <a:avLst/>
          </a:prstGeom>
          <a:ln w="28440">
            <a:solidFill>
              <a:srgbClr val="00cc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705720" y="2819520"/>
            <a:ext cx="342720" cy="2854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601960" y="30175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097600" y="449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34240" y="3611520"/>
            <a:ext cx="343080" cy="285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697520" y="35809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rot="21297000">
            <a:off x="4552560" y="2822400"/>
            <a:ext cx="3231000" cy="179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13" y="1896"/>
                </a:moveTo>
                <a:arcTo wR="10800" hR="10800" stAng="-3331692" swAng="2787857"/>
                <a:lnTo>
                  <a:pt x="10800" y="10800"/>
                </a:lnTo>
                <a:close/>
              </a:path>
              <a:path fill="none" w="21600" h="21600">
                <a:moveTo>
                  <a:pt x="16913" y="1896"/>
                </a:moveTo>
                <a:arcTo wR="10800" hR="10800" stAng="-3331692" swAng="278785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0" name=""/>
          <p:cNvGrpSpPr/>
          <p:nvPr/>
        </p:nvGrpSpPr>
        <p:grpSpPr>
          <a:xfrm>
            <a:off x="6172200" y="2819520"/>
            <a:ext cx="355320" cy="456840"/>
            <a:chOff x="6172200" y="2819520"/>
            <a:chExt cx="355320" cy="456840"/>
          </a:xfrm>
        </p:grpSpPr>
        <p:sp>
          <p:nvSpPr>
            <p:cNvPr id="2151" name=""/>
            <p:cNvSpPr/>
            <p:nvPr/>
          </p:nvSpPr>
          <p:spPr>
            <a:xfrm flipH="1">
              <a:off x="6172200" y="2819520"/>
              <a:ext cx="266400" cy="456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172200" y="2819520"/>
              <a:ext cx="355320" cy="41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3" name=""/>
          <p:cNvSpPr/>
          <p:nvPr/>
        </p:nvSpPr>
        <p:spPr>
          <a:xfrm>
            <a:off x="6206040" y="577440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 rot="10279800">
            <a:off x="5046840" y="3179160"/>
            <a:ext cx="2654280" cy="20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0736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07364"/>
              </a:path>
            </a:pathLst>
          </a:cu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 rot="4879800">
            <a:off x="5999760" y="3428280"/>
            <a:ext cx="17355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37964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379641"/>
              </a:path>
            </a:pathLst>
          </a:cu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445760" y="171360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164560" y="171360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ne Protection (Loopb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33520" y="44197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1219320" y="4343400"/>
            <a:ext cx="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219320" y="4419720"/>
            <a:ext cx="1522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581280" y="3794040"/>
            <a:ext cx="60984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 flipV="1">
            <a:off x="5334120" y="2514240"/>
            <a:ext cx="30456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5638680" y="3047760"/>
            <a:ext cx="22860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867280" y="3048120"/>
            <a:ext cx="15264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5867280" y="3200400"/>
            <a:ext cx="152640" cy="152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6858000" y="2895120"/>
            <a:ext cx="152280" cy="22860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772400" y="34290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rot="16200000">
            <a:off x="431280" y="3592440"/>
            <a:ext cx="2480040" cy="136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35" y="63"/>
                </a:moveTo>
                <a:arcTo wR="10800" hR="10800" stAng="-5771416" swAng="5227581"/>
                <a:lnTo>
                  <a:pt x="10800" y="10800"/>
                </a:lnTo>
                <a:close/>
              </a:path>
              <a:path fill="none" w="21600" h="21600">
                <a:moveTo>
                  <a:pt x="9635" y="63"/>
                </a:moveTo>
                <a:arcTo wR="10800" hR="10800" stAng="-5771416" swAng="52275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 flipV="1">
            <a:off x="1219320" y="2438280"/>
            <a:ext cx="30456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rot="19937400">
            <a:off x="761760" y="2864520"/>
            <a:ext cx="2760120" cy="192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35" y="63"/>
                </a:moveTo>
                <a:arcTo wR="10800" hR="10800" stAng="-5771416" swAng="4833199"/>
                <a:lnTo>
                  <a:pt x="10800" y="10800"/>
                </a:lnTo>
                <a:close/>
              </a:path>
              <a:path fill="none" w="21600" h="21600">
                <a:moveTo>
                  <a:pt x="9635" y="63"/>
                </a:moveTo>
                <a:arcTo wR="10800" hR="10800" stAng="-5771416" swAng="483319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200400" y="297180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0"/>
                </a:moveTo>
                <a:cubicBezTo>
                  <a:pt x="52" y="32"/>
                  <a:pt x="104" y="64"/>
                  <a:pt x="144" y="96"/>
                </a:cubicBezTo>
                <a:cubicBezTo>
                  <a:pt x="184" y="128"/>
                  <a:pt x="216" y="160"/>
                  <a:pt x="240" y="192"/>
                </a:cubicBezTo>
                <a:cubicBezTo>
                  <a:pt x="264" y="224"/>
                  <a:pt x="280" y="272"/>
                  <a:pt x="288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2057400" y="2666880"/>
            <a:ext cx="355320" cy="456840"/>
            <a:chOff x="2057400" y="2666880"/>
            <a:chExt cx="355320" cy="456840"/>
          </a:xfrm>
        </p:grpSpPr>
        <p:sp>
          <p:nvSpPr>
            <p:cNvPr id="2173" name=""/>
            <p:cNvSpPr/>
            <p:nvPr/>
          </p:nvSpPr>
          <p:spPr>
            <a:xfrm flipH="1">
              <a:off x="2057400" y="2666880"/>
              <a:ext cx="266400" cy="456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057400" y="2666880"/>
              <a:ext cx="355320" cy="41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69A2-7496-4020-BA88-3D6CA295B8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"/>
          <p:cNvSpPr/>
          <p:nvPr/>
        </p:nvSpPr>
        <p:spPr>
          <a:xfrm>
            <a:off x="5029200" y="3581280"/>
            <a:ext cx="1219320" cy="811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rotection Schemes: UPSR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177" name=""/>
          <p:cNvSpPr/>
          <p:nvPr/>
        </p:nvSpPr>
        <p:spPr>
          <a:xfrm>
            <a:off x="3645000" y="4875120"/>
            <a:ext cx="1087200" cy="7257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286000" y="3562200"/>
            <a:ext cx="1219320" cy="811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581280" y="2209680"/>
            <a:ext cx="1295640" cy="863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008600" y="2519280"/>
            <a:ext cx="361800" cy="9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060720" y="2913120"/>
            <a:ext cx="2260440" cy="2179440"/>
          </a:xfrm>
          <a:prstGeom prst="ellipse">
            <a:avLst/>
          </a:pr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847960" y="2716200"/>
            <a:ext cx="2691000" cy="2594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3941640" y="2703600"/>
            <a:ext cx="131760" cy="302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548320" y="4035600"/>
            <a:ext cx="1309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276880" y="3849840"/>
            <a:ext cx="361800" cy="18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4008600" y="2701800"/>
            <a:ext cx="361800" cy="1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008600" y="2428920"/>
            <a:ext cx="361800" cy="1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 flipV="1">
            <a:off x="3932280" y="152352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186520" y="3970440"/>
            <a:ext cx="180720" cy="271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5257800" y="4191120"/>
            <a:ext cx="533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4098960" y="2792520"/>
            <a:ext cx="181080" cy="18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114800" y="2286000"/>
            <a:ext cx="0" cy="657360"/>
          </a:xfrm>
          <a:prstGeom prst="line">
            <a:avLst/>
          </a:prstGeom>
          <a:ln w="38160">
            <a:solidFill>
              <a:srgbClr val="00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400640" y="144792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280040" y="2514600"/>
            <a:ext cx="0" cy="368280"/>
          </a:xfrm>
          <a:prstGeom prst="line">
            <a:avLst/>
          </a:prstGeom>
          <a:ln w="28440">
            <a:solidFill>
              <a:srgbClr val="00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457960" y="3743280"/>
            <a:ext cx="90360" cy="211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5548320" y="3713040"/>
            <a:ext cx="1309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291280" y="3863880"/>
            <a:ext cx="815760" cy="0"/>
          </a:xfrm>
          <a:prstGeom prst="line">
            <a:avLst/>
          </a:prstGeom>
          <a:ln w="28440">
            <a:solidFill>
              <a:srgbClr val="00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392120" y="6185880"/>
            <a:ext cx="64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direction/Path Switched Ring (UPS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752480" y="213228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Pro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873240" y="12013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Times New Roman"/>
              </a:rPr>
              <a:t>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358320" y="40377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492360" y="14011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446360" y="15681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5791320" y="3733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9625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364440" y="327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2CD2-E4C0-4841-9FFD-00E9FB1866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7000" y="2513520"/>
            <a:ext cx="5569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00"/>
                </a:solidFill>
                <a:latin typeface="Times New Roman"/>
              </a:rPr>
              <a:t>Evolution of the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00"/>
                </a:solidFill>
                <a:latin typeface="Times New Roman"/>
              </a:rPr>
              <a:t>Public Network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C5C0E-0D07-4553-B46E-39BE2EE339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rotection Schemes: BLSR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208" name=""/>
          <p:cNvSpPr/>
          <p:nvPr/>
        </p:nvSpPr>
        <p:spPr>
          <a:xfrm>
            <a:off x="1341000" y="5971320"/>
            <a:ext cx="621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direction/Line Switched Ring (BLS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fiber, 4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167440" y="3200400"/>
            <a:ext cx="1218960" cy="8110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782880" y="4494240"/>
            <a:ext cx="1087560" cy="7254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424240" y="3181320"/>
            <a:ext cx="1218960" cy="8110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782880" y="1957320"/>
            <a:ext cx="1087560" cy="7254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146480" y="2138400"/>
            <a:ext cx="362160" cy="9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146480" y="2320920"/>
            <a:ext cx="362160" cy="1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4146480" y="2048040"/>
            <a:ext cx="362160" cy="18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324400" y="3589200"/>
            <a:ext cx="181080" cy="271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237200" y="2411280"/>
            <a:ext cx="180720" cy="1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890720" y="175104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Pro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440320" y="3443400"/>
            <a:ext cx="362160" cy="18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564080" y="104148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430880" y="1660680"/>
            <a:ext cx="0" cy="815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621400" y="3336840"/>
            <a:ext cx="90360" cy="211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H="1">
            <a:off x="5686560" y="3306600"/>
            <a:ext cx="815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5479920" y="3457440"/>
            <a:ext cx="816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583160" y="2336760"/>
            <a:ext cx="106668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cubicBezTo>
                  <a:pt x="64" y="12"/>
                  <a:pt x="128" y="24"/>
                  <a:pt x="192" y="48"/>
                </a:cubicBezTo>
                <a:cubicBezTo>
                  <a:pt x="256" y="72"/>
                  <a:pt x="320" y="96"/>
                  <a:pt x="384" y="144"/>
                </a:cubicBezTo>
                <a:cubicBezTo>
                  <a:pt x="448" y="192"/>
                  <a:pt x="528" y="256"/>
                  <a:pt x="576" y="336"/>
                </a:cubicBezTo>
                <a:cubicBezTo>
                  <a:pt x="624" y="416"/>
                  <a:pt x="656" y="576"/>
                  <a:pt x="672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430880" y="2489040"/>
            <a:ext cx="106668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cubicBezTo>
                  <a:pt x="64" y="12"/>
                  <a:pt x="128" y="24"/>
                  <a:pt x="192" y="48"/>
                </a:cubicBezTo>
                <a:cubicBezTo>
                  <a:pt x="256" y="72"/>
                  <a:pt x="320" y="96"/>
                  <a:pt x="384" y="144"/>
                </a:cubicBezTo>
                <a:cubicBezTo>
                  <a:pt x="448" y="192"/>
                  <a:pt x="528" y="256"/>
                  <a:pt x="576" y="336"/>
                </a:cubicBezTo>
                <a:cubicBezTo>
                  <a:pt x="624" y="416"/>
                  <a:pt x="656" y="576"/>
                  <a:pt x="672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H="1" rot="16200000">
            <a:off x="2655000" y="3569400"/>
            <a:ext cx="362160" cy="9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H="1" rot="16200000">
            <a:off x="4030560" y="4792680"/>
            <a:ext cx="361800" cy="18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 rot="16200000">
            <a:off x="2881440" y="3524040"/>
            <a:ext cx="362160" cy="1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H="1" rot="16200000">
            <a:off x="2608560" y="3524040"/>
            <a:ext cx="362160" cy="1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H="1" rot="16200000">
            <a:off x="3063960" y="3524400"/>
            <a:ext cx="180720" cy="18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719360" y="38257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2338560" y="3692520"/>
            <a:ext cx="815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H="1" rot="16200000">
            <a:off x="4074120" y="4821120"/>
            <a:ext cx="90360" cy="211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3971880" y="4960440"/>
            <a:ext cx="0" cy="81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135320" y="4741920"/>
            <a:ext cx="0" cy="815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H="1" rot="16200000">
            <a:off x="1789560" y="4040280"/>
            <a:ext cx="428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H="1" rot="16200000">
            <a:off x="2976480" y="3882960"/>
            <a:ext cx="106704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cubicBezTo>
                  <a:pt x="64" y="12"/>
                  <a:pt x="128" y="24"/>
                  <a:pt x="192" y="48"/>
                </a:cubicBezTo>
                <a:cubicBezTo>
                  <a:pt x="256" y="72"/>
                  <a:pt x="320" y="96"/>
                  <a:pt x="384" y="144"/>
                </a:cubicBezTo>
                <a:cubicBezTo>
                  <a:pt x="448" y="192"/>
                  <a:pt x="528" y="256"/>
                  <a:pt x="576" y="336"/>
                </a:cubicBezTo>
                <a:cubicBezTo>
                  <a:pt x="624" y="416"/>
                  <a:pt x="656" y="576"/>
                  <a:pt x="672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 rot="16200000">
            <a:off x="3128760" y="3730320"/>
            <a:ext cx="1066680" cy="99072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cubicBezTo>
                  <a:pt x="64" y="12"/>
                  <a:pt x="128" y="24"/>
                  <a:pt x="192" y="48"/>
                </a:cubicBezTo>
                <a:cubicBezTo>
                  <a:pt x="256" y="72"/>
                  <a:pt x="320" y="96"/>
                  <a:pt x="384" y="144"/>
                </a:cubicBezTo>
                <a:cubicBezTo>
                  <a:pt x="448" y="192"/>
                  <a:pt x="528" y="256"/>
                  <a:pt x="576" y="336"/>
                </a:cubicBezTo>
                <a:cubicBezTo>
                  <a:pt x="624" y="416"/>
                  <a:pt x="656" y="576"/>
                  <a:pt x="672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62320" y="2577960"/>
            <a:ext cx="2133720" cy="2070360"/>
          </a:xfrm>
          <a:prstGeom prst="ellipse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452760" y="2779560"/>
            <a:ext cx="1752480" cy="1668600"/>
          </a:xfrm>
          <a:prstGeom prst="ellipse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7A12-39B0-427A-891E-609292CE75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view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rotection Schemes: Client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243" name=""/>
          <p:cNvSpPr/>
          <p:nvPr/>
        </p:nvSpPr>
        <p:spPr>
          <a:xfrm>
            <a:off x="1753200" y="471024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Sour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866960" y="3262320"/>
            <a:ext cx="779400" cy="1251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7546680" y="4710240"/>
            <a:ext cx="142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Destin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7867800" y="3262320"/>
            <a:ext cx="779400" cy="1251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2666880" y="3414600"/>
            <a:ext cx="5181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666880" y="4405320"/>
            <a:ext cx="5181840" cy="0"/>
          </a:xfrm>
          <a:prstGeom prst="line">
            <a:avLst/>
          </a:prstGeom>
          <a:ln w="255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355640" y="306144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orking Fac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291920" y="441900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Protection Fac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905120" y="3414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924680" y="34146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4966920" y="3199320"/>
            <a:ext cx="282960" cy="886320"/>
            <a:chOff x="4966920" y="3199320"/>
            <a:chExt cx="282960" cy="886320"/>
          </a:xfrm>
        </p:grpSpPr>
        <p:sp>
          <p:nvSpPr>
            <p:cNvPr id="2254" name=""/>
            <p:cNvSpPr/>
            <p:nvPr/>
          </p:nvSpPr>
          <p:spPr>
            <a:xfrm>
              <a:off x="4966920" y="319932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966920" y="335196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966920" y="35042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1828800" y="2652840"/>
            <a:ext cx="6781680" cy="152280"/>
            <a:chOff x="1828800" y="2652840"/>
            <a:chExt cx="6781680" cy="152280"/>
          </a:xfrm>
        </p:grpSpPr>
        <p:sp>
          <p:nvSpPr>
            <p:cNvPr id="2258" name=""/>
            <p:cNvSpPr/>
            <p:nvPr/>
          </p:nvSpPr>
          <p:spPr>
            <a:xfrm>
              <a:off x="1828800" y="2652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828800" y="2652840"/>
              <a:ext cx="6781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610480" y="2652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4331520" y="2285640"/>
            <a:ext cx="17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twork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04920" y="3124080"/>
            <a:ext cx="60948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914400" y="3429000"/>
            <a:ext cx="380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914400" y="3886200"/>
            <a:ext cx="380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52280" y="3657600"/>
            <a:ext cx="457200" cy="0"/>
          </a:xfrm>
          <a:prstGeom prst="line">
            <a:avLst/>
          </a:prstGeom>
          <a:ln w="28440">
            <a:solidFill>
              <a:srgbClr val="00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V="1">
            <a:off x="609480" y="3428640"/>
            <a:ext cx="30492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09480" y="3657600"/>
            <a:ext cx="30492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371600" y="342900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371600" y="388620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1828800" y="3429000"/>
            <a:ext cx="380880" cy="4572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209680" y="3429000"/>
            <a:ext cx="457200" cy="990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152280" y="2652840"/>
            <a:ext cx="1600200" cy="166320"/>
            <a:chOff x="152280" y="2652840"/>
            <a:chExt cx="1600200" cy="166320"/>
          </a:xfrm>
        </p:grpSpPr>
        <p:sp>
          <p:nvSpPr>
            <p:cNvPr id="2273" name=""/>
            <p:cNvSpPr/>
            <p:nvPr/>
          </p:nvSpPr>
          <p:spPr>
            <a:xfrm>
              <a:off x="152280" y="2652840"/>
              <a:ext cx="0" cy="16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52280" y="265284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752480" y="2652840"/>
              <a:ext cx="0" cy="16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6" name=""/>
          <p:cNvSpPr/>
          <p:nvPr/>
        </p:nvSpPr>
        <p:spPr>
          <a:xfrm>
            <a:off x="156600" y="228564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ent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7848720" y="3429000"/>
            <a:ext cx="457200" cy="990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660680" y="548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38200" y="4463280"/>
            <a:ext cx="60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: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04E0-EE90-4C3B-A9F3-BFEB054737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Evolution of the Public Network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SONET/SDH Benefit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64008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ature technology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tandards enable interoperability (vendor-independence, reduced costs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ultiplexing, switching and grooming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elf-healing capability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High availability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xtensive management capability built into the protocol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implification (vs PDH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38120" y="165744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5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3754-4BCD-4D2C-B625-9BA30F5992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686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olution to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ONET/SDH over WDM</a:t>
            </a:r>
            <a:endParaRPr b="1" lang="en-US" sz="48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458280" y="3656520"/>
            <a:ext cx="8198640" cy="1372680"/>
            <a:chOff x="458280" y="3656520"/>
            <a:chExt cx="8198640" cy="1372680"/>
          </a:xfrm>
        </p:grpSpPr>
        <p:grpSp>
          <p:nvGrpSpPr>
            <p:cNvPr id="2285" name=""/>
            <p:cNvGrpSpPr/>
            <p:nvPr/>
          </p:nvGrpSpPr>
          <p:grpSpPr>
            <a:xfrm>
              <a:off x="2708280" y="4025880"/>
              <a:ext cx="914400" cy="685800"/>
              <a:chOff x="2708280" y="4025880"/>
              <a:chExt cx="914400" cy="685800"/>
            </a:xfrm>
          </p:grpSpPr>
          <p:sp>
            <p:nvSpPr>
              <p:cNvPr id="2286" name=""/>
              <p:cNvSpPr/>
              <p:nvPr/>
            </p:nvSpPr>
            <p:spPr>
              <a:xfrm>
                <a:off x="2708280" y="4025880"/>
                <a:ext cx="9144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2708280" y="4711680"/>
                <a:ext cx="9144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5527800" y="4025880"/>
              <a:ext cx="914400" cy="685800"/>
              <a:chOff x="5527800" y="4025880"/>
              <a:chExt cx="914400" cy="685800"/>
            </a:xfrm>
          </p:grpSpPr>
          <p:sp>
            <p:nvSpPr>
              <p:cNvPr id="2289" name=""/>
              <p:cNvSpPr/>
              <p:nvPr/>
            </p:nvSpPr>
            <p:spPr>
              <a:xfrm>
                <a:off x="5527800" y="4025880"/>
                <a:ext cx="9144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527800" y="4711680"/>
                <a:ext cx="91440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3927600" y="4229280"/>
              <a:ext cx="1447920" cy="228600"/>
              <a:chOff x="3927600" y="4229280"/>
              <a:chExt cx="1447920" cy="228600"/>
            </a:xfrm>
          </p:grpSpPr>
          <p:sp>
            <p:nvSpPr>
              <p:cNvPr id="2292" name=""/>
              <p:cNvSpPr/>
              <p:nvPr/>
            </p:nvSpPr>
            <p:spPr>
              <a:xfrm flipH="1">
                <a:off x="4003560" y="4229280"/>
                <a:ext cx="12193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H="1">
                <a:off x="4003920" y="4305600"/>
                <a:ext cx="12952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H="1">
                <a:off x="3927600" y="4381920"/>
                <a:ext cx="1371600" cy="0"/>
              </a:xfrm>
              <a:prstGeom prst="line">
                <a:avLst/>
              </a:prstGeom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3927600" y="4457880"/>
                <a:ext cx="14479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6" name=""/>
            <p:cNvSpPr/>
            <p:nvPr/>
          </p:nvSpPr>
          <p:spPr>
            <a:xfrm>
              <a:off x="3637080" y="3759480"/>
              <a:ext cx="366840" cy="1168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222880" y="3759480"/>
              <a:ext cx="366840" cy="1168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2175120" y="3656520"/>
              <a:ext cx="589320" cy="1372680"/>
              <a:chOff x="2175120" y="3656520"/>
              <a:chExt cx="589320" cy="1372680"/>
            </a:xfrm>
          </p:grpSpPr>
          <p:grpSp>
            <p:nvGrpSpPr>
              <p:cNvPr id="2299" name=""/>
              <p:cNvGrpSpPr/>
              <p:nvPr/>
            </p:nvGrpSpPr>
            <p:grpSpPr>
              <a:xfrm>
                <a:off x="2175120" y="3656520"/>
                <a:ext cx="589320" cy="534600"/>
                <a:chOff x="2175120" y="3656520"/>
                <a:chExt cx="589320" cy="534600"/>
              </a:xfrm>
            </p:grpSpPr>
            <p:sp>
              <p:nvSpPr>
                <p:cNvPr id="2300" name=""/>
                <p:cNvSpPr/>
                <p:nvPr/>
              </p:nvSpPr>
              <p:spPr>
                <a:xfrm>
                  <a:off x="2243520" y="3657600"/>
                  <a:ext cx="457200" cy="5335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2175120" y="3656520"/>
                  <a:ext cx="5893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Son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SD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2" name=""/>
              <p:cNvGrpSpPr/>
              <p:nvPr/>
            </p:nvGrpSpPr>
            <p:grpSpPr>
              <a:xfrm>
                <a:off x="2175120" y="4494600"/>
                <a:ext cx="589320" cy="534600"/>
                <a:chOff x="2175120" y="4494600"/>
                <a:chExt cx="589320" cy="534600"/>
              </a:xfrm>
            </p:grpSpPr>
            <p:sp>
              <p:nvSpPr>
                <p:cNvPr id="2303" name=""/>
                <p:cNvSpPr/>
                <p:nvPr/>
              </p:nvSpPr>
              <p:spPr>
                <a:xfrm>
                  <a:off x="2243520" y="4495680"/>
                  <a:ext cx="457200" cy="5335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175120" y="4494600"/>
                  <a:ext cx="5893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Son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SD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5" name=""/>
            <p:cNvGrpSpPr/>
            <p:nvPr/>
          </p:nvGrpSpPr>
          <p:grpSpPr>
            <a:xfrm>
              <a:off x="6310440" y="3656520"/>
              <a:ext cx="589320" cy="1372680"/>
              <a:chOff x="6310440" y="3656520"/>
              <a:chExt cx="589320" cy="1372680"/>
            </a:xfrm>
          </p:grpSpPr>
          <p:grpSp>
            <p:nvGrpSpPr>
              <p:cNvPr id="2306" name=""/>
              <p:cNvGrpSpPr/>
              <p:nvPr/>
            </p:nvGrpSpPr>
            <p:grpSpPr>
              <a:xfrm>
                <a:off x="6310440" y="3656520"/>
                <a:ext cx="589320" cy="534600"/>
                <a:chOff x="6310440" y="3656520"/>
                <a:chExt cx="589320" cy="53460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6378840" y="3657600"/>
                  <a:ext cx="457200" cy="5335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6310440" y="3656520"/>
                  <a:ext cx="5893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Son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SD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9" name=""/>
              <p:cNvGrpSpPr/>
              <p:nvPr/>
            </p:nvGrpSpPr>
            <p:grpSpPr>
              <a:xfrm>
                <a:off x="6310440" y="4494600"/>
                <a:ext cx="589320" cy="534600"/>
                <a:chOff x="6310440" y="4494600"/>
                <a:chExt cx="589320" cy="534600"/>
              </a:xfrm>
            </p:grpSpPr>
            <p:sp>
              <p:nvSpPr>
                <p:cNvPr id="2310" name=""/>
                <p:cNvSpPr/>
                <p:nvPr/>
              </p:nvSpPr>
              <p:spPr>
                <a:xfrm>
                  <a:off x="6378840" y="4495680"/>
                  <a:ext cx="457200" cy="5335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6310440" y="4494600"/>
                  <a:ext cx="5893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Son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SD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2" name=""/>
            <p:cNvGrpSpPr/>
            <p:nvPr/>
          </p:nvGrpSpPr>
          <p:grpSpPr>
            <a:xfrm>
              <a:off x="1489320" y="3683160"/>
              <a:ext cx="6095880" cy="1180800"/>
              <a:chOff x="1489320" y="3683160"/>
              <a:chExt cx="6095880" cy="1180800"/>
            </a:xfrm>
          </p:grpSpPr>
          <p:grpSp>
            <p:nvGrpSpPr>
              <p:cNvPr id="2313" name=""/>
              <p:cNvGrpSpPr/>
              <p:nvPr/>
            </p:nvGrpSpPr>
            <p:grpSpPr>
              <a:xfrm>
                <a:off x="1489320" y="4483080"/>
                <a:ext cx="6095880" cy="380880"/>
                <a:chOff x="1489320" y="4483080"/>
                <a:chExt cx="6095880" cy="380880"/>
              </a:xfrm>
            </p:grpSpPr>
            <p:grpSp>
              <p:nvGrpSpPr>
                <p:cNvPr id="2314" name=""/>
                <p:cNvGrpSpPr/>
                <p:nvPr/>
              </p:nvGrpSpPr>
              <p:grpSpPr>
                <a:xfrm>
                  <a:off x="1489320" y="4483080"/>
                  <a:ext cx="762120" cy="380880"/>
                  <a:chOff x="1489320" y="4483080"/>
                  <a:chExt cx="762120" cy="380880"/>
                </a:xfrm>
              </p:grpSpPr>
              <p:sp>
                <p:nvSpPr>
                  <p:cNvPr id="2315" name=""/>
                  <p:cNvSpPr/>
                  <p:nvPr/>
                </p:nvSpPr>
                <p:spPr>
                  <a:xfrm>
                    <a:off x="1489320" y="448308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1489320" y="455904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1489320" y="463536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1489320" y="471168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1489320" y="478764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1489320" y="486396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1" name=""/>
                <p:cNvGrpSpPr/>
                <p:nvPr/>
              </p:nvGrpSpPr>
              <p:grpSpPr>
                <a:xfrm>
                  <a:off x="6823440" y="4483080"/>
                  <a:ext cx="761760" cy="380880"/>
                  <a:chOff x="6823440" y="4483080"/>
                  <a:chExt cx="761760" cy="380880"/>
                </a:xfrm>
              </p:grpSpPr>
              <p:sp>
                <p:nvSpPr>
                  <p:cNvPr id="2322" name=""/>
                  <p:cNvSpPr/>
                  <p:nvPr/>
                </p:nvSpPr>
                <p:spPr>
                  <a:xfrm>
                    <a:off x="6823440" y="448308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6823440" y="455904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6823440" y="463536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6823440" y="471168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6823440" y="478764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6823440" y="486396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8" name=""/>
              <p:cNvGrpSpPr/>
              <p:nvPr/>
            </p:nvGrpSpPr>
            <p:grpSpPr>
              <a:xfrm>
                <a:off x="1489320" y="3683160"/>
                <a:ext cx="6095880" cy="380880"/>
                <a:chOff x="1489320" y="3683160"/>
                <a:chExt cx="6095880" cy="380880"/>
              </a:xfrm>
            </p:grpSpPr>
            <p:grpSp>
              <p:nvGrpSpPr>
                <p:cNvPr id="2329" name=""/>
                <p:cNvGrpSpPr/>
                <p:nvPr/>
              </p:nvGrpSpPr>
              <p:grpSpPr>
                <a:xfrm>
                  <a:off x="1489320" y="3683160"/>
                  <a:ext cx="762120" cy="380880"/>
                  <a:chOff x="1489320" y="3683160"/>
                  <a:chExt cx="762120" cy="380880"/>
                </a:xfrm>
              </p:grpSpPr>
              <p:sp>
                <p:nvSpPr>
                  <p:cNvPr id="2330" name=""/>
                  <p:cNvSpPr/>
                  <p:nvPr/>
                </p:nvSpPr>
                <p:spPr>
                  <a:xfrm>
                    <a:off x="1489320" y="368316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1489320" y="37591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1489320" y="383544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1489320" y="391176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1489320" y="39877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1489320" y="406404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6" name=""/>
                <p:cNvGrpSpPr/>
                <p:nvPr/>
              </p:nvGrpSpPr>
              <p:grpSpPr>
                <a:xfrm>
                  <a:off x="6823440" y="3683160"/>
                  <a:ext cx="761760" cy="380880"/>
                  <a:chOff x="6823440" y="3683160"/>
                  <a:chExt cx="761760" cy="380880"/>
                </a:xfrm>
              </p:grpSpPr>
              <p:sp>
                <p:nvSpPr>
                  <p:cNvPr id="2337" name=""/>
                  <p:cNvSpPr/>
                  <p:nvPr/>
                </p:nvSpPr>
                <p:spPr>
                  <a:xfrm>
                    <a:off x="6823440" y="368316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6823440" y="37591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6823440" y="383544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6823440" y="391176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6823440" y="39877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6823440" y="406404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43" name=""/>
            <p:cNvGrpSpPr/>
            <p:nvPr/>
          </p:nvGrpSpPr>
          <p:grpSpPr>
            <a:xfrm>
              <a:off x="458280" y="3720600"/>
              <a:ext cx="918360" cy="1130040"/>
              <a:chOff x="458280" y="3720600"/>
              <a:chExt cx="918360" cy="1130040"/>
            </a:xfrm>
          </p:grpSpPr>
          <p:sp>
            <p:nvSpPr>
              <p:cNvPr id="2344" name=""/>
              <p:cNvSpPr/>
              <p:nvPr/>
            </p:nvSpPr>
            <p:spPr>
              <a:xfrm>
                <a:off x="458280" y="372060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vi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58280" y="448236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vi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7738560" y="3720600"/>
              <a:ext cx="918360" cy="1130040"/>
              <a:chOff x="7738560" y="3720600"/>
              <a:chExt cx="918360" cy="1130040"/>
            </a:xfrm>
          </p:grpSpPr>
          <p:sp>
            <p:nvSpPr>
              <p:cNvPr id="2347" name=""/>
              <p:cNvSpPr/>
              <p:nvPr/>
            </p:nvSpPr>
            <p:spPr>
              <a:xfrm>
                <a:off x="7738560" y="372060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vi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738560" y="448236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vi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6F51C-89A6-448E-B22F-56D5300E0D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"/>
          <p:cNvSpPr/>
          <p:nvPr/>
        </p:nvSpPr>
        <p:spPr>
          <a:xfrm>
            <a:off x="685800" y="3276720"/>
            <a:ext cx="7621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685800" y="3886200"/>
            <a:ext cx="7621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80520" y="2438280"/>
            <a:ext cx="97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O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066680" y="33526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3" name=""/>
          <p:cNvGrpSpPr/>
          <p:nvPr/>
        </p:nvGrpSpPr>
        <p:grpSpPr>
          <a:xfrm>
            <a:off x="5157720" y="1368720"/>
            <a:ext cx="418680" cy="534600"/>
            <a:chOff x="5157720" y="1368720"/>
            <a:chExt cx="418680" cy="534600"/>
          </a:xfrm>
        </p:grpSpPr>
        <p:sp>
          <p:nvSpPr>
            <p:cNvPr id="2354" name=""/>
            <p:cNvSpPr/>
            <p:nvPr/>
          </p:nvSpPr>
          <p:spPr>
            <a:xfrm flipV="1">
              <a:off x="5576400" y="1371240"/>
              <a:ext cx="0" cy="531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5374440" y="1368720"/>
              <a:ext cx="0" cy="531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5157720" y="1372320"/>
              <a:ext cx="0" cy="531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5234040" y="5789880"/>
            <a:ext cx="418680" cy="534600"/>
            <a:chOff x="5234040" y="5789880"/>
            <a:chExt cx="418680" cy="534600"/>
          </a:xfrm>
        </p:grpSpPr>
        <p:sp>
          <p:nvSpPr>
            <p:cNvPr id="2358" name=""/>
            <p:cNvSpPr/>
            <p:nvPr/>
          </p:nvSpPr>
          <p:spPr>
            <a:xfrm flipV="1">
              <a:off x="5652720" y="5792400"/>
              <a:ext cx="0" cy="531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5450760" y="5789880"/>
              <a:ext cx="0" cy="531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5234040" y="5793480"/>
              <a:ext cx="0" cy="531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2185920" y="1974960"/>
            <a:ext cx="6400800" cy="3662280"/>
          </a:xfrm>
          <a:prstGeom prst="ellipse">
            <a:avLst/>
          </a:prstGeom>
          <a:gradFill rotWithShape="0">
            <a:gsLst>
              <a:gs pos="0">
                <a:srgbClr val="57ea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05240" y="2817720"/>
            <a:ext cx="4114800" cy="198144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839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 WDM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Traditional SONET/SDH Architecture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364" name=""/>
          <p:cNvSpPr/>
          <p:nvPr/>
        </p:nvSpPr>
        <p:spPr>
          <a:xfrm>
            <a:off x="0" y="173160"/>
            <a:ext cx="878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778200" y="3051000"/>
            <a:ext cx="3348000" cy="147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6" name=""/>
          <p:cNvGrpSpPr/>
          <p:nvPr/>
        </p:nvGrpSpPr>
        <p:grpSpPr>
          <a:xfrm>
            <a:off x="1881360" y="3497400"/>
            <a:ext cx="534600" cy="418680"/>
            <a:chOff x="1881360" y="3497400"/>
            <a:chExt cx="534600" cy="418680"/>
          </a:xfrm>
        </p:grpSpPr>
        <p:sp>
          <p:nvSpPr>
            <p:cNvPr id="2367" name=""/>
            <p:cNvSpPr/>
            <p:nvPr/>
          </p:nvSpPr>
          <p:spPr>
            <a:xfrm>
              <a:off x="1882440" y="391608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884960" y="371412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881360" y="349740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2101680" y="3305160"/>
            <a:ext cx="766800" cy="750960"/>
            <a:chOff x="2101680" y="3305160"/>
            <a:chExt cx="766800" cy="750960"/>
          </a:xfrm>
        </p:grpSpPr>
        <p:sp>
          <p:nvSpPr>
            <p:cNvPr id="2371" name=""/>
            <p:cNvSpPr/>
            <p:nvPr/>
          </p:nvSpPr>
          <p:spPr>
            <a:xfrm>
              <a:off x="2101680" y="3319200"/>
              <a:ext cx="766800" cy="736920"/>
            </a:xfrm>
            <a:prstGeom prst="rect">
              <a:avLst/>
            </a:prstGeom>
            <a:gradFill rotWithShape="0">
              <a:gsLst>
                <a:gs pos="0">
                  <a:srgbClr val="b146b1"/>
                </a:gs>
                <a:gs pos="100000">
                  <a:srgbClr val="ff66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247480" y="3628800"/>
              <a:ext cx="48924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0" y="174"/>
                  </a:moveTo>
                  <a:lnTo>
                    <a:pt x="5" y="174"/>
                  </a:lnTo>
                  <a:lnTo>
                    <a:pt x="3" y="174"/>
                  </a:lnTo>
                  <a:lnTo>
                    <a:pt x="97" y="174"/>
                  </a:lnTo>
                  <a:lnTo>
                    <a:pt x="262" y="0"/>
                  </a:lnTo>
                  <a:lnTo>
                    <a:pt x="369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258640" y="3628800"/>
              <a:ext cx="48888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369" y="174"/>
                  </a:moveTo>
                  <a:lnTo>
                    <a:pt x="363" y="174"/>
                  </a:lnTo>
                  <a:lnTo>
                    <a:pt x="365" y="174"/>
                  </a:lnTo>
                  <a:lnTo>
                    <a:pt x="271" y="174"/>
                  </a:lnTo>
                  <a:lnTo>
                    <a:pt x="107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262600" y="3305160"/>
              <a:ext cx="47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Frutiger 45 Light"/>
                </a:rPr>
                <a:t>D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5" name=""/>
          <p:cNvSpPr/>
          <p:nvPr/>
        </p:nvSpPr>
        <p:spPr>
          <a:xfrm>
            <a:off x="7648560" y="5038560"/>
            <a:ext cx="103320" cy="9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5081760" y="5332320"/>
            <a:ext cx="766440" cy="750960"/>
            <a:chOff x="5081760" y="5332320"/>
            <a:chExt cx="766440" cy="750960"/>
          </a:xfrm>
        </p:grpSpPr>
        <p:sp>
          <p:nvSpPr>
            <p:cNvPr id="2377" name=""/>
            <p:cNvSpPr/>
            <p:nvPr/>
          </p:nvSpPr>
          <p:spPr>
            <a:xfrm>
              <a:off x="5081760" y="5346360"/>
              <a:ext cx="766440" cy="736920"/>
            </a:xfrm>
            <a:prstGeom prst="rect">
              <a:avLst/>
            </a:prstGeom>
            <a:gradFill rotWithShape="0">
              <a:gsLst>
                <a:gs pos="0">
                  <a:srgbClr val="b146b1"/>
                </a:gs>
                <a:gs pos="100000">
                  <a:srgbClr val="ff66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227200" y="5655960"/>
              <a:ext cx="48888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0" y="174"/>
                  </a:moveTo>
                  <a:lnTo>
                    <a:pt x="5" y="174"/>
                  </a:lnTo>
                  <a:lnTo>
                    <a:pt x="3" y="174"/>
                  </a:lnTo>
                  <a:lnTo>
                    <a:pt x="97" y="174"/>
                  </a:lnTo>
                  <a:lnTo>
                    <a:pt x="262" y="0"/>
                  </a:lnTo>
                  <a:lnTo>
                    <a:pt x="369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238360" y="5655960"/>
              <a:ext cx="48852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369" y="174"/>
                  </a:moveTo>
                  <a:lnTo>
                    <a:pt x="363" y="174"/>
                  </a:lnTo>
                  <a:lnTo>
                    <a:pt x="365" y="174"/>
                  </a:lnTo>
                  <a:lnTo>
                    <a:pt x="271" y="174"/>
                  </a:lnTo>
                  <a:lnTo>
                    <a:pt x="107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242320" y="5332320"/>
              <a:ext cx="47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Frutiger 45 Light"/>
                </a:rPr>
                <a:t>D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5005440" y="1522440"/>
            <a:ext cx="766800" cy="750960"/>
            <a:chOff x="5005440" y="1522440"/>
            <a:chExt cx="766800" cy="750960"/>
          </a:xfrm>
        </p:grpSpPr>
        <p:sp>
          <p:nvSpPr>
            <p:cNvPr id="2382" name=""/>
            <p:cNvSpPr/>
            <p:nvPr/>
          </p:nvSpPr>
          <p:spPr>
            <a:xfrm>
              <a:off x="5005440" y="1536480"/>
              <a:ext cx="766800" cy="736920"/>
            </a:xfrm>
            <a:prstGeom prst="rect">
              <a:avLst/>
            </a:prstGeom>
            <a:gradFill rotWithShape="0">
              <a:gsLst>
                <a:gs pos="0">
                  <a:srgbClr val="b146b1"/>
                </a:gs>
                <a:gs pos="100000">
                  <a:srgbClr val="ff66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151240" y="1846080"/>
              <a:ext cx="48924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0" y="174"/>
                  </a:moveTo>
                  <a:lnTo>
                    <a:pt x="5" y="174"/>
                  </a:lnTo>
                  <a:lnTo>
                    <a:pt x="3" y="174"/>
                  </a:lnTo>
                  <a:lnTo>
                    <a:pt x="97" y="174"/>
                  </a:lnTo>
                  <a:lnTo>
                    <a:pt x="262" y="0"/>
                  </a:lnTo>
                  <a:lnTo>
                    <a:pt x="369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162400" y="1846080"/>
              <a:ext cx="48888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369" y="174"/>
                  </a:moveTo>
                  <a:lnTo>
                    <a:pt x="363" y="174"/>
                  </a:lnTo>
                  <a:lnTo>
                    <a:pt x="365" y="174"/>
                  </a:lnTo>
                  <a:lnTo>
                    <a:pt x="271" y="174"/>
                  </a:lnTo>
                  <a:lnTo>
                    <a:pt x="107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166360" y="1522440"/>
              <a:ext cx="47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Frutiger 45 Light"/>
                </a:rPr>
                <a:t>D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6" name=""/>
          <p:cNvSpPr/>
          <p:nvPr/>
        </p:nvSpPr>
        <p:spPr>
          <a:xfrm>
            <a:off x="7032600" y="6170760"/>
            <a:ext cx="1473120" cy="0"/>
          </a:xfrm>
          <a:prstGeom prst="line">
            <a:avLst/>
          </a:prstGeom>
          <a:ln w="38160">
            <a:solidFill>
              <a:srgbClr val="00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969240" y="571356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756120" y="5713200"/>
            <a:ext cx="212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orking Fiber P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ff"/>
                </a:solidFill>
                <a:latin typeface="Times New Roman"/>
              </a:rPr>
              <a:t>Protect Fiber P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9" name="CO%20switch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2390" name=""/>
          <p:cNvSpPr/>
          <p:nvPr/>
        </p:nvSpPr>
        <p:spPr>
          <a:xfrm rot="16200000">
            <a:off x="3047760" y="3352680"/>
            <a:ext cx="1067040" cy="609480"/>
          </a:xfrm>
          <a:custGeom>
            <a:avLst/>
            <a:gdLst>
              <a:gd name="textAreaLeft" fmla="*/ 234720 w 1067040"/>
              <a:gd name="textAreaRight" fmla="*/ 832320 w 106704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218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240720" y="3444840"/>
            <a:ext cx="619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So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A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rot="10800000">
            <a:off x="4876560" y="4419360"/>
            <a:ext cx="1066680" cy="609480"/>
          </a:xfrm>
          <a:custGeom>
            <a:avLst/>
            <a:gdLst>
              <a:gd name="textAreaLeft" fmla="*/ 234360 w 1066680"/>
              <a:gd name="textAreaRight" fmla="*/ 832320 w 106668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218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V="1" rot="10800000">
            <a:off x="4876560" y="2589840"/>
            <a:ext cx="1066680" cy="609480"/>
          </a:xfrm>
          <a:custGeom>
            <a:avLst/>
            <a:gdLst>
              <a:gd name="textAreaLeft" fmla="*/ 234360 w 1066680"/>
              <a:gd name="textAreaRight" fmla="*/ 832320 w 106668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218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099760" y="4495680"/>
            <a:ext cx="619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So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A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131440" y="2666880"/>
            <a:ext cx="619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So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A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H="1" rot="5400000">
            <a:off x="6705000" y="3428640"/>
            <a:ext cx="1066680" cy="609480"/>
          </a:xfrm>
          <a:custGeom>
            <a:avLst/>
            <a:gdLst>
              <a:gd name="textAreaLeft" fmla="*/ 234360 w 1066680"/>
              <a:gd name="textAreaRight" fmla="*/ 832320 w 106668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218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6898320" y="3505320"/>
            <a:ext cx="619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So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A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659760" y="24372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-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895480" y="3581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895480" y="37339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895480" y="3886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25780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541008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562720" y="5029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620120" y="3581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7620120" y="3733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620120" y="3886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8" name=""/>
          <p:cNvGrpSpPr/>
          <p:nvPr/>
        </p:nvGrpSpPr>
        <p:grpSpPr>
          <a:xfrm>
            <a:off x="8358120" y="3579840"/>
            <a:ext cx="534600" cy="418680"/>
            <a:chOff x="8358120" y="3579840"/>
            <a:chExt cx="534600" cy="418680"/>
          </a:xfrm>
        </p:grpSpPr>
        <p:sp>
          <p:nvSpPr>
            <p:cNvPr id="2409" name=""/>
            <p:cNvSpPr/>
            <p:nvPr/>
          </p:nvSpPr>
          <p:spPr>
            <a:xfrm>
              <a:off x="8359200" y="399852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361720" y="379656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358120" y="357984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7896240" y="3351240"/>
            <a:ext cx="766800" cy="750960"/>
            <a:chOff x="7896240" y="3351240"/>
            <a:chExt cx="766800" cy="750960"/>
          </a:xfrm>
        </p:grpSpPr>
        <p:sp>
          <p:nvSpPr>
            <p:cNvPr id="2413" name=""/>
            <p:cNvSpPr/>
            <p:nvPr/>
          </p:nvSpPr>
          <p:spPr>
            <a:xfrm>
              <a:off x="7896240" y="3365280"/>
              <a:ext cx="766800" cy="736920"/>
            </a:xfrm>
            <a:prstGeom prst="rect">
              <a:avLst/>
            </a:prstGeom>
            <a:gradFill rotWithShape="0">
              <a:gsLst>
                <a:gs pos="0">
                  <a:srgbClr val="b146b1"/>
                </a:gs>
                <a:gs pos="100000">
                  <a:srgbClr val="ff66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42040" y="3674880"/>
              <a:ext cx="48924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0" y="174"/>
                  </a:moveTo>
                  <a:lnTo>
                    <a:pt x="5" y="174"/>
                  </a:lnTo>
                  <a:lnTo>
                    <a:pt x="3" y="174"/>
                  </a:lnTo>
                  <a:lnTo>
                    <a:pt x="97" y="174"/>
                  </a:lnTo>
                  <a:lnTo>
                    <a:pt x="262" y="0"/>
                  </a:lnTo>
                  <a:lnTo>
                    <a:pt x="369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053200" y="3674880"/>
              <a:ext cx="48888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369" y="174"/>
                  </a:moveTo>
                  <a:lnTo>
                    <a:pt x="363" y="174"/>
                  </a:lnTo>
                  <a:lnTo>
                    <a:pt x="365" y="174"/>
                  </a:lnTo>
                  <a:lnTo>
                    <a:pt x="271" y="174"/>
                  </a:lnTo>
                  <a:lnTo>
                    <a:pt x="107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057160" y="3351240"/>
              <a:ext cx="47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Frutiger 45 Light"/>
                </a:rPr>
                <a:t>D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7" name=""/>
          <p:cNvSpPr/>
          <p:nvPr/>
        </p:nvSpPr>
        <p:spPr>
          <a:xfrm>
            <a:off x="5257800" y="2286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410080" y="2286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5562720" y="2286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525320" y="266652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S1/D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9810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048120" y="228600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410920" y="182844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C-3/OC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4" name="FAX" descr=""/>
          <p:cNvPicPr/>
          <p:nvPr/>
        </p:nvPicPr>
        <p:blipFill>
          <a:blip r:embed="rId3"/>
          <a:stretch/>
        </p:blipFill>
        <p:spPr>
          <a:xfrm>
            <a:off x="152280" y="3124080"/>
            <a:ext cx="582840" cy="433440"/>
          </a:xfrm>
          <a:prstGeom prst="rect">
            <a:avLst/>
          </a:prstGeom>
          <a:ln w="0">
            <a:noFill/>
          </a:ln>
        </p:spPr>
      </p:pic>
      <p:pic>
        <p:nvPicPr>
          <p:cNvPr id="2425" name="Phone" descr=""/>
          <p:cNvPicPr/>
          <p:nvPr/>
        </p:nvPicPr>
        <p:blipFill>
          <a:blip r:embed="rId4"/>
          <a:stretch/>
        </p:blipFill>
        <p:spPr>
          <a:xfrm>
            <a:off x="380880" y="3657600"/>
            <a:ext cx="544680" cy="331920"/>
          </a:xfrm>
          <a:prstGeom prst="rect">
            <a:avLst/>
          </a:prstGeom>
          <a:ln w="0">
            <a:noFill/>
          </a:ln>
        </p:spPr>
      </p:pic>
      <p:sp>
        <p:nvSpPr>
          <p:cNvPr id="2426" name=""/>
          <p:cNvSpPr/>
          <p:nvPr/>
        </p:nvSpPr>
        <p:spPr>
          <a:xfrm>
            <a:off x="838080" y="2895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827960" y="3383280"/>
            <a:ext cx="10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7283-E8DC-4874-AC70-5ABEA72177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 WDM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SONET/SDH Face Growth of Data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685800" y="1146240"/>
            <a:ext cx="7924680" cy="5330880"/>
            <a:chOff x="685800" y="1146240"/>
            <a:chExt cx="7924680" cy="5330880"/>
          </a:xfrm>
        </p:grpSpPr>
        <p:sp>
          <p:nvSpPr>
            <p:cNvPr id="2430" name=""/>
            <p:cNvSpPr/>
            <p:nvPr/>
          </p:nvSpPr>
          <p:spPr>
            <a:xfrm>
              <a:off x="685800" y="1219320"/>
              <a:ext cx="7924680" cy="5257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efe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53920" y="1146240"/>
              <a:ext cx="71812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727640" y="1476360"/>
              <a:ext cx="5743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33cc"/>
                  </a:solidFill>
                  <a:latin typeface="Times New Roman"/>
                </a:rPr>
                <a:t>Trunk Bandwidth Required to Support Growth in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57520" y="1770120"/>
              <a:ext cx="194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33cc"/>
                  </a:solidFill>
                  <a:latin typeface="Times New Roman"/>
                </a:rPr>
                <a:t>Source: RHK 199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955520" y="2314440"/>
              <a:ext cx="6063840" cy="29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955520" y="4808520"/>
              <a:ext cx="606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955520" y="4390920"/>
              <a:ext cx="606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955520" y="3973680"/>
              <a:ext cx="606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955520" y="3567240"/>
              <a:ext cx="606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955520" y="3149640"/>
              <a:ext cx="606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955520" y="2732040"/>
              <a:ext cx="606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955520" y="2314440"/>
              <a:ext cx="606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470040" y="2314440"/>
              <a:ext cx="1080" cy="29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992480" y="2314440"/>
              <a:ext cx="1080" cy="29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505200" y="2314440"/>
              <a:ext cx="1440" cy="29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019720" y="2314440"/>
              <a:ext cx="1440" cy="29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955520" y="2314440"/>
              <a:ext cx="6063840" cy="291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955520" y="5064120"/>
              <a:ext cx="6063840" cy="162000"/>
            </a:xfrm>
            <a:custGeom>
              <a:avLst/>
              <a:gdLst/>
              <a:ahLst/>
              <a:rect l="l" t="t" r="r" b="b"/>
              <a:pathLst>
                <a:path w="3820" h="102">
                  <a:moveTo>
                    <a:pt x="0" y="102"/>
                  </a:moveTo>
                  <a:lnTo>
                    <a:pt x="0" y="38"/>
                  </a:lnTo>
                  <a:lnTo>
                    <a:pt x="954" y="25"/>
                  </a:lnTo>
                  <a:lnTo>
                    <a:pt x="1913" y="12"/>
                  </a:lnTo>
                  <a:lnTo>
                    <a:pt x="2866" y="6"/>
                  </a:lnTo>
                  <a:lnTo>
                    <a:pt x="3820" y="0"/>
                  </a:lnTo>
                  <a:lnTo>
                    <a:pt x="3820" y="102"/>
                  </a:lnTo>
                  <a:lnTo>
                    <a:pt x="2866" y="102"/>
                  </a:lnTo>
                  <a:lnTo>
                    <a:pt x="1913" y="102"/>
                  </a:lnTo>
                  <a:lnTo>
                    <a:pt x="954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955520" y="3454560"/>
              <a:ext cx="6063840" cy="1670040"/>
            </a:xfrm>
            <a:custGeom>
              <a:avLst/>
              <a:gdLst/>
              <a:ahLst/>
              <a:rect l="l" t="t" r="r" b="b"/>
              <a:pathLst>
                <a:path w="3820" h="1052">
                  <a:moveTo>
                    <a:pt x="0" y="1052"/>
                  </a:moveTo>
                  <a:lnTo>
                    <a:pt x="0" y="1052"/>
                  </a:lnTo>
                  <a:lnTo>
                    <a:pt x="954" y="1033"/>
                  </a:lnTo>
                  <a:lnTo>
                    <a:pt x="1913" y="994"/>
                  </a:lnTo>
                  <a:lnTo>
                    <a:pt x="2866" y="821"/>
                  </a:lnTo>
                  <a:lnTo>
                    <a:pt x="3820" y="0"/>
                  </a:lnTo>
                  <a:lnTo>
                    <a:pt x="3820" y="1014"/>
                  </a:lnTo>
                  <a:lnTo>
                    <a:pt x="2866" y="1020"/>
                  </a:lnTo>
                  <a:lnTo>
                    <a:pt x="1913" y="1026"/>
                  </a:lnTo>
                  <a:lnTo>
                    <a:pt x="954" y="1039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955520" y="3454560"/>
              <a:ext cx="6063840" cy="1670040"/>
            </a:xfrm>
            <a:custGeom>
              <a:avLst/>
              <a:gdLst/>
              <a:ahLst/>
              <a:rect l="l" t="t" r="r" b="b"/>
              <a:pathLst>
                <a:path w="3820" h="1052">
                  <a:moveTo>
                    <a:pt x="0" y="1052"/>
                  </a:moveTo>
                  <a:lnTo>
                    <a:pt x="0" y="1052"/>
                  </a:lnTo>
                  <a:lnTo>
                    <a:pt x="954" y="1033"/>
                  </a:lnTo>
                  <a:lnTo>
                    <a:pt x="1913" y="994"/>
                  </a:lnTo>
                  <a:lnTo>
                    <a:pt x="2866" y="821"/>
                  </a:lnTo>
                  <a:lnTo>
                    <a:pt x="3820" y="0"/>
                  </a:lnTo>
                  <a:lnTo>
                    <a:pt x="3820" y="1014"/>
                  </a:lnTo>
                  <a:lnTo>
                    <a:pt x="2866" y="1020"/>
                  </a:lnTo>
                  <a:lnTo>
                    <a:pt x="1913" y="1026"/>
                  </a:lnTo>
                  <a:lnTo>
                    <a:pt x="954" y="1039"/>
                  </a:lnTo>
                  <a:lnTo>
                    <a:pt x="0" y="105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955520" y="2732040"/>
              <a:ext cx="6063840" cy="2392560"/>
            </a:xfrm>
            <a:custGeom>
              <a:avLst/>
              <a:gdLst/>
              <a:ahLst/>
              <a:rect l="l" t="t" r="r" b="b"/>
              <a:pathLst>
                <a:path w="3820" h="1507">
                  <a:moveTo>
                    <a:pt x="0" y="1507"/>
                  </a:moveTo>
                  <a:lnTo>
                    <a:pt x="0" y="1443"/>
                  </a:lnTo>
                  <a:lnTo>
                    <a:pt x="954" y="1353"/>
                  </a:lnTo>
                  <a:lnTo>
                    <a:pt x="1913" y="1289"/>
                  </a:lnTo>
                  <a:lnTo>
                    <a:pt x="2866" y="1013"/>
                  </a:lnTo>
                  <a:lnTo>
                    <a:pt x="3820" y="0"/>
                  </a:lnTo>
                  <a:lnTo>
                    <a:pt x="3820" y="455"/>
                  </a:lnTo>
                  <a:lnTo>
                    <a:pt x="2866" y="1276"/>
                  </a:lnTo>
                  <a:lnTo>
                    <a:pt x="1913" y="1449"/>
                  </a:lnTo>
                  <a:lnTo>
                    <a:pt x="954" y="1488"/>
                  </a:lnTo>
                  <a:lnTo>
                    <a:pt x="0" y="150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955520" y="2732040"/>
              <a:ext cx="6063840" cy="2392560"/>
            </a:xfrm>
            <a:custGeom>
              <a:avLst/>
              <a:gdLst/>
              <a:ahLst/>
              <a:rect l="l" t="t" r="r" b="b"/>
              <a:pathLst>
                <a:path w="3820" h="1507">
                  <a:moveTo>
                    <a:pt x="0" y="1507"/>
                  </a:moveTo>
                  <a:lnTo>
                    <a:pt x="0" y="1443"/>
                  </a:lnTo>
                  <a:lnTo>
                    <a:pt x="954" y="1353"/>
                  </a:lnTo>
                  <a:lnTo>
                    <a:pt x="1913" y="1289"/>
                  </a:lnTo>
                  <a:lnTo>
                    <a:pt x="2866" y="1013"/>
                  </a:lnTo>
                  <a:lnTo>
                    <a:pt x="3820" y="0"/>
                  </a:lnTo>
                  <a:lnTo>
                    <a:pt x="3820" y="455"/>
                  </a:lnTo>
                  <a:lnTo>
                    <a:pt x="2866" y="1276"/>
                  </a:lnTo>
                  <a:lnTo>
                    <a:pt x="1913" y="1449"/>
                  </a:lnTo>
                  <a:lnTo>
                    <a:pt x="954" y="1488"/>
                  </a:lnTo>
                  <a:lnTo>
                    <a:pt x="0" y="150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955520" y="5064120"/>
              <a:ext cx="6063840" cy="162000"/>
            </a:xfrm>
            <a:custGeom>
              <a:avLst/>
              <a:gdLst/>
              <a:ahLst/>
              <a:rect l="l" t="t" r="r" b="b"/>
              <a:pathLst>
                <a:path w="3820" h="102">
                  <a:moveTo>
                    <a:pt x="0" y="102"/>
                  </a:moveTo>
                  <a:lnTo>
                    <a:pt x="0" y="38"/>
                  </a:lnTo>
                  <a:lnTo>
                    <a:pt x="954" y="25"/>
                  </a:lnTo>
                  <a:lnTo>
                    <a:pt x="1913" y="12"/>
                  </a:lnTo>
                  <a:lnTo>
                    <a:pt x="2866" y="6"/>
                  </a:lnTo>
                  <a:lnTo>
                    <a:pt x="3820" y="0"/>
                  </a:lnTo>
                  <a:lnTo>
                    <a:pt x="3820" y="102"/>
                  </a:lnTo>
                  <a:lnTo>
                    <a:pt x="2866" y="102"/>
                  </a:lnTo>
                  <a:lnTo>
                    <a:pt x="1913" y="102"/>
                  </a:lnTo>
                  <a:lnTo>
                    <a:pt x="954" y="102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955520" y="3454560"/>
              <a:ext cx="6063840" cy="1670040"/>
            </a:xfrm>
            <a:custGeom>
              <a:avLst/>
              <a:gdLst/>
              <a:ahLst/>
              <a:rect l="l" t="t" r="r" b="b"/>
              <a:pathLst>
                <a:path w="3820" h="1052">
                  <a:moveTo>
                    <a:pt x="0" y="1052"/>
                  </a:moveTo>
                  <a:lnTo>
                    <a:pt x="0" y="1052"/>
                  </a:lnTo>
                  <a:lnTo>
                    <a:pt x="954" y="1033"/>
                  </a:lnTo>
                  <a:lnTo>
                    <a:pt x="1913" y="994"/>
                  </a:lnTo>
                  <a:lnTo>
                    <a:pt x="2866" y="821"/>
                  </a:lnTo>
                  <a:lnTo>
                    <a:pt x="3820" y="0"/>
                  </a:lnTo>
                  <a:lnTo>
                    <a:pt x="3820" y="1014"/>
                  </a:lnTo>
                  <a:lnTo>
                    <a:pt x="2866" y="1020"/>
                  </a:lnTo>
                  <a:lnTo>
                    <a:pt x="1913" y="1026"/>
                  </a:lnTo>
                  <a:lnTo>
                    <a:pt x="954" y="1039"/>
                  </a:lnTo>
                  <a:lnTo>
                    <a:pt x="0" y="10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955520" y="2732040"/>
              <a:ext cx="6063840" cy="2392560"/>
            </a:xfrm>
            <a:custGeom>
              <a:avLst/>
              <a:gdLst/>
              <a:ahLst/>
              <a:rect l="l" t="t" r="r" b="b"/>
              <a:pathLst>
                <a:path w="3820" h="1507">
                  <a:moveTo>
                    <a:pt x="0" y="1507"/>
                  </a:moveTo>
                  <a:lnTo>
                    <a:pt x="0" y="1443"/>
                  </a:lnTo>
                  <a:lnTo>
                    <a:pt x="954" y="1353"/>
                  </a:lnTo>
                  <a:lnTo>
                    <a:pt x="1913" y="1289"/>
                  </a:lnTo>
                  <a:lnTo>
                    <a:pt x="2866" y="1013"/>
                  </a:lnTo>
                  <a:lnTo>
                    <a:pt x="3820" y="0"/>
                  </a:lnTo>
                  <a:lnTo>
                    <a:pt x="3820" y="455"/>
                  </a:lnTo>
                  <a:lnTo>
                    <a:pt x="2866" y="1276"/>
                  </a:lnTo>
                  <a:lnTo>
                    <a:pt x="1913" y="1449"/>
                  </a:lnTo>
                  <a:lnTo>
                    <a:pt x="954" y="1488"/>
                  </a:lnTo>
                  <a:lnTo>
                    <a:pt x="0" y="15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955520" y="2314440"/>
              <a:ext cx="1440" cy="29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885680" y="5226120"/>
              <a:ext cx="6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885680" y="4808520"/>
              <a:ext cx="6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885680" y="4390920"/>
              <a:ext cx="69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885680" y="3973680"/>
              <a:ext cx="6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885680" y="3567240"/>
              <a:ext cx="6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885680" y="3149640"/>
              <a:ext cx="6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885680" y="2732040"/>
              <a:ext cx="69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885680" y="2314440"/>
              <a:ext cx="69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955520" y="5226120"/>
              <a:ext cx="606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1955520" y="5225760"/>
              <a:ext cx="14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3470040" y="5225760"/>
              <a:ext cx="108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992480" y="5225760"/>
              <a:ext cx="108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6505200" y="5225760"/>
              <a:ext cx="14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8019720" y="5225760"/>
              <a:ext cx="14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726560" y="5103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509480" y="46864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509480" y="42688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509480" y="38512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509480" y="344484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401480" y="30272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401480" y="261000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2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01480" y="219240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4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779480" y="54705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99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294000" y="54705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99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816080" y="54705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329160" y="54705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843680" y="54705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676160" y="5981760"/>
              <a:ext cx="3045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210400" y="5943600"/>
              <a:ext cx="7567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Voic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962160" y="5983200"/>
              <a:ext cx="30456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400440" y="5981760"/>
              <a:ext cx="304560" cy="306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16260000">
              <a:off x="-3240" y="3504240"/>
              <a:ext cx="212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cc"/>
                  </a:solidFill>
                  <a:latin typeface="Times New Roman"/>
                </a:rPr>
                <a:t>Traffic relative to 199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497840" y="5945040"/>
              <a:ext cx="985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860160" y="5945040"/>
              <a:ext cx="1398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Other Dat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1CF1-C7FC-4AB1-9C43-5AF4439619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 WDM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Scaling Option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491" name=""/>
          <p:cNvSpPr/>
          <p:nvPr/>
        </p:nvSpPr>
        <p:spPr>
          <a:xfrm>
            <a:off x="68436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3198960" y="1600200"/>
            <a:ext cx="27432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tion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pgrade SO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246720" y="1600200"/>
            <a:ext cx="27432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tion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roduce DW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4" name=""/>
          <p:cNvGrpSpPr/>
          <p:nvPr/>
        </p:nvGrpSpPr>
        <p:grpSpPr>
          <a:xfrm>
            <a:off x="6248520" y="2971800"/>
            <a:ext cx="2209680" cy="2920320"/>
            <a:chOff x="6248520" y="2971800"/>
            <a:chExt cx="2209680" cy="2920320"/>
          </a:xfrm>
        </p:grpSpPr>
        <p:sp>
          <p:nvSpPr>
            <p:cNvPr id="2495" name=""/>
            <p:cNvSpPr/>
            <p:nvPr/>
          </p:nvSpPr>
          <p:spPr>
            <a:xfrm>
              <a:off x="6705720" y="2971800"/>
              <a:ext cx="304560" cy="251460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0" y="0"/>
                  </a:moveTo>
                  <a:cubicBezTo>
                    <a:pt x="168" y="252"/>
                    <a:pt x="336" y="504"/>
                    <a:pt x="336" y="768"/>
                  </a:cubicBezTo>
                  <a:cubicBezTo>
                    <a:pt x="336" y="1032"/>
                    <a:pt x="168" y="1308"/>
                    <a:pt x="0" y="1584"/>
                  </a:cubicBezTo>
                </a:path>
              </a:pathLst>
            </a:custGeom>
            <a:noFill/>
            <a:ln cap="sq" w="126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781680" y="2971800"/>
              <a:ext cx="304920" cy="251460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0" y="0"/>
                  </a:moveTo>
                  <a:cubicBezTo>
                    <a:pt x="168" y="252"/>
                    <a:pt x="336" y="504"/>
                    <a:pt x="336" y="768"/>
                  </a:cubicBezTo>
                  <a:cubicBezTo>
                    <a:pt x="336" y="1032"/>
                    <a:pt x="168" y="1308"/>
                    <a:pt x="0" y="1584"/>
                  </a:cubicBezTo>
                </a:path>
              </a:pathLst>
            </a:custGeom>
            <a:noFill/>
            <a:ln cap="sq"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858000" y="2971800"/>
              <a:ext cx="304920" cy="251460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0" y="0"/>
                  </a:moveTo>
                  <a:cubicBezTo>
                    <a:pt x="168" y="252"/>
                    <a:pt x="336" y="504"/>
                    <a:pt x="336" y="768"/>
                  </a:cubicBezTo>
                  <a:cubicBezTo>
                    <a:pt x="336" y="1032"/>
                    <a:pt x="168" y="1308"/>
                    <a:pt x="0" y="1584"/>
                  </a:cubicBezTo>
                </a:path>
              </a:pathLst>
            </a:custGeom>
            <a:noFill/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934320" y="2971800"/>
              <a:ext cx="304560" cy="251460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0" y="0"/>
                  </a:moveTo>
                  <a:cubicBezTo>
                    <a:pt x="168" y="252"/>
                    <a:pt x="336" y="504"/>
                    <a:pt x="336" y="768"/>
                  </a:cubicBezTo>
                  <a:cubicBezTo>
                    <a:pt x="336" y="1032"/>
                    <a:pt x="168" y="1308"/>
                    <a:pt x="0" y="1584"/>
                  </a:cubicBezTo>
                </a:path>
              </a:pathLst>
            </a:custGeom>
            <a:noFill/>
            <a:ln cap="sq" w="1260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010280" y="2971800"/>
              <a:ext cx="304920" cy="251460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0" y="0"/>
                  </a:moveTo>
                  <a:cubicBezTo>
                    <a:pt x="168" y="252"/>
                    <a:pt x="336" y="504"/>
                    <a:pt x="336" y="768"/>
                  </a:cubicBezTo>
                  <a:cubicBezTo>
                    <a:pt x="336" y="1032"/>
                    <a:pt x="168" y="1308"/>
                    <a:pt x="0" y="1584"/>
                  </a:cubicBezTo>
                </a:path>
              </a:pathLst>
            </a:custGeom>
            <a:noFill/>
            <a:ln cap="sq" w="12600">
              <a:solidFill>
                <a:srgbClr val="33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086600" y="2971800"/>
              <a:ext cx="304920" cy="251460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0" y="0"/>
                  </a:moveTo>
                  <a:cubicBezTo>
                    <a:pt x="168" y="252"/>
                    <a:pt x="336" y="504"/>
                    <a:pt x="336" y="768"/>
                  </a:cubicBezTo>
                  <a:cubicBezTo>
                    <a:pt x="336" y="1032"/>
                    <a:pt x="168" y="1308"/>
                    <a:pt x="0" y="1584"/>
                  </a:cubicBezTo>
                </a:path>
              </a:pathLst>
            </a:custGeom>
            <a:noFill/>
            <a:ln cap="sq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248520" y="54864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λ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λ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162920" y="3809880"/>
              <a:ext cx="761760" cy="1676520"/>
            </a:xfrm>
            <a:custGeom>
              <a:avLst/>
              <a:gdLst/>
              <a:ahLst/>
              <a:rect l="l" t="t" r="r" b="b"/>
              <a:pathLst>
                <a:path w="432" h="1056">
                  <a:moveTo>
                    <a:pt x="0" y="1056"/>
                  </a:moveTo>
                  <a:cubicBezTo>
                    <a:pt x="84" y="712"/>
                    <a:pt x="168" y="368"/>
                    <a:pt x="240" y="192"/>
                  </a:cubicBezTo>
                  <a:cubicBezTo>
                    <a:pt x="312" y="16"/>
                    <a:pt x="372" y="8"/>
                    <a:pt x="432" y="0"/>
                  </a:cubicBezTo>
                </a:path>
              </a:pathLst>
            </a:custGeom>
            <a:noFill/>
            <a:ln cap="sq" w="1260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162920" y="2971800"/>
              <a:ext cx="761760" cy="76212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0" y="0"/>
                  </a:moveTo>
                  <a:cubicBezTo>
                    <a:pt x="32" y="128"/>
                    <a:pt x="64" y="256"/>
                    <a:pt x="144" y="336"/>
                  </a:cubicBezTo>
                  <a:cubicBezTo>
                    <a:pt x="224" y="416"/>
                    <a:pt x="352" y="448"/>
                    <a:pt x="480" y="480"/>
                  </a:cubicBezTo>
                </a:path>
              </a:pathLst>
            </a:custGeom>
            <a:noFill/>
            <a:ln cap="sq" w="1260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72400" y="3581280"/>
              <a:ext cx="533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001000" y="35812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λ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62940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••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010280" y="5486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λ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629400" y="3581280"/>
              <a:ext cx="1066680" cy="4572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OA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3048120" y="2895480"/>
            <a:ext cx="2514240" cy="3067920"/>
            <a:chOff x="3048120" y="2895480"/>
            <a:chExt cx="2514240" cy="3067920"/>
          </a:xfrm>
        </p:grpSpPr>
        <p:grpSp>
          <p:nvGrpSpPr>
            <p:cNvPr id="2510" name=""/>
            <p:cNvGrpSpPr/>
            <p:nvPr/>
          </p:nvGrpSpPr>
          <p:grpSpPr>
            <a:xfrm>
              <a:off x="3657960" y="2895480"/>
              <a:ext cx="1233360" cy="609120"/>
              <a:chOff x="3657960" y="2895480"/>
              <a:chExt cx="1233360" cy="609120"/>
            </a:xfrm>
          </p:grpSpPr>
          <p:grpSp>
            <p:nvGrpSpPr>
              <p:cNvPr id="2511" name=""/>
              <p:cNvGrpSpPr/>
              <p:nvPr/>
            </p:nvGrpSpPr>
            <p:grpSpPr>
              <a:xfrm>
                <a:off x="3657960" y="2895480"/>
                <a:ext cx="1233360" cy="609120"/>
                <a:chOff x="3657960" y="2895480"/>
                <a:chExt cx="1233360" cy="60912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3657960" y="2920680"/>
                  <a:ext cx="1233360" cy="448920"/>
                </a:xfrm>
                <a:prstGeom prst="ellipse">
                  <a:avLst/>
                </a:prstGeom>
                <a:noFill/>
                <a:ln w="284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4050000" y="3344400"/>
                  <a:ext cx="168120" cy="16020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3881880" y="2895480"/>
                  <a:ext cx="168120" cy="160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4722840" y="3023640"/>
                  <a:ext cx="168120" cy="16020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6" name=""/>
              <p:cNvSpPr/>
              <p:nvPr/>
            </p:nvSpPr>
            <p:spPr>
              <a:xfrm>
                <a:off x="4054320" y="2970360"/>
                <a:ext cx="59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OC-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7" name=""/>
            <p:cNvGrpSpPr/>
            <p:nvPr/>
          </p:nvGrpSpPr>
          <p:grpSpPr>
            <a:xfrm>
              <a:off x="3429360" y="3809880"/>
              <a:ext cx="1676160" cy="723960"/>
              <a:chOff x="3429360" y="3809880"/>
              <a:chExt cx="1676160" cy="723960"/>
            </a:xfrm>
          </p:grpSpPr>
          <p:grpSp>
            <p:nvGrpSpPr>
              <p:cNvPr id="2518" name=""/>
              <p:cNvGrpSpPr/>
              <p:nvPr/>
            </p:nvGrpSpPr>
            <p:grpSpPr>
              <a:xfrm>
                <a:off x="3429360" y="3809880"/>
                <a:ext cx="1676160" cy="723960"/>
                <a:chOff x="3429360" y="3809880"/>
                <a:chExt cx="1676160" cy="723960"/>
              </a:xfrm>
            </p:grpSpPr>
            <p:sp>
              <p:nvSpPr>
                <p:cNvPr id="2519" name=""/>
                <p:cNvSpPr/>
                <p:nvPr/>
              </p:nvSpPr>
              <p:spPr>
                <a:xfrm>
                  <a:off x="3429360" y="3840120"/>
                  <a:ext cx="1676160" cy="533520"/>
                </a:xfrm>
                <a:prstGeom prst="ellipse">
                  <a:avLst/>
                </a:prstGeom>
                <a:noFill/>
                <a:ln w="284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3962520" y="4343400"/>
                  <a:ext cx="228600" cy="190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3733920" y="3809880"/>
                  <a:ext cx="228600" cy="19080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4876920" y="3962520"/>
                  <a:ext cx="228600" cy="190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3" name=""/>
              <p:cNvSpPr/>
              <p:nvPr/>
            </p:nvSpPr>
            <p:spPr>
              <a:xfrm>
                <a:off x="3991320" y="3848400"/>
                <a:ext cx="77040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Times New Roman"/>
                  </a:rPr>
                  <a:t>OC-48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4" name=""/>
            <p:cNvGrpSpPr/>
            <p:nvPr/>
          </p:nvGrpSpPr>
          <p:grpSpPr>
            <a:xfrm>
              <a:off x="3048120" y="4876560"/>
              <a:ext cx="2514240" cy="1086840"/>
              <a:chOff x="3048120" y="4876560"/>
              <a:chExt cx="2514240" cy="1086840"/>
            </a:xfrm>
          </p:grpSpPr>
          <p:grpSp>
            <p:nvGrpSpPr>
              <p:cNvPr id="2525" name=""/>
              <p:cNvGrpSpPr/>
              <p:nvPr/>
            </p:nvGrpSpPr>
            <p:grpSpPr>
              <a:xfrm>
                <a:off x="3048120" y="4876560"/>
                <a:ext cx="2514240" cy="1086840"/>
                <a:chOff x="3048120" y="4876560"/>
                <a:chExt cx="2514240" cy="108684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3048120" y="4921920"/>
                  <a:ext cx="2514240" cy="801000"/>
                </a:xfrm>
                <a:prstGeom prst="ellipse">
                  <a:avLst/>
                </a:prstGeom>
                <a:noFill/>
                <a:ln w="284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3847680" y="5677560"/>
                  <a:ext cx="342720" cy="2858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3504960" y="4876560"/>
                  <a:ext cx="342720" cy="286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5219280" y="5105520"/>
                  <a:ext cx="342720" cy="2858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0" name=""/>
              <p:cNvSpPr/>
              <p:nvPr/>
            </p:nvSpPr>
            <p:spPr>
              <a:xfrm>
                <a:off x="3754080" y="5051520"/>
                <a:ext cx="1287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ffffff"/>
                    </a:solidFill>
                    <a:latin typeface="Times New Roman"/>
                  </a:rPr>
                  <a:t>OC-19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1" name=""/>
          <p:cNvSpPr/>
          <p:nvPr/>
        </p:nvSpPr>
        <p:spPr>
          <a:xfrm>
            <a:off x="228600" y="1600200"/>
            <a:ext cx="27432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tion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verbuild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685800" y="2895480"/>
            <a:ext cx="1065600" cy="2895480"/>
            <a:chOff x="685800" y="2895480"/>
            <a:chExt cx="1065600" cy="2895480"/>
          </a:xfrm>
        </p:grpSpPr>
        <p:grpSp>
          <p:nvGrpSpPr>
            <p:cNvPr id="2533" name=""/>
            <p:cNvGrpSpPr/>
            <p:nvPr/>
          </p:nvGrpSpPr>
          <p:grpSpPr>
            <a:xfrm>
              <a:off x="685800" y="2895480"/>
              <a:ext cx="1065600" cy="457200"/>
              <a:chOff x="685800" y="2895480"/>
              <a:chExt cx="1065600" cy="457200"/>
            </a:xfrm>
          </p:grpSpPr>
          <p:sp>
            <p:nvSpPr>
              <p:cNvPr id="2534" name=""/>
              <p:cNvSpPr/>
              <p:nvPr/>
            </p:nvSpPr>
            <p:spPr>
              <a:xfrm flipH="1" rot="16200000">
                <a:off x="1166760" y="2768400"/>
                <a:ext cx="457200" cy="711000"/>
              </a:xfrm>
              <a:prstGeom prst="can">
                <a:avLst>
                  <a:gd name="adj" fmla="val 25000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H="1" rot="16200000">
                <a:off x="870120" y="2973960"/>
                <a:ext cx="312480" cy="299880"/>
              </a:xfrm>
              <a:prstGeom prst="can">
                <a:avLst>
                  <a:gd name="adj" fmla="val 25000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rot="16200000">
                <a:off x="797400" y="3000600"/>
                <a:ext cx="22680" cy="246240"/>
              </a:xfrm>
              <a:prstGeom prst="can">
                <a:avLst>
                  <a:gd name="adj" fmla="val 5555"/>
                </a:avLst>
              </a:prstGeom>
              <a:solidFill>
                <a:srgbClr val="aec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7" name=""/>
            <p:cNvGrpSpPr/>
            <p:nvPr/>
          </p:nvGrpSpPr>
          <p:grpSpPr>
            <a:xfrm>
              <a:off x="685800" y="3504960"/>
              <a:ext cx="1065600" cy="457200"/>
              <a:chOff x="685800" y="3504960"/>
              <a:chExt cx="1065600" cy="457200"/>
            </a:xfrm>
          </p:grpSpPr>
          <p:sp>
            <p:nvSpPr>
              <p:cNvPr id="2538" name=""/>
              <p:cNvSpPr/>
              <p:nvPr/>
            </p:nvSpPr>
            <p:spPr>
              <a:xfrm flipH="1" rot="16200000">
                <a:off x="1166760" y="3377880"/>
                <a:ext cx="457200" cy="711000"/>
              </a:xfrm>
              <a:prstGeom prst="can">
                <a:avLst>
                  <a:gd name="adj" fmla="val 25000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H="1" rot="16200000">
                <a:off x="870120" y="3583440"/>
                <a:ext cx="312480" cy="299880"/>
              </a:xfrm>
              <a:prstGeom prst="can">
                <a:avLst>
                  <a:gd name="adj" fmla="val 25000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H="1" rot="16200000">
                <a:off x="797400" y="3610080"/>
                <a:ext cx="22680" cy="246240"/>
              </a:xfrm>
              <a:prstGeom prst="can">
                <a:avLst>
                  <a:gd name="adj" fmla="val 5555"/>
                </a:avLst>
              </a:prstGeom>
              <a:solidFill>
                <a:srgbClr val="aec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1" name=""/>
            <p:cNvGrpSpPr/>
            <p:nvPr/>
          </p:nvGrpSpPr>
          <p:grpSpPr>
            <a:xfrm>
              <a:off x="685800" y="4114800"/>
              <a:ext cx="1065600" cy="457200"/>
              <a:chOff x="685800" y="4114800"/>
              <a:chExt cx="1065600" cy="457200"/>
            </a:xfrm>
          </p:grpSpPr>
          <p:sp>
            <p:nvSpPr>
              <p:cNvPr id="2542" name=""/>
              <p:cNvSpPr/>
              <p:nvPr/>
            </p:nvSpPr>
            <p:spPr>
              <a:xfrm flipH="1" rot="16200000">
                <a:off x="1166760" y="3987720"/>
                <a:ext cx="457200" cy="711000"/>
              </a:xfrm>
              <a:prstGeom prst="can">
                <a:avLst>
                  <a:gd name="adj" fmla="val 25000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 rot="16200000">
                <a:off x="870120" y="4193280"/>
                <a:ext cx="312480" cy="299880"/>
              </a:xfrm>
              <a:prstGeom prst="can">
                <a:avLst>
                  <a:gd name="adj" fmla="val 25000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H="1" rot="16200000">
                <a:off x="797400" y="4219920"/>
                <a:ext cx="22680" cy="246240"/>
              </a:xfrm>
              <a:prstGeom prst="can">
                <a:avLst>
                  <a:gd name="adj" fmla="val 5555"/>
                </a:avLst>
              </a:prstGeom>
              <a:solidFill>
                <a:srgbClr val="aec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5" name=""/>
            <p:cNvGrpSpPr/>
            <p:nvPr/>
          </p:nvGrpSpPr>
          <p:grpSpPr>
            <a:xfrm>
              <a:off x="685800" y="4724280"/>
              <a:ext cx="1065600" cy="457200"/>
              <a:chOff x="685800" y="4724280"/>
              <a:chExt cx="1065600" cy="457200"/>
            </a:xfrm>
          </p:grpSpPr>
          <p:sp>
            <p:nvSpPr>
              <p:cNvPr id="2546" name=""/>
              <p:cNvSpPr/>
              <p:nvPr/>
            </p:nvSpPr>
            <p:spPr>
              <a:xfrm flipH="1" rot="16200000">
                <a:off x="1166760" y="4597200"/>
                <a:ext cx="457200" cy="711000"/>
              </a:xfrm>
              <a:prstGeom prst="can">
                <a:avLst>
                  <a:gd name="adj" fmla="val 25000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H="1" rot="16200000">
                <a:off x="870120" y="4802760"/>
                <a:ext cx="312480" cy="299880"/>
              </a:xfrm>
              <a:prstGeom prst="can">
                <a:avLst>
                  <a:gd name="adj" fmla="val 25000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 rot="16200000">
                <a:off x="797400" y="4829400"/>
                <a:ext cx="22680" cy="246240"/>
              </a:xfrm>
              <a:prstGeom prst="can">
                <a:avLst>
                  <a:gd name="adj" fmla="val 5555"/>
                </a:avLst>
              </a:prstGeom>
              <a:solidFill>
                <a:srgbClr val="aec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9" name=""/>
            <p:cNvGrpSpPr/>
            <p:nvPr/>
          </p:nvGrpSpPr>
          <p:grpSpPr>
            <a:xfrm>
              <a:off x="685800" y="5333760"/>
              <a:ext cx="1065600" cy="457200"/>
              <a:chOff x="685800" y="5333760"/>
              <a:chExt cx="1065600" cy="457200"/>
            </a:xfrm>
          </p:grpSpPr>
          <p:sp>
            <p:nvSpPr>
              <p:cNvPr id="2550" name=""/>
              <p:cNvSpPr/>
              <p:nvPr/>
            </p:nvSpPr>
            <p:spPr>
              <a:xfrm flipH="1" rot="16200000">
                <a:off x="1166760" y="5206680"/>
                <a:ext cx="457200" cy="711000"/>
              </a:xfrm>
              <a:prstGeom prst="can">
                <a:avLst>
                  <a:gd name="adj" fmla="val 25000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rot="16200000">
                <a:off x="870120" y="5412240"/>
                <a:ext cx="312480" cy="299880"/>
              </a:xfrm>
              <a:prstGeom prst="can">
                <a:avLst>
                  <a:gd name="adj" fmla="val 25000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H="1" rot="16200000">
                <a:off x="797400" y="5438880"/>
                <a:ext cx="22680" cy="246240"/>
              </a:xfrm>
              <a:prstGeom prst="can">
                <a:avLst>
                  <a:gd name="adj" fmla="val 5555"/>
                </a:avLst>
              </a:prstGeom>
              <a:solidFill>
                <a:srgbClr val="aec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1F14-852E-4BA0-B58C-3B50753FF5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SONET/SDH over WDM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Limitations of TDM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554" name=""/>
          <p:cNvSpPr/>
          <p:nvPr/>
        </p:nvSpPr>
        <p:spPr>
          <a:xfrm>
            <a:off x="914400" y="1143000"/>
            <a:ext cx="0" cy="5105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901800" y="6248520"/>
            <a:ext cx="808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91880" y="5987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06000" y="51188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477720" y="396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63600" y="2653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49120" y="1751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7400" y="11422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611280" y="6317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838080" y="52578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838080" y="41148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28195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914400" y="3581280"/>
            <a:ext cx="6934320" cy="0"/>
          </a:xfrm>
          <a:prstGeom prst="line">
            <a:avLst/>
          </a:prstGeom>
          <a:ln w="6480">
            <a:solidFill>
              <a:srgbClr val="ff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914400" y="2819520"/>
            <a:ext cx="6934320" cy="0"/>
          </a:xfrm>
          <a:prstGeom prst="line">
            <a:avLst/>
          </a:prstGeom>
          <a:ln w="6480">
            <a:solidFill>
              <a:srgbClr val="ff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914400" y="1981080"/>
            <a:ext cx="6934320" cy="0"/>
          </a:xfrm>
          <a:prstGeom prst="line">
            <a:avLst/>
          </a:prstGeom>
          <a:ln w="6480">
            <a:solidFill>
              <a:srgbClr val="ff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838080" y="19810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03440" y="6317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376880" y="6317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249960" y="6315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8123400" y="6315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806560" y="6248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711680" y="6248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6616800" y="6248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8521560" y="6248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001160" y="35809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2.5 G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000800" y="281916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10 G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000800" y="19807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100 G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000800" y="114264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400 G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914400" y="2819520"/>
            <a:ext cx="4114800" cy="17524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flipV="1">
            <a:off x="2057400" y="5105160"/>
            <a:ext cx="2514600" cy="10666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 flipV="1">
            <a:off x="4572000" y="4038480"/>
            <a:ext cx="1371600" cy="106704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 flipV="1">
            <a:off x="4343400" y="2209680"/>
            <a:ext cx="762120" cy="9907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5092560" y="1599840"/>
            <a:ext cx="1155960" cy="62244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V="1">
            <a:off x="6324480" y="837720"/>
            <a:ext cx="1231920" cy="69876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4572000" y="4343400"/>
            <a:ext cx="457200" cy="8380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flipV="1">
            <a:off x="5029200" y="3580920"/>
            <a:ext cx="1143000" cy="7621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6172200" y="2362320"/>
            <a:ext cx="685800" cy="1218960"/>
          </a:xfrm>
          <a:custGeom>
            <a:avLst/>
            <a:gdLst/>
            <a:ahLst/>
            <a:rect l="l" t="t" r="r" b="b"/>
            <a:pathLst>
              <a:path w="432" h="768">
                <a:moveTo>
                  <a:pt x="0" y="768"/>
                </a:moveTo>
                <a:cubicBezTo>
                  <a:pt x="132" y="592"/>
                  <a:pt x="264" y="416"/>
                  <a:pt x="336" y="288"/>
                </a:cubicBezTo>
                <a:cubicBezTo>
                  <a:pt x="408" y="160"/>
                  <a:pt x="416" y="48"/>
                  <a:pt x="432" y="0"/>
                </a:cubicBezTo>
              </a:path>
            </a:pathLst>
          </a:custGeom>
          <a:noFill/>
          <a:ln w="5724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4800600" y="4863600"/>
            <a:ext cx="304920" cy="68580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5118120" y="4419720"/>
            <a:ext cx="457200" cy="45720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5562720" y="4140360"/>
            <a:ext cx="279360" cy="27936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5829480" y="3581280"/>
            <a:ext cx="342720" cy="57168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6146640" y="2463840"/>
            <a:ext cx="685800" cy="1219320"/>
          </a:xfrm>
          <a:custGeom>
            <a:avLst/>
            <a:gdLst/>
            <a:ahLst/>
            <a:rect l="l" t="t" r="r" b="b"/>
            <a:pathLst>
              <a:path w="432" h="768">
                <a:moveTo>
                  <a:pt x="0" y="768"/>
                </a:moveTo>
                <a:cubicBezTo>
                  <a:pt x="132" y="592"/>
                  <a:pt x="264" y="416"/>
                  <a:pt x="336" y="288"/>
                </a:cubicBezTo>
                <a:cubicBezTo>
                  <a:pt x="408" y="160"/>
                  <a:pt x="416" y="48"/>
                  <a:pt x="432" y="0"/>
                </a:cubicBezTo>
              </a:path>
            </a:pathLst>
          </a:custGeom>
          <a:noFill/>
          <a:ln w="57240">
            <a:solidFill>
              <a:srgbClr val="ff99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V="1">
            <a:off x="5943600" y="3733920"/>
            <a:ext cx="304920" cy="30456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V="1">
            <a:off x="6248520" y="3200400"/>
            <a:ext cx="304560" cy="533520"/>
          </a:xfrm>
          <a:prstGeom prst="line">
            <a:avLst/>
          </a:prstGeom>
          <a:ln w="57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5029200" y="2514600"/>
            <a:ext cx="1600200" cy="30492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192"/>
                </a:moveTo>
                <a:cubicBezTo>
                  <a:pt x="252" y="136"/>
                  <a:pt x="504" y="80"/>
                  <a:pt x="672" y="48"/>
                </a:cubicBezTo>
                <a:cubicBezTo>
                  <a:pt x="840" y="16"/>
                  <a:pt x="952" y="8"/>
                  <a:pt x="1008" y="0"/>
                </a:cubicBezTo>
              </a:path>
            </a:pathLst>
          </a:custGeom>
          <a:noFill/>
          <a:ln w="5724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210760" y="396180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TDM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4268160" y="14472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WDM + T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4192920" y="362520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814480" y="50428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imes New Roman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192280" y="495216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IP ro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8231040" y="57117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v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C9B9-F705-4659-A208-5C0D04BEECE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152280" y="2209680"/>
            <a:ext cx="8686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Introduction to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Wave Division Multiplexing (WDM)</a:t>
            </a:r>
            <a:endParaRPr b="1" lang="en-US" sz="60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6E0B-DA10-42C8-B8EA-812F679E7E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WDM Introduction</a:t>
            </a:r>
            <a:br>
              <a:rPr sz="20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Low Loss Regions of Optical Fiber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2607" name=""/>
          <p:cNvGrpSpPr/>
          <p:nvPr/>
        </p:nvGrpSpPr>
        <p:grpSpPr>
          <a:xfrm>
            <a:off x="838080" y="1447920"/>
            <a:ext cx="7542360" cy="4937040"/>
            <a:chOff x="838080" y="1447920"/>
            <a:chExt cx="7542360" cy="4937040"/>
          </a:xfrm>
        </p:grpSpPr>
        <p:sp>
          <p:nvSpPr>
            <p:cNvPr id="2608" name=""/>
            <p:cNvSpPr/>
            <p:nvPr/>
          </p:nvSpPr>
          <p:spPr>
            <a:xfrm>
              <a:off x="838080" y="1447920"/>
              <a:ext cx="7542360" cy="49370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620080" y="5767560"/>
              <a:ext cx="145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velength (nanometer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496520" y="1819080"/>
              <a:ext cx="6359400" cy="3649680"/>
            </a:xfrm>
            <a:custGeom>
              <a:avLst/>
              <a:gdLst/>
              <a:ahLst/>
              <a:rect l="l" t="t" r="r" b="b"/>
              <a:pathLst>
                <a:path w="4661" h="2951">
                  <a:moveTo>
                    <a:pt x="0" y="332"/>
                  </a:moveTo>
                  <a:lnTo>
                    <a:pt x="305" y="562"/>
                  </a:lnTo>
                  <a:lnTo>
                    <a:pt x="898" y="1138"/>
                  </a:lnTo>
                  <a:lnTo>
                    <a:pt x="1272" y="2061"/>
                  </a:lnTo>
                  <a:lnTo>
                    <a:pt x="1493" y="2174"/>
                  </a:lnTo>
                  <a:lnTo>
                    <a:pt x="2103" y="73"/>
                  </a:lnTo>
                  <a:lnTo>
                    <a:pt x="2483" y="1196"/>
                  </a:lnTo>
                  <a:lnTo>
                    <a:pt x="2878" y="1944"/>
                  </a:lnTo>
                  <a:lnTo>
                    <a:pt x="3078" y="2519"/>
                  </a:lnTo>
                  <a:lnTo>
                    <a:pt x="3868" y="2634"/>
                  </a:lnTo>
                  <a:lnTo>
                    <a:pt x="4236" y="2061"/>
                  </a:lnTo>
                  <a:lnTo>
                    <a:pt x="4661" y="0"/>
                  </a:lnTo>
                  <a:lnTo>
                    <a:pt x="4661" y="2951"/>
                  </a:lnTo>
                  <a:lnTo>
                    <a:pt x="0" y="2951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507680" y="1909080"/>
              <a:ext cx="6348240" cy="3559680"/>
            </a:xfrm>
            <a:custGeom>
              <a:avLst/>
              <a:gdLst/>
              <a:ahLst/>
              <a:rect l="l" t="t" r="r" b="b"/>
              <a:pathLst>
                <a:path w="4661" h="2734">
                  <a:moveTo>
                    <a:pt x="0" y="0"/>
                  </a:moveTo>
                  <a:lnTo>
                    <a:pt x="0" y="2734"/>
                  </a:lnTo>
                  <a:lnTo>
                    <a:pt x="4661" y="2734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856280" y="5168880"/>
              <a:ext cx="108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569120" y="51688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681880" y="516780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433320" y="5168880"/>
              <a:ext cx="144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2326320" y="5158800"/>
              <a:ext cx="288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727680" y="5167800"/>
              <a:ext cx="144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92920" y="54802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216160" y="54802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372920" y="54802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678440" y="54802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519880" y="54802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599880" y="54802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4141800" y="4981680"/>
              <a:ext cx="47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079160" y="4946040"/>
              <a:ext cx="70920" cy="68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27"/>
                  </a:lnTo>
                  <a:lnTo>
                    <a:pt x="52" y="5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079160" y="4831920"/>
              <a:ext cx="108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462040" y="4981680"/>
              <a:ext cx="477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30760" y="4946040"/>
              <a:ext cx="68400" cy="684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0"/>
                  </a:moveTo>
                  <a:lnTo>
                    <a:pt x="51" y="27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99160" y="4831920"/>
              <a:ext cx="108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H="1">
              <a:off x="6810480" y="4944960"/>
              <a:ext cx="475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747480" y="4908960"/>
              <a:ext cx="71280" cy="6732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27"/>
                  </a:lnTo>
                  <a:lnTo>
                    <a:pt x="52" y="5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727680" y="4793400"/>
              <a:ext cx="144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124960" y="4981680"/>
              <a:ext cx="47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594760" y="4946040"/>
              <a:ext cx="71280" cy="684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52" y="27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681880" y="479340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340800" y="453348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410280" y="4681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134520" y="4869000"/>
              <a:ext cx="61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310 Windo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rot="16200000">
              <a:off x="661680" y="3687840"/>
              <a:ext cx="739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ss dB/K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206720" y="25635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206720" y="3763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206720" y="46620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206720" y="52621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556240" y="4106160"/>
              <a:ext cx="313920" cy="281160"/>
            </a:xfrm>
            <a:custGeom>
              <a:avLst/>
              <a:gdLst/>
              <a:ahLst/>
              <a:rect l="l" t="t" r="r" b="b"/>
              <a:pathLst>
                <a:path w="231" h="217">
                  <a:moveTo>
                    <a:pt x="0" y="217"/>
                  </a:moveTo>
                  <a:lnTo>
                    <a:pt x="58" y="217"/>
                  </a:lnTo>
                  <a:lnTo>
                    <a:pt x="100" y="0"/>
                  </a:lnTo>
                  <a:lnTo>
                    <a:pt x="129" y="0"/>
                  </a:lnTo>
                  <a:lnTo>
                    <a:pt x="173" y="217"/>
                  </a:lnTo>
                  <a:lnTo>
                    <a:pt x="231" y="217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861880" y="4106160"/>
              <a:ext cx="316800" cy="281160"/>
            </a:xfrm>
            <a:custGeom>
              <a:avLst/>
              <a:gdLst/>
              <a:ahLst/>
              <a:rect l="l" t="t" r="r" b="b"/>
              <a:pathLst>
                <a:path w="232" h="217">
                  <a:moveTo>
                    <a:pt x="0" y="217"/>
                  </a:moveTo>
                  <a:lnTo>
                    <a:pt x="57" y="217"/>
                  </a:lnTo>
                  <a:lnTo>
                    <a:pt x="102" y="0"/>
                  </a:lnTo>
                  <a:lnTo>
                    <a:pt x="130" y="0"/>
                  </a:lnTo>
                  <a:lnTo>
                    <a:pt x="173" y="217"/>
                  </a:lnTo>
                  <a:lnTo>
                    <a:pt x="232" y="217"/>
                  </a:ln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173280" y="4106160"/>
              <a:ext cx="315720" cy="281160"/>
            </a:xfrm>
            <a:custGeom>
              <a:avLst/>
              <a:gdLst/>
              <a:ahLst/>
              <a:rect l="l" t="t" r="r" b="b"/>
              <a:pathLst>
                <a:path w="232" h="217">
                  <a:moveTo>
                    <a:pt x="0" y="217"/>
                  </a:moveTo>
                  <a:lnTo>
                    <a:pt x="58" y="217"/>
                  </a:lnTo>
                  <a:lnTo>
                    <a:pt x="102" y="0"/>
                  </a:lnTo>
                  <a:lnTo>
                    <a:pt x="131" y="0"/>
                  </a:lnTo>
                  <a:lnTo>
                    <a:pt x="175" y="217"/>
                  </a:lnTo>
                  <a:lnTo>
                    <a:pt x="232" y="217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465960" y="4106160"/>
              <a:ext cx="315720" cy="281160"/>
            </a:xfrm>
            <a:custGeom>
              <a:avLst/>
              <a:gdLst/>
              <a:ahLst/>
              <a:rect l="l" t="t" r="r" b="b"/>
              <a:pathLst>
                <a:path w="232" h="217">
                  <a:moveTo>
                    <a:pt x="0" y="217"/>
                  </a:moveTo>
                  <a:lnTo>
                    <a:pt x="58" y="217"/>
                  </a:lnTo>
                  <a:lnTo>
                    <a:pt x="102" y="0"/>
                  </a:lnTo>
                  <a:lnTo>
                    <a:pt x="131" y="0"/>
                  </a:lnTo>
                  <a:lnTo>
                    <a:pt x="175" y="217"/>
                  </a:lnTo>
                  <a:lnTo>
                    <a:pt x="232" y="217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769080" y="4106160"/>
              <a:ext cx="316800" cy="281160"/>
            </a:xfrm>
            <a:custGeom>
              <a:avLst/>
              <a:gdLst/>
              <a:ahLst/>
              <a:rect l="l" t="t" r="r" b="b"/>
              <a:pathLst>
                <a:path w="232" h="217">
                  <a:moveTo>
                    <a:pt x="0" y="217"/>
                  </a:moveTo>
                  <a:lnTo>
                    <a:pt x="57" y="217"/>
                  </a:lnTo>
                  <a:lnTo>
                    <a:pt x="101" y="0"/>
                  </a:lnTo>
                  <a:lnTo>
                    <a:pt x="130" y="0"/>
                  </a:lnTo>
                  <a:lnTo>
                    <a:pt x="174" y="217"/>
                  </a:lnTo>
                  <a:lnTo>
                    <a:pt x="232" y="217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691600" y="4464720"/>
              <a:ext cx="8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λ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805000" y="4533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987160" y="4474800"/>
              <a:ext cx="8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λ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100200" y="4543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269040" y="4479120"/>
              <a:ext cx="5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400440" y="4543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68800" y="4474800"/>
              <a:ext cx="8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λ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979320" y="4543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464160" y="4479120"/>
              <a:ext cx="27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….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963520" y="1447920"/>
              <a:ext cx="1234080" cy="1302480"/>
            </a:xfrm>
            <a:prstGeom prst="downArrow">
              <a:avLst>
                <a:gd name="adj1" fmla="val 50000"/>
                <a:gd name="adj2" fmla="val 26386"/>
              </a:avLst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310 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pprx 200 nm &lt; 0.5 dB/k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500440" y="1447920"/>
              <a:ext cx="1302840" cy="1302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550 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pprx 200 nm &lt; 0.2 dB/k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037200" y="576900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106680" y="59191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844240" y="6083280"/>
              <a:ext cx="61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50 Windo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911920" y="4858920"/>
              <a:ext cx="0" cy="61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969160" y="4858920"/>
              <a:ext cx="0" cy="61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026040" y="4858920"/>
              <a:ext cx="0" cy="61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083640" y="4858920"/>
              <a:ext cx="0" cy="61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140520" y="4858920"/>
              <a:ext cx="0" cy="61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197400" y="4858920"/>
              <a:ext cx="0" cy="61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255000" y="4858920"/>
              <a:ext cx="0" cy="61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311880" y="4858920"/>
              <a:ext cx="0" cy="61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368760" y="4858920"/>
              <a:ext cx="0" cy="61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426360" y="4858920"/>
              <a:ext cx="0" cy="61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F8AE-65AB-4CC3-B9EF-9B8B34F2A6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Evolution of the Public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A Changing World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pic>
        <p:nvPicPr>
          <p:cNvPr id="63" name="headquarters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884520" cy="167616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724280" y="4572000"/>
            <a:ext cx="3913200" cy="2001960"/>
            <a:chOff x="4724280" y="4572000"/>
            <a:chExt cx="3913200" cy="2001960"/>
          </a:xfrm>
        </p:grpSpPr>
        <p:pic>
          <p:nvPicPr>
            <p:cNvPr id="65" name="cloudbig" descr=""/>
            <p:cNvPicPr/>
            <p:nvPr/>
          </p:nvPicPr>
          <p:blipFill>
            <a:blip r:embed="rId3"/>
            <a:stretch/>
          </p:blipFill>
          <p:spPr>
            <a:xfrm>
              <a:off x="4724280" y="4572000"/>
              <a:ext cx="391320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317920" y="5055480"/>
              <a:ext cx="255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f5f5f"/>
                  </a:solidFill>
                  <a:latin typeface="Times New Roman"/>
                </a:rPr>
                <a:t>The New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f5f5f"/>
                  </a:solidFill>
                  <a:latin typeface="Times New Roman"/>
                </a:rPr>
                <a:t>Public Networ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743200" y="5715000"/>
            <a:ext cx="2138400" cy="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19320" y="5105520"/>
            <a:ext cx="1617120" cy="1369080"/>
            <a:chOff x="1219320" y="5105520"/>
            <a:chExt cx="1617120" cy="1369080"/>
          </a:xfrm>
        </p:grpSpPr>
        <p:sp>
          <p:nvSpPr>
            <p:cNvPr id="69" name=""/>
            <p:cNvSpPr/>
            <p:nvPr/>
          </p:nvSpPr>
          <p:spPr>
            <a:xfrm>
              <a:off x="1313280" y="5246280"/>
              <a:ext cx="1164600" cy="856800"/>
            </a:xfrm>
            <a:custGeom>
              <a:avLst/>
              <a:gdLst/>
              <a:ahLst/>
              <a:rect l="l" t="t" r="r" b="b"/>
              <a:pathLst>
                <a:path w="1094" h="1217">
                  <a:moveTo>
                    <a:pt x="0" y="1217"/>
                  </a:moveTo>
                  <a:lnTo>
                    <a:pt x="1094" y="1217"/>
                  </a:lnTo>
                  <a:lnTo>
                    <a:pt x="1094" y="373"/>
                  </a:lnTo>
                  <a:lnTo>
                    <a:pt x="617" y="0"/>
                  </a:lnTo>
                  <a:lnTo>
                    <a:pt x="0" y="620"/>
                  </a:lnTo>
                  <a:lnTo>
                    <a:pt x="0" y="1217"/>
                  </a:lnTo>
                  <a:close/>
                </a:path>
              </a:pathLst>
            </a:custGeom>
            <a:solidFill>
              <a:srgbClr val="ebc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08960" y="5242320"/>
              <a:ext cx="1166040" cy="856440"/>
            </a:xfrm>
            <a:custGeom>
              <a:avLst/>
              <a:gdLst/>
              <a:ahLst/>
              <a:rect l="l" t="t" r="r" b="b"/>
              <a:pathLst>
                <a:path w="1094" h="1216">
                  <a:moveTo>
                    <a:pt x="0" y="1216"/>
                  </a:moveTo>
                  <a:lnTo>
                    <a:pt x="1094" y="1216"/>
                  </a:lnTo>
                  <a:lnTo>
                    <a:pt x="1094" y="373"/>
                  </a:lnTo>
                  <a:lnTo>
                    <a:pt x="617" y="0"/>
                  </a:lnTo>
                  <a:lnTo>
                    <a:pt x="0" y="620"/>
                  </a:lnTo>
                  <a:lnTo>
                    <a:pt x="0" y="121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44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78240" y="5492160"/>
              <a:ext cx="208080" cy="610920"/>
            </a:xfrm>
            <a:custGeom>
              <a:avLst/>
              <a:gdLst/>
              <a:ahLst/>
              <a:rect l="l" t="t" r="r" b="b"/>
              <a:pathLst>
                <a:path w="195" h="869">
                  <a:moveTo>
                    <a:pt x="0" y="869"/>
                  </a:moveTo>
                  <a:lnTo>
                    <a:pt x="195" y="595"/>
                  </a:lnTo>
                  <a:lnTo>
                    <a:pt x="195" y="0"/>
                  </a:lnTo>
                  <a:lnTo>
                    <a:pt x="0" y="272"/>
                  </a:lnTo>
                  <a:lnTo>
                    <a:pt x="0" y="869"/>
                  </a:lnTo>
                  <a:close/>
                </a:path>
              </a:pathLst>
            </a:custGeom>
            <a:solidFill>
              <a:srgbClr val="de9c4c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78240" y="5492160"/>
              <a:ext cx="208080" cy="610920"/>
            </a:xfrm>
            <a:custGeom>
              <a:avLst/>
              <a:gdLst/>
              <a:ahLst/>
              <a:rect l="l" t="t" r="r" b="b"/>
              <a:pathLst>
                <a:path w="195" h="869">
                  <a:moveTo>
                    <a:pt x="0" y="869"/>
                  </a:moveTo>
                  <a:lnTo>
                    <a:pt x="195" y="595"/>
                  </a:lnTo>
                  <a:lnTo>
                    <a:pt x="195" y="0"/>
                  </a:lnTo>
                  <a:lnTo>
                    <a:pt x="0" y="272"/>
                  </a:lnTo>
                  <a:lnTo>
                    <a:pt x="0" y="869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84080" y="5559480"/>
              <a:ext cx="73800" cy="491400"/>
            </a:xfrm>
            <a:custGeom>
              <a:avLst/>
              <a:gdLst/>
              <a:ahLst/>
              <a:rect l="l" t="t" r="r" b="b"/>
              <a:pathLst>
                <a:path w="70" h="694">
                  <a:moveTo>
                    <a:pt x="0" y="197"/>
                  </a:moveTo>
                  <a:lnTo>
                    <a:pt x="70" y="0"/>
                  </a:lnTo>
                  <a:lnTo>
                    <a:pt x="70" y="595"/>
                  </a:lnTo>
                  <a:lnTo>
                    <a:pt x="0" y="694"/>
                  </a:lnTo>
                  <a:lnTo>
                    <a:pt x="0" y="421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d5000a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84080" y="5559480"/>
              <a:ext cx="73800" cy="491400"/>
            </a:xfrm>
            <a:custGeom>
              <a:avLst/>
              <a:gdLst/>
              <a:ahLst/>
              <a:rect l="l" t="t" r="r" b="b"/>
              <a:pathLst>
                <a:path w="70" h="694">
                  <a:moveTo>
                    <a:pt x="0" y="197"/>
                  </a:moveTo>
                  <a:lnTo>
                    <a:pt x="70" y="0"/>
                  </a:lnTo>
                  <a:lnTo>
                    <a:pt x="70" y="595"/>
                  </a:lnTo>
                  <a:lnTo>
                    <a:pt x="0" y="694"/>
                  </a:lnTo>
                  <a:lnTo>
                    <a:pt x="0" y="421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d5000a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84080" y="5559480"/>
              <a:ext cx="73800" cy="491400"/>
            </a:xfrm>
            <a:custGeom>
              <a:avLst/>
              <a:gdLst/>
              <a:ahLst/>
              <a:rect l="l" t="t" r="r" b="b"/>
              <a:pathLst>
                <a:path w="70" h="694">
                  <a:moveTo>
                    <a:pt x="0" y="197"/>
                  </a:moveTo>
                  <a:lnTo>
                    <a:pt x="70" y="0"/>
                  </a:lnTo>
                  <a:lnTo>
                    <a:pt x="70" y="595"/>
                  </a:lnTo>
                  <a:lnTo>
                    <a:pt x="0" y="694"/>
                  </a:lnTo>
                  <a:lnTo>
                    <a:pt x="0" y="421"/>
                  </a:lnTo>
                </a:path>
              </a:pathLst>
            </a:custGeom>
            <a:solidFill>
              <a:srgbClr val="5f5f5f"/>
            </a:solidFill>
            <a:ln w="144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26480" y="5630400"/>
              <a:ext cx="57240" cy="420480"/>
            </a:xfrm>
            <a:custGeom>
              <a:avLst/>
              <a:gdLst/>
              <a:ahLst/>
              <a:rect l="l" t="t" r="r" b="b"/>
              <a:pathLst>
                <a:path w="53" h="595">
                  <a:moveTo>
                    <a:pt x="53" y="50"/>
                  </a:moveTo>
                  <a:lnTo>
                    <a:pt x="0" y="0"/>
                  </a:lnTo>
                  <a:lnTo>
                    <a:pt x="0" y="595"/>
                  </a:lnTo>
                  <a:lnTo>
                    <a:pt x="53" y="595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ff555d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26480" y="5630400"/>
              <a:ext cx="57240" cy="420480"/>
            </a:xfrm>
            <a:custGeom>
              <a:avLst/>
              <a:gdLst/>
              <a:ahLst/>
              <a:rect l="l" t="t" r="r" b="b"/>
              <a:pathLst>
                <a:path w="53" h="595">
                  <a:moveTo>
                    <a:pt x="53" y="50"/>
                  </a:moveTo>
                  <a:lnTo>
                    <a:pt x="0" y="0"/>
                  </a:lnTo>
                  <a:lnTo>
                    <a:pt x="0" y="595"/>
                  </a:lnTo>
                  <a:lnTo>
                    <a:pt x="53" y="595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8040" y="5105520"/>
              <a:ext cx="968400" cy="664560"/>
            </a:xfrm>
            <a:custGeom>
              <a:avLst/>
              <a:gdLst/>
              <a:ahLst/>
              <a:rect l="l" t="t" r="r" b="b"/>
              <a:pathLst>
                <a:path w="909" h="943">
                  <a:moveTo>
                    <a:pt x="0" y="299"/>
                  </a:moveTo>
                  <a:lnTo>
                    <a:pt x="697" y="943"/>
                  </a:lnTo>
                  <a:lnTo>
                    <a:pt x="909" y="647"/>
                  </a:lnTo>
                  <a:lnTo>
                    <a:pt x="211" y="0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9d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68040" y="5105520"/>
              <a:ext cx="968400" cy="664560"/>
            </a:xfrm>
            <a:custGeom>
              <a:avLst/>
              <a:gdLst/>
              <a:ahLst/>
              <a:rect l="l" t="t" r="r" b="b"/>
              <a:pathLst>
                <a:path w="909" h="943">
                  <a:moveTo>
                    <a:pt x="0" y="299"/>
                  </a:moveTo>
                  <a:lnTo>
                    <a:pt x="697" y="943"/>
                  </a:lnTo>
                  <a:lnTo>
                    <a:pt x="909" y="647"/>
                  </a:lnTo>
                  <a:lnTo>
                    <a:pt x="211" y="0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9db4b7"/>
            </a:solidFill>
            <a:ln w="14400">
              <a:solidFill>
                <a:srgbClr val="485f6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01720" y="5420880"/>
              <a:ext cx="37440" cy="227160"/>
            </a:xfrm>
            <a:custGeom>
              <a:avLst/>
              <a:gdLst/>
              <a:ahLst/>
              <a:rect l="l" t="t" r="r" b="b"/>
              <a:pathLst>
                <a:path w="36" h="323">
                  <a:moveTo>
                    <a:pt x="0" y="50"/>
                  </a:moveTo>
                  <a:lnTo>
                    <a:pt x="36" y="0"/>
                  </a:lnTo>
                  <a:lnTo>
                    <a:pt x="36" y="273"/>
                  </a:lnTo>
                  <a:lnTo>
                    <a:pt x="0" y="32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5000a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01720" y="5420880"/>
              <a:ext cx="37440" cy="227160"/>
            </a:xfrm>
            <a:custGeom>
              <a:avLst/>
              <a:gdLst/>
              <a:ahLst/>
              <a:rect l="l" t="t" r="r" b="b"/>
              <a:pathLst>
                <a:path w="36" h="323">
                  <a:moveTo>
                    <a:pt x="0" y="50"/>
                  </a:moveTo>
                  <a:lnTo>
                    <a:pt x="36" y="0"/>
                  </a:lnTo>
                  <a:lnTo>
                    <a:pt x="36" y="273"/>
                  </a:lnTo>
                  <a:lnTo>
                    <a:pt x="0" y="32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f5f5f"/>
            </a:solidFill>
            <a:ln w="144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43760" y="5455800"/>
              <a:ext cx="57600" cy="191880"/>
            </a:xfrm>
            <a:custGeom>
              <a:avLst/>
              <a:gdLst/>
              <a:ahLst/>
              <a:rect l="l" t="t" r="r" b="b"/>
              <a:pathLst>
                <a:path w="53" h="273">
                  <a:moveTo>
                    <a:pt x="53" y="0"/>
                  </a:moveTo>
                  <a:lnTo>
                    <a:pt x="0" y="0"/>
                  </a:lnTo>
                  <a:lnTo>
                    <a:pt x="0" y="223"/>
                  </a:lnTo>
                  <a:lnTo>
                    <a:pt x="53" y="27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555d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43760" y="5455800"/>
              <a:ext cx="57600" cy="191880"/>
            </a:xfrm>
            <a:custGeom>
              <a:avLst/>
              <a:gdLst/>
              <a:ahLst/>
              <a:rect l="l" t="t" r="r" b="b"/>
              <a:pathLst>
                <a:path w="53" h="273">
                  <a:moveTo>
                    <a:pt x="53" y="0"/>
                  </a:moveTo>
                  <a:lnTo>
                    <a:pt x="0" y="0"/>
                  </a:lnTo>
                  <a:lnTo>
                    <a:pt x="0" y="223"/>
                  </a:lnTo>
                  <a:lnTo>
                    <a:pt x="53" y="27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43760" y="5420880"/>
              <a:ext cx="95040" cy="3492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0" y="50"/>
                  </a:moveTo>
                  <a:lnTo>
                    <a:pt x="53" y="50"/>
                  </a:lnTo>
                  <a:lnTo>
                    <a:pt x="89" y="0"/>
                  </a:lnTo>
                  <a:lnTo>
                    <a:pt x="36" y="1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43760" y="5420880"/>
              <a:ext cx="95040" cy="34920"/>
            </a:xfrm>
            <a:custGeom>
              <a:avLst/>
              <a:gdLst/>
              <a:ahLst/>
              <a:rect l="l" t="t" r="r" b="b"/>
              <a:pathLst>
                <a:path w="89" h="50">
                  <a:moveTo>
                    <a:pt x="0" y="50"/>
                  </a:moveTo>
                  <a:lnTo>
                    <a:pt x="53" y="50"/>
                  </a:lnTo>
                  <a:lnTo>
                    <a:pt x="89" y="0"/>
                  </a:lnTo>
                  <a:lnTo>
                    <a:pt x="36" y="1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19320" y="5105520"/>
              <a:ext cx="863640" cy="664560"/>
            </a:xfrm>
            <a:custGeom>
              <a:avLst/>
              <a:gdLst/>
              <a:ahLst/>
              <a:rect l="l" t="t" r="r" b="b"/>
              <a:pathLst>
                <a:path w="811" h="943">
                  <a:moveTo>
                    <a:pt x="0" y="943"/>
                  </a:moveTo>
                  <a:lnTo>
                    <a:pt x="185" y="684"/>
                  </a:lnTo>
                  <a:lnTo>
                    <a:pt x="811" y="0"/>
                  </a:lnTo>
                  <a:lnTo>
                    <a:pt x="609" y="299"/>
                  </a:lnTo>
                  <a:lnTo>
                    <a:pt x="0" y="943"/>
                  </a:lnTo>
                  <a:close/>
                </a:path>
              </a:pathLst>
            </a:custGeom>
            <a:solidFill>
              <a:srgbClr val="6c8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9320" y="5105520"/>
              <a:ext cx="863640" cy="664560"/>
            </a:xfrm>
            <a:custGeom>
              <a:avLst/>
              <a:gdLst/>
              <a:ahLst/>
              <a:rect l="l" t="t" r="r" b="b"/>
              <a:pathLst>
                <a:path w="811" h="943">
                  <a:moveTo>
                    <a:pt x="0" y="943"/>
                  </a:moveTo>
                  <a:lnTo>
                    <a:pt x="185" y="684"/>
                  </a:lnTo>
                  <a:lnTo>
                    <a:pt x="811" y="0"/>
                  </a:lnTo>
                  <a:lnTo>
                    <a:pt x="609" y="299"/>
                  </a:lnTo>
                  <a:lnTo>
                    <a:pt x="0" y="943"/>
                  </a:lnTo>
                  <a:close/>
                </a:path>
              </a:pathLst>
            </a:custGeom>
            <a:solidFill>
              <a:srgbClr val="6c8f93"/>
            </a:solidFill>
            <a:ln w="14400">
              <a:solidFill>
                <a:srgbClr val="485f6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462320" y="5779440"/>
              <a:ext cx="910800" cy="695160"/>
              <a:chOff x="1462320" y="5779440"/>
              <a:chExt cx="910800" cy="695160"/>
            </a:xfrm>
          </p:grpSpPr>
          <p:sp>
            <p:nvSpPr>
              <p:cNvPr id="89" name=""/>
              <p:cNvSpPr/>
              <p:nvPr/>
            </p:nvSpPr>
            <p:spPr>
              <a:xfrm>
                <a:off x="1559520" y="6115680"/>
                <a:ext cx="36720" cy="300600"/>
              </a:xfrm>
              <a:custGeom>
                <a:avLst/>
                <a:gdLst/>
                <a:ahLst/>
                <a:rect l="l" t="t" r="r" b="b"/>
                <a:pathLst>
                  <a:path w="21" h="155">
                    <a:moveTo>
                      <a:pt x="20" y="0"/>
                    </a:moveTo>
                    <a:lnTo>
                      <a:pt x="20" y="154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737373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64520" y="6273720"/>
                <a:ext cx="389520" cy="88560"/>
              </a:xfrm>
              <a:custGeom>
                <a:avLst/>
                <a:gdLst/>
                <a:ahLst/>
                <a:rect l="l" t="t" r="r" b="b"/>
                <a:pathLst>
                  <a:path w="231" h="46">
                    <a:moveTo>
                      <a:pt x="230" y="5"/>
                    </a:moveTo>
                    <a:lnTo>
                      <a:pt x="121" y="22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21" y="45"/>
                    </a:lnTo>
                    <a:lnTo>
                      <a:pt x="230" y="28"/>
                    </a:lnTo>
                    <a:lnTo>
                      <a:pt x="230" y="5"/>
                    </a:lnTo>
                  </a:path>
                </a:pathLst>
              </a:custGeom>
              <a:gradFill rotWithShape="0">
                <a:gsLst>
                  <a:gs pos="0">
                    <a:srgbClr val="d8e0ec"/>
                  </a:gs>
                  <a:gs pos="100000">
                    <a:srgbClr val="456da8"/>
                  </a:gs>
                </a:gsLst>
                <a:lin ang="81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64520" y="6239520"/>
                <a:ext cx="389520" cy="79560"/>
              </a:xfrm>
              <a:custGeom>
                <a:avLst/>
                <a:gdLst/>
                <a:ahLst/>
                <a:rect l="l" t="t" r="r" b="b"/>
                <a:pathLst>
                  <a:path w="231" h="41">
                    <a:moveTo>
                      <a:pt x="230" y="23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121" y="40"/>
                    </a:lnTo>
                    <a:lnTo>
                      <a:pt x="230" y="23"/>
                    </a:lnTo>
                  </a:path>
                </a:pathLst>
              </a:custGeom>
              <a:gradFill rotWithShape="0">
                <a:gsLst>
                  <a:gs pos="0">
                    <a:srgbClr val="d8e0ec"/>
                  </a:gs>
                  <a:gs pos="100000">
                    <a:srgbClr val="456da8"/>
                  </a:gs>
                </a:gsLst>
                <a:lin ang="81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93880" y="6034680"/>
                <a:ext cx="549000" cy="439920"/>
              </a:xfrm>
              <a:custGeom>
                <a:avLst/>
                <a:gdLst/>
                <a:ahLst/>
                <a:rect l="l" t="t" r="r" b="b"/>
                <a:pathLst>
                  <a:path w="325" h="227">
                    <a:moveTo>
                      <a:pt x="171" y="73"/>
                    </a:moveTo>
                    <a:lnTo>
                      <a:pt x="85" y="89"/>
                    </a:lnTo>
                    <a:lnTo>
                      <a:pt x="0" y="226"/>
                    </a:lnTo>
                    <a:lnTo>
                      <a:pt x="33" y="226"/>
                    </a:lnTo>
                    <a:lnTo>
                      <a:pt x="119" y="129"/>
                    </a:lnTo>
                    <a:lnTo>
                      <a:pt x="152" y="123"/>
                    </a:lnTo>
                    <a:lnTo>
                      <a:pt x="228" y="134"/>
                    </a:lnTo>
                    <a:lnTo>
                      <a:pt x="298" y="123"/>
                    </a:lnTo>
                    <a:lnTo>
                      <a:pt x="324" y="0"/>
                    </a:lnTo>
                    <a:lnTo>
                      <a:pt x="171" y="73"/>
                    </a:lnTo>
                  </a:path>
                </a:pathLst>
              </a:custGeom>
              <a:gradFill rotWithShape="0">
                <a:gsLst>
                  <a:gs pos="0">
                    <a:srgbClr val="395597"/>
                  </a:gs>
                  <a:gs pos="100000">
                    <a:srgbClr val="618ff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35160" y="5813280"/>
                <a:ext cx="156600" cy="156600"/>
              </a:xfrm>
              <a:prstGeom prst="ellips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91919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62320" y="6013440"/>
                <a:ext cx="751320" cy="225000"/>
              </a:xfrm>
              <a:prstGeom prst="ellipse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7373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62320" y="5994360"/>
                <a:ext cx="751320" cy="226080"/>
              </a:xfrm>
              <a:prstGeom prst="ellipse">
                <a:avLst/>
              </a:prstGeom>
              <a:gradFill rotWithShape="0">
                <a:gsLst>
                  <a:gs pos="0">
                    <a:srgbClr val="737373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1717920" y="6089040"/>
                <a:ext cx="273960" cy="76680"/>
                <a:chOff x="1717920" y="6089040"/>
                <a:chExt cx="273960" cy="76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717920" y="6135120"/>
                  <a:ext cx="272160" cy="3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19191"/>
                    </a:gs>
                    <a:gs pos="100000">
                      <a:srgbClr val="dcdcd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717920" y="6089040"/>
                  <a:ext cx="273960" cy="48240"/>
                </a:xfrm>
                <a:custGeom>
                  <a:avLst/>
                  <a:gdLst/>
                  <a:ahLst/>
                  <a:rect l="l" t="t" r="r" b="b"/>
                  <a:pathLst>
                    <a:path w="163" h="25">
                      <a:moveTo>
                        <a:pt x="162" y="24"/>
                      </a:moveTo>
                      <a:lnTo>
                        <a:pt x="0" y="24"/>
                      </a:lnTo>
                      <a:lnTo>
                        <a:pt x="7" y="0"/>
                      </a:lnTo>
                      <a:lnTo>
                        <a:pt x="154" y="0"/>
                      </a:lnTo>
                      <a:lnTo>
                        <a:pt x="162" y="24"/>
                      </a:lnTo>
                    </a:path>
                  </a:pathLst>
                </a:custGeom>
                <a:gradFill rotWithShape="0">
                  <a:gsLst>
                    <a:gs pos="0">
                      <a:srgbClr val="919191"/>
                    </a:gs>
                    <a:gs pos="100000">
                      <a:srgbClr val="dcdcd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894680" y="5983920"/>
                <a:ext cx="153720" cy="75240"/>
                <a:chOff x="1894680" y="5983920"/>
                <a:chExt cx="153720" cy="75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894680" y="5983920"/>
                  <a:ext cx="153720" cy="46440"/>
                </a:xfrm>
                <a:custGeom>
                  <a:avLst/>
                  <a:gdLst/>
                  <a:ahLst/>
                  <a:rect l="l" t="t" r="r" b="b"/>
                  <a:pathLst>
                    <a:path w="91" h="24">
                      <a:moveTo>
                        <a:pt x="0" y="23"/>
                      </a:moveTo>
                      <a:lnTo>
                        <a:pt x="21" y="0"/>
                      </a:lnTo>
                      <a:lnTo>
                        <a:pt x="71" y="0"/>
                      </a:lnTo>
                      <a:lnTo>
                        <a:pt x="90" y="22"/>
                      </a:lnTo>
                      <a:lnTo>
                        <a:pt x="0" y="23"/>
                      </a:lnTo>
                    </a:path>
                  </a:pathLst>
                </a:custGeom>
                <a:gradFill rotWithShape="0">
                  <a:gsLst>
                    <a:gs pos="0">
                      <a:srgbClr val="818181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896480" y="6026400"/>
                  <a:ext cx="151920" cy="32760"/>
                </a:xfrm>
                <a:prstGeom prst="roundRect">
                  <a:avLst>
                    <a:gd name="adj" fmla="val 12495"/>
                  </a:avLst>
                </a:prstGeom>
                <a:gradFill rotWithShape="0">
                  <a:gsLst>
                    <a:gs pos="0">
                      <a:srgbClr val="bcbcbc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1702800" y="5975640"/>
                <a:ext cx="464760" cy="7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434" y="4312"/>
                    </a:moveTo>
                    <a:arcTo wR="10800" hR="10800" stAng="-2215562" swAng="76155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434" y="4312"/>
                    </a:moveTo>
                    <a:arcTo wR="10800" hR="10800" stAng="-2215562" swAng="7615562"/>
                  </a:path>
                </a:pathLst>
              </a:custGeom>
              <a:noFill/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26440" y="5968800"/>
                <a:ext cx="320040" cy="276840"/>
              </a:xfrm>
              <a:custGeom>
                <a:avLst/>
                <a:gdLst/>
                <a:ahLst/>
                <a:rect l="l" t="t" r="r" b="b"/>
                <a:pathLst>
                  <a:path w="189" h="143">
                    <a:moveTo>
                      <a:pt x="21" y="3"/>
                    </a:moveTo>
                    <a:lnTo>
                      <a:pt x="0" y="53"/>
                    </a:lnTo>
                    <a:lnTo>
                      <a:pt x="3" y="71"/>
                    </a:lnTo>
                    <a:lnTo>
                      <a:pt x="31" y="87"/>
                    </a:lnTo>
                    <a:lnTo>
                      <a:pt x="88" y="80"/>
                    </a:lnTo>
                    <a:lnTo>
                      <a:pt x="75" y="110"/>
                    </a:lnTo>
                    <a:lnTo>
                      <a:pt x="66" y="116"/>
                    </a:lnTo>
                    <a:lnTo>
                      <a:pt x="85" y="127"/>
                    </a:lnTo>
                    <a:lnTo>
                      <a:pt x="136" y="142"/>
                    </a:lnTo>
                    <a:lnTo>
                      <a:pt x="188" y="5"/>
                    </a:lnTo>
                    <a:lnTo>
                      <a:pt x="173" y="0"/>
                    </a:lnTo>
                    <a:lnTo>
                      <a:pt x="138" y="8"/>
                    </a:lnTo>
                    <a:lnTo>
                      <a:pt x="101" y="16"/>
                    </a:lnTo>
                    <a:lnTo>
                      <a:pt x="81" y="27"/>
                    </a:lnTo>
                    <a:lnTo>
                      <a:pt x="47" y="56"/>
                    </a:lnTo>
                    <a:lnTo>
                      <a:pt x="27" y="49"/>
                    </a:lnTo>
                    <a:lnTo>
                      <a:pt x="34" y="6"/>
                    </a:lnTo>
                    <a:lnTo>
                      <a:pt x="21" y="3"/>
                    </a:lnTo>
                  </a:path>
                </a:pathLst>
              </a:custGeom>
              <a:gradFill rotWithShape="0">
                <a:gsLst>
                  <a:gs pos="0">
                    <a:srgbClr val="00b7a5"/>
                  </a:gs>
                  <a:gs pos="100000">
                    <a:srgbClr val="00363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165760" y="5950080"/>
                <a:ext cx="207360" cy="369360"/>
              </a:xfrm>
              <a:custGeom>
                <a:avLst/>
                <a:gdLst/>
                <a:ahLst/>
                <a:rect l="l" t="t" r="r" b="b"/>
                <a:pathLst>
                  <a:path w="123" h="191">
                    <a:moveTo>
                      <a:pt x="0" y="190"/>
                    </a:moveTo>
                    <a:lnTo>
                      <a:pt x="83" y="0"/>
                    </a:lnTo>
                    <a:lnTo>
                      <a:pt x="122" y="0"/>
                    </a:lnTo>
                    <a:lnTo>
                      <a:pt x="111" y="172"/>
                    </a:lnTo>
                    <a:lnTo>
                      <a:pt x="0" y="190"/>
                    </a:lnTo>
                  </a:path>
                </a:pathLst>
              </a:custGeom>
              <a:gradFill rotWithShape="0">
                <a:gsLst>
                  <a:gs pos="0">
                    <a:srgbClr val="d8e0ec"/>
                  </a:gs>
                  <a:gs pos="100000">
                    <a:srgbClr val="456da8"/>
                  </a:gs>
                </a:gsLst>
                <a:lin ang="81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607760" y="5982840"/>
                <a:ext cx="247680" cy="47520"/>
                <a:chOff x="1607760" y="5982840"/>
                <a:chExt cx="247680" cy="475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607760" y="5982840"/>
                  <a:ext cx="247680" cy="47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19191"/>
                    </a:gs>
                    <a:gs pos="100000">
                      <a:srgbClr val="dcdcdc"/>
                    </a:gs>
                  </a:gsLst>
                  <a:lin ang="13500000"/>
                </a:gra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>
                  <a:off x="1782720" y="6001920"/>
                  <a:ext cx="471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8" name="pc" descr=""/>
              <p:cNvPicPr/>
              <p:nvPr/>
            </p:nvPicPr>
            <p:blipFill>
              <a:blip r:embed="rId5"/>
              <a:stretch/>
            </p:blipFill>
            <p:spPr>
              <a:xfrm>
                <a:off x="1583640" y="5779440"/>
                <a:ext cx="485640" cy="392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" name=""/>
          <p:cNvSpPr/>
          <p:nvPr/>
        </p:nvSpPr>
        <p:spPr>
          <a:xfrm>
            <a:off x="304920" y="1371600"/>
            <a:ext cx="624816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apid pace of optical technology and new traffic demands are reshaping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vice delivery requirements and pos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twork elements an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twork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009840" y="2362320"/>
            <a:ext cx="3134160" cy="933480"/>
            <a:chOff x="6009840" y="2362320"/>
            <a:chExt cx="3134160" cy="933480"/>
          </a:xfrm>
        </p:grpSpPr>
        <p:pic>
          <p:nvPicPr>
            <p:cNvPr id="111" name="pc" descr=""/>
            <p:cNvPicPr/>
            <p:nvPr/>
          </p:nvPicPr>
          <p:blipFill>
            <a:blip r:embed="rId6"/>
            <a:stretch/>
          </p:blipFill>
          <p:spPr>
            <a:xfrm>
              <a:off x="8381880" y="2438280"/>
              <a:ext cx="38124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c" descr=""/>
            <p:cNvPicPr/>
            <p:nvPr/>
          </p:nvPicPr>
          <p:blipFill>
            <a:blip r:embed="rId7"/>
            <a:stretch/>
          </p:blipFill>
          <p:spPr>
            <a:xfrm>
              <a:off x="7924680" y="2438280"/>
              <a:ext cx="38124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c" descr=""/>
            <p:cNvPicPr/>
            <p:nvPr/>
          </p:nvPicPr>
          <p:blipFill>
            <a:blip r:embed="rId8"/>
            <a:stretch/>
          </p:blipFill>
          <p:spPr>
            <a:xfrm>
              <a:off x="7391520" y="2438280"/>
              <a:ext cx="38088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583320" y="2717640"/>
              <a:ext cx="522360" cy="438480"/>
            </a:xfrm>
            <a:custGeom>
              <a:avLst/>
              <a:gdLst/>
              <a:ahLst/>
              <a:rect l="l" t="t" r="r" b="b"/>
              <a:pathLst>
                <a:path w="365" h="307">
                  <a:moveTo>
                    <a:pt x="0" y="0"/>
                  </a:moveTo>
                  <a:lnTo>
                    <a:pt x="0" y="0"/>
                  </a:lnTo>
                  <a:lnTo>
                    <a:pt x="365" y="307"/>
                  </a:lnTo>
                  <a:lnTo>
                    <a:pt x="365" y="307"/>
                  </a:lnTo>
                </a:path>
              </a:pathLst>
            </a:custGeom>
            <a:noFill/>
            <a:ln w="20520">
              <a:solidFill>
                <a:srgbClr val="ff66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83320" y="2717640"/>
              <a:ext cx="522360" cy="438480"/>
            </a:xfrm>
            <a:custGeom>
              <a:avLst/>
              <a:gdLst/>
              <a:ahLst/>
              <a:rect l="l" t="t" r="r" b="b"/>
              <a:pathLst>
                <a:path w="365" h="307">
                  <a:moveTo>
                    <a:pt x="0" y="0"/>
                  </a:moveTo>
                  <a:lnTo>
                    <a:pt x="0" y="0"/>
                  </a:lnTo>
                  <a:lnTo>
                    <a:pt x="365" y="307"/>
                  </a:lnTo>
                </a:path>
              </a:pathLst>
            </a:custGeom>
            <a:noFill/>
            <a:ln w="20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13600" y="2717640"/>
              <a:ext cx="522360" cy="438480"/>
            </a:xfrm>
            <a:custGeom>
              <a:avLst/>
              <a:gdLst/>
              <a:ahLst/>
              <a:rect l="l" t="t" r="r" b="b"/>
              <a:pathLst>
                <a:path w="365" h="307">
                  <a:moveTo>
                    <a:pt x="0" y="0"/>
                  </a:moveTo>
                  <a:lnTo>
                    <a:pt x="0" y="0"/>
                  </a:lnTo>
                  <a:lnTo>
                    <a:pt x="365" y="307"/>
                  </a:lnTo>
                  <a:lnTo>
                    <a:pt x="365" y="307"/>
                  </a:lnTo>
                </a:path>
              </a:pathLst>
            </a:custGeom>
            <a:noFill/>
            <a:ln w="20520">
              <a:solidFill>
                <a:srgbClr val="ff66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13600" y="2717640"/>
              <a:ext cx="522360" cy="438480"/>
            </a:xfrm>
            <a:custGeom>
              <a:avLst/>
              <a:gdLst/>
              <a:ahLst/>
              <a:rect l="l" t="t" r="r" b="b"/>
              <a:pathLst>
                <a:path w="365" h="307">
                  <a:moveTo>
                    <a:pt x="0" y="0"/>
                  </a:moveTo>
                  <a:lnTo>
                    <a:pt x="0" y="0"/>
                  </a:lnTo>
                  <a:lnTo>
                    <a:pt x="365" y="307"/>
                  </a:lnTo>
                </a:path>
              </a:pathLst>
            </a:custGeom>
            <a:noFill/>
            <a:ln w="20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pc" descr=""/>
            <p:cNvPicPr/>
            <p:nvPr/>
          </p:nvPicPr>
          <p:blipFill>
            <a:blip r:embed="rId9"/>
            <a:stretch/>
          </p:blipFill>
          <p:spPr>
            <a:xfrm>
              <a:off x="7478640" y="2987640"/>
              <a:ext cx="38124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rinter" descr=""/>
            <p:cNvPicPr/>
            <p:nvPr/>
          </p:nvPicPr>
          <p:blipFill>
            <a:blip r:embed="rId10"/>
            <a:stretch/>
          </p:blipFill>
          <p:spPr>
            <a:xfrm>
              <a:off x="6361200" y="2454120"/>
              <a:ext cx="42048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c" descr=""/>
            <p:cNvPicPr/>
            <p:nvPr/>
          </p:nvPicPr>
          <p:blipFill>
            <a:blip r:embed="rId11"/>
            <a:stretch/>
          </p:blipFill>
          <p:spPr>
            <a:xfrm>
              <a:off x="7021440" y="2987640"/>
              <a:ext cx="38124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server" descr=""/>
            <p:cNvPicPr/>
            <p:nvPr/>
          </p:nvPicPr>
          <p:blipFill>
            <a:blip r:embed="rId12"/>
            <a:stretch/>
          </p:blipFill>
          <p:spPr>
            <a:xfrm>
              <a:off x="7021440" y="2362320"/>
              <a:ext cx="2127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620120" y="2768760"/>
              <a:ext cx="358560" cy="312480"/>
            </a:xfrm>
            <a:custGeom>
              <a:avLst/>
              <a:gdLst/>
              <a:ahLst/>
              <a:rect l="l" t="t" r="r" b="b"/>
              <a:pathLst>
                <a:path w="198" h="172">
                  <a:moveTo>
                    <a:pt x="0" y="0"/>
                  </a:moveTo>
                  <a:lnTo>
                    <a:pt x="0" y="0"/>
                  </a:lnTo>
                  <a:lnTo>
                    <a:pt x="198" y="172"/>
                  </a:lnTo>
                  <a:lnTo>
                    <a:pt x="198" y="172"/>
                  </a:lnTo>
                </a:path>
              </a:pathLst>
            </a:custGeom>
            <a:noFill/>
            <a:ln w="20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23320" y="2712960"/>
              <a:ext cx="511200" cy="444600"/>
            </a:xfrm>
            <a:custGeom>
              <a:avLst/>
              <a:gdLst/>
              <a:ahLst/>
              <a:rect l="l" t="t" r="r" b="b"/>
              <a:pathLst>
                <a:path w="198" h="172">
                  <a:moveTo>
                    <a:pt x="0" y="0"/>
                  </a:moveTo>
                  <a:lnTo>
                    <a:pt x="0" y="0"/>
                  </a:lnTo>
                  <a:lnTo>
                    <a:pt x="198" y="172"/>
                  </a:lnTo>
                  <a:lnTo>
                    <a:pt x="198" y="172"/>
                  </a:lnTo>
                </a:path>
              </a:pathLst>
            </a:custGeom>
            <a:noFill/>
            <a:ln w="20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58200" y="2666880"/>
              <a:ext cx="536400" cy="466920"/>
            </a:xfrm>
            <a:custGeom>
              <a:avLst/>
              <a:gdLst/>
              <a:ahLst/>
              <a:rect l="l" t="t" r="r" b="b"/>
              <a:pathLst>
                <a:path w="198" h="172">
                  <a:moveTo>
                    <a:pt x="0" y="0"/>
                  </a:moveTo>
                  <a:lnTo>
                    <a:pt x="0" y="0"/>
                  </a:lnTo>
                  <a:lnTo>
                    <a:pt x="198" y="172"/>
                  </a:lnTo>
                  <a:lnTo>
                    <a:pt x="198" y="172"/>
                  </a:lnTo>
                </a:path>
              </a:pathLst>
            </a:custGeom>
            <a:noFill/>
            <a:ln w="20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c" descr=""/>
            <p:cNvPicPr/>
            <p:nvPr/>
          </p:nvPicPr>
          <p:blipFill>
            <a:blip r:embed="rId13"/>
            <a:stretch/>
          </p:blipFill>
          <p:spPr>
            <a:xfrm>
              <a:off x="8763120" y="2987640"/>
              <a:ext cx="3808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c" descr=""/>
            <p:cNvPicPr/>
            <p:nvPr/>
          </p:nvPicPr>
          <p:blipFill>
            <a:blip r:embed="rId14"/>
            <a:stretch/>
          </p:blipFill>
          <p:spPr>
            <a:xfrm>
              <a:off x="8305920" y="2987640"/>
              <a:ext cx="3808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c" descr=""/>
            <p:cNvPicPr/>
            <p:nvPr/>
          </p:nvPicPr>
          <p:blipFill>
            <a:blip r:embed="rId15"/>
            <a:stretch/>
          </p:blipFill>
          <p:spPr>
            <a:xfrm>
              <a:off x="7924680" y="2987640"/>
              <a:ext cx="38124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248520" y="2895480"/>
              <a:ext cx="2438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009840" y="2802600"/>
              <a:ext cx="553320" cy="363960"/>
              <a:chOff x="6009840" y="2802600"/>
              <a:chExt cx="553320" cy="363960"/>
            </a:xfrm>
          </p:grpSpPr>
          <p:sp>
            <p:nvSpPr>
              <p:cNvPr id="130" name=""/>
              <p:cNvSpPr/>
              <p:nvPr/>
            </p:nvSpPr>
            <p:spPr>
              <a:xfrm rot="222600">
                <a:off x="6024240" y="2823840"/>
                <a:ext cx="522000" cy="318960"/>
              </a:xfrm>
              <a:custGeom>
                <a:avLst/>
                <a:gdLst/>
                <a:ahLst/>
                <a:rect l="l" t="t" r="r" b="b"/>
                <a:pathLst>
                  <a:path w="432" h="264">
                    <a:moveTo>
                      <a:pt x="216" y="0"/>
                    </a:moveTo>
                    <a:lnTo>
                      <a:pt x="173" y="1"/>
                    </a:lnTo>
                    <a:lnTo>
                      <a:pt x="132" y="5"/>
                    </a:lnTo>
                    <a:lnTo>
                      <a:pt x="113" y="8"/>
                    </a:lnTo>
                    <a:lnTo>
                      <a:pt x="95" y="11"/>
                    </a:lnTo>
                    <a:lnTo>
                      <a:pt x="79" y="15"/>
                    </a:lnTo>
                    <a:lnTo>
                      <a:pt x="63" y="20"/>
                    </a:lnTo>
                    <a:lnTo>
                      <a:pt x="49" y="24"/>
                    </a:lnTo>
                    <a:lnTo>
                      <a:pt x="37" y="29"/>
                    </a:lnTo>
                    <a:lnTo>
                      <a:pt x="26" y="35"/>
                    </a:lnTo>
                    <a:lnTo>
                      <a:pt x="17" y="41"/>
                    </a:lnTo>
                    <a:lnTo>
                      <a:pt x="10" y="47"/>
                    </a:lnTo>
                    <a:lnTo>
                      <a:pt x="4" y="53"/>
                    </a:lnTo>
                    <a:lnTo>
                      <a:pt x="1" y="59"/>
                    </a:lnTo>
                    <a:lnTo>
                      <a:pt x="0" y="66"/>
                    </a:lnTo>
                    <a:lnTo>
                      <a:pt x="0" y="198"/>
                    </a:lnTo>
                    <a:lnTo>
                      <a:pt x="1" y="205"/>
                    </a:lnTo>
                    <a:lnTo>
                      <a:pt x="4" y="211"/>
                    </a:lnTo>
                    <a:lnTo>
                      <a:pt x="10" y="217"/>
                    </a:lnTo>
                    <a:lnTo>
                      <a:pt x="17" y="224"/>
                    </a:lnTo>
                    <a:lnTo>
                      <a:pt x="26" y="229"/>
                    </a:lnTo>
                    <a:lnTo>
                      <a:pt x="37" y="235"/>
                    </a:lnTo>
                    <a:lnTo>
                      <a:pt x="49" y="240"/>
                    </a:lnTo>
                    <a:lnTo>
                      <a:pt x="63" y="245"/>
                    </a:lnTo>
                    <a:lnTo>
                      <a:pt x="79" y="249"/>
                    </a:lnTo>
                    <a:lnTo>
                      <a:pt x="95" y="253"/>
                    </a:lnTo>
                    <a:lnTo>
                      <a:pt x="113" y="256"/>
                    </a:lnTo>
                    <a:lnTo>
                      <a:pt x="132" y="259"/>
                    </a:lnTo>
                    <a:lnTo>
                      <a:pt x="173" y="263"/>
                    </a:lnTo>
                    <a:lnTo>
                      <a:pt x="216" y="264"/>
                    </a:lnTo>
                    <a:lnTo>
                      <a:pt x="259" y="263"/>
                    </a:lnTo>
                    <a:lnTo>
                      <a:pt x="300" y="259"/>
                    </a:lnTo>
                    <a:lnTo>
                      <a:pt x="319" y="256"/>
                    </a:lnTo>
                    <a:lnTo>
                      <a:pt x="337" y="253"/>
                    </a:lnTo>
                    <a:lnTo>
                      <a:pt x="353" y="249"/>
                    </a:lnTo>
                    <a:lnTo>
                      <a:pt x="369" y="245"/>
                    </a:lnTo>
                    <a:lnTo>
                      <a:pt x="383" y="240"/>
                    </a:lnTo>
                    <a:lnTo>
                      <a:pt x="395" y="235"/>
                    </a:lnTo>
                    <a:lnTo>
                      <a:pt x="406" y="229"/>
                    </a:lnTo>
                    <a:lnTo>
                      <a:pt x="415" y="224"/>
                    </a:lnTo>
                    <a:lnTo>
                      <a:pt x="422" y="217"/>
                    </a:lnTo>
                    <a:lnTo>
                      <a:pt x="428" y="211"/>
                    </a:lnTo>
                    <a:lnTo>
                      <a:pt x="431" y="205"/>
                    </a:lnTo>
                    <a:lnTo>
                      <a:pt x="432" y="198"/>
                    </a:lnTo>
                    <a:lnTo>
                      <a:pt x="432" y="66"/>
                    </a:lnTo>
                    <a:lnTo>
                      <a:pt x="431" y="59"/>
                    </a:lnTo>
                    <a:lnTo>
                      <a:pt x="428" y="53"/>
                    </a:lnTo>
                    <a:lnTo>
                      <a:pt x="422" y="47"/>
                    </a:lnTo>
                    <a:lnTo>
                      <a:pt x="415" y="41"/>
                    </a:lnTo>
                    <a:lnTo>
                      <a:pt x="406" y="35"/>
                    </a:lnTo>
                    <a:lnTo>
                      <a:pt x="395" y="29"/>
                    </a:lnTo>
                    <a:lnTo>
                      <a:pt x="383" y="24"/>
                    </a:lnTo>
                    <a:lnTo>
                      <a:pt x="369" y="20"/>
                    </a:lnTo>
                    <a:lnTo>
                      <a:pt x="353" y="15"/>
                    </a:lnTo>
                    <a:lnTo>
                      <a:pt x="337" y="11"/>
                    </a:lnTo>
                    <a:lnTo>
                      <a:pt x="319" y="8"/>
                    </a:lnTo>
                    <a:lnTo>
                      <a:pt x="300" y="5"/>
                    </a:lnTo>
                    <a:lnTo>
                      <a:pt x="259" y="1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22600">
                <a:off x="6029640" y="2824200"/>
                <a:ext cx="522000" cy="159480"/>
              </a:xfrm>
              <a:custGeom>
                <a:avLst/>
                <a:gdLst/>
                <a:ahLst/>
                <a:rect l="l" t="t" r="r" b="b"/>
                <a:pathLst>
                  <a:path w="432" h="132">
                    <a:moveTo>
                      <a:pt x="0" y="66"/>
                    </a:moveTo>
                    <a:lnTo>
                      <a:pt x="1" y="73"/>
                    </a:lnTo>
                    <a:lnTo>
                      <a:pt x="4" y="79"/>
                    </a:lnTo>
                    <a:lnTo>
                      <a:pt x="10" y="85"/>
                    </a:lnTo>
                    <a:lnTo>
                      <a:pt x="17" y="92"/>
                    </a:lnTo>
                    <a:lnTo>
                      <a:pt x="26" y="97"/>
                    </a:lnTo>
                    <a:lnTo>
                      <a:pt x="37" y="103"/>
                    </a:lnTo>
                    <a:lnTo>
                      <a:pt x="49" y="108"/>
                    </a:lnTo>
                    <a:lnTo>
                      <a:pt x="63" y="113"/>
                    </a:lnTo>
                    <a:lnTo>
                      <a:pt x="79" y="117"/>
                    </a:lnTo>
                    <a:lnTo>
                      <a:pt x="95" y="121"/>
                    </a:lnTo>
                    <a:lnTo>
                      <a:pt x="113" y="124"/>
                    </a:lnTo>
                    <a:lnTo>
                      <a:pt x="132" y="127"/>
                    </a:lnTo>
                    <a:lnTo>
                      <a:pt x="173" y="131"/>
                    </a:lnTo>
                    <a:lnTo>
                      <a:pt x="216" y="132"/>
                    </a:lnTo>
                    <a:lnTo>
                      <a:pt x="259" y="131"/>
                    </a:lnTo>
                    <a:lnTo>
                      <a:pt x="300" y="127"/>
                    </a:lnTo>
                    <a:lnTo>
                      <a:pt x="319" y="124"/>
                    </a:lnTo>
                    <a:lnTo>
                      <a:pt x="337" y="121"/>
                    </a:lnTo>
                    <a:lnTo>
                      <a:pt x="353" y="117"/>
                    </a:lnTo>
                    <a:lnTo>
                      <a:pt x="369" y="113"/>
                    </a:lnTo>
                    <a:lnTo>
                      <a:pt x="383" y="108"/>
                    </a:lnTo>
                    <a:lnTo>
                      <a:pt x="395" y="103"/>
                    </a:lnTo>
                    <a:lnTo>
                      <a:pt x="406" y="97"/>
                    </a:lnTo>
                    <a:lnTo>
                      <a:pt x="415" y="92"/>
                    </a:lnTo>
                    <a:lnTo>
                      <a:pt x="422" y="85"/>
                    </a:lnTo>
                    <a:lnTo>
                      <a:pt x="428" y="79"/>
                    </a:lnTo>
                    <a:lnTo>
                      <a:pt x="431" y="73"/>
                    </a:lnTo>
                    <a:lnTo>
                      <a:pt x="432" y="66"/>
                    </a:lnTo>
                    <a:lnTo>
                      <a:pt x="431" y="59"/>
                    </a:lnTo>
                    <a:lnTo>
                      <a:pt x="428" y="53"/>
                    </a:lnTo>
                    <a:lnTo>
                      <a:pt x="422" y="47"/>
                    </a:lnTo>
                    <a:lnTo>
                      <a:pt x="415" y="41"/>
                    </a:lnTo>
                    <a:lnTo>
                      <a:pt x="406" y="35"/>
                    </a:lnTo>
                    <a:lnTo>
                      <a:pt x="395" y="29"/>
                    </a:lnTo>
                    <a:lnTo>
                      <a:pt x="383" y="24"/>
                    </a:lnTo>
                    <a:lnTo>
                      <a:pt x="369" y="20"/>
                    </a:lnTo>
                    <a:lnTo>
                      <a:pt x="353" y="15"/>
                    </a:lnTo>
                    <a:lnTo>
                      <a:pt x="337" y="11"/>
                    </a:lnTo>
                    <a:lnTo>
                      <a:pt x="319" y="8"/>
                    </a:lnTo>
                    <a:lnTo>
                      <a:pt x="300" y="5"/>
                    </a:lnTo>
                    <a:lnTo>
                      <a:pt x="259" y="1"/>
                    </a:lnTo>
                    <a:lnTo>
                      <a:pt x="216" y="0"/>
                    </a:lnTo>
                    <a:lnTo>
                      <a:pt x="173" y="1"/>
                    </a:lnTo>
                    <a:lnTo>
                      <a:pt x="132" y="5"/>
                    </a:lnTo>
                    <a:lnTo>
                      <a:pt x="113" y="8"/>
                    </a:lnTo>
                    <a:lnTo>
                      <a:pt x="95" y="11"/>
                    </a:lnTo>
                    <a:lnTo>
                      <a:pt x="79" y="15"/>
                    </a:lnTo>
                    <a:lnTo>
                      <a:pt x="63" y="20"/>
                    </a:lnTo>
                    <a:lnTo>
                      <a:pt x="49" y="24"/>
                    </a:lnTo>
                    <a:lnTo>
                      <a:pt x="37" y="29"/>
                    </a:lnTo>
                    <a:lnTo>
                      <a:pt x="26" y="35"/>
                    </a:lnTo>
                    <a:lnTo>
                      <a:pt x="17" y="41"/>
                    </a:lnTo>
                    <a:lnTo>
                      <a:pt x="10" y="47"/>
                    </a:lnTo>
                    <a:lnTo>
                      <a:pt x="4" y="53"/>
                    </a:lnTo>
                    <a:lnTo>
                      <a:pt x="1" y="59"/>
                    </a:lnTo>
                    <a:lnTo>
                      <a:pt x="0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22600">
                <a:off x="6019560" y="2819160"/>
                <a:ext cx="533160" cy="330120"/>
              </a:xfrm>
              <a:custGeom>
                <a:avLst/>
                <a:gdLst/>
                <a:ahLst/>
                <a:rect l="l" t="t" r="r" b="b"/>
                <a:pathLst>
                  <a:path w="441" h="273">
                    <a:moveTo>
                      <a:pt x="177" y="1"/>
                    </a:moveTo>
                    <a:lnTo>
                      <a:pt x="136" y="5"/>
                    </a:lnTo>
                    <a:lnTo>
                      <a:pt x="117" y="8"/>
                    </a:lnTo>
                    <a:lnTo>
                      <a:pt x="99" y="11"/>
                    </a:lnTo>
                    <a:lnTo>
                      <a:pt x="83" y="15"/>
                    </a:lnTo>
                    <a:lnTo>
                      <a:pt x="67" y="19"/>
                    </a:lnTo>
                    <a:lnTo>
                      <a:pt x="53" y="24"/>
                    </a:lnTo>
                    <a:lnTo>
                      <a:pt x="41" y="29"/>
                    </a:lnTo>
                    <a:lnTo>
                      <a:pt x="38" y="30"/>
                    </a:lnTo>
                    <a:lnTo>
                      <a:pt x="27" y="36"/>
                    </a:lnTo>
                    <a:lnTo>
                      <a:pt x="18" y="42"/>
                    </a:lnTo>
                    <a:lnTo>
                      <a:pt x="11" y="48"/>
                    </a:lnTo>
                    <a:lnTo>
                      <a:pt x="5" y="54"/>
                    </a:lnTo>
                    <a:lnTo>
                      <a:pt x="2" y="60"/>
                    </a:lnTo>
                    <a:lnTo>
                      <a:pt x="1" y="63"/>
                    </a:lnTo>
                    <a:lnTo>
                      <a:pt x="0" y="70"/>
                    </a:lnTo>
                    <a:lnTo>
                      <a:pt x="0" y="202"/>
                    </a:lnTo>
                    <a:lnTo>
                      <a:pt x="1" y="209"/>
                    </a:lnTo>
                    <a:lnTo>
                      <a:pt x="2" y="212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8" y="231"/>
                    </a:lnTo>
                    <a:lnTo>
                      <a:pt x="27" y="236"/>
                    </a:lnTo>
                    <a:lnTo>
                      <a:pt x="38" y="242"/>
                    </a:lnTo>
                    <a:lnTo>
                      <a:pt x="41" y="243"/>
                    </a:lnTo>
                    <a:lnTo>
                      <a:pt x="53" y="248"/>
                    </a:lnTo>
                    <a:lnTo>
                      <a:pt x="67" y="253"/>
                    </a:lnTo>
                    <a:lnTo>
                      <a:pt x="83" y="257"/>
                    </a:lnTo>
                    <a:lnTo>
                      <a:pt x="99" y="261"/>
                    </a:lnTo>
                    <a:lnTo>
                      <a:pt x="117" y="264"/>
                    </a:lnTo>
                    <a:lnTo>
                      <a:pt x="136" y="267"/>
                    </a:lnTo>
                    <a:lnTo>
                      <a:pt x="177" y="271"/>
                    </a:lnTo>
                    <a:lnTo>
                      <a:pt x="220" y="273"/>
                    </a:lnTo>
                    <a:lnTo>
                      <a:pt x="263" y="271"/>
                    </a:lnTo>
                    <a:lnTo>
                      <a:pt x="304" y="267"/>
                    </a:lnTo>
                    <a:lnTo>
                      <a:pt x="323" y="264"/>
                    </a:lnTo>
                    <a:lnTo>
                      <a:pt x="341" y="261"/>
                    </a:lnTo>
                    <a:lnTo>
                      <a:pt x="357" y="257"/>
                    </a:lnTo>
                    <a:lnTo>
                      <a:pt x="373" y="253"/>
                    </a:lnTo>
                    <a:lnTo>
                      <a:pt x="387" y="248"/>
                    </a:lnTo>
                    <a:lnTo>
                      <a:pt x="399" y="243"/>
                    </a:lnTo>
                    <a:lnTo>
                      <a:pt x="402" y="242"/>
                    </a:lnTo>
                    <a:lnTo>
                      <a:pt x="413" y="236"/>
                    </a:lnTo>
                    <a:lnTo>
                      <a:pt x="422" y="231"/>
                    </a:lnTo>
                    <a:lnTo>
                      <a:pt x="429" y="224"/>
                    </a:lnTo>
                    <a:lnTo>
                      <a:pt x="435" y="218"/>
                    </a:lnTo>
                    <a:lnTo>
                      <a:pt x="438" y="212"/>
                    </a:lnTo>
                    <a:lnTo>
                      <a:pt x="439" y="209"/>
                    </a:lnTo>
                    <a:lnTo>
                      <a:pt x="441" y="202"/>
                    </a:lnTo>
                    <a:lnTo>
                      <a:pt x="441" y="70"/>
                    </a:lnTo>
                    <a:lnTo>
                      <a:pt x="439" y="63"/>
                    </a:lnTo>
                    <a:lnTo>
                      <a:pt x="438" y="60"/>
                    </a:lnTo>
                    <a:lnTo>
                      <a:pt x="435" y="54"/>
                    </a:lnTo>
                    <a:lnTo>
                      <a:pt x="429" y="48"/>
                    </a:lnTo>
                    <a:lnTo>
                      <a:pt x="422" y="42"/>
                    </a:lnTo>
                    <a:lnTo>
                      <a:pt x="413" y="36"/>
                    </a:lnTo>
                    <a:lnTo>
                      <a:pt x="402" y="30"/>
                    </a:lnTo>
                    <a:lnTo>
                      <a:pt x="399" y="29"/>
                    </a:lnTo>
                    <a:lnTo>
                      <a:pt x="387" y="24"/>
                    </a:lnTo>
                    <a:lnTo>
                      <a:pt x="373" y="19"/>
                    </a:lnTo>
                    <a:lnTo>
                      <a:pt x="357" y="15"/>
                    </a:lnTo>
                    <a:lnTo>
                      <a:pt x="341" y="11"/>
                    </a:lnTo>
                    <a:lnTo>
                      <a:pt x="323" y="8"/>
                    </a:lnTo>
                    <a:lnTo>
                      <a:pt x="304" y="5"/>
                    </a:lnTo>
                    <a:lnTo>
                      <a:pt x="263" y="1"/>
                    </a:lnTo>
                    <a:lnTo>
                      <a:pt x="220" y="0"/>
                    </a:lnTo>
                    <a:lnTo>
                      <a:pt x="177" y="1"/>
                    </a:lnTo>
                    <a:close/>
                    <a:moveTo>
                      <a:pt x="220" y="9"/>
                    </a:moveTo>
                    <a:lnTo>
                      <a:pt x="263" y="10"/>
                    </a:lnTo>
                    <a:lnTo>
                      <a:pt x="304" y="14"/>
                    </a:lnTo>
                    <a:lnTo>
                      <a:pt x="323" y="17"/>
                    </a:lnTo>
                    <a:lnTo>
                      <a:pt x="341" y="20"/>
                    </a:lnTo>
                    <a:lnTo>
                      <a:pt x="357" y="24"/>
                    </a:lnTo>
                    <a:lnTo>
                      <a:pt x="373" y="28"/>
                    </a:lnTo>
                    <a:lnTo>
                      <a:pt x="387" y="33"/>
                    </a:lnTo>
                    <a:lnTo>
                      <a:pt x="399" y="38"/>
                    </a:lnTo>
                    <a:lnTo>
                      <a:pt x="399" y="33"/>
                    </a:lnTo>
                    <a:lnTo>
                      <a:pt x="396" y="36"/>
                    </a:lnTo>
                    <a:lnTo>
                      <a:pt x="407" y="42"/>
                    </a:lnTo>
                    <a:lnTo>
                      <a:pt x="416" y="48"/>
                    </a:lnTo>
                    <a:lnTo>
                      <a:pt x="423" y="54"/>
                    </a:lnTo>
                    <a:lnTo>
                      <a:pt x="429" y="60"/>
                    </a:lnTo>
                    <a:lnTo>
                      <a:pt x="432" y="66"/>
                    </a:lnTo>
                    <a:lnTo>
                      <a:pt x="435" y="63"/>
                    </a:lnTo>
                    <a:lnTo>
                      <a:pt x="430" y="63"/>
                    </a:lnTo>
                    <a:lnTo>
                      <a:pt x="432" y="70"/>
                    </a:lnTo>
                    <a:lnTo>
                      <a:pt x="432" y="202"/>
                    </a:lnTo>
                    <a:lnTo>
                      <a:pt x="430" y="209"/>
                    </a:lnTo>
                    <a:lnTo>
                      <a:pt x="435" y="209"/>
                    </a:lnTo>
                    <a:lnTo>
                      <a:pt x="432" y="206"/>
                    </a:lnTo>
                    <a:lnTo>
                      <a:pt x="429" y="212"/>
                    </a:lnTo>
                    <a:lnTo>
                      <a:pt x="423" y="218"/>
                    </a:lnTo>
                    <a:lnTo>
                      <a:pt x="416" y="225"/>
                    </a:lnTo>
                    <a:lnTo>
                      <a:pt x="407" y="230"/>
                    </a:lnTo>
                    <a:lnTo>
                      <a:pt x="396" y="236"/>
                    </a:lnTo>
                    <a:lnTo>
                      <a:pt x="399" y="239"/>
                    </a:lnTo>
                    <a:lnTo>
                      <a:pt x="399" y="234"/>
                    </a:lnTo>
                    <a:lnTo>
                      <a:pt x="387" y="239"/>
                    </a:lnTo>
                    <a:lnTo>
                      <a:pt x="373" y="244"/>
                    </a:lnTo>
                    <a:lnTo>
                      <a:pt x="357" y="248"/>
                    </a:lnTo>
                    <a:lnTo>
                      <a:pt x="341" y="252"/>
                    </a:lnTo>
                    <a:lnTo>
                      <a:pt x="323" y="255"/>
                    </a:lnTo>
                    <a:lnTo>
                      <a:pt x="304" y="258"/>
                    </a:lnTo>
                    <a:lnTo>
                      <a:pt x="263" y="262"/>
                    </a:lnTo>
                    <a:lnTo>
                      <a:pt x="220" y="264"/>
                    </a:lnTo>
                    <a:lnTo>
                      <a:pt x="177" y="262"/>
                    </a:lnTo>
                    <a:lnTo>
                      <a:pt x="136" y="258"/>
                    </a:lnTo>
                    <a:lnTo>
                      <a:pt x="117" y="255"/>
                    </a:lnTo>
                    <a:lnTo>
                      <a:pt x="99" y="252"/>
                    </a:lnTo>
                    <a:lnTo>
                      <a:pt x="83" y="248"/>
                    </a:lnTo>
                    <a:lnTo>
                      <a:pt x="67" y="244"/>
                    </a:lnTo>
                    <a:lnTo>
                      <a:pt x="53" y="239"/>
                    </a:lnTo>
                    <a:lnTo>
                      <a:pt x="41" y="234"/>
                    </a:lnTo>
                    <a:lnTo>
                      <a:pt x="41" y="239"/>
                    </a:lnTo>
                    <a:lnTo>
                      <a:pt x="44" y="236"/>
                    </a:lnTo>
                    <a:lnTo>
                      <a:pt x="33" y="230"/>
                    </a:lnTo>
                    <a:lnTo>
                      <a:pt x="24" y="225"/>
                    </a:lnTo>
                    <a:lnTo>
                      <a:pt x="17" y="218"/>
                    </a:lnTo>
                    <a:lnTo>
                      <a:pt x="11" y="212"/>
                    </a:lnTo>
                    <a:lnTo>
                      <a:pt x="8" y="206"/>
                    </a:lnTo>
                    <a:lnTo>
                      <a:pt x="5" y="209"/>
                    </a:lnTo>
                    <a:lnTo>
                      <a:pt x="10" y="209"/>
                    </a:lnTo>
                    <a:lnTo>
                      <a:pt x="9" y="202"/>
                    </a:lnTo>
                    <a:lnTo>
                      <a:pt x="9" y="70"/>
                    </a:lnTo>
                    <a:lnTo>
                      <a:pt x="10" y="63"/>
                    </a:lnTo>
                    <a:lnTo>
                      <a:pt x="5" y="63"/>
                    </a:lnTo>
                    <a:lnTo>
                      <a:pt x="8" y="66"/>
                    </a:lnTo>
                    <a:lnTo>
                      <a:pt x="11" y="60"/>
                    </a:lnTo>
                    <a:lnTo>
                      <a:pt x="17" y="54"/>
                    </a:lnTo>
                    <a:lnTo>
                      <a:pt x="24" y="48"/>
                    </a:lnTo>
                    <a:lnTo>
                      <a:pt x="33" y="42"/>
                    </a:lnTo>
                    <a:lnTo>
                      <a:pt x="44" y="36"/>
                    </a:lnTo>
                    <a:lnTo>
                      <a:pt x="41" y="33"/>
                    </a:lnTo>
                    <a:lnTo>
                      <a:pt x="41" y="38"/>
                    </a:lnTo>
                    <a:lnTo>
                      <a:pt x="53" y="33"/>
                    </a:lnTo>
                    <a:lnTo>
                      <a:pt x="67" y="28"/>
                    </a:lnTo>
                    <a:lnTo>
                      <a:pt x="83" y="24"/>
                    </a:lnTo>
                    <a:lnTo>
                      <a:pt x="99" y="20"/>
                    </a:lnTo>
                    <a:lnTo>
                      <a:pt x="117" y="17"/>
                    </a:lnTo>
                    <a:lnTo>
                      <a:pt x="136" y="14"/>
                    </a:lnTo>
                    <a:lnTo>
                      <a:pt x="177" y="10"/>
                    </a:lnTo>
                    <a:lnTo>
                      <a:pt x="220" y="9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22600">
                <a:off x="6022080" y="2904120"/>
                <a:ext cx="533160" cy="85680"/>
              </a:xfrm>
              <a:custGeom>
                <a:avLst/>
                <a:gdLst/>
                <a:ahLst/>
                <a:rect l="l" t="t" r="r" b="b"/>
                <a:pathLst>
                  <a:path w="441" h="71">
                    <a:moveTo>
                      <a:pt x="9" y="0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11" y="22"/>
                    </a:lnTo>
                    <a:lnTo>
                      <a:pt x="18" y="29"/>
                    </a:lnTo>
                    <a:lnTo>
                      <a:pt x="27" y="34"/>
                    </a:lnTo>
                    <a:lnTo>
                      <a:pt x="38" y="40"/>
                    </a:lnTo>
                    <a:lnTo>
                      <a:pt x="41" y="41"/>
                    </a:lnTo>
                    <a:lnTo>
                      <a:pt x="53" y="46"/>
                    </a:lnTo>
                    <a:lnTo>
                      <a:pt x="67" y="51"/>
                    </a:lnTo>
                    <a:lnTo>
                      <a:pt x="83" y="55"/>
                    </a:lnTo>
                    <a:lnTo>
                      <a:pt x="99" y="59"/>
                    </a:lnTo>
                    <a:lnTo>
                      <a:pt x="117" y="62"/>
                    </a:lnTo>
                    <a:lnTo>
                      <a:pt x="136" y="65"/>
                    </a:lnTo>
                    <a:lnTo>
                      <a:pt x="177" y="69"/>
                    </a:lnTo>
                    <a:lnTo>
                      <a:pt x="220" y="71"/>
                    </a:lnTo>
                    <a:lnTo>
                      <a:pt x="263" y="69"/>
                    </a:lnTo>
                    <a:lnTo>
                      <a:pt x="304" y="65"/>
                    </a:lnTo>
                    <a:lnTo>
                      <a:pt x="323" y="62"/>
                    </a:lnTo>
                    <a:lnTo>
                      <a:pt x="341" y="59"/>
                    </a:lnTo>
                    <a:lnTo>
                      <a:pt x="357" y="55"/>
                    </a:lnTo>
                    <a:lnTo>
                      <a:pt x="373" y="51"/>
                    </a:lnTo>
                    <a:lnTo>
                      <a:pt x="387" y="46"/>
                    </a:lnTo>
                    <a:lnTo>
                      <a:pt x="399" y="41"/>
                    </a:lnTo>
                    <a:lnTo>
                      <a:pt x="402" y="40"/>
                    </a:lnTo>
                    <a:lnTo>
                      <a:pt x="413" y="34"/>
                    </a:lnTo>
                    <a:lnTo>
                      <a:pt x="422" y="29"/>
                    </a:lnTo>
                    <a:lnTo>
                      <a:pt x="429" y="22"/>
                    </a:lnTo>
                    <a:lnTo>
                      <a:pt x="435" y="16"/>
                    </a:lnTo>
                    <a:lnTo>
                      <a:pt x="438" y="10"/>
                    </a:lnTo>
                    <a:lnTo>
                      <a:pt x="439" y="7"/>
                    </a:lnTo>
                    <a:lnTo>
                      <a:pt x="441" y="0"/>
                    </a:lnTo>
                    <a:lnTo>
                      <a:pt x="432" y="0"/>
                    </a:lnTo>
                    <a:lnTo>
                      <a:pt x="430" y="7"/>
                    </a:lnTo>
                    <a:lnTo>
                      <a:pt x="435" y="7"/>
                    </a:lnTo>
                    <a:lnTo>
                      <a:pt x="432" y="4"/>
                    </a:lnTo>
                    <a:lnTo>
                      <a:pt x="429" y="10"/>
                    </a:lnTo>
                    <a:lnTo>
                      <a:pt x="423" y="16"/>
                    </a:lnTo>
                    <a:lnTo>
                      <a:pt x="416" y="23"/>
                    </a:lnTo>
                    <a:lnTo>
                      <a:pt x="407" y="28"/>
                    </a:lnTo>
                    <a:lnTo>
                      <a:pt x="396" y="34"/>
                    </a:lnTo>
                    <a:lnTo>
                      <a:pt x="399" y="37"/>
                    </a:lnTo>
                    <a:lnTo>
                      <a:pt x="399" y="32"/>
                    </a:lnTo>
                    <a:lnTo>
                      <a:pt x="387" y="37"/>
                    </a:lnTo>
                    <a:lnTo>
                      <a:pt x="373" y="42"/>
                    </a:lnTo>
                    <a:lnTo>
                      <a:pt x="357" y="46"/>
                    </a:lnTo>
                    <a:lnTo>
                      <a:pt x="341" y="50"/>
                    </a:lnTo>
                    <a:lnTo>
                      <a:pt x="323" y="53"/>
                    </a:lnTo>
                    <a:lnTo>
                      <a:pt x="304" y="56"/>
                    </a:lnTo>
                    <a:lnTo>
                      <a:pt x="263" y="60"/>
                    </a:lnTo>
                    <a:lnTo>
                      <a:pt x="220" y="62"/>
                    </a:lnTo>
                    <a:lnTo>
                      <a:pt x="177" y="60"/>
                    </a:lnTo>
                    <a:lnTo>
                      <a:pt x="136" y="56"/>
                    </a:lnTo>
                    <a:lnTo>
                      <a:pt x="117" y="53"/>
                    </a:lnTo>
                    <a:lnTo>
                      <a:pt x="99" y="50"/>
                    </a:lnTo>
                    <a:lnTo>
                      <a:pt x="83" y="46"/>
                    </a:lnTo>
                    <a:lnTo>
                      <a:pt x="67" y="42"/>
                    </a:lnTo>
                    <a:lnTo>
                      <a:pt x="53" y="37"/>
                    </a:lnTo>
                    <a:lnTo>
                      <a:pt x="41" y="32"/>
                    </a:lnTo>
                    <a:lnTo>
                      <a:pt x="41" y="37"/>
                    </a:lnTo>
                    <a:lnTo>
                      <a:pt x="44" y="34"/>
                    </a:lnTo>
                    <a:lnTo>
                      <a:pt x="33" y="28"/>
                    </a:lnTo>
                    <a:lnTo>
                      <a:pt x="24" y="23"/>
                    </a:lnTo>
                    <a:lnTo>
                      <a:pt x="17" y="16"/>
                    </a:lnTo>
                    <a:lnTo>
                      <a:pt x="11" y="10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6084720" y="2837160"/>
                <a:ext cx="398880" cy="134640"/>
                <a:chOff x="6084720" y="2837160"/>
                <a:chExt cx="398880" cy="134640"/>
              </a:xfrm>
            </p:grpSpPr>
            <p:sp>
              <p:nvSpPr>
                <p:cNvPr id="135" name=""/>
                <p:cNvSpPr/>
                <p:nvPr/>
              </p:nvSpPr>
              <p:spPr>
                <a:xfrm rot="222600">
                  <a:off x="6293880" y="2857680"/>
                  <a:ext cx="188280" cy="48240"/>
                </a:xfrm>
                <a:custGeom>
                  <a:avLst/>
                  <a:gdLst/>
                  <a:ahLst/>
                  <a:rect l="l" t="t" r="r" b="b"/>
                  <a:pathLst>
                    <a:path w="156" h="40">
                      <a:moveTo>
                        <a:pt x="0" y="30"/>
                      </a:moveTo>
                      <a:lnTo>
                        <a:pt x="34" y="39"/>
                      </a:lnTo>
                      <a:lnTo>
                        <a:pt x="118" y="13"/>
                      </a:lnTo>
                      <a:lnTo>
                        <a:pt x="155" y="21"/>
                      </a:lnTo>
                      <a:lnTo>
                        <a:pt x="135" y="0"/>
                      </a:lnTo>
                      <a:lnTo>
                        <a:pt x="37" y="0"/>
                      </a:lnTo>
                      <a:lnTo>
                        <a:pt x="77" y="6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222600">
                  <a:off x="6293880" y="2857680"/>
                  <a:ext cx="188280" cy="48240"/>
                </a:xfrm>
                <a:custGeom>
                  <a:avLst/>
                  <a:gdLst/>
                  <a:ahLst/>
                  <a:rect l="l" t="t" r="r" b="b"/>
                  <a:pathLst>
                    <a:path w="156" h="40">
                      <a:moveTo>
                        <a:pt x="0" y="30"/>
                      </a:moveTo>
                      <a:lnTo>
                        <a:pt x="34" y="39"/>
                      </a:lnTo>
                      <a:lnTo>
                        <a:pt x="118" y="13"/>
                      </a:lnTo>
                      <a:lnTo>
                        <a:pt x="155" y="21"/>
                      </a:lnTo>
                      <a:lnTo>
                        <a:pt x="135" y="0"/>
                      </a:lnTo>
                      <a:lnTo>
                        <a:pt x="37" y="0"/>
                      </a:lnTo>
                      <a:lnTo>
                        <a:pt x="77" y="6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22600">
                  <a:off x="6085800" y="2900160"/>
                  <a:ext cx="188280" cy="50400"/>
                </a:xfrm>
                <a:custGeom>
                  <a:avLst/>
                  <a:gdLst/>
                  <a:ahLst/>
                  <a:rect l="l" t="t" r="r" b="b"/>
                  <a:pathLst>
                    <a:path w="156" h="42">
                      <a:moveTo>
                        <a:pt x="155" y="9"/>
                      </a:moveTo>
                      <a:lnTo>
                        <a:pt x="121" y="0"/>
                      </a:lnTo>
                      <a:lnTo>
                        <a:pt x="40" y="26"/>
                      </a:lnTo>
                      <a:lnTo>
                        <a:pt x="0" y="17"/>
                      </a:lnTo>
                      <a:lnTo>
                        <a:pt x="20" y="41"/>
                      </a:lnTo>
                      <a:lnTo>
                        <a:pt x="121" y="41"/>
                      </a:lnTo>
                      <a:lnTo>
                        <a:pt x="78" y="32"/>
                      </a:lnTo>
                      <a:lnTo>
                        <a:pt x="155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222600">
                  <a:off x="6085800" y="2900160"/>
                  <a:ext cx="188280" cy="50400"/>
                </a:xfrm>
                <a:custGeom>
                  <a:avLst/>
                  <a:gdLst/>
                  <a:ahLst/>
                  <a:rect l="l" t="t" r="r" b="b"/>
                  <a:pathLst>
                    <a:path w="156" h="42">
                      <a:moveTo>
                        <a:pt x="155" y="9"/>
                      </a:moveTo>
                      <a:lnTo>
                        <a:pt x="121" y="0"/>
                      </a:lnTo>
                      <a:lnTo>
                        <a:pt x="40" y="26"/>
                      </a:lnTo>
                      <a:lnTo>
                        <a:pt x="0" y="17"/>
                      </a:lnTo>
                      <a:lnTo>
                        <a:pt x="20" y="41"/>
                      </a:lnTo>
                      <a:lnTo>
                        <a:pt x="121" y="41"/>
                      </a:lnTo>
                      <a:lnTo>
                        <a:pt x="78" y="32"/>
                      </a:lnTo>
                      <a:lnTo>
                        <a:pt x="155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222600">
                  <a:off x="6100560" y="2842920"/>
                  <a:ext cx="188280" cy="48240"/>
                </a:xfrm>
                <a:custGeom>
                  <a:avLst/>
                  <a:gdLst/>
                  <a:ahLst/>
                  <a:rect l="l" t="t" r="r" b="b"/>
                  <a:pathLst>
                    <a:path w="156" h="40">
                      <a:moveTo>
                        <a:pt x="0" y="9"/>
                      </a:moveTo>
                      <a:lnTo>
                        <a:pt x="34" y="0"/>
                      </a:lnTo>
                      <a:lnTo>
                        <a:pt x="118" y="24"/>
                      </a:lnTo>
                      <a:lnTo>
                        <a:pt x="155" y="17"/>
                      </a:lnTo>
                      <a:lnTo>
                        <a:pt x="135" y="39"/>
                      </a:lnTo>
                      <a:lnTo>
                        <a:pt x="37" y="39"/>
                      </a:lnTo>
                      <a:lnTo>
                        <a:pt x="78" y="33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222600">
                  <a:off x="6100560" y="2842920"/>
                  <a:ext cx="188280" cy="48240"/>
                </a:xfrm>
                <a:custGeom>
                  <a:avLst/>
                  <a:gdLst/>
                  <a:ahLst/>
                  <a:rect l="l" t="t" r="r" b="b"/>
                  <a:pathLst>
                    <a:path w="156" h="40">
                      <a:moveTo>
                        <a:pt x="0" y="9"/>
                      </a:moveTo>
                      <a:lnTo>
                        <a:pt x="34" y="0"/>
                      </a:lnTo>
                      <a:lnTo>
                        <a:pt x="118" y="24"/>
                      </a:lnTo>
                      <a:lnTo>
                        <a:pt x="155" y="17"/>
                      </a:lnTo>
                      <a:lnTo>
                        <a:pt x="135" y="39"/>
                      </a:lnTo>
                      <a:lnTo>
                        <a:pt x="37" y="39"/>
                      </a:lnTo>
                      <a:lnTo>
                        <a:pt x="78" y="33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222600">
                  <a:off x="6283800" y="2917440"/>
                  <a:ext cx="187200" cy="48240"/>
                </a:xfrm>
                <a:custGeom>
                  <a:avLst/>
                  <a:gdLst/>
                  <a:ahLst/>
                  <a:rect l="l" t="t" r="r" b="b"/>
                  <a:pathLst>
                    <a:path w="155" h="40">
                      <a:moveTo>
                        <a:pt x="154" y="30"/>
                      </a:moveTo>
                      <a:lnTo>
                        <a:pt x="119" y="39"/>
                      </a:lnTo>
                      <a:lnTo>
                        <a:pt x="39" y="13"/>
                      </a:ln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119" y="0"/>
                      </a:lnTo>
                      <a:lnTo>
                        <a:pt x="76" y="7"/>
                      </a:lnTo>
                      <a:lnTo>
                        <a:pt x="154" y="3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222600">
                  <a:off x="6283800" y="2917440"/>
                  <a:ext cx="187200" cy="48240"/>
                </a:xfrm>
                <a:custGeom>
                  <a:avLst/>
                  <a:gdLst/>
                  <a:ahLst/>
                  <a:rect l="l" t="t" r="r" b="b"/>
                  <a:pathLst>
                    <a:path w="155" h="40">
                      <a:moveTo>
                        <a:pt x="154" y="30"/>
                      </a:moveTo>
                      <a:lnTo>
                        <a:pt x="119" y="39"/>
                      </a:lnTo>
                      <a:lnTo>
                        <a:pt x="39" y="13"/>
                      </a:ln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119" y="0"/>
                      </a:lnTo>
                      <a:lnTo>
                        <a:pt x="76" y="7"/>
                      </a:lnTo>
                      <a:lnTo>
                        <a:pt x="154" y="3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3" name=""/>
          <p:cNvSpPr/>
          <p:nvPr/>
        </p:nvSpPr>
        <p:spPr>
          <a:xfrm>
            <a:off x="6324480" y="3124080"/>
            <a:ext cx="0" cy="14479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C44A-3598-4B1D-B5F2-A68C9699DE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"/>
          <p:cNvSpPr/>
          <p:nvPr/>
        </p:nvSpPr>
        <p:spPr>
          <a:xfrm flipH="1" flipV="1">
            <a:off x="1050840" y="4799160"/>
            <a:ext cx="1067040" cy="144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 flipH="1">
            <a:off x="3336840" y="4799160"/>
            <a:ext cx="920880" cy="1440"/>
          </a:xfrm>
          <a:prstGeom prst="line">
            <a:avLst/>
          </a:prstGeom>
          <a:ln w="12600">
            <a:solidFill>
              <a:srgbClr val="cc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WDM Introduction</a:t>
            </a:r>
            <a:br>
              <a:rPr sz="2000"/>
            </a:br>
            <a:r>
              <a:rPr b="1" lang="en-US" sz="3600" spc="-1" strike="noStrike">
                <a:solidFill>
                  <a:srgbClr val="ffff00"/>
                </a:solidFill>
                <a:latin typeface="Albertus Medium"/>
              </a:rPr>
              <a:t>Wavelengths</a:t>
            </a:r>
            <a:endParaRPr b="1" lang="en-US" sz="36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2400480" y="2107800"/>
            <a:ext cx="14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3767040" y="1976040"/>
            <a:ext cx="180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H="1">
            <a:off x="3793680" y="5410080"/>
            <a:ext cx="1800" cy="457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3336840" y="5981760"/>
            <a:ext cx="9064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11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85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064880" y="583524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w Loss Windows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4403880" y="5981760"/>
            <a:ext cx="1079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11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131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622840" y="5981760"/>
            <a:ext cx="10796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11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155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3" name=""/>
          <p:cNvGrpSpPr/>
          <p:nvPr/>
        </p:nvGrpSpPr>
        <p:grpSpPr>
          <a:xfrm>
            <a:off x="746280" y="4876920"/>
            <a:ext cx="7280280" cy="500040"/>
            <a:chOff x="746280" y="4876920"/>
            <a:chExt cx="7280280" cy="500040"/>
          </a:xfrm>
        </p:grpSpPr>
        <p:sp>
          <p:nvSpPr>
            <p:cNvPr id="2684" name=""/>
            <p:cNvSpPr/>
            <p:nvPr/>
          </p:nvSpPr>
          <p:spPr>
            <a:xfrm>
              <a:off x="746280" y="4879800"/>
              <a:ext cx="14176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302280" y="4879800"/>
              <a:ext cx="47242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302280" y="4889520"/>
              <a:ext cx="0" cy="47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68640" y="4889520"/>
              <a:ext cx="0" cy="47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71880" y="4876920"/>
              <a:ext cx="1114560" cy="50004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782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4545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5308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068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6831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7594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8354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9117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9880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0640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403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2166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2926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3689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4452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5212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5975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6738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7498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8261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9024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9784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0547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1310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2070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2833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3596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356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5119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5882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6642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7405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8168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8928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9691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454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1214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1977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2740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3500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4263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5026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5786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6549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7312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8072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8835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9598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0358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1121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1884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2644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3407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4170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4930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693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6456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7216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7979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8742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9502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397160" y="4889520"/>
              <a:ext cx="0" cy="47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4734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5494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6257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7020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7780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8543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9306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0066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0829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3971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3208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2448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1685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0922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01628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93996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63640" y="4898880"/>
              <a:ext cx="0" cy="457200"/>
            </a:xfrm>
            <a:prstGeom prst="line">
              <a:avLst/>
            </a:prstGeom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8" name=""/>
          <p:cNvSpPr/>
          <p:nvPr/>
        </p:nvSpPr>
        <p:spPr>
          <a:xfrm>
            <a:off x="1147320" y="425232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l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Violet (U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400560" y="432792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frared (I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1930320" y="40788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Visibl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1" name=""/>
          <p:cNvGrpSpPr/>
          <p:nvPr/>
        </p:nvGrpSpPr>
        <p:grpSpPr>
          <a:xfrm>
            <a:off x="3649680" y="685800"/>
            <a:ext cx="4808160" cy="3276360"/>
            <a:chOff x="3649680" y="685800"/>
            <a:chExt cx="4808160" cy="3276360"/>
          </a:xfrm>
        </p:grpSpPr>
        <p:sp>
          <p:nvSpPr>
            <p:cNvPr id="2772" name=""/>
            <p:cNvSpPr/>
            <p:nvPr/>
          </p:nvSpPr>
          <p:spPr>
            <a:xfrm>
              <a:off x="3649680" y="685800"/>
              <a:ext cx="4808160" cy="327636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a2cbcb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707640" y="779400"/>
              <a:ext cx="4657680" cy="304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147640" y="1846080"/>
              <a:ext cx="1680480" cy="1316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ff99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383000" y="2718000"/>
              <a:ext cx="32432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188240" y="337932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88240" y="294624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188240" y="251316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88240" y="208404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188240" y="165312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188240" y="122004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188240" y="358596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188240" y="272196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188240" y="230616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188240" y="187704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188240" y="144648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188240" y="1013400"/>
              <a:ext cx="40629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593600" y="1013400"/>
              <a:ext cx="0" cy="25722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414400" y="1013400"/>
              <a:ext cx="0" cy="25722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221520" y="1013400"/>
              <a:ext cx="0" cy="25722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025040" y="1013400"/>
              <a:ext cx="0" cy="25722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849440" y="1013400"/>
              <a:ext cx="0" cy="25722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995360" y="1013400"/>
              <a:ext cx="0" cy="25722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817960" y="1013400"/>
              <a:ext cx="0" cy="25722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623280" y="1013400"/>
              <a:ext cx="0" cy="25722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444440" y="1013400"/>
              <a:ext cx="0" cy="25722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251200" y="1013400"/>
              <a:ext cx="0" cy="25722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188240" y="1013400"/>
              <a:ext cx="0" cy="257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144320" y="358596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144320" y="337932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144320" y="315288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144320" y="294624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144320" y="272196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144320" y="251316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144320" y="230616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144320" y="208404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144320" y="187704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144320" y="165312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144320" y="144648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144320" y="122004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144320" y="1013400"/>
              <a:ext cx="8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128480" y="35859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128480" y="315288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128480" y="27219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128480" y="23061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128480" y="18770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128480" y="144648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128480" y="101340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188240" y="3152880"/>
              <a:ext cx="40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V="1">
              <a:off x="4188240" y="3102480"/>
              <a:ext cx="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V="1">
              <a:off x="4593600" y="3102480"/>
              <a:ext cx="0" cy="102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4995360" y="3102480"/>
              <a:ext cx="0" cy="102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5414400" y="3102480"/>
              <a:ext cx="0" cy="102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V="1">
              <a:off x="5817960" y="3102480"/>
              <a:ext cx="0" cy="102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V="1">
              <a:off x="6221520" y="3102480"/>
              <a:ext cx="0" cy="102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6623280" y="3102480"/>
              <a:ext cx="0" cy="102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V="1">
              <a:off x="7025040" y="3102480"/>
              <a:ext cx="0" cy="102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7444440" y="3102480"/>
              <a:ext cx="0" cy="102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7849440" y="3102480"/>
              <a:ext cx="0" cy="102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8251200" y="3102480"/>
              <a:ext cx="0" cy="1029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4188240" y="308484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V="1">
              <a:off x="4995360" y="3084840"/>
              <a:ext cx="0" cy="138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V="1">
              <a:off x="5817960" y="3084840"/>
              <a:ext cx="0" cy="138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V="1">
              <a:off x="6623280" y="3084840"/>
              <a:ext cx="0" cy="138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V="1">
              <a:off x="7444440" y="3084840"/>
              <a:ext cx="0" cy="138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8251200" y="3084840"/>
              <a:ext cx="0" cy="138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397040" y="1633320"/>
              <a:ext cx="3647160" cy="1503720"/>
            </a:xfrm>
            <a:custGeom>
              <a:avLst/>
              <a:gdLst/>
              <a:ahLst/>
              <a:rect l="l" t="t" r="r" b="b"/>
              <a:pathLst>
                <a:path w="2056" h="762">
                  <a:moveTo>
                    <a:pt x="0" y="753"/>
                  </a:moveTo>
                  <a:lnTo>
                    <a:pt x="0" y="761"/>
                  </a:lnTo>
                  <a:lnTo>
                    <a:pt x="0" y="753"/>
                  </a:lnTo>
                  <a:lnTo>
                    <a:pt x="8" y="744"/>
                  </a:lnTo>
                  <a:lnTo>
                    <a:pt x="8" y="753"/>
                  </a:lnTo>
                  <a:lnTo>
                    <a:pt x="17" y="744"/>
                  </a:lnTo>
                  <a:lnTo>
                    <a:pt x="17" y="753"/>
                  </a:lnTo>
                  <a:lnTo>
                    <a:pt x="17" y="744"/>
                  </a:lnTo>
                  <a:lnTo>
                    <a:pt x="25" y="735"/>
                  </a:lnTo>
                  <a:lnTo>
                    <a:pt x="25" y="726"/>
                  </a:lnTo>
                  <a:lnTo>
                    <a:pt x="34" y="735"/>
                  </a:lnTo>
                  <a:lnTo>
                    <a:pt x="34" y="726"/>
                  </a:lnTo>
                  <a:lnTo>
                    <a:pt x="42" y="718"/>
                  </a:lnTo>
                  <a:lnTo>
                    <a:pt x="51" y="718"/>
                  </a:lnTo>
                  <a:lnTo>
                    <a:pt x="51" y="700"/>
                  </a:lnTo>
                  <a:lnTo>
                    <a:pt x="59" y="700"/>
                  </a:lnTo>
                  <a:lnTo>
                    <a:pt x="59" y="691"/>
                  </a:lnTo>
                  <a:lnTo>
                    <a:pt x="59" y="700"/>
                  </a:lnTo>
                  <a:lnTo>
                    <a:pt x="67" y="691"/>
                  </a:lnTo>
                  <a:lnTo>
                    <a:pt x="67" y="700"/>
                  </a:lnTo>
                  <a:lnTo>
                    <a:pt x="76" y="691"/>
                  </a:lnTo>
                  <a:lnTo>
                    <a:pt x="84" y="683"/>
                  </a:lnTo>
                  <a:lnTo>
                    <a:pt x="93" y="683"/>
                  </a:lnTo>
                  <a:lnTo>
                    <a:pt x="101" y="674"/>
                  </a:lnTo>
                  <a:lnTo>
                    <a:pt x="101" y="683"/>
                  </a:lnTo>
                  <a:lnTo>
                    <a:pt x="101" y="674"/>
                  </a:lnTo>
                  <a:lnTo>
                    <a:pt x="101" y="665"/>
                  </a:lnTo>
                  <a:lnTo>
                    <a:pt x="110" y="674"/>
                  </a:lnTo>
                  <a:lnTo>
                    <a:pt x="110" y="665"/>
                  </a:lnTo>
                  <a:lnTo>
                    <a:pt x="118" y="665"/>
                  </a:lnTo>
                  <a:lnTo>
                    <a:pt x="118" y="656"/>
                  </a:lnTo>
                  <a:lnTo>
                    <a:pt x="126" y="656"/>
                  </a:lnTo>
                  <a:lnTo>
                    <a:pt x="135" y="648"/>
                  </a:lnTo>
                  <a:lnTo>
                    <a:pt x="135" y="639"/>
                  </a:lnTo>
                  <a:lnTo>
                    <a:pt x="143" y="639"/>
                  </a:lnTo>
                  <a:lnTo>
                    <a:pt x="152" y="639"/>
                  </a:lnTo>
                  <a:lnTo>
                    <a:pt x="152" y="630"/>
                  </a:lnTo>
                  <a:lnTo>
                    <a:pt x="160" y="630"/>
                  </a:lnTo>
                  <a:lnTo>
                    <a:pt x="168" y="621"/>
                  </a:lnTo>
                  <a:lnTo>
                    <a:pt x="168" y="613"/>
                  </a:lnTo>
                  <a:lnTo>
                    <a:pt x="177" y="621"/>
                  </a:lnTo>
                  <a:lnTo>
                    <a:pt x="177" y="613"/>
                  </a:lnTo>
                  <a:lnTo>
                    <a:pt x="185" y="613"/>
                  </a:lnTo>
                  <a:lnTo>
                    <a:pt x="185" y="604"/>
                  </a:lnTo>
                  <a:lnTo>
                    <a:pt x="194" y="604"/>
                  </a:lnTo>
                  <a:lnTo>
                    <a:pt x="194" y="595"/>
                  </a:lnTo>
                  <a:lnTo>
                    <a:pt x="202" y="595"/>
                  </a:lnTo>
                  <a:lnTo>
                    <a:pt x="202" y="586"/>
                  </a:lnTo>
                  <a:lnTo>
                    <a:pt x="211" y="586"/>
                  </a:lnTo>
                  <a:lnTo>
                    <a:pt x="211" y="578"/>
                  </a:lnTo>
                  <a:lnTo>
                    <a:pt x="219" y="578"/>
                  </a:lnTo>
                  <a:lnTo>
                    <a:pt x="227" y="569"/>
                  </a:lnTo>
                  <a:lnTo>
                    <a:pt x="227" y="578"/>
                  </a:lnTo>
                  <a:lnTo>
                    <a:pt x="227" y="569"/>
                  </a:lnTo>
                  <a:lnTo>
                    <a:pt x="236" y="560"/>
                  </a:lnTo>
                  <a:lnTo>
                    <a:pt x="244" y="560"/>
                  </a:lnTo>
                  <a:lnTo>
                    <a:pt x="244" y="551"/>
                  </a:lnTo>
                  <a:lnTo>
                    <a:pt x="253" y="551"/>
                  </a:lnTo>
                  <a:lnTo>
                    <a:pt x="253" y="543"/>
                  </a:lnTo>
                  <a:lnTo>
                    <a:pt x="261" y="543"/>
                  </a:lnTo>
                  <a:lnTo>
                    <a:pt x="261" y="534"/>
                  </a:lnTo>
                  <a:lnTo>
                    <a:pt x="261" y="525"/>
                  </a:lnTo>
                  <a:lnTo>
                    <a:pt x="270" y="525"/>
                  </a:lnTo>
                  <a:lnTo>
                    <a:pt x="270" y="516"/>
                  </a:lnTo>
                  <a:lnTo>
                    <a:pt x="278" y="516"/>
                  </a:lnTo>
                  <a:lnTo>
                    <a:pt x="286" y="508"/>
                  </a:lnTo>
                  <a:lnTo>
                    <a:pt x="286" y="499"/>
                  </a:lnTo>
                  <a:lnTo>
                    <a:pt x="295" y="499"/>
                  </a:lnTo>
                  <a:lnTo>
                    <a:pt x="295" y="490"/>
                  </a:lnTo>
                  <a:lnTo>
                    <a:pt x="303" y="481"/>
                  </a:lnTo>
                  <a:lnTo>
                    <a:pt x="312" y="473"/>
                  </a:lnTo>
                  <a:lnTo>
                    <a:pt x="312" y="464"/>
                  </a:lnTo>
                  <a:lnTo>
                    <a:pt x="320" y="464"/>
                  </a:lnTo>
                  <a:lnTo>
                    <a:pt x="320" y="455"/>
                  </a:lnTo>
                  <a:lnTo>
                    <a:pt x="328" y="446"/>
                  </a:lnTo>
                  <a:lnTo>
                    <a:pt x="328" y="438"/>
                  </a:lnTo>
                  <a:lnTo>
                    <a:pt x="337" y="438"/>
                  </a:lnTo>
                  <a:lnTo>
                    <a:pt x="337" y="429"/>
                  </a:lnTo>
                  <a:lnTo>
                    <a:pt x="337" y="420"/>
                  </a:lnTo>
                  <a:lnTo>
                    <a:pt x="345" y="420"/>
                  </a:lnTo>
                  <a:lnTo>
                    <a:pt x="345" y="411"/>
                  </a:lnTo>
                  <a:lnTo>
                    <a:pt x="354" y="403"/>
                  </a:lnTo>
                  <a:lnTo>
                    <a:pt x="354" y="394"/>
                  </a:lnTo>
                  <a:lnTo>
                    <a:pt x="354" y="385"/>
                  </a:lnTo>
                  <a:lnTo>
                    <a:pt x="362" y="385"/>
                  </a:lnTo>
                  <a:lnTo>
                    <a:pt x="362" y="376"/>
                  </a:lnTo>
                  <a:lnTo>
                    <a:pt x="371" y="368"/>
                  </a:lnTo>
                  <a:lnTo>
                    <a:pt x="371" y="359"/>
                  </a:lnTo>
                  <a:lnTo>
                    <a:pt x="379" y="350"/>
                  </a:lnTo>
                  <a:lnTo>
                    <a:pt x="379" y="341"/>
                  </a:lnTo>
                  <a:lnTo>
                    <a:pt x="387" y="333"/>
                  </a:lnTo>
                  <a:lnTo>
                    <a:pt x="387" y="324"/>
                  </a:lnTo>
                  <a:lnTo>
                    <a:pt x="387" y="315"/>
                  </a:lnTo>
                  <a:lnTo>
                    <a:pt x="396" y="315"/>
                  </a:lnTo>
                  <a:lnTo>
                    <a:pt x="396" y="298"/>
                  </a:lnTo>
                  <a:lnTo>
                    <a:pt x="404" y="289"/>
                  </a:lnTo>
                  <a:lnTo>
                    <a:pt x="404" y="280"/>
                  </a:lnTo>
                  <a:lnTo>
                    <a:pt x="413" y="271"/>
                  </a:lnTo>
                  <a:lnTo>
                    <a:pt x="413" y="263"/>
                  </a:lnTo>
                  <a:lnTo>
                    <a:pt x="421" y="254"/>
                  </a:lnTo>
                  <a:lnTo>
                    <a:pt x="421" y="245"/>
                  </a:lnTo>
                  <a:lnTo>
                    <a:pt x="421" y="236"/>
                  </a:lnTo>
                  <a:lnTo>
                    <a:pt x="430" y="236"/>
                  </a:lnTo>
                  <a:lnTo>
                    <a:pt x="430" y="228"/>
                  </a:lnTo>
                  <a:lnTo>
                    <a:pt x="430" y="219"/>
                  </a:lnTo>
                  <a:lnTo>
                    <a:pt x="438" y="219"/>
                  </a:lnTo>
                  <a:lnTo>
                    <a:pt x="438" y="210"/>
                  </a:lnTo>
                  <a:lnTo>
                    <a:pt x="438" y="201"/>
                  </a:lnTo>
                  <a:lnTo>
                    <a:pt x="446" y="193"/>
                  </a:lnTo>
                  <a:lnTo>
                    <a:pt x="446" y="184"/>
                  </a:lnTo>
                  <a:lnTo>
                    <a:pt x="455" y="175"/>
                  </a:lnTo>
                  <a:lnTo>
                    <a:pt x="455" y="166"/>
                  </a:lnTo>
                  <a:lnTo>
                    <a:pt x="463" y="158"/>
                  </a:lnTo>
                  <a:lnTo>
                    <a:pt x="463" y="149"/>
                  </a:lnTo>
                  <a:lnTo>
                    <a:pt x="472" y="140"/>
                  </a:lnTo>
                  <a:lnTo>
                    <a:pt x="472" y="131"/>
                  </a:lnTo>
                  <a:lnTo>
                    <a:pt x="480" y="123"/>
                  </a:lnTo>
                  <a:lnTo>
                    <a:pt x="480" y="114"/>
                  </a:lnTo>
                  <a:lnTo>
                    <a:pt x="489" y="105"/>
                  </a:lnTo>
                  <a:lnTo>
                    <a:pt x="489" y="97"/>
                  </a:lnTo>
                  <a:lnTo>
                    <a:pt x="497" y="88"/>
                  </a:lnTo>
                  <a:lnTo>
                    <a:pt x="497" y="79"/>
                  </a:lnTo>
                  <a:lnTo>
                    <a:pt x="505" y="79"/>
                  </a:lnTo>
                  <a:lnTo>
                    <a:pt x="505" y="70"/>
                  </a:lnTo>
                  <a:lnTo>
                    <a:pt x="514" y="62"/>
                  </a:lnTo>
                  <a:lnTo>
                    <a:pt x="514" y="53"/>
                  </a:lnTo>
                  <a:lnTo>
                    <a:pt x="522" y="53"/>
                  </a:lnTo>
                  <a:lnTo>
                    <a:pt x="522" y="44"/>
                  </a:lnTo>
                  <a:lnTo>
                    <a:pt x="531" y="35"/>
                  </a:lnTo>
                  <a:lnTo>
                    <a:pt x="539" y="27"/>
                  </a:lnTo>
                  <a:lnTo>
                    <a:pt x="547" y="18"/>
                  </a:lnTo>
                  <a:lnTo>
                    <a:pt x="556" y="9"/>
                  </a:lnTo>
                  <a:lnTo>
                    <a:pt x="564" y="9"/>
                  </a:lnTo>
                  <a:lnTo>
                    <a:pt x="564" y="0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590" y="0"/>
                  </a:lnTo>
                  <a:lnTo>
                    <a:pt x="598" y="0"/>
                  </a:lnTo>
                  <a:lnTo>
                    <a:pt x="606" y="0"/>
                  </a:lnTo>
                  <a:lnTo>
                    <a:pt x="615" y="0"/>
                  </a:lnTo>
                  <a:lnTo>
                    <a:pt x="615" y="9"/>
                  </a:lnTo>
                  <a:lnTo>
                    <a:pt x="623" y="9"/>
                  </a:lnTo>
                  <a:lnTo>
                    <a:pt x="632" y="18"/>
                  </a:lnTo>
                  <a:lnTo>
                    <a:pt x="640" y="27"/>
                  </a:lnTo>
                  <a:lnTo>
                    <a:pt x="649" y="27"/>
                  </a:lnTo>
                  <a:lnTo>
                    <a:pt x="649" y="35"/>
                  </a:lnTo>
                  <a:lnTo>
                    <a:pt x="649" y="44"/>
                  </a:lnTo>
                  <a:lnTo>
                    <a:pt x="657" y="44"/>
                  </a:lnTo>
                  <a:lnTo>
                    <a:pt x="657" y="53"/>
                  </a:lnTo>
                  <a:lnTo>
                    <a:pt x="665" y="53"/>
                  </a:lnTo>
                  <a:lnTo>
                    <a:pt x="665" y="62"/>
                  </a:lnTo>
                  <a:lnTo>
                    <a:pt x="674" y="62"/>
                  </a:lnTo>
                  <a:lnTo>
                    <a:pt x="674" y="70"/>
                  </a:lnTo>
                  <a:lnTo>
                    <a:pt x="682" y="79"/>
                  </a:lnTo>
                  <a:lnTo>
                    <a:pt x="691" y="88"/>
                  </a:lnTo>
                  <a:lnTo>
                    <a:pt x="699" y="97"/>
                  </a:lnTo>
                  <a:lnTo>
                    <a:pt x="707" y="105"/>
                  </a:lnTo>
                  <a:lnTo>
                    <a:pt x="716" y="114"/>
                  </a:lnTo>
                  <a:lnTo>
                    <a:pt x="724" y="114"/>
                  </a:lnTo>
                  <a:lnTo>
                    <a:pt x="733" y="123"/>
                  </a:lnTo>
                  <a:lnTo>
                    <a:pt x="741" y="123"/>
                  </a:lnTo>
                  <a:lnTo>
                    <a:pt x="750" y="123"/>
                  </a:lnTo>
                  <a:lnTo>
                    <a:pt x="758" y="123"/>
                  </a:lnTo>
                  <a:lnTo>
                    <a:pt x="766" y="123"/>
                  </a:lnTo>
                  <a:lnTo>
                    <a:pt x="775" y="123"/>
                  </a:lnTo>
                  <a:lnTo>
                    <a:pt x="775" y="114"/>
                  </a:lnTo>
                  <a:lnTo>
                    <a:pt x="783" y="114"/>
                  </a:lnTo>
                  <a:lnTo>
                    <a:pt x="792" y="114"/>
                  </a:lnTo>
                  <a:lnTo>
                    <a:pt x="800" y="114"/>
                  </a:lnTo>
                  <a:lnTo>
                    <a:pt x="800" y="105"/>
                  </a:lnTo>
                  <a:lnTo>
                    <a:pt x="809" y="105"/>
                  </a:lnTo>
                  <a:lnTo>
                    <a:pt x="817" y="105"/>
                  </a:lnTo>
                  <a:lnTo>
                    <a:pt x="825" y="97"/>
                  </a:lnTo>
                  <a:lnTo>
                    <a:pt x="834" y="97"/>
                  </a:lnTo>
                  <a:lnTo>
                    <a:pt x="842" y="97"/>
                  </a:lnTo>
                  <a:lnTo>
                    <a:pt x="842" y="88"/>
                  </a:lnTo>
                  <a:lnTo>
                    <a:pt x="851" y="88"/>
                  </a:lnTo>
                  <a:lnTo>
                    <a:pt x="859" y="88"/>
                  </a:lnTo>
                  <a:lnTo>
                    <a:pt x="868" y="88"/>
                  </a:lnTo>
                  <a:lnTo>
                    <a:pt x="868" y="79"/>
                  </a:lnTo>
                  <a:lnTo>
                    <a:pt x="876" y="79"/>
                  </a:lnTo>
                  <a:lnTo>
                    <a:pt x="884" y="79"/>
                  </a:lnTo>
                  <a:lnTo>
                    <a:pt x="893" y="79"/>
                  </a:lnTo>
                  <a:lnTo>
                    <a:pt x="901" y="79"/>
                  </a:lnTo>
                  <a:lnTo>
                    <a:pt x="910" y="79"/>
                  </a:lnTo>
                  <a:lnTo>
                    <a:pt x="918" y="79"/>
                  </a:lnTo>
                  <a:lnTo>
                    <a:pt x="926" y="79"/>
                  </a:lnTo>
                  <a:lnTo>
                    <a:pt x="935" y="79"/>
                  </a:lnTo>
                  <a:lnTo>
                    <a:pt x="943" y="79"/>
                  </a:lnTo>
                  <a:lnTo>
                    <a:pt x="952" y="79"/>
                  </a:lnTo>
                  <a:lnTo>
                    <a:pt x="960" y="79"/>
                  </a:lnTo>
                  <a:lnTo>
                    <a:pt x="969" y="79"/>
                  </a:lnTo>
                  <a:lnTo>
                    <a:pt x="977" y="79"/>
                  </a:lnTo>
                  <a:lnTo>
                    <a:pt x="985" y="79"/>
                  </a:lnTo>
                  <a:lnTo>
                    <a:pt x="994" y="79"/>
                  </a:lnTo>
                  <a:lnTo>
                    <a:pt x="1002" y="79"/>
                  </a:lnTo>
                  <a:lnTo>
                    <a:pt x="1011" y="79"/>
                  </a:lnTo>
                  <a:lnTo>
                    <a:pt x="1019" y="79"/>
                  </a:lnTo>
                  <a:lnTo>
                    <a:pt x="1028" y="79"/>
                  </a:lnTo>
                  <a:lnTo>
                    <a:pt x="1036" y="79"/>
                  </a:lnTo>
                  <a:lnTo>
                    <a:pt x="1036" y="70"/>
                  </a:lnTo>
                  <a:lnTo>
                    <a:pt x="1044" y="70"/>
                  </a:lnTo>
                  <a:lnTo>
                    <a:pt x="1053" y="70"/>
                  </a:lnTo>
                  <a:lnTo>
                    <a:pt x="1061" y="70"/>
                  </a:lnTo>
                  <a:lnTo>
                    <a:pt x="1070" y="70"/>
                  </a:lnTo>
                  <a:lnTo>
                    <a:pt x="1078" y="70"/>
                  </a:lnTo>
                  <a:lnTo>
                    <a:pt x="1086" y="70"/>
                  </a:lnTo>
                  <a:lnTo>
                    <a:pt x="1095" y="70"/>
                  </a:lnTo>
                  <a:lnTo>
                    <a:pt x="1103" y="70"/>
                  </a:lnTo>
                  <a:lnTo>
                    <a:pt x="1112" y="70"/>
                  </a:lnTo>
                  <a:lnTo>
                    <a:pt x="1120" y="62"/>
                  </a:lnTo>
                  <a:lnTo>
                    <a:pt x="1129" y="62"/>
                  </a:lnTo>
                  <a:lnTo>
                    <a:pt x="1137" y="62"/>
                  </a:lnTo>
                  <a:lnTo>
                    <a:pt x="1145" y="62"/>
                  </a:lnTo>
                  <a:lnTo>
                    <a:pt x="1154" y="62"/>
                  </a:lnTo>
                  <a:lnTo>
                    <a:pt x="1162" y="62"/>
                  </a:lnTo>
                  <a:lnTo>
                    <a:pt x="1171" y="62"/>
                  </a:lnTo>
                  <a:lnTo>
                    <a:pt x="1179" y="62"/>
                  </a:lnTo>
                  <a:lnTo>
                    <a:pt x="1188" y="62"/>
                  </a:lnTo>
                  <a:lnTo>
                    <a:pt x="1196" y="70"/>
                  </a:lnTo>
                  <a:lnTo>
                    <a:pt x="1204" y="70"/>
                  </a:lnTo>
                  <a:lnTo>
                    <a:pt x="1213" y="70"/>
                  </a:lnTo>
                  <a:lnTo>
                    <a:pt x="1221" y="70"/>
                  </a:lnTo>
                  <a:lnTo>
                    <a:pt x="1230" y="70"/>
                  </a:lnTo>
                  <a:lnTo>
                    <a:pt x="1230" y="79"/>
                  </a:lnTo>
                  <a:lnTo>
                    <a:pt x="1238" y="79"/>
                  </a:lnTo>
                  <a:lnTo>
                    <a:pt x="1246" y="79"/>
                  </a:lnTo>
                  <a:lnTo>
                    <a:pt x="1246" y="88"/>
                  </a:lnTo>
                  <a:lnTo>
                    <a:pt x="1255" y="88"/>
                  </a:lnTo>
                  <a:lnTo>
                    <a:pt x="1263" y="88"/>
                  </a:lnTo>
                  <a:lnTo>
                    <a:pt x="1263" y="97"/>
                  </a:lnTo>
                  <a:lnTo>
                    <a:pt x="1272" y="97"/>
                  </a:lnTo>
                  <a:lnTo>
                    <a:pt x="1280" y="105"/>
                  </a:lnTo>
                  <a:lnTo>
                    <a:pt x="1289" y="105"/>
                  </a:lnTo>
                  <a:lnTo>
                    <a:pt x="1289" y="114"/>
                  </a:lnTo>
                  <a:lnTo>
                    <a:pt x="1297" y="114"/>
                  </a:lnTo>
                  <a:lnTo>
                    <a:pt x="1297" y="123"/>
                  </a:lnTo>
                  <a:lnTo>
                    <a:pt x="1305" y="123"/>
                  </a:lnTo>
                  <a:lnTo>
                    <a:pt x="1314" y="123"/>
                  </a:lnTo>
                  <a:lnTo>
                    <a:pt x="1314" y="131"/>
                  </a:lnTo>
                  <a:lnTo>
                    <a:pt x="1322" y="140"/>
                  </a:lnTo>
                  <a:lnTo>
                    <a:pt x="1331" y="140"/>
                  </a:lnTo>
                  <a:lnTo>
                    <a:pt x="1331" y="149"/>
                  </a:lnTo>
                  <a:lnTo>
                    <a:pt x="1339" y="149"/>
                  </a:lnTo>
                  <a:lnTo>
                    <a:pt x="1339" y="158"/>
                  </a:lnTo>
                  <a:lnTo>
                    <a:pt x="1348" y="158"/>
                  </a:lnTo>
                  <a:lnTo>
                    <a:pt x="1348" y="166"/>
                  </a:lnTo>
                  <a:lnTo>
                    <a:pt x="1356" y="166"/>
                  </a:lnTo>
                  <a:lnTo>
                    <a:pt x="1356" y="175"/>
                  </a:lnTo>
                  <a:lnTo>
                    <a:pt x="1364" y="175"/>
                  </a:lnTo>
                  <a:lnTo>
                    <a:pt x="1364" y="184"/>
                  </a:lnTo>
                  <a:lnTo>
                    <a:pt x="1373" y="184"/>
                  </a:lnTo>
                  <a:lnTo>
                    <a:pt x="1381" y="193"/>
                  </a:lnTo>
                  <a:lnTo>
                    <a:pt x="1381" y="201"/>
                  </a:lnTo>
                  <a:lnTo>
                    <a:pt x="1390" y="201"/>
                  </a:lnTo>
                  <a:lnTo>
                    <a:pt x="1390" y="210"/>
                  </a:lnTo>
                  <a:lnTo>
                    <a:pt x="1398" y="210"/>
                  </a:lnTo>
                  <a:lnTo>
                    <a:pt x="1398" y="219"/>
                  </a:lnTo>
                  <a:lnTo>
                    <a:pt x="1407" y="219"/>
                  </a:lnTo>
                  <a:lnTo>
                    <a:pt x="1407" y="228"/>
                  </a:lnTo>
                  <a:lnTo>
                    <a:pt x="1415" y="228"/>
                  </a:lnTo>
                  <a:lnTo>
                    <a:pt x="1423" y="236"/>
                  </a:lnTo>
                  <a:lnTo>
                    <a:pt x="1423" y="245"/>
                  </a:lnTo>
                  <a:lnTo>
                    <a:pt x="1432" y="245"/>
                  </a:lnTo>
                  <a:lnTo>
                    <a:pt x="1440" y="254"/>
                  </a:lnTo>
                  <a:lnTo>
                    <a:pt x="1449" y="263"/>
                  </a:lnTo>
                  <a:lnTo>
                    <a:pt x="1449" y="271"/>
                  </a:lnTo>
                  <a:lnTo>
                    <a:pt x="1457" y="271"/>
                  </a:lnTo>
                  <a:lnTo>
                    <a:pt x="1465" y="280"/>
                  </a:lnTo>
                  <a:lnTo>
                    <a:pt x="1474" y="280"/>
                  </a:lnTo>
                  <a:lnTo>
                    <a:pt x="1474" y="289"/>
                  </a:lnTo>
                  <a:lnTo>
                    <a:pt x="1482" y="298"/>
                  </a:lnTo>
                  <a:lnTo>
                    <a:pt x="1491" y="306"/>
                  </a:lnTo>
                  <a:lnTo>
                    <a:pt x="1499" y="315"/>
                  </a:lnTo>
                  <a:lnTo>
                    <a:pt x="1508" y="324"/>
                  </a:lnTo>
                  <a:lnTo>
                    <a:pt x="1508" y="333"/>
                  </a:lnTo>
                  <a:lnTo>
                    <a:pt x="1516" y="333"/>
                  </a:lnTo>
                  <a:lnTo>
                    <a:pt x="1524" y="341"/>
                  </a:lnTo>
                  <a:lnTo>
                    <a:pt x="1533" y="341"/>
                  </a:lnTo>
                  <a:lnTo>
                    <a:pt x="1533" y="350"/>
                  </a:lnTo>
                  <a:lnTo>
                    <a:pt x="1541" y="350"/>
                  </a:lnTo>
                  <a:lnTo>
                    <a:pt x="1541" y="359"/>
                  </a:lnTo>
                  <a:lnTo>
                    <a:pt x="1550" y="368"/>
                  </a:lnTo>
                  <a:lnTo>
                    <a:pt x="1558" y="368"/>
                  </a:lnTo>
                  <a:lnTo>
                    <a:pt x="1558" y="376"/>
                  </a:lnTo>
                  <a:lnTo>
                    <a:pt x="1567" y="376"/>
                  </a:lnTo>
                  <a:lnTo>
                    <a:pt x="1567" y="385"/>
                  </a:lnTo>
                  <a:lnTo>
                    <a:pt x="1575" y="385"/>
                  </a:lnTo>
                  <a:lnTo>
                    <a:pt x="1575" y="394"/>
                  </a:lnTo>
                  <a:lnTo>
                    <a:pt x="1583" y="394"/>
                  </a:lnTo>
                  <a:lnTo>
                    <a:pt x="1592" y="403"/>
                  </a:lnTo>
                  <a:lnTo>
                    <a:pt x="1600" y="403"/>
                  </a:lnTo>
                  <a:lnTo>
                    <a:pt x="1600" y="411"/>
                  </a:lnTo>
                  <a:lnTo>
                    <a:pt x="1609" y="411"/>
                  </a:lnTo>
                  <a:lnTo>
                    <a:pt x="1609" y="420"/>
                  </a:lnTo>
                  <a:lnTo>
                    <a:pt x="1617" y="420"/>
                  </a:lnTo>
                  <a:lnTo>
                    <a:pt x="1625" y="429"/>
                  </a:lnTo>
                  <a:lnTo>
                    <a:pt x="1634" y="429"/>
                  </a:lnTo>
                  <a:lnTo>
                    <a:pt x="1634" y="438"/>
                  </a:lnTo>
                  <a:lnTo>
                    <a:pt x="1642" y="438"/>
                  </a:lnTo>
                  <a:lnTo>
                    <a:pt x="1651" y="446"/>
                  </a:lnTo>
                  <a:lnTo>
                    <a:pt x="1659" y="446"/>
                  </a:lnTo>
                  <a:lnTo>
                    <a:pt x="1659" y="455"/>
                  </a:lnTo>
                  <a:lnTo>
                    <a:pt x="1668" y="455"/>
                  </a:lnTo>
                  <a:lnTo>
                    <a:pt x="1676" y="455"/>
                  </a:lnTo>
                  <a:lnTo>
                    <a:pt x="1676" y="464"/>
                  </a:lnTo>
                  <a:lnTo>
                    <a:pt x="1684" y="464"/>
                  </a:lnTo>
                  <a:lnTo>
                    <a:pt x="1693" y="464"/>
                  </a:lnTo>
                  <a:lnTo>
                    <a:pt x="1693" y="473"/>
                  </a:lnTo>
                  <a:lnTo>
                    <a:pt x="1701" y="473"/>
                  </a:lnTo>
                  <a:lnTo>
                    <a:pt x="1710" y="481"/>
                  </a:lnTo>
                  <a:lnTo>
                    <a:pt x="1718" y="481"/>
                  </a:lnTo>
                  <a:lnTo>
                    <a:pt x="1727" y="481"/>
                  </a:lnTo>
                  <a:lnTo>
                    <a:pt x="1727" y="490"/>
                  </a:lnTo>
                  <a:lnTo>
                    <a:pt x="1735" y="490"/>
                  </a:lnTo>
                  <a:lnTo>
                    <a:pt x="1743" y="490"/>
                  </a:lnTo>
                  <a:lnTo>
                    <a:pt x="1752" y="499"/>
                  </a:lnTo>
                  <a:lnTo>
                    <a:pt x="1760" y="499"/>
                  </a:lnTo>
                  <a:lnTo>
                    <a:pt x="1769" y="499"/>
                  </a:lnTo>
                  <a:lnTo>
                    <a:pt x="1777" y="508"/>
                  </a:lnTo>
                  <a:lnTo>
                    <a:pt x="1786" y="508"/>
                  </a:lnTo>
                  <a:lnTo>
                    <a:pt x="1794" y="508"/>
                  </a:lnTo>
                  <a:lnTo>
                    <a:pt x="1794" y="516"/>
                  </a:lnTo>
                  <a:lnTo>
                    <a:pt x="1802" y="516"/>
                  </a:lnTo>
                  <a:lnTo>
                    <a:pt x="1811" y="516"/>
                  </a:lnTo>
                  <a:lnTo>
                    <a:pt x="1819" y="516"/>
                  </a:lnTo>
                  <a:lnTo>
                    <a:pt x="1828" y="516"/>
                  </a:lnTo>
                  <a:lnTo>
                    <a:pt x="1828" y="525"/>
                  </a:lnTo>
                  <a:lnTo>
                    <a:pt x="1836" y="525"/>
                  </a:lnTo>
                  <a:lnTo>
                    <a:pt x="1844" y="525"/>
                  </a:lnTo>
                  <a:lnTo>
                    <a:pt x="1853" y="525"/>
                  </a:lnTo>
                  <a:lnTo>
                    <a:pt x="1853" y="534"/>
                  </a:lnTo>
                  <a:lnTo>
                    <a:pt x="1861" y="525"/>
                  </a:lnTo>
                  <a:lnTo>
                    <a:pt x="1861" y="534"/>
                  </a:lnTo>
                  <a:lnTo>
                    <a:pt x="1870" y="534"/>
                  </a:lnTo>
                  <a:lnTo>
                    <a:pt x="1878" y="534"/>
                  </a:lnTo>
                  <a:lnTo>
                    <a:pt x="1887" y="534"/>
                  </a:lnTo>
                  <a:lnTo>
                    <a:pt x="1887" y="543"/>
                  </a:lnTo>
                  <a:lnTo>
                    <a:pt x="1895" y="543"/>
                  </a:lnTo>
                  <a:lnTo>
                    <a:pt x="1903" y="543"/>
                  </a:lnTo>
                  <a:lnTo>
                    <a:pt x="1912" y="543"/>
                  </a:lnTo>
                  <a:lnTo>
                    <a:pt x="1920" y="543"/>
                  </a:lnTo>
                  <a:lnTo>
                    <a:pt x="1929" y="543"/>
                  </a:lnTo>
                  <a:lnTo>
                    <a:pt x="1937" y="551"/>
                  </a:lnTo>
                  <a:lnTo>
                    <a:pt x="1946" y="551"/>
                  </a:lnTo>
                  <a:lnTo>
                    <a:pt x="1954" y="551"/>
                  </a:lnTo>
                  <a:lnTo>
                    <a:pt x="1962" y="551"/>
                  </a:lnTo>
                  <a:lnTo>
                    <a:pt x="1962" y="560"/>
                  </a:lnTo>
                  <a:lnTo>
                    <a:pt x="1971" y="560"/>
                  </a:lnTo>
                  <a:lnTo>
                    <a:pt x="1971" y="551"/>
                  </a:lnTo>
                  <a:lnTo>
                    <a:pt x="1971" y="560"/>
                  </a:lnTo>
                  <a:lnTo>
                    <a:pt x="1979" y="551"/>
                  </a:lnTo>
                  <a:lnTo>
                    <a:pt x="1979" y="560"/>
                  </a:lnTo>
                  <a:lnTo>
                    <a:pt x="1988" y="560"/>
                  </a:lnTo>
                  <a:lnTo>
                    <a:pt x="1996" y="560"/>
                  </a:lnTo>
                  <a:lnTo>
                    <a:pt x="2004" y="560"/>
                  </a:lnTo>
                  <a:lnTo>
                    <a:pt x="2004" y="569"/>
                  </a:lnTo>
                  <a:lnTo>
                    <a:pt x="2013" y="569"/>
                  </a:lnTo>
                  <a:lnTo>
                    <a:pt x="2013" y="560"/>
                  </a:lnTo>
                  <a:lnTo>
                    <a:pt x="2013" y="569"/>
                  </a:lnTo>
                  <a:lnTo>
                    <a:pt x="2021" y="569"/>
                  </a:lnTo>
                  <a:lnTo>
                    <a:pt x="2030" y="569"/>
                  </a:lnTo>
                  <a:lnTo>
                    <a:pt x="2038" y="569"/>
                  </a:lnTo>
                  <a:lnTo>
                    <a:pt x="2047" y="578"/>
                  </a:lnTo>
                  <a:lnTo>
                    <a:pt x="2055" y="578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846600" y="3426120"/>
              <a:ext cx="322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846600" y="2993040"/>
              <a:ext cx="322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846600" y="2561760"/>
              <a:ext cx="322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846600" y="2146680"/>
              <a:ext cx="322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846600" y="1717560"/>
              <a:ext cx="322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846600" y="1284480"/>
              <a:ext cx="322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846600" y="853200"/>
              <a:ext cx="322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859560" y="3589920"/>
              <a:ext cx="392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668120" y="3589920"/>
              <a:ext cx="392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487840" y="3589920"/>
              <a:ext cx="392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294600" y="3589920"/>
              <a:ext cx="392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115400" y="3589920"/>
              <a:ext cx="392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922520" y="3589920"/>
              <a:ext cx="392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6200000">
              <a:off x="3556800" y="2201400"/>
              <a:ext cx="444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dB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738760" y="1661040"/>
              <a:ext cx="766440" cy="754560"/>
            </a:xfrm>
            <a:custGeom>
              <a:avLst/>
              <a:gdLst/>
              <a:ahLst/>
              <a:rect l="l" t="t" r="r" b="b"/>
              <a:pathLst>
                <a:path w="433" h="383">
                  <a:moveTo>
                    <a:pt x="0" y="382"/>
                  </a:moveTo>
                  <a:lnTo>
                    <a:pt x="0" y="29"/>
                  </a:lnTo>
                  <a:lnTo>
                    <a:pt x="84" y="11"/>
                  </a:lnTo>
                  <a:lnTo>
                    <a:pt x="248" y="9"/>
                  </a:lnTo>
                  <a:lnTo>
                    <a:pt x="260" y="4"/>
                  </a:lnTo>
                  <a:lnTo>
                    <a:pt x="312" y="4"/>
                  </a:lnTo>
                  <a:lnTo>
                    <a:pt x="344" y="0"/>
                  </a:lnTo>
                  <a:lnTo>
                    <a:pt x="432" y="13"/>
                  </a:lnTo>
                  <a:lnTo>
                    <a:pt x="432" y="382"/>
                  </a:lnTo>
                  <a:lnTo>
                    <a:pt x="0" y="3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627160" y="2037240"/>
              <a:ext cx="790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4,00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404040" y="215640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7320" y="2156400"/>
              <a:ext cx="16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6" name=""/>
          <p:cNvSpPr/>
          <p:nvPr/>
        </p:nvSpPr>
        <p:spPr>
          <a:xfrm flipH="1">
            <a:off x="4861080" y="5410080"/>
            <a:ext cx="1440" cy="457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 flipH="1">
            <a:off x="6004080" y="5410080"/>
            <a:ext cx="1440" cy="457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050840" y="5867280"/>
            <a:ext cx="495324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5556600" y="4113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502D-1E92-47A3-805E-38F60A39BD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WDM Introduction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Evolution of WDM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rst phase WDM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310 nm, 1550 nm                                                                    window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 phase WDM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 - &gt; 4 channels; 1550 nm window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acing:  400+ GHz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urrent DWDM system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6, 32, 40  channel; 1550 nm window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acing:  100 GHz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ext-generation systems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0 - 80 channels; 1550 nm window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acing: 50 to 100 GHz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1785-5F35-4688-B58D-D02EC0AAEF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2" name=""/>
          <p:cNvGrpSpPr/>
          <p:nvPr/>
        </p:nvGrpSpPr>
        <p:grpSpPr>
          <a:xfrm>
            <a:off x="3962520" y="279360"/>
            <a:ext cx="4876560" cy="2997360"/>
            <a:chOff x="3962520" y="279360"/>
            <a:chExt cx="4876560" cy="2997360"/>
          </a:xfrm>
        </p:grpSpPr>
        <p:sp>
          <p:nvSpPr>
            <p:cNvPr id="2863" name=""/>
            <p:cNvSpPr/>
            <p:nvPr/>
          </p:nvSpPr>
          <p:spPr>
            <a:xfrm>
              <a:off x="3962520" y="279360"/>
              <a:ext cx="4876560" cy="299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90800" y="2724120"/>
              <a:ext cx="36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V="1">
              <a:off x="5290920" y="265248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5906880" y="265248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V="1">
              <a:off x="6522840" y="265248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7135560" y="265248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V="1">
              <a:off x="7748640" y="265248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4646520" y="648720"/>
              <a:ext cx="0" cy="20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646520" y="1870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646520" y="146664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646520" y="106848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646520" y="66672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605120" y="1870200"/>
              <a:ext cx="8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605120" y="1466640"/>
              <a:ext cx="8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605120" y="1068480"/>
              <a:ext cx="8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605120" y="66672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241520" y="2519280"/>
              <a:ext cx="390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241520" y="2136600"/>
              <a:ext cx="390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241520" y="1700280"/>
              <a:ext cx="390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241520" y="1295280"/>
              <a:ext cx="390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241520" y="896760"/>
              <a:ext cx="390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241520" y="477720"/>
              <a:ext cx="390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0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605120" y="2295360"/>
              <a:ext cx="8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rot="16200000">
              <a:off x="3352680" y="1769400"/>
              <a:ext cx="1629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Frutiger 55 Roman"/>
                </a:rPr>
                <a:t>Attenuation (dB/k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450200" y="2786040"/>
              <a:ext cx="52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42400" y="2786040"/>
              <a:ext cx="52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1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272280" y="2786040"/>
              <a:ext cx="52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612040" y="2786040"/>
              <a:ext cx="52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1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986360" y="2786040"/>
              <a:ext cx="52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865920" y="2786040"/>
              <a:ext cx="52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1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351320" y="2786040"/>
              <a:ext cx="52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rutiger 55 Roman"/>
                </a:rPr>
                <a:t>1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716800" y="2946240"/>
              <a:ext cx="1397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9880"/>
                  <a:tab algn="l" pos="1679400"/>
                  <a:tab algn="l" pos="2519280"/>
                  <a:tab algn="l" pos="3359160"/>
                  <a:tab algn="l" pos="4199040"/>
                  <a:tab algn="l" pos="5038560"/>
                  <a:tab algn="l" pos="5878440"/>
                  <a:tab algn="l" pos="6718320"/>
                  <a:tab algn="l" pos="7558200"/>
                  <a:tab algn="l" pos="8397720"/>
                  <a:tab algn="l" pos="9237600"/>
                  <a:tab algn="l" pos="10077480"/>
                  <a:tab algn="l" pos="10917360"/>
                </a:tabLst>
              </a:pPr>
              <a:r>
                <a:rPr b="0" lang="en-US" sz="1200" spc="-1" strike="noStrike">
                  <a:solidFill>
                    <a:srgbClr val="081d58"/>
                  </a:solidFill>
                  <a:latin typeface="Frutiger 55 Roman"/>
                </a:rPr>
                <a:t>Wavelength (n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V="1">
              <a:off x="7135560" y="265248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7748640" y="265248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976720" y="1569960"/>
              <a:ext cx="0" cy="1176480"/>
            </a:xfrm>
            <a:prstGeom prst="line">
              <a:avLst/>
            </a:prstGeom>
            <a:ln w="1260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7418160" y="1589040"/>
              <a:ext cx="2880" cy="1133640"/>
            </a:xfrm>
            <a:prstGeom prst="line">
              <a:avLst/>
            </a:prstGeom>
            <a:ln w="25560">
              <a:solidFill>
                <a:srgbClr val="fcfeb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9" name=""/>
            <p:cNvGrpSpPr/>
            <p:nvPr/>
          </p:nvGrpSpPr>
          <p:grpSpPr>
            <a:xfrm>
              <a:off x="8334000" y="614160"/>
              <a:ext cx="39240" cy="2147400"/>
              <a:chOff x="8334000" y="614160"/>
              <a:chExt cx="39240" cy="2147400"/>
            </a:xfrm>
          </p:grpSpPr>
          <p:grpSp>
            <p:nvGrpSpPr>
              <p:cNvPr id="2900" name=""/>
              <p:cNvGrpSpPr/>
              <p:nvPr/>
            </p:nvGrpSpPr>
            <p:grpSpPr>
              <a:xfrm>
                <a:off x="8334000" y="614160"/>
                <a:ext cx="39240" cy="2147400"/>
                <a:chOff x="8334000" y="614160"/>
                <a:chExt cx="39240" cy="2147400"/>
              </a:xfrm>
            </p:grpSpPr>
            <p:sp>
              <p:nvSpPr>
                <p:cNvPr id="2901" name=""/>
                <p:cNvSpPr/>
                <p:nvPr/>
              </p:nvSpPr>
              <p:spPr>
                <a:xfrm flipV="1">
                  <a:off x="8356320" y="2653920"/>
                  <a:ext cx="0" cy="10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flipH="1">
                  <a:off x="8334000" y="2185920"/>
                  <a:ext cx="39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flipH="1">
                  <a:off x="8334000" y="1667880"/>
                  <a:ext cx="39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flipH="1">
                  <a:off x="8334000" y="1139760"/>
                  <a:ext cx="39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H="1">
                  <a:off x="8334000" y="614160"/>
                  <a:ext cx="39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6" name=""/>
              <p:cNvSpPr/>
              <p:nvPr/>
            </p:nvSpPr>
            <p:spPr>
              <a:xfrm flipH="1" flipV="1">
                <a:off x="8356320" y="614160"/>
                <a:ext cx="5040" cy="21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7" name=""/>
            <p:cNvSpPr/>
            <p:nvPr/>
          </p:nvSpPr>
          <p:spPr>
            <a:xfrm>
              <a:off x="5976720" y="560520"/>
              <a:ext cx="187200" cy="2154240"/>
            </a:xfrm>
            <a:prstGeom prst="rect">
              <a:avLst/>
            </a:prstGeom>
            <a:gradFill rotWithShape="0">
              <a:gsLst>
                <a:gs pos="0">
                  <a:srgbClr val="e7fefe"/>
                </a:gs>
                <a:gs pos="50000">
                  <a:srgbClr val="00ffff"/>
                </a:gs>
                <a:gs pos="100000">
                  <a:srgbClr val="e7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89640" y="560520"/>
              <a:ext cx="280800" cy="2154240"/>
            </a:xfrm>
            <a:prstGeom prst="rect">
              <a:avLst/>
            </a:prstGeom>
            <a:gradFill rotWithShape="0">
              <a:gsLst>
                <a:gs pos="0">
                  <a:srgbClr val="e7fefe"/>
                </a:gs>
                <a:gs pos="50000">
                  <a:srgbClr val="00ffff"/>
                </a:gs>
                <a:gs pos="100000">
                  <a:srgbClr val="e7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659120" y="598320"/>
              <a:ext cx="3709800" cy="1641600"/>
            </a:xfrm>
            <a:custGeom>
              <a:avLst/>
              <a:gdLst/>
              <a:ahLst/>
              <a:rect l="l" t="t" r="r" b="b"/>
              <a:pathLst>
                <a:path w="2876" h="1050">
                  <a:moveTo>
                    <a:pt x="0" y="0"/>
                  </a:moveTo>
                  <a:lnTo>
                    <a:pt x="95" y="104"/>
                  </a:lnTo>
                  <a:lnTo>
                    <a:pt x="192" y="203"/>
                  </a:lnTo>
                  <a:lnTo>
                    <a:pt x="287" y="289"/>
                  </a:lnTo>
                  <a:lnTo>
                    <a:pt x="383" y="372"/>
                  </a:lnTo>
                  <a:lnTo>
                    <a:pt x="479" y="446"/>
                  </a:lnTo>
                  <a:lnTo>
                    <a:pt x="574" y="514"/>
                  </a:lnTo>
                  <a:lnTo>
                    <a:pt x="671" y="576"/>
                  </a:lnTo>
                  <a:lnTo>
                    <a:pt x="766" y="636"/>
                  </a:lnTo>
                  <a:lnTo>
                    <a:pt x="862" y="689"/>
                  </a:lnTo>
                  <a:lnTo>
                    <a:pt x="958" y="738"/>
                  </a:lnTo>
                  <a:lnTo>
                    <a:pt x="1054" y="782"/>
                  </a:lnTo>
                  <a:lnTo>
                    <a:pt x="1102" y="805"/>
                  </a:lnTo>
                  <a:lnTo>
                    <a:pt x="1150" y="809"/>
                  </a:lnTo>
                  <a:lnTo>
                    <a:pt x="1197" y="809"/>
                  </a:lnTo>
                  <a:lnTo>
                    <a:pt x="1246" y="805"/>
                  </a:lnTo>
                  <a:lnTo>
                    <a:pt x="1293" y="754"/>
                  </a:lnTo>
                  <a:lnTo>
                    <a:pt x="1341" y="599"/>
                  </a:lnTo>
                  <a:lnTo>
                    <a:pt x="1365" y="421"/>
                  </a:lnTo>
                  <a:lnTo>
                    <a:pt x="1389" y="344"/>
                  </a:lnTo>
                  <a:lnTo>
                    <a:pt x="1438" y="395"/>
                  </a:lnTo>
                  <a:lnTo>
                    <a:pt x="1485" y="599"/>
                  </a:lnTo>
                  <a:lnTo>
                    <a:pt x="1533" y="754"/>
                  </a:lnTo>
                  <a:lnTo>
                    <a:pt x="1581" y="855"/>
                  </a:lnTo>
                  <a:lnTo>
                    <a:pt x="1629" y="934"/>
                  </a:lnTo>
                  <a:lnTo>
                    <a:pt x="1677" y="959"/>
                  </a:lnTo>
                  <a:lnTo>
                    <a:pt x="1724" y="984"/>
                  </a:lnTo>
                  <a:lnTo>
                    <a:pt x="1772" y="997"/>
                  </a:lnTo>
                  <a:lnTo>
                    <a:pt x="1820" y="1010"/>
                  </a:lnTo>
                  <a:lnTo>
                    <a:pt x="1916" y="1030"/>
                  </a:lnTo>
                  <a:lnTo>
                    <a:pt x="2012" y="1041"/>
                  </a:lnTo>
                  <a:lnTo>
                    <a:pt x="2108" y="1046"/>
                  </a:lnTo>
                  <a:lnTo>
                    <a:pt x="2204" y="1049"/>
                  </a:lnTo>
                  <a:lnTo>
                    <a:pt x="2300" y="1044"/>
                  </a:lnTo>
                  <a:lnTo>
                    <a:pt x="2395" y="1030"/>
                  </a:lnTo>
                  <a:lnTo>
                    <a:pt x="2492" y="1013"/>
                  </a:lnTo>
                  <a:lnTo>
                    <a:pt x="2587" y="984"/>
                  </a:lnTo>
                  <a:lnTo>
                    <a:pt x="2682" y="945"/>
                  </a:lnTo>
                  <a:lnTo>
                    <a:pt x="2779" y="894"/>
                  </a:lnTo>
                  <a:lnTo>
                    <a:pt x="2875" y="831"/>
                  </a:lnTo>
                </a:path>
              </a:pathLst>
            </a:custGeom>
            <a:noFill/>
            <a:ln cap="rnd" w="38160">
              <a:solidFill>
                <a:srgbClr val="063de8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194600" y="1965240"/>
              <a:ext cx="0" cy="74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42120" y="1965240"/>
              <a:ext cx="0" cy="74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89640" y="1965240"/>
              <a:ext cx="0" cy="74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35720" y="1965240"/>
              <a:ext cx="0" cy="74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381800" y="1965240"/>
              <a:ext cx="0" cy="74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429320" y="1965240"/>
              <a:ext cx="0" cy="74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475400" y="1965240"/>
              <a:ext cx="0" cy="74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522920" y="1965240"/>
              <a:ext cx="0" cy="74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570800" y="1965240"/>
              <a:ext cx="0" cy="74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616880" y="1965240"/>
              <a:ext cx="0" cy="749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WDM Introduciton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lbertus Medium"/>
              </a:rPr>
              <a:t>Wavelengths</a:t>
            </a:r>
            <a:endParaRPr b="1" lang="en-US" sz="36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64008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Sparse</a:t>
            </a:r>
            <a:endParaRPr b="1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Dense</a:t>
            </a:r>
            <a:endParaRPr b="1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990720" y="3581280"/>
            <a:ext cx="7772400" cy="2971800"/>
            <a:chOff x="990720" y="3581280"/>
            <a:chExt cx="7772400" cy="2971800"/>
          </a:xfrm>
        </p:grpSpPr>
        <p:sp>
          <p:nvSpPr>
            <p:cNvPr id="2923" name=""/>
            <p:cNvSpPr/>
            <p:nvPr/>
          </p:nvSpPr>
          <p:spPr>
            <a:xfrm rot="16200000">
              <a:off x="4991400" y="4533480"/>
              <a:ext cx="1981080" cy="990360"/>
            </a:xfrm>
            <a:custGeom>
              <a:avLst/>
              <a:gdLst>
                <a:gd name="textAreaLeft" fmla="*/ 435600 w 1981080"/>
                <a:gd name="textAreaRight" fmla="*/ 1545480 w 1981080"/>
                <a:gd name="textAreaTop" fmla="*/ 217800 h 990360"/>
                <a:gd name="textAreaBottom" fmla="*/ 77256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477120" y="5181480"/>
              <a:ext cx="22860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488560" y="4722840"/>
              <a:ext cx="992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6" name=""/>
            <p:cNvGrpSpPr/>
            <p:nvPr/>
          </p:nvGrpSpPr>
          <p:grpSpPr>
            <a:xfrm>
              <a:off x="1676520" y="4038480"/>
              <a:ext cx="1295640" cy="304560"/>
              <a:chOff x="1676520" y="4038480"/>
              <a:chExt cx="1295640" cy="304560"/>
            </a:xfrm>
          </p:grpSpPr>
          <p:grpSp>
            <p:nvGrpSpPr>
              <p:cNvPr id="2927" name=""/>
              <p:cNvGrpSpPr/>
              <p:nvPr/>
            </p:nvGrpSpPr>
            <p:grpSpPr>
              <a:xfrm>
                <a:off x="1676520" y="4038480"/>
                <a:ext cx="381240" cy="304560"/>
                <a:chOff x="1676520" y="4038480"/>
                <a:chExt cx="381240" cy="304560"/>
              </a:xfrm>
            </p:grpSpPr>
            <p:sp>
              <p:nvSpPr>
                <p:cNvPr id="2928" name=""/>
                <p:cNvSpPr/>
                <p:nvPr/>
              </p:nvSpPr>
              <p:spPr>
                <a:xfrm>
                  <a:off x="1676520" y="434304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 flipV="1">
                  <a:off x="190512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205776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1905120" y="4038480"/>
                  <a:ext cx="1526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2" name=""/>
              <p:cNvGrpSpPr/>
              <p:nvPr/>
            </p:nvGrpSpPr>
            <p:grpSpPr>
              <a:xfrm>
                <a:off x="2044800" y="4038480"/>
                <a:ext cx="381240" cy="304560"/>
                <a:chOff x="2044800" y="4038480"/>
                <a:chExt cx="381240" cy="304560"/>
              </a:xfrm>
            </p:grpSpPr>
            <p:sp>
              <p:nvSpPr>
                <p:cNvPr id="2933" name=""/>
                <p:cNvSpPr/>
                <p:nvPr/>
              </p:nvSpPr>
              <p:spPr>
                <a:xfrm>
                  <a:off x="2044800" y="434304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 flipV="1">
                  <a:off x="227340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242604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2273400" y="4038480"/>
                  <a:ext cx="1526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2438640" y="4038480"/>
                <a:ext cx="380880" cy="304560"/>
                <a:chOff x="2438640" y="4038480"/>
                <a:chExt cx="380880" cy="30456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2438640" y="4343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V="1">
                  <a:off x="266688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281952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2666880" y="40384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2" name=""/>
              <p:cNvSpPr/>
              <p:nvPr/>
            </p:nvSpPr>
            <p:spPr>
              <a:xfrm>
                <a:off x="2819520" y="4343040"/>
                <a:ext cx="1526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3" name=""/>
            <p:cNvGrpSpPr/>
            <p:nvPr/>
          </p:nvGrpSpPr>
          <p:grpSpPr>
            <a:xfrm>
              <a:off x="1676520" y="4495680"/>
              <a:ext cx="1295640" cy="304560"/>
              <a:chOff x="1676520" y="4495680"/>
              <a:chExt cx="1295640" cy="304560"/>
            </a:xfrm>
          </p:grpSpPr>
          <p:grpSp>
            <p:nvGrpSpPr>
              <p:cNvPr id="2944" name=""/>
              <p:cNvGrpSpPr/>
              <p:nvPr/>
            </p:nvGrpSpPr>
            <p:grpSpPr>
              <a:xfrm>
                <a:off x="1676520" y="4495680"/>
                <a:ext cx="381240" cy="304560"/>
                <a:chOff x="1676520" y="4495680"/>
                <a:chExt cx="381240" cy="304560"/>
              </a:xfrm>
            </p:grpSpPr>
            <p:sp>
              <p:nvSpPr>
                <p:cNvPr id="2945" name=""/>
                <p:cNvSpPr/>
                <p:nvPr/>
              </p:nvSpPr>
              <p:spPr>
                <a:xfrm>
                  <a:off x="1676520" y="480024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 flipV="1">
                  <a:off x="1905120" y="4495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2057760" y="4495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1905120" y="4495680"/>
                  <a:ext cx="1526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2044800" y="4495680"/>
                <a:ext cx="381240" cy="304560"/>
                <a:chOff x="2044800" y="4495680"/>
                <a:chExt cx="381240" cy="30456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2044800" y="480024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V="1">
                  <a:off x="2273400" y="4495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2426040" y="4495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2273400" y="4495680"/>
                  <a:ext cx="1526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4" name=""/>
              <p:cNvGrpSpPr/>
              <p:nvPr/>
            </p:nvGrpSpPr>
            <p:grpSpPr>
              <a:xfrm>
                <a:off x="2438640" y="4495680"/>
                <a:ext cx="380880" cy="304560"/>
                <a:chOff x="2438640" y="4495680"/>
                <a:chExt cx="380880" cy="304560"/>
              </a:xfrm>
            </p:grpSpPr>
            <p:sp>
              <p:nvSpPr>
                <p:cNvPr id="2955" name=""/>
                <p:cNvSpPr/>
                <p:nvPr/>
              </p:nvSpPr>
              <p:spPr>
                <a:xfrm>
                  <a:off x="2438640" y="480024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 flipV="1">
                  <a:off x="2666880" y="4495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819520" y="4495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2666880" y="44956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9" name=""/>
              <p:cNvSpPr/>
              <p:nvPr/>
            </p:nvSpPr>
            <p:spPr>
              <a:xfrm>
                <a:off x="2819520" y="4800240"/>
                <a:ext cx="1526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0" name=""/>
            <p:cNvGrpSpPr/>
            <p:nvPr/>
          </p:nvGrpSpPr>
          <p:grpSpPr>
            <a:xfrm>
              <a:off x="2211120" y="4646880"/>
              <a:ext cx="282960" cy="886320"/>
              <a:chOff x="2211120" y="4646880"/>
              <a:chExt cx="282960" cy="886320"/>
            </a:xfrm>
          </p:grpSpPr>
          <p:sp>
            <p:nvSpPr>
              <p:cNvPr id="2961" name=""/>
              <p:cNvSpPr/>
              <p:nvPr/>
            </p:nvSpPr>
            <p:spPr>
              <a:xfrm>
                <a:off x="2211120" y="4646880"/>
                <a:ext cx="28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211120" y="4799520"/>
                <a:ext cx="28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211120" y="4951800"/>
                <a:ext cx="28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4" name=""/>
            <p:cNvGrpSpPr/>
            <p:nvPr/>
          </p:nvGrpSpPr>
          <p:grpSpPr>
            <a:xfrm>
              <a:off x="1676520" y="5638680"/>
              <a:ext cx="1295640" cy="304560"/>
              <a:chOff x="1676520" y="5638680"/>
              <a:chExt cx="1295640" cy="304560"/>
            </a:xfrm>
          </p:grpSpPr>
          <p:grpSp>
            <p:nvGrpSpPr>
              <p:cNvPr id="2965" name=""/>
              <p:cNvGrpSpPr/>
              <p:nvPr/>
            </p:nvGrpSpPr>
            <p:grpSpPr>
              <a:xfrm>
                <a:off x="1676520" y="5638680"/>
                <a:ext cx="381240" cy="304560"/>
                <a:chOff x="1676520" y="5638680"/>
                <a:chExt cx="381240" cy="304560"/>
              </a:xfrm>
            </p:grpSpPr>
            <p:sp>
              <p:nvSpPr>
                <p:cNvPr id="2966" name=""/>
                <p:cNvSpPr/>
                <p:nvPr/>
              </p:nvSpPr>
              <p:spPr>
                <a:xfrm>
                  <a:off x="1676520" y="594324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 flipV="1">
                  <a:off x="1905120" y="5638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2057760" y="5638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1905120" y="5638680"/>
                  <a:ext cx="1526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0" name=""/>
              <p:cNvGrpSpPr/>
              <p:nvPr/>
            </p:nvGrpSpPr>
            <p:grpSpPr>
              <a:xfrm>
                <a:off x="2044800" y="5638680"/>
                <a:ext cx="381240" cy="304560"/>
                <a:chOff x="2044800" y="5638680"/>
                <a:chExt cx="381240" cy="30456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044800" y="594324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V="1">
                  <a:off x="2273400" y="5638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2426040" y="5638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2273400" y="5638680"/>
                  <a:ext cx="1526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5" name=""/>
              <p:cNvGrpSpPr/>
              <p:nvPr/>
            </p:nvGrpSpPr>
            <p:grpSpPr>
              <a:xfrm>
                <a:off x="2438640" y="5638680"/>
                <a:ext cx="380880" cy="304560"/>
                <a:chOff x="2438640" y="5638680"/>
                <a:chExt cx="380880" cy="304560"/>
              </a:xfrm>
            </p:grpSpPr>
            <p:sp>
              <p:nvSpPr>
                <p:cNvPr id="2976" name=""/>
                <p:cNvSpPr/>
                <p:nvPr/>
              </p:nvSpPr>
              <p:spPr>
                <a:xfrm>
                  <a:off x="2438640" y="594324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 flipV="1">
                  <a:off x="2666880" y="5638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2819520" y="56386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2666880" y="56386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0" name=""/>
              <p:cNvSpPr/>
              <p:nvPr/>
            </p:nvSpPr>
            <p:spPr>
              <a:xfrm>
                <a:off x="2819520" y="5943240"/>
                <a:ext cx="1526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1" name=""/>
            <p:cNvSpPr/>
            <p:nvPr/>
          </p:nvSpPr>
          <p:spPr>
            <a:xfrm>
              <a:off x="1680480" y="6095520"/>
              <a:ext cx="12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C-3/OC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1620720" y="3961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1601640" y="4387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1601640" y="5606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5" name=""/>
            <p:cNvGrpSpPr/>
            <p:nvPr/>
          </p:nvGrpSpPr>
          <p:grpSpPr>
            <a:xfrm>
              <a:off x="4115160" y="4038480"/>
              <a:ext cx="1294920" cy="304560"/>
              <a:chOff x="4115160" y="4038480"/>
              <a:chExt cx="1294920" cy="304560"/>
            </a:xfrm>
          </p:grpSpPr>
          <p:grpSp>
            <p:nvGrpSpPr>
              <p:cNvPr id="2986" name=""/>
              <p:cNvGrpSpPr/>
              <p:nvPr/>
            </p:nvGrpSpPr>
            <p:grpSpPr>
              <a:xfrm>
                <a:off x="4115160" y="4038480"/>
                <a:ext cx="380880" cy="304560"/>
                <a:chOff x="4115160" y="4038480"/>
                <a:chExt cx="380880" cy="304560"/>
              </a:xfrm>
            </p:grpSpPr>
            <p:sp>
              <p:nvSpPr>
                <p:cNvPr id="2987" name=""/>
                <p:cNvSpPr/>
                <p:nvPr/>
              </p:nvSpPr>
              <p:spPr>
                <a:xfrm>
                  <a:off x="4115160" y="4343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 flipV="1">
                  <a:off x="434340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449604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4343400" y="40384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4483080" y="4038480"/>
                <a:ext cx="380880" cy="304560"/>
                <a:chOff x="4483080" y="4038480"/>
                <a:chExt cx="380880" cy="30456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4483080" y="4343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V="1">
                  <a:off x="471132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486396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4711320" y="40384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6" name=""/>
              <p:cNvGrpSpPr/>
              <p:nvPr/>
            </p:nvGrpSpPr>
            <p:grpSpPr>
              <a:xfrm>
                <a:off x="4876920" y="4038480"/>
                <a:ext cx="380520" cy="304560"/>
                <a:chOff x="4876920" y="4038480"/>
                <a:chExt cx="380520" cy="304560"/>
              </a:xfrm>
            </p:grpSpPr>
            <p:sp>
              <p:nvSpPr>
                <p:cNvPr id="2997" name=""/>
                <p:cNvSpPr/>
                <p:nvPr/>
              </p:nvSpPr>
              <p:spPr>
                <a:xfrm>
                  <a:off x="4876920" y="4343040"/>
                  <a:ext cx="227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 flipV="1">
                  <a:off x="510480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5257440" y="403848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5104800" y="40384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1" name=""/>
              <p:cNvSpPr/>
              <p:nvPr/>
            </p:nvSpPr>
            <p:spPr>
              <a:xfrm>
                <a:off x="5257800" y="434304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2" name=""/>
            <p:cNvGrpSpPr/>
            <p:nvPr/>
          </p:nvGrpSpPr>
          <p:grpSpPr>
            <a:xfrm>
              <a:off x="4115160" y="4724280"/>
              <a:ext cx="1294920" cy="304560"/>
              <a:chOff x="4115160" y="4724280"/>
              <a:chExt cx="1294920" cy="304560"/>
            </a:xfrm>
          </p:grpSpPr>
          <p:grpSp>
            <p:nvGrpSpPr>
              <p:cNvPr id="3003" name=""/>
              <p:cNvGrpSpPr/>
              <p:nvPr/>
            </p:nvGrpSpPr>
            <p:grpSpPr>
              <a:xfrm>
                <a:off x="4115160" y="4724280"/>
                <a:ext cx="380880" cy="304560"/>
                <a:chOff x="4115160" y="4724280"/>
                <a:chExt cx="380880" cy="304560"/>
              </a:xfrm>
            </p:grpSpPr>
            <p:sp>
              <p:nvSpPr>
                <p:cNvPr id="3004" name=""/>
                <p:cNvSpPr/>
                <p:nvPr/>
              </p:nvSpPr>
              <p:spPr>
                <a:xfrm>
                  <a:off x="4115160" y="50288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flipV="1">
                  <a:off x="4343400" y="472428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4496040" y="472428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4343400" y="4724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8" name=""/>
              <p:cNvGrpSpPr/>
              <p:nvPr/>
            </p:nvGrpSpPr>
            <p:grpSpPr>
              <a:xfrm>
                <a:off x="4483080" y="4724280"/>
                <a:ext cx="380880" cy="304560"/>
                <a:chOff x="4483080" y="4724280"/>
                <a:chExt cx="380880" cy="304560"/>
              </a:xfrm>
            </p:grpSpPr>
            <p:sp>
              <p:nvSpPr>
                <p:cNvPr id="3009" name=""/>
                <p:cNvSpPr/>
                <p:nvPr/>
              </p:nvSpPr>
              <p:spPr>
                <a:xfrm>
                  <a:off x="4483080" y="502884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V="1">
                  <a:off x="4711320" y="472428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4863960" y="472428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4711320" y="4724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3" name=""/>
              <p:cNvGrpSpPr/>
              <p:nvPr/>
            </p:nvGrpSpPr>
            <p:grpSpPr>
              <a:xfrm>
                <a:off x="4876920" y="4724280"/>
                <a:ext cx="380520" cy="304560"/>
                <a:chOff x="4876920" y="4724280"/>
                <a:chExt cx="380520" cy="304560"/>
              </a:xfrm>
            </p:grpSpPr>
            <p:sp>
              <p:nvSpPr>
                <p:cNvPr id="3014" name=""/>
                <p:cNvSpPr/>
                <p:nvPr/>
              </p:nvSpPr>
              <p:spPr>
                <a:xfrm>
                  <a:off x="4876920" y="5028840"/>
                  <a:ext cx="2278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V="1">
                  <a:off x="5104800" y="472428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5257440" y="472428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5104800" y="4724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8" name=""/>
              <p:cNvSpPr/>
              <p:nvPr/>
            </p:nvSpPr>
            <p:spPr>
              <a:xfrm>
                <a:off x="5257800" y="5028840"/>
                <a:ext cx="1522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9" name=""/>
            <p:cNvGrpSpPr/>
            <p:nvPr/>
          </p:nvGrpSpPr>
          <p:grpSpPr>
            <a:xfrm>
              <a:off x="4878360" y="4723920"/>
              <a:ext cx="295200" cy="947160"/>
              <a:chOff x="4878360" y="4723920"/>
              <a:chExt cx="295200" cy="947160"/>
            </a:xfrm>
          </p:grpSpPr>
          <p:sp>
            <p:nvSpPr>
              <p:cNvPr id="3020" name=""/>
              <p:cNvSpPr/>
              <p:nvPr/>
            </p:nvSpPr>
            <p:spPr>
              <a:xfrm>
                <a:off x="4878360" y="4723920"/>
                <a:ext cx="2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878360" y="4876200"/>
                <a:ext cx="2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878360" y="5028480"/>
                <a:ext cx="2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4115160" y="5714280"/>
              <a:ext cx="1294920" cy="305280"/>
              <a:chOff x="4115160" y="5714280"/>
              <a:chExt cx="1294920" cy="305280"/>
            </a:xfrm>
          </p:grpSpPr>
          <p:grpSp>
            <p:nvGrpSpPr>
              <p:cNvPr id="3024" name=""/>
              <p:cNvGrpSpPr/>
              <p:nvPr/>
            </p:nvGrpSpPr>
            <p:grpSpPr>
              <a:xfrm>
                <a:off x="4115160" y="5714280"/>
                <a:ext cx="380880" cy="305280"/>
                <a:chOff x="4115160" y="5714280"/>
                <a:chExt cx="380880" cy="305280"/>
              </a:xfrm>
            </p:grpSpPr>
            <p:sp>
              <p:nvSpPr>
                <p:cNvPr id="3025" name=""/>
                <p:cNvSpPr/>
                <p:nvPr/>
              </p:nvSpPr>
              <p:spPr>
                <a:xfrm>
                  <a:off x="4115160" y="6019560"/>
                  <a:ext cx="22824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V="1">
                  <a:off x="4343400" y="5714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4496040" y="571464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4343400" y="5714640"/>
                  <a:ext cx="1522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9" name=""/>
              <p:cNvGrpSpPr/>
              <p:nvPr/>
            </p:nvGrpSpPr>
            <p:grpSpPr>
              <a:xfrm>
                <a:off x="4483080" y="5714280"/>
                <a:ext cx="380880" cy="305280"/>
                <a:chOff x="4483080" y="5714280"/>
                <a:chExt cx="380880" cy="305280"/>
              </a:xfrm>
            </p:grpSpPr>
            <p:sp>
              <p:nvSpPr>
                <p:cNvPr id="3030" name=""/>
                <p:cNvSpPr/>
                <p:nvPr/>
              </p:nvSpPr>
              <p:spPr>
                <a:xfrm>
                  <a:off x="4483080" y="6019560"/>
                  <a:ext cx="22824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 flipV="1">
                  <a:off x="4711320" y="5714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4863960" y="571464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4711320" y="5714640"/>
                  <a:ext cx="1522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4" name=""/>
              <p:cNvGrpSpPr/>
              <p:nvPr/>
            </p:nvGrpSpPr>
            <p:grpSpPr>
              <a:xfrm>
                <a:off x="4876920" y="5714280"/>
                <a:ext cx="380520" cy="305280"/>
                <a:chOff x="4876920" y="5714280"/>
                <a:chExt cx="380520" cy="305280"/>
              </a:xfrm>
            </p:grpSpPr>
            <p:sp>
              <p:nvSpPr>
                <p:cNvPr id="3035" name=""/>
                <p:cNvSpPr/>
                <p:nvPr/>
              </p:nvSpPr>
              <p:spPr>
                <a:xfrm>
                  <a:off x="4876920" y="6019560"/>
                  <a:ext cx="2278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V="1">
                  <a:off x="5104800" y="5714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5257440" y="571464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5104800" y="5714640"/>
                  <a:ext cx="1522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9" name=""/>
              <p:cNvSpPr/>
              <p:nvPr/>
            </p:nvSpPr>
            <p:spPr>
              <a:xfrm>
                <a:off x="5257800" y="6019560"/>
                <a:ext cx="15228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0" name=""/>
            <p:cNvGrpSpPr/>
            <p:nvPr/>
          </p:nvGrpSpPr>
          <p:grpSpPr>
            <a:xfrm>
              <a:off x="6838560" y="4708440"/>
              <a:ext cx="1117800" cy="397440"/>
              <a:chOff x="6838560" y="4708440"/>
              <a:chExt cx="1117800" cy="397440"/>
            </a:xfrm>
          </p:grpSpPr>
          <p:sp>
            <p:nvSpPr>
              <p:cNvPr id="3041" name=""/>
              <p:cNvSpPr/>
              <p:nvPr/>
            </p:nvSpPr>
            <p:spPr>
              <a:xfrm>
                <a:off x="6838560" y="4708440"/>
                <a:ext cx="477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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162200" y="4708440"/>
                <a:ext cx="401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ff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200" spc="-1" strike="noStrike">
                    <a:solidFill>
                      <a:srgbClr val="00ff00"/>
                    </a:solidFill>
                    <a:latin typeface="Symbol"/>
                    <a:ea typeface="Symbol"/>
                  </a:rPr>
                  <a:t>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467840" y="4708440"/>
                <a:ext cx="183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772400" y="4708440"/>
                <a:ext cx="183960" cy="2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5" name=""/>
            <p:cNvSpPr/>
            <p:nvPr/>
          </p:nvSpPr>
          <p:spPr>
            <a:xfrm>
              <a:off x="4266720" y="35812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254120" y="426708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7" name=""/>
            <p:cNvGrpSpPr/>
            <p:nvPr/>
          </p:nvGrpSpPr>
          <p:grpSpPr>
            <a:xfrm>
              <a:off x="4190760" y="5181480"/>
              <a:ext cx="557640" cy="519120"/>
              <a:chOff x="4190760" y="5181480"/>
              <a:chExt cx="557640" cy="519120"/>
            </a:xfrm>
          </p:grpSpPr>
          <p:sp>
            <p:nvSpPr>
              <p:cNvPr id="3048" name=""/>
              <p:cNvSpPr/>
              <p:nvPr/>
            </p:nvSpPr>
            <p:spPr>
              <a:xfrm>
                <a:off x="4190760" y="5181480"/>
                <a:ext cx="3801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ccff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425840" y="52725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66cc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0" name=""/>
            <p:cNvGrpSpPr/>
            <p:nvPr/>
          </p:nvGrpSpPr>
          <p:grpSpPr>
            <a:xfrm>
              <a:off x="7848720" y="4724280"/>
              <a:ext cx="430560" cy="442440"/>
              <a:chOff x="7848720" y="4724280"/>
              <a:chExt cx="430560" cy="442440"/>
            </a:xfrm>
          </p:grpSpPr>
          <p:sp>
            <p:nvSpPr>
              <p:cNvPr id="3051" name=""/>
              <p:cNvSpPr/>
              <p:nvPr/>
            </p:nvSpPr>
            <p:spPr>
              <a:xfrm>
                <a:off x="7848720" y="4724280"/>
                <a:ext cx="309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ccff"/>
                    </a:solidFill>
                    <a:latin typeface="Symbol"/>
                    <a:ea typeface="Symbol"/>
                  </a:rPr>
                  <a:t>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999560" y="485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66ccff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3" name=""/>
            <p:cNvSpPr/>
            <p:nvPr/>
          </p:nvSpPr>
          <p:spPr>
            <a:xfrm>
              <a:off x="7437600" y="4646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. .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124440" y="3657240"/>
              <a:ext cx="3657600" cy="289584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5" name=""/>
            <p:cNvGrpSpPr/>
            <p:nvPr/>
          </p:nvGrpSpPr>
          <p:grpSpPr>
            <a:xfrm>
              <a:off x="990720" y="3962160"/>
              <a:ext cx="533520" cy="2209320"/>
              <a:chOff x="990720" y="3962160"/>
              <a:chExt cx="533520" cy="2209320"/>
            </a:xfrm>
          </p:grpSpPr>
          <p:sp>
            <p:nvSpPr>
              <p:cNvPr id="3056" name=""/>
              <p:cNvSpPr/>
              <p:nvPr/>
            </p:nvSpPr>
            <p:spPr>
              <a:xfrm>
                <a:off x="990720" y="3962160"/>
                <a:ext cx="533520" cy="53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990720" y="4647600"/>
                <a:ext cx="533520" cy="53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990720" y="5638320"/>
                <a:ext cx="533520" cy="53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9" name=""/>
            <p:cNvGrpSpPr/>
            <p:nvPr/>
          </p:nvGrpSpPr>
          <p:grpSpPr>
            <a:xfrm>
              <a:off x="3429360" y="3962160"/>
              <a:ext cx="533160" cy="2209320"/>
              <a:chOff x="3429360" y="3962160"/>
              <a:chExt cx="533160" cy="2209320"/>
            </a:xfrm>
          </p:grpSpPr>
          <p:sp>
            <p:nvSpPr>
              <p:cNvPr id="3060" name=""/>
              <p:cNvSpPr/>
              <p:nvPr/>
            </p:nvSpPr>
            <p:spPr>
              <a:xfrm>
                <a:off x="3429360" y="3962160"/>
                <a:ext cx="533160" cy="53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429360" y="4647600"/>
                <a:ext cx="533160" cy="53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429360" y="5638320"/>
                <a:ext cx="533160" cy="53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3" name=""/>
          <p:cNvSpPr/>
          <p:nvPr/>
        </p:nvSpPr>
        <p:spPr>
          <a:xfrm>
            <a:off x="7238160" y="525672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C-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A1D5-9ABE-412A-ADDB-E93A54A6FC6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WDM Introduction</a:t>
            </a:r>
            <a:br>
              <a:rPr sz="2000"/>
            </a:br>
            <a:r>
              <a:rPr b="1" lang="en-US" sz="3600" spc="-1" strike="noStrike">
                <a:solidFill>
                  <a:srgbClr val="ffff00"/>
                </a:solidFill>
                <a:latin typeface="Albertus Medium"/>
              </a:rPr>
              <a:t>Basic System Elements</a:t>
            </a:r>
            <a:endParaRPr b="1" lang="en-US" sz="36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3065" name=""/>
          <p:cNvGrpSpPr/>
          <p:nvPr/>
        </p:nvGrpSpPr>
        <p:grpSpPr>
          <a:xfrm>
            <a:off x="228600" y="1650600"/>
            <a:ext cx="8527680" cy="1863720"/>
            <a:chOff x="228600" y="1650600"/>
            <a:chExt cx="8527680" cy="1863720"/>
          </a:xfrm>
        </p:grpSpPr>
        <p:grpSp>
          <p:nvGrpSpPr>
            <p:cNvPr id="3066" name=""/>
            <p:cNvGrpSpPr/>
            <p:nvPr/>
          </p:nvGrpSpPr>
          <p:grpSpPr>
            <a:xfrm>
              <a:off x="3722760" y="2670480"/>
              <a:ext cx="1621080" cy="398880"/>
              <a:chOff x="3722760" y="2670480"/>
              <a:chExt cx="1621080" cy="398880"/>
            </a:xfrm>
          </p:grpSpPr>
          <p:sp>
            <p:nvSpPr>
              <p:cNvPr id="3067" name=""/>
              <p:cNvSpPr/>
              <p:nvPr/>
            </p:nvSpPr>
            <p:spPr>
              <a:xfrm>
                <a:off x="3722760" y="268272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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078800" y="2682720"/>
                <a:ext cx="374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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069080" y="2689920"/>
                <a:ext cx="18504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251240" y="2731680"/>
                <a:ext cx="1850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474080" y="267048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2" name=""/>
              <p:cNvGrpSpPr/>
              <p:nvPr/>
            </p:nvGrpSpPr>
            <p:grpSpPr>
              <a:xfrm>
                <a:off x="4961520" y="2705040"/>
                <a:ext cx="382320" cy="335880"/>
                <a:chOff x="4961520" y="2705040"/>
                <a:chExt cx="382320" cy="335880"/>
              </a:xfrm>
            </p:grpSpPr>
            <p:sp>
              <p:nvSpPr>
                <p:cNvPr id="3073" name=""/>
                <p:cNvSpPr/>
                <p:nvPr/>
              </p:nvSpPr>
              <p:spPr>
                <a:xfrm>
                  <a:off x="4961520" y="2705040"/>
                  <a:ext cx="2962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66ccff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5086800" y="273348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66ccff"/>
                      </a:solidFill>
                      <a:latin typeface="Times New Roman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5" name=""/>
            <p:cNvGrpSpPr/>
            <p:nvPr/>
          </p:nvGrpSpPr>
          <p:grpSpPr>
            <a:xfrm>
              <a:off x="1876680" y="1968840"/>
              <a:ext cx="780120" cy="183600"/>
              <a:chOff x="1876680" y="1968840"/>
              <a:chExt cx="780120" cy="183600"/>
            </a:xfrm>
          </p:grpSpPr>
          <p:grpSp>
            <p:nvGrpSpPr>
              <p:cNvPr id="3076" name=""/>
              <p:cNvGrpSpPr/>
              <p:nvPr/>
            </p:nvGrpSpPr>
            <p:grpSpPr>
              <a:xfrm>
                <a:off x="1876680" y="1968840"/>
                <a:ext cx="229680" cy="183600"/>
                <a:chOff x="1876680" y="1968840"/>
                <a:chExt cx="229680" cy="183600"/>
              </a:xfrm>
            </p:grpSpPr>
            <p:sp>
              <p:nvSpPr>
                <p:cNvPr id="3077" name=""/>
                <p:cNvSpPr/>
                <p:nvPr/>
              </p:nvSpPr>
              <p:spPr>
                <a:xfrm>
                  <a:off x="187668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 flipV="1">
                  <a:off x="201420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210636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201420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1" name=""/>
              <p:cNvGrpSpPr/>
              <p:nvPr/>
            </p:nvGrpSpPr>
            <p:grpSpPr>
              <a:xfrm>
                <a:off x="2098440" y="1968840"/>
                <a:ext cx="229680" cy="183600"/>
                <a:chOff x="2098440" y="1968840"/>
                <a:chExt cx="229680" cy="183600"/>
              </a:xfrm>
            </p:grpSpPr>
            <p:sp>
              <p:nvSpPr>
                <p:cNvPr id="3082" name=""/>
                <p:cNvSpPr/>
                <p:nvPr/>
              </p:nvSpPr>
              <p:spPr>
                <a:xfrm>
                  <a:off x="209844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flipV="1">
                  <a:off x="223596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232812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223596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6" name=""/>
              <p:cNvGrpSpPr/>
              <p:nvPr/>
            </p:nvGrpSpPr>
            <p:grpSpPr>
              <a:xfrm>
                <a:off x="2335680" y="1968840"/>
                <a:ext cx="229320" cy="183600"/>
                <a:chOff x="2335680" y="1968840"/>
                <a:chExt cx="229320" cy="183600"/>
              </a:xfrm>
            </p:grpSpPr>
            <p:sp>
              <p:nvSpPr>
                <p:cNvPr id="3087" name=""/>
                <p:cNvSpPr/>
                <p:nvPr/>
              </p:nvSpPr>
              <p:spPr>
                <a:xfrm>
                  <a:off x="233568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 flipV="1">
                  <a:off x="247320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256500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247320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1" name=""/>
              <p:cNvSpPr/>
              <p:nvPr/>
            </p:nvSpPr>
            <p:spPr>
              <a:xfrm>
                <a:off x="2565000" y="2152440"/>
                <a:ext cx="91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2" name=""/>
            <p:cNvGrpSpPr/>
            <p:nvPr/>
          </p:nvGrpSpPr>
          <p:grpSpPr>
            <a:xfrm>
              <a:off x="1876680" y="2470680"/>
              <a:ext cx="780120" cy="183600"/>
              <a:chOff x="1876680" y="2470680"/>
              <a:chExt cx="780120" cy="183600"/>
            </a:xfrm>
          </p:grpSpPr>
          <p:grpSp>
            <p:nvGrpSpPr>
              <p:cNvPr id="3093" name=""/>
              <p:cNvGrpSpPr/>
              <p:nvPr/>
            </p:nvGrpSpPr>
            <p:grpSpPr>
              <a:xfrm>
                <a:off x="1876680" y="2470680"/>
                <a:ext cx="229680" cy="183600"/>
                <a:chOff x="1876680" y="2470680"/>
                <a:chExt cx="229680" cy="183600"/>
              </a:xfrm>
            </p:grpSpPr>
            <p:sp>
              <p:nvSpPr>
                <p:cNvPr id="3094" name=""/>
                <p:cNvSpPr/>
                <p:nvPr/>
              </p:nvSpPr>
              <p:spPr>
                <a:xfrm>
                  <a:off x="1876680" y="2654280"/>
                  <a:ext cx="137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V="1">
                  <a:off x="201420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210636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2014200" y="2470680"/>
                  <a:ext cx="9180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8" name=""/>
              <p:cNvGrpSpPr/>
              <p:nvPr/>
            </p:nvGrpSpPr>
            <p:grpSpPr>
              <a:xfrm>
                <a:off x="2098440" y="2470680"/>
                <a:ext cx="229680" cy="183600"/>
                <a:chOff x="2098440" y="2470680"/>
                <a:chExt cx="229680" cy="183600"/>
              </a:xfrm>
            </p:grpSpPr>
            <p:sp>
              <p:nvSpPr>
                <p:cNvPr id="3099" name=""/>
                <p:cNvSpPr/>
                <p:nvPr/>
              </p:nvSpPr>
              <p:spPr>
                <a:xfrm>
                  <a:off x="2098440" y="2654280"/>
                  <a:ext cx="137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 flipV="1">
                  <a:off x="223596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232812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2235960" y="2470680"/>
                  <a:ext cx="9180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3" name=""/>
              <p:cNvGrpSpPr/>
              <p:nvPr/>
            </p:nvGrpSpPr>
            <p:grpSpPr>
              <a:xfrm>
                <a:off x="2335680" y="2470680"/>
                <a:ext cx="229320" cy="183600"/>
                <a:chOff x="2335680" y="2470680"/>
                <a:chExt cx="229320" cy="183600"/>
              </a:xfrm>
            </p:grpSpPr>
            <p:sp>
              <p:nvSpPr>
                <p:cNvPr id="3104" name=""/>
                <p:cNvSpPr/>
                <p:nvPr/>
              </p:nvSpPr>
              <p:spPr>
                <a:xfrm>
                  <a:off x="2335680" y="2654280"/>
                  <a:ext cx="137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 flipV="1">
                  <a:off x="247320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256500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2473200" y="2470680"/>
                  <a:ext cx="9180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8" name=""/>
              <p:cNvSpPr/>
              <p:nvPr/>
            </p:nvSpPr>
            <p:spPr>
              <a:xfrm>
                <a:off x="2565000" y="2654280"/>
                <a:ext cx="9180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9" name=""/>
            <p:cNvGrpSpPr/>
            <p:nvPr/>
          </p:nvGrpSpPr>
          <p:grpSpPr>
            <a:xfrm>
              <a:off x="2351880" y="2541600"/>
              <a:ext cx="238680" cy="552600"/>
              <a:chOff x="2351880" y="2541600"/>
              <a:chExt cx="238680" cy="552600"/>
            </a:xfrm>
          </p:grpSpPr>
          <p:sp>
            <p:nvSpPr>
              <p:cNvPr id="3110" name=""/>
              <p:cNvSpPr/>
              <p:nvPr/>
            </p:nvSpPr>
            <p:spPr>
              <a:xfrm>
                <a:off x="2351880" y="254160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351880" y="263232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2351880" y="272592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3" name=""/>
            <p:cNvGrpSpPr/>
            <p:nvPr/>
          </p:nvGrpSpPr>
          <p:grpSpPr>
            <a:xfrm>
              <a:off x="1876680" y="3143880"/>
              <a:ext cx="780120" cy="183600"/>
              <a:chOff x="1876680" y="3143880"/>
              <a:chExt cx="780120" cy="183600"/>
            </a:xfrm>
          </p:grpSpPr>
          <p:grpSp>
            <p:nvGrpSpPr>
              <p:cNvPr id="3114" name=""/>
              <p:cNvGrpSpPr/>
              <p:nvPr/>
            </p:nvGrpSpPr>
            <p:grpSpPr>
              <a:xfrm>
                <a:off x="1876680" y="3143880"/>
                <a:ext cx="229680" cy="183600"/>
                <a:chOff x="1876680" y="3143880"/>
                <a:chExt cx="229680" cy="183600"/>
              </a:xfrm>
            </p:grpSpPr>
            <p:sp>
              <p:nvSpPr>
                <p:cNvPr id="3115" name=""/>
                <p:cNvSpPr/>
                <p:nvPr/>
              </p:nvSpPr>
              <p:spPr>
                <a:xfrm>
                  <a:off x="187668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 flipV="1">
                  <a:off x="201420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210636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201420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9" name=""/>
              <p:cNvGrpSpPr/>
              <p:nvPr/>
            </p:nvGrpSpPr>
            <p:grpSpPr>
              <a:xfrm>
                <a:off x="2098440" y="3143880"/>
                <a:ext cx="229680" cy="183600"/>
                <a:chOff x="2098440" y="3143880"/>
                <a:chExt cx="229680" cy="183600"/>
              </a:xfrm>
            </p:grpSpPr>
            <p:sp>
              <p:nvSpPr>
                <p:cNvPr id="3120" name=""/>
                <p:cNvSpPr/>
                <p:nvPr/>
              </p:nvSpPr>
              <p:spPr>
                <a:xfrm>
                  <a:off x="209844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 flipV="1">
                  <a:off x="223596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232812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223596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4" name=""/>
              <p:cNvGrpSpPr/>
              <p:nvPr/>
            </p:nvGrpSpPr>
            <p:grpSpPr>
              <a:xfrm>
                <a:off x="2335680" y="3143880"/>
                <a:ext cx="229320" cy="183600"/>
                <a:chOff x="2335680" y="3143880"/>
                <a:chExt cx="229320" cy="183600"/>
              </a:xfrm>
            </p:grpSpPr>
            <p:sp>
              <p:nvSpPr>
                <p:cNvPr id="3125" name=""/>
                <p:cNvSpPr/>
                <p:nvPr/>
              </p:nvSpPr>
              <p:spPr>
                <a:xfrm>
                  <a:off x="233568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 flipV="1">
                  <a:off x="247320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256500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247320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9" name=""/>
              <p:cNvSpPr/>
              <p:nvPr/>
            </p:nvSpPr>
            <p:spPr>
              <a:xfrm>
                <a:off x="2565000" y="3327480"/>
                <a:ext cx="9180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1968480" y="1670400"/>
              <a:ext cx="354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1960920" y="2152440"/>
              <a:ext cx="354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</a:t>
              </a:r>
              <a:r>
                <a:rPr b="0" lang="en-US" sz="9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2" name=""/>
            <p:cNvGrpSpPr/>
            <p:nvPr/>
          </p:nvGrpSpPr>
          <p:grpSpPr>
            <a:xfrm>
              <a:off x="1909080" y="2823120"/>
              <a:ext cx="387360" cy="335880"/>
              <a:chOff x="1909080" y="2823120"/>
              <a:chExt cx="387360" cy="335880"/>
            </a:xfrm>
          </p:grpSpPr>
          <p:sp>
            <p:nvSpPr>
              <p:cNvPr id="3133" name=""/>
              <p:cNvSpPr/>
              <p:nvPr/>
            </p:nvSpPr>
            <p:spPr>
              <a:xfrm>
                <a:off x="1909080" y="2823120"/>
                <a:ext cx="296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ccff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039400" y="2848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66ccff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5" name=""/>
            <p:cNvGrpSpPr/>
            <p:nvPr/>
          </p:nvGrpSpPr>
          <p:grpSpPr>
            <a:xfrm>
              <a:off x="658440" y="1968840"/>
              <a:ext cx="780120" cy="183600"/>
              <a:chOff x="658440" y="1968840"/>
              <a:chExt cx="780120" cy="183600"/>
            </a:xfrm>
          </p:grpSpPr>
          <p:grpSp>
            <p:nvGrpSpPr>
              <p:cNvPr id="3136" name=""/>
              <p:cNvGrpSpPr/>
              <p:nvPr/>
            </p:nvGrpSpPr>
            <p:grpSpPr>
              <a:xfrm>
                <a:off x="658440" y="1968840"/>
                <a:ext cx="229680" cy="183600"/>
                <a:chOff x="658440" y="1968840"/>
                <a:chExt cx="229680" cy="183600"/>
              </a:xfrm>
            </p:grpSpPr>
            <p:sp>
              <p:nvSpPr>
                <p:cNvPr id="3137" name=""/>
                <p:cNvSpPr/>
                <p:nvPr/>
              </p:nvSpPr>
              <p:spPr>
                <a:xfrm>
                  <a:off x="65844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V="1">
                  <a:off x="79596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88812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79596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1" name=""/>
              <p:cNvGrpSpPr/>
              <p:nvPr/>
            </p:nvGrpSpPr>
            <p:grpSpPr>
              <a:xfrm>
                <a:off x="880200" y="1968840"/>
                <a:ext cx="229680" cy="183600"/>
                <a:chOff x="880200" y="1968840"/>
                <a:chExt cx="229680" cy="183600"/>
              </a:xfrm>
            </p:grpSpPr>
            <p:sp>
              <p:nvSpPr>
                <p:cNvPr id="3142" name=""/>
                <p:cNvSpPr/>
                <p:nvPr/>
              </p:nvSpPr>
              <p:spPr>
                <a:xfrm>
                  <a:off x="88020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 flipV="1">
                  <a:off x="101772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110988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101772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6" name=""/>
              <p:cNvGrpSpPr/>
              <p:nvPr/>
            </p:nvGrpSpPr>
            <p:grpSpPr>
              <a:xfrm>
                <a:off x="1117440" y="1968840"/>
                <a:ext cx="229320" cy="183600"/>
                <a:chOff x="1117440" y="1968840"/>
                <a:chExt cx="229320" cy="183600"/>
              </a:xfrm>
            </p:grpSpPr>
            <p:sp>
              <p:nvSpPr>
                <p:cNvPr id="3147" name=""/>
                <p:cNvSpPr/>
                <p:nvPr/>
              </p:nvSpPr>
              <p:spPr>
                <a:xfrm>
                  <a:off x="111744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 flipV="1">
                  <a:off x="125496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134676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125496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1" name=""/>
              <p:cNvSpPr/>
              <p:nvPr/>
            </p:nvSpPr>
            <p:spPr>
              <a:xfrm>
                <a:off x="1346760" y="2152440"/>
                <a:ext cx="918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2" name=""/>
            <p:cNvGrpSpPr/>
            <p:nvPr/>
          </p:nvGrpSpPr>
          <p:grpSpPr>
            <a:xfrm>
              <a:off x="658440" y="2470680"/>
              <a:ext cx="780120" cy="183600"/>
              <a:chOff x="658440" y="2470680"/>
              <a:chExt cx="780120" cy="183600"/>
            </a:xfrm>
          </p:grpSpPr>
          <p:grpSp>
            <p:nvGrpSpPr>
              <p:cNvPr id="3153" name=""/>
              <p:cNvGrpSpPr/>
              <p:nvPr/>
            </p:nvGrpSpPr>
            <p:grpSpPr>
              <a:xfrm>
                <a:off x="658440" y="2470680"/>
                <a:ext cx="229680" cy="183600"/>
                <a:chOff x="658440" y="2470680"/>
                <a:chExt cx="229680" cy="183600"/>
              </a:xfrm>
            </p:grpSpPr>
            <p:sp>
              <p:nvSpPr>
                <p:cNvPr id="3154" name=""/>
                <p:cNvSpPr/>
                <p:nvPr/>
              </p:nvSpPr>
              <p:spPr>
                <a:xfrm>
                  <a:off x="658440" y="26542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flipV="1">
                  <a:off x="79596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88812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795960" y="247068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8" name=""/>
              <p:cNvGrpSpPr/>
              <p:nvPr/>
            </p:nvGrpSpPr>
            <p:grpSpPr>
              <a:xfrm>
                <a:off x="880200" y="2470680"/>
                <a:ext cx="229680" cy="183600"/>
                <a:chOff x="880200" y="2470680"/>
                <a:chExt cx="229680" cy="183600"/>
              </a:xfrm>
            </p:grpSpPr>
            <p:sp>
              <p:nvSpPr>
                <p:cNvPr id="3159" name=""/>
                <p:cNvSpPr/>
                <p:nvPr/>
              </p:nvSpPr>
              <p:spPr>
                <a:xfrm>
                  <a:off x="880200" y="26542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 flipV="1">
                  <a:off x="101772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110988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1017720" y="247068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3" name=""/>
              <p:cNvGrpSpPr/>
              <p:nvPr/>
            </p:nvGrpSpPr>
            <p:grpSpPr>
              <a:xfrm>
                <a:off x="1117440" y="2470680"/>
                <a:ext cx="229320" cy="183600"/>
                <a:chOff x="1117440" y="2470680"/>
                <a:chExt cx="229320" cy="183600"/>
              </a:xfrm>
            </p:grpSpPr>
            <p:sp>
              <p:nvSpPr>
                <p:cNvPr id="3164" name=""/>
                <p:cNvSpPr/>
                <p:nvPr/>
              </p:nvSpPr>
              <p:spPr>
                <a:xfrm>
                  <a:off x="1117440" y="26542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 flipV="1">
                  <a:off x="125496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134676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1254960" y="247068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8" name=""/>
              <p:cNvSpPr/>
              <p:nvPr/>
            </p:nvSpPr>
            <p:spPr>
              <a:xfrm>
                <a:off x="1346760" y="2654280"/>
                <a:ext cx="918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9" name=""/>
            <p:cNvGrpSpPr/>
            <p:nvPr/>
          </p:nvGrpSpPr>
          <p:grpSpPr>
            <a:xfrm>
              <a:off x="708840" y="2561040"/>
              <a:ext cx="238680" cy="552240"/>
              <a:chOff x="708840" y="2561040"/>
              <a:chExt cx="238680" cy="552240"/>
            </a:xfrm>
          </p:grpSpPr>
          <p:sp>
            <p:nvSpPr>
              <p:cNvPr id="3170" name=""/>
              <p:cNvSpPr/>
              <p:nvPr/>
            </p:nvSpPr>
            <p:spPr>
              <a:xfrm>
                <a:off x="708840" y="256104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08840" y="265140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08840" y="274500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3" name=""/>
            <p:cNvGrpSpPr/>
            <p:nvPr/>
          </p:nvGrpSpPr>
          <p:grpSpPr>
            <a:xfrm>
              <a:off x="658440" y="3143880"/>
              <a:ext cx="780120" cy="183600"/>
              <a:chOff x="658440" y="3143880"/>
              <a:chExt cx="780120" cy="183600"/>
            </a:xfrm>
          </p:grpSpPr>
          <p:grpSp>
            <p:nvGrpSpPr>
              <p:cNvPr id="3174" name=""/>
              <p:cNvGrpSpPr/>
              <p:nvPr/>
            </p:nvGrpSpPr>
            <p:grpSpPr>
              <a:xfrm>
                <a:off x="658440" y="3143880"/>
                <a:ext cx="229680" cy="183600"/>
                <a:chOff x="658440" y="3143880"/>
                <a:chExt cx="229680" cy="183600"/>
              </a:xfrm>
            </p:grpSpPr>
            <p:sp>
              <p:nvSpPr>
                <p:cNvPr id="3175" name=""/>
                <p:cNvSpPr/>
                <p:nvPr/>
              </p:nvSpPr>
              <p:spPr>
                <a:xfrm>
                  <a:off x="65844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 flipV="1">
                  <a:off x="79596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88812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79596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9" name=""/>
              <p:cNvGrpSpPr/>
              <p:nvPr/>
            </p:nvGrpSpPr>
            <p:grpSpPr>
              <a:xfrm>
                <a:off x="880200" y="3143880"/>
                <a:ext cx="229680" cy="183600"/>
                <a:chOff x="880200" y="3143880"/>
                <a:chExt cx="229680" cy="183600"/>
              </a:xfrm>
            </p:grpSpPr>
            <p:sp>
              <p:nvSpPr>
                <p:cNvPr id="3180" name=""/>
                <p:cNvSpPr/>
                <p:nvPr/>
              </p:nvSpPr>
              <p:spPr>
                <a:xfrm>
                  <a:off x="88020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 flipV="1">
                  <a:off x="101772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110988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101772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4" name=""/>
              <p:cNvGrpSpPr/>
              <p:nvPr/>
            </p:nvGrpSpPr>
            <p:grpSpPr>
              <a:xfrm>
                <a:off x="1117440" y="3143880"/>
                <a:ext cx="229320" cy="183600"/>
                <a:chOff x="1117440" y="3143880"/>
                <a:chExt cx="229320" cy="183600"/>
              </a:xfrm>
            </p:grpSpPr>
            <p:sp>
              <p:nvSpPr>
                <p:cNvPr id="3185" name=""/>
                <p:cNvSpPr/>
                <p:nvPr/>
              </p:nvSpPr>
              <p:spPr>
                <a:xfrm>
                  <a:off x="111744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 flipV="1">
                  <a:off x="125496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134676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125496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9" name=""/>
              <p:cNvSpPr/>
              <p:nvPr/>
            </p:nvSpPr>
            <p:spPr>
              <a:xfrm>
                <a:off x="1346760" y="3327480"/>
                <a:ext cx="918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0" name=""/>
            <p:cNvSpPr/>
            <p:nvPr/>
          </p:nvSpPr>
          <p:spPr>
            <a:xfrm>
              <a:off x="912960" y="16912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912960" y="21722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912960" y="2841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3" name=""/>
            <p:cNvGrpSpPr/>
            <p:nvPr/>
          </p:nvGrpSpPr>
          <p:grpSpPr>
            <a:xfrm>
              <a:off x="228600" y="1937520"/>
              <a:ext cx="429840" cy="1576800"/>
              <a:chOff x="228600" y="1937520"/>
              <a:chExt cx="429840" cy="1576800"/>
            </a:xfrm>
          </p:grpSpPr>
          <p:sp>
            <p:nvSpPr>
              <p:cNvPr id="3194" name=""/>
              <p:cNvSpPr/>
              <p:nvPr/>
            </p:nvSpPr>
            <p:spPr>
              <a:xfrm>
                <a:off x="228600" y="1937520"/>
                <a:ext cx="429840" cy="35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228600" y="2439000"/>
                <a:ext cx="429840" cy="35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228600" y="3155760"/>
                <a:ext cx="429840" cy="358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7" name=""/>
            <p:cNvGrpSpPr/>
            <p:nvPr/>
          </p:nvGrpSpPr>
          <p:grpSpPr>
            <a:xfrm>
              <a:off x="1446480" y="1937520"/>
              <a:ext cx="429840" cy="1576800"/>
              <a:chOff x="1446480" y="1937520"/>
              <a:chExt cx="429840" cy="1576800"/>
            </a:xfrm>
          </p:grpSpPr>
          <p:sp>
            <p:nvSpPr>
              <p:cNvPr id="3198" name=""/>
              <p:cNvSpPr/>
              <p:nvPr/>
            </p:nvSpPr>
            <p:spPr>
              <a:xfrm>
                <a:off x="1446480" y="1937520"/>
                <a:ext cx="429840" cy="35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1446480" y="2439000"/>
                <a:ext cx="429840" cy="35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1446480" y="3155760"/>
                <a:ext cx="429840" cy="358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1" name=""/>
            <p:cNvSpPr/>
            <p:nvPr/>
          </p:nvSpPr>
          <p:spPr>
            <a:xfrm rot="16200000">
              <a:off x="2091240" y="2224080"/>
              <a:ext cx="1863720" cy="716760"/>
            </a:xfrm>
            <a:custGeom>
              <a:avLst/>
              <a:gdLst>
                <a:gd name="textAreaLeft" fmla="*/ 409680 w 1863720"/>
                <a:gd name="textAreaRight" fmla="*/ 1454040 w 1863720"/>
                <a:gd name="textAreaTop" fmla="*/ 157680 h 716760"/>
                <a:gd name="textAreaBottom" fmla="*/ 559080 h 71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732400" y="2440440"/>
              <a:ext cx="58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D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3" name=""/>
            <p:cNvGrpSpPr/>
            <p:nvPr/>
          </p:nvGrpSpPr>
          <p:grpSpPr>
            <a:xfrm>
              <a:off x="6248160" y="1968840"/>
              <a:ext cx="780120" cy="183600"/>
              <a:chOff x="6248160" y="1968840"/>
              <a:chExt cx="780120" cy="183600"/>
            </a:xfrm>
          </p:grpSpPr>
          <p:grpSp>
            <p:nvGrpSpPr>
              <p:cNvPr id="3204" name=""/>
              <p:cNvGrpSpPr/>
              <p:nvPr/>
            </p:nvGrpSpPr>
            <p:grpSpPr>
              <a:xfrm>
                <a:off x="6248160" y="1968840"/>
                <a:ext cx="229680" cy="183600"/>
                <a:chOff x="6248160" y="1968840"/>
                <a:chExt cx="229680" cy="183600"/>
              </a:xfrm>
            </p:grpSpPr>
            <p:sp>
              <p:nvSpPr>
                <p:cNvPr id="3205" name=""/>
                <p:cNvSpPr/>
                <p:nvPr/>
              </p:nvSpPr>
              <p:spPr>
                <a:xfrm>
                  <a:off x="624816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 flipV="1">
                  <a:off x="638568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647784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638568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9" name=""/>
              <p:cNvGrpSpPr/>
              <p:nvPr/>
            </p:nvGrpSpPr>
            <p:grpSpPr>
              <a:xfrm>
                <a:off x="6469920" y="1968840"/>
                <a:ext cx="229680" cy="183600"/>
                <a:chOff x="6469920" y="1968840"/>
                <a:chExt cx="229680" cy="183600"/>
              </a:xfrm>
            </p:grpSpPr>
            <p:sp>
              <p:nvSpPr>
                <p:cNvPr id="3210" name=""/>
                <p:cNvSpPr/>
                <p:nvPr/>
              </p:nvSpPr>
              <p:spPr>
                <a:xfrm>
                  <a:off x="646992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 flipV="1">
                  <a:off x="660744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669960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660744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4" name=""/>
              <p:cNvGrpSpPr/>
              <p:nvPr/>
            </p:nvGrpSpPr>
            <p:grpSpPr>
              <a:xfrm>
                <a:off x="6707160" y="1968840"/>
                <a:ext cx="229320" cy="183600"/>
                <a:chOff x="6707160" y="1968840"/>
                <a:chExt cx="229320" cy="183600"/>
              </a:xfrm>
            </p:grpSpPr>
            <p:sp>
              <p:nvSpPr>
                <p:cNvPr id="3215" name=""/>
                <p:cNvSpPr/>
                <p:nvPr/>
              </p:nvSpPr>
              <p:spPr>
                <a:xfrm>
                  <a:off x="670716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 flipV="1">
                  <a:off x="684468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693648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684468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9" name=""/>
              <p:cNvSpPr/>
              <p:nvPr/>
            </p:nvSpPr>
            <p:spPr>
              <a:xfrm>
                <a:off x="6936480" y="2152440"/>
                <a:ext cx="91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0" name=""/>
            <p:cNvGrpSpPr/>
            <p:nvPr/>
          </p:nvGrpSpPr>
          <p:grpSpPr>
            <a:xfrm>
              <a:off x="6248160" y="2470680"/>
              <a:ext cx="780120" cy="183600"/>
              <a:chOff x="6248160" y="2470680"/>
              <a:chExt cx="780120" cy="183600"/>
            </a:xfrm>
          </p:grpSpPr>
          <p:grpSp>
            <p:nvGrpSpPr>
              <p:cNvPr id="3221" name=""/>
              <p:cNvGrpSpPr/>
              <p:nvPr/>
            </p:nvGrpSpPr>
            <p:grpSpPr>
              <a:xfrm>
                <a:off x="6248160" y="2470680"/>
                <a:ext cx="229680" cy="183600"/>
                <a:chOff x="6248160" y="2470680"/>
                <a:chExt cx="229680" cy="183600"/>
              </a:xfrm>
            </p:grpSpPr>
            <p:sp>
              <p:nvSpPr>
                <p:cNvPr id="3222" name=""/>
                <p:cNvSpPr/>
                <p:nvPr/>
              </p:nvSpPr>
              <p:spPr>
                <a:xfrm>
                  <a:off x="6248160" y="2654280"/>
                  <a:ext cx="137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 flipV="1">
                  <a:off x="638568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647784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6385680" y="2470680"/>
                  <a:ext cx="9180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6" name=""/>
              <p:cNvGrpSpPr/>
              <p:nvPr/>
            </p:nvGrpSpPr>
            <p:grpSpPr>
              <a:xfrm>
                <a:off x="6469920" y="2470680"/>
                <a:ext cx="229680" cy="183600"/>
                <a:chOff x="6469920" y="2470680"/>
                <a:chExt cx="229680" cy="183600"/>
              </a:xfrm>
            </p:grpSpPr>
            <p:sp>
              <p:nvSpPr>
                <p:cNvPr id="3227" name=""/>
                <p:cNvSpPr/>
                <p:nvPr/>
              </p:nvSpPr>
              <p:spPr>
                <a:xfrm>
                  <a:off x="6469920" y="2654280"/>
                  <a:ext cx="137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 flipV="1">
                  <a:off x="660744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669960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6607440" y="2470680"/>
                  <a:ext cx="9180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1" name=""/>
              <p:cNvGrpSpPr/>
              <p:nvPr/>
            </p:nvGrpSpPr>
            <p:grpSpPr>
              <a:xfrm>
                <a:off x="6707160" y="2470680"/>
                <a:ext cx="229320" cy="183600"/>
                <a:chOff x="6707160" y="2470680"/>
                <a:chExt cx="229320" cy="183600"/>
              </a:xfrm>
            </p:grpSpPr>
            <p:sp>
              <p:nvSpPr>
                <p:cNvPr id="3232" name=""/>
                <p:cNvSpPr/>
                <p:nvPr/>
              </p:nvSpPr>
              <p:spPr>
                <a:xfrm>
                  <a:off x="6707160" y="2654280"/>
                  <a:ext cx="13752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 flipV="1">
                  <a:off x="684468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6936480" y="2470680"/>
                  <a:ext cx="0" cy="18360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6844680" y="2470680"/>
                  <a:ext cx="91800" cy="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6" name=""/>
              <p:cNvSpPr/>
              <p:nvPr/>
            </p:nvSpPr>
            <p:spPr>
              <a:xfrm>
                <a:off x="6936480" y="2654280"/>
                <a:ext cx="9180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7" name=""/>
            <p:cNvGrpSpPr/>
            <p:nvPr/>
          </p:nvGrpSpPr>
          <p:grpSpPr>
            <a:xfrm>
              <a:off x="6724440" y="2581920"/>
              <a:ext cx="238680" cy="551880"/>
              <a:chOff x="6724440" y="2581920"/>
              <a:chExt cx="238680" cy="551880"/>
            </a:xfrm>
          </p:grpSpPr>
          <p:sp>
            <p:nvSpPr>
              <p:cNvPr id="3238" name=""/>
              <p:cNvSpPr/>
              <p:nvPr/>
            </p:nvSpPr>
            <p:spPr>
              <a:xfrm>
                <a:off x="6724440" y="258192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724440" y="267228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724440" y="276552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6248160" y="3143880"/>
              <a:ext cx="780120" cy="183600"/>
              <a:chOff x="6248160" y="3143880"/>
              <a:chExt cx="780120" cy="183600"/>
            </a:xfrm>
          </p:grpSpPr>
          <p:grpSp>
            <p:nvGrpSpPr>
              <p:cNvPr id="3242" name=""/>
              <p:cNvGrpSpPr/>
              <p:nvPr/>
            </p:nvGrpSpPr>
            <p:grpSpPr>
              <a:xfrm>
                <a:off x="6248160" y="3143880"/>
                <a:ext cx="229680" cy="183600"/>
                <a:chOff x="6248160" y="3143880"/>
                <a:chExt cx="229680" cy="183600"/>
              </a:xfrm>
            </p:grpSpPr>
            <p:sp>
              <p:nvSpPr>
                <p:cNvPr id="3243" name=""/>
                <p:cNvSpPr/>
                <p:nvPr/>
              </p:nvSpPr>
              <p:spPr>
                <a:xfrm>
                  <a:off x="624816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 flipV="1">
                  <a:off x="638568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647784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638568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7" name=""/>
              <p:cNvGrpSpPr/>
              <p:nvPr/>
            </p:nvGrpSpPr>
            <p:grpSpPr>
              <a:xfrm>
                <a:off x="6469920" y="3143880"/>
                <a:ext cx="229680" cy="183600"/>
                <a:chOff x="6469920" y="3143880"/>
                <a:chExt cx="229680" cy="183600"/>
              </a:xfrm>
            </p:grpSpPr>
            <p:sp>
              <p:nvSpPr>
                <p:cNvPr id="3248" name=""/>
                <p:cNvSpPr/>
                <p:nvPr/>
              </p:nvSpPr>
              <p:spPr>
                <a:xfrm>
                  <a:off x="646992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 flipV="1">
                  <a:off x="660744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669960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660744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2" name=""/>
              <p:cNvGrpSpPr/>
              <p:nvPr/>
            </p:nvGrpSpPr>
            <p:grpSpPr>
              <a:xfrm>
                <a:off x="6707160" y="3143880"/>
                <a:ext cx="229320" cy="183600"/>
                <a:chOff x="6707160" y="3143880"/>
                <a:chExt cx="229320" cy="183600"/>
              </a:xfrm>
            </p:grpSpPr>
            <p:sp>
              <p:nvSpPr>
                <p:cNvPr id="3253" name=""/>
                <p:cNvSpPr/>
                <p:nvPr/>
              </p:nvSpPr>
              <p:spPr>
                <a:xfrm>
                  <a:off x="670716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flipV="1">
                  <a:off x="684468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693648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684468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7" name=""/>
              <p:cNvSpPr/>
              <p:nvPr/>
            </p:nvSpPr>
            <p:spPr>
              <a:xfrm>
                <a:off x="6936480" y="3327480"/>
                <a:ext cx="9180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8" name=""/>
            <p:cNvSpPr/>
            <p:nvPr/>
          </p:nvSpPr>
          <p:spPr>
            <a:xfrm>
              <a:off x="6339960" y="1671840"/>
              <a:ext cx="354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332400" y="2152440"/>
              <a:ext cx="354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</a:t>
              </a:r>
              <a:r>
                <a:rPr b="0" lang="en-US" sz="9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0" name=""/>
            <p:cNvGrpSpPr/>
            <p:nvPr/>
          </p:nvGrpSpPr>
          <p:grpSpPr>
            <a:xfrm>
              <a:off x="6280920" y="2823120"/>
              <a:ext cx="387360" cy="335880"/>
              <a:chOff x="6280920" y="2823120"/>
              <a:chExt cx="387360" cy="335880"/>
            </a:xfrm>
          </p:grpSpPr>
          <p:sp>
            <p:nvSpPr>
              <p:cNvPr id="3261" name=""/>
              <p:cNvSpPr/>
              <p:nvPr/>
            </p:nvSpPr>
            <p:spPr>
              <a:xfrm>
                <a:off x="6280920" y="2823120"/>
                <a:ext cx="296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ccff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6411240" y="2848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66ccff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3" name=""/>
            <p:cNvGrpSpPr/>
            <p:nvPr/>
          </p:nvGrpSpPr>
          <p:grpSpPr>
            <a:xfrm>
              <a:off x="7498080" y="1968840"/>
              <a:ext cx="780120" cy="183600"/>
              <a:chOff x="7498080" y="1968840"/>
              <a:chExt cx="780120" cy="183600"/>
            </a:xfrm>
          </p:grpSpPr>
          <p:grpSp>
            <p:nvGrpSpPr>
              <p:cNvPr id="3264" name=""/>
              <p:cNvGrpSpPr/>
              <p:nvPr/>
            </p:nvGrpSpPr>
            <p:grpSpPr>
              <a:xfrm>
                <a:off x="7498080" y="1968840"/>
                <a:ext cx="229680" cy="183600"/>
                <a:chOff x="7498080" y="1968840"/>
                <a:chExt cx="229680" cy="183600"/>
              </a:xfrm>
            </p:grpSpPr>
            <p:sp>
              <p:nvSpPr>
                <p:cNvPr id="3265" name=""/>
                <p:cNvSpPr/>
                <p:nvPr/>
              </p:nvSpPr>
              <p:spPr>
                <a:xfrm>
                  <a:off x="749808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flipV="1">
                  <a:off x="763560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772776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763560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9" name=""/>
              <p:cNvGrpSpPr/>
              <p:nvPr/>
            </p:nvGrpSpPr>
            <p:grpSpPr>
              <a:xfrm>
                <a:off x="7719840" y="1968840"/>
                <a:ext cx="229680" cy="183600"/>
                <a:chOff x="7719840" y="1968840"/>
                <a:chExt cx="229680" cy="183600"/>
              </a:xfrm>
            </p:grpSpPr>
            <p:sp>
              <p:nvSpPr>
                <p:cNvPr id="3270" name=""/>
                <p:cNvSpPr/>
                <p:nvPr/>
              </p:nvSpPr>
              <p:spPr>
                <a:xfrm>
                  <a:off x="771984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 flipV="1">
                  <a:off x="785736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794952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785736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4" name=""/>
              <p:cNvGrpSpPr/>
              <p:nvPr/>
            </p:nvGrpSpPr>
            <p:grpSpPr>
              <a:xfrm>
                <a:off x="7957080" y="1968840"/>
                <a:ext cx="229320" cy="183600"/>
                <a:chOff x="7957080" y="1968840"/>
                <a:chExt cx="229320" cy="183600"/>
              </a:xfrm>
            </p:grpSpPr>
            <p:sp>
              <p:nvSpPr>
                <p:cNvPr id="3275" name=""/>
                <p:cNvSpPr/>
                <p:nvPr/>
              </p:nvSpPr>
              <p:spPr>
                <a:xfrm>
                  <a:off x="7957080" y="215244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 flipV="1">
                  <a:off x="8094600" y="19688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8186400" y="196920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8094600" y="196920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9" name=""/>
              <p:cNvSpPr/>
              <p:nvPr/>
            </p:nvSpPr>
            <p:spPr>
              <a:xfrm>
                <a:off x="8186400" y="2152440"/>
                <a:ext cx="918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0" name=""/>
            <p:cNvGrpSpPr/>
            <p:nvPr/>
          </p:nvGrpSpPr>
          <p:grpSpPr>
            <a:xfrm>
              <a:off x="7498080" y="2468880"/>
              <a:ext cx="780120" cy="183600"/>
              <a:chOff x="7498080" y="2468880"/>
              <a:chExt cx="780120" cy="183600"/>
            </a:xfrm>
          </p:grpSpPr>
          <p:grpSp>
            <p:nvGrpSpPr>
              <p:cNvPr id="3281" name=""/>
              <p:cNvGrpSpPr/>
              <p:nvPr/>
            </p:nvGrpSpPr>
            <p:grpSpPr>
              <a:xfrm>
                <a:off x="7498080" y="2468880"/>
                <a:ext cx="229680" cy="183600"/>
                <a:chOff x="7498080" y="2468880"/>
                <a:chExt cx="229680" cy="183600"/>
              </a:xfrm>
            </p:grpSpPr>
            <p:sp>
              <p:nvSpPr>
                <p:cNvPr id="3282" name=""/>
                <p:cNvSpPr/>
                <p:nvPr/>
              </p:nvSpPr>
              <p:spPr>
                <a:xfrm>
                  <a:off x="7498080" y="2652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 flipV="1">
                  <a:off x="7635600" y="2468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7727760" y="2469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7635600" y="246924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6" name=""/>
              <p:cNvGrpSpPr/>
              <p:nvPr/>
            </p:nvGrpSpPr>
            <p:grpSpPr>
              <a:xfrm>
                <a:off x="7719840" y="2468880"/>
                <a:ext cx="229680" cy="183600"/>
                <a:chOff x="7719840" y="2468880"/>
                <a:chExt cx="229680" cy="18360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7719840" y="2652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 flipV="1">
                  <a:off x="7857360" y="2468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7949520" y="2469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7857360" y="246924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1" name=""/>
              <p:cNvGrpSpPr/>
              <p:nvPr/>
            </p:nvGrpSpPr>
            <p:grpSpPr>
              <a:xfrm>
                <a:off x="7957080" y="2468880"/>
                <a:ext cx="229320" cy="183600"/>
                <a:chOff x="7957080" y="2468880"/>
                <a:chExt cx="229320" cy="183600"/>
              </a:xfrm>
            </p:grpSpPr>
            <p:sp>
              <p:nvSpPr>
                <p:cNvPr id="3292" name=""/>
                <p:cNvSpPr/>
                <p:nvPr/>
              </p:nvSpPr>
              <p:spPr>
                <a:xfrm>
                  <a:off x="7957080" y="2652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 flipV="1">
                  <a:off x="8094600" y="2468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8186400" y="2469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8094600" y="246924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6" name=""/>
              <p:cNvSpPr/>
              <p:nvPr/>
            </p:nvSpPr>
            <p:spPr>
              <a:xfrm>
                <a:off x="8186400" y="2652480"/>
                <a:ext cx="918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7" name=""/>
            <p:cNvGrpSpPr/>
            <p:nvPr/>
          </p:nvGrpSpPr>
          <p:grpSpPr>
            <a:xfrm>
              <a:off x="7980120" y="2538720"/>
              <a:ext cx="238680" cy="552600"/>
              <a:chOff x="7980120" y="2538720"/>
              <a:chExt cx="238680" cy="552600"/>
            </a:xfrm>
          </p:grpSpPr>
          <p:sp>
            <p:nvSpPr>
              <p:cNvPr id="3298" name=""/>
              <p:cNvSpPr/>
              <p:nvPr/>
            </p:nvSpPr>
            <p:spPr>
              <a:xfrm>
                <a:off x="7980120" y="253872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980120" y="262908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980120" y="2723040"/>
                <a:ext cx="2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1" name=""/>
            <p:cNvGrpSpPr/>
            <p:nvPr/>
          </p:nvGrpSpPr>
          <p:grpSpPr>
            <a:xfrm>
              <a:off x="7498080" y="3143880"/>
              <a:ext cx="780120" cy="183600"/>
              <a:chOff x="7498080" y="3143880"/>
              <a:chExt cx="780120" cy="183600"/>
            </a:xfrm>
          </p:grpSpPr>
          <p:grpSp>
            <p:nvGrpSpPr>
              <p:cNvPr id="3302" name=""/>
              <p:cNvGrpSpPr/>
              <p:nvPr/>
            </p:nvGrpSpPr>
            <p:grpSpPr>
              <a:xfrm>
                <a:off x="7498080" y="3143880"/>
                <a:ext cx="229680" cy="183600"/>
                <a:chOff x="7498080" y="3143880"/>
                <a:chExt cx="229680" cy="183600"/>
              </a:xfrm>
            </p:grpSpPr>
            <p:sp>
              <p:nvSpPr>
                <p:cNvPr id="3303" name=""/>
                <p:cNvSpPr/>
                <p:nvPr/>
              </p:nvSpPr>
              <p:spPr>
                <a:xfrm>
                  <a:off x="749808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 flipV="1">
                  <a:off x="763560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772776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763560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7" name=""/>
              <p:cNvGrpSpPr/>
              <p:nvPr/>
            </p:nvGrpSpPr>
            <p:grpSpPr>
              <a:xfrm>
                <a:off x="7719840" y="3143880"/>
                <a:ext cx="229680" cy="183600"/>
                <a:chOff x="7719840" y="3143880"/>
                <a:chExt cx="229680" cy="183600"/>
              </a:xfrm>
            </p:grpSpPr>
            <p:sp>
              <p:nvSpPr>
                <p:cNvPr id="3308" name=""/>
                <p:cNvSpPr/>
                <p:nvPr/>
              </p:nvSpPr>
              <p:spPr>
                <a:xfrm>
                  <a:off x="771984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 flipV="1">
                  <a:off x="785736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794952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785736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2" name=""/>
              <p:cNvGrpSpPr/>
              <p:nvPr/>
            </p:nvGrpSpPr>
            <p:grpSpPr>
              <a:xfrm>
                <a:off x="7957080" y="3143880"/>
                <a:ext cx="229320" cy="183600"/>
                <a:chOff x="7957080" y="3143880"/>
                <a:chExt cx="229320" cy="183600"/>
              </a:xfrm>
            </p:grpSpPr>
            <p:sp>
              <p:nvSpPr>
                <p:cNvPr id="3313" name=""/>
                <p:cNvSpPr/>
                <p:nvPr/>
              </p:nvSpPr>
              <p:spPr>
                <a:xfrm>
                  <a:off x="7957080" y="3327480"/>
                  <a:ext cx="13752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 flipV="1">
                  <a:off x="8094600" y="314388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8186400" y="3144240"/>
                  <a:ext cx="0" cy="1832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8094600" y="3144240"/>
                  <a:ext cx="9180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7" name=""/>
              <p:cNvSpPr/>
              <p:nvPr/>
            </p:nvSpPr>
            <p:spPr>
              <a:xfrm>
                <a:off x="8186400" y="3327480"/>
                <a:ext cx="918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8" name=""/>
            <p:cNvSpPr/>
            <p:nvPr/>
          </p:nvSpPr>
          <p:spPr>
            <a:xfrm>
              <a:off x="7752600" y="16912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752600" y="21722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752600" y="2841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1" name=""/>
            <p:cNvGrpSpPr/>
            <p:nvPr/>
          </p:nvGrpSpPr>
          <p:grpSpPr>
            <a:xfrm>
              <a:off x="8326440" y="1937520"/>
              <a:ext cx="429840" cy="1576800"/>
              <a:chOff x="8326440" y="1937520"/>
              <a:chExt cx="429840" cy="1576800"/>
            </a:xfrm>
          </p:grpSpPr>
          <p:sp>
            <p:nvSpPr>
              <p:cNvPr id="3322" name=""/>
              <p:cNvSpPr/>
              <p:nvPr/>
            </p:nvSpPr>
            <p:spPr>
              <a:xfrm>
                <a:off x="8326440" y="1937520"/>
                <a:ext cx="429840" cy="35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8326440" y="2439000"/>
                <a:ext cx="429840" cy="35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8326440" y="3155760"/>
                <a:ext cx="429840" cy="358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5" name=""/>
            <p:cNvGrpSpPr/>
            <p:nvPr/>
          </p:nvGrpSpPr>
          <p:grpSpPr>
            <a:xfrm>
              <a:off x="7036560" y="1937520"/>
              <a:ext cx="429840" cy="1576800"/>
              <a:chOff x="7036560" y="1937520"/>
              <a:chExt cx="429840" cy="1576800"/>
            </a:xfrm>
          </p:grpSpPr>
          <p:sp>
            <p:nvSpPr>
              <p:cNvPr id="3326" name=""/>
              <p:cNvSpPr/>
              <p:nvPr/>
            </p:nvSpPr>
            <p:spPr>
              <a:xfrm>
                <a:off x="7036560" y="1937520"/>
                <a:ext cx="429840" cy="35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7036560" y="2439000"/>
                <a:ext cx="429840" cy="35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7036560" y="3155760"/>
                <a:ext cx="429840" cy="358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9" name=""/>
            <p:cNvSpPr/>
            <p:nvPr/>
          </p:nvSpPr>
          <p:spPr>
            <a:xfrm flipH="1" rot="5400000">
              <a:off x="4885560" y="2224080"/>
              <a:ext cx="1863720" cy="716760"/>
            </a:xfrm>
            <a:custGeom>
              <a:avLst/>
              <a:gdLst>
                <a:gd name="textAreaLeft" fmla="*/ 409680 w 1863720"/>
                <a:gd name="textAreaRight" fmla="*/ 1454040 w 1863720"/>
                <a:gd name="textAreaTop" fmla="*/ 157680 h 716760"/>
                <a:gd name="textAreaBottom" fmla="*/ 559080 h 71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429520" y="2440440"/>
              <a:ext cx="71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D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-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381480" y="2545560"/>
              <a:ext cx="20779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313520" y="2260440"/>
              <a:ext cx="286200" cy="2862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rot="5400000">
              <a:off x="3767760" y="2411640"/>
              <a:ext cx="353520" cy="26568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 rot="5400000">
              <a:off x="4770720" y="2411640"/>
              <a:ext cx="353520" cy="26568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828440" y="4038120"/>
            <a:ext cx="617220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erminal equipment (TE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WDM transmitter/transponder (Tx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Wavelength multiplexer/demultiplexer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Optical amplifier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Optical fiber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722A-1F5C-4B74-A527-A1278406FC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"/>
          <p:cNvSpPr/>
          <p:nvPr/>
        </p:nvSpPr>
        <p:spPr>
          <a:xfrm>
            <a:off x="444960" y="304920"/>
            <a:ext cx="73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SONET/SDH and DWDM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270080" y="2278080"/>
            <a:ext cx="6788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401920" y="2111400"/>
            <a:ext cx="333360" cy="33336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3733920" y="2111400"/>
            <a:ext cx="331560" cy="33336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5129280" y="2111400"/>
            <a:ext cx="333360" cy="33336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6396120" y="2111400"/>
            <a:ext cx="333360" cy="33336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2265480" y="168048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310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rep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595680" y="168048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310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rep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4995720" y="168048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310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rep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6257880" y="168048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310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rep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2849400" y="236772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 - 40 km -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4133880" y="234252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 - 40 km -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5462640" y="236772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 - 40 km -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6694560" y="236772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 - 40 km -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1608120" y="234252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 - 40 km - 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1246320" y="3021120"/>
            <a:ext cx="6788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2378160" y="285588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708360" y="285588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5105520" y="285588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6372360" y="2855880"/>
            <a:ext cx="3315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1246320" y="3753000"/>
            <a:ext cx="6788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2378160" y="3586320"/>
            <a:ext cx="333360" cy="33156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3708360" y="3586320"/>
            <a:ext cx="333360" cy="33156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5105520" y="3586320"/>
            <a:ext cx="333360" cy="33156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6372360" y="3586320"/>
            <a:ext cx="331560" cy="33156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1246320" y="4484520"/>
            <a:ext cx="6788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2378160" y="431784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3708360" y="431784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5105520" y="431784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6372360" y="4317840"/>
            <a:ext cx="3315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1246320" y="5214960"/>
            <a:ext cx="6788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2378160" y="504972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3708360" y="504972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5105520" y="504972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6372360" y="5049720"/>
            <a:ext cx="3315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1246320" y="5946840"/>
            <a:ext cx="6788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2378160" y="578160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3708360" y="578160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5105520" y="5781600"/>
            <a:ext cx="3333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5" name=""/>
          <p:cNvGrpSpPr/>
          <p:nvPr/>
        </p:nvGrpSpPr>
        <p:grpSpPr>
          <a:xfrm>
            <a:off x="685800" y="2011320"/>
            <a:ext cx="841320" cy="4238280"/>
            <a:chOff x="685800" y="2011320"/>
            <a:chExt cx="841320" cy="4238280"/>
          </a:xfrm>
        </p:grpSpPr>
        <p:sp>
          <p:nvSpPr>
            <p:cNvPr id="3376" name=""/>
            <p:cNvSpPr/>
            <p:nvPr/>
          </p:nvSpPr>
          <p:spPr>
            <a:xfrm>
              <a:off x="685800" y="2011320"/>
              <a:ext cx="8413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7520" y="206064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685800" y="2755800"/>
              <a:ext cx="839880" cy="530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7520" y="280332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685800" y="3486240"/>
              <a:ext cx="83988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7520" y="353376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85800" y="4218120"/>
              <a:ext cx="83988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67520" y="426564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685800" y="4949640"/>
              <a:ext cx="839880" cy="532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67520" y="499896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685800" y="5681520"/>
              <a:ext cx="839880" cy="532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67520" y="572940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8" name=""/>
          <p:cNvSpPr/>
          <p:nvPr/>
        </p:nvSpPr>
        <p:spPr>
          <a:xfrm>
            <a:off x="6372360" y="5781600"/>
            <a:ext cx="331560" cy="331920"/>
          </a:xfrm>
          <a:prstGeom prst="diamond">
            <a:avLst/>
          </a:prstGeom>
          <a:solidFill>
            <a:srgbClr val="ff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9" name=""/>
          <p:cNvGrpSpPr/>
          <p:nvPr/>
        </p:nvGrpSpPr>
        <p:grpSpPr>
          <a:xfrm>
            <a:off x="7736040" y="2011320"/>
            <a:ext cx="841320" cy="4239720"/>
            <a:chOff x="7736040" y="2011320"/>
            <a:chExt cx="841320" cy="4239720"/>
          </a:xfrm>
        </p:grpSpPr>
        <p:sp>
          <p:nvSpPr>
            <p:cNvPr id="3390" name=""/>
            <p:cNvSpPr/>
            <p:nvPr/>
          </p:nvSpPr>
          <p:spPr>
            <a:xfrm>
              <a:off x="7737480" y="2011320"/>
              <a:ext cx="83988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819200" y="206064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736040" y="2755800"/>
              <a:ext cx="841320" cy="530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819200" y="280332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736040" y="3486240"/>
              <a:ext cx="8413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819200" y="353376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736040" y="4218120"/>
              <a:ext cx="8413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819200" y="426564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736040" y="4949640"/>
              <a:ext cx="841320" cy="532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819200" y="499896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736040" y="5681520"/>
              <a:ext cx="841320" cy="532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819200" y="573084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3507480" y="837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C80A-9F9D-4875-9F2C-E1CA94051F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"/>
          <p:cNvSpPr/>
          <p:nvPr/>
        </p:nvSpPr>
        <p:spPr>
          <a:xfrm>
            <a:off x="444960" y="304920"/>
            <a:ext cx="73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SONET/SDH and DWDM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4" name=""/>
          <p:cNvGrpSpPr/>
          <p:nvPr/>
        </p:nvGrpSpPr>
        <p:grpSpPr>
          <a:xfrm>
            <a:off x="630360" y="1706400"/>
            <a:ext cx="841320" cy="4238280"/>
            <a:chOff x="630360" y="1706400"/>
            <a:chExt cx="841320" cy="4238280"/>
          </a:xfrm>
        </p:grpSpPr>
        <p:sp>
          <p:nvSpPr>
            <p:cNvPr id="3405" name=""/>
            <p:cNvSpPr/>
            <p:nvPr/>
          </p:nvSpPr>
          <p:spPr>
            <a:xfrm>
              <a:off x="630360" y="1706400"/>
              <a:ext cx="841320" cy="532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12080" y="175572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30360" y="2450880"/>
              <a:ext cx="839520" cy="530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12080" y="249876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630360" y="3181320"/>
              <a:ext cx="8395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2080" y="322884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630360" y="3913200"/>
              <a:ext cx="8395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2080" y="396072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630360" y="4645080"/>
              <a:ext cx="8395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12080" y="469404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30360" y="5376960"/>
              <a:ext cx="8395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12080" y="542448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7" name=""/>
          <p:cNvGrpSpPr/>
          <p:nvPr/>
        </p:nvGrpSpPr>
        <p:grpSpPr>
          <a:xfrm>
            <a:off x="7661160" y="1706400"/>
            <a:ext cx="843120" cy="4239720"/>
            <a:chOff x="7661160" y="1706400"/>
            <a:chExt cx="843120" cy="4239720"/>
          </a:xfrm>
        </p:grpSpPr>
        <p:sp>
          <p:nvSpPr>
            <p:cNvPr id="3418" name=""/>
            <p:cNvSpPr/>
            <p:nvPr/>
          </p:nvSpPr>
          <p:spPr>
            <a:xfrm>
              <a:off x="7662960" y="1706400"/>
              <a:ext cx="839520" cy="532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746120" y="175572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7662960" y="2450880"/>
              <a:ext cx="841320" cy="530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746120" y="249876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7661160" y="3181320"/>
              <a:ext cx="8413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744680" y="322884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662960" y="3913200"/>
              <a:ext cx="8413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746120" y="396072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662960" y="4645080"/>
              <a:ext cx="8413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7746120" y="469404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7662960" y="5376960"/>
              <a:ext cx="841320" cy="531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7746120" y="542592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0" name=""/>
          <p:cNvSpPr/>
          <p:nvPr/>
        </p:nvSpPr>
        <p:spPr>
          <a:xfrm>
            <a:off x="2738520" y="368316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1608120" y="3417840"/>
            <a:ext cx="838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1608120" y="3951360"/>
            <a:ext cx="838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 rot="5400000">
            <a:off x="3461760" y="35686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2065320" y="346860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6446880" y="3417840"/>
            <a:ext cx="838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6446880" y="3951360"/>
            <a:ext cx="838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6904080" y="349416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 rot="5400000">
            <a:off x="4986000" y="35686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3840480" y="8996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 flipV="1" rot="5400000">
            <a:off x="2235240" y="3567600"/>
            <a:ext cx="762120" cy="228600"/>
          </a:xfrm>
          <a:custGeom>
            <a:avLst/>
            <a:gdLst>
              <a:gd name="textAreaLeft" fmla="*/ 167400 w 762120"/>
              <a:gd name="textAreaRight" fmla="*/ 594720 w 7621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 flipH="1" flipV="1" rot="16200000">
            <a:off x="5968080" y="3567600"/>
            <a:ext cx="762120" cy="228600"/>
          </a:xfrm>
          <a:custGeom>
            <a:avLst/>
            <a:gdLst>
              <a:gd name="textAreaLeft" fmla="*/ 167400 w 762120"/>
              <a:gd name="textAreaRight" fmla="*/ 594720 w 7621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2" name=""/>
          <p:cNvGrpSpPr/>
          <p:nvPr/>
        </p:nvGrpSpPr>
        <p:grpSpPr>
          <a:xfrm>
            <a:off x="1836000" y="2935440"/>
            <a:ext cx="556920" cy="1509480"/>
            <a:chOff x="1836000" y="2935440"/>
            <a:chExt cx="556920" cy="1509480"/>
          </a:xfrm>
        </p:grpSpPr>
        <p:sp>
          <p:nvSpPr>
            <p:cNvPr id="3443" name=""/>
            <p:cNvSpPr/>
            <p:nvPr/>
          </p:nvSpPr>
          <p:spPr>
            <a:xfrm>
              <a:off x="1836000" y="293544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836360" y="3925800"/>
              <a:ext cx="380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2084040" y="4037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6" name=""/>
          <p:cNvGrpSpPr/>
          <p:nvPr/>
        </p:nvGrpSpPr>
        <p:grpSpPr>
          <a:xfrm>
            <a:off x="6628680" y="2946240"/>
            <a:ext cx="556920" cy="1509480"/>
            <a:chOff x="6628680" y="2946240"/>
            <a:chExt cx="556920" cy="1509480"/>
          </a:xfrm>
        </p:grpSpPr>
        <p:sp>
          <p:nvSpPr>
            <p:cNvPr id="3447" name=""/>
            <p:cNvSpPr/>
            <p:nvPr/>
          </p:nvSpPr>
          <p:spPr>
            <a:xfrm>
              <a:off x="6628680" y="294624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6629040" y="3936600"/>
              <a:ext cx="380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876720" y="4048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A07F-9E0F-477F-8423-9180BD3595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WDM Introduction</a:t>
            </a:r>
            <a:br>
              <a:rPr sz="20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Erbium-Doped Fiber Amplifiers (EDFA)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3451" name=""/>
          <p:cNvGrpSpPr/>
          <p:nvPr/>
        </p:nvGrpSpPr>
        <p:grpSpPr>
          <a:xfrm>
            <a:off x="457200" y="1294200"/>
            <a:ext cx="8077320" cy="1983960"/>
            <a:chOff x="457200" y="1294200"/>
            <a:chExt cx="8077320" cy="1983960"/>
          </a:xfrm>
        </p:grpSpPr>
        <p:sp>
          <p:nvSpPr>
            <p:cNvPr id="3452" name=""/>
            <p:cNvSpPr/>
            <p:nvPr/>
          </p:nvSpPr>
          <p:spPr>
            <a:xfrm>
              <a:off x="1066680" y="2362320"/>
              <a:ext cx="69343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066680" y="2362320"/>
              <a:ext cx="0" cy="9144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2476440" y="2362320"/>
              <a:ext cx="0" cy="9144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772080" y="2362320"/>
              <a:ext cx="0" cy="9144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5181480" y="2362320"/>
              <a:ext cx="0" cy="9144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6477120" y="2362320"/>
              <a:ext cx="0" cy="9144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886880" y="2362320"/>
              <a:ext cx="0" cy="9144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2311560" y="2195640"/>
              <a:ext cx="333360" cy="333360"/>
            </a:xfrm>
            <a:prstGeom prst="diamond">
              <a:avLst/>
            </a:prstGeom>
            <a:solidFill>
              <a:srgbClr val="ff66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3605040" y="2195640"/>
              <a:ext cx="331920" cy="333360"/>
            </a:xfrm>
            <a:prstGeom prst="diamond">
              <a:avLst/>
            </a:prstGeom>
            <a:solidFill>
              <a:srgbClr val="ff66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976640" y="2195640"/>
              <a:ext cx="333720" cy="333360"/>
            </a:xfrm>
            <a:prstGeom prst="diamond">
              <a:avLst/>
            </a:prstGeom>
            <a:solidFill>
              <a:srgbClr val="ff66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6289560" y="2195640"/>
              <a:ext cx="333360" cy="333360"/>
            </a:xfrm>
            <a:prstGeom prst="diamond">
              <a:avLst/>
            </a:prstGeom>
            <a:solidFill>
              <a:srgbClr val="ff66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145960" y="181260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Re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441440" y="207072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0 k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457200" y="2019240"/>
              <a:ext cx="60948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852640" y="20707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238640" y="20707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5581800" y="20707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924680" y="2019240"/>
              <a:ext cx="6098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891480" y="2056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2663640" y="1294200"/>
              <a:ext cx="35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efore Optical Amplif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430440" y="181260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Re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784400" y="181260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Re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003720" y="181260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Re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1219320" y="2743200"/>
              <a:ext cx="1143000" cy="534960"/>
              <a:chOff x="1219320" y="2743200"/>
              <a:chExt cx="1143000" cy="534960"/>
            </a:xfrm>
          </p:grpSpPr>
          <p:sp>
            <p:nvSpPr>
              <p:cNvPr id="3476" name=""/>
              <p:cNvSpPr/>
              <p:nvPr/>
            </p:nvSpPr>
            <p:spPr>
              <a:xfrm>
                <a:off x="1219320" y="2743200"/>
                <a:ext cx="1143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1294200" y="2818440"/>
                <a:ext cx="99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B1, J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2552760" y="2743200"/>
              <a:ext cx="1143000" cy="534960"/>
              <a:chOff x="2552760" y="2743200"/>
              <a:chExt cx="1143000" cy="534960"/>
            </a:xfrm>
          </p:grpSpPr>
          <p:sp>
            <p:nvSpPr>
              <p:cNvPr id="3479" name=""/>
              <p:cNvSpPr/>
              <p:nvPr/>
            </p:nvSpPr>
            <p:spPr>
              <a:xfrm>
                <a:off x="2552760" y="2743200"/>
                <a:ext cx="1143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2627640" y="2818440"/>
                <a:ext cx="99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B1, J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1" name=""/>
            <p:cNvGrpSpPr/>
            <p:nvPr/>
          </p:nvGrpSpPr>
          <p:grpSpPr>
            <a:xfrm>
              <a:off x="3886200" y="2743200"/>
              <a:ext cx="1143000" cy="534960"/>
              <a:chOff x="3886200" y="2743200"/>
              <a:chExt cx="1143000" cy="534960"/>
            </a:xfrm>
          </p:grpSpPr>
          <p:sp>
            <p:nvSpPr>
              <p:cNvPr id="3482" name=""/>
              <p:cNvSpPr/>
              <p:nvPr/>
            </p:nvSpPr>
            <p:spPr>
              <a:xfrm>
                <a:off x="3886200" y="2743200"/>
                <a:ext cx="1143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3961080" y="2818440"/>
                <a:ext cx="99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B1, J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4" name=""/>
            <p:cNvGrpSpPr/>
            <p:nvPr/>
          </p:nvGrpSpPr>
          <p:grpSpPr>
            <a:xfrm>
              <a:off x="5257800" y="2743200"/>
              <a:ext cx="1143000" cy="534960"/>
              <a:chOff x="5257800" y="2743200"/>
              <a:chExt cx="1143000" cy="534960"/>
            </a:xfrm>
          </p:grpSpPr>
          <p:sp>
            <p:nvSpPr>
              <p:cNvPr id="3485" name=""/>
              <p:cNvSpPr/>
              <p:nvPr/>
            </p:nvSpPr>
            <p:spPr>
              <a:xfrm>
                <a:off x="5257800" y="2743200"/>
                <a:ext cx="1143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5332680" y="2818440"/>
                <a:ext cx="99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B1, J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6629400" y="2743200"/>
              <a:ext cx="1143000" cy="534960"/>
              <a:chOff x="6629400" y="2743200"/>
              <a:chExt cx="1143000" cy="534960"/>
            </a:xfrm>
          </p:grpSpPr>
          <p:sp>
            <p:nvSpPr>
              <p:cNvPr id="3488" name=""/>
              <p:cNvSpPr/>
              <p:nvPr/>
            </p:nvSpPr>
            <p:spPr>
              <a:xfrm>
                <a:off x="6629400" y="2743200"/>
                <a:ext cx="11430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704280" y="2818440"/>
                <a:ext cx="99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B1, J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0" name=""/>
          <p:cNvSpPr/>
          <p:nvPr/>
        </p:nvSpPr>
        <p:spPr>
          <a:xfrm>
            <a:off x="1447920" y="5243400"/>
            <a:ext cx="6095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 rot="5400000">
            <a:off x="3099240" y="5101560"/>
            <a:ext cx="376200" cy="2826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 rot="5400000">
            <a:off x="5591520" y="5101560"/>
            <a:ext cx="376200" cy="2826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749680" y="425196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fter Optical 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 flipV="1" rot="5400000">
            <a:off x="952560" y="5128200"/>
            <a:ext cx="762120" cy="228600"/>
          </a:xfrm>
          <a:custGeom>
            <a:avLst/>
            <a:gdLst>
              <a:gd name="textAreaLeft" fmla="*/ 167400 w 762120"/>
              <a:gd name="textAreaRight" fmla="*/ 594720 w 7621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457200" y="4900680"/>
            <a:ext cx="6094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7924680" y="4900680"/>
            <a:ext cx="609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H="1" flipV="1" rot="16200000">
            <a:off x="7200000" y="5205240"/>
            <a:ext cx="761760" cy="228600"/>
          </a:xfrm>
          <a:custGeom>
            <a:avLst/>
            <a:gdLst>
              <a:gd name="textAreaLeft" fmla="*/ 167400 w 761760"/>
              <a:gd name="textAreaRight" fmla="*/ 594360 w 76176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1795680" y="4899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5 - 10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3884760" y="4899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5 - 10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6170760" y="4899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5 - 10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1447920" y="5319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7467480" y="524340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3" name=""/>
          <p:cNvGrpSpPr/>
          <p:nvPr/>
        </p:nvGrpSpPr>
        <p:grpSpPr>
          <a:xfrm>
            <a:off x="1676520" y="5548320"/>
            <a:ext cx="5713560" cy="776880"/>
            <a:chOff x="1676520" y="5548320"/>
            <a:chExt cx="5713560" cy="776880"/>
          </a:xfrm>
        </p:grpSpPr>
        <p:sp>
          <p:nvSpPr>
            <p:cNvPr id="3504" name=""/>
            <p:cNvSpPr/>
            <p:nvPr/>
          </p:nvSpPr>
          <p:spPr>
            <a:xfrm>
              <a:off x="1676520" y="5548320"/>
              <a:ext cx="5713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035600" y="586548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B1, J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6A73-1419-493F-B3AD-C5C2C2A122F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WDM Introduction</a:t>
            </a: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Summary of WDM Benefit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s bandwidth capacity of fiber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ddresses fiber exhaust in long-haul rout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duces transmission cos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mproves performanc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hances protection (virtual and physical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ables rapid service deploymen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duces network elemen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EA96-9E34-4902-B386-E59B464579E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152280" y="2209680"/>
            <a:ext cx="8686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merging Trends: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IP over DWDM</a:t>
            </a:r>
            <a:endParaRPr b="1" lang="en-US" sz="60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1D36-2CA6-45E3-B8FE-D69B6E8ECBD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915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Advances in Router Port Speed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510" name=""/>
          <p:cNvSpPr/>
          <p:nvPr/>
        </p:nvSpPr>
        <p:spPr>
          <a:xfrm>
            <a:off x="914400" y="1143000"/>
            <a:ext cx="0" cy="5105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901800" y="6248520"/>
            <a:ext cx="808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191880" y="5987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06000" y="51188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77720" y="396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363600" y="2590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249120" y="1751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77400" y="11422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611280" y="6317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38080" y="52578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838080" y="41148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838080" y="28195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914400" y="3581280"/>
            <a:ext cx="6934320" cy="0"/>
          </a:xfrm>
          <a:prstGeom prst="line">
            <a:avLst/>
          </a:prstGeom>
          <a:ln w="6480">
            <a:solidFill>
              <a:srgbClr val="ff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914400" y="2819520"/>
            <a:ext cx="6934320" cy="0"/>
          </a:xfrm>
          <a:prstGeom prst="line">
            <a:avLst/>
          </a:prstGeom>
          <a:ln w="6480">
            <a:solidFill>
              <a:srgbClr val="ff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914400" y="1981080"/>
            <a:ext cx="6934320" cy="0"/>
          </a:xfrm>
          <a:prstGeom prst="line">
            <a:avLst/>
          </a:prstGeom>
          <a:ln w="6480">
            <a:solidFill>
              <a:srgbClr val="ff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838080" y="19810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503440" y="6317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4376880" y="6317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6249960" y="6315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8123400" y="6315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2806560" y="6248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4711680" y="6248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6616800" y="6248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8521560" y="6248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001160" y="35809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2.5 G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000800" y="281916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10 G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1000800" y="19807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100 G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1000800" y="114264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Times New Roman"/>
              </a:rPr>
              <a:t>400 Gp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914400" y="2819520"/>
            <a:ext cx="4114800" cy="17524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V="1">
            <a:off x="2057400" y="5105160"/>
            <a:ext cx="2514600" cy="10666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 flipV="1">
            <a:off x="4572000" y="4038480"/>
            <a:ext cx="1371600" cy="106704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 flipV="1">
            <a:off x="4343400" y="2209680"/>
            <a:ext cx="762120" cy="9907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5092560" y="1599840"/>
            <a:ext cx="1155960" cy="62244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V="1">
            <a:off x="6324480" y="837720"/>
            <a:ext cx="1231920" cy="69876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4572000" y="4343400"/>
            <a:ext cx="457200" cy="8380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 flipV="1">
            <a:off x="5029200" y="3580920"/>
            <a:ext cx="1143000" cy="7621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6172200" y="2362320"/>
            <a:ext cx="685800" cy="1218960"/>
          </a:xfrm>
          <a:custGeom>
            <a:avLst/>
            <a:gdLst/>
            <a:ahLst/>
            <a:rect l="l" t="t" r="r" b="b"/>
            <a:pathLst>
              <a:path w="432" h="768">
                <a:moveTo>
                  <a:pt x="0" y="768"/>
                </a:moveTo>
                <a:cubicBezTo>
                  <a:pt x="132" y="592"/>
                  <a:pt x="264" y="416"/>
                  <a:pt x="336" y="288"/>
                </a:cubicBezTo>
                <a:cubicBezTo>
                  <a:pt x="408" y="160"/>
                  <a:pt x="416" y="48"/>
                  <a:pt x="432" y="0"/>
                </a:cubicBezTo>
              </a:path>
            </a:pathLst>
          </a:custGeom>
          <a:noFill/>
          <a:ln w="5724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 flipV="1">
            <a:off x="4800600" y="4863600"/>
            <a:ext cx="304920" cy="68580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5118120" y="4419720"/>
            <a:ext cx="457200" cy="45720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5562720" y="4140360"/>
            <a:ext cx="279360" cy="27936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5829480" y="3581280"/>
            <a:ext cx="342720" cy="57168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6146640" y="2463840"/>
            <a:ext cx="685800" cy="1219320"/>
          </a:xfrm>
          <a:custGeom>
            <a:avLst/>
            <a:gdLst/>
            <a:ahLst/>
            <a:rect l="l" t="t" r="r" b="b"/>
            <a:pathLst>
              <a:path w="432" h="768">
                <a:moveTo>
                  <a:pt x="0" y="768"/>
                </a:moveTo>
                <a:cubicBezTo>
                  <a:pt x="132" y="592"/>
                  <a:pt x="264" y="416"/>
                  <a:pt x="336" y="288"/>
                </a:cubicBezTo>
                <a:cubicBezTo>
                  <a:pt x="408" y="160"/>
                  <a:pt x="416" y="48"/>
                  <a:pt x="432" y="0"/>
                </a:cubicBezTo>
              </a:path>
            </a:pathLst>
          </a:custGeom>
          <a:noFill/>
          <a:ln w="57240">
            <a:solidFill>
              <a:srgbClr val="ff99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 flipV="1">
            <a:off x="5943600" y="3733920"/>
            <a:ext cx="304920" cy="30456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6248520" y="3200400"/>
            <a:ext cx="304560" cy="533520"/>
          </a:xfrm>
          <a:prstGeom prst="line">
            <a:avLst/>
          </a:prstGeom>
          <a:ln w="57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5029200" y="2514600"/>
            <a:ext cx="1600200" cy="30492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192"/>
                </a:moveTo>
                <a:cubicBezTo>
                  <a:pt x="252" y="136"/>
                  <a:pt x="504" y="80"/>
                  <a:pt x="672" y="48"/>
                </a:cubicBezTo>
                <a:cubicBezTo>
                  <a:pt x="840" y="16"/>
                  <a:pt x="952" y="8"/>
                  <a:pt x="1008" y="0"/>
                </a:cubicBezTo>
              </a:path>
            </a:pathLst>
          </a:custGeom>
          <a:noFill/>
          <a:ln w="5724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2210760" y="396180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TDM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4268160" y="14472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WDM + T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4192920" y="362520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2814480" y="50428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imes New Roman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192280" y="495216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IP ro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8046000" y="59551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v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9321B-5E2D-44ED-916A-0F5773FB87B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1447920"/>
            <a:ext cx="6553080" cy="495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Evolution of the Public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What is Optical Networking?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46" name=""/>
          <p:cNvSpPr/>
          <p:nvPr/>
        </p:nvSpPr>
        <p:spPr>
          <a:xfrm>
            <a:off x="1600920" y="156780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ne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- - - - &gt;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ber (transpo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1640" y="210096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ne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- - - - &gt;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DM (2 lamb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710800"/>
            <a:ext cx="58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net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- - - - &gt; &gt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WDM (fiber multi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03760" y="350460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- - - - &gt; &gt;        DWDM (fiber multi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39800" y="4470120"/>
            <a:ext cx="476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- - - &gt; &gt;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lligent Optical 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witching,  protec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S, C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2000" y="4313160"/>
            <a:ext cx="14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t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2000" y="3200040"/>
            <a:ext cx="148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920" y="579060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-optical network (routed lamb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656D-BDC7-40E3-BA09-75C84E13D1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"/>
          <p:cNvSpPr/>
          <p:nvPr/>
        </p:nvSpPr>
        <p:spPr>
          <a:xfrm>
            <a:off x="708120" y="2666880"/>
            <a:ext cx="7617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708120" y="3276720"/>
            <a:ext cx="7617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402480" y="1828800"/>
            <a:ext cx="97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O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089000" y="274320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5" name=""/>
          <p:cNvGrpSpPr/>
          <p:nvPr/>
        </p:nvGrpSpPr>
        <p:grpSpPr>
          <a:xfrm>
            <a:off x="5029200" y="1292760"/>
            <a:ext cx="418680" cy="534600"/>
            <a:chOff x="5029200" y="1292760"/>
            <a:chExt cx="418680" cy="534600"/>
          </a:xfrm>
        </p:grpSpPr>
        <p:sp>
          <p:nvSpPr>
            <p:cNvPr id="3566" name=""/>
            <p:cNvSpPr/>
            <p:nvPr/>
          </p:nvSpPr>
          <p:spPr>
            <a:xfrm flipV="1">
              <a:off x="5447880" y="1295280"/>
              <a:ext cx="0" cy="531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V="1">
              <a:off x="5245920" y="1292760"/>
              <a:ext cx="0" cy="531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 flipV="1">
              <a:off x="5029200" y="1296360"/>
              <a:ext cx="0" cy="531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9" name=""/>
          <p:cNvSpPr/>
          <p:nvPr/>
        </p:nvSpPr>
        <p:spPr>
          <a:xfrm>
            <a:off x="2284560" y="1898640"/>
            <a:ext cx="6400800" cy="3662280"/>
          </a:xfrm>
          <a:prstGeom prst="ellipse">
            <a:avLst/>
          </a:prstGeom>
          <a:gradFill rotWithShape="0">
            <a:gsLst>
              <a:gs pos="0">
                <a:srgbClr val="57ea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3503520" y="2741760"/>
            <a:ext cx="4114800" cy="19810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839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Emerging Trends: IP over DWD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ractical Implication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572" name=""/>
          <p:cNvSpPr/>
          <p:nvPr/>
        </p:nvSpPr>
        <p:spPr>
          <a:xfrm>
            <a:off x="3876840" y="2975040"/>
            <a:ext cx="3348000" cy="1474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3" name=""/>
          <p:cNvGrpSpPr/>
          <p:nvPr/>
        </p:nvGrpSpPr>
        <p:grpSpPr>
          <a:xfrm>
            <a:off x="1903320" y="2887560"/>
            <a:ext cx="534600" cy="418680"/>
            <a:chOff x="1903320" y="2887560"/>
            <a:chExt cx="534600" cy="418680"/>
          </a:xfrm>
        </p:grpSpPr>
        <p:sp>
          <p:nvSpPr>
            <p:cNvPr id="3574" name=""/>
            <p:cNvSpPr/>
            <p:nvPr/>
          </p:nvSpPr>
          <p:spPr>
            <a:xfrm>
              <a:off x="1904400" y="330624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906920" y="310428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903320" y="288756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2124000" y="2695680"/>
            <a:ext cx="766800" cy="750960"/>
            <a:chOff x="2124000" y="2695680"/>
            <a:chExt cx="766800" cy="750960"/>
          </a:xfrm>
        </p:grpSpPr>
        <p:sp>
          <p:nvSpPr>
            <p:cNvPr id="3578" name=""/>
            <p:cNvSpPr/>
            <p:nvPr/>
          </p:nvSpPr>
          <p:spPr>
            <a:xfrm>
              <a:off x="2124000" y="2709720"/>
              <a:ext cx="766800" cy="736920"/>
            </a:xfrm>
            <a:prstGeom prst="rect">
              <a:avLst/>
            </a:prstGeom>
            <a:gradFill rotWithShape="0">
              <a:gsLst>
                <a:gs pos="0">
                  <a:srgbClr val="b146b1"/>
                </a:gs>
                <a:gs pos="100000">
                  <a:srgbClr val="ff66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2269800" y="3019320"/>
              <a:ext cx="48924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0" y="174"/>
                  </a:moveTo>
                  <a:lnTo>
                    <a:pt x="5" y="174"/>
                  </a:lnTo>
                  <a:lnTo>
                    <a:pt x="3" y="174"/>
                  </a:lnTo>
                  <a:lnTo>
                    <a:pt x="97" y="174"/>
                  </a:lnTo>
                  <a:lnTo>
                    <a:pt x="262" y="0"/>
                  </a:lnTo>
                  <a:lnTo>
                    <a:pt x="369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280960" y="3019320"/>
              <a:ext cx="48888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369" y="174"/>
                  </a:moveTo>
                  <a:lnTo>
                    <a:pt x="363" y="174"/>
                  </a:lnTo>
                  <a:lnTo>
                    <a:pt x="365" y="174"/>
                  </a:lnTo>
                  <a:lnTo>
                    <a:pt x="271" y="174"/>
                  </a:lnTo>
                  <a:lnTo>
                    <a:pt x="107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284920" y="2695680"/>
              <a:ext cx="47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Frutiger 45 Light"/>
                </a:rPr>
                <a:t>D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2" name=""/>
          <p:cNvSpPr/>
          <p:nvPr/>
        </p:nvSpPr>
        <p:spPr>
          <a:xfrm>
            <a:off x="7746840" y="4962600"/>
            <a:ext cx="103320" cy="95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4686480" y="3500280"/>
            <a:ext cx="1689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55 Roman"/>
              </a:rPr>
              <a:t>SONET/SD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55 Roman"/>
              </a:rPr>
              <a:t>Protected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4" name=""/>
          <p:cNvGrpSpPr/>
          <p:nvPr/>
        </p:nvGrpSpPr>
        <p:grpSpPr>
          <a:xfrm>
            <a:off x="4876920" y="1446120"/>
            <a:ext cx="766800" cy="750960"/>
            <a:chOff x="4876920" y="1446120"/>
            <a:chExt cx="766800" cy="750960"/>
          </a:xfrm>
        </p:grpSpPr>
        <p:sp>
          <p:nvSpPr>
            <p:cNvPr id="3585" name=""/>
            <p:cNvSpPr/>
            <p:nvPr/>
          </p:nvSpPr>
          <p:spPr>
            <a:xfrm>
              <a:off x="4876920" y="1460160"/>
              <a:ext cx="766800" cy="736920"/>
            </a:xfrm>
            <a:prstGeom prst="rect">
              <a:avLst/>
            </a:prstGeom>
            <a:gradFill rotWithShape="0">
              <a:gsLst>
                <a:gs pos="0">
                  <a:srgbClr val="b146b1"/>
                </a:gs>
                <a:gs pos="100000">
                  <a:srgbClr val="ff66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022720" y="1769760"/>
              <a:ext cx="48924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0" y="174"/>
                  </a:moveTo>
                  <a:lnTo>
                    <a:pt x="5" y="174"/>
                  </a:lnTo>
                  <a:lnTo>
                    <a:pt x="3" y="174"/>
                  </a:lnTo>
                  <a:lnTo>
                    <a:pt x="97" y="174"/>
                  </a:lnTo>
                  <a:lnTo>
                    <a:pt x="262" y="0"/>
                  </a:lnTo>
                  <a:lnTo>
                    <a:pt x="369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033880" y="1769760"/>
              <a:ext cx="48888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369" y="174"/>
                  </a:moveTo>
                  <a:lnTo>
                    <a:pt x="363" y="174"/>
                  </a:lnTo>
                  <a:lnTo>
                    <a:pt x="365" y="174"/>
                  </a:lnTo>
                  <a:lnTo>
                    <a:pt x="271" y="174"/>
                  </a:lnTo>
                  <a:lnTo>
                    <a:pt x="107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037840" y="1446120"/>
              <a:ext cx="47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Frutiger 45 Light"/>
                </a:rPr>
                <a:t>D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9" name=""/>
          <p:cNvSpPr/>
          <p:nvPr/>
        </p:nvSpPr>
        <p:spPr>
          <a:xfrm flipH="1" rot="17833200">
            <a:off x="4073760" y="43038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H="1" rot="4168800">
            <a:off x="6436800" y="415116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1" name="CO%20switch" descr=""/>
          <p:cNvPicPr/>
          <p:nvPr/>
        </p:nvPicPr>
        <p:blipFill>
          <a:blip r:embed="rId2"/>
          <a:stretch/>
        </p:blipFill>
        <p:spPr>
          <a:xfrm>
            <a:off x="1393920" y="2514600"/>
            <a:ext cx="549360" cy="914400"/>
          </a:xfrm>
          <a:prstGeom prst="rect">
            <a:avLst/>
          </a:prstGeom>
          <a:ln w="0">
            <a:noFill/>
          </a:ln>
        </p:spPr>
      </p:pic>
      <p:sp>
        <p:nvSpPr>
          <p:cNvPr id="3592" name=""/>
          <p:cNvSpPr/>
          <p:nvPr/>
        </p:nvSpPr>
        <p:spPr>
          <a:xfrm flipV="1" rot="10800000">
            <a:off x="4974840" y="2513520"/>
            <a:ext cx="1066680" cy="609480"/>
          </a:xfrm>
          <a:custGeom>
            <a:avLst/>
            <a:gdLst>
              <a:gd name="textAreaLeft" fmla="*/ 234360 w 1066680"/>
              <a:gd name="textAreaRight" fmla="*/ 832320 w 106668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218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5229720" y="2590920"/>
            <a:ext cx="619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So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A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 flipH="1" rot="5400000">
            <a:off x="6802920" y="3352680"/>
            <a:ext cx="1067040" cy="609480"/>
          </a:xfrm>
          <a:custGeom>
            <a:avLst/>
            <a:gdLst>
              <a:gd name="textAreaLeft" fmla="*/ 234720 w 1067040"/>
              <a:gd name="textAreaRight" fmla="*/ 832320 w 106704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218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6996600" y="3429000"/>
            <a:ext cx="619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So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A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3951360" y="2423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C-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7" name=""/>
          <p:cNvGrpSpPr/>
          <p:nvPr/>
        </p:nvGrpSpPr>
        <p:grpSpPr>
          <a:xfrm>
            <a:off x="2917800" y="2971800"/>
            <a:ext cx="456840" cy="304920"/>
            <a:chOff x="2917800" y="2971800"/>
            <a:chExt cx="456840" cy="304920"/>
          </a:xfrm>
        </p:grpSpPr>
        <p:sp>
          <p:nvSpPr>
            <p:cNvPr id="3598" name=""/>
            <p:cNvSpPr/>
            <p:nvPr/>
          </p:nvSpPr>
          <p:spPr>
            <a:xfrm>
              <a:off x="2917800" y="29718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917800" y="312408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917800" y="327672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5432400" y="4952880"/>
            <a:ext cx="766440" cy="1295280"/>
            <a:chOff x="5432400" y="4952880"/>
            <a:chExt cx="766440" cy="1295280"/>
          </a:xfrm>
        </p:grpSpPr>
        <p:grpSp>
          <p:nvGrpSpPr>
            <p:cNvPr id="3602" name=""/>
            <p:cNvGrpSpPr/>
            <p:nvPr/>
          </p:nvGrpSpPr>
          <p:grpSpPr>
            <a:xfrm>
              <a:off x="5584680" y="5713560"/>
              <a:ext cx="418680" cy="534600"/>
              <a:chOff x="5584680" y="5713560"/>
              <a:chExt cx="418680" cy="534600"/>
            </a:xfrm>
          </p:grpSpPr>
          <p:sp>
            <p:nvSpPr>
              <p:cNvPr id="3603" name=""/>
              <p:cNvSpPr/>
              <p:nvPr/>
            </p:nvSpPr>
            <p:spPr>
              <a:xfrm flipV="1">
                <a:off x="6003360" y="5716080"/>
                <a:ext cx="0" cy="5310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 flipV="1">
                <a:off x="5801400" y="5713560"/>
                <a:ext cx="0" cy="5310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 flipV="1">
                <a:off x="5584680" y="5717160"/>
                <a:ext cx="0" cy="5310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6" name=""/>
            <p:cNvGrpSpPr/>
            <p:nvPr/>
          </p:nvGrpSpPr>
          <p:grpSpPr>
            <a:xfrm>
              <a:off x="5432400" y="5256000"/>
              <a:ext cx="766440" cy="750960"/>
              <a:chOff x="5432400" y="5256000"/>
              <a:chExt cx="766440" cy="750960"/>
            </a:xfrm>
          </p:grpSpPr>
          <p:sp>
            <p:nvSpPr>
              <p:cNvPr id="3607" name=""/>
              <p:cNvSpPr/>
              <p:nvPr/>
            </p:nvSpPr>
            <p:spPr>
              <a:xfrm>
                <a:off x="5432400" y="5270040"/>
                <a:ext cx="766440" cy="736920"/>
              </a:xfrm>
              <a:prstGeom prst="rect">
                <a:avLst/>
              </a:prstGeom>
              <a:gradFill rotWithShape="0">
                <a:gsLst>
                  <a:gs pos="0">
                    <a:srgbClr val="b146b1"/>
                  </a:gs>
                  <a:gs pos="100000">
                    <a:srgbClr val="ff66f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5577840" y="5579640"/>
                <a:ext cx="488880" cy="370080"/>
              </a:xfrm>
              <a:custGeom>
                <a:avLst/>
                <a:gdLst/>
                <a:ahLst/>
                <a:rect l="l" t="t" r="r" b="b"/>
                <a:pathLst>
                  <a:path w="370" h="175">
                    <a:moveTo>
                      <a:pt x="0" y="174"/>
                    </a:moveTo>
                    <a:lnTo>
                      <a:pt x="5" y="174"/>
                    </a:lnTo>
                    <a:lnTo>
                      <a:pt x="3" y="174"/>
                    </a:lnTo>
                    <a:lnTo>
                      <a:pt x="97" y="174"/>
                    </a:lnTo>
                    <a:lnTo>
                      <a:pt x="262" y="0"/>
                    </a:lnTo>
                    <a:lnTo>
                      <a:pt x="369" y="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589000" y="5579640"/>
                <a:ext cx="488520" cy="370080"/>
              </a:xfrm>
              <a:custGeom>
                <a:avLst/>
                <a:gdLst/>
                <a:ahLst/>
                <a:rect l="l" t="t" r="r" b="b"/>
                <a:pathLst>
                  <a:path w="370" h="175">
                    <a:moveTo>
                      <a:pt x="369" y="174"/>
                    </a:moveTo>
                    <a:lnTo>
                      <a:pt x="363" y="174"/>
                    </a:lnTo>
                    <a:lnTo>
                      <a:pt x="365" y="174"/>
                    </a:lnTo>
                    <a:lnTo>
                      <a:pt x="271" y="174"/>
                    </a:lnTo>
                    <a:lnTo>
                      <a:pt x="107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592960" y="5256000"/>
                <a:ext cx="479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Frutiger 45 Light"/>
                  </a:rPr>
                  <a:t>D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1" name=""/>
            <p:cNvSpPr/>
            <p:nvPr/>
          </p:nvSpPr>
          <p:spPr>
            <a:xfrm>
              <a:off x="5608440" y="49528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760720" y="49528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5913360" y="49528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4" name=""/>
          <p:cNvSpPr/>
          <p:nvPr/>
        </p:nvSpPr>
        <p:spPr>
          <a:xfrm>
            <a:off x="7718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7718400" y="3657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77184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7" name=""/>
          <p:cNvGrpSpPr/>
          <p:nvPr/>
        </p:nvGrpSpPr>
        <p:grpSpPr>
          <a:xfrm>
            <a:off x="8456760" y="3503520"/>
            <a:ext cx="534600" cy="418680"/>
            <a:chOff x="8456760" y="3503520"/>
            <a:chExt cx="534600" cy="418680"/>
          </a:xfrm>
        </p:grpSpPr>
        <p:sp>
          <p:nvSpPr>
            <p:cNvPr id="3618" name=""/>
            <p:cNvSpPr/>
            <p:nvPr/>
          </p:nvSpPr>
          <p:spPr>
            <a:xfrm>
              <a:off x="8457840" y="392220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8460360" y="372024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8456760" y="3503520"/>
              <a:ext cx="53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7994520" y="3274920"/>
            <a:ext cx="766800" cy="750960"/>
            <a:chOff x="7994520" y="3274920"/>
            <a:chExt cx="766800" cy="750960"/>
          </a:xfrm>
        </p:grpSpPr>
        <p:sp>
          <p:nvSpPr>
            <p:cNvPr id="3622" name=""/>
            <p:cNvSpPr/>
            <p:nvPr/>
          </p:nvSpPr>
          <p:spPr>
            <a:xfrm>
              <a:off x="7994520" y="3288960"/>
              <a:ext cx="766800" cy="736920"/>
            </a:xfrm>
            <a:prstGeom prst="rect">
              <a:avLst/>
            </a:prstGeom>
            <a:gradFill rotWithShape="0">
              <a:gsLst>
                <a:gs pos="0">
                  <a:srgbClr val="b146b1"/>
                </a:gs>
                <a:gs pos="100000">
                  <a:srgbClr val="ff66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8140320" y="3598560"/>
              <a:ext cx="48924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0" y="174"/>
                  </a:moveTo>
                  <a:lnTo>
                    <a:pt x="5" y="174"/>
                  </a:lnTo>
                  <a:lnTo>
                    <a:pt x="3" y="174"/>
                  </a:lnTo>
                  <a:lnTo>
                    <a:pt x="97" y="174"/>
                  </a:lnTo>
                  <a:lnTo>
                    <a:pt x="262" y="0"/>
                  </a:lnTo>
                  <a:lnTo>
                    <a:pt x="369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8151480" y="3598560"/>
              <a:ext cx="488880" cy="370080"/>
            </a:xfrm>
            <a:custGeom>
              <a:avLst/>
              <a:gdLst/>
              <a:ahLst/>
              <a:rect l="l" t="t" r="r" b="b"/>
              <a:pathLst>
                <a:path w="370" h="175">
                  <a:moveTo>
                    <a:pt x="369" y="174"/>
                  </a:moveTo>
                  <a:lnTo>
                    <a:pt x="363" y="174"/>
                  </a:lnTo>
                  <a:lnTo>
                    <a:pt x="365" y="174"/>
                  </a:lnTo>
                  <a:lnTo>
                    <a:pt x="271" y="174"/>
                  </a:lnTo>
                  <a:lnTo>
                    <a:pt x="107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8155440" y="3274920"/>
              <a:ext cx="47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Frutiger 45 Light"/>
                </a:rPr>
                <a:t>D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6" name=""/>
          <p:cNvSpPr/>
          <p:nvPr/>
        </p:nvSpPr>
        <p:spPr>
          <a:xfrm>
            <a:off x="512928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528156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543384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1547280" y="20570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S1/D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2003400" y="2438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3146400" y="1676520"/>
            <a:ext cx="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2509200" y="137124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C-3/OC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3" name="FAX" descr=""/>
          <p:cNvPicPr/>
          <p:nvPr/>
        </p:nvPicPr>
        <p:blipFill>
          <a:blip r:embed="rId3"/>
          <a:stretch/>
        </p:blipFill>
        <p:spPr>
          <a:xfrm>
            <a:off x="174600" y="2514600"/>
            <a:ext cx="582480" cy="433440"/>
          </a:xfrm>
          <a:prstGeom prst="rect">
            <a:avLst/>
          </a:prstGeom>
          <a:ln w="0">
            <a:noFill/>
          </a:ln>
        </p:spPr>
      </p:pic>
      <p:pic>
        <p:nvPicPr>
          <p:cNvPr id="3634" name="Phone" descr=""/>
          <p:cNvPicPr/>
          <p:nvPr/>
        </p:nvPicPr>
        <p:blipFill>
          <a:blip r:embed="rId4"/>
          <a:stretch/>
        </p:blipFill>
        <p:spPr>
          <a:xfrm>
            <a:off x="403200" y="3048120"/>
            <a:ext cx="544680" cy="331560"/>
          </a:xfrm>
          <a:prstGeom prst="rect">
            <a:avLst/>
          </a:prstGeom>
          <a:ln w="0">
            <a:noFill/>
          </a:ln>
        </p:spPr>
      </p:pic>
      <p:sp>
        <p:nvSpPr>
          <p:cNvPr id="3635" name=""/>
          <p:cNvSpPr/>
          <p:nvPr/>
        </p:nvSpPr>
        <p:spPr>
          <a:xfrm>
            <a:off x="860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6" name="pc" descr=""/>
          <p:cNvPicPr/>
          <p:nvPr/>
        </p:nvPicPr>
        <p:blipFill>
          <a:blip r:embed="rId5"/>
          <a:stretch/>
        </p:blipFill>
        <p:spPr>
          <a:xfrm>
            <a:off x="1089000" y="4664160"/>
            <a:ext cx="380880" cy="307800"/>
          </a:xfrm>
          <a:prstGeom prst="rect">
            <a:avLst/>
          </a:prstGeom>
          <a:ln w="0">
            <a:noFill/>
          </a:ln>
        </p:spPr>
      </p:pic>
      <p:pic>
        <p:nvPicPr>
          <p:cNvPr id="3637" name="printer" descr=""/>
          <p:cNvPicPr/>
          <p:nvPr/>
        </p:nvPicPr>
        <p:blipFill>
          <a:blip r:embed="rId6"/>
          <a:stretch/>
        </p:blipFill>
        <p:spPr>
          <a:xfrm>
            <a:off x="479520" y="4683240"/>
            <a:ext cx="420480" cy="271440"/>
          </a:xfrm>
          <a:prstGeom prst="rect">
            <a:avLst/>
          </a:prstGeom>
          <a:ln w="0">
            <a:noFill/>
          </a:ln>
        </p:spPr>
      </p:pic>
      <p:pic>
        <p:nvPicPr>
          <p:cNvPr id="3638" name="pc" descr=""/>
          <p:cNvPicPr/>
          <p:nvPr/>
        </p:nvPicPr>
        <p:blipFill>
          <a:blip r:embed="rId7"/>
          <a:stretch/>
        </p:blipFill>
        <p:spPr>
          <a:xfrm>
            <a:off x="708120" y="3994200"/>
            <a:ext cx="380880" cy="307800"/>
          </a:xfrm>
          <a:prstGeom prst="rect">
            <a:avLst/>
          </a:prstGeom>
          <a:ln w="0">
            <a:noFill/>
          </a:ln>
        </p:spPr>
      </p:pic>
      <p:pic>
        <p:nvPicPr>
          <p:cNvPr id="3639" name="pc" descr=""/>
          <p:cNvPicPr/>
          <p:nvPr/>
        </p:nvPicPr>
        <p:blipFill>
          <a:blip r:embed="rId8"/>
          <a:stretch/>
        </p:blipFill>
        <p:spPr>
          <a:xfrm>
            <a:off x="250920" y="4006800"/>
            <a:ext cx="380880" cy="308160"/>
          </a:xfrm>
          <a:prstGeom prst="rect">
            <a:avLst/>
          </a:prstGeom>
          <a:ln w="0">
            <a:noFill/>
          </a:ln>
        </p:spPr>
      </p:pic>
      <p:pic>
        <p:nvPicPr>
          <p:cNvPr id="3640" name="server" descr=""/>
          <p:cNvPicPr/>
          <p:nvPr/>
        </p:nvPicPr>
        <p:blipFill>
          <a:blip r:embed="rId9"/>
          <a:stretch/>
        </p:blipFill>
        <p:spPr>
          <a:xfrm>
            <a:off x="1622520" y="4648320"/>
            <a:ext cx="212760" cy="396720"/>
          </a:xfrm>
          <a:prstGeom prst="rect">
            <a:avLst/>
          </a:prstGeom>
          <a:ln w="0">
            <a:noFill/>
          </a:ln>
        </p:spPr>
      </p:pic>
      <p:sp>
        <p:nvSpPr>
          <p:cNvPr id="3641" name=""/>
          <p:cNvSpPr/>
          <p:nvPr/>
        </p:nvSpPr>
        <p:spPr>
          <a:xfrm>
            <a:off x="555480" y="4270320"/>
            <a:ext cx="282600" cy="246240"/>
          </a:xfrm>
          <a:custGeom>
            <a:avLst/>
            <a:gdLst/>
            <a:ahLst/>
            <a:rect l="l" t="t" r="r" b="b"/>
            <a:pathLst>
              <a:path w="198" h="172">
                <a:moveTo>
                  <a:pt x="0" y="0"/>
                </a:moveTo>
                <a:lnTo>
                  <a:pt x="0" y="0"/>
                </a:lnTo>
                <a:lnTo>
                  <a:pt x="198" y="172"/>
                </a:lnTo>
                <a:lnTo>
                  <a:pt x="198" y="172"/>
                </a:lnTo>
              </a:path>
            </a:pathLst>
          </a:custGeom>
          <a:noFill/>
          <a:ln w="205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936720" y="4270320"/>
            <a:ext cx="282600" cy="246240"/>
          </a:xfrm>
          <a:custGeom>
            <a:avLst/>
            <a:gdLst/>
            <a:ahLst/>
            <a:rect l="l" t="t" r="r" b="b"/>
            <a:pathLst>
              <a:path w="198" h="172">
                <a:moveTo>
                  <a:pt x="0" y="0"/>
                </a:moveTo>
                <a:lnTo>
                  <a:pt x="0" y="0"/>
                </a:lnTo>
                <a:lnTo>
                  <a:pt x="198" y="172"/>
                </a:lnTo>
                <a:lnTo>
                  <a:pt x="198" y="172"/>
                </a:lnTo>
              </a:path>
            </a:pathLst>
          </a:custGeom>
          <a:noFill/>
          <a:ln w="205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403200" y="4511520"/>
            <a:ext cx="282600" cy="246240"/>
          </a:xfrm>
          <a:custGeom>
            <a:avLst/>
            <a:gdLst/>
            <a:ahLst/>
            <a:rect l="l" t="t" r="r" b="b"/>
            <a:pathLst>
              <a:path w="198" h="172">
                <a:moveTo>
                  <a:pt x="0" y="0"/>
                </a:moveTo>
                <a:lnTo>
                  <a:pt x="0" y="0"/>
                </a:lnTo>
                <a:lnTo>
                  <a:pt x="198" y="172"/>
                </a:lnTo>
                <a:lnTo>
                  <a:pt x="198" y="172"/>
                </a:lnTo>
              </a:path>
            </a:pathLst>
          </a:custGeom>
          <a:noFill/>
          <a:ln w="205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958680" y="4511520"/>
            <a:ext cx="282600" cy="246240"/>
          </a:xfrm>
          <a:custGeom>
            <a:avLst/>
            <a:gdLst/>
            <a:ahLst/>
            <a:rect l="l" t="t" r="r" b="b"/>
            <a:pathLst>
              <a:path w="198" h="172">
                <a:moveTo>
                  <a:pt x="0" y="0"/>
                </a:moveTo>
                <a:lnTo>
                  <a:pt x="0" y="0"/>
                </a:lnTo>
                <a:lnTo>
                  <a:pt x="198" y="172"/>
                </a:lnTo>
                <a:lnTo>
                  <a:pt x="198" y="172"/>
                </a:lnTo>
              </a:path>
            </a:pathLst>
          </a:custGeom>
          <a:noFill/>
          <a:ln w="205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1492200" y="4516560"/>
            <a:ext cx="282600" cy="245880"/>
          </a:xfrm>
          <a:custGeom>
            <a:avLst/>
            <a:gdLst/>
            <a:ahLst/>
            <a:rect l="l" t="t" r="r" b="b"/>
            <a:pathLst>
              <a:path w="198" h="172">
                <a:moveTo>
                  <a:pt x="0" y="0"/>
                </a:moveTo>
                <a:lnTo>
                  <a:pt x="0" y="0"/>
                </a:lnTo>
                <a:lnTo>
                  <a:pt x="198" y="172"/>
                </a:lnTo>
                <a:lnTo>
                  <a:pt x="198" y="172"/>
                </a:lnTo>
              </a:path>
            </a:pathLst>
          </a:custGeom>
          <a:noFill/>
          <a:ln w="205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98280" y="4508640"/>
            <a:ext cx="19051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 rot="16200000">
            <a:off x="3031920" y="3162240"/>
            <a:ext cx="1295280" cy="60948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218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3339000" y="3124080"/>
            <a:ext cx="619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So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A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393920" y="3809880"/>
            <a:ext cx="609480" cy="6858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1393920" y="3809880"/>
            <a:ext cx="5331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 rot="10800000">
            <a:off x="4974840" y="4343040"/>
            <a:ext cx="1066680" cy="609480"/>
          </a:xfrm>
          <a:custGeom>
            <a:avLst/>
            <a:gdLst>
              <a:gd name="textAreaLeft" fmla="*/ 234360 w 1066680"/>
              <a:gd name="textAreaRight" fmla="*/ 832320 w 106668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2186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5198040" y="4419720"/>
            <a:ext cx="619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So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 45 Light"/>
              </a:rPr>
              <a:t>A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3" name=""/>
          <p:cNvGrpSpPr/>
          <p:nvPr/>
        </p:nvGrpSpPr>
        <p:grpSpPr>
          <a:xfrm>
            <a:off x="1818720" y="3640680"/>
            <a:ext cx="553680" cy="363960"/>
            <a:chOff x="1818720" y="3640680"/>
            <a:chExt cx="553680" cy="363960"/>
          </a:xfrm>
        </p:grpSpPr>
        <p:sp>
          <p:nvSpPr>
            <p:cNvPr id="3654" name=""/>
            <p:cNvSpPr/>
            <p:nvPr/>
          </p:nvSpPr>
          <p:spPr>
            <a:xfrm rot="222600">
              <a:off x="1833120" y="3662280"/>
              <a:ext cx="522360" cy="31896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rot="222600">
              <a:off x="1838520" y="3662280"/>
              <a:ext cx="522360" cy="15948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rot="222600">
              <a:off x="1828440" y="3657240"/>
              <a:ext cx="533520" cy="33012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rot="222600">
              <a:off x="1830960" y="3742200"/>
              <a:ext cx="533520" cy="85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8" name=""/>
            <p:cNvGrpSpPr/>
            <p:nvPr/>
          </p:nvGrpSpPr>
          <p:grpSpPr>
            <a:xfrm>
              <a:off x="1893600" y="3675240"/>
              <a:ext cx="398880" cy="134640"/>
              <a:chOff x="1893600" y="3675240"/>
              <a:chExt cx="398880" cy="134640"/>
            </a:xfrm>
          </p:grpSpPr>
          <p:sp>
            <p:nvSpPr>
              <p:cNvPr id="3659" name=""/>
              <p:cNvSpPr/>
              <p:nvPr/>
            </p:nvSpPr>
            <p:spPr>
              <a:xfrm rot="222600">
                <a:off x="2102760" y="369576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rot="222600">
                <a:off x="2102760" y="369576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rot="222600">
                <a:off x="1894680" y="3738240"/>
                <a:ext cx="188640" cy="504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rot="222600">
                <a:off x="1894680" y="3738240"/>
                <a:ext cx="188640" cy="504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rot="222600">
                <a:off x="1909440" y="3681000"/>
                <a:ext cx="18864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rot="222600">
                <a:off x="1909440" y="3681000"/>
                <a:ext cx="18864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rot="222600">
                <a:off x="2092680" y="3755520"/>
                <a:ext cx="187200" cy="4824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rot="222600">
                <a:off x="2092680" y="3755520"/>
                <a:ext cx="187200" cy="4824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667" name="switch" descr=""/>
          <p:cNvPicPr/>
          <p:nvPr/>
        </p:nvPicPr>
        <p:blipFill>
          <a:blip r:embed="rId10"/>
          <a:stretch/>
        </p:blipFill>
        <p:spPr>
          <a:xfrm>
            <a:off x="5791320" y="1600200"/>
            <a:ext cx="533160" cy="522360"/>
          </a:xfrm>
          <a:prstGeom prst="rect">
            <a:avLst/>
          </a:prstGeom>
          <a:ln w="0">
            <a:noFill/>
          </a:ln>
        </p:spPr>
      </p:pic>
      <p:sp>
        <p:nvSpPr>
          <p:cNvPr id="3668" name=""/>
          <p:cNvSpPr/>
          <p:nvPr/>
        </p:nvSpPr>
        <p:spPr>
          <a:xfrm>
            <a:off x="5943600" y="2133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969160" y="83808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6121440" y="83808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5587920" y="838080"/>
            <a:ext cx="381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6121440" y="83808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5587920" y="6858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6502320" y="6858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6263640" y="288000"/>
            <a:ext cx="553680" cy="363960"/>
            <a:chOff x="6263640" y="288000"/>
            <a:chExt cx="553680" cy="363960"/>
          </a:xfrm>
        </p:grpSpPr>
        <p:sp>
          <p:nvSpPr>
            <p:cNvPr id="3676" name=""/>
            <p:cNvSpPr/>
            <p:nvPr/>
          </p:nvSpPr>
          <p:spPr>
            <a:xfrm rot="222600">
              <a:off x="6278040" y="309600"/>
              <a:ext cx="522360" cy="31896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 rot="222600">
              <a:off x="6283440" y="309600"/>
              <a:ext cx="522360" cy="15948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 rot="222600">
              <a:off x="6273360" y="304560"/>
              <a:ext cx="533520" cy="33012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rot="222600">
              <a:off x="6275880" y="389520"/>
              <a:ext cx="533520" cy="85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0" name=""/>
            <p:cNvGrpSpPr/>
            <p:nvPr/>
          </p:nvGrpSpPr>
          <p:grpSpPr>
            <a:xfrm>
              <a:off x="6338520" y="322560"/>
              <a:ext cx="398880" cy="134640"/>
              <a:chOff x="6338520" y="322560"/>
              <a:chExt cx="398880" cy="134640"/>
            </a:xfrm>
          </p:grpSpPr>
          <p:sp>
            <p:nvSpPr>
              <p:cNvPr id="3681" name=""/>
              <p:cNvSpPr/>
              <p:nvPr/>
            </p:nvSpPr>
            <p:spPr>
              <a:xfrm rot="222600">
                <a:off x="6547680" y="34308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rot="222600">
                <a:off x="6547680" y="34308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rot="222600">
                <a:off x="6339600" y="385560"/>
                <a:ext cx="188640" cy="504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rot="222600">
                <a:off x="6339600" y="385560"/>
                <a:ext cx="188640" cy="504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rot="222600">
                <a:off x="6354360" y="328320"/>
                <a:ext cx="18864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rot="222600">
                <a:off x="6354360" y="328320"/>
                <a:ext cx="18864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rot="222600">
                <a:off x="6537600" y="402840"/>
                <a:ext cx="187200" cy="4824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 rot="222600">
                <a:off x="6537600" y="402840"/>
                <a:ext cx="187200" cy="4824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9" name=""/>
          <p:cNvGrpSpPr/>
          <p:nvPr/>
        </p:nvGrpSpPr>
        <p:grpSpPr>
          <a:xfrm>
            <a:off x="5273280" y="288000"/>
            <a:ext cx="553320" cy="363960"/>
            <a:chOff x="5273280" y="288000"/>
            <a:chExt cx="553320" cy="363960"/>
          </a:xfrm>
        </p:grpSpPr>
        <p:sp>
          <p:nvSpPr>
            <p:cNvPr id="3690" name=""/>
            <p:cNvSpPr/>
            <p:nvPr/>
          </p:nvSpPr>
          <p:spPr>
            <a:xfrm rot="222600">
              <a:off x="5287680" y="309240"/>
              <a:ext cx="522000" cy="31896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 rot="222600">
              <a:off x="5293080" y="309600"/>
              <a:ext cx="522000" cy="15948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 rot="222600">
              <a:off x="5283000" y="304560"/>
              <a:ext cx="533160" cy="33012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rot="222600">
              <a:off x="5285520" y="389520"/>
              <a:ext cx="533160" cy="85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4" name=""/>
            <p:cNvGrpSpPr/>
            <p:nvPr/>
          </p:nvGrpSpPr>
          <p:grpSpPr>
            <a:xfrm>
              <a:off x="5348160" y="322560"/>
              <a:ext cx="398880" cy="134640"/>
              <a:chOff x="5348160" y="322560"/>
              <a:chExt cx="398880" cy="134640"/>
            </a:xfrm>
          </p:grpSpPr>
          <p:sp>
            <p:nvSpPr>
              <p:cNvPr id="3695" name=""/>
              <p:cNvSpPr/>
              <p:nvPr/>
            </p:nvSpPr>
            <p:spPr>
              <a:xfrm rot="222600">
                <a:off x="5557320" y="34308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 rot="222600">
                <a:off x="5557320" y="34308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rot="222600">
                <a:off x="5349240" y="385560"/>
                <a:ext cx="188280" cy="504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rot="222600">
                <a:off x="5349240" y="385560"/>
                <a:ext cx="188280" cy="504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rot="222600">
                <a:off x="5364000" y="32832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rot="222600">
                <a:off x="5364000" y="32832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rot="222600">
                <a:off x="5547240" y="402840"/>
                <a:ext cx="187200" cy="4824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rot="222600">
                <a:off x="5547240" y="402840"/>
                <a:ext cx="187200" cy="4824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3" name=""/>
          <p:cNvSpPr/>
          <p:nvPr/>
        </p:nvSpPr>
        <p:spPr>
          <a:xfrm>
            <a:off x="6477480" y="98964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P/ATM/SO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942480" y="51807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P/SO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2362320" y="38098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B9B8-A856-4407-9943-9DE6ACC596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Emerging Trends: IP over DWD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Limitations of SONET/SDH Ring-Based Network Architecture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707" name=""/>
          <p:cNvSpPr/>
          <p:nvPr/>
        </p:nvSpPr>
        <p:spPr>
          <a:xfrm>
            <a:off x="167652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8" name=""/>
          <p:cNvGrpSpPr/>
          <p:nvPr/>
        </p:nvGrpSpPr>
        <p:grpSpPr>
          <a:xfrm>
            <a:off x="596520" y="2666880"/>
            <a:ext cx="1067040" cy="838080"/>
            <a:chOff x="596520" y="2666880"/>
            <a:chExt cx="1067040" cy="838080"/>
          </a:xfrm>
        </p:grpSpPr>
        <p:sp>
          <p:nvSpPr>
            <p:cNvPr id="3709" name=""/>
            <p:cNvSpPr/>
            <p:nvPr/>
          </p:nvSpPr>
          <p:spPr>
            <a:xfrm>
              <a:off x="596880" y="2743200"/>
              <a:ext cx="106668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96880" y="2895480"/>
              <a:ext cx="1066680" cy="3049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6880" y="3047760"/>
              <a:ext cx="1066680" cy="3049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96880" y="3200400"/>
              <a:ext cx="106668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H="1">
              <a:off x="596160" y="2666880"/>
              <a:ext cx="1066680" cy="228600"/>
            </a:xfrm>
            <a:prstGeom prst="ellipse">
              <a:avLst/>
            </a:prstGeom>
            <a:solidFill>
              <a:srgbClr val="aec6a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4" name=""/>
          <p:cNvGrpSpPr/>
          <p:nvPr/>
        </p:nvGrpSpPr>
        <p:grpSpPr>
          <a:xfrm>
            <a:off x="1587600" y="2666880"/>
            <a:ext cx="1371600" cy="914040"/>
            <a:chOff x="1587600" y="2666880"/>
            <a:chExt cx="1371600" cy="914040"/>
          </a:xfrm>
        </p:grpSpPr>
        <p:sp>
          <p:nvSpPr>
            <p:cNvPr id="3715" name=""/>
            <p:cNvSpPr/>
            <p:nvPr/>
          </p:nvSpPr>
          <p:spPr>
            <a:xfrm flipH="1">
              <a:off x="1587600" y="2807280"/>
              <a:ext cx="1371600" cy="3517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 flipH="1">
              <a:off x="1587600" y="2948040"/>
              <a:ext cx="1371600" cy="3513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 flipH="1">
              <a:off x="1587600" y="3088800"/>
              <a:ext cx="1371600" cy="3513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 flipH="1">
              <a:off x="1587600" y="3229200"/>
              <a:ext cx="1371600" cy="351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H="1">
              <a:off x="1587600" y="2666880"/>
              <a:ext cx="1371600" cy="351360"/>
            </a:xfrm>
            <a:prstGeom prst="ellipse">
              <a:avLst/>
            </a:prstGeom>
            <a:solidFill>
              <a:srgbClr val="cc9ac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0" name=""/>
          <p:cNvGrpSpPr/>
          <p:nvPr/>
        </p:nvGrpSpPr>
        <p:grpSpPr>
          <a:xfrm>
            <a:off x="4063680" y="2514600"/>
            <a:ext cx="1219320" cy="647640"/>
            <a:chOff x="4063680" y="2514600"/>
            <a:chExt cx="1219320" cy="647640"/>
          </a:xfrm>
        </p:grpSpPr>
        <p:sp>
          <p:nvSpPr>
            <p:cNvPr id="3721" name=""/>
            <p:cNvSpPr/>
            <p:nvPr/>
          </p:nvSpPr>
          <p:spPr>
            <a:xfrm flipH="1">
              <a:off x="4063320" y="2629080"/>
              <a:ext cx="121932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 flipH="1">
              <a:off x="4063320" y="2743200"/>
              <a:ext cx="1219320" cy="3049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flipH="1">
              <a:off x="4063320" y="2857680"/>
              <a:ext cx="121932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H="1">
              <a:off x="4063320" y="2514600"/>
              <a:ext cx="1219320" cy="30492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5" name=""/>
          <p:cNvGrpSpPr/>
          <p:nvPr/>
        </p:nvGrpSpPr>
        <p:grpSpPr>
          <a:xfrm>
            <a:off x="6464160" y="2743200"/>
            <a:ext cx="1067040" cy="609120"/>
            <a:chOff x="6464160" y="2743200"/>
            <a:chExt cx="1067040" cy="609120"/>
          </a:xfrm>
        </p:grpSpPr>
        <p:sp>
          <p:nvSpPr>
            <p:cNvPr id="3726" name=""/>
            <p:cNvSpPr/>
            <p:nvPr/>
          </p:nvSpPr>
          <p:spPr>
            <a:xfrm flipH="1">
              <a:off x="6464160" y="2836800"/>
              <a:ext cx="1067040" cy="23436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H="1">
              <a:off x="6464160" y="2930760"/>
              <a:ext cx="1067040" cy="2343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H="1">
              <a:off x="6464160" y="3024360"/>
              <a:ext cx="1067040" cy="2343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H="1">
              <a:off x="6464160" y="3117960"/>
              <a:ext cx="1067040" cy="2343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6464160" y="2743200"/>
              <a:ext cx="1067040" cy="234360"/>
            </a:xfrm>
            <a:prstGeom prst="ellipse">
              <a:avLst/>
            </a:prstGeom>
            <a:solidFill>
              <a:srgbClr val="cc9ac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7493040" y="2743200"/>
            <a:ext cx="1142640" cy="761760"/>
            <a:chOff x="7493040" y="2743200"/>
            <a:chExt cx="1142640" cy="761760"/>
          </a:xfrm>
        </p:grpSpPr>
        <p:sp>
          <p:nvSpPr>
            <p:cNvPr id="3732" name=""/>
            <p:cNvSpPr/>
            <p:nvPr/>
          </p:nvSpPr>
          <p:spPr>
            <a:xfrm>
              <a:off x="7493040" y="2812320"/>
              <a:ext cx="1142640" cy="27684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493040" y="2950920"/>
              <a:ext cx="1142640" cy="27720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7493040" y="3089520"/>
              <a:ext cx="1142640" cy="27720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493040" y="3228120"/>
              <a:ext cx="1142640" cy="27684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7493040" y="2743200"/>
              <a:ext cx="1142640" cy="207720"/>
            </a:xfrm>
            <a:prstGeom prst="ellipse">
              <a:avLst/>
            </a:prstGeom>
            <a:solidFill>
              <a:srgbClr val="aec6a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7" name=""/>
          <p:cNvSpPr/>
          <p:nvPr/>
        </p:nvSpPr>
        <p:spPr>
          <a:xfrm>
            <a:off x="635040" y="388620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 flipH="1">
            <a:off x="4156200" y="1581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 flipH="1">
            <a:off x="1655640" y="196848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0" name=""/>
          <p:cNvGrpSpPr/>
          <p:nvPr/>
        </p:nvGrpSpPr>
        <p:grpSpPr>
          <a:xfrm>
            <a:off x="596880" y="2135160"/>
            <a:ext cx="990360" cy="379440"/>
            <a:chOff x="596880" y="2135160"/>
            <a:chExt cx="990360" cy="379440"/>
          </a:xfrm>
        </p:grpSpPr>
        <p:sp>
          <p:nvSpPr>
            <p:cNvPr id="3741" name=""/>
            <p:cNvSpPr/>
            <p:nvPr/>
          </p:nvSpPr>
          <p:spPr>
            <a:xfrm flipH="1">
              <a:off x="651240" y="213516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2" name=""/>
            <p:cNvGrpSpPr/>
            <p:nvPr/>
          </p:nvGrpSpPr>
          <p:grpSpPr>
            <a:xfrm>
              <a:off x="596880" y="2439720"/>
              <a:ext cx="990360" cy="74880"/>
              <a:chOff x="596880" y="2439720"/>
              <a:chExt cx="990360" cy="74880"/>
            </a:xfrm>
          </p:grpSpPr>
          <p:sp>
            <p:nvSpPr>
              <p:cNvPr id="3743" name=""/>
              <p:cNvSpPr/>
              <p:nvPr/>
            </p:nvSpPr>
            <p:spPr>
              <a:xfrm>
                <a:off x="596880" y="2439720"/>
                <a:ext cx="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96880" y="2439720"/>
                <a:ext cx="97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1587240" y="2439720"/>
                <a:ext cx="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46" name=""/>
          <p:cNvGrpSpPr/>
          <p:nvPr/>
        </p:nvGrpSpPr>
        <p:grpSpPr>
          <a:xfrm>
            <a:off x="1701720" y="2266920"/>
            <a:ext cx="1066680" cy="246600"/>
            <a:chOff x="1701720" y="2266920"/>
            <a:chExt cx="1066680" cy="246600"/>
          </a:xfrm>
        </p:grpSpPr>
        <p:sp>
          <p:nvSpPr>
            <p:cNvPr id="3747" name=""/>
            <p:cNvSpPr/>
            <p:nvPr/>
          </p:nvSpPr>
          <p:spPr>
            <a:xfrm>
              <a:off x="1701720" y="2266920"/>
              <a:ext cx="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701720" y="2266920"/>
              <a:ext cx="105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768400" y="2266920"/>
              <a:ext cx="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0" name=""/>
          <p:cNvGrpSpPr/>
          <p:nvPr/>
        </p:nvGrpSpPr>
        <p:grpSpPr>
          <a:xfrm>
            <a:off x="2882520" y="2590920"/>
            <a:ext cx="1219320" cy="761400"/>
            <a:chOff x="2882520" y="2590920"/>
            <a:chExt cx="1219320" cy="761400"/>
          </a:xfrm>
        </p:grpSpPr>
        <p:sp>
          <p:nvSpPr>
            <p:cNvPr id="3751" name=""/>
            <p:cNvSpPr/>
            <p:nvPr/>
          </p:nvSpPr>
          <p:spPr>
            <a:xfrm flipH="1">
              <a:off x="2882160" y="2742840"/>
              <a:ext cx="121932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flipH="1">
              <a:off x="2882160" y="2895480"/>
              <a:ext cx="1219320" cy="30420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 flipH="1">
              <a:off x="2882160" y="3047760"/>
              <a:ext cx="121932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>
              <a:off x="2882160" y="2590920"/>
              <a:ext cx="1219320" cy="304560"/>
            </a:xfrm>
            <a:prstGeom prst="ellipse">
              <a:avLst/>
            </a:prstGeom>
            <a:solidFill>
              <a:srgbClr val="d5e3a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5" name=""/>
          <p:cNvSpPr/>
          <p:nvPr/>
        </p:nvSpPr>
        <p:spPr>
          <a:xfrm flipH="1">
            <a:off x="2973960" y="17208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29592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2946240" y="2063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40258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410220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4114800" y="1924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513072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 flipH="1">
            <a:off x="6422400" y="195588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3" name=""/>
          <p:cNvGrpSpPr/>
          <p:nvPr/>
        </p:nvGrpSpPr>
        <p:grpSpPr>
          <a:xfrm>
            <a:off x="6540480" y="2343240"/>
            <a:ext cx="876240" cy="374400"/>
            <a:chOff x="6540480" y="2343240"/>
            <a:chExt cx="876240" cy="374400"/>
          </a:xfrm>
        </p:grpSpPr>
        <p:sp>
          <p:nvSpPr>
            <p:cNvPr id="3764" name=""/>
            <p:cNvSpPr/>
            <p:nvPr/>
          </p:nvSpPr>
          <p:spPr>
            <a:xfrm>
              <a:off x="6540480" y="23432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6540480" y="234324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416720" y="23432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5245200" y="2470320"/>
            <a:ext cx="1218960" cy="761400"/>
            <a:chOff x="5245200" y="2470320"/>
            <a:chExt cx="1218960" cy="761400"/>
          </a:xfrm>
        </p:grpSpPr>
        <p:sp>
          <p:nvSpPr>
            <p:cNvPr id="3768" name=""/>
            <p:cNvSpPr/>
            <p:nvPr/>
          </p:nvSpPr>
          <p:spPr>
            <a:xfrm flipH="1">
              <a:off x="5245200" y="2622240"/>
              <a:ext cx="121896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>
              <a:off x="5245200" y="2774880"/>
              <a:ext cx="1218960" cy="30420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H="1">
              <a:off x="5245200" y="2927160"/>
              <a:ext cx="121896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H="1">
              <a:off x="5245200" y="2470320"/>
              <a:ext cx="1218960" cy="304560"/>
            </a:xfrm>
            <a:prstGeom prst="ellipse">
              <a:avLst/>
            </a:prstGeom>
            <a:solidFill>
              <a:srgbClr val="d5e3a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2" name=""/>
          <p:cNvSpPr/>
          <p:nvPr/>
        </p:nvSpPr>
        <p:spPr>
          <a:xfrm flipH="1">
            <a:off x="5348880" y="16956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3" name=""/>
          <p:cNvGrpSpPr/>
          <p:nvPr/>
        </p:nvGrpSpPr>
        <p:grpSpPr>
          <a:xfrm>
            <a:off x="5321160" y="2013120"/>
            <a:ext cx="1067040" cy="380880"/>
            <a:chOff x="5321160" y="2013120"/>
            <a:chExt cx="1067040" cy="380880"/>
          </a:xfrm>
        </p:grpSpPr>
        <p:sp>
          <p:nvSpPr>
            <p:cNvPr id="3774" name=""/>
            <p:cNvSpPr/>
            <p:nvPr/>
          </p:nvSpPr>
          <p:spPr>
            <a:xfrm>
              <a:off x="5321160" y="2013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321160" y="20286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6388200" y="2013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7" name=""/>
          <p:cNvSpPr/>
          <p:nvPr/>
        </p:nvSpPr>
        <p:spPr>
          <a:xfrm flipH="1">
            <a:off x="7646040" y="219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8" name=""/>
          <p:cNvGrpSpPr/>
          <p:nvPr/>
        </p:nvGrpSpPr>
        <p:grpSpPr>
          <a:xfrm>
            <a:off x="7569360" y="2571840"/>
            <a:ext cx="990360" cy="93240"/>
            <a:chOff x="7569360" y="2571840"/>
            <a:chExt cx="990360" cy="93240"/>
          </a:xfrm>
        </p:grpSpPr>
        <p:sp>
          <p:nvSpPr>
            <p:cNvPr id="3779" name=""/>
            <p:cNvSpPr/>
            <p:nvPr/>
          </p:nvSpPr>
          <p:spPr>
            <a:xfrm>
              <a:off x="7569360" y="2571840"/>
              <a:ext cx="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569360" y="2571840"/>
              <a:ext cx="9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8559720" y="2571840"/>
              <a:ext cx="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2" name=""/>
          <p:cNvSpPr/>
          <p:nvPr/>
        </p:nvSpPr>
        <p:spPr>
          <a:xfrm>
            <a:off x="8102520" y="380988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3" name=""/>
          <p:cNvGrpSpPr/>
          <p:nvPr/>
        </p:nvGrpSpPr>
        <p:grpSpPr>
          <a:xfrm>
            <a:off x="1015920" y="2971800"/>
            <a:ext cx="1067040" cy="1244520"/>
            <a:chOff x="1015920" y="2971800"/>
            <a:chExt cx="1067040" cy="1244520"/>
          </a:xfrm>
        </p:grpSpPr>
        <p:sp>
          <p:nvSpPr>
            <p:cNvPr id="3784" name=""/>
            <p:cNvSpPr/>
            <p:nvPr/>
          </p:nvSpPr>
          <p:spPr>
            <a:xfrm>
              <a:off x="1015920" y="3048120"/>
              <a:ext cx="106704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015920" y="3200400"/>
              <a:ext cx="1067040" cy="3049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015920" y="3352680"/>
              <a:ext cx="1067040" cy="3049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015920" y="3492360"/>
              <a:ext cx="1067040" cy="3049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 flipH="1">
              <a:off x="1015920" y="2971800"/>
              <a:ext cx="1067040" cy="228600"/>
            </a:xfrm>
            <a:prstGeom prst="ellipse">
              <a:avLst/>
            </a:prstGeom>
            <a:solidFill>
              <a:srgbClr val="aec6a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015920" y="3632040"/>
              <a:ext cx="1067040" cy="3049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015920" y="3772080"/>
              <a:ext cx="106704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015920" y="3911760"/>
              <a:ext cx="1067040" cy="304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2" name=""/>
          <p:cNvGrpSpPr/>
          <p:nvPr/>
        </p:nvGrpSpPr>
        <p:grpSpPr>
          <a:xfrm>
            <a:off x="6959160" y="3048120"/>
            <a:ext cx="1143360" cy="1218960"/>
            <a:chOff x="6959160" y="3048120"/>
            <a:chExt cx="1143360" cy="1218960"/>
          </a:xfrm>
        </p:grpSpPr>
        <p:sp>
          <p:nvSpPr>
            <p:cNvPr id="3793" name=""/>
            <p:cNvSpPr/>
            <p:nvPr/>
          </p:nvSpPr>
          <p:spPr>
            <a:xfrm>
              <a:off x="6959520" y="3117960"/>
              <a:ext cx="1143000" cy="2761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6959520" y="3255840"/>
              <a:ext cx="1143000" cy="27648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959520" y="3394080"/>
              <a:ext cx="1143000" cy="2779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6959520" y="3532320"/>
              <a:ext cx="1143000" cy="277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H="1">
              <a:off x="6958800" y="3048120"/>
              <a:ext cx="1143000" cy="207720"/>
            </a:xfrm>
            <a:prstGeom prst="ellipse">
              <a:avLst/>
            </a:prstGeom>
            <a:solidFill>
              <a:srgbClr val="aec6a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959520" y="3684600"/>
              <a:ext cx="1143000" cy="2779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6959520" y="3836880"/>
              <a:ext cx="1143000" cy="2779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6959520" y="3989520"/>
              <a:ext cx="1143000" cy="27756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1" name=""/>
          <p:cNvSpPr/>
          <p:nvPr/>
        </p:nvSpPr>
        <p:spPr>
          <a:xfrm>
            <a:off x="2286000" y="3886200"/>
            <a:ext cx="5257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merous O/E/O con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re rings must carry the aggregate traffic of all rings feeding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0% of bandwidth reserved for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signed to scale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179280" y="37141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8409600" y="3637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1092240" y="2419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2235240" y="226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3454560" y="211464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4673520" y="188604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5892840" y="2038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7035840" y="226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8102520" y="2495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2176-9160-4786-97C8-B0E42AC6E88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839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IP over DWDM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812" name=""/>
          <p:cNvSpPr/>
          <p:nvPr/>
        </p:nvSpPr>
        <p:spPr>
          <a:xfrm>
            <a:off x="2819520" y="437508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2743200" y="513720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5638680" y="437508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638680" y="513720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6" name="pc" descr=""/>
          <p:cNvPicPr/>
          <p:nvPr/>
        </p:nvPicPr>
        <p:blipFill>
          <a:blip r:embed="rId2"/>
          <a:stretch/>
        </p:blipFill>
        <p:spPr>
          <a:xfrm>
            <a:off x="1447920" y="5241960"/>
            <a:ext cx="380880" cy="307800"/>
          </a:xfrm>
          <a:prstGeom prst="rect">
            <a:avLst/>
          </a:prstGeom>
          <a:ln w="0">
            <a:noFill/>
          </a:ln>
        </p:spPr>
      </p:pic>
      <p:pic>
        <p:nvPicPr>
          <p:cNvPr id="3817" name="printer" descr=""/>
          <p:cNvPicPr/>
          <p:nvPr/>
        </p:nvPicPr>
        <p:blipFill>
          <a:blip r:embed="rId3"/>
          <a:stretch/>
        </p:blipFill>
        <p:spPr>
          <a:xfrm>
            <a:off x="838080" y="5261040"/>
            <a:ext cx="420840" cy="271440"/>
          </a:xfrm>
          <a:prstGeom prst="rect">
            <a:avLst/>
          </a:prstGeom>
          <a:ln w="0">
            <a:noFill/>
          </a:ln>
        </p:spPr>
      </p:pic>
      <p:pic>
        <p:nvPicPr>
          <p:cNvPr id="3818" name="pc" descr=""/>
          <p:cNvPicPr/>
          <p:nvPr/>
        </p:nvPicPr>
        <p:blipFill>
          <a:blip r:embed="rId4"/>
          <a:stretch/>
        </p:blipFill>
        <p:spPr>
          <a:xfrm>
            <a:off x="1066680" y="4572000"/>
            <a:ext cx="381240" cy="307800"/>
          </a:xfrm>
          <a:prstGeom prst="rect">
            <a:avLst/>
          </a:prstGeom>
          <a:ln w="0">
            <a:noFill/>
          </a:ln>
        </p:spPr>
      </p:pic>
      <p:pic>
        <p:nvPicPr>
          <p:cNvPr id="3819" name="pc" descr=""/>
          <p:cNvPicPr/>
          <p:nvPr/>
        </p:nvPicPr>
        <p:blipFill>
          <a:blip r:embed="rId5"/>
          <a:stretch/>
        </p:blipFill>
        <p:spPr>
          <a:xfrm>
            <a:off x="609480" y="4584600"/>
            <a:ext cx="381240" cy="308160"/>
          </a:xfrm>
          <a:prstGeom prst="rect">
            <a:avLst/>
          </a:prstGeom>
          <a:ln w="0">
            <a:noFill/>
          </a:ln>
        </p:spPr>
      </p:pic>
      <p:pic>
        <p:nvPicPr>
          <p:cNvPr id="3820" name="server" descr=""/>
          <p:cNvPicPr/>
          <p:nvPr/>
        </p:nvPicPr>
        <p:blipFill>
          <a:blip r:embed="rId6"/>
          <a:stretch/>
        </p:blipFill>
        <p:spPr>
          <a:xfrm>
            <a:off x="1981080" y="5226120"/>
            <a:ext cx="212760" cy="396720"/>
          </a:xfrm>
          <a:prstGeom prst="rect">
            <a:avLst/>
          </a:prstGeom>
          <a:ln w="0">
            <a:noFill/>
          </a:ln>
        </p:spPr>
      </p:pic>
      <p:sp>
        <p:nvSpPr>
          <p:cNvPr id="3821" name=""/>
          <p:cNvSpPr/>
          <p:nvPr/>
        </p:nvSpPr>
        <p:spPr>
          <a:xfrm>
            <a:off x="914400" y="4848120"/>
            <a:ext cx="282600" cy="246240"/>
          </a:xfrm>
          <a:custGeom>
            <a:avLst/>
            <a:gdLst/>
            <a:ahLst/>
            <a:rect l="l" t="t" r="r" b="b"/>
            <a:pathLst>
              <a:path w="198" h="172">
                <a:moveTo>
                  <a:pt x="0" y="0"/>
                </a:moveTo>
                <a:lnTo>
                  <a:pt x="0" y="0"/>
                </a:lnTo>
                <a:lnTo>
                  <a:pt x="198" y="172"/>
                </a:lnTo>
                <a:lnTo>
                  <a:pt x="198" y="172"/>
                </a:lnTo>
              </a:path>
            </a:pathLst>
          </a:custGeom>
          <a:noFill/>
          <a:ln w="205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1295280" y="4848120"/>
            <a:ext cx="282600" cy="246240"/>
          </a:xfrm>
          <a:custGeom>
            <a:avLst/>
            <a:gdLst/>
            <a:ahLst/>
            <a:rect l="l" t="t" r="r" b="b"/>
            <a:pathLst>
              <a:path w="198" h="172">
                <a:moveTo>
                  <a:pt x="0" y="0"/>
                </a:moveTo>
                <a:lnTo>
                  <a:pt x="0" y="0"/>
                </a:lnTo>
                <a:lnTo>
                  <a:pt x="198" y="172"/>
                </a:lnTo>
                <a:lnTo>
                  <a:pt x="198" y="172"/>
                </a:lnTo>
              </a:path>
            </a:pathLst>
          </a:custGeom>
          <a:noFill/>
          <a:ln w="205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762120" y="5089680"/>
            <a:ext cx="282600" cy="245880"/>
          </a:xfrm>
          <a:custGeom>
            <a:avLst/>
            <a:gdLst/>
            <a:ahLst/>
            <a:rect l="l" t="t" r="r" b="b"/>
            <a:pathLst>
              <a:path w="198" h="172">
                <a:moveTo>
                  <a:pt x="0" y="0"/>
                </a:moveTo>
                <a:lnTo>
                  <a:pt x="0" y="0"/>
                </a:lnTo>
                <a:lnTo>
                  <a:pt x="198" y="172"/>
                </a:lnTo>
                <a:lnTo>
                  <a:pt x="198" y="172"/>
                </a:lnTo>
              </a:path>
            </a:pathLst>
          </a:custGeom>
          <a:noFill/>
          <a:ln w="205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317600" y="5089680"/>
            <a:ext cx="282600" cy="245880"/>
          </a:xfrm>
          <a:custGeom>
            <a:avLst/>
            <a:gdLst/>
            <a:ahLst/>
            <a:rect l="l" t="t" r="r" b="b"/>
            <a:pathLst>
              <a:path w="198" h="172">
                <a:moveTo>
                  <a:pt x="0" y="0"/>
                </a:moveTo>
                <a:lnTo>
                  <a:pt x="0" y="0"/>
                </a:lnTo>
                <a:lnTo>
                  <a:pt x="198" y="172"/>
                </a:lnTo>
                <a:lnTo>
                  <a:pt x="198" y="172"/>
                </a:lnTo>
              </a:path>
            </a:pathLst>
          </a:custGeom>
          <a:noFill/>
          <a:ln w="205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1851120" y="5094360"/>
            <a:ext cx="282600" cy="245880"/>
          </a:xfrm>
          <a:custGeom>
            <a:avLst/>
            <a:gdLst/>
            <a:ahLst/>
            <a:rect l="l" t="t" r="r" b="b"/>
            <a:pathLst>
              <a:path w="198" h="172">
                <a:moveTo>
                  <a:pt x="0" y="0"/>
                </a:moveTo>
                <a:lnTo>
                  <a:pt x="0" y="0"/>
                </a:lnTo>
                <a:lnTo>
                  <a:pt x="198" y="172"/>
                </a:lnTo>
                <a:lnTo>
                  <a:pt x="198" y="172"/>
                </a:lnTo>
              </a:path>
            </a:pathLst>
          </a:custGeom>
          <a:noFill/>
          <a:ln w="205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457200" y="5086440"/>
            <a:ext cx="19051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7" name=""/>
          <p:cNvGrpSpPr/>
          <p:nvPr/>
        </p:nvGrpSpPr>
        <p:grpSpPr>
          <a:xfrm>
            <a:off x="2251080" y="4037400"/>
            <a:ext cx="589320" cy="534600"/>
            <a:chOff x="2251080" y="4037400"/>
            <a:chExt cx="589320" cy="534600"/>
          </a:xfrm>
        </p:grpSpPr>
        <p:sp>
          <p:nvSpPr>
            <p:cNvPr id="3828" name=""/>
            <p:cNvSpPr/>
            <p:nvPr/>
          </p:nvSpPr>
          <p:spPr>
            <a:xfrm>
              <a:off x="2319480" y="4038480"/>
              <a:ext cx="457200" cy="533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251080" y="4037400"/>
              <a:ext cx="58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6386400" y="4037400"/>
            <a:ext cx="589320" cy="534600"/>
            <a:chOff x="6386400" y="4037400"/>
            <a:chExt cx="589320" cy="534600"/>
          </a:xfrm>
        </p:grpSpPr>
        <p:sp>
          <p:nvSpPr>
            <p:cNvPr id="3831" name=""/>
            <p:cNvSpPr/>
            <p:nvPr/>
          </p:nvSpPr>
          <p:spPr>
            <a:xfrm>
              <a:off x="6454800" y="4038480"/>
              <a:ext cx="457200" cy="533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6386400" y="4037400"/>
              <a:ext cx="58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1565280" y="4064040"/>
            <a:ext cx="6095880" cy="380880"/>
            <a:chOff x="1565280" y="4064040"/>
            <a:chExt cx="6095880" cy="380880"/>
          </a:xfrm>
        </p:grpSpPr>
        <p:grpSp>
          <p:nvGrpSpPr>
            <p:cNvPr id="3834" name=""/>
            <p:cNvGrpSpPr/>
            <p:nvPr/>
          </p:nvGrpSpPr>
          <p:grpSpPr>
            <a:xfrm>
              <a:off x="1565280" y="4064040"/>
              <a:ext cx="762120" cy="380880"/>
              <a:chOff x="1565280" y="4064040"/>
              <a:chExt cx="762120" cy="380880"/>
            </a:xfrm>
          </p:grpSpPr>
          <p:sp>
            <p:nvSpPr>
              <p:cNvPr id="3835" name=""/>
              <p:cNvSpPr/>
              <p:nvPr/>
            </p:nvSpPr>
            <p:spPr>
              <a:xfrm>
                <a:off x="1565280" y="4064040"/>
                <a:ext cx="7621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1565280" y="4140000"/>
                <a:ext cx="7621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1565280" y="4216320"/>
                <a:ext cx="7621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1565280" y="4292640"/>
                <a:ext cx="7621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1565280" y="4368600"/>
                <a:ext cx="7621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1565280" y="4444920"/>
                <a:ext cx="7621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1" name=""/>
            <p:cNvGrpSpPr/>
            <p:nvPr/>
          </p:nvGrpSpPr>
          <p:grpSpPr>
            <a:xfrm>
              <a:off x="6899400" y="4064040"/>
              <a:ext cx="761760" cy="380880"/>
              <a:chOff x="6899400" y="4064040"/>
              <a:chExt cx="761760" cy="380880"/>
            </a:xfrm>
          </p:grpSpPr>
          <p:sp>
            <p:nvSpPr>
              <p:cNvPr id="3842" name=""/>
              <p:cNvSpPr/>
              <p:nvPr/>
            </p:nvSpPr>
            <p:spPr>
              <a:xfrm>
                <a:off x="6899400" y="4064040"/>
                <a:ext cx="7617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6899400" y="4140000"/>
                <a:ext cx="7617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6899400" y="4216320"/>
                <a:ext cx="7617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899400" y="4292640"/>
                <a:ext cx="7617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6899400" y="4368600"/>
                <a:ext cx="7617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6899400" y="4444920"/>
                <a:ext cx="7617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8" name=""/>
          <p:cNvSpPr/>
          <p:nvPr/>
        </p:nvSpPr>
        <p:spPr>
          <a:xfrm>
            <a:off x="381240" y="335232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ice, low-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 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9" name=""/>
          <p:cNvGrpSpPr/>
          <p:nvPr/>
        </p:nvGrpSpPr>
        <p:grpSpPr>
          <a:xfrm>
            <a:off x="6934320" y="4648320"/>
            <a:ext cx="1736280" cy="1012320"/>
            <a:chOff x="6934320" y="4648320"/>
            <a:chExt cx="1736280" cy="1012320"/>
          </a:xfrm>
        </p:grpSpPr>
        <p:pic>
          <p:nvPicPr>
            <p:cNvPr id="3850" name="pc" descr=""/>
            <p:cNvPicPr/>
            <p:nvPr/>
          </p:nvPicPr>
          <p:blipFill>
            <a:blip r:embed="rId7"/>
            <a:stretch/>
          </p:blipFill>
          <p:spPr>
            <a:xfrm>
              <a:off x="7924680" y="5317920"/>
              <a:ext cx="38052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1" name="printer" descr=""/>
            <p:cNvPicPr/>
            <p:nvPr/>
          </p:nvPicPr>
          <p:blipFill>
            <a:blip r:embed="rId8"/>
            <a:stretch/>
          </p:blipFill>
          <p:spPr>
            <a:xfrm>
              <a:off x="7315200" y="5337000"/>
              <a:ext cx="42012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2" name="pc" descr=""/>
            <p:cNvPicPr/>
            <p:nvPr/>
          </p:nvPicPr>
          <p:blipFill>
            <a:blip r:embed="rId9"/>
            <a:stretch/>
          </p:blipFill>
          <p:spPr>
            <a:xfrm>
              <a:off x="7543800" y="4648320"/>
              <a:ext cx="38052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3" name="pc" descr=""/>
            <p:cNvPicPr/>
            <p:nvPr/>
          </p:nvPicPr>
          <p:blipFill>
            <a:blip r:embed="rId10"/>
            <a:stretch/>
          </p:blipFill>
          <p:spPr>
            <a:xfrm>
              <a:off x="7086600" y="4660560"/>
              <a:ext cx="380520" cy="3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4" name=""/>
            <p:cNvSpPr/>
            <p:nvPr/>
          </p:nvSpPr>
          <p:spPr>
            <a:xfrm>
              <a:off x="7391160" y="4924080"/>
              <a:ext cx="282240" cy="245880"/>
            </a:xfrm>
            <a:custGeom>
              <a:avLst/>
              <a:gdLst/>
              <a:ahLst/>
              <a:rect l="l" t="t" r="r" b="b"/>
              <a:pathLst>
                <a:path w="198" h="172">
                  <a:moveTo>
                    <a:pt x="0" y="0"/>
                  </a:moveTo>
                  <a:lnTo>
                    <a:pt x="0" y="0"/>
                  </a:lnTo>
                  <a:lnTo>
                    <a:pt x="198" y="172"/>
                  </a:lnTo>
                  <a:lnTo>
                    <a:pt x="198" y="172"/>
                  </a:lnTo>
                </a:path>
              </a:pathLst>
            </a:custGeom>
            <a:noFill/>
            <a:ln w="205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7772400" y="4924080"/>
              <a:ext cx="282240" cy="245880"/>
            </a:xfrm>
            <a:custGeom>
              <a:avLst/>
              <a:gdLst/>
              <a:ahLst/>
              <a:rect l="l" t="t" r="r" b="b"/>
              <a:pathLst>
                <a:path w="198" h="172">
                  <a:moveTo>
                    <a:pt x="0" y="0"/>
                  </a:moveTo>
                  <a:lnTo>
                    <a:pt x="0" y="0"/>
                  </a:lnTo>
                  <a:lnTo>
                    <a:pt x="198" y="172"/>
                  </a:lnTo>
                  <a:lnTo>
                    <a:pt x="198" y="172"/>
                  </a:lnTo>
                </a:path>
              </a:pathLst>
            </a:custGeom>
            <a:noFill/>
            <a:ln w="205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238880" y="5165640"/>
              <a:ext cx="282240" cy="245520"/>
            </a:xfrm>
            <a:custGeom>
              <a:avLst/>
              <a:gdLst/>
              <a:ahLst/>
              <a:rect l="l" t="t" r="r" b="b"/>
              <a:pathLst>
                <a:path w="198" h="172">
                  <a:moveTo>
                    <a:pt x="0" y="0"/>
                  </a:moveTo>
                  <a:lnTo>
                    <a:pt x="0" y="0"/>
                  </a:lnTo>
                  <a:lnTo>
                    <a:pt x="198" y="172"/>
                  </a:lnTo>
                  <a:lnTo>
                    <a:pt x="198" y="172"/>
                  </a:lnTo>
                </a:path>
              </a:pathLst>
            </a:custGeom>
            <a:noFill/>
            <a:ln w="205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7794360" y="5165640"/>
              <a:ext cx="282240" cy="245520"/>
            </a:xfrm>
            <a:custGeom>
              <a:avLst/>
              <a:gdLst/>
              <a:ahLst/>
              <a:rect l="l" t="t" r="r" b="b"/>
              <a:pathLst>
                <a:path w="198" h="172">
                  <a:moveTo>
                    <a:pt x="0" y="0"/>
                  </a:moveTo>
                  <a:lnTo>
                    <a:pt x="0" y="0"/>
                  </a:lnTo>
                  <a:lnTo>
                    <a:pt x="198" y="172"/>
                  </a:lnTo>
                  <a:lnTo>
                    <a:pt x="198" y="172"/>
                  </a:lnTo>
                </a:path>
              </a:pathLst>
            </a:custGeom>
            <a:noFill/>
            <a:ln w="205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8378640" y="5144760"/>
              <a:ext cx="282240" cy="245880"/>
            </a:xfrm>
            <a:custGeom>
              <a:avLst/>
              <a:gdLst/>
              <a:ahLst/>
              <a:rect l="l" t="t" r="r" b="b"/>
              <a:pathLst>
                <a:path w="198" h="172">
                  <a:moveTo>
                    <a:pt x="0" y="0"/>
                  </a:moveTo>
                  <a:lnTo>
                    <a:pt x="0" y="0"/>
                  </a:lnTo>
                  <a:lnTo>
                    <a:pt x="198" y="172"/>
                  </a:lnTo>
                  <a:lnTo>
                    <a:pt x="198" y="172"/>
                  </a:lnTo>
                </a:path>
              </a:pathLst>
            </a:custGeom>
            <a:noFill/>
            <a:ln w="205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934320" y="5149800"/>
              <a:ext cx="1447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0" name="server" descr=""/>
            <p:cNvPicPr/>
            <p:nvPr/>
          </p:nvPicPr>
          <p:blipFill>
            <a:blip r:embed="rId11"/>
            <a:stretch/>
          </p:blipFill>
          <p:spPr>
            <a:xfrm>
              <a:off x="8458200" y="5263920"/>
              <a:ext cx="212400" cy="39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1" name=""/>
          <p:cNvSpPr/>
          <p:nvPr/>
        </p:nvSpPr>
        <p:spPr>
          <a:xfrm>
            <a:off x="7086960" y="335232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ice, low-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 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593640" y="586692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igh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3" name=""/>
          <p:cNvGrpSpPr/>
          <p:nvPr/>
        </p:nvGrpSpPr>
        <p:grpSpPr>
          <a:xfrm>
            <a:off x="2275920" y="4935960"/>
            <a:ext cx="553680" cy="364320"/>
            <a:chOff x="2275920" y="4935960"/>
            <a:chExt cx="553680" cy="364320"/>
          </a:xfrm>
        </p:grpSpPr>
        <p:sp>
          <p:nvSpPr>
            <p:cNvPr id="3864" name=""/>
            <p:cNvSpPr/>
            <p:nvPr/>
          </p:nvSpPr>
          <p:spPr>
            <a:xfrm rot="222600">
              <a:off x="2290320" y="4957560"/>
              <a:ext cx="522360" cy="31932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rot="222600">
              <a:off x="2295720" y="4957560"/>
              <a:ext cx="522360" cy="15948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 rot="222600">
              <a:off x="2285640" y="4952520"/>
              <a:ext cx="533520" cy="33048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 rot="222600">
              <a:off x="2288160" y="5037480"/>
              <a:ext cx="533520" cy="85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8" name=""/>
            <p:cNvGrpSpPr/>
            <p:nvPr/>
          </p:nvGrpSpPr>
          <p:grpSpPr>
            <a:xfrm>
              <a:off x="2350800" y="4970520"/>
              <a:ext cx="398880" cy="134640"/>
              <a:chOff x="2350800" y="4970520"/>
              <a:chExt cx="398880" cy="134640"/>
            </a:xfrm>
          </p:grpSpPr>
          <p:sp>
            <p:nvSpPr>
              <p:cNvPr id="3869" name=""/>
              <p:cNvSpPr/>
              <p:nvPr/>
            </p:nvSpPr>
            <p:spPr>
              <a:xfrm rot="222600">
                <a:off x="2559960" y="499104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 rot="222600">
                <a:off x="2559960" y="499104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rot="222600">
                <a:off x="2351880" y="5033520"/>
                <a:ext cx="188640" cy="504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rot="222600">
                <a:off x="2351880" y="5033520"/>
                <a:ext cx="188640" cy="504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rot="222600">
                <a:off x="2366640" y="4976280"/>
                <a:ext cx="18864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rot="222600">
                <a:off x="2366640" y="4976280"/>
                <a:ext cx="18864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222600">
                <a:off x="2549880" y="5050800"/>
                <a:ext cx="187200" cy="4824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rot="222600">
                <a:off x="2549880" y="5050800"/>
                <a:ext cx="187200" cy="4824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7" name=""/>
          <p:cNvGrpSpPr/>
          <p:nvPr/>
        </p:nvGrpSpPr>
        <p:grpSpPr>
          <a:xfrm>
            <a:off x="6390720" y="4935960"/>
            <a:ext cx="553680" cy="364320"/>
            <a:chOff x="6390720" y="4935960"/>
            <a:chExt cx="553680" cy="364320"/>
          </a:xfrm>
        </p:grpSpPr>
        <p:sp>
          <p:nvSpPr>
            <p:cNvPr id="3878" name=""/>
            <p:cNvSpPr/>
            <p:nvPr/>
          </p:nvSpPr>
          <p:spPr>
            <a:xfrm rot="222600">
              <a:off x="6405120" y="4957560"/>
              <a:ext cx="522360" cy="31932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 rot="222600">
              <a:off x="6410520" y="4957560"/>
              <a:ext cx="522360" cy="15948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 rot="222600">
              <a:off x="6400440" y="4952520"/>
              <a:ext cx="533520" cy="33048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rot="222600">
              <a:off x="6402960" y="5037480"/>
              <a:ext cx="533520" cy="85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2" name=""/>
            <p:cNvGrpSpPr/>
            <p:nvPr/>
          </p:nvGrpSpPr>
          <p:grpSpPr>
            <a:xfrm>
              <a:off x="6465600" y="4970520"/>
              <a:ext cx="398880" cy="134640"/>
              <a:chOff x="6465600" y="4970520"/>
              <a:chExt cx="398880" cy="134640"/>
            </a:xfrm>
          </p:grpSpPr>
          <p:sp>
            <p:nvSpPr>
              <p:cNvPr id="3883" name=""/>
              <p:cNvSpPr/>
              <p:nvPr/>
            </p:nvSpPr>
            <p:spPr>
              <a:xfrm rot="222600">
                <a:off x="6674760" y="499104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 rot="222600">
                <a:off x="6674760" y="4991040"/>
                <a:ext cx="18828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rot="222600">
                <a:off x="6466680" y="5033520"/>
                <a:ext cx="188640" cy="504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rot="222600">
                <a:off x="6466680" y="5033520"/>
                <a:ext cx="188640" cy="504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rot="222600">
                <a:off x="6481440" y="4976280"/>
                <a:ext cx="18864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rot="222600">
                <a:off x="6481440" y="4976280"/>
                <a:ext cx="188640" cy="4824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rot="222600">
                <a:off x="6664680" y="5050800"/>
                <a:ext cx="187200" cy="4824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rot="222600">
                <a:off x="6664680" y="5050800"/>
                <a:ext cx="187200" cy="4824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1" name=""/>
          <p:cNvSpPr/>
          <p:nvPr/>
        </p:nvSpPr>
        <p:spPr>
          <a:xfrm>
            <a:off x="7299360" y="594324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igh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3429000" y="2209680"/>
            <a:ext cx="22096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3" name=""/>
          <p:cNvGrpSpPr/>
          <p:nvPr/>
        </p:nvGrpSpPr>
        <p:grpSpPr>
          <a:xfrm>
            <a:off x="3048120" y="2001960"/>
            <a:ext cx="204480" cy="436320"/>
            <a:chOff x="3048120" y="2001960"/>
            <a:chExt cx="204480" cy="436320"/>
          </a:xfrm>
        </p:grpSpPr>
        <p:sp>
          <p:nvSpPr>
            <p:cNvPr id="3894" name=""/>
            <p:cNvSpPr/>
            <p:nvPr/>
          </p:nvSpPr>
          <p:spPr>
            <a:xfrm>
              <a:off x="3048120" y="2001960"/>
              <a:ext cx="20448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3048120" y="2147400"/>
              <a:ext cx="204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3048120" y="2283480"/>
              <a:ext cx="20448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3048120" y="2438280"/>
              <a:ext cx="204480" cy="0"/>
            </a:xfrm>
            <a:prstGeom prst="line">
              <a:avLst/>
            </a:prstGeom>
            <a:ln w="25560">
              <a:solidFill>
                <a:srgbClr val="f95a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8" name=""/>
          <p:cNvSpPr/>
          <p:nvPr/>
        </p:nvSpPr>
        <p:spPr>
          <a:xfrm flipV="1" rot="5400000">
            <a:off x="2871720" y="2133360"/>
            <a:ext cx="990720" cy="228600"/>
          </a:xfrm>
          <a:custGeom>
            <a:avLst/>
            <a:gdLst>
              <a:gd name="textAreaLeft" fmla="*/ 217800 w 990720"/>
              <a:gd name="textAreaRight" fmla="*/ 772920 w 9907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9" name=""/>
          <p:cNvGrpSpPr/>
          <p:nvPr/>
        </p:nvGrpSpPr>
        <p:grpSpPr>
          <a:xfrm>
            <a:off x="5791320" y="2001960"/>
            <a:ext cx="204480" cy="436320"/>
            <a:chOff x="5791320" y="2001960"/>
            <a:chExt cx="204480" cy="436320"/>
          </a:xfrm>
        </p:grpSpPr>
        <p:sp>
          <p:nvSpPr>
            <p:cNvPr id="3900" name=""/>
            <p:cNvSpPr/>
            <p:nvPr/>
          </p:nvSpPr>
          <p:spPr>
            <a:xfrm flipH="1">
              <a:off x="5791320" y="2001960"/>
              <a:ext cx="20448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H="1">
              <a:off x="5791320" y="2147400"/>
              <a:ext cx="204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>
              <a:off x="5791320" y="2283480"/>
              <a:ext cx="20448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H="1">
              <a:off x="5791320" y="2438280"/>
              <a:ext cx="204480" cy="0"/>
            </a:xfrm>
            <a:prstGeom prst="line">
              <a:avLst/>
            </a:prstGeom>
            <a:ln w="25560">
              <a:solidFill>
                <a:srgbClr val="f95a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4" name=""/>
          <p:cNvSpPr/>
          <p:nvPr/>
        </p:nvSpPr>
        <p:spPr>
          <a:xfrm flipH="1" flipV="1" rot="16200000">
            <a:off x="5180760" y="2133360"/>
            <a:ext cx="990720" cy="228600"/>
          </a:xfrm>
          <a:custGeom>
            <a:avLst/>
            <a:gdLst>
              <a:gd name="textAreaLeft" fmla="*/ 217800 w 990720"/>
              <a:gd name="textAreaRight" fmla="*/ 772920 w 9907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4040280" y="24519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W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4343400" y="1905120"/>
            <a:ext cx="304920" cy="3045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7" name=""/>
          <p:cNvGrpSpPr/>
          <p:nvPr/>
        </p:nvGrpSpPr>
        <p:grpSpPr>
          <a:xfrm>
            <a:off x="2287080" y="1752480"/>
            <a:ext cx="702000" cy="914040"/>
            <a:chOff x="2287080" y="1752480"/>
            <a:chExt cx="702000" cy="914040"/>
          </a:xfrm>
        </p:grpSpPr>
        <p:sp>
          <p:nvSpPr>
            <p:cNvPr id="3908" name=""/>
            <p:cNvSpPr/>
            <p:nvPr/>
          </p:nvSpPr>
          <p:spPr>
            <a:xfrm>
              <a:off x="2373480" y="1752480"/>
              <a:ext cx="535320" cy="914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287080" y="1874160"/>
              <a:ext cx="7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o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0" name=""/>
          <p:cNvGrpSpPr/>
          <p:nvPr/>
        </p:nvGrpSpPr>
        <p:grpSpPr>
          <a:xfrm>
            <a:off x="6021000" y="1790640"/>
            <a:ext cx="702000" cy="914040"/>
            <a:chOff x="6021000" y="1790640"/>
            <a:chExt cx="702000" cy="914040"/>
          </a:xfrm>
        </p:grpSpPr>
        <p:sp>
          <p:nvSpPr>
            <p:cNvPr id="3911" name=""/>
            <p:cNvSpPr/>
            <p:nvPr/>
          </p:nvSpPr>
          <p:spPr>
            <a:xfrm>
              <a:off x="6107400" y="1790640"/>
              <a:ext cx="535320" cy="914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6021000" y="1912320"/>
              <a:ext cx="7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o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3" name=""/>
          <p:cNvGrpSpPr/>
          <p:nvPr/>
        </p:nvGrpSpPr>
        <p:grpSpPr>
          <a:xfrm>
            <a:off x="1066680" y="989280"/>
            <a:ext cx="1095480" cy="1677240"/>
            <a:chOff x="1066680" y="989280"/>
            <a:chExt cx="1095480" cy="1677240"/>
          </a:xfrm>
        </p:grpSpPr>
        <p:sp>
          <p:nvSpPr>
            <p:cNvPr id="3914" name=""/>
            <p:cNvSpPr/>
            <p:nvPr/>
          </p:nvSpPr>
          <p:spPr>
            <a:xfrm>
              <a:off x="1780920" y="182880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780920" y="213336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780920" y="243828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7" name=""/>
            <p:cNvGrpSpPr/>
            <p:nvPr/>
          </p:nvGrpSpPr>
          <p:grpSpPr>
            <a:xfrm>
              <a:off x="1066680" y="989280"/>
              <a:ext cx="700200" cy="1677240"/>
              <a:chOff x="1066680" y="989280"/>
              <a:chExt cx="700200" cy="1677240"/>
            </a:xfrm>
          </p:grpSpPr>
          <p:grpSp>
            <p:nvGrpSpPr>
              <p:cNvPr id="3918" name=""/>
              <p:cNvGrpSpPr/>
              <p:nvPr/>
            </p:nvGrpSpPr>
            <p:grpSpPr>
              <a:xfrm>
                <a:off x="1066680" y="1576440"/>
                <a:ext cx="700200" cy="432720"/>
                <a:chOff x="1066680" y="1576440"/>
                <a:chExt cx="700200" cy="432720"/>
              </a:xfrm>
            </p:grpSpPr>
            <p:sp>
              <p:nvSpPr>
                <p:cNvPr id="3919" name=""/>
                <p:cNvSpPr/>
                <p:nvPr/>
              </p:nvSpPr>
              <p:spPr>
                <a:xfrm>
                  <a:off x="1073160" y="1582560"/>
                  <a:ext cx="685800" cy="418320"/>
                </a:xfrm>
                <a:custGeom>
                  <a:avLst/>
                  <a:gdLst/>
                  <a:ahLst/>
                  <a:rect l="l" t="t" r="r" b="b"/>
                  <a:pathLst>
                    <a:path w="432" h="264">
                      <a:moveTo>
                        <a:pt x="216" y="0"/>
                      </a:move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lnTo>
                        <a:pt x="0" y="198"/>
                      </a:lnTo>
                      <a:lnTo>
                        <a:pt x="1" y="205"/>
                      </a:lnTo>
                      <a:lnTo>
                        <a:pt x="4" y="211"/>
                      </a:lnTo>
                      <a:lnTo>
                        <a:pt x="10" y="217"/>
                      </a:lnTo>
                      <a:lnTo>
                        <a:pt x="17" y="224"/>
                      </a:lnTo>
                      <a:lnTo>
                        <a:pt x="26" y="229"/>
                      </a:lnTo>
                      <a:lnTo>
                        <a:pt x="37" y="235"/>
                      </a:lnTo>
                      <a:lnTo>
                        <a:pt x="49" y="240"/>
                      </a:lnTo>
                      <a:lnTo>
                        <a:pt x="63" y="245"/>
                      </a:lnTo>
                      <a:lnTo>
                        <a:pt x="79" y="249"/>
                      </a:lnTo>
                      <a:lnTo>
                        <a:pt x="95" y="253"/>
                      </a:lnTo>
                      <a:lnTo>
                        <a:pt x="113" y="256"/>
                      </a:lnTo>
                      <a:lnTo>
                        <a:pt x="132" y="259"/>
                      </a:lnTo>
                      <a:lnTo>
                        <a:pt x="173" y="263"/>
                      </a:lnTo>
                      <a:lnTo>
                        <a:pt x="216" y="264"/>
                      </a:lnTo>
                      <a:lnTo>
                        <a:pt x="259" y="263"/>
                      </a:lnTo>
                      <a:lnTo>
                        <a:pt x="300" y="259"/>
                      </a:lnTo>
                      <a:lnTo>
                        <a:pt x="319" y="256"/>
                      </a:lnTo>
                      <a:lnTo>
                        <a:pt x="337" y="253"/>
                      </a:lnTo>
                      <a:lnTo>
                        <a:pt x="353" y="249"/>
                      </a:lnTo>
                      <a:lnTo>
                        <a:pt x="369" y="245"/>
                      </a:lnTo>
                      <a:lnTo>
                        <a:pt x="383" y="240"/>
                      </a:lnTo>
                      <a:lnTo>
                        <a:pt x="395" y="235"/>
                      </a:lnTo>
                      <a:lnTo>
                        <a:pt x="406" y="229"/>
                      </a:lnTo>
                      <a:lnTo>
                        <a:pt x="415" y="224"/>
                      </a:lnTo>
                      <a:lnTo>
                        <a:pt x="422" y="217"/>
                      </a:lnTo>
                      <a:lnTo>
                        <a:pt x="428" y="211"/>
                      </a:lnTo>
                      <a:lnTo>
                        <a:pt x="431" y="205"/>
                      </a:lnTo>
                      <a:lnTo>
                        <a:pt x="432" y="198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1073160" y="1582560"/>
                  <a:ext cx="685800" cy="209160"/>
                </a:xfrm>
                <a:custGeom>
                  <a:avLst/>
                  <a:gdLst/>
                  <a:ahLst/>
                  <a:rect l="l" t="t" r="r" b="b"/>
                  <a:pathLst>
                    <a:path w="432" h="132">
                      <a:moveTo>
                        <a:pt x="0" y="66"/>
                      </a:moveTo>
                      <a:lnTo>
                        <a:pt x="1" y="73"/>
                      </a:lnTo>
                      <a:lnTo>
                        <a:pt x="4" y="79"/>
                      </a:lnTo>
                      <a:lnTo>
                        <a:pt x="10" y="85"/>
                      </a:lnTo>
                      <a:lnTo>
                        <a:pt x="17" y="92"/>
                      </a:lnTo>
                      <a:lnTo>
                        <a:pt x="26" y="97"/>
                      </a:lnTo>
                      <a:lnTo>
                        <a:pt x="37" y="103"/>
                      </a:lnTo>
                      <a:lnTo>
                        <a:pt x="49" y="108"/>
                      </a:lnTo>
                      <a:lnTo>
                        <a:pt x="63" y="113"/>
                      </a:lnTo>
                      <a:lnTo>
                        <a:pt x="79" y="117"/>
                      </a:lnTo>
                      <a:lnTo>
                        <a:pt x="95" y="121"/>
                      </a:lnTo>
                      <a:lnTo>
                        <a:pt x="113" y="124"/>
                      </a:lnTo>
                      <a:lnTo>
                        <a:pt x="132" y="127"/>
                      </a:lnTo>
                      <a:lnTo>
                        <a:pt x="173" y="131"/>
                      </a:lnTo>
                      <a:lnTo>
                        <a:pt x="216" y="132"/>
                      </a:lnTo>
                      <a:lnTo>
                        <a:pt x="259" y="131"/>
                      </a:lnTo>
                      <a:lnTo>
                        <a:pt x="300" y="127"/>
                      </a:lnTo>
                      <a:lnTo>
                        <a:pt x="319" y="124"/>
                      </a:lnTo>
                      <a:lnTo>
                        <a:pt x="337" y="121"/>
                      </a:lnTo>
                      <a:lnTo>
                        <a:pt x="353" y="117"/>
                      </a:lnTo>
                      <a:lnTo>
                        <a:pt x="369" y="113"/>
                      </a:lnTo>
                      <a:lnTo>
                        <a:pt x="383" y="108"/>
                      </a:lnTo>
                      <a:lnTo>
                        <a:pt x="395" y="103"/>
                      </a:lnTo>
                      <a:lnTo>
                        <a:pt x="406" y="97"/>
                      </a:lnTo>
                      <a:lnTo>
                        <a:pt x="415" y="92"/>
                      </a:lnTo>
                      <a:lnTo>
                        <a:pt x="422" y="85"/>
                      </a:lnTo>
                      <a:lnTo>
                        <a:pt x="428" y="79"/>
                      </a:lnTo>
                      <a:lnTo>
                        <a:pt x="431" y="73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1066680" y="1576440"/>
                  <a:ext cx="700200" cy="432720"/>
                </a:xfrm>
                <a:custGeom>
                  <a:avLst/>
                  <a:gdLst/>
                  <a:ahLst/>
                  <a:rect l="l" t="t" r="r" b="b"/>
                  <a:pathLst>
                    <a:path w="441" h="273">
                      <a:moveTo>
                        <a:pt x="177" y="1"/>
                      </a:moveTo>
                      <a:lnTo>
                        <a:pt x="136" y="5"/>
                      </a:lnTo>
                      <a:lnTo>
                        <a:pt x="117" y="8"/>
                      </a:lnTo>
                      <a:lnTo>
                        <a:pt x="99" y="11"/>
                      </a:lnTo>
                      <a:lnTo>
                        <a:pt x="83" y="15"/>
                      </a:lnTo>
                      <a:lnTo>
                        <a:pt x="67" y="19"/>
                      </a:lnTo>
                      <a:lnTo>
                        <a:pt x="53" y="24"/>
                      </a:lnTo>
                      <a:lnTo>
                        <a:pt x="41" y="29"/>
                      </a:lnTo>
                      <a:lnTo>
                        <a:pt x="38" y="30"/>
                      </a:lnTo>
                      <a:lnTo>
                        <a:pt x="27" y="36"/>
                      </a:lnTo>
                      <a:lnTo>
                        <a:pt x="18" y="42"/>
                      </a:lnTo>
                      <a:lnTo>
                        <a:pt x="11" y="48"/>
                      </a:lnTo>
                      <a:lnTo>
                        <a:pt x="5" y="54"/>
                      </a:lnTo>
                      <a:lnTo>
                        <a:pt x="2" y="60"/>
                      </a:lnTo>
                      <a:lnTo>
                        <a:pt x="1" y="63"/>
                      </a:lnTo>
                      <a:lnTo>
                        <a:pt x="0" y="70"/>
                      </a:lnTo>
                      <a:lnTo>
                        <a:pt x="0" y="202"/>
                      </a:lnTo>
                      <a:lnTo>
                        <a:pt x="1" y="209"/>
                      </a:lnTo>
                      <a:lnTo>
                        <a:pt x="2" y="212"/>
                      </a:lnTo>
                      <a:lnTo>
                        <a:pt x="5" y="218"/>
                      </a:lnTo>
                      <a:lnTo>
                        <a:pt x="11" y="224"/>
                      </a:lnTo>
                      <a:lnTo>
                        <a:pt x="18" y="231"/>
                      </a:lnTo>
                      <a:lnTo>
                        <a:pt x="27" y="236"/>
                      </a:lnTo>
                      <a:lnTo>
                        <a:pt x="38" y="242"/>
                      </a:lnTo>
                      <a:lnTo>
                        <a:pt x="41" y="243"/>
                      </a:lnTo>
                      <a:lnTo>
                        <a:pt x="53" y="248"/>
                      </a:lnTo>
                      <a:lnTo>
                        <a:pt x="67" y="253"/>
                      </a:lnTo>
                      <a:lnTo>
                        <a:pt x="83" y="257"/>
                      </a:lnTo>
                      <a:lnTo>
                        <a:pt x="99" y="261"/>
                      </a:lnTo>
                      <a:lnTo>
                        <a:pt x="117" y="264"/>
                      </a:lnTo>
                      <a:lnTo>
                        <a:pt x="136" y="267"/>
                      </a:lnTo>
                      <a:lnTo>
                        <a:pt x="177" y="271"/>
                      </a:lnTo>
                      <a:lnTo>
                        <a:pt x="220" y="273"/>
                      </a:lnTo>
                      <a:lnTo>
                        <a:pt x="263" y="271"/>
                      </a:lnTo>
                      <a:lnTo>
                        <a:pt x="304" y="267"/>
                      </a:lnTo>
                      <a:lnTo>
                        <a:pt x="323" y="264"/>
                      </a:lnTo>
                      <a:lnTo>
                        <a:pt x="341" y="261"/>
                      </a:lnTo>
                      <a:lnTo>
                        <a:pt x="357" y="257"/>
                      </a:lnTo>
                      <a:lnTo>
                        <a:pt x="373" y="253"/>
                      </a:lnTo>
                      <a:lnTo>
                        <a:pt x="387" y="248"/>
                      </a:lnTo>
                      <a:lnTo>
                        <a:pt x="399" y="243"/>
                      </a:lnTo>
                      <a:lnTo>
                        <a:pt x="402" y="242"/>
                      </a:lnTo>
                      <a:lnTo>
                        <a:pt x="413" y="236"/>
                      </a:lnTo>
                      <a:lnTo>
                        <a:pt x="422" y="231"/>
                      </a:lnTo>
                      <a:lnTo>
                        <a:pt x="429" y="224"/>
                      </a:lnTo>
                      <a:lnTo>
                        <a:pt x="435" y="218"/>
                      </a:lnTo>
                      <a:lnTo>
                        <a:pt x="438" y="212"/>
                      </a:lnTo>
                      <a:lnTo>
                        <a:pt x="439" y="209"/>
                      </a:lnTo>
                      <a:lnTo>
                        <a:pt x="441" y="202"/>
                      </a:lnTo>
                      <a:lnTo>
                        <a:pt x="441" y="70"/>
                      </a:lnTo>
                      <a:lnTo>
                        <a:pt x="439" y="63"/>
                      </a:lnTo>
                      <a:lnTo>
                        <a:pt x="438" y="60"/>
                      </a:lnTo>
                      <a:lnTo>
                        <a:pt x="435" y="54"/>
                      </a:lnTo>
                      <a:lnTo>
                        <a:pt x="429" y="48"/>
                      </a:lnTo>
                      <a:lnTo>
                        <a:pt x="422" y="42"/>
                      </a:lnTo>
                      <a:lnTo>
                        <a:pt x="413" y="36"/>
                      </a:lnTo>
                      <a:lnTo>
                        <a:pt x="402" y="30"/>
                      </a:lnTo>
                      <a:lnTo>
                        <a:pt x="399" y="29"/>
                      </a:lnTo>
                      <a:lnTo>
                        <a:pt x="387" y="24"/>
                      </a:lnTo>
                      <a:lnTo>
                        <a:pt x="373" y="19"/>
                      </a:lnTo>
                      <a:lnTo>
                        <a:pt x="357" y="15"/>
                      </a:lnTo>
                      <a:lnTo>
                        <a:pt x="341" y="11"/>
                      </a:lnTo>
                      <a:lnTo>
                        <a:pt x="323" y="8"/>
                      </a:lnTo>
                      <a:lnTo>
                        <a:pt x="304" y="5"/>
                      </a:lnTo>
                      <a:lnTo>
                        <a:pt x="263" y="1"/>
                      </a:lnTo>
                      <a:lnTo>
                        <a:pt x="220" y="0"/>
                      </a:lnTo>
                      <a:lnTo>
                        <a:pt x="177" y="1"/>
                      </a:lnTo>
                      <a:close/>
                      <a:moveTo>
                        <a:pt x="220" y="9"/>
                      </a:moveTo>
                      <a:lnTo>
                        <a:pt x="263" y="10"/>
                      </a:lnTo>
                      <a:lnTo>
                        <a:pt x="304" y="14"/>
                      </a:lnTo>
                      <a:lnTo>
                        <a:pt x="323" y="17"/>
                      </a:lnTo>
                      <a:lnTo>
                        <a:pt x="341" y="20"/>
                      </a:lnTo>
                      <a:lnTo>
                        <a:pt x="357" y="24"/>
                      </a:lnTo>
                      <a:lnTo>
                        <a:pt x="373" y="28"/>
                      </a:lnTo>
                      <a:lnTo>
                        <a:pt x="387" y="33"/>
                      </a:lnTo>
                      <a:lnTo>
                        <a:pt x="399" y="38"/>
                      </a:lnTo>
                      <a:lnTo>
                        <a:pt x="399" y="33"/>
                      </a:lnTo>
                      <a:lnTo>
                        <a:pt x="396" y="36"/>
                      </a:lnTo>
                      <a:lnTo>
                        <a:pt x="407" y="42"/>
                      </a:lnTo>
                      <a:lnTo>
                        <a:pt x="416" y="48"/>
                      </a:lnTo>
                      <a:lnTo>
                        <a:pt x="423" y="54"/>
                      </a:lnTo>
                      <a:lnTo>
                        <a:pt x="429" y="60"/>
                      </a:lnTo>
                      <a:lnTo>
                        <a:pt x="432" y="66"/>
                      </a:lnTo>
                      <a:lnTo>
                        <a:pt x="435" y="63"/>
                      </a:lnTo>
                      <a:lnTo>
                        <a:pt x="430" y="63"/>
                      </a:lnTo>
                      <a:lnTo>
                        <a:pt x="432" y="70"/>
                      </a:lnTo>
                      <a:lnTo>
                        <a:pt x="432" y="202"/>
                      </a:lnTo>
                      <a:lnTo>
                        <a:pt x="430" y="209"/>
                      </a:lnTo>
                      <a:lnTo>
                        <a:pt x="435" y="209"/>
                      </a:lnTo>
                      <a:lnTo>
                        <a:pt x="432" y="206"/>
                      </a:lnTo>
                      <a:lnTo>
                        <a:pt x="429" y="212"/>
                      </a:lnTo>
                      <a:lnTo>
                        <a:pt x="423" y="218"/>
                      </a:lnTo>
                      <a:lnTo>
                        <a:pt x="416" y="225"/>
                      </a:lnTo>
                      <a:lnTo>
                        <a:pt x="407" y="230"/>
                      </a:lnTo>
                      <a:lnTo>
                        <a:pt x="396" y="236"/>
                      </a:lnTo>
                      <a:lnTo>
                        <a:pt x="399" y="239"/>
                      </a:lnTo>
                      <a:lnTo>
                        <a:pt x="399" y="234"/>
                      </a:lnTo>
                      <a:lnTo>
                        <a:pt x="387" y="239"/>
                      </a:lnTo>
                      <a:lnTo>
                        <a:pt x="373" y="244"/>
                      </a:lnTo>
                      <a:lnTo>
                        <a:pt x="357" y="248"/>
                      </a:lnTo>
                      <a:lnTo>
                        <a:pt x="341" y="252"/>
                      </a:lnTo>
                      <a:lnTo>
                        <a:pt x="323" y="255"/>
                      </a:lnTo>
                      <a:lnTo>
                        <a:pt x="304" y="258"/>
                      </a:lnTo>
                      <a:lnTo>
                        <a:pt x="263" y="262"/>
                      </a:lnTo>
                      <a:lnTo>
                        <a:pt x="220" y="264"/>
                      </a:lnTo>
                      <a:lnTo>
                        <a:pt x="177" y="262"/>
                      </a:lnTo>
                      <a:lnTo>
                        <a:pt x="136" y="258"/>
                      </a:lnTo>
                      <a:lnTo>
                        <a:pt x="117" y="255"/>
                      </a:lnTo>
                      <a:lnTo>
                        <a:pt x="99" y="252"/>
                      </a:lnTo>
                      <a:lnTo>
                        <a:pt x="83" y="248"/>
                      </a:lnTo>
                      <a:lnTo>
                        <a:pt x="67" y="244"/>
                      </a:lnTo>
                      <a:lnTo>
                        <a:pt x="53" y="239"/>
                      </a:lnTo>
                      <a:lnTo>
                        <a:pt x="41" y="234"/>
                      </a:lnTo>
                      <a:lnTo>
                        <a:pt x="41" y="239"/>
                      </a:lnTo>
                      <a:lnTo>
                        <a:pt x="44" y="236"/>
                      </a:lnTo>
                      <a:lnTo>
                        <a:pt x="33" y="230"/>
                      </a:lnTo>
                      <a:lnTo>
                        <a:pt x="24" y="225"/>
                      </a:lnTo>
                      <a:lnTo>
                        <a:pt x="17" y="218"/>
                      </a:lnTo>
                      <a:lnTo>
                        <a:pt x="11" y="212"/>
                      </a:lnTo>
                      <a:lnTo>
                        <a:pt x="8" y="206"/>
                      </a:lnTo>
                      <a:lnTo>
                        <a:pt x="5" y="209"/>
                      </a:lnTo>
                      <a:lnTo>
                        <a:pt x="10" y="209"/>
                      </a:lnTo>
                      <a:lnTo>
                        <a:pt x="9" y="202"/>
                      </a:lnTo>
                      <a:lnTo>
                        <a:pt x="9" y="70"/>
                      </a:lnTo>
                      <a:lnTo>
                        <a:pt x="10" y="63"/>
                      </a:lnTo>
                      <a:lnTo>
                        <a:pt x="5" y="63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7" y="54"/>
                      </a:lnTo>
                      <a:lnTo>
                        <a:pt x="24" y="48"/>
                      </a:lnTo>
                      <a:lnTo>
                        <a:pt x="33" y="42"/>
                      </a:lnTo>
                      <a:lnTo>
                        <a:pt x="44" y="36"/>
                      </a:lnTo>
                      <a:lnTo>
                        <a:pt x="41" y="33"/>
                      </a:lnTo>
                      <a:lnTo>
                        <a:pt x="41" y="38"/>
                      </a:lnTo>
                      <a:lnTo>
                        <a:pt x="53" y="33"/>
                      </a:lnTo>
                      <a:lnTo>
                        <a:pt x="67" y="28"/>
                      </a:lnTo>
                      <a:lnTo>
                        <a:pt x="83" y="24"/>
                      </a:lnTo>
                      <a:lnTo>
                        <a:pt x="99" y="20"/>
                      </a:lnTo>
                      <a:lnTo>
                        <a:pt x="117" y="17"/>
                      </a:lnTo>
                      <a:lnTo>
                        <a:pt x="136" y="14"/>
                      </a:lnTo>
                      <a:lnTo>
                        <a:pt x="177" y="10"/>
                      </a:lnTo>
                      <a:lnTo>
                        <a:pt x="220" y="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1066680" y="1687320"/>
                  <a:ext cx="700200" cy="112320"/>
                </a:xfrm>
                <a:custGeom>
                  <a:avLst/>
                  <a:gdLst/>
                  <a:ahLst/>
                  <a:rect l="l" t="t" r="r" b="b"/>
                  <a:pathLst>
                    <a:path w="441" h="71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11" y="22"/>
                      </a:lnTo>
                      <a:lnTo>
                        <a:pt x="18" y="29"/>
                      </a:lnTo>
                      <a:lnTo>
                        <a:pt x="27" y="34"/>
                      </a:lnTo>
                      <a:lnTo>
                        <a:pt x="38" y="40"/>
                      </a:lnTo>
                      <a:lnTo>
                        <a:pt x="41" y="41"/>
                      </a:lnTo>
                      <a:lnTo>
                        <a:pt x="53" y="46"/>
                      </a:lnTo>
                      <a:lnTo>
                        <a:pt x="67" y="51"/>
                      </a:lnTo>
                      <a:lnTo>
                        <a:pt x="83" y="55"/>
                      </a:lnTo>
                      <a:lnTo>
                        <a:pt x="99" y="59"/>
                      </a:lnTo>
                      <a:lnTo>
                        <a:pt x="117" y="62"/>
                      </a:lnTo>
                      <a:lnTo>
                        <a:pt x="136" y="65"/>
                      </a:lnTo>
                      <a:lnTo>
                        <a:pt x="177" y="69"/>
                      </a:lnTo>
                      <a:lnTo>
                        <a:pt x="220" y="71"/>
                      </a:lnTo>
                      <a:lnTo>
                        <a:pt x="263" y="69"/>
                      </a:lnTo>
                      <a:lnTo>
                        <a:pt x="304" y="65"/>
                      </a:lnTo>
                      <a:lnTo>
                        <a:pt x="323" y="62"/>
                      </a:lnTo>
                      <a:lnTo>
                        <a:pt x="341" y="59"/>
                      </a:lnTo>
                      <a:lnTo>
                        <a:pt x="357" y="55"/>
                      </a:lnTo>
                      <a:lnTo>
                        <a:pt x="373" y="51"/>
                      </a:lnTo>
                      <a:lnTo>
                        <a:pt x="387" y="46"/>
                      </a:lnTo>
                      <a:lnTo>
                        <a:pt x="399" y="41"/>
                      </a:lnTo>
                      <a:lnTo>
                        <a:pt x="402" y="40"/>
                      </a:lnTo>
                      <a:lnTo>
                        <a:pt x="413" y="34"/>
                      </a:lnTo>
                      <a:lnTo>
                        <a:pt x="422" y="29"/>
                      </a:lnTo>
                      <a:lnTo>
                        <a:pt x="429" y="22"/>
                      </a:lnTo>
                      <a:lnTo>
                        <a:pt x="435" y="16"/>
                      </a:lnTo>
                      <a:lnTo>
                        <a:pt x="438" y="10"/>
                      </a:lnTo>
                      <a:lnTo>
                        <a:pt x="439" y="7"/>
                      </a:lnTo>
                      <a:lnTo>
                        <a:pt x="441" y="0"/>
                      </a:lnTo>
                      <a:lnTo>
                        <a:pt x="432" y="0"/>
                      </a:lnTo>
                      <a:lnTo>
                        <a:pt x="430" y="7"/>
                      </a:lnTo>
                      <a:lnTo>
                        <a:pt x="435" y="7"/>
                      </a:lnTo>
                      <a:lnTo>
                        <a:pt x="432" y="4"/>
                      </a:lnTo>
                      <a:lnTo>
                        <a:pt x="429" y="10"/>
                      </a:lnTo>
                      <a:lnTo>
                        <a:pt x="423" y="16"/>
                      </a:lnTo>
                      <a:lnTo>
                        <a:pt x="416" y="23"/>
                      </a:lnTo>
                      <a:lnTo>
                        <a:pt x="407" y="28"/>
                      </a:lnTo>
                      <a:lnTo>
                        <a:pt x="396" y="34"/>
                      </a:lnTo>
                      <a:lnTo>
                        <a:pt x="399" y="37"/>
                      </a:lnTo>
                      <a:lnTo>
                        <a:pt x="399" y="32"/>
                      </a:lnTo>
                      <a:lnTo>
                        <a:pt x="387" y="37"/>
                      </a:lnTo>
                      <a:lnTo>
                        <a:pt x="373" y="42"/>
                      </a:lnTo>
                      <a:lnTo>
                        <a:pt x="357" y="46"/>
                      </a:lnTo>
                      <a:lnTo>
                        <a:pt x="341" y="50"/>
                      </a:lnTo>
                      <a:lnTo>
                        <a:pt x="323" y="53"/>
                      </a:lnTo>
                      <a:lnTo>
                        <a:pt x="304" y="56"/>
                      </a:lnTo>
                      <a:lnTo>
                        <a:pt x="263" y="60"/>
                      </a:lnTo>
                      <a:lnTo>
                        <a:pt x="220" y="62"/>
                      </a:lnTo>
                      <a:lnTo>
                        <a:pt x="177" y="60"/>
                      </a:lnTo>
                      <a:lnTo>
                        <a:pt x="136" y="56"/>
                      </a:lnTo>
                      <a:lnTo>
                        <a:pt x="117" y="53"/>
                      </a:lnTo>
                      <a:lnTo>
                        <a:pt x="99" y="50"/>
                      </a:lnTo>
                      <a:lnTo>
                        <a:pt x="83" y="46"/>
                      </a:lnTo>
                      <a:lnTo>
                        <a:pt x="67" y="42"/>
                      </a:lnTo>
                      <a:lnTo>
                        <a:pt x="53" y="37"/>
                      </a:lnTo>
                      <a:lnTo>
                        <a:pt x="41" y="32"/>
                      </a:lnTo>
                      <a:lnTo>
                        <a:pt x="41" y="37"/>
                      </a:lnTo>
                      <a:lnTo>
                        <a:pt x="44" y="34"/>
                      </a:lnTo>
                      <a:lnTo>
                        <a:pt x="33" y="28"/>
                      </a:lnTo>
                      <a:lnTo>
                        <a:pt x="24" y="23"/>
                      </a:lnTo>
                      <a:lnTo>
                        <a:pt x="17" y="16"/>
                      </a:lnTo>
                      <a:lnTo>
                        <a:pt x="11" y="10"/>
                      </a:lnTo>
                      <a:lnTo>
                        <a:pt x="8" y="4"/>
                      </a:lnTo>
                      <a:lnTo>
                        <a:pt x="5" y="7"/>
                      </a:lnTo>
                      <a:lnTo>
                        <a:pt x="10" y="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3" name=""/>
                <p:cNvGrpSpPr/>
                <p:nvPr/>
              </p:nvGrpSpPr>
              <p:grpSpPr>
                <a:xfrm>
                  <a:off x="1149120" y="1615680"/>
                  <a:ext cx="515880" cy="145440"/>
                  <a:chOff x="1149120" y="1615680"/>
                  <a:chExt cx="515880" cy="145440"/>
                </a:xfrm>
              </p:grpSpPr>
              <p:sp>
                <p:nvSpPr>
                  <p:cNvPr id="3924" name=""/>
                  <p:cNvSpPr/>
                  <p:nvPr/>
                </p:nvSpPr>
                <p:spPr>
                  <a:xfrm>
                    <a:off x="1417680" y="1618560"/>
                    <a:ext cx="2473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>
                    <a:off x="1417680" y="1618560"/>
                    <a:ext cx="2473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>
                    <a:off x="1149120" y="1691640"/>
                    <a:ext cx="24768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7" name=""/>
                  <p:cNvSpPr/>
                  <p:nvPr/>
                </p:nvSpPr>
                <p:spPr>
                  <a:xfrm>
                    <a:off x="1149120" y="1691640"/>
                    <a:ext cx="24768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>
                    <a:off x="1163520" y="1615680"/>
                    <a:ext cx="2476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1163520" y="1615680"/>
                    <a:ext cx="2476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0" name=""/>
                  <p:cNvSpPr/>
                  <p:nvPr/>
                </p:nvSpPr>
                <p:spPr>
                  <a:xfrm>
                    <a:off x="1409760" y="1697760"/>
                    <a:ext cx="245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1" name=""/>
                  <p:cNvSpPr/>
                  <p:nvPr/>
                </p:nvSpPr>
                <p:spPr>
                  <a:xfrm>
                    <a:off x="1409760" y="1697760"/>
                    <a:ext cx="245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32" name=""/>
              <p:cNvSpPr/>
              <p:nvPr/>
            </p:nvSpPr>
            <p:spPr>
              <a:xfrm>
                <a:off x="1172880" y="989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I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3" name=""/>
              <p:cNvGrpSpPr/>
              <p:nvPr/>
            </p:nvGrpSpPr>
            <p:grpSpPr>
              <a:xfrm>
                <a:off x="1066680" y="1904760"/>
                <a:ext cx="700200" cy="433080"/>
                <a:chOff x="1066680" y="1904760"/>
                <a:chExt cx="700200" cy="433080"/>
              </a:xfrm>
            </p:grpSpPr>
            <p:sp>
              <p:nvSpPr>
                <p:cNvPr id="3934" name=""/>
                <p:cNvSpPr/>
                <p:nvPr/>
              </p:nvSpPr>
              <p:spPr>
                <a:xfrm>
                  <a:off x="1073160" y="1910880"/>
                  <a:ext cx="685800" cy="418680"/>
                </a:xfrm>
                <a:custGeom>
                  <a:avLst/>
                  <a:gdLst/>
                  <a:ahLst/>
                  <a:rect l="l" t="t" r="r" b="b"/>
                  <a:pathLst>
                    <a:path w="432" h="264">
                      <a:moveTo>
                        <a:pt x="216" y="0"/>
                      </a:move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lnTo>
                        <a:pt x="0" y="198"/>
                      </a:lnTo>
                      <a:lnTo>
                        <a:pt x="1" y="205"/>
                      </a:lnTo>
                      <a:lnTo>
                        <a:pt x="4" y="211"/>
                      </a:lnTo>
                      <a:lnTo>
                        <a:pt x="10" y="217"/>
                      </a:lnTo>
                      <a:lnTo>
                        <a:pt x="17" y="224"/>
                      </a:lnTo>
                      <a:lnTo>
                        <a:pt x="26" y="229"/>
                      </a:lnTo>
                      <a:lnTo>
                        <a:pt x="37" y="235"/>
                      </a:lnTo>
                      <a:lnTo>
                        <a:pt x="49" y="240"/>
                      </a:lnTo>
                      <a:lnTo>
                        <a:pt x="63" y="245"/>
                      </a:lnTo>
                      <a:lnTo>
                        <a:pt x="79" y="249"/>
                      </a:lnTo>
                      <a:lnTo>
                        <a:pt x="95" y="253"/>
                      </a:lnTo>
                      <a:lnTo>
                        <a:pt x="113" y="256"/>
                      </a:lnTo>
                      <a:lnTo>
                        <a:pt x="132" y="259"/>
                      </a:lnTo>
                      <a:lnTo>
                        <a:pt x="173" y="263"/>
                      </a:lnTo>
                      <a:lnTo>
                        <a:pt x="216" y="264"/>
                      </a:lnTo>
                      <a:lnTo>
                        <a:pt x="259" y="263"/>
                      </a:lnTo>
                      <a:lnTo>
                        <a:pt x="300" y="259"/>
                      </a:lnTo>
                      <a:lnTo>
                        <a:pt x="319" y="256"/>
                      </a:lnTo>
                      <a:lnTo>
                        <a:pt x="337" y="253"/>
                      </a:lnTo>
                      <a:lnTo>
                        <a:pt x="353" y="249"/>
                      </a:lnTo>
                      <a:lnTo>
                        <a:pt x="369" y="245"/>
                      </a:lnTo>
                      <a:lnTo>
                        <a:pt x="383" y="240"/>
                      </a:lnTo>
                      <a:lnTo>
                        <a:pt x="395" y="235"/>
                      </a:lnTo>
                      <a:lnTo>
                        <a:pt x="406" y="229"/>
                      </a:lnTo>
                      <a:lnTo>
                        <a:pt x="415" y="224"/>
                      </a:lnTo>
                      <a:lnTo>
                        <a:pt x="422" y="217"/>
                      </a:lnTo>
                      <a:lnTo>
                        <a:pt x="428" y="211"/>
                      </a:lnTo>
                      <a:lnTo>
                        <a:pt x="431" y="205"/>
                      </a:lnTo>
                      <a:lnTo>
                        <a:pt x="432" y="198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>
                  <a:off x="1073160" y="1910880"/>
                  <a:ext cx="685800" cy="209160"/>
                </a:xfrm>
                <a:custGeom>
                  <a:avLst/>
                  <a:gdLst/>
                  <a:ahLst/>
                  <a:rect l="l" t="t" r="r" b="b"/>
                  <a:pathLst>
                    <a:path w="432" h="132">
                      <a:moveTo>
                        <a:pt x="0" y="66"/>
                      </a:moveTo>
                      <a:lnTo>
                        <a:pt x="1" y="73"/>
                      </a:lnTo>
                      <a:lnTo>
                        <a:pt x="4" y="79"/>
                      </a:lnTo>
                      <a:lnTo>
                        <a:pt x="10" y="85"/>
                      </a:lnTo>
                      <a:lnTo>
                        <a:pt x="17" y="92"/>
                      </a:lnTo>
                      <a:lnTo>
                        <a:pt x="26" y="97"/>
                      </a:lnTo>
                      <a:lnTo>
                        <a:pt x="37" y="103"/>
                      </a:lnTo>
                      <a:lnTo>
                        <a:pt x="49" y="108"/>
                      </a:lnTo>
                      <a:lnTo>
                        <a:pt x="63" y="113"/>
                      </a:lnTo>
                      <a:lnTo>
                        <a:pt x="79" y="117"/>
                      </a:lnTo>
                      <a:lnTo>
                        <a:pt x="95" y="121"/>
                      </a:lnTo>
                      <a:lnTo>
                        <a:pt x="113" y="124"/>
                      </a:lnTo>
                      <a:lnTo>
                        <a:pt x="132" y="127"/>
                      </a:lnTo>
                      <a:lnTo>
                        <a:pt x="173" y="131"/>
                      </a:lnTo>
                      <a:lnTo>
                        <a:pt x="216" y="132"/>
                      </a:lnTo>
                      <a:lnTo>
                        <a:pt x="259" y="131"/>
                      </a:lnTo>
                      <a:lnTo>
                        <a:pt x="300" y="127"/>
                      </a:lnTo>
                      <a:lnTo>
                        <a:pt x="319" y="124"/>
                      </a:lnTo>
                      <a:lnTo>
                        <a:pt x="337" y="121"/>
                      </a:lnTo>
                      <a:lnTo>
                        <a:pt x="353" y="117"/>
                      </a:lnTo>
                      <a:lnTo>
                        <a:pt x="369" y="113"/>
                      </a:lnTo>
                      <a:lnTo>
                        <a:pt x="383" y="108"/>
                      </a:lnTo>
                      <a:lnTo>
                        <a:pt x="395" y="103"/>
                      </a:lnTo>
                      <a:lnTo>
                        <a:pt x="406" y="97"/>
                      </a:lnTo>
                      <a:lnTo>
                        <a:pt x="415" y="92"/>
                      </a:lnTo>
                      <a:lnTo>
                        <a:pt x="422" y="85"/>
                      </a:lnTo>
                      <a:lnTo>
                        <a:pt x="428" y="79"/>
                      </a:lnTo>
                      <a:lnTo>
                        <a:pt x="431" y="73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>
                  <a:off x="1066680" y="1904760"/>
                  <a:ext cx="700200" cy="433080"/>
                </a:xfrm>
                <a:custGeom>
                  <a:avLst/>
                  <a:gdLst/>
                  <a:ahLst/>
                  <a:rect l="l" t="t" r="r" b="b"/>
                  <a:pathLst>
                    <a:path w="441" h="273">
                      <a:moveTo>
                        <a:pt x="177" y="1"/>
                      </a:moveTo>
                      <a:lnTo>
                        <a:pt x="136" y="5"/>
                      </a:lnTo>
                      <a:lnTo>
                        <a:pt x="117" y="8"/>
                      </a:lnTo>
                      <a:lnTo>
                        <a:pt x="99" y="11"/>
                      </a:lnTo>
                      <a:lnTo>
                        <a:pt x="83" y="15"/>
                      </a:lnTo>
                      <a:lnTo>
                        <a:pt x="67" y="19"/>
                      </a:lnTo>
                      <a:lnTo>
                        <a:pt x="53" y="24"/>
                      </a:lnTo>
                      <a:lnTo>
                        <a:pt x="41" y="29"/>
                      </a:lnTo>
                      <a:lnTo>
                        <a:pt x="38" y="30"/>
                      </a:lnTo>
                      <a:lnTo>
                        <a:pt x="27" y="36"/>
                      </a:lnTo>
                      <a:lnTo>
                        <a:pt x="18" y="42"/>
                      </a:lnTo>
                      <a:lnTo>
                        <a:pt x="11" y="48"/>
                      </a:lnTo>
                      <a:lnTo>
                        <a:pt x="5" y="54"/>
                      </a:lnTo>
                      <a:lnTo>
                        <a:pt x="2" y="60"/>
                      </a:lnTo>
                      <a:lnTo>
                        <a:pt x="1" y="63"/>
                      </a:lnTo>
                      <a:lnTo>
                        <a:pt x="0" y="70"/>
                      </a:lnTo>
                      <a:lnTo>
                        <a:pt x="0" y="202"/>
                      </a:lnTo>
                      <a:lnTo>
                        <a:pt x="1" y="209"/>
                      </a:lnTo>
                      <a:lnTo>
                        <a:pt x="2" y="212"/>
                      </a:lnTo>
                      <a:lnTo>
                        <a:pt x="5" y="218"/>
                      </a:lnTo>
                      <a:lnTo>
                        <a:pt x="11" y="224"/>
                      </a:lnTo>
                      <a:lnTo>
                        <a:pt x="18" y="231"/>
                      </a:lnTo>
                      <a:lnTo>
                        <a:pt x="27" y="236"/>
                      </a:lnTo>
                      <a:lnTo>
                        <a:pt x="38" y="242"/>
                      </a:lnTo>
                      <a:lnTo>
                        <a:pt x="41" y="243"/>
                      </a:lnTo>
                      <a:lnTo>
                        <a:pt x="53" y="248"/>
                      </a:lnTo>
                      <a:lnTo>
                        <a:pt x="67" y="253"/>
                      </a:lnTo>
                      <a:lnTo>
                        <a:pt x="83" y="257"/>
                      </a:lnTo>
                      <a:lnTo>
                        <a:pt x="99" y="261"/>
                      </a:lnTo>
                      <a:lnTo>
                        <a:pt x="117" y="264"/>
                      </a:lnTo>
                      <a:lnTo>
                        <a:pt x="136" y="267"/>
                      </a:lnTo>
                      <a:lnTo>
                        <a:pt x="177" y="271"/>
                      </a:lnTo>
                      <a:lnTo>
                        <a:pt x="220" y="273"/>
                      </a:lnTo>
                      <a:lnTo>
                        <a:pt x="263" y="271"/>
                      </a:lnTo>
                      <a:lnTo>
                        <a:pt x="304" y="267"/>
                      </a:lnTo>
                      <a:lnTo>
                        <a:pt x="323" y="264"/>
                      </a:lnTo>
                      <a:lnTo>
                        <a:pt x="341" y="261"/>
                      </a:lnTo>
                      <a:lnTo>
                        <a:pt x="357" y="257"/>
                      </a:lnTo>
                      <a:lnTo>
                        <a:pt x="373" y="253"/>
                      </a:lnTo>
                      <a:lnTo>
                        <a:pt x="387" y="248"/>
                      </a:lnTo>
                      <a:lnTo>
                        <a:pt x="399" y="243"/>
                      </a:lnTo>
                      <a:lnTo>
                        <a:pt x="402" y="242"/>
                      </a:lnTo>
                      <a:lnTo>
                        <a:pt x="413" y="236"/>
                      </a:lnTo>
                      <a:lnTo>
                        <a:pt x="422" y="231"/>
                      </a:lnTo>
                      <a:lnTo>
                        <a:pt x="429" y="224"/>
                      </a:lnTo>
                      <a:lnTo>
                        <a:pt x="435" y="218"/>
                      </a:lnTo>
                      <a:lnTo>
                        <a:pt x="438" y="212"/>
                      </a:lnTo>
                      <a:lnTo>
                        <a:pt x="439" y="209"/>
                      </a:lnTo>
                      <a:lnTo>
                        <a:pt x="441" y="202"/>
                      </a:lnTo>
                      <a:lnTo>
                        <a:pt x="441" y="70"/>
                      </a:lnTo>
                      <a:lnTo>
                        <a:pt x="439" y="63"/>
                      </a:lnTo>
                      <a:lnTo>
                        <a:pt x="438" y="60"/>
                      </a:lnTo>
                      <a:lnTo>
                        <a:pt x="435" y="54"/>
                      </a:lnTo>
                      <a:lnTo>
                        <a:pt x="429" y="48"/>
                      </a:lnTo>
                      <a:lnTo>
                        <a:pt x="422" y="42"/>
                      </a:lnTo>
                      <a:lnTo>
                        <a:pt x="413" y="36"/>
                      </a:lnTo>
                      <a:lnTo>
                        <a:pt x="402" y="30"/>
                      </a:lnTo>
                      <a:lnTo>
                        <a:pt x="399" y="29"/>
                      </a:lnTo>
                      <a:lnTo>
                        <a:pt x="387" y="24"/>
                      </a:lnTo>
                      <a:lnTo>
                        <a:pt x="373" y="19"/>
                      </a:lnTo>
                      <a:lnTo>
                        <a:pt x="357" y="15"/>
                      </a:lnTo>
                      <a:lnTo>
                        <a:pt x="341" y="11"/>
                      </a:lnTo>
                      <a:lnTo>
                        <a:pt x="323" y="8"/>
                      </a:lnTo>
                      <a:lnTo>
                        <a:pt x="304" y="5"/>
                      </a:lnTo>
                      <a:lnTo>
                        <a:pt x="263" y="1"/>
                      </a:lnTo>
                      <a:lnTo>
                        <a:pt x="220" y="0"/>
                      </a:lnTo>
                      <a:lnTo>
                        <a:pt x="177" y="1"/>
                      </a:lnTo>
                      <a:close/>
                      <a:moveTo>
                        <a:pt x="220" y="9"/>
                      </a:moveTo>
                      <a:lnTo>
                        <a:pt x="263" y="10"/>
                      </a:lnTo>
                      <a:lnTo>
                        <a:pt x="304" y="14"/>
                      </a:lnTo>
                      <a:lnTo>
                        <a:pt x="323" y="17"/>
                      </a:lnTo>
                      <a:lnTo>
                        <a:pt x="341" y="20"/>
                      </a:lnTo>
                      <a:lnTo>
                        <a:pt x="357" y="24"/>
                      </a:lnTo>
                      <a:lnTo>
                        <a:pt x="373" y="28"/>
                      </a:lnTo>
                      <a:lnTo>
                        <a:pt x="387" y="33"/>
                      </a:lnTo>
                      <a:lnTo>
                        <a:pt x="399" y="38"/>
                      </a:lnTo>
                      <a:lnTo>
                        <a:pt x="399" y="33"/>
                      </a:lnTo>
                      <a:lnTo>
                        <a:pt x="396" y="36"/>
                      </a:lnTo>
                      <a:lnTo>
                        <a:pt x="407" y="42"/>
                      </a:lnTo>
                      <a:lnTo>
                        <a:pt x="416" y="48"/>
                      </a:lnTo>
                      <a:lnTo>
                        <a:pt x="423" y="54"/>
                      </a:lnTo>
                      <a:lnTo>
                        <a:pt x="429" y="60"/>
                      </a:lnTo>
                      <a:lnTo>
                        <a:pt x="432" y="66"/>
                      </a:lnTo>
                      <a:lnTo>
                        <a:pt x="435" y="63"/>
                      </a:lnTo>
                      <a:lnTo>
                        <a:pt x="430" y="63"/>
                      </a:lnTo>
                      <a:lnTo>
                        <a:pt x="432" y="70"/>
                      </a:lnTo>
                      <a:lnTo>
                        <a:pt x="432" y="202"/>
                      </a:lnTo>
                      <a:lnTo>
                        <a:pt x="430" y="209"/>
                      </a:lnTo>
                      <a:lnTo>
                        <a:pt x="435" y="209"/>
                      </a:lnTo>
                      <a:lnTo>
                        <a:pt x="432" y="206"/>
                      </a:lnTo>
                      <a:lnTo>
                        <a:pt x="429" y="212"/>
                      </a:lnTo>
                      <a:lnTo>
                        <a:pt x="423" y="218"/>
                      </a:lnTo>
                      <a:lnTo>
                        <a:pt x="416" y="225"/>
                      </a:lnTo>
                      <a:lnTo>
                        <a:pt x="407" y="230"/>
                      </a:lnTo>
                      <a:lnTo>
                        <a:pt x="396" y="236"/>
                      </a:lnTo>
                      <a:lnTo>
                        <a:pt x="399" y="239"/>
                      </a:lnTo>
                      <a:lnTo>
                        <a:pt x="399" y="234"/>
                      </a:lnTo>
                      <a:lnTo>
                        <a:pt x="387" y="239"/>
                      </a:lnTo>
                      <a:lnTo>
                        <a:pt x="373" y="244"/>
                      </a:lnTo>
                      <a:lnTo>
                        <a:pt x="357" y="248"/>
                      </a:lnTo>
                      <a:lnTo>
                        <a:pt x="341" y="252"/>
                      </a:lnTo>
                      <a:lnTo>
                        <a:pt x="323" y="255"/>
                      </a:lnTo>
                      <a:lnTo>
                        <a:pt x="304" y="258"/>
                      </a:lnTo>
                      <a:lnTo>
                        <a:pt x="263" y="262"/>
                      </a:lnTo>
                      <a:lnTo>
                        <a:pt x="220" y="264"/>
                      </a:lnTo>
                      <a:lnTo>
                        <a:pt x="177" y="262"/>
                      </a:lnTo>
                      <a:lnTo>
                        <a:pt x="136" y="258"/>
                      </a:lnTo>
                      <a:lnTo>
                        <a:pt x="117" y="255"/>
                      </a:lnTo>
                      <a:lnTo>
                        <a:pt x="99" y="252"/>
                      </a:lnTo>
                      <a:lnTo>
                        <a:pt x="83" y="248"/>
                      </a:lnTo>
                      <a:lnTo>
                        <a:pt x="67" y="244"/>
                      </a:lnTo>
                      <a:lnTo>
                        <a:pt x="53" y="239"/>
                      </a:lnTo>
                      <a:lnTo>
                        <a:pt x="41" y="234"/>
                      </a:lnTo>
                      <a:lnTo>
                        <a:pt x="41" y="239"/>
                      </a:lnTo>
                      <a:lnTo>
                        <a:pt x="44" y="236"/>
                      </a:lnTo>
                      <a:lnTo>
                        <a:pt x="33" y="230"/>
                      </a:lnTo>
                      <a:lnTo>
                        <a:pt x="24" y="225"/>
                      </a:lnTo>
                      <a:lnTo>
                        <a:pt x="17" y="218"/>
                      </a:lnTo>
                      <a:lnTo>
                        <a:pt x="11" y="212"/>
                      </a:lnTo>
                      <a:lnTo>
                        <a:pt x="8" y="206"/>
                      </a:lnTo>
                      <a:lnTo>
                        <a:pt x="5" y="209"/>
                      </a:lnTo>
                      <a:lnTo>
                        <a:pt x="10" y="209"/>
                      </a:lnTo>
                      <a:lnTo>
                        <a:pt x="9" y="202"/>
                      </a:lnTo>
                      <a:lnTo>
                        <a:pt x="9" y="70"/>
                      </a:lnTo>
                      <a:lnTo>
                        <a:pt x="10" y="63"/>
                      </a:lnTo>
                      <a:lnTo>
                        <a:pt x="5" y="63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7" y="54"/>
                      </a:lnTo>
                      <a:lnTo>
                        <a:pt x="24" y="48"/>
                      </a:lnTo>
                      <a:lnTo>
                        <a:pt x="33" y="42"/>
                      </a:lnTo>
                      <a:lnTo>
                        <a:pt x="44" y="36"/>
                      </a:lnTo>
                      <a:lnTo>
                        <a:pt x="41" y="33"/>
                      </a:lnTo>
                      <a:lnTo>
                        <a:pt x="41" y="38"/>
                      </a:lnTo>
                      <a:lnTo>
                        <a:pt x="53" y="33"/>
                      </a:lnTo>
                      <a:lnTo>
                        <a:pt x="67" y="28"/>
                      </a:lnTo>
                      <a:lnTo>
                        <a:pt x="83" y="24"/>
                      </a:lnTo>
                      <a:lnTo>
                        <a:pt x="99" y="20"/>
                      </a:lnTo>
                      <a:lnTo>
                        <a:pt x="117" y="17"/>
                      </a:lnTo>
                      <a:lnTo>
                        <a:pt x="136" y="14"/>
                      </a:lnTo>
                      <a:lnTo>
                        <a:pt x="177" y="10"/>
                      </a:lnTo>
                      <a:lnTo>
                        <a:pt x="220" y="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1066680" y="2015640"/>
                  <a:ext cx="700200" cy="112320"/>
                </a:xfrm>
                <a:custGeom>
                  <a:avLst/>
                  <a:gdLst/>
                  <a:ahLst/>
                  <a:rect l="l" t="t" r="r" b="b"/>
                  <a:pathLst>
                    <a:path w="441" h="71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11" y="22"/>
                      </a:lnTo>
                      <a:lnTo>
                        <a:pt x="18" y="29"/>
                      </a:lnTo>
                      <a:lnTo>
                        <a:pt x="27" y="34"/>
                      </a:lnTo>
                      <a:lnTo>
                        <a:pt x="38" y="40"/>
                      </a:lnTo>
                      <a:lnTo>
                        <a:pt x="41" y="41"/>
                      </a:lnTo>
                      <a:lnTo>
                        <a:pt x="53" y="46"/>
                      </a:lnTo>
                      <a:lnTo>
                        <a:pt x="67" y="51"/>
                      </a:lnTo>
                      <a:lnTo>
                        <a:pt x="83" y="55"/>
                      </a:lnTo>
                      <a:lnTo>
                        <a:pt x="99" y="59"/>
                      </a:lnTo>
                      <a:lnTo>
                        <a:pt x="117" y="62"/>
                      </a:lnTo>
                      <a:lnTo>
                        <a:pt x="136" y="65"/>
                      </a:lnTo>
                      <a:lnTo>
                        <a:pt x="177" y="69"/>
                      </a:lnTo>
                      <a:lnTo>
                        <a:pt x="220" y="71"/>
                      </a:lnTo>
                      <a:lnTo>
                        <a:pt x="263" y="69"/>
                      </a:lnTo>
                      <a:lnTo>
                        <a:pt x="304" y="65"/>
                      </a:lnTo>
                      <a:lnTo>
                        <a:pt x="323" y="62"/>
                      </a:lnTo>
                      <a:lnTo>
                        <a:pt x="341" y="59"/>
                      </a:lnTo>
                      <a:lnTo>
                        <a:pt x="357" y="55"/>
                      </a:lnTo>
                      <a:lnTo>
                        <a:pt x="373" y="51"/>
                      </a:lnTo>
                      <a:lnTo>
                        <a:pt x="387" y="46"/>
                      </a:lnTo>
                      <a:lnTo>
                        <a:pt x="399" y="41"/>
                      </a:lnTo>
                      <a:lnTo>
                        <a:pt x="402" y="40"/>
                      </a:lnTo>
                      <a:lnTo>
                        <a:pt x="413" y="34"/>
                      </a:lnTo>
                      <a:lnTo>
                        <a:pt x="422" y="29"/>
                      </a:lnTo>
                      <a:lnTo>
                        <a:pt x="429" y="22"/>
                      </a:lnTo>
                      <a:lnTo>
                        <a:pt x="435" y="16"/>
                      </a:lnTo>
                      <a:lnTo>
                        <a:pt x="438" y="10"/>
                      </a:lnTo>
                      <a:lnTo>
                        <a:pt x="439" y="7"/>
                      </a:lnTo>
                      <a:lnTo>
                        <a:pt x="441" y="0"/>
                      </a:lnTo>
                      <a:lnTo>
                        <a:pt x="432" y="0"/>
                      </a:lnTo>
                      <a:lnTo>
                        <a:pt x="430" y="7"/>
                      </a:lnTo>
                      <a:lnTo>
                        <a:pt x="435" y="7"/>
                      </a:lnTo>
                      <a:lnTo>
                        <a:pt x="432" y="4"/>
                      </a:lnTo>
                      <a:lnTo>
                        <a:pt x="429" y="10"/>
                      </a:lnTo>
                      <a:lnTo>
                        <a:pt x="423" y="16"/>
                      </a:lnTo>
                      <a:lnTo>
                        <a:pt x="416" y="23"/>
                      </a:lnTo>
                      <a:lnTo>
                        <a:pt x="407" y="28"/>
                      </a:lnTo>
                      <a:lnTo>
                        <a:pt x="396" y="34"/>
                      </a:lnTo>
                      <a:lnTo>
                        <a:pt x="399" y="37"/>
                      </a:lnTo>
                      <a:lnTo>
                        <a:pt x="399" y="32"/>
                      </a:lnTo>
                      <a:lnTo>
                        <a:pt x="387" y="37"/>
                      </a:lnTo>
                      <a:lnTo>
                        <a:pt x="373" y="42"/>
                      </a:lnTo>
                      <a:lnTo>
                        <a:pt x="357" y="46"/>
                      </a:lnTo>
                      <a:lnTo>
                        <a:pt x="341" y="50"/>
                      </a:lnTo>
                      <a:lnTo>
                        <a:pt x="323" y="53"/>
                      </a:lnTo>
                      <a:lnTo>
                        <a:pt x="304" y="56"/>
                      </a:lnTo>
                      <a:lnTo>
                        <a:pt x="263" y="60"/>
                      </a:lnTo>
                      <a:lnTo>
                        <a:pt x="220" y="62"/>
                      </a:lnTo>
                      <a:lnTo>
                        <a:pt x="177" y="60"/>
                      </a:lnTo>
                      <a:lnTo>
                        <a:pt x="136" y="56"/>
                      </a:lnTo>
                      <a:lnTo>
                        <a:pt x="117" y="53"/>
                      </a:lnTo>
                      <a:lnTo>
                        <a:pt x="99" y="50"/>
                      </a:lnTo>
                      <a:lnTo>
                        <a:pt x="83" y="46"/>
                      </a:lnTo>
                      <a:lnTo>
                        <a:pt x="67" y="42"/>
                      </a:lnTo>
                      <a:lnTo>
                        <a:pt x="53" y="37"/>
                      </a:lnTo>
                      <a:lnTo>
                        <a:pt x="41" y="32"/>
                      </a:lnTo>
                      <a:lnTo>
                        <a:pt x="41" y="37"/>
                      </a:lnTo>
                      <a:lnTo>
                        <a:pt x="44" y="34"/>
                      </a:lnTo>
                      <a:lnTo>
                        <a:pt x="33" y="28"/>
                      </a:lnTo>
                      <a:lnTo>
                        <a:pt x="24" y="23"/>
                      </a:lnTo>
                      <a:lnTo>
                        <a:pt x="17" y="16"/>
                      </a:lnTo>
                      <a:lnTo>
                        <a:pt x="11" y="10"/>
                      </a:lnTo>
                      <a:lnTo>
                        <a:pt x="8" y="4"/>
                      </a:lnTo>
                      <a:lnTo>
                        <a:pt x="5" y="7"/>
                      </a:lnTo>
                      <a:lnTo>
                        <a:pt x="10" y="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8" name=""/>
                <p:cNvGrpSpPr/>
                <p:nvPr/>
              </p:nvGrpSpPr>
              <p:grpSpPr>
                <a:xfrm>
                  <a:off x="1149120" y="1944000"/>
                  <a:ext cx="515880" cy="145440"/>
                  <a:chOff x="1149120" y="1944000"/>
                  <a:chExt cx="515880" cy="145440"/>
                </a:xfrm>
              </p:grpSpPr>
              <p:sp>
                <p:nvSpPr>
                  <p:cNvPr id="3939" name=""/>
                  <p:cNvSpPr/>
                  <p:nvPr/>
                </p:nvSpPr>
                <p:spPr>
                  <a:xfrm>
                    <a:off x="1417680" y="1946880"/>
                    <a:ext cx="2473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0" name=""/>
                  <p:cNvSpPr/>
                  <p:nvPr/>
                </p:nvSpPr>
                <p:spPr>
                  <a:xfrm>
                    <a:off x="1417680" y="1946880"/>
                    <a:ext cx="2473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>
                    <a:off x="1149120" y="2019960"/>
                    <a:ext cx="24768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2" name=""/>
                  <p:cNvSpPr/>
                  <p:nvPr/>
                </p:nvSpPr>
                <p:spPr>
                  <a:xfrm>
                    <a:off x="1149120" y="2019960"/>
                    <a:ext cx="24768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3" name=""/>
                  <p:cNvSpPr/>
                  <p:nvPr/>
                </p:nvSpPr>
                <p:spPr>
                  <a:xfrm>
                    <a:off x="1163520" y="1944000"/>
                    <a:ext cx="2476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4" name=""/>
                  <p:cNvSpPr/>
                  <p:nvPr/>
                </p:nvSpPr>
                <p:spPr>
                  <a:xfrm>
                    <a:off x="1163520" y="1944000"/>
                    <a:ext cx="2476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5" name=""/>
                  <p:cNvSpPr/>
                  <p:nvPr/>
                </p:nvSpPr>
                <p:spPr>
                  <a:xfrm>
                    <a:off x="1409760" y="2026080"/>
                    <a:ext cx="245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>
                    <a:off x="1409760" y="2026080"/>
                    <a:ext cx="245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7" name=""/>
              <p:cNvGrpSpPr/>
              <p:nvPr/>
            </p:nvGrpSpPr>
            <p:grpSpPr>
              <a:xfrm>
                <a:off x="1066680" y="2233440"/>
                <a:ext cx="700200" cy="433080"/>
                <a:chOff x="1066680" y="2233440"/>
                <a:chExt cx="700200" cy="433080"/>
              </a:xfrm>
            </p:grpSpPr>
            <p:sp>
              <p:nvSpPr>
                <p:cNvPr id="3948" name=""/>
                <p:cNvSpPr/>
                <p:nvPr/>
              </p:nvSpPr>
              <p:spPr>
                <a:xfrm>
                  <a:off x="1073160" y="2239560"/>
                  <a:ext cx="685800" cy="418680"/>
                </a:xfrm>
                <a:custGeom>
                  <a:avLst/>
                  <a:gdLst/>
                  <a:ahLst/>
                  <a:rect l="l" t="t" r="r" b="b"/>
                  <a:pathLst>
                    <a:path w="432" h="264">
                      <a:moveTo>
                        <a:pt x="216" y="0"/>
                      </a:move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lnTo>
                        <a:pt x="0" y="198"/>
                      </a:lnTo>
                      <a:lnTo>
                        <a:pt x="1" y="205"/>
                      </a:lnTo>
                      <a:lnTo>
                        <a:pt x="4" y="211"/>
                      </a:lnTo>
                      <a:lnTo>
                        <a:pt x="10" y="217"/>
                      </a:lnTo>
                      <a:lnTo>
                        <a:pt x="17" y="224"/>
                      </a:lnTo>
                      <a:lnTo>
                        <a:pt x="26" y="229"/>
                      </a:lnTo>
                      <a:lnTo>
                        <a:pt x="37" y="235"/>
                      </a:lnTo>
                      <a:lnTo>
                        <a:pt x="49" y="240"/>
                      </a:lnTo>
                      <a:lnTo>
                        <a:pt x="63" y="245"/>
                      </a:lnTo>
                      <a:lnTo>
                        <a:pt x="79" y="249"/>
                      </a:lnTo>
                      <a:lnTo>
                        <a:pt x="95" y="253"/>
                      </a:lnTo>
                      <a:lnTo>
                        <a:pt x="113" y="256"/>
                      </a:lnTo>
                      <a:lnTo>
                        <a:pt x="132" y="259"/>
                      </a:lnTo>
                      <a:lnTo>
                        <a:pt x="173" y="263"/>
                      </a:lnTo>
                      <a:lnTo>
                        <a:pt x="216" y="264"/>
                      </a:lnTo>
                      <a:lnTo>
                        <a:pt x="259" y="263"/>
                      </a:lnTo>
                      <a:lnTo>
                        <a:pt x="300" y="259"/>
                      </a:lnTo>
                      <a:lnTo>
                        <a:pt x="319" y="256"/>
                      </a:lnTo>
                      <a:lnTo>
                        <a:pt x="337" y="253"/>
                      </a:lnTo>
                      <a:lnTo>
                        <a:pt x="353" y="249"/>
                      </a:lnTo>
                      <a:lnTo>
                        <a:pt x="369" y="245"/>
                      </a:lnTo>
                      <a:lnTo>
                        <a:pt x="383" y="240"/>
                      </a:lnTo>
                      <a:lnTo>
                        <a:pt x="395" y="235"/>
                      </a:lnTo>
                      <a:lnTo>
                        <a:pt x="406" y="229"/>
                      </a:lnTo>
                      <a:lnTo>
                        <a:pt x="415" y="224"/>
                      </a:lnTo>
                      <a:lnTo>
                        <a:pt x="422" y="217"/>
                      </a:lnTo>
                      <a:lnTo>
                        <a:pt x="428" y="211"/>
                      </a:lnTo>
                      <a:lnTo>
                        <a:pt x="431" y="205"/>
                      </a:lnTo>
                      <a:lnTo>
                        <a:pt x="432" y="198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>
                  <a:off x="1073160" y="2239560"/>
                  <a:ext cx="685800" cy="209160"/>
                </a:xfrm>
                <a:custGeom>
                  <a:avLst/>
                  <a:gdLst/>
                  <a:ahLst/>
                  <a:rect l="l" t="t" r="r" b="b"/>
                  <a:pathLst>
                    <a:path w="432" h="132">
                      <a:moveTo>
                        <a:pt x="0" y="66"/>
                      </a:moveTo>
                      <a:lnTo>
                        <a:pt x="1" y="73"/>
                      </a:lnTo>
                      <a:lnTo>
                        <a:pt x="4" y="79"/>
                      </a:lnTo>
                      <a:lnTo>
                        <a:pt x="10" y="85"/>
                      </a:lnTo>
                      <a:lnTo>
                        <a:pt x="17" y="92"/>
                      </a:lnTo>
                      <a:lnTo>
                        <a:pt x="26" y="97"/>
                      </a:lnTo>
                      <a:lnTo>
                        <a:pt x="37" y="103"/>
                      </a:lnTo>
                      <a:lnTo>
                        <a:pt x="49" y="108"/>
                      </a:lnTo>
                      <a:lnTo>
                        <a:pt x="63" y="113"/>
                      </a:lnTo>
                      <a:lnTo>
                        <a:pt x="79" y="117"/>
                      </a:lnTo>
                      <a:lnTo>
                        <a:pt x="95" y="121"/>
                      </a:lnTo>
                      <a:lnTo>
                        <a:pt x="113" y="124"/>
                      </a:lnTo>
                      <a:lnTo>
                        <a:pt x="132" y="127"/>
                      </a:lnTo>
                      <a:lnTo>
                        <a:pt x="173" y="131"/>
                      </a:lnTo>
                      <a:lnTo>
                        <a:pt x="216" y="132"/>
                      </a:lnTo>
                      <a:lnTo>
                        <a:pt x="259" y="131"/>
                      </a:lnTo>
                      <a:lnTo>
                        <a:pt x="300" y="127"/>
                      </a:lnTo>
                      <a:lnTo>
                        <a:pt x="319" y="124"/>
                      </a:lnTo>
                      <a:lnTo>
                        <a:pt x="337" y="121"/>
                      </a:lnTo>
                      <a:lnTo>
                        <a:pt x="353" y="117"/>
                      </a:lnTo>
                      <a:lnTo>
                        <a:pt x="369" y="113"/>
                      </a:lnTo>
                      <a:lnTo>
                        <a:pt x="383" y="108"/>
                      </a:lnTo>
                      <a:lnTo>
                        <a:pt x="395" y="103"/>
                      </a:lnTo>
                      <a:lnTo>
                        <a:pt x="406" y="97"/>
                      </a:lnTo>
                      <a:lnTo>
                        <a:pt x="415" y="92"/>
                      </a:lnTo>
                      <a:lnTo>
                        <a:pt x="422" y="85"/>
                      </a:lnTo>
                      <a:lnTo>
                        <a:pt x="428" y="79"/>
                      </a:lnTo>
                      <a:lnTo>
                        <a:pt x="431" y="73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>
                  <a:off x="1066680" y="2233440"/>
                  <a:ext cx="700200" cy="433080"/>
                </a:xfrm>
                <a:custGeom>
                  <a:avLst/>
                  <a:gdLst/>
                  <a:ahLst/>
                  <a:rect l="l" t="t" r="r" b="b"/>
                  <a:pathLst>
                    <a:path w="441" h="273">
                      <a:moveTo>
                        <a:pt x="177" y="1"/>
                      </a:moveTo>
                      <a:lnTo>
                        <a:pt x="136" y="5"/>
                      </a:lnTo>
                      <a:lnTo>
                        <a:pt x="117" y="8"/>
                      </a:lnTo>
                      <a:lnTo>
                        <a:pt x="99" y="11"/>
                      </a:lnTo>
                      <a:lnTo>
                        <a:pt x="83" y="15"/>
                      </a:lnTo>
                      <a:lnTo>
                        <a:pt x="67" y="19"/>
                      </a:lnTo>
                      <a:lnTo>
                        <a:pt x="53" y="24"/>
                      </a:lnTo>
                      <a:lnTo>
                        <a:pt x="41" y="29"/>
                      </a:lnTo>
                      <a:lnTo>
                        <a:pt x="38" y="30"/>
                      </a:lnTo>
                      <a:lnTo>
                        <a:pt x="27" y="36"/>
                      </a:lnTo>
                      <a:lnTo>
                        <a:pt x="18" y="42"/>
                      </a:lnTo>
                      <a:lnTo>
                        <a:pt x="11" y="48"/>
                      </a:lnTo>
                      <a:lnTo>
                        <a:pt x="5" y="54"/>
                      </a:lnTo>
                      <a:lnTo>
                        <a:pt x="2" y="60"/>
                      </a:lnTo>
                      <a:lnTo>
                        <a:pt x="1" y="63"/>
                      </a:lnTo>
                      <a:lnTo>
                        <a:pt x="0" y="70"/>
                      </a:lnTo>
                      <a:lnTo>
                        <a:pt x="0" y="202"/>
                      </a:lnTo>
                      <a:lnTo>
                        <a:pt x="1" y="209"/>
                      </a:lnTo>
                      <a:lnTo>
                        <a:pt x="2" y="212"/>
                      </a:lnTo>
                      <a:lnTo>
                        <a:pt x="5" y="218"/>
                      </a:lnTo>
                      <a:lnTo>
                        <a:pt x="11" y="224"/>
                      </a:lnTo>
                      <a:lnTo>
                        <a:pt x="18" y="231"/>
                      </a:lnTo>
                      <a:lnTo>
                        <a:pt x="27" y="236"/>
                      </a:lnTo>
                      <a:lnTo>
                        <a:pt x="38" y="242"/>
                      </a:lnTo>
                      <a:lnTo>
                        <a:pt x="41" y="243"/>
                      </a:lnTo>
                      <a:lnTo>
                        <a:pt x="53" y="248"/>
                      </a:lnTo>
                      <a:lnTo>
                        <a:pt x="67" y="253"/>
                      </a:lnTo>
                      <a:lnTo>
                        <a:pt x="83" y="257"/>
                      </a:lnTo>
                      <a:lnTo>
                        <a:pt x="99" y="261"/>
                      </a:lnTo>
                      <a:lnTo>
                        <a:pt x="117" y="264"/>
                      </a:lnTo>
                      <a:lnTo>
                        <a:pt x="136" y="267"/>
                      </a:lnTo>
                      <a:lnTo>
                        <a:pt x="177" y="271"/>
                      </a:lnTo>
                      <a:lnTo>
                        <a:pt x="220" y="273"/>
                      </a:lnTo>
                      <a:lnTo>
                        <a:pt x="263" y="271"/>
                      </a:lnTo>
                      <a:lnTo>
                        <a:pt x="304" y="267"/>
                      </a:lnTo>
                      <a:lnTo>
                        <a:pt x="323" y="264"/>
                      </a:lnTo>
                      <a:lnTo>
                        <a:pt x="341" y="261"/>
                      </a:lnTo>
                      <a:lnTo>
                        <a:pt x="357" y="257"/>
                      </a:lnTo>
                      <a:lnTo>
                        <a:pt x="373" y="253"/>
                      </a:lnTo>
                      <a:lnTo>
                        <a:pt x="387" y="248"/>
                      </a:lnTo>
                      <a:lnTo>
                        <a:pt x="399" y="243"/>
                      </a:lnTo>
                      <a:lnTo>
                        <a:pt x="402" y="242"/>
                      </a:lnTo>
                      <a:lnTo>
                        <a:pt x="413" y="236"/>
                      </a:lnTo>
                      <a:lnTo>
                        <a:pt x="422" y="231"/>
                      </a:lnTo>
                      <a:lnTo>
                        <a:pt x="429" y="224"/>
                      </a:lnTo>
                      <a:lnTo>
                        <a:pt x="435" y="218"/>
                      </a:lnTo>
                      <a:lnTo>
                        <a:pt x="438" y="212"/>
                      </a:lnTo>
                      <a:lnTo>
                        <a:pt x="439" y="209"/>
                      </a:lnTo>
                      <a:lnTo>
                        <a:pt x="441" y="202"/>
                      </a:lnTo>
                      <a:lnTo>
                        <a:pt x="441" y="70"/>
                      </a:lnTo>
                      <a:lnTo>
                        <a:pt x="439" y="63"/>
                      </a:lnTo>
                      <a:lnTo>
                        <a:pt x="438" y="60"/>
                      </a:lnTo>
                      <a:lnTo>
                        <a:pt x="435" y="54"/>
                      </a:lnTo>
                      <a:lnTo>
                        <a:pt x="429" y="48"/>
                      </a:lnTo>
                      <a:lnTo>
                        <a:pt x="422" y="42"/>
                      </a:lnTo>
                      <a:lnTo>
                        <a:pt x="413" y="36"/>
                      </a:lnTo>
                      <a:lnTo>
                        <a:pt x="402" y="30"/>
                      </a:lnTo>
                      <a:lnTo>
                        <a:pt x="399" y="29"/>
                      </a:lnTo>
                      <a:lnTo>
                        <a:pt x="387" y="24"/>
                      </a:lnTo>
                      <a:lnTo>
                        <a:pt x="373" y="19"/>
                      </a:lnTo>
                      <a:lnTo>
                        <a:pt x="357" y="15"/>
                      </a:lnTo>
                      <a:lnTo>
                        <a:pt x="341" y="11"/>
                      </a:lnTo>
                      <a:lnTo>
                        <a:pt x="323" y="8"/>
                      </a:lnTo>
                      <a:lnTo>
                        <a:pt x="304" y="5"/>
                      </a:lnTo>
                      <a:lnTo>
                        <a:pt x="263" y="1"/>
                      </a:lnTo>
                      <a:lnTo>
                        <a:pt x="220" y="0"/>
                      </a:lnTo>
                      <a:lnTo>
                        <a:pt x="177" y="1"/>
                      </a:lnTo>
                      <a:close/>
                      <a:moveTo>
                        <a:pt x="220" y="9"/>
                      </a:moveTo>
                      <a:lnTo>
                        <a:pt x="263" y="10"/>
                      </a:lnTo>
                      <a:lnTo>
                        <a:pt x="304" y="14"/>
                      </a:lnTo>
                      <a:lnTo>
                        <a:pt x="323" y="17"/>
                      </a:lnTo>
                      <a:lnTo>
                        <a:pt x="341" y="20"/>
                      </a:lnTo>
                      <a:lnTo>
                        <a:pt x="357" y="24"/>
                      </a:lnTo>
                      <a:lnTo>
                        <a:pt x="373" y="28"/>
                      </a:lnTo>
                      <a:lnTo>
                        <a:pt x="387" y="33"/>
                      </a:lnTo>
                      <a:lnTo>
                        <a:pt x="399" y="38"/>
                      </a:lnTo>
                      <a:lnTo>
                        <a:pt x="399" y="33"/>
                      </a:lnTo>
                      <a:lnTo>
                        <a:pt x="396" y="36"/>
                      </a:lnTo>
                      <a:lnTo>
                        <a:pt x="407" y="42"/>
                      </a:lnTo>
                      <a:lnTo>
                        <a:pt x="416" y="48"/>
                      </a:lnTo>
                      <a:lnTo>
                        <a:pt x="423" y="54"/>
                      </a:lnTo>
                      <a:lnTo>
                        <a:pt x="429" y="60"/>
                      </a:lnTo>
                      <a:lnTo>
                        <a:pt x="432" y="66"/>
                      </a:lnTo>
                      <a:lnTo>
                        <a:pt x="435" y="63"/>
                      </a:lnTo>
                      <a:lnTo>
                        <a:pt x="430" y="63"/>
                      </a:lnTo>
                      <a:lnTo>
                        <a:pt x="432" y="70"/>
                      </a:lnTo>
                      <a:lnTo>
                        <a:pt x="432" y="202"/>
                      </a:lnTo>
                      <a:lnTo>
                        <a:pt x="430" y="209"/>
                      </a:lnTo>
                      <a:lnTo>
                        <a:pt x="435" y="209"/>
                      </a:lnTo>
                      <a:lnTo>
                        <a:pt x="432" y="206"/>
                      </a:lnTo>
                      <a:lnTo>
                        <a:pt x="429" y="212"/>
                      </a:lnTo>
                      <a:lnTo>
                        <a:pt x="423" y="218"/>
                      </a:lnTo>
                      <a:lnTo>
                        <a:pt x="416" y="225"/>
                      </a:lnTo>
                      <a:lnTo>
                        <a:pt x="407" y="230"/>
                      </a:lnTo>
                      <a:lnTo>
                        <a:pt x="396" y="236"/>
                      </a:lnTo>
                      <a:lnTo>
                        <a:pt x="399" y="239"/>
                      </a:lnTo>
                      <a:lnTo>
                        <a:pt x="399" y="234"/>
                      </a:lnTo>
                      <a:lnTo>
                        <a:pt x="387" y="239"/>
                      </a:lnTo>
                      <a:lnTo>
                        <a:pt x="373" y="244"/>
                      </a:lnTo>
                      <a:lnTo>
                        <a:pt x="357" y="248"/>
                      </a:lnTo>
                      <a:lnTo>
                        <a:pt x="341" y="252"/>
                      </a:lnTo>
                      <a:lnTo>
                        <a:pt x="323" y="255"/>
                      </a:lnTo>
                      <a:lnTo>
                        <a:pt x="304" y="258"/>
                      </a:lnTo>
                      <a:lnTo>
                        <a:pt x="263" y="262"/>
                      </a:lnTo>
                      <a:lnTo>
                        <a:pt x="220" y="264"/>
                      </a:lnTo>
                      <a:lnTo>
                        <a:pt x="177" y="262"/>
                      </a:lnTo>
                      <a:lnTo>
                        <a:pt x="136" y="258"/>
                      </a:lnTo>
                      <a:lnTo>
                        <a:pt x="117" y="255"/>
                      </a:lnTo>
                      <a:lnTo>
                        <a:pt x="99" y="252"/>
                      </a:lnTo>
                      <a:lnTo>
                        <a:pt x="83" y="248"/>
                      </a:lnTo>
                      <a:lnTo>
                        <a:pt x="67" y="244"/>
                      </a:lnTo>
                      <a:lnTo>
                        <a:pt x="53" y="239"/>
                      </a:lnTo>
                      <a:lnTo>
                        <a:pt x="41" y="234"/>
                      </a:lnTo>
                      <a:lnTo>
                        <a:pt x="41" y="239"/>
                      </a:lnTo>
                      <a:lnTo>
                        <a:pt x="44" y="236"/>
                      </a:lnTo>
                      <a:lnTo>
                        <a:pt x="33" y="230"/>
                      </a:lnTo>
                      <a:lnTo>
                        <a:pt x="24" y="225"/>
                      </a:lnTo>
                      <a:lnTo>
                        <a:pt x="17" y="218"/>
                      </a:lnTo>
                      <a:lnTo>
                        <a:pt x="11" y="212"/>
                      </a:lnTo>
                      <a:lnTo>
                        <a:pt x="8" y="206"/>
                      </a:lnTo>
                      <a:lnTo>
                        <a:pt x="5" y="209"/>
                      </a:lnTo>
                      <a:lnTo>
                        <a:pt x="10" y="209"/>
                      </a:lnTo>
                      <a:lnTo>
                        <a:pt x="9" y="202"/>
                      </a:lnTo>
                      <a:lnTo>
                        <a:pt x="9" y="70"/>
                      </a:lnTo>
                      <a:lnTo>
                        <a:pt x="10" y="63"/>
                      </a:lnTo>
                      <a:lnTo>
                        <a:pt x="5" y="63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7" y="54"/>
                      </a:lnTo>
                      <a:lnTo>
                        <a:pt x="24" y="48"/>
                      </a:lnTo>
                      <a:lnTo>
                        <a:pt x="33" y="42"/>
                      </a:lnTo>
                      <a:lnTo>
                        <a:pt x="44" y="36"/>
                      </a:lnTo>
                      <a:lnTo>
                        <a:pt x="41" y="33"/>
                      </a:lnTo>
                      <a:lnTo>
                        <a:pt x="41" y="38"/>
                      </a:lnTo>
                      <a:lnTo>
                        <a:pt x="53" y="33"/>
                      </a:lnTo>
                      <a:lnTo>
                        <a:pt x="67" y="28"/>
                      </a:lnTo>
                      <a:lnTo>
                        <a:pt x="83" y="24"/>
                      </a:lnTo>
                      <a:lnTo>
                        <a:pt x="99" y="20"/>
                      </a:lnTo>
                      <a:lnTo>
                        <a:pt x="117" y="17"/>
                      </a:lnTo>
                      <a:lnTo>
                        <a:pt x="136" y="14"/>
                      </a:lnTo>
                      <a:lnTo>
                        <a:pt x="177" y="10"/>
                      </a:lnTo>
                      <a:lnTo>
                        <a:pt x="220" y="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>
                  <a:off x="1066680" y="2344320"/>
                  <a:ext cx="700200" cy="112320"/>
                </a:xfrm>
                <a:custGeom>
                  <a:avLst/>
                  <a:gdLst/>
                  <a:ahLst/>
                  <a:rect l="l" t="t" r="r" b="b"/>
                  <a:pathLst>
                    <a:path w="441" h="71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11" y="22"/>
                      </a:lnTo>
                      <a:lnTo>
                        <a:pt x="18" y="29"/>
                      </a:lnTo>
                      <a:lnTo>
                        <a:pt x="27" y="34"/>
                      </a:lnTo>
                      <a:lnTo>
                        <a:pt x="38" y="40"/>
                      </a:lnTo>
                      <a:lnTo>
                        <a:pt x="41" y="41"/>
                      </a:lnTo>
                      <a:lnTo>
                        <a:pt x="53" y="46"/>
                      </a:lnTo>
                      <a:lnTo>
                        <a:pt x="67" y="51"/>
                      </a:lnTo>
                      <a:lnTo>
                        <a:pt x="83" y="55"/>
                      </a:lnTo>
                      <a:lnTo>
                        <a:pt x="99" y="59"/>
                      </a:lnTo>
                      <a:lnTo>
                        <a:pt x="117" y="62"/>
                      </a:lnTo>
                      <a:lnTo>
                        <a:pt x="136" y="65"/>
                      </a:lnTo>
                      <a:lnTo>
                        <a:pt x="177" y="69"/>
                      </a:lnTo>
                      <a:lnTo>
                        <a:pt x="220" y="71"/>
                      </a:lnTo>
                      <a:lnTo>
                        <a:pt x="263" y="69"/>
                      </a:lnTo>
                      <a:lnTo>
                        <a:pt x="304" y="65"/>
                      </a:lnTo>
                      <a:lnTo>
                        <a:pt x="323" y="62"/>
                      </a:lnTo>
                      <a:lnTo>
                        <a:pt x="341" y="59"/>
                      </a:lnTo>
                      <a:lnTo>
                        <a:pt x="357" y="55"/>
                      </a:lnTo>
                      <a:lnTo>
                        <a:pt x="373" y="51"/>
                      </a:lnTo>
                      <a:lnTo>
                        <a:pt x="387" y="46"/>
                      </a:lnTo>
                      <a:lnTo>
                        <a:pt x="399" y="41"/>
                      </a:lnTo>
                      <a:lnTo>
                        <a:pt x="402" y="40"/>
                      </a:lnTo>
                      <a:lnTo>
                        <a:pt x="413" y="34"/>
                      </a:lnTo>
                      <a:lnTo>
                        <a:pt x="422" y="29"/>
                      </a:lnTo>
                      <a:lnTo>
                        <a:pt x="429" y="22"/>
                      </a:lnTo>
                      <a:lnTo>
                        <a:pt x="435" y="16"/>
                      </a:lnTo>
                      <a:lnTo>
                        <a:pt x="438" y="10"/>
                      </a:lnTo>
                      <a:lnTo>
                        <a:pt x="439" y="7"/>
                      </a:lnTo>
                      <a:lnTo>
                        <a:pt x="441" y="0"/>
                      </a:lnTo>
                      <a:lnTo>
                        <a:pt x="432" y="0"/>
                      </a:lnTo>
                      <a:lnTo>
                        <a:pt x="430" y="7"/>
                      </a:lnTo>
                      <a:lnTo>
                        <a:pt x="435" y="7"/>
                      </a:lnTo>
                      <a:lnTo>
                        <a:pt x="432" y="4"/>
                      </a:lnTo>
                      <a:lnTo>
                        <a:pt x="429" y="10"/>
                      </a:lnTo>
                      <a:lnTo>
                        <a:pt x="423" y="16"/>
                      </a:lnTo>
                      <a:lnTo>
                        <a:pt x="416" y="23"/>
                      </a:lnTo>
                      <a:lnTo>
                        <a:pt x="407" y="28"/>
                      </a:lnTo>
                      <a:lnTo>
                        <a:pt x="396" y="34"/>
                      </a:lnTo>
                      <a:lnTo>
                        <a:pt x="399" y="37"/>
                      </a:lnTo>
                      <a:lnTo>
                        <a:pt x="399" y="32"/>
                      </a:lnTo>
                      <a:lnTo>
                        <a:pt x="387" y="37"/>
                      </a:lnTo>
                      <a:lnTo>
                        <a:pt x="373" y="42"/>
                      </a:lnTo>
                      <a:lnTo>
                        <a:pt x="357" y="46"/>
                      </a:lnTo>
                      <a:lnTo>
                        <a:pt x="341" y="50"/>
                      </a:lnTo>
                      <a:lnTo>
                        <a:pt x="323" y="53"/>
                      </a:lnTo>
                      <a:lnTo>
                        <a:pt x="304" y="56"/>
                      </a:lnTo>
                      <a:lnTo>
                        <a:pt x="263" y="60"/>
                      </a:lnTo>
                      <a:lnTo>
                        <a:pt x="220" y="62"/>
                      </a:lnTo>
                      <a:lnTo>
                        <a:pt x="177" y="60"/>
                      </a:lnTo>
                      <a:lnTo>
                        <a:pt x="136" y="56"/>
                      </a:lnTo>
                      <a:lnTo>
                        <a:pt x="117" y="53"/>
                      </a:lnTo>
                      <a:lnTo>
                        <a:pt x="99" y="50"/>
                      </a:lnTo>
                      <a:lnTo>
                        <a:pt x="83" y="46"/>
                      </a:lnTo>
                      <a:lnTo>
                        <a:pt x="67" y="42"/>
                      </a:lnTo>
                      <a:lnTo>
                        <a:pt x="53" y="37"/>
                      </a:lnTo>
                      <a:lnTo>
                        <a:pt x="41" y="32"/>
                      </a:lnTo>
                      <a:lnTo>
                        <a:pt x="41" y="37"/>
                      </a:lnTo>
                      <a:lnTo>
                        <a:pt x="44" y="34"/>
                      </a:lnTo>
                      <a:lnTo>
                        <a:pt x="33" y="28"/>
                      </a:lnTo>
                      <a:lnTo>
                        <a:pt x="24" y="23"/>
                      </a:lnTo>
                      <a:lnTo>
                        <a:pt x="17" y="16"/>
                      </a:lnTo>
                      <a:lnTo>
                        <a:pt x="11" y="10"/>
                      </a:lnTo>
                      <a:lnTo>
                        <a:pt x="8" y="4"/>
                      </a:lnTo>
                      <a:lnTo>
                        <a:pt x="5" y="7"/>
                      </a:lnTo>
                      <a:lnTo>
                        <a:pt x="10" y="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2" name=""/>
                <p:cNvGrpSpPr/>
                <p:nvPr/>
              </p:nvGrpSpPr>
              <p:grpSpPr>
                <a:xfrm>
                  <a:off x="1149120" y="2272680"/>
                  <a:ext cx="515880" cy="145440"/>
                  <a:chOff x="1149120" y="2272680"/>
                  <a:chExt cx="515880" cy="145440"/>
                </a:xfrm>
              </p:grpSpPr>
              <p:sp>
                <p:nvSpPr>
                  <p:cNvPr id="3953" name=""/>
                  <p:cNvSpPr/>
                  <p:nvPr/>
                </p:nvSpPr>
                <p:spPr>
                  <a:xfrm>
                    <a:off x="1417680" y="2275560"/>
                    <a:ext cx="2473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4" name=""/>
                  <p:cNvSpPr/>
                  <p:nvPr/>
                </p:nvSpPr>
                <p:spPr>
                  <a:xfrm>
                    <a:off x="1417680" y="2275560"/>
                    <a:ext cx="2473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5" name=""/>
                  <p:cNvSpPr/>
                  <p:nvPr/>
                </p:nvSpPr>
                <p:spPr>
                  <a:xfrm>
                    <a:off x="1149120" y="2348640"/>
                    <a:ext cx="24768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>
                    <a:off x="1149120" y="2348640"/>
                    <a:ext cx="24768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>
                    <a:off x="1163520" y="2272680"/>
                    <a:ext cx="2476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>
                    <a:off x="1163520" y="2272680"/>
                    <a:ext cx="2476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"/>
                  <p:cNvSpPr/>
                  <p:nvPr/>
                </p:nvSpPr>
                <p:spPr>
                  <a:xfrm>
                    <a:off x="1409760" y="2354760"/>
                    <a:ext cx="245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0" name=""/>
                  <p:cNvSpPr/>
                  <p:nvPr/>
                </p:nvSpPr>
                <p:spPr>
                  <a:xfrm>
                    <a:off x="1409760" y="2354760"/>
                    <a:ext cx="245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61" name=""/>
          <p:cNvGrpSpPr/>
          <p:nvPr/>
        </p:nvGrpSpPr>
        <p:grpSpPr>
          <a:xfrm>
            <a:off x="6934320" y="1065600"/>
            <a:ext cx="990000" cy="1677600"/>
            <a:chOff x="6934320" y="1065600"/>
            <a:chExt cx="990000" cy="1677600"/>
          </a:xfrm>
        </p:grpSpPr>
        <p:sp>
          <p:nvSpPr>
            <p:cNvPr id="3962" name=""/>
            <p:cNvSpPr/>
            <p:nvPr/>
          </p:nvSpPr>
          <p:spPr>
            <a:xfrm>
              <a:off x="6934320" y="18288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6934320" y="21333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6934320" y="2438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7224480" y="1065600"/>
              <a:ext cx="699840" cy="1677600"/>
              <a:chOff x="7224480" y="1065600"/>
              <a:chExt cx="699840" cy="1677600"/>
            </a:xfrm>
          </p:grpSpPr>
          <p:grpSp>
            <p:nvGrpSpPr>
              <p:cNvPr id="3966" name=""/>
              <p:cNvGrpSpPr/>
              <p:nvPr/>
            </p:nvGrpSpPr>
            <p:grpSpPr>
              <a:xfrm>
                <a:off x="7224480" y="1652760"/>
                <a:ext cx="699840" cy="433080"/>
                <a:chOff x="7224480" y="1652760"/>
                <a:chExt cx="699840" cy="433080"/>
              </a:xfrm>
            </p:grpSpPr>
            <p:sp>
              <p:nvSpPr>
                <p:cNvPr id="3967" name=""/>
                <p:cNvSpPr/>
                <p:nvPr/>
              </p:nvSpPr>
              <p:spPr>
                <a:xfrm>
                  <a:off x="7230600" y="1658880"/>
                  <a:ext cx="685440" cy="418680"/>
                </a:xfrm>
                <a:custGeom>
                  <a:avLst/>
                  <a:gdLst/>
                  <a:ahLst/>
                  <a:rect l="l" t="t" r="r" b="b"/>
                  <a:pathLst>
                    <a:path w="432" h="264">
                      <a:moveTo>
                        <a:pt x="216" y="0"/>
                      </a:move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lnTo>
                        <a:pt x="0" y="198"/>
                      </a:lnTo>
                      <a:lnTo>
                        <a:pt x="1" y="205"/>
                      </a:lnTo>
                      <a:lnTo>
                        <a:pt x="4" y="211"/>
                      </a:lnTo>
                      <a:lnTo>
                        <a:pt x="10" y="217"/>
                      </a:lnTo>
                      <a:lnTo>
                        <a:pt x="17" y="224"/>
                      </a:lnTo>
                      <a:lnTo>
                        <a:pt x="26" y="229"/>
                      </a:lnTo>
                      <a:lnTo>
                        <a:pt x="37" y="235"/>
                      </a:lnTo>
                      <a:lnTo>
                        <a:pt x="49" y="240"/>
                      </a:lnTo>
                      <a:lnTo>
                        <a:pt x="63" y="245"/>
                      </a:lnTo>
                      <a:lnTo>
                        <a:pt x="79" y="249"/>
                      </a:lnTo>
                      <a:lnTo>
                        <a:pt x="95" y="253"/>
                      </a:lnTo>
                      <a:lnTo>
                        <a:pt x="113" y="256"/>
                      </a:lnTo>
                      <a:lnTo>
                        <a:pt x="132" y="259"/>
                      </a:lnTo>
                      <a:lnTo>
                        <a:pt x="173" y="263"/>
                      </a:lnTo>
                      <a:lnTo>
                        <a:pt x="216" y="264"/>
                      </a:lnTo>
                      <a:lnTo>
                        <a:pt x="259" y="263"/>
                      </a:lnTo>
                      <a:lnTo>
                        <a:pt x="300" y="259"/>
                      </a:lnTo>
                      <a:lnTo>
                        <a:pt x="319" y="256"/>
                      </a:lnTo>
                      <a:lnTo>
                        <a:pt x="337" y="253"/>
                      </a:lnTo>
                      <a:lnTo>
                        <a:pt x="353" y="249"/>
                      </a:lnTo>
                      <a:lnTo>
                        <a:pt x="369" y="245"/>
                      </a:lnTo>
                      <a:lnTo>
                        <a:pt x="383" y="240"/>
                      </a:lnTo>
                      <a:lnTo>
                        <a:pt x="395" y="235"/>
                      </a:lnTo>
                      <a:lnTo>
                        <a:pt x="406" y="229"/>
                      </a:lnTo>
                      <a:lnTo>
                        <a:pt x="415" y="224"/>
                      </a:lnTo>
                      <a:lnTo>
                        <a:pt x="422" y="217"/>
                      </a:lnTo>
                      <a:lnTo>
                        <a:pt x="428" y="211"/>
                      </a:lnTo>
                      <a:lnTo>
                        <a:pt x="431" y="205"/>
                      </a:lnTo>
                      <a:lnTo>
                        <a:pt x="432" y="198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"/>
                <p:cNvSpPr/>
                <p:nvPr/>
              </p:nvSpPr>
              <p:spPr>
                <a:xfrm>
                  <a:off x="7230600" y="1658880"/>
                  <a:ext cx="685440" cy="209160"/>
                </a:xfrm>
                <a:custGeom>
                  <a:avLst/>
                  <a:gdLst/>
                  <a:ahLst/>
                  <a:rect l="l" t="t" r="r" b="b"/>
                  <a:pathLst>
                    <a:path w="432" h="132">
                      <a:moveTo>
                        <a:pt x="0" y="66"/>
                      </a:moveTo>
                      <a:lnTo>
                        <a:pt x="1" y="73"/>
                      </a:lnTo>
                      <a:lnTo>
                        <a:pt x="4" y="79"/>
                      </a:lnTo>
                      <a:lnTo>
                        <a:pt x="10" y="85"/>
                      </a:lnTo>
                      <a:lnTo>
                        <a:pt x="17" y="92"/>
                      </a:lnTo>
                      <a:lnTo>
                        <a:pt x="26" y="97"/>
                      </a:lnTo>
                      <a:lnTo>
                        <a:pt x="37" y="103"/>
                      </a:lnTo>
                      <a:lnTo>
                        <a:pt x="49" y="108"/>
                      </a:lnTo>
                      <a:lnTo>
                        <a:pt x="63" y="113"/>
                      </a:lnTo>
                      <a:lnTo>
                        <a:pt x="79" y="117"/>
                      </a:lnTo>
                      <a:lnTo>
                        <a:pt x="95" y="121"/>
                      </a:lnTo>
                      <a:lnTo>
                        <a:pt x="113" y="124"/>
                      </a:lnTo>
                      <a:lnTo>
                        <a:pt x="132" y="127"/>
                      </a:lnTo>
                      <a:lnTo>
                        <a:pt x="173" y="131"/>
                      </a:lnTo>
                      <a:lnTo>
                        <a:pt x="216" y="132"/>
                      </a:lnTo>
                      <a:lnTo>
                        <a:pt x="259" y="131"/>
                      </a:lnTo>
                      <a:lnTo>
                        <a:pt x="300" y="127"/>
                      </a:lnTo>
                      <a:lnTo>
                        <a:pt x="319" y="124"/>
                      </a:lnTo>
                      <a:lnTo>
                        <a:pt x="337" y="121"/>
                      </a:lnTo>
                      <a:lnTo>
                        <a:pt x="353" y="117"/>
                      </a:lnTo>
                      <a:lnTo>
                        <a:pt x="369" y="113"/>
                      </a:lnTo>
                      <a:lnTo>
                        <a:pt x="383" y="108"/>
                      </a:lnTo>
                      <a:lnTo>
                        <a:pt x="395" y="103"/>
                      </a:lnTo>
                      <a:lnTo>
                        <a:pt x="406" y="97"/>
                      </a:lnTo>
                      <a:lnTo>
                        <a:pt x="415" y="92"/>
                      </a:lnTo>
                      <a:lnTo>
                        <a:pt x="422" y="85"/>
                      </a:lnTo>
                      <a:lnTo>
                        <a:pt x="428" y="79"/>
                      </a:lnTo>
                      <a:lnTo>
                        <a:pt x="431" y="73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>
                  <a:off x="7224480" y="1652760"/>
                  <a:ext cx="699840" cy="433080"/>
                </a:xfrm>
                <a:custGeom>
                  <a:avLst/>
                  <a:gdLst/>
                  <a:ahLst/>
                  <a:rect l="l" t="t" r="r" b="b"/>
                  <a:pathLst>
                    <a:path w="441" h="273">
                      <a:moveTo>
                        <a:pt x="177" y="1"/>
                      </a:moveTo>
                      <a:lnTo>
                        <a:pt x="136" y="5"/>
                      </a:lnTo>
                      <a:lnTo>
                        <a:pt x="117" y="8"/>
                      </a:lnTo>
                      <a:lnTo>
                        <a:pt x="99" y="11"/>
                      </a:lnTo>
                      <a:lnTo>
                        <a:pt x="83" y="15"/>
                      </a:lnTo>
                      <a:lnTo>
                        <a:pt x="67" y="19"/>
                      </a:lnTo>
                      <a:lnTo>
                        <a:pt x="53" y="24"/>
                      </a:lnTo>
                      <a:lnTo>
                        <a:pt x="41" y="29"/>
                      </a:lnTo>
                      <a:lnTo>
                        <a:pt x="38" y="30"/>
                      </a:lnTo>
                      <a:lnTo>
                        <a:pt x="27" y="36"/>
                      </a:lnTo>
                      <a:lnTo>
                        <a:pt x="18" y="42"/>
                      </a:lnTo>
                      <a:lnTo>
                        <a:pt x="11" y="48"/>
                      </a:lnTo>
                      <a:lnTo>
                        <a:pt x="5" y="54"/>
                      </a:lnTo>
                      <a:lnTo>
                        <a:pt x="2" y="60"/>
                      </a:lnTo>
                      <a:lnTo>
                        <a:pt x="1" y="63"/>
                      </a:lnTo>
                      <a:lnTo>
                        <a:pt x="0" y="70"/>
                      </a:lnTo>
                      <a:lnTo>
                        <a:pt x="0" y="202"/>
                      </a:lnTo>
                      <a:lnTo>
                        <a:pt x="1" y="209"/>
                      </a:lnTo>
                      <a:lnTo>
                        <a:pt x="2" y="212"/>
                      </a:lnTo>
                      <a:lnTo>
                        <a:pt x="5" y="218"/>
                      </a:lnTo>
                      <a:lnTo>
                        <a:pt x="11" y="224"/>
                      </a:lnTo>
                      <a:lnTo>
                        <a:pt x="18" y="231"/>
                      </a:lnTo>
                      <a:lnTo>
                        <a:pt x="27" y="236"/>
                      </a:lnTo>
                      <a:lnTo>
                        <a:pt x="38" y="242"/>
                      </a:lnTo>
                      <a:lnTo>
                        <a:pt x="41" y="243"/>
                      </a:lnTo>
                      <a:lnTo>
                        <a:pt x="53" y="248"/>
                      </a:lnTo>
                      <a:lnTo>
                        <a:pt x="67" y="253"/>
                      </a:lnTo>
                      <a:lnTo>
                        <a:pt x="83" y="257"/>
                      </a:lnTo>
                      <a:lnTo>
                        <a:pt x="99" y="261"/>
                      </a:lnTo>
                      <a:lnTo>
                        <a:pt x="117" y="264"/>
                      </a:lnTo>
                      <a:lnTo>
                        <a:pt x="136" y="267"/>
                      </a:lnTo>
                      <a:lnTo>
                        <a:pt x="177" y="271"/>
                      </a:lnTo>
                      <a:lnTo>
                        <a:pt x="220" y="273"/>
                      </a:lnTo>
                      <a:lnTo>
                        <a:pt x="263" y="271"/>
                      </a:lnTo>
                      <a:lnTo>
                        <a:pt x="304" y="267"/>
                      </a:lnTo>
                      <a:lnTo>
                        <a:pt x="323" y="264"/>
                      </a:lnTo>
                      <a:lnTo>
                        <a:pt x="341" y="261"/>
                      </a:lnTo>
                      <a:lnTo>
                        <a:pt x="357" y="257"/>
                      </a:lnTo>
                      <a:lnTo>
                        <a:pt x="373" y="253"/>
                      </a:lnTo>
                      <a:lnTo>
                        <a:pt x="387" y="248"/>
                      </a:lnTo>
                      <a:lnTo>
                        <a:pt x="399" y="243"/>
                      </a:lnTo>
                      <a:lnTo>
                        <a:pt x="402" y="242"/>
                      </a:lnTo>
                      <a:lnTo>
                        <a:pt x="413" y="236"/>
                      </a:lnTo>
                      <a:lnTo>
                        <a:pt x="422" y="231"/>
                      </a:lnTo>
                      <a:lnTo>
                        <a:pt x="429" y="224"/>
                      </a:lnTo>
                      <a:lnTo>
                        <a:pt x="435" y="218"/>
                      </a:lnTo>
                      <a:lnTo>
                        <a:pt x="438" y="212"/>
                      </a:lnTo>
                      <a:lnTo>
                        <a:pt x="439" y="209"/>
                      </a:lnTo>
                      <a:lnTo>
                        <a:pt x="441" y="202"/>
                      </a:lnTo>
                      <a:lnTo>
                        <a:pt x="441" y="70"/>
                      </a:lnTo>
                      <a:lnTo>
                        <a:pt x="439" y="63"/>
                      </a:lnTo>
                      <a:lnTo>
                        <a:pt x="438" y="60"/>
                      </a:lnTo>
                      <a:lnTo>
                        <a:pt x="435" y="54"/>
                      </a:lnTo>
                      <a:lnTo>
                        <a:pt x="429" y="48"/>
                      </a:lnTo>
                      <a:lnTo>
                        <a:pt x="422" y="42"/>
                      </a:lnTo>
                      <a:lnTo>
                        <a:pt x="413" y="36"/>
                      </a:lnTo>
                      <a:lnTo>
                        <a:pt x="402" y="30"/>
                      </a:lnTo>
                      <a:lnTo>
                        <a:pt x="399" y="29"/>
                      </a:lnTo>
                      <a:lnTo>
                        <a:pt x="387" y="24"/>
                      </a:lnTo>
                      <a:lnTo>
                        <a:pt x="373" y="19"/>
                      </a:lnTo>
                      <a:lnTo>
                        <a:pt x="357" y="15"/>
                      </a:lnTo>
                      <a:lnTo>
                        <a:pt x="341" y="11"/>
                      </a:lnTo>
                      <a:lnTo>
                        <a:pt x="323" y="8"/>
                      </a:lnTo>
                      <a:lnTo>
                        <a:pt x="304" y="5"/>
                      </a:lnTo>
                      <a:lnTo>
                        <a:pt x="263" y="1"/>
                      </a:lnTo>
                      <a:lnTo>
                        <a:pt x="220" y="0"/>
                      </a:lnTo>
                      <a:lnTo>
                        <a:pt x="177" y="1"/>
                      </a:lnTo>
                      <a:close/>
                      <a:moveTo>
                        <a:pt x="220" y="9"/>
                      </a:moveTo>
                      <a:lnTo>
                        <a:pt x="263" y="10"/>
                      </a:lnTo>
                      <a:lnTo>
                        <a:pt x="304" y="14"/>
                      </a:lnTo>
                      <a:lnTo>
                        <a:pt x="323" y="17"/>
                      </a:lnTo>
                      <a:lnTo>
                        <a:pt x="341" y="20"/>
                      </a:lnTo>
                      <a:lnTo>
                        <a:pt x="357" y="24"/>
                      </a:lnTo>
                      <a:lnTo>
                        <a:pt x="373" y="28"/>
                      </a:lnTo>
                      <a:lnTo>
                        <a:pt x="387" y="33"/>
                      </a:lnTo>
                      <a:lnTo>
                        <a:pt x="399" y="38"/>
                      </a:lnTo>
                      <a:lnTo>
                        <a:pt x="399" y="33"/>
                      </a:lnTo>
                      <a:lnTo>
                        <a:pt x="396" y="36"/>
                      </a:lnTo>
                      <a:lnTo>
                        <a:pt x="407" y="42"/>
                      </a:lnTo>
                      <a:lnTo>
                        <a:pt x="416" y="48"/>
                      </a:lnTo>
                      <a:lnTo>
                        <a:pt x="423" y="54"/>
                      </a:lnTo>
                      <a:lnTo>
                        <a:pt x="429" y="60"/>
                      </a:lnTo>
                      <a:lnTo>
                        <a:pt x="432" y="66"/>
                      </a:lnTo>
                      <a:lnTo>
                        <a:pt x="435" y="63"/>
                      </a:lnTo>
                      <a:lnTo>
                        <a:pt x="430" y="63"/>
                      </a:lnTo>
                      <a:lnTo>
                        <a:pt x="432" y="70"/>
                      </a:lnTo>
                      <a:lnTo>
                        <a:pt x="432" y="202"/>
                      </a:lnTo>
                      <a:lnTo>
                        <a:pt x="430" y="209"/>
                      </a:lnTo>
                      <a:lnTo>
                        <a:pt x="435" y="209"/>
                      </a:lnTo>
                      <a:lnTo>
                        <a:pt x="432" y="206"/>
                      </a:lnTo>
                      <a:lnTo>
                        <a:pt x="429" y="212"/>
                      </a:lnTo>
                      <a:lnTo>
                        <a:pt x="423" y="218"/>
                      </a:lnTo>
                      <a:lnTo>
                        <a:pt x="416" y="225"/>
                      </a:lnTo>
                      <a:lnTo>
                        <a:pt x="407" y="230"/>
                      </a:lnTo>
                      <a:lnTo>
                        <a:pt x="396" y="236"/>
                      </a:lnTo>
                      <a:lnTo>
                        <a:pt x="399" y="239"/>
                      </a:lnTo>
                      <a:lnTo>
                        <a:pt x="399" y="234"/>
                      </a:lnTo>
                      <a:lnTo>
                        <a:pt x="387" y="239"/>
                      </a:lnTo>
                      <a:lnTo>
                        <a:pt x="373" y="244"/>
                      </a:lnTo>
                      <a:lnTo>
                        <a:pt x="357" y="248"/>
                      </a:lnTo>
                      <a:lnTo>
                        <a:pt x="341" y="252"/>
                      </a:lnTo>
                      <a:lnTo>
                        <a:pt x="323" y="255"/>
                      </a:lnTo>
                      <a:lnTo>
                        <a:pt x="304" y="258"/>
                      </a:lnTo>
                      <a:lnTo>
                        <a:pt x="263" y="262"/>
                      </a:lnTo>
                      <a:lnTo>
                        <a:pt x="220" y="264"/>
                      </a:lnTo>
                      <a:lnTo>
                        <a:pt x="177" y="262"/>
                      </a:lnTo>
                      <a:lnTo>
                        <a:pt x="136" y="258"/>
                      </a:lnTo>
                      <a:lnTo>
                        <a:pt x="117" y="255"/>
                      </a:lnTo>
                      <a:lnTo>
                        <a:pt x="99" y="252"/>
                      </a:lnTo>
                      <a:lnTo>
                        <a:pt x="83" y="248"/>
                      </a:lnTo>
                      <a:lnTo>
                        <a:pt x="67" y="244"/>
                      </a:lnTo>
                      <a:lnTo>
                        <a:pt x="53" y="239"/>
                      </a:lnTo>
                      <a:lnTo>
                        <a:pt x="41" y="234"/>
                      </a:lnTo>
                      <a:lnTo>
                        <a:pt x="41" y="239"/>
                      </a:lnTo>
                      <a:lnTo>
                        <a:pt x="44" y="236"/>
                      </a:lnTo>
                      <a:lnTo>
                        <a:pt x="33" y="230"/>
                      </a:lnTo>
                      <a:lnTo>
                        <a:pt x="24" y="225"/>
                      </a:lnTo>
                      <a:lnTo>
                        <a:pt x="17" y="218"/>
                      </a:lnTo>
                      <a:lnTo>
                        <a:pt x="11" y="212"/>
                      </a:lnTo>
                      <a:lnTo>
                        <a:pt x="8" y="206"/>
                      </a:lnTo>
                      <a:lnTo>
                        <a:pt x="5" y="209"/>
                      </a:lnTo>
                      <a:lnTo>
                        <a:pt x="10" y="209"/>
                      </a:lnTo>
                      <a:lnTo>
                        <a:pt x="9" y="202"/>
                      </a:lnTo>
                      <a:lnTo>
                        <a:pt x="9" y="70"/>
                      </a:lnTo>
                      <a:lnTo>
                        <a:pt x="10" y="63"/>
                      </a:lnTo>
                      <a:lnTo>
                        <a:pt x="5" y="63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7" y="54"/>
                      </a:lnTo>
                      <a:lnTo>
                        <a:pt x="24" y="48"/>
                      </a:lnTo>
                      <a:lnTo>
                        <a:pt x="33" y="42"/>
                      </a:lnTo>
                      <a:lnTo>
                        <a:pt x="44" y="36"/>
                      </a:lnTo>
                      <a:lnTo>
                        <a:pt x="41" y="33"/>
                      </a:lnTo>
                      <a:lnTo>
                        <a:pt x="41" y="38"/>
                      </a:lnTo>
                      <a:lnTo>
                        <a:pt x="53" y="33"/>
                      </a:lnTo>
                      <a:lnTo>
                        <a:pt x="67" y="28"/>
                      </a:lnTo>
                      <a:lnTo>
                        <a:pt x="83" y="24"/>
                      </a:lnTo>
                      <a:lnTo>
                        <a:pt x="99" y="20"/>
                      </a:lnTo>
                      <a:lnTo>
                        <a:pt x="117" y="17"/>
                      </a:lnTo>
                      <a:lnTo>
                        <a:pt x="136" y="14"/>
                      </a:lnTo>
                      <a:lnTo>
                        <a:pt x="177" y="10"/>
                      </a:lnTo>
                      <a:lnTo>
                        <a:pt x="220" y="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7224480" y="1763640"/>
                  <a:ext cx="699840" cy="112320"/>
                </a:xfrm>
                <a:custGeom>
                  <a:avLst/>
                  <a:gdLst/>
                  <a:ahLst/>
                  <a:rect l="l" t="t" r="r" b="b"/>
                  <a:pathLst>
                    <a:path w="441" h="71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11" y="22"/>
                      </a:lnTo>
                      <a:lnTo>
                        <a:pt x="18" y="29"/>
                      </a:lnTo>
                      <a:lnTo>
                        <a:pt x="27" y="34"/>
                      </a:lnTo>
                      <a:lnTo>
                        <a:pt x="38" y="40"/>
                      </a:lnTo>
                      <a:lnTo>
                        <a:pt x="41" y="41"/>
                      </a:lnTo>
                      <a:lnTo>
                        <a:pt x="53" y="46"/>
                      </a:lnTo>
                      <a:lnTo>
                        <a:pt x="67" y="51"/>
                      </a:lnTo>
                      <a:lnTo>
                        <a:pt x="83" y="55"/>
                      </a:lnTo>
                      <a:lnTo>
                        <a:pt x="99" y="59"/>
                      </a:lnTo>
                      <a:lnTo>
                        <a:pt x="117" y="62"/>
                      </a:lnTo>
                      <a:lnTo>
                        <a:pt x="136" y="65"/>
                      </a:lnTo>
                      <a:lnTo>
                        <a:pt x="177" y="69"/>
                      </a:lnTo>
                      <a:lnTo>
                        <a:pt x="220" y="71"/>
                      </a:lnTo>
                      <a:lnTo>
                        <a:pt x="263" y="69"/>
                      </a:lnTo>
                      <a:lnTo>
                        <a:pt x="304" y="65"/>
                      </a:lnTo>
                      <a:lnTo>
                        <a:pt x="323" y="62"/>
                      </a:lnTo>
                      <a:lnTo>
                        <a:pt x="341" y="59"/>
                      </a:lnTo>
                      <a:lnTo>
                        <a:pt x="357" y="55"/>
                      </a:lnTo>
                      <a:lnTo>
                        <a:pt x="373" y="51"/>
                      </a:lnTo>
                      <a:lnTo>
                        <a:pt x="387" y="46"/>
                      </a:lnTo>
                      <a:lnTo>
                        <a:pt x="399" y="41"/>
                      </a:lnTo>
                      <a:lnTo>
                        <a:pt x="402" y="40"/>
                      </a:lnTo>
                      <a:lnTo>
                        <a:pt x="413" y="34"/>
                      </a:lnTo>
                      <a:lnTo>
                        <a:pt x="422" y="29"/>
                      </a:lnTo>
                      <a:lnTo>
                        <a:pt x="429" y="22"/>
                      </a:lnTo>
                      <a:lnTo>
                        <a:pt x="435" y="16"/>
                      </a:lnTo>
                      <a:lnTo>
                        <a:pt x="438" y="10"/>
                      </a:lnTo>
                      <a:lnTo>
                        <a:pt x="439" y="7"/>
                      </a:lnTo>
                      <a:lnTo>
                        <a:pt x="441" y="0"/>
                      </a:lnTo>
                      <a:lnTo>
                        <a:pt x="432" y="0"/>
                      </a:lnTo>
                      <a:lnTo>
                        <a:pt x="430" y="7"/>
                      </a:lnTo>
                      <a:lnTo>
                        <a:pt x="435" y="7"/>
                      </a:lnTo>
                      <a:lnTo>
                        <a:pt x="432" y="4"/>
                      </a:lnTo>
                      <a:lnTo>
                        <a:pt x="429" y="10"/>
                      </a:lnTo>
                      <a:lnTo>
                        <a:pt x="423" y="16"/>
                      </a:lnTo>
                      <a:lnTo>
                        <a:pt x="416" y="23"/>
                      </a:lnTo>
                      <a:lnTo>
                        <a:pt x="407" y="28"/>
                      </a:lnTo>
                      <a:lnTo>
                        <a:pt x="396" y="34"/>
                      </a:lnTo>
                      <a:lnTo>
                        <a:pt x="399" y="37"/>
                      </a:lnTo>
                      <a:lnTo>
                        <a:pt x="399" y="32"/>
                      </a:lnTo>
                      <a:lnTo>
                        <a:pt x="387" y="37"/>
                      </a:lnTo>
                      <a:lnTo>
                        <a:pt x="373" y="42"/>
                      </a:lnTo>
                      <a:lnTo>
                        <a:pt x="357" y="46"/>
                      </a:lnTo>
                      <a:lnTo>
                        <a:pt x="341" y="50"/>
                      </a:lnTo>
                      <a:lnTo>
                        <a:pt x="323" y="53"/>
                      </a:lnTo>
                      <a:lnTo>
                        <a:pt x="304" y="56"/>
                      </a:lnTo>
                      <a:lnTo>
                        <a:pt x="263" y="60"/>
                      </a:lnTo>
                      <a:lnTo>
                        <a:pt x="220" y="62"/>
                      </a:lnTo>
                      <a:lnTo>
                        <a:pt x="177" y="60"/>
                      </a:lnTo>
                      <a:lnTo>
                        <a:pt x="136" y="56"/>
                      </a:lnTo>
                      <a:lnTo>
                        <a:pt x="117" y="53"/>
                      </a:lnTo>
                      <a:lnTo>
                        <a:pt x="99" y="50"/>
                      </a:lnTo>
                      <a:lnTo>
                        <a:pt x="83" y="46"/>
                      </a:lnTo>
                      <a:lnTo>
                        <a:pt x="67" y="42"/>
                      </a:lnTo>
                      <a:lnTo>
                        <a:pt x="53" y="37"/>
                      </a:lnTo>
                      <a:lnTo>
                        <a:pt x="41" y="32"/>
                      </a:lnTo>
                      <a:lnTo>
                        <a:pt x="41" y="37"/>
                      </a:lnTo>
                      <a:lnTo>
                        <a:pt x="44" y="34"/>
                      </a:lnTo>
                      <a:lnTo>
                        <a:pt x="33" y="28"/>
                      </a:lnTo>
                      <a:lnTo>
                        <a:pt x="24" y="23"/>
                      </a:lnTo>
                      <a:lnTo>
                        <a:pt x="17" y="16"/>
                      </a:lnTo>
                      <a:lnTo>
                        <a:pt x="11" y="10"/>
                      </a:lnTo>
                      <a:lnTo>
                        <a:pt x="8" y="4"/>
                      </a:lnTo>
                      <a:lnTo>
                        <a:pt x="5" y="7"/>
                      </a:lnTo>
                      <a:lnTo>
                        <a:pt x="10" y="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1" name=""/>
                <p:cNvGrpSpPr/>
                <p:nvPr/>
              </p:nvGrpSpPr>
              <p:grpSpPr>
                <a:xfrm>
                  <a:off x="7306560" y="1692000"/>
                  <a:ext cx="515160" cy="145440"/>
                  <a:chOff x="7306560" y="1692000"/>
                  <a:chExt cx="515160" cy="145440"/>
                </a:xfrm>
              </p:grpSpPr>
              <p:sp>
                <p:nvSpPr>
                  <p:cNvPr id="3972" name=""/>
                  <p:cNvSpPr/>
                  <p:nvPr/>
                </p:nvSpPr>
                <p:spPr>
                  <a:xfrm>
                    <a:off x="7574760" y="1694880"/>
                    <a:ext cx="2469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3" name=""/>
                  <p:cNvSpPr/>
                  <p:nvPr/>
                </p:nvSpPr>
                <p:spPr>
                  <a:xfrm>
                    <a:off x="7574760" y="1694880"/>
                    <a:ext cx="2469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>
                    <a:off x="7306560" y="1767960"/>
                    <a:ext cx="2473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>
                    <a:off x="7306560" y="1767960"/>
                    <a:ext cx="2473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6" name=""/>
                  <p:cNvSpPr/>
                  <p:nvPr/>
                </p:nvSpPr>
                <p:spPr>
                  <a:xfrm>
                    <a:off x="7320600" y="1692000"/>
                    <a:ext cx="2473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7" name=""/>
                  <p:cNvSpPr/>
                  <p:nvPr/>
                </p:nvSpPr>
                <p:spPr>
                  <a:xfrm>
                    <a:off x="7320600" y="1692000"/>
                    <a:ext cx="2473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8" name=""/>
                  <p:cNvSpPr/>
                  <p:nvPr/>
                </p:nvSpPr>
                <p:spPr>
                  <a:xfrm>
                    <a:off x="7566840" y="1774080"/>
                    <a:ext cx="2455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>
                    <a:off x="7566840" y="1774080"/>
                    <a:ext cx="2455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80" name=""/>
              <p:cNvSpPr/>
              <p:nvPr/>
            </p:nvSpPr>
            <p:spPr>
              <a:xfrm>
                <a:off x="7330320" y="10656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I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1" name=""/>
              <p:cNvGrpSpPr/>
              <p:nvPr/>
            </p:nvGrpSpPr>
            <p:grpSpPr>
              <a:xfrm>
                <a:off x="7224480" y="1981080"/>
                <a:ext cx="699840" cy="433440"/>
                <a:chOff x="7224480" y="1981080"/>
                <a:chExt cx="699840" cy="433440"/>
              </a:xfrm>
            </p:grpSpPr>
            <p:sp>
              <p:nvSpPr>
                <p:cNvPr id="3982" name=""/>
                <p:cNvSpPr/>
                <p:nvPr/>
              </p:nvSpPr>
              <p:spPr>
                <a:xfrm>
                  <a:off x="7230600" y="1987560"/>
                  <a:ext cx="685440" cy="419040"/>
                </a:xfrm>
                <a:custGeom>
                  <a:avLst/>
                  <a:gdLst/>
                  <a:ahLst/>
                  <a:rect l="l" t="t" r="r" b="b"/>
                  <a:pathLst>
                    <a:path w="432" h="264">
                      <a:moveTo>
                        <a:pt x="216" y="0"/>
                      </a:move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lnTo>
                        <a:pt x="0" y="198"/>
                      </a:lnTo>
                      <a:lnTo>
                        <a:pt x="1" y="205"/>
                      </a:lnTo>
                      <a:lnTo>
                        <a:pt x="4" y="211"/>
                      </a:lnTo>
                      <a:lnTo>
                        <a:pt x="10" y="217"/>
                      </a:lnTo>
                      <a:lnTo>
                        <a:pt x="17" y="224"/>
                      </a:lnTo>
                      <a:lnTo>
                        <a:pt x="26" y="229"/>
                      </a:lnTo>
                      <a:lnTo>
                        <a:pt x="37" y="235"/>
                      </a:lnTo>
                      <a:lnTo>
                        <a:pt x="49" y="240"/>
                      </a:lnTo>
                      <a:lnTo>
                        <a:pt x="63" y="245"/>
                      </a:lnTo>
                      <a:lnTo>
                        <a:pt x="79" y="249"/>
                      </a:lnTo>
                      <a:lnTo>
                        <a:pt x="95" y="253"/>
                      </a:lnTo>
                      <a:lnTo>
                        <a:pt x="113" y="256"/>
                      </a:lnTo>
                      <a:lnTo>
                        <a:pt x="132" y="259"/>
                      </a:lnTo>
                      <a:lnTo>
                        <a:pt x="173" y="263"/>
                      </a:lnTo>
                      <a:lnTo>
                        <a:pt x="216" y="264"/>
                      </a:lnTo>
                      <a:lnTo>
                        <a:pt x="259" y="263"/>
                      </a:lnTo>
                      <a:lnTo>
                        <a:pt x="300" y="259"/>
                      </a:lnTo>
                      <a:lnTo>
                        <a:pt x="319" y="256"/>
                      </a:lnTo>
                      <a:lnTo>
                        <a:pt x="337" y="253"/>
                      </a:lnTo>
                      <a:lnTo>
                        <a:pt x="353" y="249"/>
                      </a:lnTo>
                      <a:lnTo>
                        <a:pt x="369" y="245"/>
                      </a:lnTo>
                      <a:lnTo>
                        <a:pt x="383" y="240"/>
                      </a:lnTo>
                      <a:lnTo>
                        <a:pt x="395" y="235"/>
                      </a:lnTo>
                      <a:lnTo>
                        <a:pt x="406" y="229"/>
                      </a:lnTo>
                      <a:lnTo>
                        <a:pt x="415" y="224"/>
                      </a:lnTo>
                      <a:lnTo>
                        <a:pt x="422" y="217"/>
                      </a:lnTo>
                      <a:lnTo>
                        <a:pt x="428" y="211"/>
                      </a:lnTo>
                      <a:lnTo>
                        <a:pt x="431" y="205"/>
                      </a:lnTo>
                      <a:lnTo>
                        <a:pt x="432" y="198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"/>
                <p:cNvSpPr/>
                <p:nvPr/>
              </p:nvSpPr>
              <p:spPr>
                <a:xfrm>
                  <a:off x="7230600" y="1987560"/>
                  <a:ext cx="685440" cy="209520"/>
                </a:xfrm>
                <a:custGeom>
                  <a:avLst/>
                  <a:gdLst/>
                  <a:ahLst/>
                  <a:rect l="l" t="t" r="r" b="b"/>
                  <a:pathLst>
                    <a:path w="432" h="132">
                      <a:moveTo>
                        <a:pt x="0" y="66"/>
                      </a:moveTo>
                      <a:lnTo>
                        <a:pt x="1" y="73"/>
                      </a:lnTo>
                      <a:lnTo>
                        <a:pt x="4" y="79"/>
                      </a:lnTo>
                      <a:lnTo>
                        <a:pt x="10" y="85"/>
                      </a:lnTo>
                      <a:lnTo>
                        <a:pt x="17" y="92"/>
                      </a:lnTo>
                      <a:lnTo>
                        <a:pt x="26" y="97"/>
                      </a:lnTo>
                      <a:lnTo>
                        <a:pt x="37" y="103"/>
                      </a:lnTo>
                      <a:lnTo>
                        <a:pt x="49" y="108"/>
                      </a:lnTo>
                      <a:lnTo>
                        <a:pt x="63" y="113"/>
                      </a:lnTo>
                      <a:lnTo>
                        <a:pt x="79" y="117"/>
                      </a:lnTo>
                      <a:lnTo>
                        <a:pt x="95" y="121"/>
                      </a:lnTo>
                      <a:lnTo>
                        <a:pt x="113" y="124"/>
                      </a:lnTo>
                      <a:lnTo>
                        <a:pt x="132" y="127"/>
                      </a:lnTo>
                      <a:lnTo>
                        <a:pt x="173" y="131"/>
                      </a:lnTo>
                      <a:lnTo>
                        <a:pt x="216" y="132"/>
                      </a:lnTo>
                      <a:lnTo>
                        <a:pt x="259" y="131"/>
                      </a:lnTo>
                      <a:lnTo>
                        <a:pt x="300" y="127"/>
                      </a:lnTo>
                      <a:lnTo>
                        <a:pt x="319" y="124"/>
                      </a:lnTo>
                      <a:lnTo>
                        <a:pt x="337" y="121"/>
                      </a:lnTo>
                      <a:lnTo>
                        <a:pt x="353" y="117"/>
                      </a:lnTo>
                      <a:lnTo>
                        <a:pt x="369" y="113"/>
                      </a:lnTo>
                      <a:lnTo>
                        <a:pt x="383" y="108"/>
                      </a:lnTo>
                      <a:lnTo>
                        <a:pt x="395" y="103"/>
                      </a:lnTo>
                      <a:lnTo>
                        <a:pt x="406" y="97"/>
                      </a:lnTo>
                      <a:lnTo>
                        <a:pt x="415" y="92"/>
                      </a:lnTo>
                      <a:lnTo>
                        <a:pt x="422" y="85"/>
                      </a:lnTo>
                      <a:lnTo>
                        <a:pt x="428" y="79"/>
                      </a:lnTo>
                      <a:lnTo>
                        <a:pt x="431" y="73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>
                  <a:off x="7224480" y="1981080"/>
                  <a:ext cx="699840" cy="433440"/>
                </a:xfrm>
                <a:custGeom>
                  <a:avLst/>
                  <a:gdLst/>
                  <a:ahLst/>
                  <a:rect l="l" t="t" r="r" b="b"/>
                  <a:pathLst>
                    <a:path w="441" h="273">
                      <a:moveTo>
                        <a:pt x="177" y="1"/>
                      </a:moveTo>
                      <a:lnTo>
                        <a:pt x="136" y="5"/>
                      </a:lnTo>
                      <a:lnTo>
                        <a:pt x="117" y="8"/>
                      </a:lnTo>
                      <a:lnTo>
                        <a:pt x="99" y="11"/>
                      </a:lnTo>
                      <a:lnTo>
                        <a:pt x="83" y="15"/>
                      </a:lnTo>
                      <a:lnTo>
                        <a:pt x="67" y="19"/>
                      </a:lnTo>
                      <a:lnTo>
                        <a:pt x="53" y="24"/>
                      </a:lnTo>
                      <a:lnTo>
                        <a:pt x="41" y="29"/>
                      </a:lnTo>
                      <a:lnTo>
                        <a:pt x="38" y="30"/>
                      </a:lnTo>
                      <a:lnTo>
                        <a:pt x="27" y="36"/>
                      </a:lnTo>
                      <a:lnTo>
                        <a:pt x="18" y="42"/>
                      </a:lnTo>
                      <a:lnTo>
                        <a:pt x="11" y="48"/>
                      </a:lnTo>
                      <a:lnTo>
                        <a:pt x="5" y="54"/>
                      </a:lnTo>
                      <a:lnTo>
                        <a:pt x="2" y="60"/>
                      </a:lnTo>
                      <a:lnTo>
                        <a:pt x="1" y="63"/>
                      </a:lnTo>
                      <a:lnTo>
                        <a:pt x="0" y="70"/>
                      </a:lnTo>
                      <a:lnTo>
                        <a:pt x="0" y="202"/>
                      </a:lnTo>
                      <a:lnTo>
                        <a:pt x="1" y="209"/>
                      </a:lnTo>
                      <a:lnTo>
                        <a:pt x="2" y="212"/>
                      </a:lnTo>
                      <a:lnTo>
                        <a:pt x="5" y="218"/>
                      </a:lnTo>
                      <a:lnTo>
                        <a:pt x="11" y="224"/>
                      </a:lnTo>
                      <a:lnTo>
                        <a:pt x="18" y="231"/>
                      </a:lnTo>
                      <a:lnTo>
                        <a:pt x="27" y="236"/>
                      </a:lnTo>
                      <a:lnTo>
                        <a:pt x="38" y="242"/>
                      </a:lnTo>
                      <a:lnTo>
                        <a:pt x="41" y="243"/>
                      </a:lnTo>
                      <a:lnTo>
                        <a:pt x="53" y="248"/>
                      </a:lnTo>
                      <a:lnTo>
                        <a:pt x="67" y="253"/>
                      </a:lnTo>
                      <a:lnTo>
                        <a:pt x="83" y="257"/>
                      </a:lnTo>
                      <a:lnTo>
                        <a:pt x="99" y="261"/>
                      </a:lnTo>
                      <a:lnTo>
                        <a:pt x="117" y="264"/>
                      </a:lnTo>
                      <a:lnTo>
                        <a:pt x="136" y="267"/>
                      </a:lnTo>
                      <a:lnTo>
                        <a:pt x="177" y="271"/>
                      </a:lnTo>
                      <a:lnTo>
                        <a:pt x="220" y="273"/>
                      </a:lnTo>
                      <a:lnTo>
                        <a:pt x="263" y="271"/>
                      </a:lnTo>
                      <a:lnTo>
                        <a:pt x="304" y="267"/>
                      </a:lnTo>
                      <a:lnTo>
                        <a:pt x="323" y="264"/>
                      </a:lnTo>
                      <a:lnTo>
                        <a:pt x="341" y="261"/>
                      </a:lnTo>
                      <a:lnTo>
                        <a:pt x="357" y="257"/>
                      </a:lnTo>
                      <a:lnTo>
                        <a:pt x="373" y="253"/>
                      </a:lnTo>
                      <a:lnTo>
                        <a:pt x="387" y="248"/>
                      </a:lnTo>
                      <a:lnTo>
                        <a:pt x="399" y="243"/>
                      </a:lnTo>
                      <a:lnTo>
                        <a:pt x="402" y="242"/>
                      </a:lnTo>
                      <a:lnTo>
                        <a:pt x="413" y="236"/>
                      </a:lnTo>
                      <a:lnTo>
                        <a:pt x="422" y="231"/>
                      </a:lnTo>
                      <a:lnTo>
                        <a:pt x="429" y="224"/>
                      </a:lnTo>
                      <a:lnTo>
                        <a:pt x="435" y="218"/>
                      </a:lnTo>
                      <a:lnTo>
                        <a:pt x="438" y="212"/>
                      </a:lnTo>
                      <a:lnTo>
                        <a:pt x="439" y="209"/>
                      </a:lnTo>
                      <a:lnTo>
                        <a:pt x="441" y="202"/>
                      </a:lnTo>
                      <a:lnTo>
                        <a:pt x="441" y="70"/>
                      </a:lnTo>
                      <a:lnTo>
                        <a:pt x="439" y="63"/>
                      </a:lnTo>
                      <a:lnTo>
                        <a:pt x="438" y="60"/>
                      </a:lnTo>
                      <a:lnTo>
                        <a:pt x="435" y="54"/>
                      </a:lnTo>
                      <a:lnTo>
                        <a:pt x="429" y="48"/>
                      </a:lnTo>
                      <a:lnTo>
                        <a:pt x="422" y="42"/>
                      </a:lnTo>
                      <a:lnTo>
                        <a:pt x="413" y="36"/>
                      </a:lnTo>
                      <a:lnTo>
                        <a:pt x="402" y="30"/>
                      </a:lnTo>
                      <a:lnTo>
                        <a:pt x="399" y="29"/>
                      </a:lnTo>
                      <a:lnTo>
                        <a:pt x="387" y="24"/>
                      </a:lnTo>
                      <a:lnTo>
                        <a:pt x="373" y="19"/>
                      </a:lnTo>
                      <a:lnTo>
                        <a:pt x="357" y="15"/>
                      </a:lnTo>
                      <a:lnTo>
                        <a:pt x="341" y="11"/>
                      </a:lnTo>
                      <a:lnTo>
                        <a:pt x="323" y="8"/>
                      </a:lnTo>
                      <a:lnTo>
                        <a:pt x="304" y="5"/>
                      </a:lnTo>
                      <a:lnTo>
                        <a:pt x="263" y="1"/>
                      </a:lnTo>
                      <a:lnTo>
                        <a:pt x="220" y="0"/>
                      </a:lnTo>
                      <a:lnTo>
                        <a:pt x="177" y="1"/>
                      </a:lnTo>
                      <a:close/>
                      <a:moveTo>
                        <a:pt x="220" y="9"/>
                      </a:moveTo>
                      <a:lnTo>
                        <a:pt x="263" y="10"/>
                      </a:lnTo>
                      <a:lnTo>
                        <a:pt x="304" y="14"/>
                      </a:lnTo>
                      <a:lnTo>
                        <a:pt x="323" y="17"/>
                      </a:lnTo>
                      <a:lnTo>
                        <a:pt x="341" y="20"/>
                      </a:lnTo>
                      <a:lnTo>
                        <a:pt x="357" y="24"/>
                      </a:lnTo>
                      <a:lnTo>
                        <a:pt x="373" y="28"/>
                      </a:lnTo>
                      <a:lnTo>
                        <a:pt x="387" y="33"/>
                      </a:lnTo>
                      <a:lnTo>
                        <a:pt x="399" y="38"/>
                      </a:lnTo>
                      <a:lnTo>
                        <a:pt x="399" y="33"/>
                      </a:lnTo>
                      <a:lnTo>
                        <a:pt x="396" y="36"/>
                      </a:lnTo>
                      <a:lnTo>
                        <a:pt x="407" y="42"/>
                      </a:lnTo>
                      <a:lnTo>
                        <a:pt x="416" y="48"/>
                      </a:lnTo>
                      <a:lnTo>
                        <a:pt x="423" y="54"/>
                      </a:lnTo>
                      <a:lnTo>
                        <a:pt x="429" y="60"/>
                      </a:lnTo>
                      <a:lnTo>
                        <a:pt x="432" y="66"/>
                      </a:lnTo>
                      <a:lnTo>
                        <a:pt x="435" y="63"/>
                      </a:lnTo>
                      <a:lnTo>
                        <a:pt x="430" y="63"/>
                      </a:lnTo>
                      <a:lnTo>
                        <a:pt x="432" y="70"/>
                      </a:lnTo>
                      <a:lnTo>
                        <a:pt x="432" y="202"/>
                      </a:lnTo>
                      <a:lnTo>
                        <a:pt x="430" y="209"/>
                      </a:lnTo>
                      <a:lnTo>
                        <a:pt x="435" y="209"/>
                      </a:lnTo>
                      <a:lnTo>
                        <a:pt x="432" y="206"/>
                      </a:lnTo>
                      <a:lnTo>
                        <a:pt x="429" y="212"/>
                      </a:lnTo>
                      <a:lnTo>
                        <a:pt x="423" y="218"/>
                      </a:lnTo>
                      <a:lnTo>
                        <a:pt x="416" y="225"/>
                      </a:lnTo>
                      <a:lnTo>
                        <a:pt x="407" y="230"/>
                      </a:lnTo>
                      <a:lnTo>
                        <a:pt x="396" y="236"/>
                      </a:lnTo>
                      <a:lnTo>
                        <a:pt x="399" y="239"/>
                      </a:lnTo>
                      <a:lnTo>
                        <a:pt x="399" y="234"/>
                      </a:lnTo>
                      <a:lnTo>
                        <a:pt x="387" y="239"/>
                      </a:lnTo>
                      <a:lnTo>
                        <a:pt x="373" y="244"/>
                      </a:lnTo>
                      <a:lnTo>
                        <a:pt x="357" y="248"/>
                      </a:lnTo>
                      <a:lnTo>
                        <a:pt x="341" y="252"/>
                      </a:lnTo>
                      <a:lnTo>
                        <a:pt x="323" y="255"/>
                      </a:lnTo>
                      <a:lnTo>
                        <a:pt x="304" y="258"/>
                      </a:lnTo>
                      <a:lnTo>
                        <a:pt x="263" y="262"/>
                      </a:lnTo>
                      <a:lnTo>
                        <a:pt x="220" y="264"/>
                      </a:lnTo>
                      <a:lnTo>
                        <a:pt x="177" y="262"/>
                      </a:lnTo>
                      <a:lnTo>
                        <a:pt x="136" y="258"/>
                      </a:lnTo>
                      <a:lnTo>
                        <a:pt x="117" y="255"/>
                      </a:lnTo>
                      <a:lnTo>
                        <a:pt x="99" y="252"/>
                      </a:lnTo>
                      <a:lnTo>
                        <a:pt x="83" y="248"/>
                      </a:lnTo>
                      <a:lnTo>
                        <a:pt x="67" y="244"/>
                      </a:lnTo>
                      <a:lnTo>
                        <a:pt x="53" y="239"/>
                      </a:lnTo>
                      <a:lnTo>
                        <a:pt x="41" y="234"/>
                      </a:lnTo>
                      <a:lnTo>
                        <a:pt x="41" y="239"/>
                      </a:lnTo>
                      <a:lnTo>
                        <a:pt x="44" y="236"/>
                      </a:lnTo>
                      <a:lnTo>
                        <a:pt x="33" y="230"/>
                      </a:lnTo>
                      <a:lnTo>
                        <a:pt x="24" y="225"/>
                      </a:lnTo>
                      <a:lnTo>
                        <a:pt x="17" y="218"/>
                      </a:lnTo>
                      <a:lnTo>
                        <a:pt x="11" y="212"/>
                      </a:lnTo>
                      <a:lnTo>
                        <a:pt x="8" y="206"/>
                      </a:lnTo>
                      <a:lnTo>
                        <a:pt x="5" y="209"/>
                      </a:lnTo>
                      <a:lnTo>
                        <a:pt x="10" y="209"/>
                      </a:lnTo>
                      <a:lnTo>
                        <a:pt x="9" y="202"/>
                      </a:lnTo>
                      <a:lnTo>
                        <a:pt x="9" y="70"/>
                      </a:lnTo>
                      <a:lnTo>
                        <a:pt x="10" y="63"/>
                      </a:lnTo>
                      <a:lnTo>
                        <a:pt x="5" y="63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7" y="54"/>
                      </a:lnTo>
                      <a:lnTo>
                        <a:pt x="24" y="48"/>
                      </a:lnTo>
                      <a:lnTo>
                        <a:pt x="33" y="42"/>
                      </a:lnTo>
                      <a:lnTo>
                        <a:pt x="44" y="36"/>
                      </a:lnTo>
                      <a:lnTo>
                        <a:pt x="41" y="33"/>
                      </a:lnTo>
                      <a:lnTo>
                        <a:pt x="41" y="38"/>
                      </a:lnTo>
                      <a:lnTo>
                        <a:pt x="53" y="33"/>
                      </a:lnTo>
                      <a:lnTo>
                        <a:pt x="67" y="28"/>
                      </a:lnTo>
                      <a:lnTo>
                        <a:pt x="83" y="24"/>
                      </a:lnTo>
                      <a:lnTo>
                        <a:pt x="99" y="20"/>
                      </a:lnTo>
                      <a:lnTo>
                        <a:pt x="117" y="17"/>
                      </a:lnTo>
                      <a:lnTo>
                        <a:pt x="136" y="14"/>
                      </a:lnTo>
                      <a:lnTo>
                        <a:pt x="177" y="10"/>
                      </a:lnTo>
                      <a:lnTo>
                        <a:pt x="220" y="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>
                  <a:off x="7224480" y="2092320"/>
                  <a:ext cx="699840" cy="112680"/>
                </a:xfrm>
                <a:custGeom>
                  <a:avLst/>
                  <a:gdLst/>
                  <a:ahLst/>
                  <a:rect l="l" t="t" r="r" b="b"/>
                  <a:pathLst>
                    <a:path w="441" h="71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11" y="22"/>
                      </a:lnTo>
                      <a:lnTo>
                        <a:pt x="18" y="29"/>
                      </a:lnTo>
                      <a:lnTo>
                        <a:pt x="27" y="34"/>
                      </a:lnTo>
                      <a:lnTo>
                        <a:pt x="38" y="40"/>
                      </a:lnTo>
                      <a:lnTo>
                        <a:pt x="41" y="41"/>
                      </a:lnTo>
                      <a:lnTo>
                        <a:pt x="53" y="46"/>
                      </a:lnTo>
                      <a:lnTo>
                        <a:pt x="67" y="51"/>
                      </a:lnTo>
                      <a:lnTo>
                        <a:pt x="83" y="55"/>
                      </a:lnTo>
                      <a:lnTo>
                        <a:pt x="99" y="59"/>
                      </a:lnTo>
                      <a:lnTo>
                        <a:pt x="117" y="62"/>
                      </a:lnTo>
                      <a:lnTo>
                        <a:pt x="136" y="65"/>
                      </a:lnTo>
                      <a:lnTo>
                        <a:pt x="177" y="69"/>
                      </a:lnTo>
                      <a:lnTo>
                        <a:pt x="220" y="71"/>
                      </a:lnTo>
                      <a:lnTo>
                        <a:pt x="263" y="69"/>
                      </a:lnTo>
                      <a:lnTo>
                        <a:pt x="304" y="65"/>
                      </a:lnTo>
                      <a:lnTo>
                        <a:pt x="323" y="62"/>
                      </a:lnTo>
                      <a:lnTo>
                        <a:pt x="341" y="59"/>
                      </a:lnTo>
                      <a:lnTo>
                        <a:pt x="357" y="55"/>
                      </a:lnTo>
                      <a:lnTo>
                        <a:pt x="373" y="51"/>
                      </a:lnTo>
                      <a:lnTo>
                        <a:pt x="387" y="46"/>
                      </a:lnTo>
                      <a:lnTo>
                        <a:pt x="399" y="41"/>
                      </a:lnTo>
                      <a:lnTo>
                        <a:pt x="402" y="40"/>
                      </a:lnTo>
                      <a:lnTo>
                        <a:pt x="413" y="34"/>
                      </a:lnTo>
                      <a:lnTo>
                        <a:pt x="422" y="29"/>
                      </a:lnTo>
                      <a:lnTo>
                        <a:pt x="429" y="22"/>
                      </a:lnTo>
                      <a:lnTo>
                        <a:pt x="435" y="16"/>
                      </a:lnTo>
                      <a:lnTo>
                        <a:pt x="438" y="10"/>
                      </a:lnTo>
                      <a:lnTo>
                        <a:pt x="439" y="7"/>
                      </a:lnTo>
                      <a:lnTo>
                        <a:pt x="441" y="0"/>
                      </a:lnTo>
                      <a:lnTo>
                        <a:pt x="432" y="0"/>
                      </a:lnTo>
                      <a:lnTo>
                        <a:pt x="430" y="7"/>
                      </a:lnTo>
                      <a:lnTo>
                        <a:pt x="435" y="7"/>
                      </a:lnTo>
                      <a:lnTo>
                        <a:pt x="432" y="4"/>
                      </a:lnTo>
                      <a:lnTo>
                        <a:pt x="429" y="10"/>
                      </a:lnTo>
                      <a:lnTo>
                        <a:pt x="423" y="16"/>
                      </a:lnTo>
                      <a:lnTo>
                        <a:pt x="416" y="23"/>
                      </a:lnTo>
                      <a:lnTo>
                        <a:pt x="407" y="28"/>
                      </a:lnTo>
                      <a:lnTo>
                        <a:pt x="396" y="34"/>
                      </a:lnTo>
                      <a:lnTo>
                        <a:pt x="399" y="37"/>
                      </a:lnTo>
                      <a:lnTo>
                        <a:pt x="399" y="32"/>
                      </a:lnTo>
                      <a:lnTo>
                        <a:pt x="387" y="37"/>
                      </a:lnTo>
                      <a:lnTo>
                        <a:pt x="373" y="42"/>
                      </a:lnTo>
                      <a:lnTo>
                        <a:pt x="357" y="46"/>
                      </a:lnTo>
                      <a:lnTo>
                        <a:pt x="341" y="50"/>
                      </a:lnTo>
                      <a:lnTo>
                        <a:pt x="323" y="53"/>
                      </a:lnTo>
                      <a:lnTo>
                        <a:pt x="304" y="56"/>
                      </a:lnTo>
                      <a:lnTo>
                        <a:pt x="263" y="60"/>
                      </a:lnTo>
                      <a:lnTo>
                        <a:pt x="220" y="62"/>
                      </a:lnTo>
                      <a:lnTo>
                        <a:pt x="177" y="60"/>
                      </a:lnTo>
                      <a:lnTo>
                        <a:pt x="136" y="56"/>
                      </a:lnTo>
                      <a:lnTo>
                        <a:pt x="117" y="53"/>
                      </a:lnTo>
                      <a:lnTo>
                        <a:pt x="99" y="50"/>
                      </a:lnTo>
                      <a:lnTo>
                        <a:pt x="83" y="46"/>
                      </a:lnTo>
                      <a:lnTo>
                        <a:pt x="67" y="42"/>
                      </a:lnTo>
                      <a:lnTo>
                        <a:pt x="53" y="37"/>
                      </a:lnTo>
                      <a:lnTo>
                        <a:pt x="41" y="32"/>
                      </a:lnTo>
                      <a:lnTo>
                        <a:pt x="41" y="37"/>
                      </a:lnTo>
                      <a:lnTo>
                        <a:pt x="44" y="34"/>
                      </a:lnTo>
                      <a:lnTo>
                        <a:pt x="33" y="28"/>
                      </a:lnTo>
                      <a:lnTo>
                        <a:pt x="24" y="23"/>
                      </a:lnTo>
                      <a:lnTo>
                        <a:pt x="17" y="16"/>
                      </a:lnTo>
                      <a:lnTo>
                        <a:pt x="11" y="10"/>
                      </a:lnTo>
                      <a:lnTo>
                        <a:pt x="8" y="4"/>
                      </a:lnTo>
                      <a:lnTo>
                        <a:pt x="5" y="7"/>
                      </a:lnTo>
                      <a:lnTo>
                        <a:pt x="10" y="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6" name=""/>
                <p:cNvGrpSpPr/>
                <p:nvPr/>
              </p:nvGrpSpPr>
              <p:grpSpPr>
                <a:xfrm>
                  <a:off x="7306560" y="2020680"/>
                  <a:ext cx="515160" cy="146160"/>
                  <a:chOff x="7306560" y="2020680"/>
                  <a:chExt cx="515160" cy="146160"/>
                </a:xfrm>
              </p:grpSpPr>
              <p:sp>
                <p:nvSpPr>
                  <p:cNvPr id="3987" name=""/>
                  <p:cNvSpPr/>
                  <p:nvPr/>
                </p:nvSpPr>
                <p:spPr>
                  <a:xfrm>
                    <a:off x="7574760" y="2023920"/>
                    <a:ext cx="2469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8" name=""/>
                  <p:cNvSpPr/>
                  <p:nvPr/>
                </p:nvSpPr>
                <p:spPr>
                  <a:xfrm>
                    <a:off x="7574760" y="2023920"/>
                    <a:ext cx="2469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9" name=""/>
                  <p:cNvSpPr/>
                  <p:nvPr/>
                </p:nvSpPr>
                <p:spPr>
                  <a:xfrm>
                    <a:off x="7306560" y="2097000"/>
                    <a:ext cx="2473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0" name=""/>
                  <p:cNvSpPr/>
                  <p:nvPr/>
                </p:nvSpPr>
                <p:spPr>
                  <a:xfrm>
                    <a:off x="7306560" y="2097000"/>
                    <a:ext cx="2473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1" name=""/>
                  <p:cNvSpPr/>
                  <p:nvPr/>
                </p:nvSpPr>
                <p:spPr>
                  <a:xfrm>
                    <a:off x="7320600" y="2020680"/>
                    <a:ext cx="24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2" name=""/>
                  <p:cNvSpPr/>
                  <p:nvPr/>
                </p:nvSpPr>
                <p:spPr>
                  <a:xfrm>
                    <a:off x="7320600" y="2020680"/>
                    <a:ext cx="24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3" name=""/>
                  <p:cNvSpPr/>
                  <p:nvPr/>
                </p:nvSpPr>
                <p:spPr>
                  <a:xfrm>
                    <a:off x="7566840" y="2103120"/>
                    <a:ext cx="2455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4" name=""/>
                  <p:cNvSpPr/>
                  <p:nvPr/>
                </p:nvSpPr>
                <p:spPr>
                  <a:xfrm>
                    <a:off x="7566840" y="2103120"/>
                    <a:ext cx="2455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95" name=""/>
              <p:cNvGrpSpPr/>
              <p:nvPr/>
            </p:nvGrpSpPr>
            <p:grpSpPr>
              <a:xfrm>
                <a:off x="7224480" y="2309760"/>
                <a:ext cx="699840" cy="433440"/>
                <a:chOff x="7224480" y="2309760"/>
                <a:chExt cx="699840" cy="433440"/>
              </a:xfrm>
            </p:grpSpPr>
            <p:sp>
              <p:nvSpPr>
                <p:cNvPr id="3996" name=""/>
                <p:cNvSpPr/>
                <p:nvPr/>
              </p:nvSpPr>
              <p:spPr>
                <a:xfrm>
                  <a:off x="7230600" y="2316240"/>
                  <a:ext cx="685440" cy="419040"/>
                </a:xfrm>
                <a:custGeom>
                  <a:avLst/>
                  <a:gdLst/>
                  <a:ahLst/>
                  <a:rect l="l" t="t" r="r" b="b"/>
                  <a:pathLst>
                    <a:path w="432" h="264">
                      <a:moveTo>
                        <a:pt x="216" y="0"/>
                      </a:move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lnTo>
                        <a:pt x="0" y="198"/>
                      </a:lnTo>
                      <a:lnTo>
                        <a:pt x="1" y="205"/>
                      </a:lnTo>
                      <a:lnTo>
                        <a:pt x="4" y="211"/>
                      </a:lnTo>
                      <a:lnTo>
                        <a:pt x="10" y="217"/>
                      </a:lnTo>
                      <a:lnTo>
                        <a:pt x="17" y="224"/>
                      </a:lnTo>
                      <a:lnTo>
                        <a:pt x="26" y="229"/>
                      </a:lnTo>
                      <a:lnTo>
                        <a:pt x="37" y="235"/>
                      </a:lnTo>
                      <a:lnTo>
                        <a:pt x="49" y="240"/>
                      </a:lnTo>
                      <a:lnTo>
                        <a:pt x="63" y="245"/>
                      </a:lnTo>
                      <a:lnTo>
                        <a:pt x="79" y="249"/>
                      </a:lnTo>
                      <a:lnTo>
                        <a:pt x="95" y="253"/>
                      </a:lnTo>
                      <a:lnTo>
                        <a:pt x="113" y="256"/>
                      </a:lnTo>
                      <a:lnTo>
                        <a:pt x="132" y="259"/>
                      </a:lnTo>
                      <a:lnTo>
                        <a:pt x="173" y="263"/>
                      </a:lnTo>
                      <a:lnTo>
                        <a:pt x="216" y="264"/>
                      </a:lnTo>
                      <a:lnTo>
                        <a:pt x="259" y="263"/>
                      </a:lnTo>
                      <a:lnTo>
                        <a:pt x="300" y="259"/>
                      </a:lnTo>
                      <a:lnTo>
                        <a:pt x="319" y="256"/>
                      </a:lnTo>
                      <a:lnTo>
                        <a:pt x="337" y="253"/>
                      </a:lnTo>
                      <a:lnTo>
                        <a:pt x="353" y="249"/>
                      </a:lnTo>
                      <a:lnTo>
                        <a:pt x="369" y="245"/>
                      </a:lnTo>
                      <a:lnTo>
                        <a:pt x="383" y="240"/>
                      </a:lnTo>
                      <a:lnTo>
                        <a:pt x="395" y="235"/>
                      </a:lnTo>
                      <a:lnTo>
                        <a:pt x="406" y="229"/>
                      </a:lnTo>
                      <a:lnTo>
                        <a:pt x="415" y="224"/>
                      </a:lnTo>
                      <a:lnTo>
                        <a:pt x="422" y="217"/>
                      </a:lnTo>
                      <a:lnTo>
                        <a:pt x="428" y="211"/>
                      </a:lnTo>
                      <a:lnTo>
                        <a:pt x="431" y="205"/>
                      </a:lnTo>
                      <a:lnTo>
                        <a:pt x="432" y="198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7230600" y="2316240"/>
                  <a:ext cx="685440" cy="209520"/>
                </a:xfrm>
                <a:custGeom>
                  <a:avLst/>
                  <a:gdLst/>
                  <a:ahLst/>
                  <a:rect l="l" t="t" r="r" b="b"/>
                  <a:pathLst>
                    <a:path w="432" h="132">
                      <a:moveTo>
                        <a:pt x="0" y="66"/>
                      </a:moveTo>
                      <a:lnTo>
                        <a:pt x="1" y="73"/>
                      </a:lnTo>
                      <a:lnTo>
                        <a:pt x="4" y="79"/>
                      </a:lnTo>
                      <a:lnTo>
                        <a:pt x="10" y="85"/>
                      </a:lnTo>
                      <a:lnTo>
                        <a:pt x="17" y="92"/>
                      </a:lnTo>
                      <a:lnTo>
                        <a:pt x="26" y="97"/>
                      </a:lnTo>
                      <a:lnTo>
                        <a:pt x="37" y="103"/>
                      </a:lnTo>
                      <a:lnTo>
                        <a:pt x="49" y="108"/>
                      </a:lnTo>
                      <a:lnTo>
                        <a:pt x="63" y="113"/>
                      </a:lnTo>
                      <a:lnTo>
                        <a:pt x="79" y="117"/>
                      </a:lnTo>
                      <a:lnTo>
                        <a:pt x="95" y="121"/>
                      </a:lnTo>
                      <a:lnTo>
                        <a:pt x="113" y="124"/>
                      </a:lnTo>
                      <a:lnTo>
                        <a:pt x="132" y="127"/>
                      </a:lnTo>
                      <a:lnTo>
                        <a:pt x="173" y="131"/>
                      </a:lnTo>
                      <a:lnTo>
                        <a:pt x="216" y="132"/>
                      </a:lnTo>
                      <a:lnTo>
                        <a:pt x="259" y="131"/>
                      </a:lnTo>
                      <a:lnTo>
                        <a:pt x="300" y="127"/>
                      </a:lnTo>
                      <a:lnTo>
                        <a:pt x="319" y="124"/>
                      </a:lnTo>
                      <a:lnTo>
                        <a:pt x="337" y="121"/>
                      </a:lnTo>
                      <a:lnTo>
                        <a:pt x="353" y="117"/>
                      </a:lnTo>
                      <a:lnTo>
                        <a:pt x="369" y="113"/>
                      </a:lnTo>
                      <a:lnTo>
                        <a:pt x="383" y="108"/>
                      </a:lnTo>
                      <a:lnTo>
                        <a:pt x="395" y="103"/>
                      </a:lnTo>
                      <a:lnTo>
                        <a:pt x="406" y="97"/>
                      </a:lnTo>
                      <a:lnTo>
                        <a:pt x="415" y="92"/>
                      </a:lnTo>
                      <a:lnTo>
                        <a:pt x="422" y="85"/>
                      </a:lnTo>
                      <a:lnTo>
                        <a:pt x="428" y="79"/>
                      </a:lnTo>
                      <a:lnTo>
                        <a:pt x="431" y="73"/>
                      </a:lnTo>
                      <a:lnTo>
                        <a:pt x="432" y="66"/>
                      </a:lnTo>
                      <a:lnTo>
                        <a:pt x="431" y="59"/>
                      </a:lnTo>
                      <a:lnTo>
                        <a:pt x="428" y="53"/>
                      </a:lnTo>
                      <a:lnTo>
                        <a:pt x="422" y="47"/>
                      </a:lnTo>
                      <a:lnTo>
                        <a:pt x="415" y="41"/>
                      </a:lnTo>
                      <a:lnTo>
                        <a:pt x="406" y="35"/>
                      </a:lnTo>
                      <a:lnTo>
                        <a:pt x="395" y="29"/>
                      </a:lnTo>
                      <a:lnTo>
                        <a:pt x="383" y="24"/>
                      </a:lnTo>
                      <a:lnTo>
                        <a:pt x="369" y="20"/>
                      </a:lnTo>
                      <a:lnTo>
                        <a:pt x="353" y="15"/>
                      </a:lnTo>
                      <a:lnTo>
                        <a:pt x="337" y="11"/>
                      </a:lnTo>
                      <a:lnTo>
                        <a:pt x="319" y="8"/>
                      </a:lnTo>
                      <a:lnTo>
                        <a:pt x="300" y="5"/>
                      </a:lnTo>
                      <a:lnTo>
                        <a:pt x="259" y="1"/>
                      </a:lnTo>
                      <a:lnTo>
                        <a:pt x="216" y="0"/>
                      </a:lnTo>
                      <a:lnTo>
                        <a:pt x="173" y="1"/>
                      </a:lnTo>
                      <a:lnTo>
                        <a:pt x="132" y="5"/>
                      </a:lnTo>
                      <a:lnTo>
                        <a:pt x="113" y="8"/>
                      </a:lnTo>
                      <a:lnTo>
                        <a:pt x="95" y="11"/>
                      </a:lnTo>
                      <a:lnTo>
                        <a:pt x="79" y="15"/>
                      </a:lnTo>
                      <a:lnTo>
                        <a:pt x="63" y="20"/>
                      </a:lnTo>
                      <a:lnTo>
                        <a:pt x="49" y="24"/>
                      </a:lnTo>
                      <a:lnTo>
                        <a:pt x="37" y="29"/>
                      </a:lnTo>
                      <a:lnTo>
                        <a:pt x="26" y="35"/>
                      </a:lnTo>
                      <a:lnTo>
                        <a:pt x="17" y="41"/>
                      </a:lnTo>
                      <a:lnTo>
                        <a:pt x="10" y="47"/>
                      </a:lnTo>
                      <a:lnTo>
                        <a:pt x="4" y="53"/>
                      </a:lnTo>
                      <a:lnTo>
                        <a:pt x="1" y="59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7224480" y="2309760"/>
                  <a:ext cx="699840" cy="433440"/>
                </a:xfrm>
                <a:custGeom>
                  <a:avLst/>
                  <a:gdLst/>
                  <a:ahLst/>
                  <a:rect l="l" t="t" r="r" b="b"/>
                  <a:pathLst>
                    <a:path w="441" h="273">
                      <a:moveTo>
                        <a:pt x="177" y="1"/>
                      </a:moveTo>
                      <a:lnTo>
                        <a:pt x="136" y="5"/>
                      </a:lnTo>
                      <a:lnTo>
                        <a:pt x="117" y="8"/>
                      </a:lnTo>
                      <a:lnTo>
                        <a:pt x="99" y="11"/>
                      </a:lnTo>
                      <a:lnTo>
                        <a:pt x="83" y="15"/>
                      </a:lnTo>
                      <a:lnTo>
                        <a:pt x="67" y="19"/>
                      </a:lnTo>
                      <a:lnTo>
                        <a:pt x="53" y="24"/>
                      </a:lnTo>
                      <a:lnTo>
                        <a:pt x="41" y="29"/>
                      </a:lnTo>
                      <a:lnTo>
                        <a:pt x="38" y="30"/>
                      </a:lnTo>
                      <a:lnTo>
                        <a:pt x="27" y="36"/>
                      </a:lnTo>
                      <a:lnTo>
                        <a:pt x="18" y="42"/>
                      </a:lnTo>
                      <a:lnTo>
                        <a:pt x="11" y="48"/>
                      </a:lnTo>
                      <a:lnTo>
                        <a:pt x="5" y="54"/>
                      </a:lnTo>
                      <a:lnTo>
                        <a:pt x="2" y="60"/>
                      </a:lnTo>
                      <a:lnTo>
                        <a:pt x="1" y="63"/>
                      </a:lnTo>
                      <a:lnTo>
                        <a:pt x="0" y="70"/>
                      </a:lnTo>
                      <a:lnTo>
                        <a:pt x="0" y="202"/>
                      </a:lnTo>
                      <a:lnTo>
                        <a:pt x="1" y="209"/>
                      </a:lnTo>
                      <a:lnTo>
                        <a:pt x="2" y="212"/>
                      </a:lnTo>
                      <a:lnTo>
                        <a:pt x="5" y="218"/>
                      </a:lnTo>
                      <a:lnTo>
                        <a:pt x="11" y="224"/>
                      </a:lnTo>
                      <a:lnTo>
                        <a:pt x="18" y="231"/>
                      </a:lnTo>
                      <a:lnTo>
                        <a:pt x="27" y="236"/>
                      </a:lnTo>
                      <a:lnTo>
                        <a:pt x="38" y="242"/>
                      </a:lnTo>
                      <a:lnTo>
                        <a:pt x="41" y="243"/>
                      </a:lnTo>
                      <a:lnTo>
                        <a:pt x="53" y="248"/>
                      </a:lnTo>
                      <a:lnTo>
                        <a:pt x="67" y="253"/>
                      </a:lnTo>
                      <a:lnTo>
                        <a:pt x="83" y="257"/>
                      </a:lnTo>
                      <a:lnTo>
                        <a:pt x="99" y="261"/>
                      </a:lnTo>
                      <a:lnTo>
                        <a:pt x="117" y="264"/>
                      </a:lnTo>
                      <a:lnTo>
                        <a:pt x="136" y="267"/>
                      </a:lnTo>
                      <a:lnTo>
                        <a:pt x="177" y="271"/>
                      </a:lnTo>
                      <a:lnTo>
                        <a:pt x="220" y="273"/>
                      </a:lnTo>
                      <a:lnTo>
                        <a:pt x="263" y="271"/>
                      </a:lnTo>
                      <a:lnTo>
                        <a:pt x="304" y="267"/>
                      </a:lnTo>
                      <a:lnTo>
                        <a:pt x="323" y="264"/>
                      </a:lnTo>
                      <a:lnTo>
                        <a:pt x="341" y="261"/>
                      </a:lnTo>
                      <a:lnTo>
                        <a:pt x="357" y="257"/>
                      </a:lnTo>
                      <a:lnTo>
                        <a:pt x="373" y="253"/>
                      </a:lnTo>
                      <a:lnTo>
                        <a:pt x="387" y="248"/>
                      </a:lnTo>
                      <a:lnTo>
                        <a:pt x="399" y="243"/>
                      </a:lnTo>
                      <a:lnTo>
                        <a:pt x="402" y="242"/>
                      </a:lnTo>
                      <a:lnTo>
                        <a:pt x="413" y="236"/>
                      </a:lnTo>
                      <a:lnTo>
                        <a:pt x="422" y="231"/>
                      </a:lnTo>
                      <a:lnTo>
                        <a:pt x="429" y="224"/>
                      </a:lnTo>
                      <a:lnTo>
                        <a:pt x="435" y="218"/>
                      </a:lnTo>
                      <a:lnTo>
                        <a:pt x="438" y="212"/>
                      </a:lnTo>
                      <a:lnTo>
                        <a:pt x="439" y="209"/>
                      </a:lnTo>
                      <a:lnTo>
                        <a:pt x="441" y="202"/>
                      </a:lnTo>
                      <a:lnTo>
                        <a:pt x="441" y="70"/>
                      </a:lnTo>
                      <a:lnTo>
                        <a:pt x="439" y="63"/>
                      </a:lnTo>
                      <a:lnTo>
                        <a:pt x="438" y="60"/>
                      </a:lnTo>
                      <a:lnTo>
                        <a:pt x="435" y="54"/>
                      </a:lnTo>
                      <a:lnTo>
                        <a:pt x="429" y="48"/>
                      </a:lnTo>
                      <a:lnTo>
                        <a:pt x="422" y="42"/>
                      </a:lnTo>
                      <a:lnTo>
                        <a:pt x="413" y="36"/>
                      </a:lnTo>
                      <a:lnTo>
                        <a:pt x="402" y="30"/>
                      </a:lnTo>
                      <a:lnTo>
                        <a:pt x="399" y="29"/>
                      </a:lnTo>
                      <a:lnTo>
                        <a:pt x="387" y="24"/>
                      </a:lnTo>
                      <a:lnTo>
                        <a:pt x="373" y="19"/>
                      </a:lnTo>
                      <a:lnTo>
                        <a:pt x="357" y="15"/>
                      </a:lnTo>
                      <a:lnTo>
                        <a:pt x="341" y="11"/>
                      </a:lnTo>
                      <a:lnTo>
                        <a:pt x="323" y="8"/>
                      </a:lnTo>
                      <a:lnTo>
                        <a:pt x="304" y="5"/>
                      </a:lnTo>
                      <a:lnTo>
                        <a:pt x="263" y="1"/>
                      </a:lnTo>
                      <a:lnTo>
                        <a:pt x="220" y="0"/>
                      </a:lnTo>
                      <a:lnTo>
                        <a:pt x="177" y="1"/>
                      </a:lnTo>
                      <a:close/>
                      <a:moveTo>
                        <a:pt x="220" y="9"/>
                      </a:moveTo>
                      <a:lnTo>
                        <a:pt x="263" y="10"/>
                      </a:lnTo>
                      <a:lnTo>
                        <a:pt x="304" y="14"/>
                      </a:lnTo>
                      <a:lnTo>
                        <a:pt x="323" y="17"/>
                      </a:lnTo>
                      <a:lnTo>
                        <a:pt x="341" y="20"/>
                      </a:lnTo>
                      <a:lnTo>
                        <a:pt x="357" y="24"/>
                      </a:lnTo>
                      <a:lnTo>
                        <a:pt x="373" y="28"/>
                      </a:lnTo>
                      <a:lnTo>
                        <a:pt x="387" y="33"/>
                      </a:lnTo>
                      <a:lnTo>
                        <a:pt x="399" y="38"/>
                      </a:lnTo>
                      <a:lnTo>
                        <a:pt x="399" y="33"/>
                      </a:lnTo>
                      <a:lnTo>
                        <a:pt x="396" y="36"/>
                      </a:lnTo>
                      <a:lnTo>
                        <a:pt x="407" y="42"/>
                      </a:lnTo>
                      <a:lnTo>
                        <a:pt x="416" y="48"/>
                      </a:lnTo>
                      <a:lnTo>
                        <a:pt x="423" y="54"/>
                      </a:lnTo>
                      <a:lnTo>
                        <a:pt x="429" y="60"/>
                      </a:lnTo>
                      <a:lnTo>
                        <a:pt x="432" y="66"/>
                      </a:lnTo>
                      <a:lnTo>
                        <a:pt x="435" y="63"/>
                      </a:lnTo>
                      <a:lnTo>
                        <a:pt x="430" y="63"/>
                      </a:lnTo>
                      <a:lnTo>
                        <a:pt x="432" y="70"/>
                      </a:lnTo>
                      <a:lnTo>
                        <a:pt x="432" y="202"/>
                      </a:lnTo>
                      <a:lnTo>
                        <a:pt x="430" y="209"/>
                      </a:lnTo>
                      <a:lnTo>
                        <a:pt x="435" y="209"/>
                      </a:lnTo>
                      <a:lnTo>
                        <a:pt x="432" y="206"/>
                      </a:lnTo>
                      <a:lnTo>
                        <a:pt x="429" y="212"/>
                      </a:lnTo>
                      <a:lnTo>
                        <a:pt x="423" y="218"/>
                      </a:lnTo>
                      <a:lnTo>
                        <a:pt x="416" y="225"/>
                      </a:lnTo>
                      <a:lnTo>
                        <a:pt x="407" y="230"/>
                      </a:lnTo>
                      <a:lnTo>
                        <a:pt x="396" y="236"/>
                      </a:lnTo>
                      <a:lnTo>
                        <a:pt x="399" y="239"/>
                      </a:lnTo>
                      <a:lnTo>
                        <a:pt x="399" y="234"/>
                      </a:lnTo>
                      <a:lnTo>
                        <a:pt x="387" y="239"/>
                      </a:lnTo>
                      <a:lnTo>
                        <a:pt x="373" y="244"/>
                      </a:lnTo>
                      <a:lnTo>
                        <a:pt x="357" y="248"/>
                      </a:lnTo>
                      <a:lnTo>
                        <a:pt x="341" y="252"/>
                      </a:lnTo>
                      <a:lnTo>
                        <a:pt x="323" y="255"/>
                      </a:lnTo>
                      <a:lnTo>
                        <a:pt x="304" y="258"/>
                      </a:lnTo>
                      <a:lnTo>
                        <a:pt x="263" y="262"/>
                      </a:lnTo>
                      <a:lnTo>
                        <a:pt x="220" y="264"/>
                      </a:lnTo>
                      <a:lnTo>
                        <a:pt x="177" y="262"/>
                      </a:lnTo>
                      <a:lnTo>
                        <a:pt x="136" y="258"/>
                      </a:lnTo>
                      <a:lnTo>
                        <a:pt x="117" y="255"/>
                      </a:lnTo>
                      <a:lnTo>
                        <a:pt x="99" y="252"/>
                      </a:lnTo>
                      <a:lnTo>
                        <a:pt x="83" y="248"/>
                      </a:lnTo>
                      <a:lnTo>
                        <a:pt x="67" y="244"/>
                      </a:lnTo>
                      <a:lnTo>
                        <a:pt x="53" y="239"/>
                      </a:lnTo>
                      <a:lnTo>
                        <a:pt x="41" y="234"/>
                      </a:lnTo>
                      <a:lnTo>
                        <a:pt x="41" y="239"/>
                      </a:lnTo>
                      <a:lnTo>
                        <a:pt x="44" y="236"/>
                      </a:lnTo>
                      <a:lnTo>
                        <a:pt x="33" y="230"/>
                      </a:lnTo>
                      <a:lnTo>
                        <a:pt x="24" y="225"/>
                      </a:lnTo>
                      <a:lnTo>
                        <a:pt x="17" y="218"/>
                      </a:lnTo>
                      <a:lnTo>
                        <a:pt x="11" y="212"/>
                      </a:lnTo>
                      <a:lnTo>
                        <a:pt x="8" y="206"/>
                      </a:lnTo>
                      <a:lnTo>
                        <a:pt x="5" y="209"/>
                      </a:lnTo>
                      <a:lnTo>
                        <a:pt x="10" y="209"/>
                      </a:lnTo>
                      <a:lnTo>
                        <a:pt x="9" y="202"/>
                      </a:lnTo>
                      <a:lnTo>
                        <a:pt x="9" y="70"/>
                      </a:lnTo>
                      <a:lnTo>
                        <a:pt x="10" y="63"/>
                      </a:lnTo>
                      <a:lnTo>
                        <a:pt x="5" y="63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7" y="54"/>
                      </a:lnTo>
                      <a:lnTo>
                        <a:pt x="24" y="48"/>
                      </a:lnTo>
                      <a:lnTo>
                        <a:pt x="33" y="42"/>
                      </a:lnTo>
                      <a:lnTo>
                        <a:pt x="44" y="36"/>
                      </a:lnTo>
                      <a:lnTo>
                        <a:pt x="41" y="33"/>
                      </a:lnTo>
                      <a:lnTo>
                        <a:pt x="41" y="38"/>
                      </a:lnTo>
                      <a:lnTo>
                        <a:pt x="53" y="33"/>
                      </a:lnTo>
                      <a:lnTo>
                        <a:pt x="67" y="28"/>
                      </a:lnTo>
                      <a:lnTo>
                        <a:pt x="83" y="24"/>
                      </a:lnTo>
                      <a:lnTo>
                        <a:pt x="99" y="20"/>
                      </a:lnTo>
                      <a:lnTo>
                        <a:pt x="117" y="17"/>
                      </a:lnTo>
                      <a:lnTo>
                        <a:pt x="136" y="14"/>
                      </a:lnTo>
                      <a:lnTo>
                        <a:pt x="177" y="10"/>
                      </a:lnTo>
                      <a:lnTo>
                        <a:pt x="220" y="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>
                  <a:off x="7224480" y="2421000"/>
                  <a:ext cx="699840" cy="112680"/>
                </a:xfrm>
                <a:custGeom>
                  <a:avLst/>
                  <a:gdLst/>
                  <a:ahLst/>
                  <a:rect l="l" t="t" r="r" b="b"/>
                  <a:pathLst>
                    <a:path w="441" h="71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11" y="22"/>
                      </a:lnTo>
                      <a:lnTo>
                        <a:pt x="18" y="29"/>
                      </a:lnTo>
                      <a:lnTo>
                        <a:pt x="27" y="34"/>
                      </a:lnTo>
                      <a:lnTo>
                        <a:pt x="38" y="40"/>
                      </a:lnTo>
                      <a:lnTo>
                        <a:pt x="41" y="41"/>
                      </a:lnTo>
                      <a:lnTo>
                        <a:pt x="53" y="46"/>
                      </a:lnTo>
                      <a:lnTo>
                        <a:pt x="67" y="51"/>
                      </a:lnTo>
                      <a:lnTo>
                        <a:pt x="83" y="55"/>
                      </a:lnTo>
                      <a:lnTo>
                        <a:pt x="99" y="59"/>
                      </a:lnTo>
                      <a:lnTo>
                        <a:pt x="117" y="62"/>
                      </a:lnTo>
                      <a:lnTo>
                        <a:pt x="136" y="65"/>
                      </a:lnTo>
                      <a:lnTo>
                        <a:pt x="177" y="69"/>
                      </a:lnTo>
                      <a:lnTo>
                        <a:pt x="220" y="71"/>
                      </a:lnTo>
                      <a:lnTo>
                        <a:pt x="263" y="69"/>
                      </a:lnTo>
                      <a:lnTo>
                        <a:pt x="304" y="65"/>
                      </a:lnTo>
                      <a:lnTo>
                        <a:pt x="323" y="62"/>
                      </a:lnTo>
                      <a:lnTo>
                        <a:pt x="341" y="59"/>
                      </a:lnTo>
                      <a:lnTo>
                        <a:pt x="357" y="55"/>
                      </a:lnTo>
                      <a:lnTo>
                        <a:pt x="373" y="51"/>
                      </a:lnTo>
                      <a:lnTo>
                        <a:pt x="387" y="46"/>
                      </a:lnTo>
                      <a:lnTo>
                        <a:pt x="399" y="41"/>
                      </a:lnTo>
                      <a:lnTo>
                        <a:pt x="402" y="40"/>
                      </a:lnTo>
                      <a:lnTo>
                        <a:pt x="413" y="34"/>
                      </a:lnTo>
                      <a:lnTo>
                        <a:pt x="422" y="29"/>
                      </a:lnTo>
                      <a:lnTo>
                        <a:pt x="429" y="22"/>
                      </a:lnTo>
                      <a:lnTo>
                        <a:pt x="435" y="16"/>
                      </a:lnTo>
                      <a:lnTo>
                        <a:pt x="438" y="10"/>
                      </a:lnTo>
                      <a:lnTo>
                        <a:pt x="439" y="7"/>
                      </a:lnTo>
                      <a:lnTo>
                        <a:pt x="441" y="0"/>
                      </a:lnTo>
                      <a:lnTo>
                        <a:pt x="432" y="0"/>
                      </a:lnTo>
                      <a:lnTo>
                        <a:pt x="430" y="7"/>
                      </a:lnTo>
                      <a:lnTo>
                        <a:pt x="435" y="7"/>
                      </a:lnTo>
                      <a:lnTo>
                        <a:pt x="432" y="4"/>
                      </a:lnTo>
                      <a:lnTo>
                        <a:pt x="429" y="10"/>
                      </a:lnTo>
                      <a:lnTo>
                        <a:pt x="423" y="16"/>
                      </a:lnTo>
                      <a:lnTo>
                        <a:pt x="416" y="23"/>
                      </a:lnTo>
                      <a:lnTo>
                        <a:pt x="407" y="28"/>
                      </a:lnTo>
                      <a:lnTo>
                        <a:pt x="396" y="34"/>
                      </a:lnTo>
                      <a:lnTo>
                        <a:pt x="399" y="37"/>
                      </a:lnTo>
                      <a:lnTo>
                        <a:pt x="399" y="32"/>
                      </a:lnTo>
                      <a:lnTo>
                        <a:pt x="387" y="37"/>
                      </a:lnTo>
                      <a:lnTo>
                        <a:pt x="373" y="42"/>
                      </a:lnTo>
                      <a:lnTo>
                        <a:pt x="357" y="46"/>
                      </a:lnTo>
                      <a:lnTo>
                        <a:pt x="341" y="50"/>
                      </a:lnTo>
                      <a:lnTo>
                        <a:pt x="323" y="53"/>
                      </a:lnTo>
                      <a:lnTo>
                        <a:pt x="304" y="56"/>
                      </a:lnTo>
                      <a:lnTo>
                        <a:pt x="263" y="60"/>
                      </a:lnTo>
                      <a:lnTo>
                        <a:pt x="220" y="62"/>
                      </a:lnTo>
                      <a:lnTo>
                        <a:pt x="177" y="60"/>
                      </a:lnTo>
                      <a:lnTo>
                        <a:pt x="136" y="56"/>
                      </a:lnTo>
                      <a:lnTo>
                        <a:pt x="117" y="53"/>
                      </a:lnTo>
                      <a:lnTo>
                        <a:pt x="99" y="50"/>
                      </a:lnTo>
                      <a:lnTo>
                        <a:pt x="83" y="46"/>
                      </a:lnTo>
                      <a:lnTo>
                        <a:pt x="67" y="42"/>
                      </a:lnTo>
                      <a:lnTo>
                        <a:pt x="53" y="37"/>
                      </a:lnTo>
                      <a:lnTo>
                        <a:pt x="41" y="32"/>
                      </a:lnTo>
                      <a:lnTo>
                        <a:pt x="41" y="37"/>
                      </a:lnTo>
                      <a:lnTo>
                        <a:pt x="44" y="34"/>
                      </a:lnTo>
                      <a:lnTo>
                        <a:pt x="33" y="28"/>
                      </a:lnTo>
                      <a:lnTo>
                        <a:pt x="24" y="23"/>
                      </a:lnTo>
                      <a:lnTo>
                        <a:pt x="17" y="16"/>
                      </a:lnTo>
                      <a:lnTo>
                        <a:pt x="11" y="10"/>
                      </a:lnTo>
                      <a:lnTo>
                        <a:pt x="8" y="4"/>
                      </a:lnTo>
                      <a:lnTo>
                        <a:pt x="5" y="7"/>
                      </a:lnTo>
                      <a:lnTo>
                        <a:pt x="10" y="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0" name=""/>
                <p:cNvGrpSpPr/>
                <p:nvPr/>
              </p:nvGrpSpPr>
              <p:grpSpPr>
                <a:xfrm>
                  <a:off x="7306560" y="2349360"/>
                  <a:ext cx="515160" cy="146160"/>
                  <a:chOff x="7306560" y="2349360"/>
                  <a:chExt cx="515160" cy="146160"/>
                </a:xfrm>
              </p:grpSpPr>
              <p:sp>
                <p:nvSpPr>
                  <p:cNvPr id="4001" name=""/>
                  <p:cNvSpPr/>
                  <p:nvPr/>
                </p:nvSpPr>
                <p:spPr>
                  <a:xfrm>
                    <a:off x="7574760" y="2352600"/>
                    <a:ext cx="2469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2" name=""/>
                  <p:cNvSpPr/>
                  <p:nvPr/>
                </p:nvSpPr>
                <p:spPr>
                  <a:xfrm>
                    <a:off x="7574760" y="2352600"/>
                    <a:ext cx="2469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30"/>
                        </a:moveTo>
                        <a:lnTo>
                          <a:pt x="34" y="39"/>
                        </a:lnTo>
                        <a:lnTo>
                          <a:pt x="118" y="13"/>
                        </a:lnTo>
                        <a:lnTo>
                          <a:pt x="155" y="21"/>
                        </a:lnTo>
                        <a:lnTo>
                          <a:pt x="135" y="0"/>
                        </a:lnTo>
                        <a:lnTo>
                          <a:pt x="37" y="0"/>
                        </a:lnTo>
                        <a:lnTo>
                          <a:pt x="77" y="6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3" name=""/>
                  <p:cNvSpPr/>
                  <p:nvPr/>
                </p:nvSpPr>
                <p:spPr>
                  <a:xfrm>
                    <a:off x="7306560" y="2425680"/>
                    <a:ext cx="2473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4" name=""/>
                  <p:cNvSpPr/>
                  <p:nvPr/>
                </p:nvSpPr>
                <p:spPr>
                  <a:xfrm>
                    <a:off x="7306560" y="2425680"/>
                    <a:ext cx="2473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2">
                        <a:moveTo>
                          <a:pt x="155" y="9"/>
                        </a:moveTo>
                        <a:lnTo>
                          <a:pt x="121" y="0"/>
                        </a:lnTo>
                        <a:lnTo>
                          <a:pt x="40" y="26"/>
                        </a:lnTo>
                        <a:lnTo>
                          <a:pt x="0" y="17"/>
                        </a:lnTo>
                        <a:lnTo>
                          <a:pt x="20" y="41"/>
                        </a:lnTo>
                        <a:lnTo>
                          <a:pt x="121" y="41"/>
                        </a:lnTo>
                        <a:lnTo>
                          <a:pt x="78" y="32"/>
                        </a:lnTo>
                        <a:lnTo>
                          <a:pt x="155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5" name=""/>
                  <p:cNvSpPr/>
                  <p:nvPr/>
                </p:nvSpPr>
                <p:spPr>
                  <a:xfrm>
                    <a:off x="7320600" y="2349360"/>
                    <a:ext cx="24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6" name=""/>
                  <p:cNvSpPr/>
                  <p:nvPr/>
                </p:nvSpPr>
                <p:spPr>
                  <a:xfrm>
                    <a:off x="7320600" y="2349360"/>
                    <a:ext cx="2473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40">
                        <a:moveTo>
                          <a:pt x="0" y="9"/>
                        </a:moveTo>
                        <a:lnTo>
                          <a:pt x="34" y="0"/>
                        </a:lnTo>
                        <a:lnTo>
                          <a:pt x="118" y="24"/>
                        </a:lnTo>
                        <a:lnTo>
                          <a:pt x="155" y="17"/>
                        </a:lnTo>
                        <a:lnTo>
                          <a:pt x="135" y="39"/>
                        </a:lnTo>
                        <a:lnTo>
                          <a:pt x="37" y="39"/>
                        </a:lnTo>
                        <a:lnTo>
                          <a:pt x="78" y="33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7" name=""/>
                  <p:cNvSpPr/>
                  <p:nvPr/>
                </p:nvSpPr>
                <p:spPr>
                  <a:xfrm>
                    <a:off x="7566840" y="2431800"/>
                    <a:ext cx="2455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8" name=""/>
                  <p:cNvSpPr/>
                  <p:nvPr/>
                </p:nvSpPr>
                <p:spPr>
                  <a:xfrm>
                    <a:off x="7566840" y="2431800"/>
                    <a:ext cx="2455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40">
                        <a:moveTo>
                          <a:pt x="154" y="30"/>
                        </a:moveTo>
                        <a:lnTo>
                          <a:pt x="119" y="39"/>
                        </a:lnTo>
                        <a:lnTo>
                          <a:pt x="39" y="13"/>
                        </a:lnTo>
                        <a:lnTo>
                          <a:pt x="0" y="22"/>
                        </a:lnTo>
                        <a:lnTo>
                          <a:pt x="20" y="0"/>
                        </a:lnTo>
                        <a:lnTo>
                          <a:pt x="119" y="0"/>
                        </a:lnTo>
                        <a:lnTo>
                          <a:pt x="76" y="7"/>
                        </a:lnTo>
                        <a:lnTo>
                          <a:pt x="154" y="3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009" name=""/>
          <p:cNvSpPr/>
          <p:nvPr/>
        </p:nvSpPr>
        <p:spPr>
          <a:xfrm flipV="1" rot="5400000">
            <a:off x="3047760" y="4570920"/>
            <a:ext cx="1219320" cy="304560"/>
          </a:xfrm>
          <a:custGeom>
            <a:avLst/>
            <a:gdLst>
              <a:gd name="textAreaLeft" fmla="*/ 267840 w 1219320"/>
              <a:gd name="textAreaRight" fmla="*/ 951480 w 1219320"/>
              <a:gd name="textAreaTop" fmla="*/ 66960 h 304560"/>
              <a:gd name="textAreaBottom" fmla="*/ 237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 flipH="1" flipV="1" rot="16200000">
            <a:off x="5028480" y="4570920"/>
            <a:ext cx="1219320" cy="304920"/>
          </a:xfrm>
          <a:custGeom>
            <a:avLst/>
            <a:gdLst>
              <a:gd name="textAreaLeft" fmla="*/ 267840 w 1219320"/>
              <a:gd name="textAreaRight" fmla="*/ 951480 w 12193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3886200" y="4419720"/>
            <a:ext cx="1523880" cy="228600"/>
          </a:xfrm>
          <a:prstGeom prst="ellipse">
            <a:avLst/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3886200" y="4495680"/>
            <a:ext cx="1523880" cy="228600"/>
          </a:xfrm>
          <a:prstGeom prst="ellipse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3886200" y="4572000"/>
            <a:ext cx="1523880" cy="22860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3886200" y="4648320"/>
            <a:ext cx="1523880" cy="22860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 flipV="1">
            <a:off x="3200400" y="533412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286000" y="609516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acket over S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2819160" y="48067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C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8DA7-D848-4BA8-8BC4-22D0FAA0CBC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Emerging Trends: IP over DWD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Motivation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emendous growth in data traffic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C-48c, OC-192c router interfac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igh-speed and terabit route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limination of SONET/SDH equipmen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cess to protection bandwidth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esh vs rings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3B6F-22CB-4119-A638-DD0AAE78FD1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Emerging Trends: IP over DWD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Issu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0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toration and protecti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formance monitor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ault isolati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twork engineering and bandwidth distributi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avelength managemen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twork scalability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dopting new transmission technologi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3010-4DB6-4696-B50C-C8C5FC9DDDA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152280" y="2209680"/>
            <a:ext cx="8686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Intelligent Optical Networking</a:t>
            </a:r>
            <a:endParaRPr b="1" lang="en-US" sz="60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AFAF-C428-41E8-9F86-F75232AC99F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Intelligent Optical Networking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Evolution from Fiber Multiplication to Intelligent Optical Networking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WDM Fiber Multiplicati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ve waves over distanc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lligent Optical Network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ghtpath networkin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stem for delivering services over wav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ve waves over distan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ap services onto wa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vision, switch, and manage lightpath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WDM is only the physical layer of the Intelligent Optical Net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114300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838080" y="2133720"/>
            <a:ext cx="7918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F588-BD9E-4522-9F20-B1220424029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Intelligent Optical Networking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Benefit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nsforms the optical layer by combining --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unctionality of SONET/SDH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pacity creation of DWDM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ll-optical networking technology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lligent optical network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 flexible, scalable network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undation to easily introduce new services and technologie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rvices are delivered over networked lightpath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defines the service provider economic model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ust in time” infrastructur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1D79-01F3-407D-84BD-D3DB47369D7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The Intelligent Optical Network</a:t>
            </a: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 </a:t>
            </a:r>
            <a:br>
              <a:rPr sz="20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Driver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030" name=""/>
          <p:cNvSpPr/>
          <p:nvPr/>
        </p:nvSpPr>
        <p:spPr>
          <a:xfrm>
            <a:off x="1755360" y="62474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1" name=""/>
          <p:cNvGrpSpPr/>
          <p:nvPr/>
        </p:nvGrpSpPr>
        <p:grpSpPr>
          <a:xfrm>
            <a:off x="609480" y="1621080"/>
            <a:ext cx="3353040" cy="4246560"/>
            <a:chOff x="609480" y="1621080"/>
            <a:chExt cx="3353040" cy="4246560"/>
          </a:xfrm>
        </p:grpSpPr>
        <p:sp>
          <p:nvSpPr>
            <p:cNvPr id="4032" name=""/>
            <p:cNvSpPr/>
            <p:nvPr/>
          </p:nvSpPr>
          <p:spPr>
            <a:xfrm>
              <a:off x="3236760" y="4974840"/>
              <a:ext cx="416160" cy="47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094200" y="43639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816120" y="2231640"/>
              <a:ext cx="457200" cy="32000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649440" y="1621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17120" y="55285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C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616040" y="2993760"/>
              <a:ext cx="441360" cy="2437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449720" y="2306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466280" y="552852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C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403360" y="3298680"/>
              <a:ext cx="416160" cy="21474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287800" y="26874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253600" y="553032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C-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609480" y="5432040"/>
              <a:ext cx="3353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3091320" y="552852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C-1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5" name=""/>
          <p:cNvSpPr/>
          <p:nvPr/>
        </p:nvSpPr>
        <p:spPr>
          <a:xfrm>
            <a:off x="5717880" y="624744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 Two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6" name=""/>
          <p:cNvGrpSpPr/>
          <p:nvPr/>
        </p:nvGrpSpPr>
        <p:grpSpPr>
          <a:xfrm>
            <a:off x="4952880" y="1638720"/>
            <a:ext cx="3353040" cy="4228920"/>
            <a:chOff x="4952880" y="1638720"/>
            <a:chExt cx="3353040" cy="4228920"/>
          </a:xfrm>
        </p:grpSpPr>
        <p:sp>
          <p:nvSpPr>
            <p:cNvPr id="4047" name=""/>
            <p:cNvSpPr/>
            <p:nvPr/>
          </p:nvSpPr>
          <p:spPr>
            <a:xfrm>
              <a:off x="7543800" y="3682800"/>
              <a:ext cx="457200" cy="17668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cbf3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6705720" y="2997000"/>
              <a:ext cx="441360" cy="24382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cbf3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159520" y="224928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cbdffe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4992840" y="16387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060520" y="55303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C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959440" y="3011400"/>
              <a:ext cx="441360" cy="2438280"/>
            </a:xfrm>
            <a:prstGeom prst="rect">
              <a:avLst/>
            </a:prstGeom>
            <a:gradFill rotWithShape="0">
              <a:gsLst>
                <a:gs pos="0">
                  <a:srgbClr val="cbdffe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793120" y="23180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809680" y="553032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C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597000" y="553032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C-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52880" y="5449680"/>
              <a:ext cx="3353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99520" y="23166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469280" y="29959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6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7393680" y="552888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C-1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0" name=""/>
          <p:cNvSpPr/>
          <p:nvPr/>
        </p:nvSpPr>
        <p:spPr>
          <a:xfrm>
            <a:off x="6553080" y="1752480"/>
            <a:ext cx="1828800" cy="4343400"/>
          </a:xfrm>
          <a:prstGeom prst="rect">
            <a:avLst/>
          </a:prstGeom>
          <a:noFill/>
          <a:ln w="1908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 rot="16200000">
            <a:off x="-640440" y="384732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rester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457560" y="11419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ccess speeds do you plan to o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5173-54C9-44D6-B1B9-6D5DDA147F6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3" name=""/>
          <p:cNvGrpSpPr/>
          <p:nvPr/>
        </p:nvGrpSpPr>
        <p:grpSpPr>
          <a:xfrm>
            <a:off x="1371600" y="1523880"/>
            <a:ext cx="2541240" cy="2288160"/>
            <a:chOff x="1371600" y="1523880"/>
            <a:chExt cx="2541240" cy="2288160"/>
          </a:xfrm>
        </p:grpSpPr>
        <p:sp>
          <p:nvSpPr>
            <p:cNvPr id="4064" name=""/>
            <p:cNvSpPr/>
            <p:nvPr/>
          </p:nvSpPr>
          <p:spPr>
            <a:xfrm>
              <a:off x="1371600" y="1523880"/>
              <a:ext cx="2541240" cy="2276640"/>
            </a:xfrm>
            <a:prstGeom prst="rect">
              <a:avLst/>
            </a:prstGeom>
            <a:solidFill>
              <a:srgbClr val="f4e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5" name=""/>
            <p:cNvGrpSpPr/>
            <p:nvPr/>
          </p:nvGrpSpPr>
          <p:grpSpPr>
            <a:xfrm>
              <a:off x="1546560" y="1611000"/>
              <a:ext cx="2278080" cy="1838880"/>
              <a:chOff x="1546560" y="1611000"/>
              <a:chExt cx="2278080" cy="1838880"/>
            </a:xfrm>
          </p:grpSpPr>
          <p:sp>
            <p:nvSpPr>
              <p:cNvPr id="4066" name=""/>
              <p:cNvSpPr/>
              <p:nvPr/>
            </p:nvSpPr>
            <p:spPr>
              <a:xfrm flipV="1">
                <a:off x="1546560" y="1611000"/>
                <a:ext cx="0" cy="1838520"/>
              </a:xfrm>
              <a:prstGeom prst="line">
                <a:avLst/>
              </a:prstGeom>
              <a:ln w="38160">
                <a:solidFill>
                  <a:srgbClr val="9c4e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1546560" y="3449880"/>
                <a:ext cx="2278080" cy="0"/>
              </a:xfrm>
              <a:prstGeom prst="line">
                <a:avLst/>
              </a:prstGeom>
              <a:ln w="38160">
                <a:solidFill>
                  <a:srgbClr val="9c4e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8" name=""/>
            <p:cNvSpPr/>
            <p:nvPr/>
          </p:nvSpPr>
          <p:spPr>
            <a:xfrm>
              <a:off x="1546560" y="1786320"/>
              <a:ext cx="1928160" cy="1576080"/>
            </a:xfrm>
            <a:custGeom>
              <a:avLst/>
              <a:gdLst/>
              <a:ahLst/>
              <a:rect l="l" t="t" r="r" b="b"/>
              <a:pathLst>
                <a:path w="1056" h="864">
                  <a:moveTo>
                    <a:pt x="0" y="0"/>
                  </a:moveTo>
                  <a:cubicBezTo>
                    <a:pt x="44" y="116"/>
                    <a:pt x="88" y="232"/>
                    <a:pt x="144" y="336"/>
                  </a:cubicBezTo>
                  <a:cubicBezTo>
                    <a:pt x="200" y="440"/>
                    <a:pt x="184" y="536"/>
                    <a:pt x="336" y="624"/>
                  </a:cubicBezTo>
                  <a:cubicBezTo>
                    <a:pt x="488" y="712"/>
                    <a:pt x="936" y="824"/>
                    <a:pt x="1056" y="864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999880" y="34747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058480" y="2354400"/>
              <a:ext cx="95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of 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901160" y="1586520"/>
              <a:ext cx="15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ice traf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2" name=""/>
          <p:cNvGrpSpPr/>
          <p:nvPr/>
        </p:nvGrpSpPr>
        <p:grpSpPr>
          <a:xfrm>
            <a:off x="1371600" y="4191120"/>
            <a:ext cx="2541240" cy="2305800"/>
            <a:chOff x="1371600" y="4191120"/>
            <a:chExt cx="2541240" cy="2305800"/>
          </a:xfrm>
        </p:grpSpPr>
        <p:sp>
          <p:nvSpPr>
            <p:cNvPr id="4073" name=""/>
            <p:cNvSpPr/>
            <p:nvPr/>
          </p:nvSpPr>
          <p:spPr>
            <a:xfrm>
              <a:off x="1371600" y="4191120"/>
              <a:ext cx="2541240" cy="2277360"/>
            </a:xfrm>
            <a:prstGeom prst="rect">
              <a:avLst/>
            </a:prstGeom>
            <a:solidFill>
              <a:srgbClr val="cbd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971440" y="615960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ile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5" name=""/>
            <p:cNvGrpSpPr/>
            <p:nvPr/>
          </p:nvGrpSpPr>
          <p:grpSpPr>
            <a:xfrm>
              <a:off x="1546560" y="4278240"/>
              <a:ext cx="2278440" cy="1839600"/>
              <a:chOff x="1546560" y="4278240"/>
              <a:chExt cx="2278440" cy="1839600"/>
            </a:xfrm>
          </p:grpSpPr>
          <p:sp>
            <p:nvSpPr>
              <p:cNvPr id="4076" name=""/>
              <p:cNvSpPr/>
              <p:nvPr/>
            </p:nvSpPr>
            <p:spPr>
              <a:xfrm flipV="1">
                <a:off x="1546560" y="4278240"/>
                <a:ext cx="0" cy="1839240"/>
              </a:xfrm>
              <a:prstGeom prst="line">
                <a:avLst/>
              </a:prstGeom>
              <a:ln w="38160">
                <a:solidFill>
                  <a:srgbClr val="9c4e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1546560" y="6117840"/>
                <a:ext cx="2278440" cy="0"/>
              </a:xfrm>
              <a:prstGeom prst="line">
                <a:avLst/>
              </a:prstGeom>
              <a:ln w="38160">
                <a:solidFill>
                  <a:srgbClr val="9c4e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8" name=""/>
            <p:cNvSpPr/>
            <p:nvPr/>
          </p:nvSpPr>
          <p:spPr>
            <a:xfrm>
              <a:off x="1546560" y="4541400"/>
              <a:ext cx="2190960" cy="612720"/>
            </a:xfrm>
            <a:custGeom>
              <a:avLst/>
              <a:gdLst/>
              <a:ahLst/>
              <a:rect l="l" t="t" r="r" b="b"/>
              <a:pathLst>
                <a:path w="1200" h="336">
                  <a:moveTo>
                    <a:pt x="0" y="0"/>
                  </a:moveTo>
                  <a:cubicBezTo>
                    <a:pt x="52" y="72"/>
                    <a:pt x="104" y="144"/>
                    <a:pt x="192" y="192"/>
                  </a:cubicBezTo>
                  <a:cubicBezTo>
                    <a:pt x="280" y="240"/>
                    <a:pt x="360" y="264"/>
                    <a:pt x="528" y="288"/>
                  </a:cubicBezTo>
                  <a:cubicBezTo>
                    <a:pt x="696" y="312"/>
                    <a:pt x="948" y="324"/>
                    <a:pt x="1200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653120" y="5162760"/>
              <a:ext cx="95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of fl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901880" y="4272480"/>
              <a:ext cx="126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P Traf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1" name=""/>
          <p:cNvSpPr/>
          <p:nvPr/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The Intelligent Optical Network</a:t>
            </a:r>
            <a:r>
              <a:rPr b="1" i="1" lang="en-US" sz="2000" spc="-1" strike="noStrike">
                <a:solidFill>
                  <a:srgbClr val="00cc99"/>
                </a:solidFill>
                <a:latin typeface="Albertus Medium"/>
              </a:rPr>
              <a:t> </a:t>
            </a:r>
            <a:br>
              <a:rPr sz="20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Drivers: A Changing Traffic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1"/>
          <p:cNvSpPr>
            <a:spLocks noGrp="1"/>
          </p:cNvSpPr>
          <p:nvPr>
            <p:ph/>
          </p:nvPr>
        </p:nvSpPr>
        <p:spPr>
          <a:xfrm>
            <a:off x="4647960" y="1447920"/>
            <a:ext cx="373356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oic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w steady growth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dictable growth patter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w bandwidth consumpt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st calls terminate within the local area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-29844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apid, unpredictable growth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ge bandwidth consumpt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istance insensitive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AE9F-FC51-48BA-AAC4-60AC5C3C5D7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915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Evolution of the Public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Transmission Architectur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652760"/>
            <a:ext cx="8153280" cy="44193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a865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57200" y="5843520"/>
            <a:ext cx="1752480" cy="228600"/>
          </a:xfrm>
          <a:prstGeom prst="rtTriangl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828800" y="4548240"/>
            <a:ext cx="2286000" cy="1523880"/>
          </a:xfrm>
          <a:prstGeom prst="rtTriangl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414520"/>
            <a:ext cx="3200400" cy="2210040"/>
          </a:xfrm>
          <a:prstGeom prst="parallelogram">
            <a:avLst>
              <a:gd name="adj" fmla="val 3620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2490840"/>
            <a:ext cx="914400" cy="304920"/>
          </a:xfrm>
          <a:prstGeom prst="parallelogram">
            <a:avLst>
              <a:gd name="adj" fmla="val 7497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957320"/>
            <a:ext cx="335268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562720" y="1728720"/>
            <a:ext cx="3047760" cy="152640"/>
          </a:xfrm>
          <a:prstGeom prst="rtTriangl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881360"/>
            <a:ext cx="335268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805040"/>
            <a:ext cx="335304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4624560"/>
            <a:ext cx="3048120" cy="1371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2490840"/>
            <a:ext cx="3047760" cy="2057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1805040"/>
            <a:ext cx="220968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1728720"/>
            <a:ext cx="3200400" cy="12193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1728720"/>
            <a:ext cx="1905120" cy="152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165276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6960" y="2474280"/>
            <a:ext cx="2805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per, electr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9520" y="3176640"/>
            <a:ext cx="4800600" cy="2895480"/>
            <a:chOff x="3809520" y="3176640"/>
            <a:chExt cx="4800600" cy="2895480"/>
          </a:xfrm>
        </p:grpSpPr>
        <p:sp>
          <p:nvSpPr>
            <p:cNvPr id="172" name=""/>
            <p:cNvSpPr/>
            <p:nvPr/>
          </p:nvSpPr>
          <p:spPr>
            <a:xfrm flipH="1">
              <a:off x="3809160" y="3176640"/>
              <a:ext cx="4800600" cy="2895480"/>
            </a:xfrm>
            <a:prstGeom prst="rtTriangl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160" y="4243320"/>
              <a:ext cx="60948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09680" y="3328920"/>
            <a:ext cx="0" cy="27432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165276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386320"/>
            <a:ext cx="35049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nalogue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" y="618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30600" y="618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80000" y="618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1080" y="618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560" y="618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1652760"/>
            <a:ext cx="0" cy="4419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24680" y="1652760"/>
            <a:ext cx="0" cy="4419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122640"/>
            <a:ext cx="350532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DM/DWDM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252960"/>
            <a:ext cx="0" cy="28191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4624560"/>
            <a:ext cx="4038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DH/Asynchronous (TDM-ba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3786120"/>
            <a:ext cx="464832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net/SDH (TDM-based)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403848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4853160"/>
            <a:ext cx="160020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2200" y="5004720"/>
            <a:ext cx="2375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er, Phot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324480" y="4572000"/>
            <a:ext cx="432000" cy="450720"/>
            <a:chOff x="6324480" y="4572000"/>
            <a:chExt cx="432000" cy="450720"/>
          </a:xfrm>
        </p:grpSpPr>
        <p:sp>
          <p:nvSpPr>
            <p:cNvPr id="192" name=""/>
            <p:cNvSpPr/>
            <p:nvPr/>
          </p:nvSpPr>
          <p:spPr>
            <a:xfrm>
              <a:off x="6324480" y="4572000"/>
              <a:ext cx="432000" cy="450720"/>
            </a:xfrm>
            <a:prstGeom prst="ellipse">
              <a:avLst/>
            </a:prstGeom>
            <a:noFill/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370560" y="4617720"/>
              <a:ext cx="225360" cy="24408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504120" y="4732200"/>
              <a:ext cx="225360" cy="24408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162920" y="4038480"/>
            <a:ext cx="99036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335268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3352680"/>
            <a:ext cx="10666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444960" y="226152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Source: Ov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1523880"/>
            <a:ext cx="8458200" cy="1676520"/>
            <a:chOff x="0" y="1523880"/>
            <a:chExt cx="8458200" cy="1676520"/>
          </a:xfrm>
        </p:grpSpPr>
        <p:sp>
          <p:nvSpPr>
            <p:cNvPr id="200" name=""/>
            <p:cNvSpPr/>
            <p:nvPr/>
          </p:nvSpPr>
          <p:spPr>
            <a:xfrm>
              <a:off x="5791320" y="1905120"/>
              <a:ext cx="2666880" cy="99036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8080"/>
              </a:solidFill>
              <a:miter/>
            </a:ln>
            <a:effectLst>
              <a:outerShdw dist="81185" dir="307803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Times New Roman"/>
                </a:rPr>
                <a:t>Intelli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Times New Roman"/>
                </a:rPr>
                <a:t>Op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Times New Roman"/>
                </a:rPr>
                <a:t>Net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1523880"/>
              <a:ext cx="457200" cy="167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D79F-D86A-465C-9589-FC54AF2A75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The Intelligent Optical Network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Emergence of the Carrier’s Carrier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1486080" y="2887560"/>
            <a:ext cx="3708360" cy="1608120"/>
            <a:chOff x="1486080" y="2887560"/>
            <a:chExt cx="3708360" cy="1608120"/>
          </a:xfrm>
        </p:grpSpPr>
        <p:sp>
          <p:nvSpPr>
            <p:cNvPr id="4085" name=""/>
            <p:cNvSpPr/>
            <p:nvPr/>
          </p:nvSpPr>
          <p:spPr>
            <a:xfrm>
              <a:off x="1936800" y="3188880"/>
              <a:ext cx="2706120" cy="1005120"/>
            </a:xfrm>
            <a:prstGeom prst="ellipse">
              <a:avLst/>
            </a:prstGeom>
            <a:noFill/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786680" y="3088440"/>
              <a:ext cx="3057120" cy="1206000"/>
            </a:xfrm>
            <a:prstGeom prst="ellipse">
              <a:avLst/>
            </a:prstGeom>
            <a:noFill/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636200" y="2988000"/>
              <a:ext cx="3407760" cy="1407240"/>
            </a:xfrm>
            <a:prstGeom prst="ellipse">
              <a:avLst/>
            </a:prstGeom>
            <a:noFill/>
            <a:ln w="572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486080" y="2887560"/>
              <a:ext cx="3708360" cy="160812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9" name=""/>
          <p:cNvSpPr/>
          <p:nvPr/>
        </p:nvSpPr>
        <p:spPr>
          <a:xfrm>
            <a:off x="1270080" y="4804200"/>
            <a:ext cx="75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Dall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3200760" y="5185080"/>
            <a:ext cx="7689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New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Jers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554040" y="2442240"/>
            <a:ext cx="59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L.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4336920" y="1742040"/>
            <a:ext cx="81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Bost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800280" y="5278320"/>
            <a:ext cx="1939680" cy="1001880"/>
          </a:xfrm>
          <a:prstGeom prst="ellipse">
            <a:avLst/>
          </a:prstGeom>
          <a:solidFill>
            <a:srgbClr val="3399ff"/>
          </a:solidFill>
          <a:ln w="0">
            <a:noFill/>
          </a:ln>
          <a:effectLst>
            <a:outerShdw dist="85328" dir="3806096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863640" y="5413680"/>
            <a:ext cx="181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vate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ustom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2970360" y="1295280"/>
            <a:ext cx="1376280" cy="563760"/>
          </a:xfrm>
          <a:prstGeom prst="ellipse">
            <a:avLst/>
          </a:prstGeom>
          <a:solidFill>
            <a:srgbClr val="cc3399"/>
          </a:solidFill>
          <a:ln w="0">
            <a:noFill/>
          </a:ln>
          <a:effectLst>
            <a:outerShdw dist="85328" dir="3806096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3302640" y="1298880"/>
            <a:ext cx="73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SP 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7" name="headquarters" descr=""/>
          <p:cNvPicPr/>
          <p:nvPr/>
        </p:nvPicPr>
        <p:blipFill>
          <a:blip r:embed="rId2"/>
          <a:stretch/>
        </p:blipFill>
        <p:spPr>
          <a:xfrm>
            <a:off x="1397160" y="1909800"/>
            <a:ext cx="658800" cy="1251000"/>
          </a:xfrm>
          <a:prstGeom prst="rect">
            <a:avLst/>
          </a:prstGeom>
          <a:ln w="0">
            <a:noFill/>
          </a:ln>
        </p:spPr>
      </p:pic>
      <p:pic>
        <p:nvPicPr>
          <p:cNvPr id="4098" name="headquarters" descr=""/>
          <p:cNvPicPr/>
          <p:nvPr/>
        </p:nvPicPr>
        <p:blipFill>
          <a:blip r:embed="rId3"/>
          <a:stretch/>
        </p:blipFill>
        <p:spPr>
          <a:xfrm>
            <a:off x="3225960" y="3967200"/>
            <a:ext cx="658800" cy="1249200"/>
          </a:xfrm>
          <a:prstGeom prst="rect">
            <a:avLst/>
          </a:prstGeom>
          <a:ln w="0">
            <a:noFill/>
          </a:ln>
        </p:spPr>
      </p:pic>
      <p:pic>
        <p:nvPicPr>
          <p:cNvPr id="4099" name="headquarters" descr=""/>
          <p:cNvPicPr/>
          <p:nvPr/>
        </p:nvPicPr>
        <p:blipFill>
          <a:blip r:embed="rId4"/>
          <a:stretch/>
        </p:blipFill>
        <p:spPr>
          <a:xfrm>
            <a:off x="4444920" y="2138400"/>
            <a:ext cx="658800" cy="1251000"/>
          </a:xfrm>
          <a:prstGeom prst="rect">
            <a:avLst/>
          </a:prstGeom>
          <a:ln w="0">
            <a:noFill/>
          </a:ln>
        </p:spPr>
      </p:pic>
      <p:sp>
        <p:nvSpPr>
          <p:cNvPr id="4100" name=""/>
          <p:cNvSpPr/>
          <p:nvPr/>
        </p:nvSpPr>
        <p:spPr>
          <a:xfrm rot="2368800">
            <a:off x="2454120" y="4200120"/>
            <a:ext cx="354240" cy="13543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71280" y="3964320"/>
            <a:ext cx="1766520" cy="840600"/>
            <a:chOff x="71280" y="3964320"/>
            <a:chExt cx="1766520" cy="840600"/>
          </a:xfrm>
        </p:grpSpPr>
        <p:sp>
          <p:nvSpPr>
            <p:cNvPr id="4102" name=""/>
            <p:cNvSpPr/>
            <p:nvPr/>
          </p:nvSpPr>
          <p:spPr>
            <a:xfrm flipH="1" rot="3035400">
              <a:off x="1389600" y="3947760"/>
              <a:ext cx="252360" cy="6242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1280" y="4241520"/>
              <a:ext cx="1376280" cy="563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  <a:effectLst>
              <a:outerShdw dist="85328" dir="3806096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415080" y="4246560"/>
              <a:ext cx="688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SP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5" name=""/>
          <p:cNvGrpSpPr/>
          <p:nvPr/>
        </p:nvGrpSpPr>
        <p:grpSpPr>
          <a:xfrm>
            <a:off x="5257800" y="3662280"/>
            <a:ext cx="1774800" cy="914400"/>
            <a:chOff x="5257800" y="3662280"/>
            <a:chExt cx="1774800" cy="914400"/>
          </a:xfrm>
        </p:grpSpPr>
        <p:sp>
          <p:nvSpPr>
            <p:cNvPr id="4106" name=""/>
            <p:cNvSpPr/>
            <p:nvPr/>
          </p:nvSpPr>
          <p:spPr>
            <a:xfrm>
              <a:off x="5257800" y="3662280"/>
              <a:ext cx="1774800" cy="91440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  <a:effectLst>
              <a:outerShdw dist="85328" dir="3806096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315760" y="3753000"/>
              <a:ext cx="165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rivate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ustomer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8" name=""/>
          <p:cNvGrpSpPr/>
          <p:nvPr/>
        </p:nvGrpSpPr>
        <p:grpSpPr>
          <a:xfrm>
            <a:off x="0" y="3052800"/>
            <a:ext cx="1789560" cy="912600"/>
            <a:chOff x="0" y="3052800"/>
            <a:chExt cx="1789560" cy="912600"/>
          </a:xfrm>
        </p:grpSpPr>
        <p:sp>
          <p:nvSpPr>
            <p:cNvPr id="4109" name=""/>
            <p:cNvSpPr/>
            <p:nvPr/>
          </p:nvSpPr>
          <p:spPr>
            <a:xfrm>
              <a:off x="0" y="3052800"/>
              <a:ext cx="1376280" cy="563400"/>
            </a:xfrm>
            <a:prstGeom prst="ellipse">
              <a:avLst/>
            </a:prstGeom>
            <a:solidFill>
              <a:srgbClr val="cc3399"/>
            </a:solidFill>
            <a:ln w="0">
              <a:noFill/>
            </a:ln>
            <a:effectLst>
              <a:outerShdw dist="85328" dir="3806096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18240" y="3056400"/>
              <a:ext cx="73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SP B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n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H="1" rot="7500600">
              <a:off x="1233720" y="3238920"/>
              <a:ext cx="309240" cy="762120"/>
            </a:xfrm>
            <a:prstGeom prst="triangle">
              <a:avLst>
                <a:gd name="adj" fmla="val 50000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2" name=""/>
          <p:cNvSpPr/>
          <p:nvPr/>
        </p:nvSpPr>
        <p:spPr>
          <a:xfrm flipH="1" rot="10902600">
            <a:off x="3533040" y="1830240"/>
            <a:ext cx="223920" cy="114624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3530520" y="1757520"/>
            <a:ext cx="152640" cy="1218960"/>
          </a:xfrm>
          <a:custGeom>
            <a:avLst/>
            <a:gdLst>
              <a:gd name="textAreaLeft" fmla="*/ 33480 w 152640"/>
              <a:gd name="textAreaRight" fmla="*/ 119160 w 152640"/>
              <a:gd name="textAreaTop" fmla="*/ 267840 h 1218960"/>
              <a:gd name="textAreaBottom" fmla="*/ 951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2031840" y="1827360"/>
            <a:ext cx="1376640" cy="563400"/>
          </a:xfrm>
          <a:prstGeom prst="ellipse">
            <a:avLst/>
          </a:prstGeom>
          <a:solidFill>
            <a:srgbClr val="00cc99"/>
          </a:solidFill>
          <a:ln w="0">
            <a:noFill/>
          </a:ln>
          <a:effectLst>
            <a:outerShdw dist="85328" dir="3806096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2616120" y="2367000"/>
            <a:ext cx="152640" cy="609480"/>
          </a:xfrm>
          <a:custGeom>
            <a:avLst/>
            <a:gdLst>
              <a:gd name="textAreaLeft" fmla="*/ 33480 w 152640"/>
              <a:gd name="textAreaRight" fmla="*/ 119160 w 15264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2388600" y="18324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SP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 rot="16722000">
            <a:off x="4952880" y="3661920"/>
            <a:ext cx="152280" cy="76176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8" name=""/>
          <p:cNvGrpSpPr/>
          <p:nvPr/>
        </p:nvGrpSpPr>
        <p:grpSpPr>
          <a:xfrm>
            <a:off x="6015240" y="5028120"/>
            <a:ext cx="2766960" cy="1369440"/>
            <a:chOff x="6015240" y="5028120"/>
            <a:chExt cx="2766960" cy="1369440"/>
          </a:xfrm>
        </p:grpSpPr>
        <p:sp>
          <p:nvSpPr>
            <p:cNvPr id="4119" name=""/>
            <p:cNvSpPr/>
            <p:nvPr/>
          </p:nvSpPr>
          <p:spPr>
            <a:xfrm>
              <a:off x="6015240" y="5028120"/>
              <a:ext cx="27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Internal OC-48 Service - Wave #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300720" y="5362560"/>
              <a:ext cx="2196720" cy="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106320" y="5352120"/>
              <a:ext cx="257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OC-48 Wave Service - Wave #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300720" y="5686560"/>
              <a:ext cx="219672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106320" y="5675760"/>
              <a:ext cx="257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OC-48 Wave Service - Wave #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300720" y="6010200"/>
              <a:ext cx="2196720" cy="0"/>
            </a:xfrm>
            <a:prstGeom prst="line">
              <a:avLst/>
            </a:prstGeom>
            <a:ln w="572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6320" y="6064920"/>
              <a:ext cx="257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OC-48 Wave Service - Wave #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300720" y="6397560"/>
              <a:ext cx="219672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7" name="headquarters" descr=""/>
          <p:cNvPicPr/>
          <p:nvPr/>
        </p:nvPicPr>
        <p:blipFill>
          <a:blip r:embed="rId5"/>
          <a:stretch/>
        </p:blipFill>
        <p:spPr>
          <a:xfrm>
            <a:off x="1778040" y="3586320"/>
            <a:ext cx="658800" cy="1249200"/>
          </a:xfrm>
          <a:prstGeom prst="rect">
            <a:avLst/>
          </a:prstGeom>
          <a:ln w="0">
            <a:noFill/>
          </a:ln>
        </p:spPr>
      </p:pic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409720" y="1295280"/>
            <a:ext cx="356724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ackbone existing data network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SP connectivity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lternative platform for “bandwidth barons”/”carrier’s carrier”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99CD-8388-4839-AF9C-8762B9FA4C2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Evolution of the Public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Multiplexing Technology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4114800"/>
            <a:ext cx="807732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ime Division Multiplexing (TDM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nderlying multiplex structure of PDH and SONET/SDH  transmission architectures based on electronic TDM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mbines traffic from multiple lower-speed inputs streams onto a single common high-capacity output stream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533520"/>
            <a:ext cx="8199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400" y="1905120"/>
            <a:ext cx="7086600" cy="1530360"/>
            <a:chOff x="914400" y="1905120"/>
            <a:chExt cx="7086600" cy="1530360"/>
          </a:xfrm>
        </p:grpSpPr>
        <p:sp>
          <p:nvSpPr>
            <p:cNvPr id="206" name=""/>
            <p:cNvSpPr/>
            <p:nvPr/>
          </p:nvSpPr>
          <p:spPr>
            <a:xfrm>
              <a:off x="4038840" y="2286360"/>
              <a:ext cx="3962160" cy="685800"/>
            </a:xfrm>
            <a:prstGeom prst="rightArrow">
              <a:avLst>
                <a:gd name="adj1" fmla="val 50000"/>
                <a:gd name="adj2" fmla="val 14443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4400" y="3086280"/>
              <a:ext cx="190512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14400" y="2629080"/>
              <a:ext cx="190512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4400" y="2171880"/>
              <a:ext cx="190512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7040" y="2057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7920" y="2057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28800" y="2057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10040" y="20577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67040" y="2514960"/>
              <a:ext cx="2286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47920" y="2514960"/>
              <a:ext cx="2286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28800" y="2514960"/>
              <a:ext cx="2286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10040" y="2514960"/>
              <a:ext cx="2286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7040" y="297216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7920" y="297216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28800" y="297216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10040" y="297216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95840" y="1905120"/>
              <a:ext cx="1030320" cy="1530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14800" y="25149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9720" y="2514960"/>
              <a:ext cx="2286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640" y="251496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9200" y="25149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4120" y="2514960"/>
              <a:ext cx="2286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39040" y="251496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3600" y="25149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8520" y="2514960"/>
              <a:ext cx="2286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440" y="251496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00400" y="2590920"/>
              <a:ext cx="2286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76720" y="251496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53040" y="266724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4E79-B586-4652-9E29-7D7AE4F174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7816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Evolution of the Public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Multiplexing Evolution in the Public Network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ynchronous TDM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ynchronous TDM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ave Division Multiplexing (WDM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nse Wave Division Multiplexing (DWDM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ptical Time Division Multiplexing (OTDM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2585-9DB8-48E2-BA55-B25EC4D374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839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Evolution of the Public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PDH/Asynchronous Digital Hierarchy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38" name=""/>
          <p:cNvSpPr/>
          <p:nvPr/>
        </p:nvSpPr>
        <p:spPr>
          <a:xfrm>
            <a:off x="4616280" y="361332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18240" y="33242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75120" y="3324240"/>
            <a:ext cx="0" cy="81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18240" y="33242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Designed for 64 kbps voice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752480" y="3627360"/>
            <a:ext cx="1733760" cy="2468520"/>
            <a:chOff x="1752480" y="3627360"/>
            <a:chExt cx="1733760" cy="2468520"/>
          </a:xfrm>
        </p:grpSpPr>
        <p:sp>
          <p:nvSpPr>
            <p:cNvPr id="244" name=""/>
            <p:cNvSpPr/>
            <p:nvPr/>
          </p:nvSpPr>
          <p:spPr>
            <a:xfrm>
              <a:off x="1752480" y="3627360"/>
              <a:ext cx="1729080" cy="246852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52480" y="3973320"/>
              <a:ext cx="17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52480" y="4317840"/>
              <a:ext cx="17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52480" y="4663800"/>
              <a:ext cx="17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52480" y="5010120"/>
              <a:ext cx="17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5354280"/>
              <a:ext cx="17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84480" y="3627360"/>
              <a:ext cx="1440" cy="246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17920" y="3627360"/>
              <a:ext cx="0" cy="246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9560" y="3627360"/>
              <a:ext cx="0" cy="246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4280" y="5725800"/>
              <a:ext cx="173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523880" y="6186600"/>
            <a:ext cx="2035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S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28 DS-1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51040" y="4363200"/>
            <a:ext cx="1720440" cy="246240"/>
            <a:chOff x="1751040" y="4363200"/>
            <a:chExt cx="1720440" cy="246240"/>
          </a:xfrm>
        </p:grpSpPr>
        <p:sp>
          <p:nvSpPr>
            <p:cNvPr id="256" name=""/>
            <p:cNvSpPr/>
            <p:nvPr/>
          </p:nvSpPr>
          <p:spPr>
            <a:xfrm>
              <a:off x="1751040" y="43632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1800" y="43632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8480" y="43632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22560" y="43632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754280" y="4677480"/>
            <a:ext cx="1720440" cy="246240"/>
            <a:chOff x="1754280" y="4677480"/>
            <a:chExt cx="1720440" cy="246240"/>
          </a:xfrm>
        </p:grpSpPr>
        <p:sp>
          <p:nvSpPr>
            <p:cNvPr id="261" name=""/>
            <p:cNvSpPr/>
            <p:nvPr/>
          </p:nvSpPr>
          <p:spPr>
            <a:xfrm>
              <a:off x="1754280" y="46774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5400" y="46774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2080" y="46774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25800" y="46774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757520" y="5042880"/>
            <a:ext cx="1720440" cy="246240"/>
            <a:chOff x="1757520" y="5042880"/>
            <a:chExt cx="1720440" cy="246240"/>
          </a:xfrm>
        </p:grpSpPr>
        <p:sp>
          <p:nvSpPr>
            <p:cNvPr id="266" name=""/>
            <p:cNvSpPr/>
            <p:nvPr/>
          </p:nvSpPr>
          <p:spPr>
            <a:xfrm>
              <a:off x="1757520" y="50428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8640" y="50428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05320" y="50428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29040" y="50428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760760" y="5407920"/>
            <a:ext cx="1720440" cy="246240"/>
            <a:chOff x="1760760" y="5407920"/>
            <a:chExt cx="1720440" cy="246240"/>
          </a:xfrm>
        </p:grpSpPr>
        <p:sp>
          <p:nvSpPr>
            <p:cNvPr id="271" name=""/>
            <p:cNvSpPr/>
            <p:nvPr/>
          </p:nvSpPr>
          <p:spPr>
            <a:xfrm>
              <a:off x="1760760" y="54079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71880" y="54079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08560" y="54079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32280" y="54079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764000" y="5734800"/>
            <a:ext cx="1587240" cy="246240"/>
            <a:chOff x="1764000" y="5734800"/>
            <a:chExt cx="1587240" cy="246240"/>
          </a:xfrm>
        </p:grpSpPr>
        <p:sp>
          <p:nvSpPr>
            <p:cNvPr id="276" name=""/>
            <p:cNvSpPr/>
            <p:nvPr/>
          </p:nvSpPr>
          <p:spPr>
            <a:xfrm>
              <a:off x="1764000" y="57348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75120" y="57348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11800" y="57348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67280" y="573552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754280" y="4033080"/>
            <a:ext cx="1720440" cy="246240"/>
            <a:chOff x="1754280" y="4033080"/>
            <a:chExt cx="1720440" cy="246240"/>
          </a:xfrm>
        </p:grpSpPr>
        <p:sp>
          <p:nvSpPr>
            <p:cNvPr id="281" name=""/>
            <p:cNvSpPr/>
            <p:nvPr/>
          </p:nvSpPr>
          <p:spPr>
            <a:xfrm>
              <a:off x="1754280" y="40330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65400" y="40330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2080" y="40330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25800" y="40330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757520" y="3702960"/>
            <a:ext cx="1720440" cy="246240"/>
            <a:chOff x="1757520" y="3702960"/>
            <a:chExt cx="1720440" cy="246240"/>
          </a:xfrm>
        </p:grpSpPr>
        <p:sp>
          <p:nvSpPr>
            <p:cNvPr id="286" name=""/>
            <p:cNvSpPr/>
            <p:nvPr/>
          </p:nvSpPr>
          <p:spPr>
            <a:xfrm>
              <a:off x="1757520" y="37029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8640" y="37029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05320" y="37029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29040" y="370296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1925" descr=""/>
          <p:cNvPicPr/>
          <p:nvPr/>
        </p:nvPicPr>
        <p:blipFill>
          <a:blip r:embed="rId2"/>
          <a:stretch/>
        </p:blipFill>
        <p:spPr>
          <a:xfrm>
            <a:off x="7086600" y="1646280"/>
            <a:ext cx="1139760" cy="152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291" name=""/>
          <p:cNvSpPr/>
          <p:nvPr/>
        </p:nvSpPr>
        <p:spPr>
          <a:xfrm>
            <a:off x="6705720" y="3321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S-0 = 64 k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2901960"/>
            <a:ext cx="1628640" cy="19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2901960"/>
            <a:ext cx="1620720" cy="1944720"/>
          </a:xfrm>
          <a:prstGeom prst="rect">
            <a:avLst/>
          </a:prstGeom>
          <a:solidFill>
            <a:srgbClr val="ffcc66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3227400"/>
            <a:ext cx="1620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3400" y="3549600"/>
            <a:ext cx="1620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3875040"/>
            <a:ext cx="1620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4199040"/>
            <a:ext cx="1620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3400" y="4521240"/>
            <a:ext cx="1620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49840" y="2901960"/>
            <a:ext cx="0" cy="194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54480" y="2901960"/>
            <a:ext cx="0" cy="194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57680" y="2901960"/>
            <a:ext cx="0" cy="194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348080" y="3289680"/>
            <a:ext cx="1625040" cy="246240"/>
            <a:chOff x="4348080" y="3289680"/>
            <a:chExt cx="1625040" cy="246240"/>
          </a:xfrm>
        </p:grpSpPr>
        <p:sp>
          <p:nvSpPr>
            <p:cNvPr id="303" name=""/>
            <p:cNvSpPr/>
            <p:nvPr/>
          </p:nvSpPr>
          <p:spPr>
            <a:xfrm>
              <a:off x="4348080" y="32896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2840" y="32896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36480" y="32896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24200" y="32896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348080" y="3594600"/>
            <a:ext cx="1625040" cy="246240"/>
            <a:chOff x="4348080" y="3594600"/>
            <a:chExt cx="1625040" cy="246240"/>
          </a:xfrm>
        </p:grpSpPr>
        <p:sp>
          <p:nvSpPr>
            <p:cNvPr id="308" name=""/>
            <p:cNvSpPr/>
            <p:nvPr/>
          </p:nvSpPr>
          <p:spPr>
            <a:xfrm>
              <a:off x="4348080" y="35946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2840" y="35946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36480" y="35946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24200" y="35946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348080" y="3897720"/>
            <a:ext cx="1625040" cy="246240"/>
            <a:chOff x="4348080" y="3897720"/>
            <a:chExt cx="1625040" cy="246240"/>
          </a:xfrm>
        </p:grpSpPr>
        <p:sp>
          <p:nvSpPr>
            <p:cNvPr id="313" name=""/>
            <p:cNvSpPr/>
            <p:nvPr/>
          </p:nvSpPr>
          <p:spPr>
            <a:xfrm>
              <a:off x="4348080" y="38977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22840" y="38977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36480" y="38977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24200" y="38977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348080" y="4228200"/>
            <a:ext cx="1625040" cy="246240"/>
            <a:chOff x="4348080" y="4228200"/>
            <a:chExt cx="1625040" cy="246240"/>
          </a:xfrm>
        </p:grpSpPr>
        <p:sp>
          <p:nvSpPr>
            <p:cNvPr id="318" name=""/>
            <p:cNvSpPr/>
            <p:nvPr/>
          </p:nvSpPr>
          <p:spPr>
            <a:xfrm>
              <a:off x="4348080" y="42282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22840" y="42282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36480" y="42282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24200" y="42282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348080" y="4545720"/>
            <a:ext cx="1625040" cy="246240"/>
            <a:chOff x="4348080" y="4545720"/>
            <a:chExt cx="1625040" cy="246240"/>
          </a:xfrm>
        </p:grpSpPr>
        <p:sp>
          <p:nvSpPr>
            <p:cNvPr id="323" name=""/>
            <p:cNvSpPr/>
            <p:nvPr/>
          </p:nvSpPr>
          <p:spPr>
            <a:xfrm>
              <a:off x="4348080" y="45457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2840" y="45457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6480" y="45457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24200" y="454572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356720" y="2977200"/>
            <a:ext cx="1613160" cy="246240"/>
            <a:chOff x="4356720" y="2977200"/>
            <a:chExt cx="1613160" cy="246240"/>
          </a:xfrm>
        </p:grpSpPr>
        <p:sp>
          <p:nvSpPr>
            <p:cNvPr id="328" name=""/>
            <p:cNvSpPr/>
            <p:nvPr/>
          </p:nvSpPr>
          <p:spPr>
            <a:xfrm>
              <a:off x="4356720" y="2984760"/>
              <a:ext cx="42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31480" y="2984760"/>
              <a:ext cx="42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45120" y="2984760"/>
              <a:ext cx="42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0960" y="29772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DS-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086600" y="1646280"/>
            <a:ext cx="1143000" cy="1523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400800" y="3703320"/>
            <a:ext cx="1218960" cy="609480"/>
            <a:chOff x="6400800" y="3703320"/>
            <a:chExt cx="1218960" cy="609480"/>
          </a:xfrm>
        </p:grpSpPr>
        <p:sp>
          <p:nvSpPr>
            <p:cNvPr id="334" name=""/>
            <p:cNvSpPr/>
            <p:nvPr/>
          </p:nvSpPr>
          <p:spPr>
            <a:xfrm flipV="1">
              <a:off x="7619760" y="3703320"/>
              <a:ext cx="0" cy="609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400800" y="4312800"/>
              <a:ext cx="12189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962520" y="4905720"/>
            <a:ext cx="12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S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52570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4 DS-0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5E3B-C114-4847-9D93-B4E14210DB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2:53Z</dcterms:created>
  <dc:creator>Anita J. Brearton</dc:creator>
  <dc:description>Presented to Ameritech, SBC, and Worldcom.</dc:description>
  <dc:language>en-US</dc:language>
  <cp:lastModifiedBy>Scott Larson</cp:lastModifiedBy>
  <cp:lastPrinted>1999-08-23T17:51:17Z</cp:lastPrinted>
  <dcterms:modified xsi:type="dcterms:W3CDTF">2000-02-15T20:48:25Z</dcterms:modified>
  <cp:revision>1563</cp:revision>
  <dc:subject/>
  <dc:title>Telecom Business Anaheim Conference March 31, 1999 Rick Barry Founder, Director Architecture Sycamore Networks</dc:title>
</cp:coreProperties>
</file>