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706-7889-4A8E-AD95-58A2F035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61B-016A-4F58-843C-16563D2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97D-E0E0-4875-A67D-582FC3F6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015-8A89-401F-8FE7-17B4E8D9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7D6-87FD-4D29-8A48-848091FA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DFA-1177-4A47-8E87-6A9923B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5D7-E4AC-405C-9B06-940E1060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E2F-83A6-4581-B258-2AE2F13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B8E-DE72-46A0-AA93-FC38BF4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E93-C1F1-49B2-AED4-3CD1155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038-DC1D-4128-8171-0CB86C3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678-ECDF-4056-BFFE-55812A7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7DDE-089A-46E8-85B5-537732044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Network Management and ISP Fundamen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uel A.L. Par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hil Communications Network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-Indepen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orkshop is not particular to any vendor, product or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e presentor is biased towards those he has actual experience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run an ISP at 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-up with Content Production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-up with real-life “Brick and Mortar”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will depend on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want to ru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nd operate everyth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ource? (From whom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and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Leve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and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ivi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Network - your “backbone” if you have multiple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to th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n Up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Asia-Pacific ISP's have an up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ew have “Tier 1” provider status in the US (defaultl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 foreign upstream prov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a “high bandwidth” country like US, Japan, Singap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ircuit costs into consideration, US link is just as effective/cheap in many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upstream providers (except colo facilities) are usually tel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connectio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xpensive per Megabit, lower latency, required for VoIP and sensitive VPN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aper per Megabit, higher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 local upstream prov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integration with communications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upgrades of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elco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weak in applications and value-add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 local upstream provide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ied down to one te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harder to get local and internation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the material is copyrighted by the author, permission is granted to present it again or make derived works as long as credit is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c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olocate equipment at providers which 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bandwidth, 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interconnection with bandwidth providers and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fine control over bandwidth management and routing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Coloc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troubleshooting telco problems more difficult, than an “all-in”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dwidth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are now asking for Committed (International) Bandwid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tream QoS - queu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QoS - traffic sha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provisioning - can you affor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Op: Competition with Provid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less, be sure that you are not competing (directly) with your provid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want to multih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points of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ifferent telcos going to different ISP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t is tricky to use multihoming to add up the effective bandwidt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in running BG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BGP know-how (APRICOT: ISP Clinic, and meet the Routing Gur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rect BGP setup can lead to disaster!  Blackholes, route fla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S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in getting own address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viders might not allow you to announce their space separately (“punching a hole” in the routing 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viders will let you use their space if you terminate thei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you need to be a certain size (check with APN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 Peering with cust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customer more choices (unless you want to prevent them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must also know BGP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o protect yourself from customer mis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with "public" exchang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P ISP's, depending on the country’s structure, you can save costly international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ateral peering - you can select what routes to send to which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lateral - your routes are sent to all, though you can filter in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te peering with other ISP'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ways bilateral p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for high-volume peers or critical since QoS on exchange points is at a low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ll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ing bandwidth and pe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analysis is important so you know where your packets are coming from and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cceptable levels on your lines to protect against spikes/bursts/surges in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 Route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policies on incoming and outgoing ro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ake yourself a transit AS by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routing database to make this scalable with large numbers of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ingress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packets can be received from a client or 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prevent Denial of Service attacks (flooding) and catches incorrect configuration (broadcast packets, packets that should exit another customer downstr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ingress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s IP Spoofing, with packets coming in that pretend to be coming from the intern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2267, now an IETF Best Current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 - can eat up router CPU, apply wis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event DoS attacks, exploits for 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applied at the edge and with customer consent, since the ISP’s job is to route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Protocol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o 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opular, de-facto “reference implementation” for BGP, propri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with older source code releases available, licensed by vendors (e.g. Lucent G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Protocol Softwa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oftware, open development. Stable BGP, not-so-stable OSPF 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combine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up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the most common customer access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AP cities, the only choice fo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up LA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up provis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ap lines, modems and remote access servers - even PCs will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cale to large numbers, does not support V.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up provision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 lines and RAS - rout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ossibly interface with telco at the switching (such as SS7) level for advanc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 and Tricks 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not “teaching”, instead we are sharing each others’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Best Current Practices into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the technical/architectural issues, and not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ultiple RAS to authenticate against one or more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rvers support “realms” (username@domain) which permit proxying to another service provider for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r-to-peer roaming requires peer-to-peer arrangements, and a full mesh for a full roaming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er from Global Roaming Service 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co/ISP interaction ph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Beginning - Telco provides raw async service, ISP provides IP dial-in and tran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when Telcos did not know about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co provides channelized tru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co/ISP interaction ph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co handles channels directly, routes the IP connection to ISP (bulk dialup ser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co provides complete IP service, the  ISP is just a value-added res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ble and D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known as “Broadb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out, these might eat up more bandwidth than is available for AP I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Packages and Network Management Systems (N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ly available “mainstay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COL “NOC ONline” Monitor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G Multi Router Traffic Gra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complement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applications, we just transport bits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versus Distribu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hoose for a geographical disperse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as: Commercial Unix vs Free Unix vs 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have to use onl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subjective input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form are you Us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: IPhil uses mostly Linux, a little BSD for specif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: Linux has more available software (free and proprietary), and is easier to 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start-up or medium scale ISP, 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r start-up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closest to the IP routing layer (L3.5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 down, or else you will “disappear” of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server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if you are handling large numbers of zones, configurations can go out of sy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SOA serial numb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site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able so that you don’t “disappear” if all your lines go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up DNS providers are com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Desig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d zone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 policy that customer zones will be removed if they are no longer authoritative, or if the master is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peeds up nameserver loading especially with dead m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Desig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DNS - in-addr.ar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commonly practiced within APNIC networks (APRICOT: see the BO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ecessary to give “identity” to your networks, and makes it easier to track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eference: if you want to hide the identity, just make dummy ent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re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Desig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ng recursive look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ens your server load, but makes it harder for others to debug problems by “digging” against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ng zone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attackers from learning your network structure, if your zones are “revealing”, but your backup nameservers must manually notify you if their IP address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DNS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me servers and dele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rect use of C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oftware Consortium (ISC) BIND - de facto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TS &lt;http://www.dents.or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Bernstein’s tools &lt;http://cr.yp.to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-scale mail delivery works “out of the bo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ing an MTA - what features are needed the m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E-Mail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l Retrie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l - do you still have shell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 - still the most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P - might eat up space in the ISP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for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Large-Scale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mail routing from delivery, inbound  from out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large domain” vs multiple sub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ailbox space should you allocat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ready familiar with the different components of what make up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feel free to ask questions anytime and go “off-topi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ing Mail Ab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eft of service aka “spa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tools such as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-based abuse preven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-Mail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rect From: address, unresol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out of delivery or queuing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out of CPU/memory - can it handle 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Mail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mail.org/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mail/qmail 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p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 imap + 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C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for AP ISP’s who wish to sav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perience, at least 30% can be sa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ing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ing can be geographically distrib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ing disk space requir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rule of thumb (thank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u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iling list) - keep 3 days worth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arent C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onsidered as “tampering” with the TC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problems with end-user browsers who don’t “know” there’s a cache and do not act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ing system must be fail-safe since users can’t “turn off” the proxy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arent Cach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 or switch can catch the connection by TCP port, or an L4 switch can actually look at the URLs and do load balanc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Cache Coordination Protocol increases the fail-safe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e-Augmentatio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P Mirror Finders can redirect FTP access to a local mirror or a close one network-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-based cache push can increase hit rate by prefe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ing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oftware (squi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rietary Software (Inktomi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ances (NetApp, Cisco Cache Engine, Cacheflow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erve static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to create apps or host customer apps with CGI, dynamic web pages, databases and the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Manag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P is an IP Network, and we will discuss how to manage it properly as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o manage, we must build and sustain it prop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site high-bandwidth mi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P web servers are in the US for better connectivity, but it is easier to maintain application engines lo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ve mirror/accelerator can handle this transpa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Delivery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 is now taken to a commercial level by Content Delivery Network providers who push content to globally distributed servers and provide a means for browsers to select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ng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che + extensions (mod_perl, PHP, Java servlets, SSL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 Notes + Dom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at a Higher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an Application Service 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ing Commercial off-the-shelf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ing Customize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ommerc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evel of system security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communications not enou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ment issues fo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-to-Business (B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to implement custom appl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 Development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C++ for Unix-level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for System Administration and Web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ng Colocated Cust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cating single serv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diverse customer equipment - routers, switches, and server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 high-grade Data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and Telco bandwidth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force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auditing of procedures - can be traced to human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usions/Break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software up-to-date - almost all are host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al of Service - don’t need break 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ion of IP and Application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ft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 spam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urfing” and other ICMP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P Fundament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discuss how to build on your existing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Problem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ft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iffing” critical information, or usernames/passwords used to break into othe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service "IP Dial Tone" quality? “Carrier Class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your bandwidth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ing bandwidth vs Overprovi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Level Agre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“9’s”? 99%, 99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external factors like telco service level, but minimize internal problems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ates poli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izing Uptime and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goal of designing a goo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on this one first, before moving on t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ing New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sumer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trends? what do end-users w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watch out for new applications that might harm the network, however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ing New Servic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e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iloring your service to the customer’s needs, and integrating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(on new technologies) and Development (making them work for yo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tart with som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e know what your expectations are so we can all learn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ant to talk about anything, just send mail to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p@iphil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3:54:41Z</dcterms:created>
  <dc:creator>migs</dc:creator>
  <dc:description/>
  <dc:language>en-US</dc:language>
  <cp:lastModifiedBy>migs</cp:lastModifiedBy>
  <dcterms:modified xsi:type="dcterms:W3CDTF">2000-02-19T03:01:38Z</dcterms:modified>
  <cp:revision>47</cp:revision>
  <dc:subject/>
  <dc:title>Introduction to Network Management and ISP Fundamentals</dc:title>
</cp:coreProperties>
</file>