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6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4.xml.rels" ContentType="application/vnd.openxmlformats-package.relationships+xml"/>
  <Override PartName="/ppt/notesSlides/notesSlide106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4.bin" ContentType="application/vnd.openxmlformats-officedocument.oleObject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29.wmf" ContentType="image/x-wmf"/>
  <Override PartName="/ppt/media/image13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5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43.wmf" ContentType="image/x-wmf"/>
  <Override PartName="/ppt/media/image3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.wmf" ContentType="image/x-wmf"/>
  <Override PartName="/ppt/media/image35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49.wmf" ContentType="image/x-wmf"/>
  <Override PartName="/ppt/media/image4.png" ContentType="image/png"/>
  <Override PartName="/ppt/media/image34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Time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8A0D-7B60-4158-8878-6E1001A94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G Time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21280"/>
            <a:ext cx="77724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2128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2128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4480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4480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2128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2128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21280"/>
            <a:ext cx="250236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42440"/>
            <a:ext cx="777240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2128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2128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44800"/>
            <a:ext cx="37926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21280"/>
            <a:ext cx="7772400" cy="189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891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1049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257480" indent="-228600">
              <a:spcBef>
                <a:spcPts val="1049"/>
              </a:spcBef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714680" indent="-343080">
              <a:spcBef>
                <a:spcPts val="1049"/>
              </a:spcBef>
              <a:buClr>
                <a:srgbClr val="ffff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049"/>
              </a:spcBef>
              <a:buClr>
                <a:srgbClr val="ffff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049"/>
              </a:spcBef>
              <a:buClr>
                <a:srgbClr val="ffffff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049"/>
              </a:spcBef>
              <a:buClr>
                <a:srgbClr val="ffffff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6269040"/>
            <a:ext cx="9123480" cy="8568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6280" y="6365880"/>
            <a:ext cx="2728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© 2000,  D. Crocker, Brandenburg Consul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295960" y="6218280"/>
            <a:ext cx="320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1663560"/>
            <a:ext cx="9128160" cy="79560"/>
          </a:xfrm>
          <a:prstGeom prst="rect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7" name=""/>
          <p:cNvSpPr/>
          <p:nvPr/>
        </p:nvSpPr>
        <p:spPr>
          <a:xfrm>
            <a:off x="8236080" y="6365880"/>
            <a:ext cx="3474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8205-0E4A-4152-94C4-C300E47EB770}" type="slidenum">
              <a:rPr b="0" i="1" lang="en-US" sz="10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-39600" y="0"/>
          <a:ext cx="102852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00" y="0"/>
                    <a:ext cx="10285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obtuse.com/smtpd.html" TargetMode="External"/><Relationship Id="rId2" Type="http://schemas.openxmlformats.org/officeDocument/2006/relationships/hyperlink" Target="http://www.obtuse.com/smtpd.html" TargetMode="Externa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950240" cy="2025360"/>
          </a:xfrm>
          <a:prstGeom prst="rect">
            <a:avLst/>
          </a:prstGeom>
          <a:solidFill>
            <a:srgbClr val="ffcc66"/>
          </a:solidFill>
          <a:ln w="12600">
            <a:solidFill>
              <a:srgbClr val="969696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457200" rIns="457200" tIns="457200" bIns="4572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Scaling eMail Services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for eBusiness</a:t>
            </a:r>
            <a:endParaRPr b="1" i="1" lang="en-US" sz="36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1760" y="4419720"/>
            <a:ext cx="823284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&lt;www.brandenburg.com/presentations/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caling-email-tutorial.ppt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ookman Old Style"/>
              </a:rPr>
              <a:t>Dave Crocker</a:t>
            </a:r>
            <a:r>
              <a:rPr b="1" i="1" lang="en-US" sz="18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el:  +1 (408) 246 8253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Bookman Old Style"/>
              </a:rPr>
              <a:t>Brandenburg Consulting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fax:  +1 (408) 273 6464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r" pos="8007480"/>
                <a:tab algn="r" pos="862956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crocker@brandenburg.com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3960" y="614520"/>
          <a:ext cx="102888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614520"/>
                    <a:ext cx="10288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mail is causing a revolut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178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Reach: </a:t>
            </a:r>
            <a:r>
              <a:rPr b="1" lang="en-US" sz="26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Global costs the same as local</a:t>
            </a:r>
            <a:endParaRPr b="1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25178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Breadth: 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Many addressees cost </a:t>
            </a:r>
            <a:r>
              <a:rPr b="1" i="1" lang="en-US" sz="2600" spc="-1" strike="noStrike">
                <a:solidFill>
                  <a:srgbClr val="00ffff"/>
                </a:solidFill>
                <a:latin typeface="Bookman Old Style"/>
              </a:rPr>
              <a:t>(almost)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 same as one</a:t>
            </a:r>
            <a:endParaRPr b="1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25178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Integration: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Intra- and inter-company </a:t>
            </a:r>
            <a:endParaRPr b="1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25178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(and “extra-net” company)</a:t>
            </a:r>
            <a:endParaRPr b="1" lang="en-US" sz="2600" spc="-1" strike="noStrike">
              <a:solidFill>
                <a:srgbClr val="ffffff"/>
              </a:solidFill>
              <a:latin typeface="Bookman Old Style"/>
            </a:endParaRPr>
          </a:p>
          <a:p>
            <a:pPr marL="25178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Directness: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Mail goes around hierarchy</a:t>
            </a:r>
            <a:endParaRPr b="1" lang="en-US" sz="2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"/>
          <p:cNvSpPr/>
          <p:nvPr/>
        </p:nvSpPr>
        <p:spPr>
          <a:xfrm>
            <a:off x="3200760" y="184320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mail is new, all over again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Partitioning email users 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ategories of user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ategories of concern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lunkines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ar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mplic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ow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Klunkines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on-intuitive user interfac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low, delay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mm line usag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xt edit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splay headers, content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ransport error message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fault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ply All, Small window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ork “modes”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5791320" y="762120"/>
          <a:ext cx="25527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762120"/>
                    <a:ext cx="25527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6477120" y="4419720"/>
          <a:ext cx="2095560" cy="19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419720"/>
                    <a:ext cx="209556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har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sourc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ultiple people on a machin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ultiple machine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ultiple mailbox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ol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b-addressing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6934320" y="4343400"/>
          <a:ext cx="154944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343400"/>
                    <a:ext cx="154944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460520" cy="171144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ompatibility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ine length mismatche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oprietary format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ck of universal support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tml, vrml, vcar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tegration between program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t/paste, …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chedule, address boo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eatur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ailored styles of us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ivacy, authenticat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al/external routing contro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uto-address book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tatus, delivery confirmatio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ilter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6781680" y="228600"/>
          <a:ext cx="17528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8600"/>
                    <a:ext cx="17528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Power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reads &amp; auto-correla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ort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imers on message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atabase mode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ong-term stor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rainabl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xtensibl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cript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mpound reply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nal/external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ultiple messa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5943600" y="5232240"/>
          <a:ext cx="257796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5232240"/>
                    <a:ext cx="257796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tiquett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am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lam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ext vs. HTM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oo many attachment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nternet lesson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otocol implementatio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mple, accessible specifications lead to broad ado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extual application protocols are easier to debu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erformanc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ublic Internet has ver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, ver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gh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latenc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inimize “round trips”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7907400" y="152280"/>
            <a:ext cx="1030320" cy="129564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ome personal thought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he most irritating thing about emai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oo primitiv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oo complex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ail is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liable message transpor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uman and group communic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We almost do transport wel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We barely do communication wel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tart looking for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human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communication paradigm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tart demanding email support them..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ased on standard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 small provocation...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row out current standards?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tart over...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eaner content synt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re efficient exchange protoco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re powerful protoc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mpler protoc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ake transition easy...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6546960" y="4946760"/>
          <a:ext cx="220644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6960" y="4946760"/>
                    <a:ext cx="220644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4267080"/>
            <a:ext cx="8229600" cy="1905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981080"/>
            <a:ext cx="8229600" cy="19814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lectronic mail mode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5435640"/>
            <a:ext cx="121932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cip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4422600"/>
            <a:ext cx="1219320" cy="105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609480" y="5427720"/>
            <a:ext cx="12193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ig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4352760"/>
            <a:ext cx="1219320" cy="107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3958920" y="2112840"/>
            <a:ext cx="1372320" cy="1758600"/>
            <a:chOff x="3958920" y="2112840"/>
            <a:chExt cx="1372320" cy="1758600"/>
          </a:xfrm>
        </p:grpSpPr>
        <p:sp>
          <p:nvSpPr>
            <p:cNvPr id="99" name=""/>
            <p:cNvSpPr/>
            <p:nvPr/>
          </p:nvSpPr>
          <p:spPr>
            <a:xfrm>
              <a:off x="3958920" y="3295800"/>
              <a:ext cx="1372320" cy="57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layin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 Mai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ransfer Ag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3959280" y="2112840"/>
            <a:ext cx="1371600" cy="121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9280" y="2112840"/>
                      <a:ext cx="1371600" cy="121140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2" name=""/>
          <p:cNvSpPr/>
          <p:nvPr/>
        </p:nvSpPr>
        <p:spPr>
          <a:xfrm>
            <a:off x="3117600" y="2468520"/>
            <a:ext cx="63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875000">
            <a:off x="3372120" y="2013120"/>
            <a:ext cx="328680" cy="85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16" y="1744"/>
                </a:moveTo>
                <a:arcTo wR="10800" hR="10800" stAng="-7380732" swAng="9604979"/>
                <a:lnTo>
                  <a:pt x="10800" y="10800"/>
                </a:lnTo>
                <a:close/>
              </a:path>
              <a:path fill="none" w="21600" h="21600">
                <a:moveTo>
                  <a:pt x="4916" y="1744"/>
                </a:moveTo>
                <a:arcTo wR="10800" hR="10800" stAng="-7380732" swAng="9604979"/>
              </a:path>
            </a:pathLst>
          </a:custGeom>
          <a:noFill/>
          <a:ln cap="rnd"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5520200">
            <a:off x="394920" y="3223440"/>
            <a:ext cx="1626840" cy="114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16" y="1744"/>
                </a:moveTo>
                <a:arcTo wR="10800" hR="10800" stAng="-7380732" swAng="9604979"/>
                <a:lnTo>
                  <a:pt x="10800" y="10800"/>
                </a:lnTo>
                <a:close/>
              </a:path>
              <a:path fill="none" w="21600" h="21600">
                <a:moveTo>
                  <a:pt x="4916" y="1744"/>
                </a:moveTo>
                <a:arcTo wR="10800" hR="10800" stAng="-7380732" swAng="9604979"/>
              </a:path>
            </a:pathLst>
          </a:custGeom>
          <a:noFill/>
          <a:ln cap="rnd"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23880" y="2133720"/>
            <a:ext cx="1447920" cy="1737720"/>
            <a:chOff x="1523880" y="2133720"/>
            <a:chExt cx="1447920" cy="1737720"/>
          </a:xfrm>
        </p:grpSpPr>
        <p:sp>
          <p:nvSpPr>
            <p:cNvPr id="106" name=""/>
            <p:cNvSpPr/>
            <p:nvPr/>
          </p:nvSpPr>
          <p:spPr>
            <a:xfrm>
              <a:off x="1523880" y="3295800"/>
              <a:ext cx="1447920" cy="57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nding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 Mai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Transfer Ag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1523880" y="2133720"/>
            <a:ext cx="1447920" cy="120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2133720"/>
                      <a:ext cx="1447920" cy="1206360"/>
                    </a:xfrm>
                    <a:prstGeom prst="rect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6705720" y="4800600"/>
            <a:ext cx="598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P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665600">
            <a:off x="6553080" y="4654440"/>
            <a:ext cx="828720" cy="298440"/>
          </a:xfrm>
          <a:custGeom>
            <a:avLst/>
            <a:gdLst/>
            <a:ahLst/>
            <a:rect l="l" t="t" r="r" b="b"/>
            <a:pathLst>
              <a:path w="800" h="200">
                <a:moveTo>
                  <a:pt x="768" y="200"/>
                </a:moveTo>
                <a:cubicBezTo>
                  <a:pt x="784" y="168"/>
                  <a:pt x="800" y="136"/>
                  <a:pt x="720" y="104"/>
                </a:cubicBezTo>
                <a:cubicBezTo>
                  <a:pt x="640" y="72"/>
                  <a:pt x="408" y="16"/>
                  <a:pt x="288" y="8"/>
                </a:cubicBezTo>
                <a:cubicBezTo>
                  <a:pt x="168" y="0"/>
                  <a:pt x="84" y="28"/>
                  <a:pt x="0" y="56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627280" y="4719600"/>
            <a:ext cx="1868040" cy="1374840"/>
            <a:chOff x="2627280" y="4719600"/>
            <a:chExt cx="1868040" cy="1374840"/>
          </a:xfrm>
        </p:grpSpPr>
        <p:sp>
          <p:nvSpPr>
            <p:cNvPr id="112" name=""/>
            <p:cNvSpPr/>
            <p:nvPr/>
          </p:nvSpPr>
          <p:spPr>
            <a:xfrm>
              <a:off x="2627280" y="4719600"/>
              <a:ext cx="839520" cy="137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RFC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822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3475440" y="4730760"/>
            <a:ext cx="1019880" cy="136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75440" y="4730760"/>
                      <a:ext cx="1019880" cy="13604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 rot="20001000">
            <a:off x="1593360" y="4955760"/>
            <a:ext cx="1046880" cy="7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599200">
            <a:off x="4151880" y="4871880"/>
            <a:ext cx="1120320" cy="7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20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20823"/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1640" y="2133720"/>
            <a:ext cx="930240" cy="1752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4280" bIns="442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ceiv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ai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ransf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308640" y="2133720"/>
            <a:ext cx="1158840" cy="1752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86040" y="2468520"/>
            <a:ext cx="63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875000">
            <a:off x="5737320" y="2062080"/>
            <a:ext cx="328680" cy="76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16" y="1744"/>
                </a:moveTo>
                <a:arcTo wR="10800" hR="10800" stAng="-7380732" swAng="9604979"/>
                <a:lnTo>
                  <a:pt x="10800" y="10800"/>
                </a:lnTo>
                <a:close/>
              </a:path>
              <a:path fill="none" w="21600" h="21600">
                <a:moveTo>
                  <a:pt x="4916" y="1744"/>
                </a:moveTo>
                <a:arcTo wR="10800" hR="10800" stAng="-7380732" swAng="9604979"/>
              </a:path>
            </a:pathLst>
          </a:custGeom>
          <a:noFill/>
          <a:ln cap="rnd"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7467480" y="4419720"/>
            <a:ext cx="990720" cy="1085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67480" y="5487840"/>
            <a:ext cx="99072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3886200"/>
            <a:ext cx="990720" cy="5335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cubicBezTo>
                  <a:pt x="52" y="12"/>
                  <a:pt x="104" y="24"/>
                  <a:pt x="144" y="48"/>
                </a:cubicBezTo>
                <a:cubicBezTo>
                  <a:pt x="184" y="72"/>
                  <a:pt x="216" y="104"/>
                  <a:pt x="240" y="144"/>
                </a:cubicBezTo>
                <a:cubicBezTo>
                  <a:pt x="264" y="184"/>
                  <a:pt x="280" y="264"/>
                  <a:pt x="288" y="288"/>
                </a:cubicBezTo>
              </a:path>
            </a:pathLst>
          </a:custGeom>
          <a:noFill/>
          <a:ln w="633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4120" y="3276720"/>
            <a:ext cx="86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SMTP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Subm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Thank you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urrent us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7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FC 822:  Personal "memo"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7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One or more attachments 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7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formal discussion group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0">
              <a:lnSpc>
                <a:spcPct val="1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The basic messag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y mordor.stanford.edu at 08:10–PDT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ate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ril 18, 1989 08:00– 0700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o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crocker@mordor.stanford.edu 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Dave Crocker)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rom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Keith McCloghrie &lt;kzm@hughes.com&gt;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ost Requirements Doc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–Mailer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ush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cc: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essage–Id: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23456578@gonzo.hughes.com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 copy of the new version is on its way.  Enjoy.  Keith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6600" y="4267080"/>
            <a:ext cx="7762680" cy="183996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You can have any character set you want, as long as it’s ASCI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You can have any type of data you want, as long as it’s 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6600" y="3998880"/>
            <a:ext cx="776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6600" y="3541680"/>
            <a:ext cx="7762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13120"/>
            <a:ext cx="773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120" y="2216160"/>
            <a:ext cx="7759800" cy="144144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Da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To:  kim@mailservice.co.k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From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c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Subjec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20" y="1789200"/>
            <a:ext cx="512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ternet Mail headers &amp; addr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20 years of Internet mai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nternet mai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hanne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MTP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e-hop transfe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ddresses and messa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OP/IMAP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lient remote mailbox acces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312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bject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31280" indent="-4312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FC822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77680" indent="-33696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tructured heade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77680" indent="-33696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ddress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31280" indent="-431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IM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77680" indent="-33696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tructured conten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77680" indent="-33696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haracter se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77680" indent="-33696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ultimedia data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77680" indent="-33696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tective transport encoding “envelopes”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0120" y="2209680"/>
            <a:ext cx="7759800" cy="82548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rom 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c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MIM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3119400"/>
            <a:ext cx="769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MIME content with multiple parts (attachment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5080" y="1808280"/>
            <a:ext cx="512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Internet Mail headers &amp; addr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6600" y="3594240"/>
            <a:ext cx="7839000" cy="43164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ver 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6600" y="4584600"/>
            <a:ext cx="7839000" cy="157500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2160" bIns="9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bordinate attach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8240" y="5118120"/>
            <a:ext cx="7061040" cy="431640"/>
          </a:xfrm>
          <a:prstGeom prst="rect">
            <a:avLst/>
          </a:prstGeom>
          <a:solidFill>
            <a:srgbClr val="a2c1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IF pic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5575320"/>
            <a:ext cx="7061040" cy="507960"/>
          </a:xfrm>
          <a:prstGeom prst="rect">
            <a:avLst/>
          </a:prstGeom>
          <a:solidFill>
            <a:srgbClr val="a2c1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S Word docu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6600" y="4051440"/>
            <a:ext cx="7839000" cy="50796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rwarded messa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Registered Content-typ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2280" indent="-4222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lai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ichtex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ab-separated-valu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22280" indent="-4222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image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pe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if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ef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iff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22280" indent="-4222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message        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fc822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rtial               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xternal-bod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59320" indent="-32976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s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4600" indent="-444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pe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icktim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audio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as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multipart       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ixe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lternativ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ges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rallel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pledoub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eader-se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larificat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99840" y="2182680"/>
            <a:ext cx="7553160" cy="374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ontent-typ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onical (network standard) data types &amp; represent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Versus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ontent-transfer-encod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form (encapsulate) data into package that can traverse (hostile) Internet emai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ddress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ddress referenc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lob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lativ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ddress administratio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lob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c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ame-to-address/Address-to-Addres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NS MX record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DAP/X.500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1973520" cy="1638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genda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1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man Old Style"/>
              </a:rPr>
              <a:t>Introductions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1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man Old Style"/>
              </a:rPr>
              <a:t>Technology basics and requirements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1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Volume mail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1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Unified messaging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1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Messaging-based group collaboration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1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Operations basics:  </a:t>
            </a:r>
            <a:r>
              <a:rPr b="1" i="1" lang="en-US" sz="2200" spc="-1" strike="noStrike">
                <a:solidFill>
                  <a:srgbClr val="ffffff"/>
                </a:solidFill>
                <a:latin typeface="Bookman Old Style"/>
              </a:rPr>
              <a:t>Performance, reliability and security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10000"/>
              </a:lnSpc>
              <a:spcBef>
                <a:spcPts val="825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Email-based commerce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Name, address, rout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am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Who or wha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you wa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ight be ambiguous, but relatively st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ddres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Where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it i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lobally unique &amp; independent of rout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ighbors are rela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out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ow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to get ther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pends upon starting poi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Routing messag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omain name specifies destinatio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mail address doe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contain routing information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NS lookup produc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ress of that machine and/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X” record of machine to route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rough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MTP (&amp; SUBMIT)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HELO / EHLO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AIL-FROM &lt;error-returns-address&gt;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CPT-TO &lt;recipient-address&gt;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ATA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&lt;content&gt;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.CRLF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MTP Extension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HLO “probe”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re SMTP extensions suppor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rver response lists supported option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lient initiates negotiation of specific option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POP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7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SER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&amp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PAS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137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umber of messages and mailbox siz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137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LIST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ne-line summaries of message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137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OP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eaders and some text of a messag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137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RETR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trieve a messag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137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DELE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lete a messag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13730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IDL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ique ID of a messag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MAP Framework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ivacy via S/MIME, PGP and/or SSL/TL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ccess contro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standard for Interne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able of content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ownload description before conten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ne-grained acces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ssage per fold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IME part per messag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hared/Private folder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083200" y="3930480"/>
          <a:ext cx="3660840" cy="23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3200" y="3930480"/>
                    <a:ext cx="366084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rot="19100400">
            <a:off x="3780000" y="2724120"/>
            <a:ext cx="5603760" cy="3095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MAP Offlin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543800" y="3130560"/>
            <a:ext cx="685800" cy="749160"/>
            <a:chOff x="7543800" y="3130560"/>
            <a:chExt cx="685800" cy="749160"/>
          </a:xfrm>
        </p:grpSpPr>
        <p:sp>
          <p:nvSpPr>
            <p:cNvPr id="173" name=""/>
            <p:cNvSpPr/>
            <p:nvPr/>
          </p:nvSpPr>
          <p:spPr>
            <a:xfrm>
              <a:off x="7550280" y="313056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0280" y="360684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43800" y="327348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29600" y="327348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4721400" y="4282920"/>
          <a:ext cx="19080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4282920"/>
                    <a:ext cx="19080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6248520" y="5423040"/>
            <a:ext cx="533160" cy="520560"/>
            <a:chOff x="6248520" y="5423040"/>
            <a:chExt cx="533160" cy="520560"/>
          </a:xfrm>
        </p:grpSpPr>
        <p:sp>
          <p:nvSpPr>
            <p:cNvPr id="180" name=""/>
            <p:cNvSpPr/>
            <p:nvPr/>
          </p:nvSpPr>
          <p:spPr>
            <a:xfrm>
              <a:off x="6254640" y="5423040"/>
              <a:ext cx="520200" cy="18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54640" y="5756400"/>
              <a:ext cx="520200" cy="18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48520" y="5522760"/>
              <a:ext cx="0" cy="3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1680" y="5522760"/>
              <a:ext cx="0" cy="3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874120" y="4884840"/>
            <a:ext cx="596160" cy="105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24120" y="2362320"/>
            <a:ext cx="1467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532320"/>
            <a:ext cx="1679400" cy="360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3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39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8800" y="4267080"/>
            <a:ext cx="129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441972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One-time Download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ll or noth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essages stay on user machin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rot="19100400">
            <a:off x="3797280" y="2970000"/>
            <a:ext cx="5375160" cy="26953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MAP Onlin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543800" y="3365640"/>
            <a:ext cx="685800" cy="749160"/>
            <a:chOff x="7543800" y="3365640"/>
            <a:chExt cx="685800" cy="749160"/>
          </a:xfrm>
        </p:grpSpPr>
        <p:sp>
          <p:nvSpPr>
            <p:cNvPr id="192" name=""/>
            <p:cNvSpPr/>
            <p:nvPr/>
          </p:nvSpPr>
          <p:spPr>
            <a:xfrm>
              <a:off x="7550280" y="336564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0280" y="384192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3800" y="350856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29600" y="350856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797360" y="4587840"/>
          <a:ext cx="190836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4587840"/>
                    <a:ext cx="190836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011360" y="2533680"/>
            <a:ext cx="1467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733920"/>
            <a:ext cx="259020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09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097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48320" y="403848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I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96252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User copies </a:t>
            </a:r>
            <a:r>
              <a:rPr b="1" i="1" lang="en-US" sz="2800" spc="-1" strike="noStrike">
                <a:solidFill>
                  <a:srgbClr val="ef9100"/>
                </a:solidFill>
                <a:latin typeface="Bookman Old Style"/>
              </a:rPr>
              <a:t>each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time processed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dividual messag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essages stay on server machin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lassic “proprietary”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9100400">
            <a:off x="3782520" y="2823840"/>
            <a:ext cx="5513400" cy="29671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0440" y="5196240"/>
            <a:ext cx="761400" cy="44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6" y="609"/>
                </a:moveTo>
                <a:arcTo wR="10800" hR="10800" stAng="-4239911" swAng="4239911"/>
                <a:lnTo>
                  <a:pt x="10800" y="10800"/>
                </a:lnTo>
                <a:close/>
              </a:path>
              <a:path fill="none" w="21600" h="21600">
                <a:moveTo>
                  <a:pt x="14376" y="609"/>
                </a:moveTo>
                <a:arcTo wR="10800" hR="10800" stAng="-4239911" swAng="4239911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MAP Disconnected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543800" y="3213000"/>
            <a:ext cx="685800" cy="749160"/>
            <a:chOff x="7543800" y="3213000"/>
            <a:chExt cx="685800" cy="749160"/>
          </a:xfrm>
        </p:grpSpPr>
        <p:sp>
          <p:nvSpPr>
            <p:cNvPr id="206" name=""/>
            <p:cNvSpPr/>
            <p:nvPr/>
          </p:nvSpPr>
          <p:spPr>
            <a:xfrm>
              <a:off x="7550280" y="321300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50280" y="368928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43800" y="335592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9600" y="335592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4492800" y="4508640"/>
          <a:ext cx="190800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0" y="4508640"/>
                    <a:ext cx="19080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6095880" y="5423040"/>
            <a:ext cx="533160" cy="520560"/>
            <a:chOff x="6095880" y="5423040"/>
            <a:chExt cx="533160" cy="520560"/>
          </a:xfrm>
        </p:grpSpPr>
        <p:sp>
          <p:nvSpPr>
            <p:cNvPr id="213" name=""/>
            <p:cNvSpPr/>
            <p:nvPr/>
          </p:nvSpPr>
          <p:spPr>
            <a:xfrm>
              <a:off x="6102000" y="5423040"/>
              <a:ext cx="520920" cy="18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02000" y="5756400"/>
              <a:ext cx="520920" cy="18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5880" y="5522760"/>
              <a:ext cx="0" cy="3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29040" y="5522760"/>
              <a:ext cx="0" cy="32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24120" y="2430360"/>
            <a:ext cx="1467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3517920"/>
            <a:ext cx="2289240" cy="345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65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656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76920" y="4206960"/>
            <a:ext cx="943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I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441972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peated up/down exchang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dividual messag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utual synchronizatio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st difficul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04120" y="3676680"/>
            <a:ext cx="1926360" cy="31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16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163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791480" y="95400"/>
          <a:ext cx="819000" cy="164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91480" y="95400"/>
                    <a:ext cx="819000" cy="16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Roam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aried acces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n, expensive chann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iosk” st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ultiple access provid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lective/filtered retrieva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MTP posting server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ntroduction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articipant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instructor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(Dave Crocker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students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(You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ulti-cultural educational styl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merica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sia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Roaming provider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ulti-national ISP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serv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U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T&amp;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ederation of ISP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-PAS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merging requirement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imely delivery</a:t>
            </a:r>
            <a:r>
              <a:rPr b="1" lang="en-US" sz="28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(Quality of service)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stant messag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ery high reliability </a:t>
            </a: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(Confirm, retry)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egal docu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mercial trans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ery high efficiency </a:t>
            </a:r>
            <a:r>
              <a:rPr b="1" lang="en-US" sz="2800" spc="-1" strike="noStrike">
                <a:solidFill>
                  <a:srgbClr val="00ffff"/>
                </a:solidFill>
                <a:latin typeface="Bookman Old Style"/>
              </a:rPr>
              <a:t>(Binary, routing)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cipient tailor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egitimate volume mai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nabled mai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nding program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tive messa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bile ag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mote programm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afe virus / wor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lient-server without client platform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ogramming:  Java, Safe-TC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train access to resources on platfor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uly portable softwar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tp://ics.uci.edu/mrose/safe-tc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Message store/forward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lay - homogeneous transfer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ame email stacks on both sides of "router”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Gateway - heterogeneous transfer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Address (?):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ress-mapping (minor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rotocol: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mail trans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ormat: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tent trans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4419720"/>
            <a:ext cx="8229600" cy="160020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</a:rPr>
              <a:t>Email model enhancements</a:t>
            </a:r>
            <a:endParaRPr b="1" i="1" lang="en-US" sz="40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36" name=""/>
          <p:cNvSpPr/>
          <p:nvPr/>
        </p:nvSpPr>
        <p:spPr>
          <a:xfrm>
            <a:off x="1789560" y="2936160"/>
            <a:ext cx="132804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27440" y="3042720"/>
            <a:ext cx="134964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44000" y="3042720"/>
            <a:ext cx="99612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14440" y="3440160"/>
            <a:ext cx="223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99120" y="3440160"/>
            <a:ext cx="26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64200" y="3440160"/>
            <a:ext cx="3002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84560" y="3211560"/>
            <a:ext cx="6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19880" y="2949120"/>
            <a:ext cx="132804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3720" y="3042720"/>
            <a:ext cx="99612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14840" y="4768200"/>
            <a:ext cx="139212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4781520"/>
            <a:ext cx="132876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03520" y="4777920"/>
            <a:ext cx="139212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64680" y="4855680"/>
            <a:ext cx="117900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5213520"/>
            <a:ext cx="838440" cy="20304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352320" y="39625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396252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5238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4" idx="0"/>
            <a:endCxn id="243" idx="0"/>
          </p:cNvCxnSpPr>
          <p:nvPr/>
        </p:nvCxnSpPr>
        <p:spPr>
          <a:xfrm flipH="1" flipV="1" rot="5400000">
            <a:off x="2561040" y="1213200"/>
            <a:ext cx="94320" cy="3553560"/>
          </a:xfrm>
          <a:prstGeom prst="curvedConnector5">
            <a:avLst>
              <a:gd name="adj1" fmla="val 318390"/>
              <a:gd name="adj2" fmla="val 50000"/>
              <a:gd name="adj3" fmla="val 318390"/>
            </a:avLst>
          </a:prstGeom>
          <a:ln w="28440">
            <a:solidFill>
              <a:srgbClr val="ff9900"/>
            </a:solidFill>
            <a:miter/>
            <a:headEnd len="med" type="triangle" w="med"/>
          </a:ln>
        </p:spPr>
      </p:cxnSp>
      <p:cxnSp>
        <p:nvCxnSpPr>
          <p:cNvPr id="254" name=""/>
          <p:cNvCxnSpPr>
            <a:stCxn id="244" idx="0"/>
            <a:endCxn id="238" idx="0"/>
          </p:cNvCxnSpPr>
          <p:nvPr/>
        </p:nvCxnSpPr>
        <p:spPr>
          <a:xfrm flipH="1" rot="16200000">
            <a:off x="4336200" y="-467640"/>
            <a:ext cx="2160" cy="7011000"/>
          </a:xfrm>
          <a:prstGeom prst="curvedConnector5">
            <a:avLst>
              <a:gd name="adj1" fmla="val -37100000"/>
              <a:gd name="adj2" fmla="val 50000"/>
              <a:gd name="adj3" fmla="val -37100000"/>
            </a:avLst>
          </a:prstGeom>
          <a:ln w="28440">
            <a:solidFill>
              <a:srgbClr val="ff99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269240" y="25909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S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79280" y="2681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MD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4880" y="1843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A-UAdialog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/>
          <p:nvPr/>
        </p:nvCxnSpPr>
        <p:spPr>
          <a:xfrm flipH="1" flipV="1" rot="10800000">
            <a:off x="379800" y="3428640"/>
            <a:ext cx="8017560" cy="2160"/>
          </a:xfrm>
          <a:prstGeom prst="curvedConnector5">
            <a:avLst>
              <a:gd name="adj1" fmla="val -2851"/>
              <a:gd name="adj2" fmla="val -42800000"/>
              <a:gd name="adj3" fmla="val -2851"/>
            </a:avLst>
          </a:prstGeom>
          <a:ln w="38160">
            <a:solidFill>
              <a:srgbClr val="ff9900"/>
            </a:solidFill>
            <a:miter/>
            <a:headEnd len="lg" type="stealth" w="med"/>
            <a:tailEnd len="lg" type="stealth" w="med"/>
          </a:ln>
        </p:spPr>
      </p:cxn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ervice agent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4600" indent="-44460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mote” user agent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05040" indent="-3474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orks on behalf of an identified u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rforms independent, automated service other than user mailbo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ight have special system privile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4600" indent="-44460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xampl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05040" indent="-3474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iling lis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rporate archiv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05040" indent="-3474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lendaring &amp; scheduling serv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ore email specification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92160" y="2701800"/>
          <a:ext cx="7101000" cy="29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701800"/>
                    <a:ext cx="7101000" cy="290988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MTP Extension spec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500120" y="2790720"/>
          <a:ext cx="5967360" cy="27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2790720"/>
                    <a:ext cx="5967360" cy="277200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MIME core specification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0560" y="2413080"/>
          <a:ext cx="7092720" cy="368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2413080"/>
                    <a:ext cx="7092720" cy="368280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MIME enhancement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111320" y="2122560"/>
          <a:ext cx="6761160" cy="382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2122560"/>
                    <a:ext cx="6761160" cy="382104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442440"/>
            <a:ext cx="78930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ctr" pos="5940360"/>
                <a:tab algn="ct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</a:rPr>
              <a:t>Brandenburg</a:t>
            </a:r>
            <a:r>
              <a:rPr b="1" lang="en-US" sz="2800" spc="-1" strike="noStrike">
                <a:solidFill>
                  <a:srgbClr val="ffcc66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4000" spc="-1" strike="noStrike">
                <a:solidFill>
                  <a:srgbClr val="ffcc66"/>
                </a:solidFill>
                <a:latin typeface="Bookman Old Style"/>
              </a:rPr>
              <a:t>Consulting</a:t>
            </a:r>
            <a:r>
              <a:rPr b="1" lang="en-US" sz="2800" spc="-1" strike="noStrike">
                <a:solidFill>
                  <a:srgbClr val="ffcc66"/>
                </a:solidFill>
                <a:latin typeface="Bookman Old Style"/>
              </a:rPr>
              <a:t>	</a:t>
            </a:r>
            <a:endParaRPr b="1" i="1" lang="en-US" sz="28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2080" y="2133720"/>
            <a:ext cx="3940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Dave Crocker</a:t>
            </a: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457200" indent="-342720">
              <a:lnSpc>
                <a:spcPct val="110000"/>
              </a:lnSpc>
              <a:spcBef>
                <a:spcPts val="125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net since 1972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914400" indent="-342720">
              <a:lnSpc>
                <a:spcPct val="11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mail, Fax, Secur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914400" indent="-342720">
              <a:lnSpc>
                <a:spcPct val="11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merce, ED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914400" indent="-342720">
              <a:lnSpc>
                <a:spcPct val="11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t mgmt, TCP/IP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-34272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velopmen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914400" indent="-342720">
              <a:lnSpc>
                <a:spcPct val="11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duct, servic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2" marL="914400" indent="-342720">
              <a:lnSpc>
                <a:spcPct val="11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CI, DEC, SG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63640" y="2133720"/>
            <a:ext cx="4289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Brandenburg</a:t>
            </a: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74560" indent="-296640">
              <a:lnSpc>
                <a:spcPct val="140000"/>
              </a:lnSpc>
              <a:spcBef>
                <a:spcPts val="3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artup incubat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74560" indent="-296640">
              <a:lnSpc>
                <a:spcPct val="140000"/>
              </a:lnSpc>
              <a:spcBef>
                <a:spcPts val="3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usiness/market plan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74560" indent="-296640">
              <a:lnSpc>
                <a:spcPct val="140000"/>
              </a:lnSpc>
              <a:spcBef>
                <a:spcPts val="3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echnical desig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74560" indent="-296640">
              <a:lnSpc>
                <a:spcPct val="140000"/>
              </a:lnSpc>
              <a:spcBef>
                <a:spcPts val="3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udit pla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74560" indent="-296640">
              <a:lnSpc>
                <a:spcPct val="140000"/>
              </a:lnSpc>
              <a:spcBef>
                <a:spcPts val="3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andards manage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819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8195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56080" y="461880"/>
            <a:ext cx="43070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39560" y="568440"/>
            <a:ext cx="33382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usiness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echnical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Other specification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173240" y="2286000"/>
          <a:ext cx="659916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2286000"/>
                    <a:ext cx="6599160" cy="386712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1973520" cy="16383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genda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troduction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chnology basics and requirement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Volume mai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ified messag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ssaging-based group collabora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perations basics:  Performance, reliability and security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ail-based commerc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Volume mai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am 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nsolicited volume (commercial) mai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 "relationship" between sender and receiv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ot all volume mail is evi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t-in: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cipient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want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the mail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t-out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pam in sheep’s cloth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856560" y="76320"/>
          <a:ext cx="228600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76320"/>
                    <a:ext cx="22860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6940440" y="4343400"/>
            <a:ext cx="1820880" cy="201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pam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oblem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st to recipient (and maybe relay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nial of service, by distracting read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laces for contro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nd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lay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ceiv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ontrol the send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reven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a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ceptable use polic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mited posting/addressing allow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etec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cessive posting/address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ccountability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ssure ability to track down sour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(But what if they have already left?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ilter the receiv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1636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lter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SP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cipien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igin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P addres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ostnam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ssag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rom fiel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ceived fiel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1480" y="2044800"/>
            <a:ext cx="381636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intain the filter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pammers are adaptab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ules keep chang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uleset needs servic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6402240" y="457200"/>
          <a:ext cx="266868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2240" y="457200"/>
                    <a:ext cx="266868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ilter the relay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anout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se intermediaries for sending to many hosts at once; divide the task up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poof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reate fake source information, to impede trac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nly “local” post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ogin for remote poste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uthenticate mail source inform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nti-spam organizations &amp; discuss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pam Recycling Center 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&lt;http://abuse.net&gt;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alition Against Unsolicited Commercial Email 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&lt;http://www.cauce.org/&gt;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orum for Responsible and Ethical Email (FREE)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scusson list 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&lt;mailto:spam[–request]@zorch.sf–bay.org&gt;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ti-spam mechanism analysi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&lt;http://www.imc.org/imc-spam&gt;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nti-spam tools &amp; servic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FC 2505, Anti-Spam Recommendations for SMTP MTA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il Abuse Prevention System LLC 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&lt;http://maps.vix.com/&gt;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nfiguration checking:  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Spamcop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,…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Filtering rule service 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&lt;http://www.brightlight.com/&gt;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btuse smtpd proxy 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&lt;http://www.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urier New"/>
                <a:hlinkClick r:id="rId1"/>
              </a:rPr>
              <a:t>obtuse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urier New"/>
                <a:hlinkClick r:id="rId2"/>
              </a:rPr>
              <a:t>.com/smtpd.html</a:t>
            </a:r>
            <a:r>
              <a:rPr b="1" lang="en-US" sz="2400" spc="-1" strike="noStrike">
                <a:solidFill>
                  <a:srgbClr val="00ffff"/>
                </a:solidFill>
                <a:latin typeface="Courier New"/>
              </a:rPr>
              <a:t>&gt;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RBS </a:t>
            </a:r>
            <a:r>
              <a:rPr b="1" i="1" lang="en-US" sz="2400" spc="-1" strike="noStrike">
                <a:solidFill>
                  <a:srgbClr val="ffff00"/>
                </a:solidFill>
                <a:latin typeface="Bookman Old Style"/>
              </a:rPr>
              <a:t>(has very controversial policies)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The market for email–based market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2044800"/>
            <a:ext cx="403884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9200" indent="-34920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ustomer Relationship Management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re sal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ormation-based sal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stomer suppor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ccount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14320" indent="-35064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mail-based transac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883040" y="2367000"/>
          <a:ext cx="3254400" cy="30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3040" y="2367000"/>
                    <a:ext cx="3254400" cy="301320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05120"/>
            <a:ext cx="7759800" cy="4254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969696"/>
              </a:gs>
              <a:gs pos="50000">
                <a:srgbClr val="454545"/>
              </a:gs>
              <a:gs pos="100000">
                <a:srgbClr val="969696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etting the context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52680" y="2057400"/>
            <a:ext cx="4224240" cy="320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17560" y="5257800"/>
            <a:ext cx="136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1975, Data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70640" y="5485680"/>
            <a:ext cx="3388680" cy="6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his?  Oh, this is the displa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or my electronic junk mai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Opt-i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ail marketing procedure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10 Strategies for Direct Email Succes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&lt;http://www.boldfish.com/products/whitepaper.html&gt;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erformance and reliability demand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1,000,000 messages hit the net..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0,000,000 message hit the net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(Publisher’s Clearinghouse… 100,000,000?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 algn="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Instructor affili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Volume mail content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ixed (common)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veryone gets the same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ariabl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m letter” with common text and some tailor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Unique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ghly individu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ext vs. HTML vs. Attachment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680160" y="3701880"/>
            <a:ext cx="2154240" cy="2671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SP Detection:</a:t>
            </a:r>
            <a:br>
              <a:rPr sz="4400"/>
            </a:br>
            <a:r>
              <a:rPr b="1" lang="en-US" sz="3600" spc="-1" strike="noStrike">
                <a:solidFill>
                  <a:srgbClr val="ffcc66"/>
                </a:solidFill>
                <a:latin typeface="Bookman Old Style"/>
              </a:rPr>
              <a:t>Spam vs. Opt-in</a:t>
            </a:r>
            <a:endParaRPr b="1" i="1" lang="en-US" sz="36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Distinguishing valid volume mail from spam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How can an ISP operator tell?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udience participation…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ome volume mail vendor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tegrated CRM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M Forum &lt;http://www.crm-forum.com/&gt;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an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ket Force &lt;http://www.marketforce.com/&gt;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ail-sending support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oldfish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ssageMed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1973520" cy="16383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genda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4600" indent="-44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troduction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4600" indent="-44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chnology basics and requirement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4600" indent="-44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olume mai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4600" indent="-44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Unified messag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4600" indent="-44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ssaging-based group collabora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4600" indent="-44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perations basics:  </a:t>
            </a:r>
            <a:r>
              <a:rPr b="1" i="1" lang="en-US" sz="2400" spc="-1" strike="noStrike">
                <a:solidFill>
                  <a:srgbClr val="ffffff"/>
                </a:solidFill>
                <a:latin typeface="Bookman Old Style"/>
              </a:rPr>
              <a:t>Performance, reliability and security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4600" indent="-44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ail-based commerc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Unified Messag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"Message"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ag of bi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ag of addres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oicemai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rver-to-server experien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acsimil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ateway email and telephone f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uMessage issu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5600" indent="-435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ccess issu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86680" indent="-3402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oic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rrow dial-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nprotected kios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"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35600" indent="-435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ifferential handling of received mai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35600" indent="-435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ccess procedur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35600" indent="-435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liabilit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35600" indent="-4356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fficienc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Voice Profile of Internet Mail (VPIM)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oice encod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ailbox address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liable transfer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fficient transfer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ery large, binary messa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43000" y="2584440"/>
            <a:ext cx="7016760" cy="2825640"/>
          </a:xfrm>
          <a:prstGeom prst="roundRect">
            <a:avLst>
              <a:gd name="adj" fmla="val 12421"/>
            </a:avLst>
          </a:prstGeom>
          <a:solidFill>
            <a:srgbClr val="969696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nitial VPIM styl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25" name=""/>
          <p:cNvSpPr/>
          <p:nvPr/>
        </p:nvSpPr>
        <p:spPr>
          <a:xfrm>
            <a:off x="2881800" y="3469680"/>
            <a:ext cx="1328040" cy="100728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0640" y="3728520"/>
            <a:ext cx="796320" cy="489600"/>
          </a:xfrm>
          <a:prstGeom prst="rect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B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6680" y="3973680"/>
            <a:ext cx="223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61120" y="3973680"/>
            <a:ext cx="29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76800" y="3745080"/>
            <a:ext cx="6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12120" y="3482640"/>
            <a:ext cx="1328040" cy="100728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5680" y="3728520"/>
            <a:ext cx="796320" cy="489600"/>
          </a:xfrm>
          <a:prstGeom prst="rect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B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1" idx="0"/>
            <a:endCxn id="330" idx="0"/>
          </p:cNvCxnSpPr>
          <p:nvPr/>
        </p:nvCxnSpPr>
        <p:spPr>
          <a:xfrm flipH="1" flipV="1" rot="5400000">
            <a:off x="3576960" y="1771920"/>
            <a:ext cx="246960" cy="3553560"/>
          </a:xfrm>
          <a:prstGeom prst="curvedConnector5">
            <a:avLst>
              <a:gd name="adj1" fmla="val 294160"/>
              <a:gd name="adj2" fmla="val 50000"/>
              <a:gd name="adj3" fmla="val 294160"/>
            </a:avLst>
          </a:prstGeom>
          <a:ln w="38160">
            <a:solidFill>
              <a:srgbClr val="000099"/>
            </a:solidFill>
            <a:miter/>
            <a:head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5507640" y="30481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S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Voicemail specification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600200" y="2895480"/>
          <a:ext cx="5948280" cy="24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948280" cy="243684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nternet mail today 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lmost 30 years of histor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3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Highly successfu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3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Highly reliable, for many/</a:t>
            </a:r>
            <a:r>
              <a:rPr b="1" i="1" lang="en-US" sz="2800" spc="-1" strike="noStrike">
                <a:solidFill>
                  <a:srgbClr val="00ffff"/>
                </a:solidFill>
                <a:latin typeface="Bookman Old Style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us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3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 base for additional servic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Nature of fax servic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What you already know...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ocument transmiss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ulti-media objec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mmediate confirm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road reach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ery easy us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alue-added featur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ultiple recipien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b-address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ax over the Internet?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heaper than telephon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tegrate with other servic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Greater bandwidth (for color)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ll the rest is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potentially interesting)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commentary...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axmail requirement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0280" indent="-440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ata encod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96040" indent="-3438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de range of fax capabilit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0280" indent="-440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evice” address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0280" indent="-440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liable transfer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96040" indent="-3438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th confir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0280" indent="-440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etection of recipient device capabiliti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0280" indent="-440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imely deliver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02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axmail styl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2057400"/>
            <a:ext cx="8013960" cy="4051440"/>
          </a:xfrm>
          <a:prstGeom prst="roundRect">
            <a:avLst>
              <a:gd name="adj" fmla="val 12421"/>
            </a:avLst>
          </a:prstGeom>
          <a:solidFill>
            <a:srgbClr val="969696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39960" y="3638520"/>
            <a:ext cx="3366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9440" y="3366360"/>
            <a:ext cx="889920" cy="55044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2520" rIns="18252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2560" y="3657600"/>
            <a:ext cx="41436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95480" y="3366360"/>
            <a:ext cx="804600" cy="55044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2520" rIns="18252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73200" y="3366360"/>
            <a:ext cx="822960" cy="55044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2520" rIns="18252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86520" y="3657600"/>
            <a:ext cx="36828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35160" y="3632040"/>
            <a:ext cx="361800" cy="255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49480" y="3047760"/>
            <a:ext cx="247644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w="38160">
            <a:solidFill>
              <a:srgbClr val="000099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44920" y="2971440"/>
            <a:ext cx="415260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38160">
            <a:solidFill>
              <a:srgbClr val="000099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28600" y="5718240"/>
            <a:ext cx="27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Internet Mail Consorti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2400" y="4832280"/>
            <a:ext cx="3819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A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T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l Transfer A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ssage 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18920" y="3366360"/>
            <a:ext cx="977040" cy="55044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99"/>
            </a:solidFill>
            <a:miter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2520" rIns="18252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/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6120" y="2484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Bookman Old Style"/>
              </a:rPr>
              <a:t>fa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Bookman Old Style"/>
              </a:rPr>
              <a:t>ph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00720" y="2484360"/>
            <a:ext cx="101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Bookman Old Style"/>
              </a:rPr>
              <a:t>POP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Bookman Old Style"/>
              </a:rPr>
              <a:t>I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38560" y="27590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Bookman Old Style"/>
              </a:rPr>
              <a:t>File I/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55400" y="2209680"/>
            <a:ext cx="9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Bookman Old Style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66"/>
                </a:solidFill>
                <a:uFillTx/>
                <a:latin typeface="Bookman Old Style"/>
              </a:rPr>
              <a:t>p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Bookman Old Style"/>
              </a:rPr>
              <a:t>ph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36480" y="4512240"/>
            <a:ext cx="1191600" cy="114084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Messag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RFC8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268360" y="3009960"/>
            <a:ext cx="456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792600" y="3009960"/>
            <a:ext cx="456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697360" y="3009960"/>
            <a:ext cx="456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068960" y="3009960"/>
            <a:ext cx="4564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84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3124080"/>
            <a:ext cx="1601640" cy="1220760"/>
          </a:xfrm>
          <a:custGeom>
            <a:avLst/>
            <a:gdLst/>
            <a:ahLst/>
            <a:rect l="l" t="t" r="r" b="b"/>
            <a:pathLst>
              <a:path w="1009" h="865">
                <a:moveTo>
                  <a:pt x="578" y="101"/>
                </a:moveTo>
                <a:lnTo>
                  <a:pt x="564" y="93"/>
                </a:lnTo>
                <a:lnTo>
                  <a:pt x="564" y="85"/>
                </a:lnTo>
                <a:lnTo>
                  <a:pt x="559" y="77"/>
                </a:lnTo>
                <a:lnTo>
                  <a:pt x="559" y="70"/>
                </a:lnTo>
                <a:lnTo>
                  <a:pt x="545" y="54"/>
                </a:lnTo>
                <a:lnTo>
                  <a:pt x="540" y="43"/>
                </a:lnTo>
                <a:lnTo>
                  <a:pt x="535" y="35"/>
                </a:lnTo>
                <a:lnTo>
                  <a:pt x="530" y="27"/>
                </a:lnTo>
                <a:lnTo>
                  <a:pt x="521" y="23"/>
                </a:lnTo>
                <a:lnTo>
                  <a:pt x="511" y="19"/>
                </a:lnTo>
                <a:lnTo>
                  <a:pt x="502" y="15"/>
                </a:lnTo>
                <a:lnTo>
                  <a:pt x="487" y="8"/>
                </a:lnTo>
                <a:lnTo>
                  <a:pt x="473" y="4"/>
                </a:lnTo>
                <a:lnTo>
                  <a:pt x="459" y="0"/>
                </a:lnTo>
                <a:lnTo>
                  <a:pt x="449" y="4"/>
                </a:lnTo>
                <a:lnTo>
                  <a:pt x="440" y="4"/>
                </a:lnTo>
                <a:lnTo>
                  <a:pt x="430" y="4"/>
                </a:lnTo>
                <a:lnTo>
                  <a:pt x="420" y="12"/>
                </a:lnTo>
                <a:lnTo>
                  <a:pt x="411" y="15"/>
                </a:lnTo>
                <a:lnTo>
                  <a:pt x="401" y="19"/>
                </a:lnTo>
                <a:lnTo>
                  <a:pt x="392" y="23"/>
                </a:lnTo>
                <a:lnTo>
                  <a:pt x="382" y="27"/>
                </a:lnTo>
                <a:lnTo>
                  <a:pt x="373" y="31"/>
                </a:lnTo>
                <a:lnTo>
                  <a:pt x="363" y="39"/>
                </a:lnTo>
                <a:lnTo>
                  <a:pt x="349" y="46"/>
                </a:lnTo>
                <a:lnTo>
                  <a:pt x="339" y="50"/>
                </a:lnTo>
                <a:lnTo>
                  <a:pt x="334" y="58"/>
                </a:lnTo>
                <a:lnTo>
                  <a:pt x="296" y="89"/>
                </a:lnTo>
                <a:lnTo>
                  <a:pt x="296" y="97"/>
                </a:lnTo>
                <a:lnTo>
                  <a:pt x="287" y="105"/>
                </a:lnTo>
                <a:lnTo>
                  <a:pt x="263" y="101"/>
                </a:lnTo>
                <a:lnTo>
                  <a:pt x="277" y="93"/>
                </a:lnTo>
                <a:lnTo>
                  <a:pt x="268" y="89"/>
                </a:lnTo>
                <a:lnTo>
                  <a:pt x="253" y="93"/>
                </a:lnTo>
                <a:lnTo>
                  <a:pt x="244" y="93"/>
                </a:lnTo>
                <a:lnTo>
                  <a:pt x="229" y="97"/>
                </a:lnTo>
                <a:lnTo>
                  <a:pt x="220" y="97"/>
                </a:lnTo>
                <a:lnTo>
                  <a:pt x="205" y="101"/>
                </a:lnTo>
                <a:lnTo>
                  <a:pt x="201" y="108"/>
                </a:lnTo>
                <a:lnTo>
                  <a:pt x="191" y="112"/>
                </a:lnTo>
                <a:lnTo>
                  <a:pt x="177" y="124"/>
                </a:lnTo>
                <a:lnTo>
                  <a:pt x="167" y="132"/>
                </a:lnTo>
                <a:lnTo>
                  <a:pt x="158" y="136"/>
                </a:lnTo>
                <a:lnTo>
                  <a:pt x="148" y="136"/>
                </a:lnTo>
                <a:lnTo>
                  <a:pt x="143" y="143"/>
                </a:lnTo>
                <a:lnTo>
                  <a:pt x="110" y="178"/>
                </a:lnTo>
                <a:lnTo>
                  <a:pt x="100" y="186"/>
                </a:lnTo>
                <a:lnTo>
                  <a:pt x="96" y="198"/>
                </a:lnTo>
                <a:lnTo>
                  <a:pt x="91" y="205"/>
                </a:lnTo>
                <a:lnTo>
                  <a:pt x="91" y="213"/>
                </a:lnTo>
                <a:lnTo>
                  <a:pt x="91" y="221"/>
                </a:lnTo>
                <a:lnTo>
                  <a:pt x="91" y="232"/>
                </a:lnTo>
                <a:lnTo>
                  <a:pt x="91" y="240"/>
                </a:lnTo>
                <a:lnTo>
                  <a:pt x="96" y="248"/>
                </a:lnTo>
                <a:lnTo>
                  <a:pt x="96" y="256"/>
                </a:lnTo>
                <a:lnTo>
                  <a:pt x="105" y="267"/>
                </a:lnTo>
                <a:lnTo>
                  <a:pt x="115" y="271"/>
                </a:lnTo>
                <a:lnTo>
                  <a:pt x="119" y="279"/>
                </a:lnTo>
                <a:lnTo>
                  <a:pt x="129" y="283"/>
                </a:lnTo>
                <a:lnTo>
                  <a:pt x="139" y="287"/>
                </a:lnTo>
                <a:lnTo>
                  <a:pt x="119" y="287"/>
                </a:lnTo>
                <a:lnTo>
                  <a:pt x="134" y="287"/>
                </a:lnTo>
                <a:lnTo>
                  <a:pt x="124" y="287"/>
                </a:lnTo>
                <a:lnTo>
                  <a:pt x="115" y="291"/>
                </a:lnTo>
                <a:lnTo>
                  <a:pt x="110" y="298"/>
                </a:lnTo>
                <a:lnTo>
                  <a:pt x="100" y="302"/>
                </a:lnTo>
                <a:lnTo>
                  <a:pt x="100" y="310"/>
                </a:lnTo>
                <a:lnTo>
                  <a:pt x="91" y="314"/>
                </a:lnTo>
                <a:lnTo>
                  <a:pt x="81" y="322"/>
                </a:lnTo>
                <a:lnTo>
                  <a:pt x="48" y="360"/>
                </a:lnTo>
                <a:lnTo>
                  <a:pt x="38" y="376"/>
                </a:lnTo>
                <a:lnTo>
                  <a:pt x="29" y="384"/>
                </a:lnTo>
                <a:lnTo>
                  <a:pt x="24" y="395"/>
                </a:lnTo>
                <a:lnTo>
                  <a:pt x="19" y="407"/>
                </a:lnTo>
                <a:lnTo>
                  <a:pt x="14" y="415"/>
                </a:lnTo>
                <a:lnTo>
                  <a:pt x="14" y="422"/>
                </a:lnTo>
                <a:lnTo>
                  <a:pt x="10" y="430"/>
                </a:lnTo>
                <a:lnTo>
                  <a:pt x="5" y="438"/>
                </a:lnTo>
                <a:lnTo>
                  <a:pt x="5" y="453"/>
                </a:lnTo>
                <a:lnTo>
                  <a:pt x="5" y="461"/>
                </a:lnTo>
                <a:lnTo>
                  <a:pt x="0" y="469"/>
                </a:lnTo>
                <a:lnTo>
                  <a:pt x="0" y="480"/>
                </a:lnTo>
                <a:lnTo>
                  <a:pt x="0" y="488"/>
                </a:lnTo>
                <a:lnTo>
                  <a:pt x="0" y="496"/>
                </a:lnTo>
                <a:lnTo>
                  <a:pt x="5" y="504"/>
                </a:lnTo>
                <a:lnTo>
                  <a:pt x="10" y="511"/>
                </a:lnTo>
                <a:lnTo>
                  <a:pt x="19" y="519"/>
                </a:lnTo>
                <a:lnTo>
                  <a:pt x="29" y="523"/>
                </a:lnTo>
                <a:lnTo>
                  <a:pt x="38" y="531"/>
                </a:lnTo>
                <a:lnTo>
                  <a:pt x="53" y="535"/>
                </a:lnTo>
                <a:lnTo>
                  <a:pt x="67" y="539"/>
                </a:lnTo>
                <a:lnTo>
                  <a:pt x="76" y="539"/>
                </a:lnTo>
                <a:lnTo>
                  <a:pt x="86" y="539"/>
                </a:lnTo>
                <a:lnTo>
                  <a:pt x="96" y="539"/>
                </a:lnTo>
                <a:lnTo>
                  <a:pt x="105" y="542"/>
                </a:lnTo>
                <a:lnTo>
                  <a:pt x="115" y="542"/>
                </a:lnTo>
                <a:lnTo>
                  <a:pt x="119" y="589"/>
                </a:lnTo>
                <a:lnTo>
                  <a:pt x="110" y="585"/>
                </a:lnTo>
                <a:lnTo>
                  <a:pt x="110" y="593"/>
                </a:lnTo>
                <a:lnTo>
                  <a:pt x="110" y="601"/>
                </a:lnTo>
                <a:lnTo>
                  <a:pt x="115" y="608"/>
                </a:lnTo>
                <a:lnTo>
                  <a:pt x="115" y="616"/>
                </a:lnTo>
                <a:lnTo>
                  <a:pt x="139" y="666"/>
                </a:lnTo>
                <a:lnTo>
                  <a:pt x="148" y="674"/>
                </a:lnTo>
                <a:lnTo>
                  <a:pt x="153" y="682"/>
                </a:lnTo>
                <a:lnTo>
                  <a:pt x="162" y="690"/>
                </a:lnTo>
                <a:lnTo>
                  <a:pt x="177" y="694"/>
                </a:lnTo>
                <a:lnTo>
                  <a:pt x="191" y="701"/>
                </a:lnTo>
                <a:lnTo>
                  <a:pt x="201" y="705"/>
                </a:lnTo>
                <a:lnTo>
                  <a:pt x="210" y="709"/>
                </a:lnTo>
                <a:lnTo>
                  <a:pt x="225" y="713"/>
                </a:lnTo>
                <a:lnTo>
                  <a:pt x="234" y="717"/>
                </a:lnTo>
                <a:lnTo>
                  <a:pt x="244" y="717"/>
                </a:lnTo>
                <a:lnTo>
                  <a:pt x="253" y="717"/>
                </a:lnTo>
                <a:lnTo>
                  <a:pt x="263" y="717"/>
                </a:lnTo>
                <a:lnTo>
                  <a:pt x="272" y="717"/>
                </a:lnTo>
                <a:lnTo>
                  <a:pt x="282" y="717"/>
                </a:lnTo>
                <a:lnTo>
                  <a:pt x="291" y="717"/>
                </a:lnTo>
                <a:lnTo>
                  <a:pt x="301" y="717"/>
                </a:lnTo>
                <a:lnTo>
                  <a:pt x="315" y="717"/>
                </a:lnTo>
                <a:lnTo>
                  <a:pt x="349" y="705"/>
                </a:lnTo>
                <a:lnTo>
                  <a:pt x="354" y="713"/>
                </a:lnTo>
                <a:lnTo>
                  <a:pt x="354" y="721"/>
                </a:lnTo>
                <a:lnTo>
                  <a:pt x="354" y="728"/>
                </a:lnTo>
                <a:lnTo>
                  <a:pt x="354" y="736"/>
                </a:lnTo>
                <a:lnTo>
                  <a:pt x="354" y="744"/>
                </a:lnTo>
                <a:lnTo>
                  <a:pt x="354" y="756"/>
                </a:lnTo>
                <a:lnTo>
                  <a:pt x="358" y="767"/>
                </a:lnTo>
                <a:lnTo>
                  <a:pt x="363" y="779"/>
                </a:lnTo>
                <a:lnTo>
                  <a:pt x="368" y="790"/>
                </a:lnTo>
                <a:lnTo>
                  <a:pt x="373" y="798"/>
                </a:lnTo>
                <a:lnTo>
                  <a:pt x="377" y="806"/>
                </a:lnTo>
                <a:lnTo>
                  <a:pt x="435" y="849"/>
                </a:lnTo>
                <a:lnTo>
                  <a:pt x="444" y="849"/>
                </a:lnTo>
                <a:lnTo>
                  <a:pt x="459" y="852"/>
                </a:lnTo>
                <a:lnTo>
                  <a:pt x="473" y="856"/>
                </a:lnTo>
                <a:lnTo>
                  <a:pt x="483" y="860"/>
                </a:lnTo>
                <a:lnTo>
                  <a:pt x="492" y="864"/>
                </a:lnTo>
                <a:lnTo>
                  <a:pt x="502" y="864"/>
                </a:lnTo>
                <a:lnTo>
                  <a:pt x="516" y="864"/>
                </a:lnTo>
                <a:lnTo>
                  <a:pt x="535" y="860"/>
                </a:lnTo>
                <a:lnTo>
                  <a:pt x="545" y="856"/>
                </a:lnTo>
                <a:lnTo>
                  <a:pt x="559" y="852"/>
                </a:lnTo>
                <a:lnTo>
                  <a:pt x="568" y="852"/>
                </a:lnTo>
                <a:lnTo>
                  <a:pt x="578" y="849"/>
                </a:lnTo>
                <a:lnTo>
                  <a:pt x="588" y="849"/>
                </a:lnTo>
                <a:lnTo>
                  <a:pt x="602" y="845"/>
                </a:lnTo>
                <a:lnTo>
                  <a:pt x="611" y="837"/>
                </a:lnTo>
                <a:lnTo>
                  <a:pt x="621" y="833"/>
                </a:lnTo>
                <a:lnTo>
                  <a:pt x="631" y="821"/>
                </a:lnTo>
                <a:lnTo>
                  <a:pt x="635" y="810"/>
                </a:lnTo>
                <a:lnTo>
                  <a:pt x="640" y="802"/>
                </a:lnTo>
                <a:lnTo>
                  <a:pt x="664" y="775"/>
                </a:lnTo>
                <a:lnTo>
                  <a:pt x="669" y="783"/>
                </a:lnTo>
                <a:lnTo>
                  <a:pt x="674" y="790"/>
                </a:lnTo>
                <a:lnTo>
                  <a:pt x="683" y="794"/>
                </a:lnTo>
                <a:lnTo>
                  <a:pt x="693" y="798"/>
                </a:lnTo>
                <a:lnTo>
                  <a:pt x="712" y="806"/>
                </a:lnTo>
                <a:lnTo>
                  <a:pt x="721" y="810"/>
                </a:lnTo>
                <a:lnTo>
                  <a:pt x="731" y="814"/>
                </a:lnTo>
                <a:lnTo>
                  <a:pt x="745" y="814"/>
                </a:lnTo>
                <a:lnTo>
                  <a:pt x="755" y="818"/>
                </a:lnTo>
                <a:lnTo>
                  <a:pt x="764" y="818"/>
                </a:lnTo>
                <a:lnTo>
                  <a:pt x="779" y="818"/>
                </a:lnTo>
                <a:lnTo>
                  <a:pt x="793" y="818"/>
                </a:lnTo>
                <a:lnTo>
                  <a:pt x="803" y="818"/>
                </a:lnTo>
                <a:lnTo>
                  <a:pt x="812" y="818"/>
                </a:lnTo>
                <a:lnTo>
                  <a:pt x="822" y="814"/>
                </a:lnTo>
                <a:lnTo>
                  <a:pt x="836" y="814"/>
                </a:lnTo>
                <a:lnTo>
                  <a:pt x="841" y="806"/>
                </a:lnTo>
                <a:lnTo>
                  <a:pt x="850" y="802"/>
                </a:lnTo>
                <a:lnTo>
                  <a:pt x="860" y="802"/>
                </a:lnTo>
                <a:lnTo>
                  <a:pt x="874" y="794"/>
                </a:lnTo>
                <a:lnTo>
                  <a:pt x="884" y="787"/>
                </a:lnTo>
                <a:lnTo>
                  <a:pt x="903" y="740"/>
                </a:lnTo>
                <a:lnTo>
                  <a:pt x="903" y="732"/>
                </a:lnTo>
                <a:lnTo>
                  <a:pt x="903" y="721"/>
                </a:lnTo>
                <a:lnTo>
                  <a:pt x="903" y="713"/>
                </a:lnTo>
                <a:lnTo>
                  <a:pt x="893" y="701"/>
                </a:lnTo>
                <a:lnTo>
                  <a:pt x="893" y="694"/>
                </a:lnTo>
                <a:lnTo>
                  <a:pt x="884" y="682"/>
                </a:lnTo>
                <a:lnTo>
                  <a:pt x="879" y="670"/>
                </a:lnTo>
                <a:lnTo>
                  <a:pt x="879" y="663"/>
                </a:lnTo>
                <a:lnTo>
                  <a:pt x="874" y="651"/>
                </a:lnTo>
                <a:lnTo>
                  <a:pt x="874" y="643"/>
                </a:lnTo>
                <a:lnTo>
                  <a:pt x="869" y="635"/>
                </a:lnTo>
                <a:lnTo>
                  <a:pt x="869" y="628"/>
                </a:lnTo>
                <a:lnTo>
                  <a:pt x="865" y="612"/>
                </a:lnTo>
                <a:lnTo>
                  <a:pt x="865" y="620"/>
                </a:lnTo>
                <a:lnTo>
                  <a:pt x="879" y="620"/>
                </a:lnTo>
                <a:lnTo>
                  <a:pt x="889" y="620"/>
                </a:lnTo>
                <a:lnTo>
                  <a:pt x="903" y="612"/>
                </a:lnTo>
                <a:lnTo>
                  <a:pt x="912" y="608"/>
                </a:lnTo>
                <a:lnTo>
                  <a:pt x="922" y="601"/>
                </a:lnTo>
                <a:lnTo>
                  <a:pt x="936" y="593"/>
                </a:lnTo>
                <a:lnTo>
                  <a:pt x="946" y="589"/>
                </a:lnTo>
                <a:lnTo>
                  <a:pt x="955" y="585"/>
                </a:lnTo>
                <a:lnTo>
                  <a:pt x="970" y="577"/>
                </a:lnTo>
                <a:lnTo>
                  <a:pt x="979" y="566"/>
                </a:lnTo>
                <a:lnTo>
                  <a:pt x="984" y="558"/>
                </a:lnTo>
                <a:lnTo>
                  <a:pt x="989" y="546"/>
                </a:lnTo>
                <a:lnTo>
                  <a:pt x="994" y="539"/>
                </a:lnTo>
                <a:lnTo>
                  <a:pt x="998" y="531"/>
                </a:lnTo>
                <a:lnTo>
                  <a:pt x="998" y="519"/>
                </a:lnTo>
                <a:lnTo>
                  <a:pt x="998" y="511"/>
                </a:lnTo>
                <a:lnTo>
                  <a:pt x="1003" y="504"/>
                </a:lnTo>
                <a:lnTo>
                  <a:pt x="1008" y="488"/>
                </a:lnTo>
                <a:lnTo>
                  <a:pt x="1008" y="480"/>
                </a:lnTo>
                <a:lnTo>
                  <a:pt x="1008" y="469"/>
                </a:lnTo>
                <a:lnTo>
                  <a:pt x="1003" y="461"/>
                </a:lnTo>
                <a:lnTo>
                  <a:pt x="1003" y="453"/>
                </a:lnTo>
                <a:lnTo>
                  <a:pt x="998" y="446"/>
                </a:lnTo>
                <a:lnTo>
                  <a:pt x="998" y="438"/>
                </a:lnTo>
                <a:lnTo>
                  <a:pt x="893" y="380"/>
                </a:lnTo>
                <a:lnTo>
                  <a:pt x="922" y="380"/>
                </a:lnTo>
                <a:lnTo>
                  <a:pt x="908" y="372"/>
                </a:lnTo>
                <a:lnTo>
                  <a:pt x="946" y="353"/>
                </a:lnTo>
                <a:lnTo>
                  <a:pt x="951" y="345"/>
                </a:lnTo>
                <a:lnTo>
                  <a:pt x="960" y="341"/>
                </a:lnTo>
                <a:lnTo>
                  <a:pt x="965" y="329"/>
                </a:lnTo>
                <a:lnTo>
                  <a:pt x="975" y="318"/>
                </a:lnTo>
                <a:lnTo>
                  <a:pt x="979" y="310"/>
                </a:lnTo>
                <a:lnTo>
                  <a:pt x="979" y="302"/>
                </a:lnTo>
                <a:lnTo>
                  <a:pt x="984" y="294"/>
                </a:lnTo>
                <a:lnTo>
                  <a:pt x="984" y="283"/>
                </a:lnTo>
                <a:lnTo>
                  <a:pt x="984" y="271"/>
                </a:lnTo>
                <a:lnTo>
                  <a:pt x="984" y="263"/>
                </a:lnTo>
                <a:lnTo>
                  <a:pt x="975" y="256"/>
                </a:lnTo>
                <a:lnTo>
                  <a:pt x="975" y="248"/>
                </a:lnTo>
                <a:lnTo>
                  <a:pt x="965" y="244"/>
                </a:lnTo>
                <a:lnTo>
                  <a:pt x="955" y="240"/>
                </a:lnTo>
                <a:lnTo>
                  <a:pt x="941" y="240"/>
                </a:lnTo>
                <a:lnTo>
                  <a:pt x="932" y="240"/>
                </a:lnTo>
                <a:lnTo>
                  <a:pt x="922" y="244"/>
                </a:lnTo>
                <a:lnTo>
                  <a:pt x="912" y="244"/>
                </a:lnTo>
                <a:lnTo>
                  <a:pt x="903" y="244"/>
                </a:lnTo>
                <a:lnTo>
                  <a:pt x="889" y="248"/>
                </a:lnTo>
                <a:lnTo>
                  <a:pt x="879" y="248"/>
                </a:lnTo>
                <a:lnTo>
                  <a:pt x="869" y="256"/>
                </a:lnTo>
                <a:lnTo>
                  <a:pt x="855" y="260"/>
                </a:lnTo>
                <a:lnTo>
                  <a:pt x="831" y="267"/>
                </a:lnTo>
                <a:lnTo>
                  <a:pt x="836" y="263"/>
                </a:lnTo>
                <a:lnTo>
                  <a:pt x="836" y="252"/>
                </a:lnTo>
                <a:lnTo>
                  <a:pt x="846" y="236"/>
                </a:lnTo>
                <a:lnTo>
                  <a:pt x="850" y="225"/>
                </a:lnTo>
                <a:lnTo>
                  <a:pt x="850" y="217"/>
                </a:lnTo>
                <a:lnTo>
                  <a:pt x="860" y="209"/>
                </a:lnTo>
                <a:lnTo>
                  <a:pt x="860" y="198"/>
                </a:lnTo>
                <a:lnTo>
                  <a:pt x="860" y="190"/>
                </a:lnTo>
                <a:lnTo>
                  <a:pt x="865" y="178"/>
                </a:lnTo>
                <a:lnTo>
                  <a:pt x="865" y="167"/>
                </a:lnTo>
                <a:lnTo>
                  <a:pt x="865" y="155"/>
                </a:lnTo>
                <a:lnTo>
                  <a:pt x="860" y="139"/>
                </a:lnTo>
                <a:lnTo>
                  <a:pt x="855" y="132"/>
                </a:lnTo>
                <a:lnTo>
                  <a:pt x="850" y="120"/>
                </a:lnTo>
                <a:lnTo>
                  <a:pt x="841" y="108"/>
                </a:lnTo>
                <a:lnTo>
                  <a:pt x="841" y="101"/>
                </a:lnTo>
                <a:lnTo>
                  <a:pt x="836" y="93"/>
                </a:lnTo>
                <a:lnTo>
                  <a:pt x="826" y="85"/>
                </a:lnTo>
                <a:lnTo>
                  <a:pt x="817" y="81"/>
                </a:lnTo>
                <a:lnTo>
                  <a:pt x="807" y="77"/>
                </a:lnTo>
                <a:lnTo>
                  <a:pt x="798" y="77"/>
                </a:lnTo>
                <a:lnTo>
                  <a:pt x="788" y="74"/>
                </a:lnTo>
                <a:lnTo>
                  <a:pt x="755" y="70"/>
                </a:lnTo>
                <a:lnTo>
                  <a:pt x="745" y="74"/>
                </a:lnTo>
                <a:lnTo>
                  <a:pt x="736" y="74"/>
                </a:lnTo>
                <a:lnTo>
                  <a:pt x="726" y="74"/>
                </a:lnTo>
                <a:lnTo>
                  <a:pt x="717" y="74"/>
                </a:lnTo>
                <a:lnTo>
                  <a:pt x="702" y="74"/>
                </a:lnTo>
                <a:lnTo>
                  <a:pt x="693" y="74"/>
                </a:lnTo>
                <a:lnTo>
                  <a:pt x="693" y="54"/>
                </a:lnTo>
                <a:lnTo>
                  <a:pt x="688" y="66"/>
                </a:lnTo>
                <a:lnTo>
                  <a:pt x="683" y="58"/>
                </a:lnTo>
                <a:lnTo>
                  <a:pt x="674" y="50"/>
                </a:lnTo>
                <a:lnTo>
                  <a:pt x="659" y="43"/>
                </a:lnTo>
                <a:lnTo>
                  <a:pt x="650" y="39"/>
                </a:lnTo>
                <a:lnTo>
                  <a:pt x="621" y="27"/>
                </a:lnTo>
                <a:lnTo>
                  <a:pt x="611" y="23"/>
                </a:lnTo>
                <a:lnTo>
                  <a:pt x="602" y="19"/>
                </a:lnTo>
                <a:lnTo>
                  <a:pt x="592" y="19"/>
                </a:lnTo>
                <a:lnTo>
                  <a:pt x="583" y="19"/>
                </a:lnTo>
                <a:lnTo>
                  <a:pt x="573" y="19"/>
                </a:lnTo>
                <a:lnTo>
                  <a:pt x="564" y="15"/>
                </a:lnTo>
                <a:lnTo>
                  <a:pt x="554" y="15"/>
                </a:lnTo>
                <a:lnTo>
                  <a:pt x="545" y="15"/>
                </a:lnTo>
                <a:lnTo>
                  <a:pt x="535" y="23"/>
                </a:lnTo>
                <a:lnTo>
                  <a:pt x="530" y="31"/>
                </a:lnTo>
                <a:lnTo>
                  <a:pt x="525" y="46"/>
                </a:lnTo>
              </a:path>
            </a:pathLst>
          </a:custGeom>
          <a:solidFill>
            <a:srgbClr val="0000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75000" y="35053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ax addressesing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AX= +cc-telephone @ gatewa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AX=+14082736464@fax.company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Optional sub-address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AX=+1-408-273-6464/T33S=123@…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Other addressing form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gal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, but not standar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imple-mode fax spec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95280" y="2743200"/>
          <a:ext cx="6562800" cy="268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6562800" cy="268920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xtended-mode fax spec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95280" y="2590920"/>
          <a:ext cx="6556320" cy="299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6556320" cy="299088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ull-mode fax issu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uthentic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ivac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ccounting/Charg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cipient capabiliti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Bookman Old Style"/>
              </a:rPr>
              <a:t>Integrated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 mail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for one user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379" name=""/>
          <p:cNvSpPr/>
          <p:nvPr/>
        </p:nvSpPr>
        <p:spPr>
          <a:xfrm>
            <a:off x="3427200" y="2748600"/>
            <a:ext cx="928800" cy="579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3160" y="1986840"/>
            <a:ext cx="134964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9800" y="5584320"/>
            <a:ext cx="1089000" cy="61020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62920" y="1371600"/>
            <a:ext cx="26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72200" y="990720"/>
            <a:ext cx="6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37160" y="2748600"/>
            <a:ext cx="928800" cy="579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37200" y="377208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02200" y="3978000"/>
            <a:ext cx="1413360" cy="70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Wirel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8560" y="1986840"/>
            <a:ext cx="134964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71720" y="3176280"/>
            <a:ext cx="1639080" cy="70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200400" y="3656160"/>
            <a:ext cx="2514600" cy="1373040"/>
            <a:chOff x="3200400" y="3656160"/>
            <a:chExt cx="2514600" cy="1373040"/>
          </a:xfrm>
        </p:grpSpPr>
        <p:sp>
          <p:nvSpPr>
            <p:cNvPr id="390" name=""/>
            <p:cNvSpPr/>
            <p:nvPr/>
          </p:nvSpPr>
          <p:spPr>
            <a:xfrm>
              <a:off x="3200400" y="3656160"/>
              <a:ext cx="2514600" cy="1373040"/>
            </a:xfrm>
            <a:custGeom>
              <a:avLst/>
              <a:gdLst/>
              <a:ahLst/>
              <a:rect l="l" t="t" r="r" b="b"/>
              <a:pathLst>
                <a:path w="1009" h="865">
                  <a:moveTo>
                    <a:pt x="578" y="101"/>
                  </a:moveTo>
                  <a:lnTo>
                    <a:pt x="564" y="93"/>
                  </a:lnTo>
                  <a:lnTo>
                    <a:pt x="564" y="85"/>
                  </a:lnTo>
                  <a:lnTo>
                    <a:pt x="559" y="77"/>
                  </a:lnTo>
                  <a:lnTo>
                    <a:pt x="559" y="70"/>
                  </a:lnTo>
                  <a:lnTo>
                    <a:pt x="545" y="54"/>
                  </a:lnTo>
                  <a:lnTo>
                    <a:pt x="540" y="43"/>
                  </a:lnTo>
                  <a:lnTo>
                    <a:pt x="535" y="35"/>
                  </a:lnTo>
                  <a:lnTo>
                    <a:pt x="530" y="27"/>
                  </a:lnTo>
                  <a:lnTo>
                    <a:pt x="521" y="23"/>
                  </a:lnTo>
                  <a:lnTo>
                    <a:pt x="511" y="19"/>
                  </a:lnTo>
                  <a:lnTo>
                    <a:pt x="502" y="15"/>
                  </a:lnTo>
                  <a:lnTo>
                    <a:pt x="487" y="8"/>
                  </a:lnTo>
                  <a:lnTo>
                    <a:pt x="473" y="4"/>
                  </a:lnTo>
                  <a:lnTo>
                    <a:pt x="459" y="0"/>
                  </a:lnTo>
                  <a:lnTo>
                    <a:pt x="449" y="4"/>
                  </a:lnTo>
                  <a:lnTo>
                    <a:pt x="440" y="4"/>
                  </a:lnTo>
                  <a:lnTo>
                    <a:pt x="430" y="4"/>
                  </a:lnTo>
                  <a:lnTo>
                    <a:pt x="420" y="12"/>
                  </a:lnTo>
                  <a:lnTo>
                    <a:pt x="411" y="15"/>
                  </a:lnTo>
                  <a:lnTo>
                    <a:pt x="401" y="19"/>
                  </a:lnTo>
                  <a:lnTo>
                    <a:pt x="392" y="23"/>
                  </a:lnTo>
                  <a:lnTo>
                    <a:pt x="382" y="27"/>
                  </a:lnTo>
                  <a:lnTo>
                    <a:pt x="373" y="31"/>
                  </a:lnTo>
                  <a:lnTo>
                    <a:pt x="363" y="39"/>
                  </a:lnTo>
                  <a:lnTo>
                    <a:pt x="349" y="46"/>
                  </a:lnTo>
                  <a:lnTo>
                    <a:pt x="339" y="50"/>
                  </a:lnTo>
                  <a:lnTo>
                    <a:pt x="334" y="58"/>
                  </a:lnTo>
                  <a:lnTo>
                    <a:pt x="296" y="89"/>
                  </a:lnTo>
                  <a:lnTo>
                    <a:pt x="296" y="97"/>
                  </a:lnTo>
                  <a:lnTo>
                    <a:pt x="287" y="105"/>
                  </a:lnTo>
                  <a:lnTo>
                    <a:pt x="263" y="101"/>
                  </a:lnTo>
                  <a:lnTo>
                    <a:pt x="277" y="93"/>
                  </a:lnTo>
                  <a:lnTo>
                    <a:pt x="268" y="89"/>
                  </a:lnTo>
                  <a:lnTo>
                    <a:pt x="253" y="93"/>
                  </a:lnTo>
                  <a:lnTo>
                    <a:pt x="244" y="93"/>
                  </a:lnTo>
                  <a:lnTo>
                    <a:pt x="229" y="97"/>
                  </a:lnTo>
                  <a:lnTo>
                    <a:pt x="220" y="97"/>
                  </a:lnTo>
                  <a:lnTo>
                    <a:pt x="205" y="101"/>
                  </a:lnTo>
                  <a:lnTo>
                    <a:pt x="201" y="108"/>
                  </a:lnTo>
                  <a:lnTo>
                    <a:pt x="191" y="112"/>
                  </a:lnTo>
                  <a:lnTo>
                    <a:pt x="177" y="124"/>
                  </a:lnTo>
                  <a:lnTo>
                    <a:pt x="167" y="132"/>
                  </a:lnTo>
                  <a:lnTo>
                    <a:pt x="158" y="136"/>
                  </a:lnTo>
                  <a:lnTo>
                    <a:pt x="148" y="136"/>
                  </a:lnTo>
                  <a:lnTo>
                    <a:pt x="143" y="143"/>
                  </a:lnTo>
                  <a:lnTo>
                    <a:pt x="110" y="178"/>
                  </a:lnTo>
                  <a:lnTo>
                    <a:pt x="100" y="186"/>
                  </a:lnTo>
                  <a:lnTo>
                    <a:pt x="96" y="198"/>
                  </a:lnTo>
                  <a:lnTo>
                    <a:pt x="91" y="205"/>
                  </a:lnTo>
                  <a:lnTo>
                    <a:pt x="91" y="213"/>
                  </a:lnTo>
                  <a:lnTo>
                    <a:pt x="91" y="221"/>
                  </a:lnTo>
                  <a:lnTo>
                    <a:pt x="91" y="232"/>
                  </a:lnTo>
                  <a:lnTo>
                    <a:pt x="91" y="240"/>
                  </a:lnTo>
                  <a:lnTo>
                    <a:pt x="96" y="248"/>
                  </a:lnTo>
                  <a:lnTo>
                    <a:pt x="96" y="256"/>
                  </a:lnTo>
                  <a:lnTo>
                    <a:pt x="105" y="267"/>
                  </a:lnTo>
                  <a:lnTo>
                    <a:pt x="115" y="271"/>
                  </a:lnTo>
                  <a:lnTo>
                    <a:pt x="119" y="279"/>
                  </a:lnTo>
                  <a:lnTo>
                    <a:pt x="129" y="283"/>
                  </a:lnTo>
                  <a:lnTo>
                    <a:pt x="139" y="287"/>
                  </a:lnTo>
                  <a:lnTo>
                    <a:pt x="119" y="287"/>
                  </a:lnTo>
                  <a:lnTo>
                    <a:pt x="134" y="287"/>
                  </a:lnTo>
                  <a:lnTo>
                    <a:pt x="124" y="287"/>
                  </a:lnTo>
                  <a:lnTo>
                    <a:pt x="115" y="291"/>
                  </a:lnTo>
                  <a:lnTo>
                    <a:pt x="110" y="298"/>
                  </a:lnTo>
                  <a:lnTo>
                    <a:pt x="100" y="302"/>
                  </a:lnTo>
                  <a:lnTo>
                    <a:pt x="100" y="310"/>
                  </a:lnTo>
                  <a:lnTo>
                    <a:pt x="91" y="314"/>
                  </a:lnTo>
                  <a:lnTo>
                    <a:pt x="81" y="322"/>
                  </a:lnTo>
                  <a:lnTo>
                    <a:pt x="48" y="360"/>
                  </a:lnTo>
                  <a:lnTo>
                    <a:pt x="38" y="376"/>
                  </a:lnTo>
                  <a:lnTo>
                    <a:pt x="29" y="384"/>
                  </a:lnTo>
                  <a:lnTo>
                    <a:pt x="24" y="395"/>
                  </a:lnTo>
                  <a:lnTo>
                    <a:pt x="19" y="407"/>
                  </a:lnTo>
                  <a:lnTo>
                    <a:pt x="14" y="415"/>
                  </a:lnTo>
                  <a:lnTo>
                    <a:pt x="14" y="422"/>
                  </a:lnTo>
                  <a:lnTo>
                    <a:pt x="10" y="430"/>
                  </a:lnTo>
                  <a:lnTo>
                    <a:pt x="5" y="438"/>
                  </a:lnTo>
                  <a:lnTo>
                    <a:pt x="5" y="453"/>
                  </a:lnTo>
                  <a:lnTo>
                    <a:pt x="5" y="461"/>
                  </a:lnTo>
                  <a:lnTo>
                    <a:pt x="0" y="469"/>
                  </a:lnTo>
                  <a:lnTo>
                    <a:pt x="0" y="480"/>
                  </a:lnTo>
                  <a:lnTo>
                    <a:pt x="0" y="488"/>
                  </a:lnTo>
                  <a:lnTo>
                    <a:pt x="0" y="496"/>
                  </a:lnTo>
                  <a:lnTo>
                    <a:pt x="5" y="504"/>
                  </a:lnTo>
                  <a:lnTo>
                    <a:pt x="10" y="511"/>
                  </a:lnTo>
                  <a:lnTo>
                    <a:pt x="19" y="519"/>
                  </a:lnTo>
                  <a:lnTo>
                    <a:pt x="29" y="523"/>
                  </a:lnTo>
                  <a:lnTo>
                    <a:pt x="38" y="531"/>
                  </a:lnTo>
                  <a:lnTo>
                    <a:pt x="53" y="535"/>
                  </a:lnTo>
                  <a:lnTo>
                    <a:pt x="67" y="539"/>
                  </a:lnTo>
                  <a:lnTo>
                    <a:pt x="76" y="539"/>
                  </a:lnTo>
                  <a:lnTo>
                    <a:pt x="86" y="539"/>
                  </a:lnTo>
                  <a:lnTo>
                    <a:pt x="96" y="539"/>
                  </a:lnTo>
                  <a:lnTo>
                    <a:pt x="105" y="542"/>
                  </a:lnTo>
                  <a:lnTo>
                    <a:pt x="115" y="542"/>
                  </a:lnTo>
                  <a:lnTo>
                    <a:pt x="119" y="589"/>
                  </a:lnTo>
                  <a:lnTo>
                    <a:pt x="110" y="585"/>
                  </a:lnTo>
                  <a:lnTo>
                    <a:pt x="110" y="593"/>
                  </a:lnTo>
                  <a:lnTo>
                    <a:pt x="110" y="601"/>
                  </a:lnTo>
                  <a:lnTo>
                    <a:pt x="115" y="608"/>
                  </a:lnTo>
                  <a:lnTo>
                    <a:pt x="115" y="616"/>
                  </a:lnTo>
                  <a:lnTo>
                    <a:pt x="139" y="666"/>
                  </a:lnTo>
                  <a:lnTo>
                    <a:pt x="148" y="674"/>
                  </a:lnTo>
                  <a:lnTo>
                    <a:pt x="153" y="682"/>
                  </a:lnTo>
                  <a:lnTo>
                    <a:pt x="162" y="690"/>
                  </a:lnTo>
                  <a:lnTo>
                    <a:pt x="177" y="694"/>
                  </a:lnTo>
                  <a:lnTo>
                    <a:pt x="191" y="701"/>
                  </a:lnTo>
                  <a:lnTo>
                    <a:pt x="201" y="705"/>
                  </a:lnTo>
                  <a:lnTo>
                    <a:pt x="210" y="709"/>
                  </a:lnTo>
                  <a:lnTo>
                    <a:pt x="225" y="713"/>
                  </a:lnTo>
                  <a:lnTo>
                    <a:pt x="234" y="717"/>
                  </a:lnTo>
                  <a:lnTo>
                    <a:pt x="244" y="717"/>
                  </a:lnTo>
                  <a:lnTo>
                    <a:pt x="253" y="717"/>
                  </a:lnTo>
                  <a:lnTo>
                    <a:pt x="263" y="717"/>
                  </a:lnTo>
                  <a:lnTo>
                    <a:pt x="272" y="717"/>
                  </a:lnTo>
                  <a:lnTo>
                    <a:pt x="282" y="717"/>
                  </a:lnTo>
                  <a:lnTo>
                    <a:pt x="291" y="717"/>
                  </a:lnTo>
                  <a:lnTo>
                    <a:pt x="301" y="717"/>
                  </a:lnTo>
                  <a:lnTo>
                    <a:pt x="315" y="717"/>
                  </a:lnTo>
                  <a:lnTo>
                    <a:pt x="349" y="705"/>
                  </a:lnTo>
                  <a:lnTo>
                    <a:pt x="354" y="713"/>
                  </a:lnTo>
                  <a:lnTo>
                    <a:pt x="354" y="721"/>
                  </a:lnTo>
                  <a:lnTo>
                    <a:pt x="354" y="728"/>
                  </a:lnTo>
                  <a:lnTo>
                    <a:pt x="354" y="736"/>
                  </a:lnTo>
                  <a:lnTo>
                    <a:pt x="354" y="744"/>
                  </a:lnTo>
                  <a:lnTo>
                    <a:pt x="354" y="756"/>
                  </a:lnTo>
                  <a:lnTo>
                    <a:pt x="358" y="767"/>
                  </a:lnTo>
                  <a:lnTo>
                    <a:pt x="363" y="779"/>
                  </a:lnTo>
                  <a:lnTo>
                    <a:pt x="368" y="790"/>
                  </a:lnTo>
                  <a:lnTo>
                    <a:pt x="373" y="798"/>
                  </a:lnTo>
                  <a:lnTo>
                    <a:pt x="377" y="806"/>
                  </a:lnTo>
                  <a:lnTo>
                    <a:pt x="435" y="849"/>
                  </a:lnTo>
                  <a:lnTo>
                    <a:pt x="444" y="849"/>
                  </a:lnTo>
                  <a:lnTo>
                    <a:pt x="459" y="852"/>
                  </a:lnTo>
                  <a:lnTo>
                    <a:pt x="473" y="856"/>
                  </a:lnTo>
                  <a:lnTo>
                    <a:pt x="483" y="860"/>
                  </a:lnTo>
                  <a:lnTo>
                    <a:pt x="492" y="864"/>
                  </a:lnTo>
                  <a:lnTo>
                    <a:pt x="502" y="864"/>
                  </a:lnTo>
                  <a:lnTo>
                    <a:pt x="516" y="864"/>
                  </a:lnTo>
                  <a:lnTo>
                    <a:pt x="535" y="860"/>
                  </a:lnTo>
                  <a:lnTo>
                    <a:pt x="545" y="856"/>
                  </a:lnTo>
                  <a:lnTo>
                    <a:pt x="559" y="852"/>
                  </a:lnTo>
                  <a:lnTo>
                    <a:pt x="568" y="852"/>
                  </a:lnTo>
                  <a:lnTo>
                    <a:pt x="578" y="849"/>
                  </a:lnTo>
                  <a:lnTo>
                    <a:pt x="588" y="849"/>
                  </a:lnTo>
                  <a:lnTo>
                    <a:pt x="602" y="845"/>
                  </a:lnTo>
                  <a:lnTo>
                    <a:pt x="611" y="837"/>
                  </a:lnTo>
                  <a:lnTo>
                    <a:pt x="621" y="833"/>
                  </a:lnTo>
                  <a:lnTo>
                    <a:pt x="631" y="821"/>
                  </a:lnTo>
                  <a:lnTo>
                    <a:pt x="635" y="810"/>
                  </a:lnTo>
                  <a:lnTo>
                    <a:pt x="640" y="802"/>
                  </a:lnTo>
                  <a:lnTo>
                    <a:pt x="664" y="775"/>
                  </a:lnTo>
                  <a:lnTo>
                    <a:pt x="669" y="783"/>
                  </a:lnTo>
                  <a:lnTo>
                    <a:pt x="674" y="790"/>
                  </a:lnTo>
                  <a:lnTo>
                    <a:pt x="683" y="794"/>
                  </a:lnTo>
                  <a:lnTo>
                    <a:pt x="693" y="798"/>
                  </a:lnTo>
                  <a:lnTo>
                    <a:pt x="712" y="806"/>
                  </a:lnTo>
                  <a:lnTo>
                    <a:pt x="721" y="810"/>
                  </a:lnTo>
                  <a:lnTo>
                    <a:pt x="731" y="814"/>
                  </a:lnTo>
                  <a:lnTo>
                    <a:pt x="745" y="814"/>
                  </a:lnTo>
                  <a:lnTo>
                    <a:pt x="755" y="818"/>
                  </a:lnTo>
                  <a:lnTo>
                    <a:pt x="764" y="818"/>
                  </a:lnTo>
                  <a:lnTo>
                    <a:pt x="779" y="818"/>
                  </a:lnTo>
                  <a:lnTo>
                    <a:pt x="793" y="818"/>
                  </a:lnTo>
                  <a:lnTo>
                    <a:pt x="803" y="818"/>
                  </a:lnTo>
                  <a:lnTo>
                    <a:pt x="812" y="818"/>
                  </a:lnTo>
                  <a:lnTo>
                    <a:pt x="822" y="814"/>
                  </a:lnTo>
                  <a:lnTo>
                    <a:pt x="836" y="814"/>
                  </a:lnTo>
                  <a:lnTo>
                    <a:pt x="841" y="806"/>
                  </a:lnTo>
                  <a:lnTo>
                    <a:pt x="850" y="802"/>
                  </a:lnTo>
                  <a:lnTo>
                    <a:pt x="860" y="802"/>
                  </a:lnTo>
                  <a:lnTo>
                    <a:pt x="874" y="794"/>
                  </a:lnTo>
                  <a:lnTo>
                    <a:pt x="884" y="787"/>
                  </a:lnTo>
                  <a:lnTo>
                    <a:pt x="903" y="740"/>
                  </a:lnTo>
                  <a:lnTo>
                    <a:pt x="903" y="732"/>
                  </a:lnTo>
                  <a:lnTo>
                    <a:pt x="903" y="721"/>
                  </a:lnTo>
                  <a:lnTo>
                    <a:pt x="903" y="713"/>
                  </a:lnTo>
                  <a:lnTo>
                    <a:pt x="893" y="701"/>
                  </a:lnTo>
                  <a:lnTo>
                    <a:pt x="893" y="694"/>
                  </a:lnTo>
                  <a:lnTo>
                    <a:pt x="884" y="682"/>
                  </a:lnTo>
                  <a:lnTo>
                    <a:pt x="879" y="670"/>
                  </a:lnTo>
                  <a:lnTo>
                    <a:pt x="879" y="663"/>
                  </a:lnTo>
                  <a:lnTo>
                    <a:pt x="874" y="651"/>
                  </a:lnTo>
                  <a:lnTo>
                    <a:pt x="874" y="643"/>
                  </a:lnTo>
                  <a:lnTo>
                    <a:pt x="869" y="635"/>
                  </a:lnTo>
                  <a:lnTo>
                    <a:pt x="869" y="628"/>
                  </a:lnTo>
                  <a:lnTo>
                    <a:pt x="865" y="612"/>
                  </a:lnTo>
                  <a:lnTo>
                    <a:pt x="865" y="620"/>
                  </a:lnTo>
                  <a:lnTo>
                    <a:pt x="879" y="620"/>
                  </a:lnTo>
                  <a:lnTo>
                    <a:pt x="889" y="620"/>
                  </a:lnTo>
                  <a:lnTo>
                    <a:pt x="903" y="612"/>
                  </a:lnTo>
                  <a:lnTo>
                    <a:pt x="912" y="608"/>
                  </a:lnTo>
                  <a:lnTo>
                    <a:pt x="922" y="601"/>
                  </a:lnTo>
                  <a:lnTo>
                    <a:pt x="936" y="593"/>
                  </a:lnTo>
                  <a:lnTo>
                    <a:pt x="946" y="589"/>
                  </a:lnTo>
                  <a:lnTo>
                    <a:pt x="955" y="585"/>
                  </a:lnTo>
                  <a:lnTo>
                    <a:pt x="970" y="577"/>
                  </a:lnTo>
                  <a:lnTo>
                    <a:pt x="979" y="566"/>
                  </a:lnTo>
                  <a:lnTo>
                    <a:pt x="984" y="558"/>
                  </a:lnTo>
                  <a:lnTo>
                    <a:pt x="989" y="546"/>
                  </a:lnTo>
                  <a:lnTo>
                    <a:pt x="994" y="539"/>
                  </a:lnTo>
                  <a:lnTo>
                    <a:pt x="998" y="531"/>
                  </a:lnTo>
                  <a:lnTo>
                    <a:pt x="998" y="519"/>
                  </a:lnTo>
                  <a:lnTo>
                    <a:pt x="998" y="511"/>
                  </a:lnTo>
                  <a:lnTo>
                    <a:pt x="1003" y="504"/>
                  </a:lnTo>
                  <a:lnTo>
                    <a:pt x="1008" y="488"/>
                  </a:lnTo>
                  <a:lnTo>
                    <a:pt x="1008" y="480"/>
                  </a:lnTo>
                  <a:lnTo>
                    <a:pt x="1008" y="469"/>
                  </a:lnTo>
                  <a:lnTo>
                    <a:pt x="1003" y="461"/>
                  </a:lnTo>
                  <a:lnTo>
                    <a:pt x="1003" y="453"/>
                  </a:lnTo>
                  <a:lnTo>
                    <a:pt x="998" y="446"/>
                  </a:lnTo>
                  <a:lnTo>
                    <a:pt x="998" y="438"/>
                  </a:lnTo>
                  <a:lnTo>
                    <a:pt x="893" y="380"/>
                  </a:lnTo>
                  <a:lnTo>
                    <a:pt x="922" y="380"/>
                  </a:lnTo>
                  <a:lnTo>
                    <a:pt x="908" y="372"/>
                  </a:lnTo>
                  <a:lnTo>
                    <a:pt x="946" y="353"/>
                  </a:lnTo>
                  <a:lnTo>
                    <a:pt x="951" y="345"/>
                  </a:lnTo>
                  <a:lnTo>
                    <a:pt x="960" y="341"/>
                  </a:lnTo>
                  <a:lnTo>
                    <a:pt x="965" y="329"/>
                  </a:lnTo>
                  <a:lnTo>
                    <a:pt x="975" y="318"/>
                  </a:lnTo>
                  <a:lnTo>
                    <a:pt x="979" y="310"/>
                  </a:lnTo>
                  <a:lnTo>
                    <a:pt x="979" y="302"/>
                  </a:lnTo>
                  <a:lnTo>
                    <a:pt x="984" y="294"/>
                  </a:lnTo>
                  <a:lnTo>
                    <a:pt x="984" y="283"/>
                  </a:lnTo>
                  <a:lnTo>
                    <a:pt x="984" y="271"/>
                  </a:lnTo>
                  <a:lnTo>
                    <a:pt x="984" y="263"/>
                  </a:lnTo>
                  <a:lnTo>
                    <a:pt x="975" y="256"/>
                  </a:lnTo>
                  <a:lnTo>
                    <a:pt x="975" y="248"/>
                  </a:lnTo>
                  <a:lnTo>
                    <a:pt x="965" y="244"/>
                  </a:lnTo>
                  <a:lnTo>
                    <a:pt x="955" y="240"/>
                  </a:lnTo>
                  <a:lnTo>
                    <a:pt x="941" y="240"/>
                  </a:lnTo>
                  <a:lnTo>
                    <a:pt x="932" y="240"/>
                  </a:lnTo>
                  <a:lnTo>
                    <a:pt x="922" y="244"/>
                  </a:lnTo>
                  <a:lnTo>
                    <a:pt x="912" y="244"/>
                  </a:lnTo>
                  <a:lnTo>
                    <a:pt x="903" y="244"/>
                  </a:lnTo>
                  <a:lnTo>
                    <a:pt x="889" y="248"/>
                  </a:lnTo>
                  <a:lnTo>
                    <a:pt x="879" y="248"/>
                  </a:lnTo>
                  <a:lnTo>
                    <a:pt x="869" y="256"/>
                  </a:lnTo>
                  <a:lnTo>
                    <a:pt x="855" y="260"/>
                  </a:lnTo>
                  <a:lnTo>
                    <a:pt x="831" y="267"/>
                  </a:lnTo>
                  <a:lnTo>
                    <a:pt x="836" y="263"/>
                  </a:lnTo>
                  <a:lnTo>
                    <a:pt x="836" y="252"/>
                  </a:lnTo>
                  <a:lnTo>
                    <a:pt x="846" y="236"/>
                  </a:lnTo>
                  <a:lnTo>
                    <a:pt x="850" y="225"/>
                  </a:lnTo>
                  <a:lnTo>
                    <a:pt x="850" y="217"/>
                  </a:lnTo>
                  <a:lnTo>
                    <a:pt x="860" y="209"/>
                  </a:lnTo>
                  <a:lnTo>
                    <a:pt x="860" y="198"/>
                  </a:lnTo>
                  <a:lnTo>
                    <a:pt x="860" y="190"/>
                  </a:lnTo>
                  <a:lnTo>
                    <a:pt x="865" y="178"/>
                  </a:lnTo>
                  <a:lnTo>
                    <a:pt x="865" y="167"/>
                  </a:lnTo>
                  <a:lnTo>
                    <a:pt x="865" y="155"/>
                  </a:lnTo>
                  <a:lnTo>
                    <a:pt x="860" y="139"/>
                  </a:lnTo>
                  <a:lnTo>
                    <a:pt x="855" y="132"/>
                  </a:lnTo>
                  <a:lnTo>
                    <a:pt x="850" y="120"/>
                  </a:lnTo>
                  <a:lnTo>
                    <a:pt x="841" y="108"/>
                  </a:lnTo>
                  <a:lnTo>
                    <a:pt x="841" y="101"/>
                  </a:lnTo>
                  <a:lnTo>
                    <a:pt x="836" y="93"/>
                  </a:lnTo>
                  <a:lnTo>
                    <a:pt x="826" y="85"/>
                  </a:lnTo>
                  <a:lnTo>
                    <a:pt x="817" y="81"/>
                  </a:lnTo>
                  <a:lnTo>
                    <a:pt x="807" y="77"/>
                  </a:lnTo>
                  <a:lnTo>
                    <a:pt x="798" y="77"/>
                  </a:lnTo>
                  <a:lnTo>
                    <a:pt x="788" y="74"/>
                  </a:lnTo>
                  <a:lnTo>
                    <a:pt x="755" y="70"/>
                  </a:lnTo>
                  <a:lnTo>
                    <a:pt x="745" y="74"/>
                  </a:lnTo>
                  <a:lnTo>
                    <a:pt x="736" y="74"/>
                  </a:lnTo>
                  <a:lnTo>
                    <a:pt x="726" y="74"/>
                  </a:lnTo>
                  <a:lnTo>
                    <a:pt x="717" y="74"/>
                  </a:lnTo>
                  <a:lnTo>
                    <a:pt x="702" y="74"/>
                  </a:lnTo>
                  <a:lnTo>
                    <a:pt x="693" y="74"/>
                  </a:lnTo>
                  <a:lnTo>
                    <a:pt x="693" y="54"/>
                  </a:lnTo>
                  <a:lnTo>
                    <a:pt x="688" y="66"/>
                  </a:lnTo>
                  <a:lnTo>
                    <a:pt x="683" y="58"/>
                  </a:lnTo>
                  <a:lnTo>
                    <a:pt x="674" y="50"/>
                  </a:lnTo>
                  <a:lnTo>
                    <a:pt x="659" y="43"/>
                  </a:lnTo>
                  <a:lnTo>
                    <a:pt x="650" y="39"/>
                  </a:lnTo>
                  <a:lnTo>
                    <a:pt x="621" y="27"/>
                  </a:lnTo>
                  <a:lnTo>
                    <a:pt x="611" y="23"/>
                  </a:lnTo>
                  <a:lnTo>
                    <a:pt x="602" y="19"/>
                  </a:lnTo>
                  <a:lnTo>
                    <a:pt x="592" y="19"/>
                  </a:lnTo>
                  <a:lnTo>
                    <a:pt x="583" y="19"/>
                  </a:lnTo>
                  <a:lnTo>
                    <a:pt x="573" y="19"/>
                  </a:lnTo>
                  <a:lnTo>
                    <a:pt x="564" y="15"/>
                  </a:lnTo>
                  <a:lnTo>
                    <a:pt x="554" y="15"/>
                  </a:lnTo>
                  <a:lnTo>
                    <a:pt x="545" y="15"/>
                  </a:lnTo>
                  <a:lnTo>
                    <a:pt x="535" y="23"/>
                  </a:lnTo>
                  <a:lnTo>
                    <a:pt x="530" y="31"/>
                  </a:lnTo>
                  <a:lnTo>
                    <a:pt x="525" y="4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25640" y="4113360"/>
              <a:ext cx="146232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675080" y="4781160"/>
            <a:ext cx="1215360" cy="702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Lap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2552760"/>
            <a:ext cx="3048120" cy="1333440"/>
          </a:xfrm>
          <a:custGeom>
            <a:avLst/>
            <a:gdLst/>
            <a:ahLst/>
            <a:rect l="l" t="t" r="r" b="b"/>
            <a:pathLst>
              <a:path w="1968" h="768">
                <a:moveTo>
                  <a:pt x="1968" y="0"/>
                </a:moveTo>
                <a:cubicBezTo>
                  <a:pt x="1904" y="104"/>
                  <a:pt x="1840" y="208"/>
                  <a:pt x="1680" y="336"/>
                </a:cubicBezTo>
                <a:cubicBezTo>
                  <a:pt x="1520" y="464"/>
                  <a:pt x="1240" y="768"/>
                  <a:pt x="1008" y="768"/>
                </a:cubicBezTo>
                <a:cubicBezTo>
                  <a:pt x="776" y="768"/>
                  <a:pt x="456" y="456"/>
                  <a:pt x="288" y="336"/>
                </a:cubicBezTo>
                <a:cubicBezTo>
                  <a:pt x="120" y="216"/>
                  <a:pt x="60" y="132"/>
                  <a:pt x="0" y="48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29160" y="1905120"/>
            <a:ext cx="19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nnecte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95280" y="5645520"/>
            <a:ext cx="220320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oice GW Out(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9720" y="4070520"/>
            <a:ext cx="149436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Fax G/W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24600" y="3283200"/>
            <a:ext cx="170784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Fax G/W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3400" y="4858200"/>
            <a:ext cx="173376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oice G/W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31520" y="5415840"/>
            <a:ext cx="197136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rvice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3352680"/>
            <a:ext cx="609480" cy="14616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67480" y="4114800"/>
            <a:ext cx="838440" cy="20304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01000" y="5791320"/>
            <a:ext cx="533520" cy="12672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0120" y="4952880"/>
            <a:ext cx="838080" cy="20340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Opportunities for ISP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05" name=""/>
          <p:cNvSpPr/>
          <p:nvPr/>
        </p:nvSpPr>
        <p:spPr>
          <a:xfrm>
            <a:off x="3427200" y="2748600"/>
            <a:ext cx="928800" cy="579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13160" y="1986840"/>
            <a:ext cx="134964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37160" y="2748600"/>
            <a:ext cx="928800" cy="5796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37200" y="377208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8560" y="1986840"/>
            <a:ext cx="134964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200400" y="3656160"/>
            <a:ext cx="2514600" cy="1373040"/>
            <a:chOff x="3200400" y="3656160"/>
            <a:chExt cx="2514600" cy="1373040"/>
          </a:xfrm>
        </p:grpSpPr>
        <p:sp>
          <p:nvSpPr>
            <p:cNvPr id="411" name=""/>
            <p:cNvSpPr/>
            <p:nvPr/>
          </p:nvSpPr>
          <p:spPr>
            <a:xfrm>
              <a:off x="3200400" y="3656160"/>
              <a:ext cx="2514600" cy="1373040"/>
            </a:xfrm>
            <a:custGeom>
              <a:avLst/>
              <a:gdLst/>
              <a:ahLst/>
              <a:rect l="l" t="t" r="r" b="b"/>
              <a:pathLst>
                <a:path w="1009" h="865">
                  <a:moveTo>
                    <a:pt x="578" y="101"/>
                  </a:moveTo>
                  <a:lnTo>
                    <a:pt x="564" y="93"/>
                  </a:lnTo>
                  <a:lnTo>
                    <a:pt x="564" y="85"/>
                  </a:lnTo>
                  <a:lnTo>
                    <a:pt x="559" y="77"/>
                  </a:lnTo>
                  <a:lnTo>
                    <a:pt x="559" y="70"/>
                  </a:lnTo>
                  <a:lnTo>
                    <a:pt x="545" y="54"/>
                  </a:lnTo>
                  <a:lnTo>
                    <a:pt x="540" y="43"/>
                  </a:lnTo>
                  <a:lnTo>
                    <a:pt x="535" y="35"/>
                  </a:lnTo>
                  <a:lnTo>
                    <a:pt x="530" y="27"/>
                  </a:lnTo>
                  <a:lnTo>
                    <a:pt x="521" y="23"/>
                  </a:lnTo>
                  <a:lnTo>
                    <a:pt x="511" y="19"/>
                  </a:lnTo>
                  <a:lnTo>
                    <a:pt x="502" y="15"/>
                  </a:lnTo>
                  <a:lnTo>
                    <a:pt x="487" y="8"/>
                  </a:lnTo>
                  <a:lnTo>
                    <a:pt x="473" y="4"/>
                  </a:lnTo>
                  <a:lnTo>
                    <a:pt x="459" y="0"/>
                  </a:lnTo>
                  <a:lnTo>
                    <a:pt x="449" y="4"/>
                  </a:lnTo>
                  <a:lnTo>
                    <a:pt x="440" y="4"/>
                  </a:lnTo>
                  <a:lnTo>
                    <a:pt x="430" y="4"/>
                  </a:lnTo>
                  <a:lnTo>
                    <a:pt x="420" y="12"/>
                  </a:lnTo>
                  <a:lnTo>
                    <a:pt x="411" y="15"/>
                  </a:lnTo>
                  <a:lnTo>
                    <a:pt x="401" y="19"/>
                  </a:lnTo>
                  <a:lnTo>
                    <a:pt x="392" y="23"/>
                  </a:lnTo>
                  <a:lnTo>
                    <a:pt x="382" y="27"/>
                  </a:lnTo>
                  <a:lnTo>
                    <a:pt x="373" y="31"/>
                  </a:lnTo>
                  <a:lnTo>
                    <a:pt x="363" y="39"/>
                  </a:lnTo>
                  <a:lnTo>
                    <a:pt x="349" y="46"/>
                  </a:lnTo>
                  <a:lnTo>
                    <a:pt x="339" y="50"/>
                  </a:lnTo>
                  <a:lnTo>
                    <a:pt x="334" y="58"/>
                  </a:lnTo>
                  <a:lnTo>
                    <a:pt x="296" y="89"/>
                  </a:lnTo>
                  <a:lnTo>
                    <a:pt x="296" y="97"/>
                  </a:lnTo>
                  <a:lnTo>
                    <a:pt x="287" y="105"/>
                  </a:lnTo>
                  <a:lnTo>
                    <a:pt x="263" y="101"/>
                  </a:lnTo>
                  <a:lnTo>
                    <a:pt x="277" y="93"/>
                  </a:lnTo>
                  <a:lnTo>
                    <a:pt x="268" y="89"/>
                  </a:lnTo>
                  <a:lnTo>
                    <a:pt x="253" y="93"/>
                  </a:lnTo>
                  <a:lnTo>
                    <a:pt x="244" y="93"/>
                  </a:lnTo>
                  <a:lnTo>
                    <a:pt x="229" y="97"/>
                  </a:lnTo>
                  <a:lnTo>
                    <a:pt x="220" y="97"/>
                  </a:lnTo>
                  <a:lnTo>
                    <a:pt x="205" y="101"/>
                  </a:lnTo>
                  <a:lnTo>
                    <a:pt x="201" y="108"/>
                  </a:lnTo>
                  <a:lnTo>
                    <a:pt x="191" y="112"/>
                  </a:lnTo>
                  <a:lnTo>
                    <a:pt x="177" y="124"/>
                  </a:lnTo>
                  <a:lnTo>
                    <a:pt x="167" y="132"/>
                  </a:lnTo>
                  <a:lnTo>
                    <a:pt x="158" y="136"/>
                  </a:lnTo>
                  <a:lnTo>
                    <a:pt x="148" y="136"/>
                  </a:lnTo>
                  <a:lnTo>
                    <a:pt x="143" y="143"/>
                  </a:lnTo>
                  <a:lnTo>
                    <a:pt x="110" y="178"/>
                  </a:lnTo>
                  <a:lnTo>
                    <a:pt x="100" y="186"/>
                  </a:lnTo>
                  <a:lnTo>
                    <a:pt x="96" y="198"/>
                  </a:lnTo>
                  <a:lnTo>
                    <a:pt x="91" y="205"/>
                  </a:lnTo>
                  <a:lnTo>
                    <a:pt x="91" y="213"/>
                  </a:lnTo>
                  <a:lnTo>
                    <a:pt x="91" y="221"/>
                  </a:lnTo>
                  <a:lnTo>
                    <a:pt x="91" y="232"/>
                  </a:lnTo>
                  <a:lnTo>
                    <a:pt x="91" y="240"/>
                  </a:lnTo>
                  <a:lnTo>
                    <a:pt x="96" y="248"/>
                  </a:lnTo>
                  <a:lnTo>
                    <a:pt x="96" y="256"/>
                  </a:lnTo>
                  <a:lnTo>
                    <a:pt x="105" y="267"/>
                  </a:lnTo>
                  <a:lnTo>
                    <a:pt x="115" y="271"/>
                  </a:lnTo>
                  <a:lnTo>
                    <a:pt x="119" y="279"/>
                  </a:lnTo>
                  <a:lnTo>
                    <a:pt x="129" y="283"/>
                  </a:lnTo>
                  <a:lnTo>
                    <a:pt x="139" y="287"/>
                  </a:lnTo>
                  <a:lnTo>
                    <a:pt x="119" y="287"/>
                  </a:lnTo>
                  <a:lnTo>
                    <a:pt x="134" y="287"/>
                  </a:lnTo>
                  <a:lnTo>
                    <a:pt x="124" y="287"/>
                  </a:lnTo>
                  <a:lnTo>
                    <a:pt x="115" y="291"/>
                  </a:lnTo>
                  <a:lnTo>
                    <a:pt x="110" y="298"/>
                  </a:lnTo>
                  <a:lnTo>
                    <a:pt x="100" y="302"/>
                  </a:lnTo>
                  <a:lnTo>
                    <a:pt x="100" y="310"/>
                  </a:lnTo>
                  <a:lnTo>
                    <a:pt x="91" y="314"/>
                  </a:lnTo>
                  <a:lnTo>
                    <a:pt x="81" y="322"/>
                  </a:lnTo>
                  <a:lnTo>
                    <a:pt x="48" y="360"/>
                  </a:lnTo>
                  <a:lnTo>
                    <a:pt x="38" y="376"/>
                  </a:lnTo>
                  <a:lnTo>
                    <a:pt x="29" y="384"/>
                  </a:lnTo>
                  <a:lnTo>
                    <a:pt x="24" y="395"/>
                  </a:lnTo>
                  <a:lnTo>
                    <a:pt x="19" y="407"/>
                  </a:lnTo>
                  <a:lnTo>
                    <a:pt x="14" y="415"/>
                  </a:lnTo>
                  <a:lnTo>
                    <a:pt x="14" y="422"/>
                  </a:lnTo>
                  <a:lnTo>
                    <a:pt x="10" y="430"/>
                  </a:lnTo>
                  <a:lnTo>
                    <a:pt x="5" y="438"/>
                  </a:lnTo>
                  <a:lnTo>
                    <a:pt x="5" y="453"/>
                  </a:lnTo>
                  <a:lnTo>
                    <a:pt x="5" y="461"/>
                  </a:lnTo>
                  <a:lnTo>
                    <a:pt x="0" y="469"/>
                  </a:lnTo>
                  <a:lnTo>
                    <a:pt x="0" y="480"/>
                  </a:lnTo>
                  <a:lnTo>
                    <a:pt x="0" y="488"/>
                  </a:lnTo>
                  <a:lnTo>
                    <a:pt x="0" y="496"/>
                  </a:lnTo>
                  <a:lnTo>
                    <a:pt x="5" y="504"/>
                  </a:lnTo>
                  <a:lnTo>
                    <a:pt x="10" y="511"/>
                  </a:lnTo>
                  <a:lnTo>
                    <a:pt x="19" y="519"/>
                  </a:lnTo>
                  <a:lnTo>
                    <a:pt x="29" y="523"/>
                  </a:lnTo>
                  <a:lnTo>
                    <a:pt x="38" y="531"/>
                  </a:lnTo>
                  <a:lnTo>
                    <a:pt x="53" y="535"/>
                  </a:lnTo>
                  <a:lnTo>
                    <a:pt x="67" y="539"/>
                  </a:lnTo>
                  <a:lnTo>
                    <a:pt x="76" y="539"/>
                  </a:lnTo>
                  <a:lnTo>
                    <a:pt x="86" y="539"/>
                  </a:lnTo>
                  <a:lnTo>
                    <a:pt x="96" y="539"/>
                  </a:lnTo>
                  <a:lnTo>
                    <a:pt x="105" y="542"/>
                  </a:lnTo>
                  <a:lnTo>
                    <a:pt x="115" y="542"/>
                  </a:lnTo>
                  <a:lnTo>
                    <a:pt x="119" y="589"/>
                  </a:lnTo>
                  <a:lnTo>
                    <a:pt x="110" y="585"/>
                  </a:lnTo>
                  <a:lnTo>
                    <a:pt x="110" y="593"/>
                  </a:lnTo>
                  <a:lnTo>
                    <a:pt x="110" y="601"/>
                  </a:lnTo>
                  <a:lnTo>
                    <a:pt x="115" y="608"/>
                  </a:lnTo>
                  <a:lnTo>
                    <a:pt x="115" y="616"/>
                  </a:lnTo>
                  <a:lnTo>
                    <a:pt x="139" y="666"/>
                  </a:lnTo>
                  <a:lnTo>
                    <a:pt x="148" y="674"/>
                  </a:lnTo>
                  <a:lnTo>
                    <a:pt x="153" y="682"/>
                  </a:lnTo>
                  <a:lnTo>
                    <a:pt x="162" y="690"/>
                  </a:lnTo>
                  <a:lnTo>
                    <a:pt x="177" y="694"/>
                  </a:lnTo>
                  <a:lnTo>
                    <a:pt x="191" y="701"/>
                  </a:lnTo>
                  <a:lnTo>
                    <a:pt x="201" y="705"/>
                  </a:lnTo>
                  <a:lnTo>
                    <a:pt x="210" y="709"/>
                  </a:lnTo>
                  <a:lnTo>
                    <a:pt x="225" y="713"/>
                  </a:lnTo>
                  <a:lnTo>
                    <a:pt x="234" y="717"/>
                  </a:lnTo>
                  <a:lnTo>
                    <a:pt x="244" y="717"/>
                  </a:lnTo>
                  <a:lnTo>
                    <a:pt x="253" y="717"/>
                  </a:lnTo>
                  <a:lnTo>
                    <a:pt x="263" y="717"/>
                  </a:lnTo>
                  <a:lnTo>
                    <a:pt x="272" y="717"/>
                  </a:lnTo>
                  <a:lnTo>
                    <a:pt x="282" y="717"/>
                  </a:lnTo>
                  <a:lnTo>
                    <a:pt x="291" y="717"/>
                  </a:lnTo>
                  <a:lnTo>
                    <a:pt x="301" y="717"/>
                  </a:lnTo>
                  <a:lnTo>
                    <a:pt x="315" y="717"/>
                  </a:lnTo>
                  <a:lnTo>
                    <a:pt x="349" y="705"/>
                  </a:lnTo>
                  <a:lnTo>
                    <a:pt x="354" y="713"/>
                  </a:lnTo>
                  <a:lnTo>
                    <a:pt x="354" y="721"/>
                  </a:lnTo>
                  <a:lnTo>
                    <a:pt x="354" y="728"/>
                  </a:lnTo>
                  <a:lnTo>
                    <a:pt x="354" y="736"/>
                  </a:lnTo>
                  <a:lnTo>
                    <a:pt x="354" y="744"/>
                  </a:lnTo>
                  <a:lnTo>
                    <a:pt x="354" y="756"/>
                  </a:lnTo>
                  <a:lnTo>
                    <a:pt x="358" y="767"/>
                  </a:lnTo>
                  <a:lnTo>
                    <a:pt x="363" y="779"/>
                  </a:lnTo>
                  <a:lnTo>
                    <a:pt x="368" y="790"/>
                  </a:lnTo>
                  <a:lnTo>
                    <a:pt x="373" y="798"/>
                  </a:lnTo>
                  <a:lnTo>
                    <a:pt x="377" y="806"/>
                  </a:lnTo>
                  <a:lnTo>
                    <a:pt x="435" y="849"/>
                  </a:lnTo>
                  <a:lnTo>
                    <a:pt x="444" y="849"/>
                  </a:lnTo>
                  <a:lnTo>
                    <a:pt x="459" y="852"/>
                  </a:lnTo>
                  <a:lnTo>
                    <a:pt x="473" y="856"/>
                  </a:lnTo>
                  <a:lnTo>
                    <a:pt x="483" y="860"/>
                  </a:lnTo>
                  <a:lnTo>
                    <a:pt x="492" y="864"/>
                  </a:lnTo>
                  <a:lnTo>
                    <a:pt x="502" y="864"/>
                  </a:lnTo>
                  <a:lnTo>
                    <a:pt x="516" y="864"/>
                  </a:lnTo>
                  <a:lnTo>
                    <a:pt x="535" y="860"/>
                  </a:lnTo>
                  <a:lnTo>
                    <a:pt x="545" y="856"/>
                  </a:lnTo>
                  <a:lnTo>
                    <a:pt x="559" y="852"/>
                  </a:lnTo>
                  <a:lnTo>
                    <a:pt x="568" y="852"/>
                  </a:lnTo>
                  <a:lnTo>
                    <a:pt x="578" y="849"/>
                  </a:lnTo>
                  <a:lnTo>
                    <a:pt x="588" y="849"/>
                  </a:lnTo>
                  <a:lnTo>
                    <a:pt x="602" y="845"/>
                  </a:lnTo>
                  <a:lnTo>
                    <a:pt x="611" y="837"/>
                  </a:lnTo>
                  <a:lnTo>
                    <a:pt x="621" y="833"/>
                  </a:lnTo>
                  <a:lnTo>
                    <a:pt x="631" y="821"/>
                  </a:lnTo>
                  <a:lnTo>
                    <a:pt x="635" y="810"/>
                  </a:lnTo>
                  <a:lnTo>
                    <a:pt x="640" y="802"/>
                  </a:lnTo>
                  <a:lnTo>
                    <a:pt x="664" y="775"/>
                  </a:lnTo>
                  <a:lnTo>
                    <a:pt x="669" y="783"/>
                  </a:lnTo>
                  <a:lnTo>
                    <a:pt x="674" y="790"/>
                  </a:lnTo>
                  <a:lnTo>
                    <a:pt x="683" y="794"/>
                  </a:lnTo>
                  <a:lnTo>
                    <a:pt x="693" y="798"/>
                  </a:lnTo>
                  <a:lnTo>
                    <a:pt x="712" y="806"/>
                  </a:lnTo>
                  <a:lnTo>
                    <a:pt x="721" y="810"/>
                  </a:lnTo>
                  <a:lnTo>
                    <a:pt x="731" y="814"/>
                  </a:lnTo>
                  <a:lnTo>
                    <a:pt x="745" y="814"/>
                  </a:lnTo>
                  <a:lnTo>
                    <a:pt x="755" y="818"/>
                  </a:lnTo>
                  <a:lnTo>
                    <a:pt x="764" y="818"/>
                  </a:lnTo>
                  <a:lnTo>
                    <a:pt x="779" y="818"/>
                  </a:lnTo>
                  <a:lnTo>
                    <a:pt x="793" y="818"/>
                  </a:lnTo>
                  <a:lnTo>
                    <a:pt x="803" y="818"/>
                  </a:lnTo>
                  <a:lnTo>
                    <a:pt x="812" y="818"/>
                  </a:lnTo>
                  <a:lnTo>
                    <a:pt x="822" y="814"/>
                  </a:lnTo>
                  <a:lnTo>
                    <a:pt x="836" y="814"/>
                  </a:lnTo>
                  <a:lnTo>
                    <a:pt x="841" y="806"/>
                  </a:lnTo>
                  <a:lnTo>
                    <a:pt x="850" y="802"/>
                  </a:lnTo>
                  <a:lnTo>
                    <a:pt x="860" y="802"/>
                  </a:lnTo>
                  <a:lnTo>
                    <a:pt x="874" y="794"/>
                  </a:lnTo>
                  <a:lnTo>
                    <a:pt x="884" y="787"/>
                  </a:lnTo>
                  <a:lnTo>
                    <a:pt x="903" y="740"/>
                  </a:lnTo>
                  <a:lnTo>
                    <a:pt x="903" y="732"/>
                  </a:lnTo>
                  <a:lnTo>
                    <a:pt x="903" y="721"/>
                  </a:lnTo>
                  <a:lnTo>
                    <a:pt x="903" y="713"/>
                  </a:lnTo>
                  <a:lnTo>
                    <a:pt x="893" y="701"/>
                  </a:lnTo>
                  <a:lnTo>
                    <a:pt x="893" y="694"/>
                  </a:lnTo>
                  <a:lnTo>
                    <a:pt x="884" y="682"/>
                  </a:lnTo>
                  <a:lnTo>
                    <a:pt x="879" y="670"/>
                  </a:lnTo>
                  <a:lnTo>
                    <a:pt x="879" y="663"/>
                  </a:lnTo>
                  <a:lnTo>
                    <a:pt x="874" y="651"/>
                  </a:lnTo>
                  <a:lnTo>
                    <a:pt x="874" y="643"/>
                  </a:lnTo>
                  <a:lnTo>
                    <a:pt x="869" y="635"/>
                  </a:lnTo>
                  <a:lnTo>
                    <a:pt x="869" y="628"/>
                  </a:lnTo>
                  <a:lnTo>
                    <a:pt x="865" y="612"/>
                  </a:lnTo>
                  <a:lnTo>
                    <a:pt x="865" y="620"/>
                  </a:lnTo>
                  <a:lnTo>
                    <a:pt x="879" y="620"/>
                  </a:lnTo>
                  <a:lnTo>
                    <a:pt x="889" y="620"/>
                  </a:lnTo>
                  <a:lnTo>
                    <a:pt x="903" y="612"/>
                  </a:lnTo>
                  <a:lnTo>
                    <a:pt x="912" y="608"/>
                  </a:lnTo>
                  <a:lnTo>
                    <a:pt x="922" y="601"/>
                  </a:lnTo>
                  <a:lnTo>
                    <a:pt x="936" y="593"/>
                  </a:lnTo>
                  <a:lnTo>
                    <a:pt x="946" y="589"/>
                  </a:lnTo>
                  <a:lnTo>
                    <a:pt x="955" y="585"/>
                  </a:lnTo>
                  <a:lnTo>
                    <a:pt x="970" y="577"/>
                  </a:lnTo>
                  <a:lnTo>
                    <a:pt x="979" y="566"/>
                  </a:lnTo>
                  <a:lnTo>
                    <a:pt x="984" y="558"/>
                  </a:lnTo>
                  <a:lnTo>
                    <a:pt x="989" y="546"/>
                  </a:lnTo>
                  <a:lnTo>
                    <a:pt x="994" y="539"/>
                  </a:lnTo>
                  <a:lnTo>
                    <a:pt x="998" y="531"/>
                  </a:lnTo>
                  <a:lnTo>
                    <a:pt x="998" y="519"/>
                  </a:lnTo>
                  <a:lnTo>
                    <a:pt x="998" y="511"/>
                  </a:lnTo>
                  <a:lnTo>
                    <a:pt x="1003" y="504"/>
                  </a:lnTo>
                  <a:lnTo>
                    <a:pt x="1008" y="488"/>
                  </a:lnTo>
                  <a:lnTo>
                    <a:pt x="1008" y="480"/>
                  </a:lnTo>
                  <a:lnTo>
                    <a:pt x="1008" y="469"/>
                  </a:lnTo>
                  <a:lnTo>
                    <a:pt x="1003" y="461"/>
                  </a:lnTo>
                  <a:lnTo>
                    <a:pt x="1003" y="453"/>
                  </a:lnTo>
                  <a:lnTo>
                    <a:pt x="998" y="446"/>
                  </a:lnTo>
                  <a:lnTo>
                    <a:pt x="998" y="438"/>
                  </a:lnTo>
                  <a:lnTo>
                    <a:pt x="893" y="380"/>
                  </a:lnTo>
                  <a:lnTo>
                    <a:pt x="922" y="380"/>
                  </a:lnTo>
                  <a:lnTo>
                    <a:pt x="908" y="372"/>
                  </a:lnTo>
                  <a:lnTo>
                    <a:pt x="946" y="353"/>
                  </a:lnTo>
                  <a:lnTo>
                    <a:pt x="951" y="345"/>
                  </a:lnTo>
                  <a:lnTo>
                    <a:pt x="960" y="341"/>
                  </a:lnTo>
                  <a:lnTo>
                    <a:pt x="965" y="329"/>
                  </a:lnTo>
                  <a:lnTo>
                    <a:pt x="975" y="318"/>
                  </a:lnTo>
                  <a:lnTo>
                    <a:pt x="979" y="310"/>
                  </a:lnTo>
                  <a:lnTo>
                    <a:pt x="979" y="302"/>
                  </a:lnTo>
                  <a:lnTo>
                    <a:pt x="984" y="294"/>
                  </a:lnTo>
                  <a:lnTo>
                    <a:pt x="984" y="283"/>
                  </a:lnTo>
                  <a:lnTo>
                    <a:pt x="984" y="271"/>
                  </a:lnTo>
                  <a:lnTo>
                    <a:pt x="984" y="263"/>
                  </a:lnTo>
                  <a:lnTo>
                    <a:pt x="975" y="256"/>
                  </a:lnTo>
                  <a:lnTo>
                    <a:pt x="975" y="248"/>
                  </a:lnTo>
                  <a:lnTo>
                    <a:pt x="965" y="244"/>
                  </a:lnTo>
                  <a:lnTo>
                    <a:pt x="955" y="240"/>
                  </a:lnTo>
                  <a:lnTo>
                    <a:pt x="941" y="240"/>
                  </a:lnTo>
                  <a:lnTo>
                    <a:pt x="932" y="240"/>
                  </a:lnTo>
                  <a:lnTo>
                    <a:pt x="922" y="244"/>
                  </a:lnTo>
                  <a:lnTo>
                    <a:pt x="912" y="244"/>
                  </a:lnTo>
                  <a:lnTo>
                    <a:pt x="903" y="244"/>
                  </a:lnTo>
                  <a:lnTo>
                    <a:pt x="889" y="248"/>
                  </a:lnTo>
                  <a:lnTo>
                    <a:pt x="879" y="248"/>
                  </a:lnTo>
                  <a:lnTo>
                    <a:pt x="869" y="256"/>
                  </a:lnTo>
                  <a:lnTo>
                    <a:pt x="855" y="260"/>
                  </a:lnTo>
                  <a:lnTo>
                    <a:pt x="831" y="267"/>
                  </a:lnTo>
                  <a:lnTo>
                    <a:pt x="836" y="263"/>
                  </a:lnTo>
                  <a:lnTo>
                    <a:pt x="836" y="252"/>
                  </a:lnTo>
                  <a:lnTo>
                    <a:pt x="846" y="236"/>
                  </a:lnTo>
                  <a:lnTo>
                    <a:pt x="850" y="225"/>
                  </a:lnTo>
                  <a:lnTo>
                    <a:pt x="850" y="217"/>
                  </a:lnTo>
                  <a:lnTo>
                    <a:pt x="860" y="209"/>
                  </a:lnTo>
                  <a:lnTo>
                    <a:pt x="860" y="198"/>
                  </a:lnTo>
                  <a:lnTo>
                    <a:pt x="860" y="190"/>
                  </a:lnTo>
                  <a:lnTo>
                    <a:pt x="865" y="178"/>
                  </a:lnTo>
                  <a:lnTo>
                    <a:pt x="865" y="167"/>
                  </a:lnTo>
                  <a:lnTo>
                    <a:pt x="865" y="155"/>
                  </a:lnTo>
                  <a:lnTo>
                    <a:pt x="860" y="139"/>
                  </a:lnTo>
                  <a:lnTo>
                    <a:pt x="855" y="132"/>
                  </a:lnTo>
                  <a:lnTo>
                    <a:pt x="850" y="120"/>
                  </a:lnTo>
                  <a:lnTo>
                    <a:pt x="841" y="108"/>
                  </a:lnTo>
                  <a:lnTo>
                    <a:pt x="841" y="101"/>
                  </a:lnTo>
                  <a:lnTo>
                    <a:pt x="836" y="93"/>
                  </a:lnTo>
                  <a:lnTo>
                    <a:pt x="826" y="85"/>
                  </a:lnTo>
                  <a:lnTo>
                    <a:pt x="817" y="81"/>
                  </a:lnTo>
                  <a:lnTo>
                    <a:pt x="807" y="77"/>
                  </a:lnTo>
                  <a:lnTo>
                    <a:pt x="798" y="77"/>
                  </a:lnTo>
                  <a:lnTo>
                    <a:pt x="788" y="74"/>
                  </a:lnTo>
                  <a:lnTo>
                    <a:pt x="755" y="70"/>
                  </a:lnTo>
                  <a:lnTo>
                    <a:pt x="745" y="74"/>
                  </a:lnTo>
                  <a:lnTo>
                    <a:pt x="736" y="74"/>
                  </a:lnTo>
                  <a:lnTo>
                    <a:pt x="726" y="74"/>
                  </a:lnTo>
                  <a:lnTo>
                    <a:pt x="717" y="74"/>
                  </a:lnTo>
                  <a:lnTo>
                    <a:pt x="702" y="74"/>
                  </a:lnTo>
                  <a:lnTo>
                    <a:pt x="693" y="74"/>
                  </a:lnTo>
                  <a:lnTo>
                    <a:pt x="693" y="54"/>
                  </a:lnTo>
                  <a:lnTo>
                    <a:pt x="688" y="66"/>
                  </a:lnTo>
                  <a:lnTo>
                    <a:pt x="683" y="58"/>
                  </a:lnTo>
                  <a:lnTo>
                    <a:pt x="674" y="50"/>
                  </a:lnTo>
                  <a:lnTo>
                    <a:pt x="659" y="43"/>
                  </a:lnTo>
                  <a:lnTo>
                    <a:pt x="650" y="39"/>
                  </a:lnTo>
                  <a:lnTo>
                    <a:pt x="621" y="27"/>
                  </a:lnTo>
                  <a:lnTo>
                    <a:pt x="611" y="23"/>
                  </a:lnTo>
                  <a:lnTo>
                    <a:pt x="602" y="19"/>
                  </a:lnTo>
                  <a:lnTo>
                    <a:pt x="592" y="19"/>
                  </a:lnTo>
                  <a:lnTo>
                    <a:pt x="583" y="19"/>
                  </a:lnTo>
                  <a:lnTo>
                    <a:pt x="573" y="19"/>
                  </a:lnTo>
                  <a:lnTo>
                    <a:pt x="564" y="15"/>
                  </a:lnTo>
                  <a:lnTo>
                    <a:pt x="554" y="15"/>
                  </a:lnTo>
                  <a:lnTo>
                    <a:pt x="545" y="15"/>
                  </a:lnTo>
                  <a:lnTo>
                    <a:pt x="535" y="23"/>
                  </a:lnTo>
                  <a:lnTo>
                    <a:pt x="530" y="31"/>
                  </a:lnTo>
                  <a:lnTo>
                    <a:pt x="525" y="46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25640" y="4113360"/>
              <a:ext cx="146232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Inter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971800" y="2552760"/>
            <a:ext cx="3048120" cy="1333440"/>
          </a:xfrm>
          <a:custGeom>
            <a:avLst/>
            <a:gdLst/>
            <a:ahLst/>
            <a:rect l="l" t="t" r="r" b="b"/>
            <a:pathLst>
              <a:path w="1968" h="768">
                <a:moveTo>
                  <a:pt x="1968" y="0"/>
                </a:moveTo>
                <a:cubicBezTo>
                  <a:pt x="1904" y="104"/>
                  <a:pt x="1840" y="208"/>
                  <a:pt x="1680" y="336"/>
                </a:cubicBezTo>
                <a:cubicBezTo>
                  <a:pt x="1520" y="464"/>
                  <a:pt x="1240" y="768"/>
                  <a:pt x="1008" y="768"/>
                </a:cubicBezTo>
                <a:cubicBezTo>
                  <a:pt x="776" y="768"/>
                  <a:pt x="456" y="456"/>
                  <a:pt x="288" y="336"/>
                </a:cubicBezTo>
                <a:cubicBezTo>
                  <a:pt x="120" y="216"/>
                  <a:pt x="60" y="132"/>
                  <a:pt x="0" y="48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29160" y="1905120"/>
            <a:ext cx="19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nnecte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9800" y="5645520"/>
            <a:ext cx="220320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oice GW Out(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43320" y="4070520"/>
            <a:ext cx="149436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Fax G/W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00920" y="3283200"/>
            <a:ext cx="170784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Fax G/W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9720" y="4858200"/>
            <a:ext cx="1733760" cy="4881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oice G/W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31520" y="5339880"/>
            <a:ext cx="1971360" cy="794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rvice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3352680"/>
            <a:ext cx="609840" cy="14616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0120" y="4114800"/>
            <a:ext cx="838080" cy="20304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5791320"/>
            <a:ext cx="533520" cy="12672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72400" y="4952880"/>
            <a:ext cx="838080" cy="203400"/>
          </a:xfrm>
          <a:custGeom>
            <a:avLst/>
            <a:gdLst/>
            <a:ahLst/>
            <a:rect l="l" t="t" r="r" b="b"/>
            <a:pathLst>
              <a:path w="528" h="128">
                <a:moveTo>
                  <a:pt x="528" y="16"/>
                </a:moveTo>
                <a:cubicBezTo>
                  <a:pt x="372" y="8"/>
                  <a:pt x="216" y="0"/>
                  <a:pt x="192" y="16"/>
                </a:cubicBezTo>
                <a:cubicBezTo>
                  <a:pt x="168" y="32"/>
                  <a:pt x="416" y="96"/>
                  <a:pt x="384" y="112"/>
                </a:cubicBezTo>
                <a:cubicBezTo>
                  <a:pt x="352" y="128"/>
                  <a:pt x="64" y="112"/>
                  <a:pt x="0" y="112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447920" y="3048120"/>
            <a:ext cx="685800" cy="749160"/>
            <a:chOff x="1447920" y="3048120"/>
            <a:chExt cx="685800" cy="749160"/>
          </a:xfrm>
        </p:grpSpPr>
        <p:sp>
          <p:nvSpPr>
            <p:cNvPr id="425" name=""/>
            <p:cNvSpPr/>
            <p:nvPr/>
          </p:nvSpPr>
          <p:spPr>
            <a:xfrm>
              <a:off x="1454400" y="304812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54400" y="352440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47920" y="319104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33720" y="319104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696080" y="1981080"/>
            <a:ext cx="685800" cy="749160"/>
            <a:chOff x="7696080" y="1981080"/>
            <a:chExt cx="685800" cy="749160"/>
          </a:xfrm>
        </p:grpSpPr>
        <p:sp>
          <p:nvSpPr>
            <p:cNvPr id="430" name=""/>
            <p:cNvSpPr/>
            <p:nvPr/>
          </p:nvSpPr>
          <p:spPr>
            <a:xfrm>
              <a:off x="7702560" y="198108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02560" y="2457360"/>
              <a:ext cx="672840" cy="2728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6080" y="212400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1880" y="2124000"/>
              <a:ext cx="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H="1">
            <a:off x="1828440" y="28195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467120" y="22860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486400" y="312840"/>
          <a:ext cx="2789280" cy="14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12840"/>
                    <a:ext cx="278928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However...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acking essential capabilities for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High efficiency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Quality of service guarantees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ong-term dialogue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Formal exchanges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1973520" cy="16383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genda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troduction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chnology basics and requirement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olume mai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ified messag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Messaging-based group collabora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perations basics:  Performance, reliability and security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ail-based commerc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Messaging-based Collaborat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mail discussion list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iscussion archiv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Netnew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stant messag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alendaring 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ecifications, standards, efforts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Messaging-based Collaborat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2044800"/>
            <a:ext cx="40384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Virtual organization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25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utsource for compan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250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utsource for multi-organization "group"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95320" y="2044800"/>
            <a:ext cx="4343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5600" indent="-43560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unction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mail discussion lis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scussion archiv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ocument archiv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stant messag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86680" indent="-340200">
              <a:lnSpc>
                <a:spcPct val="16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lendaring &amp; scheduling</a:t>
            </a:r>
            <a:r>
              <a:rPr b="0" i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ollaboration technology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echnical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1833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ail: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plicit naming &amp; routing to recipi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1833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News: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pen-ended, hop-by-hop distribution to "locations"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ocial/Communication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1833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ail: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plicit list of participa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1833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News: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rticipation boundary by preventing/allowing relay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Mailing List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47" name=""/>
          <p:cNvSpPr/>
          <p:nvPr/>
        </p:nvSpPr>
        <p:spPr>
          <a:xfrm>
            <a:off x="1789560" y="2936160"/>
            <a:ext cx="132804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27440" y="3042720"/>
            <a:ext cx="134964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44000" y="3042720"/>
            <a:ext cx="99612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14440" y="3440160"/>
            <a:ext cx="223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99120" y="3440160"/>
            <a:ext cx="261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64200" y="3440160"/>
            <a:ext cx="3002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84560" y="3211560"/>
            <a:ext cx="6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19880" y="2949120"/>
            <a:ext cx="132804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3720" y="3042720"/>
            <a:ext cx="99612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614840" y="4768200"/>
            <a:ext cx="139212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37680" y="4882680"/>
            <a:ext cx="167112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4038480"/>
            <a:ext cx="60984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38480" y="487692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5" idx="0"/>
            <a:endCxn id="454" idx="0"/>
          </p:cNvCxnSpPr>
          <p:nvPr/>
        </p:nvCxnSpPr>
        <p:spPr>
          <a:xfrm flipH="1" flipV="1" rot="5400000">
            <a:off x="2561040" y="1213200"/>
            <a:ext cx="94320" cy="3553560"/>
          </a:xfrm>
          <a:prstGeom prst="curvedConnector5">
            <a:avLst>
              <a:gd name="adj1" fmla="val 318390"/>
              <a:gd name="adj2" fmla="val 50000"/>
              <a:gd name="adj3" fmla="val 318390"/>
            </a:avLst>
          </a:prstGeom>
          <a:ln w="28440">
            <a:solidFill>
              <a:srgbClr val="ff9900"/>
            </a:solidFill>
            <a:miter/>
            <a:head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2973600" y="45100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S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502920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518148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533412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548640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63868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00600" y="4038480"/>
            <a:ext cx="60948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038480"/>
            <a:ext cx="60948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4038480"/>
            <a:ext cx="609840" cy="68580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43400" y="4038480"/>
            <a:ext cx="60948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55" idx="2"/>
            <a:endCxn id="457" idx="0"/>
          </p:cNvCxnSpPr>
          <p:nvPr/>
        </p:nvCxnSpPr>
        <p:spPr>
          <a:xfrm flipH="1" rot="16200000">
            <a:off x="1386000" y="3288960"/>
            <a:ext cx="1033920" cy="2141640"/>
          </a:xfrm>
          <a:prstGeom prst="curvedConnector5">
            <a:avLst>
              <a:gd name="adj1" fmla="val 49912"/>
              <a:gd name="adj2" fmla="val 50000"/>
              <a:gd name="adj3" fmla="val 49912"/>
            </a:avLst>
          </a:prstGeom>
          <a:ln w="28440">
            <a:solidFill>
              <a:srgbClr val="ff9900"/>
            </a:solidFill>
            <a:miter/>
            <a:head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4268880" y="2529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S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mail list subscript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General Internet conventio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nd to &lt;listname&gt;-request@machine-na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istserv conventio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urier New"/>
              </a:rPr>
              <a:t>To: listserv@machine-na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ody:</a:t>
            </a:r>
            <a:r>
              <a:rPr b="1" lang="en-US" sz="2400" spc="-1" strike="noStrike">
                <a:solidFill>
                  <a:srgbClr val="ffcc66"/>
                </a:solidFill>
                <a:latin typeface="Courier New"/>
              </a:rPr>
              <a:t> SUB &lt;listname&gt; &lt;myname&gt;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Majordomo - leave off &lt;myname&gt;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Courier New"/>
              </a:rPr>
              <a:t>To: listserv@machine-na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ody:</a:t>
            </a:r>
            <a:r>
              <a:rPr b="1" lang="en-US" sz="2400" spc="-1" strike="noStrike">
                <a:solidFill>
                  <a:srgbClr val="ffcc66"/>
                </a:solidFill>
                <a:latin typeface="Courier New"/>
              </a:rPr>
              <a:t> SUB &lt;listname&gt;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URL - 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09880" y="5257800"/>
            <a:ext cx="3049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2286000"/>
            <a:ext cx="15264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Netnews architecture:</a:t>
            </a:r>
            <a:br>
              <a:rPr sz="4400"/>
            </a:br>
            <a:r>
              <a:rPr b="1" lang="en-US" sz="3600" spc="-1" strike="noStrike">
                <a:solidFill>
                  <a:srgbClr val="ffcc66"/>
                </a:solidFill>
                <a:latin typeface="Bookman Old Style"/>
              </a:rPr>
              <a:t>Flooding algorithm</a:t>
            </a:r>
            <a:endParaRPr b="1" i="1" lang="en-US" sz="36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478" name=""/>
          <p:cNvSpPr/>
          <p:nvPr/>
        </p:nvSpPr>
        <p:spPr>
          <a:xfrm>
            <a:off x="773280" y="3815640"/>
            <a:ext cx="132804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6680" y="2139480"/>
            <a:ext cx="99612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840" y="2825280"/>
            <a:ext cx="132804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03600" y="2215440"/>
            <a:ext cx="1065960" cy="7945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6440" rIns="136440" tIns="9216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g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6783480" y="4978440"/>
          <a:ext cx="10792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3480" y="4978440"/>
                    <a:ext cx="10792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886200" y="5257800"/>
          <a:ext cx="107964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257800"/>
                    <a:ext cx="10796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914400" y="5029200"/>
          <a:ext cx="107964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5029200"/>
                    <a:ext cx="10796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3416400" y="1930320"/>
          <a:ext cx="107928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6400" y="1930320"/>
                    <a:ext cx="1079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156120" y="4196880"/>
            <a:ext cx="132804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60000" y="3710880"/>
            <a:ext cx="1328040" cy="1007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N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Transf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gent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4572000"/>
            <a:ext cx="914400" cy="22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27040" y="48769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133720" y="3428640"/>
            <a:ext cx="1676160" cy="685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3505320"/>
            <a:ext cx="121896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334280" y="4724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27040" y="30481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34280" y="29718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3400" y="30481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A1, A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450560" y="30160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Artic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2, B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76160" y="34401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50280" y="4770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2, B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4708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1, B2, B4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3800" y="32608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33720" y="4724280"/>
            <a:ext cx="914400" cy="22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4120" y="3657600"/>
            <a:ext cx="121896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572000" y="4419720"/>
            <a:ext cx="205740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280" y="380988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9720" y="42512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83880" y="5029200"/>
            <a:ext cx="99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, A2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2, B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8320" y="1981080"/>
            <a:ext cx="5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2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62160" y="5257800"/>
            <a:ext cx="99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, A2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2, B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04800" y="5029200"/>
            <a:ext cx="90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2, B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Instant messaging</a:t>
            </a: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	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mail in second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ize or data restrictions, usuall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1973520" cy="163836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genda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ntroduction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echnology basics and requirement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olume mai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Unified messag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essaging-based group collabora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Operations basics:  </a:t>
            </a:r>
            <a:r>
              <a:rPr b="1" i="1" lang="en-US" sz="2400" spc="-1" strike="noStrike">
                <a:solidFill>
                  <a:srgbClr val="ffff00"/>
                </a:solidFill>
                <a:latin typeface="Bookman Old Style"/>
              </a:rPr>
              <a:t>Performance, reliability and security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ail-based commerc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Operations basic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ongestion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ource/destination SMTP relay usually the proble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eliability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dundancy or high-availabil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ecurity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ntent Authentic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ntent Privac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Boldly go...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3656160"/>
            <a:ext cx="3657600" cy="236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ternet the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mall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riend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pe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su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280" y="3656160"/>
            <a:ext cx="4138560" cy="236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ternet now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igant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etitiv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osed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ope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sual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form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44560" y="2057400"/>
            <a:ext cx="7518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ere no public netwo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as gone before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ommerce changes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Diversification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ccess control &amp; roam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mail posting vs. relay preven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SP firewalls preventing POP/IMAP/SMTP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rue email routing?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pology and performance sensitiv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7362720" y="228600"/>
          <a:ext cx="1636920" cy="17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228600"/>
                    <a:ext cx="16369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Quality of servic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low delivery or non-deliver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oor sending M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oor receiving M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ot due to Inter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Zero downtim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lann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nplann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Redundant storag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Constant monitoring &amp; repair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Network security factor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lgorithm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125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ata integr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7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Key managemen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7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ata encryp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ackag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125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ncod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7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rapp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Trust mode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125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Key managemen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ertificat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65080" indent="-407880">
              <a:spcBef>
                <a:spcPts val="1250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865080" indent="-407880">
              <a:spcBef>
                <a:spcPts val="7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orma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7423200" y="4984920"/>
            <a:ext cx="1160280" cy="133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ecurity, low-tech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rivac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rtified opera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ncrypted channels for remote acces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uthentication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trolled network acces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trolled application acces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ird-party proof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gg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116840" y="4438800"/>
          <a:ext cx="160020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6840" y="4438800"/>
                    <a:ext cx="16002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Basic algorithm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36" name=""/>
          <p:cNvSpPr/>
          <p:nvPr/>
        </p:nvSpPr>
        <p:spPr>
          <a:xfrm>
            <a:off x="692280" y="2825640"/>
            <a:ext cx="901440" cy="596880"/>
          </a:xfrm>
          <a:prstGeom prst="cube">
            <a:avLst>
              <a:gd name="adj" fmla="val 249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0560" y="30020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66960" y="2749680"/>
            <a:ext cx="749160" cy="749160"/>
          </a:xfrm>
          <a:prstGeom prst="octagon">
            <a:avLst>
              <a:gd name="adj" fmla="val 2926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46240" y="2897280"/>
            <a:ext cx="390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Ha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67440" y="294156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3280" y="2163600"/>
            <a:ext cx="118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Integ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22880" y="2590920"/>
            <a:ext cx="4143240" cy="1019160"/>
          </a:xfrm>
          <a:prstGeom prst="roundRect">
            <a:avLst>
              <a:gd name="adj" fmla="val 12468"/>
            </a:avLst>
          </a:prstGeom>
          <a:gradFill rotWithShape="0">
            <a:gsLst>
              <a:gs pos="0">
                <a:srgbClr val="969696"/>
              </a:gs>
              <a:gs pos="100000">
                <a:srgbClr val="aaaaaa"/>
              </a:gs>
            </a:gsLst>
            <a:lin ang="13500000"/>
          </a:gra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49640" y="2825640"/>
            <a:ext cx="901800" cy="596880"/>
          </a:xfrm>
          <a:prstGeom prst="cube">
            <a:avLst>
              <a:gd name="adj" fmla="val 249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47920" y="30020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24800" y="294156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5480" y="2941560"/>
            <a:ext cx="3160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47760" y="2941560"/>
            <a:ext cx="12945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e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man Old Style"/>
              </a:rPr>
              <a:t>PRIV-OR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02520" y="2803680"/>
            <a:ext cx="149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g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ign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73520" y="2749680"/>
            <a:ext cx="749520" cy="749160"/>
          </a:xfrm>
          <a:prstGeom prst="octagon">
            <a:avLst>
              <a:gd name="adj" fmla="val 29269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53160" y="2897280"/>
            <a:ext cx="39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Ha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38840" y="2163600"/>
            <a:ext cx="2731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Authentication (sig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9560" y="4756320"/>
            <a:ext cx="3533760" cy="866520"/>
          </a:xfrm>
          <a:prstGeom prst="roundRect">
            <a:avLst>
              <a:gd name="adj" fmla="val 12468"/>
            </a:avLst>
          </a:prstGeom>
          <a:gradFill rotWithShape="0">
            <a:gsLst>
              <a:gs pos="0">
                <a:srgbClr val="969696"/>
              </a:gs>
              <a:gs pos="100000">
                <a:srgbClr val="aaaaaa"/>
              </a:gs>
            </a:gsLst>
            <a:lin ang="13500000"/>
          </a:gra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44560" y="4890960"/>
            <a:ext cx="901800" cy="596880"/>
          </a:xfrm>
          <a:prstGeom prst="cube">
            <a:avLst>
              <a:gd name="adj" fmla="val 24967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42840" y="506736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s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06840" y="4756320"/>
            <a:ext cx="3915000" cy="866520"/>
          </a:xfrm>
          <a:prstGeom prst="roundRect">
            <a:avLst>
              <a:gd name="adj" fmla="val 12468"/>
            </a:avLst>
          </a:prstGeom>
          <a:gradFill rotWithShape="0">
            <a:gsLst>
              <a:gs pos="0">
                <a:srgbClr val="969696"/>
              </a:gs>
              <a:gs pos="100000">
                <a:srgbClr val="aaaaaa"/>
              </a:gs>
            </a:gsLst>
            <a:lin ang="13500000"/>
          </a:gra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02160" y="5006880"/>
            <a:ext cx="1149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+ Key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Bookman Old Style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33800" y="4869000"/>
            <a:ext cx="1058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ncry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310280" y="5006880"/>
            <a:ext cx="12092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man Old Style"/>
              </a:rPr>
              <a:t>+ </a:t>
            </a: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 Key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Bookman Old Style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10880" y="5006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80880" y="5006880"/>
            <a:ext cx="1358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e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ookman Old Style"/>
              </a:rPr>
              <a:t>PUB-REC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2560" y="4221000"/>
            <a:ext cx="1826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Privacy (se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27800" y="4869000"/>
            <a:ext cx="115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ncry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90440" y="502920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095600" y="502920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05240" y="297180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Basic algorithm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567" name=""/>
          <p:cNvSpPr/>
          <p:nvPr/>
        </p:nvSpPr>
        <p:spPr>
          <a:xfrm>
            <a:off x="1087560" y="2378160"/>
            <a:ext cx="7172280" cy="1203120"/>
          </a:xfrm>
          <a:prstGeom prst="roundRect">
            <a:avLst>
              <a:gd name="adj" fmla="val 12468"/>
            </a:avLst>
          </a:prstGeom>
          <a:gradFill rotWithShape="0">
            <a:gsLst>
              <a:gs pos="0">
                <a:srgbClr val="969696"/>
              </a:gs>
              <a:gs pos="100000">
                <a:srgbClr val="aaaaaa"/>
              </a:gs>
            </a:gsLst>
            <a:lin ang="13500000"/>
          </a:gra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0720" y="2803680"/>
            <a:ext cx="308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54960" y="2803680"/>
            <a:ext cx="57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Ke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32680" y="2935440"/>
            <a:ext cx="102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PRIV-RECI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55560" y="2681280"/>
            <a:ext cx="904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Digit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57000" y="2927520"/>
            <a:ext cx="1241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Signatur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266960" y="305100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RECE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77880" y="2541600"/>
            <a:ext cx="1662120" cy="836640"/>
          </a:xfrm>
          <a:custGeom>
            <a:avLst/>
            <a:gdLst/>
            <a:ahLst/>
            <a:rect l="l" t="t" r="r" b="b"/>
            <a:pathLst>
              <a:path w="1047" h="527">
                <a:moveTo>
                  <a:pt x="156" y="0"/>
                </a:moveTo>
                <a:lnTo>
                  <a:pt x="0" y="151"/>
                </a:lnTo>
                <a:lnTo>
                  <a:pt x="0" y="371"/>
                </a:lnTo>
                <a:lnTo>
                  <a:pt x="156" y="526"/>
                </a:lnTo>
                <a:lnTo>
                  <a:pt x="893" y="526"/>
                </a:lnTo>
                <a:lnTo>
                  <a:pt x="1046" y="371"/>
                </a:lnTo>
                <a:lnTo>
                  <a:pt x="1046" y="151"/>
                </a:lnTo>
                <a:lnTo>
                  <a:pt x="893" y="0"/>
                </a:lnTo>
                <a:lnTo>
                  <a:pt x="156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42640" y="2674800"/>
            <a:ext cx="904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Bookman Old Style"/>
              </a:rPr>
              <a:t>Digit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12080" y="2863800"/>
            <a:ext cx="1241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Bookman Old Style"/>
              </a:rPr>
              <a:t>Signatur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1840" y="3016080"/>
            <a:ext cx="576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man Old Style"/>
              </a:rPr>
              <a:t>OR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23840" y="1967040"/>
            <a:ext cx="202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Signed Recei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50920" y="277668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63800" y="4470480"/>
            <a:ext cx="7161120" cy="1190520"/>
          </a:xfrm>
          <a:prstGeom prst="roundRect">
            <a:avLst>
              <a:gd name="adj" fmla="val 12468"/>
            </a:avLst>
          </a:prstGeom>
          <a:gradFill rotWithShape="0">
            <a:gsLst>
              <a:gs pos="0">
                <a:srgbClr val="969696"/>
              </a:gs>
              <a:gs pos="100000">
                <a:srgbClr val="aaaaaa"/>
              </a:gs>
            </a:gsLst>
            <a:lin ang="13500000"/>
          </a:gra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52640" y="4457880"/>
            <a:ext cx="7183440" cy="1215720"/>
          </a:xfrm>
          <a:prstGeom prst="roundRect">
            <a:avLst>
              <a:gd name="adj" fmla="val 12468"/>
            </a:avLst>
          </a:prstGeom>
          <a:gradFill rotWithShape="0">
            <a:gsLst>
              <a:gs pos="0">
                <a:srgbClr val="969696"/>
              </a:gs>
              <a:gs pos="100000">
                <a:srgbClr val="aaaaaa"/>
              </a:gs>
            </a:gsLst>
            <a:lin ang="13500000"/>
          </a:gra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33440" y="4844880"/>
            <a:ext cx="308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378600" y="4844880"/>
            <a:ext cx="57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Ke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39040" y="4995720"/>
            <a:ext cx="96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PRIV-CE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97960" y="4916520"/>
            <a:ext cx="869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DigSi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81320" y="5040360"/>
            <a:ext cx="556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CE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1400" y="4648320"/>
            <a:ext cx="1904760" cy="842760"/>
          </a:xfrm>
          <a:custGeom>
            <a:avLst/>
            <a:gdLst/>
            <a:ahLst/>
            <a:rect l="l" t="t" r="r" b="b"/>
            <a:pathLst>
              <a:path w="1200" h="531">
                <a:moveTo>
                  <a:pt x="153" y="0"/>
                </a:moveTo>
                <a:lnTo>
                  <a:pt x="0" y="155"/>
                </a:lnTo>
                <a:lnTo>
                  <a:pt x="0" y="375"/>
                </a:lnTo>
                <a:lnTo>
                  <a:pt x="153" y="530"/>
                </a:lnTo>
                <a:lnTo>
                  <a:pt x="1042" y="530"/>
                </a:lnTo>
                <a:lnTo>
                  <a:pt x="1199" y="375"/>
                </a:lnTo>
                <a:lnTo>
                  <a:pt x="1199" y="155"/>
                </a:lnTo>
                <a:lnTo>
                  <a:pt x="1042" y="0"/>
                </a:lnTo>
                <a:lnTo>
                  <a:pt x="153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88480" y="4788000"/>
            <a:ext cx="904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Bookman Old Style"/>
              </a:rPr>
              <a:t>Digit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96280" y="4964040"/>
            <a:ext cx="1241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Bookman Old Style"/>
              </a:rPr>
              <a:t>Signatur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26680" y="5141880"/>
            <a:ext cx="79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man Old Style"/>
              </a:rPr>
              <a:t>RECE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17960" y="4808520"/>
            <a:ext cx="1673280" cy="487440"/>
          </a:xfrm>
          <a:custGeom>
            <a:avLst/>
            <a:gdLst/>
            <a:ahLst/>
            <a:rect l="l" t="t" r="r" b="b"/>
            <a:pathLst>
              <a:path w="1054" h="307">
                <a:moveTo>
                  <a:pt x="89" y="0"/>
                </a:moveTo>
                <a:lnTo>
                  <a:pt x="0" y="89"/>
                </a:lnTo>
                <a:lnTo>
                  <a:pt x="0" y="217"/>
                </a:lnTo>
                <a:lnTo>
                  <a:pt x="89" y="306"/>
                </a:lnTo>
                <a:lnTo>
                  <a:pt x="964" y="306"/>
                </a:lnTo>
                <a:lnTo>
                  <a:pt x="1053" y="217"/>
                </a:lnTo>
                <a:lnTo>
                  <a:pt x="1053" y="89"/>
                </a:lnTo>
                <a:lnTo>
                  <a:pt x="964" y="0"/>
                </a:lnTo>
                <a:lnTo>
                  <a:pt x="89" y="0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13280" y="4815000"/>
            <a:ext cx="1398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Bookman Old Style"/>
              </a:rPr>
              <a:t>Timestam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69960" y="5037120"/>
            <a:ext cx="556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Bookman Old Style"/>
              </a:rPr>
              <a:t>CE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668480" y="4898880"/>
            <a:ext cx="308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man Old Style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0600" y="4011480"/>
            <a:ext cx="353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Non-repudiation (Recipi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16080" y="4884840"/>
            <a:ext cx="3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Architectural choic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649240" y="1530360"/>
            <a:ext cx="3117960" cy="596880"/>
            <a:chOff x="2649240" y="1530360"/>
            <a:chExt cx="3117960" cy="596880"/>
          </a:xfrm>
        </p:grpSpPr>
        <p:sp>
          <p:nvSpPr>
            <p:cNvPr id="599" name=""/>
            <p:cNvSpPr/>
            <p:nvPr/>
          </p:nvSpPr>
          <p:spPr>
            <a:xfrm>
              <a:off x="3206520" y="1530360"/>
              <a:ext cx="1816920" cy="59688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649240" y="1938240"/>
              <a:ext cx="576360" cy="936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063400" y="1862280"/>
              <a:ext cx="703800" cy="936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3543480" y="1655640"/>
            <a:ext cx="1143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73160" y="2292480"/>
            <a:ext cx="1892160" cy="825480"/>
          </a:xfrm>
          <a:prstGeom prst="roundRect">
            <a:avLst>
              <a:gd name="adj" fmla="val 12449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46520" y="2257560"/>
            <a:ext cx="9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89160" y="2521080"/>
            <a:ext cx="1676160" cy="5968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430280" y="3309840"/>
            <a:ext cx="347760" cy="627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90880" y="3233880"/>
            <a:ext cx="17280" cy="398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5440" y="3309840"/>
            <a:ext cx="650880" cy="641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1353600" y="4376880"/>
            <a:ext cx="119160" cy="626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43160" y="4071960"/>
            <a:ext cx="93600" cy="3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33880" y="4452840"/>
            <a:ext cx="93600" cy="6271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88640" y="3941640"/>
            <a:ext cx="717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Bookman Old Style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92000" y="3637080"/>
            <a:ext cx="102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Bookman Old Style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98640" y="3941640"/>
            <a:ext cx="96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Bookman Old Style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20880" y="5187960"/>
            <a:ext cx="1892160" cy="825480"/>
          </a:xfrm>
          <a:prstGeom prst="roundRect">
            <a:avLst>
              <a:gd name="adj" fmla="val 12449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94240" y="5153040"/>
            <a:ext cx="9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36520" y="5416560"/>
            <a:ext cx="1676520" cy="5968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01960" y="5187960"/>
            <a:ext cx="1892160" cy="825480"/>
          </a:xfrm>
          <a:prstGeom prst="roundRect">
            <a:avLst>
              <a:gd name="adj" fmla="val 12449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75320" y="5153040"/>
            <a:ext cx="9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ec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16560"/>
            <a:ext cx="1676160" cy="5968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71760" y="4757760"/>
            <a:ext cx="68400" cy="3603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20600" y="4322880"/>
            <a:ext cx="102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Bookman Old Style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32520" y="1814400"/>
            <a:ext cx="117972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02560" y="1814400"/>
            <a:ext cx="143100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51520" y="5416560"/>
            <a:ext cx="1676520" cy="5968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70440" y="5416560"/>
            <a:ext cx="1676520" cy="5968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94120" y="2292480"/>
            <a:ext cx="1752840" cy="2577960"/>
          </a:xfrm>
          <a:custGeom>
            <a:avLst/>
            <a:gdLst>
              <a:gd name="textAreaLeft" fmla="*/ 63720 w 1752840"/>
              <a:gd name="textAreaRight" fmla="*/ 1689120 w 1752840"/>
              <a:gd name="textAreaTop" fmla="*/ 63720 h 2577960"/>
              <a:gd name="textAreaBottom" fmla="*/ 2514240 h 2577960"/>
            </a:gdLst>
            <a:ahLst/>
            <a:rect l="textAreaLeft" t="textAreaTop" r="textAreaRight" b="textAreaBottom"/>
            <a:pathLst>
              <a:path w="21600" h="31766">
                <a:moveTo>
                  <a:pt x="2689" y="0"/>
                </a:moveTo>
                <a:arcTo wR="2689" hR="2689" stAng="16200000" swAng="-5400000"/>
                <a:lnTo>
                  <a:pt x="0" y="29077"/>
                </a:lnTo>
                <a:arcTo wR="2689" hR="2689" stAng="10800000" swAng="-5400000"/>
                <a:lnTo>
                  <a:pt x="18911" y="31766"/>
                </a:lnTo>
                <a:arcTo wR="2689" hR="2689" stAng="5400000" swAng="-5400000"/>
                <a:lnTo>
                  <a:pt x="21600" y="2689"/>
                </a:lnTo>
                <a:arcTo wR="2689" hR="2689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923000" y="2437560"/>
            <a:ext cx="14882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ec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429000"/>
            <a:ext cx="457200" cy="685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15000" y="3538440"/>
            <a:ext cx="0" cy="47484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952880" y="2895480"/>
            <a:ext cx="152424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52880" y="4114800"/>
            <a:ext cx="152424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15000" y="4757760"/>
            <a:ext cx="0" cy="512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50000" y="2292480"/>
            <a:ext cx="1811520" cy="2577960"/>
          </a:xfrm>
          <a:custGeom>
            <a:avLst/>
            <a:gdLst>
              <a:gd name="textAreaLeft" fmla="*/ 65880 w 1811520"/>
              <a:gd name="textAreaRight" fmla="*/ 1745640 w 1811520"/>
              <a:gd name="textAreaTop" fmla="*/ 65880 h 2577960"/>
              <a:gd name="textAreaBottom" fmla="*/ 2512080 h 2577960"/>
            </a:gdLst>
            <a:ahLst/>
            <a:rect l="textAreaLeft" t="textAreaTop" r="textAreaRight" b="textAreaBottom"/>
            <a:pathLst>
              <a:path w="21600" h="30737">
                <a:moveTo>
                  <a:pt x="2689" y="0"/>
                </a:moveTo>
                <a:arcTo wR="2689" hR="2689" stAng="16200000" swAng="-5400000"/>
                <a:lnTo>
                  <a:pt x="0" y="28048"/>
                </a:lnTo>
                <a:arcTo wR="2689" hR="2689" stAng="10800000" swAng="-5400000"/>
                <a:lnTo>
                  <a:pt x="18911" y="30737"/>
                </a:lnTo>
                <a:arcTo wR="2689" hR="2689" stAng="5400000" swAng="-5400000"/>
                <a:lnTo>
                  <a:pt x="21600" y="2689"/>
                </a:lnTo>
                <a:arcTo wR="2689" hR="2689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86440" y="2413800"/>
            <a:ext cx="155232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Email Sec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26440" y="3429000"/>
            <a:ext cx="457200" cy="685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77080" y="2895480"/>
            <a:ext cx="155736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M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77080" y="4114800"/>
            <a:ext cx="1557360" cy="533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Bookman Old Style"/>
              </a:rPr>
              <a:t>M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56480" y="4757760"/>
            <a:ext cx="1800" cy="48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69080" y="3505320"/>
            <a:ext cx="0" cy="47448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Object contender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1960" y="2087640"/>
            <a:ext cx="351144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PG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GP, Inc. (Net Assoc.)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Qualcomm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Years of use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ignificant installed base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Informal CA scheme w/server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47960" y="2087640"/>
            <a:ext cx="38862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S/MIM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RSA DSI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Netscape, Microsoft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Recent usage history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Sudden large installed base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Formal CA scheme w/ server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7824960" y="266760"/>
            <a:ext cx="1252440" cy="17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PGP vs. S/MIM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457200" y="2190600"/>
          <a:ext cx="8269200" cy="39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90600"/>
                    <a:ext cx="826920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6621480" y="380880"/>
            <a:ext cx="1873080" cy="158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PGP vs. S/MIM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650" name=""/>
          <p:cNvSpPr/>
          <p:nvPr/>
        </p:nvSpPr>
        <p:spPr>
          <a:xfrm>
            <a:off x="719280" y="2033640"/>
            <a:ext cx="1796760" cy="326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9280" y="2360520"/>
            <a:ext cx="1796760" cy="262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30440" y="2033640"/>
            <a:ext cx="1433520" cy="347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82600" y="2154240"/>
            <a:ext cx="72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GP 5.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30440" y="2381400"/>
            <a:ext cx="1433520" cy="241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78360" y="2033640"/>
            <a:ext cx="1427040" cy="347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353480" y="2154240"/>
            <a:ext cx="88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OpenPG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78360" y="2381400"/>
            <a:ext cx="1427040" cy="241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23400" y="2395440"/>
            <a:ext cx="54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IETF</a:t>
            </a:r>
            <a:r>
              <a:rPr b="0" i="1" lang="en-US" sz="15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33840" y="2033640"/>
            <a:ext cx="1425600" cy="347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80440" y="2154240"/>
            <a:ext cx="1104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/MIME v2.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33840" y="2381400"/>
            <a:ext cx="1425600" cy="241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73840" y="2033640"/>
            <a:ext cx="1434960" cy="347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52400" y="2154240"/>
            <a:ext cx="11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S/MIME v 3.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73840" y="2381400"/>
            <a:ext cx="1434960" cy="241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73520" y="2395440"/>
            <a:ext cx="52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ffff00"/>
                </a:solidFill>
                <a:latin typeface="Bookman Old Style"/>
              </a:rPr>
              <a:t>(</a:t>
            </a: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IETF</a:t>
            </a:r>
            <a:r>
              <a:rPr b="0" i="1" lang="en-US" sz="1500" spc="-1" strike="noStrike">
                <a:solidFill>
                  <a:srgbClr val="ffff00"/>
                </a:solidFill>
                <a:latin typeface="Bookman Old Style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880" y="20192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04880" y="20192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9280" y="2019240"/>
            <a:ext cx="17967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16040" y="20192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30440" y="2019240"/>
            <a:ext cx="14335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63960" y="20192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78360" y="2019240"/>
            <a:ext cx="142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05400" y="20192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19800" y="2019240"/>
            <a:ext cx="14396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59440" y="20192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73840" y="2019240"/>
            <a:ext cx="1434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308800" y="20192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08800" y="20192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4880" y="2033640"/>
            <a:ext cx="14400" cy="58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6040" y="2033640"/>
            <a:ext cx="14400" cy="58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963960" y="2033640"/>
            <a:ext cx="14400" cy="58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405400" y="2033640"/>
            <a:ext cx="28440" cy="58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9440" y="2033640"/>
            <a:ext cx="14400" cy="58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308800" y="2033640"/>
            <a:ext cx="14400" cy="58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03440" y="2614680"/>
            <a:ext cx="1812600" cy="349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2360" y="275112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Courier New"/>
              </a:rPr>
              <a:t>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20880" y="2778120"/>
            <a:ext cx="125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Courier New"/>
              </a:rPr>
              <a:t>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3440" y="2944800"/>
            <a:ext cx="1812600" cy="309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44880" y="3027240"/>
            <a:ext cx="93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ertifica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16040" y="2637000"/>
            <a:ext cx="144792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1800" y="2757600"/>
            <a:ext cx="34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Priv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16040" y="2984400"/>
            <a:ext cx="144792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386880" y="2998800"/>
            <a:ext cx="55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10000"/>
                </a:solidFill>
                <a:latin typeface="Bookman Old Style"/>
              </a:rPr>
              <a:t>(web 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16040" y="3225960"/>
            <a:ext cx="1447920" cy="2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63960" y="2637000"/>
            <a:ext cx="1441440" cy="34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987000" y="2757600"/>
            <a:ext cx="28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a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3960" y="2984400"/>
            <a:ext cx="1441440" cy="24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04640" y="2998800"/>
            <a:ext cx="56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10000"/>
                </a:solidFill>
                <a:latin typeface="Bookman Old Style"/>
              </a:rPr>
              <a:t>f tru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63960" y="3225960"/>
            <a:ext cx="1441440" cy="2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33840" y="2637000"/>
            <a:ext cx="14256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21880" y="275760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X.5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33840" y="2984400"/>
            <a:ext cx="1425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41920" y="2998800"/>
            <a:ext cx="27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10000"/>
                </a:solidFill>
                <a:latin typeface="Bookman Old Style"/>
              </a:rPr>
              <a:t>(PK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33840" y="3225960"/>
            <a:ext cx="1425600" cy="2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9440" y="2637000"/>
            <a:ext cx="1449360" cy="34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948720" y="2757600"/>
            <a:ext cx="36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9 v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9440" y="2984400"/>
            <a:ext cx="1449360" cy="241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903360" y="2998800"/>
            <a:ext cx="30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10000"/>
                </a:solidFill>
                <a:latin typeface="Bookman Old Style"/>
              </a:rPr>
              <a:t>IX?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9440" y="3225960"/>
            <a:ext cx="1449360" cy="28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4880" y="262260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19280" y="2622600"/>
            <a:ext cx="17967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16040" y="262260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30440" y="2622600"/>
            <a:ext cx="14335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963960" y="262260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78360" y="2622600"/>
            <a:ext cx="142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05400" y="2622600"/>
            <a:ext cx="284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33840" y="2622600"/>
            <a:ext cx="14256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9440" y="262260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73840" y="2622600"/>
            <a:ext cx="1434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08800" y="262260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04880" y="2637000"/>
            <a:ext cx="1440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5400" y="2637000"/>
            <a:ext cx="28440" cy="61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308800" y="2637000"/>
            <a:ext cx="1440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0480" y="3268800"/>
            <a:ext cx="1825560" cy="34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450080" y="3389400"/>
            <a:ext cx="73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19280" y="3616200"/>
            <a:ext cx="1796760" cy="241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6040" y="3268800"/>
            <a:ext cx="1447920" cy="35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27160" y="3397320"/>
            <a:ext cx="78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Bookman Old Style"/>
              </a:rPr>
              <a:t>ElGam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34280" y="3389400"/>
            <a:ext cx="5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16040" y="3624120"/>
            <a:ext cx="144792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65120" y="3630600"/>
            <a:ext cx="34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R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3960" y="3268800"/>
            <a:ext cx="1441440" cy="34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33760" y="3389400"/>
            <a:ext cx="73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ElGam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3960" y="3616200"/>
            <a:ext cx="1441440" cy="23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595400" y="3624120"/>
            <a:ext cx="39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(DH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63960" y="3851280"/>
            <a:ext cx="1441440" cy="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33840" y="3268800"/>
            <a:ext cx="14256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61680" y="3389400"/>
            <a:ext cx="34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R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33840" y="3616200"/>
            <a:ext cx="1425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59440" y="3268800"/>
            <a:ext cx="1449360" cy="34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421040" y="3389400"/>
            <a:ext cx="53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Diffie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9440" y="3616200"/>
            <a:ext cx="1449360" cy="23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325640" y="3624120"/>
            <a:ext cx="75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Hellma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59440" y="3851280"/>
            <a:ext cx="1449360" cy="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4880" y="325440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19280" y="3254400"/>
            <a:ext cx="17967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325440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30440" y="3254400"/>
            <a:ext cx="143352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3960" y="325440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78360" y="3254400"/>
            <a:ext cx="142704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05400" y="3254400"/>
            <a:ext cx="2844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433840" y="3254400"/>
            <a:ext cx="14256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9440" y="325440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73840" y="3254400"/>
            <a:ext cx="143496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8800" y="325440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04880" y="3268800"/>
            <a:ext cx="14400" cy="58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05400" y="3268800"/>
            <a:ext cx="28440" cy="588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308800" y="3268800"/>
            <a:ext cx="14400" cy="58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0480" y="3871800"/>
            <a:ext cx="1825560" cy="468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424880" y="41133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iges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9280" y="4340160"/>
            <a:ext cx="1796760" cy="355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6040" y="3871800"/>
            <a:ext cx="144792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43200" y="4000680"/>
            <a:ext cx="55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Bookman Old Style"/>
              </a:rPr>
              <a:t>SHA-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66720" y="399240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, MD5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16040" y="4227480"/>
            <a:ext cx="1447920" cy="23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16880" y="4233960"/>
            <a:ext cx="46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RIPE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4460760"/>
            <a:ext cx="1447920" cy="2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993400" y="446868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MD/16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63960" y="3871800"/>
            <a:ext cx="1441440" cy="34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23400" y="3992400"/>
            <a:ext cx="54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SHA-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63960" y="4219560"/>
            <a:ext cx="1441440" cy="47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33840" y="3871800"/>
            <a:ext cx="142560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75040" y="4000680"/>
            <a:ext cx="55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Bookman Old Style"/>
              </a:rPr>
              <a:t>SHA-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93160" y="399240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, MD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33840" y="4227480"/>
            <a:ext cx="14256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59440" y="3871800"/>
            <a:ext cx="1449360" cy="355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417080" y="4000680"/>
            <a:ext cx="54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SHA-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9440" y="4227480"/>
            <a:ext cx="1449360" cy="46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4880" y="3857760"/>
            <a:ext cx="144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19280" y="3857760"/>
            <a:ext cx="17967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516040" y="3857760"/>
            <a:ext cx="14400" cy="1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30440" y="3857760"/>
            <a:ext cx="1433520" cy="1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63960" y="3857760"/>
            <a:ext cx="14400" cy="1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78360" y="3857760"/>
            <a:ext cx="1427040" cy="1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405400" y="3857760"/>
            <a:ext cx="28440" cy="1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33840" y="3857760"/>
            <a:ext cx="1425600" cy="1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59440" y="3857760"/>
            <a:ext cx="14400" cy="1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73840" y="3857760"/>
            <a:ext cx="1434960" cy="1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08800" y="3857760"/>
            <a:ext cx="1440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04880" y="3871800"/>
            <a:ext cx="1440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405400" y="3871800"/>
            <a:ext cx="28440" cy="824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308800" y="3871800"/>
            <a:ext cx="14400" cy="82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90480" y="4710240"/>
            <a:ext cx="1825560" cy="347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90680" y="4830840"/>
            <a:ext cx="63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ign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19280" y="5057640"/>
            <a:ext cx="1796760" cy="6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6040" y="4710240"/>
            <a:ext cx="144792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870640" y="4836960"/>
            <a:ext cx="35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Bookman Old Style"/>
              </a:rPr>
              <a:t>D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99400" y="4830840"/>
            <a:ext cx="49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Bookman Old Style"/>
              </a:rPr>
              <a:t>,  R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63960" y="4710240"/>
            <a:ext cx="1441440" cy="34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614480" y="4830840"/>
            <a:ext cx="34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D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3960" y="5057640"/>
            <a:ext cx="1441440" cy="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33840" y="4710240"/>
            <a:ext cx="14256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61680" y="4830840"/>
            <a:ext cx="34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R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433840" y="5057640"/>
            <a:ext cx="14256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59440" y="4710240"/>
            <a:ext cx="1449360" cy="34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11760" y="4830840"/>
            <a:ext cx="34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D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59440" y="5057640"/>
            <a:ext cx="1449360" cy="6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880" y="46958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9280" y="4695840"/>
            <a:ext cx="17967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6040" y="469584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30440" y="4695840"/>
            <a:ext cx="143352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3960" y="469584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78360" y="4695840"/>
            <a:ext cx="142704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05400" y="4695840"/>
            <a:ext cx="2844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433840" y="4695840"/>
            <a:ext cx="14256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9440" y="469584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73840" y="4695840"/>
            <a:ext cx="143496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308800" y="46958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04880" y="4710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05400" y="4710240"/>
            <a:ext cx="28440" cy="353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8308800" y="4710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0480" y="5078520"/>
            <a:ext cx="1825560" cy="468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57560" y="5319720"/>
            <a:ext cx="71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cryp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19280" y="5546880"/>
            <a:ext cx="1796760" cy="398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6040" y="5078520"/>
            <a:ext cx="144792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14920" y="5192640"/>
            <a:ext cx="79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Bookman Old Style"/>
              </a:rPr>
              <a:t>CAST12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74960" y="5192640"/>
            <a:ext cx="55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16040" y="5419800"/>
            <a:ext cx="1447920" cy="2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03560" y="5425920"/>
            <a:ext cx="48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IDEA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16040" y="5654520"/>
            <a:ext cx="14479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930400" y="5661000"/>
            <a:ext cx="86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TripleD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63960" y="5078520"/>
            <a:ext cx="1441440" cy="34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78320" y="5199120"/>
            <a:ext cx="86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TripleD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963960" y="5425920"/>
            <a:ext cx="1441440" cy="2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429080" y="544032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10000"/>
                </a:solidFill>
                <a:latin typeface="Bookman Old Style"/>
              </a:rPr>
              <a:t>(varian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963960" y="5668920"/>
            <a:ext cx="1441440" cy="276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433840" y="5078520"/>
            <a:ext cx="14256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95000" y="5192640"/>
            <a:ext cx="69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80"/>
                </a:solidFill>
                <a:latin typeface="Bookman Old Style"/>
              </a:rPr>
              <a:t>RC2-40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433840" y="5419800"/>
            <a:ext cx="1425600" cy="2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826240" y="5425920"/>
            <a:ext cx="86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TripleD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33840" y="5654520"/>
            <a:ext cx="142560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59440" y="5078520"/>
            <a:ext cx="1449360" cy="34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273800" y="5199120"/>
            <a:ext cx="86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Bookman Old Style"/>
              </a:rPr>
              <a:t>TripleD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59440" y="5425920"/>
            <a:ext cx="1449360" cy="519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04880" y="506412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19280" y="5064120"/>
            <a:ext cx="17967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516040" y="506412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30440" y="5064120"/>
            <a:ext cx="143352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963960" y="506412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978360" y="5064120"/>
            <a:ext cx="142704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405400" y="5064120"/>
            <a:ext cx="2844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433840" y="5064120"/>
            <a:ext cx="14256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59440" y="5064120"/>
            <a:ext cx="1440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873840" y="5064120"/>
            <a:ext cx="1434960" cy="144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308800" y="506412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04880" y="5078520"/>
            <a:ext cx="14400" cy="86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880" y="59450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4880" y="59450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9280" y="5945040"/>
            <a:ext cx="17967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16040" y="59450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30440" y="5945040"/>
            <a:ext cx="14335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63960" y="59450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978360" y="5945040"/>
            <a:ext cx="14270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05400" y="5078520"/>
            <a:ext cx="28440" cy="866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405400" y="59450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419800" y="5945040"/>
            <a:ext cx="14396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859440" y="59450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873840" y="5945040"/>
            <a:ext cx="14349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308800" y="5078520"/>
            <a:ext cx="14400" cy="86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8800" y="59450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08800" y="5945040"/>
            <a:ext cx="1440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62600" y="399960"/>
            <a:ext cx="1787760" cy="1586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caling email...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mail is not simple, anymore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uture email is even more demand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6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caling is: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creasing the siz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4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vercoming a barri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2044800"/>
            <a:ext cx="380988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ize is: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umber of messa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ize of individual messages and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umber of types of messa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arrier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1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tringent business performance and fun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hannel choic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1636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Psec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nd-to-end (except for firewalls…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CP, UDP, RTP…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SL/TL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ransport Layer Secur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MTP, IMAP/POP, ACAP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41480" y="2044800"/>
            <a:ext cx="381636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ASL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imple Authentication Security Lay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chanism for choos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MTP, IMAP/POP, HTTP AUTH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Not deployed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449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ertificat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igned key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nown signato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erarchy of trusted signatori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Global hierarchy is a large infrastructur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ertificate Activiti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GP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 of trus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PKIX (X.509)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omething for everyton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ploy a global infrastructur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KI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Security support spec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1255680" y="2787480"/>
          <a:ext cx="6440400" cy="285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2787480"/>
                    <a:ext cx="6440400" cy="285120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Where We Ar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oo much tim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oo many alternative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oo little experienc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oo little deployment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oo little us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0" algn="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ut things are sure to get better...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4" name=""/>
          <p:cNvSpPr/>
          <p:nvPr/>
        </p:nvSpPr>
        <p:spPr>
          <a:xfrm>
            <a:off x="4734000" y="4657680"/>
            <a:ext cx="371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&lt;http://www.ietf.org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6738840" y="430200"/>
          <a:ext cx="194328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8840" y="430200"/>
                    <a:ext cx="194328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Object security specification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371600" y="2919240"/>
          <a:ext cx="6237360" cy="18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919240"/>
                    <a:ext cx="6237360" cy="1881360"/>
                  </a:xfrm>
                  <a:prstGeom prst="rect">
                    <a:avLst/>
                  </a:prstGeom>
                  <a:ln w="57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mail-based Commerce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Balance (hybrid)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Web pul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257480" indent="-228600">
              <a:lnSpc>
                <a:spcPct val="12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uch focu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mail push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257480" indent="-228600">
              <a:lnSpc>
                <a:spcPct val="12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ttle focu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257480" indent="-228600">
              <a:lnSpc>
                <a:spcPct val="12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r serv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257480" indent="-228600">
              <a:lnSpc>
                <a:spcPct val="120000"/>
              </a:lnSpc>
              <a:buClr>
                <a:srgbClr val="ffff00"/>
              </a:buClr>
              <a:buSzPct val="75000"/>
              <a:buFont typeface="Monotype Sorts" charset="2"/>
              <a:buChar char="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fficient MTA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92" name=""/>
          <p:cNvGraphicFramePr/>
          <p:nvPr/>
        </p:nvGraphicFramePr>
        <p:xfrm>
          <a:off x="6019920" y="3882960"/>
          <a:ext cx="2489040" cy="24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882960"/>
                    <a:ext cx="248904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What is “business”?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440" y="2044800"/>
            <a:ext cx="381636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R &amp; D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arch, brows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es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ordinat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ales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gotiat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69696"/>
                </a:solidFill>
                <a:latin typeface="Arial"/>
              </a:rPr>
              <a:t>Order, bill, pa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liv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41480" y="2044800"/>
            <a:ext cx="381636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9280" indent="-4492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nufactur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hipp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ob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upport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scus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o push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449280" indent="-449280">
              <a:lnSpc>
                <a:spcPct val="13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arketing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914400" indent="-35100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o push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914400" indent="-351000">
              <a:lnSpc>
                <a:spcPct val="80000"/>
              </a:lnSpc>
              <a:spcBef>
                <a:spcPts val="374"/>
              </a:spcBef>
              <a:buClr>
                <a:srgbClr val="ffff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rve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7596360" y="152280"/>
            <a:ext cx="1114200" cy="189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Commerce Phases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19896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Shopping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ffff"/>
                </a:solidFill>
                <a:latin typeface="Arial"/>
              </a:rPr>
              <a:t>Searching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9896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Negotiating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ffff"/>
                </a:solidFill>
                <a:latin typeface="Arial"/>
              </a:rPr>
              <a:t>Terms/Conditions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9896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Buying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ffff"/>
                </a:solidFill>
                <a:latin typeface="Arial"/>
              </a:rPr>
              <a:t>Value Instrument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19896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Paying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en-US" sz="2800" spc="-1" strike="noStrike">
                <a:solidFill>
                  <a:srgbClr val="00ffff"/>
                </a:solidFill>
                <a:latin typeface="Arial"/>
              </a:rPr>
              <a:t>Exchange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762120" y="2362320"/>
            <a:ext cx="7591320" cy="3835440"/>
          </a:xfrm>
          <a:prstGeom prst="roundRect">
            <a:avLst>
              <a:gd name="adj" fmla="val 12495"/>
            </a:avLst>
          </a:prstGeom>
          <a:solidFill>
            <a:srgbClr val="969696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51840" y="351792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838760"/>
            <a:ext cx="0" cy="419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516720" y="5102280"/>
            <a:ext cx="1454040" cy="825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087560" y="5114880"/>
            <a:ext cx="1454040" cy="825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14400" y="3422520"/>
            <a:ext cx="0" cy="463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14400" y="467352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11560" y="4673520"/>
            <a:ext cx="2692440" cy="14162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563920" y="5486400"/>
            <a:ext cx="637920" cy="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5884560" y="5467320"/>
            <a:ext cx="641160" cy="0"/>
          </a:xfrm>
          <a:prstGeom prst="line">
            <a:avLst/>
          </a:prstGeom>
          <a:ln w="1260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680200" y="3294000"/>
            <a:ext cx="178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EDIFACT, X12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01360" y="4513320"/>
            <a:ext cx="96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RFC8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56720" y="5705640"/>
            <a:ext cx="76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603520" y="3095640"/>
            <a:ext cx="3860640" cy="0"/>
          </a:xfrm>
          <a:prstGeom prst="line">
            <a:avLst/>
          </a:prstGeom>
          <a:ln w="76320">
            <a:solidFill>
              <a:srgbClr val="00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610000" y="4386240"/>
            <a:ext cx="3924000" cy="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44244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Bookman Old Style"/>
              </a:rPr>
              <a:t>EDI over email</a:t>
            </a:r>
            <a:endParaRPr b="1" i="1" lang="en-US" sz="4400" spc="-1" strike="noStrike">
              <a:solidFill>
                <a:srgbClr val="ffcc66"/>
              </a:solidFill>
              <a:latin typeface="Bookman Old Style"/>
            </a:endParaRPr>
          </a:p>
        </p:txBody>
      </p:sp>
      <p:sp>
        <p:nvSpPr>
          <p:cNvPr id="916" name=""/>
          <p:cNvSpPr/>
          <p:nvPr/>
        </p:nvSpPr>
        <p:spPr>
          <a:xfrm>
            <a:off x="1830600" y="1752480"/>
            <a:ext cx="66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RFC 1767 — MIME Encapsulation of EDI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497640" y="2629080"/>
            <a:ext cx="1492200" cy="920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535800" y="3951360"/>
            <a:ext cx="1415880" cy="80640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pa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68480" y="2641680"/>
            <a:ext cx="1492200" cy="920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en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81080" y="3963960"/>
            <a:ext cx="1515960" cy="80640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nco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4:01:36Z</dcterms:created>
  <dc:creator>Dave Crocker</dc:creator>
  <dc:description/>
  <dc:language>en-US</dc:language>
  <cp:lastModifiedBy>Dave Crocker</cp:lastModifiedBy>
  <dcterms:modified xsi:type="dcterms:W3CDTF">2000-02-28T07:39:09Z</dcterms:modified>
  <cp:revision>193</cp:revision>
  <dc:subject/>
  <dc:title>Millenial Mail</dc:title>
</cp:coreProperties>
</file>