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4.xml.rels" ContentType="application/vnd.openxmlformats-package.relationships+xml"/>
  <Override PartName="/ppt/notesSlides/notesSlide20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ee3ee"/>
              </a:solidFill>
              <a:latin typeface="Times New Roman"/>
            </a:endParaRPr>
          </a:p>
        </p:txBody>
      </p:sp>
      <p:sp>
        <p:nvSpPr>
          <p:cNvPr id="9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4024440" y="0"/>
            <a:ext cx="307800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Click to move the slide</a:t>
            </a:r>
            <a:endParaRPr b="1" lang="en-US" sz="6600" spc="-1" strike="noStrike">
              <a:solidFill>
                <a:srgbClr val="dee3ee"/>
              </a:solidFill>
              <a:latin typeface="Arial Narrow"/>
            </a:endParaRPr>
          </a:p>
        </p:txBody>
      </p:sp>
      <p:sp>
        <p:nvSpPr>
          <p:cNvPr id="9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0" y="8542440"/>
            <a:ext cx="3078000" cy="449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4024440" y="8542440"/>
            <a:ext cx="307800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9C64-BA0A-4214-B60B-C736F245F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024440" y="8542440"/>
            <a:ext cx="3078000" cy="4492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C4BA-5A52-4023-8622-C3DC3EBE2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0" y="8542440"/>
            <a:ext cx="3078000" cy="449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0" y="0"/>
            <a:ext cx="3078000" cy="449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4024440" y="0"/>
            <a:ext cx="3078000" cy="4492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303200" y="674640"/>
            <a:ext cx="4496040" cy="3371760"/>
          </a:xfrm>
          <a:prstGeom prst="rect">
            <a:avLst/>
          </a:prstGeom>
          <a:ln w="0">
            <a:noFill/>
          </a:ln>
        </p:spPr>
      </p:sp>
      <p:sp>
        <p:nvSpPr>
          <p:cNvPr id="58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FC191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72339-5361-4D45-BABE-0172B60DE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34"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35"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FBB92-6BFE-4B8E-9671-AB9D95B6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37"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38"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39"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0"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D3359-AC8B-4E27-AAAF-6472D501D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42"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3"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4"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5"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6"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7"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39D14-42DB-4D95-808D-703BCBC2D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3E638-0BD2-49C3-9729-1F197A8ED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59"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591DB-C94A-403C-BFFF-1070B575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BBE01-CA65-4397-9400-15F4CFA40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63"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4"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78FDD-C057-4E1E-9E4A-A87993BBA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159C7-9AC8-46BC-8A24-1C330A072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dee3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601F-9C7B-4B5F-8C4F-65573C838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68"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9"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0"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1E600-EACD-45A5-92C8-CE9F69D39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13" name="PlaceHolder 2"/>
          <p:cNvSpPr>
            <a:spLocks noGrp="1"/>
          </p:cNvSpPr>
          <p:nvPr>
            <p:ph type="subTitle"/>
          </p:nvPr>
        </p:nvSpPr>
        <p:spPr>
          <a:xfrm>
            <a:off x="304920" y="1839960"/>
            <a:ext cx="8610480" cy="42559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753C-A391-45B1-B63F-3EB32987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72"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3"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4"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0B33C-5705-422E-B884-9507F355F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76"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8"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69BF4-082C-4821-9CD0-7DC543161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80" name="PlaceHolder 2"/>
          <p:cNvSpPr>
            <a:spLocks noGrp="1"/>
          </p:cNvSpPr>
          <p:nvPr>
            <p:ph/>
          </p:nvPr>
        </p:nvSpPr>
        <p:spPr>
          <a:xfrm>
            <a:off x="304920" y="183996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81" name="PlaceHolder 3"/>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1959B-D58D-4BA9-818B-A10D6E5EE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83"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84"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85"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86" name="PlaceHolder 5"/>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095BD-5FF6-49D7-9238-F76306E12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88" name="PlaceHolder 2"/>
          <p:cNvSpPr>
            <a:spLocks noGrp="1"/>
          </p:cNvSpPr>
          <p:nvPr>
            <p:ph/>
          </p:nvPr>
        </p:nvSpPr>
        <p:spPr>
          <a:xfrm>
            <a:off x="30492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89" name="PlaceHolder 3"/>
          <p:cNvSpPr>
            <a:spLocks noGrp="1"/>
          </p:cNvSpPr>
          <p:nvPr>
            <p:ph/>
          </p:nvPr>
        </p:nvSpPr>
        <p:spPr>
          <a:xfrm>
            <a:off x="321624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0" name="PlaceHolder 4"/>
          <p:cNvSpPr>
            <a:spLocks noGrp="1"/>
          </p:cNvSpPr>
          <p:nvPr>
            <p:ph/>
          </p:nvPr>
        </p:nvSpPr>
        <p:spPr>
          <a:xfrm>
            <a:off x="6127560" y="183996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1" name="PlaceHolder 5"/>
          <p:cNvSpPr>
            <a:spLocks noGrp="1"/>
          </p:cNvSpPr>
          <p:nvPr>
            <p:ph/>
          </p:nvPr>
        </p:nvSpPr>
        <p:spPr>
          <a:xfrm>
            <a:off x="30492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2" name="PlaceHolder 6"/>
          <p:cNvSpPr>
            <a:spLocks noGrp="1"/>
          </p:cNvSpPr>
          <p:nvPr>
            <p:ph/>
          </p:nvPr>
        </p:nvSpPr>
        <p:spPr>
          <a:xfrm>
            <a:off x="321624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3" name="PlaceHolder 7"/>
          <p:cNvSpPr>
            <a:spLocks noGrp="1"/>
          </p:cNvSpPr>
          <p:nvPr>
            <p:ph/>
          </p:nvPr>
        </p:nvSpPr>
        <p:spPr>
          <a:xfrm>
            <a:off x="6127560" y="4063320"/>
            <a:ext cx="27723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467AE-56E9-4B77-AEEF-01EB47B27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F68F-7237-4D84-98DE-7906D2D1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17"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18"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BEB6-3152-4ACF-BF79-B8924E4B9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D152D-E3DD-4280-BF58-8C97FFBE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47480" y="380520"/>
            <a:ext cx="8467560" cy="5299560"/>
          </a:xfrm>
          <a:prstGeom prst="rect">
            <a:avLst/>
          </a:prstGeom>
          <a:noFill/>
          <a:ln w="0">
            <a:noFill/>
          </a:ln>
        </p:spPr>
        <p:txBody>
          <a:bodyPr lIns="0" rIns="0" tIns="0" bIns="0" anchor="ctr">
            <a:noAutofit/>
          </a:bodyPr>
          <a:p>
            <a:endParaRPr b="0" lang="en-US" sz="2000" spc="-1" strike="noStrike">
              <a:solidFill>
                <a:srgbClr val="dee3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96C18-70D0-400A-BDEF-93D0DD0DE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22"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23" name="PlaceHolder 3"/>
          <p:cNvSpPr>
            <a:spLocks noGrp="1"/>
          </p:cNvSpPr>
          <p:nvPr>
            <p:ph/>
          </p:nvPr>
        </p:nvSpPr>
        <p:spPr>
          <a:xfrm>
            <a:off x="471708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24" name="PlaceHolder 4"/>
          <p:cNvSpPr>
            <a:spLocks noGrp="1"/>
          </p:cNvSpPr>
          <p:nvPr>
            <p:ph/>
          </p:nvPr>
        </p:nvSpPr>
        <p:spPr>
          <a:xfrm>
            <a:off x="30492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58F8-BFB4-47E6-AAAA-26A8D45C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26" name="PlaceHolder 2"/>
          <p:cNvSpPr>
            <a:spLocks noGrp="1"/>
          </p:cNvSpPr>
          <p:nvPr>
            <p:ph/>
          </p:nvPr>
        </p:nvSpPr>
        <p:spPr>
          <a:xfrm>
            <a:off x="304920" y="1839960"/>
            <a:ext cx="4201560" cy="4255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27"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28" name="PlaceHolder 4"/>
          <p:cNvSpPr>
            <a:spLocks noGrp="1"/>
          </p:cNvSpPr>
          <p:nvPr>
            <p:ph/>
          </p:nvPr>
        </p:nvSpPr>
        <p:spPr>
          <a:xfrm>
            <a:off x="4717080" y="406332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1C09-BEF1-40B1-84E5-3133D7A5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ee3ee"/>
              </a:solidFill>
              <a:latin typeface="Arial Narrow"/>
            </a:endParaRPr>
          </a:p>
        </p:txBody>
      </p:sp>
      <p:sp>
        <p:nvSpPr>
          <p:cNvPr id="30" name="PlaceHolder 2"/>
          <p:cNvSpPr>
            <a:spLocks noGrp="1"/>
          </p:cNvSpPr>
          <p:nvPr>
            <p:ph/>
          </p:nvPr>
        </p:nvSpPr>
        <p:spPr>
          <a:xfrm>
            <a:off x="30492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31" name="PlaceHolder 3"/>
          <p:cNvSpPr>
            <a:spLocks noGrp="1"/>
          </p:cNvSpPr>
          <p:nvPr>
            <p:ph/>
          </p:nvPr>
        </p:nvSpPr>
        <p:spPr>
          <a:xfrm>
            <a:off x="4717080" y="1839960"/>
            <a:ext cx="420156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32" name="PlaceHolder 4"/>
          <p:cNvSpPr>
            <a:spLocks noGrp="1"/>
          </p:cNvSpPr>
          <p:nvPr>
            <p:ph/>
          </p:nvPr>
        </p:nvSpPr>
        <p:spPr>
          <a:xfrm>
            <a:off x="304920" y="4063320"/>
            <a:ext cx="8610480" cy="2030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2404-8E70-4BC4-9103-45D2DD0CF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lick to edit the title text format</a:t>
            </a:r>
            <a:endParaRPr b="1" lang="en-US" sz="4800" spc="-1" strike="noStrike">
              <a:solidFill>
                <a:srgbClr val="dee3ee"/>
              </a:solidFill>
              <a:latin typeface="Arial Narrow"/>
            </a:endParaRPr>
          </a:p>
        </p:txBody>
      </p:sp>
      <p:sp>
        <p:nvSpPr>
          <p:cNvPr id="1" name="PlaceHolder 2"/>
          <p:cNvSpPr>
            <a:spLocks noGrp="1"/>
          </p:cNvSpPr>
          <p:nvPr>
            <p:ph type="body"/>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lick to edit the outline text format</a:t>
            </a:r>
            <a:endParaRPr b="0" lang="en-US" sz="2400" spc="-1" strike="noStrike">
              <a:solidFill>
                <a:srgbClr val="dee3ee"/>
              </a:solidFill>
              <a:latin typeface="Arial"/>
            </a:endParaRPr>
          </a:p>
          <a:p>
            <a:pPr lvl="1" marL="743040" indent="-285840">
              <a:spcBef>
                <a:spcPts val="60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cond Outline Level</a:t>
            </a:r>
            <a:endParaRPr b="0" lang="en-US" sz="2400" spc="-1" strike="noStrike">
              <a:solidFill>
                <a:srgbClr val="dee3ee"/>
              </a:solidFill>
              <a:latin typeface="Arial"/>
            </a:endParaRPr>
          </a:p>
          <a:p>
            <a:pPr lvl="2" marL="1143000" indent="-228600">
              <a:spcBef>
                <a:spcPts val="601"/>
              </a:spcBef>
              <a:buClr>
                <a:srgbClr val="ff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rd Outline Level</a:t>
            </a:r>
            <a:endParaRPr b="0" lang="en-US" sz="2400" spc="-1" strike="noStrike">
              <a:solidFill>
                <a:srgbClr val="dee3ee"/>
              </a:solidFill>
              <a:latin typeface="Arial"/>
            </a:endParaRPr>
          </a:p>
          <a:p>
            <a:pPr lvl="3" marL="16002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ourth Outline Level</a:t>
            </a:r>
            <a:endParaRPr b="0" lang="en-US" sz="2400" spc="-1" strike="noStrike">
              <a:solidFill>
                <a:srgbClr val="dee3ee"/>
              </a:solidFill>
              <a:latin typeface="Arial"/>
            </a:endParaRPr>
          </a:p>
          <a:p>
            <a:pPr lvl="4" marL="2057400" indent="-228600">
              <a:spcBef>
                <a:spcPts val="601"/>
              </a:spcBef>
              <a:buClr>
                <a:srgbClr val="ff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fth Outline Level</a:t>
            </a:r>
            <a:endParaRPr b="0" lang="en-US" sz="2400" spc="-1" strike="noStrike">
              <a:solidFill>
                <a:srgbClr val="dee3ee"/>
              </a:solidFill>
              <a:latin typeface="Arial"/>
            </a:endParaRPr>
          </a:p>
          <a:p>
            <a:pPr lvl="5"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xth Outline Level</a:t>
            </a:r>
            <a:endParaRPr b="0" lang="en-US" sz="2400" spc="-1" strike="noStrike">
              <a:solidFill>
                <a:srgbClr val="dee3ee"/>
              </a:solidFill>
              <a:latin typeface="Arial"/>
            </a:endParaRPr>
          </a:p>
          <a:p>
            <a:pPr lvl="6" marL="2057400" indent="-228600">
              <a:spcBef>
                <a:spcPts val="601"/>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venth Outline Level</a:t>
            </a:r>
            <a:endParaRPr b="0" lang="en-US" sz="2400" spc="-1" strike="noStrike">
              <a:solidFill>
                <a:srgbClr val="dee3ee"/>
              </a:solidFill>
              <a:latin typeface="Arial"/>
            </a:endParaRPr>
          </a:p>
        </p:txBody>
      </p:sp>
      <p:sp>
        <p:nvSpPr>
          <p:cNvPr id="2" name="PlaceHolder 3"/>
          <p:cNvSpPr>
            <a:spLocks noGrp="1"/>
          </p:cNvSpPr>
          <p:nvPr>
            <p:ph type="dt" idx="1"/>
          </p:nvPr>
        </p:nvSpPr>
        <p:spPr>
          <a:xfrm>
            <a:off x="6570360" y="6248520"/>
            <a:ext cx="1833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533400" y="625644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392680" y="6248520"/>
            <a:ext cx="5223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1B64-59A5-4958-813D-01D150962489}"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 name=""/>
          <p:cNvSpPr/>
          <p:nvPr/>
        </p:nvSpPr>
        <p:spPr>
          <a:xfrm>
            <a:off x="415800" y="15066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6" name=""/>
          <p:cNvSpPr/>
          <p:nvPr/>
        </p:nvSpPr>
        <p:spPr>
          <a:xfrm>
            <a:off x="380880" y="147168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7" name=""/>
          <p:cNvGrpSpPr/>
          <p:nvPr/>
        </p:nvGrpSpPr>
        <p:grpSpPr>
          <a:xfrm>
            <a:off x="257040" y="6203880"/>
            <a:ext cx="2516400" cy="459720"/>
            <a:chOff x="257040" y="6203880"/>
            <a:chExt cx="2516400" cy="459720"/>
          </a:xfrm>
        </p:grpSpPr>
        <p:sp>
          <p:nvSpPr>
            <p:cNvPr id="8" name=""/>
            <p:cNvSpPr/>
            <p:nvPr/>
          </p:nvSpPr>
          <p:spPr>
            <a:xfrm flipV="1">
              <a:off x="365040" y="6605280"/>
              <a:ext cx="2378160" cy="4680"/>
            </a:xfrm>
            <a:prstGeom prst="line">
              <a:avLst/>
            </a:prstGeom>
            <a:ln w="12600">
              <a:solidFill>
                <a:srgbClr val="010000"/>
              </a:solidFill>
              <a:miter/>
            </a:ln>
          </p:spPr>
          <p:style>
            <a:lnRef idx="0"/>
            <a:fillRef idx="0"/>
            <a:effectRef idx="0"/>
            <a:fontRef idx="minor"/>
          </p:style>
          <p:txBody>
            <a:bodyPr lIns="90000" rIns="90000" tIns="-42120" bIns="-42120" anchor="ctr">
              <a:noAutofit/>
            </a:bodyPr>
            <a:p>
              <a:endParaRPr b="0" lang="en-US" sz="2400" spc="-1" strike="noStrike">
                <a:solidFill>
                  <a:srgbClr val="dee3ee"/>
                </a:solidFill>
                <a:latin typeface="Times New Roman"/>
              </a:endParaRPr>
            </a:p>
          </p:txBody>
        </p:sp>
        <p:sp>
          <p:nvSpPr>
            <p:cNvPr id="9" name=""/>
            <p:cNvSpPr/>
            <p:nvPr/>
          </p:nvSpPr>
          <p:spPr>
            <a:xfrm>
              <a:off x="330120" y="6581880"/>
              <a:ext cx="2443320" cy="1440"/>
            </a:xfrm>
            <a:prstGeom prst="line">
              <a:avLst/>
            </a:prstGeom>
            <a:ln w="12600">
              <a:solidFill>
                <a:srgbClr val="010000"/>
              </a:solidFill>
              <a:miter/>
            </a:ln>
          </p:spPr>
          <p:style>
            <a:lnRef idx="0"/>
            <a:fillRef idx="0"/>
            <a:effectRef idx="0"/>
            <a:fontRef idx="minor"/>
          </p:style>
          <p:txBody>
            <a:bodyPr lIns="90000" rIns="90000" tIns="-45360" bIns="-45360" anchor="ctr">
              <a:noAutofit/>
            </a:bodyPr>
            <a:p>
              <a:endParaRPr b="0" lang="en-US" sz="2400" spc="-1" strike="noStrike">
                <a:solidFill>
                  <a:srgbClr val="dee3ee"/>
                </a:solidFill>
                <a:latin typeface="Times New Roman"/>
              </a:endParaRPr>
            </a:p>
          </p:txBody>
        </p:sp>
        <p:sp>
          <p:nvSpPr>
            <p:cNvPr id="10" name=""/>
            <p:cNvSpPr txBox="1"/>
            <p:nvPr/>
          </p:nvSpPr>
          <p:spPr>
            <a:xfrm>
              <a:off x="1022400" y="6321600"/>
              <a:ext cx="760320" cy="2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0000"/>
                    </a:solidFill>
                    <a:miter/>
                  </a:ln>
                  <a:noFill/>
                  <a:latin typeface="Arial Black"/>
                </a:rPr>
                <a:t>rack</a:t>
              </a:r>
              <a:endParaRPr b="1" i="1" lang="en-US" sz="2400" spc="1" strike="noStrike">
                <a:ln w="9360">
                  <a:solidFill>
                    <a:srgbClr val="ff0000"/>
                  </a:solidFill>
                  <a:miter/>
                </a:ln>
                <a:noFill/>
                <a:latin typeface="Arial Black"/>
                <a:ea typeface="Arial Black"/>
              </a:endParaRPr>
            </a:p>
          </p:txBody>
        </p:sp>
        <p:sp>
          <p:nvSpPr>
            <p:cNvPr id="11" name=""/>
            <p:cNvSpPr/>
            <p:nvPr/>
          </p:nvSpPr>
          <p:spPr>
            <a:xfrm>
              <a:off x="257040" y="6203880"/>
              <a:ext cx="15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Black"/>
                </a:rPr>
                <a:t>NeT</a:t>
              </a:r>
              <a:endParaRPr b="0" lang="en-US" sz="2400" spc="-1" strike="noStrike">
                <a:solidFill>
                  <a:srgbClr val="dee3ee"/>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Click to edit the title text format</a:t>
            </a:r>
            <a:endParaRPr b="1" lang="en-US" sz="6600" spc="-1" strike="noStrike">
              <a:solidFill>
                <a:srgbClr val="dee3ee"/>
              </a:solidFill>
              <a:latin typeface="Arial Narrow"/>
            </a:endParaRPr>
          </a:p>
        </p:txBody>
      </p:sp>
      <p:sp>
        <p:nvSpPr>
          <p:cNvPr id="49" name="PlaceHolder 2"/>
          <p:cNvSpPr>
            <a:spLocks noGrp="1"/>
          </p:cNvSpPr>
          <p:nvPr>
            <p:ph type="dt" idx="4"/>
          </p:nvPr>
        </p:nvSpPr>
        <p:spPr>
          <a:xfrm>
            <a:off x="6550200" y="6248520"/>
            <a:ext cx="18144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53988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8353080" y="6248520"/>
            <a:ext cx="56196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1BDB-5B5B-4802-8C15-9C3B2D177A6C}" type="slidenum">
              <a:rPr b="0" lang="en-US" sz="1400" spc="-1" strike="noStrike">
                <a:solidFill>
                  <a:srgbClr val="ffcc99"/>
                </a:solidFill>
                <a:latin typeface="Arial"/>
              </a:rPr>
              <a:t>&lt;number&gt;</a:t>
            </a:fld>
            <a:endParaRPr b="0" lang="en-US" sz="1400" spc="-1" strike="noStrike">
              <a:solidFill>
                <a:srgbClr val="ffffff"/>
              </a:solidFill>
              <a:latin typeface="Times New Roman"/>
            </a:endParaRPr>
          </a:p>
        </p:txBody>
      </p:sp>
      <p:sp>
        <p:nvSpPr>
          <p:cNvPr id="52" name=""/>
          <p:cNvSpPr/>
          <p:nvPr/>
        </p:nvSpPr>
        <p:spPr>
          <a:xfrm>
            <a:off x="415800" y="147492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53" name=""/>
          <p:cNvSpPr/>
          <p:nvPr/>
        </p:nvSpPr>
        <p:spPr>
          <a:xfrm>
            <a:off x="380880" y="1440000"/>
            <a:ext cx="8534520" cy="0"/>
          </a:xfrm>
          <a:prstGeom prst="line">
            <a:avLst/>
          </a:prstGeom>
          <a:ln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grpSp>
        <p:nvGrpSpPr>
          <p:cNvPr id="54" name=""/>
          <p:cNvGrpSpPr/>
          <p:nvPr/>
        </p:nvGrpSpPr>
        <p:grpSpPr>
          <a:xfrm>
            <a:off x="453600" y="749160"/>
            <a:ext cx="2775240" cy="825120"/>
            <a:chOff x="453600" y="749160"/>
            <a:chExt cx="2775240" cy="825120"/>
          </a:xfrm>
        </p:grpSpPr>
        <p:sp>
          <p:nvSpPr>
            <p:cNvPr id="55" name=""/>
            <p:cNvSpPr/>
            <p:nvPr/>
          </p:nvSpPr>
          <p:spPr>
            <a:xfrm>
              <a:off x="453600" y="749160"/>
              <a:ext cx="1380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Black"/>
                </a:rPr>
                <a:t>NeT </a:t>
              </a:r>
              <a:endParaRPr b="0" lang="en-US" sz="4800" spc="-1" strike="noStrike">
                <a:solidFill>
                  <a:srgbClr val="dee3ee"/>
                </a:solidFill>
                <a:latin typeface="Times New Roman"/>
              </a:endParaRPr>
            </a:p>
          </p:txBody>
        </p:sp>
        <p:sp>
          <p:nvSpPr>
            <p:cNvPr id="56" name=""/>
            <p:cNvSpPr txBox="1"/>
            <p:nvPr/>
          </p:nvSpPr>
          <p:spPr>
            <a:xfrm>
              <a:off x="1739880" y="903240"/>
              <a:ext cx="148896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ff0000"/>
                    </a:solidFill>
                    <a:miter/>
                  </a:ln>
                  <a:noFill/>
                  <a:latin typeface="Arial Black"/>
                </a:rPr>
                <a:t>rack</a:t>
              </a:r>
              <a:endParaRPr b="0" i="1" lang="en-US" sz="2400" spc="1" strike="noStrike">
                <a:ln w="12600">
                  <a:solidFill>
                    <a:srgbClr val="ff0000"/>
                  </a:solidFill>
                  <a:miter/>
                </a:ln>
                <a:noFill/>
                <a:latin typeface="Arial Black"/>
                <a:ea typeface="Arial Black"/>
              </a:endParaRPr>
            </a:p>
          </p:txBody>
        </p:sp>
      </p:gr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lick to edit the outline text format</a:t>
            </a:r>
            <a:endParaRPr b="0" lang="en-US" sz="2000" spc="-1" strike="noStrike">
              <a:solidFill>
                <a:srgbClr val="dee3ee"/>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cond Outline Level</a:t>
            </a:r>
            <a:endParaRPr b="0" lang="en-US" sz="2000" spc="-1" strike="noStrike">
              <a:solidFill>
                <a:srgbClr val="dee3ee"/>
              </a:solidFill>
              <a:latin typeface="Arial"/>
            </a:endParaRPr>
          </a:p>
          <a:p>
            <a:pPr lvl="2" marL="914400" algn="ctr">
              <a:spcBef>
                <a:spcPts val="451"/>
              </a:spcBef>
              <a:buClr>
                <a:srgbClr val="ffcc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hird Outline Level</a:t>
            </a:r>
            <a:endParaRPr b="0" lang="en-US" sz="1800" spc="-1" strike="noStrike">
              <a:solidFill>
                <a:srgbClr val="dee3ee"/>
              </a:solidFill>
              <a:latin typeface="Arial"/>
            </a:endParaRPr>
          </a:p>
          <a:p>
            <a:pPr lvl="3" marL="1371600" algn="ctr">
              <a:spcBef>
                <a:spcPts val="400"/>
              </a:spcBef>
              <a:buClr>
                <a:srgbClr val="dee3e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Fourth Outline Level</a:t>
            </a:r>
            <a:endParaRPr b="0" lang="en-US" sz="1600" spc="-1" strike="noStrike">
              <a:solidFill>
                <a:srgbClr val="dee3ee"/>
              </a:solidFill>
              <a:latin typeface="Arial"/>
            </a:endParaRPr>
          </a:p>
          <a:p>
            <a:pPr lvl="4" marL="1828800" algn="ctr">
              <a:spcBef>
                <a:spcPts val="400"/>
              </a:spcBef>
              <a:buClr>
                <a:srgbClr val="ffcc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Fifth Outline Level</a:t>
            </a:r>
            <a:endParaRPr b="0" lang="en-US" sz="1600" spc="-1" strike="noStrike">
              <a:solidFill>
                <a:srgbClr val="dee3ee"/>
              </a:solidFill>
              <a:latin typeface="Arial"/>
            </a:endParaRPr>
          </a:p>
          <a:p>
            <a:pPr lvl="5"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Sixth Outline Level</a:t>
            </a:r>
            <a:endParaRPr b="0" lang="en-US" sz="1600" spc="-1" strike="noStrike">
              <a:solidFill>
                <a:srgbClr val="dee3ee"/>
              </a:solidFill>
              <a:latin typeface="Arial"/>
            </a:endParaRPr>
          </a:p>
          <a:p>
            <a:pPr lvl="6" marL="1828800">
              <a:spcBef>
                <a:spcPts val="400"/>
              </a:spcBef>
              <a:buClr>
                <a:srgbClr val="dee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Seventh Outline Level</a:t>
            </a:r>
            <a:endParaRPr b="0" lang="en-US" sz="1600" spc="-1" strike="noStrike">
              <a:solidFill>
                <a:srgbClr val="dee3e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BIND v8</a:t>
            </a:r>
            <a:endParaRPr b="1" lang="en-US" sz="6600" spc="-1" strike="noStrike">
              <a:solidFill>
                <a:srgbClr val="dee3ee"/>
              </a:solidFill>
              <a:latin typeface="Arial Narrow"/>
            </a:endParaRPr>
          </a:p>
        </p:txBody>
      </p:sp>
      <p:sp>
        <p:nvSpPr>
          <p:cNvPr id="102"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nfig Language Statements</a:t>
            </a:r>
            <a:endParaRPr b="1" lang="en-US" sz="4800" spc="-1" strike="noStrike">
              <a:solidFill>
                <a:srgbClr val="dee3ee"/>
              </a:solidFill>
              <a:latin typeface="Arial Narrow"/>
            </a:endParaRPr>
          </a:p>
        </p:txBody>
      </p:sp>
      <p:sp>
        <p:nvSpPr>
          <p:cNvPr id="1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cl - defines access control lists of IP addresses and says what they can do</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nclude - includes a file, so zone files can stay neat and tid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key - specifies key information for authenticatio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gging - specifies what to log wher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ptions - specifies global configuration options, sets default valu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rver - per server op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zone - defines a zon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7CB6C55-7B80-40CF-9DC6-ACBE745F5D5D}" type="slidenum">
              <a:t>1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vmstat, cont.</a:t>
            </a:r>
            <a:endParaRPr b="1" lang="en-US" sz="4800" spc="-1" strike="noStrike">
              <a:solidFill>
                <a:srgbClr val="dee3ee"/>
              </a:solidFill>
              <a:latin typeface="Arial Narrow"/>
            </a:endParaRPr>
          </a:p>
        </p:txBody>
      </p:sp>
      <p:sp>
        <p:nvSpPr>
          <p:cNvPr id="3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lected headings</a:t>
            </a:r>
            <a:endParaRPr b="0" lang="en-US" sz="20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rocs is process states</a:t>
            </a:r>
            <a:endParaRPr b="0" lang="en-US" sz="18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r - runnable, should not have spikes</a:t>
            </a:r>
            <a:endParaRPr b="0" lang="en-US" sz="16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 - blocked</a:t>
            </a:r>
            <a:endParaRPr b="0" lang="en-US" sz="16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w - swapped, if this is non-zero, buy more memory</a:t>
            </a:r>
            <a:endParaRPr b="0" lang="en-US" sz="16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pu is state the cpu is running in</a:t>
            </a:r>
            <a:endParaRPr b="0" lang="en-US" sz="18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us - user time, executing your programs instructions</a:t>
            </a:r>
            <a:endParaRPr b="0" lang="en-US" sz="16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sy - system time spent on your behalf, usually i/o</a:t>
            </a:r>
            <a:endParaRPr b="0" lang="en-US" sz="1600" spc="-1" strike="noStrike">
              <a:solidFill>
                <a:srgbClr val="dee3ee"/>
              </a:solidFill>
              <a:latin typeface="Arial"/>
            </a:endParaRPr>
          </a:p>
          <a:p>
            <a:pPr lvl="2" marL="1097280" indent="-21924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id - idle time, deceptive, it measures when the cpu cannot do anything to move processes forward, might be waiting for disk or network</a:t>
            </a:r>
            <a:endParaRPr b="0" lang="en-US" sz="16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metimes, I/O-bound machines really are in need of more RAM</a:t>
            </a:r>
            <a:endParaRPr b="0" lang="en-US" sz="20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eb2b - I/O bound, 5 million hits/day</a:t>
            </a:r>
            <a:endParaRPr b="0" lang="en-US" sz="20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s more disk controllers</a:t>
            </a:r>
            <a:endParaRPr b="0" lang="en-US" sz="18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s more disk arms</a:t>
            </a:r>
            <a:endParaRPr b="0" lang="en-US" sz="18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s more network interface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4E1D06D-66DB-4D76-98F6-83DF67DF9589}" type="slidenum">
              <a:t>10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uning somaxconn - symptoms</a:t>
            </a:r>
            <a:endParaRPr b="1" lang="en-US" sz="4800" spc="-1" strike="noStrike">
              <a:solidFill>
                <a:srgbClr val="dee3ee"/>
              </a:solidFill>
              <a:latin typeface="Arial Narrow"/>
            </a:endParaRPr>
          </a:p>
        </p:txBody>
      </p:sp>
      <p:sp>
        <p:nvSpPr>
          <p:cNvPr id="3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n a "good day" (i.e., when IP connectivity to most locations is stable), the web server is happy as a cla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n bad days, users often see "server is down or unreachable" or broken images, even when reachability to their site isn't affect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chine load average is low </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uring the "bad" times, "telnet localhost 80" times ou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ameservice is not in use (no reverse lookups for connection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2047667-F56B-4568-B185-F769133A1A56}" type="slidenum">
              <a:t>10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uning somaxconn</a:t>
            </a:r>
            <a:endParaRPr b="1" lang="en-US" sz="4800" spc="-1" strike="noStrike">
              <a:solidFill>
                <a:srgbClr val="dee3ee"/>
              </a:solidFill>
              <a:latin typeface="Arial Narrow"/>
            </a:endParaRPr>
          </a:p>
        </p:txBody>
      </p:sp>
      <p:sp>
        <p:nvSpPr>
          <p:cNvPr id="3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stat -a -n" shows that a number of connections in SYN_RCVD stat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stat -a -n | grep tcp | awk '{print $6}' | sort | uniq -c"  always shows 5 connections in this state during the bad times,  a smaller number in good time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nections in this state tie up a slot in the "unaccepted socket queue", often referred to as the listen() queu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size of this queue needs to be adjusted on machines, such as web servers or mail hubs, that have lots of contact with the outside world</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creasing this queue helps deal with SYN flooding attack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53A32EB-9D49-4CEC-ADAF-D36509C70BCB}" type="slidenum">
              <a:t>10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omaxconn - The Fix</a:t>
            </a:r>
            <a:endParaRPr b="1" lang="en-US" sz="4800" spc="-1" strike="noStrike">
              <a:solidFill>
                <a:srgbClr val="dee3ee"/>
              </a:solidFill>
              <a:latin typeface="Arial Narrow"/>
            </a:endParaRPr>
          </a:p>
        </p:txBody>
      </p:sp>
      <p:sp>
        <p:nvSpPr>
          <p:cNvPr id="3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 Solaris, you can adjust the size of this queue with the ndd(1m) command:</a:t>
            </a:r>
            <a:endParaRPr b="0" lang="en-US" sz="20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ndd -set /dev/tcp tcp_conn_req_max 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IRIX, modify the value of </a:t>
            </a:r>
            <a:r>
              <a:rPr b="1" lang="en-US" sz="2000" spc="-1" strike="noStrike">
                <a:solidFill>
                  <a:srgbClr val="dee3ee"/>
                </a:solidFill>
                <a:latin typeface="Courier New"/>
              </a:rPr>
              <a:t>somaxconn</a:t>
            </a:r>
            <a:r>
              <a:rPr b="0" lang="en-US" sz="2000" spc="-1" strike="noStrike">
                <a:solidFill>
                  <a:srgbClr val="dee3ee"/>
                </a:solidFill>
                <a:latin typeface="Arial"/>
              </a:rPr>
              <a:t> in /var/sysgen/master.d/bsd:</a:t>
            </a:r>
            <a:endParaRPr b="0" lang="en-US" sz="20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int somaxconn = 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BSD/OS, you can declare it as an option in your kernel config file:</a:t>
            </a:r>
            <a:endParaRPr b="0" lang="en-US" sz="20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e3ee"/>
                </a:solidFill>
                <a:latin typeface="Courier New"/>
              </a:rPr>
              <a:t>options "SOMAXCONN=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SunOS, you have to replace/edit uipc_socket.o</a:t>
            </a:r>
            <a:endParaRPr b="0" lang="en-US" sz="2000" spc="-1" strike="noStrike">
              <a:solidFill>
                <a:srgbClr val="dee3ee"/>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fault somaxconn=5 on SunOS 4.1.3</a:t>
            </a:r>
            <a:endParaRPr b="0" lang="en-US" sz="1800" spc="-1" strike="noStrike">
              <a:solidFill>
                <a:srgbClr val="dee3ee"/>
              </a:solidFill>
              <a:latin typeface="Arial"/>
            </a:endParaRPr>
          </a:p>
          <a:p>
            <a:pPr lvl="1" marL="735480" indent="-282960">
              <a:lnSpc>
                <a:spcPct val="90000"/>
              </a:lnSpc>
              <a:spcBef>
                <a:spcPts val="400"/>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or details, see </a:t>
            </a:r>
            <a:r>
              <a:rPr b="1" lang="en-US" sz="1600" spc="-1" strike="noStrike">
                <a:solidFill>
                  <a:srgbClr val="dee3ee"/>
                </a:solidFill>
                <a:latin typeface="Courier New"/>
              </a:rPr>
              <a:t>http://www1.islandnet.com/~mark/somaxconn.html</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C program to change uipc_socket.o</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yte offsets to use adb or an editor to change</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Differences in the od (octal dump) output before and after the fix</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6422A4F-1D98-464E-8534-1922105D6A93}" type="slidenum">
              <a:t>10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NS reverse lookups</a:t>
            </a:r>
            <a:endParaRPr b="1" lang="en-US" sz="4800" spc="-1" strike="noStrike">
              <a:solidFill>
                <a:srgbClr val="dee3ee"/>
              </a:solidFill>
              <a:latin typeface="Arial Narrow"/>
            </a:endParaRPr>
          </a:p>
        </p:txBody>
      </p:sp>
      <p:sp>
        <p:nvSpPr>
          <p:cNvPr id="3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URN OFF DNS reverse lookups on your machine (web server) entirely</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ven if you have the cycles to do it, mis-configured user sites will introduce false delay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you need the information from reverse lookups, consider processing the log files on a separate machine to do this (PERL).</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statslab.cam.ac.uk/~sret1/analog/ tool for reverse lookups</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so try to do all web access control (.htaccess, access.conf) using IP addresse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pache comes with a utility, libresolv, that does it efficiently</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96B757A-2194-495F-A05D-39FB6B353C0F}" type="slidenum">
              <a:t>10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ostat</a:t>
            </a:r>
            <a:endParaRPr b="1" lang="en-US" sz="4800" spc="-1" strike="noStrike">
              <a:solidFill>
                <a:srgbClr val="dee3ee"/>
              </a:solidFill>
              <a:latin typeface="Arial Narrow"/>
            </a:endParaRPr>
          </a:p>
        </p:txBody>
      </p:sp>
      <p:sp>
        <p:nvSpPr>
          <p:cNvPr id="3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easures terminal and disk I/O activity</a:t>
            </a:r>
            <a:endParaRPr b="0" lang="en-US" sz="20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erminals</a:t>
            </a:r>
            <a:endParaRPr b="0" lang="en-US" sz="18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tin - number of characters in</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tout - number of characters out</a:t>
            </a:r>
            <a:endParaRPr b="0" lang="en-US" sz="16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isks</a:t>
            </a:r>
            <a:endParaRPr b="0" lang="en-US" sz="18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ps or sps - blocks/sectors transferred per second</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tps - transfers per second</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msps - average milliseconds per seek</a:t>
            </a:r>
            <a:endParaRPr b="0" lang="en-US" sz="16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y          sd0           sd1          nfs1          nfs2          cpu</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tin tout kps tps serv  kps tps serv  kps tps serv  kps tps serv  us sy wt id</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0   1   0   21    6   1   34    0   0    0    0   0    0   0  0  0 99</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47   0   0    0   18   2   61    0   0    0    0   0    0   0  0  0 100</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16   0   0    0    3   0   15    0   0    0    0   0    0   0  0  0 100</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16  56   7  226   21   3   48    0   0    0    0   0    0   0  0  1 99</a:t>
            </a:r>
            <a:endParaRPr b="0" lang="en-US" sz="1200" spc="-1" strike="noStrike">
              <a:solidFill>
                <a:srgbClr val="dee3ee"/>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16   0   0    0    0   0    0    0   0    0    0   0    0   0  0  0 100</a:t>
            </a:r>
            <a:endParaRPr b="0" lang="en-US" sz="1200" spc="-1" strike="noStrike">
              <a:solidFill>
                <a:srgbClr val="dee3ee"/>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ostat Example, lollipop, Solaris 2.6</a:t>
            </a:r>
            <a:endParaRPr b="0" lang="en-US" sz="20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use this data to balance disk load across disk arms and controller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74A5287-B614-47D3-9C55-4B92C9E8E952}" type="slidenum">
              <a:t>10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nother iostat Example</a:t>
            </a:r>
            <a:endParaRPr b="1" lang="en-US" sz="4800" spc="-1" strike="noStrike">
              <a:solidFill>
                <a:srgbClr val="dee3ee"/>
              </a:solidFill>
              <a:latin typeface="Arial Narrow"/>
            </a:endParaRPr>
          </a:p>
        </p:txBody>
      </p:sp>
      <p:sp>
        <p:nvSpPr>
          <p:cNvPr id="371"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tty          sd0           sd1           sd2          cpu</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tin tout sps tps msps  sps tps msps  sps tps msps  us ni sy in id</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0   62  58   5 12.6  133   9  8.8  136  10  8.8  24  0 13  0 63</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0   14  39   3 18.8   81   8 11.8  336  11 10.6  54  0 32  0 14</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7   48 158  11 11.8   88   7 12.3  126   5 10.3  13  0 24  0 63</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3   83  42   4 10.5   48   3  7.6   93   2 14.4  37  0 32  0 31</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3   39 152  11 14.7  524  38  9.0  318  19 10.4  49  0 43  0  7</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1   26 237  29 13.7  338  28 10.0   98   6 11.0  45  0 39  0 16</a:t>
            </a:r>
            <a:endParaRPr b="0" lang="en-US" sz="1400" spc="-1" strike="noStrike">
              <a:solidFill>
                <a:srgbClr val="dee3ee"/>
              </a:solidFill>
              <a:latin typeface="Arial"/>
            </a:endParaRPr>
          </a:p>
          <a:p>
            <a:pPr lvl="2" marL="1131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3   37 125  14 14.1   44   7 11.9  101   6 10.2  50  0 45  0  4</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ample: web4, BSD/OS</a:t>
            </a:r>
            <a:endParaRPr b="0" lang="en-US" sz="20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aid storage for web servers</a:t>
            </a:r>
            <a:endParaRPr b="0" lang="en-US" sz="2000" spc="-1" strike="noStrike">
              <a:solidFill>
                <a:srgbClr val="dee3ee"/>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oftware raid requires CPU and overhead</a:t>
            </a:r>
            <a:endParaRPr b="0" lang="en-US" sz="18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Not good for web servers</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Gives reliability</a:t>
            </a:r>
            <a:endParaRPr b="0" lang="en-US" sz="1600" spc="-1" strike="noStrike">
              <a:solidFill>
                <a:srgbClr val="dee3ee"/>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ardware raid real win in performance</a:t>
            </a:r>
            <a:endParaRPr b="0" lang="en-US" sz="18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There are lots on the market</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Find one that focuses on performance not reliability</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3396E6A-0F0C-418A-A66C-49FDAD166386}" type="slidenum">
              <a:t>10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Virtual Adrian</a:t>
            </a:r>
            <a:endParaRPr b="1" lang="en-US" sz="4800" spc="-1" strike="noStrike">
              <a:solidFill>
                <a:srgbClr val="dee3ee"/>
              </a:solidFill>
              <a:latin typeface="Arial Narrow"/>
            </a:endParaRPr>
          </a:p>
        </p:txBody>
      </p:sp>
      <p:sp>
        <p:nvSpPr>
          <p:cNvPr id="3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laris users can benefit from the efforts of Adrian Cockcroft who documents and improves Solaris performanc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drian has a book out  "System and Performance Tuning: SPARC and Solaris (Sunsoft Press)" that documents many trick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is "Virtual Adrian" SE performance tool is available on the web from www.sun.com</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BE2B962-25E0-4BF8-B287-5D0D919B98D7}" type="slidenum">
              <a:t>10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ther Kernel Parameters</a:t>
            </a:r>
            <a:endParaRPr b="1" lang="en-US" sz="4800" spc="-1" strike="noStrike">
              <a:solidFill>
                <a:srgbClr val="dee3ee"/>
              </a:solidFill>
              <a:latin typeface="Arial Narrow"/>
            </a:endParaRPr>
          </a:p>
        </p:txBody>
      </p:sp>
      <p:sp>
        <p:nvSpPr>
          <p:cNvPr id="3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xusers determines a number of other kernel parameters: </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ximum # of processes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ximum # of processes per user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ystem wide open files limit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er-process open files limit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ximum # of mbuf clusters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c/pgrp hash table size </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endors set MAXUSERS at 8, 16 or maybe 32</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rious web server needs it at 512</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FA067F2-E904-489B-82AD-FF3689C4E583}" type="slidenum">
              <a:t>10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arameters, cont.</a:t>
            </a:r>
            <a:endParaRPr b="1" lang="en-US" sz="4800" spc="-1" strike="noStrike">
              <a:solidFill>
                <a:srgbClr val="dee3ee"/>
              </a:solidFill>
              <a:latin typeface="Arial Narrow"/>
            </a:endParaRPr>
          </a:p>
        </p:txBody>
      </p:sp>
      <p:sp>
        <p:nvSpPr>
          <p:cNvPr id="377"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MBCLUSTERS defines and number of mbuf clusters - defaults to 256. </a:t>
            </a:r>
            <a:endParaRPr b="0" lang="en-US" sz="20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nsider changing this to something like 4096</a:t>
            </a:r>
            <a:endParaRPr b="0" lang="en-US" sz="18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627/2048 mbufs in use:</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10 mbufs allocated to data</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38 mbufs allocated to packet header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184 mbufs allocated to socket structure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202 mbufs allocated to protocol control block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183 mbufs allocated to routing table entrie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7 mbufs allocated to socket names and addresse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3 mbufs allocated to interface addresses</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0/28 cluster buffers in use</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284 Kbytes allocated to network (27% in use)</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0 requests for memory denied</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0 requests for memory delayed</a:t>
            </a:r>
            <a:endParaRPr b="0" lang="en-US" sz="1400" spc="-1" strike="noStrike">
              <a:solidFill>
                <a:srgbClr val="dee3ee"/>
              </a:solidFill>
              <a:latin typeface="Arial"/>
            </a:endParaRPr>
          </a:p>
          <a:p>
            <a:pPr lvl="4" marL="195444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0 calls to protocol drain routines</a:t>
            </a:r>
            <a:endParaRPr b="0" lang="en-US" sz="14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netstat -m" to determine if this needs to be changed.  </a:t>
            </a:r>
            <a:endParaRPr b="0" lang="en-US" sz="1800" spc="-1" strike="noStrike">
              <a:solidFill>
                <a:srgbClr val="dee3ee"/>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HILD_MAX controls the maximum number of process children</a:t>
            </a:r>
            <a:endParaRPr b="0" lang="en-US" sz="20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etter set this to something like 256</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57BC15C-3021-469A-B7D0-B8E4985522A7}" type="slidenum">
              <a:t>10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Example, localhost zone</a:t>
            </a:r>
            <a:endParaRPr b="1" lang="en-US" sz="4800" spc="-1" strike="noStrike">
              <a:solidFill>
                <a:srgbClr val="dee3ee"/>
              </a:solidFill>
              <a:latin typeface="Arial Narrow"/>
            </a:endParaRPr>
          </a:p>
        </p:txBody>
      </p:sp>
      <p:sp>
        <p:nvSpPr>
          <p:cNvPr id="122"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example</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options {</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check-names response warn;</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directory "/var/named";</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recursion yes;</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listen-on { 127.0.0.1; };</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localhost" {</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ype master;</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file "inf/localhost";</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0.0.127.in-addr.arpa" {</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ype master;</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file "inf/127.0.0";</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 {</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ype hint;</a:t>
            </a:r>
            <a:endParaRPr b="0" lang="en-US" sz="14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file "inf/cache.db";</a:t>
            </a:r>
            <a:endParaRPr b="0" lang="en-US" sz="14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579FF06-97FD-4617-BD48-A6AC63BCC3AA}" type="slidenum">
              <a:t>1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Hardware Candidates</a:t>
            </a:r>
            <a:endParaRPr b="1" lang="en-US" sz="4800" spc="-1" strike="noStrike">
              <a:solidFill>
                <a:srgbClr val="dee3ee"/>
              </a:solidFill>
              <a:latin typeface="Arial Narrow"/>
            </a:endParaRPr>
          </a:p>
        </p:txBody>
      </p:sp>
      <p:sp>
        <p:nvSpPr>
          <p:cNvPr id="3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hardware upgrade most likely to cause improved performance is adding more RA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nsider balancing load across disk arm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AI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parate disk arms for db indexes and data</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possible, dedicate a separate physical disk for log fil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igh-speed network interfac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igh-speed disk controllers and buss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 netstat -i to check for physical network problem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FB026FB-E6A5-4CC5-BA99-9E173B44F657}" type="slidenum">
              <a:t>11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oftware</a:t>
            </a:r>
            <a:endParaRPr b="1" lang="en-US" sz="4800" spc="-1" strike="noStrike">
              <a:solidFill>
                <a:srgbClr val="dee3ee"/>
              </a:solidFill>
              <a:latin typeface="Arial Narrow"/>
            </a:endParaRPr>
          </a:p>
        </p:txBody>
      </p:sp>
      <p:sp>
        <p:nvSpPr>
          <p:cNvPr id="3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ntent is often the limiting factor</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JPEG for pictur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reduced colorset GIFs for images with just a few colors (less than 32)</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ne tune default settings in server</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keep-alive timeout</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oo long hogs resources, but too short causes too many tcp setup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xy timeou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BBDF531-7475-44C6-B65A-5EA9AF526266}" type="slidenum">
              <a:t>11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WAN Performance</a:t>
            </a:r>
            <a:endParaRPr b="1" lang="en-US" sz="6600" spc="-1" strike="noStrike">
              <a:solidFill>
                <a:srgbClr val="dee3ee"/>
              </a:solidFill>
              <a:latin typeface="Arial Narrow"/>
            </a:endParaRPr>
          </a:p>
        </p:txBody>
      </p:sp>
      <p:sp>
        <p:nvSpPr>
          <p:cNvPr id="383"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mmercial Platforms</a:t>
            </a:r>
            <a:endParaRPr b="1" lang="en-US" sz="4800" spc="-1" strike="noStrike">
              <a:solidFill>
                <a:srgbClr val="dee3ee"/>
              </a:solidFill>
              <a:latin typeface="Arial Narrow"/>
            </a:endParaRPr>
          </a:p>
        </p:txBody>
      </p:sp>
      <p:sp>
        <p:nvSpPr>
          <p:cNvPr id="38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mmercial integrated network management platforms (INMP) provide a nice GUI interface to monitoring data</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ny vendor "drop-ins" customize generic platform interface for specific hardware</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iscoWorks</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hipcom drop-in</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ny others</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latforms may include capability to notify administrators in case of trouble via email, pager, telephone, etc.</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P's OpenView platform is by far the most mature platform in the industry -- but it still leaves a lot to be desired</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 platforms are computing resource intensive -- typically requiring $15K-$20K workstation dedicated to the task</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CF02B2-3372-4B85-9E58-2609814C5EC1}" type="slidenum">
              <a:t>11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reely Available Software</a:t>
            </a:r>
            <a:endParaRPr b="1" lang="en-US" sz="4800" spc="-1" strike="noStrike">
              <a:solidFill>
                <a:srgbClr val="dee3ee"/>
              </a:solidFill>
              <a:latin typeface="Arial Narrow"/>
            </a:endParaRPr>
          </a:p>
        </p:txBody>
      </p:sp>
      <p:sp>
        <p:nvSpPr>
          <p:cNvPr id="3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NMP Packages and Librari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MU (Carnegie Mellon University), good for C develop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IT (Massachusetts Institute of Technology) development ki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iv of California, Davis has a relatively new SNMP packag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ERL SNMP package by Simon Leine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4A82C11-4126-4082-B645-1FFACCEEACA3}" type="slidenum">
              <a:t>11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reely available software - Cont.</a:t>
            </a:r>
            <a:endParaRPr b="1" lang="en-US" sz="4800" spc="-1" strike="noStrike">
              <a:solidFill>
                <a:srgbClr val="dee3ee"/>
              </a:solidFill>
              <a:latin typeface="Arial Narrow"/>
            </a:endParaRPr>
          </a:p>
        </p:txBody>
      </p:sp>
      <p:sp>
        <p:nvSpPr>
          <p:cNvPr id="3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OCOL/NetConsole (Network Operation Center On-Line) - a network monitoring package that runs on Unix platforms and capable of monitoring network and system variables such as ICMP or RPC reachability, RMON variables, nameservers, Ethernet load, port reachability, host performance, SNMP traps, modem line usage, appletalk &amp; novell routes/services, BGP peers, etc.</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cotty - TCL interpreter with extensions for network management; includes tkined, a network editor for drawing maps of network configurations (shipped with BSD/O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048E68F-75B1-4097-A36D-7C27498C7977}" type="slidenum">
              <a:t>11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quick, easy, and accurate way</a:t>
            </a:r>
            <a:endParaRPr b="1" lang="en-US" sz="4800" spc="-1" strike="noStrike">
              <a:solidFill>
                <a:srgbClr val="dee3ee"/>
              </a:solidFill>
              <a:latin typeface="Arial Narrow"/>
            </a:endParaRPr>
          </a:p>
        </p:txBody>
      </p:sp>
      <p:sp>
        <p:nvSpPr>
          <p:cNvPr id="3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rect performance measurement through benchmarkin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erformance measurement by historical statistic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erformance data gathering and graphing</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D95F62F-B87F-41E9-8E1F-564BE13A1EB8}" type="slidenum">
              <a:t>11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easurement through benchmarking</a:t>
            </a:r>
            <a:endParaRPr b="1" lang="en-US" sz="4800" spc="-1" strike="noStrike">
              <a:solidFill>
                <a:srgbClr val="dee3ee"/>
              </a:solidFill>
              <a:latin typeface="Arial Narrow"/>
            </a:endParaRPr>
          </a:p>
        </p:txBody>
      </p:sp>
      <p:sp>
        <p:nvSpPr>
          <p:cNvPr id="3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ttcp</a:t>
            </a:r>
            <a:r>
              <a:rPr b="0" lang="en-US" sz="2000" spc="-1" strike="noStrike">
                <a:solidFill>
                  <a:srgbClr val="dee3ee"/>
                </a:solidFill>
                <a:latin typeface="Arial"/>
              </a:rPr>
              <a:t> is a benchmarking tool for determining TCP and UDP performance between 2 systems.</a:t>
            </a:r>
            <a:endParaRPr b="0" lang="en-US" sz="2000" spc="-1" strike="noStrike">
              <a:solidFill>
                <a:srgbClr val="dee3ee"/>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program was created at the US Army Ballistics Research Lab (BRL) and is in the public domain (</a:t>
            </a:r>
            <a:r>
              <a:rPr b="1" lang="en-US" sz="1400" spc="-1" strike="noStrike">
                <a:solidFill>
                  <a:srgbClr val="dee3ee"/>
                </a:solidFill>
                <a:latin typeface="Courier New"/>
              </a:rPr>
              <a:t>ftp://ftp.sgi.com/sgi/src/ttcp/</a:t>
            </a:r>
            <a:r>
              <a:rPr b="0" lang="en-US" sz="2000" spc="-1" strike="noStrike">
                <a:solidFill>
                  <a:srgbClr val="dee3ee"/>
                </a:solidFill>
                <a:latin typeface="Arial"/>
              </a:rPr>
              <a:t>)</a:t>
            </a:r>
            <a:endParaRPr b="0" lang="en-US" sz="2000" spc="-1" strike="noStrike">
              <a:solidFill>
                <a:srgbClr val="dee3ee"/>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nice thing about </a:t>
            </a:r>
            <a:r>
              <a:rPr b="1" lang="en-US" sz="2000" spc="-1" strike="noStrike">
                <a:solidFill>
                  <a:srgbClr val="dee3ee"/>
                </a:solidFill>
                <a:latin typeface="Courier New"/>
              </a:rPr>
              <a:t>ttcp</a:t>
            </a:r>
            <a:r>
              <a:rPr b="0" lang="en-US" sz="2000" spc="-1" strike="noStrike">
                <a:solidFill>
                  <a:srgbClr val="dee3ee"/>
                </a:solidFill>
                <a:latin typeface="Arial"/>
              </a:rPr>
              <a:t> is that it shows the performance of your end-to-end network, no holes barred</a:t>
            </a:r>
            <a:endParaRPr b="0" lang="en-US" sz="2000" spc="-1" strike="noStrike">
              <a:solidFill>
                <a:srgbClr val="dee3ee"/>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ost basic use</a:t>
            </a:r>
            <a:endParaRPr b="0" lang="en-US" sz="2000" spc="-1" strike="noStrike">
              <a:solidFill>
                <a:srgbClr val="dee3ee"/>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Receiver:  </a:t>
            </a:r>
            <a:r>
              <a:rPr b="1" lang="en-US" sz="1800" spc="-1" strike="noStrike">
                <a:solidFill>
                  <a:srgbClr val="dee3ee"/>
                </a:solidFill>
                <a:latin typeface="Courier New"/>
              </a:rPr>
              <a:t>ttcp -r -s</a:t>
            </a:r>
            <a:endParaRPr b="0" lang="en-US" sz="18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buflen=8192, nbuf=2048, align=16384/0, port=5001  tcp  -&gt; xor.com</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socket</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connect</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16777216 bytes in 19.99 real seconds = 819.55 KB/sec +++</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2048 I/O calls, msec/call = 10.00, calls/sec = 102.44</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ttcp-t: 0.0user 0.6sys 0:20real 3% 0i+0d 0maxrss 0+0pf 11092+2csw</a:t>
            </a:r>
            <a:endParaRPr b="0" lang="en-US" sz="1200" spc="-1" strike="noStrike">
              <a:solidFill>
                <a:srgbClr val="dee3ee"/>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ender: </a:t>
            </a:r>
            <a:r>
              <a:rPr b="1" lang="en-US" sz="1800" spc="-1" strike="noStrike">
                <a:solidFill>
                  <a:srgbClr val="dee3ee"/>
                </a:solidFill>
                <a:latin typeface="Courier New"/>
              </a:rPr>
              <a:t>ttcp -t -s host</a:t>
            </a:r>
            <a:endParaRPr b="0" lang="en-US" sz="1800" spc="-1" strike="noStrike">
              <a:solidFill>
                <a:srgbClr val="dee3ee"/>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e3ee"/>
                </a:solidFill>
                <a:latin typeface="Courier New"/>
              </a:rPr>
              <a:t>-s</a:t>
            </a:r>
            <a:r>
              <a:rPr b="0" lang="en-US" sz="1600" spc="-1" strike="noStrike">
                <a:solidFill>
                  <a:srgbClr val="dee3ee"/>
                </a:solidFill>
                <a:latin typeface="Arial"/>
              </a:rPr>
              <a:t> for the receiver means throw away actual data transferred</a:t>
            </a:r>
            <a:endParaRPr b="0" lang="en-US" sz="1600" spc="-1" strike="noStrike">
              <a:solidFill>
                <a:srgbClr val="dee3ee"/>
              </a:solidFill>
              <a:latin typeface="Arial"/>
            </a:endParaRPr>
          </a:p>
          <a:p>
            <a:pPr lvl="2" marL="1062720" indent="-212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e3ee"/>
                </a:solidFill>
                <a:latin typeface="Courier New"/>
              </a:rPr>
              <a:t>-s</a:t>
            </a:r>
            <a:r>
              <a:rPr b="0" lang="en-US" sz="1600" spc="-1" strike="noStrike">
                <a:solidFill>
                  <a:srgbClr val="dee3ee"/>
                </a:solidFill>
                <a:latin typeface="Arial"/>
              </a:rPr>
              <a:t> for the sender means generate random data to send</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10829EF-DF16-4576-87F8-E11E897E5F2D}" type="slidenum">
              <a:t>11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ancy </a:t>
            </a:r>
            <a:r>
              <a:rPr b="1" lang="en-US" sz="4800" spc="-1" strike="noStrike">
                <a:solidFill>
                  <a:srgbClr val="dee3ee"/>
                </a:solidFill>
                <a:latin typeface="Courier New"/>
              </a:rPr>
              <a:t>ttcp</a:t>
            </a:r>
            <a:endParaRPr b="1" lang="en-US" sz="4800" spc="-1" strike="noStrike">
              <a:solidFill>
                <a:srgbClr val="dee3ee"/>
              </a:solidFill>
              <a:latin typeface="Arial Narrow"/>
            </a:endParaRPr>
          </a:p>
        </p:txBody>
      </p:sp>
      <p:sp>
        <p:nvSpPr>
          <p:cNvPr id="3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ttcp -t -s -l 64 -n 16384 xor.com</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buflen=64, nbuf=16384, align=16384/0, port=5001  tcp  -&gt; xor.com</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socket</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connect</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1048576 bytes in 1.15 real seconds = 890.73 KB/sec +++</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ttcp -t -s -l 1024 -n 16384 xor.com</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buflen=1024, nbuf=16384, align=16384/0, port=5001  tcp  -&gt; xor.com</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socket</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connect</a:t>
            </a:r>
            <a:endParaRPr b="0" lang="en-US" sz="1400" spc="-1" strike="noStrike">
              <a:solidFill>
                <a:srgbClr val="dee3ee"/>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ttcp-t: 16777216 bytes in 20.65 real seconds = 793.27 KB/sec +++</a:t>
            </a:r>
            <a:endParaRPr b="0" lang="en-US" sz="1400" spc="-1" strike="noStrike">
              <a:solidFill>
                <a:srgbClr val="dee3ee"/>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ee3ee"/>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ee"/>
                </a:solidFill>
                <a:latin typeface="Courier New"/>
              </a:rPr>
              <a:t>-l</a:t>
            </a:r>
            <a:r>
              <a:rPr b="0" lang="en-US" sz="1800" spc="-1" strike="noStrike">
                <a:solidFill>
                  <a:srgbClr val="dee3ee"/>
                </a:solidFill>
                <a:latin typeface="Arial"/>
              </a:rPr>
              <a:t> specifies the length of the buffers</a:t>
            </a:r>
            <a:endParaRPr b="0" lang="en-US" sz="1800" spc="-1" strike="noStrike">
              <a:solidFill>
                <a:srgbClr val="dee3ee"/>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ee"/>
                </a:solidFill>
                <a:latin typeface="Courier New"/>
              </a:rPr>
              <a:t>-n</a:t>
            </a:r>
            <a:r>
              <a:rPr b="0" lang="en-US" sz="1800" spc="-1" strike="noStrike">
                <a:solidFill>
                  <a:srgbClr val="dee3ee"/>
                </a:solidFill>
                <a:latin typeface="Arial"/>
              </a:rPr>
              <a:t> specifies the number of the buffer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63DEE5F-57E2-4B92-91FB-AFD9EC4093CB}" type="slidenum">
              <a:t>11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easuring Expectations</a:t>
            </a:r>
            <a:endParaRPr b="1" lang="en-US" sz="4800" spc="-1" strike="noStrike">
              <a:solidFill>
                <a:srgbClr val="dee3ee"/>
              </a:solidFill>
              <a:latin typeface="Arial Narrow"/>
            </a:endParaRPr>
          </a:p>
        </p:txBody>
      </p:sp>
      <p:sp>
        <p:nvSpPr>
          <p:cNvPr id="3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performance should we really expect from our WAN?</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it's a dedicated point-to-point circuit, then we should expect to get 92% or better of the purchased bandwidth</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or T1, 1.536Mb/s = .1536MB/s = 153.6KB/s</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153.6KB/s * .92 = 141.31KB/s</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it's a frame-relay circuit, at best we could expect to get 80% of the purchased bandwidth, often 50%</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me line errors in WAN circuits are unavoidable.  As a good rule of them, you should expect to see less than 1 error in every 1,000,000 packets for a "clean" line.</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me times, circuits carried on copper like T1s may take a few errors per day </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signed for voice aggregated over copper, doesn't handle certain kinds of data well (lots of sequential zero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93DA95D-ACC7-421A-930A-328FA51FF6D8}" type="slidenum">
              <a:t>11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 Longer Example</a:t>
            </a:r>
            <a:endParaRPr b="1" lang="en-US" sz="4800" spc="-1" strike="noStrike">
              <a:solidFill>
                <a:srgbClr val="dee3ee"/>
              </a:solidFill>
              <a:latin typeface="Arial Narrow"/>
            </a:endParaRPr>
          </a:p>
        </p:txBody>
      </p:sp>
      <p:sp>
        <p:nvSpPr>
          <p:cNvPr id="124"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fontScale="91000"/>
          </a:bodyPr>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options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directory "/var/named";</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pid-file "/var/run/named.pid";</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logging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category lame-servers { null;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category cname { null;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isc.org" in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type master;</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file "master/isc.org";</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vix.com" in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type slave;</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file "slave/vix.com";</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masters { 10.0.0.53;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zone "." in {</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type hint;</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file "named.cache";</a:t>
            </a:r>
            <a:endParaRPr b="0" lang="en-US" sz="1400" spc="-1" strike="noStrike">
              <a:solidFill>
                <a:srgbClr val="dee3ee"/>
              </a:solidFill>
              <a:latin typeface="Arial"/>
            </a:endParaRPr>
          </a:p>
          <a:p>
            <a:pPr lvl="3" marL="145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a:t>
            </a:r>
            <a:endParaRPr b="0" lang="en-US" sz="1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EF23DDA-BAFB-476B-9B2A-F29E262AC08E}" type="slidenum">
              <a:t>1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easurement by history</a:t>
            </a:r>
            <a:endParaRPr b="1" lang="en-US" sz="4800" spc="-1" strike="noStrike">
              <a:solidFill>
                <a:srgbClr val="dee3ee"/>
              </a:solidFill>
              <a:latin typeface="Arial Narrow"/>
            </a:endParaRPr>
          </a:p>
        </p:txBody>
      </p:sp>
      <p:sp>
        <p:nvSpPr>
          <p:cNvPr id="399" name="PlaceHolder 2"/>
          <p:cNvSpPr>
            <a:spLocks noGrp="1"/>
          </p:cNvSpPr>
          <p:nvPr>
            <p:ph/>
          </p:nvPr>
        </p:nvSpPr>
        <p:spPr>
          <a:xfrm>
            <a:off x="304920" y="1523880"/>
            <a:ext cx="8610480" cy="457200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Hssi2/0 is up, line protocol is up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Hardware is cxBus HSSI</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nternet address is 1.2.3.4/30</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MTU 4470 bytes, BW 45045 Kbit, DLY 200 usec, rely 255/255, load 42/255</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Encapsulation HDLC, loopback not set, keepalive set (10 sec)</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ast input 00:00:02, output 00:00:00, output hang never</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ast clearing of "show interface" counters never</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Queueing strategy: fifo</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Output queue 0/40, 7362 drops; input queue 0/75, 1721 drops</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5 minute input rate 5187000 bits/sec, 1519 packets/sec</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5 minute output rate 7590000 bits/sec, 2807 packets/sec</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624911546 packets input, 2931056137 bytes, 3 no buffer</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eceived 508079 broadcasts, 0 runts, 0 giants</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parity</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3251 input errors, 31 CRC, 3046 frame, 174 overrun, 0 ignored, 0 abor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287423330 packets output, 3815049764 bytes, 0 underruns</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output errors, 0 applique, 2 interface resets</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output buffer failures, 0 output buffers swapped ou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3 carrier transitions</a:t>
            </a:r>
            <a:endParaRPr b="0" lang="en-US" sz="12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put errors are .0002%</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rrier transitions low</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D873F5A-A0A1-401E-8A30-D5FA0CF49CCE}" type="slidenum">
              <a:t>12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easurement by history (cont.)</a:t>
            </a:r>
            <a:endParaRPr b="1" lang="en-US" sz="4800" spc="-1" strike="noStrike">
              <a:solidFill>
                <a:srgbClr val="dee3ee"/>
              </a:solidFill>
              <a:latin typeface="Arial Narrow"/>
            </a:endParaRPr>
          </a:p>
        </p:txBody>
      </p:sp>
      <p:sp>
        <p:nvSpPr>
          <p:cNvPr id="401"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5000"/>
          </a:bodyPr>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Hssi4/0 is up, line protocol is up </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Hardware is cxBus HSSI</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nternet address is 3.4.5.6/30</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MTU 4470 bytes, BW 45045 Kbit, DLY 200 usec, rely 255/255, load 35/255</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Encapsulation HDLC, loopback not set, keepalive set (10 sec)</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ast input 00:00:00, output 00:00:03, output hang never</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ast clearing of "show interface" counters never</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Queueing strategy: fifo</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Output queue 0/40, 0 drops; input queue 1/75, 1727 drop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5 minute input rate 1551000 bits/sec, 1221 packets/sec</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5 minute output rate 6298000 bits/sec, 1239 packets/sec</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574691557 packets input, 956588456 bytes, 6 no buffer</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eceived 563056 broadcasts, 0 runts, 3174 giant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parity</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3995089 input errors, 13049 CRC, 3978697 frame, 169 overrun, 0 ignored </a:t>
            </a:r>
            <a:endParaRPr b="0" lang="en-US" sz="1200" spc="-1" strike="noStrike">
              <a:solidFill>
                <a:srgbClr val="dee3ee"/>
              </a:solidFill>
              <a:latin typeface="Arial"/>
            </a:endParaRPr>
          </a:p>
          <a:p>
            <a:pPr lvl="4" marL="195444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abort</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2356338480 packets output, 1572466122 bytes, 0 underrun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output errors, 0 applique, 483 interface reset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output buffer failures, 0 output buffers swapped out</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6717 carrier transitions</a:t>
            </a:r>
            <a:endParaRPr b="0" lang="en-US" sz="12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put errors are .25%</a:t>
            </a:r>
            <a:endParaRPr b="0" lang="en-US" sz="18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rrier transitions too high</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B73276C-25CA-449B-911E-9FBA10149894}" type="slidenum">
              <a:t>12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easurement by data gathering</a:t>
            </a:r>
            <a:endParaRPr b="1" lang="en-US" sz="4800" spc="-1" strike="noStrike">
              <a:solidFill>
                <a:srgbClr val="dee3ee"/>
              </a:solidFill>
              <a:latin typeface="Arial Narrow"/>
            </a:endParaRPr>
          </a:p>
        </p:txBody>
      </p:sp>
      <p:sp>
        <p:nvSpPr>
          <p:cNvPr id="40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ulti-Router Traffic Grapher (MRTG) is a tool to monitor the traffic load on network-link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RTG is available under the GNU PUBLIC LICENS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e the homepage at:</a:t>
            </a:r>
            <a:endParaRPr b="0" lang="en-US" sz="2400" spc="-1" strike="noStrike">
              <a:solidFill>
                <a:srgbClr val="dee3ee"/>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ee"/>
                </a:solidFill>
                <a:latin typeface="Courier New"/>
              </a:rPr>
              <a:t>http://ee-staff.ethz.ch/~oetiker/webtools/mrtg/mrtg.html</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orks on most UNIX platforms and Windows NT </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s Perl for easy customization, and has a highly portable  SNMP implementation written entirely in Perl thanks to Simon Leinen. There is no need to install any external SNMP package. </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C2609C1-A77E-472F-94BA-12785367296C}" type="slidenum">
              <a:t>12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ther Tools</a:t>
            </a:r>
            <a:endParaRPr b="1" lang="en-US" sz="4800" spc="-1" strike="noStrike">
              <a:solidFill>
                <a:srgbClr val="dee3ee"/>
              </a:solidFill>
              <a:latin typeface="Arial Narrow"/>
            </a:endParaRPr>
          </a:p>
        </p:txBody>
      </p:sp>
      <p:sp>
        <p:nvSpPr>
          <p:cNvPr id="4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teScop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om Freshwater software, www.freshtech.co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ftware that monitors, reports, and alerts arbitrary objects including SNMP variables and scripts </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teSeer</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so from Freshwat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rvice that monitors, reports, and alerts from outside your network</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rviceMetrics and other services are like SiteSeer</a:t>
            </a:r>
            <a:endParaRPr b="0" lang="en-US" sz="2400" spc="-1" strike="noStrike">
              <a:solidFill>
                <a:srgbClr val="dee3ee"/>
              </a:solidFill>
              <a:latin typeface="Arial"/>
            </a:endParaRPr>
          </a:p>
          <a:p>
            <a:pPr marL="343080" indent="-343080">
              <a:spcBef>
                <a:spcPts val="45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rdtool: </a:t>
            </a:r>
            <a:r>
              <a:rPr b="1" lang="en-US" sz="1800" spc="-1" strike="noStrike">
                <a:solidFill>
                  <a:srgbClr val="dee3ee"/>
                </a:solidFill>
                <a:latin typeface="Courier New"/>
              </a:rPr>
              <a:t>http://ee-staff.ethz.ch/~oetiker/webtools/rrdtool/</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7319913-17C9-4D37-BBD9-46539F39A208}" type="slidenum">
              <a:t>12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Routing Protocols</a:t>
            </a:r>
            <a:endParaRPr b="1" lang="en-US" sz="6600" spc="-1" strike="noStrike">
              <a:solidFill>
                <a:srgbClr val="dee3ee"/>
              </a:solidFill>
              <a:latin typeface="Arial Narrow"/>
            </a:endParaRPr>
          </a:p>
        </p:txBody>
      </p:sp>
      <p:sp>
        <p:nvSpPr>
          <p:cNvPr id="407"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ara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outing Basics</a:t>
            </a:r>
            <a:endParaRPr b="1" lang="en-US" sz="4800" spc="-1" strike="noStrike">
              <a:solidFill>
                <a:srgbClr val="dee3ee"/>
              </a:solidFill>
              <a:latin typeface="Arial Narrow"/>
            </a:endParaRPr>
          </a:p>
        </p:txBody>
      </p:sp>
      <p:sp>
        <p:nvSpPr>
          <p:cNvPr id="4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wo basic choices of routing model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tatic</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ynamic</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tatic works, but doesn't scale well and is hard to maintai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e'll talk about dynamic routing toda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outing Protocols are protocols that implement routing algorithms (BGP, OSPF, RIP, etc.).</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outed protocols are transport protocols that  are routed over an inter-network (IP, DECnet, IPX, etc.).  </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CD23D37-A6E3-4CF0-941D-05ECE8B25D82}" type="slidenum">
              <a:t>12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outing Protocol Families</a:t>
            </a:r>
            <a:endParaRPr b="1" lang="en-US" sz="4800" spc="-1" strike="noStrike">
              <a:solidFill>
                <a:srgbClr val="dee3ee"/>
              </a:solidFill>
              <a:latin typeface="Arial Narrow"/>
            </a:endParaRPr>
          </a:p>
        </p:txBody>
      </p:sp>
      <p:sp>
        <p:nvSpPr>
          <p:cNvPr id="4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wo families of distributed routing algorithm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tance Vecto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nk stat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l popular network routing protocols are based on one of thes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tance Vector is also sometimes called "Bellman-Ford" routing, after the people that invented the algorithm</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B5FA79B-0FED-4A57-9052-6F61B0D5CD68}" type="slidenum">
              <a:t>12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stance Vector Routing</a:t>
            </a:r>
            <a:endParaRPr b="1" lang="en-US" sz="4800" spc="-1" strike="noStrike">
              <a:solidFill>
                <a:srgbClr val="dee3ee"/>
              </a:solidFill>
              <a:latin typeface="Arial Narrow"/>
            </a:endParaRPr>
          </a:p>
        </p:txBody>
      </p:sp>
      <p:sp>
        <p:nvSpPr>
          <p:cNvPr id="4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distance vector routing protocol requires that each router maintain a list of each possible destination and the distance to each of those destin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outer advertises to its neighbors its list of destin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outer saves the advertisements most recently received  from its neighbo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outer calculates the shortest path to each destination based on information heard from neighbor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251D116-27DF-4844-8249-910490D02B48}" type="slidenum">
              <a:t>12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Link State Routing</a:t>
            </a:r>
            <a:endParaRPr b="1" lang="en-US" sz="4800" spc="-1" strike="noStrike">
              <a:solidFill>
                <a:srgbClr val="dee3ee"/>
              </a:solidFill>
              <a:latin typeface="Arial Narrow"/>
            </a:endParaRPr>
          </a:p>
        </p:txBody>
      </p:sp>
      <p:sp>
        <p:nvSpPr>
          <p:cNvPr id="4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link state routing protocol maintains a list of neighbors, their names, and a list of their link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outer meets its neighbors and learns their names, and exchanges link state information with the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outer, having a full graph of the network, computes the shortest path to each destination  </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7BEB713-1F63-4829-AE07-00584E918C38}" type="slidenum">
              <a:t>12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stance Vector vs. Link State</a:t>
            </a:r>
            <a:endParaRPr b="1" lang="en-US" sz="4800" spc="-1" strike="noStrike">
              <a:solidFill>
                <a:srgbClr val="dee3ee"/>
              </a:solidFill>
              <a:latin typeface="Arial Narrow"/>
            </a:endParaRPr>
          </a:p>
        </p:txBody>
      </p:sp>
      <p:sp>
        <p:nvSpPr>
          <p:cNvPr id="4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tance vector suffers from "count-to-infinity" problem</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finity can far away because of timing of synchronous update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nk state can be complex to calculat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nk state routing makes network topology easier to discov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roubleshooting a network is easier with link state routin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nk state routing converges more quickly than distance vector</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9E116A2-CBB0-41B2-9FD0-251D034A43F6}" type="slidenum">
              <a:t>12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nfiguration Language Details</a:t>
            </a:r>
            <a:endParaRPr b="1" lang="en-US" sz="4800" spc="-1" strike="noStrike">
              <a:solidFill>
                <a:srgbClr val="dee3ee"/>
              </a:solidFill>
              <a:latin typeface="Arial Narrow"/>
            </a:endParaRPr>
          </a:p>
        </p:txBody>
      </p:sp>
      <p:sp>
        <p:nvSpPr>
          <p:cNvPr id="12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oks like C or gated config fil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cl keyword defines the name of an access control list and the IP addresses that it pertains to</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veral acl's are pre-defin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y: allows all hos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ne: denies all hos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lhost: allows the IP addresses of all interfaces on the syste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lnets: allows any host on a network for which system has an interfac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A613E3A-E1C7-4C3A-83A7-EF6D9D379FE0}" type="slidenum">
              <a:t>1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utonomous Systems</a:t>
            </a:r>
            <a:endParaRPr b="1" lang="en-US" sz="4800" spc="-1" strike="noStrike">
              <a:solidFill>
                <a:srgbClr val="dee3ee"/>
              </a:solidFill>
              <a:latin typeface="Arial Narrow"/>
            </a:endParaRPr>
          </a:p>
        </p:txBody>
      </p:sp>
      <p:sp>
        <p:nvSpPr>
          <p:cNvPr id="4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n Autonomous System (AS) is a group of routers controlled by the same administrative entit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AS has an AS number  </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tocols which use AS number as part of their route state information require a globally unique AS number for each entity -- you can apply for one from the NIC</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tocols which do not propagate AS information can be assigned AS numbers that are unique within your sit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metimes, it's easiest to think of an AS as a fun-filled routing club, focused on single routers meeting each other</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3A21C03-F4AD-449E-BFE2-D9551F03E3D6}" type="slidenum">
              <a:t>13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IP</a:t>
            </a:r>
            <a:endParaRPr b="1" lang="en-US" sz="4800" spc="-1" strike="noStrike">
              <a:solidFill>
                <a:srgbClr val="dee3ee"/>
              </a:solidFill>
              <a:latin typeface="Arial Narrow"/>
            </a:endParaRPr>
          </a:p>
        </p:txBody>
      </p:sp>
      <p:sp>
        <p:nvSpPr>
          <p:cNvPr id="4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outing Information Protoco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tance-vector, interior gateway protoco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rew out of Xerox XNS (last 70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d by </a:t>
            </a:r>
            <a:r>
              <a:rPr b="1" lang="en-US" sz="2400" spc="-1" strike="noStrike">
                <a:solidFill>
                  <a:srgbClr val="dee3ee"/>
                </a:solidFill>
                <a:latin typeface="Courier New"/>
              </a:rPr>
              <a:t>routed</a:t>
            </a:r>
            <a:r>
              <a:rPr b="0" lang="en-US" sz="2400" spc="-1" strike="noStrike">
                <a:solidFill>
                  <a:srgbClr val="dee3ee"/>
                </a:solidFill>
                <a:latin typeface="Arial"/>
              </a:rPr>
              <a:t> on many workst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ximum metric of 15</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roadcast routing protoco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outing updates every 30 seconds </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m a router to network xxx.xxx.xxx.xxx in yy hop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329C7C2-C0E3-4B2A-B50A-D562E3A2B23A}" type="slidenum">
              <a:t>13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IP - cont.</a:t>
            </a:r>
            <a:endParaRPr b="1" lang="en-US" sz="4800" spc="-1" strike="noStrike">
              <a:solidFill>
                <a:srgbClr val="dee3ee"/>
              </a:solidFill>
              <a:latin typeface="Arial Narrow"/>
            </a:endParaRPr>
          </a:p>
        </p:txBody>
      </p:sp>
      <p:sp>
        <p:nvSpPr>
          <p:cNvPr id="4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nvenient solution for LANs.  Spoken by:</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nter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ub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C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IX boxes</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misused, can cause extreme network congestion and chao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NIX boxes should always run </a:t>
            </a:r>
            <a:r>
              <a:rPr b="1" lang="en-US" sz="2400" spc="-1" strike="noStrike">
                <a:solidFill>
                  <a:srgbClr val="dee3ee"/>
                </a:solidFill>
                <a:latin typeface="Courier New"/>
              </a:rPr>
              <a:t>routed -q</a:t>
            </a:r>
            <a:r>
              <a:rPr b="0" lang="en-US" sz="2400" spc="-1" strike="noStrike">
                <a:solidFill>
                  <a:srgbClr val="dee3ee"/>
                </a:solidFill>
                <a:latin typeface="Arial"/>
              </a:rPr>
              <a:t> to avoid advertising false information</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you must use RIP, use it only to advertise a handful of networks and perhaps a default rout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48D1BF1-BBC0-4EB8-96EC-97919148843A}" type="slidenum">
              <a:t>13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ebugging RIP</a:t>
            </a:r>
            <a:endParaRPr b="1" lang="en-US" sz="4800" spc="-1" strike="noStrike">
              <a:solidFill>
                <a:srgbClr val="dee3ee"/>
              </a:solidFill>
              <a:latin typeface="Arial Narrow"/>
            </a:endParaRPr>
          </a:p>
        </p:txBody>
      </p:sp>
      <p:sp>
        <p:nvSpPr>
          <p:cNvPr id="4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a packet sniffer, or run </a:t>
            </a:r>
            <a:r>
              <a:rPr b="1" lang="en-US" sz="2000" spc="-1" strike="noStrike">
                <a:solidFill>
                  <a:srgbClr val="dee3ee"/>
                </a:solidFill>
                <a:latin typeface="Courier New"/>
              </a:rPr>
              <a:t>routed -t</a:t>
            </a:r>
            <a:r>
              <a:rPr b="0" lang="en-US" sz="2000" spc="-1" strike="noStrike">
                <a:solidFill>
                  <a:srgbClr val="dee3ee"/>
                </a:solidFill>
                <a:latin typeface="Arial"/>
              </a:rPr>
              <a:t> on a UNIX box...</a:t>
            </a:r>
            <a:endParaRPr b="0" lang="en-US" sz="20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in.routed -t</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253.520:</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10.520:</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34.520:</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254.520:</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4878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a mess</a:t>
            </a:r>
            <a:endParaRPr b="0" lang="en-US" sz="2000" spc="-1" strike="noStrike">
              <a:solidFill>
                <a:srgbClr val="dee3ee"/>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our different gateways all with the same metric</a:t>
            </a:r>
            <a:endParaRPr b="0" lang="en-US" sz="1800" spc="-1" strike="noStrike">
              <a:solidFill>
                <a:srgbClr val="dee3ee"/>
              </a:solidFill>
              <a:latin typeface="Arial"/>
            </a:endParaRPr>
          </a:p>
          <a:p>
            <a:pPr lvl="1" marL="690840" indent="-2656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ut not all have the same capability (Sun 3 vs. Sparc Ultra)</a:t>
            </a:r>
            <a:endParaRPr b="0" lang="en-US" sz="1800" spc="-1" strike="noStrike">
              <a:solidFill>
                <a:srgbClr val="dee3ee"/>
              </a:solidFill>
              <a:latin typeface="Arial"/>
            </a:endParaRPr>
          </a:p>
          <a:p>
            <a:pPr marL="318960" indent="-31896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en running RIP, it's often a good idea run </a:t>
            </a:r>
            <a:r>
              <a:rPr b="1" lang="en-US" sz="2000" spc="-1" strike="noStrike">
                <a:solidFill>
                  <a:srgbClr val="dee3ee"/>
                </a:solidFill>
                <a:latin typeface="Courier New"/>
              </a:rPr>
              <a:t>gated</a:t>
            </a:r>
            <a:r>
              <a:rPr b="0" lang="en-US" sz="2000" spc="-1" strike="noStrike">
                <a:solidFill>
                  <a:srgbClr val="dee3ee"/>
                </a:solidFill>
                <a:latin typeface="Arial"/>
              </a:rPr>
              <a:t> instead of </a:t>
            </a:r>
            <a:r>
              <a:rPr b="1" lang="en-US" sz="2000" spc="-1" strike="noStrike">
                <a:solidFill>
                  <a:srgbClr val="dee3ee"/>
                </a:solidFill>
                <a:latin typeface="Courier New"/>
              </a:rPr>
              <a:t>routed</a:t>
            </a:r>
            <a:r>
              <a:rPr b="0" lang="en-US" sz="2000" spc="-1" strike="noStrike">
                <a:solidFill>
                  <a:srgbClr val="dee3ee"/>
                </a:solidFill>
                <a:latin typeface="Arial"/>
              </a:rPr>
              <a:t> on major gateways, artificially weighting metric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D8F6E1C-615D-40FE-849F-1D97321FE0A4}" type="slidenum">
              <a:t>13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EIGRP</a:t>
            </a:r>
            <a:endParaRPr b="1" lang="en-US" sz="4800" spc="-1" strike="noStrike">
              <a:solidFill>
                <a:srgbClr val="dee3ee"/>
              </a:solidFill>
              <a:latin typeface="Arial Narrow"/>
            </a:endParaRPr>
          </a:p>
        </p:txBody>
      </p:sp>
      <p:sp>
        <p:nvSpPr>
          <p:cNvPr id="4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nhanced Interior Gateway Routing Protocol</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GRP originally developed by Cisco in mid-1980's to replace RIP</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tance-vector, interior gateway protocol</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s ASs to identify routing group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ery handy for all-cisco networks, no so handy for heterogeneous network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orks well in a WAN environment, can be easily distributed into RIP</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outing updates every 90 second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mplex metric includes factors for load, bandwidth, and reliability;  varies from 1-255</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B071E2A-704B-4C69-BB1C-D153A29BCBD0}" type="slidenum">
              <a:t>13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SPF</a:t>
            </a:r>
            <a:endParaRPr b="1" lang="en-US" sz="4800" spc="-1" strike="noStrike">
              <a:solidFill>
                <a:srgbClr val="dee3ee"/>
              </a:solidFill>
              <a:latin typeface="Arial Narrow"/>
            </a:endParaRPr>
          </a:p>
        </p:txBody>
      </p:sp>
      <p:sp>
        <p:nvSpPr>
          <p:cNvPr id="4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pen Shortest Path First</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terior gateway, link-state protocol</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so designed as a replacement for RIP</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n balance load across multiple link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n operate within a hierarchy</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op of hierarchy is an AS</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s internal AS#'s, unique within the organization</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ach AS is divided into "area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nk State information is exchanged by all routers within an area; summarized at borders of area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SPF "backbone" (area 0) is responsible for exchanging information between area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61D6EE6-4523-4F82-A5B1-9493F27A4582}" type="slidenum">
              <a:t>13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SPF - SPF algorithm</a:t>
            </a:r>
            <a:endParaRPr b="1" lang="en-US" sz="4800" spc="-1" strike="noStrike">
              <a:solidFill>
                <a:srgbClr val="dee3ee"/>
              </a:solidFill>
              <a:latin typeface="Arial Narrow"/>
            </a:endParaRPr>
          </a:p>
        </p:txBody>
      </p:sp>
      <p:sp>
        <p:nvSpPr>
          <p:cNvPr id="4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Shortest Path First (SPF) [sometimes called Dijkstra] algorithm is the basis for operation of OSPF</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ce interfaces are initialized, a router sends OSPF HELLO to its neighbor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iendly neighbor routers exchange link state information. Once they're synchronized, they are said to be "adjacent"</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nk state information is re-transmitted periodically (say, every 90 minutes) or when a router's state change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ach router calculates a shortest path tree, with itself as the root.  This information is used to generate a routing table</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work segments with more than one router elect a "designated router" which is responsible for maintaining link state information for that segmen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7815F58-DED6-40D0-BB90-B5F6542E1218}" type="slidenum">
              <a:t>13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SPF - cont.</a:t>
            </a:r>
            <a:endParaRPr b="1" lang="en-US" sz="4800" spc="-1" strike="noStrike">
              <a:solidFill>
                <a:srgbClr val="dee3ee"/>
              </a:solidFill>
              <a:latin typeface="Arial Narrow"/>
            </a:endParaRPr>
          </a:p>
        </p:txBody>
      </p:sp>
      <p:sp>
        <p:nvSpPr>
          <p:cNvPr id="4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e big feature of OSPF is support of variable-length subnet masks</a:t>
            </a:r>
            <a:endParaRPr b="0" lang="en-US" sz="2000" spc="-1" strike="noStrike">
              <a:solidFill>
                <a:srgbClr val="dee3ee"/>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rrently, </a:t>
            </a:r>
            <a:r>
              <a:rPr b="0" lang="en-US" sz="2000" spc="-1" strike="noStrike">
                <a:solidFill>
                  <a:srgbClr val="dee3ee"/>
                </a:solidFill>
                <a:latin typeface="Courier New"/>
              </a:rPr>
              <a:t>gated</a:t>
            </a:r>
            <a:r>
              <a:rPr b="0" lang="en-US" sz="2000" spc="-1" strike="noStrike">
                <a:solidFill>
                  <a:srgbClr val="dee3ee"/>
                </a:solidFill>
                <a:latin typeface="Arial"/>
              </a:rPr>
              <a:t> is the best way to support OSPF on a UNIX box</a:t>
            </a:r>
            <a:endParaRPr b="0" lang="en-US" sz="20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outer ospf 235</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network 199.45.100.0 0.0.0.255 area 4</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network 199.45.101.0 0.0.0.255 area 0</a:t>
            </a:r>
            <a:endParaRPr b="0" lang="en-US" sz="1200" spc="-1" strike="noStrike">
              <a:solidFill>
                <a:srgbClr val="dee3ee"/>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 a Cisco router, your OSPF clause might look like:</a:t>
            </a:r>
            <a:endParaRPr b="0" lang="en-US" sz="20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S# choosen is 235</a:t>
            </a:r>
            <a:endParaRPr b="0" lang="en-US" sz="18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 are willing to speak OSPF to the networks listed</a:t>
            </a:r>
            <a:endParaRPr b="0" lang="en-US" sz="18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show ip ospf</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outing Process "ospf 235" with ID 199.45.141.67</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upports only single TOS(TOS0) route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Number of areas in this router is 1</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Area 1.1.1.1</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Number of interfaces in this area is 1</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Area has no authentication</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PF algorithm executed 29 times</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Area ranges are</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ink State Update Interval is 0:30:00 and due in 0:23:15</a:t>
            </a:r>
            <a:endParaRPr b="0" lang="en-US" sz="1200" spc="-1" strike="noStrike">
              <a:solidFill>
                <a:srgbClr val="dee3ee"/>
              </a:solidFill>
              <a:latin typeface="Arial"/>
            </a:endParaRPr>
          </a:p>
          <a:p>
            <a:pPr lvl="3" marL="15199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Link State Age Interval is 0:20:00 and due in 0:03:15</a:t>
            </a:r>
            <a:endParaRPr b="0" lang="en-US" sz="12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1FAFFAA-F763-42A3-8487-9E5273EE2127}" type="slidenum">
              <a:t>13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GP</a:t>
            </a:r>
            <a:endParaRPr b="1" lang="en-US" sz="4800" spc="-1" strike="noStrike">
              <a:solidFill>
                <a:srgbClr val="dee3ee"/>
              </a:solidFill>
              <a:latin typeface="Arial Narrow"/>
            </a:endParaRPr>
          </a:p>
        </p:txBody>
      </p:sp>
      <p:sp>
        <p:nvSpPr>
          <p:cNvPr id="4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order Gateway Protocol</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 Exterior Gateway Protocol, derived from EGP</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tance vector protocol</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ut transmits a list of AS numbers (real ones assigned by RIR) in path to destination</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signed to detect routing loop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marily designed to exchange information between AS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our types of messages: Open, Update, Keepalive, Notification</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s TCP connections between peer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so requires an AS number</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rrently BGP version 4</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DFD735F-B61F-4BE3-BF09-043B5BB88DD9}" type="slidenum">
              <a:t>13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GP Update Packet Contents</a:t>
            </a:r>
            <a:endParaRPr b="1" lang="en-US" sz="4800" spc="-1" strike="noStrike">
              <a:solidFill>
                <a:srgbClr val="dee3ee"/>
              </a:solidFill>
              <a:latin typeface="Arial Narrow"/>
            </a:endParaRPr>
          </a:p>
        </p:txBody>
      </p:sp>
      <p:sp>
        <p:nvSpPr>
          <p:cNvPr id="4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rigin</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GP - learned within A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GP - learned via EGP (obsolet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complete - learned some other way</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S path</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xt hop</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nreachable (now being used to black hole spamme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ntra-AS metric (if you are using BGP internally)</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D86D80A-9D65-41DE-BAE7-61404C6D69C1}" type="slidenum">
              <a:t>13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ddress List Format</a:t>
            </a:r>
            <a:endParaRPr b="1" lang="en-US" sz="4800" spc="-1" strike="noStrike">
              <a:solidFill>
                <a:srgbClr val="dee3ee"/>
              </a:solidFill>
              <a:latin typeface="Arial Narrow"/>
            </a:endParaRPr>
          </a:p>
        </p:txBody>
      </p:sp>
      <p:sp>
        <p:nvSpPr>
          <p:cNvPr id="12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st of IP addresses in various format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tted decimal not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P prefix in the / not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name of a previously defined address list</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leading ! negates an entr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negated, access is deni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not, access is permitte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72C48F8-0762-4232-BD23-E50626D9C922}" type="slidenum">
              <a:t>1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GP Uses</a:t>
            </a:r>
            <a:endParaRPr b="1" lang="en-US" sz="4800" spc="-1" strike="noStrike">
              <a:solidFill>
                <a:srgbClr val="dee3ee"/>
              </a:solidFill>
              <a:latin typeface="Arial Narrow"/>
            </a:endParaRPr>
          </a:p>
        </p:txBody>
      </p:sp>
      <p:sp>
        <p:nvSpPr>
          <p:cNvPr id="4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GP is commonly used when sharing information with backbone service providers, or between large corporate networks</a:t>
            </a:r>
            <a:endParaRPr b="0" lang="en-US" sz="24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outer bgp 101</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neighbor 199.45.255.6 remote-as 3404</a:t>
            </a:r>
            <a:endParaRPr b="0" lang="en-US" sz="12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You must enable BGP routing, specify a real autonomous system number and the neighbors that will speak BGP to you</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GP then shares routing information with routers in other AS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dvertised/accepted routes can be controlled with Access Lis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9A34C02-096B-4A74-A3D4-41E861661332}" type="slidenum">
              <a:t>14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ebugging BGP</a:t>
            </a:r>
            <a:endParaRPr b="1" lang="en-US" sz="4800" spc="-1" strike="noStrike">
              <a:solidFill>
                <a:srgbClr val="dee3ee"/>
              </a:solidFill>
              <a:latin typeface="Arial Narrow"/>
            </a:endParaRPr>
          </a:p>
        </p:txBody>
      </p:sp>
      <p:sp>
        <p:nvSpPr>
          <p:cNvPr id="4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gt; show ip bgp summary</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BGP table version is 13923, main routing table version 13923</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319 network entries (338 paths) using 52992 bytes of memory</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27 BGP path attribute entries using 1920 bytes of memory</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Neighbor        V    AS MsgRcvd MsgSent   TblVer  InQ OutQ Up/Down  State</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4.224.13.5    4  6176   82342   82320    13923    0    0 1w2d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99.45.132.75   4  3404   81205   80797    13923    0    0 6d07     </a:t>
            </a:r>
            <a:endParaRPr b="0" lang="en-US" sz="12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 a cisco...</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Q and OutQ fields represent BGP messages exchanged but not yet processed</a:t>
            </a:r>
            <a:endParaRPr b="0" lang="en-US" sz="18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If InQ field is ever non-zero, get a bigger router</a:t>
            </a:r>
            <a:endParaRPr b="0" lang="en-US" sz="16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tate field uses unfortunate defaults</a:t>
            </a:r>
            <a:endParaRPr b="0" lang="en-US" sz="18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lank means neighboring router is up and happy</a:t>
            </a:r>
            <a:endParaRPr b="0" lang="en-US" sz="16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Active means its really broken and trying to re-establish things</a:t>
            </a:r>
            <a:endParaRPr b="0" lang="en-US" sz="16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Non-blank means neighbor is down or is coming up</a:t>
            </a:r>
            <a:endParaRPr b="0" lang="en-US" sz="16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p/Down field shows time in current state</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42776C5-22D2-4BA0-A51C-C40DACDFD688}" type="slidenum">
              <a:t>14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ebugging BGP, cont.</a:t>
            </a:r>
            <a:endParaRPr b="1" lang="en-US" sz="4800" spc="-1" strike="noStrike">
              <a:solidFill>
                <a:srgbClr val="dee3ee"/>
              </a:solidFill>
              <a:latin typeface="Arial Narrow"/>
            </a:endParaRPr>
          </a:p>
        </p:txBody>
      </p:sp>
      <p:sp>
        <p:nvSpPr>
          <p:cNvPr id="4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gt; show ip bgp regexp 4151</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BGP table version is 13923, local router ID is 199.45.255.254</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Status codes: s suppressed, * valid, &gt; best, i - internal</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Origin codes: i - IGP, e - EGP, ? - incomplete</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a:t>
            </a:r>
            <a:r>
              <a:rPr b="1" lang="en-US" sz="1400" spc="-1" strike="noStrike">
                <a:solidFill>
                  <a:srgbClr val="dee3ee"/>
                </a:solidFill>
                <a:latin typeface="Courier New"/>
              </a:rPr>
              <a:t>Network          Next Hop        Metric LocPrf Weight Path</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34.249.0.0      199.45.132.75   0      0 6582 4151 4151 4151 i</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51.121.0.0      199.45.132.75   0      0 6582 4151 4151 4151 ?</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60.232.0.0      199.45.132.75   0      0 6582 4151 4151 4151 i</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62.79.0.0       199.45.132.75   0      0 6582 4151 4151 4151 i</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65.221.0.0      199.45.132.75   0      0 6582 4151 4151 4151 ?</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92.78.16.0      199.45.132.75   0      0 6582 4151 4151 4151 ?</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92.153.14.0     199.45.132.75   0      0 6582 4151 4151 4151 i</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98.22.127.0     199.45.132.75   0      0 6582 4151 4151 4151 ?</a:t>
            </a:r>
            <a:endParaRPr b="0" lang="en-US" sz="1400" spc="-1" strike="noStrike">
              <a:solidFill>
                <a:srgbClr val="dee3ee"/>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 i199.128.0.0/11   199.45.132.75   0      0 6582 4151 4151 4151 </a:t>
            </a:r>
            <a:endParaRPr b="0" lang="en-US" sz="1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6B5CFF6-86AD-4331-BC01-8DD702D51804}" type="slidenum">
              <a:t>14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ebugging BGP, cont.</a:t>
            </a:r>
            <a:endParaRPr b="1" lang="en-US" sz="4800" spc="-1" strike="noStrike">
              <a:solidFill>
                <a:srgbClr val="dee3ee"/>
              </a:solidFill>
              <a:latin typeface="Arial Narrow"/>
            </a:endParaRPr>
          </a:p>
        </p:txBody>
      </p:sp>
      <p:sp>
        <p:nvSpPr>
          <p:cNvPr id="4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gain, on a Cisco...</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gexp" clause is like a grep</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Knows ^ for beginning with, eg. ^4151</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Knows $ for ending with, eg. 4151$</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glue AS paths together, eg. ^4151_666$ means the AS path starts with AS 4151 and ends with AS 666</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ice BGP tutorial on Cisco's web site (under tech support section)</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DD280E1-5E82-4527-9F43-65FC8D8C7A0C}" type="slidenum">
              <a:t>14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Network Crisis Case Studies</a:t>
            </a:r>
            <a:endParaRPr b="1" lang="en-US" sz="6600" spc="-1" strike="noStrike">
              <a:solidFill>
                <a:srgbClr val="dee3ee"/>
              </a:solidFill>
              <a:latin typeface="Arial Narrow"/>
            </a:endParaRPr>
          </a:p>
        </p:txBody>
      </p:sp>
      <p:sp>
        <p:nvSpPr>
          <p:cNvPr id="447"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etwork Crisis Case Studies</a:t>
            </a:r>
            <a:endParaRPr b="1" lang="en-US" sz="4800" spc="-1" strike="noStrike">
              <a:solidFill>
                <a:srgbClr val="dee3ee"/>
              </a:solidFill>
              <a:latin typeface="Arial Narrow"/>
            </a:endParaRPr>
          </a:p>
        </p:txBody>
      </p:sp>
      <p:sp>
        <p:nvSpPr>
          <p:cNvPr id="4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situations detailed here are all based on real-world network cris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names and minor details have been changed to protect the innocent (or the guilty, as the case may b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n each case, we were called in after local attempts to fix the problems fail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ften the fix took 2-3 hours of an expert consultants time after a month of in-house attempts to solve the problem.</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B48C522-0EFD-4133-BB42-4C65F000A5A4}" type="slidenum">
              <a:t>14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1: FloodDyne Industries</a:t>
            </a:r>
            <a:endParaRPr b="1" lang="en-US" sz="4800" spc="-1" strike="noStrike">
              <a:solidFill>
                <a:srgbClr val="dee3ee"/>
              </a:solidFill>
              <a:latin typeface="Arial Narrow"/>
            </a:endParaRPr>
          </a:p>
        </p:txBody>
      </p:sp>
      <p:sp>
        <p:nvSpPr>
          <p:cNvPr id="4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loodDyne Industries recently moved into a new office building.</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eviously, their network was 100% thinnet (10base2).</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 their new offices, they installed Level 5 UTP cabling and switched to 100% 10Base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y have approximately 30 hosts on a single Ethernet.  </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re is one machine (a Sun Sparc 1) that acts as a hub for mail, data, and administrative task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rest of their network consists of a variety of other hosts, including Macs, PCs, Suns, and SGI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day they moved into the new facilities, the nightmare bega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04553A0-408A-4689-8B8E-404FF9B39DE2}" type="slidenum">
              <a:t>14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Symptoms</a:t>
            </a:r>
            <a:endParaRPr b="1" lang="en-US" sz="4800" spc="-1" strike="noStrike">
              <a:solidFill>
                <a:srgbClr val="dee3ee"/>
              </a:solidFill>
              <a:latin typeface="Arial Narrow"/>
            </a:endParaRPr>
          </a:p>
        </p:txBody>
      </p:sp>
      <p:sp>
        <p:nvSpPr>
          <p:cNvPr id="4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om the moment the new network was brought online, it was apparent that a problem existed.</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first noticeable problem was "NFS server not responding; NFS server OK" being spit out by a number of the cross mounted machine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n, one engineer noticed that ftp throughput was hovering around 50Kb/sec, well below what a fairly idle Ethernet should be able to handle</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me of the SGIs began spitting out "ec0: late collision" on their console.</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t; 512 bits: normal collision</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gt; 546 bits: OK Ethernet packet</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 between: late collision</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ping across the LAN would result in about 5% lost packe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DDB0715-ABD4-4342-85E7-F0B3825B16A0}" type="slidenum">
              <a:t>14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Diagnosis</a:t>
            </a:r>
            <a:endParaRPr b="1" lang="en-US" sz="4800" spc="-1" strike="noStrike">
              <a:solidFill>
                <a:srgbClr val="dee3ee"/>
              </a:solidFill>
              <a:latin typeface="Arial Narrow"/>
            </a:endParaRPr>
          </a:p>
        </p:txBody>
      </p:sp>
      <p:sp>
        <p:nvSpPr>
          <p:cNvPr id="4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nce the only aspect that had changed was the network media itself,  attention turned to examining the cabling in the walls -- that MUST be the problem!</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number of tests were run, using a tester similar to the Siemon MD-CAT5.  </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ut... all the wall cabling checked out OK.  </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xt, it was suspected that one of the hosts had been damaged during the move, and it was causing interference on the Etherne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fforts were made to isolate the "broken" host.  In particular, netstat and ping were used as tool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E141BE8-7ED6-4E8D-A553-80E7F3A2B780}" type="slidenum">
              <a:t>14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agnosis (cont.)</a:t>
            </a:r>
            <a:endParaRPr b="1" lang="en-US" sz="4800" spc="-1" strike="noStrike">
              <a:solidFill>
                <a:srgbClr val="dee3ee"/>
              </a:solidFill>
              <a:latin typeface="Arial Narrow"/>
            </a:endParaRPr>
          </a:p>
        </p:txBody>
      </p:sp>
      <p:sp>
        <p:nvSpPr>
          <p:cNvPr id="4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citingly, a candidate "broken" host was found.</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om an arbitrary workstation on the network, ping worked fairly reliably (2% or less packet loss) to all hosts on the network except the Sun server.</a:t>
            </a:r>
            <a:endParaRPr b="0" lang="en-US" sz="20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netstat -I le0 -i 5</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nput   (le0)     output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packets errs  packets errs  colls</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86676   8982  85686   9240  92</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256     20     240    16     0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350     40     321    51     2 </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79     21     180    10     0</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53     17     128    14     0</a:t>
            </a:r>
            <a:endParaRPr b="0" lang="en-US" sz="12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stat on the Sun server showed an unusual number of input and output errors:</a:t>
            </a:r>
            <a:endParaRPr b="0" lang="en-US" sz="20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learly (?), this must be the offending host; its Ethernet interface must be BROKE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E5EB74A-A975-4A25-B0FF-FFF058D26448}" type="slidenum">
              <a:t>14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ddress Lists, cont.</a:t>
            </a:r>
            <a:endParaRPr b="1" lang="en-US" sz="4800" spc="-1" strike="noStrike">
              <a:solidFill>
                <a:srgbClr val="dee3ee"/>
              </a:solidFill>
              <a:latin typeface="Arial Narrow"/>
            </a:endParaRPr>
          </a:p>
        </p:txBody>
      </p:sp>
      <p:sp>
        <p:nvSpPr>
          <p:cNvPr id="13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hen comparing addresses, the first match is us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mplies that if you have nested sets of addresses, the more specific must go first</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f 1.2.3/24; is followed by ! 1.2.3.13; 1.2.3.13 is allowed through</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ust use ! 1.2.3.13; followed by 1.2.3/24 to block host 13 but allow other hosts on the 1.2.3/24 net</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ddress Lists are defined with the acl keyword and used with the topology, allow-query, allow-transfer, and allow-update option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429CC82-F607-447D-9EC7-7CF66C7AA603}" type="slidenum">
              <a:t>1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agnosis (cont.)</a:t>
            </a:r>
            <a:endParaRPr b="1" lang="en-US" sz="4800" spc="-1" strike="noStrike">
              <a:solidFill>
                <a:srgbClr val="dee3ee"/>
              </a:solidFill>
              <a:latin typeface="Arial Narrow"/>
            </a:endParaRPr>
          </a:p>
        </p:txBody>
      </p:sp>
      <p:sp>
        <p:nvSpPr>
          <p:cNvPr id="4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hot stand-by was put in its place.  </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problems continued, no better than befor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inally, someone took a look at the whole picture.</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bling in wall has been certified "OK"</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osts at ends of cables have been certified "OK"</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hat could be in-between?</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ilver-satin.  8 conductor silver-satin cable (flat) was used to connect between the wall jack and the host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ince the Sun had the most simultaneous transmit and receive traffic, it suffered from the largest amount of cross-talk.</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lution:  Use twisted-pair hookup and patch cables in a  twisted-pair network!</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1A30F1E-7A73-4C51-8EC7-0CCDDC43F242}" type="slidenum">
              <a:t>15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2:  Ajax Publishing</a:t>
            </a:r>
            <a:endParaRPr b="1" lang="en-US" sz="4800" spc="-1" strike="noStrike">
              <a:solidFill>
                <a:srgbClr val="dee3ee"/>
              </a:solidFill>
              <a:latin typeface="Arial Narrow"/>
            </a:endParaRPr>
          </a:p>
        </p:txBody>
      </p:sp>
      <p:sp>
        <p:nvSpPr>
          <p:cNvPr id="4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jax Publishing is a publishing house that prints a weekly newsletter about their Coyote Abatement products.  This is their sole livelihood, no newsletter, no food on the table.</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have approximately 100 hosts on their network, which consists of two physical 10base5 cables connected by a handful of redundant gateway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ir network includes everything from the latest-and-greatest from manufacturers like HP and DEC, to some Sun3s, PCs, Macs, and an IBM mainframe.</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have about 80% TCP/IP and about 20% IPX traffic on their network.</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294FF6E-B24D-424D-8A31-C55F5C6E2FBD}" type="slidenum">
              <a:t>15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Problem</a:t>
            </a:r>
            <a:endParaRPr b="1" lang="en-US" sz="4800" spc="-1" strike="noStrike">
              <a:solidFill>
                <a:srgbClr val="dee3ee"/>
              </a:solidFill>
              <a:latin typeface="Arial Narrow"/>
            </a:endParaRPr>
          </a:p>
        </p:txBody>
      </p:sp>
      <p:sp>
        <p:nvSpPr>
          <p:cNvPr id="4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y have a proprietary typesetting system that is used to  typeset the articles in their newsletter.  It too speaks TCP/IP, and is based on PDP 11/34 processors with Excelan Ethernet boards.  They plan on replacing this system "real soon now."  But for  today, this system is mission critical to printing their newsletter.</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crisis is thought to have begun months ago, when users started noticing short "hiccups" on the network when using it for interactive application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ut starting today, the PDP 11/34s refuse to speak to the rest of the network.  HELP!</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two mission-critical hosts that must speak to each other (the PDP and a Sun) are on different networks.  So, at first a routing problem is suspected.</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7635415-22FC-4236-84DF-647BBB41D5B7}" type="slidenum">
              <a:t>15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Problem (cont.)</a:t>
            </a:r>
            <a:endParaRPr b="1" lang="en-US" sz="4800" spc="-1" strike="noStrike">
              <a:solidFill>
                <a:srgbClr val="dee3ee"/>
              </a:solidFill>
              <a:latin typeface="Arial Narrow"/>
            </a:endParaRPr>
          </a:p>
        </p:txBody>
      </p:sp>
      <p:sp>
        <p:nvSpPr>
          <p:cNvPr id="4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site is running "dynamic" routing (RIP) so that if a gateway fails another one will step in.</a:t>
            </a:r>
            <a:endParaRPr b="0" lang="en-US" sz="20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in.routed -t</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253.520:        (sun 2)</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10.520:</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34.520:</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SPONSE from 199.45.198.254.520:        (sparc 10)</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0.0.0.0 metric 1</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st 199.45.197.0 metric 1</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a mess!  A variety of gateways all advertise routes to the same net with the same number of hops.  But, the gateways are not equivalent: 199.45.198.253 is a Sun-2, and 199.45.198.254 is a Sparc-10.  </a:t>
            </a:r>
            <a:endParaRPr b="0" lang="en-US" sz="2000" spc="-1" strike="noStrike">
              <a:solidFill>
                <a:srgbClr val="dee3ee"/>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215E7F1-22D6-41E8-9635-CC99DEE6B306}" type="slidenum">
              <a:t>15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Diagnosis</a:t>
            </a:r>
            <a:endParaRPr b="1" lang="en-US" sz="4800" spc="-1" strike="noStrike">
              <a:solidFill>
                <a:srgbClr val="dee3ee"/>
              </a:solidFill>
              <a:latin typeface="Arial Narrow"/>
            </a:endParaRPr>
          </a:p>
        </p:txBody>
      </p:sp>
      <p:sp>
        <p:nvSpPr>
          <p:cNvPr id="4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se folks need to be running  gated(8) rather than routed(8) on their gateways, and artificially weighting the paths.  This is likely the cause of the "hiccups" users reported earlier.</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 if routing is OK, maybe it's the case that the network is too saturated.  Using a PC running LanWatch (from FTP Software), utilization of the network is analyzed.  It peaked around 30% with an average of about 9%.</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about we test the PDP?</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oving the Sun near the PDP (don't try it the other way around!), we constructed a network of just the Sun and the PDP.  That worked fine.</a:t>
            </a:r>
            <a:r>
              <a:rPr b="0" lang="en-US" sz="2400" spc="-1" strike="noStrike">
                <a:solidFill>
                  <a:srgbClr val="dee3ee"/>
                </a:solidFill>
                <a:latin typeface="Arial"/>
              </a:rPr>
              <a:t>   </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00CEBBB-DDF6-431E-9A01-EB04FBC9EE10}" type="slidenum">
              <a:t>15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agnosis (cont.)</a:t>
            </a:r>
            <a:endParaRPr b="1" lang="en-US" sz="4800" spc="-1" strike="noStrike">
              <a:solidFill>
                <a:srgbClr val="dee3ee"/>
              </a:solidFill>
              <a:latin typeface="Arial Narrow"/>
            </a:endParaRPr>
          </a:p>
        </p:txBody>
      </p:sp>
      <p:sp>
        <p:nvSpPr>
          <p:cNvPr id="469"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 far, we have:</a:t>
            </a:r>
            <a:endParaRPr b="0" lang="en-US" sz="20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erified it's not a routing problem</a:t>
            </a:r>
            <a:endParaRPr b="0" lang="en-US" sz="18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erified the Ethernet is operating at a reasonable utilization level</a:t>
            </a:r>
            <a:endParaRPr b="0" lang="en-US" sz="18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erified that other hosts on the network (except the PDP) are happy</a:t>
            </a:r>
            <a:endParaRPr b="0" lang="en-US" sz="1800" spc="-1" strike="noStrike">
              <a:solidFill>
                <a:srgbClr val="dee3ee"/>
              </a:solidFill>
              <a:latin typeface="Arial"/>
            </a:endParaRPr>
          </a:p>
          <a:p>
            <a:pPr lvl="1" marL="713160" indent="-27432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erified the PDP is operational</a:t>
            </a:r>
            <a:endParaRPr b="0" lang="en-US" sz="18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could it be?</a:t>
            </a:r>
            <a:endParaRPr b="0" lang="en-US" sz="20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rather aged member of the network community scratched his head.  What had changed recently on our network? he asked.</a:t>
            </a:r>
            <a:endParaRPr b="0" lang="en-US" sz="20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young wet-behind-the-ears SA said "well, we've recently upgraded some of the Ethernet cards in the PCs to FASTER ones."</a:t>
            </a:r>
            <a:endParaRPr b="0" lang="en-US" sz="20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d in fact, that led to a hunch later proven by timing measurements: the new high-performance cards "jump" the settling time between packets to gain an edge.  This hopelessly upsets the Excelan cards.</a:t>
            </a:r>
            <a:endParaRPr b="0" lang="en-US" sz="2000" spc="-1" strike="noStrike">
              <a:solidFill>
                <a:srgbClr val="dee3ee"/>
              </a:solidFill>
              <a:latin typeface="Arial"/>
            </a:endParaRPr>
          </a:p>
          <a:p>
            <a:pPr marL="329040" indent="-3290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lution:  Bridge the PDP onto a separate segment until it can be replaced.</a:t>
            </a:r>
            <a:endParaRPr b="0" lang="en-US" sz="2000" spc="-1" strike="noStrike">
              <a:solidFill>
                <a:srgbClr val="dee3ee"/>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4E173A5-5C4B-47DD-8CD7-C7FD9E805FCB}" type="slidenum">
              <a:t>15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3: SynthTree Laboratories</a:t>
            </a:r>
            <a:endParaRPr b="1" lang="en-US" sz="4800" spc="-1" strike="noStrike">
              <a:solidFill>
                <a:srgbClr val="dee3ee"/>
              </a:solidFill>
              <a:latin typeface="Arial Narrow"/>
            </a:endParaRPr>
          </a:p>
        </p:txBody>
      </p:sp>
      <p:sp>
        <p:nvSpPr>
          <p:cNvPr id="4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ynthTree Labs is an International company with extensive LAN and WAN need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ach office has its own SA staff, and there is no central coordination.</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ir traffic mix is about 50% TCP/IP and 50% IPX.  </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ir company wide-network consists of over 600 hosts,  ranging from PCs and X-terminals to mainframe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work segments are connected together using bridges and "Ethernet Switches", because "it's so much easier to administer"</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ost remote sites are connected (bridged) via 56KB dedicated circui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6F989D6-DFC3-4C55-9CA3-83BCFCACC63B}" type="slidenum">
              <a:t>15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Problem</a:t>
            </a:r>
            <a:endParaRPr b="1" lang="en-US" sz="4800" spc="-1" strike="noStrike">
              <a:solidFill>
                <a:srgbClr val="dee3ee"/>
              </a:solidFill>
              <a:latin typeface="Arial Narrow"/>
            </a:endParaRPr>
          </a:p>
        </p:txBody>
      </p:sp>
      <p:sp>
        <p:nvSpPr>
          <p:cNvPr id="4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network is only usable about 50% of the work day.   For about 2 hours in the morning and 2 hours in the afternoon, the network is claimed by users to "stop" Some days, however, are better than othe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l services are inaccessible -- from printing to emai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nagement is furious -- how could this happen?</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91DD86-57E9-4A0B-A632-29400D6D69C5}" type="slidenum">
              <a:t>15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Diagnosis</a:t>
            </a:r>
            <a:endParaRPr b="1" lang="en-US" sz="4800" spc="-1" strike="noStrike">
              <a:solidFill>
                <a:srgbClr val="dee3ee"/>
              </a:solidFill>
              <a:latin typeface="Arial Narrow"/>
            </a:endParaRPr>
          </a:p>
        </p:txBody>
      </p:sp>
      <p:sp>
        <p:nvSpPr>
          <p:cNvPr id="4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netstat -I le0 -i 5</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nput   (le0)     output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packets errs  packets errs  colls</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33     0     59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00     0     33      0     3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59     0     29      0     3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21     0     28      0     4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54     0     61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08     0     43      0     1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88     0     75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31     0     67      0     52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92     0     97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65     0     73      0     1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38     0     99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07     0     61      0     3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22     0     33      0     0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32      0     20      0     17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03     0     30      0     0  </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ice how collisions skyrocket at regular intervals -- approximately every 30 seconds.  This is the first clu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7F4AA41-7615-4C6E-9D4F-83F66D800000}" type="slidenum">
              <a:t>15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agnosis (cont.)</a:t>
            </a:r>
            <a:endParaRPr b="1" lang="en-US" sz="4800" spc="-1" strike="noStrike">
              <a:solidFill>
                <a:srgbClr val="dee3ee"/>
              </a:solidFill>
              <a:latin typeface="Arial Narrow"/>
            </a:endParaRPr>
          </a:p>
        </p:txBody>
      </p:sp>
      <p:sp>
        <p:nvSpPr>
          <p:cNvPr id="4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1.589490 bulldozer.xor.com.525 &gt; 192.108.21.255.525: udp 76</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1.590005 bulldozer.xor.com.525 &gt; 192.108.21.255.525: udp 76</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1.590340 bulldozer.xor.com.525 &gt; 192.108.21.255.525: udp 76</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1.790240 phone.xor.com.525 &gt; 192.108.21.0.527: udp 76</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2.090100 phone.xor.com.525 &gt; 192.108.21.0.527: udp 76</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14:35:02.221030 phone.xor.com.525 &gt; 192.108.21.0.527: udp 76</a:t>
            </a:r>
            <a:endParaRPr b="0" lang="en-US" sz="12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could those bursts of collisions be from?   tcpdump shows us the actual traffic during those period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roadcast traffic with mis-matched broadcast address</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ulldozer thinks 255</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hone thinks 0</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cket's hardware address is broadcast, but IP doesnt recognize the 0 as broadcast and so forwards the packet, on and 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A3A621C-266A-4D8E-938D-4829D0FC2C4E}" type="slidenum">
              <a:t>15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Global Options</a:t>
            </a:r>
            <a:endParaRPr b="1" lang="en-US" sz="4800" spc="-1" strike="noStrike">
              <a:solidFill>
                <a:srgbClr val="dee3ee"/>
              </a:solidFill>
              <a:latin typeface="Arial Narrow"/>
            </a:endParaRPr>
          </a:p>
        </p:txBody>
      </p:sp>
      <p:sp>
        <p:nvSpPr>
          <p:cNvPr id="13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ts of global options, 31 to be exact</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tion of servers working directo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tion of binari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tion of pid fil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ether to be a recursive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ether to answer at all (access list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ist of hosts allowed to query server, defaults to allow all queries from all host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ist of hosts allowed to receive zone transfers, defaults to allow transfers to any host</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413747C-1494-4763-8EF0-29B6E3A3E014}" type="slidenum">
              <a:t>1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iagnosis (cont.)</a:t>
            </a:r>
            <a:endParaRPr b="1" lang="en-US" sz="4800" spc="-1" strike="noStrike">
              <a:solidFill>
                <a:srgbClr val="dee3ee"/>
              </a:solidFill>
              <a:latin typeface="Arial Narrow"/>
            </a:endParaRPr>
          </a:p>
        </p:txBody>
      </p:sp>
      <p:sp>
        <p:nvSpPr>
          <p:cNvPr id="4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roadcast traffic!  Since the bridges provide no firewall against broadcast traffic, broadcast "storms" are taking over the network</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lution #1:  Look around for mis-configured hosts, hosts that do not match the specified broadcast addr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lution #2: Turn off routed, rwhod, and other broadcast generators on everywhere but essential host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6587DD4-4017-437F-82F9-0150F4474976}" type="slidenum">
              <a:t>16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4: Web-footed Nation, Inc.</a:t>
            </a:r>
            <a:endParaRPr b="1" lang="en-US" sz="4800" spc="-1" strike="noStrike">
              <a:solidFill>
                <a:srgbClr val="dee3ee"/>
              </a:solidFill>
              <a:latin typeface="Arial Narrow"/>
            </a:endParaRPr>
          </a:p>
        </p:txBody>
      </p:sp>
      <p:sp>
        <p:nvSpPr>
          <p:cNvPr id="4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eb-footed Nation, Inc. recently moved their web server from an NT box to a UNIX-based box</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ir web traffic has been steadily increasin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have a SPARC running Solaris 2.5 that acts as their web server.  It's a speedy little box, as Solaris go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box is also responsible for services such as email, and anonymous ftp.</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run the Apache web server, so it's gotta be goo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7200C55-A8D9-4E37-93C0-5F59DC9AF03A}" type="slidenum">
              <a:t>16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Symptoms</a:t>
            </a:r>
            <a:endParaRPr b="1" lang="en-US" sz="4800" spc="-1" strike="noStrike">
              <a:solidFill>
                <a:srgbClr val="dee3ee"/>
              </a:solidFill>
              <a:latin typeface="Arial Narrow"/>
            </a:endParaRPr>
          </a:p>
        </p:txBody>
      </p:sp>
      <p:sp>
        <p:nvSpPr>
          <p:cNvPr id="48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n a "good day" (i.e., when IP connectivity to most locations is stable), the web server is happy as a cla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n bad days, users often see "server is down or unreachable" or broken images, even when reachability to their site isn't affect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chine load average is low (less than 0.20)</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uring the "bad" times, "telnet localhost 80" times ou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ameservice is not in use (no reverse lookups for connection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3A0106C-9B45-4055-B5B7-C5E5A1C8208C}" type="slidenum">
              <a:t>16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inding the Cause</a:t>
            </a:r>
            <a:endParaRPr b="1" lang="en-US" sz="4800" spc="-1" strike="noStrike">
              <a:solidFill>
                <a:srgbClr val="dee3ee"/>
              </a:solidFill>
              <a:latin typeface="Arial Narrow"/>
            </a:endParaRPr>
          </a:p>
        </p:txBody>
      </p:sp>
      <p:sp>
        <p:nvSpPr>
          <p:cNvPr id="48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cpdump(1) of traffic inbound to the web server show that  connection requests arrived (SYN) and are acknowledged (SYN-ACK) but open acknowledgement (ACK) isn't received by web server from remote hos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stat -A -n" shows that a number of connections in SYN_RCVD stat.  </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stat -A -n | grep SYN_RCVD | wc -l" always shows 5 connections in this state during the bad times, and a smaller number at other time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nections in this state tie up a slot in the "unaccepted socket queue", often referred to as the listen() queu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size of this queue needs to be adjusted on machines, such as web servers or mail hubs, that have lots of contact with the outside world</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5DD29A6-DB8B-4811-B90E-4B47012BCBBE}" type="slidenum">
              <a:t>16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Fix</a:t>
            </a:r>
            <a:endParaRPr b="1" lang="en-US" sz="4800" spc="-1" strike="noStrike">
              <a:solidFill>
                <a:srgbClr val="dee3ee"/>
              </a:solidFill>
              <a:latin typeface="Arial Narrow"/>
            </a:endParaRPr>
          </a:p>
        </p:txBody>
      </p:sp>
      <p:sp>
        <p:nvSpPr>
          <p:cNvPr id="48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 Solaris, you can adjust the size of this queue with the ndd(1m) command:</a:t>
            </a:r>
            <a:endParaRPr b="0" lang="en-US" sz="20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ndd -set /dev/tcp tcp_conn_req_max 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IRIX, modify the value of </a:t>
            </a:r>
            <a:r>
              <a:rPr b="1" lang="en-US" sz="2000" spc="-1" strike="noStrike">
                <a:solidFill>
                  <a:srgbClr val="dee3ee"/>
                </a:solidFill>
                <a:latin typeface="Courier New"/>
              </a:rPr>
              <a:t>somaxconn</a:t>
            </a:r>
            <a:r>
              <a:rPr b="0" lang="en-US" sz="2000" spc="-1" strike="noStrike">
                <a:solidFill>
                  <a:srgbClr val="dee3ee"/>
                </a:solidFill>
                <a:latin typeface="Arial"/>
              </a:rPr>
              <a:t> in /var/sysgen/master.d/bsd:</a:t>
            </a:r>
            <a:endParaRPr b="0" lang="en-US" sz="20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int somaxconn = 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BSD/OS, you can declare it as an option in your kernel config file:</a:t>
            </a:r>
            <a:endParaRPr b="0" lang="en-US" sz="2000" spc="-1" strike="noStrike">
              <a:solidFill>
                <a:srgbClr val="dee3ee"/>
              </a:solidFill>
              <a:latin typeface="Arial"/>
            </a:endParaRPr>
          </a:p>
          <a:p>
            <a:pPr lvl="4" marL="203652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options "SOMAXCONN=32"</a:t>
            </a:r>
            <a:endParaRPr b="0" lang="en-US" sz="14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der SunOS, you have to replace/edit uipc_socket.o</a:t>
            </a:r>
            <a:endParaRPr b="0" lang="en-US" sz="2000" spc="-1" strike="noStrike">
              <a:solidFill>
                <a:srgbClr val="dee3ee"/>
              </a:solidFill>
              <a:latin typeface="Arial"/>
            </a:endParaRPr>
          </a:p>
          <a:p>
            <a:pPr lvl="3" marL="1584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e3ee"/>
                </a:solidFill>
                <a:latin typeface="Courier New"/>
              </a:rPr>
              <a:t>http://www1.islandnet.com/~mark/somaxconn.html</a:t>
            </a:r>
            <a:endParaRPr b="0" lang="en-US" sz="1400" spc="-1" strike="noStrike">
              <a:solidFill>
                <a:srgbClr val="dee3ee"/>
              </a:solidFill>
              <a:latin typeface="Arial"/>
            </a:endParaRPr>
          </a:p>
          <a:p>
            <a:pPr lvl="1" marL="735480" indent="-28296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or details, see</a:t>
            </a:r>
            <a:endParaRPr b="0" lang="en-US" sz="18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C program to change uipc_socket.o</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yte offsets to use adb or an editor to change</a:t>
            </a:r>
            <a:endParaRPr b="0" lang="en-US" sz="1600" spc="-1" strike="noStrike">
              <a:solidFill>
                <a:srgbClr val="dee3ee"/>
              </a:solidFill>
              <a:latin typeface="Arial"/>
            </a:endParaRPr>
          </a:p>
          <a:p>
            <a:pPr lvl="2" marL="1131480" indent="-226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Differences in the od (octal dump) output before and after the fix</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30E2BF1-FBDD-4E37-A2D4-DC298323728E}" type="slidenum">
              <a:t>16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5: AmeriRodent, Inc.</a:t>
            </a:r>
            <a:endParaRPr b="1" lang="en-US" sz="4800" spc="-1" strike="noStrike">
              <a:solidFill>
                <a:srgbClr val="dee3ee"/>
              </a:solidFill>
              <a:latin typeface="Arial Narrow"/>
            </a:endParaRPr>
          </a:p>
        </p:txBody>
      </p:sp>
      <p:sp>
        <p:nvSpPr>
          <p:cNvPr id="48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meriRodent, Inc. recently moved into a new office building</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rapidly expanding cheese delivery enterprise, they added another  28 desktops to their network following the move</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have primarily Sun servers and NCD xterminal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ustomer service representatives run an X-based GUI to assist customers with complaints about late cheese deliverie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X-based GUI interact with a herd of commercial database servers, also attached to the network</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xpected response time to user queries is less than 5 second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9983BC3-77EA-4C29-AB5D-A0A1C82E9C88}" type="slidenum">
              <a:t>16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Symptoms</a:t>
            </a:r>
            <a:endParaRPr b="1" lang="en-US" sz="4800" spc="-1" strike="noStrike">
              <a:solidFill>
                <a:srgbClr val="dee3ee"/>
              </a:solidFill>
              <a:latin typeface="Arial Narrow"/>
            </a:endParaRPr>
          </a:p>
        </p:txBody>
      </p:sp>
      <p:sp>
        <p:nvSpPr>
          <p:cNvPr id="49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ustomer service agents report response times are much longer then 5 seconds, sometimes closer to 300.  "Worked fine when we were in our old office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me of the X-terminals appear to "freeze" when starting new applications, sometimes for minutes at a time.   "Never did this in the old office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nagement was so unhappy with network performance, they handed pink slips to all the sys admins and hired an "outsourcing" firm to "fix their network"</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utsourcing firm is still "looking into the cause of the problem"</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130448B-492F-48BE-874B-6FDCF0F91344}" type="slidenum">
              <a:t>16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Diagnosis</a:t>
            </a:r>
            <a:endParaRPr b="1" lang="en-US" sz="4800" spc="-1" strike="noStrike">
              <a:solidFill>
                <a:srgbClr val="dee3ee"/>
              </a:solidFill>
              <a:latin typeface="Arial Narrow"/>
            </a:endParaRPr>
          </a:p>
        </p:txBody>
      </p:sp>
      <p:sp>
        <p:nvSpPr>
          <p:cNvPr id="49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gical and physicals maps of network were requested.  None exist, or left the company when the sys admin staff was fired.</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erformed rough mapping by hand.  Network is constructed of a single logical 10baseT Ethernet, with approximately 230 hosts on the segmen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cided to measure network utilization.  Segment is over 80%  sustained utilization</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thernet kne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a:t>
            </a:r>
            <a:r>
              <a:rPr b="1" lang="en-US" sz="1800" spc="-1" strike="noStrike">
                <a:solidFill>
                  <a:srgbClr val="dee3ee"/>
                </a:solidFill>
                <a:latin typeface="Courier New"/>
              </a:rPr>
              <a:t>netstat -ni</a:t>
            </a:r>
            <a:r>
              <a:rPr b="0" lang="en-US" sz="1800" spc="-1" strike="noStrike">
                <a:solidFill>
                  <a:srgbClr val="dee3ee"/>
                </a:solidFill>
                <a:latin typeface="Arial"/>
              </a:rPr>
              <a:t> to see collision rate</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significant percentage of usage is NFS ... from the X-terminals. Rather than tftp fonts, they mount them via NFS.  [explains X-terminal freeze-up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4A7E78D-875B-4368-A9CC-213CA7B06021}" type="slidenum">
              <a:t>16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Fix</a:t>
            </a:r>
            <a:endParaRPr b="1" lang="en-US" sz="4800" spc="-1" strike="noStrike">
              <a:solidFill>
                <a:srgbClr val="dee3ee"/>
              </a:solidFill>
              <a:latin typeface="Arial Narrow"/>
            </a:endParaRPr>
          </a:p>
        </p:txBody>
      </p:sp>
      <p:sp>
        <p:nvSpPr>
          <p:cNvPr id="49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mit workstations on a single segment to 15-20 per segmen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or X-terminal fonts don't use NFS with UDP (no congestion avoidance, so is terrible for a congested network)</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tftp or NFS over TCP</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Or use a font server if a small group of folks are sharing lots of fonts; can become a bottleneck if too heavily used</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work segments together via a router or a switch, with  high bandwidth connections for primary servers (100baseT, etc.).</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void hiring "outsourcing" firms who are not familiar with TCP/IP and Ethernet to do network debugging</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AB18ACC-DA87-4D65-BB76-A39EAE23DD3E}" type="slidenum">
              <a:t>16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se #6: Green Fountain Labs, Inc.</a:t>
            </a:r>
            <a:endParaRPr b="1" lang="en-US" sz="4800" spc="-1" strike="noStrike">
              <a:solidFill>
                <a:srgbClr val="dee3ee"/>
              </a:solidFill>
              <a:latin typeface="Arial Narrow"/>
            </a:endParaRPr>
          </a:p>
        </p:txBody>
      </p:sp>
      <p:sp>
        <p:nvSpPr>
          <p:cNvPr id="49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reen Fountain Labs, Inc. has been on the Internet for over 3 yea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ir Internet connection is an important research tool, and provides information about their Fountain-coloring products to potential custome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have a packet-filtering firewall on their router, together with  a software firewall on their UNIX box  (including COPS and Crack).</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nvinced they've done enough, they weren't too concerned about network security</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90BAA53-3476-4449-A89A-FFBE948FB4E4}" type="slidenum">
              <a:t>16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re Options</a:t>
            </a:r>
            <a:endParaRPr b="1" lang="en-US" sz="4800" spc="-1" strike="noStrike">
              <a:solidFill>
                <a:srgbClr val="dee3ee"/>
              </a:solidFill>
              <a:latin typeface="Arial Narrow"/>
            </a:endParaRPr>
          </a:p>
        </p:txBody>
      </p:sp>
      <p:sp>
        <p:nvSpPr>
          <p:cNvPr id="13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to do if name checking fail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 master zone, defaults to fail: log and reject bad data</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 slave zones, defaults to warn: log but continuing processing</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 responses, defaults to ignore: don't check</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source limiting parameters, memory usage, files, stack siz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ere to listen for queries, IP address and por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o forwarders are, IP addres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opology hints re. closeness of serv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Zone transfer control</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upports new format that puts multiple answers in one packet, faster, V8 only</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limit max time and size for inbound transfer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1115E3C-ECA4-41C5-94AF-EC4DCA542CB3}" type="slidenum">
              <a:t>1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Problem</a:t>
            </a:r>
            <a:endParaRPr b="1" lang="en-US" sz="4800" spc="-1" strike="noStrike">
              <a:solidFill>
                <a:srgbClr val="dee3ee"/>
              </a:solidFill>
              <a:latin typeface="Arial Narrow"/>
            </a:endParaRPr>
          </a:p>
        </p:txBody>
      </p:sp>
      <p:sp>
        <p:nvSpPr>
          <p:cNvPr id="49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e day, a user logs in to discover that her home directory is filled with files she didn't put there -- including password files from other machines, etc.</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he calls the system administrator, who correctly identifies the problem as a potential security breach.  He tells her to change her password right away.</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 the days go by, more and more users find strange things lying around. The system administrator notices unusual log messages like "su root succeeded for jsmith" when jsmith is not a sys admin</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ystem administrator goes on vacation.  Junior system administrator assigned to watch machine in his absence discovers that the machine is a "hacker nest", with 10 or more unauthorized users on at a tim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0366BAC-E394-4159-82D6-E8CA8809A42E}" type="slidenum">
              <a:t>17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Happened?</a:t>
            </a:r>
            <a:endParaRPr b="1" lang="en-US" sz="4800" spc="-1" strike="noStrike">
              <a:solidFill>
                <a:srgbClr val="dee3ee"/>
              </a:solidFill>
              <a:latin typeface="Arial Narrow"/>
            </a:endParaRPr>
          </a:p>
        </p:txBody>
      </p:sp>
      <p:sp>
        <p:nvSpPr>
          <p:cNvPr id="50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egitimate user probably logged in from outside world and password as "sniffed"</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nce passwords on this machine are "reusable", hacker could log in under that accoun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nce shadow passwords were not used on this machine, hacker could try to "Crack" password file to find other accounts. </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ys admin hadn't installed vendor security fixes, so hacker could also get roo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ys admin ignored weekly mail from Crack which indicated problems with some password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3890930-5C1E-41AB-AF96-E45C6473EB84}" type="slidenum">
              <a:t>17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ISP Account Management</a:t>
            </a:r>
            <a:endParaRPr b="1" lang="en-US" sz="6600" spc="-1" strike="noStrike">
              <a:solidFill>
                <a:srgbClr val="dee3ee"/>
              </a:solidFill>
              <a:latin typeface="Arial Narrow"/>
            </a:endParaRPr>
          </a:p>
        </p:txBody>
      </p:sp>
      <p:sp>
        <p:nvSpPr>
          <p:cNvPr id="503"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ccount Management</a:t>
            </a:r>
            <a:endParaRPr b="1" lang="en-US" sz="4800" spc="-1" strike="noStrike">
              <a:solidFill>
                <a:srgbClr val="dee3ee"/>
              </a:solidFill>
              <a:latin typeface="Arial Narrow"/>
            </a:endParaRPr>
          </a:p>
        </p:txBody>
      </p:sp>
      <p:sp>
        <p:nvSpPr>
          <p:cNvPr id="5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Courier New"/>
              </a:rPr>
              <a:t>Adduser</a:t>
            </a:r>
            <a:r>
              <a:rPr b="0" lang="en-US" sz="2400" spc="-1" strike="noStrike">
                <a:solidFill>
                  <a:srgbClr val="dee3ee"/>
                </a:solidFill>
                <a:latin typeface="Arial"/>
              </a:rPr>
              <a:t> Program</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first job of a Sys Admin is often to write an </a:t>
            </a:r>
            <a:r>
              <a:rPr b="0" lang="en-US" sz="2000" spc="-1" strike="noStrike">
                <a:solidFill>
                  <a:srgbClr val="dee3ee"/>
                </a:solidFill>
                <a:latin typeface="Courier New"/>
              </a:rPr>
              <a:t>adduser</a:t>
            </a:r>
            <a:r>
              <a:rPr b="0" lang="en-US" sz="2000" spc="-1" strike="noStrike">
                <a:solidFill>
                  <a:srgbClr val="dee3ee"/>
                </a:solidFill>
                <a:latin typeface="Arial"/>
              </a:rPr>
              <a:t> program to implement user policy:</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ho can have an account</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ow the account is configured</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hat services does the account allow</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ut at an ISP, user accounts need to include information to track and bill their usag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crepancies between what is billed and what is possible in the system configuration means LOST REVENU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n’t think your customers won’t notic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C5B9583-3616-40A1-A194-1714BF676F04}" type="slidenum">
              <a:t>17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illing Integration</a:t>
            </a:r>
            <a:endParaRPr b="1" lang="en-US" sz="4800" spc="-1" strike="noStrike">
              <a:solidFill>
                <a:srgbClr val="dee3ee"/>
              </a:solidFill>
              <a:latin typeface="Arial Narrow"/>
            </a:endParaRPr>
          </a:p>
        </p:txBody>
      </p:sp>
      <p:sp>
        <p:nvSpPr>
          <p:cNvPr id="5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 you thought billing wasn’t your problem</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stomers are charged for their system usag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is require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racking usag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imiting use to only that which is paid fo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getting usage data into the billing system</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ince most Accounts Receivable managers know nothing about computers, guess who’s job it is to make this work.</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ven after it is setup and working, the Sys Admin must consider impact to billing issue for any system chang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401A7C41-7E49-47AB-B4A0-3E0FAF59EFBC}" type="slidenum">
              <a:t>17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illing Example</a:t>
            </a:r>
            <a:endParaRPr b="1" lang="en-US" sz="4800" spc="-1" strike="noStrike">
              <a:solidFill>
                <a:srgbClr val="dee3ee"/>
              </a:solidFill>
              <a:latin typeface="Arial Narrow"/>
            </a:endParaRPr>
          </a:p>
        </p:txBody>
      </p:sp>
      <p:sp>
        <p:nvSpPr>
          <p:cNvPr id="5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You’re an ISP that has a terminal server (Livingston Portmaster let’s say) and sells PPP accounts on the portmaster.</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do you process the portmaster logs to charge customers by the hour for usag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do you disable the features of the portmaster you don’t want your customers accessing, such as the ability to directly telnet from the portmaster command?</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you use dynamic IP addresses, how do you track reported illicit activitie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do you get the usage data from the portmaster into a system to bill it to your clien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do you ensure that sessions aren’t billed twice or not at all?</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654725B-A393-4F35-8B15-17E1D998B90F}" type="slidenum">
              <a:t>17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ccounts Receivable Software</a:t>
            </a:r>
            <a:endParaRPr b="1" lang="en-US" sz="4800" spc="-1" strike="noStrike">
              <a:solidFill>
                <a:srgbClr val="dee3ee"/>
              </a:solidFill>
              <a:latin typeface="Arial Narrow"/>
            </a:endParaRPr>
          </a:p>
        </p:txBody>
      </p:sp>
      <p:sp>
        <p:nvSpPr>
          <p:cNvPr id="5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You need to ask yourself those questions for every service you offer to your customer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re are many things you can do to make this much easier for each syste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You’ll need some database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entral billing account database - one entry per billable custom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r database - one entry per authorized us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ervices database - one entry per type of service available</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not integrated databases, then written or at least well-known processes to keep things in sync.</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You’ll need COMMERCIAL Accounts Receivable softwar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96680F12-F24A-4F37-9CD8-206EE82D7F8F}" type="slidenum">
              <a:t>176</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ccounts Receivable Software</a:t>
            </a:r>
            <a:endParaRPr b="1" lang="en-US" sz="4800" spc="-1" strike="noStrike">
              <a:solidFill>
                <a:srgbClr val="dee3ee"/>
              </a:solidFill>
              <a:latin typeface="Arial Narrow"/>
            </a:endParaRPr>
          </a:p>
        </p:txBody>
      </p:sp>
      <p:sp>
        <p:nvSpPr>
          <p:cNvPr id="5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o not write your own. It’s a bigger job than you think, and it has already been done real accounting professionals. So it’s a waste of your time.</a:t>
            </a:r>
            <a:endParaRPr b="0" lang="en-US" sz="24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ut you may have to in extremely complex custom situations.</a:t>
            </a:r>
            <a:endParaRPr b="0" lang="en-US" sz="24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oose AR software with the following capabilities:</a:t>
            </a:r>
            <a:endParaRPr b="0" lang="en-US" sz="24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stomizable customer records</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mport charges from external data files</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port customer database</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lance tracking</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llections reporting</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E924B992-E969-4E98-91BE-07D0A761F9CB}" type="slidenum">
              <a:t>17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ustomer Database</a:t>
            </a:r>
            <a:endParaRPr b="1" lang="en-US" sz="4800" spc="-1" strike="noStrike">
              <a:solidFill>
                <a:srgbClr val="dee3ee"/>
              </a:solidFill>
              <a:latin typeface="Arial Narrow"/>
            </a:endParaRPr>
          </a:p>
        </p:txBody>
      </p:sp>
      <p:sp>
        <p:nvSpPr>
          <p:cNvPr id="5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Customer database is usually implemented in the AR softwar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t must be linked to the User database - to track which user accounts are billed to which custom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nk is usually by a customer number added to the user databas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59B92CBB-5A99-40FF-8F86-64144F928A8F}" type="slidenum">
              <a:t>17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ustomer Database</a:t>
            </a:r>
            <a:endParaRPr b="1" lang="en-US" sz="4800" spc="-1" strike="noStrike">
              <a:solidFill>
                <a:srgbClr val="dee3ee"/>
              </a:solidFill>
              <a:latin typeface="Arial Narrow"/>
            </a:endParaRPr>
          </a:p>
        </p:txBody>
      </p:sp>
      <p:sp>
        <p:nvSpPr>
          <p:cNvPr id="51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atabase Field Example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stomer Nam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illing Addres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illing Period (monthly, quarterly, annually)</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ecial Billing arrangements (discoun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illing method (paper, email, credit card)</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yment method (check, credit card, electronic draf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count status (active, overdue, suspended, cancelled)</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tivation Dat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piration Date if any</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illing history and/or balanc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yment history</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8D4E0AD9-38EF-4AA8-9A29-9384929C16A3}" type="slidenum">
              <a:t>17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rver Specification</a:t>
            </a:r>
            <a:endParaRPr b="1" lang="en-US" sz="4800" spc="-1" strike="noStrike">
              <a:solidFill>
                <a:srgbClr val="dee3ee"/>
              </a:solidFill>
              <a:latin typeface="Arial Narrow"/>
            </a:endParaRPr>
          </a:p>
        </p:txBody>
      </p:sp>
      <p:sp>
        <p:nvSpPr>
          <p:cNvPr id="13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ust specify server IP addr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n qualify it with several parameter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ogus keyword: marks it as bogus, giving out bad data, prevents further queries to i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ransfer-format keyword: allows you to specify one-answer or many-answer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one-answer is what all BIND 4.x servers use for zone transfer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ny-answers is new BIND 8.x format that is more efficient</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ransfers and keys keywords are for future us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5621BAA-569D-457B-BB4A-379AC99245BE}" type="slidenum">
              <a:t>1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ustomer Database</a:t>
            </a:r>
            <a:endParaRPr b="1" lang="en-US" sz="4800" spc="-1" strike="noStrike">
              <a:solidFill>
                <a:srgbClr val="dee3ee"/>
              </a:solidFill>
              <a:latin typeface="Arial Narrow"/>
            </a:endParaRPr>
          </a:p>
        </p:txBody>
      </p:sp>
      <p:sp>
        <p:nvSpPr>
          <p:cNvPr id="51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atabase Field Examples (continu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illing rate plan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act person for bill payment issue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oice telephone numb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ax numb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mail addres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act person for administrative issues (like security)</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oice telephone numb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ax numb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mail addres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act person for specific technical issues: DNS, News, Postmaster</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5873D447-9AD4-42A2-8611-B34CEF940506}" type="slidenum">
              <a:t>18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2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database will correspond to each separately billable item. For example, a PPP user, a special web page, DNS service, etc.</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User database should be used to directly build the system configuration files such a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passwd</a:t>
            </a:r>
            <a:r>
              <a:rPr b="0" lang="en-US" sz="2000" spc="-1" strike="noStrike">
                <a:solidFill>
                  <a:srgbClr val="dee3ee"/>
                </a:solidFill>
                <a:latin typeface="Arial"/>
              </a:rPr>
              <a:t> file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radiusd</a:t>
            </a:r>
            <a:r>
              <a:rPr b="0" lang="en-US" sz="2000" spc="-1" strike="noStrike">
                <a:solidFill>
                  <a:srgbClr val="dee3ee"/>
                </a:solidFill>
                <a:latin typeface="Arial"/>
              </a:rPr>
              <a:t> password file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NS named.boo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 virtual hos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 aliases file</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will ensure that your configuration files and billing data are kept in sync.</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B6C4033E-EE9B-4D5B-9016-C70E986631C6}" type="slidenum">
              <a:t>18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2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primary key for the User database would be a unique name for each user servic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t should contain any and all definable user-specific service that may ever get bill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record must link to Customer database for billing. This would usually be by including a Customer number in each recor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AA3EDB7C-5DDF-4723-8806-FD805A7D5790}" type="slidenum">
              <a:t>182</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2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database will need to have variable fields depending on the type of “user”. For exampl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POP</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box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sswor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op server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r’s full nam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MAIL ALIA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 alias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 addres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880768AE-7A17-43B9-A7FF-85703774824F}" type="slidenum">
              <a:t>18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UNIX SHELL</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gin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sswor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I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me directo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r’s full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hel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cessible server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7C3E7FEE-2B0B-4568-A59F-AD21F6293C5A}" type="slidenum">
              <a:t>18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PPP</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gin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sswor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uthentication op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PP op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cessible terminal serv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ype = DNS domai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main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rver type (primary or seconda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mary server IP address or file name of zone data</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256D084F-F0BA-4E3D-A187-692B560DDEF3}" type="slidenum">
              <a:t>18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VIRTUAL WEB HOST</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tual web server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rtual server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rtual IP addres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cument roo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dmin email addres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g file location</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IP NETWORK NUMBER</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work numb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tmask</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gateway</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D3F1E3E0-B91B-49D5-AE18-5A1C279E6BF6}" type="slidenum">
              <a:t>186</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 Database</a:t>
            </a:r>
            <a:endParaRPr b="1" lang="en-US" sz="4800" spc="-1" strike="noStrike">
              <a:solidFill>
                <a:srgbClr val="dee3ee"/>
              </a:solidFill>
              <a:latin typeface="Arial Narrow"/>
            </a:endParaRPr>
          </a:p>
        </p:txBody>
      </p:sp>
      <p:sp>
        <p:nvSpPr>
          <p:cNvPr id="5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IP HOST NUMBER (static)</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P addres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st nam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e = MAILING LIST</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ing list 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ing list manag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ublic/privat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oderated &amp; moderato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scription fil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st of recipien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C7F9756-1782-4E66-87F9-D0261CD2C233}" type="slidenum">
              <a:t>18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utting it all together</a:t>
            </a:r>
            <a:endParaRPr b="1" lang="en-US" sz="4800" spc="-1" strike="noStrike">
              <a:solidFill>
                <a:srgbClr val="dee3ee"/>
              </a:solidFill>
              <a:latin typeface="Arial Narrow"/>
            </a:endParaRPr>
          </a:p>
        </p:txBody>
      </p:sp>
      <p:sp>
        <p:nvSpPr>
          <p:cNvPr id="5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ow write </a:t>
            </a:r>
            <a:r>
              <a:rPr b="0" lang="en-US" sz="2400" spc="-1" strike="noStrike">
                <a:solidFill>
                  <a:srgbClr val="dee3ee"/>
                </a:solidFill>
                <a:latin typeface="Courier New"/>
              </a:rPr>
              <a:t>adduser</a:t>
            </a:r>
            <a:r>
              <a:rPr b="0" lang="en-US" sz="2400" spc="-1" strike="noStrike">
                <a:solidFill>
                  <a:srgbClr val="dee3ee"/>
                </a:solidFill>
                <a:latin typeface="Arial"/>
              </a:rPr>
              <a: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mpt for customer name/numb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eck existence and statu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mpt for user nam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erify unique/availabl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mpt for user type and other informatio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erify inpu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rite to User databas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B5789577-3F27-408C-9781-17D3470ED463}" type="slidenum">
              <a:t>18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ystem Configuration Files</a:t>
            </a:r>
            <a:endParaRPr b="1" lang="en-US" sz="4800" spc="-1" strike="noStrike">
              <a:solidFill>
                <a:srgbClr val="dee3ee"/>
              </a:solidFill>
              <a:latin typeface="Arial Narrow"/>
            </a:endParaRPr>
          </a:p>
        </p:txBody>
      </p:sp>
      <p:sp>
        <p:nvSpPr>
          <p:cNvPr id="5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enerate system configuration files from User database and customer database (don’t enable a user for a customer that is suspended or cancelled).</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o this regularly (like every night via </a:t>
            </a:r>
            <a:r>
              <a:rPr b="0" lang="en-US" sz="2400" spc="-1" strike="noStrike">
                <a:solidFill>
                  <a:srgbClr val="dee3ee"/>
                </a:solidFill>
                <a:latin typeface="Courier New"/>
              </a:rPr>
              <a:t>cron</a:t>
            </a:r>
            <a:r>
              <a:rPr b="0" lang="en-US" sz="2400" spc="-1" strike="noStrike">
                <a:solidFill>
                  <a:srgbClr val="dee3ee"/>
                </a:solidFill>
                <a:latin typeface="Arial"/>
              </a:rPr>
              <a: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approach ensures one source of data to avoid synchronization problem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will require custom software. Use PERL.</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rite custom software for user services - like changing password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solves the problem of limiting use to only that which is billed/pai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BCC667B-A1B8-490B-B319-8E3D4FFACBB0}" type="slidenum">
              <a:t>18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Zone Specification</a:t>
            </a:r>
            <a:endParaRPr b="1" lang="en-US" sz="4800" spc="-1" strike="noStrike">
              <a:solidFill>
                <a:srgbClr val="dee3ee"/>
              </a:solidFill>
              <a:latin typeface="Arial Narrow"/>
            </a:endParaRPr>
          </a:p>
        </p:txBody>
      </p:sp>
      <p:sp>
        <p:nvSpPr>
          <p:cNvPr id="13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zone keyword identifies the domain name of the zone and the type of data (IN or HESIO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s to IN if not specifi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quires type of server specification</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ster: formerly primary serv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lave: formerly secondary serv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tub: sort of like a forwarding server, only replicates NS records of maste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int: formerly cache or root hint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ster and hint zones require file specific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lave and stub zones require masters IP address and may include file specificati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2763F0-428A-43A4-8437-7A1B2E5A8F2A}" type="slidenum">
              <a:t>1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rvices Database</a:t>
            </a:r>
            <a:endParaRPr b="1" lang="en-US" sz="4800" spc="-1" strike="noStrike">
              <a:solidFill>
                <a:srgbClr val="dee3ee"/>
              </a:solidFill>
              <a:latin typeface="Arial Narrow"/>
            </a:endParaRPr>
          </a:p>
        </p:txBody>
      </p:sp>
      <p:sp>
        <p:nvSpPr>
          <p:cNvPr id="5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may also be part of the AR software.</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You need one entry for each “type” of user accoun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me types may have multiple service charges, eg.</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rtual web host hi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rtual web host disk space</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or each service you need:</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se rate (minimum charg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ximum charg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it rat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count scal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y special algorithm</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87C86A54-C3FE-4A64-BD1D-2F3E111DEFE6}" type="slidenum">
              <a:t>19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ools</a:t>
            </a:r>
            <a:endParaRPr b="1" lang="en-US" sz="4800" spc="-1" strike="noStrike">
              <a:solidFill>
                <a:srgbClr val="dee3ee"/>
              </a:solidFill>
              <a:latin typeface="Arial Narrow"/>
            </a:endParaRPr>
          </a:p>
        </p:txBody>
      </p:sp>
      <p:sp>
        <p:nvSpPr>
          <p:cNvPr id="5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verything you write should have a web interfac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 good tool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pache + SSLeay + mod_perl + fastcgi</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ysq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ERL</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37151823-DB00-4498-8D4D-D499048C0484}" type="slidenum">
              <a:t>19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age Tracking</a:t>
            </a:r>
            <a:endParaRPr b="1" lang="en-US" sz="4800" spc="-1" strike="noStrike">
              <a:solidFill>
                <a:srgbClr val="dee3ee"/>
              </a:solidFill>
              <a:latin typeface="Arial Narrow"/>
            </a:endParaRPr>
          </a:p>
        </p:txBody>
      </p:sp>
      <p:sp>
        <p:nvSpPr>
          <p:cNvPr id="5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duce or eliminate this issue by billing flat monthly rates not dependent upon usag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me services can’t pay for themselves at what the market will bear in flat rat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age tracking depends on service implementatio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ill require custom software to convert system logs into useful billing entri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ust correlate log entries with User databas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2F10886-3327-4A59-8DFE-C17AECAD68CC}" type="slidenum">
              <a:t>192</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age Tracking</a:t>
            </a:r>
            <a:endParaRPr b="1" lang="en-US" sz="4800" spc="-1" strike="noStrike">
              <a:solidFill>
                <a:srgbClr val="dee3ee"/>
              </a:solidFill>
              <a:latin typeface="Arial Narrow"/>
            </a:endParaRPr>
          </a:p>
        </p:txBody>
      </p:sp>
      <p:sp>
        <p:nvSpPr>
          <p:cNvPr id="5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blem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ime calculations and conversions (time zones, daylight savings time, time representation)</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rrelating start &amp; stop even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rrelating start &amp; stop events over file checkpoin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rrelating special service access points (toll free modems, high speed modem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age data volume and reduction</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age data archival</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n-discrete usage (like disk spac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version to billing system forma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g location distributi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DC4D3207-3E3E-49BE-8D73-75F541CFAB83}" type="slidenum">
              <a:t>19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age Tracking</a:t>
            </a:r>
            <a:endParaRPr b="1" lang="en-US" sz="4800" spc="-1" strike="noStrike">
              <a:solidFill>
                <a:srgbClr val="dee3ee"/>
              </a:solidFill>
              <a:latin typeface="Arial Narrow"/>
            </a:endParaRPr>
          </a:p>
        </p:txBody>
      </p:sp>
      <p:sp>
        <p:nvSpPr>
          <p:cNvPr id="5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llect and reduce your data daily to reduce volum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tore reduced data on a centralized and reliable disk syste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cate together the resources that are charged similarly, e.g. toll free modems all on one terminal serv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un sanity checks on the data, e.g. it is impossible for a connection to last more than 86400 seconds in one da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is data is also important for management to view trends in customer use.</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32017D77-952F-44EA-8C35-11F25F457152}" type="slidenum">
              <a:t>19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ummary</a:t>
            </a:r>
            <a:endParaRPr b="1" lang="en-US" sz="4800" spc="-1" strike="noStrike">
              <a:solidFill>
                <a:srgbClr val="dee3ee"/>
              </a:solidFill>
              <a:latin typeface="Arial Narrow"/>
            </a:endParaRPr>
          </a:p>
        </p:txBody>
      </p:sp>
      <p:sp>
        <p:nvSpPr>
          <p:cNvPr id="54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ry to use a commercial AR packag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 a centralized database of user service setting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 centralized database to build system configur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llect usage data to one location.</a:t>
            </a:r>
            <a:endParaRPr b="0" lang="en-US" sz="2400" spc="-1" strike="noStrike">
              <a:solidFill>
                <a:srgbClr val="dee3e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earn PERL so you can make all this work</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F9F086EC-50E7-40DC-AFD4-C615C66A8F74}" type="slidenum">
              <a:t>19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ISP Security</a:t>
            </a:r>
            <a:endParaRPr b="1" lang="en-US" sz="6600" spc="-1" strike="noStrike">
              <a:solidFill>
                <a:srgbClr val="dee3ee"/>
              </a:solidFill>
              <a:latin typeface="Arial Narrow"/>
            </a:endParaRPr>
          </a:p>
        </p:txBody>
      </p:sp>
      <p:sp>
        <p:nvSpPr>
          <p:cNvPr id="551"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curity</a:t>
            </a:r>
            <a:endParaRPr b="1" lang="en-US" sz="4800" spc="-1" strike="noStrike">
              <a:solidFill>
                <a:srgbClr val="dee3ee"/>
              </a:solidFill>
              <a:latin typeface="Arial Narrow"/>
            </a:endParaRPr>
          </a:p>
        </p:txBody>
      </p:sp>
      <p:sp>
        <p:nvSpPr>
          <p:cNvPr id="5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Internet is not a friendly pla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ique to ISP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r users are your enemy</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r users are your revenue</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You must protect your users’/customers’ data from</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he outside world</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ach other</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You must protect your staff systems &amp; data from</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he outside world</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r users/customer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ach other</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is is a big job</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DC61C366-F442-4F85-B48D-B9C3BC5A9C36}" type="slidenum">
              <a:t>19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venues of Attack</a:t>
            </a:r>
            <a:endParaRPr b="1" lang="en-US" sz="4800" spc="-1" strike="noStrike">
              <a:solidFill>
                <a:srgbClr val="dee3ee"/>
              </a:solidFill>
              <a:latin typeface="Arial Narrow"/>
            </a:endParaRPr>
          </a:p>
        </p:txBody>
      </p:sp>
      <p:sp>
        <p:nvSpPr>
          <p:cNvPr id="55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ree popular avenues of attack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ternal probes and exploitation</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ne by those who don’t have user acces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xploits vulnerabilities in socket services to gain acces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y use information gained from snooping to gain acces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ternal exploitation</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ne by those who have user acces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xploits system configuration or software vulnerabilitie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ssive snooping</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ne by those who have network acces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gathers information for future attack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83065310-578F-470A-B5CD-DA4E6DCF0AD5}" type="slidenum">
              <a:t>19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Limit Customer Access</a:t>
            </a:r>
            <a:endParaRPr b="1" lang="en-US" sz="4800" spc="-1" strike="noStrike">
              <a:solidFill>
                <a:srgbClr val="dee3ee"/>
              </a:solidFill>
              <a:latin typeface="Arial Narrow"/>
            </a:endParaRPr>
          </a:p>
        </p:txBody>
      </p:sp>
      <p:sp>
        <p:nvSpPr>
          <p:cNvPr id="5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o both protect the customers and to protect against them, limit their acc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you provide UNIX shell account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restricted shells (</a:t>
            </a:r>
            <a:r>
              <a:rPr b="0" lang="en-US" sz="2000" spc="-1" strike="noStrike">
                <a:solidFill>
                  <a:srgbClr val="dee3ee"/>
                </a:solidFill>
                <a:latin typeface="Courier New"/>
              </a:rPr>
              <a:t>chroot</a:t>
            </a:r>
            <a:r>
              <a:rPr b="0" lang="en-US" sz="2000" spc="-1" strike="noStrike">
                <a:solidFill>
                  <a:srgbClr val="dee3ee"/>
                </a:solidFill>
                <a:latin typeface="Arial"/>
              </a:rPr>
              <a:t> or menu drive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ke OS filesystems read onl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allow executables and </a:t>
            </a:r>
            <a:r>
              <a:rPr b="0" lang="en-US" sz="2000" spc="-1" strike="noStrike">
                <a:solidFill>
                  <a:srgbClr val="dee3ee"/>
                </a:solidFill>
                <a:latin typeface="Courier New"/>
              </a:rPr>
              <a:t>setuid</a:t>
            </a:r>
            <a:r>
              <a:rPr b="0" lang="en-US" sz="2000" spc="-1" strike="noStrike">
                <a:solidFill>
                  <a:srgbClr val="dee3ee"/>
                </a:solidFill>
                <a:latin typeface="Arial"/>
              </a:rPr>
              <a:t> files (</a:t>
            </a:r>
            <a:r>
              <a:rPr b="0" lang="en-US" sz="2000" spc="-1" strike="noStrike">
                <a:solidFill>
                  <a:srgbClr val="dee3ee"/>
                </a:solidFill>
                <a:latin typeface="Courier New"/>
              </a:rPr>
              <a:t>noexec</a:t>
            </a:r>
            <a:r>
              <a:rPr b="0" lang="en-US" sz="2000" spc="-1" strike="noStrike">
                <a:solidFill>
                  <a:srgbClr val="dee3ee"/>
                </a:solidFill>
                <a:latin typeface="Arial"/>
              </a:rPr>
              <a:t>, </a:t>
            </a:r>
            <a:r>
              <a:rPr b="0" lang="en-US" sz="2000" spc="-1" strike="noStrike">
                <a:solidFill>
                  <a:srgbClr val="dee3ee"/>
                </a:solidFill>
                <a:latin typeface="Courier New"/>
              </a:rPr>
              <a:t>nosuid</a:t>
            </a:r>
            <a:r>
              <a:rPr b="0" lang="en-US" sz="2000" spc="-1" strike="noStrike">
                <a:solidFill>
                  <a:srgbClr val="dee3ee"/>
                </a:solidFill>
                <a:latin typeface="Arial"/>
              </a:rPr>
              <a:t>) on all filesystems except the O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able read access on files that could be used for exploit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shadow password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vide defaults for file permissions, </a:t>
            </a:r>
            <a:r>
              <a:rPr b="0" lang="en-US" sz="2000" spc="-1" strike="noStrike">
                <a:solidFill>
                  <a:srgbClr val="dee3ee"/>
                </a:solidFill>
                <a:latin typeface="Courier New"/>
              </a:rPr>
              <a:t>umask</a:t>
            </a:r>
            <a:r>
              <a:rPr b="0" lang="en-US" sz="2000" spc="-1" strike="noStrike">
                <a:solidFill>
                  <a:srgbClr val="dee3ee"/>
                </a:solidFill>
                <a:latin typeface="Arial"/>
              </a:rPr>
              <a:t>, etc.</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310A3327-CE22-4DCB-BCD9-BD8157B0CB7B}" type="slidenum">
              <a:t>19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New BIND, Version 8.x</a:t>
            </a:r>
            <a:endParaRPr b="1" lang="en-US" sz="4800" spc="-1" strike="noStrike">
              <a:solidFill>
                <a:srgbClr val="dee3ee"/>
              </a:solidFill>
              <a:latin typeface="Arial Narrow"/>
            </a:endParaRPr>
          </a:p>
        </p:txBody>
      </p:sp>
      <p:sp>
        <p:nvSpPr>
          <p:cNvPr id="10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ny new featur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ome new RRs (resource record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tter securit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upported by ISC, the Internet Software Consortium</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e http://www.isc.org</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imary developer/maintainer: Paul Vixie, Vixie Enterpris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FF976DF-96F1-4288-B45F-DCE526666FC0}" type="slidenum">
              <a:t>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ptions for Zones</a:t>
            </a:r>
            <a:endParaRPr b="1" lang="en-US" sz="4800" spc="-1" strike="noStrike">
              <a:solidFill>
                <a:srgbClr val="dee3ee"/>
              </a:solidFill>
              <a:latin typeface="Arial Narrow"/>
            </a:endParaRPr>
          </a:p>
        </p:txBody>
      </p:sp>
      <p:sp>
        <p:nvSpPr>
          <p:cNvPr id="14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l types of zone have lots of options that can be specified on a per zone basi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heck-names option to determine what to do with hostnames that break the rul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ow-updates, allow-query, allow-transfer options to control who can access data from the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ify option to allow the master to drive the updates of the slave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55EA93A-7B84-4867-A505-67DA3C5EEBE9}" type="slidenum">
              <a:t>2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 Key to the City</a:t>
            </a:r>
            <a:endParaRPr b="1" lang="en-US" sz="4800" spc="-1" strike="noStrike">
              <a:solidFill>
                <a:srgbClr val="dee3ee"/>
              </a:solidFill>
              <a:latin typeface="Arial Narrow"/>
            </a:endParaRPr>
          </a:p>
        </p:txBody>
      </p:sp>
      <p:sp>
        <p:nvSpPr>
          <p:cNvPr id="5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mple software programs are available to gain root access from a normal user account - no technical experience requir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iving a normal user account on a UNIX machine to a stranger is practically like giving them the root passwor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o not provide UNIX shell accounts to any one without:</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alidated and authentic identific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cumenting identificatio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alidating contact information (address, phon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ract signatur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39A25D6-D6AA-43AD-BBB1-FB11943358F8}" type="slidenum">
              <a:t>20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eware of Restricted Accounts</a:t>
            </a:r>
            <a:endParaRPr b="1" lang="en-US" sz="4800" spc="-1" strike="noStrike">
              <a:solidFill>
                <a:srgbClr val="dee3ee"/>
              </a:solidFill>
              <a:latin typeface="Arial Narrow"/>
            </a:endParaRPr>
          </a:p>
        </p:txBody>
      </p:sp>
      <p:sp>
        <p:nvSpPr>
          <p:cNvPr id="5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restricted or menu-based access mechanism may not be as foolproof as you might expec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on’t assume it does what it claims to.</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ry to break i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st case scenario:</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mit user access to systems which provide no special privilege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7FBE613-1F3B-496D-996A-D28253CECBA6}" type="slidenum">
              <a:t>20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on’t lose your own visibility</a:t>
            </a:r>
            <a:endParaRPr b="1" lang="en-US" sz="4800" spc="-1" strike="noStrike">
              <a:solidFill>
                <a:srgbClr val="dee3ee"/>
              </a:solidFill>
              <a:latin typeface="Arial Narrow"/>
            </a:endParaRPr>
          </a:p>
        </p:txBody>
      </p:sp>
      <p:sp>
        <p:nvSpPr>
          <p:cNvPr id="5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hacker” will usually first replace these files:</a:t>
            </a:r>
            <a:endParaRPr b="0" lang="en-US" sz="2400" spc="-1" strike="noStrike">
              <a:solidFill>
                <a:srgbClr val="dee3ee"/>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bin/login</a:t>
            </a:r>
            <a:r>
              <a:rPr b="0" lang="en-US" sz="2000" spc="-1" strike="noStrike">
                <a:solidFill>
                  <a:srgbClr val="dee3ee"/>
                </a:solidFill>
                <a:latin typeface="Arial"/>
              </a:rPr>
              <a:t>: to provide a back door or collect passwords</a:t>
            </a:r>
            <a:endParaRPr b="0" lang="en-US" sz="2000" spc="-1" strike="noStrike">
              <a:solidFill>
                <a:srgbClr val="dee3ee"/>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bin/ps</a:t>
            </a:r>
            <a:r>
              <a:rPr b="0" lang="en-US" sz="2000" spc="-1" strike="noStrike">
                <a:solidFill>
                  <a:srgbClr val="dee3ee"/>
                </a:solidFill>
                <a:latin typeface="Arial"/>
              </a:rPr>
              <a:t>: to hide programs being run</a:t>
            </a:r>
            <a:endParaRPr b="0" lang="en-US" sz="2000" spc="-1" strike="noStrike">
              <a:solidFill>
                <a:srgbClr val="dee3ee"/>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bin/ls</a:t>
            </a:r>
            <a:r>
              <a:rPr b="0" lang="en-US" sz="2000" spc="-1" strike="noStrike">
                <a:solidFill>
                  <a:srgbClr val="dee3ee"/>
                </a:solidFill>
                <a:latin typeface="Arial"/>
              </a:rPr>
              <a:t>: to hide file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Keep a valid vendor distribution copy of those programs handy ON A HARDWARE READ ONLY DEVICE (like a floppy) for regular bit-by-bit comparisons and monitoring system activit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Keep other detailed monitoring tools handy, like ‘</a:t>
            </a:r>
            <a:r>
              <a:rPr b="0" lang="en-US" sz="2400" spc="-1" strike="noStrike">
                <a:solidFill>
                  <a:srgbClr val="dee3ee"/>
                </a:solidFill>
                <a:latin typeface="Courier New"/>
              </a:rPr>
              <a:t>lsof</a:t>
            </a:r>
            <a:r>
              <a:rPr b="0" lang="en-US" sz="2400" spc="-1" strike="noStrike">
                <a:solidFill>
                  <a:srgbClr val="dee3ee"/>
                </a:solidFill>
                <a:latin typeface="Arial"/>
              </a:rPr>
              <a:t>’, in a place a hacker may not look. (not under </a:t>
            </a:r>
            <a:r>
              <a:rPr b="0" lang="en-US" sz="2400" spc="-1" strike="noStrike">
                <a:solidFill>
                  <a:srgbClr val="dee3ee"/>
                </a:solidFill>
                <a:latin typeface="Courier New"/>
              </a:rPr>
              <a:t>/usr</a:t>
            </a:r>
            <a:r>
              <a:rPr b="0" lang="en-US" sz="2400" spc="-1" strike="noStrike">
                <a:solidFill>
                  <a:srgbClr val="dee3ee"/>
                </a:solidFill>
                <a:latin typeface="Arial"/>
              </a:rPr>
              <a:t>)</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1651D9DB-41DF-4C8B-9800-2DA1DB63D2FB}" type="slidenum">
              <a:t>202</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irewalls</a:t>
            </a:r>
            <a:endParaRPr b="1" lang="en-US" sz="4800" spc="-1" strike="noStrike">
              <a:solidFill>
                <a:srgbClr val="dee3ee"/>
              </a:solidFill>
              <a:latin typeface="Arial Narrow"/>
            </a:endParaRPr>
          </a:p>
        </p:txBody>
      </p:sp>
      <p:sp>
        <p:nvSpPr>
          <p:cNvPr id="5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r systems need </a:t>
            </a:r>
            <a:r>
              <a:rPr b="0" i="1" lang="en-US" sz="2400" spc="-1" strike="noStrike">
                <a:solidFill>
                  <a:srgbClr val="dee3ee"/>
                </a:solidFill>
                <a:latin typeface="Arial"/>
              </a:rPr>
              <a:t>almost</a:t>
            </a:r>
            <a:r>
              <a:rPr b="0" lang="en-US" sz="2400" spc="-1" strike="noStrike">
                <a:solidFill>
                  <a:srgbClr val="dee3ee"/>
                </a:solidFill>
                <a:latin typeface="Arial"/>
              </a:rPr>
              <a:t> full access to the Internet, but not completely.</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tup a firewall, as you would for a private company, that disallows typical spoofing accesses from outside while allowing your customers full acces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parate your staff systems and data on a completely separate internal LAN.</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ut a BIG and STRONG firewall between your staff systems and your customer system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mit outgoing access to limit liability and acceptable use abus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7266B544-B55D-4B40-8CD7-C0A8BF5A669B}" type="slidenum">
              <a:t>20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irewalls – Suggested Config</a:t>
            </a:r>
            <a:endParaRPr b="1" lang="en-US" sz="4800" spc="-1" strike="noStrike">
              <a:solidFill>
                <a:srgbClr val="dee3ee"/>
              </a:solidFill>
              <a:latin typeface="Arial Narrow"/>
            </a:endParaRPr>
          </a:p>
        </p:txBody>
      </p:sp>
      <p:sp>
        <p:nvSpPr>
          <p:cNvPr id="56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able source routin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able distribution of  packets to broadcast addr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ncoming Filter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ny source addresses inside your network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ny source addresses of </a:t>
            </a:r>
            <a:r>
              <a:rPr b="0" lang="en-US" sz="2000" spc="-1" strike="noStrike">
                <a:solidFill>
                  <a:srgbClr val="dee3ee"/>
                </a:solidFill>
                <a:latin typeface="Courier New"/>
              </a:rPr>
              <a:t>localhost</a:t>
            </a:r>
            <a:r>
              <a:rPr b="0" lang="en-US" sz="2000" spc="-1" strike="noStrike">
                <a:solidFill>
                  <a:srgbClr val="dee3ee"/>
                </a:solidFill>
                <a:latin typeface="Arial"/>
              </a:rPr>
              <a:t> (127)</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ny source addresses of RFC1597</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ow established session packe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ow specific services to specific hosts onl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ybe let ping through</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ny ALL  els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1F90FE8-BD1C-42E3-91B0-1415D6C2CFE0}" type="slidenum">
              <a:t>20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Firewalls (cont.)</a:t>
            </a:r>
            <a:endParaRPr b="1" lang="en-US" sz="4800" spc="-1" strike="noStrike">
              <a:solidFill>
                <a:srgbClr val="dee3ee"/>
              </a:solidFill>
              <a:latin typeface="Arial Narrow"/>
            </a:endParaRPr>
          </a:p>
        </p:txBody>
      </p:sp>
      <p:sp>
        <p:nvSpPr>
          <p:cNvPr id="56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dding outgoing filters in addition to incoming filters on the same interface dramatically reduces performanc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ut outgoing filters on interior ports and incoming filters on exterior port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utgoing Filters</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llow access to specific services such as web, FTP, gopher, DNS</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ny ALL els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otice SMTP is not in the allow list</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you disallow limits what your customers can do and thus prevents participation in certain sorts of security attack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is protects your liability and reduces the likelihood of being involved in complaints or legal acti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86F54163-ED64-480D-AB56-ED7C0B95FF07}" type="slidenum">
              <a:t>20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ustomer vs. Staff Systems</a:t>
            </a:r>
            <a:endParaRPr b="1" lang="en-US" sz="4800" spc="-1" strike="noStrike">
              <a:solidFill>
                <a:srgbClr val="dee3ee"/>
              </a:solidFill>
              <a:latin typeface="Arial Narrow"/>
            </a:endParaRPr>
          </a:p>
        </p:txBody>
      </p:sp>
      <p:sp>
        <p:nvSpPr>
          <p:cNvPr id="57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ustomer may be able to snoop your LAN that hosts customer access services: terminal servers, routers, customer shell systems, web servers, etc.</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ssume they can and do.</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ssume your customers are doing so to access your staff systems - the ones with the account and billing databases, master configuration files, etc.</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ncrypt all data between staff and customer LA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taff should use </a:t>
            </a:r>
            <a:r>
              <a:rPr b="0" lang="en-US" sz="2400" spc="-1" strike="noStrike">
                <a:solidFill>
                  <a:srgbClr val="dee3ee"/>
                </a:solidFill>
                <a:latin typeface="Courier New"/>
              </a:rPr>
              <a:t>ssh</a:t>
            </a:r>
            <a:r>
              <a:rPr b="0" lang="en-US" sz="2400" spc="-1" strike="noStrike">
                <a:solidFill>
                  <a:srgbClr val="dee3ee"/>
                </a:solidFill>
                <a:latin typeface="Arial"/>
              </a:rPr>
              <a:t> or something simila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TECT YOUR ACCOUNT DATABAS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5C088FB8-C58C-4EDF-961C-7F3A7C87E346}" type="slidenum">
              <a:t>206</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on’t forget “insider” attacks</a:t>
            </a:r>
            <a:endParaRPr b="1" lang="en-US" sz="4800" spc="-1" strike="noStrike">
              <a:solidFill>
                <a:srgbClr val="dee3ee"/>
              </a:solidFill>
              <a:latin typeface="Arial Narrow"/>
            </a:endParaRPr>
          </a:p>
        </p:txBody>
      </p:sp>
      <p:sp>
        <p:nvSpPr>
          <p:cNvPr id="57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st security breaches are accomplished from the “insid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at means by your own employe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hat do they have to gain?</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oriety with friends &amp; pe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ee access for friends &amp; relativ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cess to customer data &amp; system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SPs are more vulnerable to this problem than most companies because of the concentration of customer data and fast growing demand for skilled employe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7C51ADA-030C-40EF-9282-2BC187F3BE88}" type="slidenum">
              <a:t>20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event “insider” attacks</a:t>
            </a:r>
            <a:endParaRPr b="1" lang="en-US" sz="4800" spc="-1" strike="noStrike">
              <a:solidFill>
                <a:srgbClr val="dee3ee"/>
              </a:solidFill>
              <a:latin typeface="Arial Narrow"/>
            </a:endParaRPr>
          </a:p>
        </p:txBody>
      </p:sp>
      <p:sp>
        <p:nvSpPr>
          <p:cNvPr id="57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creen prospective employees carefull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ave a strong and enforced policy of no tolerance for overstepping authority and privileg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mplement ways to limit privileged access such as </a:t>
            </a:r>
            <a:r>
              <a:rPr b="0" lang="en-US" sz="2400" spc="-1" strike="noStrike">
                <a:solidFill>
                  <a:srgbClr val="dee3ee"/>
                </a:solidFill>
                <a:latin typeface="Courier New"/>
              </a:rPr>
              <a:t>sudo</a:t>
            </a:r>
            <a:r>
              <a:rPr b="0" lang="en-US" sz="2400" spc="-1" strike="noStrike">
                <a:solidFill>
                  <a:srgbClr val="dee3ee"/>
                </a:solidFill>
                <a:latin typeface="Arial"/>
              </a:rPr>
              <a:t> and customized interfaces to configuration fil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duce incentives by providing free services to immediate family of staff with limit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ducate staff regarding appropriate use of privileged access to customer data.</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 alert to staff needs - don’t foster retribution.</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A154BD2D-93BE-4D9A-ADF8-B67C6FE21C30}" type="slidenum">
              <a:t>20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 firewall isn’t enough</a:t>
            </a:r>
            <a:endParaRPr b="1" lang="en-US" sz="4800" spc="-1" strike="noStrike">
              <a:solidFill>
                <a:srgbClr val="dee3ee"/>
              </a:solidFill>
              <a:latin typeface="Arial Narrow"/>
            </a:endParaRPr>
          </a:p>
        </p:txBody>
      </p:sp>
      <p:sp>
        <p:nvSpPr>
          <p:cNvPr id="57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 firewall doesn’t stop social engineering attack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 vulnerabilities are discovered regularl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system on your networks requires a complete security analysi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urn off all unused service por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nsure all used services are secur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 not use NIS or NF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 smap or something else secure for mai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Keep systems patched for security vulnerabiliti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 NOT USE LINUX or any other free O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DDEC5A6-9089-44DE-A3EE-1DFBB7FC35EE}" type="slidenum">
              <a:t>20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re Flexible Logging</a:t>
            </a:r>
            <a:endParaRPr b="1" lang="en-US" sz="4800" spc="-1" strike="noStrike">
              <a:solidFill>
                <a:srgbClr val="dee3ee"/>
              </a:solidFill>
              <a:latin typeface="Arial Narrow"/>
            </a:endParaRPr>
          </a:p>
        </p:txBody>
      </p:sp>
      <p:sp>
        <p:nvSpPr>
          <p:cNvPr id="14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tandard syslog flexibility includ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acilities to identify program typ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verity levels to say how important messages ar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ctions to say what to do with the message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 logging specification allow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hannels which name combinations of logging actions and severiti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tegories which identify types of messages to be logg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 many category/channel pairs as you like to fine tune logging</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none are defined, sensible defaults are use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09FC05D4-9F08-447C-86E2-46F63B3DAB2C}" type="slidenum">
              <a:t>2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curity Resources</a:t>
            </a:r>
            <a:endParaRPr b="1" lang="en-US" sz="4800" spc="-1" strike="noStrike">
              <a:solidFill>
                <a:srgbClr val="dee3ee"/>
              </a:solidFill>
              <a:latin typeface="Arial Narrow"/>
            </a:endParaRPr>
          </a:p>
        </p:txBody>
      </p:sp>
      <p:sp>
        <p:nvSpPr>
          <p:cNvPr id="57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AST</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http://www.cs.purdue.edu/coast/archiv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ERT</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http://www.cert.or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AMU</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ftp://www.tamu.edu/pub/securit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WTK</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Firewall Toolkit, http://www.tis.com/</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SS</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Internet Security Scann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IGER</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checks host vulnerabilities like COP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ripwire</a:t>
            </a:r>
            <a:r>
              <a:rPr b="0" lang="en-US" sz="2400" spc="-1" strike="noStrike">
                <a:solidFill>
                  <a:srgbClr val="dee3ee"/>
                </a:solidFill>
                <a:latin typeface="Arial"/>
              </a:rPr>
              <a:t>	</a:t>
            </a:r>
            <a:r>
              <a:rPr b="0" lang="en-US" sz="2400" spc="-1" strike="noStrike">
                <a:solidFill>
                  <a:srgbClr val="dee3ee"/>
                </a:solidFill>
                <a:latin typeface="Arial"/>
              </a:rPr>
              <a:t>	</a:t>
            </a:r>
            <a:r>
              <a:rPr b="0" lang="en-US" sz="2400" spc="-1" strike="noStrike">
                <a:solidFill>
                  <a:srgbClr val="dee3ee"/>
                </a:solidFill>
                <a:latin typeface="Arial"/>
              </a:rPr>
              <a:t>Detects file chang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24366466-C490-4549-BD62-AE1F8B6F657E}" type="slidenum">
              <a:t>21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curity Mailing Lists</a:t>
            </a:r>
            <a:endParaRPr b="1" lang="en-US" sz="4800" spc="-1" strike="noStrike">
              <a:solidFill>
                <a:srgbClr val="dee3ee"/>
              </a:solidFill>
              <a:latin typeface="Arial Narrow"/>
            </a:endParaRPr>
          </a:p>
        </p:txBody>
      </p:sp>
      <p:sp>
        <p:nvSpPr>
          <p:cNvPr id="58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ERT</a:t>
            </a:r>
            <a:endParaRPr b="0" lang="en-US" sz="24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mited disclosure</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nouncements only - no discussion</a:t>
            </a:r>
            <a:endParaRPr b="0" lang="en-US" sz="2000" spc="-1" strike="noStrike">
              <a:solidFill>
                <a:srgbClr val="dee3ee"/>
              </a:solidFill>
              <a:latin typeface="Arial"/>
            </a:endParaRPr>
          </a:p>
          <a:p>
            <a:pPr lvl="1" marL="735480" indent="-28296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Courier New"/>
              </a:rPr>
              <a:t>cert-advisory-request@cert.org</a:t>
            </a:r>
            <a:endParaRPr b="0" lang="en-US" sz="20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ugtraq</a:t>
            </a:r>
            <a:endParaRPr b="0" lang="en-US" sz="24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ull disclosure</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cussion and dissection of bugs</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so gets CERT announcements</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nd “</a:t>
            </a:r>
            <a:r>
              <a:rPr b="0" lang="en-US" sz="2000" spc="-1" strike="noStrike">
                <a:solidFill>
                  <a:srgbClr val="dee3ee"/>
                </a:solidFill>
                <a:latin typeface="Courier New"/>
              </a:rPr>
              <a:t>subscribe bugtraq” </a:t>
            </a:r>
            <a:r>
              <a:rPr b="0" lang="en-US" sz="2000" spc="-1" strike="noStrike">
                <a:solidFill>
                  <a:srgbClr val="dee3ee"/>
                </a:solidFill>
                <a:latin typeface="Arial"/>
              </a:rPr>
              <a:t>to</a:t>
            </a:r>
            <a:r>
              <a:rPr b="0" lang="en-US" sz="2000" spc="-1" strike="noStrike">
                <a:solidFill>
                  <a:srgbClr val="dee3ee"/>
                </a:solidFill>
                <a:latin typeface="Courier New"/>
              </a:rPr>
              <a:t> listserv@netspace.org</a:t>
            </a:r>
            <a:endParaRPr b="0" lang="en-US" sz="20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T Security</a:t>
            </a:r>
            <a:endParaRPr b="0" lang="en-US" sz="24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nd "</a:t>
            </a:r>
            <a:r>
              <a:rPr b="0" lang="en-US" sz="2000" spc="-1" strike="noStrike">
                <a:solidFill>
                  <a:srgbClr val="dee3ee"/>
                </a:solidFill>
                <a:latin typeface="Courier New"/>
              </a:rPr>
              <a:t>subscribe ntsecurity</a:t>
            </a:r>
            <a:r>
              <a:rPr b="0" lang="en-US" sz="2000" spc="-1" strike="noStrike">
                <a:solidFill>
                  <a:srgbClr val="dee3ee"/>
                </a:solidFill>
                <a:latin typeface="Arial"/>
              </a:rPr>
              <a:t>" to </a:t>
            </a:r>
            <a:r>
              <a:rPr b="0" lang="en-US" sz="2000" spc="-1" strike="noStrike">
                <a:solidFill>
                  <a:srgbClr val="dee3ee"/>
                </a:solidFill>
                <a:latin typeface="Courier New"/>
              </a:rPr>
              <a:t>majordomo@iss.ne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AA5BCEC4-3324-47E4-A1D7-C13711F26FF9}" type="slidenum">
              <a:t>21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Logging Channels</a:t>
            </a:r>
            <a:endParaRPr b="1" lang="en-US" sz="4800" spc="-1" strike="noStrike">
              <a:solidFill>
                <a:srgbClr val="dee3ee"/>
              </a:solidFill>
              <a:latin typeface="Arial Narrow"/>
            </a:endParaRPr>
          </a:p>
        </p:txBody>
      </p:sp>
      <p:sp>
        <p:nvSpPr>
          <p:cNvPr id="14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channel definition must specify where messages go</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ile keyword</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pecifies path name of fil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limit the size of the fil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specify number of versions (file.1, file.2, file.3, ...)</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yslog keyword: specifies the syslog facility cod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ull keyword: to /dev/null, messages are discarded</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421D62D-91E6-4770-842C-1B0922617B09}" type="slidenum">
              <a:t>2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hannels, cont.</a:t>
            </a:r>
            <a:endParaRPr b="1" lang="en-US" sz="4800" spc="-1" strike="noStrike">
              <a:solidFill>
                <a:srgbClr val="dee3ee"/>
              </a:solidFill>
              <a:latin typeface="Arial Narrow"/>
            </a:endParaRPr>
          </a:p>
        </p:txBody>
      </p:sp>
      <p:sp>
        <p:nvSpPr>
          <p:cNvPr id="14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ach channel can limit the severity of messages it se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level is info, to change use the severity clause</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ike syslogs severity</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apply to files also</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n also influence the format of the messages logged with boolean print modifier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nt-time keyword includes date and time message was logg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nt-category keyword includes the category of the messag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nt-severity keyword includes the serverity cod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2AAD8BFF-9E42-4C09-B847-831F8348E331}" type="slidenum">
              <a:t>2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e-Defined Channels</a:t>
            </a:r>
            <a:endParaRPr b="1" lang="en-US" sz="4800" spc="-1" strike="noStrike">
              <a:solidFill>
                <a:srgbClr val="dee3ee"/>
              </a:solidFill>
              <a:latin typeface="Arial Narrow"/>
            </a:endParaRPr>
          </a:p>
        </p:txBody>
      </p:sp>
      <p:sp>
        <p:nvSpPr>
          <p:cNvPr id="148"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9000"/>
          </a:bodyPr>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hannel default_syslog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yslog daemon;</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everity info;</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using syslog, daemon.info</a:t>
            </a:r>
            <a:endParaRPr b="0" lang="en-US" sz="20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hannel default_debug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file "named.run";</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everity dynamic;</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for debugging, uses SIGUSR1 and SIGUSR2 to adjust debugging level</a:t>
            </a:r>
            <a:endParaRPr b="0" lang="en-US" sz="20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hannel default_stderr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severity info;</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to stderr</a:t>
            </a:r>
            <a:endParaRPr b="0" lang="en-US" sz="20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hannel null {</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null;</a:t>
            </a:r>
            <a:endParaRPr b="0" lang="en-US" sz="1200" spc="-1" strike="noStrike">
              <a:solidFill>
                <a:srgbClr val="dee3ee"/>
              </a:solidFill>
              <a:latin typeface="Arial"/>
            </a:endParaRPr>
          </a:p>
          <a:p>
            <a:pPr lvl="3" marL="1584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39480" indent="-3394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to bit bucke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E4EC179-7996-42A9-9671-86469BD7532A}" type="slidenum">
              <a:t>2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Logging Categories</a:t>
            </a:r>
            <a:endParaRPr b="1" lang="en-US" sz="4800" spc="-1" strike="noStrike">
              <a:solidFill>
                <a:srgbClr val="dee3ee"/>
              </a:solidFill>
              <a:latin typeface="Arial Narrow"/>
            </a:endParaRPr>
          </a:p>
        </p:txBody>
      </p:sp>
      <p:sp>
        <p:nvSpPr>
          <p:cNvPr id="15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essages are divided into types called categori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tegories of messages are associated with any number of channels to accomplish the actual logging</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tegory names must be from this fixed list</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 catch-all for things that aren't classified ye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fig: high level config file process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rser: low level config file process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queries: for every query the server receiv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ame-servers: lame delegation messag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tatistics: for sta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116CF37-6E4C-4DDE-8302-9EA5C973D229}" type="slidenum">
              <a:t>2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tegory Names, cont.</a:t>
            </a:r>
            <a:endParaRPr b="1" lang="en-US" sz="4800" spc="-1" strike="noStrike">
              <a:solidFill>
                <a:srgbClr val="dee3ee"/>
              </a:solidFill>
              <a:latin typeface="Arial Narrow"/>
            </a:endParaRPr>
          </a:p>
        </p:txBody>
      </p:sp>
      <p:sp>
        <p:nvSpPr>
          <p:cNvPr id="15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nic: for internal server erro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pdate: for dynamic updat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cache: negative caching (cache failures so you don't continually retry down machin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xfer-in: zone transfers server is receiv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xfer-out: zone transfers server is send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b: all database opera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ventlib: debugging info from the event syste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cket: dumps packets received and sen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ify: the notify protocol</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38B6154-7D16-47D8-8618-DDF0CF658992}" type="slidenum">
              <a:t>2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tegory Names, cont.</a:t>
            </a:r>
            <a:endParaRPr b="1" lang="en-US" sz="4800" spc="-1" strike="noStrike">
              <a:solidFill>
                <a:srgbClr val="dee3ee"/>
              </a:solidFill>
              <a:latin typeface="Arial Narrow"/>
            </a:endParaRPr>
          </a:p>
        </p:txBody>
      </p:sp>
      <p:sp>
        <p:nvSpPr>
          <p:cNvPr id="15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name: messages about pointing to a C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curity: approved and unapproved requests re. acl lis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s: operating system problem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sist: internal consistency check failur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ntenance: periodic maintenance even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ad: zone loading messag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sponse-checks: messages like malformed response, invalid RR type, etc.</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3E98248-9F87-42E6-9A5C-D65A16A0DF6F}" type="slidenum">
              <a:t>2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e-Defined Category Defaults</a:t>
            </a:r>
            <a:endParaRPr b="1" lang="en-US" sz="4800" spc="-1" strike="noStrike">
              <a:solidFill>
                <a:srgbClr val="dee3ee"/>
              </a:solidFill>
              <a:latin typeface="Arial Narrow"/>
            </a:endParaRPr>
          </a:p>
        </p:txBody>
      </p:sp>
      <p:sp>
        <p:nvSpPr>
          <p:cNvPr id="15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me categories have pre-defined default values</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n be overwritten if you define them</a:t>
            </a:r>
            <a:endParaRPr b="0" lang="en-US" sz="18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ategory panic {</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efault_syslog;</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efault_stderr;</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tegory panic</a:t>
            </a:r>
            <a:endParaRPr b="0" lang="en-US" sz="20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ategory eventlib {</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efault_debug;</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tegory eventlib</a:t>
            </a:r>
            <a:endParaRPr b="0" lang="en-US" sz="20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category packet {</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default_debug;</a:t>
            </a:r>
            <a:endParaRPr b="0" lang="en-US" sz="1200" spc="-1" strike="noStrike">
              <a:solidFill>
                <a:srgbClr val="dee3ee"/>
              </a:solidFill>
              <a:latin typeface="Arial"/>
            </a:endParaRPr>
          </a:p>
          <a:p>
            <a:pPr lvl="3" marL="16002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tegory packe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FF6DC84-4595-4CDB-B5EE-98F62012E9A5}" type="slidenum">
              <a:t>2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he BIND 8.x Distribution</a:t>
            </a:r>
            <a:endParaRPr b="1" lang="en-US" sz="4800" spc="-1" strike="noStrike">
              <a:solidFill>
                <a:srgbClr val="dee3ee"/>
              </a:solidFill>
              <a:latin typeface="Arial Narrow"/>
            </a:endParaRPr>
          </a:p>
        </p:txBody>
      </p:sp>
      <p:sp>
        <p:nvSpPr>
          <p:cNvPr id="15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vailable from the Internet Software Consortium for anonymous ftp</a:t>
            </a:r>
            <a:endParaRPr b="0" lang="en-US" sz="2000" spc="-1" strike="noStrike">
              <a:solidFill>
                <a:srgbClr val="dee3ee"/>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ee"/>
                </a:solidFill>
                <a:latin typeface="Courier New"/>
              </a:rPr>
              <a:t>ftp://ftp.isc.org/isc/bind/cur</a:t>
            </a:r>
            <a:r>
              <a:rPr b="0" lang="en-US" sz="1800" spc="-1" strike="noStrike">
                <a:solidFill>
                  <a:srgbClr val="dee3ee"/>
                </a:solidFill>
                <a:latin typeface="Arial"/>
              </a:rPr>
              <a:t> -  current production version</a:t>
            </a:r>
            <a:endParaRPr b="0" lang="en-US" sz="1800" spc="-1" strike="noStrike">
              <a:solidFill>
                <a:srgbClr val="dee3ee"/>
              </a:solidFill>
              <a:latin typeface="Arial"/>
            </a:endParaRPr>
          </a:p>
          <a:p>
            <a:pPr lvl="1" marL="743040" indent="-285840">
              <a:lnSpc>
                <a:spcPct val="10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ee"/>
                </a:solidFill>
                <a:latin typeface="Courier New"/>
              </a:rPr>
              <a:t>ftp://ftp.isc.org/isc/bind/src/testing</a:t>
            </a:r>
            <a:r>
              <a:rPr b="0" lang="en-US" sz="1800" spc="-1" strike="noStrike">
                <a:solidFill>
                  <a:srgbClr val="dee3ee"/>
                </a:solidFill>
                <a:latin typeface="Arial"/>
              </a:rPr>
              <a:t> -  latest test release</a:t>
            </a: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ains src, doc, contrib tar.gz files with signatures which unpack into</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rc: source code for named, named-xfer, resolver libraries and a few stand alone tools like nslookup and dig</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c: documentation for both BIND 4.x and BIND 8.x</a:t>
            </a:r>
            <a:endParaRPr b="0" lang="en-US" sz="18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Original BOG (Name Server Operation Guide for BIND 4.9)</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HTML descriptions of new stuff</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man pages</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Relevant RFCs</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Porting notes</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FAQ</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B7D1A3F-46B5-4033-8CA5-DB0EE03080B1}" type="slidenum">
              <a:t>2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ew Features</a:t>
            </a:r>
            <a:endParaRPr b="1" lang="en-US" sz="4800" spc="-1" strike="noStrike">
              <a:solidFill>
                <a:srgbClr val="dee3ee"/>
              </a:solidFill>
              <a:latin typeface="Arial Narrow"/>
            </a:endParaRPr>
          </a:p>
        </p:txBody>
      </p:sp>
      <p:sp>
        <p:nvSpPr>
          <p:cNvPr id="1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ynamic Update (RFC 2136)</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ange Notification (RFC 1996)</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 Resource Records</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 syntax for configuration files</a:t>
            </a:r>
            <a:endParaRPr b="0" lang="en-US" sz="24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ool to map from old syntax to new one: src/bin/named/named-bootconf.pl</a:t>
            </a:r>
            <a:endParaRPr b="0" lang="en-US" sz="20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nfinitely flexible logging</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ccess lists (per zone) for queries, xfers, updates</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re efficient zone transfers</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mproved performance for servers with lots of zones</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ny bug fix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D0FDA6D-355E-48B1-92C0-9D0E036B6BCD}" type="slidenum">
              <a:t>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IND 8 Distribution, cont.</a:t>
            </a:r>
            <a:endParaRPr b="1" lang="en-US" sz="4800" spc="-1" strike="noStrike">
              <a:solidFill>
                <a:srgbClr val="dee3ee"/>
              </a:solidFill>
              <a:latin typeface="Arial Narrow"/>
            </a:endParaRPr>
          </a:p>
        </p:txBody>
      </p:sp>
      <p:sp>
        <p:nvSpPr>
          <p:cNvPr id="16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rib: contains goodies contributed by other folk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ny focused on Bind 4.9</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ny to ease maintenanc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ny to find configuration error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potty documentation sometime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ome architecture specific (NextStep, OS2)</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ributions welcom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E0AAC411-1746-4148-97A3-08B8965BE48A}" type="slidenum">
              <a:t>3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nstalling BIND 8</a:t>
            </a:r>
            <a:endParaRPr b="1" lang="en-US" sz="4800" spc="-1" strike="noStrike">
              <a:solidFill>
                <a:srgbClr val="dee3ee"/>
              </a:solidFill>
              <a:latin typeface="Arial Narrow"/>
            </a:endParaRPr>
          </a:p>
        </p:txBody>
      </p:sp>
      <p:sp>
        <p:nvSpPr>
          <p:cNvPr id="16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nd about 20mb of disk space, an ANSI C compiler (gcc is fine), and Perl</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et the distribution and unpack it</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e if your architecture is on the supported list (src/INSTALL document)</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so, follow the instructions in INSTALL, basically</a:t>
            </a:r>
            <a:endParaRPr b="0" lang="en-US" sz="20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ke clean</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ke depend</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ke</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nvert your current boot file with named-bootconf.pl; tune it</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ke install</a:t>
            </a:r>
            <a:endParaRPr b="0" lang="en-US" sz="18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not, change to the src/port directory and read 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D3F82CC-52D1-4A4C-B81E-D9643EDB3B18}" type="slidenum">
              <a:t>3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nverting named.boot</a:t>
            </a:r>
            <a:endParaRPr b="1" lang="en-US" sz="4800" spc="-1" strike="noStrike">
              <a:solidFill>
                <a:srgbClr val="dee3ee"/>
              </a:solidFill>
              <a:latin typeface="Arial Narrow"/>
            </a:endParaRPr>
          </a:p>
        </p:txBody>
      </p:sp>
      <p:sp>
        <p:nvSpPr>
          <p:cNvPr id="16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amed-bootconf.pl PERL script to convert named.boot to named.conf</a:t>
            </a:r>
            <a:endParaRPr b="0" lang="en-US" sz="2400" spc="-1" strike="noStrike">
              <a:solidFill>
                <a:srgbClr val="dee3ee"/>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e3ee"/>
                </a:solidFill>
                <a:latin typeface="Courier New"/>
              </a:rPr>
              <a:t>named-bootconf.pl &lt; named.boot &gt; named.conf</a:t>
            </a:r>
            <a:endParaRPr b="0" lang="en-US" sz="16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cts like a filt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ems to do the right thing</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eserves comments, uses C++ styl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esn't use any of the new featur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initely a good star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7962C04-70AB-4081-BD37-EAA55B87FF93}" type="slidenum">
              <a:t>3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IND References</a:t>
            </a:r>
            <a:endParaRPr b="1" lang="en-US" sz="4800" spc="-1" strike="noStrike">
              <a:solidFill>
                <a:srgbClr val="dee3ee"/>
              </a:solidFill>
              <a:latin typeface="Arial Narrow"/>
            </a:endParaRPr>
          </a:p>
        </p:txBody>
      </p:sp>
      <p:sp>
        <p:nvSpPr>
          <p:cNvPr id="16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wsgroups</a:t>
            </a:r>
            <a:endParaRPr b="0" lang="en-US" sz="20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mp.protocols.dns.bind</a:t>
            </a:r>
            <a:endParaRPr b="0" lang="en-US" sz="18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mp.protocols.dns.ops</a:t>
            </a:r>
            <a:endParaRPr b="0" lang="en-US" sz="18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mp.protocols.dns.std</a:t>
            </a:r>
            <a:endParaRPr b="0" lang="en-US" sz="1800" spc="-1" strike="noStrike">
              <a:solidFill>
                <a:srgbClr val="dee3ee"/>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ing lists</a:t>
            </a:r>
            <a:endParaRPr b="0" lang="en-US" sz="20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ind-users</a:t>
            </a:r>
            <a:endParaRPr b="0" lang="en-US" sz="18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ind-users-request@vix.com</a:t>
            </a:r>
            <a:endParaRPr b="0" lang="en-US" sz="16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Gatewayed to dns.bind newsgroup</a:t>
            </a:r>
            <a:endParaRPr b="0" lang="en-US" sz="16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amedroppers</a:t>
            </a:r>
            <a:endParaRPr b="0" lang="en-US" sz="18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namedroppers-request@internic.net</a:t>
            </a:r>
            <a:endParaRPr b="0" lang="en-US" sz="16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Gatewayed to dns.std newsgroup</a:t>
            </a:r>
            <a:endParaRPr b="0" lang="en-US" sz="1600" spc="-1" strike="noStrike">
              <a:solidFill>
                <a:srgbClr val="dee3ee"/>
              </a:solidFill>
              <a:latin typeface="Arial"/>
            </a:endParaRPr>
          </a:p>
          <a:p>
            <a:pPr lvl="1" marL="705600" indent="-2714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ind-workers</a:t>
            </a:r>
            <a:endParaRPr b="0" lang="en-US" sz="18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ind-workers-request@vix.com</a:t>
            </a:r>
            <a:endParaRPr b="0" lang="en-US" sz="1600" spc="-1" strike="noStrike">
              <a:solidFill>
                <a:srgbClr val="dee3ee"/>
              </a:solidFill>
              <a:latin typeface="Arial"/>
            </a:endParaRPr>
          </a:p>
          <a:p>
            <a:pPr lvl="2" marL="1085760" indent="-21708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Vixie requests "code warriors" only</a:t>
            </a:r>
            <a:endParaRPr b="0" lang="en-US" sz="1600" spc="-1" strike="noStrike">
              <a:solidFill>
                <a:srgbClr val="dee3ee"/>
              </a:solidFill>
              <a:latin typeface="Arial"/>
            </a:endParaRPr>
          </a:p>
          <a:p>
            <a:pPr marL="325800" indent="-32580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e also the RFC repositorie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78AA726-29A2-4568-8AD4-88A217BDE640}" type="slidenum">
              <a:t>3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IND 9</a:t>
            </a:r>
            <a:endParaRPr b="1" lang="en-US" sz="4800" spc="-1" strike="noStrike">
              <a:solidFill>
                <a:srgbClr val="dee3ee"/>
              </a:solidFill>
              <a:latin typeface="Arial Narrow"/>
            </a:endParaRPr>
          </a:p>
        </p:txBody>
      </p:sp>
      <p:sp>
        <p:nvSpPr>
          <p:cNvPr id="16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Complete architecture redesign</a:t>
            </a:r>
            <a:endParaRPr b="0" lang="en-US" sz="20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Domain name system growth, particularly in very large zones such as .COM </a:t>
            </a:r>
            <a:endParaRPr b="0" lang="en-US" sz="18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Protocol enhancements necessary to securely query and update zones </a:t>
            </a:r>
            <a:endParaRPr b="0" lang="en-US" sz="18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Protocol enhancements necessary to take advantage of certain architectural features of IP version 6 </a:t>
            </a:r>
            <a:endParaRPr b="0" lang="en-US" sz="1800" spc="-1" strike="noStrike">
              <a:solidFill>
                <a:srgbClr val="dee3ee"/>
              </a:solidFill>
              <a:latin typeface="Arial"/>
            </a:endParaRPr>
          </a:p>
          <a:p>
            <a:pPr marL="332640" indent="-33264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BIND9 Features</a:t>
            </a:r>
            <a:endParaRPr b="0" lang="en-US" sz="20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Scalability </a:t>
            </a:r>
            <a:endParaRPr b="0" lang="en-US" sz="18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Thread safe </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Multi-processor scalability </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Support for very large zones </a:t>
            </a:r>
            <a:endParaRPr b="0" lang="en-US" sz="1600" spc="-1" strike="noStrike">
              <a:solidFill>
                <a:srgbClr val="dee3ee"/>
              </a:solidFill>
              <a:latin typeface="Arial"/>
            </a:endParaRPr>
          </a:p>
          <a:p>
            <a:pPr lvl="1" marL="720720" indent="-27720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Security </a:t>
            </a:r>
            <a:endParaRPr b="0" lang="en-US" sz="18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Support for DNSSEC </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Support for TSIG </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Auditability (code and operation) </a:t>
            </a:r>
            <a:endParaRPr b="0" lang="en-US" sz="1600" spc="-1" strike="noStrike">
              <a:solidFill>
                <a:srgbClr val="dee3ee"/>
              </a:solidFill>
              <a:latin typeface="Arial"/>
            </a:endParaRPr>
          </a:p>
          <a:p>
            <a:pPr lvl="2" marL="1108440" indent="-2214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ea typeface="Arial"/>
              </a:rPr>
              <a:t>Firewall support (split DNS) </a:t>
            </a:r>
            <a:endParaRPr b="0" lang="en-US" sz="1600" spc="-1" strike="noStrike">
              <a:solidFill>
                <a:srgbClr val="dee3ee"/>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ee3ee"/>
              </a:solidFill>
              <a:latin typeface="Arial"/>
            </a:endParaRPr>
          </a:p>
        </p:txBody>
      </p:sp>
      <p:sp>
        <p:nvSpPr>
          <p:cNvPr id="4" name="PlaceHolder 3"/>
          <p:cNvSpPr>
            <a:spLocks noGrp="1"/>
          </p:cNvSpPr>
          <p:nvPr>
            <p:ph type="sldNum" idx="3"/>
          </p:nvPr>
        </p:nvSpPr>
        <p:spPr/>
        <p:txBody>
          <a:bodyPr/>
          <a:p>
            <a:fld id="{15A552FA-DBAC-4802-9871-B1B69B6EFE92}" type="slidenum">
              <a:t>34</a:t>
            </a:fld>
          </a:p>
        </p:txBody>
      </p:sp>
      <p:sp>
        <p:nvSpPr>
          <p:cNvPr id="5" name="PlaceHolder 4"/>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re BIND 9 Features</a:t>
            </a:r>
            <a:endParaRPr b="1" lang="en-US" sz="4800" spc="-1" strike="noStrike">
              <a:solidFill>
                <a:srgbClr val="dee3ee"/>
              </a:solidFill>
              <a:latin typeface="Arial Narrow"/>
            </a:endParaRPr>
          </a:p>
        </p:txBody>
      </p:sp>
      <p:sp>
        <p:nvSpPr>
          <p:cNvPr id="17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Portabilit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Maintainability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Protocol enhancements </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IXFR, DDNS, Notify, EDNS(0,1) </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Improved standards conformance </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Operational enhancements </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High availability and reliability </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Support for alternative back end database </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ea typeface="Arial"/>
              </a:rPr>
              <a:t>IP version 6 support </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IPv6 resource records (A6, DNAME, etc.) </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Bitstring labels </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ea typeface="Arial"/>
              </a:rPr>
              <a:t>APIs </a:t>
            </a:r>
            <a:endParaRPr b="0" lang="en-US" sz="1800" spc="-1" strike="noStrike">
              <a:solidFill>
                <a:srgbClr val="dee3ee"/>
              </a:solidFill>
              <a:latin typeface="Arial"/>
            </a:endParaRPr>
          </a:p>
        </p:txBody>
      </p:sp>
      <p:sp>
        <p:nvSpPr>
          <p:cNvPr id="4" name="PlaceHolder 3"/>
          <p:cNvSpPr>
            <a:spLocks noGrp="1"/>
          </p:cNvSpPr>
          <p:nvPr>
            <p:ph type="sldNum" idx="3"/>
          </p:nvPr>
        </p:nvSpPr>
        <p:spPr/>
        <p:txBody>
          <a:bodyPr/>
          <a:p>
            <a:fld id="{FC265E19-5D0E-4140-8008-31D6D060BFED}" type="slidenum">
              <a:t>35</a:t>
            </a:fld>
          </a:p>
        </p:txBody>
      </p:sp>
      <p:sp>
        <p:nvSpPr>
          <p:cNvPr id="5" name="PlaceHolder 4"/>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Squid Web Cache</a:t>
            </a:r>
            <a:endParaRPr b="1" lang="en-US" sz="6600" spc="-1" strike="noStrike">
              <a:solidFill>
                <a:srgbClr val="dee3ee"/>
              </a:solidFill>
              <a:latin typeface="Arial Narrow"/>
            </a:endParaRPr>
          </a:p>
        </p:txBody>
      </p:sp>
      <p:sp>
        <p:nvSpPr>
          <p:cNvPr id="172"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ching</a:t>
            </a:r>
            <a:endParaRPr b="1" lang="en-US" sz="4800" spc="-1" strike="noStrike">
              <a:solidFill>
                <a:srgbClr val="dee3ee"/>
              </a:solidFill>
              <a:latin typeface="Arial Narrow"/>
            </a:endParaRPr>
          </a:p>
        </p:txBody>
      </p:sp>
      <p:sp>
        <p:nvSpPr>
          <p:cNvPr id="17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ing saves objects (web pages) closer to the next requestor than the original</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sts more disk space and cpu cycles on caching machin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sts less network bandwidth and gives user the page with less delay</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xternal web traffic saved</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30% - 40% at typical site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60% - 70% at very focused sites</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xponential Growth</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Internet and the information on it is growing exponentially</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only way to deal with exponential growth is by replication</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ing is a dynamic form of replicati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B3E4755F-F264-43CF-BADA-89D71C43F01B}" type="slidenum">
              <a:t>3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quid Web Caching Software</a:t>
            </a:r>
            <a:endParaRPr b="1" lang="en-US" sz="4800" spc="-1" strike="noStrike">
              <a:solidFill>
                <a:srgbClr val="dee3ee"/>
              </a:solidFill>
              <a:latin typeface="Arial Narrow"/>
            </a:endParaRPr>
          </a:p>
        </p:txBody>
      </p:sp>
      <p:sp>
        <p:nvSpPr>
          <p:cNvPr id="17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istory</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 is derived from the Harvest project</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RPA funded research project at the University of Colorado</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as led by Prof. Mike Schwartz (now at a startup after a stint at @Home)</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rrently supported by NLANR, the National Laboratory for Applied Network Research</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rimary developer/maintainer: Duane Wessels, NLANR</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ee </a:t>
            </a:r>
            <a:r>
              <a:rPr b="1" lang="en-US" sz="1800" spc="-1" strike="noStrike">
                <a:solidFill>
                  <a:srgbClr val="dee3ee"/>
                </a:solidFill>
                <a:latin typeface="Courier New"/>
              </a:rPr>
              <a:t>http://www.nlanr.net/Squid</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reely available, ftp it from squid.nlanr.net</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AAD0F25-7262-4FAA-9957-912DED6295E8}" type="slidenum">
              <a:t>3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is Squid</a:t>
            </a:r>
            <a:endParaRPr b="1" lang="en-US" sz="4800" spc="-1" strike="noStrike">
              <a:solidFill>
                <a:srgbClr val="dee3ee"/>
              </a:solidFill>
              <a:latin typeface="Arial Narrow"/>
            </a:endParaRPr>
          </a:p>
        </p:txBody>
      </p:sp>
      <p:sp>
        <p:nvSpPr>
          <p:cNvPr id="17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eb client cach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aster than most commercial cache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upports several protocols: HTTP, FTP, Gopher, SS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es cooperate in a hierarch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ikes lots of disk and memory</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eta data about cached objects kept in memo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bjects themselves are saved on disk</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t objects are also cached in memory</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83A8873-5FD4-4B3F-BBA9-662FD1241532}" type="slidenum">
              <a:t>3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Dynamic Updates</a:t>
            </a:r>
            <a:endParaRPr b="1" lang="en-US" sz="4800" spc="-1" strike="noStrike">
              <a:solidFill>
                <a:srgbClr val="dee3ee"/>
              </a:solidFill>
              <a:latin typeface="Arial Narrow"/>
            </a:endParaRPr>
          </a:p>
        </p:txBody>
      </p:sp>
      <p:sp>
        <p:nvSpPr>
          <p:cNvPr id="1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fore, all DNS updates were done to the master files for the zon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ynamic update allows changes to come across the network</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pdates can add or delete a single RR or set of R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pdates can depend on the existence or nonexistence of a particular R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pdates are atomic operation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ts things like the DHCP server paradigm well</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curity tough, held up RFC for age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570219B7-38ED-4ED8-9F89-762E6887A314}" type="slidenum">
              <a:t>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y Cache?</a:t>
            </a:r>
            <a:endParaRPr b="1" lang="en-US" sz="4800" spc="-1" strike="noStrike">
              <a:solidFill>
                <a:srgbClr val="dee3ee"/>
              </a:solidFill>
              <a:latin typeface="Arial Narrow"/>
            </a:endParaRPr>
          </a:p>
        </p:txBody>
      </p:sp>
      <p:sp>
        <p:nvSpPr>
          <p:cNvPr id="18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quid motivated by studies on the NSFNet backbone (1993) showing that, at that time, half the packets were ftp and half of that half were duplicate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ell placed caches would save that bandwidth</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ndwidth hog is now the web</a:t>
            </a:r>
            <a:endParaRPr b="0" lang="en-US" sz="20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65-70% of the packets</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70-75% of the bytes</a:t>
            </a:r>
            <a:endParaRPr b="0" lang="en-US" sz="18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ing assumes that several different people look at the same pag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sumes pages don't change too often</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sumes that people don't care where the pages come from as long as they get the right thing</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D5E6DB6-48EF-449F-BA55-3FBCDB6B8AD2}" type="slidenum">
              <a:t>4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oblems with Caching</a:t>
            </a:r>
            <a:endParaRPr b="1" lang="en-US" sz="4800" spc="-1" strike="noStrike">
              <a:solidFill>
                <a:srgbClr val="dee3ee"/>
              </a:solidFill>
              <a:latin typeface="Arial Narrow"/>
            </a:endParaRPr>
          </a:p>
        </p:txBody>
      </p:sp>
      <p:sp>
        <p:nvSpPr>
          <p:cNvPr id="18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stly political, not technical</a:t>
            </a:r>
            <a:endParaRPr b="0" lang="en-US" sz="24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aws about who is responsible for content are scary</a:t>
            </a:r>
            <a:endParaRPr b="0" lang="en-US" sz="24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 contents are controlled dynamically by what users request</a:t>
            </a:r>
            <a:endParaRPr b="0" lang="en-US" sz="20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nnot hold the ISP who owns the machine and provides caching service responsible</a:t>
            </a:r>
            <a:endParaRPr b="0" lang="en-US" sz="20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ivacy Issues</a:t>
            </a:r>
            <a:endParaRPr b="0" lang="en-US" sz="24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 operators have lots of demographic data</a:t>
            </a:r>
            <a:endParaRPr b="0" lang="en-US" sz="20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rketeers gold mine of data</a:t>
            </a:r>
            <a:endParaRPr b="0" lang="en-US" sz="2000" spc="-1" strike="noStrike">
              <a:solidFill>
                <a:srgbClr val="dee3ee"/>
              </a:solidFill>
              <a:latin typeface="Arial"/>
            </a:endParaRPr>
          </a:p>
          <a:p>
            <a:pPr marL="339480" indent="-3394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es need correct headers</a:t>
            </a:r>
            <a:endParaRPr b="0" lang="en-US" sz="24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 1.0 had 2 or 3 "freshness" headers</a:t>
            </a:r>
            <a:endParaRPr b="0" lang="en-US" sz="20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 1.1 has 10 or more of them</a:t>
            </a:r>
            <a:endParaRPr b="0" lang="en-US" sz="2000" spc="-1" strike="noStrike">
              <a:solidFill>
                <a:srgbClr val="dee3ee"/>
              </a:solidFill>
              <a:latin typeface="Arial"/>
            </a:endParaRPr>
          </a:p>
          <a:p>
            <a:pPr lvl="1" marL="735480" indent="-28296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pensive to maintai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D39455-E996-4A1C-A510-CB46095A5A18}" type="slidenum">
              <a:t>4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oblems, cont.</a:t>
            </a:r>
            <a:endParaRPr b="1" lang="en-US" sz="4800" spc="-1" strike="noStrike">
              <a:solidFill>
                <a:srgbClr val="dee3ee"/>
              </a:solidFill>
              <a:latin typeface="Arial Narrow"/>
            </a:endParaRPr>
          </a:p>
        </p:txBody>
      </p:sp>
      <p:sp>
        <p:nvSpPr>
          <p:cNvPr id="18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an counting, who has the most hit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tes that sell advertising care about hit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s it a hit when a user gets their page from a cach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to do the accounting</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ee RFC 2227 on hit metering</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ynamic content changes with each fetch</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ttle ad blocks that randomly choose an ad for each instanc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ttle counters of number of visits to a pag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mpany called matchlogic.com has solution with Java accounting scrip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67086C0-AC32-4A33-B2B4-CD4CEFFB49A3}" type="slidenum">
              <a:t>4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roblems, cont.</a:t>
            </a:r>
            <a:endParaRPr b="1" lang="en-US" sz="4800" spc="-1" strike="noStrike">
              <a:solidFill>
                <a:srgbClr val="dee3ee"/>
              </a:solidFill>
              <a:latin typeface="Arial Narrow"/>
            </a:endParaRPr>
          </a:p>
        </p:txBody>
      </p:sp>
      <p:sp>
        <p:nvSpPr>
          <p:cNvPr id="18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inding the right TTL value for objects in the cache</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nits are % of last modify tim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termines how long objects stay in the cach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fluenced in one direction by folks to maximize saved bandwidth</a:t>
            </a:r>
            <a:endParaRPr b="0" lang="en-US" sz="18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AOL, for example</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ISPs with pricy bandwidth</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Results in stale data</a:t>
            </a:r>
            <a:endParaRPr b="0" lang="en-US" sz="16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fluenced in other direction by folks who want every access to go direct to their site</a:t>
            </a:r>
            <a:endParaRPr b="0" lang="en-US" sz="18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Microsoft, for example (set to 0)</a:t>
            </a:r>
            <a:endParaRPr b="0" lang="en-US" sz="16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sults in a conflict between cache managers and content providers</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 to communicate and cooperat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 accurate expire time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85BE1C8C-5D2F-42E3-9A57-CA17D336B88F}" type="slidenum">
              <a:t>4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quid Parts</a:t>
            </a:r>
            <a:endParaRPr b="1" lang="en-US" sz="4800" spc="-1" strike="noStrike">
              <a:solidFill>
                <a:srgbClr val="dee3ee"/>
              </a:solidFill>
              <a:latin typeface="Arial Narrow"/>
            </a:endParaRPr>
          </a:p>
        </p:txBody>
      </p:sp>
      <p:sp>
        <p:nvSpPr>
          <p:cNvPr id="18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quid: main server program</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nsserver: domain name system lookup program</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tpget: a program to retrieve FTP data</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lient: a command-line browser to use for testing or managing squid</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CP: Internet cache protocol to talk to other caches (RFCs 2186, 2187)</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ts of feature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upports SSL, the secure socket layer</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as extensive access control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ery configurable logging</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49C58BA-A506-44C6-88D3-66F707D411F2}" type="slidenum">
              <a:t>4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nstalling Squid</a:t>
            </a:r>
            <a:endParaRPr b="1" lang="en-US" sz="4800" spc="-1" strike="noStrike">
              <a:solidFill>
                <a:srgbClr val="dee3ee"/>
              </a:solidFill>
              <a:latin typeface="Arial Narrow"/>
            </a:endParaRPr>
          </a:p>
        </p:txBody>
      </p:sp>
      <p:sp>
        <p:nvSpPr>
          <p:cNvPr id="19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nd about 10mb of disk space and an ANSI C compiler (gcc is fin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Get the distribution and unpack i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e if your architecture is on the supported list (AIX, FreeBSD, HP-UX, IRIX,  Linux, OSF/1, Solaris, SunO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not, try it anyway, send mail to squid</a:t>
            </a:r>
            <a:r>
              <a:rPr b="0" lang="en-US" sz="2400" spc="-1" strike="noStrike">
                <a:solidFill>
                  <a:srgbClr val="dee3ee"/>
                </a:solidFill>
                <a:latin typeface="Arial"/>
                <a:ea typeface="Courier New"/>
              </a:rPr>
              <a:t>-</a:t>
            </a:r>
            <a:r>
              <a:rPr b="0" lang="en-US" sz="2400" spc="-1" strike="noStrike">
                <a:solidFill>
                  <a:srgbClr val="dee3ee"/>
                </a:solidFill>
                <a:latin typeface="Arial"/>
              </a:rPr>
              <a:t>bugs@nlanr.net to report changes if you have problem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EBC6D5-D5AD-4070-9781-76D5C64596ED}" type="slidenum">
              <a:t>4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nstalling Squid, cont</a:t>
            </a:r>
            <a:endParaRPr b="1" lang="en-US" sz="4800" spc="-1" strike="noStrike">
              <a:solidFill>
                <a:srgbClr val="dee3ee"/>
              </a:solidFill>
              <a:latin typeface="Arial Narrow"/>
            </a:endParaRPr>
          </a:p>
        </p:txBody>
      </p:sp>
      <p:sp>
        <p:nvSpPr>
          <p:cNvPr id="19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ollow the instructions in INSTALL, basically</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un ./configure</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ssumes you install it in /usr/local/squid</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a:t>
            </a:r>
            <a:r>
              <a:rPr b="1" lang="en-US" sz="1800" spc="-1" strike="noStrike">
                <a:solidFill>
                  <a:srgbClr val="dee3ee"/>
                </a:solidFill>
                <a:latin typeface="Courier New"/>
              </a:rPr>
              <a:t>--prefix=/other/dir/squid</a:t>
            </a:r>
            <a:r>
              <a:rPr b="0" lang="en-US" sz="1800" spc="-1" strike="noStrike">
                <a:solidFill>
                  <a:srgbClr val="dee3ee"/>
                </a:solidFill>
                <a:latin typeface="Arial"/>
              </a:rPr>
              <a:t> if you put it somewhere else</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ke all</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akes a while (1/2 hour + on a P133 running BSDI)</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ke install</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esn't do anything dangerou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ll installation is beneath /usr/local/squid</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alize the config file /usr/local/squid/etc/squid.conf</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ee the file QUICKSTART in the distribution for the minimal changes you must make to the sample squid.conf file</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6F48BD4-4BE8-4A8E-8C9C-916A64EBDE43}" type="slidenum">
              <a:t>4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nfiguring Squid</a:t>
            </a:r>
            <a:endParaRPr b="1" lang="en-US" sz="4800" spc="-1" strike="noStrike">
              <a:solidFill>
                <a:srgbClr val="dee3ee"/>
              </a:solidFill>
              <a:latin typeface="Arial Narrow"/>
            </a:endParaRPr>
          </a:p>
        </p:txBody>
      </p:sp>
      <p:sp>
        <p:nvSpPr>
          <p:cNvPr id="19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as one configuration file, in the squid/etc directory</a:t>
            </a:r>
            <a:endParaRPr b="0" lang="en-US" sz="20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alled squid.conf Shipped with a squid.conf.default file that is extensively commented</a:t>
            </a:r>
            <a:endParaRPr b="0" lang="en-US" sz="18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cisions to be made in configuration</a:t>
            </a:r>
            <a:endParaRPr b="0" lang="en-US" sz="20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Resource limits</a:t>
            </a:r>
            <a:endParaRPr b="0" lang="en-US" sz="18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How much memory will you let squid take (he takes about 3x what you say :-)</a:t>
            </a:r>
            <a:endParaRPr b="0" lang="en-US" sz="16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How much disk space do you have for storing pages</a:t>
            </a:r>
            <a:endParaRPr b="0" lang="en-US" sz="16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r caching topology</a:t>
            </a:r>
            <a:endParaRPr b="0" lang="en-US" sz="18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Who is your parent, or parents</a:t>
            </a:r>
            <a:endParaRPr b="0" lang="en-US" sz="16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Who are your siblings</a:t>
            </a:r>
            <a:endParaRPr b="0" lang="en-US" sz="16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ccess lists, who can use your cache</a:t>
            </a:r>
            <a:endParaRPr b="0" lang="en-US" sz="18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Anyone (not recommended)</a:t>
            </a:r>
            <a:endParaRPr b="0" lang="en-US" sz="16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Your own site (definitely)</a:t>
            </a:r>
            <a:endParaRPr b="0" lang="en-US" sz="16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Customers if you are an ISP (sure)</a:t>
            </a:r>
            <a:endParaRPr b="0" lang="en-US" sz="1600" spc="-1" strike="noStrike">
              <a:solidFill>
                <a:srgbClr val="dee3ee"/>
              </a:solidFill>
              <a:latin typeface="Arial"/>
            </a:endParaRPr>
          </a:p>
          <a:p>
            <a:pPr lvl="2" marL="1119960" indent="-22392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Peers (maybe)</a:t>
            </a:r>
            <a:endParaRPr b="0" lang="en-US" sz="16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0A3EB03-3575-4DAF-9EE0-8A495925445C}" type="slidenum">
              <a:t>4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quid Configuration, cont.</a:t>
            </a:r>
            <a:endParaRPr b="1" lang="en-US" sz="4800" spc="-1" strike="noStrike">
              <a:solidFill>
                <a:srgbClr val="dee3ee"/>
              </a:solidFill>
              <a:latin typeface="Arial Narrow"/>
            </a:endParaRPr>
          </a:p>
        </p:txBody>
      </p:sp>
      <p:sp>
        <p:nvSpPr>
          <p:cNvPr id="19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ndatory things that must be changed</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_swap: the amount of disk you are willing to donate to the cach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_access: access control lists to monitor use of your cach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cp_access: access control lists to monitor other cache's access to you</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_mgr: email address of the squid-meister</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_effective_user: who the software should run as</a:t>
            </a:r>
            <a:endParaRPr b="0" lang="en-US" sz="20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faults to user nobody, group nogroup</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Make sure these exist</a:t>
            </a:r>
            <a:endParaRPr b="0" lang="en-US" sz="18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sible_hostname: hostname you advertise for the cache</a:t>
            </a:r>
            <a:endParaRPr b="0" lang="en-US" sz="20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a DNS cname record to make this generic</a:t>
            </a:r>
            <a:endParaRPr b="0" lang="en-US" sz="1800" spc="-1" strike="noStrike">
              <a:solidFill>
                <a:srgbClr val="dee3ee"/>
              </a:solidFill>
              <a:latin typeface="Arial"/>
            </a:endParaRPr>
          </a:p>
          <a:p>
            <a:pPr lvl="2" marL="1143000" indent="-228600">
              <a:lnSpc>
                <a:spcPct val="9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asier in case you want to change host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A18F612-7400-4CA0-BDDF-EB464CCD31ED}" type="slidenum">
              <a:t>4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ther Config Parameters</a:t>
            </a:r>
            <a:endParaRPr b="1" lang="en-US" sz="4800" spc="-1" strike="noStrike">
              <a:solidFill>
                <a:srgbClr val="dee3ee"/>
              </a:solidFill>
              <a:latin typeface="Arial Narrow"/>
            </a:endParaRPr>
          </a:p>
        </p:txBody>
      </p:sp>
      <p:sp>
        <p:nvSpPr>
          <p:cNvPr id="1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e_stoplist pattern: doesn't cache URLs that match patter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e_dir: directory where objects will be cach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efaults to /usr/local/squid/cach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sumes each cache_dir is the same size (version 1.1, will be fixed in 1.2)</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e*log: specifies location of various log fil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id_filename: where to store pid of running proces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3FD78873-DDC0-4EBA-8F45-B3ED47F2E527}" type="slidenum">
              <a:t>4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hange Notification</a:t>
            </a:r>
            <a:endParaRPr b="1" lang="en-US" sz="4800" spc="-1" strike="noStrike">
              <a:solidFill>
                <a:srgbClr val="dee3ee"/>
              </a:solidFill>
              <a:latin typeface="Arial Narrow"/>
            </a:endParaRPr>
          </a:p>
        </p:txBody>
      </p:sp>
      <p:sp>
        <p:nvSpPr>
          <p:cNvPr id="1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Before, secondaries probed the primary to see if they needed an update (serial number had chang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fresh times were often long to reduce load on primary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eft zone incoherent for quite a whil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ange notification has the primary notify secondaries when data for the zone has chang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 longer a polling mode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synchronous notification instead (an interrupt)</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kes changes easi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aching old answers still a problem</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A783DA-1BE4-46D1-B00C-C8BDB7020039}" type="slidenum">
              <a:t>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esting and Running Squid</a:t>
            </a:r>
            <a:endParaRPr b="1" lang="en-US" sz="4800" spc="-1" strike="noStrike">
              <a:solidFill>
                <a:srgbClr val="dee3ee"/>
              </a:solidFill>
              <a:latin typeface="Arial Narrow"/>
            </a:endParaRPr>
          </a:p>
        </p:txBody>
      </p:sp>
      <p:sp>
        <p:nvSpPr>
          <p:cNvPr id="20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un it by hand to build and zero out the directory structure where the cached web pages will be stored</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 -z</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uilds 16 directories under your cache root</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uilds 256 directories under each of them</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akes a while</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tart it by hand and test your web performan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 &amp;</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ventually do this at boot-time in the rc script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usr/local/squid/bin/RunCach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ut it in the background</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876B552-0F5B-4F8A-94EF-E6C020DC6C10}" type="slidenum">
              <a:t>50</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Testing cont.</a:t>
            </a:r>
            <a:endParaRPr b="1" lang="en-US" sz="4800" spc="-1" strike="noStrike">
              <a:solidFill>
                <a:srgbClr val="dee3ee"/>
              </a:solidFill>
              <a:latin typeface="Arial Narrow"/>
            </a:endParaRPr>
          </a:p>
        </p:txBody>
      </p:sp>
      <p:sp>
        <p:nvSpPr>
          <p:cNvPr id="20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est with a browser if you can</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lear your local .netscape cache</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nfigure your browser's network preferences (under proxies)</a:t>
            </a:r>
            <a:endParaRPr b="0" lang="en-US" sz="18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By hand in the manual configuration section</a:t>
            </a:r>
            <a:endParaRPr b="0" lang="en-US" sz="1600" spc="-1" strike="noStrike">
              <a:solidFill>
                <a:srgbClr val="dee3ee"/>
              </a:solidFill>
              <a:latin typeface="Arial"/>
            </a:endParaRPr>
          </a:p>
          <a:p>
            <a:pPr lvl="2" marL="1143000" indent="-228600">
              <a:lnSpc>
                <a:spcPct val="90000"/>
              </a:lnSpc>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With a proxy.pac file (java script) such as:</a:t>
            </a:r>
            <a:endParaRPr b="0" lang="en-US" sz="16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function FindProxyForURL(url, hos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f (isPlainHostName(hos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eturn "DIREC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f (!isResolvable(host))</a:t>
            </a:r>
            <a:endParaRPr b="0" lang="en-US" sz="1200" spc="-1" strike="noStrike">
              <a:solidFill>
                <a:srgbClr val="dee3ee"/>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turn "DIREC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f (url.substring(0, 5) == "http:")</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eturn "PROXY 205.180.223.3:3128; DIREC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if (url.substring(0, 4) == "ftp:")</a:t>
            </a:r>
            <a:endParaRPr b="0" lang="en-US" sz="1200" spc="-1" strike="noStrike">
              <a:solidFill>
                <a:srgbClr val="dee3ee"/>
              </a:solidFill>
              <a:latin typeface="Arial"/>
            </a:endParaRPr>
          </a:p>
          <a:p>
            <a:pPr lvl="4" marL="20574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return "PROXY 205.180.223.3:3128; DIREC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eturn "DIRECT";</a:t>
            </a:r>
            <a:endParaRPr b="0" lang="en-US" sz="1200" spc="-1" strike="noStrike">
              <a:solidFill>
                <a:srgbClr val="dee3ee"/>
              </a:solidFill>
              <a:latin typeface="Arial"/>
            </a:endParaRPr>
          </a:p>
          <a:p>
            <a:pPr lvl="3" marL="16002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a:t>
            </a:r>
            <a:endParaRPr b="0" lang="en-US" sz="12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f you don't have a browser, use /usr/local/squid/bin/client </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6E1B0805-61D1-4A43-A422-1DE4C5FB6436}" type="slidenum">
              <a:t>51</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nitoring Squid</a:t>
            </a:r>
            <a:endParaRPr b="1" lang="en-US" sz="4800" spc="-1" strike="noStrike">
              <a:solidFill>
                <a:srgbClr val="dee3ee"/>
              </a:solidFill>
              <a:latin typeface="Arial Narrow"/>
            </a:endParaRPr>
          </a:p>
        </p:txBody>
      </p:sp>
      <p:sp>
        <p:nvSpPr>
          <p:cNvPr id="20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quid -k reconfigure</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ame as sending squid a HUP signal</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eeded if you edit the config file and want squid to re-read it</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quid -k rotate</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ame as sending squid a USR1 signal</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ells squid to rotate the log file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otates them in place, config file parameter tells how many to keep</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client program</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n be used to display statistics on the running squid process and the cach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rameters are URLish with protocol field = cache_objec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mplete list in squid configuration file comment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AD5C098B-1813-4DAF-846A-6F91635A1617}" type="slidenum">
              <a:t>52</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lient Program Examples</a:t>
            </a:r>
            <a:endParaRPr b="1" lang="en-US" sz="4800" spc="-1" strike="noStrike">
              <a:solidFill>
                <a:srgbClr val="dee3ee"/>
              </a:solidFill>
              <a:latin typeface="Arial Narrow"/>
            </a:endParaRPr>
          </a:p>
        </p:txBody>
      </p:sp>
      <p:sp>
        <p:nvSpPr>
          <p:cNvPr id="20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ssumes that the hostname of the machine running squid is "squi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lient cache_object://squid/info</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Gives lots of information about running cache</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atch the ratio of page faults to TCP connnections (should be .2 or so)</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atch LRU Expiration Age, if below 5 days increasing squids disk can help</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lient cache_object://squid/stats/dn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Gives stats on squid dns lookup processes</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atch last dnsserver, if used a lot, configure more servers (dns_children)</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9A29D5C6-0031-4565-AE89-A4CF92546FE8}" type="slidenum">
              <a:t>53</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quid References</a:t>
            </a:r>
            <a:endParaRPr b="1" lang="en-US" sz="4800" spc="-1" strike="noStrike">
              <a:solidFill>
                <a:srgbClr val="dee3ee"/>
              </a:solidFill>
              <a:latin typeface="Arial Narrow"/>
            </a:endParaRPr>
          </a:p>
        </p:txBody>
      </p:sp>
      <p:sp>
        <p:nvSpPr>
          <p:cNvPr id="20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ailing lists, join them by adding -request to the nam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users, general discussions about squid softwar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users-digest@nlanr.net, the users list digested dail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announce@nlanr.net, announcements of new vers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bugs@nlanr.net, an alias for reporting bug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nlanr.net, an alias for sending feedback and idea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quid-faq@nlanr.net, an alias for feedback and additions to the FAQ</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e also the IETF Internet draft repositorie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ts of info beneath the squid web page: </a:t>
            </a:r>
            <a:r>
              <a:rPr b="1" lang="en-US" sz="2400" spc="-1" strike="noStrike">
                <a:solidFill>
                  <a:srgbClr val="dee3ee"/>
                </a:solidFill>
                <a:latin typeface="Courier New"/>
              </a:rPr>
              <a:t>http://www.nlanr.net/Squid</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48B0E54-4E25-42C6-A875-17483271A008}" type="slidenum">
              <a:t>54</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aching References</a:t>
            </a:r>
            <a:endParaRPr b="1" lang="en-US" sz="4800" spc="-1" strike="noStrike">
              <a:solidFill>
                <a:srgbClr val="dee3ee"/>
              </a:solidFill>
              <a:latin typeface="Arial Narrow"/>
            </a:endParaRPr>
          </a:p>
        </p:txBody>
      </p:sp>
      <p:sp>
        <p:nvSpPr>
          <p:cNvPr id="21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ircache.nlanr.net/Cache/reading-list.html</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ircache.nlanr.net/Cache/Learn/</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vancouver-webpages.com/CacheNow</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home.netscape.com/comprod/ \\ announce/dss_prox.html</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www.microsoft.com/proxy/default.asp (down?)</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www.w3.org/Daemon/</a:t>
            </a:r>
            <a:endParaRPr b="0" lang="en-US" sz="2000" spc="-1" strike="noStrike">
              <a:solidFill>
                <a:srgbClr val="dee3ee"/>
              </a:solidFill>
              <a:latin typeface="Arial"/>
            </a:endParaRPr>
          </a:p>
          <a:p>
            <a:pPr marL="343080" indent="-343080">
              <a:lnSpc>
                <a:spcPct val="10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www.netcache.com</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36A9E75-581E-4E87-BCBC-0D5E3D2FAF7C}" type="slidenum">
              <a:t>55</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ther Options</a:t>
            </a:r>
            <a:endParaRPr b="1" lang="en-US" sz="4800" spc="-1" strike="noStrike">
              <a:solidFill>
                <a:srgbClr val="dee3ee"/>
              </a:solidFill>
              <a:latin typeface="Arial Narrow"/>
            </a:endParaRPr>
          </a:p>
        </p:txBody>
      </p:sp>
      <p:sp>
        <p:nvSpPr>
          <p:cNvPr id="2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kamai</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f you are an ISP, they locate an Akamai server at your site. Large web sites like Yahoo pay Akamai money to mirror pages on all the distributed Akamai servers. URL magic causes your users to hit your local Akamai server rather than going all the way to the web hosting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y call it their Accelerated Network Program for ISPs.  There is no cost to the ISP as long as you are big enough to be worth it.</a:t>
            </a:r>
            <a:endParaRPr b="0" lang="en-US" sz="2000" spc="-1" strike="noStrike">
              <a:solidFill>
                <a:srgbClr val="dee3ee"/>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www.akamai.com/</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020123F-0D92-456D-9541-33ADCB09A6AE}" type="slidenum">
              <a:t>5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Managing Acceptable Use</a:t>
            </a:r>
            <a:endParaRPr b="1" lang="en-US" sz="6600" spc="-1" strike="noStrike">
              <a:solidFill>
                <a:srgbClr val="dee3ee"/>
              </a:solidFill>
              <a:latin typeface="Arial Narrow"/>
            </a:endParaRPr>
          </a:p>
        </p:txBody>
      </p:sp>
      <p:sp>
        <p:nvSpPr>
          <p:cNvPr id="214"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cceptable Use</a:t>
            </a:r>
            <a:endParaRPr b="1" lang="en-US" sz="4800" spc="-1" strike="noStrike">
              <a:solidFill>
                <a:srgbClr val="dee3ee"/>
              </a:solidFill>
              <a:latin typeface="Arial Narrow"/>
            </a:endParaRPr>
          </a:p>
        </p:txBody>
      </p:sp>
      <p:sp>
        <p:nvSpPr>
          <p:cNvPr id="21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hat is acceptable us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Your users will try things you never thought of</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mit possible use to the services you want to suppor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plicitly prohibit uses which are</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llegal</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isruptive</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iolation of your upstream contract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resent liability problem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ample</a:t>
            </a:r>
            <a:endParaRPr b="0" lang="en-US" sz="2000" spc="-1" strike="noStrike">
              <a:solidFill>
                <a:srgbClr val="dee3ee"/>
              </a:solidFill>
              <a:latin typeface="Arial"/>
            </a:endParaRPr>
          </a:p>
          <a:p>
            <a:pPr lvl="2" marL="1143000" indent="-228600">
              <a:lnSpc>
                <a:spcPct val="100000"/>
              </a:lnSpc>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Courier New"/>
              </a:rPr>
              <a:t>http://www.coop.net/policy/aup.html</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4A898FD-69BB-48C3-AB6D-9D8F644D2B54}" type="slidenum">
              <a:t>5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ndustry Norms</a:t>
            </a:r>
            <a:endParaRPr b="1" lang="en-US" sz="4800" spc="-1" strike="noStrike">
              <a:solidFill>
                <a:srgbClr val="dee3ee"/>
              </a:solidFill>
              <a:latin typeface="Arial Narrow"/>
            </a:endParaRPr>
          </a:p>
        </p:txBody>
      </p:sp>
      <p:sp>
        <p:nvSpPr>
          <p:cNvPr id="2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ypical Prohibition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curity compromis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curity related activity, i.e. hack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iolating acceptable use of oth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solicited commercial emai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orgery or fraudulent activit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t>
            </a:r>
            <a:r>
              <a:rPr b="0" lang="en-US" sz="2000" spc="-1" strike="noStrike">
                <a:solidFill>
                  <a:srgbClr val="dee3ee"/>
                </a:solidFill>
                <a:latin typeface="Arial"/>
              </a:rPr>
              <a:t>netiquette” viola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enefit of any above activity (mail drop)</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ttp://www.labyrinth.com/localhost/survey.html</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94F8C2E9-0AFE-4D80-A2FA-981F0B155F71}" type="slidenum">
              <a:t>5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ew Resource Records</a:t>
            </a:r>
            <a:endParaRPr b="1" lang="en-US" sz="4800" spc="-1" strike="noStrike">
              <a:solidFill>
                <a:srgbClr val="dee3ee"/>
              </a:solidFill>
              <a:latin typeface="Arial Narrow"/>
            </a:endParaRPr>
          </a:p>
        </p:txBody>
      </p:sp>
      <p:sp>
        <p:nvSpPr>
          <p:cNvPr id="11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OC resource record, for geographic location</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atitude</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ongitude</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Altitude</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ize</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RV resource record, for service location</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ort of WKS and MX</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ot closest server</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NS round robin complicates things</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KEY resource record, for security</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olds public key</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IG resource record, for security</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olds signature of a set of resource record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012DE9A-76AD-4620-8298-A872AF925E90}" type="slidenum">
              <a:t>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is Spam?</a:t>
            </a:r>
            <a:endParaRPr b="1" lang="en-US" sz="4800" spc="-1" strike="noStrike">
              <a:solidFill>
                <a:srgbClr val="dee3ee"/>
              </a:solidFill>
              <a:latin typeface="Arial Narrow"/>
            </a:endParaRPr>
          </a:p>
        </p:txBody>
      </p:sp>
      <p:sp>
        <p:nvSpPr>
          <p:cNvPr id="2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ff-topic</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ore than 10 groups regardless of content or cross-post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 using cross-post</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mail (U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nsolicited (including “subscriptions” if not validat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mmercia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olume is irrelevan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ethod of delivery is irrelevan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14D622E3-A59C-44C6-BC9C-3293C1C9747A}" type="slidenum">
              <a:t>6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pam</a:t>
            </a:r>
            <a:endParaRPr b="1" lang="en-US" sz="4800" spc="-1" strike="noStrike">
              <a:solidFill>
                <a:srgbClr val="dee3ee"/>
              </a:solidFill>
              <a:latin typeface="Arial Narrow"/>
            </a:endParaRPr>
          </a:p>
        </p:txBody>
      </p:sp>
      <p:sp>
        <p:nvSpPr>
          <p:cNvPr id="2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hy Spam?</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10% return!</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3% for paper) so Marketers love it!</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heap! Marketers love i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mmediate! Marketers love it!</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90% wasted bandwidth is unacceptabl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pensive - but not to the market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noying - requires user action</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9D3E9DF0-E070-4F99-AAA8-7D63DEDB320E}" type="slidenum">
              <a:t>6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PAM Profile</a:t>
            </a:r>
            <a:endParaRPr b="1" lang="en-US" sz="4800" spc="-1" strike="noStrike">
              <a:solidFill>
                <a:srgbClr val="dee3ee"/>
              </a:solidFill>
              <a:latin typeface="Arial Narrow"/>
            </a:endParaRPr>
          </a:p>
        </p:txBody>
      </p:sp>
      <p:sp>
        <p:nvSpPr>
          <p:cNvPr id="224" name=""/>
          <p:cNvSpPr/>
          <p:nvPr/>
        </p:nvSpPr>
        <p:spPr>
          <a:xfrm>
            <a:off x="1447920" y="19810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Origin</a:t>
            </a:r>
            <a:endParaRPr b="0" lang="en-US" sz="2800" spc="-1" strike="noStrike">
              <a:solidFill>
                <a:srgbClr val="dee3ee"/>
              </a:solidFill>
              <a:latin typeface="Times New Roman"/>
            </a:endParaRPr>
          </a:p>
        </p:txBody>
      </p:sp>
      <p:sp>
        <p:nvSpPr>
          <p:cNvPr id="225" name=""/>
          <p:cNvSpPr/>
          <p:nvPr/>
        </p:nvSpPr>
        <p:spPr>
          <a:xfrm>
            <a:off x="18288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Patsy</a:t>
            </a:r>
            <a:endParaRPr b="0" lang="en-US" sz="2800" spc="-1" strike="noStrike">
              <a:solidFill>
                <a:srgbClr val="dee3ee"/>
              </a:solidFill>
              <a:latin typeface="Times New Roman"/>
            </a:endParaRPr>
          </a:p>
        </p:txBody>
      </p:sp>
      <p:sp>
        <p:nvSpPr>
          <p:cNvPr id="226" name=""/>
          <p:cNvSpPr/>
          <p:nvPr/>
        </p:nvSpPr>
        <p:spPr>
          <a:xfrm>
            <a:off x="4267080" y="1905120"/>
            <a:ext cx="175284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Beneficiary</a:t>
            </a:r>
            <a:endParaRPr b="0" lang="en-US" sz="2800" spc="-1" strike="noStrike">
              <a:solidFill>
                <a:srgbClr val="dee3ee"/>
              </a:solidFill>
              <a:latin typeface="Times New Roman"/>
            </a:endParaRPr>
          </a:p>
        </p:txBody>
      </p:sp>
      <p:sp>
        <p:nvSpPr>
          <p:cNvPr id="227" name=""/>
          <p:cNvSpPr/>
          <p:nvPr/>
        </p:nvSpPr>
        <p:spPr>
          <a:xfrm>
            <a:off x="4800600" y="4038480"/>
            <a:ext cx="1752480" cy="106704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Recipient</a:t>
            </a:r>
            <a:endParaRPr b="0" lang="en-US" sz="2800" spc="-1" strike="noStrike">
              <a:solidFill>
                <a:srgbClr val="dee3ee"/>
              </a:solidFill>
              <a:latin typeface="Times New Roman"/>
            </a:endParaRPr>
          </a:p>
        </p:txBody>
      </p:sp>
      <p:sp>
        <p:nvSpPr>
          <p:cNvPr id="228" name=""/>
          <p:cNvSpPr/>
          <p:nvPr/>
        </p:nvSpPr>
        <p:spPr>
          <a:xfrm>
            <a:off x="6934320" y="2590920"/>
            <a:ext cx="1752480" cy="10666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e3ee"/>
                </a:solidFill>
                <a:latin typeface="Times New Roman"/>
              </a:rPr>
              <a:t>Scapegoat</a:t>
            </a:r>
            <a:endParaRPr b="0" lang="en-US" sz="2800" spc="-1" strike="noStrike">
              <a:solidFill>
                <a:srgbClr val="dee3ee"/>
              </a:solidFill>
              <a:latin typeface="Times New Roman"/>
            </a:endParaRPr>
          </a:p>
        </p:txBody>
      </p:sp>
      <p:sp>
        <p:nvSpPr>
          <p:cNvPr id="229" name=""/>
          <p:cNvSpPr/>
          <p:nvPr/>
        </p:nvSpPr>
        <p:spPr>
          <a:xfrm>
            <a:off x="2362320" y="3048120"/>
            <a:ext cx="228600" cy="99036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0" name=""/>
          <p:cNvSpPr/>
          <p:nvPr/>
        </p:nvSpPr>
        <p:spPr>
          <a:xfrm>
            <a:off x="3048120" y="2819520"/>
            <a:ext cx="1981080" cy="137160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1" name=""/>
          <p:cNvSpPr/>
          <p:nvPr/>
        </p:nvSpPr>
        <p:spPr>
          <a:xfrm>
            <a:off x="3581280" y="4572000"/>
            <a:ext cx="1219320" cy="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2" name=""/>
          <p:cNvSpPr/>
          <p:nvPr/>
        </p:nvSpPr>
        <p:spPr>
          <a:xfrm flipH="1" flipV="1">
            <a:off x="5257800" y="2971440"/>
            <a:ext cx="380880" cy="106668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3" name=""/>
          <p:cNvSpPr/>
          <p:nvPr/>
        </p:nvSpPr>
        <p:spPr>
          <a:xfrm flipV="1">
            <a:off x="6477120" y="3580920"/>
            <a:ext cx="838080" cy="762120"/>
          </a:xfrm>
          <a:prstGeom prst="line">
            <a:avLst/>
          </a:prstGeom>
          <a:ln w="12600">
            <a:solidFill>
              <a:srgbClr val="dee3e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34" name=""/>
          <p:cNvSpPr/>
          <p:nvPr/>
        </p:nvSpPr>
        <p:spPr>
          <a:xfrm>
            <a:off x="2512800" y="34290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nticement</a:t>
            </a:r>
            <a:endParaRPr b="0" lang="en-US" sz="2400" spc="-1" strike="noStrike">
              <a:solidFill>
                <a:srgbClr val="dee3ee"/>
              </a:solidFill>
              <a:latin typeface="Times New Roman"/>
            </a:endParaRPr>
          </a:p>
        </p:txBody>
      </p:sp>
      <p:sp>
        <p:nvSpPr>
          <p:cNvPr id="235" name=""/>
          <p:cNvSpPr/>
          <p:nvPr/>
        </p:nvSpPr>
        <p:spPr>
          <a:xfrm>
            <a:off x="5563440" y="304812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Desired</a:t>
            </a:r>
            <a:endParaRPr b="0" lang="en-US" sz="2400" spc="-1" strike="noStrike">
              <a:solidFill>
                <a:srgbClr val="dee3ee"/>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sponse</a:t>
            </a:r>
            <a:endParaRPr b="0" lang="en-US" sz="2400" spc="-1" strike="noStrike">
              <a:solidFill>
                <a:srgbClr val="dee3ee"/>
              </a:solidFill>
              <a:latin typeface="Times New Roman"/>
            </a:endParaRPr>
          </a:p>
        </p:txBody>
      </p:sp>
      <p:sp>
        <p:nvSpPr>
          <p:cNvPr id="236" name=""/>
          <p:cNvSpPr/>
          <p:nvPr/>
        </p:nvSpPr>
        <p:spPr>
          <a:xfrm>
            <a:off x="6705720" y="396252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lame</a:t>
            </a:r>
            <a:endParaRPr b="0" lang="en-US" sz="2400" spc="-1" strike="noStrike">
              <a:solidFill>
                <a:srgbClr val="dee3ee"/>
              </a:solidFill>
              <a:latin typeface="Times New Roman"/>
            </a:endParaRPr>
          </a:p>
        </p:txBody>
      </p:sp>
      <p:sp>
        <p:nvSpPr>
          <p:cNvPr id="237" name=""/>
          <p:cNvSpPr/>
          <p:nvPr/>
        </p:nvSpPr>
        <p:spPr>
          <a:xfrm>
            <a:off x="2208960" y="5410080"/>
            <a:ext cx="203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Proactive Zone</a:t>
            </a:r>
            <a:endParaRPr b="0" lang="en-US" sz="2400" spc="-1" strike="noStrike">
              <a:solidFill>
                <a:srgbClr val="dee3ee"/>
              </a:solidFill>
              <a:latin typeface="Times New Roman"/>
            </a:endParaRPr>
          </a:p>
        </p:txBody>
      </p:sp>
      <p:sp>
        <p:nvSpPr>
          <p:cNvPr id="238" name=""/>
          <p:cNvSpPr/>
          <p:nvPr/>
        </p:nvSpPr>
        <p:spPr>
          <a:xfrm>
            <a:off x="914400" y="1828800"/>
            <a:ext cx="3733920" cy="3429000"/>
          </a:xfrm>
          <a:custGeom>
            <a:avLst/>
            <a:gdLst/>
            <a:ahLst/>
            <a:rect l="l" t="t" r="r" b="b"/>
            <a:pathLst>
              <a:path w="2352" h="2160">
                <a:moveTo>
                  <a:pt x="0" y="0"/>
                </a:moveTo>
                <a:lnTo>
                  <a:pt x="528" y="2160"/>
                </a:lnTo>
                <a:lnTo>
                  <a:pt x="2352" y="2160"/>
                </a:lnTo>
                <a:lnTo>
                  <a:pt x="1632" y="0"/>
                </a:lnTo>
                <a:lnTo>
                  <a:pt x="0" y="0"/>
                </a:lnTo>
                <a:close/>
              </a:path>
            </a:pathLst>
          </a:custGeom>
          <a:noFill/>
          <a:ln cap="rnd" w="9360">
            <a:solidFill>
              <a:srgbClr val="dee3ee"/>
            </a:solidFill>
            <a:custDash>
              <a:ds d="100000" sp="1000"/>
            </a:custDash>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39" name=""/>
          <p:cNvSpPr/>
          <p:nvPr/>
        </p:nvSpPr>
        <p:spPr>
          <a:xfrm>
            <a:off x="3581280" y="1752480"/>
            <a:ext cx="5334120" cy="3505320"/>
          </a:xfrm>
          <a:custGeom>
            <a:avLst/>
            <a:gdLst/>
            <a:ahLst/>
            <a:rect l="l" t="t" r="r" b="b"/>
            <a:pathLst>
              <a:path w="3408" h="2208">
                <a:moveTo>
                  <a:pt x="0" y="48"/>
                </a:moveTo>
                <a:lnTo>
                  <a:pt x="720" y="2208"/>
                </a:lnTo>
                <a:lnTo>
                  <a:pt x="3408" y="2208"/>
                </a:lnTo>
                <a:lnTo>
                  <a:pt x="3360" y="0"/>
                </a:lnTo>
                <a:lnTo>
                  <a:pt x="0" y="48"/>
                </a:lnTo>
                <a:close/>
              </a:path>
            </a:pathLst>
          </a:custGeom>
          <a:noFill/>
          <a:ln w="9360">
            <a:solidFill>
              <a:srgbClr val="dee3ee"/>
            </a:solidFill>
            <a:prstDash val="sysDot"/>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40" name=""/>
          <p:cNvSpPr/>
          <p:nvPr/>
        </p:nvSpPr>
        <p:spPr>
          <a:xfrm>
            <a:off x="5756760" y="541008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Reactive Zone</a:t>
            </a:r>
            <a:endParaRPr b="0" lang="en-US" sz="2400" spc="-1" strike="noStrike">
              <a:solidFill>
                <a:srgbClr val="dee3ee"/>
              </a:solidFill>
              <a:latin typeface="Times New Roman"/>
            </a:endParaRPr>
          </a:p>
        </p:txBody>
      </p:sp>
      <p:sp>
        <p:nvSpPr>
          <p:cNvPr id="241" name=""/>
          <p:cNvSpPr/>
          <p:nvPr/>
        </p:nvSpPr>
        <p:spPr>
          <a:xfrm>
            <a:off x="6481440" y="4800600"/>
            <a:ext cx="25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ee"/>
                </a:solidFill>
                <a:latin typeface="Times New Roman"/>
              </a:rPr>
              <a:t>YOU ARE HERE</a:t>
            </a:r>
            <a:endParaRPr b="0" lang="en-US" sz="2400" spc="-1" strike="noStrike">
              <a:solidFill>
                <a:srgbClr val="dee3ee"/>
              </a:solidFill>
              <a:latin typeface="Times New Roman"/>
            </a:endParaRPr>
          </a:p>
        </p:txBody>
      </p:sp>
      <p:sp>
        <p:nvSpPr>
          <p:cNvPr id="242" name=""/>
          <p:cNvSpPr/>
          <p:nvPr/>
        </p:nvSpPr>
        <p:spPr>
          <a:xfrm flipH="1" flipV="1">
            <a:off x="6172200" y="4800240"/>
            <a:ext cx="380880" cy="228600"/>
          </a:xfrm>
          <a:prstGeom prst="line">
            <a:avLst/>
          </a:prstGeom>
          <a:ln w="38160">
            <a:solidFill>
              <a:srgbClr val="dee3ee"/>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Barb Dijker</a:t>
            </a:r>
          </a:p>
        </p:txBody>
      </p:sp>
      <p:sp>
        <p:nvSpPr>
          <p:cNvPr id="4" name="PlaceHolder 3"/>
          <p:cNvSpPr>
            <a:spLocks noGrp="1"/>
          </p:cNvSpPr>
          <p:nvPr>
            <p:ph type="sldNum" idx="3"/>
          </p:nvPr>
        </p:nvSpPr>
        <p:spPr/>
        <p:txBody>
          <a:bodyPr/>
          <a:p>
            <a:fld id="{F8744B7A-1A65-47D0-A13F-E7344607F60C}" type="slidenum">
              <a:t>62</a:t>
            </a:fld>
          </a:p>
        </p:txBody>
      </p:sp>
      <p:sp>
        <p:nvSpPr>
          <p:cNvPr id="5" name="PlaceHolder 4"/>
          <p:cNvSpPr>
            <a:spLocks noGrp="1"/>
          </p:cNvSpPr>
          <p:nvPr>
            <p:ph type="dt" idx="1"/>
          </p:nvPr>
        </p:nvSpPr>
        <p:spPr/>
        <p:txBody>
          <a:bodyPr/>
          <a:p>
            <a:r>
              <a:rPr lang="en-US"/>
              <a:t>29 Feb 2000</a:t>
            </a: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43" name=""/>
          <p:cNvSpPr/>
          <p:nvPr/>
        </p:nvSpPr>
        <p:spPr>
          <a:xfrm>
            <a:off x="633240" y="1828800"/>
            <a:ext cx="81536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daemon@localhost) by labyrinth.com (NO SOLICITING) id PAA02925 for &lt;barb.dyker@labyrinth.com&gt;; Thu, 15 May 1997 15:52:13 -0600 (M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From: adsnet@earthlink.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gw2.pacbell.net(206.13.28.53) by morass.labyrinth.com via smap (V1.3) id sma002911; Thu May 15 15:51:55 1997</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pacbell.net (hd31-076.hil.compuserve.com [206.175.222.76]) by mail-gw2.pacbell.net (8.8.5/8.7.1) with SMTP id OAA01857; Thu, 15 May 1997 14:49:58 -0700 (PD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ceived: from mailhostcapelas.net(alt1.capelas.com(208.9.77.65)) by 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 </a:t>
            </a:r>
            <a:r>
              <a:rPr b="0" lang="en-US" sz="1600" spc="-1" strike="noStrike">
                <a:solidFill>
                  <a:srgbClr val="dee3ee"/>
                </a:solidFill>
                <a:latin typeface="Times New Roman"/>
              </a:rPr>
              <a:t>(8.8.5/8.6.5) with SMTP id GAA00254 for &lt;a7@capelas.net&gt;; Tue, 15 Apr 1997 14:00:24 -0600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Message-ID: &lt;199702170025.GAA08056@capelas.net&g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Date: Tue, 15 Apr 97 14:00:24 ES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Subject: Free Subscription</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Reply-To: a7@capelas.net</a:t>
            </a:r>
            <a:endParaRPr b="0" lang="en-US" sz="16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Times New Roman"/>
              </a:rPr>
              <a:t>Comments: Authenticated sender is &lt;a7@capelas.net&gt;</a:t>
            </a:r>
            <a:endParaRPr b="0" lang="en-US" sz="1600" spc="-1" strike="noStrike">
              <a:solidFill>
                <a:srgbClr val="dee3ee"/>
              </a:solidFill>
              <a:latin typeface="Times New Roman"/>
            </a:endParaRPr>
          </a:p>
        </p:txBody>
      </p:sp>
      <p:sp>
        <p:nvSpPr>
          <p:cNvPr id="2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nalyzing Spam Headers</a:t>
            </a:r>
            <a:endParaRPr b="1" lang="en-US" sz="4800" spc="-1" strike="noStrike">
              <a:solidFill>
                <a:srgbClr val="dee3ee"/>
              </a:solidFill>
              <a:latin typeface="Arial Narrow"/>
            </a:endParaRPr>
          </a:p>
        </p:txBody>
      </p:sp>
      <p:sp>
        <p:nvSpPr>
          <p:cNvPr id="245" name=""/>
          <p:cNvSpPr/>
          <p:nvPr/>
        </p:nvSpPr>
        <p:spPr>
          <a:xfrm>
            <a:off x="3944880" y="1862280"/>
            <a:ext cx="137340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46" name=""/>
          <p:cNvSpPr/>
          <p:nvPr/>
        </p:nvSpPr>
        <p:spPr>
          <a:xfrm>
            <a:off x="4997880" y="144792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CIPIENT</a:t>
            </a:r>
            <a:endParaRPr b="0" lang="en-US" sz="2400" spc="-1" strike="noStrike">
              <a:solidFill>
                <a:srgbClr val="dee3ee"/>
              </a:solidFill>
              <a:latin typeface="Times New Roman"/>
            </a:endParaRPr>
          </a:p>
        </p:txBody>
      </p:sp>
      <p:sp>
        <p:nvSpPr>
          <p:cNvPr id="247" name=""/>
          <p:cNvSpPr/>
          <p:nvPr/>
        </p:nvSpPr>
        <p:spPr>
          <a:xfrm>
            <a:off x="3108240" y="3048120"/>
            <a:ext cx="457200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48" name=""/>
          <p:cNvSpPr/>
          <p:nvPr/>
        </p:nvSpPr>
        <p:spPr>
          <a:xfrm>
            <a:off x="6741720" y="274320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GIN</a:t>
            </a:r>
            <a:endParaRPr b="0" lang="en-US" sz="2400" spc="-1" strike="noStrike">
              <a:solidFill>
                <a:srgbClr val="dee3ee"/>
              </a:solidFill>
              <a:latin typeface="Times New Roman"/>
            </a:endParaRPr>
          </a:p>
        </p:txBody>
      </p:sp>
      <p:sp>
        <p:nvSpPr>
          <p:cNvPr id="249" name=""/>
          <p:cNvSpPr/>
          <p:nvPr/>
        </p:nvSpPr>
        <p:spPr>
          <a:xfrm>
            <a:off x="609480" y="3352680"/>
            <a:ext cx="14479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0" name=""/>
          <p:cNvSpPr/>
          <p:nvPr/>
        </p:nvSpPr>
        <p:spPr>
          <a:xfrm rot="19573800">
            <a:off x="-252000" y="3199680"/>
            <a:ext cx="117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SY</a:t>
            </a:r>
            <a:endParaRPr b="0" lang="en-US" sz="2400" spc="-1" strike="noStrike">
              <a:solidFill>
                <a:srgbClr val="dee3ee"/>
              </a:solidFill>
              <a:latin typeface="Times New Roman"/>
            </a:endParaRPr>
          </a:p>
        </p:txBody>
      </p:sp>
      <p:sp>
        <p:nvSpPr>
          <p:cNvPr id="251" name=""/>
          <p:cNvSpPr/>
          <p:nvPr/>
        </p:nvSpPr>
        <p:spPr>
          <a:xfrm flipV="1">
            <a:off x="1515960" y="5510160"/>
            <a:ext cx="147816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2" name=""/>
          <p:cNvSpPr/>
          <p:nvPr/>
        </p:nvSpPr>
        <p:spPr>
          <a:xfrm>
            <a:off x="3081240" y="5361120"/>
            <a:ext cx="207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CAPEGOAT</a:t>
            </a:r>
            <a:endParaRPr b="0" lang="en-US" sz="2400" spc="-1" strike="noStrike">
              <a:solidFill>
                <a:srgbClr val="dee3ee"/>
              </a:solidFill>
              <a:latin typeface="Times New Roman"/>
            </a:endParaRPr>
          </a:p>
        </p:txBody>
      </p:sp>
      <p:sp>
        <p:nvSpPr>
          <p:cNvPr id="253" name=""/>
          <p:cNvSpPr/>
          <p:nvPr/>
        </p:nvSpPr>
        <p:spPr>
          <a:xfrm>
            <a:off x="503280" y="3836880"/>
            <a:ext cx="830592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54" name=""/>
          <p:cNvSpPr/>
          <p:nvPr/>
        </p:nvSpPr>
        <p:spPr>
          <a:xfrm>
            <a:off x="7471080" y="432432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OGUS</a:t>
            </a:r>
            <a:endParaRPr b="0" lang="en-US" sz="2400" spc="-1" strike="noStrike">
              <a:solidFill>
                <a:srgbClr val="dee3ee"/>
              </a:solidFill>
              <a:latin typeface="Times New Roman"/>
            </a:endParaRPr>
          </a:p>
        </p:txBody>
      </p:sp>
      <p:sp>
        <p:nvSpPr>
          <p:cNvPr id="3" name="PlaceHolder 2"/>
          <p:cNvSpPr>
            <a:spLocks noGrp="1"/>
          </p:cNvSpPr>
          <p:nvPr>
            <p:ph type="ftr" idx="2"/>
          </p:nvPr>
        </p:nvSpPr>
        <p:spPr/>
        <p:txBody>
          <a:bodyPr/>
          <a:p>
            <a:r>
              <a:t>© Barb Dijker</a:t>
            </a:r>
          </a:p>
        </p:txBody>
      </p:sp>
      <p:sp>
        <p:nvSpPr>
          <p:cNvPr id="4" name="PlaceHolder 3"/>
          <p:cNvSpPr>
            <a:spLocks noGrp="1"/>
          </p:cNvSpPr>
          <p:nvPr>
            <p:ph type="sldNum" idx="3"/>
          </p:nvPr>
        </p:nvSpPr>
        <p:spPr/>
        <p:txBody>
          <a:bodyPr/>
          <a:p>
            <a:fld id="{6211CB92-636A-4F48-B825-32464D9044AB}" type="slidenum">
              <a:t>63</a:t>
            </a:fld>
          </a:p>
        </p:txBody>
      </p:sp>
      <p:sp>
        <p:nvSpPr>
          <p:cNvPr id="5" name="PlaceHolder 4"/>
          <p:cNvSpPr>
            <a:spLocks noGrp="1"/>
          </p:cNvSpPr>
          <p:nvPr>
            <p:ph type="dt" idx="1"/>
          </p:nvPr>
        </p:nvSpPr>
        <p:spPr/>
        <p:txBody>
          <a:bodyPr/>
          <a:p>
            <a:r>
              <a:rPr lang="en-US"/>
              <a:t>29 Feb 2000</a:t>
            </a: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How to deal with Spam</a:t>
            </a:r>
            <a:endParaRPr b="1" lang="en-US" sz="4800" spc="-1" strike="noStrike">
              <a:solidFill>
                <a:srgbClr val="dee3ee"/>
              </a:solidFill>
              <a:latin typeface="Arial Narrow"/>
            </a:endParaRPr>
          </a:p>
        </p:txBody>
      </p:sp>
      <p:sp>
        <p:nvSpPr>
          <p:cNvPr id="256"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active / Prevention</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ilters</a:t>
            </a:r>
            <a:endParaRPr b="0" lang="en-US" sz="18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outgoing</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relaying</a:t>
            </a:r>
            <a:endParaRPr b="0" lang="en-US" sz="16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olicy as deterrent</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ducation</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SP new account qualification</a:t>
            </a:r>
            <a:endParaRPr b="0" lang="en-US" sz="1800" spc="-1" strike="noStrike">
              <a:solidFill>
                <a:srgbClr val="dee3ee"/>
              </a:solidFill>
              <a:latin typeface="Arial"/>
            </a:endParaRPr>
          </a:p>
        </p:txBody>
      </p:sp>
      <p:sp>
        <p:nvSpPr>
          <p:cNvPr id="257"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active</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ilters</a:t>
            </a:r>
            <a:endParaRPr b="0" lang="en-US" sz="18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incoming server</a:t>
            </a:r>
            <a:endParaRPr b="0" lang="en-US" sz="1600" spc="-1" strike="noStrike">
              <a:solidFill>
                <a:srgbClr val="dee3ee"/>
              </a:solidFill>
              <a:latin typeface="Arial"/>
            </a:endParaRPr>
          </a:p>
          <a:p>
            <a:pPr lvl="2" marL="1143000" indent="-228600">
              <a:spcBef>
                <a:spcPts val="400"/>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e3ee"/>
                </a:solidFill>
                <a:latin typeface="Arial"/>
              </a:rPr>
              <a:t>user mail agent</a:t>
            </a:r>
            <a:endParaRPr b="0" lang="en-US" sz="16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policy enforcement</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egal recourse</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reporting</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education</a:t>
            </a:r>
            <a:endParaRPr b="0" lang="en-US" sz="1800" spc="-1" strike="noStrike">
              <a:solidFill>
                <a:srgbClr val="dee3ee"/>
              </a:solidFill>
              <a:latin typeface="Arial"/>
            </a:endParaRPr>
          </a:p>
        </p:txBody>
      </p:sp>
      <p:sp>
        <p:nvSpPr>
          <p:cNvPr id="5" name="PlaceHolder 4"/>
          <p:cNvSpPr>
            <a:spLocks noGrp="1"/>
          </p:cNvSpPr>
          <p:nvPr>
            <p:ph type="ftr" idx="2"/>
          </p:nvPr>
        </p:nvSpPr>
        <p:spPr/>
        <p:txBody>
          <a:bodyPr/>
          <a:p>
            <a:r>
              <a:t>© Barb Dijker</a:t>
            </a:r>
          </a:p>
        </p:txBody>
      </p:sp>
      <p:sp>
        <p:nvSpPr>
          <p:cNvPr id="6" name="PlaceHolder 5"/>
          <p:cNvSpPr>
            <a:spLocks noGrp="1"/>
          </p:cNvSpPr>
          <p:nvPr>
            <p:ph type="sldNum" idx="3"/>
          </p:nvPr>
        </p:nvSpPr>
        <p:spPr/>
        <p:txBody>
          <a:bodyPr/>
          <a:p>
            <a:fld id="{CFB16084-51C7-4280-97F7-AB8DD478348A}" type="slidenum">
              <a:t>64</a:t>
            </a:fld>
          </a:p>
        </p:txBody>
      </p:sp>
      <p:sp>
        <p:nvSpPr>
          <p:cNvPr id="7" name="PlaceHolder 6"/>
          <p:cNvSpPr>
            <a:spLocks noGrp="1"/>
          </p:cNvSpPr>
          <p:nvPr>
            <p:ph type="dt" idx="1"/>
          </p:nvPr>
        </p:nvSpPr>
        <p:spPr/>
        <p:txBody>
          <a:bodyPr/>
          <a:p>
            <a:r>
              <a:rPr lang="en-US"/>
              <a:t>29 Feb 2000</a:t>
            </a:r>
          </a:p>
        </p:txBody>
      </p:sp>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pam Scapegoats</a:t>
            </a:r>
            <a:endParaRPr b="1" lang="en-US" sz="4800" spc="-1" strike="noStrike">
              <a:solidFill>
                <a:srgbClr val="dee3ee"/>
              </a:solidFill>
              <a:latin typeface="Arial Narrow"/>
            </a:endParaRPr>
          </a:p>
        </p:txBody>
      </p:sp>
      <p:sp>
        <p:nvSpPr>
          <p:cNvPr id="25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main or user names used in forgeries - never touched the spa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Get heat from hasty complain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ly recourse is reactive: lega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ducate spam complainers on how to read mail headers to determine true player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7C8AA007-6B62-42AD-8F2B-63DF161F2F59}" type="slidenum">
              <a:t>6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Legal recourse ineffective</a:t>
            </a:r>
            <a:endParaRPr b="1" lang="en-US" sz="4800" spc="-1" strike="noStrike">
              <a:solidFill>
                <a:srgbClr val="dee3ee"/>
              </a:solidFill>
              <a:latin typeface="Arial Narrow"/>
            </a:endParaRPr>
          </a:p>
        </p:txBody>
      </p:sp>
      <p:sp>
        <p:nvSpPr>
          <p:cNvPr id="26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t>
            </a:r>
            <a:r>
              <a:rPr b="0" lang="en-US" sz="2000" spc="-1" strike="noStrike">
                <a:solidFill>
                  <a:srgbClr val="dee3ee"/>
                </a:solidFill>
                <a:latin typeface="Arial"/>
              </a:rPr>
              <a:t>So sue me” attitud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n’t sue everyon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 &amp; ru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nonymous spam &amp; ru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ack of jurisdiction: create a law making spam illegal and spammers go to another jurisdiction (including off-shor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 unsolicited FAX law proves law is not a deterren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75E7169A-EB75-4981-8A51-48E9013DEEEC}" type="slidenum">
              <a:t>66</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pam Characteristics</a:t>
            </a:r>
            <a:endParaRPr b="1" lang="en-US" sz="4800" spc="-1" strike="noStrike">
              <a:solidFill>
                <a:srgbClr val="dee3ee"/>
              </a:solidFill>
              <a:latin typeface="Arial Narrow"/>
            </a:endParaRPr>
          </a:p>
        </p:txBody>
      </p:sp>
      <p:sp>
        <p:nvSpPr>
          <p:cNvPr id="26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fontScale="99000"/>
          </a:bodyPr>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bscure origin</a:t>
            </a:r>
            <a:endParaRPr b="0" lang="en-US" sz="24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orged MAIL FROM (!= “From” header)</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ELO != peer name</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tra forged Received header (EST -0600)</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layed through unrelated third-party</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n-existent DNS domain name</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rom: and envelope sender don’t match</a:t>
            </a:r>
            <a:endParaRPr b="0" lang="en-US" sz="2000" spc="-1" strike="noStrike">
              <a:solidFill>
                <a:srgbClr val="dee3ee"/>
              </a:solidFill>
              <a:latin typeface="Arial"/>
            </a:endParaRPr>
          </a:p>
          <a:p>
            <a:pPr lvl="1" marL="735480" indent="-28296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o: matches From:</a:t>
            </a:r>
            <a:endParaRPr b="0" lang="en-US" sz="20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one of these are REQUIRED</a:t>
            </a:r>
            <a:endParaRPr b="0" lang="en-US" sz="2400" spc="-1" strike="noStrike">
              <a:solidFill>
                <a:srgbClr val="dee3ee"/>
              </a:solidFill>
              <a:latin typeface="Arial"/>
            </a:endParaRPr>
          </a:p>
          <a:p>
            <a:pPr marL="339480" indent="-3394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re than 50% of Spam has legitimate (not forged) header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507CA495-41E9-4C58-A524-C1D671B1DA09}" type="slidenum">
              <a:t>6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we can do: </a:t>
            </a:r>
            <a:endParaRPr b="1" lang="en-US" sz="4800" spc="-1" strike="noStrike">
              <a:solidFill>
                <a:srgbClr val="dee3ee"/>
              </a:solidFill>
              <a:latin typeface="Arial Narrow"/>
            </a:endParaRPr>
          </a:p>
        </p:txBody>
      </p:sp>
      <p:sp>
        <p:nvSpPr>
          <p:cNvPr id="26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RIGIN</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unnel outgoing mail through a spam throttle SMTP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nforce valid MAIL FROM address including usernam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nforce valid headers - no forge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Limit envelope recipient lis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rottle frequency of SMTP connect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en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2039ABDC-C3E8-41CF-B803-4534D18B7691}" type="slidenum">
              <a:t>6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66" name=""/>
          <p:cNvSpPr/>
          <p:nvPr/>
        </p:nvSpPr>
        <p:spPr>
          <a:xfrm>
            <a:off x="1523880" y="228600"/>
            <a:ext cx="5715000" cy="990720"/>
          </a:xfrm>
          <a:custGeom>
            <a:avLst/>
            <a:gdLst/>
            <a:ahLst/>
            <a:rect l="l" t="t" r="r" b="b"/>
            <a:pathLst>
              <a:path w="3765" h="455">
                <a:moveTo>
                  <a:pt x="0" y="51"/>
                </a:moveTo>
                <a:cubicBezTo>
                  <a:pt x="114" y="447"/>
                  <a:pt x="249" y="307"/>
                  <a:pt x="786" y="382"/>
                </a:cubicBezTo>
                <a:cubicBezTo>
                  <a:pt x="869" y="368"/>
                  <a:pt x="952" y="360"/>
                  <a:pt x="1034" y="341"/>
                </a:cubicBezTo>
                <a:cubicBezTo>
                  <a:pt x="1098" y="326"/>
                  <a:pt x="1157" y="294"/>
                  <a:pt x="1221" y="279"/>
                </a:cubicBezTo>
                <a:cubicBezTo>
                  <a:pt x="1276" y="296"/>
                  <a:pt x="1332" y="311"/>
                  <a:pt x="1386" y="331"/>
                </a:cubicBezTo>
                <a:cubicBezTo>
                  <a:pt x="1436" y="350"/>
                  <a:pt x="1481" y="392"/>
                  <a:pt x="1531" y="413"/>
                </a:cubicBezTo>
                <a:cubicBezTo>
                  <a:pt x="1602" y="444"/>
                  <a:pt x="1683" y="442"/>
                  <a:pt x="1759" y="455"/>
                </a:cubicBezTo>
                <a:cubicBezTo>
                  <a:pt x="1869" y="448"/>
                  <a:pt x="1980" y="445"/>
                  <a:pt x="2090" y="434"/>
                </a:cubicBezTo>
                <a:cubicBezTo>
                  <a:pt x="2204" y="423"/>
                  <a:pt x="2298" y="373"/>
                  <a:pt x="2410" y="362"/>
                </a:cubicBezTo>
                <a:cubicBezTo>
                  <a:pt x="2493" y="306"/>
                  <a:pt x="2595" y="257"/>
                  <a:pt x="2690" y="227"/>
                </a:cubicBezTo>
                <a:cubicBezTo>
                  <a:pt x="2926" y="237"/>
                  <a:pt x="3157" y="266"/>
                  <a:pt x="3393" y="279"/>
                </a:cubicBezTo>
                <a:cubicBezTo>
                  <a:pt x="3455" y="275"/>
                  <a:pt x="3519" y="284"/>
                  <a:pt x="3579" y="268"/>
                </a:cubicBezTo>
                <a:cubicBezTo>
                  <a:pt x="3699" y="235"/>
                  <a:pt x="3719" y="91"/>
                  <a:pt x="3765" y="0"/>
                </a:cubicBezTo>
              </a:path>
            </a:pathLst>
          </a:custGeom>
          <a:gradFill rotWithShape="0">
            <a:gsLst>
              <a:gs pos="0">
                <a:srgbClr val="465e75"/>
              </a:gs>
              <a:gs pos="100000">
                <a:srgbClr val="99ccff"/>
              </a:gs>
            </a:gsLst>
            <a:lin ang="5400000"/>
          </a:grad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67" name=""/>
          <p:cNvSpPr/>
          <p:nvPr/>
        </p:nvSpPr>
        <p:spPr>
          <a:xfrm>
            <a:off x="3879360" y="279360"/>
            <a:ext cx="79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g I</a:t>
            </a:r>
            <a:endParaRPr b="0" lang="en-US" sz="2400" spc="-1" strike="noStrike">
              <a:solidFill>
                <a:srgbClr val="dee3ee"/>
              </a:solidFill>
              <a:latin typeface="Times New Roman"/>
            </a:endParaRPr>
          </a:p>
        </p:txBody>
      </p:sp>
      <p:sp>
        <p:nvSpPr>
          <p:cNvPr id="268" name=""/>
          <p:cNvSpPr/>
          <p:nvPr/>
        </p:nvSpPr>
        <p:spPr>
          <a:xfrm>
            <a:off x="1333440" y="2857680"/>
            <a:ext cx="6058080" cy="2781000"/>
          </a:xfrm>
          <a:custGeom>
            <a:avLst/>
            <a:gdLst/>
            <a:ahLst/>
            <a:rect l="l" t="t" r="r" b="b"/>
            <a:pathLst>
              <a:path w="4432" h="2064">
                <a:moveTo>
                  <a:pt x="72" y="1320"/>
                </a:moveTo>
                <a:cubicBezTo>
                  <a:pt x="0" y="1080"/>
                  <a:pt x="72" y="696"/>
                  <a:pt x="312" y="504"/>
                </a:cubicBezTo>
                <a:cubicBezTo>
                  <a:pt x="552" y="312"/>
                  <a:pt x="1000" y="240"/>
                  <a:pt x="1512" y="168"/>
                </a:cubicBezTo>
                <a:cubicBezTo>
                  <a:pt x="2024" y="96"/>
                  <a:pt x="2976" y="0"/>
                  <a:pt x="3384" y="72"/>
                </a:cubicBezTo>
                <a:cubicBezTo>
                  <a:pt x="3792" y="144"/>
                  <a:pt x="3824" y="360"/>
                  <a:pt x="3960" y="600"/>
                </a:cubicBezTo>
                <a:cubicBezTo>
                  <a:pt x="4096" y="840"/>
                  <a:pt x="4432" y="1280"/>
                  <a:pt x="4200" y="1512"/>
                </a:cubicBezTo>
                <a:cubicBezTo>
                  <a:pt x="3968" y="1744"/>
                  <a:pt x="3144" y="1920"/>
                  <a:pt x="2568" y="1992"/>
                </a:cubicBezTo>
                <a:cubicBezTo>
                  <a:pt x="1992" y="2064"/>
                  <a:pt x="1152" y="2056"/>
                  <a:pt x="744" y="1944"/>
                </a:cubicBezTo>
                <a:cubicBezTo>
                  <a:pt x="336" y="1832"/>
                  <a:pt x="144" y="1560"/>
                  <a:pt x="72" y="1320"/>
                </a:cubicBezTo>
                <a:close/>
              </a:path>
            </a:pathLst>
          </a:custGeom>
          <a:noFill/>
          <a:ln w="9360">
            <a:solidFill>
              <a:srgbClr val="dee3ee"/>
            </a:solidFill>
            <a:round/>
          </a:ln>
        </p:spPr>
        <p:style>
          <a:lnRef idx="0"/>
          <a:fillRef idx="0"/>
          <a:effectRef idx="0"/>
          <a:fontRef idx="minor"/>
        </p:style>
        <p:txBody>
          <a:bodyPr wrap="none" anchor="ctr">
            <a:noAutofit/>
          </a:bodyPr>
          <a:p>
            <a:endParaRPr b="0" lang="en-US" sz="2400" spc="-1" strike="noStrike">
              <a:solidFill>
                <a:srgbClr val="dee3ee"/>
              </a:solidFill>
              <a:latin typeface="Times New Roman"/>
            </a:endParaRPr>
          </a:p>
        </p:txBody>
      </p:sp>
      <p:sp>
        <p:nvSpPr>
          <p:cNvPr id="269" name=""/>
          <p:cNvSpPr/>
          <p:nvPr/>
        </p:nvSpPr>
        <p:spPr>
          <a:xfrm>
            <a:off x="4724280" y="3733920"/>
            <a:ext cx="1905120" cy="83808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0" name=""/>
          <p:cNvSpPr/>
          <p:nvPr/>
        </p:nvSpPr>
        <p:spPr>
          <a:xfrm>
            <a:off x="1981080" y="3733920"/>
            <a:ext cx="1752840" cy="914400"/>
          </a:xfrm>
          <a:prstGeom prst="ellipse">
            <a:avLst/>
          </a:prstGeom>
          <a:gradFill rotWithShape="0">
            <a:gsLst>
              <a:gs pos="0">
                <a:srgbClr val="ff0000"/>
              </a:gs>
              <a:gs pos="100000">
                <a:srgbClr val="01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Mail Relay</a:t>
            </a:r>
            <a:endParaRPr b="0" lang="en-US" sz="2400" spc="-1" strike="noStrike">
              <a:solidFill>
                <a:srgbClr val="dee3ee"/>
              </a:solidFill>
              <a:latin typeface="Times New Roman"/>
            </a:endParaRPr>
          </a:p>
        </p:txBody>
      </p:sp>
      <p:sp>
        <p:nvSpPr>
          <p:cNvPr id="271" name=""/>
          <p:cNvSpPr/>
          <p:nvPr/>
        </p:nvSpPr>
        <p:spPr>
          <a:xfrm>
            <a:off x="2514600" y="2514600"/>
            <a:ext cx="3809880" cy="762120"/>
          </a:xfrm>
          <a:prstGeom prst="rect">
            <a:avLst/>
          </a:prstGeom>
          <a:solidFill>
            <a:srgbClr val="666699"/>
          </a:solidFill>
          <a:ln w="9360">
            <a:solidFill>
              <a:srgbClr val="dee3e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Times New Roman"/>
              </a:rPr>
              <a:t>   </a:t>
            </a:r>
            <a:r>
              <a:rPr b="0" lang="en-US" sz="2400" spc="-1" strike="noStrike">
                <a:solidFill>
                  <a:srgbClr val="dee3ee"/>
                </a:solidFill>
                <a:latin typeface="Times New Roman"/>
              </a:rPr>
              <a:t>Router</a:t>
            </a:r>
            <a:endParaRPr b="0" lang="en-US" sz="2400" spc="-1" strike="noStrike">
              <a:solidFill>
                <a:srgbClr val="dee3ee"/>
              </a:solidFill>
              <a:latin typeface="Times New Roman"/>
            </a:endParaRPr>
          </a:p>
        </p:txBody>
      </p:sp>
      <p:sp>
        <p:nvSpPr>
          <p:cNvPr id="272" name=""/>
          <p:cNvSpPr/>
          <p:nvPr/>
        </p:nvSpPr>
        <p:spPr>
          <a:xfrm flipV="1">
            <a:off x="3200400" y="1218960"/>
            <a:ext cx="83808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3" name=""/>
          <p:cNvSpPr/>
          <p:nvPr/>
        </p:nvSpPr>
        <p:spPr>
          <a:xfrm flipH="1" flipV="1">
            <a:off x="4191120" y="1218960"/>
            <a:ext cx="1371600" cy="2514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4" name=""/>
          <p:cNvSpPr/>
          <p:nvPr/>
        </p:nvSpPr>
        <p:spPr>
          <a:xfrm>
            <a:off x="5334120" y="56386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5" name=""/>
          <p:cNvSpPr/>
          <p:nvPr/>
        </p:nvSpPr>
        <p:spPr>
          <a:xfrm>
            <a:off x="6019920" y="5334120"/>
            <a:ext cx="685800" cy="30456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6" name=""/>
          <p:cNvSpPr/>
          <p:nvPr/>
        </p:nvSpPr>
        <p:spPr>
          <a:xfrm>
            <a:off x="7010280" y="50292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7" name=""/>
          <p:cNvSpPr/>
          <p:nvPr/>
        </p:nvSpPr>
        <p:spPr>
          <a:xfrm>
            <a:off x="6705720" y="54864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78" name=""/>
          <p:cNvSpPr/>
          <p:nvPr/>
        </p:nvSpPr>
        <p:spPr>
          <a:xfrm flipH="1" flipV="1">
            <a:off x="5409720" y="4571640"/>
            <a:ext cx="228600" cy="10666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79" name=""/>
          <p:cNvSpPr/>
          <p:nvPr/>
        </p:nvSpPr>
        <p:spPr>
          <a:xfrm flipH="1" flipV="1">
            <a:off x="5790960" y="4571640"/>
            <a:ext cx="533160" cy="7621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0" name=""/>
          <p:cNvSpPr/>
          <p:nvPr/>
        </p:nvSpPr>
        <p:spPr>
          <a:xfrm flipH="1" flipV="1">
            <a:off x="6172200" y="4495680"/>
            <a:ext cx="838080" cy="99072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1" name=""/>
          <p:cNvSpPr/>
          <p:nvPr/>
        </p:nvSpPr>
        <p:spPr>
          <a:xfrm flipH="1" flipV="1">
            <a:off x="6400800" y="4419360"/>
            <a:ext cx="914400" cy="6094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2" name=""/>
          <p:cNvSpPr/>
          <p:nvPr/>
        </p:nvSpPr>
        <p:spPr>
          <a:xfrm flipH="1" flipV="1">
            <a:off x="4647960" y="1218960"/>
            <a:ext cx="2819160" cy="3809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3" name=""/>
          <p:cNvSpPr/>
          <p:nvPr/>
        </p:nvSpPr>
        <p:spPr>
          <a:xfrm>
            <a:off x="6477480" y="57150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Customers</a:t>
            </a:r>
            <a:endParaRPr b="0" lang="en-US" sz="2400" spc="-1" strike="noStrike">
              <a:solidFill>
                <a:srgbClr val="dee3ee"/>
              </a:solidFill>
              <a:latin typeface="Times New Roman"/>
            </a:endParaRPr>
          </a:p>
        </p:txBody>
      </p:sp>
      <p:sp>
        <p:nvSpPr>
          <p:cNvPr id="284" name=""/>
          <p:cNvSpPr/>
          <p:nvPr/>
        </p:nvSpPr>
        <p:spPr>
          <a:xfrm>
            <a:off x="1828800" y="480060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5" name=""/>
          <p:cNvSpPr/>
          <p:nvPr/>
        </p:nvSpPr>
        <p:spPr>
          <a:xfrm>
            <a:off x="266688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6" name=""/>
          <p:cNvSpPr/>
          <p:nvPr/>
        </p:nvSpPr>
        <p:spPr>
          <a:xfrm>
            <a:off x="3505320" y="4952880"/>
            <a:ext cx="685800" cy="304920"/>
          </a:xfrm>
          <a:prstGeom prst="ellipse">
            <a:avLst/>
          </a:prstGeom>
          <a:gradFill rotWithShape="0">
            <a:gsLst>
              <a:gs pos="0">
                <a:srgbClr val="ffffcc"/>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ee3ee"/>
              </a:solidFill>
              <a:latin typeface="Times New Roman"/>
            </a:endParaRPr>
          </a:p>
        </p:txBody>
      </p:sp>
      <p:sp>
        <p:nvSpPr>
          <p:cNvPr id="287" name=""/>
          <p:cNvSpPr/>
          <p:nvPr/>
        </p:nvSpPr>
        <p:spPr>
          <a:xfrm flipH="1" flipV="1">
            <a:off x="3429000" y="4572000"/>
            <a:ext cx="380880" cy="38088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8" name=""/>
          <p:cNvSpPr/>
          <p:nvPr/>
        </p:nvSpPr>
        <p:spPr>
          <a:xfrm flipH="1" flipV="1">
            <a:off x="2895480" y="4648320"/>
            <a:ext cx="76320" cy="304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89" name=""/>
          <p:cNvSpPr/>
          <p:nvPr/>
        </p:nvSpPr>
        <p:spPr>
          <a:xfrm flipV="1">
            <a:off x="2133720" y="4571640"/>
            <a:ext cx="228600" cy="22860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0" name=""/>
          <p:cNvSpPr/>
          <p:nvPr/>
        </p:nvSpPr>
        <p:spPr>
          <a:xfrm flipV="1">
            <a:off x="3886200" y="1218960"/>
            <a:ext cx="228600" cy="3733560"/>
          </a:xfrm>
          <a:prstGeom prst="line">
            <a:avLst/>
          </a:prstGeom>
          <a:ln w="19080">
            <a:solidFill>
              <a:srgbClr val="dee3ee"/>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dee3ee"/>
              </a:solidFill>
              <a:latin typeface="Times New Roman"/>
            </a:endParaRPr>
          </a:p>
        </p:txBody>
      </p:sp>
      <p:sp>
        <p:nvSpPr>
          <p:cNvPr id="291" name=""/>
          <p:cNvSpPr/>
          <p:nvPr/>
        </p:nvSpPr>
        <p:spPr>
          <a:xfrm>
            <a:off x="1447200" y="5715000"/>
            <a:ext cx="227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nternal Network</a:t>
            </a:r>
            <a:endParaRPr b="0" lang="en-US" sz="2400" spc="-1" strike="noStrike">
              <a:solidFill>
                <a:srgbClr val="dee3ee"/>
              </a:solidFill>
              <a:latin typeface="Times New Roman"/>
            </a:endParaRPr>
          </a:p>
        </p:txBody>
      </p:sp>
      <p:sp>
        <p:nvSpPr>
          <p:cNvPr id="292" name=""/>
          <p:cNvSpPr/>
          <p:nvPr/>
        </p:nvSpPr>
        <p:spPr>
          <a:xfrm>
            <a:off x="2538000" y="513720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employees</a:t>
            </a:r>
            <a:endParaRPr b="0" lang="en-US" sz="2400" spc="-1" strike="noStrike">
              <a:solidFill>
                <a:srgbClr val="dee3ee"/>
              </a:solidFill>
              <a:latin typeface="Times New Roman"/>
            </a:endParaRPr>
          </a:p>
        </p:txBody>
      </p:sp>
      <p:sp>
        <p:nvSpPr>
          <p:cNvPr id="293" name=""/>
          <p:cNvSpPr/>
          <p:nvPr/>
        </p:nvSpPr>
        <p:spPr>
          <a:xfrm rot="21511800">
            <a:off x="3791520" y="27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94" name=""/>
          <p:cNvSpPr/>
          <p:nvPr/>
        </p:nvSpPr>
        <p:spPr>
          <a:xfrm rot="20061600">
            <a:off x="5715360" y="266832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X</a:t>
            </a:r>
            <a:endParaRPr b="0" lang="en-US" sz="2400" spc="-1" strike="noStrike">
              <a:solidFill>
                <a:srgbClr val="dee3ee"/>
              </a:solidFill>
              <a:latin typeface="Times New Roman"/>
            </a:endParaRPr>
          </a:p>
        </p:txBody>
      </p:sp>
      <p:sp>
        <p:nvSpPr>
          <p:cNvPr id="2" name="PlaceHolder 1"/>
          <p:cNvSpPr>
            <a:spLocks noGrp="1"/>
          </p:cNvSpPr>
          <p:nvPr>
            <p:ph type="ftr" idx="2"/>
          </p:nvPr>
        </p:nvSpPr>
        <p:spPr/>
        <p:txBody>
          <a:bodyPr/>
          <a:p>
            <a:r>
              <a:t>© Barb Dijker</a:t>
            </a:r>
          </a:p>
        </p:txBody>
      </p:sp>
      <p:sp>
        <p:nvSpPr>
          <p:cNvPr id="3" name="PlaceHolder 2"/>
          <p:cNvSpPr>
            <a:spLocks noGrp="1"/>
          </p:cNvSpPr>
          <p:nvPr>
            <p:ph type="sldNum" idx="3"/>
          </p:nvPr>
        </p:nvSpPr>
        <p:spPr/>
        <p:txBody>
          <a:bodyPr/>
          <a:p>
            <a:fld id="{3B13DC10-333E-45B1-B6AF-B6C3D17E6D26}" type="slidenum">
              <a:t>69</a:t>
            </a:fld>
          </a:p>
        </p:txBody>
      </p:sp>
      <p:sp>
        <p:nvSpPr>
          <p:cNvPr id="4" name="PlaceHolder 3"/>
          <p:cNvSpPr>
            <a:spLocks noGrp="1"/>
          </p:cNvSpPr>
          <p:nvPr>
            <p:ph type="dt" idx="1"/>
          </p:nvPr>
        </p:nvSpPr>
        <p:spPr/>
        <p:txBody>
          <a:bodyPr/>
          <a:p>
            <a:r>
              <a:rPr lang="en-US"/>
              <a:t>29 Feb 2000</a:t>
            </a: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cure DNS</a:t>
            </a:r>
            <a:endParaRPr b="1" lang="en-US" sz="4800" spc="-1" strike="noStrike">
              <a:solidFill>
                <a:srgbClr val="dee3ee"/>
              </a:solidFill>
              <a:latin typeface="Arial Narrow"/>
            </a:endParaRPr>
          </a:p>
        </p:txBody>
      </p:sp>
      <p:sp>
        <p:nvSpPr>
          <p:cNvPr id="114"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lients can verify that they got right data</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s new KEY and SIG records, private key is kept offlin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s RSA encryption, problems with export remai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igned DNS messages are bigger</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ecure servers and clients are slower</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C53E37C5-D46B-4274-A360-DF5034AB37DE}" type="slidenum">
              <a:t>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y bother?</a:t>
            </a:r>
            <a:endParaRPr b="1" lang="en-US" sz="4800" spc="-1" strike="noStrike">
              <a:solidFill>
                <a:srgbClr val="dee3ee"/>
              </a:solidFill>
              <a:latin typeface="Arial Narrow"/>
            </a:endParaRPr>
          </a:p>
        </p:txBody>
      </p:sp>
      <p:sp>
        <p:nvSpPr>
          <p:cNvPr id="29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ready spending time, money, and reputation dealing with complaint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void embarrassing public apologies like Zoom, config.sys, and UUNE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New Revenue - charge premium rate for:</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n-relayed SMTP</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iltered incoming mailboxe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938ECDC1-715B-4B08-A658-4255F2792C8E}" type="slidenum">
              <a:t>7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can we do: </a:t>
            </a:r>
            <a:endParaRPr b="1" lang="en-US" sz="4800" spc="-1" strike="noStrike">
              <a:solidFill>
                <a:srgbClr val="dee3ee"/>
              </a:solidFill>
              <a:latin typeface="Arial Narrow"/>
            </a:endParaRPr>
          </a:p>
        </p:txBody>
      </p:sp>
      <p:sp>
        <p:nvSpPr>
          <p:cNvPr id="29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atsy (relay)</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quire valid envelope address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allow relay</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o external recipients from external session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ally based only on envelope addresse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Spammers can use ! And % mail syntax to get around this</a:t>
            </a:r>
            <a:endParaRPr b="0" lang="en-US" sz="18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on’t screw up your Received header record keeping (from [validated], by, fo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lock SMTP sessions from known spam networks and hosts (RBL or private lis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305BB328-EC57-419A-9CC6-B2A54F3581B3}" type="slidenum">
              <a:t>7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hat can we do: Recipient</a:t>
            </a:r>
            <a:endParaRPr b="1" lang="en-US" sz="4800" spc="-1" strike="noStrike">
              <a:solidFill>
                <a:srgbClr val="dee3ee"/>
              </a:solidFill>
              <a:latin typeface="Arial Narrow"/>
            </a:endParaRPr>
          </a:p>
        </p:txBody>
      </p:sp>
      <p:sp>
        <p:nvSpPr>
          <p:cNvPr id="300" name="PlaceHolder 2"/>
          <p:cNvSpPr>
            <a:spLocks noGrp="1"/>
          </p:cNvSpPr>
          <p:nvPr>
            <p:ph/>
          </p:nvPr>
        </p:nvSpPr>
        <p:spPr>
          <a:xfrm>
            <a:off x="304920" y="1839960"/>
            <a:ext cx="421776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rver filters - reject connect/msg</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rom known spam hosts (RBL)</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ith invalid envelope address</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from known spam address</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to non-local users (no relay)</a:t>
            </a:r>
            <a:endParaRPr b="0" lang="en-US" sz="1800" spc="-1" strike="noStrike">
              <a:solidFill>
                <a:srgbClr val="dee3ee"/>
              </a:solidFill>
              <a:latin typeface="Arial"/>
            </a:endParaRPr>
          </a:p>
        </p:txBody>
      </p:sp>
      <p:sp>
        <p:nvSpPr>
          <p:cNvPr id="301" name="PlaceHolder 3"/>
          <p:cNvSpPr>
            <a:spLocks noGrp="1"/>
          </p:cNvSpPr>
          <p:nvPr>
            <p:ph/>
          </p:nvPr>
        </p:nvSpPr>
        <p:spPr>
          <a:xfrm>
            <a:off x="4696920" y="1839960"/>
            <a:ext cx="421812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User filters</a:t>
            </a:r>
            <a:endParaRPr b="0" lang="en-US" sz="20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est approach is to filter all mail except explicitly _to_ known addresses: personal or lists</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Bounce or refile others</a:t>
            </a:r>
            <a:endParaRPr b="0" lang="en-US" sz="1800" spc="-1" strike="noStrike">
              <a:solidFill>
                <a:srgbClr val="dee3ee"/>
              </a:solidFill>
              <a:latin typeface="Arial"/>
            </a:endParaRPr>
          </a:p>
          <a:p>
            <a:pPr lvl="1" marL="743040" indent="-285840">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 won’t get Bcc mail anymore</a:t>
            </a:r>
            <a:endParaRPr b="0" lang="en-US" sz="1800" spc="-1" strike="noStrike">
              <a:solidFill>
                <a:srgbClr val="dee3ee"/>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Nothing is 100%</a:t>
            </a:r>
            <a:endParaRPr b="0" lang="en-US" sz="2000" spc="-1" strike="noStrike">
              <a:solidFill>
                <a:srgbClr val="dee3ee"/>
              </a:solidFill>
              <a:latin typeface="Arial"/>
            </a:endParaRPr>
          </a:p>
        </p:txBody>
      </p:sp>
      <p:sp>
        <p:nvSpPr>
          <p:cNvPr id="5" name="PlaceHolder 4"/>
          <p:cNvSpPr>
            <a:spLocks noGrp="1"/>
          </p:cNvSpPr>
          <p:nvPr>
            <p:ph type="ftr" idx="2"/>
          </p:nvPr>
        </p:nvSpPr>
        <p:spPr/>
        <p:txBody>
          <a:bodyPr/>
          <a:p>
            <a:r>
              <a:t>© Barb Dijker</a:t>
            </a:r>
          </a:p>
        </p:txBody>
      </p:sp>
      <p:sp>
        <p:nvSpPr>
          <p:cNvPr id="6" name="PlaceHolder 5"/>
          <p:cNvSpPr>
            <a:spLocks noGrp="1"/>
          </p:cNvSpPr>
          <p:nvPr>
            <p:ph type="sldNum" idx="3"/>
          </p:nvPr>
        </p:nvSpPr>
        <p:spPr/>
        <p:txBody>
          <a:bodyPr/>
          <a:p>
            <a:fld id="{3ECE621D-9F5F-411E-B19F-3DD91320E85B}" type="slidenum">
              <a:t>72</a:t>
            </a:fld>
          </a:p>
        </p:txBody>
      </p:sp>
      <p:sp>
        <p:nvSpPr>
          <p:cNvPr id="7" name="PlaceHolder 6"/>
          <p:cNvSpPr>
            <a:spLocks noGrp="1"/>
          </p:cNvSpPr>
          <p:nvPr>
            <p:ph type="dt" idx="1"/>
          </p:nvPr>
        </p:nvSpPr>
        <p:spPr/>
        <p:txBody>
          <a:bodyPr/>
          <a:p>
            <a:r>
              <a:rPr lang="en-US"/>
              <a:t>29 Feb 2000</a:t>
            </a: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esources: Sendmail</a:t>
            </a:r>
            <a:endParaRPr b="1" lang="en-US" sz="4800" spc="-1" strike="noStrike">
              <a:solidFill>
                <a:srgbClr val="dee3ee"/>
              </a:solidFill>
              <a:latin typeface="Arial Narrow"/>
            </a:endParaRPr>
          </a:p>
        </p:txBody>
      </p:sp>
      <p:sp>
        <p:nvSpPr>
          <p:cNvPr id="30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e sendmail v8.9+</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lay is off by defaul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ows relay only to/from hosts in cw file by defaul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so full relay contro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as an arbitrary access database which can be fed by RB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e FAQ 3.27 for relay excep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e http://www.sendmail.org/m4/anti-spam.htm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tensible to create your own rejection rul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www.sendmail.org</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CD666344-1E7B-48C5-BAD8-DA1E5F88B90C}" type="slidenum">
              <a:t>7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ndmail MC Features</a:t>
            </a:r>
            <a:endParaRPr b="1" lang="en-US" sz="4800" spc="-1" strike="noStrike">
              <a:solidFill>
                <a:srgbClr val="dee3ee"/>
              </a:solidFill>
              <a:latin typeface="Arial Narrow"/>
            </a:endParaRPr>
          </a:p>
        </p:txBody>
      </p:sp>
      <p:sp>
        <p:nvSpPr>
          <p:cNvPr id="30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relay_entire_domain')    $=m</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relay_local_from')       </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 (`relay_hosts_only')         $=R</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relay_based_on_MX')    imperfect, but easier to manage</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access_db')                    private blackhole list</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rbl')                                  http://maps.vix.com/</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blacklist_recipients')       disable users</a:t>
            </a:r>
            <a:endParaRPr b="0" lang="en-US" sz="2000" spc="-1" strike="noStrike">
              <a:solidFill>
                <a:srgbClr val="dee3e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loose_relay_check')</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accept_unqualified_senders')</a:t>
            </a:r>
            <a:endParaRPr b="0" lang="en-US" sz="20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eature(`accept_unresolvable_domain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96301A52-AC90-42FE-9B88-9791F168ABD7}" type="slidenum">
              <a:t>7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T Mail servers</a:t>
            </a:r>
            <a:endParaRPr b="1" lang="en-US" sz="4800" spc="-1" strike="noStrike">
              <a:solidFill>
                <a:srgbClr val="dee3ee"/>
              </a:solidFill>
              <a:latin typeface="Arial Narrow"/>
            </a:endParaRPr>
          </a:p>
        </p:txBody>
      </p:sp>
      <p:sp>
        <p:nvSpPr>
          <p:cNvPr id="30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l these resources cost money, but they have filters and ways to disallow relaying</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ndmail (</a:t>
            </a:r>
            <a:r>
              <a:rPr b="1" lang="en-US" sz="2000" spc="-1" strike="noStrike">
                <a:solidFill>
                  <a:srgbClr val="dee3ee"/>
                </a:solidFill>
                <a:latin typeface="Courier New"/>
              </a:rPr>
              <a:t>www.metainfo.com</a:t>
            </a:r>
            <a:r>
              <a:rPr b="0" lang="en-US" sz="2000" spc="-1" strike="noStrike">
                <a:solidFill>
                  <a:srgbClr val="dee3ee"/>
                </a:solidFill>
                <a:latin typeface="Courier New"/>
              </a:rPr>
              <a: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ost.Office</a:t>
            </a:r>
            <a:r>
              <a:rPr b="0" lang="en-US" sz="2000" spc="-1" strike="noStrike">
                <a:solidFill>
                  <a:srgbClr val="dee3ee"/>
                </a:solidFill>
                <a:latin typeface="Courier New"/>
              </a:rPr>
              <a:t> (</a:t>
            </a:r>
            <a:r>
              <a:rPr b="1" lang="en-US" sz="2000" spc="-1" strike="noStrike">
                <a:solidFill>
                  <a:srgbClr val="dee3ee"/>
                </a:solidFill>
                <a:latin typeface="Courier New"/>
              </a:rPr>
              <a:t>www.software.com</a:t>
            </a:r>
            <a:r>
              <a:rPr b="0" lang="en-US" sz="2000" spc="-1" strike="noStrike">
                <a:solidFill>
                  <a:srgbClr val="dee3ee"/>
                </a:solidFill>
                <a:latin typeface="Courier New"/>
              </a:rPr>
              <a:t>)</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mail (</a:t>
            </a:r>
            <a:r>
              <a:rPr b="1" lang="en-US" sz="2000" spc="-1" strike="noStrike">
                <a:solidFill>
                  <a:srgbClr val="dee3ee"/>
                </a:solidFill>
                <a:latin typeface="Courier New"/>
              </a:rPr>
              <a:t>www.ipswitch.com</a:t>
            </a:r>
            <a:r>
              <a:rPr b="0" lang="en-US" sz="2000" spc="-1" strike="noStrike">
                <a:solidFill>
                  <a:srgbClr val="dee3ee"/>
                </a:solidFill>
                <a:latin typeface="Arial"/>
              </a:rPr>
              <a: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B19EB3B-27F9-4C2A-B8E7-913388C5B5BC}" type="slidenum">
              <a:t>7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ail Client Resources</a:t>
            </a:r>
            <a:endParaRPr b="1" lang="en-US" sz="4800" spc="-1" strike="noStrike">
              <a:solidFill>
                <a:srgbClr val="dee3ee"/>
              </a:solidFill>
              <a:latin typeface="Arial Narrow"/>
            </a:endParaRPr>
          </a:p>
        </p:txBody>
      </p:sp>
      <p:sp>
        <p:nvSpPr>
          <p:cNvPr id="30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utlook has a spam threshold and filte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udora has new &amp; improved filters</a:t>
            </a:r>
            <a:endParaRPr b="0" lang="en-US" sz="2400" spc="-1" strike="noStrike">
              <a:solidFill>
                <a:srgbClr val="dee3e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a:p>
            <a:pPr marL="343080" indent="-343080">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y Favorite: SpamBeGone! (</a:t>
            </a:r>
            <a:r>
              <a:rPr b="1" lang="en-US" sz="2000" spc="-1" strike="noStrike">
                <a:solidFill>
                  <a:srgbClr val="dee3ee"/>
                </a:solidFill>
                <a:latin typeface="Courier New"/>
              </a:rPr>
              <a:t>www.internz.com/SpamBeGon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telligent plug-in that learns what you think is spa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orks with Eudora on Wi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vailable as UNIX binary command-line filter adding X-Priority for Solaris, Linux, IRIX, FreeBSD, Amiga</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FF3092F1-05A9-4CC4-9767-2788EAE1164D}" type="slidenum">
              <a:t>7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re Tools</a:t>
            </a:r>
            <a:endParaRPr b="1" lang="en-US" sz="4800" spc="-1" strike="noStrike">
              <a:solidFill>
                <a:srgbClr val="dee3ee"/>
              </a:solidFill>
              <a:latin typeface="Arial Narrow"/>
            </a:endParaRPr>
          </a:p>
        </p:txBody>
      </p:sp>
      <p:sp>
        <p:nvSpPr>
          <p:cNvPr id="31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se rely upon lists of known spam senders/recipients </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 Exterminato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 Attack Pro</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Scan97 (you need to provide your own list)</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se help you complain, not necessarily correctly</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 Hater </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 Cop (</a:t>
            </a:r>
            <a:r>
              <a:rPr b="1" lang="en-US" sz="2000" spc="-1" strike="noStrike">
                <a:solidFill>
                  <a:srgbClr val="dee3ee"/>
                </a:solidFill>
                <a:latin typeface="Courier New"/>
              </a:rPr>
              <a:t>spamcop.net</a:t>
            </a:r>
            <a:r>
              <a:rPr b="0" lang="en-US" sz="2000" spc="-1" strike="noStrike">
                <a:solidFill>
                  <a:srgbClr val="dee3ee"/>
                </a:solidFill>
                <a:latin typeface="Arial"/>
              </a:rPr>
              <a:t>)</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872EA27-2B1A-487B-98B8-4006B724485A}" type="slidenum">
              <a:t>7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Other Resources</a:t>
            </a:r>
            <a:endParaRPr b="1" lang="en-US" sz="4800" spc="-1" strike="noStrike">
              <a:solidFill>
                <a:srgbClr val="dee3ee"/>
              </a:solidFill>
              <a:latin typeface="Arial Narrow"/>
            </a:endParaRPr>
          </a:p>
        </p:txBody>
      </p:sp>
      <p:sp>
        <p:nvSpPr>
          <p:cNvPr id="31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ther Tools – most have some level of filtering and/or RBL support</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qmail.org/</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shield.conti.nu/</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obtuse.com/smtpd.html</a:t>
            </a:r>
            <a:endParaRPr b="0" lang="en-US" sz="2000" spc="-1" strike="noStrike">
              <a:solidFill>
                <a:srgbClr val="dee3ee"/>
              </a:solidFill>
              <a:latin typeface="Arial"/>
            </a:endParaRPr>
          </a:p>
          <a:p>
            <a:pPr marL="343080" indent="-343080">
              <a:lnSpc>
                <a:spcPct val="90000"/>
              </a:lnSpc>
              <a:spcBef>
                <a:spcPts val="550"/>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ee3ee"/>
                </a:solidFill>
                <a:latin typeface="Arial"/>
              </a:rPr>
              <a:t>General Info</a:t>
            </a:r>
            <a:endParaRPr b="0" lang="en-US" sz="22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cauce.org/</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mids.org/nospam/</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sprocket.com/Security/Stopping-UCE.html</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pam.abuse.net/spam/</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omas.loc.gov/  (to look up legislation to see if it is real)</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ww.labyrinth.com/localhos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4B52FA42-A517-4C41-91C2-0023177AEDE0}" type="slidenum">
              <a:t>7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mplaint Forwarding</a:t>
            </a:r>
            <a:endParaRPr b="1" lang="en-US" sz="4800" spc="-1" strike="noStrike">
              <a:solidFill>
                <a:srgbClr val="dee3ee"/>
              </a:solidFill>
              <a:latin typeface="Arial Narrow"/>
            </a:endParaRPr>
          </a:p>
        </p:txBody>
      </p:sp>
      <p:sp>
        <p:nvSpPr>
          <p:cNvPr id="31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ddress complaints to domain@abuse.net</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maintain a list of complaint addresses - not always abuse@domai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f not on list, sends to postmaster@domai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quires registratio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Only downside, bad sites can silently block mail from abuse.net</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BCF7D980-CC5C-4256-B07C-7F0FBF1B54EA}" type="slidenum">
              <a:t>7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ew Configuration Language</a:t>
            </a:r>
            <a:endParaRPr b="1" lang="en-US" sz="4800" spc="-1" strike="noStrike">
              <a:solidFill>
                <a:srgbClr val="dee3ee"/>
              </a:solidFill>
              <a:latin typeface="Arial Narrow"/>
            </a:endParaRPr>
          </a:p>
        </p:txBody>
      </p:sp>
      <p:sp>
        <p:nvSpPr>
          <p:cNvPr id="116"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Jargon chang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mary name server --&gt; master name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condary name server --&gt; slave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ache file --&gt; hints fil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lename chang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tc/named.boot --&gt; /etc/named.conf</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anguage consists of comments and statements</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1DC8D06-8C85-4886-9599-D52D85708048}" type="slidenum">
              <a:t>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voiding Being a Target</a:t>
            </a:r>
            <a:endParaRPr b="1" lang="en-US" sz="4800" spc="-1" strike="noStrike">
              <a:solidFill>
                <a:srgbClr val="dee3ee"/>
              </a:solidFill>
              <a:latin typeface="Arial Narrow"/>
            </a:endParaRPr>
          </a:p>
        </p:txBody>
      </p:sp>
      <p:sp>
        <p:nvSpPr>
          <p:cNvPr id="317" name="PlaceHolder 2"/>
          <p:cNvSpPr>
            <a:spLocks noGrp="1"/>
          </p:cNvSpPr>
          <p:nvPr>
            <p:ph/>
          </p:nvPr>
        </p:nvSpPr>
        <p:spPr>
          <a:xfrm>
            <a:off x="30456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you get on Spam lists</a:t>
            </a:r>
            <a:endParaRPr b="0" lang="en-US" sz="2000" spc="-1" strike="noStrike">
              <a:solidFill>
                <a:srgbClr val="dee3e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HTML mailto or text with @</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eb Browser preferences</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NET News postings</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Re-sold opt-in lists, surveys, etc.</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Complaints</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Vacation</a:t>
            </a:r>
            <a:endParaRPr b="0" lang="en-US" sz="1800" spc="-1" strike="noStrike">
              <a:solidFill>
                <a:srgbClr val="dee3ee"/>
              </a:solidFill>
              <a:latin typeface="Arial"/>
            </a:endParaRPr>
          </a:p>
        </p:txBody>
      </p:sp>
      <p:sp>
        <p:nvSpPr>
          <p:cNvPr id="318" name="PlaceHolder 3"/>
          <p:cNvSpPr>
            <a:spLocks noGrp="1"/>
          </p:cNvSpPr>
          <p:nvPr>
            <p:ph/>
          </p:nvPr>
        </p:nvSpPr>
        <p:spPr>
          <a:xfrm>
            <a:off x="4679640" y="1839960"/>
            <a:ext cx="423540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ow to not get on Spam lists</a:t>
            </a:r>
            <a:endParaRPr b="0" lang="en-US" sz="2000" spc="-1" strike="noStrike">
              <a:solidFill>
                <a:srgbClr val="dee3e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n’t use mailto or @ in html</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on’t use a browser’s built-in email and don’t put your email in prefs</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Use modified news identity</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Opt-in with a modified identity</a:t>
            </a:r>
            <a:endParaRPr b="0" lang="en-US" sz="1800" spc="-1" strike="noStrike">
              <a:solidFill>
                <a:srgbClr val="dee3e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ver complain to the originator</a:t>
            </a:r>
            <a:endParaRPr b="0" lang="en-US" sz="1800" spc="-1" strike="noStrike">
              <a:solidFill>
                <a:srgbClr val="dee3ee"/>
              </a:solidFill>
              <a:latin typeface="Arial"/>
            </a:endParaRPr>
          </a:p>
        </p:txBody>
      </p:sp>
      <p:sp>
        <p:nvSpPr>
          <p:cNvPr id="5" name="PlaceHolder 4"/>
          <p:cNvSpPr>
            <a:spLocks noGrp="1"/>
          </p:cNvSpPr>
          <p:nvPr>
            <p:ph type="ftr" idx="2"/>
          </p:nvPr>
        </p:nvSpPr>
        <p:spPr/>
        <p:txBody>
          <a:bodyPr/>
          <a:p>
            <a:r>
              <a:t>© Barb Dijker</a:t>
            </a:r>
          </a:p>
        </p:txBody>
      </p:sp>
      <p:sp>
        <p:nvSpPr>
          <p:cNvPr id="6" name="PlaceHolder 5"/>
          <p:cNvSpPr>
            <a:spLocks noGrp="1"/>
          </p:cNvSpPr>
          <p:nvPr>
            <p:ph type="sldNum" idx="3"/>
          </p:nvPr>
        </p:nvSpPr>
        <p:spPr/>
        <p:txBody>
          <a:bodyPr/>
          <a:p>
            <a:fld id="{69113B72-EE6F-427F-909A-804B44FE3BD6}" type="slidenum">
              <a:t>80</a:t>
            </a:fld>
          </a:p>
        </p:txBody>
      </p:sp>
      <p:sp>
        <p:nvSpPr>
          <p:cNvPr id="7" name="PlaceHolder 6"/>
          <p:cNvSpPr>
            <a:spLocks noGrp="1"/>
          </p:cNvSpPr>
          <p:nvPr>
            <p:ph type="dt" idx="1"/>
          </p:nvPr>
        </p:nvSpPr>
        <p:spPr/>
        <p:txBody>
          <a:bodyPr/>
          <a:p>
            <a:r>
              <a:rPr lang="en-US"/>
              <a:t>29 Feb 2000</a:t>
            </a:r>
          </a:p>
        </p:txBody>
      </p:sp>
    </p:spTree>
  </p:cSld>
  <p:transition spd="med">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How to Complain Successfully</a:t>
            </a:r>
            <a:endParaRPr b="1" lang="en-US" sz="4800" spc="-1" strike="noStrike">
              <a:solidFill>
                <a:srgbClr val="dee3ee"/>
              </a:solidFill>
              <a:latin typeface="Arial Narrow"/>
            </a:endParaRPr>
          </a:p>
        </p:txBody>
      </p:sp>
      <p:sp>
        <p:nvSpPr>
          <p:cNvPr id="320"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mplain to the RIGHT pla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arse Received headers TOP-&gt;BOTTO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top at discontinuit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verify bogosity of remaining Received lin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fferentiate between the roles play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dentify IP addresses of contributing parti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raceroute and find ISP nearest to that host, not the host itself</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nd POLITE and INFORMATIVE message to their ISP</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clude offending message with FULL HEADERS</a:t>
            </a:r>
            <a:endParaRPr b="0" lang="en-US" sz="18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clude your analysis of the parties involved</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B8EF330D-F951-49F2-AA91-BD427776DB97}" type="slidenum">
              <a:t>8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Never complain to the Spammer!</a:t>
            </a:r>
            <a:endParaRPr b="1" lang="en-US" sz="4800" spc="-1" strike="noStrike">
              <a:solidFill>
                <a:srgbClr val="dee3ee"/>
              </a:solidFill>
              <a:latin typeface="Arial Narrow"/>
            </a:endParaRPr>
          </a:p>
        </p:txBody>
      </p:sp>
      <p:sp>
        <p:nvSpPr>
          <p:cNvPr id="322"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like valid recipient addresses and you just confirmed your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alidated addresses are worth MONEY even if they are never us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y take you off one list and add you to another or sell your validated addr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acation programs automatically validates your address – so run them </a:t>
            </a:r>
            <a:r>
              <a:rPr b="0" i="1" lang="en-US" sz="2400" spc="-1" strike="noStrike">
                <a:solidFill>
                  <a:srgbClr val="dee3ee"/>
                </a:solidFill>
                <a:latin typeface="Arial"/>
              </a:rPr>
              <a:t>after</a:t>
            </a:r>
            <a:r>
              <a:rPr b="0" lang="en-US" sz="2400" spc="-1" strike="noStrike">
                <a:solidFill>
                  <a:srgbClr val="dee3ee"/>
                </a:solidFill>
                <a:latin typeface="Arial"/>
              </a:rPr>
              <a:t> your spam filters</a:t>
            </a:r>
            <a:endParaRPr b="0" lang="en-US" sz="2400" spc="-1" strike="noStrike">
              <a:solidFill>
                <a:srgbClr val="dee3e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If you block spam, give a “550 User Unknown” error</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E87C2A3-320C-4909-94C7-CE5D55CC75EC}" type="slidenum">
              <a:t>82</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ecommended complaint</a:t>
            </a:r>
            <a:endParaRPr b="1" lang="en-US" sz="4800" spc="-1" strike="noStrike">
              <a:solidFill>
                <a:srgbClr val="dee3ee"/>
              </a:solidFill>
              <a:latin typeface="Arial Narrow"/>
            </a:endParaRPr>
          </a:p>
        </p:txBody>
      </p:sp>
      <p:sp>
        <p:nvSpPr>
          <p:cNvPr id="324" name=""/>
          <p:cNvSpPr/>
          <p:nvPr/>
        </p:nvSpPr>
        <p:spPr>
          <a:xfrm>
            <a:off x="1219320" y="1600200"/>
            <a:ext cx="74595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I received this spam. Please take appropriate action.</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joes.net - origination in your net from X.X.X.X</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obs.net - Bob, you’ve been used - disallow relaying on your server.  See www.sendmail.org/antispam.html</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Times New Roman"/>
              </a:rPr>
              <a:t>billy.net - your web site at THISURL is benefitting from this spam so you are a party to it.</a:t>
            </a: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Times New Roman"/>
            </a:endParaRPr>
          </a:p>
        </p:txBody>
      </p:sp>
      <p:sp>
        <p:nvSpPr>
          <p:cNvPr id="325" name=""/>
          <p:cNvSpPr/>
          <p:nvPr/>
        </p:nvSpPr>
        <p:spPr>
          <a:xfrm>
            <a:off x="914400" y="5257800"/>
            <a:ext cx="769608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dee3ee"/>
                </a:solidFill>
                <a:latin typeface="Times New Roman"/>
              </a:rPr>
              <a:t>Most of the time you will know more about mail than the folks you complain to. Be helpful and informative rather than derisive.</a:t>
            </a:r>
            <a:endParaRPr b="0" lang="en-US" sz="2200" spc="-1" strike="noStrike">
              <a:solidFill>
                <a:srgbClr val="dee3ee"/>
              </a:solidFill>
              <a:latin typeface="Times New Roman"/>
            </a:endParaRPr>
          </a:p>
        </p:txBody>
      </p:sp>
      <p:sp>
        <p:nvSpPr>
          <p:cNvPr id="3" name="PlaceHolder 2"/>
          <p:cNvSpPr>
            <a:spLocks noGrp="1"/>
          </p:cNvSpPr>
          <p:nvPr>
            <p:ph type="ftr" idx="2"/>
          </p:nvPr>
        </p:nvSpPr>
        <p:spPr/>
        <p:txBody>
          <a:bodyPr/>
          <a:p>
            <a:r>
              <a:t>© Barb Dijker</a:t>
            </a:r>
          </a:p>
        </p:txBody>
      </p:sp>
      <p:sp>
        <p:nvSpPr>
          <p:cNvPr id="4" name="PlaceHolder 3"/>
          <p:cNvSpPr>
            <a:spLocks noGrp="1"/>
          </p:cNvSpPr>
          <p:nvPr>
            <p:ph type="sldNum" idx="3"/>
          </p:nvPr>
        </p:nvSpPr>
        <p:spPr/>
        <p:txBody>
          <a:bodyPr/>
          <a:p>
            <a:fld id="{81867470-63ED-4ECB-B315-171137D45BDC}" type="slidenum">
              <a:t>83</a:t>
            </a:fld>
          </a:p>
        </p:txBody>
      </p:sp>
      <p:sp>
        <p:nvSpPr>
          <p:cNvPr id="5" name="PlaceHolder 4"/>
          <p:cNvSpPr>
            <a:spLocks noGrp="1"/>
          </p:cNvSpPr>
          <p:nvPr>
            <p:ph type="dt" idx="1"/>
          </p:nvPr>
        </p:nvSpPr>
        <p:spPr/>
        <p:txBody>
          <a:bodyPr/>
          <a:p>
            <a:r>
              <a:rPr lang="en-US"/>
              <a:t>29 Feb 2000</a:t>
            </a:r>
          </a:p>
        </p:txBody>
      </p:sp>
    </p:spTree>
  </p:cSld>
  <p:transition spd="med">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Pyramid Schemes</a:t>
            </a:r>
            <a:endParaRPr b="1" lang="en-US" sz="4800" spc="-1" strike="noStrike">
              <a:solidFill>
                <a:srgbClr val="dee3ee"/>
              </a:solidFill>
              <a:latin typeface="Arial Narrow"/>
            </a:endParaRPr>
          </a:p>
        </p:txBody>
      </p:sp>
      <p:sp>
        <p:nvSpPr>
          <p:cNvPr id="32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he only spam that is actually illegal in US without question… as long as some part of it uses the USPS.</a:t>
            </a:r>
            <a:endParaRPr b="0" lang="en-US" sz="2400" spc="-1" strike="noStrike">
              <a:solidFill>
                <a:srgbClr val="dee3e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US Postal Inspection Servi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t’s their job</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int and mail to the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nclude </a:t>
            </a:r>
            <a:r>
              <a:rPr b="1" lang="en-US" sz="2000" spc="-1" strike="noStrike">
                <a:solidFill>
                  <a:srgbClr val="dee3ee"/>
                </a:solidFill>
                <a:latin typeface="Courier New"/>
              </a:rPr>
              <a:t>whois</a:t>
            </a:r>
            <a:r>
              <a:rPr b="0" lang="en-US" sz="2000" spc="-1" strike="noStrike">
                <a:solidFill>
                  <a:srgbClr val="dee3ee"/>
                </a:solidFill>
                <a:latin typeface="Arial"/>
              </a:rPr>
              <a:t> of players</a:t>
            </a:r>
            <a:endParaRPr b="0" lang="en-US" sz="2000" spc="-1" strike="noStrike">
              <a:solidFill>
                <a:srgbClr val="dee3ee"/>
              </a:solidFill>
              <a:latin typeface="Arial"/>
            </a:endParaRPr>
          </a:p>
          <a:p>
            <a:pPr lvl="1" marL="743040" indent="-285840">
              <a:lnSpc>
                <a:spcPct val="10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e3ee"/>
                </a:solidFill>
                <a:latin typeface="Courier New"/>
              </a:rPr>
              <a:t>http://www.usps.gov/postalinspectors/pyramid.htm</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635CAE85-2AA6-4DF7-AA4A-9A3C1C4A5010}" type="slidenum">
              <a:t>8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 S Laws</a:t>
            </a:r>
            <a:endParaRPr b="1" lang="en-US" sz="4800" spc="-1" strike="noStrike">
              <a:solidFill>
                <a:srgbClr val="dee3ee"/>
              </a:solidFill>
              <a:latin typeface="Arial Narrow"/>
            </a:endParaRPr>
          </a:p>
        </p:txBody>
      </p:sp>
      <p:sp>
        <p:nvSpPr>
          <p:cNvPr id="32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1618 Consumer Anti-Scamming Act of </a:t>
            </a:r>
            <a:r>
              <a:rPr b="0" lang="en-US" sz="2400" spc="-1" strike="noStrike" u="sng">
                <a:solidFill>
                  <a:srgbClr val="dee3ee"/>
                </a:solidFill>
                <a:uFillTx/>
                <a:latin typeface="Arial"/>
              </a:rPr>
              <a:t>1998</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ED!  Any email that refers to this law is definitely spam.</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alition Against Unsolicited Commercial Emaill (CAU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www.cauce.org/legislation.html</a:t>
            </a:r>
            <a:endParaRPr b="0" lang="en-US" sz="2000" spc="-1" strike="noStrike">
              <a:solidFill>
                <a:srgbClr val="dee3ee"/>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AE7AF67C-06A7-4952-8A66-DD0860AA0805}" type="slidenum">
              <a:t>85</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Responsible Bulk Email</a:t>
            </a:r>
            <a:endParaRPr b="1" lang="en-US" sz="4800" spc="-1" strike="noStrike">
              <a:solidFill>
                <a:srgbClr val="dee3ee"/>
              </a:solidFill>
              <a:latin typeface="Arial Narrow"/>
            </a:endParaRPr>
          </a:p>
        </p:txBody>
      </p:sp>
      <p:sp>
        <p:nvSpPr>
          <p:cNvPr id="33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True opt-in requires validation</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vide an opt-out when you collect the addres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Validate addresses by sending email confirming opt-in</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on’t fall into typical marketing speak</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y is the person is getting the messag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vide any information possible to ensure the recipient doesn’t consider the message to be unsolicited</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vide a “how’s my driving” address</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ave an “abuse” email address that work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spond to “abuse” email</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gister at abuse.net</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AC08FE08-A3DB-4561-A412-23C6B3687792}" type="slidenum">
              <a:t>86</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SPs: Preventing other abuses</a:t>
            </a:r>
            <a:endParaRPr b="1" lang="en-US" sz="4800" spc="-1" strike="noStrike">
              <a:solidFill>
                <a:srgbClr val="dee3ee"/>
              </a:solidFill>
              <a:latin typeface="Arial Narrow"/>
            </a:endParaRPr>
          </a:p>
        </p:txBody>
      </p:sp>
      <p:sp>
        <p:nvSpPr>
          <p:cNvPr id="33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ilter everything except those activities you endorse</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For hourly dialup users filter:</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 incoming SYN (not established) packets</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ll outgoing packets except what you endorse</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utgoing SMTP to any relay except your own</a:t>
            </a:r>
            <a:endParaRPr b="0" lang="en-US" sz="20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re complicated for dedicated/business customers</a:t>
            </a:r>
            <a:endParaRPr b="0" lang="en-US" sz="2400" spc="-1" strike="noStrike">
              <a:solidFill>
                <a:srgbClr val="dee3ee"/>
              </a:solidFill>
              <a:latin typeface="Arial"/>
            </a:endParaRPr>
          </a:p>
          <a:p>
            <a:pPr marL="343080" indent="-343080">
              <a:lnSpc>
                <a:spcPct val="90000"/>
              </a:lnSpc>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lways filter at your upstream &amp; downstream borders</a:t>
            </a:r>
            <a:endParaRPr b="0" lang="en-US" sz="24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FC1918</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127/8</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rected-broadcast</a:t>
            </a:r>
            <a:endParaRPr b="0" lang="en-US" sz="2000" spc="-1" strike="noStrike">
              <a:solidFill>
                <a:srgbClr val="dee3ee"/>
              </a:solidFill>
              <a:latin typeface="Arial"/>
            </a:endParaRPr>
          </a:p>
          <a:p>
            <a:pPr lvl="1" marL="743040" indent="-285840">
              <a:lnSpc>
                <a:spcPct val="90000"/>
              </a:lnSpc>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urce route</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D415B261-DB0B-4587-ACBC-AE6599572E7E}" type="slidenum">
              <a:t>87</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SPs: Capitalize on Prevention</a:t>
            </a:r>
            <a:endParaRPr b="1" lang="en-US" sz="4800" spc="-1" strike="noStrike">
              <a:solidFill>
                <a:srgbClr val="dee3ee"/>
              </a:solidFill>
              <a:latin typeface="Arial Narrow"/>
            </a:endParaRPr>
          </a:p>
        </p:txBody>
      </p:sp>
      <p:sp>
        <p:nvSpPr>
          <p:cNvPr id="33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99% of users only need these outgoing session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OP to your POP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MTP to your SMTP rela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HTTP to anywher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arge extra for unrestricted client-side initiation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vide incoming “security” for fre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harge extra for unrestricted incoming</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460C631-976E-49F8-990C-E45182B2F30F}" type="slidenum">
              <a:t>88</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Internet Cafes</a:t>
            </a:r>
            <a:endParaRPr b="1" lang="en-US" sz="4800" spc="-1" strike="noStrike">
              <a:solidFill>
                <a:srgbClr val="dee3ee"/>
              </a:solidFill>
              <a:latin typeface="Arial Narrow"/>
            </a:endParaRPr>
          </a:p>
        </p:txBody>
      </p:sp>
      <p:sp>
        <p:nvSpPr>
          <p:cNvPr id="33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pecial problem of no user identificatio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Enables Spam and run</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quire identification and log customer access</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isable any means of abus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move ALL applications not intended for us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un browser in “kiosk” mod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disable client side tools like java</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event physical access to I/O, e.g. floppy/cd/seria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move system access, e.g. run, ms-dos, explorer</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538E67A5-0E3F-4509-8564-14637B3E44EF}" type="slidenum">
              <a:t>89</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onfig Language Comments</a:t>
            </a:r>
            <a:endParaRPr b="1" lang="en-US" sz="4800" spc="-1" strike="noStrike">
              <a:solidFill>
                <a:srgbClr val="dee3ee"/>
              </a:solidFill>
              <a:latin typeface="Arial Narrow"/>
            </a:endParaRPr>
          </a:p>
        </p:txBody>
      </p:sp>
      <p:sp>
        <p:nvSpPr>
          <p:cNvPr id="118"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Comments can be C style, C++ style or shell styl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 xxx type, one line only</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 xxx */ type, may span multiple lines, cannot be nested</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 xxx type, also only one line</a:t>
            </a: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 does not begin a comment, instead it ends a statement</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F94F94D-852D-45EB-9D41-CBC981787932}" type="slidenum">
              <a:t>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Monitoring Use</a:t>
            </a:r>
            <a:endParaRPr b="1" lang="en-US" sz="4800" spc="-1" strike="noStrike">
              <a:solidFill>
                <a:srgbClr val="dee3ee"/>
              </a:solidFill>
              <a:latin typeface="Arial Narrow"/>
            </a:endParaRPr>
          </a:p>
        </p:txBody>
      </p:sp>
      <p:sp>
        <p:nvSpPr>
          <p:cNvPr id="339"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LOG LOG LOG</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il head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op server</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yslo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adius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outer packet filt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firewall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niff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NMP monitors</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Duplicate log entries on a secure system</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760489A-5A2F-421C-A886-BA8C85072303}" type="slidenum">
              <a:t>90</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Enforcement</a:t>
            </a:r>
            <a:endParaRPr b="1" lang="en-US" sz="4800" spc="-1" strike="noStrike">
              <a:solidFill>
                <a:srgbClr val="dee3ee"/>
              </a:solidFill>
              <a:latin typeface="Arial Narrow"/>
            </a:endParaRPr>
          </a:p>
        </p:txBody>
      </p:sp>
      <p:sp>
        <p:nvSpPr>
          <p:cNvPr id="34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oactiv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eventive measures already discuss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ustomer awarenes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know your customers - disallow anonymity</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Reactiv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ake action on each and every abuse</a:t>
            </a:r>
            <a:endParaRPr b="0" lang="en-US" sz="2000" spc="-1" strike="noStrike">
              <a:solidFill>
                <a:srgbClr val="dee3ee"/>
              </a:solidFill>
              <a:latin typeface="Arial"/>
            </a:endParaRPr>
          </a:p>
          <a:p>
            <a:pPr lvl="2" marL="1143000" indent="-228600">
              <a:spcBef>
                <a:spcPts val="451"/>
              </a:spcBef>
              <a:buClr>
                <a:srgbClr val="ffcc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otify, educate, and warn or sanction</a:t>
            </a:r>
            <a:endParaRPr b="0" lang="en-US" sz="18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Sanction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arn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wo strikes, you’re out</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0E8D62CC-8076-441F-A780-3DAA239E502B}" type="slidenum">
              <a:t>91</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Customer Awareness</a:t>
            </a:r>
            <a:endParaRPr b="1" lang="en-US" sz="4800" spc="-1" strike="noStrike">
              <a:solidFill>
                <a:srgbClr val="dee3ee"/>
              </a:solidFill>
              <a:latin typeface="Arial Narrow"/>
            </a:endParaRPr>
          </a:p>
        </p:txBody>
      </p:sp>
      <p:sp>
        <p:nvSpPr>
          <p:cNvPr id="34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Most customers are completely ignorant of acceptable use policy and issu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is is why technical prevention is crucial</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ake AUP readily availabl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fer to AUP ofte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rovide introductory training for user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dentify good practices for marketing and advertising</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fer to AUP ofte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quire customer signature acknowledging sanc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fer to AUP often</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rite a readable AUP</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3FF704E7-A9AC-4C85-9137-E82E2F772177}" type="slidenum">
              <a:t>92</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Writing your AUP</a:t>
            </a:r>
            <a:endParaRPr b="1" lang="en-US" sz="4800" spc="-1" strike="noStrike">
              <a:solidFill>
                <a:srgbClr val="dee3ee"/>
              </a:solidFill>
              <a:latin typeface="Arial Narrow"/>
            </a:endParaRPr>
          </a:p>
        </p:txBody>
      </p:sp>
      <p:sp>
        <p:nvSpPr>
          <p:cNvPr id="345"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What your AUP should contain</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y the AUP is necessa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ere the rules come from</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What makes activities unacceptable and wh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amples of acceptable us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Examples of unacceptable use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Possible sanction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Recourse</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uthorit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ontact for more information or clarification on specific activities</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438EAB8F-CA24-4ECC-89AD-8C827C0E4340}" type="slidenum">
              <a:t>93</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ummary</a:t>
            </a:r>
            <a:endParaRPr b="1" lang="en-US" sz="4800" spc="-1" strike="noStrike">
              <a:solidFill>
                <a:srgbClr val="dee3ee"/>
              </a:solidFill>
              <a:latin typeface="Arial Narrow"/>
            </a:endParaRPr>
          </a:p>
        </p:txBody>
      </p:sp>
      <p:sp>
        <p:nvSpPr>
          <p:cNvPr id="34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An AUP is the cornerstone of use management</a:t>
            </a:r>
            <a:endParaRPr b="0" lang="en-US" sz="2400" spc="-1" strike="noStrike">
              <a:solidFill>
                <a:srgbClr val="dee3e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revention is the foundation</a:t>
            </a:r>
            <a:endParaRPr b="0" lang="en-US" sz="2400" spc="-1" strike="noStrike">
              <a:solidFill>
                <a:srgbClr val="dee3ee"/>
              </a:solidFill>
              <a:latin typeface="Arial"/>
            </a:endParaRPr>
          </a:p>
        </p:txBody>
      </p:sp>
      <p:sp>
        <p:nvSpPr>
          <p:cNvPr id="4" name="PlaceHolder 3"/>
          <p:cNvSpPr>
            <a:spLocks noGrp="1"/>
          </p:cNvSpPr>
          <p:nvPr>
            <p:ph type="ftr" idx="2"/>
          </p:nvPr>
        </p:nvSpPr>
        <p:spPr/>
        <p:txBody>
          <a:bodyPr/>
          <a:p>
            <a:r>
              <a:t>© Barb Dijker</a:t>
            </a:r>
          </a:p>
        </p:txBody>
      </p:sp>
      <p:sp>
        <p:nvSpPr>
          <p:cNvPr id="5" name="PlaceHolder 4"/>
          <p:cNvSpPr>
            <a:spLocks noGrp="1"/>
          </p:cNvSpPr>
          <p:nvPr>
            <p:ph type="sldNum" idx="3"/>
          </p:nvPr>
        </p:nvSpPr>
        <p:spPr/>
        <p:txBody>
          <a:bodyPr/>
          <a:p>
            <a:fld id="{2B585C13-E3C6-473E-8900-CD05FF10B288}" type="slidenum">
              <a:t>94</a:t>
            </a:fld>
          </a:p>
        </p:txBody>
      </p:sp>
      <p:sp>
        <p:nvSpPr>
          <p:cNvPr id="6" name="PlaceHolder 5"/>
          <p:cNvSpPr>
            <a:spLocks noGrp="1"/>
          </p:cNvSpPr>
          <p:nvPr>
            <p:ph type="dt" idx="1"/>
          </p:nvPr>
        </p:nvSpPr>
        <p:spPr/>
        <p:txBody>
          <a:bodyPr/>
          <a:p>
            <a:r>
              <a:rPr lang="en-US"/>
              <a:t>29 Feb 2000</a:t>
            </a:r>
          </a:p>
        </p:txBody>
      </p:sp>
    </p:spTree>
  </p:cSld>
  <p:transition spd="med">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379680" y="1579320"/>
            <a:ext cx="5569200" cy="1523880"/>
          </a:xfrm>
          <a:prstGeom prst="rect">
            <a:avLst/>
          </a:prstGeom>
          <a:noFill/>
          <a:ln w="0">
            <a:noFill/>
          </a:ln>
        </p:spPr>
        <p:txBody>
          <a:bodyPr lIns="92160" rIns="92160" tIns="46080" bIns="460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ee3ee"/>
                </a:solidFill>
                <a:latin typeface="Arial Narrow"/>
              </a:rPr>
              <a:t>Web Server Performance</a:t>
            </a:r>
            <a:endParaRPr b="1" lang="en-US" sz="6600" spc="-1" strike="noStrike">
              <a:solidFill>
                <a:srgbClr val="dee3ee"/>
              </a:solidFill>
              <a:latin typeface="Arial Narrow"/>
            </a:endParaRPr>
          </a:p>
        </p:txBody>
      </p:sp>
      <p:sp>
        <p:nvSpPr>
          <p:cNvPr id="349" name="PlaceHolder 2"/>
          <p:cNvSpPr>
            <a:spLocks noGrp="1"/>
          </p:cNvSpPr>
          <p:nvPr>
            <p:ph type="subTitle"/>
          </p:nvPr>
        </p:nvSpPr>
        <p:spPr>
          <a:xfrm>
            <a:off x="4191120" y="381168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PRICOT2000</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eoul, South Korea</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 Dijker</a:t>
            </a:r>
            <a:endParaRPr b="0" lang="en-US" sz="2000" spc="-1" strike="noStrike">
              <a:solidFill>
                <a:srgbClr val="dee3ee"/>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rb@netrack.net</a:t>
            </a:r>
            <a:endParaRPr b="0" lang="en-US" sz="2000" spc="-1" strike="noStrike">
              <a:solidFill>
                <a:srgbClr val="dee3ee"/>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Server Performance</a:t>
            </a:r>
            <a:endParaRPr b="1" lang="en-US" sz="4800" spc="-1" strike="noStrike">
              <a:solidFill>
                <a:srgbClr val="dee3ee"/>
              </a:solidFill>
              <a:latin typeface="Arial Narrow"/>
            </a:endParaRPr>
          </a:p>
        </p:txBody>
      </p:sp>
      <p:sp>
        <p:nvSpPr>
          <p:cNvPr id="351"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Performance Variables</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PU spe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Memory</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IO bandwidth</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us speed</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rchitectural gotchas</a:t>
            </a:r>
            <a:endParaRPr b="0" lang="en-US" sz="20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oftware</a:t>
            </a:r>
            <a:endParaRPr b="0" lang="en-US" sz="2000" spc="-1" strike="noStrike">
              <a:solidFill>
                <a:srgbClr val="dee3ee"/>
              </a:solidFill>
              <a:latin typeface="Arial"/>
            </a:endParaRPr>
          </a:p>
          <a:p>
            <a:pPr marL="343080" indent="-343080">
              <a:spcBef>
                <a:spcPts val="601"/>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e3ee"/>
                </a:solidFill>
                <a:latin typeface="Arial"/>
              </a:rPr>
              <a:t>Hard to size web server in advance</a:t>
            </a:r>
            <a:endParaRPr b="0" lang="en-US" sz="2400" spc="-1" strike="noStrike">
              <a:solidFill>
                <a:srgbClr val="dee3ee"/>
              </a:solidFill>
              <a:latin typeface="Arial"/>
            </a:endParaRPr>
          </a:p>
          <a:p>
            <a:pPr lvl="1" marL="743040" indent="-285840">
              <a:spcBef>
                <a:spcPts val="499"/>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Sizing for 1-2 millions hits/day</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D87ADD5B-8688-4958-9A33-D63AF00CE197}" type="slidenum">
              <a:t>96</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Achieving Balance</a:t>
            </a:r>
            <a:endParaRPr b="1" lang="en-US" sz="4800" spc="-1" strike="noStrike">
              <a:solidFill>
                <a:srgbClr val="dee3ee"/>
              </a:solidFill>
              <a:latin typeface="Arial Narrow"/>
            </a:endParaRPr>
          </a:p>
        </p:txBody>
      </p:sp>
      <p:sp>
        <p:nvSpPr>
          <p:cNvPr id="353"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Balance very important for overall performance</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eed all aspects of performance to run out of capacity at about the same point</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One of the major advantages of UNIX over other web server platforms  is that it can be finely measured and tuned</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No mysteries as to how things are architected</a:t>
            </a:r>
            <a:endParaRPr b="0" lang="en-US" sz="18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esigned as a multi-user operating system from the start</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most commonly misunderstood web server performance aspect is I/O</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In most cases, more CPU's do not mean more performance</a:t>
            </a:r>
            <a:endParaRPr b="0" lang="en-US" sz="1800" spc="-1" strike="noStrike">
              <a:solidFill>
                <a:srgbClr val="dee3ee"/>
              </a:solidFill>
              <a:latin typeface="Arial"/>
            </a:endParaRPr>
          </a:p>
          <a:p>
            <a:pPr marL="343080" indent="-3430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re's no magic performance "crystal ball"</a:t>
            </a:r>
            <a:endParaRPr b="0" lang="en-US" sz="2000" spc="-1" strike="noStrike">
              <a:solidFill>
                <a:srgbClr val="dee3ee"/>
              </a:solidFill>
              <a:latin typeface="Arial"/>
            </a:endParaRPr>
          </a:p>
          <a:p>
            <a:pPr lvl="1" marL="743040" indent="-28584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You have to measure the performance of your actual production system  to ascertain bottlenecks</a:t>
            </a:r>
            <a:endParaRPr b="0" lang="en-US" sz="18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4976B515-25FB-4B0F-AB94-EA3DADCBD6EA}" type="slidenum">
              <a:t>97</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Basic Balance</a:t>
            </a:r>
            <a:endParaRPr b="1" lang="en-US" sz="4800" spc="-1" strike="noStrike">
              <a:solidFill>
                <a:srgbClr val="dee3ee"/>
              </a:solidFill>
              <a:latin typeface="Arial Narrow"/>
            </a:endParaRPr>
          </a:p>
        </p:txBody>
      </p:sp>
      <p:sp>
        <p:nvSpPr>
          <p:cNvPr id="355" name="PlaceHolder 2"/>
          <p:cNvSpPr>
            <a:spLocks noGrp="1"/>
          </p:cNvSpPr>
          <p:nvPr>
            <p:ph/>
          </p:nvPr>
        </p:nvSpPr>
        <p:spPr>
          <a:xfrm>
            <a:off x="304920" y="1600200"/>
            <a:ext cx="86104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1 measure of UNIX performance health is how the machine spends its time</a:t>
            </a:r>
            <a:endParaRPr b="0" lang="en-US" sz="20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 "golden rule" is a 50/50 mix between "user" time and "system time"</a:t>
            </a:r>
            <a:endParaRPr b="0" lang="en-US" sz="20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While this doesn't work for all UNIX applications, it's darn good for  web servers</a:t>
            </a:r>
            <a:endParaRPr b="0" lang="en-US" sz="18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machine which tends to spend more cycles as "user" time may be CPU-bound</a:t>
            </a:r>
            <a:endParaRPr b="0" lang="en-US" sz="20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A machine which tends to spend more cycles as "system" time is  probably I/O-bound or might be virtual memory system</a:t>
            </a:r>
            <a:endParaRPr b="0" lang="en-US" sz="20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These ratios don't work if the machine suffers from other serious "illness"  </a:t>
            </a:r>
            <a:endParaRPr b="0" lang="en-US" sz="20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Run-away processes (CPU or memory)</a:t>
            </a:r>
            <a:endParaRPr b="0" lang="en-US" sz="18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Lossy network (collisions)</a:t>
            </a:r>
            <a:endParaRPr b="0" lang="en-US" sz="1800" spc="-1" strike="noStrike">
              <a:solidFill>
                <a:srgbClr val="dee3ee"/>
              </a:solidFill>
              <a:latin typeface="Arial"/>
            </a:endParaRPr>
          </a:p>
          <a:p>
            <a:pPr lvl="1" marL="727920" indent="-280080">
              <a:lnSpc>
                <a:spcPct val="90000"/>
              </a:lnSpc>
              <a:spcBef>
                <a:spcPts val="451"/>
              </a:spcBef>
              <a:buClr>
                <a:srgbClr val="dee3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e3ee"/>
                </a:solidFill>
                <a:latin typeface="Arial"/>
              </a:rPr>
              <a:t>Disks with bad blocks</a:t>
            </a:r>
            <a:endParaRPr b="0" lang="en-US" sz="1800" spc="-1" strike="noStrike">
              <a:solidFill>
                <a:srgbClr val="dee3ee"/>
              </a:solidFill>
              <a:latin typeface="Arial"/>
            </a:endParaRPr>
          </a:p>
          <a:p>
            <a:pPr marL="335880" indent="-335880">
              <a:lnSpc>
                <a:spcPct val="90000"/>
              </a:lnSpc>
              <a:spcBef>
                <a:spcPts val="499"/>
              </a:spcBef>
              <a:buClr>
                <a:srgbClr val="ffcc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e3ee"/>
                </a:solidFill>
                <a:latin typeface="Arial"/>
              </a:rPr>
              <a:t>Check for general health before comparing user/system ratio</a:t>
            </a:r>
            <a:endParaRPr b="0" lang="en-US" sz="20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1BF9B9B9-37BE-482D-858D-95ABD2D31711}" type="slidenum">
              <a:t>98</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0"/>
            </a:gs>
            <a:gs pos="100000">
              <a:srgbClr val="314877"/>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47480" y="380520"/>
            <a:ext cx="8467560" cy="11430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ee3ee"/>
                </a:solidFill>
                <a:latin typeface="Arial Narrow"/>
              </a:rPr>
              <a:t>User/System Ratio examples</a:t>
            </a:r>
            <a:endParaRPr b="1" lang="en-US" sz="4800" spc="-1" strike="noStrike">
              <a:solidFill>
                <a:srgbClr val="dee3ee"/>
              </a:solidFill>
              <a:latin typeface="Arial Narrow"/>
            </a:endParaRPr>
          </a:p>
        </p:txBody>
      </p:sp>
      <p:sp>
        <p:nvSpPr>
          <p:cNvPr id="357" name="PlaceHolder 2"/>
          <p:cNvSpPr>
            <a:spLocks noGrp="1"/>
          </p:cNvSpPr>
          <p:nvPr>
            <p:ph/>
          </p:nvPr>
        </p:nvSpPr>
        <p:spPr>
          <a:xfrm>
            <a:off x="304920" y="1839960"/>
            <a:ext cx="8610480" cy="4255920"/>
          </a:xfrm>
          <a:prstGeom prst="rect">
            <a:avLst/>
          </a:prstGeom>
          <a:noFill/>
          <a:ln w="0">
            <a:noFill/>
          </a:ln>
        </p:spPr>
        <p:txBody>
          <a:bodyPr lIns="92160" rIns="92160" tIns="46080" bIns="46080" anchor="t">
            <a:normAutofit/>
          </a:bodyPr>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web 4 % vmstat 5</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procs     memory      page                     disks      faults      cpu</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  b w    avm    fre  flt  re  pi  po  fr  sr  s0  s1   in   sy  cs us sy  id</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2 0 331940  19432  194  35  24   0   0   2   5   9  223 1005 421 25 13  63</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9  2 0 338552  18652  548  86  51   0   0   0  25  24  509 3317 1113 41 46  13</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3 0 335352  20432  288  40  50   0   0   0  27   4  392 2508 1176 22 30  48</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2 0 331612  20668  318  87  58   0   0   0  10  22  375 1668 1147 15 25  60</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2 0 331060  20884  171  52  40   0   0   0   2   4  317 1294 1010 12 22  67</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43  2 0 329908  20528  293  68  64   0   0   0   0  16  351 1773 1145 21 29  50</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2  2 0 331760  18140  285  41  45   0   0   0   1   6  377 1876 1360 59 34   6</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2  2 0 336168  14844  397  58  57   0   0   0  12  21  384 1774 1150 63 37   0</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web2b % vmstat 5</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procs     memory      page                     disks      faults      cpu</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r  b w    avm    fre  flt  re  pi  po  fr  sr  s0  s1   in   sy  cs us sy  id</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0 0 151484 107772  102  38   2   0   0   0  22   9  109  156 165 22 15  63</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0 0 149888 108540  854 112   7   0   0   0   7   6  917 4951 5802 13 39  48</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8 0 151108 108212  509  75   4   0   0   0  32  32  763 3089 3574  8 23  69</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3  0 0 152688 107344  610  44   5   0   0   0  34  11  834 3767 3718 12 28  60</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0  0 0 153276 107344  527  38   3   0   0   0   5   5  841 4176 4174  7 27  66</a:t>
            </a:r>
            <a:endParaRPr b="0" lang="en-US" sz="1200" spc="-1" strike="noStrike">
              <a:solidFill>
                <a:srgbClr val="dee3ee"/>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ee3ee"/>
                </a:solidFill>
                <a:latin typeface="Courier New"/>
              </a:rPr>
              <a:t> </a:t>
            </a:r>
            <a:r>
              <a:rPr b="1" lang="en-US" sz="1200" spc="-1" strike="noStrike">
                <a:solidFill>
                  <a:srgbClr val="dee3ee"/>
                </a:solidFill>
                <a:latin typeface="Courier New"/>
              </a:rPr>
              <a:t>1  0 0 148660 107264  432  23   4   0   0   0   7   6  814 4251 3108 11 21  6</a:t>
            </a:r>
            <a:endParaRPr b="0" lang="en-US" sz="1200" spc="-1" strike="noStrike">
              <a:solidFill>
                <a:srgbClr val="dee3ee"/>
              </a:solidFill>
              <a:latin typeface="Arial"/>
            </a:endParaRPr>
          </a:p>
        </p:txBody>
      </p:sp>
      <p:sp>
        <p:nvSpPr>
          <p:cNvPr id="4" name="PlaceHolder 3"/>
          <p:cNvSpPr>
            <a:spLocks noGrp="1"/>
          </p:cNvSpPr>
          <p:nvPr>
            <p:ph type="ftr" idx="2"/>
          </p:nvPr>
        </p:nvSpPr>
        <p:spPr/>
        <p:txBody>
          <a:bodyPr/>
          <a:p>
            <a:r>
              <a:t>© Evi Nemeth &amp; Trent Hein</a:t>
            </a:r>
          </a:p>
        </p:txBody>
      </p:sp>
      <p:sp>
        <p:nvSpPr>
          <p:cNvPr id="5" name="PlaceHolder 4"/>
          <p:cNvSpPr>
            <a:spLocks noGrp="1"/>
          </p:cNvSpPr>
          <p:nvPr>
            <p:ph type="sldNum" idx="3"/>
          </p:nvPr>
        </p:nvSpPr>
        <p:spPr/>
        <p:txBody>
          <a:bodyPr/>
          <a:p>
            <a:fld id="{7BFC92C2-1724-40F6-A301-95E68B70581F}" type="slidenum">
              <a:t>99</a:t>
            </a:fld>
          </a:p>
        </p:txBody>
      </p:sp>
      <p:sp>
        <p:nvSpPr>
          <p:cNvPr id="6" name="PlaceHolder 5"/>
          <p:cNvSpPr>
            <a:spLocks noGrp="1"/>
          </p:cNvSpPr>
          <p:nvPr>
            <p:ph type="dt" idx="1"/>
          </p:nvPr>
        </p:nvSpPr>
        <p:spPr/>
        <p:txBody>
          <a:bodyPr/>
          <a:p>
            <a:r>
              <a:rPr lang="en-US"/>
              <a:t>29 Feb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1T15:33:59Z</dcterms:created>
  <dc:creator>Barbara L. Dijker</dc:creator>
  <dc:description/>
  <dc:language>en-US</dc:language>
  <cp:lastModifiedBy>Barbara L. Dijker</cp:lastModifiedBy>
  <dcterms:modified xsi:type="dcterms:W3CDTF">2000-02-22T00:10:52Z</dcterms:modified>
  <cp:revision>88</cp:revision>
  <dc:subject/>
  <dc:title>Routing Protocols</dc:title>
</cp:coreProperties>
</file>