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695-EC3B-410D-8A45-9C250B20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13E-6CEE-4B3D-BFEC-2BBF98AA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EB0-8BAD-4C97-878B-C35E577F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A28-9A4A-4C75-96EA-8AD69848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55A-0F24-4F5F-9134-4BC36D95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B6A-3AE0-4F3E-9873-46ED1972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E3D-61F5-4C12-9361-1F4DF8AC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BDA-44A2-4B41-B8D5-4DD4D60B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8E4-9755-4028-BD68-8886DF03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960-2B73-4AEC-8772-4CFF2C48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C38-7C92-4B31-8748-65DA6F3D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435-B1E1-472B-98E0-BCEA16A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EE83-D61B-4F2E-AFA7-B7B41352B6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804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APRICOT2000 in SEOU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The Internet Phenomenon in Korea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8120"/>
            <a:ext cx="82296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arch 1, 20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ang-Hyon Kyo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Graduate School of Manage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 Advanced Institute of Science and Technolog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4C6-A883-42BA-A8C9-C448D21B86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6104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Cyber Korea 21” to Promot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Digital Economy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Global standards and international harmoniz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romoting computer literac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Legal and institutional refor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Educational refor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Electronic government; The CIO Council; informatization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f social infrastructure and servic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imulating private sector productivity enhancement;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reating new industries and job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E0C-0F45-46DE-A3F8-8C54910841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95280" y="1828800"/>
            <a:ext cx="723924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User-Driven Innovations” in Action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Free Internet Phone Call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Internet Plazas and Starcraft Fever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Cyber Stock Trad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opular Porta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428-D155-4171-B0A1-CAA1C95E92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1295280"/>
            <a:ext cx="746748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Times New Roman"/>
              </a:rPr>
              <a:t>Free Internet Phone Calls</a:t>
            </a:r>
            <a:r>
              <a:rPr b="0" lang="ko-KR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“Dialpad” of Serome Technolog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Java-based VoIP technology for PC-to-phon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arted in the US in October, 1999, and in Korea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January, 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Over 4 million users and growing rapidl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everal others are soon to join with their ow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06D-A0F9-437E-8C1C-D605A382F9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19320" y="1295280"/>
            <a:ext cx="701028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Internet Plazas and Starcraft Fever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Over 13,000 Internet Plazas all over the country;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vide Internet access and games; typically with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20~50 PCs and T1 lin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everal major Internet game companies (Mari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elecom, Nexon, NCSoft, etc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Koreans dominate in most global Starcraft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mpeti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861-7299-499D-AEC0-8873E161F6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1676520"/>
            <a:ext cx="716292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Cyber Stock Trading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Over 40% of total transactions on the Inter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robably the highest percentage in the worl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ill growing; 3.7% in December, ‘98, and 40.2%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December, ‘9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3B2-49DC-4EEB-BA2C-2D87AF07EC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523880"/>
            <a:ext cx="8001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Popular Portal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“Hanmail” of Daum Communic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6 million subscribers (13% of population; number o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OL’s subscribers is about 8% of the US populatio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ill growing; 1 million in January, ‘99, and 6 mill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January, 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617-026C-4E62-B129-13FA8CACBE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57400" y="2057400"/>
            <a:ext cx="53341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net Phenomenon in Kore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in pretty good shape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352680"/>
            <a:ext cx="4952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2B7-DA11-486F-86EA-6C8DF5B357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09680" y="1523880"/>
            <a:ext cx="51818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ge of the Interne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hy and How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Network Openn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“User-Driven Innovations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Role of Governmen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365-3A71-4A9F-A737-3F6E347CB7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oreamap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62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5400" y="2286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D73-81A3-487F-9A31-74FD6C4079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066680"/>
            <a:ext cx="77724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ternet Phenomenon in Kore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ate of Network Openness 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communications Mark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ate of Infrastructure Develop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ate of Internet Us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“Cyber Korea 21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User-Driven Innovations in A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DEE-3BD3-48D3-8EB1-A2CDF56934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72960" y="1162080"/>
            <a:ext cx="67874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e of Network Openness an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communications Mar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erious “network opening” and competition-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oting measures started in 199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Institutionally, “network openness” has bee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ieved and the market is fully competitiv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36 facilities-based providers; over 200 resellers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 1,000 value-added provide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05E-6785-4EB7-A524-9CC16D5212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1600200"/>
            <a:ext cx="69343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State of Infrastruc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Korea Information Infrastructure Initiativ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ublic Sector KI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Commercial KI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BCA-99E4-4DDC-9BC1-5C96F7B3FA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685800"/>
            <a:ext cx="89154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Public Sector KII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ublic sector financing; built, owned and operated by PTOs;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ublic investment recovered through concessionary rat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or public sector us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rovide low-cost advanced network services to government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gencies, public institutions, educational, R&amp;D and healthca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stitutions, and SM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upport development and test of technologies and applic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Stimulate demand, private sector investment, and R&amp;D i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broadband infrastructure and servic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A4D-65BC-48B3-B552-6126F66A9C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1219320"/>
            <a:ext cx="72388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Commercial KII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Private sector investment; built and operate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ompetitively by PTO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Facilities-based operators building ATM- a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DM-based backbones in the country; also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articipating in new international link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- Local carriers in fierce competition for provi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f broadband acces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955-734F-492E-B717-CBB67C512E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066680"/>
            <a:ext cx="85345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State of Internet Usage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4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5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o. Hosts         7,650    13,856   36,644   73,191  131,005  202,510  460,974*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o. Domains         61         192        579     2,664      8,045    26,166  207,02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o. Users              ---          138        366        731      1,634      3,103    10,86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x1,00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1) Source: Korea Network Information Center (http://www.nic.or.kr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(2) As of end of the year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* As of end of August.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981080"/>
            <a:ext cx="807696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4382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1240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733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D20-DE39-4A08-8FD0-C3E022C98E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08:32:02Z</dcterms:created>
  <dc:creator>서은진</dc:creator>
  <dc:description/>
  <dc:language>en-US</dc:language>
  <cp:lastModifiedBy>경상현</cp:lastModifiedBy>
  <cp:lastPrinted>2000-02-10T23:32:24Z</cp:lastPrinted>
  <dcterms:modified xsi:type="dcterms:W3CDTF">2000-02-11T00:53:18Z</dcterms:modified>
  <cp:revision>63</cp:revision>
  <dc:subject/>
  <dc:title>PowerPoint 프레젠테이션</dc:title>
</cp:coreProperties>
</file>