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E114-B902-4C70-9083-F9B28F39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DBEE-E61C-4F1F-832C-A18DD26B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7B54-D859-4E44-96A8-EF9A24F0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389-E16C-47EA-BA21-34BA5D5C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947C-9452-4D1B-B3D5-6EA64796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3238-76F5-45D5-9D84-894CBFDC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FE6-FBA6-42D6-AE7E-8E355A05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7E4B-373D-4503-AF93-4B8D4C13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4BC-2C7E-4CDE-A35A-8E55B94F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373-8477-4109-80AA-2610F5E0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B588-9B77-4FF6-AA91-EC12CDC0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1975-A322-46D7-AE92-AC0A96B5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EF64-1E4C-48F4-8EF5-687D371EF23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port on Domain Name Supporting Organization(DNSO)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. 3.1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J Park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DNHC/AP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Arial"/>
              </a:rPr>
              <a:t>gTLD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gTLD: NS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Don Telage </a:t>
            </a:r>
            <a:r>
              <a:rPr b="0" lang="ko-K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 Roger Cochett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More Members Expect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r Constituency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Members: Those who meet the requirement of being an ICANN accredited Registrar, and having completed a  Membership For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Around 100 Shared registrar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NorthA (.us) - Ken Stubb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AsiaPac (.au) - Erica Roberts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One vacancy(Election is underway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ectual Property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Members:organizations committed to the advocacy and development of intellectual property (including trademarks, copyrights, and patents) as fundamental components of meaningful commercial activity in the national, regional, and global realm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aroline Chicoine (North America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Axel Aus der Muhlen (Europe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Guillermo Carey (Latin America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P Constituency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Business/Commercial entities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ISP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AsiaPac (.jp) - Hirofumi Hotta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LatinAC (.ar) - Antonio Harris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Europe (.de) - Michael Schneid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CDNHC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Arial"/>
              </a:rPr>
              <a:t>Administrative Committee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AsiaPac (.kr) - Youn Jung Park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Africa(.mr) – Zakaria Ama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NorthA (.us) - Kathryn Kleima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Latin America(.pa) – Van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Europe(.fr) – Dany Vandrom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CDNHC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Membership Structure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Universitie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Public Organization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NICs and ISOC member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Decision Making Proces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onsultation with Member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Final decision by AdCom members(5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NCDNHC i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No Secretariat ye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Inactive member participat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Name Council-centered operat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Funding vs Right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Financial gaps between Member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apore ICANN Meeting(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99. 3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ICANN Bylaws Modification to accept to SOs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Formation Concep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lin ICANN Meeting(2nd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99. 5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O Format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Constituencies Recogniz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 Names Council select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PO Recommendat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tiago ICANN Meeting(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99. 8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mmercial Domain Name Holders Constituency Recogniz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 Names Counci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RP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 Procedure Issue Rais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of Present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DNSO Stru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onstituency Update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The Role of N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Elect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ICANN Meeting(Singapore – Cairo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WGs(A-E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Funding Mod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Arial"/>
              </a:rPr>
              <a:t>LA ICANN Annual Mtg(4th)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Arial"/>
              </a:rPr>
              <a:t>1999. 11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-Large Membership Elect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ly Elected 9 Board Member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DNSO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ASO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PSO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iro ICANN Meeting(5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0. 3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New members of Names Counci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WG B Roundtabl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WG C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At-Large Membership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How to define its membershi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How to carry out the elc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cTLD .PN Delegation/Redeleg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G-A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R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: Jonathan Cohe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d after Santiago Meeti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Drafting Committee(5-6 people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ed since last Decemb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RP Monitoring WG is being suggested at LA Meeti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G-B Status Repor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Famous Trademark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Chair: Michael Palag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Liaison NC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Kathy Kleiman(NCDNH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Philip Sheppard(Business Constitueny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Formed since San Jose INET Meeti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Arial"/>
              </a:rPr>
              <a:t>Nine Principles of New gTLD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Findabilit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ompete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Diversit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Mulitiplicit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G-C Status Repor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New gTL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Chair: Jonathan Weinber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Formed since San Jose INET Meeti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Rough Consensus: 6-10 New gTL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Implemetat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G-C Comment Summary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lass I: The Creation of new gTLDs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lass II: Wait until the implemetation of better trademark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lass III: Position Paper 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lass IV: Miscellaneou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G-D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Business Plan &amp; Internal Procedur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Chair: Bret Fauset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Liaison NC: Theresa Swineha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Formed since San Jose INET Meeti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Draft Report will be submitted to NC by March 6</a:t>
            </a:r>
            <a:r>
              <a:rPr b="0" lang="ko-KR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G-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Awareness and Outreach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hair: Kilnam Ch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Liaison NC: YJ Park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Formed since San Jose INET Meetin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Part 1: Overview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Part 2: Information Material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Part 3: Seminar and Tutorial for Outreach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Part 4: Worshop for Awareness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Part 5: Funding 1999.11 - 2000.4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 Proposal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Ken Stubbs(NC of Registrar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ICANN Staff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Elisabeth Portedeneuv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DNSO Secretari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250,000 US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Bottom-up Process(Consensus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Self-organiz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Organization-based Struc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 Detail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2 Person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Salaries: 75,000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harges and Offices accmo: 75,000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Web Hosting…: 25,000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Teleconferences: 15,000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Travels: 20,000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GA Chair(Alternate): 20,000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Accounting and Billing 5% of all: 12,000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Unexpected: 10,000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Total: 250,000 US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omain Name Supporting Organiz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General Assembl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7 Constituenc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ccTL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gTL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Registra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Non-commercial Domain Name Holders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G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WG-A:Dispute Resolution Polic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WG-B:Famous Mark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WG-C:New gTL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WG-D:Business Pla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WG-E:Global Outreach and Awarenes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of NC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DNSO Board Election(1999. 10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Alejandro Pisanty(Mexico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Amadeu Abril I Abril(Spain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Jonathan Cohen(Canada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Monthly Teleconferenc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June 11/ July 12/ Sep 15, 23/ Oct 27/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Dec 15/ Feb 18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of NC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Review Working Group’s Document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WG A UDRP(Before Santiago Mtg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WG C New gTLD(On the process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Bridge between Board and G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GA Chair Election(1999. 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Roberto Gaetano (Chair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Harald T. Alvestrand (Alternate Chair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be elected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Ele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3 Representatives from each const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1 Representative from gTL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Geographical Diversit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AP, Africa, Latin America, NA, Europ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Arial"/>
              </a:rPr>
              <a:t>ccTLD Constituency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Members: The recorded managers of an ISO 3166 country code Top Level Domain Registry in the register maintained by IANA/ICAN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Election is expecte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ENTR RFC 1: Draft 1.0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Best Practice Guidelnes for ccTLD Manager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IANA Repor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.EU Proposa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1T10:53:08Z</dcterms:created>
  <dc:creator>APTLD</dc:creator>
  <dc:description/>
  <dc:language>en-US</dc:language>
  <cp:lastModifiedBy>APTLD</cp:lastModifiedBy>
  <dcterms:modified xsi:type="dcterms:W3CDTF">2000-02-23T08:09:19Z</dcterms:modified>
  <cp:revision>4</cp:revision>
  <dc:subject/>
  <dc:title>Names Council Report</dc:title>
</cp:coreProperties>
</file>