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21280"/>
            <a:ext cx="77724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4480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2128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2128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250236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44800"/>
            <a:ext cx="250236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44800"/>
            <a:ext cx="250236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21280"/>
            <a:ext cx="250236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21280"/>
            <a:ext cx="250236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21280"/>
            <a:ext cx="250236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37926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44800"/>
            <a:ext cx="37926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42440"/>
            <a:ext cx="777240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44800"/>
            <a:ext cx="37926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2128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37926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4480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2128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4480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21280"/>
            <a:ext cx="77724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891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1049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257480" indent="-228600">
              <a:spcBef>
                <a:spcPts val="1049"/>
              </a:spcBef>
              <a:buClr>
                <a:srgbClr val="ffff00"/>
              </a:buClr>
              <a:buSzPct val="75000"/>
              <a:buFont typeface="Monotype Sorts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714680" indent="-343080">
              <a:spcBef>
                <a:spcPts val="1049"/>
              </a:spcBef>
              <a:buClr>
                <a:srgbClr val="ffff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049"/>
              </a:spcBef>
              <a:buClr>
                <a:srgbClr val="ffff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049"/>
              </a:spcBef>
              <a:buClr>
                <a:srgbClr val="ffffff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049"/>
              </a:spcBef>
              <a:buClr>
                <a:srgbClr val="ffffff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" name=""/>
          <p:cNvSpPr/>
          <p:nvPr/>
        </p:nvSpPr>
        <p:spPr>
          <a:xfrm>
            <a:off x="1440" y="6269040"/>
            <a:ext cx="9123480" cy="8568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46280" y="6365880"/>
            <a:ext cx="2728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ff"/>
                </a:solidFill>
                <a:latin typeface="Bookman Old Style"/>
                <a:ea typeface="굴림"/>
              </a:rPr>
              <a:t>© 2000,  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굴림"/>
              </a:rPr>
              <a:t>D. Crocker, Brandenburg Consul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95960" y="6218280"/>
            <a:ext cx="320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1663560"/>
            <a:ext cx="9128160" cy="7956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7" name=""/>
          <p:cNvSpPr/>
          <p:nvPr/>
        </p:nvSpPr>
        <p:spPr>
          <a:xfrm>
            <a:off x="8236080" y="6365880"/>
            <a:ext cx="3474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BD98-45C2-4BED-A041-43C3DB1A463A}" type="slidenum">
              <a:rPr b="0" i="1" lang="ko-KR" sz="1000" spc="-1" strike="noStrike">
                <a:solidFill>
                  <a:srgbClr val="ffffff"/>
                </a:solidFill>
                <a:latin typeface="Bookman Old Style"/>
                <a:ea typeface="굴림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-39600" y="0"/>
          <a:ext cx="102852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9600" y="0"/>
                    <a:ext cx="10285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950240" cy="2025360"/>
          </a:xfrm>
          <a:prstGeom prst="rect">
            <a:avLst/>
          </a:prstGeom>
          <a:solidFill>
            <a:srgbClr val="ffcc66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457200" rIns="457200" tIns="457200" bIns="45720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  <a:ea typeface="굴림"/>
              </a:rPr>
              <a:t>Scaling eMail Services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  <a:ea typeface="굴림"/>
              </a:rPr>
              <a:t>for eBusiness</a:t>
            </a:r>
            <a:endParaRPr b="1" i="1" lang="en-US" sz="36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1760" y="4343040"/>
            <a:ext cx="8232840" cy="1981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360" rIns="90360" tIns="44280" bIns="4428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r" pos="8007480"/>
                <a:tab algn="r" pos="862956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ffff00"/>
                </a:solidFill>
                <a:latin typeface="Arial"/>
                <a:ea typeface="굴림"/>
              </a:rPr>
              <a:t>&lt;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굴림"/>
              </a:rPr>
              <a:t>www.brandenburg.com/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r" pos="8007480"/>
                <a:tab algn="r" pos="862956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굴림"/>
              </a:rPr>
              <a:t>presentations/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굴림"/>
              </a:rPr>
              <a:t>scaling-email-session.ppt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굴림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0"/>
                <a:tab algn="r" pos="8007480"/>
                <a:tab algn="r" pos="862956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ookman Old Style"/>
                <a:ea typeface="굴림"/>
              </a:rPr>
              <a:t>Dave Crocker</a:t>
            </a:r>
            <a:r>
              <a:rPr b="0" i="1" lang="en-US" sz="1800" spc="-1" strike="noStrike">
                <a:solidFill>
                  <a:srgbClr val="ffcc66"/>
                </a:solidFill>
                <a:latin typeface="Bookman Old Style"/>
                <a:ea typeface="굴림"/>
              </a:rPr>
              <a:t>	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  <a:ea typeface="굴림"/>
              </a:rPr>
              <a:t>tel:  +1 (408) 246 8253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r" pos="8007480"/>
                <a:tab algn="r" pos="862956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ookman Old Style"/>
                <a:ea typeface="굴림"/>
              </a:rPr>
              <a:t>Brandenburg Consulting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  <a:ea typeface="굴림"/>
              </a:rPr>
              <a:t> fax:  +1 (408) 273 6464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r" pos="8007480"/>
                <a:tab algn="r" pos="862956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  <a:ea typeface="굴림"/>
              </a:rPr>
              <a:t>dcrocker@brandenburg.com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3960" y="614520"/>
          <a:ext cx="102888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614520"/>
                    <a:ext cx="10288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Anti-spam tools &amp; service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RFC 2505, Anti-Spam Recommendations for SMTP MTA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Mail Abuse Prevention System LLC </a:t>
            </a:r>
            <a:r>
              <a:rPr b="0" lang="en-US" sz="2400" spc="-1" strike="noStrike">
                <a:solidFill>
                  <a:srgbClr val="00ffff"/>
                </a:solidFill>
                <a:latin typeface="Courier New"/>
                <a:ea typeface="굴림"/>
              </a:rPr>
              <a:t>&lt;http://maps.vix.com/&gt;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Configuration checking:  </a:t>
            </a:r>
            <a:r>
              <a:rPr b="0" lang="en-US" sz="2400" spc="-1" strike="noStrike">
                <a:solidFill>
                  <a:srgbClr val="00ffff"/>
                </a:solidFill>
                <a:latin typeface="Courier New"/>
                <a:ea typeface="굴림"/>
              </a:rPr>
              <a:t>Spamcop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,…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Filtering rule service </a:t>
            </a:r>
            <a:r>
              <a:rPr b="0" lang="en-US" sz="2400" spc="-1" strike="noStrike">
                <a:solidFill>
                  <a:srgbClr val="00ffff"/>
                </a:solidFill>
                <a:latin typeface="Courier New"/>
                <a:ea typeface="굴림"/>
              </a:rPr>
              <a:t>&lt;http://www.brightlight.com/&gt;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Obtuse smtpd proxy </a:t>
            </a:r>
            <a:r>
              <a:rPr b="0" lang="en-US" sz="2400" spc="-1" strike="noStrike">
                <a:solidFill>
                  <a:srgbClr val="00ffff"/>
                </a:solidFill>
                <a:latin typeface="Courier New"/>
                <a:ea typeface="굴림"/>
              </a:rPr>
              <a:t>&lt;http://www.obtuse.com/smtpd.html&gt;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ORBS </a:t>
            </a:r>
            <a:r>
              <a:rPr b="0" i="1" lang="en-US" sz="2400" spc="-1" strike="noStrike">
                <a:solidFill>
                  <a:srgbClr val="ffff00"/>
                </a:solidFill>
                <a:latin typeface="Bookman Old Style"/>
                <a:ea typeface="굴림"/>
              </a:rPr>
              <a:t>(has very controversial policies)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The market for email–based marketing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2044800"/>
            <a:ext cx="403884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9200" indent="-34920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Customer Relationship Management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14320" indent="-35064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Pure sale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14320" indent="-35064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Information-based sale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14320" indent="-35064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Customer support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14320" indent="-35064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Accountin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14320" indent="-35064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Email-based transaction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883040" y="2367000"/>
          <a:ext cx="3254400" cy="30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3040" y="2367000"/>
                    <a:ext cx="3254400" cy="3013200"/>
                  </a:xfrm>
                  <a:prstGeom prst="rect">
                    <a:avLst/>
                  </a:prstGeom>
                  <a:ln w="5724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Opt-in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17600" indent="-41760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Email marketing procedure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50320" indent="-3261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10 Strategies for Direct Email Success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850320" indent="-32616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&lt;http://www.boldfish.com/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products/whitepaper.html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굴림"/>
              </a:rPr>
              <a:t>*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17600" indent="-41760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Performance and reliability demand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50320" indent="-3261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1,000,000 messages per posting, today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850320" indent="-3261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10,000,000 message per posting, soon!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850320" indent="0" algn="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굴림"/>
              </a:rPr>
              <a:t>*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  <a:ea typeface="굴림"/>
              </a:rPr>
              <a:t>Speaker affili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40480" y="152280"/>
            <a:ext cx="1470240" cy="190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ISP Detection: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Spam vs. Opt-in vMail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35600" indent="-435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How can an ISP operator tell?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35600" indent="-435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Audience participation…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86680" indent="-34020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Validate domain name &amp; IP addres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Coordinate between source ISP &amp; vMail sender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Contractual enforcement that list is well-maintained and validated opt-in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Add compaint address header; (registered) label for vMail; encryption of source identifier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Special port for vMail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Unified messaging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굴림"/>
              </a:rPr>
              <a:t>Voicemail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3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굴림"/>
              </a:rPr>
              <a:t>Voice encoding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3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굴림"/>
              </a:rPr>
              <a:t>Mailbox addressing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3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굴림"/>
              </a:rPr>
              <a:t>Reliable transfer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3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굴림"/>
              </a:rPr>
              <a:t>Efficient transfer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3560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Bookman Old Style"/>
                <a:ea typeface="굴림"/>
              </a:rPr>
              <a:t>Fax over email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35600" indent="-43560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굴림"/>
              </a:rPr>
              <a:t>Fax encoding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86680" indent="-34020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Wide range of fax capabilitie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35600" indent="-435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굴림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굴림"/>
              </a:rPr>
              <a:t>Device” addressing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435600" indent="-435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굴림"/>
              </a:rPr>
              <a:t>Detection of recipient device capabilitie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435600" indent="-435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굴림"/>
              </a:rPr>
              <a:t>Timely deliver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435600" indent="-435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굴림"/>
              </a:rPr>
              <a:t>Reliable transfer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86680" indent="-3402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With confirmation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35600" indent="-435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굴림"/>
              </a:rPr>
              <a:t>Efficient transfer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Bookman Old Style"/>
                <a:ea typeface="굴림"/>
              </a:rPr>
              <a:t>Integrated</a:t>
            </a: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 mail 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for one user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91" name=""/>
          <p:cNvSpPr/>
          <p:nvPr/>
        </p:nvSpPr>
        <p:spPr>
          <a:xfrm>
            <a:off x="3427200" y="2748600"/>
            <a:ext cx="928800" cy="579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굴림"/>
              </a:rPr>
              <a:t>M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3160" y="1986840"/>
            <a:ext cx="1349640" cy="7945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9800" y="5584320"/>
            <a:ext cx="1089000" cy="61020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1371600"/>
            <a:ext cx="261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990720"/>
            <a:ext cx="6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Bookman Old Style"/>
                <a:ea typeface="굴림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37160" y="2748600"/>
            <a:ext cx="928800" cy="579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굴림"/>
              </a:rPr>
              <a:t>M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7200" y="3772080"/>
            <a:ext cx="6094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02200" y="3978000"/>
            <a:ext cx="1413360" cy="7023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Wirel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8560" y="1986840"/>
            <a:ext cx="1349640" cy="7945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71720" y="3176280"/>
            <a:ext cx="1639080" cy="7023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Teleph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200400" y="3656160"/>
            <a:ext cx="2514600" cy="1373040"/>
            <a:chOff x="3200400" y="3656160"/>
            <a:chExt cx="2514600" cy="1373040"/>
          </a:xfrm>
        </p:grpSpPr>
        <p:sp>
          <p:nvSpPr>
            <p:cNvPr id="102" name=""/>
            <p:cNvSpPr/>
            <p:nvPr/>
          </p:nvSpPr>
          <p:spPr>
            <a:xfrm>
              <a:off x="3200400" y="3656160"/>
              <a:ext cx="2514600" cy="1373040"/>
            </a:xfrm>
            <a:custGeom>
              <a:avLst/>
              <a:gdLst/>
              <a:ahLst/>
              <a:rect l="l" t="t" r="r" b="b"/>
              <a:pathLst>
                <a:path w="1009" h="865">
                  <a:moveTo>
                    <a:pt x="578" y="101"/>
                  </a:moveTo>
                  <a:lnTo>
                    <a:pt x="564" y="93"/>
                  </a:lnTo>
                  <a:lnTo>
                    <a:pt x="564" y="85"/>
                  </a:lnTo>
                  <a:lnTo>
                    <a:pt x="559" y="77"/>
                  </a:lnTo>
                  <a:lnTo>
                    <a:pt x="559" y="70"/>
                  </a:lnTo>
                  <a:lnTo>
                    <a:pt x="545" y="54"/>
                  </a:lnTo>
                  <a:lnTo>
                    <a:pt x="540" y="43"/>
                  </a:lnTo>
                  <a:lnTo>
                    <a:pt x="535" y="35"/>
                  </a:lnTo>
                  <a:lnTo>
                    <a:pt x="530" y="27"/>
                  </a:lnTo>
                  <a:lnTo>
                    <a:pt x="521" y="23"/>
                  </a:lnTo>
                  <a:lnTo>
                    <a:pt x="511" y="19"/>
                  </a:lnTo>
                  <a:lnTo>
                    <a:pt x="502" y="15"/>
                  </a:lnTo>
                  <a:lnTo>
                    <a:pt x="487" y="8"/>
                  </a:lnTo>
                  <a:lnTo>
                    <a:pt x="473" y="4"/>
                  </a:lnTo>
                  <a:lnTo>
                    <a:pt x="459" y="0"/>
                  </a:lnTo>
                  <a:lnTo>
                    <a:pt x="449" y="4"/>
                  </a:lnTo>
                  <a:lnTo>
                    <a:pt x="440" y="4"/>
                  </a:lnTo>
                  <a:lnTo>
                    <a:pt x="430" y="4"/>
                  </a:lnTo>
                  <a:lnTo>
                    <a:pt x="420" y="12"/>
                  </a:lnTo>
                  <a:lnTo>
                    <a:pt x="411" y="15"/>
                  </a:lnTo>
                  <a:lnTo>
                    <a:pt x="401" y="19"/>
                  </a:lnTo>
                  <a:lnTo>
                    <a:pt x="392" y="23"/>
                  </a:lnTo>
                  <a:lnTo>
                    <a:pt x="382" y="27"/>
                  </a:lnTo>
                  <a:lnTo>
                    <a:pt x="373" y="31"/>
                  </a:lnTo>
                  <a:lnTo>
                    <a:pt x="363" y="39"/>
                  </a:lnTo>
                  <a:lnTo>
                    <a:pt x="349" y="46"/>
                  </a:lnTo>
                  <a:lnTo>
                    <a:pt x="339" y="50"/>
                  </a:lnTo>
                  <a:lnTo>
                    <a:pt x="334" y="58"/>
                  </a:lnTo>
                  <a:lnTo>
                    <a:pt x="296" y="89"/>
                  </a:lnTo>
                  <a:lnTo>
                    <a:pt x="296" y="97"/>
                  </a:lnTo>
                  <a:lnTo>
                    <a:pt x="287" y="105"/>
                  </a:lnTo>
                  <a:lnTo>
                    <a:pt x="263" y="101"/>
                  </a:lnTo>
                  <a:lnTo>
                    <a:pt x="277" y="93"/>
                  </a:lnTo>
                  <a:lnTo>
                    <a:pt x="268" y="89"/>
                  </a:lnTo>
                  <a:lnTo>
                    <a:pt x="253" y="93"/>
                  </a:lnTo>
                  <a:lnTo>
                    <a:pt x="244" y="93"/>
                  </a:lnTo>
                  <a:lnTo>
                    <a:pt x="229" y="97"/>
                  </a:lnTo>
                  <a:lnTo>
                    <a:pt x="220" y="97"/>
                  </a:lnTo>
                  <a:lnTo>
                    <a:pt x="205" y="101"/>
                  </a:lnTo>
                  <a:lnTo>
                    <a:pt x="201" y="108"/>
                  </a:lnTo>
                  <a:lnTo>
                    <a:pt x="191" y="112"/>
                  </a:lnTo>
                  <a:lnTo>
                    <a:pt x="177" y="124"/>
                  </a:lnTo>
                  <a:lnTo>
                    <a:pt x="167" y="132"/>
                  </a:lnTo>
                  <a:lnTo>
                    <a:pt x="158" y="136"/>
                  </a:lnTo>
                  <a:lnTo>
                    <a:pt x="148" y="136"/>
                  </a:lnTo>
                  <a:lnTo>
                    <a:pt x="143" y="143"/>
                  </a:lnTo>
                  <a:lnTo>
                    <a:pt x="110" y="178"/>
                  </a:lnTo>
                  <a:lnTo>
                    <a:pt x="100" y="186"/>
                  </a:lnTo>
                  <a:lnTo>
                    <a:pt x="96" y="198"/>
                  </a:lnTo>
                  <a:lnTo>
                    <a:pt x="91" y="205"/>
                  </a:lnTo>
                  <a:lnTo>
                    <a:pt x="91" y="213"/>
                  </a:lnTo>
                  <a:lnTo>
                    <a:pt x="91" y="221"/>
                  </a:lnTo>
                  <a:lnTo>
                    <a:pt x="91" y="232"/>
                  </a:lnTo>
                  <a:lnTo>
                    <a:pt x="91" y="240"/>
                  </a:lnTo>
                  <a:lnTo>
                    <a:pt x="96" y="248"/>
                  </a:lnTo>
                  <a:lnTo>
                    <a:pt x="96" y="256"/>
                  </a:lnTo>
                  <a:lnTo>
                    <a:pt x="105" y="267"/>
                  </a:lnTo>
                  <a:lnTo>
                    <a:pt x="115" y="271"/>
                  </a:lnTo>
                  <a:lnTo>
                    <a:pt x="119" y="279"/>
                  </a:lnTo>
                  <a:lnTo>
                    <a:pt x="129" y="283"/>
                  </a:lnTo>
                  <a:lnTo>
                    <a:pt x="139" y="287"/>
                  </a:lnTo>
                  <a:lnTo>
                    <a:pt x="119" y="287"/>
                  </a:lnTo>
                  <a:lnTo>
                    <a:pt x="134" y="287"/>
                  </a:lnTo>
                  <a:lnTo>
                    <a:pt x="124" y="287"/>
                  </a:lnTo>
                  <a:lnTo>
                    <a:pt x="115" y="291"/>
                  </a:lnTo>
                  <a:lnTo>
                    <a:pt x="110" y="298"/>
                  </a:lnTo>
                  <a:lnTo>
                    <a:pt x="100" y="302"/>
                  </a:lnTo>
                  <a:lnTo>
                    <a:pt x="100" y="310"/>
                  </a:lnTo>
                  <a:lnTo>
                    <a:pt x="91" y="314"/>
                  </a:lnTo>
                  <a:lnTo>
                    <a:pt x="81" y="322"/>
                  </a:lnTo>
                  <a:lnTo>
                    <a:pt x="48" y="360"/>
                  </a:lnTo>
                  <a:lnTo>
                    <a:pt x="38" y="376"/>
                  </a:lnTo>
                  <a:lnTo>
                    <a:pt x="29" y="384"/>
                  </a:lnTo>
                  <a:lnTo>
                    <a:pt x="24" y="395"/>
                  </a:lnTo>
                  <a:lnTo>
                    <a:pt x="19" y="407"/>
                  </a:lnTo>
                  <a:lnTo>
                    <a:pt x="14" y="415"/>
                  </a:lnTo>
                  <a:lnTo>
                    <a:pt x="14" y="422"/>
                  </a:lnTo>
                  <a:lnTo>
                    <a:pt x="10" y="430"/>
                  </a:lnTo>
                  <a:lnTo>
                    <a:pt x="5" y="438"/>
                  </a:lnTo>
                  <a:lnTo>
                    <a:pt x="5" y="453"/>
                  </a:lnTo>
                  <a:lnTo>
                    <a:pt x="5" y="461"/>
                  </a:lnTo>
                  <a:lnTo>
                    <a:pt x="0" y="469"/>
                  </a:lnTo>
                  <a:lnTo>
                    <a:pt x="0" y="480"/>
                  </a:lnTo>
                  <a:lnTo>
                    <a:pt x="0" y="488"/>
                  </a:lnTo>
                  <a:lnTo>
                    <a:pt x="0" y="496"/>
                  </a:lnTo>
                  <a:lnTo>
                    <a:pt x="5" y="504"/>
                  </a:lnTo>
                  <a:lnTo>
                    <a:pt x="10" y="511"/>
                  </a:lnTo>
                  <a:lnTo>
                    <a:pt x="19" y="519"/>
                  </a:lnTo>
                  <a:lnTo>
                    <a:pt x="29" y="523"/>
                  </a:lnTo>
                  <a:lnTo>
                    <a:pt x="38" y="531"/>
                  </a:lnTo>
                  <a:lnTo>
                    <a:pt x="53" y="535"/>
                  </a:lnTo>
                  <a:lnTo>
                    <a:pt x="67" y="539"/>
                  </a:lnTo>
                  <a:lnTo>
                    <a:pt x="76" y="539"/>
                  </a:lnTo>
                  <a:lnTo>
                    <a:pt x="86" y="539"/>
                  </a:lnTo>
                  <a:lnTo>
                    <a:pt x="96" y="539"/>
                  </a:lnTo>
                  <a:lnTo>
                    <a:pt x="105" y="542"/>
                  </a:lnTo>
                  <a:lnTo>
                    <a:pt x="115" y="542"/>
                  </a:lnTo>
                  <a:lnTo>
                    <a:pt x="119" y="589"/>
                  </a:lnTo>
                  <a:lnTo>
                    <a:pt x="110" y="585"/>
                  </a:lnTo>
                  <a:lnTo>
                    <a:pt x="110" y="593"/>
                  </a:lnTo>
                  <a:lnTo>
                    <a:pt x="110" y="601"/>
                  </a:lnTo>
                  <a:lnTo>
                    <a:pt x="115" y="608"/>
                  </a:lnTo>
                  <a:lnTo>
                    <a:pt x="115" y="616"/>
                  </a:lnTo>
                  <a:lnTo>
                    <a:pt x="139" y="666"/>
                  </a:lnTo>
                  <a:lnTo>
                    <a:pt x="148" y="674"/>
                  </a:lnTo>
                  <a:lnTo>
                    <a:pt x="153" y="682"/>
                  </a:lnTo>
                  <a:lnTo>
                    <a:pt x="162" y="690"/>
                  </a:lnTo>
                  <a:lnTo>
                    <a:pt x="177" y="694"/>
                  </a:lnTo>
                  <a:lnTo>
                    <a:pt x="191" y="701"/>
                  </a:lnTo>
                  <a:lnTo>
                    <a:pt x="201" y="705"/>
                  </a:lnTo>
                  <a:lnTo>
                    <a:pt x="210" y="709"/>
                  </a:lnTo>
                  <a:lnTo>
                    <a:pt x="225" y="713"/>
                  </a:lnTo>
                  <a:lnTo>
                    <a:pt x="234" y="717"/>
                  </a:lnTo>
                  <a:lnTo>
                    <a:pt x="244" y="717"/>
                  </a:lnTo>
                  <a:lnTo>
                    <a:pt x="253" y="717"/>
                  </a:lnTo>
                  <a:lnTo>
                    <a:pt x="263" y="717"/>
                  </a:lnTo>
                  <a:lnTo>
                    <a:pt x="272" y="717"/>
                  </a:lnTo>
                  <a:lnTo>
                    <a:pt x="282" y="717"/>
                  </a:lnTo>
                  <a:lnTo>
                    <a:pt x="291" y="717"/>
                  </a:lnTo>
                  <a:lnTo>
                    <a:pt x="301" y="717"/>
                  </a:lnTo>
                  <a:lnTo>
                    <a:pt x="315" y="717"/>
                  </a:lnTo>
                  <a:lnTo>
                    <a:pt x="349" y="705"/>
                  </a:lnTo>
                  <a:lnTo>
                    <a:pt x="354" y="713"/>
                  </a:lnTo>
                  <a:lnTo>
                    <a:pt x="354" y="721"/>
                  </a:lnTo>
                  <a:lnTo>
                    <a:pt x="354" y="728"/>
                  </a:lnTo>
                  <a:lnTo>
                    <a:pt x="354" y="736"/>
                  </a:lnTo>
                  <a:lnTo>
                    <a:pt x="354" y="744"/>
                  </a:lnTo>
                  <a:lnTo>
                    <a:pt x="354" y="756"/>
                  </a:lnTo>
                  <a:lnTo>
                    <a:pt x="358" y="767"/>
                  </a:lnTo>
                  <a:lnTo>
                    <a:pt x="363" y="779"/>
                  </a:lnTo>
                  <a:lnTo>
                    <a:pt x="368" y="790"/>
                  </a:lnTo>
                  <a:lnTo>
                    <a:pt x="373" y="798"/>
                  </a:lnTo>
                  <a:lnTo>
                    <a:pt x="377" y="806"/>
                  </a:lnTo>
                  <a:lnTo>
                    <a:pt x="435" y="849"/>
                  </a:lnTo>
                  <a:lnTo>
                    <a:pt x="444" y="849"/>
                  </a:lnTo>
                  <a:lnTo>
                    <a:pt x="459" y="852"/>
                  </a:lnTo>
                  <a:lnTo>
                    <a:pt x="473" y="856"/>
                  </a:lnTo>
                  <a:lnTo>
                    <a:pt x="483" y="860"/>
                  </a:lnTo>
                  <a:lnTo>
                    <a:pt x="492" y="864"/>
                  </a:lnTo>
                  <a:lnTo>
                    <a:pt x="502" y="864"/>
                  </a:lnTo>
                  <a:lnTo>
                    <a:pt x="516" y="864"/>
                  </a:lnTo>
                  <a:lnTo>
                    <a:pt x="535" y="860"/>
                  </a:lnTo>
                  <a:lnTo>
                    <a:pt x="545" y="856"/>
                  </a:lnTo>
                  <a:lnTo>
                    <a:pt x="559" y="852"/>
                  </a:lnTo>
                  <a:lnTo>
                    <a:pt x="568" y="852"/>
                  </a:lnTo>
                  <a:lnTo>
                    <a:pt x="578" y="849"/>
                  </a:lnTo>
                  <a:lnTo>
                    <a:pt x="588" y="849"/>
                  </a:lnTo>
                  <a:lnTo>
                    <a:pt x="602" y="845"/>
                  </a:lnTo>
                  <a:lnTo>
                    <a:pt x="611" y="837"/>
                  </a:lnTo>
                  <a:lnTo>
                    <a:pt x="621" y="833"/>
                  </a:lnTo>
                  <a:lnTo>
                    <a:pt x="631" y="821"/>
                  </a:lnTo>
                  <a:lnTo>
                    <a:pt x="635" y="810"/>
                  </a:lnTo>
                  <a:lnTo>
                    <a:pt x="640" y="802"/>
                  </a:lnTo>
                  <a:lnTo>
                    <a:pt x="664" y="775"/>
                  </a:lnTo>
                  <a:lnTo>
                    <a:pt x="669" y="783"/>
                  </a:lnTo>
                  <a:lnTo>
                    <a:pt x="674" y="790"/>
                  </a:lnTo>
                  <a:lnTo>
                    <a:pt x="683" y="794"/>
                  </a:lnTo>
                  <a:lnTo>
                    <a:pt x="693" y="798"/>
                  </a:lnTo>
                  <a:lnTo>
                    <a:pt x="712" y="806"/>
                  </a:lnTo>
                  <a:lnTo>
                    <a:pt x="721" y="810"/>
                  </a:lnTo>
                  <a:lnTo>
                    <a:pt x="731" y="814"/>
                  </a:lnTo>
                  <a:lnTo>
                    <a:pt x="745" y="814"/>
                  </a:lnTo>
                  <a:lnTo>
                    <a:pt x="755" y="818"/>
                  </a:lnTo>
                  <a:lnTo>
                    <a:pt x="764" y="818"/>
                  </a:lnTo>
                  <a:lnTo>
                    <a:pt x="779" y="818"/>
                  </a:lnTo>
                  <a:lnTo>
                    <a:pt x="793" y="818"/>
                  </a:lnTo>
                  <a:lnTo>
                    <a:pt x="803" y="818"/>
                  </a:lnTo>
                  <a:lnTo>
                    <a:pt x="812" y="818"/>
                  </a:lnTo>
                  <a:lnTo>
                    <a:pt x="822" y="814"/>
                  </a:lnTo>
                  <a:lnTo>
                    <a:pt x="836" y="814"/>
                  </a:lnTo>
                  <a:lnTo>
                    <a:pt x="841" y="806"/>
                  </a:lnTo>
                  <a:lnTo>
                    <a:pt x="850" y="802"/>
                  </a:lnTo>
                  <a:lnTo>
                    <a:pt x="860" y="802"/>
                  </a:lnTo>
                  <a:lnTo>
                    <a:pt x="874" y="794"/>
                  </a:lnTo>
                  <a:lnTo>
                    <a:pt x="884" y="787"/>
                  </a:lnTo>
                  <a:lnTo>
                    <a:pt x="903" y="740"/>
                  </a:lnTo>
                  <a:lnTo>
                    <a:pt x="903" y="732"/>
                  </a:lnTo>
                  <a:lnTo>
                    <a:pt x="903" y="721"/>
                  </a:lnTo>
                  <a:lnTo>
                    <a:pt x="903" y="713"/>
                  </a:lnTo>
                  <a:lnTo>
                    <a:pt x="893" y="701"/>
                  </a:lnTo>
                  <a:lnTo>
                    <a:pt x="893" y="694"/>
                  </a:lnTo>
                  <a:lnTo>
                    <a:pt x="884" y="682"/>
                  </a:lnTo>
                  <a:lnTo>
                    <a:pt x="879" y="670"/>
                  </a:lnTo>
                  <a:lnTo>
                    <a:pt x="879" y="663"/>
                  </a:lnTo>
                  <a:lnTo>
                    <a:pt x="874" y="651"/>
                  </a:lnTo>
                  <a:lnTo>
                    <a:pt x="874" y="643"/>
                  </a:lnTo>
                  <a:lnTo>
                    <a:pt x="869" y="635"/>
                  </a:lnTo>
                  <a:lnTo>
                    <a:pt x="869" y="628"/>
                  </a:lnTo>
                  <a:lnTo>
                    <a:pt x="865" y="612"/>
                  </a:lnTo>
                  <a:lnTo>
                    <a:pt x="865" y="620"/>
                  </a:lnTo>
                  <a:lnTo>
                    <a:pt x="879" y="620"/>
                  </a:lnTo>
                  <a:lnTo>
                    <a:pt x="889" y="620"/>
                  </a:lnTo>
                  <a:lnTo>
                    <a:pt x="903" y="612"/>
                  </a:lnTo>
                  <a:lnTo>
                    <a:pt x="912" y="608"/>
                  </a:lnTo>
                  <a:lnTo>
                    <a:pt x="922" y="601"/>
                  </a:lnTo>
                  <a:lnTo>
                    <a:pt x="936" y="593"/>
                  </a:lnTo>
                  <a:lnTo>
                    <a:pt x="946" y="589"/>
                  </a:lnTo>
                  <a:lnTo>
                    <a:pt x="955" y="585"/>
                  </a:lnTo>
                  <a:lnTo>
                    <a:pt x="970" y="577"/>
                  </a:lnTo>
                  <a:lnTo>
                    <a:pt x="979" y="566"/>
                  </a:lnTo>
                  <a:lnTo>
                    <a:pt x="984" y="558"/>
                  </a:lnTo>
                  <a:lnTo>
                    <a:pt x="989" y="546"/>
                  </a:lnTo>
                  <a:lnTo>
                    <a:pt x="994" y="539"/>
                  </a:lnTo>
                  <a:lnTo>
                    <a:pt x="998" y="531"/>
                  </a:lnTo>
                  <a:lnTo>
                    <a:pt x="998" y="519"/>
                  </a:lnTo>
                  <a:lnTo>
                    <a:pt x="998" y="511"/>
                  </a:lnTo>
                  <a:lnTo>
                    <a:pt x="1003" y="504"/>
                  </a:lnTo>
                  <a:lnTo>
                    <a:pt x="1008" y="488"/>
                  </a:lnTo>
                  <a:lnTo>
                    <a:pt x="1008" y="480"/>
                  </a:lnTo>
                  <a:lnTo>
                    <a:pt x="1008" y="469"/>
                  </a:lnTo>
                  <a:lnTo>
                    <a:pt x="1003" y="461"/>
                  </a:lnTo>
                  <a:lnTo>
                    <a:pt x="1003" y="453"/>
                  </a:lnTo>
                  <a:lnTo>
                    <a:pt x="998" y="446"/>
                  </a:lnTo>
                  <a:lnTo>
                    <a:pt x="998" y="438"/>
                  </a:lnTo>
                  <a:lnTo>
                    <a:pt x="893" y="380"/>
                  </a:lnTo>
                  <a:lnTo>
                    <a:pt x="922" y="380"/>
                  </a:lnTo>
                  <a:lnTo>
                    <a:pt x="908" y="372"/>
                  </a:lnTo>
                  <a:lnTo>
                    <a:pt x="946" y="353"/>
                  </a:lnTo>
                  <a:lnTo>
                    <a:pt x="951" y="345"/>
                  </a:lnTo>
                  <a:lnTo>
                    <a:pt x="960" y="341"/>
                  </a:lnTo>
                  <a:lnTo>
                    <a:pt x="965" y="329"/>
                  </a:lnTo>
                  <a:lnTo>
                    <a:pt x="975" y="318"/>
                  </a:lnTo>
                  <a:lnTo>
                    <a:pt x="979" y="310"/>
                  </a:lnTo>
                  <a:lnTo>
                    <a:pt x="979" y="302"/>
                  </a:lnTo>
                  <a:lnTo>
                    <a:pt x="984" y="294"/>
                  </a:lnTo>
                  <a:lnTo>
                    <a:pt x="984" y="283"/>
                  </a:lnTo>
                  <a:lnTo>
                    <a:pt x="984" y="271"/>
                  </a:lnTo>
                  <a:lnTo>
                    <a:pt x="984" y="263"/>
                  </a:lnTo>
                  <a:lnTo>
                    <a:pt x="975" y="256"/>
                  </a:lnTo>
                  <a:lnTo>
                    <a:pt x="975" y="248"/>
                  </a:lnTo>
                  <a:lnTo>
                    <a:pt x="965" y="244"/>
                  </a:lnTo>
                  <a:lnTo>
                    <a:pt x="955" y="240"/>
                  </a:lnTo>
                  <a:lnTo>
                    <a:pt x="941" y="240"/>
                  </a:lnTo>
                  <a:lnTo>
                    <a:pt x="932" y="240"/>
                  </a:lnTo>
                  <a:lnTo>
                    <a:pt x="922" y="244"/>
                  </a:lnTo>
                  <a:lnTo>
                    <a:pt x="912" y="244"/>
                  </a:lnTo>
                  <a:lnTo>
                    <a:pt x="903" y="244"/>
                  </a:lnTo>
                  <a:lnTo>
                    <a:pt x="889" y="248"/>
                  </a:lnTo>
                  <a:lnTo>
                    <a:pt x="879" y="248"/>
                  </a:lnTo>
                  <a:lnTo>
                    <a:pt x="869" y="256"/>
                  </a:lnTo>
                  <a:lnTo>
                    <a:pt x="855" y="260"/>
                  </a:lnTo>
                  <a:lnTo>
                    <a:pt x="831" y="267"/>
                  </a:lnTo>
                  <a:lnTo>
                    <a:pt x="836" y="263"/>
                  </a:lnTo>
                  <a:lnTo>
                    <a:pt x="836" y="252"/>
                  </a:lnTo>
                  <a:lnTo>
                    <a:pt x="846" y="236"/>
                  </a:lnTo>
                  <a:lnTo>
                    <a:pt x="850" y="225"/>
                  </a:lnTo>
                  <a:lnTo>
                    <a:pt x="850" y="217"/>
                  </a:lnTo>
                  <a:lnTo>
                    <a:pt x="860" y="209"/>
                  </a:lnTo>
                  <a:lnTo>
                    <a:pt x="860" y="198"/>
                  </a:lnTo>
                  <a:lnTo>
                    <a:pt x="860" y="190"/>
                  </a:lnTo>
                  <a:lnTo>
                    <a:pt x="865" y="178"/>
                  </a:lnTo>
                  <a:lnTo>
                    <a:pt x="865" y="167"/>
                  </a:lnTo>
                  <a:lnTo>
                    <a:pt x="865" y="155"/>
                  </a:lnTo>
                  <a:lnTo>
                    <a:pt x="860" y="139"/>
                  </a:lnTo>
                  <a:lnTo>
                    <a:pt x="855" y="132"/>
                  </a:lnTo>
                  <a:lnTo>
                    <a:pt x="850" y="120"/>
                  </a:lnTo>
                  <a:lnTo>
                    <a:pt x="841" y="108"/>
                  </a:lnTo>
                  <a:lnTo>
                    <a:pt x="841" y="101"/>
                  </a:lnTo>
                  <a:lnTo>
                    <a:pt x="836" y="93"/>
                  </a:lnTo>
                  <a:lnTo>
                    <a:pt x="826" y="85"/>
                  </a:lnTo>
                  <a:lnTo>
                    <a:pt x="817" y="81"/>
                  </a:lnTo>
                  <a:lnTo>
                    <a:pt x="807" y="77"/>
                  </a:lnTo>
                  <a:lnTo>
                    <a:pt x="798" y="77"/>
                  </a:lnTo>
                  <a:lnTo>
                    <a:pt x="788" y="74"/>
                  </a:lnTo>
                  <a:lnTo>
                    <a:pt x="755" y="70"/>
                  </a:lnTo>
                  <a:lnTo>
                    <a:pt x="745" y="74"/>
                  </a:lnTo>
                  <a:lnTo>
                    <a:pt x="736" y="74"/>
                  </a:lnTo>
                  <a:lnTo>
                    <a:pt x="726" y="74"/>
                  </a:lnTo>
                  <a:lnTo>
                    <a:pt x="717" y="74"/>
                  </a:lnTo>
                  <a:lnTo>
                    <a:pt x="702" y="74"/>
                  </a:lnTo>
                  <a:lnTo>
                    <a:pt x="693" y="74"/>
                  </a:lnTo>
                  <a:lnTo>
                    <a:pt x="693" y="54"/>
                  </a:lnTo>
                  <a:lnTo>
                    <a:pt x="688" y="66"/>
                  </a:lnTo>
                  <a:lnTo>
                    <a:pt x="683" y="58"/>
                  </a:lnTo>
                  <a:lnTo>
                    <a:pt x="674" y="50"/>
                  </a:lnTo>
                  <a:lnTo>
                    <a:pt x="659" y="43"/>
                  </a:lnTo>
                  <a:lnTo>
                    <a:pt x="650" y="39"/>
                  </a:lnTo>
                  <a:lnTo>
                    <a:pt x="621" y="27"/>
                  </a:lnTo>
                  <a:lnTo>
                    <a:pt x="611" y="23"/>
                  </a:lnTo>
                  <a:lnTo>
                    <a:pt x="602" y="19"/>
                  </a:lnTo>
                  <a:lnTo>
                    <a:pt x="592" y="19"/>
                  </a:lnTo>
                  <a:lnTo>
                    <a:pt x="583" y="19"/>
                  </a:lnTo>
                  <a:lnTo>
                    <a:pt x="573" y="19"/>
                  </a:lnTo>
                  <a:lnTo>
                    <a:pt x="564" y="15"/>
                  </a:lnTo>
                  <a:lnTo>
                    <a:pt x="554" y="15"/>
                  </a:lnTo>
                  <a:lnTo>
                    <a:pt x="545" y="15"/>
                  </a:lnTo>
                  <a:lnTo>
                    <a:pt x="535" y="23"/>
                  </a:lnTo>
                  <a:lnTo>
                    <a:pt x="530" y="31"/>
                  </a:lnTo>
                  <a:lnTo>
                    <a:pt x="525" y="4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25640" y="4113360"/>
              <a:ext cx="1462320" cy="459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  <a:ea typeface="굴림"/>
                </a:rPr>
                <a:t>Inter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675080" y="4781160"/>
            <a:ext cx="1215360" cy="7023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Lapt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552760"/>
            <a:ext cx="3048120" cy="1333440"/>
          </a:xfrm>
          <a:custGeom>
            <a:avLst/>
            <a:gdLst/>
            <a:ahLst/>
            <a:rect l="l" t="t" r="r" b="b"/>
            <a:pathLst>
              <a:path w="1968" h="768">
                <a:moveTo>
                  <a:pt x="1968" y="0"/>
                </a:moveTo>
                <a:cubicBezTo>
                  <a:pt x="1904" y="104"/>
                  <a:pt x="1840" y="208"/>
                  <a:pt x="1680" y="336"/>
                </a:cubicBezTo>
                <a:cubicBezTo>
                  <a:pt x="1520" y="464"/>
                  <a:pt x="1240" y="768"/>
                  <a:pt x="1008" y="768"/>
                </a:cubicBezTo>
                <a:cubicBezTo>
                  <a:pt x="776" y="768"/>
                  <a:pt x="456" y="456"/>
                  <a:pt x="288" y="336"/>
                </a:cubicBezTo>
                <a:cubicBezTo>
                  <a:pt x="120" y="216"/>
                  <a:pt x="60" y="132"/>
                  <a:pt x="0" y="48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29160" y="1905120"/>
            <a:ext cx="19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isconnected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ynchron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5280" y="5645520"/>
            <a:ext cx="2203200" cy="4881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Voice GW Out(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9720" y="4070520"/>
            <a:ext cx="1494360" cy="4881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Fax G/W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4600" y="3283200"/>
            <a:ext cx="1707840" cy="4881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Fax G/W 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73400" y="4858200"/>
            <a:ext cx="1733760" cy="4881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Voice G/W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31520" y="5415840"/>
            <a:ext cx="1971360" cy="7945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ervice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3352680"/>
            <a:ext cx="609480" cy="14616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4114800"/>
            <a:ext cx="838440" cy="20304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5791320"/>
            <a:ext cx="533520" cy="12672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4952880"/>
            <a:ext cx="838080" cy="20340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Opportunities for ISP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17" name=""/>
          <p:cNvSpPr/>
          <p:nvPr/>
        </p:nvSpPr>
        <p:spPr>
          <a:xfrm>
            <a:off x="3427200" y="2748600"/>
            <a:ext cx="928800" cy="579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굴림"/>
              </a:rPr>
              <a:t>M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3160" y="1986840"/>
            <a:ext cx="1349640" cy="7945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37160" y="2748600"/>
            <a:ext cx="928800" cy="579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굴림"/>
              </a:rPr>
              <a:t>M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37200" y="3772080"/>
            <a:ext cx="6094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8560" y="1986840"/>
            <a:ext cx="1349640" cy="7945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200400" y="3656160"/>
            <a:ext cx="2514600" cy="1373040"/>
            <a:chOff x="3200400" y="3656160"/>
            <a:chExt cx="2514600" cy="1373040"/>
          </a:xfrm>
        </p:grpSpPr>
        <p:sp>
          <p:nvSpPr>
            <p:cNvPr id="123" name=""/>
            <p:cNvSpPr/>
            <p:nvPr/>
          </p:nvSpPr>
          <p:spPr>
            <a:xfrm>
              <a:off x="3200400" y="3656160"/>
              <a:ext cx="2514600" cy="1373040"/>
            </a:xfrm>
            <a:custGeom>
              <a:avLst/>
              <a:gdLst/>
              <a:ahLst/>
              <a:rect l="l" t="t" r="r" b="b"/>
              <a:pathLst>
                <a:path w="1009" h="865">
                  <a:moveTo>
                    <a:pt x="578" y="101"/>
                  </a:moveTo>
                  <a:lnTo>
                    <a:pt x="564" y="93"/>
                  </a:lnTo>
                  <a:lnTo>
                    <a:pt x="564" y="85"/>
                  </a:lnTo>
                  <a:lnTo>
                    <a:pt x="559" y="77"/>
                  </a:lnTo>
                  <a:lnTo>
                    <a:pt x="559" y="70"/>
                  </a:lnTo>
                  <a:lnTo>
                    <a:pt x="545" y="54"/>
                  </a:lnTo>
                  <a:lnTo>
                    <a:pt x="540" y="43"/>
                  </a:lnTo>
                  <a:lnTo>
                    <a:pt x="535" y="35"/>
                  </a:lnTo>
                  <a:lnTo>
                    <a:pt x="530" y="27"/>
                  </a:lnTo>
                  <a:lnTo>
                    <a:pt x="521" y="23"/>
                  </a:lnTo>
                  <a:lnTo>
                    <a:pt x="511" y="19"/>
                  </a:lnTo>
                  <a:lnTo>
                    <a:pt x="502" y="15"/>
                  </a:lnTo>
                  <a:lnTo>
                    <a:pt x="487" y="8"/>
                  </a:lnTo>
                  <a:lnTo>
                    <a:pt x="473" y="4"/>
                  </a:lnTo>
                  <a:lnTo>
                    <a:pt x="459" y="0"/>
                  </a:lnTo>
                  <a:lnTo>
                    <a:pt x="449" y="4"/>
                  </a:lnTo>
                  <a:lnTo>
                    <a:pt x="440" y="4"/>
                  </a:lnTo>
                  <a:lnTo>
                    <a:pt x="430" y="4"/>
                  </a:lnTo>
                  <a:lnTo>
                    <a:pt x="420" y="12"/>
                  </a:lnTo>
                  <a:lnTo>
                    <a:pt x="411" y="15"/>
                  </a:lnTo>
                  <a:lnTo>
                    <a:pt x="401" y="19"/>
                  </a:lnTo>
                  <a:lnTo>
                    <a:pt x="392" y="23"/>
                  </a:lnTo>
                  <a:lnTo>
                    <a:pt x="382" y="27"/>
                  </a:lnTo>
                  <a:lnTo>
                    <a:pt x="373" y="31"/>
                  </a:lnTo>
                  <a:lnTo>
                    <a:pt x="363" y="39"/>
                  </a:lnTo>
                  <a:lnTo>
                    <a:pt x="349" y="46"/>
                  </a:lnTo>
                  <a:lnTo>
                    <a:pt x="339" y="50"/>
                  </a:lnTo>
                  <a:lnTo>
                    <a:pt x="334" y="58"/>
                  </a:lnTo>
                  <a:lnTo>
                    <a:pt x="296" y="89"/>
                  </a:lnTo>
                  <a:lnTo>
                    <a:pt x="296" y="97"/>
                  </a:lnTo>
                  <a:lnTo>
                    <a:pt x="287" y="105"/>
                  </a:lnTo>
                  <a:lnTo>
                    <a:pt x="263" y="101"/>
                  </a:lnTo>
                  <a:lnTo>
                    <a:pt x="277" y="93"/>
                  </a:lnTo>
                  <a:lnTo>
                    <a:pt x="268" y="89"/>
                  </a:lnTo>
                  <a:lnTo>
                    <a:pt x="253" y="93"/>
                  </a:lnTo>
                  <a:lnTo>
                    <a:pt x="244" y="93"/>
                  </a:lnTo>
                  <a:lnTo>
                    <a:pt x="229" y="97"/>
                  </a:lnTo>
                  <a:lnTo>
                    <a:pt x="220" y="97"/>
                  </a:lnTo>
                  <a:lnTo>
                    <a:pt x="205" y="101"/>
                  </a:lnTo>
                  <a:lnTo>
                    <a:pt x="201" y="108"/>
                  </a:lnTo>
                  <a:lnTo>
                    <a:pt x="191" y="112"/>
                  </a:lnTo>
                  <a:lnTo>
                    <a:pt x="177" y="124"/>
                  </a:lnTo>
                  <a:lnTo>
                    <a:pt x="167" y="132"/>
                  </a:lnTo>
                  <a:lnTo>
                    <a:pt x="158" y="136"/>
                  </a:lnTo>
                  <a:lnTo>
                    <a:pt x="148" y="136"/>
                  </a:lnTo>
                  <a:lnTo>
                    <a:pt x="143" y="143"/>
                  </a:lnTo>
                  <a:lnTo>
                    <a:pt x="110" y="178"/>
                  </a:lnTo>
                  <a:lnTo>
                    <a:pt x="100" y="186"/>
                  </a:lnTo>
                  <a:lnTo>
                    <a:pt x="96" y="198"/>
                  </a:lnTo>
                  <a:lnTo>
                    <a:pt x="91" y="205"/>
                  </a:lnTo>
                  <a:lnTo>
                    <a:pt x="91" y="213"/>
                  </a:lnTo>
                  <a:lnTo>
                    <a:pt x="91" y="221"/>
                  </a:lnTo>
                  <a:lnTo>
                    <a:pt x="91" y="232"/>
                  </a:lnTo>
                  <a:lnTo>
                    <a:pt x="91" y="240"/>
                  </a:lnTo>
                  <a:lnTo>
                    <a:pt x="96" y="248"/>
                  </a:lnTo>
                  <a:lnTo>
                    <a:pt x="96" y="256"/>
                  </a:lnTo>
                  <a:lnTo>
                    <a:pt x="105" y="267"/>
                  </a:lnTo>
                  <a:lnTo>
                    <a:pt x="115" y="271"/>
                  </a:lnTo>
                  <a:lnTo>
                    <a:pt x="119" y="279"/>
                  </a:lnTo>
                  <a:lnTo>
                    <a:pt x="129" y="283"/>
                  </a:lnTo>
                  <a:lnTo>
                    <a:pt x="139" y="287"/>
                  </a:lnTo>
                  <a:lnTo>
                    <a:pt x="119" y="287"/>
                  </a:lnTo>
                  <a:lnTo>
                    <a:pt x="134" y="287"/>
                  </a:lnTo>
                  <a:lnTo>
                    <a:pt x="124" y="287"/>
                  </a:lnTo>
                  <a:lnTo>
                    <a:pt x="115" y="291"/>
                  </a:lnTo>
                  <a:lnTo>
                    <a:pt x="110" y="298"/>
                  </a:lnTo>
                  <a:lnTo>
                    <a:pt x="100" y="302"/>
                  </a:lnTo>
                  <a:lnTo>
                    <a:pt x="100" y="310"/>
                  </a:lnTo>
                  <a:lnTo>
                    <a:pt x="91" y="314"/>
                  </a:lnTo>
                  <a:lnTo>
                    <a:pt x="81" y="322"/>
                  </a:lnTo>
                  <a:lnTo>
                    <a:pt x="48" y="360"/>
                  </a:lnTo>
                  <a:lnTo>
                    <a:pt x="38" y="376"/>
                  </a:lnTo>
                  <a:lnTo>
                    <a:pt x="29" y="384"/>
                  </a:lnTo>
                  <a:lnTo>
                    <a:pt x="24" y="395"/>
                  </a:lnTo>
                  <a:lnTo>
                    <a:pt x="19" y="407"/>
                  </a:lnTo>
                  <a:lnTo>
                    <a:pt x="14" y="415"/>
                  </a:lnTo>
                  <a:lnTo>
                    <a:pt x="14" y="422"/>
                  </a:lnTo>
                  <a:lnTo>
                    <a:pt x="10" y="430"/>
                  </a:lnTo>
                  <a:lnTo>
                    <a:pt x="5" y="438"/>
                  </a:lnTo>
                  <a:lnTo>
                    <a:pt x="5" y="453"/>
                  </a:lnTo>
                  <a:lnTo>
                    <a:pt x="5" y="461"/>
                  </a:lnTo>
                  <a:lnTo>
                    <a:pt x="0" y="469"/>
                  </a:lnTo>
                  <a:lnTo>
                    <a:pt x="0" y="480"/>
                  </a:lnTo>
                  <a:lnTo>
                    <a:pt x="0" y="488"/>
                  </a:lnTo>
                  <a:lnTo>
                    <a:pt x="0" y="496"/>
                  </a:lnTo>
                  <a:lnTo>
                    <a:pt x="5" y="504"/>
                  </a:lnTo>
                  <a:lnTo>
                    <a:pt x="10" y="511"/>
                  </a:lnTo>
                  <a:lnTo>
                    <a:pt x="19" y="519"/>
                  </a:lnTo>
                  <a:lnTo>
                    <a:pt x="29" y="523"/>
                  </a:lnTo>
                  <a:lnTo>
                    <a:pt x="38" y="531"/>
                  </a:lnTo>
                  <a:lnTo>
                    <a:pt x="53" y="535"/>
                  </a:lnTo>
                  <a:lnTo>
                    <a:pt x="67" y="539"/>
                  </a:lnTo>
                  <a:lnTo>
                    <a:pt x="76" y="539"/>
                  </a:lnTo>
                  <a:lnTo>
                    <a:pt x="86" y="539"/>
                  </a:lnTo>
                  <a:lnTo>
                    <a:pt x="96" y="539"/>
                  </a:lnTo>
                  <a:lnTo>
                    <a:pt x="105" y="542"/>
                  </a:lnTo>
                  <a:lnTo>
                    <a:pt x="115" y="542"/>
                  </a:lnTo>
                  <a:lnTo>
                    <a:pt x="119" y="589"/>
                  </a:lnTo>
                  <a:lnTo>
                    <a:pt x="110" y="585"/>
                  </a:lnTo>
                  <a:lnTo>
                    <a:pt x="110" y="593"/>
                  </a:lnTo>
                  <a:lnTo>
                    <a:pt x="110" y="601"/>
                  </a:lnTo>
                  <a:lnTo>
                    <a:pt x="115" y="608"/>
                  </a:lnTo>
                  <a:lnTo>
                    <a:pt x="115" y="616"/>
                  </a:lnTo>
                  <a:lnTo>
                    <a:pt x="139" y="666"/>
                  </a:lnTo>
                  <a:lnTo>
                    <a:pt x="148" y="674"/>
                  </a:lnTo>
                  <a:lnTo>
                    <a:pt x="153" y="682"/>
                  </a:lnTo>
                  <a:lnTo>
                    <a:pt x="162" y="690"/>
                  </a:lnTo>
                  <a:lnTo>
                    <a:pt x="177" y="694"/>
                  </a:lnTo>
                  <a:lnTo>
                    <a:pt x="191" y="701"/>
                  </a:lnTo>
                  <a:lnTo>
                    <a:pt x="201" y="705"/>
                  </a:lnTo>
                  <a:lnTo>
                    <a:pt x="210" y="709"/>
                  </a:lnTo>
                  <a:lnTo>
                    <a:pt x="225" y="713"/>
                  </a:lnTo>
                  <a:lnTo>
                    <a:pt x="234" y="717"/>
                  </a:lnTo>
                  <a:lnTo>
                    <a:pt x="244" y="717"/>
                  </a:lnTo>
                  <a:lnTo>
                    <a:pt x="253" y="717"/>
                  </a:lnTo>
                  <a:lnTo>
                    <a:pt x="263" y="717"/>
                  </a:lnTo>
                  <a:lnTo>
                    <a:pt x="272" y="717"/>
                  </a:lnTo>
                  <a:lnTo>
                    <a:pt x="282" y="717"/>
                  </a:lnTo>
                  <a:lnTo>
                    <a:pt x="291" y="717"/>
                  </a:lnTo>
                  <a:lnTo>
                    <a:pt x="301" y="717"/>
                  </a:lnTo>
                  <a:lnTo>
                    <a:pt x="315" y="717"/>
                  </a:lnTo>
                  <a:lnTo>
                    <a:pt x="349" y="705"/>
                  </a:lnTo>
                  <a:lnTo>
                    <a:pt x="354" y="713"/>
                  </a:lnTo>
                  <a:lnTo>
                    <a:pt x="354" y="721"/>
                  </a:lnTo>
                  <a:lnTo>
                    <a:pt x="354" y="728"/>
                  </a:lnTo>
                  <a:lnTo>
                    <a:pt x="354" y="736"/>
                  </a:lnTo>
                  <a:lnTo>
                    <a:pt x="354" y="744"/>
                  </a:lnTo>
                  <a:lnTo>
                    <a:pt x="354" y="756"/>
                  </a:lnTo>
                  <a:lnTo>
                    <a:pt x="358" y="767"/>
                  </a:lnTo>
                  <a:lnTo>
                    <a:pt x="363" y="779"/>
                  </a:lnTo>
                  <a:lnTo>
                    <a:pt x="368" y="790"/>
                  </a:lnTo>
                  <a:lnTo>
                    <a:pt x="373" y="798"/>
                  </a:lnTo>
                  <a:lnTo>
                    <a:pt x="377" y="806"/>
                  </a:lnTo>
                  <a:lnTo>
                    <a:pt x="435" y="849"/>
                  </a:lnTo>
                  <a:lnTo>
                    <a:pt x="444" y="849"/>
                  </a:lnTo>
                  <a:lnTo>
                    <a:pt x="459" y="852"/>
                  </a:lnTo>
                  <a:lnTo>
                    <a:pt x="473" y="856"/>
                  </a:lnTo>
                  <a:lnTo>
                    <a:pt x="483" y="860"/>
                  </a:lnTo>
                  <a:lnTo>
                    <a:pt x="492" y="864"/>
                  </a:lnTo>
                  <a:lnTo>
                    <a:pt x="502" y="864"/>
                  </a:lnTo>
                  <a:lnTo>
                    <a:pt x="516" y="864"/>
                  </a:lnTo>
                  <a:lnTo>
                    <a:pt x="535" y="860"/>
                  </a:lnTo>
                  <a:lnTo>
                    <a:pt x="545" y="856"/>
                  </a:lnTo>
                  <a:lnTo>
                    <a:pt x="559" y="852"/>
                  </a:lnTo>
                  <a:lnTo>
                    <a:pt x="568" y="852"/>
                  </a:lnTo>
                  <a:lnTo>
                    <a:pt x="578" y="849"/>
                  </a:lnTo>
                  <a:lnTo>
                    <a:pt x="588" y="849"/>
                  </a:lnTo>
                  <a:lnTo>
                    <a:pt x="602" y="845"/>
                  </a:lnTo>
                  <a:lnTo>
                    <a:pt x="611" y="837"/>
                  </a:lnTo>
                  <a:lnTo>
                    <a:pt x="621" y="833"/>
                  </a:lnTo>
                  <a:lnTo>
                    <a:pt x="631" y="821"/>
                  </a:lnTo>
                  <a:lnTo>
                    <a:pt x="635" y="810"/>
                  </a:lnTo>
                  <a:lnTo>
                    <a:pt x="640" y="802"/>
                  </a:lnTo>
                  <a:lnTo>
                    <a:pt x="664" y="775"/>
                  </a:lnTo>
                  <a:lnTo>
                    <a:pt x="669" y="783"/>
                  </a:lnTo>
                  <a:lnTo>
                    <a:pt x="674" y="790"/>
                  </a:lnTo>
                  <a:lnTo>
                    <a:pt x="683" y="794"/>
                  </a:lnTo>
                  <a:lnTo>
                    <a:pt x="693" y="798"/>
                  </a:lnTo>
                  <a:lnTo>
                    <a:pt x="712" y="806"/>
                  </a:lnTo>
                  <a:lnTo>
                    <a:pt x="721" y="810"/>
                  </a:lnTo>
                  <a:lnTo>
                    <a:pt x="731" y="814"/>
                  </a:lnTo>
                  <a:lnTo>
                    <a:pt x="745" y="814"/>
                  </a:lnTo>
                  <a:lnTo>
                    <a:pt x="755" y="818"/>
                  </a:lnTo>
                  <a:lnTo>
                    <a:pt x="764" y="818"/>
                  </a:lnTo>
                  <a:lnTo>
                    <a:pt x="779" y="818"/>
                  </a:lnTo>
                  <a:lnTo>
                    <a:pt x="793" y="818"/>
                  </a:lnTo>
                  <a:lnTo>
                    <a:pt x="803" y="818"/>
                  </a:lnTo>
                  <a:lnTo>
                    <a:pt x="812" y="818"/>
                  </a:lnTo>
                  <a:lnTo>
                    <a:pt x="822" y="814"/>
                  </a:lnTo>
                  <a:lnTo>
                    <a:pt x="836" y="814"/>
                  </a:lnTo>
                  <a:lnTo>
                    <a:pt x="841" y="806"/>
                  </a:lnTo>
                  <a:lnTo>
                    <a:pt x="850" y="802"/>
                  </a:lnTo>
                  <a:lnTo>
                    <a:pt x="860" y="802"/>
                  </a:lnTo>
                  <a:lnTo>
                    <a:pt x="874" y="794"/>
                  </a:lnTo>
                  <a:lnTo>
                    <a:pt x="884" y="787"/>
                  </a:lnTo>
                  <a:lnTo>
                    <a:pt x="903" y="740"/>
                  </a:lnTo>
                  <a:lnTo>
                    <a:pt x="903" y="732"/>
                  </a:lnTo>
                  <a:lnTo>
                    <a:pt x="903" y="721"/>
                  </a:lnTo>
                  <a:lnTo>
                    <a:pt x="903" y="713"/>
                  </a:lnTo>
                  <a:lnTo>
                    <a:pt x="893" y="701"/>
                  </a:lnTo>
                  <a:lnTo>
                    <a:pt x="893" y="694"/>
                  </a:lnTo>
                  <a:lnTo>
                    <a:pt x="884" y="682"/>
                  </a:lnTo>
                  <a:lnTo>
                    <a:pt x="879" y="670"/>
                  </a:lnTo>
                  <a:lnTo>
                    <a:pt x="879" y="663"/>
                  </a:lnTo>
                  <a:lnTo>
                    <a:pt x="874" y="651"/>
                  </a:lnTo>
                  <a:lnTo>
                    <a:pt x="874" y="643"/>
                  </a:lnTo>
                  <a:lnTo>
                    <a:pt x="869" y="635"/>
                  </a:lnTo>
                  <a:lnTo>
                    <a:pt x="869" y="628"/>
                  </a:lnTo>
                  <a:lnTo>
                    <a:pt x="865" y="612"/>
                  </a:lnTo>
                  <a:lnTo>
                    <a:pt x="865" y="620"/>
                  </a:lnTo>
                  <a:lnTo>
                    <a:pt x="879" y="620"/>
                  </a:lnTo>
                  <a:lnTo>
                    <a:pt x="889" y="620"/>
                  </a:lnTo>
                  <a:lnTo>
                    <a:pt x="903" y="612"/>
                  </a:lnTo>
                  <a:lnTo>
                    <a:pt x="912" y="608"/>
                  </a:lnTo>
                  <a:lnTo>
                    <a:pt x="922" y="601"/>
                  </a:lnTo>
                  <a:lnTo>
                    <a:pt x="936" y="593"/>
                  </a:lnTo>
                  <a:lnTo>
                    <a:pt x="946" y="589"/>
                  </a:lnTo>
                  <a:lnTo>
                    <a:pt x="955" y="585"/>
                  </a:lnTo>
                  <a:lnTo>
                    <a:pt x="970" y="577"/>
                  </a:lnTo>
                  <a:lnTo>
                    <a:pt x="979" y="566"/>
                  </a:lnTo>
                  <a:lnTo>
                    <a:pt x="984" y="558"/>
                  </a:lnTo>
                  <a:lnTo>
                    <a:pt x="989" y="546"/>
                  </a:lnTo>
                  <a:lnTo>
                    <a:pt x="994" y="539"/>
                  </a:lnTo>
                  <a:lnTo>
                    <a:pt x="998" y="531"/>
                  </a:lnTo>
                  <a:lnTo>
                    <a:pt x="998" y="519"/>
                  </a:lnTo>
                  <a:lnTo>
                    <a:pt x="998" y="511"/>
                  </a:lnTo>
                  <a:lnTo>
                    <a:pt x="1003" y="504"/>
                  </a:lnTo>
                  <a:lnTo>
                    <a:pt x="1008" y="488"/>
                  </a:lnTo>
                  <a:lnTo>
                    <a:pt x="1008" y="480"/>
                  </a:lnTo>
                  <a:lnTo>
                    <a:pt x="1008" y="469"/>
                  </a:lnTo>
                  <a:lnTo>
                    <a:pt x="1003" y="461"/>
                  </a:lnTo>
                  <a:lnTo>
                    <a:pt x="1003" y="453"/>
                  </a:lnTo>
                  <a:lnTo>
                    <a:pt x="998" y="446"/>
                  </a:lnTo>
                  <a:lnTo>
                    <a:pt x="998" y="438"/>
                  </a:lnTo>
                  <a:lnTo>
                    <a:pt x="893" y="380"/>
                  </a:lnTo>
                  <a:lnTo>
                    <a:pt x="922" y="380"/>
                  </a:lnTo>
                  <a:lnTo>
                    <a:pt x="908" y="372"/>
                  </a:lnTo>
                  <a:lnTo>
                    <a:pt x="946" y="353"/>
                  </a:lnTo>
                  <a:lnTo>
                    <a:pt x="951" y="345"/>
                  </a:lnTo>
                  <a:lnTo>
                    <a:pt x="960" y="341"/>
                  </a:lnTo>
                  <a:lnTo>
                    <a:pt x="965" y="329"/>
                  </a:lnTo>
                  <a:lnTo>
                    <a:pt x="975" y="318"/>
                  </a:lnTo>
                  <a:lnTo>
                    <a:pt x="979" y="310"/>
                  </a:lnTo>
                  <a:lnTo>
                    <a:pt x="979" y="302"/>
                  </a:lnTo>
                  <a:lnTo>
                    <a:pt x="984" y="294"/>
                  </a:lnTo>
                  <a:lnTo>
                    <a:pt x="984" y="283"/>
                  </a:lnTo>
                  <a:lnTo>
                    <a:pt x="984" y="271"/>
                  </a:lnTo>
                  <a:lnTo>
                    <a:pt x="984" y="263"/>
                  </a:lnTo>
                  <a:lnTo>
                    <a:pt x="975" y="256"/>
                  </a:lnTo>
                  <a:lnTo>
                    <a:pt x="975" y="248"/>
                  </a:lnTo>
                  <a:lnTo>
                    <a:pt x="965" y="244"/>
                  </a:lnTo>
                  <a:lnTo>
                    <a:pt x="955" y="240"/>
                  </a:lnTo>
                  <a:lnTo>
                    <a:pt x="941" y="240"/>
                  </a:lnTo>
                  <a:lnTo>
                    <a:pt x="932" y="240"/>
                  </a:lnTo>
                  <a:lnTo>
                    <a:pt x="922" y="244"/>
                  </a:lnTo>
                  <a:lnTo>
                    <a:pt x="912" y="244"/>
                  </a:lnTo>
                  <a:lnTo>
                    <a:pt x="903" y="244"/>
                  </a:lnTo>
                  <a:lnTo>
                    <a:pt x="889" y="248"/>
                  </a:lnTo>
                  <a:lnTo>
                    <a:pt x="879" y="248"/>
                  </a:lnTo>
                  <a:lnTo>
                    <a:pt x="869" y="256"/>
                  </a:lnTo>
                  <a:lnTo>
                    <a:pt x="855" y="260"/>
                  </a:lnTo>
                  <a:lnTo>
                    <a:pt x="831" y="267"/>
                  </a:lnTo>
                  <a:lnTo>
                    <a:pt x="836" y="263"/>
                  </a:lnTo>
                  <a:lnTo>
                    <a:pt x="836" y="252"/>
                  </a:lnTo>
                  <a:lnTo>
                    <a:pt x="846" y="236"/>
                  </a:lnTo>
                  <a:lnTo>
                    <a:pt x="850" y="225"/>
                  </a:lnTo>
                  <a:lnTo>
                    <a:pt x="850" y="217"/>
                  </a:lnTo>
                  <a:lnTo>
                    <a:pt x="860" y="209"/>
                  </a:lnTo>
                  <a:lnTo>
                    <a:pt x="860" y="198"/>
                  </a:lnTo>
                  <a:lnTo>
                    <a:pt x="860" y="190"/>
                  </a:lnTo>
                  <a:lnTo>
                    <a:pt x="865" y="178"/>
                  </a:lnTo>
                  <a:lnTo>
                    <a:pt x="865" y="167"/>
                  </a:lnTo>
                  <a:lnTo>
                    <a:pt x="865" y="155"/>
                  </a:lnTo>
                  <a:lnTo>
                    <a:pt x="860" y="139"/>
                  </a:lnTo>
                  <a:lnTo>
                    <a:pt x="855" y="132"/>
                  </a:lnTo>
                  <a:lnTo>
                    <a:pt x="850" y="120"/>
                  </a:lnTo>
                  <a:lnTo>
                    <a:pt x="841" y="108"/>
                  </a:lnTo>
                  <a:lnTo>
                    <a:pt x="841" y="101"/>
                  </a:lnTo>
                  <a:lnTo>
                    <a:pt x="836" y="93"/>
                  </a:lnTo>
                  <a:lnTo>
                    <a:pt x="826" y="85"/>
                  </a:lnTo>
                  <a:lnTo>
                    <a:pt x="817" y="81"/>
                  </a:lnTo>
                  <a:lnTo>
                    <a:pt x="807" y="77"/>
                  </a:lnTo>
                  <a:lnTo>
                    <a:pt x="798" y="77"/>
                  </a:lnTo>
                  <a:lnTo>
                    <a:pt x="788" y="74"/>
                  </a:lnTo>
                  <a:lnTo>
                    <a:pt x="755" y="70"/>
                  </a:lnTo>
                  <a:lnTo>
                    <a:pt x="745" y="74"/>
                  </a:lnTo>
                  <a:lnTo>
                    <a:pt x="736" y="74"/>
                  </a:lnTo>
                  <a:lnTo>
                    <a:pt x="726" y="74"/>
                  </a:lnTo>
                  <a:lnTo>
                    <a:pt x="717" y="74"/>
                  </a:lnTo>
                  <a:lnTo>
                    <a:pt x="702" y="74"/>
                  </a:lnTo>
                  <a:lnTo>
                    <a:pt x="693" y="74"/>
                  </a:lnTo>
                  <a:lnTo>
                    <a:pt x="693" y="54"/>
                  </a:lnTo>
                  <a:lnTo>
                    <a:pt x="688" y="66"/>
                  </a:lnTo>
                  <a:lnTo>
                    <a:pt x="683" y="58"/>
                  </a:lnTo>
                  <a:lnTo>
                    <a:pt x="674" y="50"/>
                  </a:lnTo>
                  <a:lnTo>
                    <a:pt x="659" y="43"/>
                  </a:lnTo>
                  <a:lnTo>
                    <a:pt x="650" y="39"/>
                  </a:lnTo>
                  <a:lnTo>
                    <a:pt x="621" y="27"/>
                  </a:lnTo>
                  <a:lnTo>
                    <a:pt x="611" y="23"/>
                  </a:lnTo>
                  <a:lnTo>
                    <a:pt x="602" y="19"/>
                  </a:lnTo>
                  <a:lnTo>
                    <a:pt x="592" y="19"/>
                  </a:lnTo>
                  <a:lnTo>
                    <a:pt x="583" y="19"/>
                  </a:lnTo>
                  <a:lnTo>
                    <a:pt x="573" y="19"/>
                  </a:lnTo>
                  <a:lnTo>
                    <a:pt x="564" y="15"/>
                  </a:lnTo>
                  <a:lnTo>
                    <a:pt x="554" y="15"/>
                  </a:lnTo>
                  <a:lnTo>
                    <a:pt x="545" y="15"/>
                  </a:lnTo>
                  <a:lnTo>
                    <a:pt x="535" y="23"/>
                  </a:lnTo>
                  <a:lnTo>
                    <a:pt x="530" y="31"/>
                  </a:lnTo>
                  <a:lnTo>
                    <a:pt x="525" y="4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25640" y="4113360"/>
              <a:ext cx="1462320" cy="459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  <a:ea typeface="굴림"/>
                </a:rPr>
                <a:t>Inter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971800" y="2552760"/>
            <a:ext cx="3048120" cy="1333440"/>
          </a:xfrm>
          <a:custGeom>
            <a:avLst/>
            <a:gdLst/>
            <a:ahLst/>
            <a:rect l="l" t="t" r="r" b="b"/>
            <a:pathLst>
              <a:path w="1968" h="768">
                <a:moveTo>
                  <a:pt x="1968" y="0"/>
                </a:moveTo>
                <a:cubicBezTo>
                  <a:pt x="1904" y="104"/>
                  <a:pt x="1840" y="208"/>
                  <a:pt x="1680" y="336"/>
                </a:cubicBezTo>
                <a:cubicBezTo>
                  <a:pt x="1520" y="464"/>
                  <a:pt x="1240" y="768"/>
                  <a:pt x="1008" y="768"/>
                </a:cubicBezTo>
                <a:cubicBezTo>
                  <a:pt x="776" y="768"/>
                  <a:pt x="456" y="456"/>
                  <a:pt x="288" y="336"/>
                </a:cubicBezTo>
                <a:cubicBezTo>
                  <a:pt x="120" y="216"/>
                  <a:pt x="60" y="132"/>
                  <a:pt x="0" y="48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29160" y="1905120"/>
            <a:ext cx="19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굴림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isconnected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ynchron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9800" y="5645520"/>
            <a:ext cx="2203200" cy="4881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Voice GW Out(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43320" y="4070520"/>
            <a:ext cx="1494360" cy="4881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Fax G/W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00920" y="3283200"/>
            <a:ext cx="1707840" cy="4881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Fax G/W 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9720" y="4858200"/>
            <a:ext cx="1733760" cy="4881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굴림"/>
              </a:rPr>
              <a:t>Voice G/W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31520" y="5263560"/>
            <a:ext cx="1971360" cy="7945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ervice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24680" y="3352680"/>
            <a:ext cx="609840" cy="14616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4114800"/>
            <a:ext cx="838080" cy="20304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53280" y="5791320"/>
            <a:ext cx="533520" cy="12672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72400" y="4952880"/>
            <a:ext cx="838080" cy="20340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447920" y="3048120"/>
            <a:ext cx="685800" cy="749160"/>
            <a:chOff x="1447920" y="3048120"/>
            <a:chExt cx="685800" cy="749160"/>
          </a:xfrm>
        </p:grpSpPr>
        <p:sp>
          <p:nvSpPr>
            <p:cNvPr id="137" name=""/>
            <p:cNvSpPr/>
            <p:nvPr/>
          </p:nvSpPr>
          <p:spPr>
            <a:xfrm>
              <a:off x="1454400" y="3048120"/>
              <a:ext cx="672840" cy="272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54400" y="3524400"/>
              <a:ext cx="672840" cy="272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7920" y="3191040"/>
              <a:ext cx="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33720" y="3191040"/>
              <a:ext cx="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696080" y="1981080"/>
            <a:ext cx="685800" cy="749160"/>
            <a:chOff x="7696080" y="1981080"/>
            <a:chExt cx="685800" cy="749160"/>
          </a:xfrm>
        </p:grpSpPr>
        <p:sp>
          <p:nvSpPr>
            <p:cNvPr id="142" name=""/>
            <p:cNvSpPr/>
            <p:nvPr/>
          </p:nvSpPr>
          <p:spPr>
            <a:xfrm>
              <a:off x="7702560" y="1981080"/>
              <a:ext cx="672840" cy="272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02560" y="2457360"/>
              <a:ext cx="672840" cy="272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96080" y="2124000"/>
              <a:ext cx="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81880" y="2124000"/>
              <a:ext cx="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1828440" y="281952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467120" y="22860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Collaboration via email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2044800"/>
            <a:ext cx="40384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굴림"/>
              </a:rPr>
              <a:t>Virtual organization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250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Outsource for company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250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Outsource for multi-organization "group"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95320" y="2044800"/>
            <a:ext cx="4343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35600" indent="-43560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굴림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86680" indent="-340200">
              <a:lnSpc>
                <a:spcPct val="16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Email discussion list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16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Discussion archive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16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Document archive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16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Instant messagin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16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Calendaring &amp; scheduling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	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	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	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4120" y="4111560"/>
            <a:ext cx="609480" cy="152640"/>
          </a:xfrm>
          <a:prstGeom prst="line">
            <a:avLst/>
          </a:prstGeom>
          <a:ln w="2844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2971800"/>
            <a:ext cx="1447560" cy="3124080"/>
          </a:xfrm>
          <a:custGeom>
            <a:avLst/>
            <a:gdLst/>
            <a:ahLst/>
            <a:rect l="l" t="t" r="r" b="b"/>
            <a:pathLst>
              <a:path w="1009" h="865">
                <a:moveTo>
                  <a:pt x="578" y="101"/>
                </a:moveTo>
                <a:lnTo>
                  <a:pt x="564" y="93"/>
                </a:lnTo>
                <a:lnTo>
                  <a:pt x="564" y="85"/>
                </a:lnTo>
                <a:lnTo>
                  <a:pt x="559" y="77"/>
                </a:lnTo>
                <a:lnTo>
                  <a:pt x="559" y="70"/>
                </a:lnTo>
                <a:lnTo>
                  <a:pt x="545" y="54"/>
                </a:lnTo>
                <a:lnTo>
                  <a:pt x="540" y="43"/>
                </a:lnTo>
                <a:lnTo>
                  <a:pt x="535" y="35"/>
                </a:lnTo>
                <a:lnTo>
                  <a:pt x="530" y="27"/>
                </a:lnTo>
                <a:lnTo>
                  <a:pt x="521" y="23"/>
                </a:lnTo>
                <a:lnTo>
                  <a:pt x="511" y="19"/>
                </a:lnTo>
                <a:lnTo>
                  <a:pt x="502" y="15"/>
                </a:lnTo>
                <a:lnTo>
                  <a:pt x="487" y="8"/>
                </a:lnTo>
                <a:lnTo>
                  <a:pt x="473" y="4"/>
                </a:lnTo>
                <a:lnTo>
                  <a:pt x="459" y="0"/>
                </a:lnTo>
                <a:lnTo>
                  <a:pt x="449" y="4"/>
                </a:lnTo>
                <a:lnTo>
                  <a:pt x="440" y="4"/>
                </a:lnTo>
                <a:lnTo>
                  <a:pt x="430" y="4"/>
                </a:lnTo>
                <a:lnTo>
                  <a:pt x="420" y="12"/>
                </a:lnTo>
                <a:lnTo>
                  <a:pt x="411" y="15"/>
                </a:lnTo>
                <a:lnTo>
                  <a:pt x="401" y="19"/>
                </a:lnTo>
                <a:lnTo>
                  <a:pt x="392" y="23"/>
                </a:lnTo>
                <a:lnTo>
                  <a:pt x="382" y="27"/>
                </a:lnTo>
                <a:lnTo>
                  <a:pt x="373" y="31"/>
                </a:lnTo>
                <a:lnTo>
                  <a:pt x="363" y="39"/>
                </a:lnTo>
                <a:lnTo>
                  <a:pt x="349" y="46"/>
                </a:lnTo>
                <a:lnTo>
                  <a:pt x="339" y="50"/>
                </a:lnTo>
                <a:lnTo>
                  <a:pt x="334" y="58"/>
                </a:lnTo>
                <a:lnTo>
                  <a:pt x="296" y="89"/>
                </a:lnTo>
                <a:lnTo>
                  <a:pt x="296" y="97"/>
                </a:lnTo>
                <a:lnTo>
                  <a:pt x="287" y="105"/>
                </a:lnTo>
                <a:lnTo>
                  <a:pt x="263" y="101"/>
                </a:lnTo>
                <a:lnTo>
                  <a:pt x="277" y="93"/>
                </a:lnTo>
                <a:lnTo>
                  <a:pt x="268" y="89"/>
                </a:lnTo>
                <a:lnTo>
                  <a:pt x="253" y="93"/>
                </a:lnTo>
                <a:lnTo>
                  <a:pt x="244" y="93"/>
                </a:lnTo>
                <a:lnTo>
                  <a:pt x="229" y="97"/>
                </a:lnTo>
                <a:lnTo>
                  <a:pt x="220" y="97"/>
                </a:lnTo>
                <a:lnTo>
                  <a:pt x="205" y="101"/>
                </a:lnTo>
                <a:lnTo>
                  <a:pt x="201" y="108"/>
                </a:lnTo>
                <a:lnTo>
                  <a:pt x="191" y="112"/>
                </a:lnTo>
                <a:lnTo>
                  <a:pt x="177" y="124"/>
                </a:lnTo>
                <a:lnTo>
                  <a:pt x="167" y="132"/>
                </a:lnTo>
                <a:lnTo>
                  <a:pt x="158" y="136"/>
                </a:lnTo>
                <a:lnTo>
                  <a:pt x="148" y="136"/>
                </a:lnTo>
                <a:lnTo>
                  <a:pt x="143" y="143"/>
                </a:lnTo>
                <a:lnTo>
                  <a:pt x="110" y="178"/>
                </a:lnTo>
                <a:lnTo>
                  <a:pt x="100" y="186"/>
                </a:lnTo>
                <a:lnTo>
                  <a:pt x="96" y="198"/>
                </a:lnTo>
                <a:lnTo>
                  <a:pt x="91" y="205"/>
                </a:lnTo>
                <a:lnTo>
                  <a:pt x="91" y="213"/>
                </a:lnTo>
                <a:lnTo>
                  <a:pt x="91" y="221"/>
                </a:lnTo>
                <a:lnTo>
                  <a:pt x="91" y="232"/>
                </a:lnTo>
                <a:lnTo>
                  <a:pt x="91" y="240"/>
                </a:lnTo>
                <a:lnTo>
                  <a:pt x="96" y="248"/>
                </a:lnTo>
                <a:lnTo>
                  <a:pt x="96" y="256"/>
                </a:lnTo>
                <a:lnTo>
                  <a:pt x="105" y="267"/>
                </a:lnTo>
                <a:lnTo>
                  <a:pt x="115" y="271"/>
                </a:lnTo>
                <a:lnTo>
                  <a:pt x="119" y="279"/>
                </a:lnTo>
                <a:lnTo>
                  <a:pt x="129" y="283"/>
                </a:lnTo>
                <a:lnTo>
                  <a:pt x="139" y="287"/>
                </a:lnTo>
                <a:lnTo>
                  <a:pt x="119" y="287"/>
                </a:lnTo>
                <a:lnTo>
                  <a:pt x="134" y="287"/>
                </a:lnTo>
                <a:lnTo>
                  <a:pt x="124" y="287"/>
                </a:lnTo>
                <a:lnTo>
                  <a:pt x="115" y="291"/>
                </a:lnTo>
                <a:lnTo>
                  <a:pt x="110" y="298"/>
                </a:lnTo>
                <a:lnTo>
                  <a:pt x="100" y="302"/>
                </a:lnTo>
                <a:lnTo>
                  <a:pt x="100" y="310"/>
                </a:lnTo>
                <a:lnTo>
                  <a:pt x="91" y="314"/>
                </a:lnTo>
                <a:lnTo>
                  <a:pt x="81" y="322"/>
                </a:lnTo>
                <a:lnTo>
                  <a:pt x="48" y="360"/>
                </a:lnTo>
                <a:lnTo>
                  <a:pt x="38" y="376"/>
                </a:lnTo>
                <a:lnTo>
                  <a:pt x="29" y="384"/>
                </a:lnTo>
                <a:lnTo>
                  <a:pt x="24" y="395"/>
                </a:lnTo>
                <a:lnTo>
                  <a:pt x="19" y="407"/>
                </a:lnTo>
                <a:lnTo>
                  <a:pt x="14" y="415"/>
                </a:lnTo>
                <a:lnTo>
                  <a:pt x="14" y="422"/>
                </a:lnTo>
                <a:lnTo>
                  <a:pt x="10" y="430"/>
                </a:lnTo>
                <a:lnTo>
                  <a:pt x="5" y="438"/>
                </a:lnTo>
                <a:lnTo>
                  <a:pt x="5" y="453"/>
                </a:lnTo>
                <a:lnTo>
                  <a:pt x="5" y="461"/>
                </a:lnTo>
                <a:lnTo>
                  <a:pt x="0" y="469"/>
                </a:lnTo>
                <a:lnTo>
                  <a:pt x="0" y="480"/>
                </a:lnTo>
                <a:lnTo>
                  <a:pt x="0" y="488"/>
                </a:lnTo>
                <a:lnTo>
                  <a:pt x="0" y="496"/>
                </a:lnTo>
                <a:lnTo>
                  <a:pt x="5" y="504"/>
                </a:lnTo>
                <a:lnTo>
                  <a:pt x="10" y="511"/>
                </a:lnTo>
                <a:lnTo>
                  <a:pt x="19" y="519"/>
                </a:lnTo>
                <a:lnTo>
                  <a:pt x="29" y="523"/>
                </a:lnTo>
                <a:lnTo>
                  <a:pt x="38" y="531"/>
                </a:lnTo>
                <a:lnTo>
                  <a:pt x="53" y="535"/>
                </a:lnTo>
                <a:lnTo>
                  <a:pt x="67" y="539"/>
                </a:lnTo>
                <a:lnTo>
                  <a:pt x="76" y="539"/>
                </a:lnTo>
                <a:lnTo>
                  <a:pt x="86" y="539"/>
                </a:lnTo>
                <a:lnTo>
                  <a:pt x="96" y="539"/>
                </a:lnTo>
                <a:lnTo>
                  <a:pt x="105" y="542"/>
                </a:lnTo>
                <a:lnTo>
                  <a:pt x="115" y="542"/>
                </a:lnTo>
                <a:lnTo>
                  <a:pt x="119" y="589"/>
                </a:lnTo>
                <a:lnTo>
                  <a:pt x="110" y="585"/>
                </a:lnTo>
                <a:lnTo>
                  <a:pt x="110" y="593"/>
                </a:lnTo>
                <a:lnTo>
                  <a:pt x="110" y="601"/>
                </a:lnTo>
                <a:lnTo>
                  <a:pt x="115" y="608"/>
                </a:lnTo>
                <a:lnTo>
                  <a:pt x="115" y="616"/>
                </a:lnTo>
                <a:lnTo>
                  <a:pt x="139" y="666"/>
                </a:lnTo>
                <a:lnTo>
                  <a:pt x="148" y="674"/>
                </a:lnTo>
                <a:lnTo>
                  <a:pt x="153" y="682"/>
                </a:lnTo>
                <a:lnTo>
                  <a:pt x="162" y="690"/>
                </a:lnTo>
                <a:lnTo>
                  <a:pt x="177" y="694"/>
                </a:lnTo>
                <a:lnTo>
                  <a:pt x="191" y="701"/>
                </a:lnTo>
                <a:lnTo>
                  <a:pt x="201" y="705"/>
                </a:lnTo>
                <a:lnTo>
                  <a:pt x="210" y="709"/>
                </a:lnTo>
                <a:lnTo>
                  <a:pt x="225" y="713"/>
                </a:lnTo>
                <a:lnTo>
                  <a:pt x="234" y="717"/>
                </a:lnTo>
                <a:lnTo>
                  <a:pt x="244" y="717"/>
                </a:lnTo>
                <a:lnTo>
                  <a:pt x="253" y="717"/>
                </a:lnTo>
                <a:lnTo>
                  <a:pt x="263" y="717"/>
                </a:lnTo>
                <a:lnTo>
                  <a:pt x="272" y="717"/>
                </a:lnTo>
                <a:lnTo>
                  <a:pt x="282" y="717"/>
                </a:lnTo>
                <a:lnTo>
                  <a:pt x="291" y="717"/>
                </a:lnTo>
                <a:lnTo>
                  <a:pt x="301" y="717"/>
                </a:lnTo>
                <a:lnTo>
                  <a:pt x="315" y="717"/>
                </a:lnTo>
                <a:lnTo>
                  <a:pt x="349" y="705"/>
                </a:lnTo>
                <a:lnTo>
                  <a:pt x="354" y="713"/>
                </a:lnTo>
                <a:lnTo>
                  <a:pt x="354" y="721"/>
                </a:lnTo>
                <a:lnTo>
                  <a:pt x="354" y="728"/>
                </a:lnTo>
                <a:lnTo>
                  <a:pt x="354" y="736"/>
                </a:lnTo>
                <a:lnTo>
                  <a:pt x="354" y="744"/>
                </a:lnTo>
                <a:lnTo>
                  <a:pt x="354" y="756"/>
                </a:lnTo>
                <a:lnTo>
                  <a:pt x="358" y="767"/>
                </a:lnTo>
                <a:lnTo>
                  <a:pt x="363" y="779"/>
                </a:lnTo>
                <a:lnTo>
                  <a:pt x="368" y="790"/>
                </a:lnTo>
                <a:lnTo>
                  <a:pt x="373" y="798"/>
                </a:lnTo>
                <a:lnTo>
                  <a:pt x="377" y="806"/>
                </a:lnTo>
                <a:lnTo>
                  <a:pt x="435" y="849"/>
                </a:lnTo>
                <a:lnTo>
                  <a:pt x="444" y="849"/>
                </a:lnTo>
                <a:lnTo>
                  <a:pt x="459" y="852"/>
                </a:lnTo>
                <a:lnTo>
                  <a:pt x="473" y="856"/>
                </a:lnTo>
                <a:lnTo>
                  <a:pt x="483" y="860"/>
                </a:lnTo>
                <a:lnTo>
                  <a:pt x="492" y="864"/>
                </a:lnTo>
                <a:lnTo>
                  <a:pt x="502" y="864"/>
                </a:lnTo>
                <a:lnTo>
                  <a:pt x="516" y="864"/>
                </a:lnTo>
                <a:lnTo>
                  <a:pt x="535" y="860"/>
                </a:lnTo>
                <a:lnTo>
                  <a:pt x="545" y="856"/>
                </a:lnTo>
                <a:lnTo>
                  <a:pt x="559" y="852"/>
                </a:lnTo>
                <a:lnTo>
                  <a:pt x="568" y="852"/>
                </a:lnTo>
                <a:lnTo>
                  <a:pt x="578" y="849"/>
                </a:lnTo>
                <a:lnTo>
                  <a:pt x="588" y="849"/>
                </a:lnTo>
                <a:lnTo>
                  <a:pt x="602" y="845"/>
                </a:lnTo>
                <a:lnTo>
                  <a:pt x="611" y="837"/>
                </a:lnTo>
                <a:lnTo>
                  <a:pt x="621" y="833"/>
                </a:lnTo>
                <a:lnTo>
                  <a:pt x="631" y="821"/>
                </a:lnTo>
                <a:lnTo>
                  <a:pt x="635" y="810"/>
                </a:lnTo>
                <a:lnTo>
                  <a:pt x="640" y="802"/>
                </a:lnTo>
                <a:lnTo>
                  <a:pt x="664" y="775"/>
                </a:lnTo>
                <a:lnTo>
                  <a:pt x="669" y="783"/>
                </a:lnTo>
                <a:lnTo>
                  <a:pt x="674" y="790"/>
                </a:lnTo>
                <a:lnTo>
                  <a:pt x="683" y="794"/>
                </a:lnTo>
                <a:lnTo>
                  <a:pt x="693" y="798"/>
                </a:lnTo>
                <a:lnTo>
                  <a:pt x="712" y="806"/>
                </a:lnTo>
                <a:lnTo>
                  <a:pt x="721" y="810"/>
                </a:lnTo>
                <a:lnTo>
                  <a:pt x="731" y="814"/>
                </a:lnTo>
                <a:lnTo>
                  <a:pt x="745" y="814"/>
                </a:lnTo>
                <a:lnTo>
                  <a:pt x="755" y="818"/>
                </a:lnTo>
                <a:lnTo>
                  <a:pt x="764" y="818"/>
                </a:lnTo>
                <a:lnTo>
                  <a:pt x="779" y="818"/>
                </a:lnTo>
                <a:lnTo>
                  <a:pt x="793" y="818"/>
                </a:lnTo>
                <a:lnTo>
                  <a:pt x="803" y="818"/>
                </a:lnTo>
                <a:lnTo>
                  <a:pt x="812" y="818"/>
                </a:lnTo>
                <a:lnTo>
                  <a:pt x="822" y="814"/>
                </a:lnTo>
                <a:lnTo>
                  <a:pt x="836" y="814"/>
                </a:lnTo>
                <a:lnTo>
                  <a:pt x="841" y="806"/>
                </a:lnTo>
                <a:lnTo>
                  <a:pt x="850" y="802"/>
                </a:lnTo>
                <a:lnTo>
                  <a:pt x="860" y="802"/>
                </a:lnTo>
                <a:lnTo>
                  <a:pt x="874" y="794"/>
                </a:lnTo>
                <a:lnTo>
                  <a:pt x="884" y="787"/>
                </a:lnTo>
                <a:lnTo>
                  <a:pt x="903" y="740"/>
                </a:lnTo>
                <a:lnTo>
                  <a:pt x="903" y="732"/>
                </a:lnTo>
                <a:lnTo>
                  <a:pt x="903" y="721"/>
                </a:lnTo>
                <a:lnTo>
                  <a:pt x="903" y="713"/>
                </a:lnTo>
                <a:lnTo>
                  <a:pt x="893" y="701"/>
                </a:lnTo>
                <a:lnTo>
                  <a:pt x="893" y="694"/>
                </a:lnTo>
                <a:lnTo>
                  <a:pt x="884" y="682"/>
                </a:lnTo>
                <a:lnTo>
                  <a:pt x="879" y="670"/>
                </a:lnTo>
                <a:lnTo>
                  <a:pt x="879" y="663"/>
                </a:lnTo>
                <a:lnTo>
                  <a:pt x="874" y="651"/>
                </a:lnTo>
                <a:lnTo>
                  <a:pt x="874" y="643"/>
                </a:lnTo>
                <a:lnTo>
                  <a:pt x="869" y="635"/>
                </a:lnTo>
                <a:lnTo>
                  <a:pt x="869" y="628"/>
                </a:lnTo>
                <a:lnTo>
                  <a:pt x="865" y="612"/>
                </a:lnTo>
                <a:lnTo>
                  <a:pt x="865" y="620"/>
                </a:lnTo>
                <a:lnTo>
                  <a:pt x="879" y="620"/>
                </a:lnTo>
                <a:lnTo>
                  <a:pt x="889" y="620"/>
                </a:lnTo>
                <a:lnTo>
                  <a:pt x="903" y="612"/>
                </a:lnTo>
                <a:lnTo>
                  <a:pt x="912" y="608"/>
                </a:lnTo>
                <a:lnTo>
                  <a:pt x="922" y="601"/>
                </a:lnTo>
                <a:lnTo>
                  <a:pt x="936" y="593"/>
                </a:lnTo>
                <a:lnTo>
                  <a:pt x="946" y="589"/>
                </a:lnTo>
                <a:lnTo>
                  <a:pt x="955" y="585"/>
                </a:lnTo>
                <a:lnTo>
                  <a:pt x="970" y="577"/>
                </a:lnTo>
                <a:lnTo>
                  <a:pt x="979" y="566"/>
                </a:lnTo>
                <a:lnTo>
                  <a:pt x="984" y="558"/>
                </a:lnTo>
                <a:lnTo>
                  <a:pt x="989" y="546"/>
                </a:lnTo>
                <a:lnTo>
                  <a:pt x="994" y="539"/>
                </a:lnTo>
                <a:lnTo>
                  <a:pt x="998" y="531"/>
                </a:lnTo>
                <a:lnTo>
                  <a:pt x="998" y="519"/>
                </a:lnTo>
                <a:lnTo>
                  <a:pt x="998" y="511"/>
                </a:lnTo>
                <a:lnTo>
                  <a:pt x="1003" y="504"/>
                </a:lnTo>
                <a:lnTo>
                  <a:pt x="1008" y="488"/>
                </a:lnTo>
                <a:lnTo>
                  <a:pt x="1008" y="480"/>
                </a:lnTo>
                <a:lnTo>
                  <a:pt x="1008" y="469"/>
                </a:lnTo>
                <a:lnTo>
                  <a:pt x="1003" y="461"/>
                </a:lnTo>
                <a:lnTo>
                  <a:pt x="1003" y="453"/>
                </a:lnTo>
                <a:lnTo>
                  <a:pt x="998" y="446"/>
                </a:lnTo>
                <a:lnTo>
                  <a:pt x="998" y="438"/>
                </a:lnTo>
                <a:lnTo>
                  <a:pt x="893" y="380"/>
                </a:lnTo>
                <a:lnTo>
                  <a:pt x="922" y="380"/>
                </a:lnTo>
                <a:lnTo>
                  <a:pt x="908" y="372"/>
                </a:lnTo>
                <a:lnTo>
                  <a:pt x="946" y="353"/>
                </a:lnTo>
                <a:lnTo>
                  <a:pt x="951" y="345"/>
                </a:lnTo>
                <a:lnTo>
                  <a:pt x="960" y="341"/>
                </a:lnTo>
                <a:lnTo>
                  <a:pt x="965" y="329"/>
                </a:lnTo>
                <a:lnTo>
                  <a:pt x="975" y="318"/>
                </a:lnTo>
                <a:lnTo>
                  <a:pt x="979" y="310"/>
                </a:lnTo>
                <a:lnTo>
                  <a:pt x="979" y="302"/>
                </a:lnTo>
                <a:lnTo>
                  <a:pt x="984" y="294"/>
                </a:lnTo>
                <a:lnTo>
                  <a:pt x="984" y="283"/>
                </a:lnTo>
                <a:lnTo>
                  <a:pt x="984" y="271"/>
                </a:lnTo>
                <a:lnTo>
                  <a:pt x="984" y="263"/>
                </a:lnTo>
                <a:lnTo>
                  <a:pt x="975" y="256"/>
                </a:lnTo>
                <a:lnTo>
                  <a:pt x="975" y="248"/>
                </a:lnTo>
                <a:lnTo>
                  <a:pt x="965" y="244"/>
                </a:lnTo>
                <a:lnTo>
                  <a:pt x="955" y="240"/>
                </a:lnTo>
                <a:lnTo>
                  <a:pt x="941" y="240"/>
                </a:lnTo>
                <a:lnTo>
                  <a:pt x="932" y="240"/>
                </a:lnTo>
                <a:lnTo>
                  <a:pt x="922" y="244"/>
                </a:lnTo>
                <a:lnTo>
                  <a:pt x="912" y="244"/>
                </a:lnTo>
                <a:lnTo>
                  <a:pt x="903" y="244"/>
                </a:lnTo>
                <a:lnTo>
                  <a:pt x="889" y="248"/>
                </a:lnTo>
                <a:lnTo>
                  <a:pt x="879" y="248"/>
                </a:lnTo>
                <a:lnTo>
                  <a:pt x="869" y="256"/>
                </a:lnTo>
                <a:lnTo>
                  <a:pt x="855" y="260"/>
                </a:lnTo>
                <a:lnTo>
                  <a:pt x="831" y="267"/>
                </a:lnTo>
                <a:lnTo>
                  <a:pt x="836" y="263"/>
                </a:lnTo>
                <a:lnTo>
                  <a:pt x="836" y="252"/>
                </a:lnTo>
                <a:lnTo>
                  <a:pt x="846" y="236"/>
                </a:lnTo>
                <a:lnTo>
                  <a:pt x="850" y="225"/>
                </a:lnTo>
                <a:lnTo>
                  <a:pt x="850" y="217"/>
                </a:lnTo>
                <a:lnTo>
                  <a:pt x="860" y="209"/>
                </a:lnTo>
                <a:lnTo>
                  <a:pt x="860" y="198"/>
                </a:lnTo>
                <a:lnTo>
                  <a:pt x="860" y="190"/>
                </a:lnTo>
                <a:lnTo>
                  <a:pt x="865" y="178"/>
                </a:lnTo>
                <a:lnTo>
                  <a:pt x="865" y="167"/>
                </a:lnTo>
                <a:lnTo>
                  <a:pt x="865" y="155"/>
                </a:lnTo>
                <a:lnTo>
                  <a:pt x="860" y="139"/>
                </a:lnTo>
                <a:lnTo>
                  <a:pt x="855" y="132"/>
                </a:lnTo>
                <a:lnTo>
                  <a:pt x="850" y="120"/>
                </a:lnTo>
                <a:lnTo>
                  <a:pt x="841" y="108"/>
                </a:lnTo>
                <a:lnTo>
                  <a:pt x="841" y="101"/>
                </a:lnTo>
                <a:lnTo>
                  <a:pt x="836" y="93"/>
                </a:lnTo>
                <a:lnTo>
                  <a:pt x="826" y="85"/>
                </a:lnTo>
                <a:lnTo>
                  <a:pt x="817" y="81"/>
                </a:lnTo>
                <a:lnTo>
                  <a:pt x="807" y="77"/>
                </a:lnTo>
                <a:lnTo>
                  <a:pt x="798" y="77"/>
                </a:lnTo>
                <a:lnTo>
                  <a:pt x="788" y="74"/>
                </a:lnTo>
                <a:lnTo>
                  <a:pt x="755" y="70"/>
                </a:lnTo>
                <a:lnTo>
                  <a:pt x="745" y="74"/>
                </a:lnTo>
                <a:lnTo>
                  <a:pt x="736" y="74"/>
                </a:lnTo>
                <a:lnTo>
                  <a:pt x="726" y="74"/>
                </a:lnTo>
                <a:lnTo>
                  <a:pt x="717" y="74"/>
                </a:lnTo>
                <a:lnTo>
                  <a:pt x="702" y="74"/>
                </a:lnTo>
                <a:lnTo>
                  <a:pt x="693" y="74"/>
                </a:lnTo>
                <a:lnTo>
                  <a:pt x="693" y="54"/>
                </a:lnTo>
                <a:lnTo>
                  <a:pt x="688" y="66"/>
                </a:lnTo>
                <a:lnTo>
                  <a:pt x="683" y="58"/>
                </a:lnTo>
                <a:lnTo>
                  <a:pt x="674" y="50"/>
                </a:lnTo>
                <a:lnTo>
                  <a:pt x="659" y="43"/>
                </a:lnTo>
                <a:lnTo>
                  <a:pt x="650" y="39"/>
                </a:lnTo>
                <a:lnTo>
                  <a:pt x="621" y="27"/>
                </a:lnTo>
                <a:lnTo>
                  <a:pt x="611" y="23"/>
                </a:lnTo>
                <a:lnTo>
                  <a:pt x="602" y="19"/>
                </a:lnTo>
                <a:lnTo>
                  <a:pt x="592" y="19"/>
                </a:lnTo>
                <a:lnTo>
                  <a:pt x="583" y="19"/>
                </a:lnTo>
                <a:lnTo>
                  <a:pt x="573" y="19"/>
                </a:lnTo>
                <a:lnTo>
                  <a:pt x="564" y="15"/>
                </a:lnTo>
                <a:lnTo>
                  <a:pt x="554" y="15"/>
                </a:lnTo>
                <a:lnTo>
                  <a:pt x="545" y="15"/>
                </a:lnTo>
                <a:lnTo>
                  <a:pt x="535" y="23"/>
                </a:lnTo>
                <a:lnTo>
                  <a:pt x="530" y="31"/>
                </a:lnTo>
                <a:lnTo>
                  <a:pt x="525" y="46"/>
                </a:lnTo>
              </a:path>
            </a:pathLst>
          </a:custGeom>
          <a:solidFill>
            <a:srgbClr val="ffcc6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362320" y="5638680"/>
            <a:ext cx="4952880" cy="763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Large-scale &amp; reliabl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55" name=""/>
          <p:cNvSpPr/>
          <p:nvPr/>
        </p:nvSpPr>
        <p:spPr>
          <a:xfrm>
            <a:off x="780120" y="3276720"/>
            <a:ext cx="1602360" cy="914760"/>
          </a:xfrm>
          <a:prstGeom prst="rect">
            <a:avLst/>
          </a:prstGeom>
          <a:solidFill>
            <a:srgbClr val="96969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St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53320" y="1981080"/>
            <a:ext cx="2322000" cy="764640"/>
          </a:xfrm>
          <a:prstGeom prst="rect">
            <a:avLst/>
          </a:prstGeom>
          <a:solidFill>
            <a:srgbClr val="96969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  <a:ea typeface="굴림"/>
              </a:rPr>
              <a:t>DN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굴림"/>
              </a:rPr>
              <a:t>	</a:t>
            </a:r>
            <a:r>
              <a:rPr b="1" i="1" lang="en-US" sz="2000" spc="-1" strike="noStrike" u="sng">
                <a:solidFill>
                  <a:srgbClr val="00ffff"/>
                </a:solidFill>
                <a:uFillTx/>
                <a:latin typeface="Arial"/>
                <a:ea typeface="굴림"/>
              </a:rPr>
              <a:t>UA/A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  <a:ea typeface="굴림"/>
              </a:rPr>
              <a:t>	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  <a:ea typeface="굴림"/>
              </a:rPr>
              <a:t>SMTPi/M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32400" y="3429000"/>
            <a:ext cx="1602360" cy="914760"/>
          </a:xfrm>
          <a:prstGeom prst="rect">
            <a:avLst/>
          </a:prstGeom>
          <a:solidFill>
            <a:srgbClr val="96969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St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84680" y="3581280"/>
            <a:ext cx="1602360" cy="914760"/>
          </a:xfrm>
          <a:prstGeom prst="rect">
            <a:avLst/>
          </a:prstGeom>
          <a:solidFill>
            <a:srgbClr val="96969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St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340440" y="2438280"/>
            <a:ext cx="2132640" cy="853560"/>
            <a:chOff x="3340440" y="2438280"/>
            <a:chExt cx="2132640" cy="853560"/>
          </a:xfrm>
        </p:grpSpPr>
        <p:sp>
          <p:nvSpPr>
            <p:cNvPr id="160" name=""/>
            <p:cNvSpPr/>
            <p:nvPr/>
          </p:nvSpPr>
          <p:spPr>
            <a:xfrm>
              <a:off x="3340440" y="2438280"/>
              <a:ext cx="1828080" cy="549000"/>
            </a:xfrm>
            <a:prstGeom prst="rect">
              <a:avLst/>
            </a:prstGeom>
            <a:solidFill>
              <a:srgbClr val="969696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160" rIns="13716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  <a:ea typeface="굴림"/>
                </a:rPr>
                <a:t>SMTP</a:t>
              </a:r>
              <a:r>
                <a:rPr b="1" lang="en-US" sz="2400" spc="-1" strike="noStrike">
                  <a:solidFill>
                    <a:srgbClr val="00ffff"/>
                  </a:solidFill>
                  <a:latin typeface="Bookman Old Style"/>
                  <a:ea typeface="굴림"/>
                </a:rPr>
                <a:t>(ou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92720" y="2590560"/>
              <a:ext cx="1828080" cy="549000"/>
            </a:xfrm>
            <a:prstGeom prst="rect">
              <a:avLst/>
            </a:prstGeom>
            <a:solidFill>
              <a:srgbClr val="969696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160" rIns="13716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  <a:ea typeface="굴림"/>
                </a:rPr>
                <a:t>SMTP</a:t>
              </a:r>
              <a:r>
                <a:rPr b="1" lang="en-US" sz="2400" spc="-1" strike="noStrike">
                  <a:solidFill>
                    <a:srgbClr val="00ffff"/>
                  </a:solidFill>
                  <a:latin typeface="Bookman Old Style"/>
                  <a:ea typeface="굴림"/>
                </a:rPr>
                <a:t>(ou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45000" y="2742840"/>
              <a:ext cx="1828080" cy="549000"/>
            </a:xfrm>
            <a:prstGeom prst="rect">
              <a:avLst/>
            </a:prstGeom>
            <a:solidFill>
              <a:srgbClr val="969696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160" rIns="13716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ookman Old Style"/>
                  <a:ea typeface="굴림"/>
                </a:rPr>
                <a:t>SMTP</a:t>
              </a:r>
              <a:r>
                <a:rPr b="1" lang="en-US" sz="2400" spc="-1" strike="noStrike">
                  <a:solidFill>
                    <a:srgbClr val="00ffff"/>
                  </a:solidFill>
                  <a:latin typeface="Bookman Old Style"/>
                  <a:ea typeface="굴림"/>
                </a:rPr>
                <a:t>(ou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48360" y="3502080"/>
            <a:ext cx="1904040" cy="853920"/>
            <a:chOff x="3348360" y="3502080"/>
            <a:chExt cx="1904040" cy="853920"/>
          </a:xfrm>
        </p:grpSpPr>
        <p:sp>
          <p:nvSpPr>
            <p:cNvPr id="164" name=""/>
            <p:cNvSpPr/>
            <p:nvPr/>
          </p:nvSpPr>
          <p:spPr>
            <a:xfrm>
              <a:off x="3348360" y="3502080"/>
              <a:ext cx="1599480" cy="549000"/>
            </a:xfrm>
            <a:prstGeom prst="rect">
              <a:avLst/>
            </a:prstGeom>
            <a:solidFill>
              <a:srgbClr val="969696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160" rIns="13716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  <a:ea typeface="굴림"/>
                </a:rPr>
                <a:t>SMTP</a:t>
              </a:r>
              <a:r>
                <a:rPr b="1" lang="en-US" sz="2400" spc="-1" strike="noStrike">
                  <a:solidFill>
                    <a:srgbClr val="00ffff"/>
                  </a:solidFill>
                  <a:latin typeface="Bookman Old Style"/>
                  <a:ea typeface="굴림"/>
                </a:rPr>
                <a:t>(i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00640" y="3654360"/>
              <a:ext cx="1599480" cy="549000"/>
            </a:xfrm>
            <a:prstGeom prst="rect">
              <a:avLst/>
            </a:prstGeom>
            <a:solidFill>
              <a:srgbClr val="969696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160" rIns="13716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  <a:ea typeface="굴림"/>
                </a:rPr>
                <a:t>SMTP</a:t>
              </a:r>
              <a:r>
                <a:rPr b="1" lang="en-US" sz="2400" spc="-1" strike="noStrike">
                  <a:solidFill>
                    <a:srgbClr val="00ffff"/>
                  </a:solidFill>
                  <a:latin typeface="Bookman Old Style"/>
                  <a:ea typeface="굴림"/>
                </a:rPr>
                <a:t>(i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52920" y="3807000"/>
              <a:ext cx="1599480" cy="549000"/>
            </a:xfrm>
            <a:prstGeom prst="rect">
              <a:avLst/>
            </a:prstGeom>
            <a:solidFill>
              <a:srgbClr val="969696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160" rIns="13716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ookman Old Style"/>
                  <a:ea typeface="굴림"/>
                </a:rPr>
                <a:t>SMTP</a:t>
              </a:r>
              <a:r>
                <a:rPr b="1" lang="en-US" sz="2400" spc="-1" strike="noStrike">
                  <a:solidFill>
                    <a:srgbClr val="00ffff"/>
                  </a:solidFill>
                  <a:latin typeface="Bookman Old Style"/>
                  <a:ea typeface="굴림"/>
                </a:rPr>
                <a:t>(i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914400" y="3124080"/>
            <a:ext cx="1219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828800" y="29714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295280" y="31240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1280" y="4876920"/>
            <a:ext cx="1190880" cy="914760"/>
          </a:xfrm>
          <a:prstGeom prst="rect">
            <a:avLst/>
          </a:prstGeom>
          <a:solidFill>
            <a:srgbClr val="96969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43560" y="5029200"/>
            <a:ext cx="1190880" cy="914760"/>
          </a:xfrm>
          <a:prstGeom prst="rect">
            <a:avLst/>
          </a:prstGeom>
          <a:solidFill>
            <a:srgbClr val="96969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5840" y="5181480"/>
            <a:ext cx="1190880" cy="914760"/>
          </a:xfrm>
          <a:prstGeom prst="rect">
            <a:avLst/>
          </a:prstGeom>
          <a:solidFill>
            <a:srgbClr val="96969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724280"/>
            <a:ext cx="838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523880" y="457164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143000" y="4724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379280" y="5241960"/>
            <a:ext cx="1279440" cy="853560"/>
            <a:chOff x="7379280" y="5241960"/>
            <a:chExt cx="1279440" cy="853560"/>
          </a:xfrm>
        </p:grpSpPr>
        <p:sp>
          <p:nvSpPr>
            <p:cNvPr id="177" name=""/>
            <p:cNvSpPr/>
            <p:nvPr/>
          </p:nvSpPr>
          <p:spPr>
            <a:xfrm>
              <a:off x="7379280" y="5241960"/>
              <a:ext cx="974520" cy="549000"/>
            </a:xfrm>
            <a:prstGeom prst="rect">
              <a:avLst/>
            </a:prstGeom>
            <a:solidFill>
              <a:srgbClr val="969696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160" rIns="13716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ookman Old Style"/>
                  <a:ea typeface="굴림"/>
                </a:rPr>
                <a:t>Us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31920" y="5394240"/>
              <a:ext cx="974520" cy="549000"/>
            </a:xfrm>
            <a:prstGeom prst="rect">
              <a:avLst/>
            </a:prstGeom>
            <a:solidFill>
              <a:srgbClr val="969696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160" rIns="13716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ookman Old Style"/>
                  <a:ea typeface="굴림"/>
                </a:rPr>
                <a:t>Us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84200" y="5546520"/>
              <a:ext cx="974520" cy="549000"/>
            </a:xfrm>
            <a:prstGeom prst="rect">
              <a:avLst/>
            </a:prstGeom>
            <a:solidFill>
              <a:srgbClr val="969696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160" rIns="13716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ookman Old Style"/>
                  <a:ea typeface="굴림"/>
                </a:rPr>
                <a:t>Us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630600" y="5699160"/>
            <a:ext cx="13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66"/>
                </a:solidFill>
                <a:latin typeface="Arial"/>
                <a:ea typeface="굴림"/>
              </a:rPr>
              <a:t>(&amp;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Dial-u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219320" y="1905120"/>
            <a:ext cx="990000" cy="1054080"/>
            <a:chOff x="1219320" y="1905120"/>
            <a:chExt cx="990000" cy="1054080"/>
          </a:xfrm>
        </p:grpSpPr>
        <p:grpSp>
          <p:nvGrpSpPr>
            <p:cNvPr id="182" name=""/>
            <p:cNvGrpSpPr/>
            <p:nvPr/>
          </p:nvGrpSpPr>
          <p:grpSpPr>
            <a:xfrm>
              <a:off x="1219320" y="1905120"/>
              <a:ext cx="685440" cy="749160"/>
              <a:chOff x="1219320" y="1905120"/>
              <a:chExt cx="685440" cy="749160"/>
            </a:xfrm>
          </p:grpSpPr>
          <p:sp>
            <p:nvSpPr>
              <p:cNvPr id="183" name=""/>
              <p:cNvSpPr/>
              <p:nvPr/>
            </p:nvSpPr>
            <p:spPr>
              <a:xfrm>
                <a:off x="1225440" y="1905120"/>
                <a:ext cx="672480" cy="272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225440" y="2381400"/>
                <a:ext cx="672480" cy="272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219320" y="2048040"/>
                <a:ext cx="0" cy="463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04760" y="2048040"/>
                <a:ext cx="0" cy="463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1371240" y="2057760"/>
              <a:ext cx="685440" cy="749160"/>
              <a:chOff x="1371240" y="2057760"/>
              <a:chExt cx="685440" cy="749160"/>
            </a:xfrm>
          </p:grpSpPr>
          <p:sp>
            <p:nvSpPr>
              <p:cNvPr id="188" name=""/>
              <p:cNvSpPr/>
              <p:nvPr/>
            </p:nvSpPr>
            <p:spPr>
              <a:xfrm>
                <a:off x="1377360" y="2057760"/>
                <a:ext cx="672480" cy="272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77360" y="2534040"/>
                <a:ext cx="672480" cy="272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71240" y="2200680"/>
                <a:ext cx="0" cy="463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056680" y="2200680"/>
                <a:ext cx="0" cy="463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523880" y="2210040"/>
              <a:ext cx="685440" cy="749160"/>
              <a:chOff x="1523880" y="2210040"/>
              <a:chExt cx="685440" cy="74916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0000" y="2210040"/>
                <a:ext cx="672480" cy="272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530000" y="2686320"/>
                <a:ext cx="672480" cy="272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523880" y="2352960"/>
                <a:ext cx="0" cy="463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209320" y="2352960"/>
                <a:ext cx="0" cy="463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5684040" y="45720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굴림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3048120"/>
            <a:ext cx="304560" cy="15228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58" idx="3"/>
            <a:endCxn id="160" idx="1"/>
          </p:cNvCxnSpPr>
          <p:nvPr/>
        </p:nvCxnSpPr>
        <p:spPr>
          <a:xfrm flipV="1">
            <a:off x="2733840" y="2741400"/>
            <a:ext cx="514440" cy="132624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58" idx="3"/>
            <a:endCxn id="164" idx="1"/>
          </p:cNvCxnSpPr>
          <p:nvPr/>
        </p:nvCxnSpPr>
        <p:spPr>
          <a:xfrm flipV="1">
            <a:off x="2733840" y="3804840"/>
            <a:ext cx="514440" cy="262800"/>
          </a:xfrm>
          <a:prstGeom prst="curvedConnector5">
            <a:avLst>
              <a:gd name="adj1" fmla="val 50000"/>
              <a:gd name="adj2" fmla="val 49931"/>
              <a:gd name="adj3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7268040" y="3505320"/>
            <a:ext cx="1190880" cy="914760"/>
          </a:xfrm>
          <a:prstGeom prst="rect">
            <a:avLst/>
          </a:prstGeom>
          <a:solidFill>
            <a:srgbClr val="96969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20680" y="3657600"/>
            <a:ext cx="1190880" cy="914760"/>
          </a:xfrm>
          <a:prstGeom prst="rect">
            <a:avLst/>
          </a:prstGeom>
          <a:solidFill>
            <a:srgbClr val="96969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72960" y="3809880"/>
            <a:ext cx="1190880" cy="914760"/>
          </a:xfrm>
          <a:prstGeom prst="rect">
            <a:avLst/>
          </a:prstGeom>
          <a:solidFill>
            <a:srgbClr val="96969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58" idx="2"/>
            <a:endCxn id="201" idx="1"/>
          </p:cNvCxnSpPr>
          <p:nvPr/>
        </p:nvCxnSpPr>
        <p:spPr>
          <a:xfrm flipH="1" flipV="1" rot="5400000">
            <a:off x="4252680" y="1623600"/>
            <a:ext cx="591120" cy="5325120"/>
          </a:xfrm>
          <a:prstGeom prst="curvedConnector5">
            <a:avLst>
              <a:gd name="adj1" fmla="val -33820"/>
              <a:gd name="adj2" fmla="val 38070"/>
              <a:gd name="adj3" fmla="val -3382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A small provocation...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굴림"/>
              </a:rPr>
              <a:t>Throw out current standards?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굴림"/>
              </a:rPr>
              <a:t>Start over..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Cleaner content syntax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More efficient exchange protoco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More powerful protocol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Simpler protocol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3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굴림"/>
              </a:rPr>
              <a:t>Make transition easy..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546960" y="4946760"/>
          <a:ext cx="220644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6960" y="4946760"/>
                    <a:ext cx="220644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442440"/>
            <a:ext cx="7893000" cy="12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ctr" pos="5940360"/>
                <a:tab algn="ct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okman Old Style"/>
                <a:ea typeface="굴림"/>
              </a:rPr>
              <a:t>Brandenburg</a:t>
            </a:r>
            <a:r>
              <a:rPr b="1" lang="en-US" sz="2800" spc="-1" strike="noStrike">
                <a:solidFill>
                  <a:srgbClr val="ffcc66"/>
                </a:solidFill>
                <a:latin typeface="Bookman Old Style"/>
                <a:ea typeface="굴림"/>
              </a:rPr>
              <a:t>	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 </a:t>
            </a:r>
            <a:br>
              <a:rPr sz="2400"/>
            </a:br>
            <a:r>
              <a:rPr b="1" i="1" lang="en-US" sz="4000" spc="-1" strike="noStrike">
                <a:solidFill>
                  <a:srgbClr val="ffcc66"/>
                </a:solidFill>
                <a:latin typeface="Bookman Old Style"/>
                <a:ea typeface="굴림"/>
              </a:rPr>
              <a:t>Consulting</a:t>
            </a:r>
            <a:r>
              <a:rPr b="1" lang="en-US" sz="2800" spc="-1" strike="noStrike">
                <a:solidFill>
                  <a:srgbClr val="ffcc66"/>
                </a:solidFill>
                <a:latin typeface="Bookman Old Style"/>
                <a:ea typeface="굴림"/>
              </a:rPr>
              <a:t>	</a:t>
            </a:r>
            <a:endParaRPr b="1" i="1" lang="en-US" sz="28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080" y="2438280"/>
            <a:ext cx="3940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Bookman Old Style"/>
                <a:ea typeface="굴림"/>
              </a:rPr>
              <a:t>Dave Crocker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5960" indent="-345960">
              <a:spcBef>
                <a:spcPts val="15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Internet since 1972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73120" indent="-112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Email, Fax, Security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573120" indent="-112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Commerce, EDI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573120" indent="-112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Net mgmt, TCP/IP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73120" indent="-112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Product, servic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573120" indent="-112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MCI, DEC, SGI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63640" y="2438280"/>
            <a:ext cx="4289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Bookman Old Style"/>
                <a:ea typeface="굴림"/>
              </a:rPr>
              <a:t>Brandenburg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5960" indent="-345960">
              <a:lnSpc>
                <a:spcPct val="140000"/>
              </a:lnSpc>
              <a:spcBef>
                <a:spcPts val="3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Startup incubating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5960" indent="-345960">
              <a:lnSpc>
                <a:spcPct val="130000"/>
              </a:lnSpc>
              <a:spcBef>
                <a:spcPts val="3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Business/market plan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5960" indent="-345960">
              <a:lnSpc>
                <a:spcPct val="130000"/>
              </a:lnSpc>
              <a:spcBef>
                <a:spcPts val="3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Technical desig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5960" indent="-345960">
              <a:lnSpc>
                <a:spcPct val="130000"/>
              </a:lnSpc>
              <a:spcBef>
                <a:spcPts val="3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Audit plan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5960" indent="-345960">
              <a:lnSpc>
                <a:spcPct val="130000"/>
              </a:lnSpc>
              <a:spcBef>
                <a:spcPts val="3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Standards management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461880"/>
            <a:ext cx="43070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9560" y="568440"/>
            <a:ext cx="33382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Business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echnical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Internet mail today 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Almost 30 years of history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Highly successful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Highly reliable, for many/</a:t>
            </a:r>
            <a:r>
              <a:rPr b="0" i="1" lang="en-US" sz="2400" spc="-1" strike="noStrike">
                <a:solidFill>
                  <a:srgbClr val="00ffff"/>
                </a:solidFill>
                <a:latin typeface="Bookman Old Style"/>
                <a:ea typeface="굴림"/>
              </a:rPr>
              <a:t>som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 use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A base for additional service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Lacking essential capabilities fo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High efficiency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Quality of service guarantee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Long-term dialogu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Formal exchange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Current us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7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굴림"/>
              </a:rPr>
              <a:t>RFC 822:  Personal "memo"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7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굴림"/>
              </a:rPr>
              <a:t>One or more attachments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7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굴림"/>
              </a:rPr>
              <a:t>Informal discussion group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Email is causing a revolution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1784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  <a:ea typeface="굴림"/>
              </a:rPr>
              <a:t>Reach: </a:t>
            </a:r>
            <a:r>
              <a:rPr b="0" lang="en-US" sz="2600" spc="-1" strike="noStrike">
                <a:solidFill>
                  <a:srgbClr val="ffcc66"/>
                </a:solidFill>
                <a:latin typeface="Bookman Old Style"/>
                <a:ea typeface="굴림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  <a:ea typeface="굴림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  <a:ea typeface="굴림"/>
              </a:rPr>
              <a:t>Global costs the same as loca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marL="251784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  <a:ea typeface="굴림"/>
              </a:rPr>
              <a:t>Breadth: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  <a:ea typeface="굴림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  <a:ea typeface="굴림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  <a:ea typeface="굴림"/>
              </a:rPr>
              <a:t>Many addressees cost </a:t>
            </a:r>
            <a:r>
              <a:rPr b="0" i="1" lang="en-US" sz="2600" spc="-1" strike="noStrike">
                <a:solidFill>
                  <a:srgbClr val="00ffff"/>
                </a:solidFill>
                <a:latin typeface="Bookman Old Style"/>
                <a:ea typeface="굴림"/>
              </a:rPr>
              <a:t>(almost)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  <a:ea typeface="굴림"/>
              </a:rPr>
              <a:t> same as one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marL="251784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  <a:ea typeface="굴림"/>
              </a:rPr>
              <a:t>Integration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  <a:ea typeface="굴림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  <a:ea typeface="굴림"/>
              </a:rPr>
              <a:t>Intra- and inter-company 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marL="25178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  <a:ea typeface="굴림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  <a:ea typeface="굴림"/>
              </a:rPr>
              <a:t>(and “extra-net” company)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marL="251784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  <a:ea typeface="굴림"/>
              </a:rPr>
              <a:t>Directness: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  <a:ea typeface="굴림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  <a:ea typeface="굴림"/>
              </a:rPr>
              <a:t>Mail goes around hierarchy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"/>
          <p:cNvSpPr/>
          <p:nvPr/>
        </p:nvSpPr>
        <p:spPr>
          <a:xfrm>
            <a:off x="3200760" y="1843200"/>
            <a:ext cx="50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Email is new, all over again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Emerging requirement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굴림"/>
              </a:rPr>
              <a:t>Timely delivery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Fax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Instant messagin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Quality of service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굴림"/>
              </a:rPr>
              <a:t>Very high reliability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Legal document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Commercial transaction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Confirmation &amp; retry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굴림"/>
              </a:rPr>
              <a:t>Very high efficiency 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Binary, routin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굴림"/>
              </a:rPr>
              <a:t>Opt-in volume mail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굴림"/>
              </a:rPr>
              <a:t>Tailoring to recipient capabilities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굴림"/>
              </a:rPr>
              <a:t>Group process and workflow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Structured exchange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굴림"/>
              </a:rPr>
              <a:t>Mobile access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Roamin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굴림"/>
              </a:rPr>
              <a:t>Business quality ops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Reliability, large scale, ..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Roaming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굴림"/>
              </a:rPr>
              <a:t>Varied access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Thin, expensive channel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“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Kiosk” station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Multiple access provider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굴림"/>
              </a:rPr>
              <a:t>Selective/filtered retrieval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굴림"/>
              </a:rPr>
              <a:t>SMTP posting server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Until SMTP Auth widely available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4600" indent="-444600"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굴림"/>
              </a:rPr>
              <a:t>Multi-national ISPs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05040" indent="-3474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Compuserve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05040" indent="-3474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UUNet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05040" indent="-3474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AT&amp;T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4600" indent="-444600"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굴림"/>
              </a:rPr>
              <a:t>Federation of ISPs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05040" indent="-3474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I-PAS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굴림"/>
              </a:rPr>
              <a:t>*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05040" indent="-3474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GRIC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05040" indent="0" algn="r">
              <a:spcBef>
                <a:spcPts val="7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굴림"/>
              </a:rPr>
              <a:t>*</a:t>
            </a:r>
            <a:r>
              <a:rPr b="0" i="1" lang="en-US" sz="2000" spc="-1" strike="noStrike">
                <a:solidFill>
                  <a:srgbClr val="00ffff"/>
                </a:solidFill>
                <a:latin typeface="Times New Roman"/>
                <a:ea typeface="굴림"/>
              </a:rPr>
              <a:t>Speaker affiliation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Volume mail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Spam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Unsolicited volume (commercial) mail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No "relationship" between sender and receiver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Places for control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Sendin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Relayin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Receivin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Not all volume mail is evil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0"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굴림"/>
              </a:rPr>
              <a:t>Opt-in: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  <a:ea typeface="굴림"/>
              </a:rPr>
              <a:t>	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  <a:ea typeface="굴림"/>
              </a:rPr>
              <a:t>	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  <a:ea typeface="굴림"/>
              </a:rPr>
              <a:t>recipient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  <a:ea typeface="굴림"/>
              </a:rPr>
              <a:t>wants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  <a:ea typeface="굴림"/>
              </a:rPr>
              <a:t> the mail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  <a:ea typeface="굴림"/>
              </a:rPr>
              <a:t>!</a:t>
            </a:r>
            <a:endParaRPr b="0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0"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굴림"/>
              </a:rPr>
              <a:t>Opt-out: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굴림"/>
              </a:rPr>
              <a:t>	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  <a:ea typeface="굴림"/>
              </a:rPr>
              <a:t>	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  <a:ea typeface="굴림"/>
              </a:rPr>
              <a:t>spam in sheep’s clothing</a:t>
            </a:r>
            <a:endParaRPr b="0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6560" y="76320"/>
          <a:ext cx="228600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6560" y="76320"/>
                    <a:ext cx="22860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940440" y="4343400"/>
            <a:ext cx="1820880" cy="201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굴림"/>
              </a:rPr>
              <a:t>Anti-spam organizations &amp; discussion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Spam Recycling Center </a:t>
            </a:r>
            <a:r>
              <a:rPr b="0" lang="en-US" sz="2400" spc="-1" strike="noStrike">
                <a:solidFill>
                  <a:srgbClr val="00ffff"/>
                </a:solidFill>
                <a:latin typeface="Courier New"/>
                <a:ea typeface="굴림"/>
              </a:rPr>
              <a:t>&lt;http://abuse.net&gt;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Coalition Against Unsolicited Commercial Email </a:t>
            </a:r>
            <a:r>
              <a:rPr b="0" lang="en-US" sz="2400" spc="-1" strike="noStrike">
                <a:solidFill>
                  <a:srgbClr val="00ffff"/>
                </a:solidFill>
                <a:latin typeface="Courier New"/>
                <a:ea typeface="굴림"/>
              </a:rPr>
              <a:t>&lt;http://www.cauce.org/&gt;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Forum for Responsible and Ethical Email (FREE)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Discusson list </a:t>
            </a:r>
            <a:r>
              <a:rPr b="0" lang="en-US" sz="2000" spc="-1" strike="noStrike">
                <a:solidFill>
                  <a:srgbClr val="00ffff"/>
                </a:solidFill>
                <a:latin typeface="Courier New"/>
                <a:ea typeface="굴림"/>
              </a:rPr>
              <a:t>&lt;mailto:spam[–request]@zorch.sf–bay.org&gt;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굴림"/>
              </a:rPr>
              <a:t>Anti-spam mechanism analysi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굴림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Courier New"/>
                <a:ea typeface="굴림"/>
              </a:rPr>
              <a:t>&lt;http://www.imc.org/imc-spam&gt;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4:01:36Z</dcterms:created>
  <dc:creator>Dave Crocker</dc:creator>
  <dc:description/>
  <dc:language>en-US</dc:language>
  <cp:lastModifiedBy>krnic3</cp:lastModifiedBy>
  <dcterms:modified xsi:type="dcterms:W3CDTF">2000-03-09T07:57:01Z</dcterms:modified>
  <cp:revision>231</cp:revision>
  <dc:subject/>
  <dc:title>Millenial Mail</dc:title>
</cp:coreProperties>
</file>