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634-8841-4DDA-A0E8-BA5EADE5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216-7B97-4456-A3B0-861A93EF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189-F6C5-4C6C-94A5-EEEA7644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8AB-E942-4A62-ADA2-B08434FF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0B1-6DB3-491F-A1F4-1E4E4ED5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B57-2192-4D0B-9476-ED481DFA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85D-8A58-4702-A1AE-90F7591F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A00-6217-4F90-8A1E-89D0889E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C54-4A13-4808-87D1-8191E138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82A-D94E-42C2-A507-BC7A554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6C3-EE9C-4F5D-A75C-422C9EFD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50B-2E40-428D-8DA8-5966086C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1C8E-6300-44CA-A783-BA1CA0D72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4479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uangk@geotempo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caling Technology &amp; Quality Assuranc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enny Huang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uangk@geotempo.com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Geotempo International Ltd.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800" spc="-1" strike="noStrike" baseline="30000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March 2000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lligent Internetwork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rmine the destination IP address (DNS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rmine what content should be cache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rmine which machine has the capability to process client’s reques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rificat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ent verificat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erify that the content is responding properly prevent users from seeing error message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ing a query at a set time frequency and the application responds with an answer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pplication verificat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mulate all of the steps a customer takes to complete a transaction connect to a site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nageabilit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system must be designed to be manageable, or it cannot be operated in a reliable fash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nageability is the result of engineering decisions that effect the way the system is designed and implemente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nageability is enhanced by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aying careful attention to the design of the system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ntrolling the complexity of the system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aying attention to addressing and naming of the backbone components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rver Centric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952880"/>
            <a:ext cx="8380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429000"/>
            <a:ext cx="8380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057400"/>
            <a:ext cx="8380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533412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5181480"/>
            <a:ext cx="6858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WW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533412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5181480"/>
            <a:ext cx="6858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533412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181480"/>
            <a:ext cx="6858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905120"/>
            <a:ext cx="4038840" cy="990360"/>
          </a:xfrm>
          <a:prstGeom prst="cloudCallout">
            <a:avLst>
              <a:gd name="adj1" fmla="val -41902"/>
              <a:gd name="adj2" fmla="val 32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3526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8006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244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3526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8006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3244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orage Centric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952880"/>
            <a:ext cx="8380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429000"/>
            <a:ext cx="8380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057400"/>
            <a:ext cx="8380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WW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533412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5181480"/>
            <a:ext cx="6858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1905120"/>
            <a:ext cx="4038840" cy="990360"/>
          </a:xfrm>
          <a:prstGeom prst="cloudCallout">
            <a:avLst>
              <a:gd name="adj1" fmla="val -41902"/>
              <a:gd name="adj2" fmla="val 32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352680" y="42670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006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105520" y="4267080"/>
            <a:ext cx="121896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3526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8006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3244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rver-Centric and Storage-Centric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rver Centric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formation across servers cannot be easily shared or managed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orage Centric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formation across storage cannot be easily shared or managed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ingle box solution can’t scale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orage Network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952880"/>
            <a:ext cx="8380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429000"/>
            <a:ext cx="8380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057400"/>
            <a:ext cx="8380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533412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5181480"/>
            <a:ext cx="6858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WW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533412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5181480"/>
            <a:ext cx="6858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533412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5181480"/>
            <a:ext cx="6858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1905120"/>
            <a:ext cx="4038840" cy="990360"/>
          </a:xfrm>
          <a:prstGeom prst="cloudCallout">
            <a:avLst>
              <a:gd name="adj1" fmla="val -41902"/>
              <a:gd name="adj2" fmla="val 32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3526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8006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3244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4648320"/>
            <a:ext cx="55627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torag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vantage of Storage Network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limited scalabilit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servers, storage on deman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ximum availabilit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 Scaling Technolog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 Load Balanc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virtual IP address for multiple platform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ad distribution : dispatch task to systems that are not utilize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 single point of failur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 performance acces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bounded scalabilit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lin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twork and Storage Scaling Technolog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ustering Technolog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ustering Database Acces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mproving Scalabilit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ing System Need to Provid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uster backup and recover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uster fail over configurabilit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uster concurrent database acces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aster recover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dware and software RAI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main Name Syste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rting from a single file /etc/hos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caling to DNS’s tre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oot systems share the same databas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oot systems provide a well controlled and high availability infrastructur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vanced DNS Mechanis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 of load-balancing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ound-robin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ior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lobal availabil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opology distribution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NS Load Balanc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0" y="350532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057400" y="55627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733920" y="54864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486400" y="54864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676520" y="213372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733920" y="205740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5334120" y="205740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6629400" y="2133720"/>
            <a:ext cx="38088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367640" y="17524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8440" y="17524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34600" y="17524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34800" y="17524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ost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3657600"/>
            <a:ext cx="4800600" cy="1066680"/>
          </a:xfrm>
          <a:prstGeom prst="cloudCallout">
            <a:avLst>
              <a:gd name="adj1" fmla="val -18583"/>
              <a:gd name="adj2" fmla="val 2306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42840" y="364644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91320" y="4266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019560" y="434340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409720" y="2895120"/>
            <a:ext cx="2286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2895480"/>
            <a:ext cx="2286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22600" y="4484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43000" y="4789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7240" y="3124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28600" y="3265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514600" y="4038480"/>
            <a:ext cx="42670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85640" y="3886200"/>
            <a:ext cx="44197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981080" y="289548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2895480"/>
            <a:ext cx="4572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8160" y="5246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66280" y="4789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23280" y="3265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66080" y="3189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AT Load Balanc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191120" y="350532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57400" y="55627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733920" y="54864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486400" y="54864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76520" y="213372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733920" y="205740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5334120" y="205740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6629400" y="2133720"/>
            <a:ext cx="38088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V="1">
            <a:off x="2438280" y="4191120"/>
            <a:ext cx="16765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114800" y="42667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647960" y="41911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828800" y="281952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65320" y="3798720"/>
            <a:ext cx="202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Virtual IP=212.1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37160" y="175248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Real IP=2.1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86720" y="175248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Real IP=2.1.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63240" y="167652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Real IP=2.1.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15720" y="175248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Real IP=2.1.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2520" y="274284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95680" y="274284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74320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N/WAN Communication Switchov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CP/IP address takeover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hould be supported on Ethernet,</a:t>
            </a:r>
            <a:r>
              <a:rPr b="0" lang="zh-TW" sz="2000" spc="-1" strike="noStrike">
                <a:solidFill>
                  <a:srgbClr val="3333cc"/>
                </a:solidFill>
                <a:latin typeface="Comic Sans MS"/>
              </a:rPr>
              <a:t>FDDI,ATM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AN lin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ckup line switchover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outing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abling backup routes (BGP parameters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ing Database Acces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rtual Raw Disk Acces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hould be supported so that nodes don’t  require physical connections to disk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irtual raw disk should be implemented using Direct Memory Access (DMA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ck Manag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bilit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ulti-thread and kernel-based Distributed Lock Manager (DLM) should be supported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outing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upport redundant DLM paths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aster Recover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ide area failover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ode in another geographic location can take over application in a event of a site disaster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current access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hould enable access to database and file systems from remote cluster nodes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mote data replication/mirroring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mote duplicating should be supported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ritical Factors for Online Servic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liabil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vailabil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iceabil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quality of RAS is decided by hardware, software, system integration and managemen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calabilit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mproving Scalabilit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onents of Online Servic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eb server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eb gateway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twor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ewall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tabase server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Comic Sans MS"/>
              </a:rPr>
              <a:t>How Scaling Technology Improve Performanc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76520" y="26668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54864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3048120"/>
            <a:ext cx="3733560" cy="1676160"/>
          </a:xfrm>
          <a:custGeom>
            <a:avLst/>
            <a:gdLst/>
            <a:ahLst/>
            <a:rect l="l" t="t" r="r" b="b"/>
            <a:pathLst>
              <a:path w="2352" h="1056">
                <a:moveTo>
                  <a:pt x="0" y="1056"/>
                </a:moveTo>
                <a:cubicBezTo>
                  <a:pt x="512" y="956"/>
                  <a:pt x="1024" y="856"/>
                  <a:pt x="1344" y="768"/>
                </a:cubicBezTo>
                <a:cubicBezTo>
                  <a:pt x="1664" y="680"/>
                  <a:pt x="1768" y="624"/>
                  <a:pt x="1920" y="528"/>
                </a:cubicBezTo>
                <a:cubicBezTo>
                  <a:pt x="2072" y="432"/>
                  <a:pt x="2184" y="280"/>
                  <a:pt x="2256" y="192"/>
                </a:cubicBezTo>
                <a:cubicBezTo>
                  <a:pt x="2328" y="104"/>
                  <a:pt x="2340" y="52"/>
                  <a:pt x="235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3048120"/>
            <a:ext cx="4876560" cy="1676160"/>
          </a:xfrm>
          <a:custGeom>
            <a:avLst/>
            <a:gdLst/>
            <a:ahLst/>
            <a:rect l="l" t="t" r="r" b="b"/>
            <a:pathLst>
              <a:path w="3072" h="1056">
                <a:moveTo>
                  <a:pt x="0" y="1056"/>
                </a:moveTo>
                <a:cubicBezTo>
                  <a:pt x="532" y="1048"/>
                  <a:pt x="1064" y="1040"/>
                  <a:pt x="1440" y="1008"/>
                </a:cubicBezTo>
                <a:cubicBezTo>
                  <a:pt x="1816" y="976"/>
                  <a:pt x="2048" y="920"/>
                  <a:pt x="2256" y="864"/>
                </a:cubicBezTo>
                <a:cubicBezTo>
                  <a:pt x="2464" y="808"/>
                  <a:pt x="2576" y="760"/>
                  <a:pt x="2688" y="672"/>
                </a:cubicBezTo>
                <a:cubicBezTo>
                  <a:pt x="2800" y="584"/>
                  <a:pt x="2872" y="432"/>
                  <a:pt x="2928" y="336"/>
                </a:cubicBezTo>
                <a:cubicBezTo>
                  <a:pt x="2984" y="240"/>
                  <a:pt x="3000" y="152"/>
                  <a:pt x="3024" y="96"/>
                </a:cubicBezTo>
                <a:cubicBezTo>
                  <a:pt x="3048" y="40"/>
                  <a:pt x="3060" y="20"/>
                  <a:pt x="30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31240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31240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4267080"/>
            <a:ext cx="4952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36600" y="5638680"/>
            <a:ext cx="73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240" y="5638680"/>
            <a:ext cx="69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99720" y="553896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Number of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95080" y="2490840"/>
            <a:ext cx="111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14040" y="2490840"/>
            <a:ext cx="111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800640" y="397692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Respon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43480" y="392436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Acceptable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w scaling techniques relate to scaling objectiv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85800" y="1523880"/>
          <a:ext cx="7772400" cy="3556080"/>
        </p:xfrm>
        <a:graphic>
          <a:graphicData uri="http://schemas.openxmlformats.org/drawingml/2006/table">
            <a:tbl>
              <a:tblPr/>
              <a:tblGrid>
                <a:gridCol w="609480"/>
                <a:gridCol w="2498760"/>
                <a:gridCol w="1555920"/>
                <a:gridCol w="1554120"/>
                <a:gridCol w="1554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caling 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ncrease Capacity/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mprove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hift/Reduce R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se a fast mach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reate a machine clu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se a special mach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egment the workl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anage conn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ache data and requ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464760" y="6386400"/>
            <a:ext cx="9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Source : IB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a Faster Machin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pplying to the web server, the web application server, the firewall, and the databas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creasing the ability to do more work in a unit of tim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pgrading hardware or software to achieve the goa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dware or software changed may cause other interoperability and management issu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reate a </a:t>
            </a:r>
            <a:r>
              <a:rPr b="0" lang="zh-TW" sz="2800" spc="-1" strike="noStrike">
                <a:solidFill>
                  <a:srgbClr val="3333cc"/>
                </a:solidFill>
                <a:latin typeface="Comic Sans MS"/>
              </a:rPr>
              <a:t>Cluster of Machin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pplying to the web server, the web application server, and the firewal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 service more client requests since clusters typically leads to improvements in response tim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vailability is improved because there is no single point of failure (SPOF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te sharing is the most critical and challenging factor for the deploymen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a Special Machin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pplying to the web server, the network and the firewal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ing a special machine to improve the efficiency of a specific componen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ch as network appliances or router with cach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gment The Workload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pplying to the web server, the network, the application server, the firewall and the databas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plit up the workload into manageable chunks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aracterize the different workloads serviced by the componen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tional infrastructure is required to balance physical workload among the segmen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ch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pplying to the web server, the web application server, the networ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ducing the path length traversed by a request and the resulting respons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key issue is determining what pages should be cache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twork and Storage Scaling Technolog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ystem Performance Factor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PU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twor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emor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orag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eb host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son to use a hosting provider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ck of resources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etwork connectiv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mportant criteria to choose a hosting provider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liabil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ustomer service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oster knowledge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ster provid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ntrolled environment (temperature,air,power..,etc) and facility management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ernet connectiv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naged Infrastructur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gment server farm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eb server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pplication/Gateway server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atabase server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ign approach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nalyze the traffic pattern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ub and spoke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opolog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705720" y="4267080"/>
            <a:ext cx="457200" cy="5130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472428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388620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472428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472428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4343400"/>
            <a:ext cx="0" cy="380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267080"/>
            <a:ext cx="304560" cy="457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666880" y="4343400"/>
            <a:ext cx="457200" cy="512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480060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962520"/>
            <a:ext cx="457200" cy="4554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480060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480060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4419720"/>
            <a:ext cx="0" cy="380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4343400"/>
            <a:ext cx="304920" cy="457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85800" y="4343400"/>
            <a:ext cx="457200" cy="512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80060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962520"/>
            <a:ext cx="457200" cy="4554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80060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80060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419720"/>
            <a:ext cx="0" cy="380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4343400"/>
            <a:ext cx="304920" cy="457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724280" y="4267080"/>
            <a:ext cx="457200" cy="5130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472428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388620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472428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4724280"/>
            <a:ext cx="457200" cy="4557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4343400"/>
            <a:ext cx="0" cy="380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267080"/>
            <a:ext cx="304920" cy="457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200400" y="2590920"/>
            <a:ext cx="15228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876920" y="2590920"/>
            <a:ext cx="30456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095880" y="2361960"/>
            <a:ext cx="10670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295280" y="25146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1828800"/>
            <a:ext cx="4419720" cy="838080"/>
          </a:xfrm>
          <a:prstGeom prst="cloudCallout">
            <a:avLst>
              <a:gd name="adj1" fmla="val -40375"/>
              <a:gd name="adj2" fmla="val 3219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calable Network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volution for more bandwidth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viding Layer 2/3 servic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oS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ulticast suppor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3:43:45Z</dcterms:created>
  <dc:creator>Kenny Huang</dc:creator>
  <dc:description/>
  <dc:language>en-US</dc:language>
  <cp:lastModifiedBy>huangk</cp:lastModifiedBy>
  <dcterms:modified xsi:type="dcterms:W3CDTF">2000-02-21T17:32:46Z</dcterms:modified>
  <cp:revision>38</cp:revision>
  <dc:subject/>
  <dc:title>無投影片標題</dc:title>
</cp:coreProperties>
</file>