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43240" cy="406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5419440" y="-360"/>
            <a:ext cx="4143240" cy="406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2938320" y="568080"/>
            <a:ext cx="3686400" cy="276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1274760" y="3495240"/>
            <a:ext cx="7013520" cy="3251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6908400"/>
            <a:ext cx="4143240" cy="406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419440" y="6908400"/>
            <a:ext cx="4143240" cy="406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164C386-819B-49AD-BEB0-696D4982CA63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arket leader (Top 100 Enterprises 66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erformance and sca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ultithreaded: efficient use of CPU and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ultiprocess: failover protection &amp; scalability on multi-CPU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extensive security features: fast SSL, suppor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ertificates and PKCS#11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roadest range of internet communication services to wireless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full-featured email, calendar, personal address book, intergrated user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obile user frie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redefined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bject skimming / priority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grated address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optimized user interface for each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ow power 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device frie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enses &amp; supports multipl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easy to upgrad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ports any standards-compliant brow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wireless and internet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future proofed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s part of creating a SRP SEAS can be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se common services or a framework which are custom bu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ew home grown applications or services are built on top of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ly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eusable services and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online subscription - users can subscribe or register for any online services themselves o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deploying new servcies in large organisations tends to be complicated. many systems need to be integrated with. once integration to these systems is solved it should be in the S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bstraction of user info - one place to get user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configuration and logging subsystems for home grown 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938320" y="568440"/>
            <a:ext cx="3686400" cy="27637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74760" y="3495240"/>
            <a:ext cx="7013520" cy="3251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arget: large organ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umerous large companies are adopting this type of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RP consists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rategies for security, user management, development and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ailored architecture - different for each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help you answer questions li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ill user information be stored in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urrent definitive source of user information for each type of us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responsible for the correctness of user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user information be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user information is incorrect, will it be accepted or fixed at the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user information be acces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password management be implemented and integrated with existing syste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certificates be employ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existing systems be migrated to access user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relationships between information in disparate systems be synchroniz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7434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5080" y="3952080"/>
            <a:ext cx="7434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4600" y="15238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5080" y="39520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4600" y="39520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239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18960" y="1523880"/>
            <a:ext cx="239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2480" y="1523880"/>
            <a:ext cx="239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5080" y="3952080"/>
            <a:ext cx="239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18960" y="3952080"/>
            <a:ext cx="239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2480" y="3952080"/>
            <a:ext cx="239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5080" y="1523880"/>
            <a:ext cx="7434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743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3627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14600" y="1523880"/>
            <a:ext cx="3627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19320" y="457200"/>
            <a:ext cx="7619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14600" y="1523880"/>
            <a:ext cx="3627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405080" y="39520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5080" y="1523880"/>
            <a:ext cx="7434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3627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14600" y="15238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14600" y="39520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14600" y="15238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05080" y="3952080"/>
            <a:ext cx="7434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7434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405080" y="3952080"/>
            <a:ext cx="7434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14600" y="15238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05080" y="39520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14600" y="39520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239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18960" y="1523880"/>
            <a:ext cx="239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32480" y="1523880"/>
            <a:ext cx="239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405080" y="3952080"/>
            <a:ext cx="239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918960" y="3952080"/>
            <a:ext cx="239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32480" y="3952080"/>
            <a:ext cx="239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743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3627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4600" y="1523880"/>
            <a:ext cx="3627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457200"/>
            <a:ext cx="7619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4600" y="1523880"/>
            <a:ext cx="3627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5080" y="39520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3627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4600" y="15238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4600" y="39520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4600" y="1523880"/>
            <a:ext cx="3627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5080" y="3952080"/>
            <a:ext cx="7434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5080" y="1523880"/>
            <a:ext cx="743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60440" indent="-324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Helvetica"/>
              <a:buChar char="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9720" indent="468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0160" indent="144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30240" indent="-144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30240" indent="-144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30240" indent="-144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990720" y="914040"/>
            <a:ext cx="0" cy="533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152280" y="228600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3630" r="6989" b="11965"/>
          <a:stretch/>
        </p:blipFill>
        <p:spPr>
          <a:xfrm>
            <a:off x="7940520" y="6218280"/>
            <a:ext cx="111924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0" y="4191120"/>
            <a:ext cx="567540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ervice Ready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icot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orian Borin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hief Architect Infrastructure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sia Pa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6261120"/>
            <a:ext cx="43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.03.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13543" t="3970" r="10079" b="3998"/>
          <a:stretch/>
        </p:blipFill>
        <p:spPr>
          <a:xfrm>
            <a:off x="1387440" y="1803240"/>
            <a:ext cx="698400" cy="4641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0" t="0" r="6989" b="6959"/>
          <a:stretch/>
        </p:blipFill>
        <p:spPr>
          <a:xfrm>
            <a:off x="2895480" y="1333440"/>
            <a:ext cx="4256280" cy="2425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2125800" y="736560"/>
            <a:ext cx="0" cy="566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287360" y="165096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51814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 Delivery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743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lanet Web 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82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en market leading high performanc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lanet Wireless 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8236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able wireless access to email, calendar, and personal address book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lanet Portal 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8236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ly scalable personalization, membership, aggregation and security services for rapid deployment of e-commerce portal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2EE Application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9520" y="1523880"/>
            <a:ext cx="49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e application services for building new applications and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open industry standards - J2E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 common programming model for developing new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portable development ski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6095880"/>
            <a:ext cx="3505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13000" y="2257560"/>
            <a:ext cx="591840" cy="48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54240" y="2257560"/>
            <a:ext cx="592200" cy="48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65600" y="2257560"/>
            <a:ext cx="325440" cy="966600"/>
          </a:xfrm>
          <a:custGeom>
            <a:avLst/>
            <a:gdLst/>
            <a:ahLst/>
            <a:rect l="l" t="t" r="r" b="b"/>
            <a:pathLst>
              <a:path w="3600" h="720">
                <a:moveTo>
                  <a:pt x="3600" y="0"/>
                </a:moveTo>
                <a:lnTo>
                  <a:pt x="3600" y="720"/>
                </a:lnTo>
                <a:lnTo>
                  <a:pt x="0" y="720"/>
                </a:lnTo>
                <a:lnTo>
                  <a:pt x="0" y="0"/>
                </a:lnTo>
                <a:lnTo>
                  <a:pt x="360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09840" y="2257560"/>
            <a:ext cx="325440" cy="966600"/>
          </a:xfrm>
          <a:custGeom>
            <a:avLst/>
            <a:gdLst/>
            <a:ahLst/>
            <a:rect l="l" t="t" r="r" b="b"/>
            <a:pathLst>
              <a:path w="3600" h="720">
                <a:moveTo>
                  <a:pt x="3600" y="0"/>
                </a:moveTo>
                <a:lnTo>
                  <a:pt x="3600" y="720"/>
                </a:lnTo>
                <a:lnTo>
                  <a:pt x="0" y="720"/>
                </a:lnTo>
                <a:lnTo>
                  <a:pt x="0" y="0"/>
                </a:lnTo>
                <a:lnTo>
                  <a:pt x="360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15880" y="2282760"/>
            <a:ext cx="5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ow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92040" y="2274840"/>
            <a:ext cx="5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ow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2537640" y="2628720"/>
            <a:ext cx="99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ssaging Ap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2929680" y="25686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 E-Commerc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855800" y="3352680"/>
            <a:ext cx="1333440" cy="968400"/>
            <a:chOff x="1855800" y="3352680"/>
            <a:chExt cx="1333440" cy="968400"/>
          </a:xfrm>
        </p:grpSpPr>
        <p:sp>
          <p:nvSpPr>
            <p:cNvPr id="205" name=""/>
            <p:cNvSpPr/>
            <p:nvPr/>
          </p:nvSpPr>
          <p:spPr>
            <a:xfrm>
              <a:off x="1855800" y="3352680"/>
              <a:ext cx="1333440" cy="968400"/>
            </a:xfrm>
            <a:custGeom>
              <a:avLst/>
              <a:gdLst/>
              <a:ahLst/>
              <a:rect l="l" t="t" r="r" b="b"/>
              <a:pathLst>
                <a:path w="2160" h="1440">
                  <a:moveTo>
                    <a:pt x="720" y="0"/>
                  </a:moveTo>
                  <a:lnTo>
                    <a:pt x="1440" y="0"/>
                  </a:lnTo>
                  <a:lnTo>
                    <a:pt x="1440" y="720"/>
                  </a:lnTo>
                  <a:lnTo>
                    <a:pt x="2160" y="720"/>
                  </a:lnTo>
                  <a:lnTo>
                    <a:pt x="2160" y="1440"/>
                  </a:lnTo>
                  <a:lnTo>
                    <a:pt x="0" y="1440"/>
                  </a:lnTo>
                  <a:lnTo>
                    <a:pt x="0" y="720"/>
                  </a:lnTo>
                  <a:lnTo>
                    <a:pt x="720" y="72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31120" y="392436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J2EE Application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14440" y="3352680"/>
            <a:ext cx="887400" cy="968400"/>
            <a:chOff x="1414440" y="3352680"/>
            <a:chExt cx="887400" cy="968400"/>
          </a:xfrm>
        </p:grpSpPr>
        <p:sp>
          <p:nvSpPr>
            <p:cNvPr id="208" name=""/>
            <p:cNvSpPr/>
            <p:nvPr/>
          </p:nvSpPr>
          <p:spPr>
            <a:xfrm>
              <a:off x="1414440" y="3352680"/>
              <a:ext cx="887400" cy="968400"/>
            </a:xfrm>
            <a:custGeom>
              <a:avLst/>
              <a:gdLst/>
              <a:ahLst/>
              <a:rect l="l" t="t" r="r" b="b"/>
              <a:pathLst>
                <a:path w="559" h="610">
                  <a:moveTo>
                    <a:pt x="0" y="610"/>
                  </a:moveTo>
                  <a:lnTo>
                    <a:pt x="279" y="610"/>
                  </a:lnTo>
                  <a:lnTo>
                    <a:pt x="279" y="304"/>
                  </a:lnTo>
                  <a:lnTo>
                    <a:pt x="559" y="304"/>
                  </a:lnTo>
                  <a:lnTo>
                    <a:pt x="559" y="0"/>
                  </a:lnTo>
                  <a:lnTo>
                    <a:pt x="0" y="0"/>
                  </a:lnTo>
                  <a:lnTo>
                    <a:pt x="0" y="6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17680" y="3352680"/>
              <a:ext cx="599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743200" y="3352680"/>
            <a:ext cx="909360" cy="966960"/>
            <a:chOff x="2743200" y="3352680"/>
            <a:chExt cx="909360" cy="966960"/>
          </a:xfrm>
        </p:grpSpPr>
        <p:sp>
          <p:nvSpPr>
            <p:cNvPr id="211" name=""/>
            <p:cNvSpPr/>
            <p:nvPr/>
          </p:nvSpPr>
          <p:spPr>
            <a:xfrm>
              <a:off x="2743200" y="3352680"/>
              <a:ext cx="909360" cy="966960"/>
            </a:xfrm>
            <a:custGeom>
              <a:avLst/>
              <a:gdLst/>
              <a:ahLst/>
              <a:rect l="l" t="t" r="r" b="b"/>
              <a:pathLst>
                <a:path w="573" h="609">
                  <a:moveTo>
                    <a:pt x="573" y="0"/>
                  </a:moveTo>
                  <a:lnTo>
                    <a:pt x="573" y="609"/>
                  </a:lnTo>
                  <a:lnTo>
                    <a:pt x="282" y="609"/>
                  </a:lnTo>
                  <a:lnTo>
                    <a:pt x="282" y="306"/>
                  </a:lnTo>
                  <a:lnTo>
                    <a:pt x="0" y="306"/>
                  </a:lnTo>
                  <a:lnTo>
                    <a:pt x="0" y="0"/>
                  </a:lnTo>
                  <a:lnTo>
                    <a:pt x="573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89360" y="3368520"/>
              <a:ext cx="7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rectory &amp;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413000" y="2867040"/>
            <a:ext cx="1333440" cy="482760"/>
          </a:xfrm>
          <a:custGeom>
            <a:avLst/>
            <a:gdLst/>
            <a:ahLst/>
            <a:rect l="l" t="t" r="r" b="b"/>
            <a:pathLst>
              <a:path w="3600" h="720">
                <a:moveTo>
                  <a:pt x="3600" y="0"/>
                </a:moveTo>
                <a:lnTo>
                  <a:pt x="3600" y="720"/>
                </a:lnTo>
                <a:lnTo>
                  <a:pt x="0" y="720"/>
                </a:lnTo>
                <a:lnTo>
                  <a:pt x="0" y="0"/>
                </a:lnTo>
                <a:lnTo>
                  <a:pt x="360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55560" y="2874960"/>
            <a:ext cx="11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ndard Enterpris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Applicatio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859040" y="3357720"/>
            <a:ext cx="1333440" cy="968040"/>
            <a:chOff x="1859040" y="3357720"/>
            <a:chExt cx="1333440" cy="968040"/>
          </a:xfrm>
        </p:grpSpPr>
        <p:sp>
          <p:nvSpPr>
            <p:cNvPr id="216" name=""/>
            <p:cNvSpPr/>
            <p:nvPr/>
          </p:nvSpPr>
          <p:spPr>
            <a:xfrm>
              <a:off x="1859040" y="3357720"/>
              <a:ext cx="1333440" cy="968040"/>
            </a:xfrm>
            <a:custGeom>
              <a:avLst/>
              <a:gdLst/>
              <a:ahLst/>
              <a:rect l="l" t="t" r="r" b="b"/>
              <a:pathLst>
                <a:path w="2160" h="1440">
                  <a:moveTo>
                    <a:pt x="720" y="0"/>
                  </a:moveTo>
                  <a:lnTo>
                    <a:pt x="1440" y="0"/>
                  </a:lnTo>
                  <a:lnTo>
                    <a:pt x="1440" y="720"/>
                  </a:lnTo>
                  <a:lnTo>
                    <a:pt x="2160" y="720"/>
                  </a:lnTo>
                  <a:lnTo>
                    <a:pt x="2160" y="1440"/>
                  </a:lnTo>
                  <a:lnTo>
                    <a:pt x="0" y="1440"/>
                  </a:lnTo>
                  <a:lnTo>
                    <a:pt x="0" y="720"/>
                  </a:lnTo>
                  <a:lnTo>
                    <a:pt x="720" y="72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34000" y="392904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J2EE Application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59040" y="3357720"/>
              <a:ext cx="1333440" cy="968040"/>
            </a:xfrm>
            <a:custGeom>
              <a:avLst/>
              <a:gdLst/>
              <a:ahLst/>
              <a:rect l="l" t="t" r="r" b="b"/>
              <a:pathLst>
                <a:path w="2160" h="1440">
                  <a:moveTo>
                    <a:pt x="720" y="0"/>
                  </a:moveTo>
                  <a:lnTo>
                    <a:pt x="1440" y="0"/>
                  </a:lnTo>
                  <a:lnTo>
                    <a:pt x="1440" y="720"/>
                  </a:lnTo>
                  <a:lnTo>
                    <a:pt x="2160" y="720"/>
                  </a:lnTo>
                  <a:lnTo>
                    <a:pt x="2160" y="1440"/>
                  </a:lnTo>
                  <a:lnTo>
                    <a:pt x="0" y="1440"/>
                  </a:lnTo>
                  <a:lnTo>
                    <a:pt x="0" y="720"/>
                  </a:lnTo>
                  <a:lnTo>
                    <a:pt x="720" y="720"/>
                  </a:lnTo>
                  <a:lnTo>
                    <a:pt x="72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2EE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J2EE%20vF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754380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2EE Application Services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lanet Application Infra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57800" y="1143000"/>
            <a:ext cx="3581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t on proven high performance, scalable, and reliable technology - 4th generation 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J2EE compliant 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re J2EE development environment written from the ground up for J2E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971800"/>
            <a:ext cx="5715000" cy="3657600"/>
          </a:xfrm>
          <a:custGeom>
            <a:avLst/>
            <a:gdLst/>
            <a:ahLst/>
            <a:rect l="l" t="t" r="r" b="b"/>
            <a:pathLst>
              <a:path w="2160" h="1440">
                <a:moveTo>
                  <a:pt x="720" y="0"/>
                </a:moveTo>
                <a:lnTo>
                  <a:pt x="1440" y="0"/>
                </a:lnTo>
                <a:lnTo>
                  <a:pt x="1440" y="720"/>
                </a:lnTo>
                <a:lnTo>
                  <a:pt x="2160" y="720"/>
                </a:lnTo>
                <a:lnTo>
                  <a:pt x="2160" y="1440"/>
                </a:lnTo>
                <a:lnTo>
                  <a:pt x="0" y="1440"/>
                </a:lnTo>
                <a:lnTo>
                  <a:pt x="0" y="720"/>
                </a:lnTo>
                <a:lnTo>
                  <a:pt x="720" y="720"/>
                </a:lnTo>
                <a:lnTo>
                  <a:pt x="72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4800600"/>
            <a:ext cx="570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2971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29200" y="2971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32960" y="3429000"/>
            <a:ext cx="128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lane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7840" y="5257800"/>
            <a:ext cx="128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lane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58600" y="5257800"/>
            <a:ext cx="118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lane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0200" y="5181480"/>
            <a:ext cx="1282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la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2971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598760" y="3200400"/>
            <a:ext cx="2239920" cy="973080"/>
          </a:xfrm>
          <a:custGeom>
            <a:avLst/>
            <a:gdLst/>
            <a:ahLst/>
            <a:rect l="l" t="t" r="r" b="b"/>
            <a:pathLst>
              <a:path w="1411" h="613">
                <a:moveTo>
                  <a:pt x="1411" y="613"/>
                </a:moveTo>
                <a:lnTo>
                  <a:pt x="1411" y="0"/>
                </a:lnTo>
                <a:lnTo>
                  <a:pt x="0" y="0"/>
                </a:lnTo>
                <a:lnTo>
                  <a:pt x="0" y="613"/>
                </a:lnTo>
                <a:lnTo>
                  <a:pt x="1411" y="6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 Enterprise Application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1828800"/>
            <a:ext cx="4876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stom built common services or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me grown applications or services build on thi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2106720"/>
            <a:ext cx="592200" cy="48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41440" y="2106720"/>
            <a:ext cx="592200" cy="48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52800" y="2106720"/>
            <a:ext cx="325440" cy="966600"/>
          </a:xfrm>
          <a:custGeom>
            <a:avLst/>
            <a:gdLst/>
            <a:ahLst/>
            <a:rect l="l" t="t" r="r" b="b"/>
            <a:pathLst>
              <a:path w="3600" h="720">
                <a:moveTo>
                  <a:pt x="3600" y="0"/>
                </a:moveTo>
                <a:lnTo>
                  <a:pt x="3600" y="720"/>
                </a:lnTo>
                <a:lnTo>
                  <a:pt x="0" y="720"/>
                </a:lnTo>
                <a:lnTo>
                  <a:pt x="0" y="0"/>
                </a:lnTo>
                <a:lnTo>
                  <a:pt x="360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7400" y="2106720"/>
            <a:ext cx="325440" cy="966600"/>
          </a:xfrm>
          <a:custGeom>
            <a:avLst/>
            <a:gdLst/>
            <a:ahLst/>
            <a:rect l="l" t="t" r="r" b="b"/>
            <a:pathLst>
              <a:path w="3600" h="720">
                <a:moveTo>
                  <a:pt x="3600" y="0"/>
                </a:moveTo>
                <a:lnTo>
                  <a:pt x="3600" y="720"/>
                </a:lnTo>
                <a:lnTo>
                  <a:pt x="0" y="720"/>
                </a:lnTo>
                <a:lnTo>
                  <a:pt x="0" y="0"/>
                </a:lnTo>
                <a:lnTo>
                  <a:pt x="360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600200" y="2716200"/>
            <a:ext cx="1333440" cy="482760"/>
            <a:chOff x="1600200" y="2716200"/>
            <a:chExt cx="1333440" cy="482760"/>
          </a:xfrm>
        </p:grpSpPr>
        <p:sp>
          <p:nvSpPr>
            <p:cNvPr id="240" name=""/>
            <p:cNvSpPr/>
            <p:nvPr/>
          </p:nvSpPr>
          <p:spPr>
            <a:xfrm>
              <a:off x="1600200" y="2716200"/>
              <a:ext cx="1333440" cy="482760"/>
            </a:xfrm>
            <a:custGeom>
              <a:avLst/>
              <a:gdLst/>
              <a:ahLst/>
              <a:rect l="l" t="t" r="r" b="b"/>
              <a:pathLst>
                <a:path w="3600" h="720">
                  <a:moveTo>
                    <a:pt x="3600" y="0"/>
                  </a:moveTo>
                  <a:lnTo>
                    <a:pt x="3600" y="720"/>
                  </a:lnTo>
                  <a:lnTo>
                    <a:pt x="0" y="720"/>
                  </a:lnTo>
                  <a:lnTo>
                    <a:pt x="0" y="0"/>
                  </a:lnTo>
                  <a:lnTo>
                    <a:pt x="360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42760" y="2724120"/>
              <a:ext cx="1155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andard Enterprise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Application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603080" y="2131920"/>
            <a:ext cx="5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ow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79240" y="2124000"/>
            <a:ext cx="5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ow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2724840" y="2477880"/>
            <a:ext cx="99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ssaging Ap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3116880" y="241776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 E-Commerc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41600" y="3219480"/>
            <a:ext cx="59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ivery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18320" y="37735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2EE Applicatio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76920" y="3218040"/>
            <a:ext cx="72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ory &amp;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curity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3640"/>
            <a:ext cx="2238480" cy="976320"/>
          </a:xfrm>
          <a:custGeom>
            <a:avLst/>
            <a:gdLst/>
            <a:ahLst/>
            <a:rect l="l" t="t" r="r" b="b"/>
            <a:pathLst>
              <a:path w="1410" h="615">
                <a:moveTo>
                  <a:pt x="0" y="0"/>
                </a:moveTo>
                <a:lnTo>
                  <a:pt x="1410" y="0"/>
                </a:lnTo>
                <a:lnTo>
                  <a:pt x="1410" y="615"/>
                </a:lnTo>
                <a:lnTo>
                  <a:pt x="0" y="615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41560" y="3203640"/>
            <a:ext cx="1334880" cy="976320"/>
          </a:xfrm>
          <a:custGeom>
            <a:avLst/>
            <a:gdLst/>
            <a:ahLst/>
            <a:rect l="l" t="t" r="r" b="b"/>
            <a:pathLst>
              <a:path w="841" h="615">
                <a:moveTo>
                  <a:pt x="0" y="615"/>
                </a:moveTo>
                <a:lnTo>
                  <a:pt x="0" y="306"/>
                </a:lnTo>
                <a:lnTo>
                  <a:pt x="282" y="306"/>
                </a:lnTo>
                <a:lnTo>
                  <a:pt x="282" y="0"/>
                </a:lnTo>
                <a:lnTo>
                  <a:pt x="561" y="0"/>
                </a:lnTo>
                <a:lnTo>
                  <a:pt x="561" y="306"/>
                </a:lnTo>
                <a:lnTo>
                  <a:pt x="841" y="306"/>
                </a:lnTo>
                <a:lnTo>
                  <a:pt x="841" y="61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 Enterprise Application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743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ly includ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743200"/>
            <a:ext cx="6553440" cy="1752480"/>
          </a:xfrm>
          <a:custGeom>
            <a:avLst/>
            <a:gdLst/>
            <a:ahLst/>
            <a:rect l="l" t="t" r="r" b="b"/>
            <a:pathLst>
              <a:path w="3600" h="720">
                <a:moveTo>
                  <a:pt x="3600" y="0"/>
                </a:moveTo>
                <a:lnTo>
                  <a:pt x="3600" y="720"/>
                </a:lnTo>
                <a:lnTo>
                  <a:pt x="0" y="720"/>
                </a:lnTo>
                <a:lnTo>
                  <a:pt x="0" y="0"/>
                </a:lnTo>
                <a:lnTo>
                  <a:pt x="360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53200" y="2895480"/>
            <a:ext cx="150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76680" y="3733920"/>
            <a:ext cx="12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g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51480" y="2895480"/>
            <a:ext cx="141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11600" y="3733920"/>
            <a:ext cx="130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7960" y="2895480"/>
            <a:ext cx="183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 Backe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46040" y="3733920"/>
            <a:ext cx="15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e Reus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733920" y="2743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867280" y="2743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60036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27432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8077320" y="2743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ity Strate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743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ses due to computer security breaches mounted to over US$100,000,000 for a third straight year (31% couldn’t even qualify their loss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mprehensive and well thought strategy i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a common platform and a good strategy a higher level of security is prac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e and flexible infrastructure i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ment and Deployment Strate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743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RP can be further leveraged to set development and deployment strate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opportunities for improvemen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044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ates faster and more effective development and deplo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6044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amlined application support and m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6044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 training cour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6044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aboration for developers, architects, support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6044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ervice Ready Platfor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743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latform for the rapid and effective deployment of hosted and non-hosted e-commerce and web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pid Deployment - based on flexible, open, standards based infra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olidated view of us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ve pipe elimin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alable and 24x7 avail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0" t="0" r="6989" b="6959"/>
          <a:stretch/>
        </p:blipFill>
        <p:spPr>
          <a:xfrm>
            <a:off x="2514600" y="1981080"/>
            <a:ext cx="42559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Ready Platform Defin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434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Ready Platform (n): a platform for the rapid and effective deployment of hosted and non-hosted e-commerce and web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405080" y="1523880"/>
            <a:ext cx="743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pid deployment of new services - flexible infrastructure, open, standards based, adapt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cus on the services not the infra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mination of the “stove pipe”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olidated view of us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alable and 24x7 avail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of a Service Ready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ervice Ready Platfor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600200" y="1447920"/>
            <a:ext cx="5715000" cy="2286000"/>
            <a:chOff x="1600200" y="1447920"/>
            <a:chExt cx="5715000" cy="2286000"/>
          </a:xfrm>
        </p:grpSpPr>
        <p:sp>
          <p:nvSpPr>
            <p:cNvPr id="98" name=""/>
            <p:cNvSpPr/>
            <p:nvPr/>
          </p:nvSpPr>
          <p:spPr>
            <a:xfrm>
              <a:off x="3505320" y="1447920"/>
              <a:ext cx="152388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4120" y="1447920"/>
              <a:ext cx="838080" cy="2286000"/>
            </a:xfrm>
            <a:custGeom>
              <a:avLst/>
              <a:gdLst/>
              <a:ahLst/>
              <a:rect l="l" t="t" r="r" b="b"/>
              <a:pathLst>
                <a:path w="3600" h="720">
                  <a:moveTo>
                    <a:pt x="3600" y="0"/>
                  </a:moveTo>
                  <a:lnTo>
                    <a:pt x="3600" y="720"/>
                  </a:lnTo>
                  <a:lnTo>
                    <a:pt x="0" y="720"/>
                  </a:lnTo>
                  <a:lnTo>
                    <a:pt x="0" y="0"/>
                  </a:lnTo>
                  <a:lnTo>
                    <a:pt x="360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77120" y="1447920"/>
              <a:ext cx="838080" cy="2286000"/>
            </a:xfrm>
            <a:custGeom>
              <a:avLst/>
              <a:gdLst/>
              <a:ahLst/>
              <a:rect l="l" t="t" r="r" b="b"/>
              <a:pathLst>
                <a:path w="3600" h="720">
                  <a:moveTo>
                    <a:pt x="3600" y="0"/>
                  </a:moveTo>
                  <a:lnTo>
                    <a:pt x="3600" y="720"/>
                  </a:lnTo>
                  <a:lnTo>
                    <a:pt x="0" y="720"/>
                  </a:lnTo>
                  <a:lnTo>
                    <a:pt x="0" y="0"/>
                  </a:lnTo>
                  <a:lnTo>
                    <a:pt x="360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00200" y="1447920"/>
              <a:ext cx="152388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05840" y="1523880"/>
              <a:ext cx="906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ow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0960" y="1523880"/>
              <a:ext cx="906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ow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749480" y="2414520"/>
              <a:ext cx="199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ssaging Ap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5743800" y="2277000"/>
              <a:ext cx="22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ther E-Commerc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600200" y="4038480"/>
            <a:ext cx="5715000" cy="2286000"/>
            <a:chOff x="1600200" y="4038480"/>
            <a:chExt cx="5715000" cy="2286000"/>
          </a:xfrm>
        </p:grpSpPr>
        <p:sp>
          <p:nvSpPr>
            <p:cNvPr id="107" name=""/>
            <p:cNvSpPr/>
            <p:nvPr/>
          </p:nvSpPr>
          <p:spPr>
            <a:xfrm>
              <a:off x="1600200" y="4038480"/>
              <a:ext cx="5715000" cy="2286000"/>
            </a:xfrm>
            <a:custGeom>
              <a:avLst/>
              <a:gdLst/>
              <a:ahLst/>
              <a:rect l="l" t="t" r="r" b="b"/>
              <a:pathLst>
                <a:path w="3600" h="1440">
                  <a:moveTo>
                    <a:pt x="0" y="0"/>
                  </a:moveTo>
                  <a:lnTo>
                    <a:pt x="3600" y="0"/>
                  </a:lnTo>
                  <a:lnTo>
                    <a:pt x="3600" y="1440"/>
                  </a:lnTo>
                  <a:lnTo>
                    <a:pt x="0" y="14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29200" y="4038480"/>
              <a:ext cx="2286000" cy="2286000"/>
            </a:xfrm>
            <a:custGeom>
              <a:avLst/>
              <a:gdLst/>
              <a:ahLst/>
              <a:rect l="l" t="t" r="r" b="b"/>
              <a:pathLst>
                <a:path w="1440" h="1440">
                  <a:moveTo>
                    <a:pt x="0" y="0"/>
                  </a:moveTo>
                  <a:lnTo>
                    <a:pt x="1440" y="0"/>
                  </a:lnTo>
                  <a:lnTo>
                    <a:pt x="1440" y="1440"/>
                  </a:lnTo>
                  <a:lnTo>
                    <a:pt x="720" y="1440"/>
                  </a:lnTo>
                  <a:lnTo>
                    <a:pt x="720" y="720"/>
                  </a:lnTo>
                  <a:lnTo>
                    <a:pt x="0" y="7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00200" y="4038480"/>
              <a:ext cx="2286000" cy="2286000"/>
            </a:xfrm>
            <a:custGeom>
              <a:avLst/>
              <a:gdLst/>
              <a:ahLst/>
              <a:rect l="l" t="t" r="r" b="b"/>
              <a:pathLst>
                <a:path w="1440" h="1440">
                  <a:moveTo>
                    <a:pt x="0" y="0"/>
                  </a:moveTo>
                  <a:lnTo>
                    <a:pt x="1440" y="0"/>
                  </a:lnTo>
                  <a:lnTo>
                    <a:pt x="1440" y="720"/>
                  </a:lnTo>
                  <a:lnTo>
                    <a:pt x="720" y="720"/>
                  </a:lnTo>
                  <a:lnTo>
                    <a:pt x="720" y="1440"/>
                  </a:lnTo>
                  <a:lnTo>
                    <a:pt x="0" y="144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12960" y="4114800"/>
              <a:ext cx="1410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rectory &amp;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12560" y="4114800"/>
              <a:ext cx="1118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720" y="5410080"/>
              <a:ext cx="204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2EE Applicati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00200" y="4038480"/>
              <a:ext cx="5715000" cy="2286000"/>
            </a:xfrm>
            <a:custGeom>
              <a:avLst/>
              <a:gdLst/>
              <a:ahLst/>
              <a:rect l="l" t="t" r="r" b="b"/>
              <a:pathLst>
                <a:path w="3600" h="1440">
                  <a:moveTo>
                    <a:pt x="0" y="0"/>
                  </a:moveTo>
                  <a:lnTo>
                    <a:pt x="3600" y="0"/>
                  </a:lnTo>
                  <a:lnTo>
                    <a:pt x="3600" y="1440"/>
                  </a:lnTo>
                  <a:lnTo>
                    <a:pt x="0" y="144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600200" y="2895480"/>
            <a:ext cx="3429000" cy="1143000"/>
            <a:chOff x="1600200" y="2895480"/>
            <a:chExt cx="3429000" cy="1143000"/>
          </a:xfrm>
        </p:grpSpPr>
        <p:sp>
          <p:nvSpPr>
            <p:cNvPr id="115" name=""/>
            <p:cNvSpPr/>
            <p:nvPr/>
          </p:nvSpPr>
          <p:spPr>
            <a:xfrm>
              <a:off x="1600200" y="2895480"/>
              <a:ext cx="3429000" cy="1143000"/>
            </a:xfrm>
            <a:custGeom>
              <a:avLst/>
              <a:gdLst/>
              <a:ahLst/>
              <a:rect l="l" t="t" r="r" b="b"/>
              <a:pathLst>
                <a:path w="3600" h="720">
                  <a:moveTo>
                    <a:pt x="3600" y="0"/>
                  </a:moveTo>
                  <a:lnTo>
                    <a:pt x="3600" y="720"/>
                  </a:lnTo>
                  <a:lnTo>
                    <a:pt x="0" y="720"/>
                  </a:lnTo>
                  <a:lnTo>
                    <a:pt x="0" y="0"/>
                  </a:lnTo>
                  <a:lnTo>
                    <a:pt x="360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48120" y="2971800"/>
              <a:ext cx="236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ndard Enterpris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Applicati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H="1">
            <a:off x="1599840" y="40384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5280120"/>
            <a:ext cx="1778040" cy="971280"/>
          </a:xfrm>
          <a:custGeom>
            <a:avLst/>
            <a:gdLst/>
            <a:ahLst/>
            <a:rect l="l" t="t" r="r" b="b"/>
            <a:pathLst>
              <a:path w="1120" h="612">
                <a:moveTo>
                  <a:pt x="0" y="0"/>
                </a:moveTo>
                <a:lnTo>
                  <a:pt x="1" y="612"/>
                </a:lnTo>
                <a:lnTo>
                  <a:pt x="1120" y="612"/>
                </a:lnTo>
                <a:lnTo>
                  <a:pt x="1120" y="306"/>
                </a:lnTo>
                <a:lnTo>
                  <a:pt x="840" y="306"/>
                </a:lnTo>
                <a:lnTo>
                  <a:pt x="840" y="2"/>
                </a:lnTo>
                <a:lnTo>
                  <a:pt x="1" y="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ory and Security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4191120"/>
            <a:ext cx="591840" cy="48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89160" y="4191120"/>
            <a:ext cx="592200" cy="48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00520" y="4191120"/>
            <a:ext cx="325440" cy="966600"/>
          </a:xfrm>
          <a:custGeom>
            <a:avLst/>
            <a:gdLst/>
            <a:ahLst/>
            <a:rect l="l" t="t" r="r" b="b"/>
            <a:pathLst>
              <a:path w="3600" h="720">
                <a:moveTo>
                  <a:pt x="3600" y="0"/>
                </a:moveTo>
                <a:lnTo>
                  <a:pt x="3600" y="720"/>
                </a:lnTo>
                <a:lnTo>
                  <a:pt x="0" y="720"/>
                </a:lnTo>
                <a:lnTo>
                  <a:pt x="0" y="0"/>
                </a:lnTo>
                <a:lnTo>
                  <a:pt x="360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4760" y="4191120"/>
            <a:ext cx="325440" cy="966600"/>
          </a:xfrm>
          <a:custGeom>
            <a:avLst/>
            <a:gdLst/>
            <a:ahLst/>
            <a:rect l="l" t="t" r="r" b="b"/>
            <a:pathLst>
              <a:path w="3600" h="720">
                <a:moveTo>
                  <a:pt x="3600" y="0"/>
                </a:moveTo>
                <a:lnTo>
                  <a:pt x="3600" y="720"/>
                </a:lnTo>
                <a:lnTo>
                  <a:pt x="0" y="720"/>
                </a:lnTo>
                <a:lnTo>
                  <a:pt x="0" y="0"/>
                </a:lnTo>
                <a:lnTo>
                  <a:pt x="360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4800600"/>
            <a:ext cx="1333440" cy="482760"/>
          </a:xfrm>
          <a:custGeom>
            <a:avLst/>
            <a:gdLst/>
            <a:ahLst/>
            <a:rect l="l" t="t" r="r" b="b"/>
            <a:pathLst>
              <a:path w="3600" h="720">
                <a:moveTo>
                  <a:pt x="3600" y="0"/>
                </a:moveTo>
                <a:lnTo>
                  <a:pt x="3600" y="720"/>
                </a:lnTo>
                <a:lnTo>
                  <a:pt x="0" y="720"/>
                </a:lnTo>
                <a:lnTo>
                  <a:pt x="0" y="0"/>
                </a:lnTo>
                <a:lnTo>
                  <a:pt x="360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90480" y="4808520"/>
            <a:ext cx="11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ndard Enterpris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Applicatio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50800" y="4216320"/>
            <a:ext cx="5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ow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26960" y="4208400"/>
            <a:ext cx="5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ow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572560" y="4562280"/>
            <a:ext cx="99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ssaging Ap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2964600" y="450216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 E-Commerc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1371600"/>
            <a:ext cx="4572000" cy="4572000"/>
          </a:xfrm>
          <a:custGeom>
            <a:avLst/>
            <a:gdLst/>
            <a:ahLst/>
            <a:rect l="l" t="t" r="r" b="b"/>
            <a:pathLst>
              <a:path w="1440" h="1440">
                <a:moveTo>
                  <a:pt x="0" y="0"/>
                </a:moveTo>
                <a:lnTo>
                  <a:pt x="1440" y="0"/>
                </a:lnTo>
                <a:lnTo>
                  <a:pt x="1440" y="1440"/>
                </a:lnTo>
                <a:lnTo>
                  <a:pt x="720" y="1440"/>
                </a:lnTo>
                <a:lnTo>
                  <a:pt x="720" y="720"/>
                </a:lnTo>
                <a:lnTo>
                  <a:pt x="0" y="72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36576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4800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1371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1371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5080" y="2084400"/>
            <a:ext cx="150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lane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egat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4200" y="1981080"/>
            <a:ext cx="141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lane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rtificat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26640" y="2206800"/>
            <a:ext cx="146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egr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y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5080" y="396252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lane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9760" y="5029200"/>
            <a:ext cx="15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lane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-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13716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772400" y="13716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3657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778120" y="5280120"/>
            <a:ext cx="909720" cy="969840"/>
            <a:chOff x="2778120" y="5280120"/>
            <a:chExt cx="909720" cy="969840"/>
          </a:xfrm>
        </p:grpSpPr>
        <p:sp>
          <p:nvSpPr>
            <p:cNvPr id="144" name=""/>
            <p:cNvSpPr/>
            <p:nvPr/>
          </p:nvSpPr>
          <p:spPr>
            <a:xfrm>
              <a:off x="2778120" y="5280120"/>
              <a:ext cx="909720" cy="969840"/>
            </a:xfrm>
            <a:custGeom>
              <a:avLst/>
              <a:gdLst/>
              <a:ahLst/>
              <a:rect l="l" t="t" r="r" b="b"/>
              <a:pathLst>
                <a:path w="1440" h="1440">
                  <a:moveTo>
                    <a:pt x="0" y="0"/>
                  </a:moveTo>
                  <a:lnTo>
                    <a:pt x="1440" y="0"/>
                  </a:lnTo>
                  <a:lnTo>
                    <a:pt x="1440" y="1440"/>
                  </a:lnTo>
                  <a:lnTo>
                    <a:pt x="720" y="1440"/>
                  </a:lnTo>
                  <a:lnTo>
                    <a:pt x="720" y="720"/>
                  </a:lnTo>
                  <a:lnTo>
                    <a:pt x="0" y="7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26080" y="5295960"/>
              <a:ext cx="7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rectory &amp;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447920" y="5286240"/>
            <a:ext cx="888840" cy="968400"/>
          </a:xfrm>
          <a:custGeom>
            <a:avLst/>
            <a:gdLst/>
            <a:ahLst/>
            <a:rect l="l" t="t" r="r" b="b"/>
            <a:pathLst>
              <a:path w="560" h="610">
                <a:moveTo>
                  <a:pt x="280" y="610"/>
                </a:moveTo>
                <a:lnTo>
                  <a:pt x="0" y="610"/>
                </a:lnTo>
                <a:lnTo>
                  <a:pt x="0" y="0"/>
                </a:lnTo>
                <a:lnTo>
                  <a:pt x="5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89320" y="5299200"/>
            <a:ext cx="59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ivery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890720" y="5286240"/>
            <a:ext cx="1333440" cy="968400"/>
            <a:chOff x="1890720" y="5286240"/>
            <a:chExt cx="1333440" cy="968400"/>
          </a:xfrm>
        </p:grpSpPr>
        <p:sp>
          <p:nvSpPr>
            <p:cNvPr id="149" name=""/>
            <p:cNvSpPr/>
            <p:nvPr/>
          </p:nvSpPr>
          <p:spPr>
            <a:xfrm>
              <a:off x="1890720" y="5286240"/>
              <a:ext cx="1333440" cy="968400"/>
            </a:xfrm>
            <a:custGeom>
              <a:avLst/>
              <a:gdLst/>
              <a:ahLst/>
              <a:rect l="l" t="t" r="r" b="b"/>
              <a:pathLst>
                <a:path w="2160" h="1440">
                  <a:moveTo>
                    <a:pt x="720" y="0"/>
                  </a:moveTo>
                  <a:lnTo>
                    <a:pt x="1440" y="0"/>
                  </a:lnTo>
                  <a:lnTo>
                    <a:pt x="1440" y="720"/>
                  </a:lnTo>
                  <a:lnTo>
                    <a:pt x="2160" y="720"/>
                  </a:lnTo>
                  <a:lnTo>
                    <a:pt x="2160" y="1440"/>
                  </a:lnTo>
                  <a:lnTo>
                    <a:pt x="0" y="1440"/>
                  </a:lnTo>
                  <a:lnTo>
                    <a:pt x="0" y="720"/>
                  </a:lnTo>
                  <a:lnTo>
                    <a:pt x="720" y="720"/>
                  </a:lnTo>
                  <a:lnTo>
                    <a:pt x="72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6040" y="585756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J2EE Application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200400" y="1371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5943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ory and Security Services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Information Management 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743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loyment of new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0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information available and up to 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verage without affecting exist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y changes to role definitions and privileges of many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 re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0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info spread across many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be able to update user info quickly from a single point and be immediately accessible across all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ory and Security Services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to meet the 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743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in place strategies for the management and security of user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044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wo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6044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nchron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infrastructure products which are designed with these challenges in mind - flexible, open, integrated, high performance, and reli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ory and Security Services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lanet Infrastructure Produ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05080" y="1523880"/>
            <a:ext cx="743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lanet Directory 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9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performance and scalable directory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lanet Meta-Direc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9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ins many data sources into a single dir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lanet Certificate Management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9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PKI to deploy and manage 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lanet Delegated Administr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964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 self-service user and account manage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egrity SiteMin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964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le sign-on, centralized access control, and privilege management infrastructur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146560" y="5284800"/>
            <a:ext cx="887400" cy="968400"/>
            <a:chOff x="5146560" y="5284800"/>
            <a:chExt cx="887400" cy="968400"/>
          </a:xfrm>
        </p:grpSpPr>
        <p:sp>
          <p:nvSpPr>
            <p:cNvPr id="160" name=""/>
            <p:cNvSpPr/>
            <p:nvPr/>
          </p:nvSpPr>
          <p:spPr>
            <a:xfrm>
              <a:off x="5146560" y="5284800"/>
              <a:ext cx="887400" cy="968400"/>
            </a:xfrm>
            <a:custGeom>
              <a:avLst/>
              <a:gdLst/>
              <a:ahLst/>
              <a:rect l="l" t="t" r="r" b="b"/>
              <a:pathLst>
                <a:path w="559" h="610">
                  <a:moveTo>
                    <a:pt x="0" y="610"/>
                  </a:moveTo>
                  <a:lnTo>
                    <a:pt x="279" y="610"/>
                  </a:lnTo>
                  <a:lnTo>
                    <a:pt x="279" y="304"/>
                  </a:lnTo>
                  <a:lnTo>
                    <a:pt x="559" y="304"/>
                  </a:lnTo>
                  <a:lnTo>
                    <a:pt x="559" y="0"/>
                  </a:lnTo>
                  <a:lnTo>
                    <a:pt x="0" y="0"/>
                  </a:lnTo>
                  <a:lnTo>
                    <a:pt x="0" y="61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49800" y="5284800"/>
              <a:ext cx="599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589720" y="5284800"/>
            <a:ext cx="1796760" cy="968400"/>
          </a:xfrm>
          <a:custGeom>
            <a:avLst/>
            <a:gdLst/>
            <a:ahLst/>
            <a:rect l="l" t="t" r="r" b="b"/>
            <a:pathLst>
              <a:path w="1132" h="610">
                <a:moveTo>
                  <a:pt x="0" y="610"/>
                </a:moveTo>
                <a:lnTo>
                  <a:pt x="1132" y="610"/>
                </a:lnTo>
                <a:lnTo>
                  <a:pt x="1132" y="0"/>
                </a:lnTo>
                <a:lnTo>
                  <a:pt x="280" y="0"/>
                </a:lnTo>
                <a:lnTo>
                  <a:pt x="280" y="304"/>
                </a:lnTo>
                <a:lnTo>
                  <a:pt x="0" y="304"/>
                </a:lnTo>
                <a:lnTo>
                  <a:pt x="0" y="61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 Delivery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 rot="10800000">
            <a:off x="1523880" y="1600200"/>
            <a:ext cx="4572000" cy="4572000"/>
          </a:xfrm>
          <a:custGeom>
            <a:avLst/>
            <a:gdLst/>
            <a:ahLst/>
            <a:rect l="l" t="t" r="r" b="b"/>
            <a:pathLst>
              <a:path w="1440" h="1440">
                <a:moveTo>
                  <a:pt x="0" y="0"/>
                </a:moveTo>
                <a:lnTo>
                  <a:pt x="1440" y="0"/>
                </a:lnTo>
                <a:lnTo>
                  <a:pt x="1440" y="1440"/>
                </a:lnTo>
                <a:lnTo>
                  <a:pt x="720" y="1440"/>
                </a:lnTo>
                <a:lnTo>
                  <a:pt x="720" y="720"/>
                </a:lnTo>
                <a:lnTo>
                  <a:pt x="0" y="72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81200" y="2286000"/>
            <a:ext cx="192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lane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1600200"/>
            <a:ext cx="4572000" cy="4572000"/>
          </a:xfrm>
          <a:custGeom>
            <a:avLst/>
            <a:gdLst/>
            <a:ahLst/>
            <a:rect l="l" t="t" r="r" b="b"/>
            <a:pathLst>
              <a:path w="2880" h="2880">
                <a:moveTo>
                  <a:pt x="0" y="0"/>
                </a:moveTo>
                <a:lnTo>
                  <a:pt x="2880" y="0"/>
                </a:lnTo>
                <a:lnTo>
                  <a:pt x="2880" y="1440"/>
                </a:lnTo>
                <a:lnTo>
                  <a:pt x="1440" y="1440"/>
                </a:lnTo>
                <a:lnTo>
                  <a:pt x="1440" y="2880"/>
                </a:lnTo>
                <a:lnTo>
                  <a:pt x="0" y="288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3886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1600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56920" y="2286000"/>
            <a:ext cx="170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lane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reles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23480" y="4648320"/>
            <a:ext cx="14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lane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6560" y="4191120"/>
            <a:ext cx="592200" cy="48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88160" y="4191120"/>
            <a:ext cx="591840" cy="48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99160" y="4191120"/>
            <a:ext cx="325440" cy="966600"/>
          </a:xfrm>
          <a:custGeom>
            <a:avLst/>
            <a:gdLst/>
            <a:ahLst/>
            <a:rect l="l" t="t" r="r" b="b"/>
            <a:pathLst>
              <a:path w="3600" h="720">
                <a:moveTo>
                  <a:pt x="3600" y="0"/>
                </a:moveTo>
                <a:lnTo>
                  <a:pt x="3600" y="720"/>
                </a:lnTo>
                <a:lnTo>
                  <a:pt x="0" y="720"/>
                </a:lnTo>
                <a:lnTo>
                  <a:pt x="0" y="0"/>
                </a:lnTo>
                <a:lnTo>
                  <a:pt x="360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43760" y="4191120"/>
            <a:ext cx="325440" cy="966600"/>
          </a:xfrm>
          <a:custGeom>
            <a:avLst/>
            <a:gdLst/>
            <a:ahLst/>
            <a:rect l="l" t="t" r="r" b="b"/>
            <a:pathLst>
              <a:path w="3600" h="720">
                <a:moveTo>
                  <a:pt x="3600" y="0"/>
                </a:moveTo>
                <a:lnTo>
                  <a:pt x="3600" y="720"/>
                </a:lnTo>
                <a:lnTo>
                  <a:pt x="0" y="720"/>
                </a:lnTo>
                <a:lnTo>
                  <a:pt x="0" y="0"/>
                </a:lnTo>
                <a:lnTo>
                  <a:pt x="360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46560" y="4800600"/>
            <a:ext cx="1333440" cy="482760"/>
          </a:xfrm>
          <a:custGeom>
            <a:avLst/>
            <a:gdLst/>
            <a:ahLst/>
            <a:rect l="l" t="t" r="r" b="b"/>
            <a:pathLst>
              <a:path w="3600" h="720">
                <a:moveTo>
                  <a:pt x="3600" y="0"/>
                </a:moveTo>
                <a:lnTo>
                  <a:pt x="3600" y="720"/>
                </a:lnTo>
                <a:lnTo>
                  <a:pt x="0" y="720"/>
                </a:lnTo>
                <a:lnTo>
                  <a:pt x="0" y="0"/>
                </a:lnTo>
                <a:lnTo>
                  <a:pt x="360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89480" y="4808520"/>
            <a:ext cx="11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ndard Enterpris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Applicatio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49440" y="4216320"/>
            <a:ext cx="5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ow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25960" y="4208400"/>
            <a:ext cx="5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own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6271560" y="4562280"/>
            <a:ext cx="99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ssaging Ap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6663600" y="450216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 E-Commerc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145120" y="5284800"/>
            <a:ext cx="888840" cy="969840"/>
            <a:chOff x="5145120" y="5284800"/>
            <a:chExt cx="888840" cy="969840"/>
          </a:xfrm>
        </p:grpSpPr>
        <p:sp>
          <p:nvSpPr>
            <p:cNvPr id="182" name=""/>
            <p:cNvSpPr/>
            <p:nvPr/>
          </p:nvSpPr>
          <p:spPr>
            <a:xfrm>
              <a:off x="5145120" y="5284800"/>
              <a:ext cx="887400" cy="968400"/>
            </a:xfrm>
            <a:custGeom>
              <a:avLst/>
              <a:gdLst/>
              <a:ahLst/>
              <a:rect l="l" t="t" r="r" b="b"/>
              <a:pathLst>
                <a:path w="559" h="610">
                  <a:moveTo>
                    <a:pt x="0" y="610"/>
                  </a:moveTo>
                  <a:lnTo>
                    <a:pt x="279" y="610"/>
                  </a:lnTo>
                  <a:lnTo>
                    <a:pt x="279" y="304"/>
                  </a:lnTo>
                  <a:lnTo>
                    <a:pt x="559" y="304"/>
                  </a:lnTo>
                  <a:lnTo>
                    <a:pt x="559" y="0"/>
                  </a:lnTo>
                  <a:lnTo>
                    <a:pt x="0" y="0"/>
                  </a:lnTo>
                  <a:lnTo>
                    <a:pt x="0" y="61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45120" y="5286240"/>
              <a:ext cx="888840" cy="968400"/>
            </a:xfrm>
            <a:custGeom>
              <a:avLst/>
              <a:gdLst/>
              <a:ahLst/>
              <a:rect l="l" t="t" r="r" b="b"/>
              <a:pathLst>
                <a:path w="1440" h="1440">
                  <a:moveTo>
                    <a:pt x="0" y="0"/>
                  </a:moveTo>
                  <a:lnTo>
                    <a:pt x="1440" y="0"/>
                  </a:lnTo>
                  <a:lnTo>
                    <a:pt x="1440" y="720"/>
                  </a:lnTo>
                  <a:lnTo>
                    <a:pt x="720" y="720"/>
                  </a:lnTo>
                  <a:lnTo>
                    <a:pt x="720" y="1440"/>
                  </a:lnTo>
                  <a:lnTo>
                    <a:pt x="0" y="144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62400" y="5289480"/>
              <a:ext cx="599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589720" y="5286240"/>
            <a:ext cx="1333440" cy="968400"/>
            <a:chOff x="5589720" y="5286240"/>
            <a:chExt cx="1333440" cy="968400"/>
          </a:xfrm>
        </p:grpSpPr>
        <p:sp>
          <p:nvSpPr>
            <p:cNvPr id="186" name=""/>
            <p:cNvSpPr/>
            <p:nvPr/>
          </p:nvSpPr>
          <p:spPr>
            <a:xfrm>
              <a:off x="5589720" y="5286240"/>
              <a:ext cx="1333440" cy="968400"/>
            </a:xfrm>
            <a:custGeom>
              <a:avLst/>
              <a:gdLst/>
              <a:ahLst/>
              <a:rect l="l" t="t" r="r" b="b"/>
              <a:pathLst>
                <a:path w="2160" h="1440">
                  <a:moveTo>
                    <a:pt x="720" y="0"/>
                  </a:moveTo>
                  <a:lnTo>
                    <a:pt x="1440" y="0"/>
                  </a:lnTo>
                  <a:lnTo>
                    <a:pt x="1440" y="720"/>
                  </a:lnTo>
                  <a:lnTo>
                    <a:pt x="2160" y="720"/>
                  </a:lnTo>
                  <a:lnTo>
                    <a:pt x="2160" y="1440"/>
                  </a:lnTo>
                  <a:lnTo>
                    <a:pt x="0" y="1440"/>
                  </a:lnTo>
                  <a:lnTo>
                    <a:pt x="0" y="720"/>
                  </a:lnTo>
                  <a:lnTo>
                    <a:pt x="720" y="720"/>
                  </a:lnTo>
                  <a:lnTo>
                    <a:pt x="72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65040" y="585756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J2EE Application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623280" y="5302080"/>
            <a:ext cx="72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ory &amp;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curity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5284800"/>
            <a:ext cx="909360" cy="971640"/>
          </a:xfrm>
          <a:custGeom>
            <a:avLst/>
            <a:gdLst/>
            <a:ahLst/>
            <a:rect l="l" t="t" r="r" b="b"/>
            <a:pathLst>
              <a:path w="573" h="612">
                <a:moveTo>
                  <a:pt x="0" y="0"/>
                </a:moveTo>
                <a:lnTo>
                  <a:pt x="573" y="0"/>
                </a:lnTo>
                <a:lnTo>
                  <a:pt x="573" y="6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23160" y="6256440"/>
            <a:ext cx="46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2:58:52Z</dcterms:created>
  <dc:creator>Dorian Borin</dc:creator>
  <dc:description/>
  <dc:language>en-US</dc:language>
  <cp:lastModifiedBy>Dorian Borin</cp:lastModifiedBy>
  <cp:lastPrinted>2000-02-24T08:08:25Z</cp:lastPrinted>
  <dcterms:modified xsi:type="dcterms:W3CDTF">2000-02-25T19:38:54Z</dcterms:modified>
  <cp:revision>30</cp:revision>
  <dc:subject>The Service Ready Platform</dc:subject>
  <dc:title>Apricot 2000 - The Service Ready Platform</dc:title>
</cp:coreProperties>
</file>