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5013-5FE1-4E8E-82B7-D619426F2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896400" y="7408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898200" y="470340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D6B8-CCBE-4C2A-95EF-1C0ABC8F3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48560" cy="37116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98560" y="470052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this consultation phase into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an idea of what’s to 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we assume that the project will contin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48560" cy="37116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98560" y="470052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a summary of why we did the pilot project and what conclusions we have ma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ssuming it’s ok for us to draw some conclusions from our persp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worth another slide to list the table of contents of the report? Otherwise I’d recommend we have a hard copy or two available for circulation during the mee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48560" cy="37116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8560" y="470052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next. Close date for comments and release dates for project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 to seek sponsorship?  Problems with compaq make me nervous.  Sco have been great with providing o/s and other software so software sponsorship might be worth pursu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 key storage (ie, pcmcia worm cards and assoc. peripherals are expensive.)  APNIC’s data is more critical then the size of company implies so hard-core h/w could be warra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48560" cy="37116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98560" y="470052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mmary of what’s in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48560" cy="37116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98560" y="470052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details on how members may input into this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a website and possible mailing list to continue the discus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4D9-0250-46D9-A221-6DAEEE45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BED-510F-4CBC-9D19-2CEF1405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08B-4AB1-4AEF-9C3A-F4A21E43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937-A8E4-4764-805F-0C679BCE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9A75-D97F-48AE-9ADB-BE809D71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E576-A034-4421-870C-E378660A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0633-A0D5-46CD-B422-0F0F4A6F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A1C5-6DB5-46CD-A674-9FA00085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9F92-906F-4B6C-9DEB-B80E8FC5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2460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67BC-BD25-4D37-9008-E9B9AB4C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7519-3EC1-4C15-B77F-2D0A6B4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1FB-F444-415C-97AD-646A090C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91A2-A742-4702-9DB2-73647D23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492E-489C-420E-AA04-B89FD8BA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91AB-845B-4AEC-AEB3-F489D02E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4927-94F7-4BBE-AE4E-4C118A83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376-C752-4B85-8094-B209F2C3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F53-413F-4B04-9046-7974344B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2AB-49DA-49F1-A6CE-C4D4A593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BCE-C8D1-4A29-8485-D078BA6B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460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F7D-B7C2-4027-A89E-34DA1C7D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C3E-98CD-4697-827D-D36E8F58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86B-C8B7-4E01-B4BE-D4A1BF1D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F68-B672-44E1-9095-E7095C9C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E53A-9FC1-4E5E-919C-94118E31F50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40B0-4CA1-4049-BDE0-6925943AA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newlogo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89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6634-E589-4555-B716-7FB9A6334FF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2495-0C85-49EE-BB5C-BD4A46095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newlogo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90800" cy="1996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8120" y="294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Special Interest Group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567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8800" y="603648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1st, Korea, Seo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03400" y="4299480"/>
            <a:ext cx="508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APNIC Certificate Authority</a:t>
            </a:r>
            <a:br>
              <a:rPr sz="3200"/>
            </a:b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Status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6CBD-A9F5-41FC-846E-0611B9E3EA7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Digital Certificate - 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1905120"/>
            <a:ext cx="8763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ertificate ::= SEQUENC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bsCertificate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BSCertifica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ignatureAlgorithm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gorithmIdentifier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ignature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IT ST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BSCertificate ::= SEQUENC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sion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[0]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XPLICIT Version DEFAULT v1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erialNumber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ertificateSerialNumber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ignature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gorithmIdentifier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ssuer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am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lidity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lidity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ubject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am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ubjectPublicKeyInfo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ubjectPublicKeyInfo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ssuerUniqueID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[1]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MPLICIT UniqueIdentifier OPTIONAL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ubjectUniqueID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[2]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MPLICIT UniqueIdentifier OPTIONAL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xtensions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[3]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XPLICIT Extensions OPT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B58-A443-455D-B17B-34163329FB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gital Certificate - Life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523880"/>
            <a:ext cx="28954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ey Pair Gener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743200" y="1899720"/>
            <a:ext cx="2895480" cy="906840"/>
            <a:chOff x="2743200" y="1899720"/>
            <a:chExt cx="2895480" cy="906840"/>
          </a:xfrm>
        </p:grpSpPr>
        <p:sp>
          <p:nvSpPr>
            <p:cNvPr id="310" name=""/>
            <p:cNvSpPr/>
            <p:nvPr/>
          </p:nvSpPr>
          <p:spPr>
            <a:xfrm>
              <a:off x="2743200" y="2438280"/>
              <a:ext cx="2895480" cy="368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ertificate Issu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11" name=""/>
            <p:cNvCxnSpPr>
              <a:stCxn id="308" idx="2"/>
              <a:endCxn id="310" idx="0"/>
            </p:cNvCxnSpPr>
            <p:nvPr/>
          </p:nvCxnSpPr>
          <p:spPr>
            <a:xfrm>
              <a:off x="4190760" y="1899720"/>
              <a:ext cx="1080" cy="538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12" name=""/>
          <p:cNvGrpSpPr/>
          <p:nvPr/>
        </p:nvGrpSpPr>
        <p:grpSpPr>
          <a:xfrm>
            <a:off x="2743200" y="2814480"/>
            <a:ext cx="2895480" cy="1653480"/>
            <a:chOff x="2743200" y="2814480"/>
            <a:chExt cx="2895480" cy="1653480"/>
          </a:xfrm>
        </p:grpSpPr>
        <p:sp>
          <p:nvSpPr>
            <p:cNvPr id="313" name=""/>
            <p:cNvSpPr/>
            <p:nvPr/>
          </p:nvSpPr>
          <p:spPr>
            <a:xfrm>
              <a:off x="2743200" y="3276720"/>
              <a:ext cx="2895480" cy="119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ertificate valid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and in use</a:t>
              </a: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14" name=""/>
            <p:cNvCxnSpPr>
              <a:stCxn id="310" idx="2"/>
              <a:endCxn id="313" idx="0"/>
            </p:cNvCxnSpPr>
            <p:nvPr/>
          </p:nvCxnSpPr>
          <p:spPr>
            <a:xfrm>
              <a:off x="4190760" y="2814480"/>
              <a:ext cx="1080" cy="4629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15" name=""/>
          <p:cNvGrpSpPr/>
          <p:nvPr/>
        </p:nvGrpSpPr>
        <p:grpSpPr>
          <a:xfrm>
            <a:off x="5638320" y="3809880"/>
            <a:ext cx="3048480" cy="642600"/>
            <a:chOff x="5638320" y="3809880"/>
            <a:chExt cx="3048480" cy="642600"/>
          </a:xfrm>
        </p:grpSpPr>
        <p:sp>
          <p:nvSpPr>
            <p:cNvPr id="316" name=""/>
            <p:cNvSpPr/>
            <p:nvPr/>
          </p:nvSpPr>
          <p:spPr>
            <a:xfrm>
              <a:off x="6400800" y="3809880"/>
              <a:ext cx="2286000" cy="64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rivate Key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ompromis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17" name=""/>
            <p:cNvCxnSpPr>
              <a:stCxn id="313" idx="3"/>
              <a:endCxn id="316" idx="1"/>
            </p:cNvCxnSpPr>
            <p:nvPr/>
          </p:nvCxnSpPr>
          <p:spPr>
            <a:xfrm>
              <a:off x="5638320" y="3876840"/>
              <a:ext cx="762840" cy="2592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18" name=""/>
          <p:cNvGrpSpPr/>
          <p:nvPr/>
        </p:nvGrpSpPr>
        <p:grpSpPr>
          <a:xfrm>
            <a:off x="2743200" y="4476240"/>
            <a:ext cx="2895480" cy="844920"/>
            <a:chOff x="2743200" y="4476240"/>
            <a:chExt cx="2895480" cy="844920"/>
          </a:xfrm>
        </p:grpSpPr>
        <p:sp>
          <p:nvSpPr>
            <p:cNvPr id="319" name=""/>
            <p:cNvSpPr/>
            <p:nvPr/>
          </p:nvSpPr>
          <p:spPr>
            <a:xfrm>
              <a:off x="2743200" y="4952880"/>
              <a:ext cx="2895480" cy="368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ertificate Expi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0" name=""/>
            <p:cNvCxnSpPr>
              <a:stCxn id="313" idx="2"/>
              <a:endCxn id="319" idx="0"/>
            </p:cNvCxnSpPr>
            <p:nvPr/>
          </p:nvCxnSpPr>
          <p:spPr>
            <a:xfrm>
              <a:off x="4190760" y="4476240"/>
              <a:ext cx="1080" cy="4770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21" name=""/>
          <p:cNvGrpSpPr/>
          <p:nvPr/>
        </p:nvGrpSpPr>
        <p:grpSpPr>
          <a:xfrm>
            <a:off x="1295280" y="2626920"/>
            <a:ext cx="1448280" cy="2514960"/>
            <a:chOff x="1295280" y="2626920"/>
            <a:chExt cx="1448280" cy="2514960"/>
          </a:xfrm>
        </p:grpSpPr>
        <p:cxnSp>
          <p:nvCxnSpPr>
            <p:cNvPr id="322" name=""/>
            <p:cNvCxnSpPr>
              <a:stCxn id="319" idx="1"/>
              <a:endCxn id="323" idx="2"/>
            </p:cNvCxnSpPr>
            <p:nvPr/>
          </p:nvCxnSpPr>
          <p:spPr>
            <a:xfrm rot="10800000">
              <a:off x="1904400" y="3956760"/>
              <a:ext cx="838800" cy="1185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23" name=""/>
            <p:cNvSpPr/>
            <p:nvPr/>
          </p:nvSpPr>
          <p:spPr>
            <a:xfrm>
              <a:off x="1295280" y="3581280"/>
              <a:ext cx="1219320" cy="368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certif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4" name=""/>
            <p:cNvCxnSpPr>
              <a:stCxn id="323" idx="0"/>
              <a:endCxn id="310" idx="1"/>
            </p:cNvCxnSpPr>
            <p:nvPr/>
          </p:nvCxnSpPr>
          <p:spPr>
            <a:xfrm flipH="1" flipV="1" rot="5400000">
              <a:off x="1846800" y="2684880"/>
              <a:ext cx="954720" cy="8388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25" name=""/>
          <p:cNvGrpSpPr/>
          <p:nvPr/>
        </p:nvGrpSpPr>
        <p:grpSpPr>
          <a:xfrm>
            <a:off x="570960" y="4460400"/>
            <a:ext cx="8115840" cy="2062800"/>
            <a:chOff x="570960" y="4460400"/>
            <a:chExt cx="8115840" cy="2062800"/>
          </a:xfrm>
        </p:grpSpPr>
        <p:sp>
          <p:nvSpPr>
            <p:cNvPr id="326" name=""/>
            <p:cNvSpPr/>
            <p:nvPr/>
          </p:nvSpPr>
          <p:spPr>
            <a:xfrm>
              <a:off x="6400800" y="4952880"/>
              <a:ext cx="2286000" cy="64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ertificate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vok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7" name=""/>
            <p:cNvCxnSpPr>
              <a:stCxn id="316" idx="2"/>
              <a:endCxn id="326" idx="0"/>
            </p:cNvCxnSpPr>
            <p:nvPr/>
          </p:nvCxnSpPr>
          <p:spPr>
            <a:xfrm>
              <a:off x="7543440" y="4460400"/>
              <a:ext cx="1080" cy="4928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26" idx="2"/>
              <a:endCxn id="329" idx="4"/>
            </p:cNvCxnSpPr>
            <p:nvPr/>
          </p:nvCxnSpPr>
          <p:spPr>
            <a:xfrm rot="5400000">
              <a:off x="3849840" y="2324520"/>
              <a:ext cx="415080" cy="6972840"/>
            </a:xfrm>
            <a:prstGeom prst="bentConnector3">
              <a:avLst>
                <a:gd name="adj1" fmla="val 221788"/>
              </a:avLst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30" name=""/>
          <p:cNvGrpSpPr/>
          <p:nvPr/>
        </p:nvGrpSpPr>
        <p:grpSpPr>
          <a:xfrm>
            <a:off x="2743200" y="5329080"/>
            <a:ext cx="2895480" cy="830520"/>
            <a:chOff x="2743200" y="5329080"/>
            <a:chExt cx="2895480" cy="830520"/>
          </a:xfrm>
        </p:grpSpPr>
        <p:sp>
          <p:nvSpPr>
            <p:cNvPr id="331" name=""/>
            <p:cNvSpPr/>
            <p:nvPr/>
          </p:nvSpPr>
          <p:spPr>
            <a:xfrm>
              <a:off x="2743200" y="5791320"/>
              <a:ext cx="2895480" cy="368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Keypair Expi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32" name=""/>
            <p:cNvCxnSpPr>
              <a:stCxn id="319" idx="2"/>
              <a:endCxn id="331" idx="0"/>
            </p:cNvCxnSpPr>
            <p:nvPr/>
          </p:nvCxnSpPr>
          <p:spPr>
            <a:xfrm>
              <a:off x="4190760" y="5329080"/>
              <a:ext cx="1080" cy="4629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33" name=""/>
          <p:cNvGrpSpPr/>
          <p:nvPr/>
        </p:nvGrpSpPr>
        <p:grpSpPr>
          <a:xfrm>
            <a:off x="533160" y="1712520"/>
            <a:ext cx="2210040" cy="4307400"/>
            <a:chOff x="533160" y="1712520"/>
            <a:chExt cx="2210040" cy="4307400"/>
          </a:xfrm>
        </p:grpSpPr>
        <p:cxnSp>
          <p:nvCxnSpPr>
            <p:cNvPr id="334" name=""/>
            <p:cNvCxnSpPr>
              <a:stCxn id="331" idx="1"/>
              <a:endCxn id="329" idx="2"/>
            </p:cNvCxnSpPr>
            <p:nvPr/>
          </p:nvCxnSpPr>
          <p:spPr>
            <a:xfrm rot="10800000">
              <a:off x="608760" y="5979240"/>
              <a:ext cx="2134440" cy="10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 flipH="1">
              <a:off x="532800" y="59436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35" name=""/>
            <p:cNvCxnSpPr>
              <a:stCxn id="329" idx="0"/>
              <a:endCxn id="308" idx="1"/>
            </p:cNvCxnSpPr>
            <p:nvPr/>
          </p:nvCxnSpPr>
          <p:spPr>
            <a:xfrm flipH="1" flipV="1" rot="5400000">
              <a:off x="-458280" y="2742120"/>
              <a:ext cx="4231440" cy="21718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9BE-9332-4AD2-B427-B21486B02EC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NIC CA - Wh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esponse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 concern for greate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tial info exchange with AP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my database transaction secu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se prefixes do you accep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community interest in security, and PKI / digital certif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rps-a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TF working group: PK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A64-D060-498F-A2AA-5A01EA1099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NIC CA - Over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ificate issued to APNIC 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sponds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P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uniform mechanism for all security nee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ryption and signature of email with AP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of access to APNIC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e maintainer mechanism for APNIC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authorisation mechanism for Internet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A7E-1CDB-4897-B8A5-FFF0107F909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NIC CA - Benefits/Cos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form industry-standard mechanism for “single password” security, authentication and author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public key cryptography, end-to-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 and client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o current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ment: software purchase and/or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39D-B4F6-474E-92B1-AA138C6667B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988920" y="2021040"/>
          <a:ext cx="7407360" cy="402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021040"/>
                    <a:ext cx="7407360" cy="40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NIC CA - Time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05B-D988-4E92-98C4-85375CD1959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NIC CA - Scoping Projec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 1999 to January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e impact of introducing P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focus for discu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e awareness of PKI i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benefits for members’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ing standards support for P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ttp://www.apnic.net/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DE6-2874-43FA-A466-881DA5FC847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NIC CA - Pilot Projec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to May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ope - specific areas where PKI will be int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lan - timeline for developing software and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4D9-89A8-4EC7-97D5-DD61B754471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APNIC CA - Fu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eneralised CA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PNIC Certificates may be used for general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quires tight policy and quality framework for APNIC certificates to be tru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erarchical cer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PNIC Members may use their certificates to certify their own members or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y be applicable for ISPs and N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EDD-37D9-4A23-A109-93571799B46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APNIC CA - Fu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ublic Key Certif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X.509 certificate linking a Public Key to an identity, issued by 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ttribute Certif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X.509 certificate linking Attributes to an identity, issued by CA or other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vides 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uthorisation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rather than 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uthentication,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ot yet widely deployed or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D47-9C5B-4048-82B8-1AC640903E0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APNIC CA Projec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ryptography and PKI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PNIC CA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enefits and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ject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uture develop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878-DF56-4ADD-A691-B0FF5DD86A6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NIC CA - Consul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ing list open after Apricot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ki-wg@lists.apnic.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ttp://www.apnic.net/wilma-bin/wilma/pki-w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ttp://www.apnic.net/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7AE-263E-477A-9586-6344D0B3C33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NIC CA - Docu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ETF PKIX draf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aft-ietf-pkix-roadmap-04.t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nternet X.509 Public Key Infrastructure PKIX Roadmap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aft-clynn-bgp-x509-auth-01.t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.509 Extensions for Authorization of IP Addresses AS Numbers, and Routers within an A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ft-ietf-pkix-ac509prof-01.t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 Internet Attribute Certificate Profile for Authoriz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ttp://www.ietf.org/html.charters/pkix-charter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5AE-9841-4904-80FD-D5ED45784C1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61960" y="316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70D9-5C84-47A5-871B-FE04A128C36E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Cryptography - Ter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ublic key crypt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yptography technique using different keys for encoding and decoding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ey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ivate key and public key, generated together, used in public key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ncryption/Decry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 encode/decode a message using a public or privat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E44-848A-4F7A-A55F-31EB51E268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6400800" y="3846960"/>
            <a:ext cx="2467440" cy="2738880"/>
            <a:chOff x="6400800" y="3846960"/>
            <a:chExt cx="2467440" cy="2738880"/>
          </a:xfrm>
        </p:grpSpPr>
        <p:sp>
          <p:nvSpPr>
            <p:cNvPr id="117" name=""/>
            <p:cNvSpPr/>
            <p:nvPr/>
          </p:nvSpPr>
          <p:spPr>
            <a:xfrm>
              <a:off x="6692760" y="624852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Decry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01000" y="5257800"/>
              <a:ext cx="685800" cy="1143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9" name=""/>
            <p:cNvCxnSpPr>
              <a:stCxn id="120" idx="3"/>
              <a:endCxn id="121" idx="1"/>
            </p:cNvCxnSpPr>
            <p:nvPr/>
          </p:nvCxnSpPr>
          <p:spPr>
            <a:xfrm>
              <a:off x="6400800" y="5829120"/>
              <a:ext cx="41976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1" name=""/>
            <p:cNvSpPr/>
            <p:nvPr/>
          </p:nvSpPr>
          <p:spPr>
            <a:xfrm>
              <a:off x="6819840" y="5524560"/>
              <a:ext cx="762120" cy="609480"/>
            </a:xfrm>
            <a:prstGeom prst="flowChartPreparati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21" idx="3"/>
              <a:endCxn id="118" idx="1"/>
            </p:cNvCxnSpPr>
            <p:nvPr/>
          </p:nvCxnSpPr>
          <p:spPr>
            <a:xfrm>
              <a:off x="7581960" y="5829120"/>
              <a:ext cx="41976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endCxn id="121" idx="0"/>
            </p:cNvCxnSpPr>
            <p:nvPr/>
          </p:nvCxnSpPr>
          <p:spPr>
            <a:xfrm flipV="1" rot="10800000">
              <a:off x="7200360" y="3846960"/>
              <a:ext cx="572040" cy="167724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4" name=""/>
            <p:cNvSpPr/>
            <p:nvPr/>
          </p:nvSpPr>
          <p:spPr>
            <a:xfrm>
              <a:off x="7840080" y="4876920"/>
              <a:ext cx="102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Mess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505320" y="4572000"/>
            <a:ext cx="3129840" cy="1828800"/>
            <a:chOff x="3505320" y="4572000"/>
            <a:chExt cx="3129840" cy="1828800"/>
          </a:xfrm>
        </p:grpSpPr>
        <p:sp>
          <p:nvSpPr>
            <p:cNvPr id="120" name=""/>
            <p:cNvSpPr/>
            <p:nvPr/>
          </p:nvSpPr>
          <p:spPr>
            <a:xfrm>
              <a:off x="5715000" y="5257800"/>
              <a:ext cx="685800" cy="1143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>
              <a:stCxn id="127" idx="3"/>
              <a:endCxn id="120" idx="1"/>
            </p:cNvCxnSpPr>
            <p:nvPr/>
          </p:nvCxnSpPr>
          <p:spPr>
            <a:xfrm>
              <a:off x="3505320" y="5829120"/>
              <a:ext cx="221040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>
              <a:off x="3960360" y="5334120"/>
              <a:ext cx="102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Transm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94320" y="4572000"/>
              <a:ext cx="114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Encryp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Mess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Public Key Cryptography</a:t>
            </a:r>
            <a:br>
              <a:rPr sz="4400"/>
            </a:b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- Encrypt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1905120"/>
            <a:ext cx="7591320" cy="1247760"/>
            <a:chOff x="762120" y="1905120"/>
            <a:chExt cx="7591320" cy="124776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133344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7010280" y="1981080"/>
              <a:ext cx="1343160" cy="11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1066680" y="3733560"/>
            <a:ext cx="2825280" cy="2785320"/>
            <a:chOff x="1066680" y="3733560"/>
            <a:chExt cx="2825280" cy="2785320"/>
          </a:xfrm>
        </p:grpSpPr>
        <p:cxnSp>
          <p:nvCxnSpPr>
            <p:cNvPr id="135" name=""/>
            <p:cNvCxnSpPr>
              <a:stCxn id="136" idx="3"/>
              <a:endCxn id="137" idx="1"/>
            </p:cNvCxnSpPr>
            <p:nvPr/>
          </p:nvCxnSpPr>
          <p:spPr>
            <a:xfrm>
              <a:off x="1066680" y="5829120"/>
              <a:ext cx="45792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1523880" y="5543640"/>
              <a:ext cx="762120" cy="571320"/>
            </a:xfrm>
            <a:prstGeom prst="flowChartPreparati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endCxn id="137" idx="0"/>
            </p:cNvCxnSpPr>
            <p:nvPr/>
          </p:nvCxnSpPr>
          <p:spPr>
            <a:xfrm flipV="1" rot="10800000">
              <a:off x="1904400" y="3733560"/>
              <a:ext cx="1080" cy="181044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1440720" y="618156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Encry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5257800"/>
              <a:ext cx="685800" cy="1143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51120" y="4495680"/>
              <a:ext cx="114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Encryp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Mess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7" idx="3"/>
              <a:endCxn id="127" idx="1"/>
            </p:cNvCxnSpPr>
            <p:nvPr/>
          </p:nvCxnSpPr>
          <p:spPr>
            <a:xfrm>
              <a:off x="2286000" y="5829120"/>
              <a:ext cx="53424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42" name=""/>
          <p:cNvSpPr/>
          <p:nvPr/>
        </p:nvSpPr>
        <p:spPr>
          <a:xfrm flipH="1">
            <a:off x="4640400" y="2540160"/>
            <a:ext cx="366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72600" y="3489480"/>
            <a:ext cx="8141040" cy="2911320"/>
            <a:chOff x="372600" y="3489480"/>
            <a:chExt cx="8141040" cy="2911320"/>
          </a:xfrm>
        </p:grpSpPr>
        <p:grpSp>
          <p:nvGrpSpPr>
            <p:cNvPr id="144" name=""/>
            <p:cNvGrpSpPr/>
            <p:nvPr/>
          </p:nvGrpSpPr>
          <p:grpSpPr>
            <a:xfrm>
              <a:off x="372600" y="4800600"/>
              <a:ext cx="1028160" cy="1600200"/>
              <a:chOff x="372600" y="4800600"/>
              <a:chExt cx="1028160" cy="1600200"/>
            </a:xfrm>
          </p:grpSpPr>
          <p:sp>
            <p:nvSpPr>
              <p:cNvPr id="136" name=""/>
              <p:cNvSpPr/>
              <p:nvPr/>
            </p:nvSpPr>
            <p:spPr>
              <a:xfrm>
                <a:off x="380880" y="5257800"/>
                <a:ext cx="685800" cy="1143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2600" y="4800600"/>
                <a:ext cx="102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 Black"/>
                  </a:rPr>
                  <a:t>Messag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615080" y="3489480"/>
              <a:ext cx="898560" cy="886320"/>
              <a:chOff x="7615080" y="3489480"/>
              <a:chExt cx="898560" cy="886320"/>
            </a:xfrm>
          </p:grpSpPr>
          <p:sp>
            <p:nvSpPr>
              <p:cNvPr id="147" name=""/>
              <p:cNvSpPr/>
              <p:nvPr/>
            </p:nvSpPr>
            <p:spPr>
              <a:xfrm>
                <a:off x="7615080" y="4038480"/>
                <a:ext cx="89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 Black"/>
                  </a:rPr>
                  <a:t>Keypai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7827480" y="3489480"/>
                <a:ext cx="622800" cy="442800"/>
                <a:chOff x="7827480" y="3489480"/>
                <a:chExt cx="622800" cy="44280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7827480" y="3729240"/>
                  <a:ext cx="622800" cy="203040"/>
                  <a:chOff x="7827480" y="3729240"/>
                  <a:chExt cx="622800" cy="2030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H="1">
                    <a:off x="8140680" y="3729240"/>
                    <a:ext cx="309600" cy="203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>
                    <a:off x="7827120" y="3826080"/>
                    <a:ext cx="104760" cy="104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>
                    <a:off x="7827840" y="3794400"/>
                    <a:ext cx="387360" cy="745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8340840" y="3792600"/>
                    <a:ext cx="745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827480" y="3489480"/>
                  <a:ext cx="622800" cy="203040"/>
                  <a:chOff x="7827480" y="3489480"/>
                  <a:chExt cx="622800" cy="20304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flipH="1">
                    <a:off x="8140680" y="3489480"/>
                    <a:ext cx="309600" cy="203040"/>
                  </a:xfrm>
                  <a:prstGeom prst="ellipse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>
                    <a:off x="7827120" y="3585960"/>
                    <a:ext cx="104760" cy="104400"/>
                  </a:xfrm>
                  <a:prstGeom prst="rect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>
                    <a:off x="7827840" y="3554280"/>
                    <a:ext cx="387360" cy="74520"/>
                  </a:xfrm>
                  <a:prstGeom prst="rect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8340840" y="3552840"/>
                    <a:ext cx="74520" cy="74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59" name=""/>
          <p:cNvGrpSpPr/>
          <p:nvPr/>
        </p:nvGrpSpPr>
        <p:grpSpPr>
          <a:xfrm>
            <a:off x="1591920" y="3200400"/>
            <a:ext cx="6180480" cy="517680"/>
            <a:chOff x="1591920" y="3200400"/>
            <a:chExt cx="6180480" cy="517680"/>
          </a:xfrm>
        </p:grpSpPr>
        <p:cxnSp>
          <p:nvCxnSpPr>
            <p:cNvPr id="160" name=""/>
            <p:cNvCxnSpPr>
              <a:endCxn id="161" idx="2"/>
            </p:cNvCxnSpPr>
            <p:nvPr/>
          </p:nvCxnSpPr>
          <p:spPr>
            <a:xfrm rot="10800000">
              <a:off x="2215440" y="3614040"/>
              <a:ext cx="5556960" cy="5400"/>
            </a:xfrm>
            <a:prstGeom prst="bentConnector3">
              <a:avLst>
                <a:gd name="adj1" fmla="val 49996"/>
              </a:avLst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2708640" y="32004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Retrieve Public Ke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591920" y="3514680"/>
              <a:ext cx="622800" cy="203400"/>
              <a:chOff x="1591920" y="3514680"/>
              <a:chExt cx="622800" cy="20340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1905120" y="3514680"/>
                <a:ext cx="309600" cy="20340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1591560" y="3611520"/>
                <a:ext cx="104760" cy="10476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592280" y="3579840"/>
                <a:ext cx="387360" cy="7488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105280" y="357840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B0C-B28C-45A5-9C30-3B2C326ED3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400800" y="3733920"/>
            <a:ext cx="2467440" cy="2851920"/>
            <a:chOff x="6400800" y="3733920"/>
            <a:chExt cx="2467440" cy="2851920"/>
          </a:xfrm>
        </p:grpSpPr>
        <p:sp>
          <p:nvSpPr>
            <p:cNvPr id="168" name=""/>
            <p:cNvSpPr/>
            <p:nvPr/>
          </p:nvSpPr>
          <p:spPr>
            <a:xfrm>
              <a:off x="6692760" y="624852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Decry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5257800"/>
              <a:ext cx="685800" cy="1143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71" idx="3"/>
              <a:endCxn id="172" idx="1"/>
            </p:cNvCxnSpPr>
            <p:nvPr/>
          </p:nvCxnSpPr>
          <p:spPr>
            <a:xfrm>
              <a:off x="6400800" y="5829120"/>
              <a:ext cx="38160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6781680" y="5562720"/>
              <a:ext cx="762120" cy="533160"/>
            </a:xfrm>
            <a:prstGeom prst="flowChartPreparati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3" name=""/>
            <p:cNvCxnSpPr>
              <a:stCxn id="172" idx="3"/>
              <a:endCxn id="169" idx="1"/>
            </p:cNvCxnSpPr>
            <p:nvPr/>
          </p:nvCxnSpPr>
          <p:spPr>
            <a:xfrm>
              <a:off x="7543800" y="5829120"/>
              <a:ext cx="45792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endCxn id="172" idx="0"/>
            </p:cNvCxnSpPr>
            <p:nvPr/>
          </p:nvCxnSpPr>
          <p:spPr>
            <a:xfrm flipV="1" rot="10800000">
              <a:off x="7162200" y="3733560"/>
              <a:ext cx="1080" cy="182952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7840080" y="4876920"/>
              <a:ext cx="102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Mess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505320" y="4572000"/>
            <a:ext cx="3000600" cy="1828800"/>
            <a:chOff x="3505320" y="4572000"/>
            <a:chExt cx="3000600" cy="1828800"/>
          </a:xfrm>
        </p:grpSpPr>
        <p:sp>
          <p:nvSpPr>
            <p:cNvPr id="171" name=""/>
            <p:cNvSpPr/>
            <p:nvPr/>
          </p:nvSpPr>
          <p:spPr>
            <a:xfrm>
              <a:off x="5715000" y="5257800"/>
              <a:ext cx="685800" cy="1143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7" name=""/>
            <p:cNvCxnSpPr>
              <a:stCxn id="178" idx="3"/>
              <a:endCxn id="171" idx="1"/>
            </p:cNvCxnSpPr>
            <p:nvPr/>
          </p:nvCxnSpPr>
          <p:spPr>
            <a:xfrm>
              <a:off x="3505320" y="5829120"/>
              <a:ext cx="221040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79" name=""/>
            <p:cNvSpPr/>
            <p:nvPr/>
          </p:nvSpPr>
          <p:spPr>
            <a:xfrm>
              <a:off x="3960360" y="5334120"/>
              <a:ext cx="102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Transm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77760" y="4572000"/>
              <a:ext cx="102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Signed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Mess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Public Key Cryptography </a:t>
            </a:r>
            <a:br>
              <a:rPr sz="4400"/>
            </a:b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- Encrypt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62120" y="1905120"/>
            <a:ext cx="7591320" cy="1247760"/>
            <a:chOff x="762120" y="1905120"/>
            <a:chExt cx="7591320" cy="124776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133344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7010280" y="1981080"/>
              <a:ext cx="1343160" cy="11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1066680" y="3848040"/>
            <a:ext cx="2696040" cy="2670840"/>
            <a:chOff x="1066680" y="3848040"/>
            <a:chExt cx="2696040" cy="2670840"/>
          </a:xfrm>
        </p:grpSpPr>
        <p:cxnSp>
          <p:nvCxnSpPr>
            <p:cNvPr id="186" name=""/>
            <p:cNvCxnSpPr>
              <a:stCxn id="187" idx="3"/>
              <a:endCxn id="188" idx="1"/>
            </p:cNvCxnSpPr>
            <p:nvPr/>
          </p:nvCxnSpPr>
          <p:spPr>
            <a:xfrm>
              <a:off x="1066680" y="5829120"/>
              <a:ext cx="45792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523880" y="5543640"/>
              <a:ext cx="762120" cy="571320"/>
            </a:xfrm>
            <a:prstGeom prst="flowChartPreparati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endCxn id="188" idx="0"/>
            </p:cNvCxnSpPr>
            <p:nvPr/>
          </p:nvCxnSpPr>
          <p:spPr>
            <a:xfrm>
              <a:off x="1218960" y="3848040"/>
              <a:ext cx="686520" cy="169632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0" name=""/>
            <p:cNvSpPr/>
            <p:nvPr/>
          </p:nvSpPr>
          <p:spPr>
            <a:xfrm>
              <a:off x="1440720" y="618156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Encry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19520" y="5257800"/>
              <a:ext cx="685800" cy="1143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34560" y="4495680"/>
              <a:ext cx="102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Signed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Mess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2" name=""/>
            <p:cNvCxnSpPr>
              <a:stCxn id="188" idx="3"/>
              <a:endCxn id="178" idx="1"/>
            </p:cNvCxnSpPr>
            <p:nvPr/>
          </p:nvCxnSpPr>
          <p:spPr>
            <a:xfrm>
              <a:off x="2286000" y="5829120"/>
              <a:ext cx="53424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93" name=""/>
          <p:cNvGrpSpPr/>
          <p:nvPr/>
        </p:nvGrpSpPr>
        <p:grpSpPr>
          <a:xfrm>
            <a:off x="312480" y="3502080"/>
            <a:ext cx="1088280" cy="2898720"/>
            <a:chOff x="312480" y="3502080"/>
            <a:chExt cx="1088280" cy="2898720"/>
          </a:xfrm>
        </p:grpSpPr>
        <p:grpSp>
          <p:nvGrpSpPr>
            <p:cNvPr id="194" name=""/>
            <p:cNvGrpSpPr/>
            <p:nvPr/>
          </p:nvGrpSpPr>
          <p:grpSpPr>
            <a:xfrm>
              <a:off x="372600" y="4800600"/>
              <a:ext cx="1028160" cy="1600200"/>
              <a:chOff x="372600" y="4800600"/>
              <a:chExt cx="1028160" cy="1600200"/>
            </a:xfrm>
          </p:grpSpPr>
          <p:sp>
            <p:nvSpPr>
              <p:cNvPr id="187" name=""/>
              <p:cNvSpPr/>
              <p:nvPr/>
            </p:nvSpPr>
            <p:spPr>
              <a:xfrm>
                <a:off x="380880" y="5257800"/>
                <a:ext cx="685800" cy="1143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2600" y="4800600"/>
                <a:ext cx="102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 Black"/>
                  </a:rPr>
                  <a:t>Messag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12480" y="3502080"/>
              <a:ext cx="898560" cy="886320"/>
              <a:chOff x="312480" y="3502080"/>
              <a:chExt cx="898560" cy="886320"/>
            </a:xfrm>
          </p:grpSpPr>
          <p:sp>
            <p:nvSpPr>
              <p:cNvPr id="197" name=""/>
              <p:cNvSpPr/>
              <p:nvPr/>
            </p:nvSpPr>
            <p:spPr>
              <a:xfrm>
                <a:off x="312480" y="4051080"/>
                <a:ext cx="89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 Black"/>
                  </a:rPr>
                  <a:t>Keypai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4880" y="3502080"/>
                <a:ext cx="622800" cy="442800"/>
                <a:chOff x="524880" y="3502080"/>
                <a:chExt cx="622800" cy="44280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524880" y="3741840"/>
                  <a:ext cx="622800" cy="203040"/>
                  <a:chOff x="524880" y="3741840"/>
                  <a:chExt cx="622800" cy="2030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flipH="1">
                    <a:off x="838080" y="3741840"/>
                    <a:ext cx="309600" cy="203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524520" y="3838680"/>
                    <a:ext cx="104760" cy="104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>
                    <a:off x="525240" y="3807000"/>
                    <a:ext cx="387360" cy="745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1038240" y="3805200"/>
                    <a:ext cx="745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524880" y="3502080"/>
                  <a:ext cx="622800" cy="203040"/>
                  <a:chOff x="524880" y="3502080"/>
                  <a:chExt cx="622800" cy="2030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>
                    <a:off x="838080" y="3502080"/>
                    <a:ext cx="309600" cy="203040"/>
                  </a:xfrm>
                  <a:prstGeom prst="ellipse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524520" y="3598560"/>
                    <a:ext cx="104760" cy="104400"/>
                  </a:xfrm>
                  <a:prstGeom prst="rect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525240" y="3566880"/>
                    <a:ext cx="387360" cy="74520"/>
                  </a:xfrm>
                  <a:prstGeom prst="rect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1038240" y="3565440"/>
                    <a:ext cx="74520" cy="74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9" name=""/>
          <p:cNvGrpSpPr/>
          <p:nvPr/>
        </p:nvGrpSpPr>
        <p:grpSpPr>
          <a:xfrm>
            <a:off x="1218960" y="3200400"/>
            <a:ext cx="6304320" cy="504720"/>
            <a:chOff x="1218960" y="3200400"/>
            <a:chExt cx="6304320" cy="504720"/>
          </a:xfrm>
        </p:grpSpPr>
        <p:cxnSp>
          <p:nvCxnSpPr>
            <p:cNvPr id="210" name=""/>
            <p:cNvCxnSpPr/>
            <p:nvPr/>
          </p:nvCxnSpPr>
          <p:spPr>
            <a:xfrm>
              <a:off x="1218960" y="3619080"/>
              <a:ext cx="563940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4385160" y="32004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Retrieve Public Ke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6900480" y="3502080"/>
              <a:ext cx="622800" cy="203040"/>
              <a:chOff x="6900480" y="3502080"/>
              <a:chExt cx="622800" cy="203040"/>
            </a:xfrm>
          </p:grpSpPr>
          <p:sp>
            <p:nvSpPr>
              <p:cNvPr id="213" name=""/>
              <p:cNvSpPr/>
              <p:nvPr/>
            </p:nvSpPr>
            <p:spPr>
              <a:xfrm flipH="1">
                <a:off x="7213680" y="3502080"/>
                <a:ext cx="309600" cy="20304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900120" y="3598560"/>
                <a:ext cx="104760" cy="10440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900840" y="3566880"/>
                <a:ext cx="387360" cy="745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413840" y="3565440"/>
                <a:ext cx="74520" cy="74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A4E-2F91-4DD2-95C9-D07C6D72CF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Public Key Cryptography </a:t>
            </a:r>
            <a:br>
              <a:rPr sz="4400"/>
            </a:b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- Digital Signatu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590920" y="2666880"/>
            <a:ext cx="5744160" cy="3162240"/>
            <a:chOff x="2590920" y="2666880"/>
            <a:chExt cx="5744160" cy="3162240"/>
          </a:xfrm>
        </p:grpSpPr>
        <p:sp>
          <p:nvSpPr>
            <p:cNvPr id="219" name=""/>
            <p:cNvSpPr/>
            <p:nvPr/>
          </p:nvSpPr>
          <p:spPr>
            <a:xfrm>
              <a:off x="7315560" y="4495680"/>
              <a:ext cx="99036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21" idx="3"/>
              <a:endCxn id="219" idx="1"/>
            </p:cNvCxnSpPr>
            <p:nvPr/>
          </p:nvCxnSpPr>
          <p:spPr>
            <a:xfrm flipV="1">
              <a:off x="5410440" y="4609800"/>
              <a:ext cx="1905840" cy="1219680"/>
            </a:xfrm>
            <a:prstGeom prst="bentConnector3">
              <a:avLst>
                <a:gd name="adj1" fmla="val 49990"/>
              </a:avLst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23" idx="3"/>
              <a:endCxn id="224" idx="1"/>
            </p:cNvCxnSpPr>
            <p:nvPr/>
          </p:nvCxnSpPr>
          <p:spPr>
            <a:xfrm>
              <a:off x="2590920" y="3924000"/>
              <a:ext cx="472500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25" name=""/>
            <p:cNvSpPr/>
            <p:nvPr/>
          </p:nvSpPr>
          <p:spPr>
            <a:xfrm>
              <a:off x="5798880" y="3504960"/>
              <a:ext cx="109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Assem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5560" y="3352680"/>
              <a:ext cx="990360" cy="1143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06920" y="2666880"/>
              <a:ext cx="102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Sig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Mess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258920" y="4495320"/>
            <a:ext cx="1332000" cy="1861920"/>
            <a:chOff x="1258920" y="4495320"/>
            <a:chExt cx="1332000" cy="1861920"/>
          </a:xfrm>
        </p:grpSpPr>
        <p:sp>
          <p:nvSpPr>
            <p:cNvPr id="228" name=""/>
            <p:cNvSpPr/>
            <p:nvPr/>
          </p:nvSpPr>
          <p:spPr>
            <a:xfrm>
              <a:off x="1600200" y="5715000"/>
              <a:ext cx="990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9" name=""/>
            <p:cNvCxnSpPr>
              <a:stCxn id="223" idx="2"/>
              <a:endCxn id="228" idx="0"/>
            </p:cNvCxnSpPr>
            <p:nvPr/>
          </p:nvCxnSpPr>
          <p:spPr>
            <a:xfrm flipV="1" rot="10800000">
              <a:off x="2094840" y="4495320"/>
              <a:ext cx="1080" cy="122004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30" name=""/>
            <p:cNvSpPr/>
            <p:nvPr/>
          </p:nvSpPr>
          <p:spPr>
            <a:xfrm>
              <a:off x="1652760" y="60199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Dige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58920" y="4952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Has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590560" y="2095200"/>
            <a:ext cx="2931840" cy="4338000"/>
            <a:chOff x="2590560" y="2095200"/>
            <a:chExt cx="2931840" cy="4338000"/>
          </a:xfrm>
        </p:grpSpPr>
        <p:cxnSp>
          <p:nvCxnSpPr>
            <p:cNvPr id="233" name=""/>
            <p:cNvCxnSpPr>
              <a:endCxn id="234" idx="0"/>
            </p:cNvCxnSpPr>
            <p:nvPr/>
          </p:nvCxnSpPr>
          <p:spPr>
            <a:xfrm>
              <a:off x="2971800" y="2095200"/>
              <a:ext cx="534240" cy="34678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35" name=""/>
            <p:cNvSpPr/>
            <p:nvPr/>
          </p:nvSpPr>
          <p:spPr>
            <a:xfrm>
              <a:off x="4418280" y="6019920"/>
              <a:ext cx="110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9720" y="5715000"/>
              <a:ext cx="99036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28" idx="3"/>
              <a:endCxn id="234" idx="1"/>
            </p:cNvCxnSpPr>
            <p:nvPr/>
          </p:nvCxnSpPr>
          <p:spPr>
            <a:xfrm>
              <a:off x="2590560" y="5829120"/>
              <a:ext cx="53388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34" name=""/>
            <p:cNvSpPr/>
            <p:nvPr/>
          </p:nvSpPr>
          <p:spPr>
            <a:xfrm>
              <a:off x="3124080" y="5562720"/>
              <a:ext cx="762120" cy="533160"/>
            </a:xfrm>
            <a:prstGeom prst="flowChartPreparati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40920" y="609588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Encry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8" name=""/>
            <p:cNvCxnSpPr>
              <a:stCxn id="234" idx="3"/>
              <a:endCxn id="221" idx="1"/>
            </p:cNvCxnSpPr>
            <p:nvPr/>
          </p:nvCxnSpPr>
          <p:spPr>
            <a:xfrm>
              <a:off x="3886200" y="5829120"/>
              <a:ext cx="53424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239" name=""/>
          <p:cNvGrpSpPr/>
          <p:nvPr/>
        </p:nvGrpSpPr>
        <p:grpSpPr>
          <a:xfrm>
            <a:off x="609480" y="1523880"/>
            <a:ext cx="2367000" cy="2971800"/>
            <a:chOff x="609480" y="1523880"/>
            <a:chExt cx="2367000" cy="2971800"/>
          </a:xfrm>
        </p:grpSpPr>
        <p:grpSp>
          <p:nvGrpSpPr>
            <p:cNvPr id="240" name=""/>
            <p:cNvGrpSpPr/>
            <p:nvPr/>
          </p:nvGrpSpPr>
          <p:grpSpPr>
            <a:xfrm>
              <a:off x="1591560" y="2895480"/>
              <a:ext cx="1028160" cy="1600200"/>
              <a:chOff x="1591560" y="2895480"/>
              <a:chExt cx="1028160" cy="1600200"/>
            </a:xfrm>
          </p:grpSpPr>
          <p:sp>
            <p:nvSpPr>
              <p:cNvPr id="223" name=""/>
              <p:cNvSpPr/>
              <p:nvPr/>
            </p:nvSpPr>
            <p:spPr>
              <a:xfrm>
                <a:off x="1600200" y="3352680"/>
                <a:ext cx="990360" cy="1143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1560" y="2895480"/>
                <a:ext cx="102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 Black"/>
                  </a:rPr>
                  <a:t>Messag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1333800" cy="118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3" name=""/>
            <p:cNvGrpSpPr/>
            <p:nvPr/>
          </p:nvGrpSpPr>
          <p:grpSpPr>
            <a:xfrm>
              <a:off x="2077920" y="1762200"/>
              <a:ext cx="898560" cy="886320"/>
              <a:chOff x="2077920" y="1762200"/>
              <a:chExt cx="898560" cy="886320"/>
            </a:xfrm>
          </p:grpSpPr>
          <p:sp>
            <p:nvSpPr>
              <p:cNvPr id="244" name=""/>
              <p:cNvSpPr/>
              <p:nvPr/>
            </p:nvSpPr>
            <p:spPr>
              <a:xfrm>
                <a:off x="2077920" y="2311200"/>
                <a:ext cx="89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 Black"/>
                  </a:rPr>
                  <a:t>Keypai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290320" y="1762200"/>
                <a:ext cx="622800" cy="442800"/>
                <a:chOff x="2290320" y="1762200"/>
                <a:chExt cx="622800" cy="44280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2290320" y="2001960"/>
                  <a:ext cx="622800" cy="203040"/>
                  <a:chOff x="2290320" y="2001960"/>
                  <a:chExt cx="622800" cy="20304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H="1">
                    <a:off x="2603520" y="2001960"/>
                    <a:ext cx="309600" cy="203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2289960" y="2098800"/>
                    <a:ext cx="104760" cy="104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>
                    <a:off x="2290680" y="2067120"/>
                    <a:ext cx="387360" cy="745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803680" y="2065320"/>
                    <a:ext cx="745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2290320" y="1762200"/>
                  <a:ext cx="622800" cy="203040"/>
                  <a:chOff x="2290320" y="1762200"/>
                  <a:chExt cx="622800" cy="20304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>
                    <a:off x="2603520" y="1762200"/>
                    <a:ext cx="309600" cy="203040"/>
                  </a:xfrm>
                  <a:prstGeom prst="ellipse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>
                    <a:off x="2289960" y="1858680"/>
                    <a:ext cx="104760" cy="104400"/>
                  </a:xfrm>
                  <a:prstGeom prst="rect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>
                    <a:off x="2290680" y="1827000"/>
                    <a:ext cx="387360" cy="74520"/>
                  </a:xfrm>
                  <a:prstGeom prst="rect">
                    <a:avLst/>
                  </a:prstGeom>
                  <a:solidFill>
                    <a:srgbClr val="00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803680" y="1825560"/>
                    <a:ext cx="74520" cy="74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56" name=""/>
          <p:cNvGrpSpPr/>
          <p:nvPr/>
        </p:nvGrpSpPr>
        <p:grpSpPr>
          <a:xfrm>
            <a:off x="2959200" y="1749600"/>
            <a:ext cx="5185440" cy="203040"/>
            <a:chOff x="2959200" y="1749600"/>
            <a:chExt cx="5185440" cy="203040"/>
          </a:xfrm>
        </p:grpSpPr>
        <p:cxnSp>
          <p:nvCxnSpPr>
            <p:cNvPr id="257" name=""/>
            <p:cNvCxnSpPr/>
            <p:nvPr/>
          </p:nvCxnSpPr>
          <p:spPr>
            <a:xfrm>
              <a:off x="2959200" y="1866600"/>
              <a:ext cx="4521600" cy="2160"/>
            </a:xfrm>
            <a:prstGeom prst="bentConnector3">
              <a:avLst>
                <a:gd name="adj1" fmla="val 49996"/>
              </a:avLst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  <p:grpSp>
          <p:nvGrpSpPr>
            <p:cNvPr id="258" name=""/>
            <p:cNvGrpSpPr/>
            <p:nvPr/>
          </p:nvGrpSpPr>
          <p:grpSpPr>
            <a:xfrm>
              <a:off x="7522920" y="1749600"/>
              <a:ext cx="621720" cy="203040"/>
              <a:chOff x="7522920" y="1749600"/>
              <a:chExt cx="621720" cy="20304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7835040" y="1749600"/>
                <a:ext cx="309240" cy="20304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7523280" y="1846080"/>
                <a:ext cx="104400" cy="10440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7522560" y="1814400"/>
                <a:ext cx="387000" cy="745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35920" y="1812960"/>
                <a:ext cx="74160" cy="74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E8B-CBF5-4084-B5BF-0E68B044EF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Public Key Cryptography </a:t>
            </a:r>
            <a:br>
              <a:rPr sz="4400"/>
            </a:b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cc66"/>
                </a:solidFill>
                <a:latin typeface="Arial"/>
              </a:rPr>
              <a:t>- Digital Signatu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599840" y="2362320"/>
            <a:ext cx="2322360" cy="3918600"/>
            <a:chOff x="1599840" y="2362320"/>
            <a:chExt cx="2322360" cy="3918600"/>
          </a:xfrm>
        </p:grpSpPr>
        <p:sp>
          <p:nvSpPr>
            <p:cNvPr id="265" name=""/>
            <p:cNvSpPr/>
            <p:nvPr/>
          </p:nvSpPr>
          <p:spPr>
            <a:xfrm>
              <a:off x="2819520" y="2743200"/>
              <a:ext cx="990360" cy="1143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19520" y="5638680"/>
              <a:ext cx="99036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8" idx="3"/>
              <a:endCxn id="266" idx="1"/>
            </p:cNvCxnSpPr>
            <p:nvPr/>
          </p:nvCxnSpPr>
          <p:spPr>
            <a:xfrm>
              <a:off x="1599840" y="4686120"/>
              <a:ext cx="1220040" cy="10674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2818080" y="5943600"/>
              <a:ext cx="110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10880" y="2362320"/>
              <a:ext cx="102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Mess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72" idx="3"/>
              <a:endCxn id="265" idx="1"/>
            </p:cNvCxnSpPr>
            <p:nvPr/>
          </p:nvCxnSpPr>
          <p:spPr>
            <a:xfrm flipV="1">
              <a:off x="1599840" y="3314160"/>
              <a:ext cx="1220040" cy="6865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273" name=""/>
          <p:cNvGrpSpPr/>
          <p:nvPr/>
        </p:nvGrpSpPr>
        <p:grpSpPr>
          <a:xfrm>
            <a:off x="3809880" y="3200400"/>
            <a:ext cx="2819520" cy="565920"/>
            <a:chOff x="3809880" y="3200400"/>
            <a:chExt cx="2819520" cy="565920"/>
          </a:xfrm>
        </p:grpSpPr>
        <p:sp>
          <p:nvSpPr>
            <p:cNvPr id="274" name=""/>
            <p:cNvSpPr/>
            <p:nvPr/>
          </p:nvSpPr>
          <p:spPr>
            <a:xfrm>
              <a:off x="5638680" y="3200400"/>
              <a:ext cx="990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75" name=""/>
            <p:cNvCxnSpPr>
              <a:stCxn id="265" idx="3"/>
              <a:endCxn id="274" idx="1"/>
            </p:cNvCxnSpPr>
            <p:nvPr/>
          </p:nvCxnSpPr>
          <p:spPr>
            <a:xfrm>
              <a:off x="3809880" y="3314520"/>
              <a:ext cx="182952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76" name=""/>
            <p:cNvSpPr/>
            <p:nvPr/>
          </p:nvSpPr>
          <p:spPr>
            <a:xfrm>
              <a:off x="5691240" y="34290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Dige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629040" y="3314880"/>
            <a:ext cx="1577880" cy="2437920"/>
            <a:chOff x="6629040" y="3314880"/>
            <a:chExt cx="1577880" cy="2437920"/>
          </a:xfrm>
        </p:grpSpPr>
        <p:sp>
          <p:nvSpPr>
            <p:cNvPr id="278" name=""/>
            <p:cNvSpPr/>
            <p:nvPr/>
          </p:nvSpPr>
          <p:spPr>
            <a:xfrm>
              <a:off x="6916680" y="4114800"/>
              <a:ext cx="129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 Black"/>
                </a:rPr>
                <a:t>Valid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4" idx="3"/>
              <a:endCxn id="278" idx="0"/>
            </p:cNvCxnSpPr>
            <p:nvPr/>
          </p:nvCxnSpPr>
          <p:spPr>
            <a:xfrm>
              <a:off x="6629040" y="3314880"/>
              <a:ext cx="934200" cy="80064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81" idx="3"/>
              <a:endCxn id="278" idx="2"/>
            </p:cNvCxnSpPr>
            <p:nvPr/>
          </p:nvCxnSpPr>
          <p:spPr>
            <a:xfrm flipV="1">
              <a:off x="6629040" y="4693680"/>
              <a:ext cx="934200" cy="105948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82" name=""/>
          <p:cNvGrpSpPr/>
          <p:nvPr/>
        </p:nvGrpSpPr>
        <p:grpSpPr>
          <a:xfrm>
            <a:off x="601200" y="1600200"/>
            <a:ext cx="7295040" cy="3200400"/>
            <a:chOff x="601200" y="1600200"/>
            <a:chExt cx="7295040" cy="3200400"/>
          </a:xfrm>
        </p:grpSpPr>
        <p:grpSp>
          <p:nvGrpSpPr>
            <p:cNvPr id="283" name=""/>
            <p:cNvGrpSpPr/>
            <p:nvPr/>
          </p:nvGrpSpPr>
          <p:grpSpPr>
            <a:xfrm>
              <a:off x="601200" y="2819520"/>
              <a:ext cx="1028160" cy="1981080"/>
              <a:chOff x="601200" y="2819520"/>
              <a:chExt cx="1028160" cy="1981080"/>
            </a:xfrm>
          </p:grpSpPr>
          <p:sp>
            <p:nvSpPr>
              <p:cNvPr id="268" name=""/>
              <p:cNvSpPr/>
              <p:nvPr/>
            </p:nvSpPr>
            <p:spPr>
              <a:xfrm>
                <a:off x="609480" y="4572000"/>
                <a:ext cx="99072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9480" y="3429000"/>
                <a:ext cx="990720" cy="1143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200" y="2819520"/>
                <a:ext cx="1028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 Black"/>
                  </a:rPr>
                  <a:t>Signe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 Black"/>
                  </a:rPr>
                  <a:t>Messag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6553080" y="1600200"/>
              <a:ext cx="1343160" cy="117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"/>
          <p:cNvGrpSpPr/>
          <p:nvPr/>
        </p:nvGrpSpPr>
        <p:grpSpPr>
          <a:xfrm>
            <a:off x="3809880" y="2057040"/>
            <a:ext cx="2819520" cy="4376160"/>
            <a:chOff x="3809880" y="2057040"/>
            <a:chExt cx="2819520" cy="4376160"/>
          </a:xfrm>
        </p:grpSpPr>
        <p:sp>
          <p:nvSpPr>
            <p:cNvPr id="287" name=""/>
            <p:cNvSpPr/>
            <p:nvPr/>
          </p:nvSpPr>
          <p:spPr>
            <a:xfrm>
              <a:off x="5767560" y="59436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Dige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8680" y="5638680"/>
              <a:ext cx="990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54120" y="609588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Decry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89" name=""/>
            <p:cNvCxnSpPr>
              <a:endCxn id="290" idx="0"/>
            </p:cNvCxnSpPr>
            <p:nvPr/>
          </p:nvCxnSpPr>
          <p:spPr>
            <a:xfrm flipV="1" rot="10800000">
              <a:off x="4723560" y="2057040"/>
              <a:ext cx="1080" cy="342972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90" idx="1"/>
            </p:cNvCxnSpPr>
            <p:nvPr/>
          </p:nvCxnSpPr>
          <p:spPr>
            <a:xfrm>
              <a:off x="3809880" y="5752800"/>
              <a:ext cx="53424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4343400" y="5486400"/>
              <a:ext cx="762120" cy="533520"/>
            </a:xfrm>
            <a:prstGeom prst="flowChartPreparati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92" name=""/>
            <p:cNvCxnSpPr>
              <a:stCxn id="290" idx="3"/>
            </p:cNvCxnSpPr>
            <p:nvPr/>
          </p:nvCxnSpPr>
          <p:spPr>
            <a:xfrm>
              <a:off x="5105160" y="5752800"/>
              <a:ext cx="53388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-1219680" y="1460520"/>
            <a:ext cx="6304320" cy="504720"/>
            <a:chOff x="-1219680" y="1460520"/>
            <a:chExt cx="6304320" cy="504720"/>
          </a:xfrm>
        </p:grpSpPr>
        <p:cxnSp>
          <p:nvCxnSpPr>
            <p:cNvPr id="294" name=""/>
            <p:cNvCxnSpPr/>
            <p:nvPr/>
          </p:nvCxnSpPr>
          <p:spPr>
            <a:xfrm>
              <a:off x="-1219680" y="1879200"/>
              <a:ext cx="5639400" cy="1080"/>
            </a:xfrm>
            <a:prstGeom prst="bentConnector2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295" name=""/>
            <p:cNvSpPr/>
            <p:nvPr/>
          </p:nvSpPr>
          <p:spPr>
            <a:xfrm>
              <a:off x="1946520" y="146052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 Black"/>
                </a:rPr>
                <a:t>Retrieve Public Ke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461840" y="1762200"/>
              <a:ext cx="622800" cy="203040"/>
              <a:chOff x="4461840" y="1762200"/>
              <a:chExt cx="622800" cy="203040"/>
            </a:xfrm>
          </p:grpSpPr>
          <p:sp>
            <p:nvSpPr>
              <p:cNvPr id="297" name=""/>
              <p:cNvSpPr/>
              <p:nvPr/>
            </p:nvSpPr>
            <p:spPr>
              <a:xfrm flipH="1">
                <a:off x="4775040" y="1762200"/>
                <a:ext cx="309600" cy="203040"/>
              </a:xfrm>
              <a:prstGeom prst="ellips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4461480" y="1858680"/>
                <a:ext cx="104760" cy="10440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4462200" y="1827000"/>
                <a:ext cx="387360" cy="745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75200" y="1825560"/>
                <a:ext cx="74520" cy="74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272-4EA4-48A8-8948-2AB89DC046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PKI - Termi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ublic Key Infrastructure (PK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dministrative structure for support of public key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ublic Key Certificate (Digital Certific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ocument linking a Public Key to an identity, signed by a CA, defined by X.5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ertificate Authority (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rusted authority which issues digital certif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8E7-4AB3-4546-B791-D933B661A08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gital Certifica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digital certificate 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dentity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 Personal ID, email address, web site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 key of id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suer (Certification Author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lidity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certificate is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ign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y the 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FC7-3101-41BD-AEE7-B4B0FBF35BF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01:48:08Z</dcterms:created>
  <dc:creator>Anne Lord</dc:creator>
  <dc:description/>
  <dc:language>en-US</dc:language>
  <cp:lastModifiedBy>paul</cp:lastModifiedBy>
  <cp:lastPrinted>2000-02-04T00:09:19Z</cp:lastPrinted>
  <dcterms:modified xsi:type="dcterms:W3CDTF">2000-02-22T06:00:03Z</dcterms:modified>
  <cp:revision>130</cp:revision>
  <dc:subject/>
  <dc:title>Welcome APNIC Members Training Cou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pwilson@apnic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N:\www\Presentations\Beijing Oct 98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