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D60-CAA2-45AD-BF27-062BA766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ADF-4342-48C6-A98A-440864C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867-87CE-4899-AC4C-7A858AB1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316-82CE-4D30-9D72-ECBFF4E0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985C-5DA0-484B-B16C-163C1049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F0E-7B79-4F38-BBB5-2794A4C9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CCF4-9493-4ACB-A543-F8B6470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4C4-E77D-493F-A7BF-B366B52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CA5-1B26-4108-AE8C-A38E573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58FB-5A7A-41E4-82B2-B006FCFF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E13-F5D8-436B-AB96-80F00F8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FB0-186E-412F-894E-3EA70329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54C-A4B6-4C04-887D-5725FE2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333-1730-42A0-B723-35EF176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81A2-7359-43E3-85A9-452FAB1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688-DCB1-438D-B5D1-ADA32CC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2A12-DF75-4CA7-8732-41CDA54B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383-B481-4AB0-8E99-545EE837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769-0AC2-4530-BF65-D6CDAEE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B16-D8D9-40E5-B03C-7C74EBE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75D-1155-4EAB-A6B4-9D971CC8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C9E-27C2-4B8B-ACB1-A60D1B4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718-0030-4F00-8EC4-A8735B3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A27-3661-4E74-9A78-3B0E1849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F9F-5864-4EDA-926B-8A82C40B8A8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31E-4579-4E60-B2E5-EBF692E65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EB9-33DB-4DB7-A971-17DCA1C75D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2743-DD4C-4CCA-B04C-0D1B11692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pecial Interest Group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86080" y="57366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st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24160" y="47012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GP Ke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5DB-29CE-4EE3-8B2F-9F069FDED9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rther 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DDD-910C-4F3C-B1A6-B973560A303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 Knowledge of PG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gpi.org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gnupg.org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sing knowledge of RIPE-18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ripe.net/ripe/docs/ripe-189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derstanding of how to PGP sign a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627-CC79-4D11-BE98-55E7919A7A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to protect that which prot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P valid auth method on APNIC maintain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 your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 Security preca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physical key or credit card, stolen is bad and can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7C5-94CA-4A59-8FCB-346CB045EB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Secu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weaknesses in P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7120" indent="-214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axion.physics.ubc.ca/pgp-attack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7120" indent="-214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P is as good as the system runn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6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exploits are due to easily guessed passphr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7120" indent="-2145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vesdro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96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tty Good’ Privacy, not ‘James Bond’ Priv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F1B-9BF1-4254-B26B-2A06DD2EBB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ecting a Passphr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hard to gu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passphrases easily guessed, more-so by those who know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irthdates (easily gues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cure book quotes (not your favourite book, see abo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eware (http://www.diceware.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ounceable line noise (‘zackalimvelich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 sub7titut1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452-6E2C-472E-A4CE-8C2C1665CD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 environment, several people may need to upd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the passphrase of one PGP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al lea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change passphrase when staff leave and inform remaining staff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ha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DC3-6628-4660-922C-66EA7D2D45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ing (2)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A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er objects can have multiple auths or valid PGP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ff member has own PGP key (in APNIC datab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 is only as strong as its weakest link; encourage each staff member to have strong passph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need to remove reference to their PGP key from mntner when staff le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77E-7C10-464A-A0A4-32A2607A06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doo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in is only as strong as its weakest 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P auth method in Maintainer object vunerable if less secure auth methods are also specified in same Maintain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ng a ‘key-cert’ object with a maintainer that uses ‘MAIL-FROM’ or ‘CRYPT-PW’ is against common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It’ notes on your monitor with your passphr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E1D-8AA4-4512-A067-9E9DF93D60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pgpi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gnupg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 NCC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ripe.net/ripe/docs/ripe-189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apnic.net/db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59A-3150-4455-9280-996A2A4CCD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Bruce Campbell</dc:creator>
  <dc:description/>
  <dc:language>en-US</dc:language>
  <cp:lastModifiedBy>Anne Lord</cp:lastModifiedBy>
  <cp:lastPrinted>2000-02-04T00:09:19Z</cp:lastPrinted>
  <dcterms:modified xsi:type="dcterms:W3CDTF">2000-02-21T08:14:10Z</dcterms:modified>
  <cp:revision>137</cp:revision>
  <dc:subject/>
  <dc:title>PGP Key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ruce.campbell@apnic.ne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Hadrian\bc\www\presen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