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AF5-DDAB-440B-94FC-BB607727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14A-FFB0-4995-8490-B20B8952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7D7-D125-44E2-8A7E-7F3547C4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763-6615-4535-A190-F62731EA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3A1F-2568-49B3-B552-FE9008F9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C3C7-CC88-4911-90F6-0EAAF4A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2C5-F621-4E98-A590-A823AE17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9FA6-1917-4AD6-84E8-00A34DA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9594-74EC-41F1-A1C2-A11C20E4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101F-5FD1-4E06-833F-36CB60A6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8A9-24AE-40FE-AA62-C2555D4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ABC-6C74-444D-8840-0879573F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C9E5-A747-4A28-8710-44209CB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579-1A78-4325-ACC0-7A69909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60F-C306-4148-A9D8-77A80887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9CF-D43A-4995-BAB1-FCD75286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02B8-46D9-4E38-B044-3F816A7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EA1-85BE-4414-B179-2E1FAC0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F40-3A92-4668-B61E-7CCD5CA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BDC-0F42-4A87-B9D2-6F7D4CE3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C4B-74D9-430C-90E1-9241944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384-C2B3-43FF-88AD-61FE850B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E1E-2346-44A1-8628-3BA561B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D01-4798-40CF-B72B-4F380B1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9710-06E3-4F5E-BDC4-A6D9F69539F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756-3363-4C38-B01A-6729F1708266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1697040" cy="878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12400" y="1674720"/>
            <a:ext cx="54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pan Internet Exch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 Progress in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276720"/>
            <a:ext cx="56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shiki Ue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www.jpix.co.j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2120" y="487692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eda@jpix.co.j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29000" y="1905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3680" y="3048120"/>
            <a:ext cx="74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you are invited to a JPIX Site T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servations, please contact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1697040" cy="877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76360" y="4952880"/>
            <a:ext cx="31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@jpix.co.j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28600"/>
            <a:ext cx="79246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 Internet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X service at the focal point of Japan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traffic, KDD Otemachi Buildin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founded in July 1997 with 16 shareh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ing KDD, NEC, Fujitsu, JENS, SON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kyoInternet and Cisco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two duplex FDDI GigaSwitches and is going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IX capabilities in Toky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of February 2000, there are 39 customers and w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50 in the end of the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580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7160" y="596880"/>
          <a:ext cx="84452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96880"/>
                    <a:ext cx="84452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188200" y="6302520"/>
            <a:ext cx="955800" cy="55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9080" y="150840"/>
            <a:ext cx="60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ISPs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 Connecting IS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54440" y="1006560"/>
            <a:ext cx="7347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ateral Peering Age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Lateral Peering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PIX Tier 1 Meeting: Regular Users’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 Server/Routing Reg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M-Root Name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P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mai FreeFlow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BSD ftp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Linux Association’s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88200" y="6302520"/>
            <a:ext cx="9558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inmax" descr=""/>
          <p:cNvPicPr/>
          <p:nvPr/>
        </p:nvPicPr>
        <p:blipFill>
          <a:blip r:embed="rId1"/>
          <a:stretch/>
        </p:blipFill>
        <p:spPr>
          <a:xfrm>
            <a:off x="228600" y="1279440"/>
            <a:ext cx="6172200" cy="5349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3600" y="31240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381880" y="30492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666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838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2001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040" y="4648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95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2200" y="609480"/>
            <a:ext cx="54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ed Increase of Traffic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955800" cy="555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76920" y="990360"/>
            <a:ext cx="3429000" cy="342900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ustomer-used.2000011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978360" cy="449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3962520" cy="4496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00800" y="2057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160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1828800"/>
            <a:ext cx="0" cy="71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352680"/>
            <a:ext cx="1067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ho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6668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981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TELEHODA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2286000"/>
            <a:ext cx="1231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2240" y="35434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438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143000"/>
            <a:ext cx="1524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  <a:ea typeface="ＭＳ 明朝"/>
              </a:rPr>
              <a:t>1999/1/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1143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entury"/>
                <a:ea typeface="ＭＳ 明朝"/>
              </a:rPr>
              <a:t>2000/1/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114800"/>
            <a:ext cx="304920" cy="495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6160" y="446040"/>
            <a:ext cx="37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r Traff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82880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b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860480"/>
            <a:ext cx="708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b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955800" cy="555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05920" y="4038480"/>
            <a:ext cx="304560" cy="495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77800" y="33012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s in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914400"/>
            <a:ext cx="6019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to shift fro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DDI to Ether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gabit Ether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ts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st Ether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I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kyo Global Internet Ex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of New IX switches in Tok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sites for the sele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NF Park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Telecom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GAL Telecom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Mitsubishi Dia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95580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4343400" y="3200400"/>
            <a:ext cx="114300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76720"/>
            <a:ext cx="106668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3200400"/>
            <a:ext cx="114300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200400"/>
            <a:ext cx="106668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5410080"/>
            <a:ext cx="1295280" cy="58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5410080"/>
            <a:ext cx="1295280" cy="584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58000" y="5410080"/>
            <a:ext cx="1295280" cy="58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7543800" y="3124080"/>
            <a:ext cx="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057400"/>
            <a:ext cx="4800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133720"/>
            <a:ext cx="4800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2209680"/>
            <a:ext cx="4800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1981080"/>
            <a:ext cx="4800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Giga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SS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304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100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920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6920" y="357984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DDI, FF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2600" y="358128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gabit Etherne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st 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30312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Gigabit Ether 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121600" y="6275520"/>
            <a:ext cx="955800" cy="55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976320" cy="2165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2590920" y="1143000"/>
            <a:ext cx="976320" cy="2165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886200" y="1143000"/>
            <a:ext cx="976320" cy="2165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5257800" y="1143000"/>
            <a:ext cx="976320" cy="2165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7010280" y="1143000"/>
            <a:ext cx="1143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400800" y="24382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4382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4952880"/>
            <a:ext cx="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1067040" cy="480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990720" cy="446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243828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2438280"/>
            <a:ext cx="0" cy="22100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01240" y="43434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bb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10920" y="1600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a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1200" y="15238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D Otemachi Buil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8121600" y="6275520"/>
            <a:ext cx="955800" cy="555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380880"/>
            <a:ext cx="80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PI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kyo Global Internet Excha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2209680"/>
            <a:ext cx="1066680" cy="480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06440" y="2209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200" y="2209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320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80880"/>
            <a:ext cx="5486400" cy="5181840"/>
          </a:xfrm>
          <a:prstGeom prst="cloudCallout">
            <a:avLst>
              <a:gd name="adj1" fmla="val -12615"/>
              <a:gd name="adj2" fmla="val 48990"/>
            </a:avLst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07:06:59Z</dcterms:created>
  <dc:creator>上田敏樹</dc:creator>
  <dc:description/>
  <dc:language>en-US</dc:language>
  <cp:lastModifiedBy>上田敏樹</cp:lastModifiedBy>
  <dcterms:modified xsi:type="dcterms:W3CDTF">2000-02-21T02:37:03Z</dcterms:modified>
  <cp:revision>10</cp:revision>
  <dc:subject/>
  <dc:title>PowerPoint プレゼンテーション</dc:title>
</cp:coreProperties>
</file>