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5.png" ContentType="image/png"/>
  <Override PartName="/ppt/media/image24.png" ContentType="image/png"/>
  <Override PartName="/ppt/media/image22.png" ContentType="image/png"/>
  <Override PartName="/ppt/media/image1.jpeg" ContentType="image/jpeg"/>
  <Override PartName="/ppt/media/image5.png" ContentType="image/png"/>
  <Override PartName="/ppt/media/image21.png" ContentType="image/png"/>
  <Override PartName="/ppt/media/image19.png" ContentType="image/png"/>
  <Override PartName="/ppt/media/image17.png" ContentType="image/png"/>
  <Override PartName="/ppt/media/image10.png" ContentType="image/png"/>
  <Override PartName="/ppt/media/image27.jpeg" ContentType="image/jpeg"/>
  <Override PartName="/ppt/media/image16.png" ContentType="image/png"/>
  <Override PartName="/ppt/media/image15.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24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44" name="PlaceHolder 1"/>
          <p:cNvSpPr>
            <a:spLocks noGrp="1"/>
          </p:cNvSpPr>
          <p:nvPr>
            <p:ph type="sldImg"/>
          </p:nvPr>
        </p:nvSpPr>
        <p:spPr>
          <a:xfrm>
            <a:off x="902880" y="745920"/>
            <a:ext cx="4917960" cy="3686040"/>
          </a:xfrm>
          <a:prstGeom prst="rect">
            <a:avLst/>
          </a:prstGeom>
          <a:noFill/>
          <a:ln w="12600">
            <a:solidFill>
              <a:srgbClr val="000000"/>
            </a:solidFill>
            <a:miter/>
          </a:ln>
        </p:spPr>
        <p:txBody>
          <a:bodyPr lIns="90000" rIns="90000" tIns="46800" bIns="46800" anchor="ctr">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Click to move the slide</a:t>
            </a:r>
            <a:endParaRPr b="1" lang="en-US" sz="2800" spc="-1" strike="noStrike">
              <a:solidFill>
                <a:srgbClr val="ffaf34"/>
              </a:solidFill>
              <a:latin typeface="Comic Sans MS"/>
            </a:endParaRPr>
          </a:p>
        </p:txBody>
      </p:sp>
      <p:sp>
        <p:nvSpPr>
          <p:cNvPr id="45"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6" name=""/>
          <p:cNvSpPr/>
          <p:nvPr/>
        </p:nvSpPr>
        <p:spPr>
          <a:xfrm>
            <a:off x="-14980320" y="9218520"/>
            <a:ext cx="1395720" cy="457200"/>
          </a:xfrm>
          <a:prstGeom prst="rect">
            <a:avLst/>
          </a:prstGeom>
          <a:noFill/>
          <a:ln w="0">
            <a:noFill/>
          </a:ln>
        </p:spPr>
        <p:style>
          <a:lnRef idx="0"/>
          <a:fillRef idx="0"/>
          <a:effectRef idx="0"/>
          <a:fontRef idx="minor"/>
        </p:style>
        <p:txBody>
          <a:bodyPr wrap="none" lIns="138240" rIns="138240" tIns="68400" bIns="68400" anchor="ctr">
            <a:spAutoFit/>
          </a:bodyPr>
          <a:p>
            <a:pPr algn="r">
              <a:tabLst>
                <a:tab algn="l" pos="0"/>
                <a:tab algn="l" pos="2214720"/>
                <a:tab algn="l" pos="4429080"/>
                <a:tab algn="l" pos="6643800"/>
                <a:tab algn="l" pos="8858160"/>
              </a:tabLst>
            </a:pPr>
            <a:fld id="{FE60E346-ADF7-4362-B4DA-7DDC61606857}" type="slidenum">
              <a:rPr b="0" lang="en-US" sz="2100" spc="-1" strike="noStrike">
                <a:solidFill>
                  <a:srgbClr val="080808"/>
                </a:solidFill>
                <a:latin typeface="Times New Roman"/>
              </a:rPr>
              <a:t>&lt;number&gt;</a:t>
            </a:fld>
            <a:endParaRPr b="0" lang="en-US" sz="21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3809880" y="-1440"/>
            <a:ext cx="2916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65" name=""/>
          <p:cNvSpPr/>
          <p:nvPr/>
        </p:nvSpPr>
        <p:spPr>
          <a:xfrm>
            <a:off x="3809880" y="9371160"/>
            <a:ext cx="2916360" cy="495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AU" sz="1000" spc="-1" strike="noStrike">
                <a:solidFill>
                  <a:srgbClr val="080808"/>
                </a:solidFill>
                <a:latin typeface="Times New Roman"/>
              </a:rPr>
              <a:t>1</a:t>
            </a:r>
            <a:endParaRPr b="0" lang="en-US" sz="1000" spc="-1" strike="noStrike">
              <a:solidFill>
                <a:srgbClr val="080808"/>
              </a:solidFill>
              <a:latin typeface="Times New Roman"/>
            </a:endParaRPr>
          </a:p>
        </p:txBody>
      </p:sp>
      <p:sp>
        <p:nvSpPr>
          <p:cNvPr id="466" name=""/>
          <p:cNvSpPr/>
          <p:nvPr/>
        </p:nvSpPr>
        <p:spPr>
          <a:xfrm>
            <a:off x="-1440" y="9371160"/>
            <a:ext cx="29127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67" name=""/>
          <p:cNvSpPr/>
          <p:nvPr/>
        </p:nvSpPr>
        <p:spPr>
          <a:xfrm>
            <a:off x="-1440" y="-1440"/>
            <a:ext cx="29127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68" name=""/>
          <p:cNvSpPr/>
          <p:nvPr/>
        </p:nvSpPr>
        <p:spPr>
          <a:xfrm>
            <a:off x="3809880" y="-1440"/>
            <a:ext cx="2916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69" name=""/>
          <p:cNvSpPr/>
          <p:nvPr/>
        </p:nvSpPr>
        <p:spPr>
          <a:xfrm>
            <a:off x="3809880" y="9369360"/>
            <a:ext cx="291636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AU" sz="1000" spc="-1" strike="noStrike">
                <a:solidFill>
                  <a:srgbClr val="080808"/>
                </a:solidFill>
                <a:latin typeface="Times New Roman"/>
              </a:rPr>
              <a:t>1</a:t>
            </a:r>
            <a:endParaRPr b="0" lang="en-US" sz="1000" spc="-1" strike="noStrike">
              <a:solidFill>
                <a:srgbClr val="080808"/>
              </a:solidFill>
              <a:latin typeface="Times New Roman"/>
            </a:endParaRPr>
          </a:p>
        </p:txBody>
      </p:sp>
      <p:sp>
        <p:nvSpPr>
          <p:cNvPr id="470" name=""/>
          <p:cNvSpPr/>
          <p:nvPr/>
        </p:nvSpPr>
        <p:spPr>
          <a:xfrm>
            <a:off x="-1440" y="9369360"/>
            <a:ext cx="2911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1" name=""/>
          <p:cNvSpPr/>
          <p:nvPr/>
        </p:nvSpPr>
        <p:spPr>
          <a:xfrm>
            <a:off x="-1440" y="-1440"/>
            <a:ext cx="29113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2" name=""/>
          <p:cNvSpPr/>
          <p:nvPr/>
        </p:nvSpPr>
        <p:spPr>
          <a:xfrm>
            <a:off x="3803760" y="-87480"/>
            <a:ext cx="293040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3" name=""/>
          <p:cNvSpPr/>
          <p:nvPr/>
        </p:nvSpPr>
        <p:spPr>
          <a:xfrm>
            <a:off x="3803760" y="9301320"/>
            <a:ext cx="2930400" cy="541080"/>
          </a:xfrm>
          <a:prstGeom prst="rect">
            <a:avLst/>
          </a:prstGeom>
          <a:noFill/>
          <a:ln w="0">
            <a:noFill/>
          </a:ln>
        </p:spPr>
        <p:style>
          <a:lnRef idx="0"/>
          <a:fillRef idx="0"/>
          <a:effectRef idx="0"/>
          <a:fontRef idx="minor"/>
        </p:style>
        <p:txBody>
          <a:bodyPr lIns="33480" rIns="33480" tIns="0" bIns="0" anchor="b">
            <a:noAutofit/>
          </a:bodyPr>
          <a:p>
            <a:pPr algn="r">
              <a:tabLst>
                <a:tab algn="l" pos="0"/>
                <a:tab algn="l" pos="2214720"/>
                <a:tab algn="l" pos="4429080"/>
                <a:tab algn="l" pos="6643800"/>
                <a:tab algn="l" pos="8858160"/>
              </a:tabLst>
            </a:pPr>
            <a:r>
              <a:rPr b="0" i="1" lang="en-AU" sz="2100" spc="-1" strike="noStrike">
                <a:solidFill>
                  <a:srgbClr val="080808"/>
                </a:solidFill>
                <a:latin typeface="Times New Roman"/>
              </a:rPr>
              <a:t>1</a:t>
            </a:r>
            <a:endParaRPr b="0" lang="en-US" sz="2100" spc="-1" strike="noStrike">
              <a:solidFill>
                <a:srgbClr val="080808"/>
              </a:solidFill>
              <a:latin typeface="Times New Roman"/>
            </a:endParaRPr>
          </a:p>
        </p:txBody>
      </p:sp>
      <p:sp>
        <p:nvSpPr>
          <p:cNvPr id="474" name=""/>
          <p:cNvSpPr/>
          <p:nvPr/>
        </p:nvSpPr>
        <p:spPr>
          <a:xfrm>
            <a:off x="-11160" y="9301320"/>
            <a:ext cx="292572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5" name=""/>
          <p:cNvSpPr/>
          <p:nvPr/>
        </p:nvSpPr>
        <p:spPr>
          <a:xfrm>
            <a:off x="-11160" y="-87480"/>
            <a:ext cx="292572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6" name=""/>
          <p:cNvSpPr/>
          <p:nvPr/>
        </p:nvSpPr>
        <p:spPr>
          <a:xfrm>
            <a:off x="3803760" y="-87480"/>
            <a:ext cx="293040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7" name=""/>
          <p:cNvSpPr/>
          <p:nvPr/>
        </p:nvSpPr>
        <p:spPr>
          <a:xfrm>
            <a:off x="3803760" y="9301320"/>
            <a:ext cx="2930400" cy="541080"/>
          </a:xfrm>
          <a:prstGeom prst="rect">
            <a:avLst/>
          </a:prstGeom>
          <a:noFill/>
          <a:ln w="0">
            <a:noFill/>
          </a:ln>
        </p:spPr>
        <p:style>
          <a:lnRef idx="0"/>
          <a:fillRef idx="0"/>
          <a:effectRef idx="0"/>
          <a:fontRef idx="minor"/>
        </p:style>
        <p:txBody>
          <a:bodyPr lIns="33480" rIns="33480" tIns="0" bIns="0" anchor="b">
            <a:noAutofit/>
          </a:bodyPr>
          <a:p>
            <a:pPr algn="r">
              <a:tabLst>
                <a:tab algn="l" pos="0"/>
                <a:tab algn="l" pos="2214720"/>
                <a:tab algn="l" pos="4429080"/>
                <a:tab algn="l" pos="6643800"/>
                <a:tab algn="l" pos="8858160"/>
              </a:tabLst>
            </a:pPr>
            <a:r>
              <a:rPr b="0" i="1" lang="en-AU" sz="2100" spc="-1" strike="noStrike">
                <a:solidFill>
                  <a:srgbClr val="080808"/>
                </a:solidFill>
                <a:latin typeface="Times New Roman"/>
              </a:rPr>
              <a:t>2</a:t>
            </a:r>
            <a:endParaRPr b="0" lang="en-US" sz="2100" spc="-1" strike="noStrike">
              <a:solidFill>
                <a:srgbClr val="080808"/>
              </a:solidFill>
              <a:latin typeface="Times New Roman"/>
            </a:endParaRPr>
          </a:p>
        </p:txBody>
      </p:sp>
      <p:sp>
        <p:nvSpPr>
          <p:cNvPr id="478" name=""/>
          <p:cNvSpPr/>
          <p:nvPr/>
        </p:nvSpPr>
        <p:spPr>
          <a:xfrm>
            <a:off x="-11160" y="9301320"/>
            <a:ext cx="292572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79" name=""/>
          <p:cNvSpPr/>
          <p:nvPr/>
        </p:nvSpPr>
        <p:spPr>
          <a:xfrm>
            <a:off x="-11160" y="-87480"/>
            <a:ext cx="292572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80" name=""/>
          <p:cNvSpPr/>
          <p:nvPr/>
        </p:nvSpPr>
        <p:spPr>
          <a:xfrm>
            <a:off x="3803760" y="-87480"/>
            <a:ext cx="293040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81" name=""/>
          <p:cNvSpPr/>
          <p:nvPr/>
        </p:nvSpPr>
        <p:spPr>
          <a:xfrm>
            <a:off x="3803760" y="9301320"/>
            <a:ext cx="2930400" cy="541080"/>
          </a:xfrm>
          <a:prstGeom prst="rect">
            <a:avLst/>
          </a:prstGeom>
          <a:noFill/>
          <a:ln w="0">
            <a:noFill/>
          </a:ln>
        </p:spPr>
        <p:style>
          <a:lnRef idx="0"/>
          <a:fillRef idx="0"/>
          <a:effectRef idx="0"/>
          <a:fontRef idx="minor"/>
        </p:style>
        <p:txBody>
          <a:bodyPr lIns="33480" rIns="33480" tIns="0" bIns="0" anchor="b">
            <a:noAutofit/>
          </a:bodyPr>
          <a:p>
            <a:pPr algn="r">
              <a:tabLst>
                <a:tab algn="l" pos="0"/>
                <a:tab algn="l" pos="2214720"/>
                <a:tab algn="l" pos="4429080"/>
                <a:tab algn="l" pos="6643800"/>
                <a:tab algn="l" pos="8858160"/>
              </a:tabLst>
            </a:pPr>
            <a:r>
              <a:rPr b="0" i="1" lang="en-AU" sz="2100" spc="-1" strike="noStrike">
                <a:solidFill>
                  <a:srgbClr val="080808"/>
                </a:solidFill>
                <a:latin typeface="Times New Roman"/>
              </a:rPr>
              <a:t>2</a:t>
            </a:r>
            <a:endParaRPr b="0" lang="en-US" sz="2100" spc="-1" strike="noStrike">
              <a:solidFill>
                <a:srgbClr val="080808"/>
              </a:solidFill>
              <a:latin typeface="Times New Roman"/>
            </a:endParaRPr>
          </a:p>
        </p:txBody>
      </p:sp>
      <p:sp>
        <p:nvSpPr>
          <p:cNvPr id="482" name=""/>
          <p:cNvSpPr/>
          <p:nvPr/>
        </p:nvSpPr>
        <p:spPr>
          <a:xfrm>
            <a:off x="-11160" y="9301320"/>
            <a:ext cx="292572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83" name=""/>
          <p:cNvSpPr/>
          <p:nvPr/>
        </p:nvSpPr>
        <p:spPr>
          <a:xfrm>
            <a:off x="-11160" y="-87480"/>
            <a:ext cx="292572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84" name="PlaceHolder 1"/>
          <p:cNvSpPr>
            <a:spLocks noGrp="1"/>
          </p:cNvSpPr>
          <p:nvPr>
            <p:ph type="sldImg"/>
          </p:nvPr>
        </p:nvSpPr>
        <p:spPr>
          <a:xfrm>
            <a:off x="905040" y="746280"/>
            <a:ext cx="4914720" cy="3686040"/>
          </a:xfrm>
          <a:prstGeom prst="rect">
            <a:avLst/>
          </a:prstGeom>
          <a:ln w="0">
            <a:noFill/>
          </a:ln>
        </p:spPr>
      </p:sp>
      <p:sp>
        <p:nvSpPr>
          <p:cNvPr id="485"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Welcome.</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My name is Michael Cox, </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I’m the Chief Technology Officer for Alcatel’s Carrier Data Division within Asia Pacific.</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5040" y="746280"/>
            <a:ext cx="4914720" cy="3686040"/>
          </a:xfrm>
          <a:prstGeom prst="rect">
            <a:avLst/>
          </a:prstGeom>
          <a:ln w="0">
            <a:noFill/>
          </a:ln>
        </p:spPr>
      </p:sp>
      <p:sp>
        <p:nvSpPr>
          <p:cNvPr id="509"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CAC performs its functioning by keeping a record of current QoS commitments and current network load.</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1" lang="en-US" sz="1600" spc="-1" strike="noStrike">
                <a:solidFill>
                  <a:srgbClr val="000000"/>
                </a:solidFill>
                <a:latin typeface="Times New Roman"/>
              </a:rPr>
              <a:t>N</a:t>
            </a:r>
            <a:r>
              <a:rPr b="0" lang="en-US" sz="1600" spc="-1" strike="noStrike">
                <a:solidFill>
                  <a:srgbClr val="000000"/>
                </a:solidFill>
                <a:latin typeface="Times New Roman"/>
              </a:rPr>
              <a:t>etwork performance should never cause a CAC accepted session to degrade below its QoS guarantees. (CAC must not be overly optimistic).</a:t>
            </a:r>
            <a:endParaRPr b="0" lang="en-US" sz="1600" spc="-1" strike="noStrike">
              <a:solidFill>
                <a:srgbClr val="000000"/>
              </a:solidFill>
              <a:latin typeface="Times New Roman"/>
            </a:endParaRPr>
          </a:p>
          <a:p>
            <a:pPr indent="0">
              <a:spcBef>
                <a:spcPts val="1001"/>
              </a:spcBef>
              <a:buNone/>
              <a:tabLst>
                <a:tab algn="l" pos="0"/>
                <a:tab algn="l" pos="2214720"/>
                <a:tab algn="l" pos="4429080"/>
                <a:tab algn="l" pos="6643800"/>
                <a:tab algn="l" pos="8858160"/>
              </a:tabLst>
            </a:pPr>
            <a:r>
              <a:rPr b="1" lang="en-US" sz="1600" spc="-1" strike="noStrike">
                <a:solidFill>
                  <a:srgbClr val="000000"/>
                </a:solidFill>
                <a:latin typeface="Times New Roman"/>
              </a:rPr>
              <a:t>T</a:t>
            </a:r>
            <a:r>
              <a:rPr b="0" lang="en-US" sz="1600" spc="-1" strike="noStrike">
                <a:solidFill>
                  <a:srgbClr val="000000"/>
                </a:solidFill>
                <a:latin typeface="Times New Roman"/>
              </a:rPr>
              <a:t>he CAC should never refuse a session that could have been safely accepted and guaranteed. (CAC must not be overly pessimistic).</a:t>
            </a:r>
            <a:endParaRPr b="0" lang="en-US" sz="1600" spc="-1" strike="noStrike">
              <a:solidFill>
                <a:srgbClr val="000000"/>
              </a:solidFill>
              <a:latin typeface="Times New Roman"/>
            </a:endParaRPr>
          </a:p>
          <a:p>
            <a:pPr indent="0">
              <a:spcBef>
                <a:spcPts val="1001"/>
              </a:spcBef>
              <a:buNone/>
              <a:tabLst>
                <a:tab algn="l" pos="0"/>
                <a:tab algn="l" pos="2214720"/>
                <a:tab algn="l" pos="4429080"/>
                <a:tab algn="l" pos="6643800"/>
                <a:tab algn="l" pos="8858160"/>
              </a:tabLst>
            </a:pPr>
            <a:r>
              <a:rPr b="1" lang="en-US" sz="1600" spc="-1" strike="noStrike">
                <a:solidFill>
                  <a:srgbClr val="000000"/>
                </a:solidFill>
                <a:latin typeface="Times New Roman"/>
              </a:rPr>
              <a:t>T</a:t>
            </a:r>
            <a:r>
              <a:rPr b="0" lang="en-US" sz="1600" spc="-1" strike="noStrike">
                <a:solidFill>
                  <a:srgbClr val="000000"/>
                </a:solidFill>
                <a:latin typeface="Times New Roman"/>
              </a:rPr>
              <a:t>his provides the familiar “busy tone” concepts of the PSTN.</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We can use COPS to provide the CAC signaling.</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05040" y="746280"/>
            <a:ext cx="4914720" cy="3686040"/>
          </a:xfrm>
          <a:prstGeom prst="rect">
            <a:avLst/>
          </a:prstGeom>
          <a:ln w="0">
            <a:noFill/>
          </a:ln>
        </p:spPr>
      </p:sp>
      <p:sp>
        <p:nvSpPr>
          <p:cNvPr id="487"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oday I would like to give a brief overview on some of the problems and their proposed solutions for providing end-to-end QoS over IP internetwork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In particular the main focus of this presentation is examining the interaction that will exist between the Enterprise space (consisting of people, applications, roles, terminals and servers) and the Carrier space (consisting of customers, priorities, relationships, sites and their respective SLA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I will also touch on the need for inter-carrier bandwidth exchanges and concepts such as negotiating and purchasing megabit-minutes :-)</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But before we start ...</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3809880" y="-1440"/>
            <a:ext cx="2916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89" name=""/>
          <p:cNvSpPr/>
          <p:nvPr/>
        </p:nvSpPr>
        <p:spPr>
          <a:xfrm>
            <a:off x="3809880" y="9371160"/>
            <a:ext cx="2916360" cy="495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AU" sz="1000" spc="-1" strike="noStrike">
                <a:solidFill>
                  <a:srgbClr val="080808"/>
                </a:solidFill>
                <a:latin typeface="Times New Roman"/>
              </a:rPr>
              <a:t>2</a:t>
            </a:r>
            <a:endParaRPr b="0" lang="en-US" sz="1000" spc="-1" strike="noStrike">
              <a:solidFill>
                <a:srgbClr val="080808"/>
              </a:solidFill>
              <a:latin typeface="Times New Roman"/>
            </a:endParaRPr>
          </a:p>
        </p:txBody>
      </p:sp>
      <p:sp>
        <p:nvSpPr>
          <p:cNvPr id="490" name=""/>
          <p:cNvSpPr/>
          <p:nvPr/>
        </p:nvSpPr>
        <p:spPr>
          <a:xfrm>
            <a:off x="-1440" y="9371160"/>
            <a:ext cx="29127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91" name=""/>
          <p:cNvSpPr/>
          <p:nvPr/>
        </p:nvSpPr>
        <p:spPr>
          <a:xfrm>
            <a:off x="-1440" y="-1440"/>
            <a:ext cx="29127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92" name=""/>
          <p:cNvSpPr/>
          <p:nvPr/>
        </p:nvSpPr>
        <p:spPr>
          <a:xfrm>
            <a:off x="3809880" y="-1440"/>
            <a:ext cx="2916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93" name=""/>
          <p:cNvSpPr/>
          <p:nvPr/>
        </p:nvSpPr>
        <p:spPr>
          <a:xfrm>
            <a:off x="3809880" y="9369360"/>
            <a:ext cx="291636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AU" sz="1000" spc="-1" strike="noStrike">
                <a:solidFill>
                  <a:srgbClr val="080808"/>
                </a:solidFill>
                <a:latin typeface="Times New Roman"/>
              </a:rPr>
              <a:t>2</a:t>
            </a:r>
            <a:endParaRPr b="0" lang="en-US" sz="1000" spc="-1" strike="noStrike">
              <a:solidFill>
                <a:srgbClr val="080808"/>
              </a:solidFill>
              <a:latin typeface="Times New Roman"/>
            </a:endParaRPr>
          </a:p>
        </p:txBody>
      </p:sp>
      <p:sp>
        <p:nvSpPr>
          <p:cNvPr id="494" name=""/>
          <p:cNvSpPr/>
          <p:nvPr/>
        </p:nvSpPr>
        <p:spPr>
          <a:xfrm>
            <a:off x="-1440" y="9369360"/>
            <a:ext cx="29113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95" name=""/>
          <p:cNvSpPr/>
          <p:nvPr/>
        </p:nvSpPr>
        <p:spPr>
          <a:xfrm>
            <a:off x="-1440" y="-1440"/>
            <a:ext cx="29113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496" name="PlaceHolder 1"/>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QoS is also an umbrella term that has been used to refer to collections of technologies, protocols and even specific product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An SLA is a contract between the consumer and their provider and may include appropriate access, network, service, fault handling and restoral guarantee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SDH is characterised by (Severely) Errored Seconds ...</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Voice by </a:t>
            </a:r>
            <a:r>
              <a:rPr b="0" lang="en-US" sz="1600" spc="-1" strike="noStrike" u="sng">
                <a:solidFill>
                  <a:srgbClr val="000000"/>
                </a:solidFill>
                <a:uFillTx/>
                <a:latin typeface="Times New Roman"/>
              </a:rPr>
              <a:t>M</a:t>
            </a:r>
            <a:r>
              <a:rPr b="0" lang="en-US" sz="1600" spc="-1" strike="noStrike">
                <a:solidFill>
                  <a:srgbClr val="000000"/>
                </a:solidFill>
                <a:latin typeface="Times New Roman"/>
              </a:rPr>
              <a:t>ean </a:t>
            </a:r>
            <a:r>
              <a:rPr b="0" lang="en-US" sz="1600" spc="-1" strike="noStrike" u="sng">
                <a:solidFill>
                  <a:srgbClr val="000000"/>
                </a:solidFill>
                <a:uFillTx/>
                <a:latin typeface="Times New Roman"/>
              </a:rPr>
              <a:t>O</a:t>
            </a:r>
            <a:r>
              <a:rPr b="0" lang="en-US" sz="1600" spc="-1" strike="noStrike">
                <a:solidFill>
                  <a:srgbClr val="000000"/>
                </a:solidFill>
                <a:latin typeface="Times New Roman"/>
              </a:rPr>
              <a:t>pinion </a:t>
            </a:r>
            <a:r>
              <a:rPr b="0" lang="en-US" sz="1600" spc="-1" strike="noStrike" u="sng">
                <a:solidFill>
                  <a:srgbClr val="000000"/>
                </a:solidFill>
                <a:uFillTx/>
                <a:latin typeface="Times New Roman"/>
              </a:rPr>
              <a:t>S</a:t>
            </a:r>
            <a:r>
              <a:rPr b="0" lang="en-US" sz="1600" spc="-1" strike="noStrike">
                <a:solidFill>
                  <a:srgbClr val="000000"/>
                </a:solidFill>
                <a:latin typeface="Times New Roman"/>
              </a:rPr>
              <a:t>cores, Blocking probs ...</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ATM services by PCR, MBS, CDV, CLP …</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and finally IP by GFR, DiffServ, Latency, Loss, Throughput … upper/lower bound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Focus: IP can be specified using LUB and GLB.</a:t>
            </a:r>
            <a:endParaRPr b="0" lang="en-US" sz="1600" spc="-1" strike="noStrike">
              <a:solidFill>
                <a:srgbClr val="000000"/>
              </a:solidFill>
              <a:latin typeface="Times New Roman"/>
            </a:endParaRPr>
          </a:p>
        </p:txBody>
      </p:sp>
      <p:sp>
        <p:nvSpPr>
          <p:cNvPr id="497" name="PlaceHolder 2"/>
          <p:cNvSpPr>
            <a:spLocks noGrp="1"/>
          </p:cNvSpPr>
          <p:nvPr>
            <p:ph type="sldImg"/>
          </p:nvPr>
        </p:nvSpPr>
        <p:spPr>
          <a:xfrm>
            <a:off x="905040" y="746280"/>
            <a:ext cx="4914720" cy="368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5040" y="746280"/>
            <a:ext cx="4914720" cy="3686040"/>
          </a:xfrm>
          <a:prstGeom prst="rect">
            <a:avLst/>
          </a:prstGeom>
          <a:ln w="0">
            <a:noFill/>
          </a:ln>
        </p:spPr>
      </p:sp>
      <p:sp>
        <p:nvSpPr>
          <p:cNvPr id="499"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711"/>
              </a:spcBef>
              <a:buNone/>
              <a:tabLst>
                <a:tab algn="l" pos="0"/>
                <a:tab algn="l" pos="2214720"/>
                <a:tab algn="l" pos="4429080"/>
                <a:tab algn="l" pos="6643800"/>
                <a:tab algn="l" pos="8858160"/>
              </a:tabLst>
            </a:pPr>
            <a:r>
              <a:rPr b="0" lang="en-US" sz="1600" spc="-1" strike="noStrike">
                <a:solidFill>
                  <a:srgbClr val="000000"/>
                </a:solidFill>
                <a:latin typeface="Times New Roman"/>
              </a:rPr>
              <a:t>Connection QoS refers to packet behaviours that include: </a:t>
            </a:r>
            <a:r>
              <a:rPr b="0" lang="en-AU" sz="1900" spc="-1" strike="noStrike">
                <a:solidFill>
                  <a:srgbClr val="000000"/>
                </a:solidFill>
                <a:latin typeface="Times New Roman"/>
              </a:rPr>
              <a:t>Average cell rate, peak cell rate, maximum burst size, transmission latency, cell delay variation, cell loss probability ...</a:t>
            </a:r>
            <a:endParaRPr b="0" lang="en-US" sz="19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Proposals such as Stoica et al and Westberg et al implement connection QoS in a slightly different manner. But still suffer from other issue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Packet QoS better maps to physical implementation. Networks are dimensioned, forwarding engines ingress packets into buffers, perform advanced queue servicing etc.</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Packet terms include Weighted Fair Queuing, Priority Queuing, Weighted Random Early Discard etc</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5040" y="746280"/>
            <a:ext cx="4914720" cy="3686040"/>
          </a:xfrm>
          <a:prstGeom prst="rect">
            <a:avLst/>
          </a:prstGeom>
          <a:ln w="0">
            <a:noFill/>
          </a:ln>
        </p:spPr>
      </p:sp>
      <p:sp>
        <p:nvSpPr>
          <p:cNvPr id="501"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Applications in general fit three broad categorie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Interactive realtime apps require very low latency and and very low delay variation to function optimally.</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Non-interactive realtime appls can tolerate larger latencies and delay variations by deploying a de-jitter buffer at the receiver end (typically .1-2 second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Non-realtime apps can tolerate very large latencies and thus large delay variations with no permanent loss of information (greater than 1 second)</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Of course these can be further differentiated in terms of performance and cost by adjusting the packet discard probability. Ie. Games etc.</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Apps typically specify a Connection QoS requiremen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5040" y="746280"/>
            <a:ext cx="4914720" cy="3686040"/>
          </a:xfrm>
          <a:prstGeom prst="rect">
            <a:avLst/>
          </a:prstGeom>
          <a:ln w="0">
            <a:noFill/>
          </a:ln>
        </p:spPr>
      </p:sp>
      <p:sp>
        <p:nvSpPr>
          <p:cNvPr id="503"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Enterprises are typically focused on providing specific users of specific applications on specific terminals a pre-determined quality of service defined in terms of connection QoS parameter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applications expect the network to provide the necessary performance characteristics to meet the users defined policy capabilities. This preferably includes a form of busy tone signalling.</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Busy tone should only be generated when there are insufficient resources available to support the user or application at that point in time.</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RSVP and Integrated Services use explicit resource signalling and reservation to provide this functionalit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5040" y="746280"/>
            <a:ext cx="4914720" cy="3686040"/>
          </a:xfrm>
          <a:prstGeom prst="rect">
            <a:avLst/>
          </a:prstGeom>
          <a:ln w="0">
            <a:noFill/>
          </a:ln>
        </p:spPr>
      </p:sp>
      <p:sp>
        <p:nvSpPr>
          <p:cNvPr id="505"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best effort service is the default service and requires no explicit reservations or signalling.</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guaranteed service provides a guaranteed throuput, maximum latency, low loss service. It performs metering and policing at the ingress. Out of profile packets receive BE performance. Applications provide a Tspec and Rspec. Bursts may be optionally shaped to conform.</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controlled load service provides the equivalent of an uncongested best effort service. It provides no latency or delay variation guarantees but will provide low loss services to conforming traffic. It performs shaping and policing at the ingress. Out of profile packets receive BE performance. Only a Tspec is required.</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5040" y="746280"/>
            <a:ext cx="4914720" cy="3686040"/>
          </a:xfrm>
          <a:prstGeom prst="rect">
            <a:avLst/>
          </a:prstGeom>
          <a:ln w="0">
            <a:noFill/>
          </a:ln>
        </p:spPr>
      </p:sp>
      <p:sp>
        <p:nvSpPr>
          <p:cNvPr id="507" name="PlaceHolder 2"/>
          <p:cNvSpPr>
            <a:spLocks noGrp="1"/>
          </p:cNvSpPr>
          <p:nvPr>
            <p:ph type="body"/>
          </p:nvPr>
        </p:nvSpPr>
        <p:spPr>
          <a:xfrm>
            <a:off x="892080" y="4691160"/>
            <a:ext cx="4934160" cy="3620880"/>
          </a:xfrm>
          <a:prstGeom prst="rect">
            <a:avLst/>
          </a:prstGeom>
          <a:noFill/>
          <a:ln w="0">
            <a:noFill/>
          </a:ln>
        </p:spPr>
        <p:txBody>
          <a:bodyPr lIns="138240" rIns="138240" tIns="68400" bIns="68400" anchor="t">
            <a:noAutofit/>
          </a:bodyPr>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Differentiated services implement Packet QoS mechanisms directly.</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se mechanisms are defined as Per Hob Behaviours (PHBs) and have been generalised by the IETF in Traffic Conditioning Blocks (TCBs).</a:t>
            </a:r>
            <a:endParaRPr b="0" lang="en-US" sz="1600" spc="-1" strike="noStrike">
              <a:solidFill>
                <a:srgbClr val="000000"/>
              </a:solidFill>
              <a:latin typeface="Times New Roman"/>
            </a:endParaRPr>
          </a:p>
          <a:p>
            <a:pPr indent="0">
              <a:spcBef>
                <a:spcPts val="601"/>
              </a:spcBef>
              <a:buNone/>
              <a:tabLst>
                <a:tab algn="l" pos="0"/>
                <a:tab algn="l" pos="2214720"/>
                <a:tab algn="l" pos="4429080"/>
                <a:tab algn="l" pos="6643800"/>
                <a:tab algn="l" pos="8858160"/>
              </a:tabLst>
            </a:pPr>
            <a:r>
              <a:rPr b="0" lang="en-US" sz="1600" spc="-1" strike="noStrike">
                <a:solidFill>
                  <a:srgbClr val="000000"/>
                </a:solidFill>
                <a:latin typeface="Times New Roman"/>
              </a:rPr>
              <a:t>The current PHBs are EF, AF,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29" name="PlaceHolder 2"/>
          <p:cNvSpPr>
            <a:spLocks noGrp="1"/>
          </p:cNvSpPr>
          <p:nvPr>
            <p:ph/>
          </p:nvPr>
        </p:nvSpPr>
        <p:spPr>
          <a:xfrm>
            <a:off x="272520" y="1350720"/>
            <a:ext cx="864252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0" name="PlaceHolder 3"/>
          <p:cNvSpPr>
            <a:spLocks noGrp="1"/>
          </p:cNvSpPr>
          <p:nvPr>
            <p:ph/>
          </p:nvPr>
        </p:nvSpPr>
        <p:spPr>
          <a:xfrm>
            <a:off x="272520" y="3878280"/>
            <a:ext cx="864252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32" name="PlaceHolder 2"/>
          <p:cNvSpPr>
            <a:spLocks noGrp="1"/>
          </p:cNvSpPr>
          <p:nvPr>
            <p:ph/>
          </p:nvPr>
        </p:nvSpPr>
        <p:spPr>
          <a:xfrm>
            <a:off x="27252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3" name="PlaceHolder 3"/>
          <p:cNvSpPr>
            <a:spLocks noGrp="1"/>
          </p:cNvSpPr>
          <p:nvPr>
            <p:ph/>
          </p:nvPr>
        </p:nvSpPr>
        <p:spPr>
          <a:xfrm>
            <a:off x="470124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4" name="PlaceHolder 4"/>
          <p:cNvSpPr>
            <a:spLocks noGrp="1"/>
          </p:cNvSpPr>
          <p:nvPr>
            <p:ph/>
          </p:nvPr>
        </p:nvSpPr>
        <p:spPr>
          <a:xfrm>
            <a:off x="272520" y="387828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5" name="PlaceHolder 5"/>
          <p:cNvSpPr>
            <a:spLocks noGrp="1"/>
          </p:cNvSpPr>
          <p:nvPr>
            <p:ph/>
          </p:nvPr>
        </p:nvSpPr>
        <p:spPr>
          <a:xfrm>
            <a:off x="4701240" y="387828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37" name="PlaceHolder 2"/>
          <p:cNvSpPr>
            <a:spLocks noGrp="1"/>
          </p:cNvSpPr>
          <p:nvPr>
            <p:ph/>
          </p:nvPr>
        </p:nvSpPr>
        <p:spPr>
          <a:xfrm>
            <a:off x="272520" y="135072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8" name="PlaceHolder 3"/>
          <p:cNvSpPr>
            <a:spLocks noGrp="1"/>
          </p:cNvSpPr>
          <p:nvPr>
            <p:ph/>
          </p:nvPr>
        </p:nvSpPr>
        <p:spPr>
          <a:xfrm>
            <a:off x="3195000" y="135072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9" name="PlaceHolder 4"/>
          <p:cNvSpPr>
            <a:spLocks noGrp="1"/>
          </p:cNvSpPr>
          <p:nvPr>
            <p:ph/>
          </p:nvPr>
        </p:nvSpPr>
        <p:spPr>
          <a:xfrm>
            <a:off x="6117120" y="135072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0" name="PlaceHolder 5"/>
          <p:cNvSpPr>
            <a:spLocks noGrp="1"/>
          </p:cNvSpPr>
          <p:nvPr>
            <p:ph/>
          </p:nvPr>
        </p:nvSpPr>
        <p:spPr>
          <a:xfrm>
            <a:off x="272520" y="387828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1" name="PlaceHolder 6"/>
          <p:cNvSpPr>
            <a:spLocks noGrp="1"/>
          </p:cNvSpPr>
          <p:nvPr>
            <p:ph/>
          </p:nvPr>
        </p:nvSpPr>
        <p:spPr>
          <a:xfrm>
            <a:off x="3195000" y="387828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2" name="PlaceHolder 7"/>
          <p:cNvSpPr>
            <a:spLocks noGrp="1"/>
          </p:cNvSpPr>
          <p:nvPr>
            <p:ph/>
          </p:nvPr>
        </p:nvSpPr>
        <p:spPr>
          <a:xfrm>
            <a:off x="6117120" y="3878280"/>
            <a:ext cx="27828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8" name="PlaceHolder 2"/>
          <p:cNvSpPr>
            <a:spLocks noGrp="1"/>
          </p:cNvSpPr>
          <p:nvPr>
            <p:ph type="subTitle"/>
          </p:nvPr>
        </p:nvSpPr>
        <p:spPr>
          <a:xfrm>
            <a:off x="272520" y="1350720"/>
            <a:ext cx="8642520" cy="4838760"/>
          </a:xfrm>
          <a:prstGeom prst="rect">
            <a:avLst/>
          </a:prstGeom>
          <a:noFill/>
          <a:ln w="0">
            <a:noFill/>
          </a:ln>
        </p:spPr>
        <p:txBody>
          <a:bodyPr lIns="0" rIns="0" tIns="0" bIns="0" anchor="ctr">
            <a:noAutofit/>
          </a:bodyPr>
          <a:p>
            <a:pPr indent="0" algn="ctr">
              <a:lnSpc>
                <a:spcPct val="8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10" name="PlaceHolder 2"/>
          <p:cNvSpPr>
            <a:spLocks noGrp="1"/>
          </p:cNvSpPr>
          <p:nvPr>
            <p:ph/>
          </p:nvPr>
        </p:nvSpPr>
        <p:spPr>
          <a:xfrm>
            <a:off x="272520" y="1350720"/>
            <a:ext cx="8642520" cy="48387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12" name="PlaceHolder 2"/>
          <p:cNvSpPr>
            <a:spLocks noGrp="1"/>
          </p:cNvSpPr>
          <p:nvPr>
            <p:ph/>
          </p:nvPr>
        </p:nvSpPr>
        <p:spPr>
          <a:xfrm>
            <a:off x="272520" y="1350720"/>
            <a:ext cx="4217400" cy="48387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3" name="PlaceHolder 3"/>
          <p:cNvSpPr>
            <a:spLocks noGrp="1"/>
          </p:cNvSpPr>
          <p:nvPr>
            <p:ph/>
          </p:nvPr>
        </p:nvSpPr>
        <p:spPr>
          <a:xfrm>
            <a:off x="4701240" y="1350720"/>
            <a:ext cx="4217400" cy="48387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41200" y="101520"/>
            <a:ext cx="7175520" cy="2003760"/>
          </a:xfrm>
          <a:prstGeom prst="rect">
            <a:avLst/>
          </a:prstGeom>
          <a:noFill/>
          <a:ln w="0">
            <a:noFill/>
          </a:ln>
        </p:spPr>
        <p:txBody>
          <a:bodyPr lIns="0" rIns="0" tIns="0" bIns="0" anchor="ctr">
            <a:noAutofit/>
          </a:bodyPr>
          <a:p>
            <a:pPr algn="ct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17" name="PlaceHolder 2"/>
          <p:cNvSpPr>
            <a:spLocks noGrp="1"/>
          </p:cNvSpPr>
          <p:nvPr>
            <p:ph/>
          </p:nvPr>
        </p:nvSpPr>
        <p:spPr>
          <a:xfrm>
            <a:off x="27252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8" name="PlaceHolder 3"/>
          <p:cNvSpPr>
            <a:spLocks noGrp="1"/>
          </p:cNvSpPr>
          <p:nvPr>
            <p:ph/>
          </p:nvPr>
        </p:nvSpPr>
        <p:spPr>
          <a:xfrm>
            <a:off x="4701240" y="1350720"/>
            <a:ext cx="4217400" cy="48387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9" name="PlaceHolder 4"/>
          <p:cNvSpPr>
            <a:spLocks noGrp="1"/>
          </p:cNvSpPr>
          <p:nvPr>
            <p:ph/>
          </p:nvPr>
        </p:nvSpPr>
        <p:spPr>
          <a:xfrm>
            <a:off x="272520" y="387828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21" name="PlaceHolder 2"/>
          <p:cNvSpPr>
            <a:spLocks noGrp="1"/>
          </p:cNvSpPr>
          <p:nvPr>
            <p:ph/>
          </p:nvPr>
        </p:nvSpPr>
        <p:spPr>
          <a:xfrm>
            <a:off x="272520" y="1350720"/>
            <a:ext cx="4217400" cy="48387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2" name="PlaceHolder 3"/>
          <p:cNvSpPr>
            <a:spLocks noGrp="1"/>
          </p:cNvSpPr>
          <p:nvPr>
            <p:ph/>
          </p:nvPr>
        </p:nvSpPr>
        <p:spPr>
          <a:xfrm>
            <a:off x="470124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3" name="PlaceHolder 4"/>
          <p:cNvSpPr>
            <a:spLocks noGrp="1"/>
          </p:cNvSpPr>
          <p:nvPr>
            <p:ph/>
          </p:nvPr>
        </p:nvSpPr>
        <p:spPr>
          <a:xfrm>
            <a:off x="4701240" y="387828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1200" y="101520"/>
            <a:ext cx="7175520" cy="45972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af34"/>
              </a:solidFill>
              <a:latin typeface="Comic Sans MS"/>
            </a:endParaRPr>
          </a:p>
        </p:txBody>
      </p:sp>
      <p:sp>
        <p:nvSpPr>
          <p:cNvPr id="25" name="PlaceHolder 2"/>
          <p:cNvSpPr>
            <a:spLocks noGrp="1"/>
          </p:cNvSpPr>
          <p:nvPr>
            <p:ph/>
          </p:nvPr>
        </p:nvSpPr>
        <p:spPr>
          <a:xfrm>
            <a:off x="27252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6" name="PlaceHolder 3"/>
          <p:cNvSpPr>
            <a:spLocks noGrp="1"/>
          </p:cNvSpPr>
          <p:nvPr>
            <p:ph/>
          </p:nvPr>
        </p:nvSpPr>
        <p:spPr>
          <a:xfrm>
            <a:off x="4701240" y="1350720"/>
            <a:ext cx="421740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7" name="PlaceHolder 4"/>
          <p:cNvSpPr>
            <a:spLocks noGrp="1"/>
          </p:cNvSpPr>
          <p:nvPr>
            <p:ph/>
          </p:nvPr>
        </p:nvSpPr>
        <p:spPr>
          <a:xfrm>
            <a:off x="272520" y="3878280"/>
            <a:ext cx="8642520" cy="2307960"/>
          </a:xfrm>
          <a:prstGeom prst="rect">
            <a:avLst/>
          </a:prstGeom>
          <a:noFill/>
          <a:ln w="0">
            <a:noFill/>
          </a:ln>
        </p:spPr>
        <p:txBody>
          <a:bodyPr lIns="90360" rIns="90360" tIns="0" bIns="0" anchor="t">
            <a:normAutofit/>
          </a:bodyPr>
          <a:p>
            <a:pPr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3360" y="635040"/>
            <a:ext cx="9004320" cy="0"/>
          </a:xfrm>
          <a:prstGeom prst="line">
            <a:avLst/>
          </a:prstGeom>
          <a:ln w="25560">
            <a:solidFill>
              <a:srgbClr val="ffaf34"/>
            </a:solidFill>
            <a:miter/>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 name="PlaceHolder 1"/>
          <p:cNvSpPr>
            <a:spLocks noGrp="1"/>
          </p:cNvSpPr>
          <p:nvPr>
            <p:ph type="body"/>
          </p:nvPr>
        </p:nvSpPr>
        <p:spPr>
          <a:xfrm>
            <a:off x="272520" y="1350720"/>
            <a:ext cx="8642520" cy="4838760"/>
          </a:xfrm>
          <a:prstGeom prst="rect">
            <a:avLst/>
          </a:prstGeom>
          <a:noFill/>
          <a:ln w="0">
            <a:noFill/>
          </a:ln>
        </p:spPr>
        <p:txBody>
          <a:bodyPr lIns="90360" rIns="90360" tIns="0" bIns="0" anchor="t">
            <a:normAutofit/>
          </a:bodyPr>
          <a:p>
            <a:pPr marL="285840" indent="-28584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ick to edit the outline text format</a:t>
            </a:r>
            <a:endParaRPr b="0" lang="en-US" sz="2200" spc="-1" strike="noStrike">
              <a:solidFill>
                <a:srgbClr val="000000"/>
              </a:solidFill>
              <a:latin typeface="Comic Sans MS"/>
            </a:endParaRPr>
          </a:p>
          <a:p>
            <a:pPr lvl="1" marL="628560" indent="-22860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cond Outline Level</a:t>
            </a:r>
            <a:endParaRPr b="0" lang="en-US" sz="2200" spc="-1" strike="noStrike">
              <a:solidFill>
                <a:srgbClr val="000000"/>
              </a:solidFill>
              <a:latin typeface="Comic Sans MS"/>
            </a:endParaRPr>
          </a:p>
          <a:p>
            <a:pPr lvl="2" marL="914400" indent="-17136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rd Outline Level</a:t>
            </a:r>
            <a:endParaRPr b="0" lang="en-US" sz="2200" spc="-1" strike="noStrike">
              <a:solidFill>
                <a:srgbClr val="000000"/>
              </a:solidFill>
              <a:latin typeface="Comic Sans MS"/>
            </a:endParaRPr>
          </a:p>
          <a:p>
            <a:pPr lvl="3" marL="1200240" indent="-17136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urth Outline Level</a:t>
            </a:r>
            <a:endParaRPr b="0" lang="en-US" sz="2200" spc="-1" strike="noStrike">
              <a:solidFill>
                <a:srgbClr val="000000"/>
              </a:solidFill>
              <a:latin typeface="Comic Sans MS"/>
            </a:endParaRPr>
          </a:p>
          <a:p>
            <a:pPr lvl="4" marL="1486080" indent="-17172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fth Outline Level</a:t>
            </a:r>
            <a:endParaRPr b="0" lang="en-US" sz="2200" spc="-1" strike="noStrike">
              <a:solidFill>
                <a:srgbClr val="000000"/>
              </a:solidFill>
              <a:latin typeface="Comic Sans MS"/>
            </a:endParaRPr>
          </a:p>
          <a:p>
            <a:pPr lvl="5" marL="1486080" indent="-171720">
              <a:lnSpc>
                <a:spcPct val="85000"/>
              </a:lnSpc>
              <a:spcBef>
                <a:spcPts val="275"/>
              </a:spcBef>
              <a:buClr>
                <a:srgbClr val="08080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xth Outline Level</a:t>
            </a:r>
            <a:endParaRPr b="0" lang="en-US" sz="2200" spc="-1" strike="noStrike">
              <a:solidFill>
                <a:srgbClr val="000000"/>
              </a:solidFill>
              <a:latin typeface="Comic Sans MS"/>
            </a:endParaRPr>
          </a:p>
          <a:p>
            <a:pPr lvl="6" marL="1486080" indent="-171720">
              <a:lnSpc>
                <a:spcPct val="85000"/>
              </a:lnSpc>
              <a:spcBef>
                <a:spcPts val="275"/>
              </a:spcBef>
              <a:buClr>
                <a:srgbClr val="080808"/>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venth Outline Level</a:t>
            </a:r>
            <a:endParaRPr b="0" lang="en-US" sz="2200" spc="-1" strike="noStrike">
              <a:solidFill>
                <a:srgbClr val="000000"/>
              </a:solidFill>
              <a:latin typeface="Comic Sans MS"/>
            </a:endParaRPr>
          </a:p>
        </p:txBody>
      </p:sp>
      <p:sp>
        <p:nvSpPr>
          <p:cNvPr id="2" name="PlaceHolder 2"/>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Click to edit the title text format</a:t>
            </a:r>
            <a:endParaRPr b="1" lang="en-US" sz="2800" spc="-1" strike="noStrike">
              <a:solidFill>
                <a:srgbClr val="ffaf34"/>
              </a:solidFill>
              <a:latin typeface="Comic Sans MS"/>
            </a:endParaRPr>
          </a:p>
        </p:txBody>
      </p:sp>
      <p:sp>
        <p:nvSpPr>
          <p:cNvPr id="3" name=""/>
          <p:cNvSpPr/>
          <p:nvPr/>
        </p:nvSpPr>
        <p:spPr>
          <a:xfrm>
            <a:off x="96840" y="6615000"/>
            <a:ext cx="15667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80808"/>
                </a:solidFill>
                <a:latin typeface="Arial"/>
              </a:rPr>
              <a:t>March 2000</a:t>
            </a:r>
            <a:endParaRPr b="0" lang="en-US" sz="1000" spc="-1" strike="noStrike">
              <a:solidFill>
                <a:srgbClr val="080808"/>
              </a:solidFill>
              <a:latin typeface="Times New Roman"/>
            </a:endParaRPr>
          </a:p>
        </p:txBody>
      </p:sp>
      <p:pic>
        <p:nvPicPr>
          <p:cNvPr id="4" name="Alcatel" descr=""/>
          <p:cNvPicPr/>
          <p:nvPr/>
        </p:nvPicPr>
        <p:blipFill>
          <a:blip r:embed="rId2"/>
          <a:srcRect l="0" t="0" r="0" b="26240"/>
          <a:stretch/>
        </p:blipFill>
        <p:spPr>
          <a:xfrm>
            <a:off x="7620120" y="127080"/>
            <a:ext cx="1292040" cy="411120"/>
          </a:xfrm>
          <a:prstGeom prst="rect">
            <a:avLst/>
          </a:prstGeom>
          <a:ln w="0">
            <a:noFill/>
          </a:ln>
        </p:spPr>
      </p:pic>
      <p:sp>
        <p:nvSpPr>
          <p:cNvPr id="5" name=""/>
          <p:cNvSpPr/>
          <p:nvPr/>
        </p:nvSpPr>
        <p:spPr>
          <a:xfrm>
            <a:off x="38160" y="6464160"/>
            <a:ext cx="101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atel CDD</a:t>
            </a:r>
            <a:endParaRPr b="0" lang="en-US" sz="1200" spc="-1" strike="noStrike">
              <a:solidFill>
                <a:srgbClr val="080808"/>
              </a:solidFill>
              <a:latin typeface="Times New Roman"/>
            </a:endParaRPr>
          </a:p>
        </p:txBody>
      </p:sp>
      <p:sp>
        <p:nvSpPr>
          <p:cNvPr id="6" name=""/>
          <p:cNvSpPr/>
          <p:nvPr/>
        </p:nvSpPr>
        <p:spPr>
          <a:xfrm>
            <a:off x="7889040" y="6515280"/>
            <a:ext cx="1311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lide </a:t>
            </a:r>
            <a:fld id="{37A97B96-5BB4-465A-B707-46262C9848B4}" type="slidenum">
              <a:rPr b="0" lang="en-US" sz="1200" spc="-1" strike="noStrike">
                <a:solidFill>
                  <a:srgbClr val="000000"/>
                </a:solidFill>
                <a:latin typeface="Comic Sans MS"/>
              </a:rPr>
              <a:t>&lt;number&gt;</a:t>
            </a:fld>
            <a:endParaRPr b="0" lang="en-US" sz="12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2.jpeg"/><Relationship Id="rId8" Type="http://schemas.openxmlformats.org/officeDocument/2006/relationships/image" Target="../media/image5.png"/><Relationship Id="rId9" Type="http://schemas.openxmlformats.org/officeDocument/2006/relationships/image" Target="../media/image2.jpeg"/><Relationship Id="rId10" Type="http://schemas.openxmlformats.org/officeDocument/2006/relationships/image" Target="../media/image3.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oleObject" Target="../embeddings/oleObject1.bin"/><Relationship Id="rId13" Type="http://schemas.openxmlformats.org/officeDocument/2006/relationships/image" Target="../media/image16.png"/><Relationship Id="rId14" Type="http://schemas.openxmlformats.org/officeDocument/2006/relationships/oleObject" Target="../embeddings/oleObject2.bin"/><Relationship Id="rId15" Type="http://schemas.openxmlformats.org/officeDocument/2006/relationships/image" Target="../media/image17.png"/><Relationship Id="rId16" Type="http://schemas.openxmlformats.org/officeDocument/2006/relationships/image" Target="../media/image12.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image" Target="../media/image11.jpeg"/><Relationship Id="rId20" Type="http://schemas.openxmlformats.org/officeDocument/2006/relationships/image" Target="../media/image12.png"/><Relationship Id="rId21" Type="http://schemas.openxmlformats.org/officeDocument/2006/relationships/image" Target="../media/image2.jpeg"/><Relationship Id="rId22" Type="http://schemas.openxmlformats.org/officeDocument/2006/relationships/image" Target="../media/image2.jpeg"/><Relationship Id="rId23" Type="http://schemas.openxmlformats.org/officeDocument/2006/relationships/oleObject" Target="../embeddings/oleObject3.bin"/><Relationship Id="rId24" Type="http://schemas.openxmlformats.org/officeDocument/2006/relationships/image" Target="../media/image18.png"/><Relationship Id="rId25" Type="http://schemas.openxmlformats.org/officeDocument/2006/relationships/image" Target="../media/image4.png"/><Relationship Id="rId26" Type="http://schemas.openxmlformats.org/officeDocument/2006/relationships/image" Target="../media/image19.png"/><Relationship Id="rId27" Type="http://schemas.openxmlformats.org/officeDocument/2006/relationships/image" Target="../media/image2.jpe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image" Target="../media/image19.png"/><Relationship Id="rId31" Type="http://schemas.openxmlformats.org/officeDocument/2006/relationships/image" Target="../media/image21.png"/><Relationship Id="rId32" Type="http://schemas.openxmlformats.org/officeDocument/2006/relationships/oleObject" Target="../embeddings/oleObject4.bin"/><Relationship Id="rId33" Type="http://schemas.openxmlformats.org/officeDocument/2006/relationships/image" Target="../media/image22.png"/><Relationship Id="rId34" Type="http://schemas.openxmlformats.org/officeDocument/2006/relationships/image" Target="../media/image3.png"/><Relationship Id="rId35" Type="http://schemas.openxmlformats.org/officeDocument/2006/relationships/image" Target="../media/image23.png"/><Relationship Id="rId36" Type="http://schemas.openxmlformats.org/officeDocument/2006/relationships/image" Target="../media/image5.png"/><Relationship Id="rId37" Type="http://schemas.openxmlformats.org/officeDocument/2006/relationships/image" Target="../media/image3.png"/><Relationship Id="rId38" Type="http://schemas.openxmlformats.org/officeDocument/2006/relationships/image" Target="../media/image23.png"/><Relationship Id="rId39" Type="http://schemas.openxmlformats.org/officeDocument/2006/relationships/image" Target="../media/image5.png"/><Relationship Id="rId40" Type="http://schemas.openxmlformats.org/officeDocument/2006/relationships/image" Target="../media/image6.png"/><Relationship Id="rId4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oleObject" Target="../embeddings/oleObject1.bin"/><Relationship Id="rId13" Type="http://schemas.openxmlformats.org/officeDocument/2006/relationships/image" Target="../media/image16.png"/><Relationship Id="rId14" Type="http://schemas.openxmlformats.org/officeDocument/2006/relationships/oleObject" Target="../embeddings/oleObject2.bin"/><Relationship Id="rId15" Type="http://schemas.openxmlformats.org/officeDocument/2006/relationships/image" Target="../media/image17.png"/><Relationship Id="rId16" Type="http://schemas.openxmlformats.org/officeDocument/2006/relationships/image" Target="../media/image12.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image" Target="../media/image11.jpeg"/><Relationship Id="rId20" Type="http://schemas.openxmlformats.org/officeDocument/2006/relationships/image" Target="../media/image12.png"/><Relationship Id="rId21" Type="http://schemas.openxmlformats.org/officeDocument/2006/relationships/image" Target="../media/image2.jpeg"/><Relationship Id="rId22" Type="http://schemas.openxmlformats.org/officeDocument/2006/relationships/image" Target="../media/image2.jpeg"/><Relationship Id="rId23" Type="http://schemas.openxmlformats.org/officeDocument/2006/relationships/oleObject" Target="../embeddings/oleObject3.bin"/><Relationship Id="rId24" Type="http://schemas.openxmlformats.org/officeDocument/2006/relationships/image" Target="../media/image18.png"/><Relationship Id="rId25" Type="http://schemas.openxmlformats.org/officeDocument/2006/relationships/image" Target="../media/image4.png"/><Relationship Id="rId26" Type="http://schemas.openxmlformats.org/officeDocument/2006/relationships/image" Target="../media/image19.png"/><Relationship Id="rId27" Type="http://schemas.openxmlformats.org/officeDocument/2006/relationships/image" Target="../media/image2.jpe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image" Target="../media/image19.png"/><Relationship Id="rId31" Type="http://schemas.openxmlformats.org/officeDocument/2006/relationships/image" Target="../media/image21.png"/><Relationship Id="rId32" Type="http://schemas.openxmlformats.org/officeDocument/2006/relationships/oleObject" Target="../embeddings/oleObject4.bin"/><Relationship Id="rId33" Type="http://schemas.openxmlformats.org/officeDocument/2006/relationships/image" Target="../media/image22.png"/><Relationship Id="rId34" Type="http://schemas.openxmlformats.org/officeDocument/2006/relationships/image" Target="../media/image3.png"/><Relationship Id="rId35" Type="http://schemas.openxmlformats.org/officeDocument/2006/relationships/image" Target="../media/image23.png"/><Relationship Id="rId36" Type="http://schemas.openxmlformats.org/officeDocument/2006/relationships/image" Target="../media/image5.png"/><Relationship Id="rId37" Type="http://schemas.openxmlformats.org/officeDocument/2006/relationships/image" Target="../media/image3.png"/><Relationship Id="rId38" Type="http://schemas.openxmlformats.org/officeDocument/2006/relationships/image" Target="../media/image23.png"/><Relationship Id="rId39" Type="http://schemas.openxmlformats.org/officeDocument/2006/relationships/image" Target="../media/image5.png"/><Relationship Id="rId40" Type="http://schemas.openxmlformats.org/officeDocument/2006/relationships/image" Target="../media/image6.png"/><Relationship Id="rId4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23.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23.png"/><Relationship Id="rId12" Type="http://schemas.openxmlformats.org/officeDocument/2006/relationships/image" Target="../media/image5.png"/><Relationship Id="rId13" Type="http://schemas.openxmlformats.org/officeDocument/2006/relationships/slideLayout" Target="../slideLayouts/slideLayout5.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image" Target="../media/image4.png"/><Relationship Id="rId10" Type="http://schemas.openxmlformats.org/officeDocument/2006/relationships/image" Target="../media/image20.png"/><Relationship Id="rId11" Type="http://schemas.openxmlformats.org/officeDocument/2006/relationships/oleObject" Target="../embeddings/oleObject5.bin"/><Relationship Id="rId12" Type="http://schemas.openxmlformats.org/officeDocument/2006/relationships/image" Target="../media/image22.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jpeg"/><Relationship Id="rId16" Type="http://schemas.openxmlformats.org/officeDocument/2006/relationships/image" Target="../media/image27.jpeg"/><Relationship Id="rId17" Type="http://schemas.openxmlformats.org/officeDocument/2006/relationships/image" Target="../media/image27.jpeg"/><Relationship Id="rId18" Type="http://schemas.openxmlformats.org/officeDocument/2006/relationships/image" Target="../media/image27.jpeg"/><Relationship Id="rId1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5480" y="3631680"/>
            <a:ext cx="7554960" cy="939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omic Sans MS"/>
              </a:rPr>
              <a:t>Architects of an Internet World</a:t>
            </a:r>
            <a:endParaRPr b="1" lang="en-US" sz="3600" spc="-1" strike="noStrike">
              <a:solidFill>
                <a:srgbClr val="ffaf34"/>
              </a:solidFill>
              <a:latin typeface="Comic Sans MS"/>
            </a:endParaRPr>
          </a:p>
        </p:txBody>
      </p:sp>
      <p:pic>
        <p:nvPicPr>
          <p:cNvPr id="48" name="Alcatel" descr=""/>
          <p:cNvPicPr/>
          <p:nvPr/>
        </p:nvPicPr>
        <p:blipFill>
          <a:blip r:embed="rId1"/>
          <a:srcRect l="0" t="0" r="0" b="26240"/>
          <a:stretch/>
        </p:blipFill>
        <p:spPr>
          <a:xfrm>
            <a:off x="1289160" y="1714680"/>
            <a:ext cx="6626160" cy="2108160"/>
          </a:xfrm>
          <a:prstGeom prst="rect">
            <a:avLst/>
          </a:prstGeom>
          <a:ln w="0">
            <a:noFill/>
          </a:ln>
        </p:spPr>
      </p:pic>
      <p:sp>
        <p:nvSpPr>
          <p:cNvPr id="49" name=""/>
          <p:cNvSpPr/>
          <p:nvPr/>
        </p:nvSpPr>
        <p:spPr>
          <a:xfrm>
            <a:off x="3003480" y="4930920"/>
            <a:ext cx="3207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chael S Cox, CTO</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rier Data, Asia Pacific</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chael.cox@alcatel.com.au</a:t>
            </a:r>
            <a:endParaRPr b="0" lang="en-US" sz="1800" spc="-1" strike="noStrike">
              <a:solidFill>
                <a:srgbClr val="08080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Architectural Options</a:t>
            </a:r>
            <a:endParaRPr b="1" lang="en-US" sz="2800" spc="-1" strike="noStrike">
              <a:solidFill>
                <a:srgbClr val="ffaf34"/>
              </a:solidFill>
              <a:latin typeface="Comic Sans MS"/>
            </a:endParaRPr>
          </a:p>
        </p:txBody>
      </p:sp>
      <p:grpSp>
        <p:nvGrpSpPr>
          <p:cNvPr id="123" name=""/>
          <p:cNvGrpSpPr/>
          <p:nvPr/>
        </p:nvGrpSpPr>
        <p:grpSpPr>
          <a:xfrm>
            <a:off x="380880" y="863640"/>
            <a:ext cx="8385120" cy="642960"/>
            <a:chOff x="380880" y="863640"/>
            <a:chExt cx="8385120" cy="642960"/>
          </a:xfrm>
        </p:grpSpPr>
        <p:pic>
          <p:nvPicPr>
            <p:cNvPr id="124" name="line%20horiz" descr=""/>
            <p:cNvPicPr/>
            <p:nvPr/>
          </p:nvPicPr>
          <p:blipFill>
            <a:blip r:embed="rId1"/>
            <a:stretch/>
          </p:blipFill>
          <p:spPr>
            <a:xfrm>
              <a:off x="736560" y="1206360"/>
              <a:ext cx="685800" cy="76320"/>
            </a:xfrm>
            <a:prstGeom prst="rect">
              <a:avLst/>
            </a:prstGeom>
            <a:ln w="0">
              <a:noFill/>
            </a:ln>
          </p:spPr>
        </p:pic>
        <p:pic>
          <p:nvPicPr>
            <p:cNvPr id="125" name="line%20horiz" descr=""/>
            <p:cNvPicPr/>
            <p:nvPr/>
          </p:nvPicPr>
          <p:blipFill>
            <a:blip r:embed="rId2"/>
            <a:stretch/>
          </p:blipFill>
          <p:spPr>
            <a:xfrm>
              <a:off x="7746840" y="1079280"/>
              <a:ext cx="685800" cy="76320"/>
            </a:xfrm>
            <a:prstGeom prst="rect">
              <a:avLst/>
            </a:prstGeom>
            <a:ln w="0">
              <a:noFill/>
            </a:ln>
          </p:spPr>
        </p:pic>
        <p:pic>
          <p:nvPicPr>
            <p:cNvPr id="126" name="line%20horiz" descr=""/>
            <p:cNvPicPr/>
            <p:nvPr/>
          </p:nvPicPr>
          <p:blipFill>
            <a:blip r:embed="rId3"/>
            <a:stretch/>
          </p:blipFill>
          <p:spPr>
            <a:xfrm>
              <a:off x="5537160" y="1155600"/>
              <a:ext cx="685800" cy="76320"/>
            </a:xfrm>
            <a:prstGeom prst="rect">
              <a:avLst/>
            </a:prstGeom>
            <a:ln w="0">
              <a:noFill/>
            </a:ln>
          </p:spPr>
        </p:pic>
        <p:pic>
          <p:nvPicPr>
            <p:cNvPr id="127" name="subnet_beige" descr=""/>
            <p:cNvPicPr/>
            <p:nvPr/>
          </p:nvPicPr>
          <p:blipFill>
            <a:blip r:embed="rId4"/>
            <a:stretch/>
          </p:blipFill>
          <p:spPr>
            <a:xfrm>
              <a:off x="1346040" y="1015920"/>
              <a:ext cx="1567080" cy="412920"/>
            </a:xfrm>
            <a:prstGeom prst="rect">
              <a:avLst/>
            </a:prstGeom>
            <a:ln w="0">
              <a:noFill/>
            </a:ln>
          </p:spPr>
        </p:pic>
        <p:pic>
          <p:nvPicPr>
            <p:cNvPr id="128" name="cloud%20gr" descr=""/>
            <p:cNvPicPr/>
            <p:nvPr/>
          </p:nvPicPr>
          <p:blipFill>
            <a:blip r:embed="rId5"/>
            <a:stretch/>
          </p:blipFill>
          <p:spPr>
            <a:xfrm>
              <a:off x="3365280" y="863640"/>
              <a:ext cx="2514600" cy="609480"/>
            </a:xfrm>
            <a:prstGeom prst="rect">
              <a:avLst/>
            </a:prstGeom>
            <a:ln w="0">
              <a:noFill/>
            </a:ln>
          </p:spPr>
        </p:pic>
        <p:pic>
          <p:nvPicPr>
            <p:cNvPr id="129" name="NMS_console_(small)" descr=""/>
            <p:cNvPicPr/>
            <p:nvPr/>
          </p:nvPicPr>
          <p:blipFill>
            <a:blip r:embed="rId6"/>
            <a:stretch/>
          </p:blipFill>
          <p:spPr>
            <a:xfrm>
              <a:off x="380880" y="1015920"/>
              <a:ext cx="460440" cy="490680"/>
            </a:xfrm>
            <a:prstGeom prst="rect">
              <a:avLst/>
            </a:prstGeom>
            <a:ln w="0">
              <a:noFill/>
            </a:ln>
          </p:spPr>
        </p:pic>
        <p:pic>
          <p:nvPicPr>
            <p:cNvPr id="130" name="line%20horiz" descr=""/>
            <p:cNvPicPr/>
            <p:nvPr/>
          </p:nvPicPr>
          <p:blipFill>
            <a:blip r:embed="rId7"/>
            <a:stretch/>
          </p:blipFill>
          <p:spPr>
            <a:xfrm>
              <a:off x="2857320" y="1155600"/>
              <a:ext cx="609840" cy="76320"/>
            </a:xfrm>
            <a:prstGeom prst="rect">
              <a:avLst/>
            </a:prstGeom>
            <a:ln w="0">
              <a:noFill/>
            </a:ln>
          </p:spPr>
        </p:pic>
        <p:sp>
          <p:nvSpPr>
            <p:cNvPr id="131" name=""/>
            <p:cNvSpPr/>
            <p:nvPr/>
          </p:nvSpPr>
          <p:spPr>
            <a:xfrm>
              <a:off x="4085280" y="939600"/>
              <a:ext cx="126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a:t>
              </a:r>
              <a:endParaRPr b="0" lang="en-US" sz="2000" spc="-1" strike="noStrike">
                <a:solidFill>
                  <a:srgbClr val="080808"/>
                </a:solidFill>
                <a:latin typeface="Times New Roman"/>
              </a:endParaRPr>
            </a:p>
          </p:txBody>
        </p:sp>
        <p:sp>
          <p:nvSpPr>
            <p:cNvPr id="132" name=""/>
            <p:cNvSpPr/>
            <p:nvPr/>
          </p:nvSpPr>
          <p:spPr>
            <a:xfrm>
              <a:off x="1603080" y="1100520"/>
              <a:ext cx="1051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terprise</a:t>
              </a:r>
              <a:endParaRPr b="0" lang="en-US" sz="1600" spc="-1" strike="noStrike">
                <a:solidFill>
                  <a:srgbClr val="080808"/>
                </a:solidFill>
                <a:latin typeface="Times New Roman"/>
              </a:endParaRPr>
            </a:p>
          </p:txBody>
        </p:sp>
        <p:pic>
          <p:nvPicPr>
            <p:cNvPr id="133" name="NMS_console_(small)" descr=""/>
            <p:cNvPicPr/>
            <p:nvPr/>
          </p:nvPicPr>
          <p:blipFill>
            <a:blip r:embed="rId8"/>
            <a:stretch/>
          </p:blipFill>
          <p:spPr>
            <a:xfrm>
              <a:off x="8305560" y="939600"/>
              <a:ext cx="460440" cy="490680"/>
            </a:xfrm>
            <a:prstGeom prst="rect">
              <a:avLst/>
            </a:prstGeom>
            <a:ln w="0">
              <a:noFill/>
            </a:ln>
          </p:spPr>
        </p:pic>
        <p:pic>
          <p:nvPicPr>
            <p:cNvPr id="134" name="line%20horiz" descr=""/>
            <p:cNvPicPr/>
            <p:nvPr/>
          </p:nvPicPr>
          <p:blipFill>
            <a:blip r:embed="rId9"/>
            <a:stretch/>
          </p:blipFill>
          <p:spPr>
            <a:xfrm>
              <a:off x="6006960" y="1130400"/>
              <a:ext cx="685800" cy="75960"/>
            </a:xfrm>
            <a:prstGeom prst="rect">
              <a:avLst/>
            </a:prstGeom>
            <a:ln w="0">
              <a:noFill/>
            </a:ln>
          </p:spPr>
        </p:pic>
        <p:pic>
          <p:nvPicPr>
            <p:cNvPr id="135" name="subnet_beige" descr=""/>
            <p:cNvPicPr/>
            <p:nvPr/>
          </p:nvPicPr>
          <p:blipFill>
            <a:blip r:embed="rId10"/>
            <a:stretch/>
          </p:blipFill>
          <p:spPr>
            <a:xfrm>
              <a:off x="6311880" y="939600"/>
              <a:ext cx="1566720" cy="412920"/>
            </a:xfrm>
            <a:prstGeom prst="rect">
              <a:avLst/>
            </a:prstGeom>
            <a:ln w="0">
              <a:noFill/>
            </a:ln>
          </p:spPr>
        </p:pic>
        <p:sp>
          <p:nvSpPr>
            <p:cNvPr id="136" name=""/>
            <p:cNvSpPr/>
            <p:nvPr/>
          </p:nvSpPr>
          <p:spPr>
            <a:xfrm>
              <a:off x="6568920" y="1024200"/>
              <a:ext cx="1050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terprise</a:t>
              </a:r>
              <a:endParaRPr b="0" lang="en-US" sz="1600" spc="-1" strike="noStrike">
                <a:solidFill>
                  <a:srgbClr val="080808"/>
                </a:solidFill>
                <a:latin typeface="Times New Roman"/>
              </a:endParaRPr>
            </a:p>
          </p:txBody>
        </p:sp>
      </p:grpSp>
      <p:grpSp>
        <p:nvGrpSpPr>
          <p:cNvPr id="137" name=""/>
          <p:cNvGrpSpPr/>
          <p:nvPr/>
        </p:nvGrpSpPr>
        <p:grpSpPr>
          <a:xfrm>
            <a:off x="190440" y="4897440"/>
            <a:ext cx="8953560" cy="1546200"/>
            <a:chOff x="190440" y="4897440"/>
            <a:chExt cx="8953560" cy="1546200"/>
          </a:xfrm>
        </p:grpSpPr>
        <p:grpSp>
          <p:nvGrpSpPr>
            <p:cNvPr id="138" name=""/>
            <p:cNvGrpSpPr/>
            <p:nvPr/>
          </p:nvGrpSpPr>
          <p:grpSpPr>
            <a:xfrm>
              <a:off x="190440" y="4897440"/>
              <a:ext cx="8382240" cy="411120"/>
              <a:chOff x="190440" y="4897440"/>
              <a:chExt cx="8382240" cy="411120"/>
            </a:xfrm>
          </p:grpSpPr>
          <p:sp>
            <p:nvSpPr>
              <p:cNvPr id="139" name=""/>
              <p:cNvSpPr/>
              <p:nvPr/>
            </p:nvSpPr>
            <p:spPr>
              <a:xfrm>
                <a:off x="647640" y="5079960"/>
                <a:ext cx="7925040" cy="0"/>
              </a:xfrm>
              <a:prstGeom prst="line">
                <a:avLst/>
              </a:prstGeom>
              <a:ln w="38160">
                <a:solidFill>
                  <a:srgbClr val="080808"/>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pic>
            <p:nvPicPr>
              <p:cNvPr id="140" name="subnet_yellow" descr=""/>
              <p:cNvPicPr/>
              <p:nvPr/>
            </p:nvPicPr>
            <p:blipFill>
              <a:blip r:embed="rId11"/>
              <a:stretch/>
            </p:blipFill>
            <p:spPr>
              <a:xfrm>
                <a:off x="190440" y="4927680"/>
                <a:ext cx="381240" cy="380880"/>
              </a:xfrm>
              <a:prstGeom prst="rect">
                <a:avLst/>
              </a:prstGeom>
              <a:ln w="0">
                <a:noFill/>
              </a:ln>
            </p:spPr>
          </p:pic>
          <p:sp>
            <p:nvSpPr>
              <p:cNvPr id="141" name=""/>
              <p:cNvSpPr/>
              <p:nvPr/>
            </p:nvSpPr>
            <p:spPr>
              <a:xfrm>
                <a:off x="346680" y="4988520"/>
                <a:ext cx="116640" cy="2437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Comic Sans MS"/>
                  </a:rPr>
                  <a:t>3</a:t>
                </a:r>
                <a:endParaRPr b="0" lang="en-US" sz="1600" spc="-1" strike="noStrike">
                  <a:solidFill>
                    <a:srgbClr val="080808"/>
                  </a:solidFill>
                  <a:latin typeface="Times New Roman"/>
                </a:endParaRPr>
              </a:p>
            </p:txBody>
          </p:sp>
          <p:sp>
            <p:nvSpPr>
              <p:cNvPr id="142" name=""/>
              <p:cNvSpPr/>
              <p:nvPr/>
            </p:nvSpPr>
            <p:spPr>
              <a:xfrm>
                <a:off x="4424040" y="4897440"/>
                <a:ext cx="60732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DiffServ</a:t>
                </a:r>
                <a:endParaRPr b="0" lang="en-US" sz="1200" spc="-1" strike="noStrike">
                  <a:solidFill>
                    <a:srgbClr val="080808"/>
                  </a:solidFill>
                  <a:latin typeface="Times New Roman"/>
                </a:endParaRPr>
              </a:p>
            </p:txBody>
          </p:sp>
        </p:grpSp>
        <p:sp>
          <p:nvSpPr>
            <p:cNvPr id="143" name=""/>
            <p:cNvSpPr/>
            <p:nvPr/>
          </p:nvSpPr>
          <p:spPr>
            <a:xfrm>
              <a:off x="380880" y="5259240"/>
              <a:ext cx="8763120" cy="118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is option is unlikely due to the lack of explicit signaling and feedback.</a:t>
              </a:r>
              <a:endParaRPr b="0" lang="en-US" sz="2400" spc="-1" strike="noStrike">
                <a:solidFill>
                  <a:srgbClr val="080808"/>
                </a:solidFill>
                <a:latin typeface="Times New Roman"/>
              </a:endParaRPr>
            </a:p>
          </p:txBody>
        </p:sp>
      </p:grpSp>
      <p:grpSp>
        <p:nvGrpSpPr>
          <p:cNvPr id="144" name=""/>
          <p:cNvGrpSpPr/>
          <p:nvPr/>
        </p:nvGrpSpPr>
        <p:grpSpPr>
          <a:xfrm>
            <a:off x="190440" y="3338640"/>
            <a:ext cx="8953560" cy="1530360"/>
            <a:chOff x="190440" y="3338640"/>
            <a:chExt cx="8953560" cy="1530360"/>
          </a:xfrm>
        </p:grpSpPr>
        <p:grpSp>
          <p:nvGrpSpPr>
            <p:cNvPr id="145" name=""/>
            <p:cNvGrpSpPr/>
            <p:nvPr/>
          </p:nvGrpSpPr>
          <p:grpSpPr>
            <a:xfrm>
              <a:off x="190440" y="3338640"/>
              <a:ext cx="8394840" cy="392040"/>
              <a:chOff x="190440" y="3338640"/>
              <a:chExt cx="8394840" cy="392040"/>
            </a:xfrm>
          </p:grpSpPr>
          <p:pic>
            <p:nvPicPr>
              <p:cNvPr id="146" name="subnet_yellow" descr=""/>
              <p:cNvPicPr/>
              <p:nvPr/>
            </p:nvPicPr>
            <p:blipFill>
              <a:blip r:embed="rId12"/>
              <a:stretch/>
            </p:blipFill>
            <p:spPr>
              <a:xfrm>
                <a:off x="190440" y="3349800"/>
                <a:ext cx="381240" cy="380880"/>
              </a:xfrm>
              <a:prstGeom prst="rect">
                <a:avLst/>
              </a:prstGeom>
              <a:ln w="0">
                <a:noFill/>
              </a:ln>
            </p:spPr>
          </p:pic>
          <p:sp>
            <p:nvSpPr>
              <p:cNvPr id="147" name=""/>
              <p:cNvSpPr/>
              <p:nvPr/>
            </p:nvSpPr>
            <p:spPr>
              <a:xfrm>
                <a:off x="346680" y="3410280"/>
                <a:ext cx="116640" cy="2437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Comic Sans MS"/>
                  </a:rPr>
                  <a:t>2</a:t>
                </a:r>
                <a:endParaRPr b="0" lang="en-US" sz="1600" spc="-1" strike="noStrike">
                  <a:solidFill>
                    <a:srgbClr val="080808"/>
                  </a:solidFill>
                  <a:latin typeface="Times New Roman"/>
                </a:endParaRPr>
              </a:p>
            </p:txBody>
          </p:sp>
          <p:sp>
            <p:nvSpPr>
              <p:cNvPr id="148" name=""/>
              <p:cNvSpPr/>
              <p:nvPr/>
            </p:nvSpPr>
            <p:spPr>
              <a:xfrm>
                <a:off x="660600" y="3521160"/>
                <a:ext cx="250164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49" name=""/>
              <p:cNvSpPr/>
              <p:nvPr/>
            </p:nvSpPr>
            <p:spPr>
              <a:xfrm>
                <a:off x="3200400" y="3521160"/>
                <a:ext cx="2933640" cy="0"/>
              </a:xfrm>
              <a:prstGeom prst="line">
                <a:avLst/>
              </a:prstGeom>
              <a:ln w="38160">
                <a:solidFill>
                  <a:srgbClr val="080808"/>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50" name=""/>
              <p:cNvSpPr/>
              <p:nvPr/>
            </p:nvSpPr>
            <p:spPr>
              <a:xfrm>
                <a:off x="6172200" y="3521160"/>
                <a:ext cx="241308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51" name=""/>
              <p:cNvSpPr/>
              <p:nvPr/>
            </p:nvSpPr>
            <p:spPr>
              <a:xfrm>
                <a:off x="1508040" y="333864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sp>
            <p:nvSpPr>
              <p:cNvPr id="152" name=""/>
              <p:cNvSpPr/>
              <p:nvPr/>
            </p:nvSpPr>
            <p:spPr>
              <a:xfrm>
                <a:off x="4436640" y="3338640"/>
                <a:ext cx="60732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DiffServ</a:t>
                </a:r>
                <a:endParaRPr b="0" lang="en-US" sz="1200" spc="-1" strike="noStrike">
                  <a:solidFill>
                    <a:srgbClr val="080808"/>
                  </a:solidFill>
                  <a:latin typeface="Times New Roman"/>
                </a:endParaRPr>
              </a:p>
            </p:txBody>
          </p:sp>
          <p:sp>
            <p:nvSpPr>
              <p:cNvPr id="153" name=""/>
              <p:cNvSpPr/>
              <p:nvPr/>
            </p:nvSpPr>
            <p:spPr>
              <a:xfrm>
                <a:off x="6689520" y="333864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sp>
          <p:nvSpPr>
            <p:cNvPr id="154" name=""/>
            <p:cNvSpPr/>
            <p:nvPr/>
          </p:nvSpPr>
          <p:spPr>
            <a:xfrm>
              <a:off x="380880" y="3684600"/>
              <a:ext cx="8763120" cy="118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is is where we appear to be heading as the best of both worlds.</a:t>
              </a:r>
              <a:endParaRPr b="0" lang="en-US" sz="2400" spc="-1" strike="noStrike">
                <a:solidFill>
                  <a:srgbClr val="080808"/>
                </a:solidFill>
                <a:latin typeface="Times New Roman"/>
              </a:endParaRPr>
            </a:p>
          </p:txBody>
        </p:sp>
      </p:grpSp>
      <p:grpSp>
        <p:nvGrpSpPr>
          <p:cNvPr id="155" name=""/>
          <p:cNvGrpSpPr/>
          <p:nvPr/>
        </p:nvGrpSpPr>
        <p:grpSpPr>
          <a:xfrm>
            <a:off x="190440" y="1773360"/>
            <a:ext cx="8953560" cy="1520640"/>
            <a:chOff x="190440" y="1773360"/>
            <a:chExt cx="8953560" cy="1520640"/>
          </a:xfrm>
        </p:grpSpPr>
        <p:grpSp>
          <p:nvGrpSpPr>
            <p:cNvPr id="156" name=""/>
            <p:cNvGrpSpPr/>
            <p:nvPr/>
          </p:nvGrpSpPr>
          <p:grpSpPr>
            <a:xfrm>
              <a:off x="190440" y="1773360"/>
              <a:ext cx="8382240" cy="411120"/>
              <a:chOff x="190440" y="1773360"/>
              <a:chExt cx="8382240" cy="411120"/>
            </a:xfrm>
          </p:grpSpPr>
          <p:sp>
            <p:nvSpPr>
              <p:cNvPr id="157" name=""/>
              <p:cNvSpPr/>
              <p:nvPr/>
            </p:nvSpPr>
            <p:spPr>
              <a:xfrm>
                <a:off x="647640" y="1955880"/>
                <a:ext cx="250200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58" name=""/>
              <p:cNvSpPr/>
              <p:nvPr/>
            </p:nvSpPr>
            <p:spPr>
              <a:xfrm>
                <a:off x="3187800" y="1955880"/>
                <a:ext cx="2933640" cy="0"/>
              </a:xfrm>
              <a:prstGeom prst="line">
                <a:avLst/>
              </a:prstGeom>
              <a:ln w="38160">
                <a:solidFill>
                  <a:srgbClr val="080808"/>
                </a:solidFill>
                <a:prstDash val="lg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59" name=""/>
              <p:cNvSpPr/>
              <p:nvPr/>
            </p:nvSpPr>
            <p:spPr>
              <a:xfrm>
                <a:off x="6159600" y="1955880"/>
                <a:ext cx="241308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160" name=""/>
              <p:cNvSpPr/>
              <p:nvPr/>
            </p:nvSpPr>
            <p:spPr>
              <a:xfrm>
                <a:off x="1495080" y="177336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sp>
            <p:nvSpPr>
              <p:cNvPr id="161" name=""/>
              <p:cNvSpPr/>
              <p:nvPr/>
            </p:nvSpPr>
            <p:spPr>
              <a:xfrm>
                <a:off x="4241520" y="177336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pic>
            <p:nvPicPr>
              <p:cNvPr id="162" name="subnet_yellow" descr=""/>
              <p:cNvPicPr/>
              <p:nvPr/>
            </p:nvPicPr>
            <p:blipFill>
              <a:blip r:embed="rId13"/>
              <a:stretch/>
            </p:blipFill>
            <p:spPr>
              <a:xfrm>
                <a:off x="190440" y="1803600"/>
                <a:ext cx="381240" cy="380880"/>
              </a:xfrm>
              <a:prstGeom prst="rect">
                <a:avLst/>
              </a:prstGeom>
              <a:ln w="0">
                <a:noFill/>
              </a:ln>
            </p:spPr>
          </p:pic>
          <p:sp>
            <p:nvSpPr>
              <p:cNvPr id="163" name=""/>
              <p:cNvSpPr/>
              <p:nvPr/>
            </p:nvSpPr>
            <p:spPr>
              <a:xfrm>
                <a:off x="346680" y="1864080"/>
                <a:ext cx="116640" cy="2437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Comic Sans MS"/>
                  </a:rPr>
                  <a:t>1</a:t>
                </a:r>
                <a:endParaRPr b="0" lang="en-US" sz="1600" spc="-1" strike="noStrike">
                  <a:solidFill>
                    <a:srgbClr val="080808"/>
                  </a:solidFill>
                  <a:latin typeface="Times New Roman"/>
                </a:endParaRPr>
              </a:p>
            </p:txBody>
          </p:sp>
          <p:sp>
            <p:nvSpPr>
              <p:cNvPr id="164" name=""/>
              <p:cNvSpPr/>
              <p:nvPr/>
            </p:nvSpPr>
            <p:spPr>
              <a:xfrm>
                <a:off x="6676920" y="177336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sp>
          <p:nvSpPr>
            <p:cNvPr id="165" name=""/>
            <p:cNvSpPr/>
            <p:nvPr/>
          </p:nvSpPr>
          <p:spPr>
            <a:xfrm>
              <a:off x="380880" y="2109960"/>
              <a:ext cx="8763120" cy="1184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is is where we are now, however there are a number of concerns.</a:t>
              </a:r>
              <a:endParaRPr b="0" lang="en-US" sz="2400" spc="-1" strike="noStrike">
                <a:solidFill>
                  <a:srgbClr val="080808"/>
                </a:solidFill>
                <a:latin typeface="Times New Roman"/>
              </a:endParaRPr>
            </a:p>
          </p:txBody>
        </p:sp>
      </p:gr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IntServ End-to-End</a:t>
            </a:r>
            <a:endParaRPr b="1" lang="en-US" sz="2800" spc="-1" strike="noStrike">
              <a:solidFill>
                <a:srgbClr val="ffaf34"/>
              </a:solidFill>
              <a:latin typeface="Comic Sans MS"/>
            </a:endParaRPr>
          </a:p>
        </p:txBody>
      </p:sp>
      <p:grpSp>
        <p:nvGrpSpPr>
          <p:cNvPr id="167" name=""/>
          <p:cNvGrpSpPr/>
          <p:nvPr/>
        </p:nvGrpSpPr>
        <p:grpSpPr>
          <a:xfrm>
            <a:off x="0" y="2133720"/>
            <a:ext cx="3390840" cy="1675800"/>
            <a:chOff x="0" y="2133720"/>
            <a:chExt cx="3390840" cy="1675800"/>
          </a:xfrm>
        </p:grpSpPr>
        <p:pic>
          <p:nvPicPr>
            <p:cNvPr id="168" name="line%20vert2" descr=""/>
            <p:cNvPicPr/>
            <p:nvPr/>
          </p:nvPicPr>
          <p:blipFill>
            <a:blip r:embed="rId1"/>
            <a:stretch/>
          </p:blipFill>
          <p:spPr>
            <a:xfrm flipH="1">
              <a:off x="2209680" y="2133720"/>
              <a:ext cx="76320" cy="914400"/>
            </a:xfrm>
            <a:prstGeom prst="rect">
              <a:avLst/>
            </a:prstGeom>
            <a:ln w="0">
              <a:noFill/>
            </a:ln>
          </p:spPr>
        </p:pic>
        <p:pic>
          <p:nvPicPr>
            <p:cNvPr id="169" name="line%2045%20rt" descr=""/>
            <p:cNvPicPr/>
            <p:nvPr/>
          </p:nvPicPr>
          <p:blipFill>
            <a:blip r:embed="rId2"/>
            <a:stretch/>
          </p:blipFill>
          <p:spPr>
            <a:xfrm>
              <a:off x="1371600" y="2133720"/>
              <a:ext cx="835200" cy="914400"/>
            </a:xfrm>
            <a:prstGeom prst="rect">
              <a:avLst/>
            </a:prstGeom>
            <a:ln w="0">
              <a:noFill/>
            </a:ln>
          </p:spPr>
        </p:pic>
        <p:pic>
          <p:nvPicPr>
            <p:cNvPr id="170" name="server%20blue_lines" descr=""/>
            <p:cNvPicPr/>
            <p:nvPr/>
          </p:nvPicPr>
          <p:blipFill>
            <a:blip r:embed="rId3"/>
            <a:stretch/>
          </p:blipFill>
          <p:spPr>
            <a:xfrm>
              <a:off x="1154160" y="3048120"/>
              <a:ext cx="293760" cy="507960"/>
            </a:xfrm>
            <a:prstGeom prst="rect">
              <a:avLst/>
            </a:prstGeom>
            <a:ln w="0">
              <a:noFill/>
            </a:ln>
          </p:spPr>
        </p:pic>
        <p:pic>
          <p:nvPicPr>
            <p:cNvPr id="171" name="server%20red_lines" descr=""/>
            <p:cNvPicPr/>
            <p:nvPr/>
          </p:nvPicPr>
          <p:blipFill>
            <a:blip r:embed="rId4"/>
            <a:stretch/>
          </p:blipFill>
          <p:spPr>
            <a:xfrm>
              <a:off x="2133720" y="3048120"/>
              <a:ext cx="269640" cy="507960"/>
            </a:xfrm>
            <a:prstGeom prst="rect">
              <a:avLst/>
            </a:prstGeom>
            <a:ln w="0">
              <a:noFill/>
            </a:ln>
          </p:spPr>
        </p:pic>
        <p:pic>
          <p:nvPicPr>
            <p:cNvPr id="172" name="apps_small" descr=""/>
            <p:cNvPicPr/>
            <p:nvPr/>
          </p:nvPicPr>
          <p:blipFill>
            <a:blip r:embed="rId5"/>
            <a:stretch/>
          </p:blipFill>
          <p:spPr>
            <a:xfrm>
              <a:off x="1523880" y="3103560"/>
              <a:ext cx="533520" cy="401760"/>
            </a:xfrm>
            <a:prstGeom prst="rect">
              <a:avLst/>
            </a:prstGeom>
            <a:ln w="0">
              <a:noFill/>
            </a:ln>
          </p:spPr>
        </p:pic>
        <p:sp>
          <p:nvSpPr>
            <p:cNvPr id="173" name=""/>
            <p:cNvSpPr/>
            <p:nvPr/>
          </p:nvSpPr>
          <p:spPr>
            <a:xfrm>
              <a:off x="0" y="322884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prise</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Server</a:t>
              </a:r>
              <a:endParaRPr b="0" lang="en-US" sz="1600" spc="-1" strike="noStrike">
                <a:solidFill>
                  <a:srgbClr val="080808"/>
                </a:solidFill>
                <a:latin typeface="Times New Roman"/>
              </a:endParaRPr>
            </a:p>
          </p:txBody>
        </p:sp>
        <p:sp>
          <p:nvSpPr>
            <p:cNvPr id="174" name=""/>
            <p:cNvSpPr/>
            <p:nvPr/>
          </p:nvSpPr>
          <p:spPr>
            <a:xfrm>
              <a:off x="1562040" y="2743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N  Bandwidth</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a:t>
              </a:r>
              <a:endParaRPr b="0" lang="en-US" sz="1600" spc="-1" strike="noStrike">
                <a:solidFill>
                  <a:srgbClr val="080808"/>
                </a:solidFill>
                <a:latin typeface="Times New Roman"/>
              </a:endParaRPr>
            </a:p>
          </p:txBody>
        </p:sp>
      </p:grpSp>
      <p:grpSp>
        <p:nvGrpSpPr>
          <p:cNvPr id="175" name=""/>
          <p:cNvGrpSpPr/>
          <p:nvPr/>
        </p:nvGrpSpPr>
        <p:grpSpPr>
          <a:xfrm>
            <a:off x="3505320" y="2133720"/>
            <a:ext cx="3200400" cy="1571040"/>
            <a:chOff x="3505320" y="2133720"/>
            <a:chExt cx="3200400" cy="1571040"/>
          </a:xfrm>
        </p:grpSpPr>
        <p:pic>
          <p:nvPicPr>
            <p:cNvPr id="176" name="line%2045%20rt" descr=""/>
            <p:cNvPicPr/>
            <p:nvPr/>
          </p:nvPicPr>
          <p:blipFill>
            <a:blip r:embed="rId6"/>
            <a:stretch/>
          </p:blipFill>
          <p:spPr>
            <a:xfrm>
              <a:off x="5638680" y="2209680"/>
              <a:ext cx="457200" cy="609840"/>
            </a:xfrm>
            <a:prstGeom prst="rect">
              <a:avLst/>
            </a:prstGeom>
            <a:ln w="0">
              <a:noFill/>
            </a:ln>
          </p:spPr>
        </p:pic>
        <p:pic>
          <p:nvPicPr>
            <p:cNvPr id="177" name="line%2045%20%20lft" descr=""/>
            <p:cNvPicPr/>
            <p:nvPr/>
          </p:nvPicPr>
          <p:blipFill>
            <a:blip r:embed="rId7"/>
            <a:stretch/>
          </p:blipFill>
          <p:spPr>
            <a:xfrm>
              <a:off x="3581280" y="2133720"/>
              <a:ext cx="2057400" cy="685800"/>
            </a:xfrm>
            <a:prstGeom prst="rect">
              <a:avLst/>
            </a:prstGeom>
            <a:ln w="0">
              <a:noFill/>
            </a:ln>
          </p:spPr>
        </p:pic>
        <p:pic>
          <p:nvPicPr>
            <p:cNvPr id="178" name="line%2045%20%20lft" descr=""/>
            <p:cNvPicPr/>
            <p:nvPr/>
          </p:nvPicPr>
          <p:blipFill>
            <a:blip r:embed="rId8"/>
            <a:stretch/>
          </p:blipFill>
          <p:spPr>
            <a:xfrm>
              <a:off x="3505320" y="2209680"/>
              <a:ext cx="990360" cy="609840"/>
            </a:xfrm>
            <a:prstGeom prst="rect">
              <a:avLst/>
            </a:prstGeom>
            <a:ln w="0">
              <a:noFill/>
            </a:ln>
          </p:spPr>
        </p:pic>
        <p:grpSp>
          <p:nvGrpSpPr>
            <p:cNvPr id="179" name=""/>
            <p:cNvGrpSpPr/>
            <p:nvPr/>
          </p:nvGrpSpPr>
          <p:grpSpPr>
            <a:xfrm>
              <a:off x="4724280" y="2895480"/>
              <a:ext cx="685440" cy="457200"/>
              <a:chOff x="4724280" y="2895480"/>
              <a:chExt cx="685440" cy="457200"/>
            </a:xfrm>
          </p:grpSpPr>
          <p:pic>
            <p:nvPicPr>
              <p:cNvPr id="180" name="NMS_SCR1" descr=""/>
              <p:cNvPicPr/>
              <p:nvPr/>
            </p:nvPicPr>
            <p:blipFill>
              <a:blip r:embed="rId9"/>
              <a:stretch/>
            </p:blipFill>
            <p:spPr>
              <a:xfrm>
                <a:off x="4776840" y="2895480"/>
                <a:ext cx="397440" cy="261360"/>
              </a:xfrm>
              <a:prstGeom prst="rect">
                <a:avLst/>
              </a:prstGeom>
              <a:ln w="0">
                <a:noFill/>
              </a:ln>
              <a:effectLst>
                <a:outerShdw dist="53966" dir="2700000" blurRad="0" rotWithShape="0">
                  <a:srgbClr val="808080"/>
                </a:outerShdw>
              </a:effectLst>
            </p:spPr>
          </p:pic>
          <p:pic>
            <p:nvPicPr>
              <p:cNvPr id="181" name="NMS_SCR3" descr=""/>
              <p:cNvPicPr/>
              <p:nvPr/>
            </p:nvPicPr>
            <p:blipFill>
              <a:blip r:embed="rId10"/>
              <a:stretch/>
            </p:blipFill>
            <p:spPr>
              <a:xfrm>
                <a:off x="5012280" y="3058560"/>
                <a:ext cx="397440" cy="224280"/>
              </a:xfrm>
              <a:prstGeom prst="rect">
                <a:avLst/>
              </a:prstGeom>
              <a:ln w="0">
                <a:noFill/>
              </a:ln>
              <a:effectLst>
                <a:outerShdw dist="53966" dir="2700000" blurRad="0" rotWithShape="0">
                  <a:srgbClr val="808080"/>
                </a:outerShdw>
              </a:effectLst>
            </p:spPr>
          </p:pic>
          <p:pic>
            <p:nvPicPr>
              <p:cNvPr id="182" name="NMS_SCR4" descr=""/>
              <p:cNvPicPr/>
              <p:nvPr/>
            </p:nvPicPr>
            <p:blipFill>
              <a:blip r:embed="rId11"/>
              <a:stretch/>
            </p:blipFill>
            <p:spPr>
              <a:xfrm>
                <a:off x="4724280" y="3129120"/>
                <a:ext cx="397440" cy="223560"/>
              </a:xfrm>
              <a:prstGeom prst="rect">
                <a:avLst/>
              </a:prstGeom>
              <a:ln w="0">
                <a:noFill/>
              </a:ln>
              <a:effectLst>
                <a:outerShdw dist="53966" dir="2700000" blurRad="0" rotWithShape="0">
                  <a:srgbClr val="808080"/>
                </a:outerShdw>
              </a:effectLst>
            </p:spPr>
          </p:pic>
        </p:grpSp>
        <p:graphicFrame>
          <p:nvGraphicFramePr>
            <p:cNvPr id="183" name=""/>
            <p:cNvGraphicFramePr/>
            <p:nvPr/>
          </p:nvGraphicFramePr>
          <p:xfrm>
            <a:off x="5450040" y="2836800"/>
            <a:ext cx="341280" cy="592200"/>
          </p:xfrm>
          <a:graphic>
            <a:graphicData uri="http://schemas.openxmlformats.org/presentationml/2006/ole">
              <p:oleObj r:id="rId12" spid="">
                <p:embed/>
                <p:pic>
                  <p:nvPicPr>
                    <p:cNvPr id="184" name="" descr=""/>
                    <p:cNvPicPr/>
                    <p:nvPr/>
                  </p:nvPicPr>
                  <p:blipFill>
                    <a:blip r:embed="rId13"/>
                    <a:stretch/>
                  </p:blipFill>
                  <p:spPr>
                    <a:xfrm>
                      <a:off x="5450040" y="2836800"/>
                      <a:ext cx="341280" cy="592200"/>
                    </a:xfrm>
                    <a:prstGeom prst="rect">
                      <a:avLst/>
                    </a:prstGeom>
                    <a:ln w="0">
                      <a:noFill/>
                    </a:ln>
                  </p:spPr>
                </p:pic>
              </p:oleObj>
            </a:graphicData>
          </a:graphic>
        </p:graphicFrame>
        <p:graphicFrame>
          <p:nvGraphicFramePr>
            <p:cNvPr id="185" name=""/>
            <p:cNvGraphicFramePr/>
            <p:nvPr/>
          </p:nvGraphicFramePr>
          <p:xfrm>
            <a:off x="4343400" y="2819520"/>
            <a:ext cx="345960" cy="603000"/>
          </p:xfrm>
          <a:graphic>
            <a:graphicData uri="http://schemas.openxmlformats.org/presentationml/2006/ole">
              <p:oleObj r:id="rId14" spid="">
                <p:embed/>
                <p:pic>
                  <p:nvPicPr>
                    <p:cNvPr id="186" name="" descr=""/>
                    <p:cNvPicPr/>
                    <p:nvPr/>
                  </p:nvPicPr>
                  <p:blipFill>
                    <a:blip r:embed="rId15"/>
                    <a:stretch/>
                  </p:blipFill>
                  <p:spPr>
                    <a:xfrm>
                      <a:off x="4343400" y="2819520"/>
                      <a:ext cx="345960" cy="603000"/>
                    </a:xfrm>
                    <a:prstGeom prst="rect">
                      <a:avLst/>
                    </a:prstGeom>
                    <a:ln w="0">
                      <a:noFill/>
                    </a:ln>
                  </p:spPr>
                </p:pic>
              </p:oleObj>
            </a:graphicData>
          </a:graphic>
        </p:graphicFrame>
        <p:sp>
          <p:nvSpPr>
            <p:cNvPr id="187" name=""/>
            <p:cNvSpPr/>
            <p:nvPr/>
          </p:nvSpPr>
          <p:spPr>
            <a:xfrm>
              <a:off x="3809880" y="312408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LA</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Manager</a:t>
              </a:r>
              <a:endParaRPr b="0" lang="en-US" sz="1600" spc="-1" strike="noStrike">
                <a:solidFill>
                  <a:srgbClr val="080808"/>
                </a:solidFill>
                <a:latin typeface="Times New Roman"/>
              </a:endParaRPr>
            </a:p>
          </p:txBody>
        </p:sp>
        <p:sp>
          <p:nvSpPr>
            <p:cNvPr id="188" name=""/>
            <p:cNvSpPr/>
            <p:nvPr/>
          </p:nvSpPr>
          <p:spPr>
            <a:xfrm>
              <a:off x="5257800" y="254304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ffic</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a:t>
              </a:r>
              <a:endParaRPr b="0" lang="en-US" sz="1600" spc="-1" strike="noStrike">
                <a:solidFill>
                  <a:srgbClr val="080808"/>
                </a:solidFill>
                <a:latin typeface="Times New Roman"/>
              </a:endParaRPr>
            </a:p>
          </p:txBody>
        </p:sp>
      </p:grpSp>
      <p:grpSp>
        <p:nvGrpSpPr>
          <p:cNvPr id="189" name=""/>
          <p:cNvGrpSpPr/>
          <p:nvPr/>
        </p:nvGrpSpPr>
        <p:grpSpPr>
          <a:xfrm>
            <a:off x="6210360" y="2133720"/>
            <a:ext cx="2933640" cy="1675800"/>
            <a:chOff x="6210360" y="2133720"/>
            <a:chExt cx="2933640" cy="1675800"/>
          </a:xfrm>
        </p:grpSpPr>
        <p:pic>
          <p:nvPicPr>
            <p:cNvPr id="190" name="line%2045%20%20lft" descr=""/>
            <p:cNvPicPr/>
            <p:nvPr/>
          </p:nvPicPr>
          <p:blipFill>
            <a:blip r:embed="rId16"/>
            <a:stretch/>
          </p:blipFill>
          <p:spPr>
            <a:xfrm>
              <a:off x="7010280" y="2133720"/>
              <a:ext cx="1447920" cy="914400"/>
            </a:xfrm>
            <a:prstGeom prst="rect">
              <a:avLst/>
            </a:prstGeom>
            <a:ln w="0">
              <a:noFill/>
            </a:ln>
          </p:spPr>
        </p:pic>
        <p:pic>
          <p:nvPicPr>
            <p:cNvPr id="191" name="server%20blue_lines" descr=""/>
            <p:cNvPicPr/>
            <p:nvPr/>
          </p:nvPicPr>
          <p:blipFill>
            <a:blip r:embed="rId17"/>
            <a:stretch/>
          </p:blipFill>
          <p:spPr>
            <a:xfrm>
              <a:off x="7364520" y="3048120"/>
              <a:ext cx="293760" cy="507960"/>
            </a:xfrm>
            <a:prstGeom prst="rect">
              <a:avLst/>
            </a:prstGeom>
            <a:ln w="0">
              <a:noFill/>
            </a:ln>
          </p:spPr>
        </p:pic>
        <p:pic>
          <p:nvPicPr>
            <p:cNvPr id="192" name="server%20red_lines" descr=""/>
            <p:cNvPicPr/>
            <p:nvPr/>
          </p:nvPicPr>
          <p:blipFill>
            <a:blip r:embed="rId18"/>
            <a:stretch/>
          </p:blipFill>
          <p:spPr>
            <a:xfrm>
              <a:off x="8344080" y="3048120"/>
              <a:ext cx="269640" cy="507960"/>
            </a:xfrm>
            <a:prstGeom prst="rect">
              <a:avLst/>
            </a:prstGeom>
            <a:ln w="0">
              <a:noFill/>
            </a:ln>
          </p:spPr>
        </p:pic>
        <p:pic>
          <p:nvPicPr>
            <p:cNvPr id="193" name="apps_small" descr=""/>
            <p:cNvPicPr/>
            <p:nvPr/>
          </p:nvPicPr>
          <p:blipFill>
            <a:blip r:embed="rId19"/>
            <a:stretch/>
          </p:blipFill>
          <p:spPr>
            <a:xfrm>
              <a:off x="7734240" y="3103560"/>
              <a:ext cx="533520" cy="401760"/>
            </a:xfrm>
            <a:prstGeom prst="rect">
              <a:avLst/>
            </a:prstGeom>
            <a:ln w="0">
              <a:noFill/>
            </a:ln>
          </p:spPr>
        </p:pic>
        <p:sp>
          <p:nvSpPr>
            <p:cNvPr id="194" name=""/>
            <p:cNvSpPr/>
            <p:nvPr/>
          </p:nvSpPr>
          <p:spPr>
            <a:xfrm>
              <a:off x="6210360" y="322884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prise</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Server</a:t>
              </a:r>
              <a:endParaRPr b="0" lang="en-US" sz="1600" spc="-1" strike="noStrike">
                <a:solidFill>
                  <a:srgbClr val="080808"/>
                </a:solidFill>
                <a:latin typeface="Times New Roman"/>
              </a:endParaRPr>
            </a:p>
          </p:txBody>
        </p:sp>
        <p:sp>
          <p:nvSpPr>
            <p:cNvPr id="195" name=""/>
            <p:cNvSpPr/>
            <p:nvPr/>
          </p:nvSpPr>
          <p:spPr>
            <a:xfrm>
              <a:off x="7353360" y="2771640"/>
              <a:ext cx="179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N Bandwidth</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gr</a:t>
              </a:r>
              <a:endParaRPr b="0" lang="en-US" sz="1600" spc="-1" strike="noStrike">
                <a:solidFill>
                  <a:srgbClr val="080808"/>
                </a:solidFill>
                <a:latin typeface="Times New Roman"/>
              </a:endParaRPr>
            </a:p>
          </p:txBody>
        </p:sp>
        <p:pic>
          <p:nvPicPr>
            <p:cNvPr id="196" name="line%2045%20%20lft" descr=""/>
            <p:cNvPicPr/>
            <p:nvPr/>
          </p:nvPicPr>
          <p:blipFill>
            <a:blip r:embed="rId20"/>
            <a:stretch/>
          </p:blipFill>
          <p:spPr>
            <a:xfrm>
              <a:off x="7010280" y="2133720"/>
              <a:ext cx="533520" cy="914400"/>
            </a:xfrm>
            <a:prstGeom prst="rect">
              <a:avLst/>
            </a:prstGeom>
            <a:ln w="0">
              <a:noFill/>
            </a:ln>
          </p:spPr>
        </p:pic>
      </p:grpSp>
      <p:grpSp>
        <p:nvGrpSpPr>
          <p:cNvPr id="197" name=""/>
          <p:cNvGrpSpPr/>
          <p:nvPr/>
        </p:nvGrpSpPr>
        <p:grpSpPr>
          <a:xfrm>
            <a:off x="1981080" y="612360"/>
            <a:ext cx="4876920" cy="1673640"/>
            <a:chOff x="1981080" y="612360"/>
            <a:chExt cx="4876920" cy="1673640"/>
          </a:xfrm>
        </p:grpSpPr>
        <p:sp>
          <p:nvSpPr>
            <p:cNvPr id="198" name=""/>
            <p:cNvSpPr/>
            <p:nvPr/>
          </p:nvSpPr>
          <p:spPr>
            <a:xfrm flipV="1">
              <a:off x="1981080" y="612360"/>
              <a:ext cx="423720" cy="7574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80808"/>
                </a:solidFill>
                <a:latin typeface="Times New Roman"/>
              </a:endParaRPr>
            </a:p>
          </p:txBody>
        </p:sp>
        <p:pic>
          <p:nvPicPr>
            <p:cNvPr id="199" name="line%20horiz" descr=""/>
            <p:cNvPicPr/>
            <p:nvPr/>
          </p:nvPicPr>
          <p:blipFill>
            <a:blip r:embed="rId21"/>
            <a:stretch/>
          </p:blipFill>
          <p:spPr>
            <a:xfrm>
              <a:off x="5638680" y="1066680"/>
              <a:ext cx="1067040" cy="76320"/>
            </a:xfrm>
            <a:prstGeom prst="rect">
              <a:avLst/>
            </a:prstGeom>
            <a:ln w="0">
              <a:noFill/>
            </a:ln>
          </p:spPr>
        </p:pic>
        <p:pic>
          <p:nvPicPr>
            <p:cNvPr id="200" name="line%20horiz" descr=""/>
            <p:cNvPicPr/>
            <p:nvPr/>
          </p:nvPicPr>
          <p:blipFill>
            <a:blip r:embed="rId22"/>
            <a:stretch/>
          </p:blipFill>
          <p:spPr>
            <a:xfrm>
              <a:off x="6172200" y="1981080"/>
              <a:ext cx="685800" cy="76320"/>
            </a:xfrm>
            <a:prstGeom prst="rect">
              <a:avLst/>
            </a:prstGeom>
            <a:ln w="0">
              <a:noFill/>
            </a:ln>
          </p:spPr>
        </p:pic>
        <p:graphicFrame>
          <p:nvGraphicFramePr>
            <p:cNvPr id="201" name=""/>
            <p:cNvGraphicFramePr/>
            <p:nvPr/>
          </p:nvGraphicFramePr>
          <p:xfrm>
            <a:off x="2438280" y="1219320"/>
            <a:ext cx="685800" cy="761760"/>
          </p:xfrm>
          <a:graphic>
            <a:graphicData uri="http://schemas.openxmlformats.org/presentationml/2006/ole">
              <p:oleObj r:id="rId23" spid="">
                <p:embed/>
                <p:pic>
                  <p:nvPicPr>
                    <p:cNvPr id="202" name="" descr=""/>
                    <p:cNvPicPr/>
                    <p:nvPr/>
                  </p:nvPicPr>
                  <p:blipFill>
                    <a:blip r:embed="rId24"/>
                    <a:stretch/>
                  </p:blipFill>
                  <p:spPr>
                    <a:xfrm>
                      <a:off x="2438280" y="1219320"/>
                      <a:ext cx="685800" cy="761760"/>
                    </a:xfrm>
                    <a:prstGeom prst="rect">
                      <a:avLst/>
                    </a:prstGeom>
                    <a:ln w="0">
                      <a:noFill/>
                    </a:ln>
                  </p:spPr>
                </p:pic>
              </p:oleObj>
            </a:graphicData>
          </a:graphic>
        </p:graphicFrame>
        <p:pic>
          <p:nvPicPr>
            <p:cNvPr id="203" name="cloud%20gr" descr=""/>
            <p:cNvPicPr/>
            <p:nvPr/>
          </p:nvPicPr>
          <p:blipFill>
            <a:blip r:embed="rId25"/>
            <a:stretch/>
          </p:blipFill>
          <p:spPr>
            <a:xfrm>
              <a:off x="3505320" y="1676520"/>
              <a:ext cx="2514600" cy="609480"/>
            </a:xfrm>
            <a:prstGeom prst="rect">
              <a:avLst/>
            </a:prstGeom>
            <a:ln w="0">
              <a:noFill/>
            </a:ln>
          </p:spPr>
        </p:pic>
        <p:pic>
          <p:nvPicPr>
            <p:cNvPr id="204" name="assured%20access" descr=""/>
            <p:cNvPicPr/>
            <p:nvPr/>
          </p:nvPicPr>
          <p:blipFill>
            <a:blip r:embed="rId26"/>
            <a:stretch/>
          </p:blipFill>
          <p:spPr>
            <a:xfrm>
              <a:off x="3124080" y="1779480"/>
              <a:ext cx="449280" cy="506520"/>
            </a:xfrm>
            <a:prstGeom prst="rect">
              <a:avLst/>
            </a:prstGeom>
            <a:ln w="0">
              <a:noFill/>
            </a:ln>
          </p:spPr>
        </p:pic>
        <p:pic>
          <p:nvPicPr>
            <p:cNvPr id="205" name="line%20horiz" descr=""/>
            <p:cNvPicPr/>
            <p:nvPr/>
          </p:nvPicPr>
          <p:blipFill>
            <a:blip r:embed="rId27"/>
            <a:stretch/>
          </p:blipFill>
          <p:spPr>
            <a:xfrm>
              <a:off x="2514600" y="1981080"/>
              <a:ext cx="609480" cy="76320"/>
            </a:xfrm>
            <a:prstGeom prst="rect">
              <a:avLst/>
            </a:prstGeom>
            <a:ln w="0">
              <a:noFill/>
            </a:ln>
          </p:spPr>
        </p:pic>
        <p:sp>
          <p:nvSpPr>
            <p:cNvPr id="206" name=""/>
            <p:cNvSpPr/>
            <p:nvPr/>
          </p:nvSpPr>
          <p:spPr>
            <a:xfrm>
              <a:off x="4119840" y="175248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1</a:t>
              </a:r>
              <a:endParaRPr b="0" lang="en-US" sz="2000" spc="-1" strike="noStrike">
                <a:solidFill>
                  <a:srgbClr val="080808"/>
                </a:solidFill>
                <a:latin typeface="Times New Roman"/>
              </a:endParaRPr>
            </a:p>
          </p:txBody>
        </p:sp>
        <p:grpSp>
          <p:nvGrpSpPr>
            <p:cNvPr id="207" name=""/>
            <p:cNvGrpSpPr/>
            <p:nvPr/>
          </p:nvGrpSpPr>
          <p:grpSpPr>
            <a:xfrm>
              <a:off x="3505320" y="838080"/>
              <a:ext cx="2513880" cy="609840"/>
              <a:chOff x="3505320" y="838080"/>
              <a:chExt cx="2513880" cy="609840"/>
            </a:xfrm>
          </p:grpSpPr>
          <p:pic>
            <p:nvPicPr>
              <p:cNvPr id="208" name="cloud%20blue" descr=""/>
              <p:cNvPicPr/>
              <p:nvPr/>
            </p:nvPicPr>
            <p:blipFill>
              <a:blip r:embed="rId28"/>
              <a:stretch/>
            </p:blipFill>
            <p:spPr>
              <a:xfrm>
                <a:off x="3505320" y="838080"/>
                <a:ext cx="2513880" cy="609840"/>
              </a:xfrm>
              <a:prstGeom prst="rect">
                <a:avLst/>
              </a:prstGeom>
              <a:ln w="0">
                <a:noFill/>
              </a:ln>
            </p:spPr>
          </p:pic>
          <p:sp>
            <p:nvSpPr>
              <p:cNvPr id="209" name=""/>
              <p:cNvSpPr/>
              <p:nvPr/>
            </p:nvSpPr>
            <p:spPr>
              <a:xfrm>
                <a:off x="4632480" y="969480"/>
                <a:ext cx="1825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grpSp>
        <p:pic>
          <p:nvPicPr>
            <p:cNvPr id="210" name="PowerRail" descr=""/>
            <p:cNvPicPr/>
            <p:nvPr/>
          </p:nvPicPr>
          <p:blipFill>
            <a:blip r:embed="rId29"/>
            <a:stretch/>
          </p:blipFill>
          <p:spPr>
            <a:xfrm>
              <a:off x="3124080" y="914400"/>
              <a:ext cx="454320" cy="609480"/>
            </a:xfrm>
            <a:prstGeom prst="rect">
              <a:avLst/>
            </a:prstGeom>
            <a:ln w="0">
              <a:noFill/>
            </a:ln>
          </p:spPr>
        </p:pic>
        <p:sp>
          <p:nvSpPr>
            <p:cNvPr id="211" name=""/>
            <p:cNvSpPr/>
            <p:nvPr/>
          </p:nvSpPr>
          <p:spPr>
            <a:xfrm>
              <a:off x="4088160" y="91440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2</a:t>
              </a:r>
              <a:endParaRPr b="0" lang="en-US" sz="2000" spc="-1" strike="noStrike">
                <a:solidFill>
                  <a:srgbClr val="080808"/>
                </a:solidFill>
                <a:latin typeface="Times New Roman"/>
              </a:endParaRPr>
            </a:p>
          </p:txBody>
        </p:sp>
        <p:pic>
          <p:nvPicPr>
            <p:cNvPr id="212" name="assured%20access" descr=""/>
            <p:cNvPicPr/>
            <p:nvPr/>
          </p:nvPicPr>
          <p:blipFill>
            <a:blip r:embed="rId30"/>
            <a:stretch/>
          </p:blipFill>
          <p:spPr>
            <a:xfrm>
              <a:off x="5791320" y="1752480"/>
              <a:ext cx="449280" cy="506520"/>
            </a:xfrm>
            <a:prstGeom prst="rect">
              <a:avLst/>
            </a:prstGeom>
            <a:ln w="0">
              <a:noFill/>
            </a:ln>
          </p:spPr>
        </p:pic>
        <p:pic>
          <p:nvPicPr>
            <p:cNvPr id="213" name="PowerRail" descr=""/>
            <p:cNvPicPr/>
            <p:nvPr/>
          </p:nvPicPr>
          <p:blipFill>
            <a:blip r:embed="rId31"/>
            <a:stretch/>
          </p:blipFill>
          <p:spPr>
            <a:xfrm>
              <a:off x="5716440" y="990720"/>
              <a:ext cx="227160" cy="304560"/>
            </a:xfrm>
            <a:prstGeom prst="rect">
              <a:avLst/>
            </a:prstGeom>
            <a:ln w="0">
              <a:noFill/>
            </a:ln>
          </p:spPr>
        </p:pic>
        <p:graphicFrame>
          <p:nvGraphicFramePr>
            <p:cNvPr id="214" name=""/>
            <p:cNvGraphicFramePr/>
            <p:nvPr/>
          </p:nvGraphicFramePr>
          <p:xfrm>
            <a:off x="2133720" y="838080"/>
            <a:ext cx="228600" cy="1067040"/>
          </p:xfrm>
          <a:graphic>
            <a:graphicData uri="http://schemas.openxmlformats.org/presentationml/2006/ole">
              <p:oleObj r:id="rId32" spid="">
                <p:embed/>
                <p:pic>
                  <p:nvPicPr>
                    <p:cNvPr id="215" name="" descr=""/>
                    <p:cNvPicPr/>
                    <p:nvPr/>
                  </p:nvPicPr>
                  <p:blipFill>
                    <a:blip r:embed="rId33"/>
                    <a:stretch/>
                  </p:blipFill>
                  <p:spPr>
                    <a:xfrm>
                      <a:off x="2133720" y="838080"/>
                      <a:ext cx="228600" cy="1067040"/>
                    </a:xfrm>
                    <a:prstGeom prst="rect">
                      <a:avLst/>
                    </a:prstGeom>
                    <a:ln w="0">
                      <a:noFill/>
                    </a:ln>
                  </p:spPr>
                </p:pic>
              </p:oleObj>
            </a:graphicData>
          </a:graphic>
        </p:graphicFrame>
        <p:sp>
          <p:nvSpPr>
            <p:cNvPr id="216" name=""/>
            <p:cNvSpPr/>
            <p:nvPr/>
          </p:nvSpPr>
          <p:spPr>
            <a:xfrm rot="10800000">
              <a:off x="2236320" y="695160"/>
              <a:ext cx="423720" cy="5896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es</a:t>
              </a:r>
              <a:endParaRPr b="0" lang="en-US" sz="1600" spc="-1" strike="noStrike">
                <a:solidFill>
                  <a:srgbClr val="080808"/>
                </a:solidFill>
                <a:latin typeface="Times New Roman"/>
              </a:endParaRPr>
            </a:p>
          </p:txBody>
        </p:sp>
      </p:grpSp>
      <p:sp>
        <p:nvSpPr>
          <p:cNvPr id="217" name=""/>
          <p:cNvSpPr/>
          <p:nvPr/>
        </p:nvSpPr>
        <p:spPr>
          <a:xfrm>
            <a:off x="380880" y="4408560"/>
            <a:ext cx="8763120" cy="2035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It works!</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Supports per connection QoS signaling to applications</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Carrier scalability limited due to core state info</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Requires continuous keepalive checking across core</a:t>
            </a:r>
            <a:endParaRPr b="0" lang="en-US" sz="2400" spc="-1" strike="noStrike">
              <a:solidFill>
                <a:srgbClr val="080808"/>
              </a:solidFill>
              <a:latin typeface="Times New Roman"/>
            </a:endParaRPr>
          </a:p>
        </p:txBody>
      </p:sp>
      <p:grpSp>
        <p:nvGrpSpPr>
          <p:cNvPr id="218" name=""/>
          <p:cNvGrpSpPr/>
          <p:nvPr/>
        </p:nvGrpSpPr>
        <p:grpSpPr>
          <a:xfrm>
            <a:off x="6781680" y="1752480"/>
            <a:ext cx="2060640" cy="490680"/>
            <a:chOff x="6781680" y="1752480"/>
            <a:chExt cx="2060640" cy="490680"/>
          </a:xfrm>
        </p:grpSpPr>
        <p:pic>
          <p:nvPicPr>
            <p:cNvPr id="219" name="subnet_beige" descr=""/>
            <p:cNvPicPr/>
            <p:nvPr/>
          </p:nvPicPr>
          <p:blipFill>
            <a:blip r:embed="rId34"/>
            <a:stretch/>
          </p:blipFill>
          <p:spPr>
            <a:xfrm>
              <a:off x="7340760" y="1752480"/>
              <a:ext cx="1071360" cy="463680"/>
            </a:xfrm>
            <a:prstGeom prst="rect">
              <a:avLst/>
            </a:prstGeom>
            <a:ln w="0">
              <a:noFill/>
            </a:ln>
          </p:spPr>
        </p:pic>
        <p:sp>
          <p:nvSpPr>
            <p:cNvPr id="220" name=""/>
            <p:cNvSpPr/>
            <p:nvPr/>
          </p:nvSpPr>
          <p:spPr>
            <a:xfrm>
              <a:off x="7569360" y="187452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pic>
          <p:nvPicPr>
            <p:cNvPr id="221" name="stack%20(sm)" descr=""/>
            <p:cNvPicPr/>
            <p:nvPr/>
          </p:nvPicPr>
          <p:blipFill>
            <a:blip r:embed="rId35"/>
            <a:stretch/>
          </p:blipFill>
          <p:spPr>
            <a:xfrm>
              <a:off x="6781680" y="1905120"/>
              <a:ext cx="533520" cy="252360"/>
            </a:xfrm>
            <a:prstGeom prst="rect">
              <a:avLst/>
            </a:prstGeom>
            <a:ln w="0">
              <a:noFill/>
            </a:ln>
          </p:spPr>
        </p:pic>
        <p:pic>
          <p:nvPicPr>
            <p:cNvPr id="222" name="NMS_console_(small)" descr=""/>
            <p:cNvPicPr/>
            <p:nvPr/>
          </p:nvPicPr>
          <p:blipFill>
            <a:blip r:embed="rId36"/>
            <a:stretch/>
          </p:blipFill>
          <p:spPr>
            <a:xfrm>
              <a:off x="8381880" y="1752480"/>
              <a:ext cx="460440" cy="490680"/>
            </a:xfrm>
            <a:prstGeom prst="rect">
              <a:avLst/>
            </a:prstGeom>
            <a:ln w="0">
              <a:noFill/>
            </a:ln>
          </p:spPr>
        </p:pic>
      </p:grpSp>
      <p:grpSp>
        <p:nvGrpSpPr>
          <p:cNvPr id="223" name=""/>
          <p:cNvGrpSpPr/>
          <p:nvPr/>
        </p:nvGrpSpPr>
        <p:grpSpPr>
          <a:xfrm>
            <a:off x="457200" y="1828800"/>
            <a:ext cx="2057400" cy="490680"/>
            <a:chOff x="457200" y="1828800"/>
            <a:chExt cx="2057400" cy="490680"/>
          </a:xfrm>
        </p:grpSpPr>
        <p:pic>
          <p:nvPicPr>
            <p:cNvPr id="224" name="subnet_beige" descr=""/>
            <p:cNvPicPr/>
            <p:nvPr/>
          </p:nvPicPr>
          <p:blipFill>
            <a:blip r:embed="rId37"/>
            <a:stretch/>
          </p:blipFill>
          <p:spPr>
            <a:xfrm>
              <a:off x="914400" y="1828800"/>
              <a:ext cx="1071720" cy="463680"/>
            </a:xfrm>
            <a:prstGeom prst="rect">
              <a:avLst/>
            </a:prstGeom>
            <a:ln w="0">
              <a:noFill/>
            </a:ln>
          </p:spPr>
        </p:pic>
        <p:pic>
          <p:nvPicPr>
            <p:cNvPr id="225" name="stack%20(sm)" descr=""/>
            <p:cNvPicPr/>
            <p:nvPr/>
          </p:nvPicPr>
          <p:blipFill>
            <a:blip r:embed="rId38"/>
            <a:stretch/>
          </p:blipFill>
          <p:spPr>
            <a:xfrm>
              <a:off x="1981080" y="1905120"/>
              <a:ext cx="533520" cy="252360"/>
            </a:xfrm>
            <a:prstGeom prst="rect">
              <a:avLst/>
            </a:prstGeom>
            <a:ln w="0">
              <a:noFill/>
            </a:ln>
          </p:spPr>
        </p:pic>
        <p:pic>
          <p:nvPicPr>
            <p:cNvPr id="226" name="NMS_console_(small)" descr=""/>
            <p:cNvPicPr/>
            <p:nvPr/>
          </p:nvPicPr>
          <p:blipFill>
            <a:blip r:embed="rId39"/>
            <a:stretch/>
          </p:blipFill>
          <p:spPr>
            <a:xfrm>
              <a:off x="457200" y="1828800"/>
              <a:ext cx="460440" cy="490680"/>
            </a:xfrm>
            <a:prstGeom prst="rect">
              <a:avLst/>
            </a:prstGeom>
            <a:ln w="0">
              <a:noFill/>
            </a:ln>
          </p:spPr>
        </p:pic>
        <p:sp>
          <p:nvSpPr>
            <p:cNvPr id="227" name=""/>
            <p:cNvSpPr/>
            <p:nvPr/>
          </p:nvSpPr>
          <p:spPr>
            <a:xfrm>
              <a:off x="1143000" y="195084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grpSp>
      <p:grpSp>
        <p:nvGrpSpPr>
          <p:cNvPr id="228" name=""/>
          <p:cNvGrpSpPr/>
          <p:nvPr/>
        </p:nvGrpSpPr>
        <p:grpSpPr>
          <a:xfrm>
            <a:off x="3187800" y="3957480"/>
            <a:ext cx="2933640" cy="182880"/>
            <a:chOff x="3187800" y="3957480"/>
            <a:chExt cx="2933640" cy="182880"/>
          </a:xfrm>
        </p:grpSpPr>
        <p:sp>
          <p:nvSpPr>
            <p:cNvPr id="229" name=""/>
            <p:cNvSpPr/>
            <p:nvPr/>
          </p:nvSpPr>
          <p:spPr>
            <a:xfrm>
              <a:off x="3187800" y="4140360"/>
              <a:ext cx="2933640" cy="0"/>
            </a:xfrm>
            <a:prstGeom prst="line">
              <a:avLst/>
            </a:prstGeom>
            <a:ln w="38160">
              <a:solidFill>
                <a:srgbClr val="080808"/>
              </a:solidFill>
              <a:prstDash val="lg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30" name=""/>
            <p:cNvSpPr/>
            <p:nvPr/>
          </p:nvSpPr>
          <p:spPr>
            <a:xfrm>
              <a:off x="4241520" y="395748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grpSp>
        <p:nvGrpSpPr>
          <p:cNvPr id="231" name=""/>
          <p:cNvGrpSpPr/>
          <p:nvPr/>
        </p:nvGrpSpPr>
        <p:grpSpPr>
          <a:xfrm>
            <a:off x="190440" y="3987720"/>
            <a:ext cx="381240" cy="381240"/>
            <a:chOff x="190440" y="3987720"/>
            <a:chExt cx="381240" cy="381240"/>
          </a:xfrm>
        </p:grpSpPr>
        <p:pic>
          <p:nvPicPr>
            <p:cNvPr id="232" name="subnet_yellow" descr=""/>
            <p:cNvPicPr/>
            <p:nvPr/>
          </p:nvPicPr>
          <p:blipFill>
            <a:blip r:embed="rId40"/>
            <a:stretch/>
          </p:blipFill>
          <p:spPr>
            <a:xfrm>
              <a:off x="190440" y="3987720"/>
              <a:ext cx="381240" cy="381240"/>
            </a:xfrm>
            <a:prstGeom prst="rect">
              <a:avLst/>
            </a:prstGeom>
            <a:ln w="0">
              <a:noFill/>
            </a:ln>
          </p:spPr>
        </p:pic>
        <p:sp>
          <p:nvSpPr>
            <p:cNvPr id="233" name=""/>
            <p:cNvSpPr/>
            <p:nvPr/>
          </p:nvSpPr>
          <p:spPr>
            <a:xfrm>
              <a:off x="346320" y="4048560"/>
              <a:ext cx="116640" cy="2437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Comic Sans MS"/>
                </a:rPr>
                <a:t>1</a:t>
              </a:r>
              <a:endParaRPr b="0" lang="en-US" sz="1600" spc="-1" strike="noStrike">
                <a:solidFill>
                  <a:srgbClr val="080808"/>
                </a:solidFill>
                <a:latin typeface="Times New Roman"/>
              </a:endParaRPr>
            </a:p>
          </p:txBody>
        </p:sp>
      </p:grpSp>
      <p:grpSp>
        <p:nvGrpSpPr>
          <p:cNvPr id="234" name=""/>
          <p:cNvGrpSpPr/>
          <p:nvPr/>
        </p:nvGrpSpPr>
        <p:grpSpPr>
          <a:xfrm>
            <a:off x="6159600" y="3957480"/>
            <a:ext cx="2413080" cy="182880"/>
            <a:chOff x="6159600" y="3957480"/>
            <a:chExt cx="2413080" cy="182880"/>
          </a:xfrm>
        </p:grpSpPr>
        <p:sp>
          <p:nvSpPr>
            <p:cNvPr id="235" name=""/>
            <p:cNvSpPr/>
            <p:nvPr/>
          </p:nvSpPr>
          <p:spPr>
            <a:xfrm>
              <a:off x="6159600" y="4140360"/>
              <a:ext cx="241308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36" name=""/>
            <p:cNvSpPr/>
            <p:nvPr/>
          </p:nvSpPr>
          <p:spPr>
            <a:xfrm>
              <a:off x="6676920" y="395748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grpSp>
        <p:nvGrpSpPr>
          <p:cNvPr id="237" name=""/>
          <p:cNvGrpSpPr/>
          <p:nvPr/>
        </p:nvGrpSpPr>
        <p:grpSpPr>
          <a:xfrm>
            <a:off x="647640" y="3957480"/>
            <a:ext cx="2502000" cy="182880"/>
            <a:chOff x="647640" y="3957480"/>
            <a:chExt cx="2502000" cy="182880"/>
          </a:xfrm>
        </p:grpSpPr>
        <p:sp>
          <p:nvSpPr>
            <p:cNvPr id="238" name=""/>
            <p:cNvSpPr/>
            <p:nvPr/>
          </p:nvSpPr>
          <p:spPr>
            <a:xfrm>
              <a:off x="647640" y="4140360"/>
              <a:ext cx="250200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39" name=""/>
            <p:cNvSpPr/>
            <p:nvPr/>
          </p:nvSpPr>
          <p:spPr>
            <a:xfrm>
              <a:off x="1495080" y="395748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grpSp>
        <p:nvGrpSpPr>
          <p:cNvPr id="240" name=""/>
          <p:cNvGrpSpPr/>
          <p:nvPr/>
        </p:nvGrpSpPr>
        <p:grpSpPr>
          <a:xfrm>
            <a:off x="774720" y="1638360"/>
            <a:ext cx="1473120" cy="276480"/>
            <a:chOff x="774720" y="1638360"/>
            <a:chExt cx="1473120" cy="276480"/>
          </a:xfrm>
        </p:grpSpPr>
        <p:sp>
          <p:nvSpPr>
            <p:cNvPr id="241" name=""/>
            <p:cNvSpPr/>
            <p:nvPr/>
          </p:nvSpPr>
          <p:spPr>
            <a:xfrm>
              <a:off x="774720" y="1905120"/>
              <a:ext cx="14731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42" name=""/>
            <p:cNvSpPr/>
            <p:nvPr/>
          </p:nvSpPr>
          <p:spPr>
            <a:xfrm>
              <a:off x="1203120" y="16383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243" name=""/>
          <p:cNvSpPr/>
          <p:nvPr/>
        </p:nvSpPr>
        <p:spPr>
          <a:xfrm flipH="1">
            <a:off x="1781280" y="2065320"/>
            <a:ext cx="466560" cy="117000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244" name=""/>
          <p:cNvGrpSpPr/>
          <p:nvPr/>
        </p:nvGrpSpPr>
        <p:grpSpPr>
          <a:xfrm>
            <a:off x="2438280" y="1663560"/>
            <a:ext cx="800280" cy="276480"/>
            <a:chOff x="2438280" y="1663560"/>
            <a:chExt cx="800280" cy="276480"/>
          </a:xfrm>
        </p:grpSpPr>
        <p:sp>
          <p:nvSpPr>
            <p:cNvPr id="245" name=""/>
            <p:cNvSpPr/>
            <p:nvPr/>
          </p:nvSpPr>
          <p:spPr>
            <a:xfrm>
              <a:off x="2438280" y="1917720"/>
              <a:ext cx="80028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46" name=""/>
            <p:cNvSpPr/>
            <p:nvPr/>
          </p:nvSpPr>
          <p:spPr>
            <a:xfrm>
              <a:off x="2485800" y="16635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247" name=""/>
          <p:cNvSpPr/>
          <p:nvPr/>
        </p:nvSpPr>
        <p:spPr>
          <a:xfrm>
            <a:off x="3314880" y="2052720"/>
            <a:ext cx="1704960" cy="97956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248" name=""/>
          <p:cNvGrpSpPr/>
          <p:nvPr/>
        </p:nvGrpSpPr>
        <p:grpSpPr>
          <a:xfrm>
            <a:off x="3492360" y="1650960"/>
            <a:ext cx="2400480" cy="276480"/>
            <a:chOff x="3492360" y="1650960"/>
            <a:chExt cx="2400480" cy="276480"/>
          </a:xfrm>
        </p:grpSpPr>
        <p:sp>
          <p:nvSpPr>
            <p:cNvPr id="249" name=""/>
            <p:cNvSpPr/>
            <p:nvPr/>
          </p:nvSpPr>
          <p:spPr>
            <a:xfrm>
              <a:off x="3492360" y="1917720"/>
              <a:ext cx="240048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50" name=""/>
            <p:cNvSpPr/>
            <p:nvPr/>
          </p:nvSpPr>
          <p:spPr>
            <a:xfrm>
              <a:off x="4441680" y="16509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grpSp>
        <p:nvGrpSpPr>
          <p:cNvPr id="251" name=""/>
          <p:cNvGrpSpPr/>
          <p:nvPr/>
        </p:nvGrpSpPr>
        <p:grpSpPr>
          <a:xfrm>
            <a:off x="6134040" y="1650960"/>
            <a:ext cx="914400" cy="276480"/>
            <a:chOff x="6134040" y="1650960"/>
            <a:chExt cx="914400" cy="276480"/>
          </a:xfrm>
        </p:grpSpPr>
        <p:sp>
          <p:nvSpPr>
            <p:cNvPr id="252" name=""/>
            <p:cNvSpPr/>
            <p:nvPr/>
          </p:nvSpPr>
          <p:spPr>
            <a:xfrm>
              <a:off x="6134040" y="1905120"/>
              <a:ext cx="914400" cy="12600"/>
            </a:xfrm>
            <a:prstGeom prst="line">
              <a:avLst/>
            </a:prstGeom>
            <a:ln w="57240">
              <a:solidFill>
                <a:srgbClr val="fc0128"/>
              </a:solidFill>
              <a:miter/>
              <a:tailEnd len="med" type="triangle" w="sm"/>
            </a:ln>
          </p:spPr>
          <p:style>
            <a:lnRef idx="0"/>
            <a:fillRef idx="0"/>
            <a:effectRef idx="0"/>
            <a:fontRef idx="minor"/>
          </p:style>
          <p:txBody>
            <a:bodyPr lIns="90000" rIns="90000" tIns="-34200" bIns="-34200" anchor="ctr">
              <a:noAutofit/>
            </a:bodyPr>
            <a:p>
              <a:endParaRPr b="0" lang="en-US" sz="2400" spc="-1" strike="noStrike">
                <a:solidFill>
                  <a:srgbClr val="080808"/>
                </a:solidFill>
                <a:latin typeface="Times New Roman"/>
              </a:endParaRPr>
            </a:p>
          </p:txBody>
        </p:sp>
        <p:sp>
          <p:nvSpPr>
            <p:cNvPr id="253" name=""/>
            <p:cNvSpPr/>
            <p:nvPr/>
          </p:nvSpPr>
          <p:spPr>
            <a:xfrm>
              <a:off x="6219720" y="16509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254" name=""/>
          <p:cNvSpPr/>
          <p:nvPr/>
        </p:nvSpPr>
        <p:spPr>
          <a:xfrm>
            <a:off x="7023240" y="2090880"/>
            <a:ext cx="968400" cy="111888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255" name=""/>
          <p:cNvGrpSpPr/>
          <p:nvPr/>
        </p:nvGrpSpPr>
        <p:grpSpPr>
          <a:xfrm>
            <a:off x="7277040" y="1549440"/>
            <a:ext cx="1244520" cy="355680"/>
            <a:chOff x="7277040" y="1549440"/>
            <a:chExt cx="1244520" cy="355680"/>
          </a:xfrm>
        </p:grpSpPr>
        <p:sp>
          <p:nvSpPr>
            <p:cNvPr id="256" name=""/>
            <p:cNvSpPr/>
            <p:nvPr/>
          </p:nvSpPr>
          <p:spPr>
            <a:xfrm>
              <a:off x="7277040" y="1905120"/>
              <a:ext cx="12445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57" name=""/>
            <p:cNvSpPr/>
            <p:nvPr/>
          </p:nvSpPr>
          <p:spPr>
            <a:xfrm>
              <a:off x="7616520" y="154944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grpSp>
        <p:nvGrpSpPr>
          <p:cNvPr id="258" name=""/>
          <p:cNvGrpSpPr/>
          <p:nvPr/>
        </p:nvGrpSpPr>
        <p:grpSpPr>
          <a:xfrm>
            <a:off x="6133680" y="2108160"/>
            <a:ext cx="800280" cy="302040"/>
            <a:chOff x="6133680" y="2108160"/>
            <a:chExt cx="800280" cy="302040"/>
          </a:xfrm>
        </p:grpSpPr>
        <p:sp>
          <p:nvSpPr>
            <p:cNvPr id="259" name=""/>
            <p:cNvSpPr/>
            <p:nvPr/>
          </p:nvSpPr>
          <p:spPr>
            <a:xfrm flipH="1">
              <a:off x="6133680" y="2108160"/>
              <a:ext cx="80028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60" name=""/>
            <p:cNvSpPr/>
            <p:nvPr/>
          </p:nvSpPr>
          <p:spPr>
            <a:xfrm>
              <a:off x="6258600" y="21337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261" name=""/>
          <p:cNvGrpSpPr/>
          <p:nvPr/>
        </p:nvGrpSpPr>
        <p:grpSpPr>
          <a:xfrm>
            <a:off x="7289640" y="2108160"/>
            <a:ext cx="1168560" cy="314280"/>
            <a:chOff x="7289640" y="2108160"/>
            <a:chExt cx="1168560" cy="314280"/>
          </a:xfrm>
        </p:grpSpPr>
        <p:sp>
          <p:nvSpPr>
            <p:cNvPr id="262" name=""/>
            <p:cNvSpPr/>
            <p:nvPr/>
          </p:nvSpPr>
          <p:spPr>
            <a:xfrm flipH="1">
              <a:off x="7289640" y="2108160"/>
              <a:ext cx="116856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63" name=""/>
            <p:cNvSpPr/>
            <p:nvPr/>
          </p:nvSpPr>
          <p:spPr>
            <a:xfrm>
              <a:off x="7630200" y="21459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264" name=""/>
          <p:cNvGrpSpPr/>
          <p:nvPr/>
        </p:nvGrpSpPr>
        <p:grpSpPr>
          <a:xfrm>
            <a:off x="3454560" y="2095560"/>
            <a:ext cx="2387520" cy="276480"/>
            <a:chOff x="3454560" y="2095560"/>
            <a:chExt cx="2387520" cy="276480"/>
          </a:xfrm>
        </p:grpSpPr>
        <p:sp>
          <p:nvSpPr>
            <p:cNvPr id="265" name=""/>
            <p:cNvSpPr/>
            <p:nvPr/>
          </p:nvSpPr>
          <p:spPr>
            <a:xfrm flipH="1">
              <a:off x="3454560" y="2108160"/>
              <a:ext cx="23875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66" name=""/>
            <p:cNvSpPr/>
            <p:nvPr/>
          </p:nvSpPr>
          <p:spPr>
            <a:xfrm>
              <a:off x="4480560" y="20955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267" name=""/>
          <p:cNvGrpSpPr/>
          <p:nvPr/>
        </p:nvGrpSpPr>
        <p:grpSpPr>
          <a:xfrm>
            <a:off x="2374920" y="2133720"/>
            <a:ext cx="799920" cy="301680"/>
            <a:chOff x="2374920" y="2133720"/>
            <a:chExt cx="799920" cy="301680"/>
          </a:xfrm>
        </p:grpSpPr>
        <p:sp>
          <p:nvSpPr>
            <p:cNvPr id="268" name=""/>
            <p:cNvSpPr/>
            <p:nvPr/>
          </p:nvSpPr>
          <p:spPr>
            <a:xfrm flipH="1">
              <a:off x="2374920" y="2133720"/>
              <a:ext cx="7999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69" name=""/>
            <p:cNvSpPr/>
            <p:nvPr/>
          </p:nvSpPr>
          <p:spPr>
            <a:xfrm>
              <a:off x="2499120" y="21589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270" name=""/>
          <p:cNvGrpSpPr/>
          <p:nvPr/>
        </p:nvGrpSpPr>
        <p:grpSpPr>
          <a:xfrm>
            <a:off x="850680" y="2158920"/>
            <a:ext cx="1168200" cy="314280"/>
            <a:chOff x="850680" y="2158920"/>
            <a:chExt cx="1168200" cy="314280"/>
          </a:xfrm>
        </p:grpSpPr>
        <p:sp>
          <p:nvSpPr>
            <p:cNvPr id="271" name=""/>
            <p:cNvSpPr/>
            <p:nvPr/>
          </p:nvSpPr>
          <p:spPr>
            <a:xfrm flipH="1">
              <a:off x="850680" y="2158920"/>
              <a:ext cx="116820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272" name=""/>
            <p:cNvSpPr/>
            <p:nvPr/>
          </p:nvSpPr>
          <p:spPr>
            <a:xfrm>
              <a:off x="1190880" y="21967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IntServ to DiffServ</a:t>
            </a:r>
            <a:endParaRPr b="1" lang="en-US" sz="2800" spc="-1" strike="noStrike">
              <a:solidFill>
                <a:srgbClr val="ffaf34"/>
              </a:solidFill>
              <a:latin typeface="Comic Sans MS"/>
            </a:endParaRPr>
          </a:p>
        </p:txBody>
      </p:sp>
      <p:grpSp>
        <p:nvGrpSpPr>
          <p:cNvPr id="274" name=""/>
          <p:cNvGrpSpPr/>
          <p:nvPr/>
        </p:nvGrpSpPr>
        <p:grpSpPr>
          <a:xfrm>
            <a:off x="0" y="2133720"/>
            <a:ext cx="3390840" cy="1675800"/>
            <a:chOff x="0" y="2133720"/>
            <a:chExt cx="3390840" cy="1675800"/>
          </a:xfrm>
        </p:grpSpPr>
        <p:pic>
          <p:nvPicPr>
            <p:cNvPr id="275" name="line%20vert2" descr=""/>
            <p:cNvPicPr/>
            <p:nvPr/>
          </p:nvPicPr>
          <p:blipFill>
            <a:blip r:embed="rId1"/>
            <a:stretch/>
          </p:blipFill>
          <p:spPr>
            <a:xfrm flipH="1">
              <a:off x="2209680" y="2133720"/>
              <a:ext cx="76320" cy="914400"/>
            </a:xfrm>
            <a:prstGeom prst="rect">
              <a:avLst/>
            </a:prstGeom>
            <a:ln w="0">
              <a:noFill/>
            </a:ln>
          </p:spPr>
        </p:pic>
        <p:pic>
          <p:nvPicPr>
            <p:cNvPr id="276" name="line%2045%20rt" descr=""/>
            <p:cNvPicPr/>
            <p:nvPr/>
          </p:nvPicPr>
          <p:blipFill>
            <a:blip r:embed="rId2"/>
            <a:stretch/>
          </p:blipFill>
          <p:spPr>
            <a:xfrm>
              <a:off x="1371600" y="2133720"/>
              <a:ext cx="835200" cy="914400"/>
            </a:xfrm>
            <a:prstGeom prst="rect">
              <a:avLst/>
            </a:prstGeom>
            <a:ln w="0">
              <a:noFill/>
            </a:ln>
          </p:spPr>
        </p:pic>
        <p:pic>
          <p:nvPicPr>
            <p:cNvPr id="277" name="server%20blue_lines" descr=""/>
            <p:cNvPicPr/>
            <p:nvPr/>
          </p:nvPicPr>
          <p:blipFill>
            <a:blip r:embed="rId3"/>
            <a:stretch/>
          </p:blipFill>
          <p:spPr>
            <a:xfrm>
              <a:off x="1154160" y="3048120"/>
              <a:ext cx="293760" cy="507960"/>
            </a:xfrm>
            <a:prstGeom prst="rect">
              <a:avLst/>
            </a:prstGeom>
            <a:ln w="0">
              <a:noFill/>
            </a:ln>
          </p:spPr>
        </p:pic>
        <p:pic>
          <p:nvPicPr>
            <p:cNvPr id="278" name="server%20red_lines" descr=""/>
            <p:cNvPicPr/>
            <p:nvPr/>
          </p:nvPicPr>
          <p:blipFill>
            <a:blip r:embed="rId4"/>
            <a:stretch/>
          </p:blipFill>
          <p:spPr>
            <a:xfrm>
              <a:off x="2133720" y="3048120"/>
              <a:ext cx="269640" cy="507960"/>
            </a:xfrm>
            <a:prstGeom prst="rect">
              <a:avLst/>
            </a:prstGeom>
            <a:ln w="0">
              <a:noFill/>
            </a:ln>
          </p:spPr>
        </p:pic>
        <p:pic>
          <p:nvPicPr>
            <p:cNvPr id="279" name="apps_small" descr=""/>
            <p:cNvPicPr/>
            <p:nvPr/>
          </p:nvPicPr>
          <p:blipFill>
            <a:blip r:embed="rId5"/>
            <a:stretch/>
          </p:blipFill>
          <p:spPr>
            <a:xfrm>
              <a:off x="1523880" y="3103560"/>
              <a:ext cx="533520" cy="401760"/>
            </a:xfrm>
            <a:prstGeom prst="rect">
              <a:avLst/>
            </a:prstGeom>
            <a:ln w="0">
              <a:noFill/>
            </a:ln>
          </p:spPr>
        </p:pic>
        <p:sp>
          <p:nvSpPr>
            <p:cNvPr id="280" name=""/>
            <p:cNvSpPr/>
            <p:nvPr/>
          </p:nvSpPr>
          <p:spPr>
            <a:xfrm>
              <a:off x="0" y="322884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prise</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Server</a:t>
              </a:r>
              <a:endParaRPr b="0" lang="en-US" sz="1600" spc="-1" strike="noStrike">
                <a:solidFill>
                  <a:srgbClr val="080808"/>
                </a:solidFill>
                <a:latin typeface="Times New Roman"/>
              </a:endParaRPr>
            </a:p>
          </p:txBody>
        </p:sp>
        <p:sp>
          <p:nvSpPr>
            <p:cNvPr id="281" name=""/>
            <p:cNvSpPr/>
            <p:nvPr/>
          </p:nvSpPr>
          <p:spPr>
            <a:xfrm>
              <a:off x="1562040" y="2743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N  Bandwidth</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a:t>
              </a:r>
              <a:endParaRPr b="0" lang="en-US" sz="1600" spc="-1" strike="noStrike">
                <a:solidFill>
                  <a:srgbClr val="080808"/>
                </a:solidFill>
                <a:latin typeface="Times New Roman"/>
              </a:endParaRPr>
            </a:p>
          </p:txBody>
        </p:sp>
      </p:grpSp>
      <p:grpSp>
        <p:nvGrpSpPr>
          <p:cNvPr id="282" name=""/>
          <p:cNvGrpSpPr/>
          <p:nvPr/>
        </p:nvGrpSpPr>
        <p:grpSpPr>
          <a:xfrm>
            <a:off x="3505320" y="2133720"/>
            <a:ext cx="3200400" cy="1571040"/>
            <a:chOff x="3505320" y="2133720"/>
            <a:chExt cx="3200400" cy="1571040"/>
          </a:xfrm>
        </p:grpSpPr>
        <p:pic>
          <p:nvPicPr>
            <p:cNvPr id="283" name="line%2045%20rt" descr=""/>
            <p:cNvPicPr/>
            <p:nvPr/>
          </p:nvPicPr>
          <p:blipFill>
            <a:blip r:embed="rId6"/>
            <a:stretch/>
          </p:blipFill>
          <p:spPr>
            <a:xfrm>
              <a:off x="5638680" y="2209680"/>
              <a:ext cx="457200" cy="609840"/>
            </a:xfrm>
            <a:prstGeom prst="rect">
              <a:avLst/>
            </a:prstGeom>
            <a:ln w="0">
              <a:noFill/>
            </a:ln>
          </p:spPr>
        </p:pic>
        <p:pic>
          <p:nvPicPr>
            <p:cNvPr id="284" name="line%2045%20%20lft" descr=""/>
            <p:cNvPicPr/>
            <p:nvPr/>
          </p:nvPicPr>
          <p:blipFill>
            <a:blip r:embed="rId7"/>
            <a:stretch/>
          </p:blipFill>
          <p:spPr>
            <a:xfrm>
              <a:off x="3581280" y="2133720"/>
              <a:ext cx="2057400" cy="685800"/>
            </a:xfrm>
            <a:prstGeom prst="rect">
              <a:avLst/>
            </a:prstGeom>
            <a:ln w="0">
              <a:noFill/>
            </a:ln>
          </p:spPr>
        </p:pic>
        <p:pic>
          <p:nvPicPr>
            <p:cNvPr id="285" name="line%2045%20%20lft" descr=""/>
            <p:cNvPicPr/>
            <p:nvPr/>
          </p:nvPicPr>
          <p:blipFill>
            <a:blip r:embed="rId8"/>
            <a:stretch/>
          </p:blipFill>
          <p:spPr>
            <a:xfrm>
              <a:off x="3505320" y="2209680"/>
              <a:ext cx="990360" cy="609840"/>
            </a:xfrm>
            <a:prstGeom prst="rect">
              <a:avLst/>
            </a:prstGeom>
            <a:ln w="0">
              <a:noFill/>
            </a:ln>
          </p:spPr>
        </p:pic>
        <p:grpSp>
          <p:nvGrpSpPr>
            <p:cNvPr id="286" name=""/>
            <p:cNvGrpSpPr/>
            <p:nvPr/>
          </p:nvGrpSpPr>
          <p:grpSpPr>
            <a:xfrm>
              <a:off x="4724280" y="2895480"/>
              <a:ext cx="685440" cy="457200"/>
              <a:chOff x="4724280" y="2895480"/>
              <a:chExt cx="685440" cy="457200"/>
            </a:xfrm>
          </p:grpSpPr>
          <p:pic>
            <p:nvPicPr>
              <p:cNvPr id="287" name="NMS_SCR1" descr=""/>
              <p:cNvPicPr/>
              <p:nvPr/>
            </p:nvPicPr>
            <p:blipFill>
              <a:blip r:embed="rId9"/>
              <a:stretch/>
            </p:blipFill>
            <p:spPr>
              <a:xfrm>
                <a:off x="4776840" y="2895480"/>
                <a:ext cx="397440" cy="261360"/>
              </a:xfrm>
              <a:prstGeom prst="rect">
                <a:avLst/>
              </a:prstGeom>
              <a:ln w="0">
                <a:noFill/>
              </a:ln>
              <a:effectLst>
                <a:outerShdw dist="53966" dir="2700000" blurRad="0" rotWithShape="0">
                  <a:srgbClr val="808080"/>
                </a:outerShdw>
              </a:effectLst>
            </p:spPr>
          </p:pic>
          <p:pic>
            <p:nvPicPr>
              <p:cNvPr id="288" name="NMS_SCR3" descr=""/>
              <p:cNvPicPr/>
              <p:nvPr/>
            </p:nvPicPr>
            <p:blipFill>
              <a:blip r:embed="rId10"/>
              <a:stretch/>
            </p:blipFill>
            <p:spPr>
              <a:xfrm>
                <a:off x="5012280" y="3058560"/>
                <a:ext cx="397440" cy="224280"/>
              </a:xfrm>
              <a:prstGeom prst="rect">
                <a:avLst/>
              </a:prstGeom>
              <a:ln w="0">
                <a:noFill/>
              </a:ln>
              <a:effectLst>
                <a:outerShdw dist="53966" dir="2700000" blurRad="0" rotWithShape="0">
                  <a:srgbClr val="808080"/>
                </a:outerShdw>
              </a:effectLst>
            </p:spPr>
          </p:pic>
          <p:pic>
            <p:nvPicPr>
              <p:cNvPr id="289" name="NMS_SCR4" descr=""/>
              <p:cNvPicPr/>
              <p:nvPr/>
            </p:nvPicPr>
            <p:blipFill>
              <a:blip r:embed="rId11"/>
              <a:stretch/>
            </p:blipFill>
            <p:spPr>
              <a:xfrm>
                <a:off x="4724280" y="3129120"/>
                <a:ext cx="397440" cy="223560"/>
              </a:xfrm>
              <a:prstGeom prst="rect">
                <a:avLst/>
              </a:prstGeom>
              <a:ln w="0">
                <a:noFill/>
              </a:ln>
              <a:effectLst>
                <a:outerShdw dist="53966" dir="2700000" blurRad="0" rotWithShape="0">
                  <a:srgbClr val="808080"/>
                </a:outerShdw>
              </a:effectLst>
            </p:spPr>
          </p:pic>
        </p:grpSp>
        <p:graphicFrame>
          <p:nvGraphicFramePr>
            <p:cNvPr id="290" name=""/>
            <p:cNvGraphicFramePr/>
            <p:nvPr/>
          </p:nvGraphicFramePr>
          <p:xfrm>
            <a:off x="5450040" y="2836800"/>
            <a:ext cx="341280" cy="592200"/>
          </p:xfrm>
          <a:graphic>
            <a:graphicData uri="http://schemas.openxmlformats.org/presentationml/2006/ole">
              <p:oleObj r:id="rId12" spid="">
                <p:embed/>
                <p:pic>
                  <p:nvPicPr>
                    <p:cNvPr id="291" name="" descr=""/>
                    <p:cNvPicPr/>
                    <p:nvPr/>
                  </p:nvPicPr>
                  <p:blipFill>
                    <a:blip r:embed="rId13"/>
                    <a:stretch/>
                  </p:blipFill>
                  <p:spPr>
                    <a:xfrm>
                      <a:off x="5450040" y="2836800"/>
                      <a:ext cx="341280" cy="592200"/>
                    </a:xfrm>
                    <a:prstGeom prst="rect">
                      <a:avLst/>
                    </a:prstGeom>
                    <a:ln w="0">
                      <a:noFill/>
                    </a:ln>
                  </p:spPr>
                </p:pic>
              </p:oleObj>
            </a:graphicData>
          </a:graphic>
        </p:graphicFrame>
        <p:graphicFrame>
          <p:nvGraphicFramePr>
            <p:cNvPr id="292" name=""/>
            <p:cNvGraphicFramePr/>
            <p:nvPr/>
          </p:nvGraphicFramePr>
          <p:xfrm>
            <a:off x="4343400" y="2819520"/>
            <a:ext cx="345960" cy="603000"/>
          </p:xfrm>
          <a:graphic>
            <a:graphicData uri="http://schemas.openxmlformats.org/presentationml/2006/ole">
              <p:oleObj r:id="rId14" spid="">
                <p:embed/>
                <p:pic>
                  <p:nvPicPr>
                    <p:cNvPr id="293" name="" descr=""/>
                    <p:cNvPicPr/>
                    <p:nvPr/>
                  </p:nvPicPr>
                  <p:blipFill>
                    <a:blip r:embed="rId15"/>
                    <a:stretch/>
                  </p:blipFill>
                  <p:spPr>
                    <a:xfrm>
                      <a:off x="4343400" y="2819520"/>
                      <a:ext cx="345960" cy="603000"/>
                    </a:xfrm>
                    <a:prstGeom prst="rect">
                      <a:avLst/>
                    </a:prstGeom>
                    <a:ln w="0">
                      <a:noFill/>
                    </a:ln>
                  </p:spPr>
                </p:pic>
              </p:oleObj>
            </a:graphicData>
          </a:graphic>
        </p:graphicFrame>
        <p:sp>
          <p:nvSpPr>
            <p:cNvPr id="294" name=""/>
            <p:cNvSpPr/>
            <p:nvPr/>
          </p:nvSpPr>
          <p:spPr>
            <a:xfrm>
              <a:off x="3809880" y="312408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LA</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Manager</a:t>
              </a:r>
              <a:endParaRPr b="0" lang="en-US" sz="1600" spc="-1" strike="noStrike">
                <a:solidFill>
                  <a:srgbClr val="080808"/>
                </a:solidFill>
                <a:latin typeface="Times New Roman"/>
              </a:endParaRPr>
            </a:p>
          </p:txBody>
        </p:sp>
        <p:sp>
          <p:nvSpPr>
            <p:cNvPr id="295" name=""/>
            <p:cNvSpPr/>
            <p:nvPr/>
          </p:nvSpPr>
          <p:spPr>
            <a:xfrm>
              <a:off x="5257800" y="254304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ffic</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a:t>
              </a:r>
              <a:endParaRPr b="0" lang="en-US" sz="1600" spc="-1" strike="noStrike">
                <a:solidFill>
                  <a:srgbClr val="080808"/>
                </a:solidFill>
                <a:latin typeface="Times New Roman"/>
              </a:endParaRPr>
            </a:p>
          </p:txBody>
        </p:sp>
      </p:grpSp>
      <p:grpSp>
        <p:nvGrpSpPr>
          <p:cNvPr id="296" name=""/>
          <p:cNvGrpSpPr/>
          <p:nvPr/>
        </p:nvGrpSpPr>
        <p:grpSpPr>
          <a:xfrm>
            <a:off x="6210360" y="2133720"/>
            <a:ext cx="2933640" cy="1675800"/>
            <a:chOff x="6210360" y="2133720"/>
            <a:chExt cx="2933640" cy="1675800"/>
          </a:xfrm>
        </p:grpSpPr>
        <p:pic>
          <p:nvPicPr>
            <p:cNvPr id="297" name="line%2045%20%20lft" descr=""/>
            <p:cNvPicPr/>
            <p:nvPr/>
          </p:nvPicPr>
          <p:blipFill>
            <a:blip r:embed="rId16"/>
            <a:stretch/>
          </p:blipFill>
          <p:spPr>
            <a:xfrm>
              <a:off x="7010280" y="2133720"/>
              <a:ext cx="1447920" cy="914400"/>
            </a:xfrm>
            <a:prstGeom prst="rect">
              <a:avLst/>
            </a:prstGeom>
            <a:ln w="0">
              <a:noFill/>
            </a:ln>
          </p:spPr>
        </p:pic>
        <p:pic>
          <p:nvPicPr>
            <p:cNvPr id="298" name="server%20blue_lines" descr=""/>
            <p:cNvPicPr/>
            <p:nvPr/>
          </p:nvPicPr>
          <p:blipFill>
            <a:blip r:embed="rId17"/>
            <a:stretch/>
          </p:blipFill>
          <p:spPr>
            <a:xfrm>
              <a:off x="7364520" y="3048120"/>
              <a:ext cx="293760" cy="507960"/>
            </a:xfrm>
            <a:prstGeom prst="rect">
              <a:avLst/>
            </a:prstGeom>
            <a:ln w="0">
              <a:noFill/>
            </a:ln>
          </p:spPr>
        </p:pic>
        <p:pic>
          <p:nvPicPr>
            <p:cNvPr id="299" name="server%20red_lines" descr=""/>
            <p:cNvPicPr/>
            <p:nvPr/>
          </p:nvPicPr>
          <p:blipFill>
            <a:blip r:embed="rId18"/>
            <a:stretch/>
          </p:blipFill>
          <p:spPr>
            <a:xfrm>
              <a:off x="8344080" y="3048120"/>
              <a:ext cx="269640" cy="507960"/>
            </a:xfrm>
            <a:prstGeom prst="rect">
              <a:avLst/>
            </a:prstGeom>
            <a:ln w="0">
              <a:noFill/>
            </a:ln>
          </p:spPr>
        </p:pic>
        <p:pic>
          <p:nvPicPr>
            <p:cNvPr id="300" name="apps_small" descr=""/>
            <p:cNvPicPr/>
            <p:nvPr/>
          </p:nvPicPr>
          <p:blipFill>
            <a:blip r:embed="rId19"/>
            <a:stretch/>
          </p:blipFill>
          <p:spPr>
            <a:xfrm>
              <a:off x="7734240" y="3103560"/>
              <a:ext cx="533520" cy="401760"/>
            </a:xfrm>
            <a:prstGeom prst="rect">
              <a:avLst/>
            </a:prstGeom>
            <a:ln w="0">
              <a:noFill/>
            </a:ln>
          </p:spPr>
        </p:pic>
        <p:sp>
          <p:nvSpPr>
            <p:cNvPr id="301" name=""/>
            <p:cNvSpPr/>
            <p:nvPr/>
          </p:nvSpPr>
          <p:spPr>
            <a:xfrm>
              <a:off x="6210360" y="322884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prise</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icy Server</a:t>
              </a:r>
              <a:endParaRPr b="0" lang="en-US" sz="1600" spc="-1" strike="noStrike">
                <a:solidFill>
                  <a:srgbClr val="080808"/>
                </a:solidFill>
                <a:latin typeface="Times New Roman"/>
              </a:endParaRPr>
            </a:p>
          </p:txBody>
        </p:sp>
        <p:sp>
          <p:nvSpPr>
            <p:cNvPr id="302" name=""/>
            <p:cNvSpPr/>
            <p:nvPr/>
          </p:nvSpPr>
          <p:spPr>
            <a:xfrm>
              <a:off x="7353360" y="2771640"/>
              <a:ext cx="179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N Bandwidth</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gr</a:t>
              </a:r>
              <a:endParaRPr b="0" lang="en-US" sz="1600" spc="-1" strike="noStrike">
                <a:solidFill>
                  <a:srgbClr val="080808"/>
                </a:solidFill>
                <a:latin typeface="Times New Roman"/>
              </a:endParaRPr>
            </a:p>
          </p:txBody>
        </p:sp>
        <p:pic>
          <p:nvPicPr>
            <p:cNvPr id="303" name="line%2045%20%20lft" descr=""/>
            <p:cNvPicPr/>
            <p:nvPr/>
          </p:nvPicPr>
          <p:blipFill>
            <a:blip r:embed="rId20"/>
            <a:stretch/>
          </p:blipFill>
          <p:spPr>
            <a:xfrm>
              <a:off x="7010280" y="2133720"/>
              <a:ext cx="533520" cy="914400"/>
            </a:xfrm>
            <a:prstGeom prst="rect">
              <a:avLst/>
            </a:prstGeom>
            <a:ln w="0">
              <a:noFill/>
            </a:ln>
          </p:spPr>
        </p:pic>
      </p:grpSp>
      <p:grpSp>
        <p:nvGrpSpPr>
          <p:cNvPr id="304" name=""/>
          <p:cNvGrpSpPr/>
          <p:nvPr/>
        </p:nvGrpSpPr>
        <p:grpSpPr>
          <a:xfrm>
            <a:off x="1981080" y="612360"/>
            <a:ext cx="4876920" cy="1673640"/>
            <a:chOff x="1981080" y="612360"/>
            <a:chExt cx="4876920" cy="1673640"/>
          </a:xfrm>
        </p:grpSpPr>
        <p:sp>
          <p:nvSpPr>
            <p:cNvPr id="305" name=""/>
            <p:cNvSpPr/>
            <p:nvPr/>
          </p:nvSpPr>
          <p:spPr>
            <a:xfrm flipV="1">
              <a:off x="1981080" y="612360"/>
              <a:ext cx="423720" cy="7574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80808"/>
                </a:solidFill>
                <a:latin typeface="Times New Roman"/>
              </a:endParaRPr>
            </a:p>
          </p:txBody>
        </p:sp>
        <p:pic>
          <p:nvPicPr>
            <p:cNvPr id="306" name="line%20horiz" descr=""/>
            <p:cNvPicPr/>
            <p:nvPr/>
          </p:nvPicPr>
          <p:blipFill>
            <a:blip r:embed="rId21"/>
            <a:stretch/>
          </p:blipFill>
          <p:spPr>
            <a:xfrm>
              <a:off x="5638680" y="1066680"/>
              <a:ext cx="1067040" cy="76320"/>
            </a:xfrm>
            <a:prstGeom prst="rect">
              <a:avLst/>
            </a:prstGeom>
            <a:ln w="0">
              <a:noFill/>
            </a:ln>
          </p:spPr>
        </p:pic>
        <p:pic>
          <p:nvPicPr>
            <p:cNvPr id="307" name="line%20horiz" descr=""/>
            <p:cNvPicPr/>
            <p:nvPr/>
          </p:nvPicPr>
          <p:blipFill>
            <a:blip r:embed="rId22"/>
            <a:stretch/>
          </p:blipFill>
          <p:spPr>
            <a:xfrm>
              <a:off x="6172200" y="1981080"/>
              <a:ext cx="685800" cy="76320"/>
            </a:xfrm>
            <a:prstGeom prst="rect">
              <a:avLst/>
            </a:prstGeom>
            <a:ln w="0">
              <a:noFill/>
            </a:ln>
          </p:spPr>
        </p:pic>
        <p:graphicFrame>
          <p:nvGraphicFramePr>
            <p:cNvPr id="308" name=""/>
            <p:cNvGraphicFramePr/>
            <p:nvPr/>
          </p:nvGraphicFramePr>
          <p:xfrm>
            <a:off x="2438280" y="1219320"/>
            <a:ext cx="685800" cy="761760"/>
          </p:xfrm>
          <a:graphic>
            <a:graphicData uri="http://schemas.openxmlformats.org/presentationml/2006/ole">
              <p:oleObj r:id="rId23" spid="">
                <p:embed/>
                <p:pic>
                  <p:nvPicPr>
                    <p:cNvPr id="309" name="" descr=""/>
                    <p:cNvPicPr/>
                    <p:nvPr/>
                  </p:nvPicPr>
                  <p:blipFill>
                    <a:blip r:embed="rId24"/>
                    <a:stretch/>
                  </p:blipFill>
                  <p:spPr>
                    <a:xfrm>
                      <a:off x="2438280" y="1219320"/>
                      <a:ext cx="685800" cy="761760"/>
                    </a:xfrm>
                    <a:prstGeom prst="rect">
                      <a:avLst/>
                    </a:prstGeom>
                    <a:ln w="0">
                      <a:noFill/>
                    </a:ln>
                  </p:spPr>
                </p:pic>
              </p:oleObj>
            </a:graphicData>
          </a:graphic>
        </p:graphicFrame>
        <p:pic>
          <p:nvPicPr>
            <p:cNvPr id="310" name="cloud%20gr" descr=""/>
            <p:cNvPicPr/>
            <p:nvPr/>
          </p:nvPicPr>
          <p:blipFill>
            <a:blip r:embed="rId25"/>
            <a:stretch/>
          </p:blipFill>
          <p:spPr>
            <a:xfrm>
              <a:off x="3505320" y="1676520"/>
              <a:ext cx="2514600" cy="609480"/>
            </a:xfrm>
            <a:prstGeom prst="rect">
              <a:avLst/>
            </a:prstGeom>
            <a:ln w="0">
              <a:noFill/>
            </a:ln>
          </p:spPr>
        </p:pic>
        <p:pic>
          <p:nvPicPr>
            <p:cNvPr id="311" name="assured%20access" descr=""/>
            <p:cNvPicPr/>
            <p:nvPr/>
          </p:nvPicPr>
          <p:blipFill>
            <a:blip r:embed="rId26"/>
            <a:stretch/>
          </p:blipFill>
          <p:spPr>
            <a:xfrm>
              <a:off x="3124080" y="1779480"/>
              <a:ext cx="449280" cy="506520"/>
            </a:xfrm>
            <a:prstGeom prst="rect">
              <a:avLst/>
            </a:prstGeom>
            <a:ln w="0">
              <a:noFill/>
            </a:ln>
          </p:spPr>
        </p:pic>
        <p:pic>
          <p:nvPicPr>
            <p:cNvPr id="312" name="line%20horiz" descr=""/>
            <p:cNvPicPr/>
            <p:nvPr/>
          </p:nvPicPr>
          <p:blipFill>
            <a:blip r:embed="rId27"/>
            <a:stretch/>
          </p:blipFill>
          <p:spPr>
            <a:xfrm>
              <a:off x="2514600" y="1981080"/>
              <a:ext cx="609480" cy="76320"/>
            </a:xfrm>
            <a:prstGeom prst="rect">
              <a:avLst/>
            </a:prstGeom>
            <a:ln w="0">
              <a:noFill/>
            </a:ln>
          </p:spPr>
        </p:pic>
        <p:sp>
          <p:nvSpPr>
            <p:cNvPr id="313" name=""/>
            <p:cNvSpPr/>
            <p:nvPr/>
          </p:nvSpPr>
          <p:spPr>
            <a:xfrm>
              <a:off x="4119840" y="175248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1</a:t>
              </a:r>
              <a:endParaRPr b="0" lang="en-US" sz="2000" spc="-1" strike="noStrike">
                <a:solidFill>
                  <a:srgbClr val="080808"/>
                </a:solidFill>
                <a:latin typeface="Times New Roman"/>
              </a:endParaRPr>
            </a:p>
          </p:txBody>
        </p:sp>
        <p:grpSp>
          <p:nvGrpSpPr>
            <p:cNvPr id="314" name=""/>
            <p:cNvGrpSpPr/>
            <p:nvPr/>
          </p:nvGrpSpPr>
          <p:grpSpPr>
            <a:xfrm>
              <a:off x="3505320" y="838080"/>
              <a:ext cx="2513880" cy="609840"/>
              <a:chOff x="3505320" y="838080"/>
              <a:chExt cx="2513880" cy="609840"/>
            </a:xfrm>
          </p:grpSpPr>
          <p:pic>
            <p:nvPicPr>
              <p:cNvPr id="315" name="cloud%20blue" descr=""/>
              <p:cNvPicPr/>
              <p:nvPr/>
            </p:nvPicPr>
            <p:blipFill>
              <a:blip r:embed="rId28"/>
              <a:stretch/>
            </p:blipFill>
            <p:spPr>
              <a:xfrm>
                <a:off x="3505320" y="838080"/>
                <a:ext cx="2513880" cy="609840"/>
              </a:xfrm>
              <a:prstGeom prst="rect">
                <a:avLst/>
              </a:prstGeom>
              <a:ln w="0">
                <a:noFill/>
              </a:ln>
            </p:spPr>
          </p:pic>
          <p:sp>
            <p:nvSpPr>
              <p:cNvPr id="316" name=""/>
              <p:cNvSpPr/>
              <p:nvPr/>
            </p:nvSpPr>
            <p:spPr>
              <a:xfrm>
                <a:off x="4632480" y="969480"/>
                <a:ext cx="1825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grpSp>
        <p:pic>
          <p:nvPicPr>
            <p:cNvPr id="317" name="PowerRail" descr=""/>
            <p:cNvPicPr/>
            <p:nvPr/>
          </p:nvPicPr>
          <p:blipFill>
            <a:blip r:embed="rId29"/>
            <a:stretch/>
          </p:blipFill>
          <p:spPr>
            <a:xfrm>
              <a:off x="3124080" y="914400"/>
              <a:ext cx="454320" cy="609480"/>
            </a:xfrm>
            <a:prstGeom prst="rect">
              <a:avLst/>
            </a:prstGeom>
            <a:ln w="0">
              <a:noFill/>
            </a:ln>
          </p:spPr>
        </p:pic>
        <p:sp>
          <p:nvSpPr>
            <p:cNvPr id="318" name=""/>
            <p:cNvSpPr/>
            <p:nvPr/>
          </p:nvSpPr>
          <p:spPr>
            <a:xfrm>
              <a:off x="4088160" y="91440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2</a:t>
              </a:r>
              <a:endParaRPr b="0" lang="en-US" sz="2000" spc="-1" strike="noStrike">
                <a:solidFill>
                  <a:srgbClr val="080808"/>
                </a:solidFill>
                <a:latin typeface="Times New Roman"/>
              </a:endParaRPr>
            </a:p>
          </p:txBody>
        </p:sp>
        <p:pic>
          <p:nvPicPr>
            <p:cNvPr id="319" name="assured%20access" descr=""/>
            <p:cNvPicPr/>
            <p:nvPr/>
          </p:nvPicPr>
          <p:blipFill>
            <a:blip r:embed="rId30"/>
            <a:stretch/>
          </p:blipFill>
          <p:spPr>
            <a:xfrm>
              <a:off x="5791320" y="1752480"/>
              <a:ext cx="449280" cy="506520"/>
            </a:xfrm>
            <a:prstGeom prst="rect">
              <a:avLst/>
            </a:prstGeom>
            <a:ln w="0">
              <a:noFill/>
            </a:ln>
          </p:spPr>
        </p:pic>
        <p:pic>
          <p:nvPicPr>
            <p:cNvPr id="320" name="PowerRail" descr=""/>
            <p:cNvPicPr/>
            <p:nvPr/>
          </p:nvPicPr>
          <p:blipFill>
            <a:blip r:embed="rId31"/>
            <a:stretch/>
          </p:blipFill>
          <p:spPr>
            <a:xfrm>
              <a:off x="5716440" y="990720"/>
              <a:ext cx="227160" cy="304560"/>
            </a:xfrm>
            <a:prstGeom prst="rect">
              <a:avLst/>
            </a:prstGeom>
            <a:ln w="0">
              <a:noFill/>
            </a:ln>
          </p:spPr>
        </p:pic>
        <p:graphicFrame>
          <p:nvGraphicFramePr>
            <p:cNvPr id="321" name=""/>
            <p:cNvGraphicFramePr/>
            <p:nvPr/>
          </p:nvGraphicFramePr>
          <p:xfrm>
            <a:off x="2133720" y="838080"/>
            <a:ext cx="228600" cy="1067040"/>
          </p:xfrm>
          <a:graphic>
            <a:graphicData uri="http://schemas.openxmlformats.org/presentationml/2006/ole">
              <p:oleObj r:id="rId32" spid="">
                <p:embed/>
                <p:pic>
                  <p:nvPicPr>
                    <p:cNvPr id="322" name="" descr=""/>
                    <p:cNvPicPr/>
                    <p:nvPr/>
                  </p:nvPicPr>
                  <p:blipFill>
                    <a:blip r:embed="rId33"/>
                    <a:stretch/>
                  </p:blipFill>
                  <p:spPr>
                    <a:xfrm>
                      <a:off x="2133720" y="838080"/>
                      <a:ext cx="228600" cy="1067040"/>
                    </a:xfrm>
                    <a:prstGeom prst="rect">
                      <a:avLst/>
                    </a:prstGeom>
                    <a:ln w="0">
                      <a:noFill/>
                    </a:ln>
                  </p:spPr>
                </p:pic>
              </p:oleObj>
            </a:graphicData>
          </a:graphic>
        </p:graphicFrame>
        <p:sp>
          <p:nvSpPr>
            <p:cNvPr id="323" name=""/>
            <p:cNvSpPr/>
            <p:nvPr/>
          </p:nvSpPr>
          <p:spPr>
            <a:xfrm rot="10800000">
              <a:off x="2236320" y="695160"/>
              <a:ext cx="423720" cy="5896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es</a:t>
              </a:r>
              <a:endParaRPr b="0" lang="en-US" sz="1600" spc="-1" strike="noStrike">
                <a:solidFill>
                  <a:srgbClr val="080808"/>
                </a:solidFill>
                <a:latin typeface="Times New Roman"/>
              </a:endParaRPr>
            </a:p>
          </p:txBody>
        </p:sp>
      </p:grpSp>
      <p:sp>
        <p:nvSpPr>
          <p:cNvPr id="324" name=""/>
          <p:cNvSpPr/>
          <p:nvPr/>
        </p:nvSpPr>
        <p:spPr>
          <a:xfrm>
            <a:off x="380880" y="4408560"/>
            <a:ext cx="8763120" cy="2035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Provides excellent core scalability (minimum state)</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Supports per connection QoS signaling to applications</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Provider requires a complex traffic manager</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 : It’s not quite here yet … but almost</a:t>
            </a:r>
            <a:endParaRPr b="0" lang="en-US" sz="2400" spc="-1" strike="noStrike">
              <a:solidFill>
                <a:srgbClr val="080808"/>
              </a:solidFill>
              <a:latin typeface="Times New Roman"/>
            </a:endParaRPr>
          </a:p>
        </p:txBody>
      </p:sp>
      <p:grpSp>
        <p:nvGrpSpPr>
          <p:cNvPr id="325" name=""/>
          <p:cNvGrpSpPr/>
          <p:nvPr/>
        </p:nvGrpSpPr>
        <p:grpSpPr>
          <a:xfrm>
            <a:off x="6781680" y="1752480"/>
            <a:ext cx="2060640" cy="490680"/>
            <a:chOff x="6781680" y="1752480"/>
            <a:chExt cx="2060640" cy="490680"/>
          </a:xfrm>
        </p:grpSpPr>
        <p:pic>
          <p:nvPicPr>
            <p:cNvPr id="326" name="subnet_beige" descr=""/>
            <p:cNvPicPr/>
            <p:nvPr/>
          </p:nvPicPr>
          <p:blipFill>
            <a:blip r:embed="rId34"/>
            <a:stretch/>
          </p:blipFill>
          <p:spPr>
            <a:xfrm>
              <a:off x="7340760" y="1752480"/>
              <a:ext cx="1071360" cy="463680"/>
            </a:xfrm>
            <a:prstGeom prst="rect">
              <a:avLst/>
            </a:prstGeom>
            <a:ln w="0">
              <a:noFill/>
            </a:ln>
          </p:spPr>
        </p:pic>
        <p:sp>
          <p:nvSpPr>
            <p:cNvPr id="327" name=""/>
            <p:cNvSpPr/>
            <p:nvPr/>
          </p:nvSpPr>
          <p:spPr>
            <a:xfrm>
              <a:off x="7569360" y="187452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pic>
          <p:nvPicPr>
            <p:cNvPr id="328" name="stack%20(sm)" descr=""/>
            <p:cNvPicPr/>
            <p:nvPr/>
          </p:nvPicPr>
          <p:blipFill>
            <a:blip r:embed="rId35"/>
            <a:stretch/>
          </p:blipFill>
          <p:spPr>
            <a:xfrm>
              <a:off x="6781680" y="1905120"/>
              <a:ext cx="533520" cy="252360"/>
            </a:xfrm>
            <a:prstGeom prst="rect">
              <a:avLst/>
            </a:prstGeom>
            <a:ln w="0">
              <a:noFill/>
            </a:ln>
          </p:spPr>
        </p:pic>
        <p:pic>
          <p:nvPicPr>
            <p:cNvPr id="329" name="NMS_console_(small)" descr=""/>
            <p:cNvPicPr/>
            <p:nvPr/>
          </p:nvPicPr>
          <p:blipFill>
            <a:blip r:embed="rId36"/>
            <a:stretch/>
          </p:blipFill>
          <p:spPr>
            <a:xfrm>
              <a:off x="8381880" y="1752480"/>
              <a:ext cx="460440" cy="490680"/>
            </a:xfrm>
            <a:prstGeom prst="rect">
              <a:avLst/>
            </a:prstGeom>
            <a:ln w="0">
              <a:noFill/>
            </a:ln>
          </p:spPr>
        </p:pic>
      </p:grpSp>
      <p:grpSp>
        <p:nvGrpSpPr>
          <p:cNvPr id="330" name=""/>
          <p:cNvGrpSpPr/>
          <p:nvPr/>
        </p:nvGrpSpPr>
        <p:grpSpPr>
          <a:xfrm>
            <a:off x="457200" y="1828800"/>
            <a:ext cx="2057400" cy="490680"/>
            <a:chOff x="457200" y="1828800"/>
            <a:chExt cx="2057400" cy="490680"/>
          </a:xfrm>
        </p:grpSpPr>
        <p:pic>
          <p:nvPicPr>
            <p:cNvPr id="331" name="subnet_beige" descr=""/>
            <p:cNvPicPr/>
            <p:nvPr/>
          </p:nvPicPr>
          <p:blipFill>
            <a:blip r:embed="rId37"/>
            <a:stretch/>
          </p:blipFill>
          <p:spPr>
            <a:xfrm>
              <a:off x="914400" y="1828800"/>
              <a:ext cx="1071720" cy="463680"/>
            </a:xfrm>
            <a:prstGeom prst="rect">
              <a:avLst/>
            </a:prstGeom>
            <a:ln w="0">
              <a:noFill/>
            </a:ln>
          </p:spPr>
        </p:pic>
        <p:pic>
          <p:nvPicPr>
            <p:cNvPr id="332" name="stack%20(sm)" descr=""/>
            <p:cNvPicPr/>
            <p:nvPr/>
          </p:nvPicPr>
          <p:blipFill>
            <a:blip r:embed="rId38"/>
            <a:stretch/>
          </p:blipFill>
          <p:spPr>
            <a:xfrm>
              <a:off x="1981080" y="1905120"/>
              <a:ext cx="533520" cy="252360"/>
            </a:xfrm>
            <a:prstGeom prst="rect">
              <a:avLst/>
            </a:prstGeom>
            <a:ln w="0">
              <a:noFill/>
            </a:ln>
          </p:spPr>
        </p:pic>
        <p:pic>
          <p:nvPicPr>
            <p:cNvPr id="333" name="NMS_console_(small)" descr=""/>
            <p:cNvPicPr/>
            <p:nvPr/>
          </p:nvPicPr>
          <p:blipFill>
            <a:blip r:embed="rId39"/>
            <a:stretch/>
          </p:blipFill>
          <p:spPr>
            <a:xfrm>
              <a:off x="457200" y="1828800"/>
              <a:ext cx="460440" cy="490680"/>
            </a:xfrm>
            <a:prstGeom prst="rect">
              <a:avLst/>
            </a:prstGeom>
            <a:ln w="0">
              <a:noFill/>
            </a:ln>
          </p:spPr>
        </p:pic>
        <p:sp>
          <p:nvSpPr>
            <p:cNvPr id="334" name=""/>
            <p:cNvSpPr/>
            <p:nvPr/>
          </p:nvSpPr>
          <p:spPr>
            <a:xfrm>
              <a:off x="1143000" y="195084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grpSp>
      <p:grpSp>
        <p:nvGrpSpPr>
          <p:cNvPr id="335" name=""/>
          <p:cNvGrpSpPr/>
          <p:nvPr/>
        </p:nvGrpSpPr>
        <p:grpSpPr>
          <a:xfrm>
            <a:off x="3187800" y="3957480"/>
            <a:ext cx="2933640" cy="182880"/>
            <a:chOff x="3187800" y="3957480"/>
            <a:chExt cx="2933640" cy="182880"/>
          </a:xfrm>
        </p:grpSpPr>
        <p:sp>
          <p:nvSpPr>
            <p:cNvPr id="336" name=""/>
            <p:cNvSpPr/>
            <p:nvPr/>
          </p:nvSpPr>
          <p:spPr>
            <a:xfrm>
              <a:off x="3187800" y="4140360"/>
              <a:ext cx="2933640" cy="0"/>
            </a:xfrm>
            <a:prstGeom prst="line">
              <a:avLst/>
            </a:prstGeom>
            <a:ln w="38160">
              <a:solidFill>
                <a:srgbClr val="080808"/>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37" name=""/>
            <p:cNvSpPr/>
            <p:nvPr/>
          </p:nvSpPr>
          <p:spPr>
            <a:xfrm>
              <a:off x="4425480" y="3957480"/>
              <a:ext cx="60732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DiffServ</a:t>
              </a:r>
              <a:endParaRPr b="0" lang="en-US" sz="1200" spc="-1" strike="noStrike">
                <a:solidFill>
                  <a:srgbClr val="080808"/>
                </a:solidFill>
                <a:latin typeface="Times New Roman"/>
              </a:endParaRPr>
            </a:p>
          </p:txBody>
        </p:sp>
      </p:grpSp>
      <p:grpSp>
        <p:nvGrpSpPr>
          <p:cNvPr id="338" name=""/>
          <p:cNvGrpSpPr/>
          <p:nvPr/>
        </p:nvGrpSpPr>
        <p:grpSpPr>
          <a:xfrm>
            <a:off x="190440" y="3987720"/>
            <a:ext cx="381240" cy="381240"/>
            <a:chOff x="190440" y="3987720"/>
            <a:chExt cx="381240" cy="381240"/>
          </a:xfrm>
        </p:grpSpPr>
        <p:pic>
          <p:nvPicPr>
            <p:cNvPr id="339" name="subnet_yellow" descr=""/>
            <p:cNvPicPr/>
            <p:nvPr/>
          </p:nvPicPr>
          <p:blipFill>
            <a:blip r:embed="rId40"/>
            <a:stretch/>
          </p:blipFill>
          <p:spPr>
            <a:xfrm>
              <a:off x="190440" y="3987720"/>
              <a:ext cx="381240" cy="381240"/>
            </a:xfrm>
            <a:prstGeom prst="rect">
              <a:avLst/>
            </a:prstGeom>
            <a:ln w="0">
              <a:noFill/>
            </a:ln>
          </p:spPr>
        </p:pic>
        <p:sp>
          <p:nvSpPr>
            <p:cNvPr id="340" name=""/>
            <p:cNvSpPr/>
            <p:nvPr/>
          </p:nvSpPr>
          <p:spPr>
            <a:xfrm>
              <a:off x="346320" y="4048560"/>
              <a:ext cx="116640" cy="2437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Comic Sans MS"/>
                </a:rPr>
                <a:t>1</a:t>
              </a:r>
              <a:endParaRPr b="0" lang="en-US" sz="1600" spc="-1" strike="noStrike">
                <a:solidFill>
                  <a:srgbClr val="080808"/>
                </a:solidFill>
                <a:latin typeface="Times New Roman"/>
              </a:endParaRPr>
            </a:p>
          </p:txBody>
        </p:sp>
      </p:grpSp>
      <p:grpSp>
        <p:nvGrpSpPr>
          <p:cNvPr id="341" name=""/>
          <p:cNvGrpSpPr/>
          <p:nvPr/>
        </p:nvGrpSpPr>
        <p:grpSpPr>
          <a:xfrm>
            <a:off x="6159600" y="3957480"/>
            <a:ext cx="2413080" cy="182880"/>
            <a:chOff x="6159600" y="3957480"/>
            <a:chExt cx="2413080" cy="182880"/>
          </a:xfrm>
        </p:grpSpPr>
        <p:sp>
          <p:nvSpPr>
            <p:cNvPr id="342" name=""/>
            <p:cNvSpPr/>
            <p:nvPr/>
          </p:nvSpPr>
          <p:spPr>
            <a:xfrm>
              <a:off x="6159600" y="4140360"/>
              <a:ext cx="241308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43" name=""/>
            <p:cNvSpPr/>
            <p:nvPr/>
          </p:nvSpPr>
          <p:spPr>
            <a:xfrm>
              <a:off x="6676920" y="395748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grpSp>
        <p:nvGrpSpPr>
          <p:cNvPr id="344" name=""/>
          <p:cNvGrpSpPr/>
          <p:nvPr/>
        </p:nvGrpSpPr>
        <p:grpSpPr>
          <a:xfrm>
            <a:off x="647640" y="3957480"/>
            <a:ext cx="2502000" cy="182880"/>
            <a:chOff x="647640" y="3957480"/>
            <a:chExt cx="2502000" cy="182880"/>
          </a:xfrm>
        </p:grpSpPr>
        <p:sp>
          <p:nvSpPr>
            <p:cNvPr id="345" name=""/>
            <p:cNvSpPr/>
            <p:nvPr/>
          </p:nvSpPr>
          <p:spPr>
            <a:xfrm>
              <a:off x="647640" y="4140360"/>
              <a:ext cx="2502000" cy="0"/>
            </a:xfrm>
            <a:prstGeom prst="line">
              <a:avLst/>
            </a:prstGeom>
            <a:ln w="38160">
              <a:solidFill>
                <a:srgbClr val="080808"/>
              </a:solidFill>
              <a:prstDash val="sysDot"/>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46" name=""/>
            <p:cNvSpPr/>
            <p:nvPr/>
          </p:nvSpPr>
          <p:spPr>
            <a:xfrm>
              <a:off x="1495080" y="3957480"/>
              <a:ext cx="966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Comic Sans MS"/>
                </a:rPr>
                <a:t>RSVP Intserv</a:t>
              </a:r>
              <a:endParaRPr b="0" lang="en-US" sz="1200" spc="-1" strike="noStrike">
                <a:solidFill>
                  <a:srgbClr val="080808"/>
                </a:solidFill>
                <a:latin typeface="Times New Roman"/>
              </a:endParaRPr>
            </a:p>
          </p:txBody>
        </p:sp>
      </p:grpSp>
      <p:grpSp>
        <p:nvGrpSpPr>
          <p:cNvPr id="347" name=""/>
          <p:cNvGrpSpPr/>
          <p:nvPr/>
        </p:nvGrpSpPr>
        <p:grpSpPr>
          <a:xfrm>
            <a:off x="774720" y="1638360"/>
            <a:ext cx="1473120" cy="276480"/>
            <a:chOff x="774720" y="1638360"/>
            <a:chExt cx="1473120" cy="276480"/>
          </a:xfrm>
        </p:grpSpPr>
        <p:sp>
          <p:nvSpPr>
            <p:cNvPr id="348" name=""/>
            <p:cNvSpPr/>
            <p:nvPr/>
          </p:nvSpPr>
          <p:spPr>
            <a:xfrm>
              <a:off x="774720" y="1905120"/>
              <a:ext cx="14731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49" name=""/>
            <p:cNvSpPr/>
            <p:nvPr/>
          </p:nvSpPr>
          <p:spPr>
            <a:xfrm>
              <a:off x="1203120" y="16383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350" name=""/>
          <p:cNvSpPr/>
          <p:nvPr/>
        </p:nvSpPr>
        <p:spPr>
          <a:xfrm flipH="1">
            <a:off x="1781280" y="2065320"/>
            <a:ext cx="466560" cy="117000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351" name=""/>
          <p:cNvGrpSpPr/>
          <p:nvPr/>
        </p:nvGrpSpPr>
        <p:grpSpPr>
          <a:xfrm>
            <a:off x="2438280" y="1663560"/>
            <a:ext cx="800280" cy="276480"/>
            <a:chOff x="2438280" y="1663560"/>
            <a:chExt cx="800280" cy="276480"/>
          </a:xfrm>
        </p:grpSpPr>
        <p:sp>
          <p:nvSpPr>
            <p:cNvPr id="352" name=""/>
            <p:cNvSpPr/>
            <p:nvPr/>
          </p:nvSpPr>
          <p:spPr>
            <a:xfrm>
              <a:off x="2438280" y="1917720"/>
              <a:ext cx="80028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53" name=""/>
            <p:cNvSpPr/>
            <p:nvPr/>
          </p:nvSpPr>
          <p:spPr>
            <a:xfrm>
              <a:off x="2485800" y="16635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354" name=""/>
          <p:cNvSpPr/>
          <p:nvPr/>
        </p:nvSpPr>
        <p:spPr>
          <a:xfrm>
            <a:off x="3314880" y="2052720"/>
            <a:ext cx="1704960" cy="97956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355" name=""/>
          <p:cNvGrpSpPr/>
          <p:nvPr/>
        </p:nvGrpSpPr>
        <p:grpSpPr>
          <a:xfrm>
            <a:off x="3492360" y="1650960"/>
            <a:ext cx="2400480" cy="276480"/>
            <a:chOff x="3492360" y="1650960"/>
            <a:chExt cx="2400480" cy="276480"/>
          </a:xfrm>
        </p:grpSpPr>
        <p:sp>
          <p:nvSpPr>
            <p:cNvPr id="356" name=""/>
            <p:cNvSpPr/>
            <p:nvPr/>
          </p:nvSpPr>
          <p:spPr>
            <a:xfrm>
              <a:off x="3492360" y="1917720"/>
              <a:ext cx="2400480" cy="0"/>
            </a:xfrm>
            <a:prstGeom prst="line">
              <a:avLst/>
            </a:prstGeom>
            <a:ln w="57240">
              <a:solidFill>
                <a:srgbClr val="fc0128"/>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57" name=""/>
            <p:cNvSpPr/>
            <p:nvPr/>
          </p:nvSpPr>
          <p:spPr>
            <a:xfrm>
              <a:off x="4272120" y="165096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tunneled</a:t>
              </a:r>
              <a:endParaRPr b="0" lang="en-US" sz="1200" spc="-1" strike="noStrike">
                <a:solidFill>
                  <a:srgbClr val="080808"/>
                </a:solidFill>
                <a:latin typeface="Times New Roman"/>
              </a:endParaRPr>
            </a:p>
          </p:txBody>
        </p:sp>
      </p:grpSp>
      <p:grpSp>
        <p:nvGrpSpPr>
          <p:cNvPr id="358" name=""/>
          <p:cNvGrpSpPr/>
          <p:nvPr/>
        </p:nvGrpSpPr>
        <p:grpSpPr>
          <a:xfrm>
            <a:off x="6134040" y="1638360"/>
            <a:ext cx="914400" cy="276480"/>
            <a:chOff x="6134040" y="1638360"/>
            <a:chExt cx="914400" cy="276480"/>
          </a:xfrm>
        </p:grpSpPr>
        <p:sp>
          <p:nvSpPr>
            <p:cNvPr id="359" name=""/>
            <p:cNvSpPr/>
            <p:nvPr/>
          </p:nvSpPr>
          <p:spPr>
            <a:xfrm>
              <a:off x="6134040" y="1892520"/>
              <a:ext cx="914400" cy="12600"/>
            </a:xfrm>
            <a:prstGeom prst="line">
              <a:avLst/>
            </a:prstGeom>
            <a:ln w="57240">
              <a:solidFill>
                <a:srgbClr val="fc0128"/>
              </a:solidFill>
              <a:miter/>
              <a:tailEnd len="med" type="triangle" w="sm"/>
            </a:ln>
          </p:spPr>
          <p:style>
            <a:lnRef idx="0"/>
            <a:fillRef idx="0"/>
            <a:effectRef idx="0"/>
            <a:fontRef idx="minor"/>
          </p:style>
          <p:txBody>
            <a:bodyPr lIns="90000" rIns="90000" tIns="-34200" bIns="-34200" anchor="ctr">
              <a:noAutofit/>
            </a:bodyPr>
            <a:p>
              <a:endParaRPr b="0" lang="en-US" sz="2400" spc="-1" strike="noStrike">
                <a:solidFill>
                  <a:srgbClr val="080808"/>
                </a:solidFill>
                <a:latin typeface="Times New Roman"/>
              </a:endParaRPr>
            </a:p>
          </p:txBody>
        </p:sp>
        <p:sp>
          <p:nvSpPr>
            <p:cNvPr id="360" name=""/>
            <p:cNvSpPr/>
            <p:nvPr/>
          </p:nvSpPr>
          <p:spPr>
            <a:xfrm>
              <a:off x="6219720" y="16383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sp>
        <p:nvSpPr>
          <p:cNvPr id="361" name=""/>
          <p:cNvSpPr/>
          <p:nvPr/>
        </p:nvSpPr>
        <p:spPr>
          <a:xfrm>
            <a:off x="7023240" y="2090880"/>
            <a:ext cx="968400" cy="111888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362" name=""/>
          <p:cNvGrpSpPr/>
          <p:nvPr/>
        </p:nvGrpSpPr>
        <p:grpSpPr>
          <a:xfrm>
            <a:off x="7277040" y="1536840"/>
            <a:ext cx="1244520" cy="355320"/>
            <a:chOff x="7277040" y="1536840"/>
            <a:chExt cx="1244520" cy="355320"/>
          </a:xfrm>
        </p:grpSpPr>
        <p:sp>
          <p:nvSpPr>
            <p:cNvPr id="363" name=""/>
            <p:cNvSpPr/>
            <p:nvPr/>
          </p:nvSpPr>
          <p:spPr>
            <a:xfrm>
              <a:off x="7277040" y="1892160"/>
              <a:ext cx="12445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64" name=""/>
            <p:cNvSpPr/>
            <p:nvPr/>
          </p:nvSpPr>
          <p:spPr>
            <a:xfrm>
              <a:off x="7616520" y="153684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Path</a:t>
              </a:r>
              <a:endParaRPr b="0" lang="en-US" sz="1200" spc="-1" strike="noStrike">
                <a:solidFill>
                  <a:srgbClr val="080808"/>
                </a:solidFill>
                <a:latin typeface="Times New Roman"/>
              </a:endParaRPr>
            </a:p>
          </p:txBody>
        </p:sp>
      </p:grpSp>
      <p:grpSp>
        <p:nvGrpSpPr>
          <p:cNvPr id="365" name=""/>
          <p:cNvGrpSpPr/>
          <p:nvPr/>
        </p:nvGrpSpPr>
        <p:grpSpPr>
          <a:xfrm>
            <a:off x="6133680" y="2108160"/>
            <a:ext cx="800280" cy="302040"/>
            <a:chOff x="6133680" y="2108160"/>
            <a:chExt cx="800280" cy="302040"/>
          </a:xfrm>
        </p:grpSpPr>
        <p:sp>
          <p:nvSpPr>
            <p:cNvPr id="366" name=""/>
            <p:cNvSpPr/>
            <p:nvPr/>
          </p:nvSpPr>
          <p:spPr>
            <a:xfrm flipH="1">
              <a:off x="6133680" y="2108160"/>
              <a:ext cx="80028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67" name=""/>
            <p:cNvSpPr/>
            <p:nvPr/>
          </p:nvSpPr>
          <p:spPr>
            <a:xfrm>
              <a:off x="6258600" y="21337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368" name=""/>
          <p:cNvGrpSpPr/>
          <p:nvPr/>
        </p:nvGrpSpPr>
        <p:grpSpPr>
          <a:xfrm>
            <a:off x="7289640" y="2108160"/>
            <a:ext cx="1168560" cy="314280"/>
            <a:chOff x="7289640" y="2108160"/>
            <a:chExt cx="1168560" cy="314280"/>
          </a:xfrm>
        </p:grpSpPr>
        <p:sp>
          <p:nvSpPr>
            <p:cNvPr id="369" name=""/>
            <p:cNvSpPr/>
            <p:nvPr/>
          </p:nvSpPr>
          <p:spPr>
            <a:xfrm flipH="1">
              <a:off x="7289640" y="2108160"/>
              <a:ext cx="116856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70" name=""/>
            <p:cNvSpPr/>
            <p:nvPr/>
          </p:nvSpPr>
          <p:spPr>
            <a:xfrm>
              <a:off x="7630200" y="214596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371" name=""/>
          <p:cNvGrpSpPr/>
          <p:nvPr/>
        </p:nvGrpSpPr>
        <p:grpSpPr>
          <a:xfrm>
            <a:off x="3454560" y="2095560"/>
            <a:ext cx="2387520" cy="276480"/>
            <a:chOff x="3454560" y="2095560"/>
            <a:chExt cx="2387520" cy="276480"/>
          </a:xfrm>
        </p:grpSpPr>
        <p:sp>
          <p:nvSpPr>
            <p:cNvPr id="372" name=""/>
            <p:cNvSpPr/>
            <p:nvPr/>
          </p:nvSpPr>
          <p:spPr>
            <a:xfrm flipH="1">
              <a:off x="3454560" y="2108160"/>
              <a:ext cx="2387520" cy="0"/>
            </a:xfrm>
            <a:prstGeom prst="line">
              <a:avLst/>
            </a:prstGeom>
            <a:ln w="57240">
              <a:solidFill>
                <a:srgbClr val="fc0128"/>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73" name=""/>
            <p:cNvSpPr/>
            <p:nvPr/>
          </p:nvSpPr>
          <p:spPr>
            <a:xfrm>
              <a:off x="4312080" y="209556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tunneled</a:t>
              </a:r>
              <a:endParaRPr b="0" lang="en-US" sz="1200" spc="-1" strike="noStrike">
                <a:solidFill>
                  <a:srgbClr val="080808"/>
                </a:solidFill>
                <a:latin typeface="Times New Roman"/>
              </a:endParaRPr>
            </a:p>
          </p:txBody>
        </p:sp>
      </p:grpSp>
      <p:grpSp>
        <p:nvGrpSpPr>
          <p:cNvPr id="374" name=""/>
          <p:cNvGrpSpPr/>
          <p:nvPr/>
        </p:nvGrpSpPr>
        <p:grpSpPr>
          <a:xfrm>
            <a:off x="2374920" y="2133720"/>
            <a:ext cx="799920" cy="301680"/>
            <a:chOff x="2374920" y="2133720"/>
            <a:chExt cx="799920" cy="301680"/>
          </a:xfrm>
        </p:grpSpPr>
        <p:sp>
          <p:nvSpPr>
            <p:cNvPr id="375" name=""/>
            <p:cNvSpPr/>
            <p:nvPr/>
          </p:nvSpPr>
          <p:spPr>
            <a:xfrm flipH="1">
              <a:off x="2374920" y="2133720"/>
              <a:ext cx="7999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76" name=""/>
            <p:cNvSpPr/>
            <p:nvPr/>
          </p:nvSpPr>
          <p:spPr>
            <a:xfrm>
              <a:off x="2499120" y="21589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grpSp>
        <p:nvGrpSpPr>
          <p:cNvPr id="377" name=""/>
          <p:cNvGrpSpPr/>
          <p:nvPr/>
        </p:nvGrpSpPr>
        <p:grpSpPr>
          <a:xfrm>
            <a:off x="850680" y="2158920"/>
            <a:ext cx="1168200" cy="314280"/>
            <a:chOff x="850680" y="2158920"/>
            <a:chExt cx="1168200" cy="314280"/>
          </a:xfrm>
        </p:grpSpPr>
        <p:sp>
          <p:nvSpPr>
            <p:cNvPr id="378" name=""/>
            <p:cNvSpPr/>
            <p:nvPr/>
          </p:nvSpPr>
          <p:spPr>
            <a:xfrm flipH="1">
              <a:off x="850680" y="2158920"/>
              <a:ext cx="116820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379" name=""/>
            <p:cNvSpPr/>
            <p:nvPr/>
          </p:nvSpPr>
          <p:spPr>
            <a:xfrm>
              <a:off x="1190880" y="219672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sp>
        <p:nvSpPr>
          <p:cNvPr id="380" name=""/>
          <p:cNvSpPr/>
          <p:nvPr/>
        </p:nvSpPr>
        <p:spPr>
          <a:xfrm flipH="1">
            <a:off x="5184720" y="2116080"/>
            <a:ext cx="835200" cy="103032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CAC - COPS</a:t>
            </a:r>
            <a:endParaRPr b="1" lang="en-US" sz="2800" spc="-1" strike="noStrike">
              <a:solidFill>
                <a:srgbClr val="ffaf34"/>
              </a:solidFill>
              <a:latin typeface="Comic Sans MS"/>
            </a:endParaRPr>
          </a:p>
        </p:txBody>
      </p:sp>
      <p:sp>
        <p:nvSpPr>
          <p:cNvPr id="382" name=""/>
          <p:cNvSpPr/>
          <p:nvPr/>
        </p:nvSpPr>
        <p:spPr>
          <a:xfrm>
            <a:off x="380880" y="712800"/>
            <a:ext cx="8763120" cy="3495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nection Admission Control (CAC)</a:t>
            </a:r>
            <a:endParaRPr b="0" lang="en-US" sz="2200" spc="-1" strike="noStrike">
              <a:solidFill>
                <a:srgbClr val="080808"/>
              </a:solidFill>
              <a:latin typeface="Times New Roman"/>
            </a:endParaRPr>
          </a:p>
          <a:p>
            <a:pPr lvl="1" marL="628560" indent="-228600">
              <a:lnSpc>
                <a:spcPct val="85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AC function determines if a specific flow of traffic can be supported across the network</a:t>
            </a:r>
            <a:endParaRPr b="0" lang="en-US" sz="2000" spc="-1" strike="noStrike">
              <a:solidFill>
                <a:srgbClr val="080808"/>
              </a:solidFill>
              <a:latin typeface="Times New Roman"/>
            </a:endParaRPr>
          </a:p>
          <a:p>
            <a:pPr lvl="1" marL="628560" indent="-228600">
              <a:lnSpc>
                <a:spcPct val="85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a CAC has approved a flow, traffic shapers, markers, policers and meters are needed to enforce the agreed-to traffic profile.</a:t>
            </a:r>
            <a:endParaRPr b="0" lang="en-US" sz="2000" spc="-1" strike="noStrike">
              <a:solidFill>
                <a:srgbClr val="080808"/>
              </a:solidFill>
              <a:latin typeface="Times New Roman"/>
            </a:endParaRPr>
          </a:p>
          <a:p>
            <a:pPr marL="285840" indent="-28584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a:p>
            <a:pPr marL="285840" indent="-285840">
              <a:lnSpc>
                <a:spcPct val="85000"/>
              </a:lnSpc>
              <a:spcBef>
                <a:spcPts val="275"/>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on Open Policy Services (COPS)</a:t>
            </a:r>
            <a:endParaRPr b="0" lang="en-US" sz="2200" spc="-1" strike="noStrike">
              <a:solidFill>
                <a:srgbClr val="080808"/>
              </a:solidFill>
              <a:latin typeface="Times New Roman"/>
            </a:endParaRPr>
          </a:p>
          <a:p>
            <a:pPr lvl="1" marL="628560" indent="-228600">
              <a:lnSpc>
                <a:spcPct val="85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S is a protocol and an architecture for supporting centralised QoS policies</a:t>
            </a:r>
            <a:endParaRPr b="0" lang="en-US" sz="2000" spc="-1" strike="noStrike">
              <a:solidFill>
                <a:srgbClr val="080808"/>
              </a:solidFill>
              <a:latin typeface="Times New Roman"/>
            </a:endParaRPr>
          </a:p>
          <a:p>
            <a:pPr lvl="1" marL="628560" indent="-228600">
              <a:lnSpc>
                <a:spcPct val="85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S populates the network elements with the appropriate TCBs and provides the necessary signaling support.</a:t>
            </a:r>
            <a:endParaRPr b="0" lang="en-US" sz="2000" spc="-1" strike="noStrike">
              <a:solidFill>
                <a:srgbClr val="080808"/>
              </a:solidFill>
              <a:latin typeface="Times New Roman"/>
            </a:endParaRPr>
          </a:p>
        </p:txBody>
      </p:sp>
      <p:grpSp>
        <p:nvGrpSpPr>
          <p:cNvPr id="383" name=""/>
          <p:cNvGrpSpPr/>
          <p:nvPr/>
        </p:nvGrpSpPr>
        <p:grpSpPr>
          <a:xfrm>
            <a:off x="990720" y="4838760"/>
            <a:ext cx="3390840" cy="1675800"/>
            <a:chOff x="990720" y="4838760"/>
            <a:chExt cx="3390840" cy="1675800"/>
          </a:xfrm>
        </p:grpSpPr>
        <p:pic>
          <p:nvPicPr>
            <p:cNvPr id="384" name="line%20vert2" descr=""/>
            <p:cNvPicPr/>
            <p:nvPr/>
          </p:nvPicPr>
          <p:blipFill>
            <a:blip r:embed="rId1"/>
            <a:stretch/>
          </p:blipFill>
          <p:spPr>
            <a:xfrm flipH="1">
              <a:off x="3200400" y="4838760"/>
              <a:ext cx="76320" cy="914400"/>
            </a:xfrm>
            <a:prstGeom prst="rect">
              <a:avLst/>
            </a:prstGeom>
            <a:ln w="0">
              <a:noFill/>
            </a:ln>
          </p:spPr>
        </p:pic>
        <p:pic>
          <p:nvPicPr>
            <p:cNvPr id="385" name="line%2045%20rt" descr=""/>
            <p:cNvPicPr/>
            <p:nvPr/>
          </p:nvPicPr>
          <p:blipFill>
            <a:blip r:embed="rId2"/>
            <a:stretch/>
          </p:blipFill>
          <p:spPr>
            <a:xfrm>
              <a:off x="2362320" y="4838760"/>
              <a:ext cx="835200" cy="914400"/>
            </a:xfrm>
            <a:prstGeom prst="rect">
              <a:avLst/>
            </a:prstGeom>
            <a:ln w="0">
              <a:noFill/>
            </a:ln>
          </p:spPr>
        </p:pic>
        <p:pic>
          <p:nvPicPr>
            <p:cNvPr id="386" name="server%20blue_lines" descr=""/>
            <p:cNvPicPr/>
            <p:nvPr/>
          </p:nvPicPr>
          <p:blipFill>
            <a:blip r:embed="rId3"/>
            <a:stretch/>
          </p:blipFill>
          <p:spPr>
            <a:xfrm>
              <a:off x="2144880" y="5753160"/>
              <a:ext cx="293760" cy="507960"/>
            </a:xfrm>
            <a:prstGeom prst="rect">
              <a:avLst/>
            </a:prstGeom>
            <a:ln w="0">
              <a:noFill/>
            </a:ln>
          </p:spPr>
        </p:pic>
        <p:pic>
          <p:nvPicPr>
            <p:cNvPr id="387" name="server%20red_lines" descr=""/>
            <p:cNvPicPr/>
            <p:nvPr/>
          </p:nvPicPr>
          <p:blipFill>
            <a:blip r:embed="rId4"/>
            <a:stretch/>
          </p:blipFill>
          <p:spPr>
            <a:xfrm>
              <a:off x="3124440" y="5753160"/>
              <a:ext cx="269640" cy="507960"/>
            </a:xfrm>
            <a:prstGeom prst="rect">
              <a:avLst/>
            </a:prstGeom>
            <a:ln w="0">
              <a:noFill/>
            </a:ln>
          </p:spPr>
        </p:pic>
        <p:pic>
          <p:nvPicPr>
            <p:cNvPr id="388" name="apps_small" descr=""/>
            <p:cNvPicPr/>
            <p:nvPr/>
          </p:nvPicPr>
          <p:blipFill>
            <a:blip r:embed="rId5"/>
            <a:stretch/>
          </p:blipFill>
          <p:spPr>
            <a:xfrm>
              <a:off x="2514600" y="5808600"/>
              <a:ext cx="533520" cy="401760"/>
            </a:xfrm>
            <a:prstGeom prst="rect">
              <a:avLst/>
            </a:prstGeom>
            <a:ln w="0">
              <a:noFill/>
            </a:ln>
          </p:spPr>
        </p:pic>
        <p:sp>
          <p:nvSpPr>
            <p:cNvPr id="389" name=""/>
            <p:cNvSpPr/>
            <p:nvPr/>
          </p:nvSpPr>
          <p:spPr>
            <a:xfrm>
              <a:off x="990720" y="59338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icy</a:t>
              </a:r>
              <a:endParaRPr b="0" lang="en-US" sz="1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erver</a:t>
              </a:r>
              <a:endParaRPr b="0" lang="en-US" sz="1600" spc="-1" strike="noStrike">
                <a:solidFill>
                  <a:srgbClr val="080808"/>
                </a:solidFill>
                <a:latin typeface="Times New Roman"/>
              </a:endParaRPr>
            </a:p>
          </p:txBody>
        </p:sp>
        <p:sp>
          <p:nvSpPr>
            <p:cNvPr id="390" name=""/>
            <p:cNvSpPr/>
            <p:nvPr/>
          </p:nvSpPr>
          <p:spPr>
            <a:xfrm>
              <a:off x="2552760" y="544824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ndwidth</a:t>
              </a:r>
              <a:endParaRPr b="0" lang="en-US" sz="1600" spc="-1" strike="noStrike">
                <a:solidFill>
                  <a:srgbClr val="080808"/>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a:t>
              </a:r>
              <a:endParaRPr b="0" lang="en-US" sz="1600" spc="-1" strike="noStrike">
                <a:solidFill>
                  <a:srgbClr val="080808"/>
                </a:solidFill>
                <a:latin typeface="Times New Roman"/>
              </a:endParaRPr>
            </a:p>
          </p:txBody>
        </p:sp>
      </p:grpSp>
      <p:grpSp>
        <p:nvGrpSpPr>
          <p:cNvPr id="391" name=""/>
          <p:cNvGrpSpPr/>
          <p:nvPr/>
        </p:nvGrpSpPr>
        <p:grpSpPr>
          <a:xfrm>
            <a:off x="3505320" y="4381560"/>
            <a:ext cx="2514600" cy="609480"/>
            <a:chOff x="3505320" y="4381560"/>
            <a:chExt cx="2514600" cy="609480"/>
          </a:xfrm>
        </p:grpSpPr>
        <p:pic>
          <p:nvPicPr>
            <p:cNvPr id="392" name="cloud%20gr" descr=""/>
            <p:cNvPicPr/>
            <p:nvPr/>
          </p:nvPicPr>
          <p:blipFill>
            <a:blip r:embed="rId6"/>
            <a:stretch/>
          </p:blipFill>
          <p:spPr>
            <a:xfrm>
              <a:off x="3505320" y="4381560"/>
              <a:ext cx="2514600" cy="609480"/>
            </a:xfrm>
            <a:prstGeom prst="rect">
              <a:avLst/>
            </a:prstGeom>
            <a:ln w="0">
              <a:noFill/>
            </a:ln>
          </p:spPr>
        </p:pic>
        <p:sp>
          <p:nvSpPr>
            <p:cNvPr id="393" name=""/>
            <p:cNvSpPr/>
            <p:nvPr/>
          </p:nvSpPr>
          <p:spPr>
            <a:xfrm>
              <a:off x="4119840" y="445788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1</a:t>
              </a:r>
              <a:endParaRPr b="0" lang="en-US" sz="2000" spc="-1" strike="noStrike">
                <a:solidFill>
                  <a:srgbClr val="080808"/>
                </a:solidFill>
                <a:latin typeface="Times New Roman"/>
              </a:endParaRPr>
            </a:p>
          </p:txBody>
        </p:sp>
      </p:grpSp>
      <p:grpSp>
        <p:nvGrpSpPr>
          <p:cNvPr id="394" name=""/>
          <p:cNvGrpSpPr/>
          <p:nvPr/>
        </p:nvGrpSpPr>
        <p:grpSpPr>
          <a:xfrm>
            <a:off x="5816520" y="4457880"/>
            <a:ext cx="2060640" cy="490320"/>
            <a:chOff x="5816520" y="4457880"/>
            <a:chExt cx="2060640" cy="490320"/>
          </a:xfrm>
        </p:grpSpPr>
        <p:pic>
          <p:nvPicPr>
            <p:cNvPr id="395" name="subnet_beige" descr=""/>
            <p:cNvPicPr/>
            <p:nvPr/>
          </p:nvPicPr>
          <p:blipFill>
            <a:blip r:embed="rId7"/>
            <a:stretch/>
          </p:blipFill>
          <p:spPr>
            <a:xfrm>
              <a:off x="6375600" y="4457880"/>
              <a:ext cx="1071360" cy="463320"/>
            </a:xfrm>
            <a:prstGeom prst="rect">
              <a:avLst/>
            </a:prstGeom>
            <a:ln w="0">
              <a:noFill/>
            </a:ln>
          </p:spPr>
        </p:pic>
        <p:sp>
          <p:nvSpPr>
            <p:cNvPr id="396" name=""/>
            <p:cNvSpPr/>
            <p:nvPr/>
          </p:nvSpPr>
          <p:spPr>
            <a:xfrm>
              <a:off x="6604200" y="457956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pic>
          <p:nvPicPr>
            <p:cNvPr id="397" name="stack%20(sm)" descr=""/>
            <p:cNvPicPr/>
            <p:nvPr/>
          </p:nvPicPr>
          <p:blipFill>
            <a:blip r:embed="rId8"/>
            <a:stretch/>
          </p:blipFill>
          <p:spPr>
            <a:xfrm>
              <a:off x="5816520" y="4610160"/>
              <a:ext cx="533520" cy="252000"/>
            </a:xfrm>
            <a:prstGeom prst="rect">
              <a:avLst/>
            </a:prstGeom>
            <a:ln w="0">
              <a:noFill/>
            </a:ln>
          </p:spPr>
        </p:pic>
        <p:pic>
          <p:nvPicPr>
            <p:cNvPr id="398" name="NMS_console_(small)" descr=""/>
            <p:cNvPicPr/>
            <p:nvPr/>
          </p:nvPicPr>
          <p:blipFill>
            <a:blip r:embed="rId9"/>
            <a:stretch/>
          </p:blipFill>
          <p:spPr>
            <a:xfrm>
              <a:off x="7416720" y="4457880"/>
              <a:ext cx="460440" cy="490320"/>
            </a:xfrm>
            <a:prstGeom prst="rect">
              <a:avLst/>
            </a:prstGeom>
            <a:ln w="0">
              <a:noFill/>
            </a:ln>
          </p:spPr>
        </p:pic>
      </p:grpSp>
      <p:grpSp>
        <p:nvGrpSpPr>
          <p:cNvPr id="399" name=""/>
          <p:cNvGrpSpPr/>
          <p:nvPr/>
        </p:nvGrpSpPr>
        <p:grpSpPr>
          <a:xfrm>
            <a:off x="1447920" y="4533840"/>
            <a:ext cx="2057400" cy="490680"/>
            <a:chOff x="1447920" y="4533840"/>
            <a:chExt cx="2057400" cy="490680"/>
          </a:xfrm>
        </p:grpSpPr>
        <p:pic>
          <p:nvPicPr>
            <p:cNvPr id="400" name="subnet_beige" descr=""/>
            <p:cNvPicPr/>
            <p:nvPr/>
          </p:nvPicPr>
          <p:blipFill>
            <a:blip r:embed="rId10"/>
            <a:stretch/>
          </p:blipFill>
          <p:spPr>
            <a:xfrm>
              <a:off x="1905120" y="4533840"/>
              <a:ext cx="1071720" cy="463680"/>
            </a:xfrm>
            <a:prstGeom prst="rect">
              <a:avLst/>
            </a:prstGeom>
            <a:ln w="0">
              <a:noFill/>
            </a:ln>
          </p:spPr>
        </p:pic>
        <p:pic>
          <p:nvPicPr>
            <p:cNvPr id="401" name="stack%20(sm)" descr=""/>
            <p:cNvPicPr/>
            <p:nvPr/>
          </p:nvPicPr>
          <p:blipFill>
            <a:blip r:embed="rId11"/>
            <a:stretch/>
          </p:blipFill>
          <p:spPr>
            <a:xfrm>
              <a:off x="2971800" y="4610160"/>
              <a:ext cx="533520" cy="252360"/>
            </a:xfrm>
            <a:prstGeom prst="rect">
              <a:avLst/>
            </a:prstGeom>
            <a:ln w="0">
              <a:noFill/>
            </a:ln>
          </p:spPr>
        </p:pic>
        <p:pic>
          <p:nvPicPr>
            <p:cNvPr id="402" name="NMS_console_(small)" descr=""/>
            <p:cNvPicPr/>
            <p:nvPr/>
          </p:nvPicPr>
          <p:blipFill>
            <a:blip r:embed="rId12"/>
            <a:stretch/>
          </p:blipFill>
          <p:spPr>
            <a:xfrm>
              <a:off x="1447920" y="4533840"/>
              <a:ext cx="460440" cy="490680"/>
            </a:xfrm>
            <a:prstGeom prst="rect">
              <a:avLst/>
            </a:prstGeom>
            <a:ln w="0">
              <a:noFill/>
            </a:ln>
          </p:spPr>
        </p:pic>
        <p:sp>
          <p:nvSpPr>
            <p:cNvPr id="403" name=""/>
            <p:cNvSpPr/>
            <p:nvPr/>
          </p:nvSpPr>
          <p:spPr>
            <a:xfrm>
              <a:off x="2133720" y="465588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a:t>
              </a:r>
              <a:endParaRPr b="0" lang="en-US" sz="1400" spc="-1" strike="noStrike">
                <a:solidFill>
                  <a:srgbClr val="080808"/>
                </a:solidFill>
                <a:latin typeface="Times New Roman"/>
              </a:endParaRPr>
            </a:p>
          </p:txBody>
        </p:sp>
      </p:grpSp>
      <p:grpSp>
        <p:nvGrpSpPr>
          <p:cNvPr id="404" name=""/>
          <p:cNvGrpSpPr/>
          <p:nvPr/>
        </p:nvGrpSpPr>
        <p:grpSpPr>
          <a:xfrm>
            <a:off x="1765440" y="4343400"/>
            <a:ext cx="1473120" cy="276480"/>
            <a:chOff x="1765440" y="4343400"/>
            <a:chExt cx="1473120" cy="276480"/>
          </a:xfrm>
        </p:grpSpPr>
        <p:sp>
          <p:nvSpPr>
            <p:cNvPr id="405" name=""/>
            <p:cNvSpPr/>
            <p:nvPr/>
          </p:nvSpPr>
          <p:spPr>
            <a:xfrm>
              <a:off x="1765440" y="4610160"/>
              <a:ext cx="14731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06" name=""/>
            <p:cNvSpPr/>
            <p:nvPr/>
          </p:nvSpPr>
          <p:spPr>
            <a:xfrm>
              <a:off x="2194560" y="434340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sp>
        <p:nvSpPr>
          <p:cNvPr id="407" name=""/>
          <p:cNvSpPr/>
          <p:nvPr/>
        </p:nvSpPr>
        <p:spPr>
          <a:xfrm flipH="1">
            <a:off x="2771280" y="4770360"/>
            <a:ext cx="466920" cy="1170000"/>
          </a:xfrm>
          <a:prstGeom prst="line">
            <a:avLst/>
          </a:prstGeom>
          <a:ln w="57240">
            <a:solidFill>
              <a:srgbClr val="00f417"/>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grpSp>
        <p:nvGrpSpPr>
          <p:cNvPr id="408" name=""/>
          <p:cNvGrpSpPr/>
          <p:nvPr/>
        </p:nvGrpSpPr>
        <p:grpSpPr>
          <a:xfrm>
            <a:off x="3492360" y="4356000"/>
            <a:ext cx="2400480" cy="276480"/>
            <a:chOff x="3492360" y="4356000"/>
            <a:chExt cx="2400480" cy="276480"/>
          </a:xfrm>
        </p:grpSpPr>
        <p:sp>
          <p:nvSpPr>
            <p:cNvPr id="409" name=""/>
            <p:cNvSpPr/>
            <p:nvPr/>
          </p:nvSpPr>
          <p:spPr>
            <a:xfrm>
              <a:off x="3492360" y="4622760"/>
              <a:ext cx="2400480" cy="0"/>
            </a:xfrm>
            <a:prstGeom prst="line">
              <a:avLst/>
            </a:prstGeom>
            <a:ln w="57240">
              <a:solidFill>
                <a:srgbClr val="fc0128"/>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0" name=""/>
            <p:cNvSpPr/>
            <p:nvPr/>
          </p:nvSpPr>
          <p:spPr>
            <a:xfrm>
              <a:off x="4272120" y="4356000"/>
              <a:ext cx="87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tunneled</a:t>
              </a:r>
              <a:endParaRPr b="0" lang="en-US" sz="1200" spc="-1" strike="noStrike">
                <a:solidFill>
                  <a:srgbClr val="080808"/>
                </a:solidFill>
                <a:latin typeface="Times New Roman"/>
              </a:endParaRPr>
            </a:p>
          </p:txBody>
        </p:sp>
      </p:grpSp>
      <p:grpSp>
        <p:nvGrpSpPr>
          <p:cNvPr id="411" name=""/>
          <p:cNvGrpSpPr/>
          <p:nvPr/>
        </p:nvGrpSpPr>
        <p:grpSpPr>
          <a:xfrm>
            <a:off x="6311880" y="4241880"/>
            <a:ext cx="1244520" cy="355680"/>
            <a:chOff x="6311880" y="4241880"/>
            <a:chExt cx="1244520" cy="355680"/>
          </a:xfrm>
        </p:grpSpPr>
        <p:sp>
          <p:nvSpPr>
            <p:cNvPr id="412" name=""/>
            <p:cNvSpPr/>
            <p:nvPr/>
          </p:nvSpPr>
          <p:spPr>
            <a:xfrm>
              <a:off x="6311880" y="4597560"/>
              <a:ext cx="1244520" cy="0"/>
            </a:xfrm>
            <a:prstGeom prst="line">
              <a:avLst/>
            </a:prstGeom>
            <a:ln w="57240">
              <a:solidFill>
                <a:srgbClr val="fc012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3" name=""/>
            <p:cNvSpPr/>
            <p:nvPr/>
          </p:nvSpPr>
          <p:spPr>
            <a:xfrm>
              <a:off x="6652080" y="4241880"/>
              <a:ext cx="534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Comic Sans MS"/>
                </a:rPr>
                <a:t>Resv</a:t>
              </a:r>
              <a:endParaRPr b="0" lang="en-US" sz="1200" spc="-1" strike="noStrike">
                <a:solidFill>
                  <a:srgbClr val="080808"/>
                </a:solidFill>
                <a:latin typeface="Times New Roman"/>
              </a:endParaRPr>
            </a:p>
          </p:txBody>
        </p:sp>
      </p:grpSp>
      <p:sp>
        <p:nvSpPr>
          <p:cNvPr id="414" name=""/>
          <p:cNvSpPr/>
          <p:nvPr/>
        </p:nvSpPr>
        <p:spPr>
          <a:xfrm>
            <a:off x="3273120" y="5079960"/>
            <a:ext cx="244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417"/>
                </a:solidFill>
                <a:latin typeface="Comic Sans MS"/>
              </a:rPr>
              <a:t>COPS accepts and installs TCB</a:t>
            </a:r>
            <a:endParaRPr b="0" lang="en-US" sz="1200" spc="-1" strike="noStrike">
              <a:solidFill>
                <a:srgbClr val="080808"/>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flipV="1">
            <a:off x="7505640" y="1053720"/>
            <a:ext cx="0" cy="1282680"/>
          </a:xfrm>
          <a:prstGeom prst="line">
            <a:avLst/>
          </a:prstGeom>
          <a:ln cap="rnd" w="57240">
            <a:solidFill>
              <a:srgbClr val="fc012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6" name=""/>
          <p:cNvSpPr/>
          <p:nvPr/>
        </p:nvSpPr>
        <p:spPr>
          <a:xfrm flipV="1">
            <a:off x="5232240" y="1092240"/>
            <a:ext cx="0" cy="1866960"/>
          </a:xfrm>
          <a:prstGeom prst="line">
            <a:avLst/>
          </a:prstGeom>
          <a:ln cap="rnd" w="57240">
            <a:solidFill>
              <a:srgbClr val="fc012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7" name=""/>
          <p:cNvSpPr/>
          <p:nvPr/>
        </p:nvSpPr>
        <p:spPr>
          <a:xfrm flipV="1">
            <a:off x="3479760" y="926640"/>
            <a:ext cx="0" cy="1282680"/>
          </a:xfrm>
          <a:prstGeom prst="line">
            <a:avLst/>
          </a:prstGeom>
          <a:ln cap="rnd" w="57240">
            <a:solidFill>
              <a:srgbClr val="fc012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8" name=""/>
          <p:cNvSpPr/>
          <p:nvPr/>
        </p:nvSpPr>
        <p:spPr>
          <a:xfrm flipV="1">
            <a:off x="1663560" y="1218960"/>
            <a:ext cx="0" cy="1282680"/>
          </a:xfrm>
          <a:prstGeom prst="line">
            <a:avLst/>
          </a:prstGeom>
          <a:ln cap="rnd" w="57240">
            <a:solidFill>
              <a:srgbClr val="fc012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19" name=""/>
          <p:cNvSpPr/>
          <p:nvPr/>
        </p:nvSpPr>
        <p:spPr>
          <a:xfrm>
            <a:off x="1841400" y="1041480"/>
            <a:ext cx="1447920" cy="0"/>
          </a:xfrm>
          <a:prstGeom prst="line">
            <a:avLst/>
          </a:prstGeom>
          <a:ln w="38160">
            <a:solidFill>
              <a:srgbClr val="08080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20"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Bandwidth Exchanges</a:t>
            </a:r>
            <a:endParaRPr b="1" lang="en-US" sz="2800" spc="-1" strike="noStrike">
              <a:solidFill>
                <a:srgbClr val="ffaf34"/>
              </a:solidFill>
              <a:latin typeface="Comic Sans MS"/>
            </a:endParaRPr>
          </a:p>
        </p:txBody>
      </p:sp>
      <p:grpSp>
        <p:nvGrpSpPr>
          <p:cNvPr id="421" name=""/>
          <p:cNvGrpSpPr/>
          <p:nvPr/>
        </p:nvGrpSpPr>
        <p:grpSpPr>
          <a:xfrm>
            <a:off x="380880" y="1422360"/>
            <a:ext cx="8457480" cy="2374920"/>
            <a:chOff x="380880" y="1422360"/>
            <a:chExt cx="8457480" cy="2374920"/>
          </a:xfrm>
        </p:grpSpPr>
        <p:graphicFrame>
          <p:nvGraphicFramePr>
            <p:cNvPr id="422" name=""/>
            <p:cNvGraphicFramePr/>
            <p:nvPr/>
          </p:nvGraphicFramePr>
          <p:xfrm>
            <a:off x="4229280" y="1892160"/>
            <a:ext cx="2552400" cy="520920"/>
          </p:xfrm>
          <a:graphic>
            <a:graphicData uri="http://schemas.openxmlformats.org/presentationml/2006/ole">
              <p:oleObj r:id="rId1" spid="">
                <p:embed/>
                <p:pic>
                  <p:nvPicPr>
                    <p:cNvPr id="423" name="" descr=""/>
                    <p:cNvPicPr/>
                    <p:nvPr/>
                  </p:nvPicPr>
                  <p:blipFill>
                    <a:blip r:embed="rId2"/>
                    <a:stretch/>
                  </p:blipFill>
                  <p:spPr>
                    <a:xfrm>
                      <a:off x="4229280" y="1892160"/>
                      <a:ext cx="2552400" cy="520920"/>
                    </a:xfrm>
                    <a:prstGeom prst="rect">
                      <a:avLst/>
                    </a:prstGeom>
                    <a:ln w="0">
                      <a:noFill/>
                    </a:ln>
                  </p:spPr>
                </p:pic>
              </p:oleObj>
            </a:graphicData>
          </a:graphic>
        </p:graphicFrame>
        <p:graphicFrame>
          <p:nvGraphicFramePr>
            <p:cNvPr id="424" name=""/>
            <p:cNvGraphicFramePr/>
            <p:nvPr/>
          </p:nvGraphicFramePr>
          <p:xfrm>
            <a:off x="5499000" y="2324160"/>
            <a:ext cx="1409760" cy="711000"/>
          </p:xfrm>
          <a:graphic>
            <a:graphicData uri="http://schemas.openxmlformats.org/presentationml/2006/ole">
              <p:oleObj r:id="rId3" spid="">
                <p:embed/>
                <p:pic>
                  <p:nvPicPr>
                    <p:cNvPr id="425" name="" descr=""/>
                    <p:cNvPicPr/>
                    <p:nvPr/>
                  </p:nvPicPr>
                  <p:blipFill>
                    <a:blip r:embed="rId4"/>
                    <a:stretch/>
                  </p:blipFill>
                  <p:spPr>
                    <a:xfrm>
                      <a:off x="5499000" y="2324160"/>
                      <a:ext cx="1409760" cy="711000"/>
                    </a:xfrm>
                    <a:prstGeom prst="rect">
                      <a:avLst/>
                    </a:prstGeom>
                    <a:ln w="0">
                      <a:noFill/>
                    </a:ln>
                  </p:spPr>
                </p:pic>
              </p:oleObj>
            </a:graphicData>
          </a:graphic>
        </p:graphicFrame>
        <p:graphicFrame>
          <p:nvGraphicFramePr>
            <p:cNvPr id="426" name=""/>
            <p:cNvGraphicFramePr/>
            <p:nvPr/>
          </p:nvGraphicFramePr>
          <p:xfrm>
            <a:off x="2158920" y="2806560"/>
            <a:ext cx="1943280" cy="469800"/>
          </p:xfrm>
          <a:graphic>
            <a:graphicData uri="http://schemas.openxmlformats.org/presentationml/2006/ole">
              <p:oleObj r:id="rId5" spid="">
                <p:embed/>
                <p:pic>
                  <p:nvPicPr>
                    <p:cNvPr id="427" name="" descr=""/>
                    <p:cNvPicPr/>
                    <p:nvPr/>
                  </p:nvPicPr>
                  <p:blipFill>
                    <a:blip r:embed="rId6"/>
                    <a:stretch/>
                  </p:blipFill>
                  <p:spPr>
                    <a:xfrm>
                      <a:off x="2158920" y="2806560"/>
                      <a:ext cx="1943280" cy="469800"/>
                    </a:xfrm>
                    <a:prstGeom prst="rect">
                      <a:avLst/>
                    </a:prstGeom>
                    <a:ln w="0">
                      <a:noFill/>
                    </a:ln>
                  </p:spPr>
                </p:pic>
              </p:oleObj>
            </a:graphicData>
          </a:graphic>
        </p:graphicFrame>
        <p:graphicFrame>
          <p:nvGraphicFramePr>
            <p:cNvPr id="428" name=""/>
            <p:cNvGraphicFramePr/>
            <p:nvPr/>
          </p:nvGraphicFramePr>
          <p:xfrm>
            <a:off x="2019240" y="2095560"/>
            <a:ext cx="1219320" cy="558720"/>
          </p:xfrm>
          <a:graphic>
            <a:graphicData uri="http://schemas.openxmlformats.org/presentationml/2006/ole">
              <p:oleObj r:id="rId7" spid="">
                <p:embed/>
                <p:pic>
                  <p:nvPicPr>
                    <p:cNvPr id="429" name="" descr=""/>
                    <p:cNvPicPr/>
                    <p:nvPr/>
                  </p:nvPicPr>
                  <p:blipFill>
                    <a:blip r:embed="rId8"/>
                    <a:stretch/>
                  </p:blipFill>
                  <p:spPr>
                    <a:xfrm>
                      <a:off x="2019240" y="2095560"/>
                      <a:ext cx="1219320" cy="558720"/>
                    </a:xfrm>
                    <a:prstGeom prst="rect">
                      <a:avLst/>
                    </a:prstGeom>
                    <a:ln w="0">
                      <a:noFill/>
                    </a:ln>
                  </p:spPr>
                </p:pic>
              </p:oleObj>
            </a:graphicData>
          </a:graphic>
        </p:graphicFrame>
        <p:grpSp>
          <p:nvGrpSpPr>
            <p:cNvPr id="430" name=""/>
            <p:cNvGrpSpPr/>
            <p:nvPr/>
          </p:nvGrpSpPr>
          <p:grpSpPr>
            <a:xfrm>
              <a:off x="380880" y="2476440"/>
              <a:ext cx="2514600" cy="609480"/>
              <a:chOff x="380880" y="2476440"/>
              <a:chExt cx="2514600" cy="609480"/>
            </a:xfrm>
          </p:grpSpPr>
          <p:pic>
            <p:nvPicPr>
              <p:cNvPr id="431" name="cloud%20gr" descr=""/>
              <p:cNvPicPr/>
              <p:nvPr/>
            </p:nvPicPr>
            <p:blipFill>
              <a:blip r:embed="rId9"/>
              <a:stretch/>
            </p:blipFill>
            <p:spPr>
              <a:xfrm>
                <a:off x="380880" y="2476440"/>
                <a:ext cx="2514600" cy="609480"/>
              </a:xfrm>
              <a:prstGeom prst="rect">
                <a:avLst/>
              </a:prstGeom>
              <a:ln w="0">
                <a:noFill/>
              </a:ln>
            </p:spPr>
          </p:pic>
          <p:sp>
            <p:nvSpPr>
              <p:cNvPr id="432" name=""/>
              <p:cNvSpPr/>
              <p:nvPr/>
            </p:nvSpPr>
            <p:spPr>
              <a:xfrm>
                <a:off x="995400" y="255276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1</a:t>
                </a:r>
                <a:endParaRPr b="0" lang="en-US" sz="2000" spc="-1" strike="noStrike">
                  <a:solidFill>
                    <a:srgbClr val="080808"/>
                  </a:solidFill>
                  <a:latin typeface="Times New Roman"/>
                </a:endParaRPr>
              </a:p>
            </p:txBody>
          </p:sp>
        </p:grpSp>
        <p:grpSp>
          <p:nvGrpSpPr>
            <p:cNvPr id="433" name=""/>
            <p:cNvGrpSpPr/>
            <p:nvPr/>
          </p:nvGrpSpPr>
          <p:grpSpPr>
            <a:xfrm>
              <a:off x="6324480" y="2070000"/>
              <a:ext cx="2513880" cy="609480"/>
              <a:chOff x="6324480" y="2070000"/>
              <a:chExt cx="2513880" cy="609480"/>
            </a:xfrm>
          </p:grpSpPr>
          <p:grpSp>
            <p:nvGrpSpPr>
              <p:cNvPr id="434" name=""/>
              <p:cNvGrpSpPr/>
              <p:nvPr/>
            </p:nvGrpSpPr>
            <p:grpSpPr>
              <a:xfrm>
                <a:off x="6324480" y="2070000"/>
                <a:ext cx="2513880" cy="609480"/>
                <a:chOff x="6324480" y="2070000"/>
                <a:chExt cx="2513880" cy="609480"/>
              </a:xfrm>
            </p:grpSpPr>
            <p:pic>
              <p:nvPicPr>
                <p:cNvPr id="435" name="cloud%20blue" descr=""/>
                <p:cNvPicPr/>
                <p:nvPr/>
              </p:nvPicPr>
              <p:blipFill>
                <a:blip r:embed="rId10"/>
                <a:stretch/>
              </p:blipFill>
              <p:spPr>
                <a:xfrm>
                  <a:off x="6324480" y="2070000"/>
                  <a:ext cx="2513880" cy="609480"/>
                </a:xfrm>
                <a:prstGeom prst="rect">
                  <a:avLst/>
                </a:prstGeom>
                <a:ln w="0">
                  <a:noFill/>
                </a:ln>
              </p:spPr>
            </p:pic>
            <p:sp>
              <p:nvSpPr>
                <p:cNvPr id="436" name=""/>
                <p:cNvSpPr/>
                <p:nvPr/>
              </p:nvSpPr>
              <p:spPr>
                <a:xfrm>
                  <a:off x="7451640" y="2201400"/>
                  <a:ext cx="18252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grpSp>
          <p:sp>
            <p:nvSpPr>
              <p:cNvPr id="437" name=""/>
              <p:cNvSpPr/>
              <p:nvPr/>
            </p:nvSpPr>
            <p:spPr>
              <a:xfrm>
                <a:off x="6907320" y="2146320"/>
                <a:ext cx="1476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2</a:t>
                </a:r>
                <a:endParaRPr b="0" lang="en-US" sz="2000" spc="-1" strike="noStrike">
                  <a:solidFill>
                    <a:srgbClr val="080808"/>
                  </a:solidFill>
                  <a:latin typeface="Times New Roman"/>
                </a:endParaRPr>
              </a:p>
            </p:txBody>
          </p:sp>
        </p:grpSp>
        <p:graphicFrame>
          <p:nvGraphicFramePr>
            <p:cNvPr id="438" name=""/>
            <p:cNvGraphicFramePr/>
            <p:nvPr/>
          </p:nvGraphicFramePr>
          <p:xfrm>
            <a:off x="6045120" y="1422360"/>
            <a:ext cx="169920" cy="2374920"/>
          </p:xfrm>
          <a:graphic>
            <a:graphicData uri="http://schemas.openxmlformats.org/presentationml/2006/ole">
              <p:oleObj r:id="rId11" spid="">
                <p:embed/>
                <p:pic>
                  <p:nvPicPr>
                    <p:cNvPr id="439" name="" descr=""/>
                    <p:cNvPicPr/>
                    <p:nvPr/>
                  </p:nvPicPr>
                  <p:blipFill>
                    <a:blip r:embed="rId12"/>
                    <a:stretch/>
                  </p:blipFill>
                  <p:spPr>
                    <a:xfrm>
                      <a:off x="6045120" y="1422360"/>
                      <a:ext cx="169920" cy="2374920"/>
                    </a:xfrm>
                    <a:prstGeom prst="rect">
                      <a:avLst/>
                    </a:prstGeom>
                    <a:ln w="0">
                      <a:noFill/>
                    </a:ln>
                  </p:spPr>
                </p:pic>
              </p:oleObj>
            </a:graphicData>
          </a:graphic>
        </p:graphicFrame>
        <p:grpSp>
          <p:nvGrpSpPr>
            <p:cNvPr id="440" name=""/>
            <p:cNvGrpSpPr/>
            <p:nvPr/>
          </p:nvGrpSpPr>
          <p:grpSpPr>
            <a:xfrm>
              <a:off x="2400480" y="1709640"/>
              <a:ext cx="2514600" cy="635040"/>
              <a:chOff x="2400480" y="1709640"/>
              <a:chExt cx="2514600" cy="635040"/>
            </a:xfrm>
          </p:grpSpPr>
          <p:pic>
            <p:nvPicPr>
              <p:cNvPr id="441" name="cloud%20purple" descr=""/>
              <p:cNvPicPr/>
              <p:nvPr/>
            </p:nvPicPr>
            <p:blipFill>
              <a:blip r:embed="rId13"/>
              <a:stretch/>
            </p:blipFill>
            <p:spPr>
              <a:xfrm>
                <a:off x="2400480" y="1709640"/>
                <a:ext cx="2514600" cy="635040"/>
              </a:xfrm>
              <a:prstGeom prst="rect">
                <a:avLst/>
              </a:prstGeom>
              <a:ln w="0">
                <a:noFill/>
              </a:ln>
            </p:spPr>
          </p:pic>
          <p:sp>
            <p:nvSpPr>
              <p:cNvPr id="442" name=""/>
              <p:cNvSpPr/>
              <p:nvPr/>
            </p:nvSpPr>
            <p:spPr>
              <a:xfrm>
                <a:off x="291492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a</a:t>
                </a:r>
                <a:endParaRPr b="0" lang="en-US" sz="2000" spc="-1" strike="noStrike">
                  <a:solidFill>
                    <a:srgbClr val="080808"/>
                  </a:solidFill>
                  <a:latin typeface="Times New Roman"/>
                </a:endParaRPr>
              </a:p>
            </p:txBody>
          </p:sp>
        </p:grpSp>
        <p:grpSp>
          <p:nvGrpSpPr>
            <p:cNvPr id="443" name=""/>
            <p:cNvGrpSpPr/>
            <p:nvPr/>
          </p:nvGrpSpPr>
          <p:grpSpPr>
            <a:xfrm>
              <a:off x="3390840" y="2806560"/>
              <a:ext cx="2514600" cy="635040"/>
              <a:chOff x="3390840" y="2806560"/>
              <a:chExt cx="2514600" cy="635040"/>
            </a:xfrm>
          </p:grpSpPr>
          <p:pic>
            <p:nvPicPr>
              <p:cNvPr id="444" name="cloud%20red" descr=""/>
              <p:cNvPicPr/>
              <p:nvPr/>
            </p:nvPicPr>
            <p:blipFill>
              <a:blip r:embed="rId14"/>
              <a:stretch/>
            </p:blipFill>
            <p:spPr>
              <a:xfrm>
                <a:off x="3390840" y="2806560"/>
                <a:ext cx="2514600" cy="635040"/>
              </a:xfrm>
              <a:prstGeom prst="rect">
                <a:avLst/>
              </a:prstGeom>
              <a:ln w="0">
                <a:noFill/>
              </a:ln>
            </p:spPr>
          </p:pic>
          <p:sp>
            <p:nvSpPr>
              <p:cNvPr id="445" name=""/>
              <p:cNvSpPr/>
              <p:nvPr/>
            </p:nvSpPr>
            <p:spPr>
              <a:xfrm>
                <a:off x="3902040" y="2925720"/>
                <a:ext cx="149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r b</a:t>
                </a:r>
                <a:endParaRPr b="0" lang="en-US" sz="2000" spc="-1" strike="noStrike">
                  <a:solidFill>
                    <a:srgbClr val="080808"/>
                  </a:solidFill>
                  <a:latin typeface="Times New Roman"/>
                </a:endParaRPr>
              </a:p>
            </p:txBody>
          </p:sp>
        </p:grpSp>
      </p:grpSp>
      <p:sp>
        <p:nvSpPr>
          <p:cNvPr id="446" name=""/>
          <p:cNvSpPr/>
          <p:nvPr/>
        </p:nvSpPr>
        <p:spPr>
          <a:xfrm>
            <a:off x="228600" y="1498680"/>
            <a:ext cx="8750160" cy="12600"/>
          </a:xfrm>
          <a:prstGeom prst="line">
            <a:avLst/>
          </a:prstGeom>
          <a:ln cap="rnd" w="28440">
            <a:solidFill>
              <a:srgbClr val="fafd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80808"/>
              </a:solidFill>
              <a:latin typeface="Times New Roman"/>
            </a:endParaRPr>
          </a:p>
        </p:txBody>
      </p:sp>
      <p:grpSp>
        <p:nvGrpSpPr>
          <p:cNvPr id="447" name=""/>
          <p:cNvGrpSpPr/>
          <p:nvPr/>
        </p:nvGrpSpPr>
        <p:grpSpPr>
          <a:xfrm>
            <a:off x="1463760" y="822240"/>
            <a:ext cx="412200" cy="473040"/>
            <a:chOff x="1463760" y="822240"/>
            <a:chExt cx="412200" cy="473040"/>
          </a:xfrm>
        </p:grpSpPr>
        <p:pic>
          <p:nvPicPr>
            <p:cNvPr id="448" name="directory" descr=""/>
            <p:cNvPicPr/>
            <p:nvPr/>
          </p:nvPicPr>
          <p:blipFill>
            <a:blip r:embed="rId15"/>
            <a:stretch/>
          </p:blipFill>
          <p:spPr>
            <a:xfrm>
              <a:off x="1511280" y="822240"/>
              <a:ext cx="317520" cy="473040"/>
            </a:xfrm>
            <a:prstGeom prst="rect">
              <a:avLst/>
            </a:prstGeom>
            <a:ln w="0">
              <a:noFill/>
            </a:ln>
          </p:spPr>
        </p:pic>
        <p:sp>
          <p:nvSpPr>
            <p:cNvPr id="449" name=""/>
            <p:cNvSpPr/>
            <p:nvPr/>
          </p:nvSpPr>
          <p:spPr>
            <a:xfrm>
              <a:off x="1463760" y="922320"/>
              <a:ext cx="41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M</a:t>
              </a:r>
              <a:endParaRPr b="0" lang="en-US" sz="1200" spc="-1" strike="noStrike">
                <a:solidFill>
                  <a:srgbClr val="080808"/>
                </a:solidFill>
                <a:latin typeface="Times New Roman"/>
              </a:endParaRPr>
            </a:p>
          </p:txBody>
        </p:sp>
      </p:grpSp>
      <p:grpSp>
        <p:nvGrpSpPr>
          <p:cNvPr id="450" name=""/>
          <p:cNvGrpSpPr/>
          <p:nvPr/>
        </p:nvGrpSpPr>
        <p:grpSpPr>
          <a:xfrm>
            <a:off x="3279960" y="822240"/>
            <a:ext cx="412200" cy="473040"/>
            <a:chOff x="3279960" y="822240"/>
            <a:chExt cx="412200" cy="473040"/>
          </a:xfrm>
        </p:grpSpPr>
        <p:pic>
          <p:nvPicPr>
            <p:cNvPr id="451" name="directory" descr=""/>
            <p:cNvPicPr/>
            <p:nvPr/>
          </p:nvPicPr>
          <p:blipFill>
            <a:blip r:embed="rId16"/>
            <a:stretch/>
          </p:blipFill>
          <p:spPr>
            <a:xfrm>
              <a:off x="3327480" y="822240"/>
              <a:ext cx="317520" cy="473040"/>
            </a:xfrm>
            <a:prstGeom prst="rect">
              <a:avLst/>
            </a:prstGeom>
            <a:ln w="0">
              <a:noFill/>
            </a:ln>
          </p:spPr>
        </p:pic>
        <p:sp>
          <p:nvSpPr>
            <p:cNvPr id="452" name=""/>
            <p:cNvSpPr/>
            <p:nvPr/>
          </p:nvSpPr>
          <p:spPr>
            <a:xfrm>
              <a:off x="3279960" y="922320"/>
              <a:ext cx="41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M</a:t>
              </a:r>
              <a:endParaRPr b="0" lang="en-US" sz="1200" spc="-1" strike="noStrike">
                <a:solidFill>
                  <a:srgbClr val="080808"/>
                </a:solidFill>
                <a:latin typeface="Times New Roman"/>
              </a:endParaRPr>
            </a:p>
          </p:txBody>
        </p:sp>
      </p:grpSp>
      <p:grpSp>
        <p:nvGrpSpPr>
          <p:cNvPr id="453" name=""/>
          <p:cNvGrpSpPr/>
          <p:nvPr/>
        </p:nvGrpSpPr>
        <p:grpSpPr>
          <a:xfrm>
            <a:off x="5032440" y="822240"/>
            <a:ext cx="412200" cy="473040"/>
            <a:chOff x="5032440" y="822240"/>
            <a:chExt cx="412200" cy="473040"/>
          </a:xfrm>
        </p:grpSpPr>
        <p:pic>
          <p:nvPicPr>
            <p:cNvPr id="454" name="directory" descr=""/>
            <p:cNvPicPr/>
            <p:nvPr/>
          </p:nvPicPr>
          <p:blipFill>
            <a:blip r:embed="rId17"/>
            <a:stretch/>
          </p:blipFill>
          <p:spPr>
            <a:xfrm>
              <a:off x="5079960" y="822240"/>
              <a:ext cx="317520" cy="473040"/>
            </a:xfrm>
            <a:prstGeom prst="rect">
              <a:avLst/>
            </a:prstGeom>
            <a:ln w="0">
              <a:noFill/>
            </a:ln>
          </p:spPr>
        </p:pic>
        <p:sp>
          <p:nvSpPr>
            <p:cNvPr id="455" name=""/>
            <p:cNvSpPr/>
            <p:nvPr/>
          </p:nvSpPr>
          <p:spPr>
            <a:xfrm>
              <a:off x="5032440" y="922320"/>
              <a:ext cx="41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M</a:t>
              </a:r>
              <a:endParaRPr b="0" lang="en-US" sz="1200" spc="-1" strike="noStrike">
                <a:solidFill>
                  <a:srgbClr val="080808"/>
                </a:solidFill>
                <a:latin typeface="Times New Roman"/>
              </a:endParaRPr>
            </a:p>
          </p:txBody>
        </p:sp>
      </p:grpSp>
      <p:grpSp>
        <p:nvGrpSpPr>
          <p:cNvPr id="456" name=""/>
          <p:cNvGrpSpPr/>
          <p:nvPr/>
        </p:nvGrpSpPr>
        <p:grpSpPr>
          <a:xfrm>
            <a:off x="7293240" y="822240"/>
            <a:ext cx="412200" cy="473040"/>
            <a:chOff x="7293240" y="822240"/>
            <a:chExt cx="412200" cy="473040"/>
          </a:xfrm>
        </p:grpSpPr>
        <p:pic>
          <p:nvPicPr>
            <p:cNvPr id="457" name="directory" descr=""/>
            <p:cNvPicPr/>
            <p:nvPr/>
          </p:nvPicPr>
          <p:blipFill>
            <a:blip r:embed="rId18"/>
            <a:stretch/>
          </p:blipFill>
          <p:spPr>
            <a:xfrm>
              <a:off x="7340400" y="822240"/>
              <a:ext cx="317160" cy="473040"/>
            </a:xfrm>
            <a:prstGeom prst="rect">
              <a:avLst/>
            </a:prstGeom>
            <a:ln w="0">
              <a:noFill/>
            </a:ln>
          </p:spPr>
        </p:pic>
        <p:sp>
          <p:nvSpPr>
            <p:cNvPr id="458" name=""/>
            <p:cNvSpPr/>
            <p:nvPr/>
          </p:nvSpPr>
          <p:spPr>
            <a:xfrm>
              <a:off x="7293240" y="922320"/>
              <a:ext cx="41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M</a:t>
              </a:r>
              <a:endParaRPr b="0" lang="en-US" sz="1200" spc="-1" strike="noStrike">
                <a:solidFill>
                  <a:srgbClr val="080808"/>
                </a:solidFill>
                <a:latin typeface="Times New Roman"/>
              </a:endParaRPr>
            </a:p>
          </p:txBody>
        </p:sp>
      </p:grpSp>
      <p:sp>
        <p:nvSpPr>
          <p:cNvPr id="459" name=""/>
          <p:cNvSpPr/>
          <p:nvPr/>
        </p:nvSpPr>
        <p:spPr>
          <a:xfrm>
            <a:off x="3695760" y="1041480"/>
            <a:ext cx="1359000" cy="0"/>
          </a:xfrm>
          <a:prstGeom prst="line">
            <a:avLst/>
          </a:prstGeom>
          <a:ln w="38160">
            <a:solidFill>
              <a:srgbClr val="08080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60" name=""/>
          <p:cNvSpPr/>
          <p:nvPr/>
        </p:nvSpPr>
        <p:spPr>
          <a:xfrm>
            <a:off x="5423040" y="1041480"/>
            <a:ext cx="1866600" cy="0"/>
          </a:xfrm>
          <a:prstGeom prst="line">
            <a:avLst/>
          </a:prstGeom>
          <a:ln w="38160">
            <a:solidFill>
              <a:srgbClr val="08080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0808"/>
              </a:solidFill>
              <a:latin typeface="Times New Roman"/>
            </a:endParaRPr>
          </a:p>
        </p:txBody>
      </p:sp>
      <p:sp>
        <p:nvSpPr>
          <p:cNvPr id="461" name=""/>
          <p:cNvSpPr/>
          <p:nvPr/>
        </p:nvSpPr>
        <p:spPr>
          <a:xfrm>
            <a:off x="380880" y="3900600"/>
            <a:ext cx="8763120" cy="2543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Providers </a:t>
            </a:r>
            <a:r>
              <a:rPr b="1" lang="en-AU" sz="2400" spc="-1" strike="noStrike">
                <a:solidFill>
                  <a:srgbClr val="000000"/>
                </a:solidFill>
                <a:latin typeface="Comic Sans MS"/>
              </a:rPr>
              <a:t>a</a:t>
            </a:r>
            <a:r>
              <a:rPr b="0" lang="en-AU" sz="2400" spc="-1" strike="noStrike">
                <a:solidFill>
                  <a:srgbClr val="000000"/>
                </a:solidFill>
                <a:latin typeface="Comic Sans MS"/>
              </a:rPr>
              <a:t> and </a:t>
            </a:r>
            <a:r>
              <a:rPr b="1" lang="en-AU" sz="2400" spc="-1" strike="noStrike">
                <a:solidFill>
                  <a:srgbClr val="000000"/>
                </a:solidFill>
                <a:latin typeface="Comic Sans MS"/>
              </a:rPr>
              <a:t>b</a:t>
            </a:r>
            <a:r>
              <a:rPr b="0" lang="en-AU" sz="2400" spc="-1" strike="noStrike">
                <a:solidFill>
                  <a:srgbClr val="000000"/>
                </a:solidFill>
                <a:latin typeface="Comic Sans MS"/>
              </a:rPr>
              <a:t> can compete against each other in terms of price and bandwidth by offering Mbm of transit capability from Provider </a:t>
            </a:r>
            <a:r>
              <a:rPr b="1" lang="en-AU" sz="2400" spc="-1" strike="noStrike">
                <a:solidFill>
                  <a:srgbClr val="000000"/>
                </a:solidFill>
                <a:latin typeface="Comic Sans MS"/>
              </a:rPr>
              <a:t>1</a:t>
            </a:r>
            <a:r>
              <a:rPr b="0" lang="en-AU" sz="2400" spc="-1" strike="noStrike">
                <a:solidFill>
                  <a:srgbClr val="000000"/>
                </a:solidFill>
                <a:latin typeface="Comic Sans MS"/>
              </a:rPr>
              <a:t> to </a:t>
            </a:r>
            <a:r>
              <a:rPr b="1" lang="en-AU" sz="2400" spc="-1" strike="noStrike">
                <a:solidFill>
                  <a:srgbClr val="000000"/>
                </a:solidFill>
                <a:latin typeface="Comic Sans MS"/>
              </a:rPr>
              <a:t>2</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These advertisements can be dynamically driven from the traffic managers (TM) which can recognise cyclical traffic patterns</a:t>
            </a:r>
            <a:endParaRPr b="0" lang="en-US" sz="2400" spc="-1" strike="noStrike">
              <a:solidFill>
                <a:srgbClr val="080808"/>
              </a:solidFill>
              <a:latin typeface="Times New Roman"/>
            </a:endParaRPr>
          </a:p>
          <a:p>
            <a:pPr marL="285840" indent="-285840">
              <a:lnSpc>
                <a:spcPct val="90000"/>
              </a:lnSpc>
              <a:spcBef>
                <a:spcPts val="300"/>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developing area of interest within the standards bodies</a:t>
            </a:r>
            <a:endParaRPr b="0" lang="en-US" sz="2400" spc="-1" strike="noStrike">
              <a:solidFill>
                <a:srgbClr val="080808"/>
              </a:solidFill>
              <a:latin typeface="Times New Roman"/>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Further Information</a:t>
            </a:r>
            <a:endParaRPr b="1" lang="en-US" sz="2800" spc="-1" strike="noStrike">
              <a:solidFill>
                <a:srgbClr val="ffaf34"/>
              </a:solidFill>
              <a:latin typeface="Comic Sans MS"/>
            </a:endParaRPr>
          </a:p>
        </p:txBody>
      </p:sp>
      <p:sp>
        <p:nvSpPr>
          <p:cNvPr id="463" name=""/>
          <p:cNvSpPr/>
          <p:nvPr/>
        </p:nvSpPr>
        <p:spPr>
          <a:xfrm>
            <a:off x="380880" y="903240"/>
            <a:ext cx="8763120" cy="5375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201"/>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mic Sans MS"/>
              </a:rPr>
              <a:t>Integrated Services</a:t>
            </a:r>
            <a:endParaRPr b="0" lang="en-US" sz="16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http://www.ietf.org/html.charters/intserv_charter.htm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205: RSVP Version 1</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210: Use of RSVP with IntServ</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211,2212: Controlled Load and Guaranteed Service</a:t>
            </a:r>
            <a:endParaRPr b="0" lang="en-US" sz="15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omic Sans MS"/>
              </a:rPr>
              <a:t>Differentiated Services</a:t>
            </a:r>
            <a:endParaRPr b="0" lang="en-US" sz="17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http:// www.ietf.org/html.charters/diffserv_charter.htm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474: Definition of DS Code Field</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475: Architecture for DiffServices</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597,2598: Assured and Expedited Forwarding PHBs</a:t>
            </a:r>
            <a:endParaRPr b="0" lang="en-US" sz="15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omic Sans MS"/>
              </a:rPr>
              <a:t>Resource Allocation</a:t>
            </a:r>
            <a:endParaRPr b="0" lang="en-US" sz="17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http:// www.ietf.org/html.charters/rap_charter.htm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748: Common Open Policy Server Protoco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753: A framework for Policy Admission Contro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omic Sans MS"/>
              </a:rPr>
              <a:t>RFC 2749: COPS Usage for RSVP</a:t>
            </a:r>
            <a:endParaRPr b="0" lang="en-US" sz="15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80808"/>
              </a:solidFill>
              <a:latin typeface="Times New Roman"/>
            </a:endParaRPr>
          </a:p>
          <a:p>
            <a:pPr marL="285840" indent="-28584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omic Sans MS"/>
              </a:rPr>
              <a:t>General Information</a:t>
            </a:r>
            <a:endParaRPr b="0" lang="en-US" sz="17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http://www.internet2.edu/html/about-i2.html</a:t>
            </a:r>
            <a:endParaRPr b="0" lang="en-US" sz="1500" spc="-1" strike="noStrike">
              <a:solidFill>
                <a:srgbClr val="080808"/>
              </a:solidFill>
              <a:latin typeface="Times New Roman"/>
            </a:endParaRPr>
          </a:p>
          <a:p>
            <a:pPr lvl="1" marL="628560" indent="-228600">
              <a:lnSpc>
                <a:spcPct val="90000"/>
              </a:lnSpc>
              <a:spcBef>
                <a:spcPts val="187"/>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80808"/>
              </a:solidFill>
              <a:latin typeface="Times New Roman"/>
            </a:endParaRPr>
          </a:p>
          <a:p>
            <a:pPr marL="285840" indent="-285840" algn="ctr">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omic Sans MS"/>
              </a:rPr>
              <a:t>Visit Alcatel @ http://www.alcatel.com</a:t>
            </a:r>
            <a:endParaRPr b="0" lang="en-US" sz="1700" spc="-1" strike="noStrike">
              <a:solidFill>
                <a:srgbClr val="080808"/>
              </a:solidFill>
              <a:latin typeface="Times New Roman"/>
            </a:endParaRPr>
          </a:p>
          <a:p>
            <a:pPr lvl="1" marL="628560" indent="-228600">
              <a:lnSpc>
                <a:spcPct val="90000"/>
              </a:lnSpc>
              <a:spcBef>
                <a:spcPts val="213"/>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80808"/>
              </a:solidFill>
              <a:latin typeface="Times New Roman"/>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1663560"/>
            <a:ext cx="9142200" cy="4475880"/>
            <a:chOff x="0" y="1663560"/>
            <a:chExt cx="9142200" cy="4475880"/>
          </a:xfrm>
        </p:grpSpPr>
        <p:sp>
          <p:nvSpPr>
            <p:cNvPr id="51" name=""/>
            <p:cNvSpPr/>
            <p:nvPr/>
          </p:nvSpPr>
          <p:spPr>
            <a:xfrm>
              <a:off x="4601160" y="2919960"/>
              <a:ext cx="50400" cy="59760"/>
            </a:xfrm>
            <a:custGeom>
              <a:avLst/>
              <a:gdLst/>
              <a:ahLst/>
              <a:rect l="l" t="t" r="r" b="b"/>
              <a:pathLst>
                <a:path w="27" h="27">
                  <a:moveTo>
                    <a:pt x="26" y="2"/>
                  </a:moveTo>
                  <a:lnTo>
                    <a:pt x="26" y="24"/>
                  </a:lnTo>
                  <a:lnTo>
                    <a:pt x="17" y="26"/>
                  </a:lnTo>
                  <a:lnTo>
                    <a:pt x="0" y="6"/>
                  </a:lnTo>
                  <a:lnTo>
                    <a:pt x="10" y="0"/>
                  </a:lnTo>
                  <a:lnTo>
                    <a:pt x="26" y="2"/>
                  </a:lnTo>
                </a:path>
              </a:pathLst>
            </a:custGeom>
            <a:solidFill>
              <a:srgbClr val="a2c1fe"/>
            </a:solidFill>
            <a:ln w="0">
              <a:noFill/>
            </a:ln>
          </p:spPr>
          <p:style>
            <a:lnRef idx="0"/>
            <a:fillRef idx="0"/>
            <a:effectRef idx="0"/>
            <a:fontRef idx="minor"/>
          </p:style>
          <p:txBody>
            <a:bodyPr lIns="90000" rIns="90000" tIns="12960" bIns="12960" anchor="t">
              <a:noAutofit/>
            </a:bodyPr>
            <a:p>
              <a:endParaRPr b="0" lang="en-US" sz="2400" spc="-1" strike="noStrike">
                <a:solidFill>
                  <a:srgbClr val="080808"/>
                </a:solidFill>
                <a:latin typeface="Times New Roman"/>
              </a:endParaRPr>
            </a:p>
          </p:txBody>
        </p:sp>
        <p:sp>
          <p:nvSpPr>
            <p:cNvPr id="52" name=""/>
            <p:cNvSpPr/>
            <p:nvPr/>
          </p:nvSpPr>
          <p:spPr>
            <a:xfrm>
              <a:off x="4512600" y="2824560"/>
              <a:ext cx="47160" cy="84240"/>
            </a:xfrm>
            <a:custGeom>
              <a:avLst/>
              <a:gdLst/>
              <a:ahLst/>
              <a:rect l="l" t="t" r="r" b="b"/>
              <a:pathLst>
                <a:path w="25" h="38">
                  <a:moveTo>
                    <a:pt x="24" y="0"/>
                  </a:moveTo>
                  <a:lnTo>
                    <a:pt x="0" y="6"/>
                  </a:lnTo>
                  <a:lnTo>
                    <a:pt x="4" y="37"/>
                  </a:lnTo>
                  <a:lnTo>
                    <a:pt x="19" y="33"/>
                  </a:lnTo>
                  <a:lnTo>
                    <a:pt x="24" y="0"/>
                  </a:lnTo>
                </a:path>
              </a:pathLst>
            </a:custGeom>
            <a:solidFill>
              <a:srgbClr val="a2c1fe"/>
            </a:solidFill>
            <a:ln w="0">
              <a:noFill/>
            </a:ln>
          </p:spPr>
          <p:style>
            <a:lnRef idx="0"/>
            <a:fillRef idx="0"/>
            <a:effectRef idx="0"/>
            <a:fontRef idx="minor"/>
          </p:style>
          <p:txBody>
            <a:bodyPr lIns="90000" rIns="90000" tIns="37440" bIns="37440" anchor="t">
              <a:noAutofit/>
            </a:bodyPr>
            <a:p>
              <a:endParaRPr b="0" lang="en-US" sz="2400" spc="-1" strike="noStrike">
                <a:solidFill>
                  <a:srgbClr val="080808"/>
                </a:solidFill>
                <a:latin typeface="Times New Roman"/>
              </a:endParaRPr>
            </a:p>
          </p:txBody>
        </p:sp>
        <p:grpSp>
          <p:nvGrpSpPr>
            <p:cNvPr id="53" name=""/>
            <p:cNvGrpSpPr/>
            <p:nvPr/>
          </p:nvGrpSpPr>
          <p:grpSpPr>
            <a:xfrm>
              <a:off x="0" y="1663560"/>
              <a:ext cx="9142200" cy="4475880"/>
              <a:chOff x="0" y="1663560"/>
              <a:chExt cx="9142200" cy="4475880"/>
            </a:xfrm>
          </p:grpSpPr>
          <p:grpSp>
            <p:nvGrpSpPr>
              <p:cNvPr id="54" name=""/>
              <p:cNvGrpSpPr/>
              <p:nvPr/>
            </p:nvGrpSpPr>
            <p:grpSpPr>
              <a:xfrm>
                <a:off x="3647520" y="1671840"/>
                <a:ext cx="5494680" cy="4158360"/>
                <a:chOff x="3647520" y="1671840"/>
                <a:chExt cx="5494680" cy="4158360"/>
              </a:xfrm>
            </p:grpSpPr>
            <p:grpSp>
              <p:nvGrpSpPr>
                <p:cNvPr id="55" name=""/>
                <p:cNvGrpSpPr/>
                <p:nvPr/>
              </p:nvGrpSpPr>
              <p:grpSpPr>
                <a:xfrm>
                  <a:off x="8336880" y="4313520"/>
                  <a:ext cx="805320" cy="1516680"/>
                  <a:chOff x="8336880" y="4313520"/>
                  <a:chExt cx="805320" cy="1516680"/>
                </a:xfrm>
              </p:grpSpPr>
              <p:grpSp>
                <p:nvGrpSpPr>
                  <p:cNvPr id="56" name=""/>
                  <p:cNvGrpSpPr/>
                  <p:nvPr/>
                </p:nvGrpSpPr>
                <p:grpSpPr>
                  <a:xfrm>
                    <a:off x="8336880" y="5374440"/>
                    <a:ext cx="805320" cy="455760"/>
                    <a:chOff x="8336880" y="5374440"/>
                    <a:chExt cx="805320" cy="455760"/>
                  </a:xfrm>
                </p:grpSpPr>
                <p:sp>
                  <p:nvSpPr>
                    <p:cNvPr id="57" name=""/>
                    <p:cNvSpPr/>
                    <p:nvPr/>
                  </p:nvSpPr>
                  <p:spPr>
                    <a:xfrm>
                      <a:off x="9012960" y="5374440"/>
                      <a:ext cx="129240" cy="281160"/>
                    </a:xfrm>
                    <a:custGeom>
                      <a:avLst/>
                      <a:gdLst/>
                      <a:ahLst/>
                      <a:rect l="l" t="t" r="r" b="b"/>
                      <a:pathLst>
                        <a:path w="69" h="127">
                          <a:moveTo>
                            <a:pt x="22" y="2"/>
                          </a:moveTo>
                          <a:lnTo>
                            <a:pt x="29" y="0"/>
                          </a:lnTo>
                          <a:lnTo>
                            <a:pt x="41" y="14"/>
                          </a:lnTo>
                          <a:lnTo>
                            <a:pt x="38" y="53"/>
                          </a:lnTo>
                          <a:lnTo>
                            <a:pt x="47" y="53"/>
                          </a:lnTo>
                          <a:lnTo>
                            <a:pt x="49" y="58"/>
                          </a:lnTo>
                          <a:lnTo>
                            <a:pt x="52" y="67"/>
                          </a:lnTo>
                          <a:lnTo>
                            <a:pt x="53" y="71"/>
                          </a:lnTo>
                          <a:lnTo>
                            <a:pt x="61" y="70"/>
                          </a:lnTo>
                          <a:lnTo>
                            <a:pt x="65" y="61"/>
                          </a:lnTo>
                          <a:lnTo>
                            <a:pt x="68" y="67"/>
                          </a:lnTo>
                          <a:lnTo>
                            <a:pt x="64" y="73"/>
                          </a:lnTo>
                          <a:lnTo>
                            <a:pt x="61" y="79"/>
                          </a:lnTo>
                          <a:lnTo>
                            <a:pt x="59" y="88"/>
                          </a:lnTo>
                          <a:lnTo>
                            <a:pt x="50" y="94"/>
                          </a:lnTo>
                          <a:lnTo>
                            <a:pt x="45" y="96"/>
                          </a:lnTo>
                          <a:lnTo>
                            <a:pt x="38" y="101"/>
                          </a:lnTo>
                          <a:lnTo>
                            <a:pt x="37" y="106"/>
                          </a:lnTo>
                          <a:lnTo>
                            <a:pt x="38" y="111"/>
                          </a:lnTo>
                          <a:lnTo>
                            <a:pt x="41" y="119"/>
                          </a:lnTo>
                          <a:lnTo>
                            <a:pt x="32" y="123"/>
                          </a:lnTo>
                          <a:lnTo>
                            <a:pt x="26" y="125"/>
                          </a:lnTo>
                          <a:lnTo>
                            <a:pt x="22" y="126"/>
                          </a:lnTo>
                          <a:lnTo>
                            <a:pt x="18" y="125"/>
                          </a:lnTo>
                          <a:lnTo>
                            <a:pt x="9" y="123"/>
                          </a:lnTo>
                          <a:lnTo>
                            <a:pt x="7" y="119"/>
                          </a:lnTo>
                          <a:lnTo>
                            <a:pt x="9" y="113"/>
                          </a:lnTo>
                          <a:lnTo>
                            <a:pt x="17" y="111"/>
                          </a:lnTo>
                          <a:lnTo>
                            <a:pt x="22" y="102"/>
                          </a:lnTo>
                          <a:lnTo>
                            <a:pt x="22" y="99"/>
                          </a:lnTo>
                          <a:lnTo>
                            <a:pt x="17" y="96"/>
                          </a:lnTo>
                          <a:lnTo>
                            <a:pt x="9" y="90"/>
                          </a:lnTo>
                          <a:lnTo>
                            <a:pt x="5" y="90"/>
                          </a:lnTo>
                          <a:lnTo>
                            <a:pt x="2" y="88"/>
                          </a:lnTo>
                          <a:lnTo>
                            <a:pt x="0" y="84"/>
                          </a:lnTo>
                          <a:lnTo>
                            <a:pt x="2" y="80"/>
                          </a:lnTo>
                          <a:lnTo>
                            <a:pt x="5" y="80"/>
                          </a:lnTo>
                          <a:lnTo>
                            <a:pt x="9" y="79"/>
                          </a:lnTo>
                          <a:lnTo>
                            <a:pt x="17" y="73"/>
                          </a:lnTo>
                          <a:lnTo>
                            <a:pt x="20" y="71"/>
                          </a:lnTo>
                          <a:lnTo>
                            <a:pt x="23" y="53"/>
                          </a:lnTo>
                          <a:lnTo>
                            <a:pt x="20" y="48"/>
                          </a:lnTo>
                          <a:lnTo>
                            <a:pt x="16" y="44"/>
                          </a:lnTo>
                          <a:lnTo>
                            <a:pt x="14" y="34"/>
                          </a:lnTo>
                          <a:lnTo>
                            <a:pt x="16" y="24"/>
                          </a:lnTo>
                          <a:lnTo>
                            <a:pt x="17" y="17"/>
                          </a:lnTo>
                          <a:lnTo>
                            <a:pt x="22" y="2"/>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58" name=""/>
                    <p:cNvSpPr/>
                    <p:nvPr/>
                  </p:nvSpPr>
                  <p:spPr>
                    <a:xfrm>
                      <a:off x="8768520" y="5593320"/>
                      <a:ext cx="238320" cy="236880"/>
                    </a:xfrm>
                    <a:custGeom>
                      <a:avLst/>
                      <a:gdLst/>
                      <a:ahLst/>
                      <a:rect l="l" t="t" r="r" b="b"/>
                      <a:pathLst>
                        <a:path w="127" h="107">
                          <a:moveTo>
                            <a:pt x="89" y="0"/>
                          </a:moveTo>
                          <a:lnTo>
                            <a:pt x="103" y="0"/>
                          </a:lnTo>
                          <a:lnTo>
                            <a:pt x="126" y="30"/>
                          </a:lnTo>
                          <a:lnTo>
                            <a:pt x="102" y="53"/>
                          </a:lnTo>
                          <a:lnTo>
                            <a:pt x="102" y="64"/>
                          </a:lnTo>
                          <a:lnTo>
                            <a:pt x="96" y="67"/>
                          </a:lnTo>
                          <a:lnTo>
                            <a:pt x="82" y="67"/>
                          </a:lnTo>
                          <a:lnTo>
                            <a:pt x="66" y="80"/>
                          </a:lnTo>
                          <a:lnTo>
                            <a:pt x="51" y="94"/>
                          </a:lnTo>
                          <a:lnTo>
                            <a:pt x="41" y="106"/>
                          </a:lnTo>
                          <a:lnTo>
                            <a:pt x="41" y="96"/>
                          </a:lnTo>
                          <a:lnTo>
                            <a:pt x="22" y="98"/>
                          </a:lnTo>
                          <a:lnTo>
                            <a:pt x="14" y="98"/>
                          </a:lnTo>
                          <a:lnTo>
                            <a:pt x="0" y="98"/>
                          </a:lnTo>
                          <a:lnTo>
                            <a:pt x="18" y="80"/>
                          </a:lnTo>
                          <a:lnTo>
                            <a:pt x="24" y="72"/>
                          </a:lnTo>
                          <a:lnTo>
                            <a:pt x="32" y="72"/>
                          </a:lnTo>
                          <a:lnTo>
                            <a:pt x="45" y="59"/>
                          </a:lnTo>
                          <a:lnTo>
                            <a:pt x="51" y="59"/>
                          </a:lnTo>
                          <a:lnTo>
                            <a:pt x="51" y="57"/>
                          </a:lnTo>
                          <a:lnTo>
                            <a:pt x="57" y="53"/>
                          </a:lnTo>
                          <a:lnTo>
                            <a:pt x="66" y="53"/>
                          </a:lnTo>
                          <a:lnTo>
                            <a:pt x="63" y="37"/>
                          </a:lnTo>
                          <a:lnTo>
                            <a:pt x="64" y="37"/>
                          </a:lnTo>
                          <a:lnTo>
                            <a:pt x="72" y="29"/>
                          </a:lnTo>
                          <a:lnTo>
                            <a:pt x="76" y="35"/>
                          </a:lnTo>
                          <a:lnTo>
                            <a:pt x="90" y="24"/>
                          </a:lnTo>
                          <a:lnTo>
                            <a:pt x="89"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59" name=""/>
                    <p:cNvSpPr/>
                    <p:nvPr/>
                  </p:nvSpPr>
                  <p:spPr>
                    <a:xfrm>
                      <a:off x="8336880" y="5606640"/>
                      <a:ext cx="87840" cy="128520"/>
                    </a:xfrm>
                    <a:custGeom>
                      <a:avLst/>
                      <a:gdLst/>
                      <a:ahLst/>
                      <a:rect l="l" t="t" r="r" b="b"/>
                      <a:pathLst>
                        <a:path w="47" h="58">
                          <a:moveTo>
                            <a:pt x="0" y="0"/>
                          </a:moveTo>
                          <a:lnTo>
                            <a:pt x="9" y="0"/>
                          </a:lnTo>
                          <a:lnTo>
                            <a:pt x="20" y="7"/>
                          </a:lnTo>
                          <a:lnTo>
                            <a:pt x="46" y="7"/>
                          </a:lnTo>
                          <a:lnTo>
                            <a:pt x="42" y="19"/>
                          </a:lnTo>
                          <a:lnTo>
                            <a:pt x="46" y="28"/>
                          </a:lnTo>
                          <a:lnTo>
                            <a:pt x="37" y="28"/>
                          </a:lnTo>
                          <a:lnTo>
                            <a:pt x="36" y="30"/>
                          </a:lnTo>
                          <a:lnTo>
                            <a:pt x="30" y="32"/>
                          </a:lnTo>
                          <a:lnTo>
                            <a:pt x="36" y="57"/>
                          </a:lnTo>
                          <a:lnTo>
                            <a:pt x="20" y="56"/>
                          </a:lnTo>
                          <a:lnTo>
                            <a:pt x="7" y="47"/>
                          </a:lnTo>
                          <a:lnTo>
                            <a:pt x="7" y="30"/>
                          </a:lnTo>
                          <a:lnTo>
                            <a:pt x="7" y="23"/>
                          </a:lnTo>
                          <a:lnTo>
                            <a:pt x="0" y="19"/>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60" name=""/>
                  <p:cNvSpPr/>
                  <p:nvPr/>
                </p:nvSpPr>
                <p:spPr>
                  <a:xfrm>
                    <a:off x="8498160" y="4313520"/>
                    <a:ext cx="146520" cy="135000"/>
                  </a:xfrm>
                  <a:custGeom>
                    <a:avLst/>
                    <a:gdLst/>
                    <a:ahLst/>
                    <a:rect l="l" t="t" r="r" b="b"/>
                    <a:pathLst>
                      <a:path w="78" h="61">
                        <a:moveTo>
                          <a:pt x="14" y="22"/>
                        </a:moveTo>
                        <a:lnTo>
                          <a:pt x="0" y="48"/>
                        </a:lnTo>
                        <a:lnTo>
                          <a:pt x="5" y="58"/>
                        </a:lnTo>
                        <a:lnTo>
                          <a:pt x="27" y="60"/>
                        </a:lnTo>
                        <a:lnTo>
                          <a:pt x="45" y="60"/>
                        </a:lnTo>
                        <a:lnTo>
                          <a:pt x="52" y="50"/>
                        </a:lnTo>
                        <a:lnTo>
                          <a:pt x="56" y="39"/>
                        </a:lnTo>
                        <a:lnTo>
                          <a:pt x="77" y="39"/>
                        </a:lnTo>
                        <a:lnTo>
                          <a:pt x="73" y="24"/>
                        </a:lnTo>
                        <a:lnTo>
                          <a:pt x="73" y="9"/>
                        </a:lnTo>
                        <a:lnTo>
                          <a:pt x="54" y="0"/>
                        </a:lnTo>
                        <a:lnTo>
                          <a:pt x="49" y="17"/>
                        </a:lnTo>
                        <a:lnTo>
                          <a:pt x="63" y="28"/>
                        </a:lnTo>
                        <a:lnTo>
                          <a:pt x="44" y="28"/>
                        </a:lnTo>
                        <a:lnTo>
                          <a:pt x="36" y="34"/>
                        </a:lnTo>
                        <a:lnTo>
                          <a:pt x="14" y="22"/>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 name=""/>
                <p:cNvGrpSpPr/>
                <p:nvPr/>
              </p:nvGrpSpPr>
              <p:grpSpPr>
                <a:xfrm>
                  <a:off x="6904080" y="2325600"/>
                  <a:ext cx="1702800" cy="3228480"/>
                  <a:chOff x="6904080" y="2325600"/>
                  <a:chExt cx="1702800" cy="3228480"/>
                </a:xfrm>
              </p:grpSpPr>
              <p:grpSp>
                <p:nvGrpSpPr>
                  <p:cNvPr id="62" name=""/>
                  <p:cNvGrpSpPr/>
                  <p:nvPr/>
                </p:nvGrpSpPr>
                <p:grpSpPr>
                  <a:xfrm>
                    <a:off x="7178040" y="2653560"/>
                    <a:ext cx="383040" cy="972000"/>
                    <a:chOff x="7178040" y="2653560"/>
                    <a:chExt cx="383040" cy="972000"/>
                  </a:xfrm>
                </p:grpSpPr>
                <p:sp>
                  <p:nvSpPr>
                    <p:cNvPr id="63" name=""/>
                    <p:cNvSpPr/>
                    <p:nvPr/>
                  </p:nvSpPr>
                  <p:spPr>
                    <a:xfrm>
                      <a:off x="7178040" y="3525840"/>
                      <a:ext cx="90000" cy="99720"/>
                    </a:xfrm>
                    <a:custGeom>
                      <a:avLst/>
                      <a:gdLst/>
                      <a:ahLst/>
                      <a:rect l="l" t="t" r="r" b="b"/>
                      <a:pathLst>
                        <a:path w="48" h="45">
                          <a:moveTo>
                            <a:pt x="0" y="34"/>
                          </a:moveTo>
                          <a:lnTo>
                            <a:pt x="8" y="42"/>
                          </a:lnTo>
                          <a:lnTo>
                            <a:pt x="18" y="40"/>
                          </a:lnTo>
                          <a:lnTo>
                            <a:pt x="33" y="44"/>
                          </a:lnTo>
                          <a:lnTo>
                            <a:pt x="44" y="44"/>
                          </a:lnTo>
                          <a:lnTo>
                            <a:pt x="47" y="28"/>
                          </a:lnTo>
                          <a:lnTo>
                            <a:pt x="43" y="18"/>
                          </a:lnTo>
                          <a:lnTo>
                            <a:pt x="36" y="7"/>
                          </a:lnTo>
                          <a:lnTo>
                            <a:pt x="26" y="7"/>
                          </a:lnTo>
                          <a:lnTo>
                            <a:pt x="24" y="0"/>
                          </a:lnTo>
                          <a:lnTo>
                            <a:pt x="12" y="0"/>
                          </a:lnTo>
                          <a:lnTo>
                            <a:pt x="12" y="14"/>
                          </a:lnTo>
                          <a:lnTo>
                            <a:pt x="0" y="34"/>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64" name=""/>
                    <p:cNvSpPr/>
                    <p:nvPr/>
                  </p:nvSpPr>
                  <p:spPr>
                    <a:xfrm>
                      <a:off x="7418520" y="3353040"/>
                      <a:ext cx="89640" cy="126360"/>
                    </a:xfrm>
                    <a:custGeom>
                      <a:avLst/>
                      <a:gdLst/>
                      <a:ahLst/>
                      <a:rect l="l" t="t" r="r" b="b"/>
                      <a:pathLst>
                        <a:path w="48" h="57">
                          <a:moveTo>
                            <a:pt x="10" y="0"/>
                          </a:moveTo>
                          <a:lnTo>
                            <a:pt x="30" y="2"/>
                          </a:lnTo>
                          <a:lnTo>
                            <a:pt x="38" y="17"/>
                          </a:lnTo>
                          <a:lnTo>
                            <a:pt x="47" y="25"/>
                          </a:lnTo>
                          <a:lnTo>
                            <a:pt x="39" y="32"/>
                          </a:lnTo>
                          <a:lnTo>
                            <a:pt x="47" y="40"/>
                          </a:lnTo>
                          <a:lnTo>
                            <a:pt x="42" y="50"/>
                          </a:lnTo>
                          <a:lnTo>
                            <a:pt x="36" y="56"/>
                          </a:lnTo>
                          <a:lnTo>
                            <a:pt x="22" y="54"/>
                          </a:lnTo>
                          <a:lnTo>
                            <a:pt x="13" y="54"/>
                          </a:lnTo>
                          <a:lnTo>
                            <a:pt x="8" y="48"/>
                          </a:lnTo>
                          <a:lnTo>
                            <a:pt x="3" y="39"/>
                          </a:lnTo>
                          <a:lnTo>
                            <a:pt x="3" y="31"/>
                          </a:lnTo>
                          <a:lnTo>
                            <a:pt x="0" y="19"/>
                          </a:lnTo>
                          <a:lnTo>
                            <a:pt x="1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65" name=""/>
                    <p:cNvSpPr/>
                    <p:nvPr/>
                  </p:nvSpPr>
                  <p:spPr>
                    <a:xfrm>
                      <a:off x="7401600" y="2653560"/>
                      <a:ext cx="159480" cy="119520"/>
                    </a:xfrm>
                    <a:custGeom>
                      <a:avLst/>
                      <a:gdLst/>
                      <a:ahLst/>
                      <a:rect l="l" t="t" r="r" b="b"/>
                      <a:pathLst>
                        <a:path w="85" h="54">
                          <a:moveTo>
                            <a:pt x="12" y="0"/>
                          </a:moveTo>
                          <a:lnTo>
                            <a:pt x="22" y="9"/>
                          </a:lnTo>
                          <a:lnTo>
                            <a:pt x="33" y="7"/>
                          </a:lnTo>
                          <a:lnTo>
                            <a:pt x="49" y="9"/>
                          </a:lnTo>
                          <a:lnTo>
                            <a:pt x="63" y="9"/>
                          </a:lnTo>
                          <a:lnTo>
                            <a:pt x="69" y="14"/>
                          </a:lnTo>
                          <a:lnTo>
                            <a:pt x="78" y="26"/>
                          </a:lnTo>
                          <a:lnTo>
                            <a:pt x="84" y="31"/>
                          </a:lnTo>
                          <a:lnTo>
                            <a:pt x="65" y="34"/>
                          </a:lnTo>
                          <a:lnTo>
                            <a:pt x="58" y="37"/>
                          </a:lnTo>
                          <a:lnTo>
                            <a:pt x="65" y="45"/>
                          </a:lnTo>
                          <a:lnTo>
                            <a:pt x="65" y="51"/>
                          </a:lnTo>
                          <a:lnTo>
                            <a:pt x="45" y="45"/>
                          </a:lnTo>
                          <a:lnTo>
                            <a:pt x="29" y="39"/>
                          </a:lnTo>
                          <a:lnTo>
                            <a:pt x="22" y="41"/>
                          </a:lnTo>
                          <a:lnTo>
                            <a:pt x="22" y="51"/>
                          </a:lnTo>
                          <a:lnTo>
                            <a:pt x="12" y="53"/>
                          </a:lnTo>
                          <a:lnTo>
                            <a:pt x="7" y="45"/>
                          </a:lnTo>
                          <a:lnTo>
                            <a:pt x="5" y="34"/>
                          </a:lnTo>
                          <a:lnTo>
                            <a:pt x="0" y="33"/>
                          </a:lnTo>
                          <a:lnTo>
                            <a:pt x="5" y="22"/>
                          </a:lnTo>
                          <a:lnTo>
                            <a:pt x="14" y="19"/>
                          </a:lnTo>
                          <a:lnTo>
                            <a:pt x="12"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66" name=""/>
                  <p:cNvSpPr/>
                  <p:nvPr/>
                </p:nvSpPr>
                <p:spPr>
                  <a:xfrm>
                    <a:off x="7535160" y="4617000"/>
                    <a:ext cx="1071720" cy="937080"/>
                  </a:xfrm>
                  <a:custGeom>
                    <a:avLst/>
                    <a:gdLst/>
                    <a:ahLst/>
                    <a:rect l="l" t="t" r="r" b="b"/>
                    <a:pathLst>
                      <a:path w="570" h="423">
                        <a:moveTo>
                          <a:pt x="408" y="0"/>
                        </a:moveTo>
                        <a:lnTo>
                          <a:pt x="439" y="0"/>
                        </a:lnTo>
                        <a:lnTo>
                          <a:pt x="439" y="34"/>
                        </a:lnTo>
                        <a:lnTo>
                          <a:pt x="451" y="44"/>
                        </a:lnTo>
                        <a:lnTo>
                          <a:pt x="454" y="48"/>
                        </a:lnTo>
                        <a:lnTo>
                          <a:pt x="460" y="48"/>
                        </a:lnTo>
                        <a:lnTo>
                          <a:pt x="464" y="56"/>
                        </a:lnTo>
                        <a:lnTo>
                          <a:pt x="467" y="89"/>
                        </a:lnTo>
                        <a:lnTo>
                          <a:pt x="484" y="111"/>
                        </a:lnTo>
                        <a:lnTo>
                          <a:pt x="510" y="143"/>
                        </a:lnTo>
                        <a:lnTo>
                          <a:pt x="510" y="148"/>
                        </a:lnTo>
                        <a:lnTo>
                          <a:pt x="537" y="175"/>
                        </a:lnTo>
                        <a:lnTo>
                          <a:pt x="537" y="181"/>
                        </a:lnTo>
                        <a:lnTo>
                          <a:pt x="564" y="202"/>
                        </a:lnTo>
                        <a:lnTo>
                          <a:pt x="569" y="241"/>
                        </a:lnTo>
                        <a:lnTo>
                          <a:pt x="564" y="277"/>
                        </a:lnTo>
                        <a:lnTo>
                          <a:pt x="556" y="293"/>
                        </a:lnTo>
                        <a:lnTo>
                          <a:pt x="546" y="303"/>
                        </a:lnTo>
                        <a:lnTo>
                          <a:pt x="541" y="320"/>
                        </a:lnTo>
                        <a:lnTo>
                          <a:pt x="532" y="334"/>
                        </a:lnTo>
                        <a:lnTo>
                          <a:pt x="523" y="341"/>
                        </a:lnTo>
                        <a:lnTo>
                          <a:pt x="525" y="347"/>
                        </a:lnTo>
                        <a:lnTo>
                          <a:pt x="514" y="357"/>
                        </a:lnTo>
                        <a:lnTo>
                          <a:pt x="510" y="378"/>
                        </a:lnTo>
                        <a:lnTo>
                          <a:pt x="508" y="390"/>
                        </a:lnTo>
                        <a:lnTo>
                          <a:pt x="498" y="395"/>
                        </a:lnTo>
                        <a:lnTo>
                          <a:pt x="496" y="401"/>
                        </a:lnTo>
                        <a:lnTo>
                          <a:pt x="490" y="411"/>
                        </a:lnTo>
                        <a:lnTo>
                          <a:pt x="478" y="412"/>
                        </a:lnTo>
                        <a:lnTo>
                          <a:pt x="469" y="415"/>
                        </a:lnTo>
                        <a:lnTo>
                          <a:pt x="457" y="422"/>
                        </a:lnTo>
                        <a:lnTo>
                          <a:pt x="442" y="409"/>
                        </a:lnTo>
                        <a:lnTo>
                          <a:pt x="426" y="411"/>
                        </a:lnTo>
                        <a:lnTo>
                          <a:pt x="420" y="411"/>
                        </a:lnTo>
                        <a:lnTo>
                          <a:pt x="397" y="414"/>
                        </a:lnTo>
                        <a:lnTo>
                          <a:pt x="381" y="401"/>
                        </a:lnTo>
                        <a:lnTo>
                          <a:pt x="371" y="387"/>
                        </a:lnTo>
                        <a:lnTo>
                          <a:pt x="364" y="388"/>
                        </a:lnTo>
                        <a:lnTo>
                          <a:pt x="358" y="376"/>
                        </a:lnTo>
                        <a:lnTo>
                          <a:pt x="354" y="366"/>
                        </a:lnTo>
                        <a:lnTo>
                          <a:pt x="351" y="363"/>
                        </a:lnTo>
                        <a:lnTo>
                          <a:pt x="351" y="347"/>
                        </a:lnTo>
                        <a:lnTo>
                          <a:pt x="352" y="336"/>
                        </a:lnTo>
                        <a:lnTo>
                          <a:pt x="349" y="330"/>
                        </a:lnTo>
                        <a:lnTo>
                          <a:pt x="336" y="333"/>
                        </a:lnTo>
                        <a:lnTo>
                          <a:pt x="329" y="334"/>
                        </a:lnTo>
                        <a:lnTo>
                          <a:pt x="316" y="334"/>
                        </a:lnTo>
                        <a:lnTo>
                          <a:pt x="312" y="334"/>
                        </a:lnTo>
                        <a:lnTo>
                          <a:pt x="307" y="334"/>
                        </a:lnTo>
                        <a:lnTo>
                          <a:pt x="298" y="324"/>
                        </a:lnTo>
                        <a:lnTo>
                          <a:pt x="290" y="311"/>
                        </a:lnTo>
                        <a:lnTo>
                          <a:pt x="288" y="312"/>
                        </a:lnTo>
                        <a:lnTo>
                          <a:pt x="273" y="312"/>
                        </a:lnTo>
                        <a:lnTo>
                          <a:pt x="271" y="307"/>
                        </a:lnTo>
                        <a:lnTo>
                          <a:pt x="263" y="312"/>
                        </a:lnTo>
                        <a:lnTo>
                          <a:pt x="255" y="311"/>
                        </a:lnTo>
                        <a:lnTo>
                          <a:pt x="241" y="311"/>
                        </a:lnTo>
                        <a:lnTo>
                          <a:pt x="232" y="307"/>
                        </a:lnTo>
                        <a:lnTo>
                          <a:pt x="230" y="312"/>
                        </a:lnTo>
                        <a:lnTo>
                          <a:pt x="216" y="314"/>
                        </a:lnTo>
                        <a:lnTo>
                          <a:pt x="212" y="311"/>
                        </a:lnTo>
                        <a:lnTo>
                          <a:pt x="204" y="320"/>
                        </a:lnTo>
                        <a:lnTo>
                          <a:pt x="193" y="328"/>
                        </a:lnTo>
                        <a:lnTo>
                          <a:pt x="187" y="328"/>
                        </a:lnTo>
                        <a:lnTo>
                          <a:pt x="177" y="338"/>
                        </a:lnTo>
                        <a:lnTo>
                          <a:pt x="162" y="338"/>
                        </a:lnTo>
                        <a:lnTo>
                          <a:pt x="150" y="341"/>
                        </a:lnTo>
                        <a:lnTo>
                          <a:pt x="136" y="347"/>
                        </a:lnTo>
                        <a:lnTo>
                          <a:pt x="129" y="353"/>
                        </a:lnTo>
                        <a:lnTo>
                          <a:pt x="125" y="351"/>
                        </a:lnTo>
                        <a:lnTo>
                          <a:pt x="120" y="358"/>
                        </a:lnTo>
                        <a:lnTo>
                          <a:pt x="113" y="360"/>
                        </a:lnTo>
                        <a:lnTo>
                          <a:pt x="104" y="368"/>
                        </a:lnTo>
                        <a:lnTo>
                          <a:pt x="77" y="368"/>
                        </a:lnTo>
                        <a:lnTo>
                          <a:pt x="65" y="357"/>
                        </a:lnTo>
                        <a:lnTo>
                          <a:pt x="63" y="351"/>
                        </a:lnTo>
                        <a:lnTo>
                          <a:pt x="61" y="357"/>
                        </a:lnTo>
                        <a:lnTo>
                          <a:pt x="55" y="348"/>
                        </a:lnTo>
                        <a:lnTo>
                          <a:pt x="57" y="326"/>
                        </a:lnTo>
                        <a:lnTo>
                          <a:pt x="61" y="312"/>
                        </a:lnTo>
                        <a:lnTo>
                          <a:pt x="55" y="303"/>
                        </a:lnTo>
                        <a:lnTo>
                          <a:pt x="50" y="293"/>
                        </a:lnTo>
                        <a:lnTo>
                          <a:pt x="48" y="280"/>
                        </a:lnTo>
                        <a:lnTo>
                          <a:pt x="41" y="275"/>
                        </a:lnTo>
                        <a:lnTo>
                          <a:pt x="38" y="274"/>
                        </a:lnTo>
                        <a:lnTo>
                          <a:pt x="36" y="268"/>
                        </a:lnTo>
                        <a:lnTo>
                          <a:pt x="24" y="253"/>
                        </a:lnTo>
                        <a:lnTo>
                          <a:pt x="9" y="216"/>
                        </a:lnTo>
                        <a:lnTo>
                          <a:pt x="5" y="191"/>
                        </a:lnTo>
                        <a:lnTo>
                          <a:pt x="5" y="175"/>
                        </a:lnTo>
                        <a:lnTo>
                          <a:pt x="0" y="170"/>
                        </a:lnTo>
                        <a:lnTo>
                          <a:pt x="2" y="157"/>
                        </a:lnTo>
                        <a:lnTo>
                          <a:pt x="6" y="150"/>
                        </a:lnTo>
                        <a:lnTo>
                          <a:pt x="24" y="131"/>
                        </a:lnTo>
                        <a:lnTo>
                          <a:pt x="43" y="133"/>
                        </a:lnTo>
                        <a:lnTo>
                          <a:pt x="47" y="137"/>
                        </a:lnTo>
                        <a:lnTo>
                          <a:pt x="71" y="137"/>
                        </a:lnTo>
                        <a:lnTo>
                          <a:pt x="72" y="131"/>
                        </a:lnTo>
                        <a:lnTo>
                          <a:pt x="77" y="133"/>
                        </a:lnTo>
                        <a:lnTo>
                          <a:pt x="84" y="129"/>
                        </a:lnTo>
                        <a:lnTo>
                          <a:pt x="89" y="129"/>
                        </a:lnTo>
                        <a:lnTo>
                          <a:pt x="95" y="127"/>
                        </a:lnTo>
                        <a:lnTo>
                          <a:pt x="93" y="121"/>
                        </a:lnTo>
                        <a:lnTo>
                          <a:pt x="98" y="110"/>
                        </a:lnTo>
                        <a:lnTo>
                          <a:pt x="104" y="104"/>
                        </a:lnTo>
                        <a:lnTo>
                          <a:pt x="101" y="102"/>
                        </a:lnTo>
                        <a:lnTo>
                          <a:pt x="104" y="98"/>
                        </a:lnTo>
                        <a:lnTo>
                          <a:pt x="101" y="92"/>
                        </a:lnTo>
                        <a:lnTo>
                          <a:pt x="111" y="84"/>
                        </a:lnTo>
                        <a:lnTo>
                          <a:pt x="127" y="83"/>
                        </a:lnTo>
                        <a:lnTo>
                          <a:pt x="141" y="62"/>
                        </a:lnTo>
                        <a:lnTo>
                          <a:pt x="160" y="46"/>
                        </a:lnTo>
                        <a:lnTo>
                          <a:pt x="168" y="44"/>
                        </a:lnTo>
                        <a:lnTo>
                          <a:pt x="174" y="38"/>
                        </a:lnTo>
                        <a:lnTo>
                          <a:pt x="182" y="38"/>
                        </a:lnTo>
                        <a:lnTo>
                          <a:pt x="197" y="54"/>
                        </a:lnTo>
                        <a:lnTo>
                          <a:pt x="202" y="56"/>
                        </a:lnTo>
                        <a:lnTo>
                          <a:pt x="207" y="48"/>
                        </a:lnTo>
                        <a:lnTo>
                          <a:pt x="218" y="38"/>
                        </a:lnTo>
                        <a:lnTo>
                          <a:pt x="225" y="37"/>
                        </a:lnTo>
                        <a:lnTo>
                          <a:pt x="231" y="23"/>
                        </a:lnTo>
                        <a:lnTo>
                          <a:pt x="239" y="21"/>
                        </a:lnTo>
                        <a:lnTo>
                          <a:pt x="246" y="17"/>
                        </a:lnTo>
                        <a:lnTo>
                          <a:pt x="255" y="11"/>
                        </a:lnTo>
                        <a:lnTo>
                          <a:pt x="263" y="11"/>
                        </a:lnTo>
                        <a:lnTo>
                          <a:pt x="270" y="5"/>
                        </a:lnTo>
                        <a:lnTo>
                          <a:pt x="280" y="5"/>
                        </a:lnTo>
                        <a:lnTo>
                          <a:pt x="292" y="5"/>
                        </a:lnTo>
                        <a:lnTo>
                          <a:pt x="307" y="8"/>
                        </a:lnTo>
                        <a:lnTo>
                          <a:pt x="316" y="15"/>
                        </a:lnTo>
                        <a:lnTo>
                          <a:pt x="319" y="20"/>
                        </a:lnTo>
                        <a:lnTo>
                          <a:pt x="321" y="23"/>
                        </a:lnTo>
                        <a:lnTo>
                          <a:pt x="323" y="32"/>
                        </a:lnTo>
                        <a:lnTo>
                          <a:pt x="321" y="35"/>
                        </a:lnTo>
                        <a:lnTo>
                          <a:pt x="321" y="44"/>
                        </a:lnTo>
                        <a:lnTo>
                          <a:pt x="319" y="48"/>
                        </a:lnTo>
                        <a:lnTo>
                          <a:pt x="343" y="67"/>
                        </a:lnTo>
                        <a:lnTo>
                          <a:pt x="352" y="77"/>
                        </a:lnTo>
                        <a:lnTo>
                          <a:pt x="363" y="81"/>
                        </a:lnTo>
                        <a:lnTo>
                          <a:pt x="373" y="86"/>
                        </a:lnTo>
                        <a:lnTo>
                          <a:pt x="380" y="88"/>
                        </a:lnTo>
                        <a:lnTo>
                          <a:pt x="389" y="83"/>
                        </a:lnTo>
                        <a:lnTo>
                          <a:pt x="399" y="67"/>
                        </a:lnTo>
                        <a:lnTo>
                          <a:pt x="402" y="56"/>
                        </a:lnTo>
                        <a:lnTo>
                          <a:pt x="405" y="32"/>
                        </a:lnTo>
                        <a:lnTo>
                          <a:pt x="408" y="21"/>
                        </a:lnTo>
                        <a:lnTo>
                          <a:pt x="408"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67" name=""/>
                  <p:cNvSpPr/>
                  <p:nvPr/>
                </p:nvSpPr>
                <p:spPr>
                  <a:xfrm>
                    <a:off x="7281720" y="4415040"/>
                    <a:ext cx="593640" cy="132840"/>
                  </a:xfrm>
                  <a:custGeom>
                    <a:avLst/>
                    <a:gdLst/>
                    <a:ahLst/>
                    <a:rect l="l" t="t" r="r" b="b"/>
                    <a:pathLst>
                      <a:path w="316" h="60">
                        <a:moveTo>
                          <a:pt x="0" y="0"/>
                        </a:moveTo>
                        <a:lnTo>
                          <a:pt x="23" y="9"/>
                        </a:lnTo>
                        <a:lnTo>
                          <a:pt x="44" y="9"/>
                        </a:lnTo>
                        <a:lnTo>
                          <a:pt x="62" y="9"/>
                        </a:lnTo>
                        <a:lnTo>
                          <a:pt x="75" y="9"/>
                        </a:lnTo>
                        <a:lnTo>
                          <a:pt x="86" y="10"/>
                        </a:lnTo>
                        <a:lnTo>
                          <a:pt x="100" y="16"/>
                        </a:lnTo>
                        <a:lnTo>
                          <a:pt x="107" y="28"/>
                        </a:lnTo>
                        <a:lnTo>
                          <a:pt x="113" y="33"/>
                        </a:lnTo>
                        <a:lnTo>
                          <a:pt x="125" y="31"/>
                        </a:lnTo>
                        <a:lnTo>
                          <a:pt x="139" y="31"/>
                        </a:lnTo>
                        <a:lnTo>
                          <a:pt x="153" y="38"/>
                        </a:lnTo>
                        <a:lnTo>
                          <a:pt x="164" y="42"/>
                        </a:lnTo>
                        <a:lnTo>
                          <a:pt x="171" y="42"/>
                        </a:lnTo>
                        <a:lnTo>
                          <a:pt x="173" y="33"/>
                        </a:lnTo>
                        <a:lnTo>
                          <a:pt x="177" y="28"/>
                        </a:lnTo>
                        <a:lnTo>
                          <a:pt x="198" y="31"/>
                        </a:lnTo>
                        <a:lnTo>
                          <a:pt x="214" y="31"/>
                        </a:lnTo>
                        <a:lnTo>
                          <a:pt x="230" y="31"/>
                        </a:lnTo>
                        <a:lnTo>
                          <a:pt x="242" y="37"/>
                        </a:lnTo>
                        <a:lnTo>
                          <a:pt x="248" y="40"/>
                        </a:lnTo>
                        <a:lnTo>
                          <a:pt x="260" y="38"/>
                        </a:lnTo>
                        <a:lnTo>
                          <a:pt x="269" y="35"/>
                        </a:lnTo>
                        <a:lnTo>
                          <a:pt x="273" y="31"/>
                        </a:lnTo>
                        <a:lnTo>
                          <a:pt x="287" y="31"/>
                        </a:lnTo>
                        <a:lnTo>
                          <a:pt x="296" y="28"/>
                        </a:lnTo>
                        <a:lnTo>
                          <a:pt x="308" y="25"/>
                        </a:lnTo>
                        <a:lnTo>
                          <a:pt x="315" y="25"/>
                        </a:lnTo>
                        <a:lnTo>
                          <a:pt x="312" y="37"/>
                        </a:lnTo>
                        <a:lnTo>
                          <a:pt x="309" y="42"/>
                        </a:lnTo>
                        <a:lnTo>
                          <a:pt x="303" y="47"/>
                        </a:lnTo>
                        <a:lnTo>
                          <a:pt x="296" y="47"/>
                        </a:lnTo>
                        <a:lnTo>
                          <a:pt x="294" y="47"/>
                        </a:lnTo>
                        <a:lnTo>
                          <a:pt x="285" y="49"/>
                        </a:lnTo>
                        <a:lnTo>
                          <a:pt x="279" y="55"/>
                        </a:lnTo>
                        <a:lnTo>
                          <a:pt x="272" y="54"/>
                        </a:lnTo>
                        <a:lnTo>
                          <a:pt x="266" y="50"/>
                        </a:lnTo>
                        <a:lnTo>
                          <a:pt x="258" y="54"/>
                        </a:lnTo>
                        <a:lnTo>
                          <a:pt x="252" y="55"/>
                        </a:lnTo>
                        <a:lnTo>
                          <a:pt x="246" y="55"/>
                        </a:lnTo>
                        <a:lnTo>
                          <a:pt x="242" y="59"/>
                        </a:lnTo>
                        <a:lnTo>
                          <a:pt x="228" y="59"/>
                        </a:lnTo>
                        <a:lnTo>
                          <a:pt x="224" y="54"/>
                        </a:lnTo>
                        <a:lnTo>
                          <a:pt x="216" y="47"/>
                        </a:lnTo>
                        <a:lnTo>
                          <a:pt x="207" y="54"/>
                        </a:lnTo>
                        <a:lnTo>
                          <a:pt x="203" y="59"/>
                        </a:lnTo>
                        <a:lnTo>
                          <a:pt x="195" y="59"/>
                        </a:lnTo>
                        <a:lnTo>
                          <a:pt x="185" y="47"/>
                        </a:lnTo>
                        <a:lnTo>
                          <a:pt x="180" y="49"/>
                        </a:lnTo>
                        <a:lnTo>
                          <a:pt x="174" y="49"/>
                        </a:lnTo>
                        <a:lnTo>
                          <a:pt x="168" y="55"/>
                        </a:lnTo>
                        <a:lnTo>
                          <a:pt x="159" y="54"/>
                        </a:lnTo>
                        <a:lnTo>
                          <a:pt x="148" y="54"/>
                        </a:lnTo>
                        <a:lnTo>
                          <a:pt x="143" y="50"/>
                        </a:lnTo>
                        <a:lnTo>
                          <a:pt x="137" y="47"/>
                        </a:lnTo>
                        <a:lnTo>
                          <a:pt x="127" y="49"/>
                        </a:lnTo>
                        <a:lnTo>
                          <a:pt x="116" y="55"/>
                        </a:lnTo>
                        <a:lnTo>
                          <a:pt x="110" y="54"/>
                        </a:lnTo>
                        <a:lnTo>
                          <a:pt x="100" y="50"/>
                        </a:lnTo>
                        <a:lnTo>
                          <a:pt x="88" y="46"/>
                        </a:lnTo>
                        <a:lnTo>
                          <a:pt x="77" y="46"/>
                        </a:lnTo>
                        <a:lnTo>
                          <a:pt x="57" y="40"/>
                        </a:lnTo>
                        <a:lnTo>
                          <a:pt x="44" y="37"/>
                        </a:lnTo>
                        <a:lnTo>
                          <a:pt x="35" y="35"/>
                        </a:lnTo>
                        <a:lnTo>
                          <a:pt x="22" y="33"/>
                        </a:lnTo>
                        <a:lnTo>
                          <a:pt x="14" y="27"/>
                        </a:lnTo>
                        <a:lnTo>
                          <a:pt x="5" y="25"/>
                        </a:lnTo>
                        <a:lnTo>
                          <a:pt x="2" y="23"/>
                        </a:lnTo>
                        <a:lnTo>
                          <a:pt x="0" y="19"/>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68" name=""/>
                  <p:cNvSpPr/>
                  <p:nvPr/>
                </p:nvSpPr>
                <p:spPr>
                  <a:xfrm>
                    <a:off x="7608600" y="4167000"/>
                    <a:ext cx="266760" cy="245520"/>
                  </a:xfrm>
                  <a:custGeom>
                    <a:avLst/>
                    <a:gdLst/>
                    <a:ahLst/>
                    <a:rect l="l" t="t" r="r" b="b"/>
                    <a:pathLst>
                      <a:path w="142" h="111">
                        <a:moveTo>
                          <a:pt x="35" y="0"/>
                        </a:moveTo>
                        <a:lnTo>
                          <a:pt x="68" y="2"/>
                        </a:lnTo>
                        <a:lnTo>
                          <a:pt x="100" y="2"/>
                        </a:lnTo>
                        <a:lnTo>
                          <a:pt x="117" y="0"/>
                        </a:lnTo>
                        <a:lnTo>
                          <a:pt x="141" y="10"/>
                        </a:lnTo>
                        <a:lnTo>
                          <a:pt x="124" y="13"/>
                        </a:lnTo>
                        <a:lnTo>
                          <a:pt x="117" y="19"/>
                        </a:lnTo>
                        <a:lnTo>
                          <a:pt x="111" y="21"/>
                        </a:lnTo>
                        <a:lnTo>
                          <a:pt x="108" y="25"/>
                        </a:lnTo>
                        <a:lnTo>
                          <a:pt x="108" y="29"/>
                        </a:lnTo>
                        <a:lnTo>
                          <a:pt x="108" y="34"/>
                        </a:lnTo>
                        <a:lnTo>
                          <a:pt x="99" y="37"/>
                        </a:lnTo>
                        <a:lnTo>
                          <a:pt x="90" y="37"/>
                        </a:lnTo>
                        <a:lnTo>
                          <a:pt x="87" y="39"/>
                        </a:lnTo>
                        <a:lnTo>
                          <a:pt x="78" y="39"/>
                        </a:lnTo>
                        <a:lnTo>
                          <a:pt x="75" y="34"/>
                        </a:lnTo>
                        <a:lnTo>
                          <a:pt x="68" y="27"/>
                        </a:lnTo>
                        <a:lnTo>
                          <a:pt x="61" y="21"/>
                        </a:lnTo>
                        <a:lnTo>
                          <a:pt x="48" y="21"/>
                        </a:lnTo>
                        <a:lnTo>
                          <a:pt x="45" y="21"/>
                        </a:lnTo>
                        <a:lnTo>
                          <a:pt x="41" y="30"/>
                        </a:lnTo>
                        <a:lnTo>
                          <a:pt x="43" y="39"/>
                        </a:lnTo>
                        <a:lnTo>
                          <a:pt x="43" y="44"/>
                        </a:lnTo>
                        <a:lnTo>
                          <a:pt x="45" y="48"/>
                        </a:lnTo>
                        <a:lnTo>
                          <a:pt x="51" y="48"/>
                        </a:lnTo>
                        <a:lnTo>
                          <a:pt x="61" y="42"/>
                        </a:lnTo>
                        <a:lnTo>
                          <a:pt x="68" y="42"/>
                        </a:lnTo>
                        <a:lnTo>
                          <a:pt x="73" y="46"/>
                        </a:lnTo>
                        <a:lnTo>
                          <a:pt x="73" y="48"/>
                        </a:lnTo>
                        <a:lnTo>
                          <a:pt x="69" y="56"/>
                        </a:lnTo>
                        <a:lnTo>
                          <a:pt x="68" y="59"/>
                        </a:lnTo>
                        <a:lnTo>
                          <a:pt x="68" y="62"/>
                        </a:lnTo>
                        <a:lnTo>
                          <a:pt x="67" y="67"/>
                        </a:lnTo>
                        <a:lnTo>
                          <a:pt x="69" y="73"/>
                        </a:lnTo>
                        <a:lnTo>
                          <a:pt x="77" y="79"/>
                        </a:lnTo>
                        <a:lnTo>
                          <a:pt x="78" y="77"/>
                        </a:lnTo>
                        <a:lnTo>
                          <a:pt x="78" y="85"/>
                        </a:lnTo>
                        <a:lnTo>
                          <a:pt x="75" y="89"/>
                        </a:lnTo>
                        <a:lnTo>
                          <a:pt x="72" y="94"/>
                        </a:lnTo>
                        <a:lnTo>
                          <a:pt x="69" y="103"/>
                        </a:lnTo>
                        <a:lnTo>
                          <a:pt x="63" y="106"/>
                        </a:lnTo>
                        <a:lnTo>
                          <a:pt x="59" y="106"/>
                        </a:lnTo>
                        <a:lnTo>
                          <a:pt x="53" y="106"/>
                        </a:lnTo>
                        <a:lnTo>
                          <a:pt x="53" y="100"/>
                        </a:lnTo>
                        <a:lnTo>
                          <a:pt x="51" y="88"/>
                        </a:lnTo>
                        <a:lnTo>
                          <a:pt x="47" y="85"/>
                        </a:lnTo>
                        <a:lnTo>
                          <a:pt x="45" y="79"/>
                        </a:lnTo>
                        <a:lnTo>
                          <a:pt x="47" y="69"/>
                        </a:lnTo>
                        <a:lnTo>
                          <a:pt x="41" y="66"/>
                        </a:lnTo>
                        <a:lnTo>
                          <a:pt x="30" y="69"/>
                        </a:lnTo>
                        <a:lnTo>
                          <a:pt x="24" y="66"/>
                        </a:lnTo>
                        <a:lnTo>
                          <a:pt x="20" y="71"/>
                        </a:lnTo>
                        <a:lnTo>
                          <a:pt x="24" y="75"/>
                        </a:lnTo>
                        <a:lnTo>
                          <a:pt x="33" y="77"/>
                        </a:lnTo>
                        <a:lnTo>
                          <a:pt x="35" y="81"/>
                        </a:lnTo>
                        <a:lnTo>
                          <a:pt x="40" y="88"/>
                        </a:lnTo>
                        <a:lnTo>
                          <a:pt x="40" y="93"/>
                        </a:lnTo>
                        <a:lnTo>
                          <a:pt x="35" y="102"/>
                        </a:lnTo>
                        <a:lnTo>
                          <a:pt x="29" y="108"/>
                        </a:lnTo>
                        <a:lnTo>
                          <a:pt x="24" y="110"/>
                        </a:lnTo>
                        <a:lnTo>
                          <a:pt x="24" y="104"/>
                        </a:lnTo>
                        <a:lnTo>
                          <a:pt x="24" y="100"/>
                        </a:lnTo>
                        <a:lnTo>
                          <a:pt x="26" y="93"/>
                        </a:lnTo>
                        <a:lnTo>
                          <a:pt x="18" y="88"/>
                        </a:lnTo>
                        <a:lnTo>
                          <a:pt x="9" y="83"/>
                        </a:lnTo>
                        <a:lnTo>
                          <a:pt x="8" y="77"/>
                        </a:lnTo>
                        <a:lnTo>
                          <a:pt x="0" y="75"/>
                        </a:lnTo>
                        <a:lnTo>
                          <a:pt x="2" y="66"/>
                        </a:lnTo>
                        <a:lnTo>
                          <a:pt x="8" y="61"/>
                        </a:lnTo>
                        <a:lnTo>
                          <a:pt x="13" y="52"/>
                        </a:lnTo>
                        <a:lnTo>
                          <a:pt x="18" y="44"/>
                        </a:lnTo>
                        <a:lnTo>
                          <a:pt x="20" y="35"/>
                        </a:lnTo>
                        <a:lnTo>
                          <a:pt x="18" y="27"/>
                        </a:lnTo>
                        <a:lnTo>
                          <a:pt x="22" y="23"/>
                        </a:lnTo>
                        <a:lnTo>
                          <a:pt x="24" y="21"/>
                        </a:lnTo>
                        <a:lnTo>
                          <a:pt x="20" y="13"/>
                        </a:lnTo>
                        <a:lnTo>
                          <a:pt x="35"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69" name=""/>
                  <p:cNvSpPr/>
                  <p:nvPr/>
                </p:nvSpPr>
                <p:spPr>
                  <a:xfrm>
                    <a:off x="7323120" y="4056120"/>
                    <a:ext cx="297000" cy="343440"/>
                  </a:xfrm>
                  <a:custGeom>
                    <a:avLst/>
                    <a:gdLst/>
                    <a:ahLst/>
                    <a:rect l="l" t="t" r="r" b="b"/>
                    <a:pathLst>
                      <a:path w="158" h="155">
                        <a:moveTo>
                          <a:pt x="0" y="52"/>
                        </a:moveTo>
                        <a:lnTo>
                          <a:pt x="32" y="27"/>
                        </a:lnTo>
                        <a:lnTo>
                          <a:pt x="48" y="17"/>
                        </a:lnTo>
                        <a:lnTo>
                          <a:pt x="57" y="8"/>
                        </a:lnTo>
                        <a:lnTo>
                          <a:pt x="82" y="0"/>
                        </a:lnTo>
                        <a:lnTo>
                          <a:pt x="96" y="19"/>
                        </a:lnTo>
                        <a:lnTo>
                          <a:pt x="109" y="10"/>
                        </a:lnTo>
                        <a:lnTo>
                          <a:pt x="114" y="6"/>
                        </a:lnTo>
                        <a:lnTo>
                          <a:pt x="126" y="0"/>
                        </a:lnTo>
                        <a:lnTo>
                          <a:pt x="134" y="0"/>
                        </a:lnTo>
                        <a:lnTo>
                          <a:pt x="135" y="7"/>
                        </a:lnTo>
                        <a:lnTo>
                          <a:pt x="135" y="12"/>
                        </a:lnTo>
                        <a:lnTo>
                          <a:pt x="127" y="21"/>
                        </a:lnTo>
                        <a:lnTo>
                          <a:pt x="127" y="25"/>
                        </a:lnTo>
                        <a:lnTo>
                          <a:pt x="147" y="48"/>
                        </a:lnTo>
                        <a:lnTo>
                          <a:pt x="150" y="61"/>
                        </a:lnTo>
                        <a:lnTo>
                          <a:pt x="154" y="61"/>
                        </a:lnTo>
                        <a:lnTo>
                          <a:pt x="157" y="69"/>
                        </a:lnTo>
                        <a:lnTo>
                          <a:pt x="150" y="75"/>
                        </a:lnTo>
                        <a:lnTo>
                          <a:pt x="145" y="71"/>
                        </a:lnTo>
                        <a:lnTo>
                          <a:pt x="134" y="77"/>
                        </a:lnTo>
                        <a:lnTo>
                          <a:pt x="135" y="90"/>
                        </a:lnTo>
                        <a:lnTo>
                          <a:pt x="121" y="99"/>
                        </a:lnTo>
                        <a:lnTo>
                          <a:pt x="121" y="121"/>
                        </a:lnTo>
                        <a:lnTo>
                          <a:pt x="121" y="136"/>
                        </a:lnTo>
                        <a:lnTo>
                          <a:pt x="114" y="144"/>
                        </a:lnTo>
                        <a:lnTo>
                          <a:pt x="109" y="154"/>
                        </a:lnTo>
                        <a:lnTo>
                          <a:pt x="102" y="152"/>
                        </a:lnTo>
                        <a:lnTo>
                          <a:pt x="93" y="146"/>
                        </a:lnTo>
                        <a:lnTo>
                          <a:pt x="84" y="142"/>
                        </a:lnTo>
                        <a:lnTo>
                          <a:pt x="77" y="133"/>
                        </a:lnTo>
                        <a:lnTo>
                          <a:pt x="54" y="135"/>
                        </a:lnTo>
                        <a:lnTo>
                          <a:pt x="33" y="130"/>
                        </a:lnTo>
                        <a:lnTo>
                          <a:pt x="20" y="116"/>
                        </a:lnTo>
                        <a:lnTo>
                          <a:pt x="11" y="106"/>
                        </a:lnTo>
                        <a:lnTo>
                          <a:pt x="4" y="98"/>
                        </a:lnTo>
                        <a:lnTo>
                          <a:pt x="4" y="80"/>
                        </a:lnTo>
                        <a:lnTo>
                          <a:pt x="0" y="52"/>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70" name=""/>
                  <p:cNvSpPr/>
                  <p:nvPr/>
                </p:nvSpPr>
                <p:spPr>
                  <a:xfrm>
                    <a:off x="7952760" y="4249080"/>
                    <a:ext cx="569520" cy="318960"/>
                  </a:xfrm>
                  <a:custGeom>
                    <a:avLst/>
                    <a:gdLst/>
                    <a:ahLst/>
                    <a:rect l="l" t="t" r="r" b="b"/>
                    <a:pathLst>
                      <a:path w="303" h="144">
                        <a:moveTo>
                          <a:pt x="0" y="0"/>
                        </a:moveTo>
                        <a:lnTo>
                          <a:pt x="27" y="2"/>
                        </a:lnTo>
                        <a:lnTo>
                          <a:pt x="49" y="3"/>
                        </a:lnTo>
                        <a:lnTo>
                          <a:pt x="59" y="24"/>
                        </a:lnTo>
                        <a:lnTo>
                          <a:pt x="61" y="30"/>
                        </a:lnTo>
                        <a:lnTo>
                          <a:pt x="63" y="34"/>
                        </a:lnTo>
                        <a:lnTo>
                          <a:pt x="71" y="29"/>
                        </a:lnTo>
                        <a:lnTo>
                          <a:pt x="83" y="29"/>
                        </a:lnTo>
                        <a:lnTo>
                          <a:pt x="90" y="34"/>
                        </a:lnTo>
                        <a:lnTo>
                          <a:pt x="93" y="32"/>
                        </a:lnTo>
                        <a:lnTo>
                          <a:pt x="103" y="24"/>
                        </a:lnTo>
                        <a:lnTo>
                          <a:pt x="104" y="24"/>
                        </a:lnTo>
                        <a:lnTo>
                          <a:pt x="113" y="19"/>
                        </a:lnTo>
                        <a:lnTo>
                          <a:pt x="122" y="19"/>
                        </a:lnTo>
                        <a:lnTo>
                          <a:pt x="149" y="29"/>
                        </a:lnTo>
                        <a:lnTo>
                          <a:pt x="161" y="29"/>
                        </a:lnTo>
                        <a:lnTo>
                          <a:pt x="173" y="38"/>
                        </a:lnTo>
                        <a:lnTo>
                          <a:pt x="185" y="40"/>
                        </a:lnTo>
                        <a:lnTo>
                          <a:pt x="195" y="48"/>
                        </a:lnTo>
                        <a:lnTo>
                          <a:pt x="204" y="49"/>
                        </a:lnTo>
                        <a:lnTo>
                          <a:pt x="225" y="56"/>
                        </a:lnTo>
                        <a:lnTo>
                          <a:pt x="235" y="68"/>
                        </a:lnTo>
                        <a:lnTo>
                          <a:pt x="241" y="75"/>
                        </a:lnTo>
                        <a:lnTo>
                          <a:pt x="239" y="78"/>
                        </a:lnTo>
                        <a:lnTo>
                          <a:pt x="247" y="85"/>
                        </a:lnTo>
                        <a:lnTo>
                          <a:pt x="254" y="87"/>
                        </a:lnTo>
                        <a:lnTo>
                          <a:pt x="258" y="88"/>
                        </a:lnTo>
                        <a:lnTo>
                          <a:pt x="266" y="90"/>
                        </a:lnTo>
                        <a:lnTo>
                          <a:pt x="280" y="101"/>
                        </a:lnTo>
                        <a:lnTo>
                          <a:pt x="280" y="107"/>
                        </a:lnTo>
                        <a:lnTo>
                          <a:pt x="289" y="114"/>
                        </a:lnTo>
                        <a:lnTo>
                          <a:pt x="290" y="118"/>
                        </a:lnTo>
                        <a:lnTo>
                          <a:pt x="302" y="131"/>
                        </a:lnTo>
                        <a:lnTo>
                          <a:pt x="292" y="143"/>
                        </a:lnTo>
                        <a:lnTo>
                          <a:pt x="289" y="143"/>
                        </a:lnTo>
                        <a:lnTo>
                          <a:pt x="278" y="143"/>
                        </a:lnTo>
                        <a:lnTo>
                          <a:pt x="274" y="138"/>
                        </a:lnTo>
                        <a:lnTo>
                          <a:pt x="270" y="138"/>
                        </a:lnTo>
                        <a:lnTo>
                          <a:pt x="265" y="140"/>
                        </a:lnTo>
                        <a:lnTo>
                          <a:pt x="239" y="113"/>
                        </a:lnTo>
                        <a:lnTo>
                          <a:pt x="224" y="114"/>
                        </a:lnTo>
                        <a:lnTo>
                          <a:pt x="208" y="113"/>
                        </a:lnTo>
                        <a:lnTo>
                          <a:pt x="204" y="116"/>
                        </a:lnTo>
                        <a:lnTo>
                          <a:pt x="198" y="121"/>
                        </a:lnTo>
                        <a:lnTo>
                          <a:pt x="197" y="118"/>
                        </a:lnTo>
                        <a:lnTo>
                          <a:pt x="190" y="126"/>
                        </a:lnTo>
                        <a:lnTo>
                          <a:pt x="179" y="138"/>
                        </a:lnTo>
                        <a:lnTo>
                          <a:pt x="171" y="133"/>
                        </a:lnTo>
                        <a:lnTo>
                          <a:pt x="161" y="130"/>
                        </a:lnTo>
                        <a:lnTo>
                          <a:pt x="154" y="130"/>
                        </a:lnTo>
                        <a:lnTo>
                          <a:pt x="143" y="126"/>
                        </a:lnTo>
                        <a:lnTo>
                          <a:pt x="138" y="130"/>
                        </a:lnTo>
                        <a:lnTo>
                          <a:pt x="132" y="113"/>
                        </a:lnTo>
                        <a:lnTo>
                          <a:pt x="120" y="97"/>
                        </a:lnTo>
                        <a:lnTo>
                          <a:pt x="109" y="78"/>
                        </a:lnTo>
                        <a:lnTo>
                          <a:pt x="98" y="68"/>
                        </a:lnTo>
                        <a:lnTo>
                          <a:pt x="90" y="57"/>
                        </a:lnTo>
                        <a:lnTo>
                          <a:pt x="71" y="57"/>
                        </a:lnTo>
                        <a:lnTo>
                          <a:pt x="55" y="63"/>
                        </a:lnTo>
                        <a:lnTo>
                          <a:pt x="45" y="56"/>
                        </a:lnTo>
                        <a:lnTo>
                          <a:pt x="29" y="51"/>
                        </a:lnTo>
                        <a:lnTo>
                          <a:pt x="20" y="46"/>
                        </a:lnTo>
                        <a:lnTo>
                          <a:pt x="20" y="25"/>
                        </a:lnTo>
                        <a:lnTo>
                          <a:pt x="22" y="15"/>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71" name=""/>
                  <p:cNvSpPr/>
                  <p:nvPr/>
                </p:nvSpPr>
                <p:spPr>
                  <a:xfrm>
                    <a:off x="6904080" y="4027320"/>
                    <a:ext cx="343440" cy="414000"/>
                  </a:xfrm>
                  <a:custGeom>
                    <a:avLst/>
                    <a:gdLst/>
                    <a:ahLst/>
                    <a:rect l="l" t="t" r="r" b="b"/>
                    <a:pathLst>
                      <a:path w="183" h="187">
                        <a:moveTo>
                          <a:pt x="0" y="5"/>
                        </a:moveTo>
                        <a:lnTo>
                          <a:pt x="18" y="0"/>
                        </a:lnTo>
                        <a:lnTo>
                          <a:pt x="40" y="8"/>
                        </a:lnTo>
                        <a:lnTo>
                          <a:pt x="43" y="17"/>
                        </a:lnTo>
                        <a:lnTo>
                          <a:pt x="43" y="20"/>
                        </a:lnTo>
                        <a:lnTo>
                          <a:pt x="48" y="21"/>
                        </a:lnTo>
                        <a:lnTo>
                          <a:pt x="48" y="25"/>
                        </a:lnTo>
                        <a:lnTo>
                          <a:pt x="55" y="27"/>
                        </a:lnTo>
                        <a:lnTo>
                          <a:pt x="55" y="33"/>
                        </a:lnTo>
                        <a:lnTo>
                          <a:pt x="78" y="54"/>
                        </a:lnTo>
                        <a:lnTo>
                          <a:pt x="81" y="54"/>
                        </a:lnTo>
                        <a:lnTo>
                          <a:pt x="84" y="58"/>
                        </a:lnTo>
                        <a:lnTo>
                          <a:pt x="87" y="64"/>
                        </a:lnTo>
                        <a:lnTo>
                          <a:pt x="91" y="64"/>
                        </a:lnTo>
                        <a:lnTo>
                          <a:pt x="106" y="70"/>
                        </a:lnTo>
                        <a:lnTo>
                          <a:pt x="134" y="74"/>
                        </a:lnTo>
                        <a:lnTo>
                          <a:pt x="136" y="97"/>
                        </a:lnTo>
                        <a:lnTo>
                          <a:pt x="143" y="101"/>
                        </a:lnTo>
                        <a:lnTo>
                          <a:pt x="141" y="109"/>
                        </a:lnTo>
                        <a:lnTo>
                          <a:pt x="159" y="121"/>
                        </a:lnTo>
                        <a:lnTo>
                          <a:pt x="173" y="126"/>
                        </a:lnTo>
                        <a:lnTo>
                          <a:pt x="173" y="165"/>
                        </a:lnTo>
                        <a:lnTo>
                          <a:pt x="182" y="180"/>
                        </a:lnTo>
                        <a:lnTo>
                          <a:pt x="177" y="184"/>
                        </a:lnTo>
                        <a:lnTo>
                          <a:pt x="166" y="186"/>
                        </a:lnTo>
                        <a:lnTo>
                          <a:pt x="165" y="173"/>
                        </a:lnTo>
                        <a:lnTo>
                          <a:pt x="148" y="186"/>
                        </a:lnTo>
                        <a:lnTo>
                          <a:pt x="136" y="167"/>
                        </a:lnTo>
                        <a:lnTo>
                          <a:pt x="130" y="153"/>
                        </a:lnTo>
                        <a:lnTo>
                          <a:pt x="109" y="134"/>
                        </a:lnTo>
                        <a:lnTo>
                          <a:pt x="105" y="134"/>
                        </a:lnTo>
                        <a:lnTo>
                          <a:pt x="86" y="124"/>
                        </a:lnTo>
                        <a:lnTo>
                          <a:pt x="82" y="114"/>
                        </a:lnTo>
                        <a:lnTo>
                          <a:pt x="82" y="107"/>
                        </a:lnTo>
                        <a:lnTo>
                          <a:pt x="68" y="81"/>
                        </a:lnTo>
                        <a:lnTo>
                          <a:pt x="60" y="64"/>
                        </a:lnTo>
                        <a:lnTo>
                          <a:pt x="42" y="48"/>
                        </a:lnTo>
                        <a:lnTo>
                          <a:pt x="16" y="25"/>
                        </a:lnTo>
                        <a:lnTo>
                          <a:pt x="0" y="5"/>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72" name=""/>
                  <p:cNvSpPr/>
                  <p:nvPr/>
                </p:nvSpPr>
                <p:spPr>
                  <a:xfrm>
                    <a:off x="7514640" y="3575160"/>
                    <a:ext cx="332280" cy="460800"/>
                  </a:xfrm>
                  <a:custGeom>
                    <a:avLst/>
                    <a:gdLst/>
                    <a:ahLst/>
                    <a:rect l="l" t="t" r="r" b="b"/>
                    <a:pathLst>
                      <a:path w="177" h="208">
                        <a:moveTo>
                          <a:pt x="11" y="0"/>
                        </a:moveTo>
                        <a:lnTo>
                          <a:pt x="26" y="0"/>
                        </a:lnTo>
                        <a:lnTo>
                          <a:pt x="44" y="22"/>
                        </a:lnTo>
                        <a:lnTo>
                          <a:pt x="41" y="42"/>
                        </a:lnTo>
                        <a:lnTo>
                          <a:pt x="50" y="49"/>
                        </a:lnTo>
                        <a:lnTo>
                          <a:pt x="56" y="62"/>
                        </a:lnTo>
                        <a:lnTo>
                          <a:pt x="68" y="69"/>
                        </a:lnTo>
                        <a:lnTo>
                          <a:pt x="82" y="71"/>
                        </a:lnTo>
                        <a:lnTo>
                          <a:pt x="101" y="81"/>
                        </a:lnTo>
                        <a:lnTo>
                          <a:pt x="115" y="95"/>
                        </a:lnTo>
                        <a:lnTo>
                          <a:pt x="118" y="95"/>
                        </a:lnTo>
                        <a:lnTo>
                          <a:pt x="136" y="105"/>
                        </a:lnTo>
                        <a:lnTo>
                          <a:pt x="136" y="130"/>
                        </a:lnTo>
                        <a:lnTo>
                          <a:pt x="140" y="141"/>
                        </a:lnTo>
                        <a:lnTo>
                          <a:pt x="145" y="149"/>
                        </a:lnTo>
                        <a:lnTo>
                          <a:pt x="152" y="155"/>
                        </a:lnTo>
                        <a:lnTo>
                          <a:pt x="158" y="163"/>
                        </a:lnTo>
                        <a:lnTo>
                          <a:pt x="163" y="174"/>
                        </a:lnTo>
                        <a:lnTo>
                          <a:pt x="176" y="182"/>
                        </a:lnTo>
                        <a:lnTo>
                          <a:pt x="174" y="192"/>
                        </a:lnTo>
                        <a:lnTo>
                          <a:pt x="160" y="194"/>
                        </a:lnTo>
                        <a:lnTo>
                          <a:pt x="156" y="186"/>
                        </a:lnTo>
                        <a:lnTo>
                          <a:pt x="145" y="186"/>
                        </a:lnTo>
                        <a:lnTo>
                          <a:pt x="145" y="207"/>
                        </a:lnTo>
                        <a:lnTo>
                          <a:pt x="138" y="207"/>
                        </a:lnTo>
                        <a:lnTo>
                          <a:pt x="127" y="197"/>
                        </a:lnTo>
                        <a:lnTo>
                          <a:pt x="119" y="192"/>
                        </a:lnTo>
                        <a:lnTo>
                          <a:pt x="119" y="180"/>
                        </a:lnTo>
                        <a:lnTo>
                          <a:pt x="104" y="180"/>
                        </a:lnTo>
                        <a:lnTo>
                          <a:pt x="100" y="192"/>
                        </a:lnTo>
                        <a:lnTo>
                          <a:pt x="95" y="180"/>
                        </a:lnTo>
                        <a:lnTo>
                          <a:pt x="92" y="169"/>
                        </a:lnTo>
                        <a:lnTo>
                          <a:pt x="111" y="163"/>
                        </a:lnTo>
                        <a:lnTo>
                          <a:pt x="122" y="167"/>
                        </a:lnTo>
                        <a:lnTo>
                          <a:pt x="124" y="147"/>
                        </a:lnTo>
                        <a:lnTo>
                          <a:pt x="113" y="140"/>
                        </a:lnTo>
                        <a:lnTo>
                          <a:pt x="106" y="123"/>
                        </a:lnTo>
                        <a:lnTo>
                          <a:pt x="101" y="103"/>
                        </a:lnTo>
                        <a:lnTo>
                          <a:pt x="83" y="96"/>
                        </a:lnTo>
                        <a:lnTo>
                          <a:pt x="74" y="86"/>
                        </a:lnTo>
                        <a:lnTo>
                          <a:pt x="59" y="81"/>
                        </a:lnTo>
                        <a:lnTo>
                          <a:pt x="68" y="101"/>
                        </a:lnTo>
                        <a:lnTo>
                          <a:pt x="50" y="110"/>
                        </a:lnTo>
                        <a:lnTo>
                          <a:pt x="41" y="87"/>
                        </a:lnTo>
                        <a:lnTo>
                          <a:pt x="32" y="83"/>
                        </a:lnTo>
                        <a:lnTo>
                          <a:pt x="32" y="71"/>
                        </a:lnTo>
                        <a:lnTo>
                          <a:pt x="20" y="58"/>
                        </a:lnTo>
                        <a:lnTo>
                          <a:pt x="6" y="49"/>
                        </a:lnTo>
                        <a:lnTo>
                          <a:pt x="0" y="41"/>
                        </a:lnTo>
                        <a:lnTo>
                          <a:pt x="3" y="33"/>
                        </a:lnTo>
                        <a:lnTo>
                          <a:pt x="14" y="37"/>
                        </a:lnTo>
                        <a:lnTo>
                          <a:pt x="17" y="29"/>
                        </a:lnTo>
                        <a:lnTo>
                          <a:pt x="14" y="17"/>
                        </a:lnTo>
                        <a:lnTo>
                          <a:pt x="11"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73" name=""/>
                  <p:cNvSpPr/>
                  <p:nvPr/>
                </p:nvSpPr>
                <p:spPr>
                  <a:xfrm>
                    <a:off x="7437600" y="2795400"/>
                    <a:ext cx="246240" cy="394200"/>
                  </a:xfrm>
                  <a:custGeom>
                    <a:avLst/>
                    <a:gdLst/>
                    <a:ahLst/>
                    <a:rect l="l" t="t" r="r" b="b"/>
                    <a:pathLst>
                      <a:path w="131" h="178">
                        <a:moveTo>
                          <a:pt x="27" y="0"/>
                        </a:moveTo>
                        <a:lnTo>
                          <a:pt x="52" y="11"/>
                        </a:lnTo>
                        <a:lnTo>
                          <a:pt x="67" y="25"/>
                        </a:lnTo>
                        <a:lnTo>
                          <a:pt x="76" y="40"/>
                        </a:lnTo>
                        <a:lnTo>
                          <a:pt x="85" y="40"/>
                        </a:lnTo>
                        <a:lnTo>
                          <a:pt x="83" y="50"/>
                        </a:lnTo>
                        <a:lnTo>
                          <a:pt x="94" y="57"/>
                        </a:lnTo>
                        <a:lnTo>
                          <a:pt x="100" y="67"/>
                        </a:lnTo>
                        <a:lnTo>
                          <a:pt x="118" y="88"/>
                        </a:lnTo>
                        <a:lnTo>
                          <a:pt x="130" y="111"/>
                        </a:lnTo>
                        <a:lnTo>
                          <a:pt x="107" y="110"/>
                        </a:lnTo>
                        <a:lnTo>
                          <a:pt x="91" y="106"/>
                        </a:lnTo>
                        <a:lnTo>
                          <a:pt x="102" y="123"/>
                        </a:lnTo>
                        <a:lnTo>
                          <a:pt x="102" y="133"/>
                        </a:lnTo>
                        <a:lnTo>
                          <a:pt x="102" y="143"/>
                        </a:lnTo>
                        <a:lnTo>
                          <a:pt x="95" y="138"/>
                        </a:lnTo>
                        <a:lnTo>
                          <a:pt x="87" y="129"/>
                        </a:lnTo>
                        <a:lnTo>
                          <a:pt x="72" y="120"/>
                        </a:lnTo>
                        <a:lnTo>
                          <a:pt x="63" y="115"/>
                        </a:lnTo>
                        <a:lnTo>
                          <a:pt x="49" y="120"/>
                        </a:lnTo>
                        <a:lnTo>
                          <a:pt x="42" y="123"/>
                        </a:lnTo>
                        <a:lnTo>
                          <a:pt x="46" y="131"/>
                        </a:lnTo>
                        <a:lnTo>
                          <a:pt x="60" y="138"/>
                        </a:lnTo>
                        <a:lnTo>
                          <a:pt x="74" y="145"/>
                        </a:lnTo>
                        <a:lnTo>
                          <a:pt x="79" y="157"/>
                        </a:lnTo>
                        <a:lnTo>
                          <a:pt x="76" y="172"/>
                        </a:lnTo>
                        <a:lnTo>
                          <a:pt x="76" y="177"/>
                        </a:lnTo>
                        <a:lnTo>
                          <a:pt x="72" y="177"/>
                        </a:lnTo>
                        <a:lnTo>
                          <a:pt x="63" y="172"/>
                        </a:lnTo>
                        <a:lnTo>
                          <a:pt x="60" y="170"/>
                        </a:lnTo>
                        <a:lnTo>
                          <a:pt x="55" y="167"/>
                        </a:lnTo>
                        <a:lnTo>
                          <a:pt x="49" y="175"/>
                        </a:lnTo>
                        <a:lnTo>
                          <a:pt x="42" y="177"/>
                        </a:lnTo>
                        <a:lnTo>
                          <a:pt x="35" y="170"/>
                        </a:lnTo>
                        <a:lnTo>
                          <a:pt x="35" y="156"/>
                        </a:lnTo>
                        <a:lnTo>
                          <a:pt x="33" y="147"/>
                        </a:lnTo>
                        <a:lnTo>
                          <a:pt x="24" y="142"/>
                        </a:lnTo>
                        <a:lnTo>
                          <a:pt x="16" y="150"/>
                        </a:lnTo>
                        <a:lnTo>
                          <a:pt x="3" y="150"/>
                        </a:lnTo>
                        <a:lnTo>
                          <a:pt x="0" y="143"/>
                        </a:lnTo>
                        <a:lnTo>
                          <a:pt x="3" y="127"/>
                        </a:lnTo>
                        <a:lnTo>
                          <a:pt x="13" y="116"/>
                        </a:lnTo>
                        <a:lnTo>
                          <a:pt x="10" y="89"/>
                        </a:lnTo>
                        <a:lnTo>
                          <a:pt x="10" y="83"/>
                        </a:lnTo>
                        <a:lnTo>
                          <a:pt x="21" y="81"/>
                        </a:lnTo>
                        <a:lnTo>
                          <a:pt x="29" y="88"/>
                        </a:lnTo>
                        <a:lnTo>
                          <a:pt x="45" y="91"/>
                        </a:lnTo>
                        <a:lnTo>
                          <a:pt x="45" y="79"/>
                        </a:lnTo>
                        <a:lnTo>
                          <a:pt x="37" y="73"/>
                        </a:lnTo>
                        <a:lnTo>
                          <a:pt x="35" y="67"/>
                        </a:lnTo>
                        <a:lnTo>
                          <a:pt x="40" y="67"/>
                        </a:lnTo>
                        <a:lnTo>
                          <a:pt x="43" y="67"/>
                        </a:lnTo>
                        <a:lnTo>
                          <a:pt x="46" y="67"/>
                        </a:lnTo>
                        <a:lnTo>
                          <a:pt x="49" y="67"/>
                        </a:lnTo>
                        <a:lnTo>
                          <a:pt x="55" y="62"/>
                        </a:lnTo>
                        <a:lnTo>
                          <a:pt x="54" y="57"/>
                        </a:lnTo>
                        <a:lnTo>
                          <a:pt x="48" y="46"/>
                        </a:lnTo>
                        <a:lnTo>
                          <a:pt x="37" y="34"/>
                        </a:lnTo>
                        <a:lnTo>
                          <a:pt x="24" y="27"/>
                        </a:lnTo>
                        <a:lnTo>
                          <a:pt x="19" y="17"/>
                        </a:lnTo>
                        <a:lnTo>
                          <a:pt x="27"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74" name=""/>
                  <p:cNvSpPr/>
                  <p:nvPr/>
                </p:nvSpPr>
                <p:spPr>
                  <a:xfrm>
                    <a:off x="7157520" y="2325600"/>
                    <a:ext cx="268560" cy="320760"/>
                  </a:xfrm>
                  <a:custGeom>
                    <a:avLst/>
                    <a:gdLst/>
                    <a:ahLst/>
                    <a:rect l="l" t="t" r="r" b="b"/>
                    <a:pathLst>
                      <a:path w="143" h="145">
                        <a:moveTo>
                          <a:pt x="0" y="0"/>
                        </a:moveTo>
                        <a:lnTo>
                          <a:pt x="14" y="0"/>
                        </a:lnTo>
                        <a:lnTo>
                          <a:pt x="18" y="10"/>
                        </a:lnTo>
                        <a:lnTo>
                          <a:pt x="36" y="25"/>
                        </a:lnTo>
                        <a:lnTo>
                          <a:pt x="46" y="42"/>
                        </a:lnTo>
                        <a:lnTo>
                          <a:pt x="59" y="44"/>
                        </a:lnTo>
                        <a:lnTo>
                          <a:pt x="69" y="48"/>
                        </a:lnTo>
                        <a:lnTo>
                          <a:pt x="78" y="54"/>
                        </a:lnTo>
                        <a:lnTo>
                          <a:pt x="87" y="54"/>
                        </a:lnTo>
                        <a:lnTo>
                          <a:pt x="99" y="65"/>
                        </a:lnTo>
                        <a:lnTo>
                          <a:pt x="110" y="73"/>
                        </a:lnTo>
                        <a:lnTo>
                          <a:pt x="121" y="78"/>
                        </a:lnTo>
                        <a:lnTo>
                          <a:pt x="120" y="83"/>
                        </a:lnTo>
                        <a:lnTo>
                          <a:pt x="112" y="86"/>
                        </a:lnTo>
                        <a:lnTo>
                          <a:pt x="106" y="86"/>
                        </a:lnTo>
                        <a:lnTo>
                          <a:pt x="102" y="92"/>
                        </a:lnTo>
                        <a:lnTo>
                          <a:pt x="117" y="102"/>
                        </a:lnTo>
                        <a:lnTo>
                          <a:pt x="126" y="112"/>
                        </a:lnTo>
                        <a:lnTo>
                          <a:pt x="142" y="122"/>
                        </a:lnTo>
                        <a:lnTo>
                          <a:pt x="132" y="134"/>
                        </a:lnTo>
                        <a:lnTo>
                          <a:pt x="123" y="137"/>
                        </a:lnTo>
                        <a:lnTo>
                          <a:pt x="125" y="144"/>
                        </a:lnTo>
                        <a:lnTo>
                          <a:pt x="110" y="144"/>
                        </a:lnTo>
                        <a:lnTo>
                          <a:pt x="105" y="139"/>
                        </a:lnTo>
                        <a:lnTo>
                          <a:pt x="93" y="125"/>
                        </a:lnTo>
                        <a:lnTo>
                          <a:pt x="84" y="113"/>
                        </a:lnTo>
                        <a:lnTo>
                          <a:pt x="71" y="94"/>
                        </a:lnTo>
                        <a:lnTo>
                          <a:pt x="55" y="78"/>
                        </a:lnTo>
                        <a:lnTo>
                          <a:pt x="39" y="56"/>
                        </a:lnTo>
                        <a:lnTo>
                          <a:pt x="29" y="49"/>
                        </a:lnTo>
                        <a:lnTo>
                          <a:pt x="20" y="44"/>
                        </a:lnTo>
                        <a:lnTo>
                          <a:pt x="17" y="32"/>
                        </a:lnTo>
                        <a:lnTo>
                          <a:pt x="2" y="22"/>
                        </a:lnTo>
                        <a:lnTo>
                          <a:pt x="2" y="15"/>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 name=""/>
                <p:cNvGrpSpPr/>
                <p:nvPr/>
              </p:nvGrpSpPr>
              <p:grpSpPr>
                <a:xfrm>
                  <a:off x="3647520" y="1671840"/>
                  <a:ext cx="3921480" cy="3729600"/>
                  <a:chOff x="3647520" y="1671840"/>
                  <a:chExt cx="3921480" cy="3729600"/>
                </a:xfrm>
              </p:grpSpPr>
              <p:sp>
                <p:nvSpPr>
                  <p:cNvPr id="76" name=""/>
                  <p:cNvSpPr/>
                  <p:nvPr/>
                </p:nvSpPr>
                <p:spPr>
                  <a:xfrm>
                    <a:off x="3647520" y="2979360"/>
                    <a:ext cx="1951200" cy="2422080"/>
                  </a:xfrm>
                  <a:custGeom>
                    <a:avLst/>
                    <a:gdLst/>
                    <a:ahLst/>
                    <a:rect l="l" t="t" r="r" b="b"/>
                    <a:pathLst>
                      <a:path w="1038" h="1093">
                        <a:moveTo>
                          <a:pt x="775" y="130"/>
                        </a:moveTo>
                        <a:lnTo>
                          <a:pt x="793" y="176"/>
                        </a:lnTo>
                        <a:lnTo>
                          <a:pt x="824" y="246"/>
                        </a:lnTo>
                        <a:lnTo>
                          <a:pt x="888" y="357"/>
                        </a:lnTo>
                        <a:lnTo>
                          <a:pt x="913" y="372"/>
                        </a:lnTo>
                        <a:lnTo>
                          <a:pt x="927" y="404"/>
                        </a:lnTo>
                        <a:lnTo>
                          <a:pt x="979" y="402"/>
                        </a:lnTo>
                        <a:lnTo>
                          <a:pt x="1013" y="393"/>
                        </a:lnTo>
                        <a:lnTo>
                          <a:pt x="1037" y="393"/>
                        </a:lnTo>
                        <a:lnTo>
                          <a:pt x="1034" y="437"/>
                        </a:lnTo>
                        <a:lnTo>
                          <a:pt x="1027" y="460"/>
                        </a:lnTo>
                        <a:lnTo>
                          <a:pt x="932" y="558"/>
                        </a:lnTo>
                        <a:lnTo>
                          <a:pt x="848" y="659"/>
                        </a:lnTo>
                        <a:lnTo>
                          <a:pt x="850" y="698"/>
                        </a:lnTo>
                        <a:lnTo>
                          <a:pt x="873" y="727"/>
                        </a:lnTo>
                        <a:lnTo>
                          <a:pt x="861" y="748"/>
                        </a:lnTo>
                        <a:lnTo>
                          <a:pt x="869" y="779"/>
                        </a:lnTo>
                        <a:lnTo>
                          <a:pt x="861" y="802"/>
                        </a:lnTo>
                        <a:lnTo>
                          <a:pt x="840" y="820"/>
                        </a:lnTo>
                        <a:lnTo>
                          <a:pt x="824" y="820"/>
                        </a:lnTo>
                        <a:lnTo>
                          <a:pt x="795" y="852"/>
                        </a:lnTo>
                        <a:lnTo>
                          <a:pt x="770" y="889"/>
                        </a:lnTo>
                        <a:lnTo>
                          <a:pt x="775" y="930"/>
                        </a:lnTo>
                        <a:lnTo>
                          <a:pt x="749" y="949"/>
                        </a:lnTo>
                        <a:lnTo>
                          <a:pt x="726" y="991"/>
                        </a:lnTo>
                        <a:lnTo>
                          <a:pt x="697" y="1030"/>
                        </a:lnTo>
                        <a:lnTo>
                          <a:pt x="681" y="1045"/>
                        </a:lnTo>
                        <a:lnTo>
                          <a:pt x="668" y="1048"/>
                        </a:lnTo>
                        <a:lnTo>
                          <a:pt x="644" y="1073"/>
                        </a:lnTo>
                        <a:lnTo>
                          <a:pt x="605" y="1088"/>
                        </a:lnTo>
                        <a:lnTo>
                          <a:pt x="556" y="1092"/>
                        </a:lnTo>
                        <a:lnTo>
                          <a:pt x="529" y="1075"/>
                        </a:lnTo>
                        <a:lnTo>
                          <a:pt x="525" y="1058"/>
                        </a:lnTo>
                        <a:lnTo>
                          <a:pt x="521" y="1036"/>
                        </a:lnTo>
                        <a:lnTo>
                          <a:pt x="502" y="1024"/>
                        </a:lnTo>
                        <a:lnTo>
                          <a:pt x="486" y="982"/>
                        </a:lnTo>
                        <a:lnTo>
                          <a:pt x="482" y="962"/>
                        </a:lnTo>
                        <a:lnTo>
                          <a:pt x="480" y="937"/>
                        </a:lnTo>
                        <a:lnTo>
                          <a:pt x="471" y="918"/>
                        </a:lnTo>
                        <a:lnTo>
                          <a:pt x="470" y="906"/>
                        </a:lnTo>
                        <a:lnTo>
                          <a:pt x="455" y="887"/>
                        </a:lnTo>
                        <a:lnTo>
                          <a:pt x="437" y="872"/>
                        </a:lnTo>
                        <a:lnTo>
                          <a:pt x="425" y="847"/>
                        </a:lnTo>
                        <a:lnTo>
                          <a:pt x="418" y="829"/>
                        </a:lnTo>
                        <a:lnTo>
                          <a:pt x="420" y="798"/>
                        </a:lnTo>
                        <a:lnTo>
                          <a:pt x="445" y="752"/>
                        </a:lnTo>
                        <a:lnTo>
                          <a:pt x="451" y="703"/>
                        </a:lnTo>
                        <a:lnTo>
                          <a:pt x="432" y="648"/>
                        </a:lnTo>
                        <a:lnTo>
                          <a:pt x="405" y="626"/>
                        </a:lnTo>
                        <a:lnTo>
                          <a:pt x="386" y="595"/>
                        </a:lnTo>
                        <a:lnTo>
                          <a:pt x="393" y="547"/>
                        </a:lnTo>
                        <a:lnTo>
                          <a:pt x="380" y="512"/>
                        </a:lnTo>
                        <a:lnTo>
                          <a:pt x="347" y="509"/>
                        </a:lnTo>
                        <a:lnTo>
                          <a:pt x="314" y="482"/>
                        </a:lnTo>
                        <a:lnTo>
                          <a:pt x="270" y="466"/>
                        </a:lnTo>
                        <a:lnTo>
                          <a:pt x="227" y="491"/>
                        </a:lnTo>
                        <a:lnTo>
                          <a:pt x="111" y="484"/>
                        </a:lnTo>
                        <a:lnTo>
                          <a:pt x="49" y="425"/>
                        </a:lnTo>
                        <a:lnTo>
                          <a:pt x="0" y="344"/>
                        </a:lnTo>
                        <a:lnTo>
                          <a:pt x="8" y="317"/>
                        </a:lnTo>
                        <a:lnTo>
                          <a:pt x="30" y="296"/>
                        </a:lnTo>
                        <a:lnTo>
                          <a:pt x="41" y="240"/>
                        </a:lnTo>
                        <a:lnTo>
                          <a:pt x="56" y="200"/>
                        </a:lnTo>
                        <a:lnTo>
                          <a:pt x="99" y="157"/>
                        </a:lnTo>
                        <a:lnTo>
                          <a:pt x="145" y="139"/>
                        </a:lnTo>
                        <a:lnTo>
                          <a:pt x="188" y="95"/>
                        </a:lnTo>
                        <a:lnTo>
                          <a:pt x="198" y="76"/>
                        </a:lnTo>
                        <a:lnTo>
                          <a:pt x="254" y="29"/>
                        </a:lnTo>
                        <a:lnTo>
                          <a:pt x="290" y="47"/>
                        </a:lnTo>
                        <a:lnTo>
                          <a:pt x="315" y="46"/>
                        </a:lnTo>
                        <a:lnTo>
                          <a:pt x="345" y="20"/>
                        </a:lnTo>
                        <a:lnTo>
                          <a:pt x="381" y="18"/>
                        </a:lnTo>
                        <a:lnTo>
                          <a:pt x="405" y="24"/>
                        </a:lnTo>
                        <a:lnTo>
                          <a:pt x="426" y="4"/>
                        </a:lnTo>
                        <a:lnTo>
                          <a:pt x="456" y="0"/>
                        </a:lnTo>
                        <a:lnTo>
                          <a:pt x="463" y="37"/>
                        </a:lnTo>
                        <a:lnTo>
                          <a:pt x="482" y="64"/>
                        </a:lnTo>
                        <a:lnTo>
                          <a:pt x="534" y="91"/>
                        </a:lnTo>
                        <a:lnTo>
                          <a:pt x="578" y="97"/>
                        </a:lnTo>
                        <a:lnTo>
                          <a:pt x="584" y="66"/>
                        </a:lnTo>
                        <a:lnTo>
                          <a:pt x="617" y="66"/>
                        </a:lnTo>
                        <a:lnTo>
                          <a:pt x="658" y="85"/>
                        </a:lnTo>
                        <a:lnTo>
                          <a:pt x="702" y="95"/>
                        </a:lnTo>
                        <a:lnTo>
                          <a:pt x="741" y="83"/>
                        </a:lnTo>
                        <a:lnTo>
                          <a:pt x="775" y="13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77" name=""/>
                  <p:cNvGrpSpPr/>
                  <p:nvPr/>
                </p:nvGrpSpPr>
                <p:grpSpPr>
                  <a:xfrm>
                    <a:off x="3782520" y="1671840"/>
                    <a:ext cx="860760" cy="832320"/>
                    <a:chOff x="3782520" y="1671840"/>
                    <a:chExt cx="860760" cy="832320"/>
                  </a:xfrm>
                </p:grpSpPr>
                <p:grpSp>
                  <p:nvGrpSpPr>
                    <p:cNvPr id="78" name=""/>
                    <p:cNvGrpSpPr/>
                    <p:nvPr/>
                  </p:nvGrpSpPr>
                  <p:grpSpPr>
                    <a:xfrm>
                      <a:off x="4124520" y="2190240"/>
                      <a:ext cx="266400" cy="313920"/>
                      <a:chOff x="4124520" y="2190240"/>
                      <a:chExt cx="266400" cy="313920"/>
                    </a:xfrm>
                  </p:grpSpPr>
                  <p:sp>
                    <p:nvSpPr>
                      <p:cNvPr id="79" name=""/>
                      <p:cNvSpPr/>
                      <p:nvPr/>
                    </p:nvSpPr>
                    <p:spPr>
                      <a:xfrm>
                        <a:off x="4124520" y="2309400"/>
                        <a:ext cx="129240" cy="170280"/>
                      </a:xfrm>
                      <a:custGeom>
                        <a:avLst/>
                        <a:gdLst/>
                        <a:ahLst/>
                        <a:rect l="l" t="t" r="r" b="b"/>
                        <a:pathLst>
                          <a:path w="69" h="77">
                            <a:moveTo>
                              <a:pt x="15" y="23"/>
                            </a:moveTo>
                            <a:lnTo>
                              <a:pt x="21" y="15"/>
                            </a:lnTo>
                            <a:lnTo>
                              <a:pt x="33" y="15"/>
                            </a:lnTo>
                            <a:lnTo>
                              <a:pt x="50" y="0"/>
                            </a:lnTo>
                            <a:lnTo>
                              <a:pt x="55" y="10"/>
                            </a:lnTo>
                            <a:lnTo>
                              <a:pt x="63" y="10"/>
                            </a:lnTo>
                            <a:lnTo>
                              <a:pt x="68" y="15"/>
                            </a:lnTo>
                            <a:lnTo>
                              <a:pt x="63" y="23"/>
                            </a:lnTo>
                            <a:lnTo>
                              <a:pt x="55" y="27"/>
                            </a:lnTo>
                            <a:lnTo>
                              <a:pt x="55" y="33"/>
                            </a:lnTo>
                            <a:lnTo>
                              <a:pt x="53" y="37"/>
                            </a:lnTo>
                            <a:lnTo>
                              <a:pt x="52" y="41"/>
                            </a:lnTo>
                            <a:lnTo>
                              <a:pt x="55" y="48"/>
                            </a:lnTo>
                            <a:lnTo>
                              <a:pt x="50" y="55"/>
                            </a:lnTo>
                            <a:lnTo>
                              <a:pt x="45" y="58"/>
                            </a:lnTo>
                            <a:lnTo>
                              <a:pt x="39" y="58"/>
                            </a:lnTo>
                            <a:lnTo>
                              <a:pt x="37" y="60"/>
                            </a:lnTo>
                            <a:lnTo>
                              <a:pt x="36" y="64"/>
                            </a:lnTo>
                            <a:lnTo>
                              <a:pt x="28" y="66"/>
                            </a:lnTo>
                            <a:lnTo>
                              <a:pt x="25" y="64"/>
                            </a:lnTo>
                            <a:lnTo>
                              <a:pt x="19" y="70"/>
                            </a:lnTo>
                            <a:lnTo>
                              <a:pt x="17" y="71"/>
                            </a:lnTo>
                            <a:lnTo>
                              <a:pt x="8" y="76"/>
                            </a:lnTo>
                            <a:lnTo>
                              <a:pt x="5" y="76"/>
                            </a:lnTo>
                            <a:lnTo>
                              <a:pt x="4" y="73"/>
                            </a:lnTo>
                            <a:lnTo>
                              <a:pt x="2" y="64"/>
                            </a:lnTo>
                            <a:lnTo>
                              <a:pt x="0" y="63"/>
                            </a:lnTo>
                            <a:lnTo>
                              <a:pt x="0" y="56"/>
                            </a:lnTo>
                            <a:lnTo>
                              <a:pt x="5" y="53"/>
                            </a:lnTo>
                            <a:lnTo>
                              <a:pt x="10" y="49"/>
                            </a:lnTo>
                            <a:lnTo>
                              <a:pt x="14" y="43"/>
                            </a:lnTo>
                            <a:lnTo>
                              <a:pt x="19" y="43"/>
                            </a:lnTo>
                            <a:lnTo>
                              <a:pt x="22" y="45"/>
                            </a:lnTo>
                            <a:lnTo>
                              <a:pt x="28" y="43"/>
                            </a:lnTo>
                            <a:lnTo>
                              <a:pt x="22" y="41"/>
                            </a:lnTo>
                            <a:lnTo>
                              <a:pt x="15" y="23"/>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0" name=""/>
                      <p:cNvSpPr/>
                      <p:nvPr/>
                    </p:nvSpPr>
                    <p:spPr>
                      <a:xfrm>
                        <a:off x="4240800" y="2190240"/>
                        <a:ext cx="150120" cy="313920"/>
                      </a:xfrm>
                      <a:custGeom>
                        <a:avLst/>
                        <a:gdLst/>
                        <a:ahLst/>
                        <a:rect l="l" t="t" r="r" b="b"/>
                        <a:pathLst>
                          <a:path w="80" h="142">
                            <a:moveTo>
                              <a:pt x="24" y="21"/>
                            </a:moveTo>
                            <a:lnTo>
                              <a:pt x="29" y="16"/>
                            </a:lnTo>
                            <a:lnTo>
                              <a:pt x="45" y="18"/>
                            </a:lnTo>
                            <a:lnTo>
                              <a:pt x="48" y="14"/>
                            </a:lnTo>
                            <a:lnTo>
                              <a:pt x="51" y="8"/>
                            </a:lnTo>
                            <a:lnTo>
                              <a:pt x="56" y="8"/>
                            </a:lnTo>
                            <a:lnTo>
                              <a:pt x="58" y="7"/>
                            </a:lnTo>
                            <a:lnTo>
                              <a:pt x="63" y="4"/>
                            </a:lnTo>
                            <a:lnTo>
                              <a:pt x="70" y="0"/>
                            </a:lnTo>
                            <a:lnTo>
                              <a:pt x="79" y="2"/>
                            </a:lnTo>
                            <a:lnTo>
                              <a:pt x="76" y="8"/>
                            </a:lnTo>
                            <a:lnTo>
                              <a:pt x="74" y="14"/>
                            </a:lnTo>
                            <a:lnTo>
                              <a:pt x="70" y="16"/>
                            </a:lnTo>
                            <a:lnTo>
                              <a:pt x="67" y="18"/>
                            </a:lnTo>
                            <a:lnTo>
                              <a:pt x="56" y="21"/>
                            </a:lnTo>
                            <a:lnTo>
                              <a:pt x="56" y="27"/>
                            </a:lnTo>
                            <a:lnTo>
                              <a:pt x="58" y="31"/>
                            </a:lnTo>
                            <a:lnTo>
                              <a:pt x="69" y="27"/>
                            </a:lnTo>
                            <a:lnTo>
                              <a:pt x="76" y="24"/>
                            </a:lnTo>
                            <a:lnTo>
                              <a:pt x="79" y="27"/>
                            </a:lnTo>
                            <a:lnTo>
                              <a:pt x="79" y="37"/>
                            </a:lnTo>
                            <a:lnTo>
                              <a:pt x="72" y="39"/>
                            </a:lnTo>
                            <a:lnTo>
                              <a:pt x="66" y="39"/>
                            </a:lnTo>
                            <a:lnTo>
                              <a:pt x="60" y="45"/>
                            </a:lnTo>
                            <a:lnTo>
                              <a:pt x="58" y="48"/>
                            </a:lnTo>
                            <a:lnTo>
                              <a:pt x="58" y="53"/>
                            </a:lnTo>
                            <a:lnTo>
                              <a:pt x="63" y="60"/>
                            </a:lnTo>
                            <a:lnTo>
                              <a:pt x="69" y="64"/>
                            </a:lnTo>
                            <a:lnTo>
                              <a:pt x="72" y="70"/>
                            </a:lnTo>
                            <a:lnTo>
                              <a:pt x="74" y="77"/>
                            </a:lnTo>
                            <a:lnTo>
                              <a:pt x="75" y="83"/>
                            </a:lnTo>
                            <a:lnTo>
                              <a:pt x="79" y="92"/>
                            </a:lnTo>
                            <a:lnTo>
                              <a:pt x="79" y="104"/>
                            </a:lnTo>
                            <a:lnTo>
                              <a:pt x="75" y="110"/>
                            </a:lnTo>
                            <a:lnTo>
                              <a:pt x="69" y="116"/>
                            </a:lnTo>
                            <a:lnTo>
                              <a:pt x="67" y="119"/>
                            </a:lnTo>
                            <a:lnTo>
                              <a:pt x="70" y="126"/>
                            </a:lnTo>
                            <a:lnTo>
                              <a:pt x="74" y="133"/>
                            </a:lnTo>
                            <a:lnTo>
                              <a:pt x="63" y="133"/>
                            </a:lnTo>
                            <a:lnTo>
                              <a:pt x="56" y="133"/>
                            </a:lnTo>
                            <a:lnTo>
                              <a:pt x="51" y="131"/>
                            </a:lnTo>
                            <a:lnTo>
                              <a:pt x="45" y="131"/>
                            </a:lnTo>
                            <a:lnTo>
                              <a:pt x="36" y="133"/>
                            </a:lnTo>
                            <a:lnTo>
                              <a:pt x="29" y="136"/>
                            </a:lnTo>
                            <a:lnTo>
                              <a:pt x="24" y="136"/>
                            </a:lnTo>
                            <a:lnTo>
                              <a:pt x="21" y="137"/>
                            </a:lnTo>
                            <a:lnTo>
                              <a:pt x="12" y="141"/>
                            </a:lnTo>
                            <a:lnTo>
                              <a:pt x="10" y="139"/>
                            </a:lnTo>
                            <a:lnTo>
                              <a:pt x="8" y="136"/>
                            </a:lnTo>
                            <a:lnTo>
                              <a:pt x="3" y="134"/>
                            </a:lnTo>
                            <a:lnTo>
                              <a:pt x="0" y="133"/>
                            </a:lnTo>
                            <a:lnTo>
                              <a:pt x="0" y="126"/>
                            </a:lnTo>
                            <a:lnTo>
                              <a:pt x="3" y="118"/>
                            </a:lnTo>
                            <a:lnTo>
                              <a:pt x="8" y="118"/>
                            </a:lnTo>
                            <a:lnTo>
                              <a:pt x="12" y="116"/>
                            </a:lnTo>
                            <a:lnTo>
                              <a:pt x="19" y="116"/>
                            </a:lnTo>
                            <a:lnTo>
                              <a:pt x="19" y="114"/>
                            </a:lnTo>
                            <a:lnTo>
                              <a:pt x="12" y="110"/>
                            </a:lnTo>
                            <a:lnTo>
                              <a:pt x="12" y="106"/>
                            </a:lnTo>
                            <a:lnTo>
                              <a:pt x="12" y="102"/>
                            </a:lnTo>
                            <a:lnTo>
                              <a:pt x="19" y="99"/>
                            </a:lnTo>
                            <a:lnTo>
                              <a:pt x="22" y="97"/>
                            </a:lnTo>
                            <a:lnTo>
                              <a:pt x="27" y="95"/>
                            </a:lnTo>
                            <a:lnTo>
                              <a:pt x="31" y="95"/>
                            </a:lnTo>
                            <a:lnTo>
                              <a:pt x="35" y="93"/>
                            </a:lnTo>
                            <a:lnTo>
                              <a:pt x="36" y="80"/>
                            </a:lnTo>
                            <a:lnTo>
                              <a:pt x="42" y="70"/>
                            </a:lnTo>
                            <a:lnTo>
                              <a:pt x="42" y="64"/>
                            </a:lnTo>
                            <a:lnTo>
                              <a:pt x="29" y="63"/>
                            </a:lnTo>
                            <a:lnTo>
                              <a:pt x="33" y="54"/>
                            </a:lnTo>
                            <a:lnTo>
                              <a:pt x="24" y="49"/>
                            </a:lnTo>
                            <a:lnTo>
                              <a:pt x="16" y="51"/>
                            </a:lnTo>
                            <a:lnTo>
                              <a:pt x="27" y="39"/>
                            </a:lnTo>
                            <a:lnTo>
                              <a:pt x="24" y="21"/>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81" name=""/>
                    <p:cNvSpPr/>
                    <p:nvPr/>
                  </p:nvSpPr>
                  <p:spPr>
                    <a:xfrm>
                      <a:off x="3782520" y="1671840"/>
                      <a:ext cx="860760" cy="522720"/>
                    </a:xfrm>
                    <a:custGeom>
                      <a:avLst/>
                      <a:gdLst/>
                      <a:ahLst/>
                      <a:rect l="l" t="t" r="r" b="b"/>
                      <a:pathLst>
                        <a:path w="458" h="236">
                          <a:moveTo>
                            <a:pt x="0" y="235"/>
                          </a:moveTo>
                          <a:lnTo>
                            <a:pt x="28" y="230"/>
                          </a:lnTo>
                          <a:lnTo>
                            <a:pt x="37" y="220"/>
                          </a:lnTo>
                          <a:lnTo>
                            <a:pt x="45" y="214"/>
                          </a:lnTo>
                          <a:lnTo>
                            <a:pt x="48" y="208"/>
                          </a:lnTo>
                          <a:lnTo>
                            <a:pt x="56" y="208"/>
                          </a:lnTo>
                          <a:lnTo>
                            <a:pt x="62" y="204"/>
                          </a:lnTo>
                          <a:lnTo>
                            <a:pt x="70" y="204"/>
                          </a:lnTo>
                          <a:lnTo>
                            <a:pt x="75" y="204"/>
                          </a:lnTo>
                          <a:lnTo>
                            <a:pt x="82" y="204"/>
                          </a:lnTo>
                          <a:lnTo>
                            <a:pt x="85" y="204"/>
                          </a:lnTo>
                          <a:lnTo>
                            <a:pt x="93" y="196"/>
                          </a:lnTo>
                          <a:lnTo>
                            <a:pt x="96" y="192"/>
                          </a:lnTo>
                          <a:lnTo>
                            <a:pt x="103" y="187"/>
                          </a:lnTo>
                          <a:lnTo>
                            <a:pt x="111" y="185"/>
                          </a:lnTo>
                          <a:lnTo>
                            <a:pt x="115" y="181"/>
                          </a:lnTo>
                          <a:lnTo>
                            <a:pt x="122" y="179"/>
                          </a:lnTo>
                          <a:lnTo>
                            <a:pt x="128" y="177"/>
                          </a:lnTo>
                          <a:lnTo>
                            <a:pt x="135" y="173"/>
                          </a:lnTo>
                          <a:lnTo>
                            <a:pt x="141" y="169"/>
                          </a:lnTo>
                          <a:lnTo>
                            <a:pt x="149" y="165"/>
                          </a:lnTo>
                          <a:lnTo>
                            <a:pt x="159" y="167"/>
                          </a:lnTo>
                          <a:lnTo>
                            <a:pt x="172" y="169"/>
                          </a:lnTo>
                          <a:lnTo>
                            <a:pt x="186" y="169"/>
                          </a:lnTo>
                          <a:lnTo>
                            <a:pt x="201" y="165"/>
                          </a:lnTo>
                          <a:lnTo>
                            <a:pt x="207" y="163"/>
                          </a:lnTo>
                          <a:lnTo>
                            <a:pt x="213" y="153"/>
                          </a:lnTo>
                          <a:lnTo>
                            <a:pt x="219" y="146"/>
                          </a:lnTo>
                          <a:lnTo>
                            <a:pt x="231" y="138"/>
                          </a:lnTo>
                          <a:lnTo>
                            <a:pt x="234" y="132"/>
                          </a:lnTo>
                          <a:lnTo>
                            <a:pt x="234" y="126"/>
                          </a:lnTo>
                          <a:lnTo>
                            <a:pt x="244" y="121"/>
                          </a:lnTo>
                          <a:lnTo>
                            <a:pt x="250" y="116"/>
                          </a:lnTo>
                          <a:lnTo>
                            <a:pt x="253" y="111"/>
                          </a:lnTo>
                          <a:lnTo>
                            <a:pt x="256" y="109"/>
                          </a:lnTo>
                          <a:lnTo>
                            <a:pt x="273" y="99"/>
                          </a:lnTo>
                          <a:lnTo>
                            <a:pt x="273" y="109"/>
                          </a:lnTo>
                          <a:lnTo>
                            <a:pt x="270" y="115"/>
                          </a:lnTo>
                          <a:lnTo>
                            <a:pt x="273" y="119"/>
                          </a:lnTo>
                          <a:lnTo>
                            <a:pt x="285" y="121"/>
                          </a:lnTo>
                          <a:lnTo>
                            <a:pt x="292" y="121"/>
                          </a:lnTo>
                          <a:lnTo>
                            <a:pt x="299" y="116"/>
                          </a:lnTo>
                          <a:lnTo>
                            <a:pt x="304" y="109"/>
                          </a:lnTo>
                          <a:lnTo>
                            <a:pt x="304" y="105"/>
                          </a:lnTo>
                          <a:lnTo>
                            <a:pt x="309" y="99"/>
                          </a:lnTo>
                          <a:lnTo>
                            <a:pt x="309" y="94"/>
                          </a:lnTo>
                          <a:lnTo>
                            <a:pt x="315" y="87"/>
                          </a:lnTo>
                          <a:lnTo>
                            <a:pt x="318" y="84"/>
                          </a:lnTo>
                          <a:lnTo>
                            <a:pt x="327" y="84"/>
                          </a:lnTo>
                          <a:lnTo>
                            <a:pt x="343" y="84"/>
                          </a:lnTo>
                          <a:lnTo>
                            <a:pt x="356" y="78"/>
                          </a:lnTo>
                          <a:lnTo>
                            <a:pt x="368" y="68"/>
                          </a:lnTo>
                          <a:lnTo>
                            <a:pt x="382" y="64"/>
                          </a:lnTo>
                          <a:lnTo>
                            <a:pt x="394" y="56"/>
                          </a:lnTo>
                          <a:lnTo>
                            <a:pt x="402" y="42"/>
                          </a:lnTo>
                          <a:lnTo>
                            <a:pt x="421" y="27"/>
                          </a:lnTo>
                          <a:lnTo>
                            <a:pt x="433" y="20"/>
                          </a:lnTo>
                          <a:lnTo>
                            <a:pt x="445" y="14"/>
                          </a:lnTo>
                          <a:lnTo>
                            <a:pt x="457" y="6"/>
                          </a:lnTo>
                          <a:lnTo>
                            <a:pt x="436" y="0"/>
                          </a:lnTo>
                          <a:lnTo>
                            <a:pt x="415" y="0"/>
                          </a:lnTo>
                          <a:lnTo>
                            <a:pt x="395" y="8"/>
                          </a:lnTo>
                          <a:lnTo>
                            <a:pt x="385" y="14"/>
                          </a:lnTo>
                          <a:lnTo>
                            <a:pt x="368" y="17"/>
                          </a:lnTo>
                          <a:lnTo>
                            <a:pt x="349" y="19"/>
                          </a:lnTo>
                          <a:lnTo>
                            <a:pt x="340" y="22"/>
                          </a:lnTo>
                          <a:lnTo>
                            <a:pt x="318" y="31"/>
                          </a:lnTo>
                          <a:lnTo>
                            <a:pt x="304" y="35"/>
                          </a:lnTo>
                          <a:lnTo>
                            <a:pt x="291" y="41"/>
                          </a:lnTo>
                          <a:lnTo>
                            <a:pt x="273" y="43"/>
                          </a:lnTo>
                          <a:lnTo>
                            <a:pt x="256" y="49"/>
                          </a:lnTo>
                          <a:lnTo>
                            <a:pt x="241" y="56"/>
                          </a:lnTo>
                          <a:lnTo>
                            <a:pt x="229" y="64"/>
                          </a:lnTo>
                          <a:lnTo>
                            <a:pt x="219" y="72"/>
                          </a:lnTo>
                          <a:lnTo>
                            <a:pt x="209" y="79"/>
                          </a:lnTo>
                          <a:lnTo>
                            <a:pt x="201" y="84"/>
                          </a:lnTo>
                          <a:lnTo>
                            <a:pt x="181" y="94"/>
                          </a:lnTo>
                          <a:lnTo>
                            <a:pt x="163" y="105"/>
                          </a:lnTo>
                          <a:lnTo>
                            <a:pt x="141" y="116"/>
                          </a:lnTo>
                          <a:lnTo>
                            <a:pt x="126" y="131"/>
                          </a:lnTo>
                          <a:lnTo>
                            <a:pt x="109" y="142"/>
                          </a:lnTo>
                          <a:lnTo>
                            <a:pt x="94" y="150"/>
                          </a:lnTo>
                          <a:lnTo>
                            <a:pt x="79" y="165"/>
                          </a:lnTo>
                          <a:lnTo>
                            <a:pt x="69" y="175"/>
                          </a:lnTo>
                          <a:lnTo>
                            <a:pt x="56" y="185"/>
                          </a:lnTo>
                          <a:lnTo>
                            <a:pt x="42" y="192"/>
                          </a:lnTo>
                          <a:lnTo>
                            <a:pt x="28" y="198"/>
                          </a:lnTo>
                          <a:lnTo>
                            <a:pt x="0" y="235"/>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82" name=""/>
                  <p:cNvSpPr/>
                  <p:nvPr/>
                </p:nvSpPr>
                <p:spPr>
                  <a:xfrm>
                    <a:off x="5311080" y="4636440"/>
                    <a:ext cx="257760" cy="511920"/>
                  </a:xfrm>
                  <a:custGeom>
                    <a:avLst/>
                    <a:gdLst/>
                    <a:ahLst/>
                    <a:rect l="l" t="t" r="r" b="b"/>
                    <a:pathLst>
                      <a:path w="137" h="231">
                        <a:moveTo>
                          <a:pt x="24" y="73"/>
                        </a:moveTo>
                        <a:lnTo>
                          <a:pt x="22" y="118"/>
                        </a:lnTo>
                        <a:lnTo>
                          <a:pt x="9" y="147"/>
                        </a:lnTo>
                        <a:lnTo>
                          <a:pt x="0" y="174"/>
                        </a:lnTo>
                        <a:lnTo>
                          <a:pt x="0" y="194"/>
                        </a:lnTo>
                        <a:lnTo>
                          <a:pt x="3" y="211"/>
                        </a:lnTo>
                        <a:lnTo>
                          <a:pt x="15" y="226"/>
                        </a:lnTo>
                        <a:lnTo>
                          <a:pt x="24" y="228"/>
                        </a:lnTo>
                        <a:lnTo>
                          <a:pt x="33" y="228"/>
                        </a:lnTo>
                        <a:lnTo>
                          <a:pt x="44" y="230"/>
                        </a:lnTo>
                        <a:lnTo>
                          <a:pt x="49" y="218"/>
                        </a:lnTo>
                        <a:lnTo>
                          <a:pt x="53" y="187"/>
                        </a:lnTo>
                        <a:lnTo>
                          <a:pt x="70" y="167"/>
                        </a:lnTo>
                        <a:lnTo>
                          <a:pt x="72" y="137"/>
                        </a:lnTo>
                        <a:lnTo>
                          <a:pt x="78" y="125"/>
                        </a:lnTo>
                        <a:lnTo>
                          <a:pt x="86" y="116"/>
                        </a:lnTo>
                        <a:lnTo>
                          <a:pt x="91" y="94"/>
                        </a:lnTo>
                        <a:lnTo>
                          <a:pt x="101" y="81"/>
                        </a:lnTo>
                        <a:lnTo>
                          <a:pt x="107" y="71"/>
                        </a:lnTo>
                        <a:lnTo>
                          <a:pt x="115" y="62"/>
                        </a:lnTo>
                        <a:lnTo>
                          <a:pt x="115" y="57"/>
                        </a:lnTo>
                        <a:lnTo>
                          <a:pt x="130" y="46"/>
                        </a:lnTo>
                        <a:lnTo>
                          <a:pt x="132" y="25"/>
                        </a:lnTo>
                        <a:lnTo>
                          <a:pt x="136" y="13"/>
                        </a:lnTo>
                        <a:lnTo>
                          <a:pt x="121" y="8"/>
                        </a:lnTo>
                        <a:lnTo>
                          <a:pt x="113" y="0"/>
                        </a:lnTo>
                        <a:lnTo>
                          <a:pt x="101" y="8"/>
                        </a:lnTo>
                        <a:lnTo>
                          <a:pt x="91" y="29"/>
                        </a:lnTo>
                        <a:lnTo>
                          <a:pt x="78" y="44"/>
                        </a:lnTo>
                        <a:lnTo>
                          <a:pt x="70" y="56"/>
                        </a:lnTo>
                        <a:lnTo>
                          <a:pt x="64" y="56"/>
                        </a:lnTo>
                        <a:lnTo>
                          <a:pt x="53" y="62"/>
                        </a:lnTo>
                        <a:lnTo>
                          <a:pt x="49" y="69"/>
                        </a:lnTo>
                        <a:lnTo>
                          <a:pt x="24" y="73"/>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3" name=""/>
                  <p:cNvSpPr/>
                  <p:nvPr/>
                </p:nvSpPr>
                <p:spPr>
                  <a:xfrm>
                    <a:off x="4079520" y="1720440"/>
                    <a:ext cx="3489480" cy="2415600"/>
                  </a:xfrm>
                  <a:custGeom>
                    <a:avLst/>
                    <a:gdLst/>
                    <a:ahLst/>
                    <a:rect l="l" t="t" r="r" b="b"/>
                    <a:pathLst>
                      <a:path w="1856" h="1090">
                        <a:moveTo>
                          <a:pt x="0" y="488"/>
                        </a:moveTo>
                        <a:lnTo>
                          <a:pt x="16" y="473"/>
                        </a:lnTo>
                        <a:lnTo>
                          <a:pt x="27" y="461"/>
                        </a:lnTo>
                        <a:lnTo>
                          <a:pt x="49" y="461"/>
                        </a:lnTo>
                        <a:lnTo>
                          <a:pt x="72" y="464"/>
                        </a:lnTo>
                        <a:lnTo>
                          <a:pt x="88" y="458"/>
                        </a:lnTo>
                        <a:lnTo>
                          <a:pt x="108" y="456"/>
                        </a:lnTo>
                        <a:lnTo>
                          <a:pt x="109" y="436"/>
                        </a:lnTo>
                        <a:lnTo>
                          <a:pt x="120" y="422"/>
                        </a:lnTo>
                        <a:lnTo>
                          <a:pt x="95" y="407"/>
                        </a:lnTo>
                        <a:lnTo>
                          <a:pt x="91" y="395"/>
                        </a:lnTo>
                        <a:lnTo>
                          <a:pt x="93" y="378"/>
                        </a:lnTo>
                        <a:lnTo>
                          <a:pt x="111" y="378"/>
                        </a:lnTo>
                        <a:lnTo>
                          <a:pt x="123" y="376"/>
                        </a:lnTo>
                        <a:lnTo>
                          <a:pt x="124" y="378"/>
                        </a:lnTo>
                        <a:lnTo>
                          <a:pt x="138" y="368"/>
                        </a:lnTo>
                        <a:lnTo>
                          <a:pt x="152" y="363"/>
                        </a:lnTo>
                        <a:lnTo>
                          <a:pt x="157" y="363"/>
                        </a:lnTo>
                        <a:lnTo>
                          <a:pt x="165" y="353"/>
                        </a:lnTo>
                        <a:lnTo>
                          <a:pt x="175" y="349"/>
                        </a:lnTo>
                        <a:lnTo>
                          <a:pt x="186" y="330"/>
                        </a:lnTo>
                        <a:lnTo>
                          <a:pt x="192" y="336"/>
                        </a:lnTo>
                        <a:lnTo>
                          <a:pt x="206" y="324"/>
                        </a:lnTo>
                        <a:lnTo>
                          <a:pt x="208" y="324"/>
                        </a:lnTo>
                        <a:lnTo>
                          <a:pt x="225" y="311"/>
                        </a:lnTo>
                        <a:lnTo>
                          <a:pt x="235" y="309"/>
                        </a:lnTo>
                        <a:lnTo>
                          <a:pt x="248" y="309"/>
                        </a:lnTo>
                        <a:lnTo>
                          <a:pt x="256" y="309"/>
                        </a:lnTo>
                        <a:lnTo>
                          <a:pt x="250" y="292"/>
                        </a:lnTo>
                        <a:lnTo>
                          <a:pt x="247" y="278"/>
                        </a:lnTo>
                        <a:lnTo>
                          <a:pt x="243" y="249"/>
                        </a:lnTo>
                        <a:lnTo>
                          <a:pt x="264" y="249"/>
                        </a:lnTo>
                        <a:lnTo>
                          <a:pt x="274" y="243"/>
                        </a:lnTo>
                        <a:lnTo>
                          <a:pt x="268" y="255"/>
                        </a:lnTo>
                        <a:lnTo>
                          <a:pt x="277" y="263"/>
                        </a:lnTo>
                        <a:lnTo>
                          <a:pt x="286" y="274"/>
                        </a:lnTo>
                        <a:lnTo>
                          <a:pt x="291" y="280"/>
                        </a:lnTo>
                        <a:lnTo>
                          <a:pt x="314" y="278"/>
                        </a:lnTo>
                        <a:lnTo>
                          <a:pt x="334" y="253"/>
                        </a:lnTo>
                        <a:lnTo>
                          <a:pt x="349" y="241"/>
                        </a:lnTo>
                        <a:lnTo>
                          <a:pt x="358" y="233"/>
                        </a:lnTo>
                        <a:lnTo>
                          <a:pt x="368" y="222"/>
                        </a:lnTo>
                        <a:lnTo>
                          <a:pt x="378" y="209"/>
                        </a:lnTo>
                        <a:lnTo>
                          <a:pt x="386" y="214"/>
                        </a:lnTo>
                        <a:lnTo>
                          <a:pt x="386" y="206"/>
                        </a:lnTo>
                        <a:lnTo>
                          <a:pt x="392" y="201"/>
                        </a:lnTo>
                        <a:lnTo>
                          <a:pt x="407" y="204"/>
                        </a:lnTo>
                        <a:lnTo>
                          <a:pt x="433" y="226"/>
                        </a:lnTo>
                        <a:lnTo>
                          <a:pt x="427" y="166"/>
                        </a:lnTo>
                        <a:lnTo>
                          <a:pt x="405" y="193"/>
                        </a:lnTo>
                        <a:lnTo>
                          <a:pt x="388" y="191"/>
                        </a:lnTo>
                        <a:lnTo>
                          <a:pt x="384" y="174"/>
                        </a:lnTo>
                        <a:lnTo>
                          <a:pt x="384" y="166"/>
                        </a:lnTo>
                        <a:lnTo>
                          <a:pt x="378" y="160"/>
                        </a:lnTo>
                        <a:lnTo>
                          <a:pt x="392" y="147"/>
                        </a:lnTo>
                        <a:lnTo>
                          <a:pt x="400" y="137"/>
                        </a:lnTo>
                        <a:lnTo>
                          <a:pt x="409" y="133"/>
                        </a:lnTo>
                        <a:lnTo>
                          <a:pt x="416" y="131"/>
                        </a:lnTo>
                        <a:lnTo>
                          <a:pt x="421" y="123"/>
                        </a:lnTo>
                        <a:lnTo>
                          <a:pt x="427" y="121"/>
                        </a:lnTo>
                        <a:lnTo>
                          <a:pt x="436" y="121"/>
                        </a:lnTo>
                        <a:lnTo>
                          <a:pt x="421" y="106"/>
                        </a:lnTo>
                        <a:lnTo>
                          <a:pt x="405" y="110"/>
                        </a:lnTo>
                        <a:lnTo>
                          <a:pt x="396" y="110"/>
                        </a:lnTo>
                        <a:lnTo>
                          <a:pt x="386" y="104"/>
                        </a:lnTo>
                        <a:lnTo>
                          <a:pt x="386" y="114"/>
                        </a:lnTo>
                        <a:lnTo>
                          <a:pt x="378" y="125"/>
                        </a:lnTo>
                        <a:lnTo>
                          <a:pt x="367" y="141"/>
                        </a:lnTo>
                        <a:lnTo>
                          <a:pt x="355" y="148"/>
                        </a:lnTo>
                        <a:lnTo>
                          <a:pt x="346" y="148"/>
                        </a:lnTo>
                        <a:lnTo>
                          <a:pt x="343" y="160"/>
                        </a:lnTo>
                        <a:lnTo>
                          <a:pt x="343" y="166"/>
                        </a:lnTo>
                        <a:lnTo>
                          <a:pt x="336" y="170"/>
                        </a:lnTo>
                        <a:lnTo>
                          <a:pt x="345" y="191"/>
                        </a:lnTo>
                        <a:lnTo>
                          <a:pt x="349" y="201"/>
                        </a:lnTo>
                        <a:lnTo>
                          <a:pt x="340" y="216"/>
                        </a:lnTo>
                        <a:lnTo>
                          <a:pt x="328" y="226"/>
                        </a:lnTo>
                        <a:lnTo>
                          <a:pt x="325" y="241"/>
                        </a:lnTo>
                        <a:lnTo>
                          <a:pt x="318" y="253"/>
                        </a:lnTo>
                        <a:lnTo>
                          <a:pt x="312" y="253"/>
                        </a:lnTo>
                        <a:lnTo>
                          <a:pt x="301" y="255"/>
                        </a:lnTo>
                        <a:lnTo>
                          <a:pt x="291" y="260"/>
                        </a:lnTo>
                        <a:lnTo>
                          <a:pt x="287" y="258"/>
                        </a:lnTo>
                        <a:lnTo>
                          <a:pt x="287" y="249"/>
                        </a:lnTo>
                        <a:lnTo>
                          <a:pt x="286" y="236"/>
                        </a:lnTo>
                        <a:lnTo>
                          <a:pt x="277" y="236"/>
                        </a:lnTo>
                        <a:lnTo>
                          <a:pt x="273" y="228"/>
                        </a:lnTo>
                        <a:lnTo>
                          <a:pt x="274" y="216"/>
                        </a:lnTo>
                        <a:lnTo>
                          <a:pt x="275" y="209"/>
                        </a:lnTo>
                        <a:lnTo>
                          <a:pt x="274" y="206"/>
                        </a:lnTo>
                        <a:lnTo>
                          <a:pt x="266" y="209"/>
                        </a:lnTo>
                        <a:lnTo>
                          <a:pt x="264" y="209"/>
                        </a:lnTo>
                        <a:lnTo>
                          <a:pt x="258" y="208"/>
                        </a:lnTo>
                        <a:lnTo>
                          <a:pt x="255" y="206"/>
                        </a:lnTo>
                        <a:lnTo>
                          <a:pt x="247" y="212"/>
                        </a:lnTo>
                        <a:lnTo>
                          <a:pt x="238" y="221"/>
                        </a:lnTo>
                        <a:lnTo>
                          <a:pt x="229" y="230"/>
                        </a:lnTo>
                        <a:lnTo>
                          <a:pt x="211" y="228"/>
                        </a:lnTo>
                        <a:lnTo>
                          <a:pt x="199" y="226"/>
                        </a:lnTo>
                        <a:lnTo>
                          <a:pt x="190" y="218"/>
                        </a:lnTo>
                        <a:lnTo>
                          <a:pt x="190" y="212"/>
                        </a:lnTo>
                        <a:lnTo>
                          <a:pt x="196" y="206"/>
                        </a:lnTo>
                        <a:lnTo>
                          <a:pt x="202" y="201"/>
                        </a:lnTo>
                        <a:lnTo>
                          <a:pt x="208" y="194"/>
                        </a:lnTo>
                        <a:lnTo>
                          <a:pt x="196" y="197"/>
                        </a:lnTo>
                        <a:lnTo>
                          <a:pt x="190" y="189"/>
                        </a:lnTo>
                        <a:lnTo>
                          <a:pt x="190" y="184"/>
                        </a:lnTo>
                        <a:lnTo>
                          <a:pt x="208" y="182"/>
                        </a:lnTo>
                        <a:lnTo>
                          <a:pt x="223" y="181"/>
                        </a:lnTo>
                        <a:lnTo>
                          <a:pt x="213" y="175"/>
                        </a:lnTo>
                        <a:lnTo>
                          <a:pt x="198" y="177"/>
                        </a:lnTo>
                        <a:lnTo>
                          <a:pt x="198" y="167"/>
                        </a:lnTo>
                        <a:lnTo>
                          <a:pt x="204" y="160"/>
                        </a:lnTo>
                        <a:lnTo>
                          <a:pt x="219" y="154"/>
                        </a:lnTo>
                        <a:lnTo>
                          <a:pt x="225" y="147"/>
                        </a:lnTo>
                        <a:lnTo>
                          <a:pt x="229" y="143"/>
                        </a:lnTo>
                        <a:lnTo>
                          <a:pt x="241" y="141"/>
                        </a:lnTo>
                        <a:lnTo>
                          <a:pt x="252" y="143"/>
                        </a:lnTo>
                        <a:lnTo>
                          <a:pt x="256" y="147"/>
                        </a:lnTo>
                        <a:lnTo>
                          <a:pt x="265" y="141"/>
                        </a:lnTo>
                        <a:lnTo>
                          <a:pt x="256" y="140"/>
                        </a:lnTo>
                        <a:lnTo>
                          <a:pt x="256" y="127"/>
                        </a:lnTo>
                        <a:lnTo>
                          <a:pt x="279" y="111"/>
                        </a:lnTo>
                        <a:lnTo>
                          <a:pt x="291" y="101"/>
                        </a:lnTo>
                        <a:lnTo>
                          <a:pt x="297" y="100"/>
                        </a:lnTo>
                        <a:lnTo>
                          <a:pt x="295" y="94"/>
                        </a:lnTo>
                        <a:lnTo>
                          <a:pt x="305" y="83"/>
                        </a:lnTo>
                        <a:lnTo>
                          <a:pt x="318" y="67"/>
                        </a:lnTo>
                        <a:lnTo>
                          <a:pt x="331" y="61"/>
                        </a:lnTo>
                        <a:lnTo>
                          <a:pt x="320" y="54"/>
                        </a:lnTo>
                        <a:lnTo>
                          <a:pt x="348" y="38"/>
                        </a:lnTo>
                        <a:lnTo>
                          <a:pt x="359" y="40"/>
                        </a:lnTo>
                        <a:lnTo>
                          <a:pt x="358" y="32"/>
                        </a:lnTo>
                        <a:lnTo>
                          <a:pt x="382" y="30"/>
                        </a:lnTo>
                        <a:lnTo>
                          <a:pt x="425" y="3"/>
                        </a:lnTo>
                        <a:lnTo>
                          <a:pt x="433" y="0"/>
                        </a:lnTo>
                        <a:lnTo>
                          <a:pt x="424" y="20"/>
                        </a:lnTo>
                        <a:lnTo>
                          <a:pt x="434" y="10"/>
                        </a:lnTo>
                        <a:lnTo>
                          <a:pt x="446" y="7"/>
                        </a:lnTo>
                        <a:lnTo>
                          <a:pt x="444" y="15"/>
                        </a:lnTo>
                        <a:lnTo>
                          <a:pt x="478" y="5"/>
                        </a:lnTo>
                        <a:lnTo>
                          <a:pt x="496" y="13"/>
                        </a:lnTo>
                        <a:lnTo>
                          <a:pt x="471" y="21"/>
                        </a:lnTo>
                        <a:lnTo>
                          <a:pt x="481" y="32"/>
                        </a:lnTo>
                        <a:lnTo>
                          <a:pt x="514" y="30"/>
                        </a:lnTo>
                        <a:lnTo>
                          <a:pt x="563" y="46"/>
                        </a:lnTo>
                        <a:lnTo>
                          <a:pt x="560" y="62"/>
                        </a:lnTo>
                        <a:lnTo>
                          <a:pt x="539" y="77"/>
                        </a:lnTo>
                        <a:lnTo>
                          <a:pt x="509" y="86"/>
                        </a:lnTo>
                        <a:lnTo>
                          <a:pt x="503" y="104"/>
                        </a:lnTo>
                        <a:lnTo>
                          <a:pt x="506" y="121"/>
                        </a:lnTo>
                        <a:lnTo>
                          <a:pt x="514" y="125"/>
                        </a:lnTo>
                        <a:lnTo>
                          <a:pt x="516" y="133"/>
                        </a:lnTo>
                        <a:lnTo>
                          <a:pt x="519" y="137"/>
                        </a:lnTo>
                        <a:lnTo>
                          <a:pt x="526" y="140"/>
                        </a:lnTo>
                        <a:lnTo>
                          <a:pt x="527" y="150"/>
                        </a:lnTo>
                        <a:lnTo>
                          <a:pt x="537" y="162"/>
                        </a:lnTo>
                        <a:lnTo>
                          <a:pt x="537" y="167"/>
                        </a:lnTo>
                        <a:lnTo>
                          <a:pt x="548" y="167"/>
                        </a:lnTo>
                        <a:lnTo>
                          <a:pt x="551" y="170"/>
                        </a:lnTo>
                        <a:lnTo>
                          <a:pt x="560" y="174"/>
                        </a:lnTo>
                        <a:lnTo>
                          <a:pt x="565" y="168"/>
                        </a:lnTo>
                        <a:lnTo>
                          <a:pt x="569" y="160"/>
                        </a:lnTo>
                        <a:lnTo>
                          <a:pt x="574" y="155"/>
                        </a:lnTo>
                        <a:lnTo>
                          <a:pt x="581" y="158"/>
                        </a:lnTo>
                        <a:lnTo>
                          <a:pt x="592" y="147"/>
                        </a:lnTo>
                        <a:lnTo>
                          <a:pt x="592" y="139"/>
                        </a:lnTo>
                        <a:lnTo>
                          <a:pt x="594" y="131"/>
                        </a:lnTo>
                        <a:lnTo>
                          <a:pt x="597" y="127"/>
                        </a:lnTo>
                        <a:lnTo>
                          <a:pt x="617" y="121"/>
                        </a:lnTo>
                        <a:lnTo>
                          <a:pt x="634" y="116"/>
                        </a:lnTo>
                        <a:lnTo>
                          <a:pt x="656" y="110"/>
                        </a:lnTo>
                        <a:lnTo>
                          <a:pt x="681" y="114"/>
                        </a:lnTo>
                        <a:lnTo>
                          <a:pt x="707" y="114"/>
                        </a:lnTo>
                        <a:lnTo>
                          <a:pt x="749" y="114"/>
                        </a:lnTo>
                        <a:lnTo>
                          <a:pt x="756" y="73"/>
                        </a:lnTo>
                        <a:lnTo>
                          <a:pt x="780" y="74"/>
                        </a:lnTo>
                        <a:lnTo>
                          <a:pt x="797" y="106"/>
                        </a:lnTo>
                        <a:lnTo>
                          <a:pt x="799" y="79"/>
                        </a:lnTo>
                        <a:lnTo>
                          <a:pt x="877" y="5"/>
                        </a:lnTo>
                        <a:lnTo>
                          <a:pt x="909" y="5"/>
                        </a:lnTo>
                        <a:lnTo>
                          <a:pt x="936" y="20"/>
                        </a:lnTo>
                        <a:lnTo>
                          <a:pt x="970" y="19"/>
                        </a:lnTo>
                        <a:lnTo>
                          <a:pt x="1018" y="46"/>
                        </a:lnTo>
                        <a:lnTo>
                          <a:pt x="1072" y="61"/>
                        </a:lnTo>
                        <a:lnTo>
                          <a:pt x="1111" y="57"/>
                        </a:lnTo>
                        <a:lnTo>
                          <a:pt x="1162" y="74"/>
                        </a:lnTo>
                        <a:lnTo>
                          <a:pt x="1204" y="74"/>
                        </a:lnTo>
                        <a:lnTo>
                          <a:pt x="1225" y="62"/>
                        </a:lnTo>
                        <a:lnTo>
                          <a:pt x="1273" y="62"/>
                        </a:lnTo>
                        <a:lnTo>
                          <a:pt x="1298" y="75"/>
                        </a:lnTo>
                        <a:lnTo>
                          <a:pt x="1363" y="75"/>
                        </a:lnTo>
                        <a:lnTo>
                          <a:pt x="1417" y="100"/>
                        </a:lnTo>
                        <a:lnTo>
                          <a:pt x="1515" y="96"/>
                        </a:lnTo>
                        <a:lnTo>
                          <a:pt x="1674" y="106"/>
                        </a:lnTo>
                        <a:lnTo>
                          <a:pt x="1749" y="139"/>
                        </a:lnTo>
                        <a:lnTo>
                          <a:pt x="1813" y="158"/>
                        </a:lnTo>
                        <a:lnTo>
                          <a:pt x="1855" y="175"/>
                        </a:lnTo>
                        <a:lnTo>
                          <a:pt x="1843" y="181"/>
                        </a:lnTo>
                        <a:lnTo>
                          <a:pt x="1813" y="167"/>
                        </a:lnTo>
                        <a:lnTo>
                          <a:pt x="1747" y="162"/>
                        </a:lnTo>
                        <a:lnTo>
                          <a:pt x="1766" y="175"/>
                        </a:lnTo>
                        <a:lnTo>
                          <a:pt x="1795" y="182"/>
                        </a:lnTo>
                        <a:lnTo>
                          <a:pt x="1786" y="204"/>
                        </a:lnTo>
                        <a:lnTo>
                          <a:pt x="1757" y="218"/>
                        </a:lnTo>
                        <a:lnTo>
                          <a:pt x="1746" y="239"/>
                        </a:lnTo>
                        <a:lnTo>
                          <a:pt x="1786" y="260"/>
                        </a:lnTo>
                        <a:lnTo>
                          <a:pt x="1815" y="287"/>
                        </a:lnTo>
                        <a:lnTo>
                          <a:pt x="1832" y="326"/>
                        </a:lnTo>
                        <a:lnTo>
                          <a:pt x="1812" y="329"/>
                        </a:lnTo>
                        <a:lnTo>
                          <a:pt x="1772" y="317"/>
                        </a:lnTo>
                        <a:lnTo>
                          <a:pt x="1729" y="289"/>
                        </a:lnTo>
                        <a:lnTo>
                          <a:pt x="1713" y="274"/>
                        </a:lnTo>
                        <a:lnTo>
                          <a:pt x="1702" y="253"/>
                        </a:lnTo>
                        <a:lnTo>
                          <a:pt x="1692" y="222"/>
                        </a:lnTo>
                        <a:lnTo>
                          <a:pt x="1675" y="212"/>
                        </a:lnTo>
                        <a:lnTo>
                          <a:pt x="1661" y="211"/>
                        </a:lnTo>
                        <a:lnTo>
                          <a:pt x="1646" y="214"/>
                        </a:lnTo>
                        <a:lnTo>
                          <a:pt x="1662" y="238"/>
                        </a:lnTo>
                        <a:lnTo>
                          <a:pt x="1620" y="241"/>
                        </a:lnTo>
                        <a:lnTo>
                          <a:pt x="1602" y="230"/>
                        </a:lnTo>
                        <a:lnTo>
                          <a:pt x="1567" y="236"/>
                        </a:lnTo>
                        <a:lnTo>
                          <a:pt x="1540" y="255"/>
                        </a:lnTo>
                        <a:lnTo>
                          <a:pt x="1540" y="265"/>
                        </a:lnTo>
                        <a:lnTo>
                          <a:pt x="1550" y="282"/>
                        </a:lnTo>
                        <a:lnTo>
                          <a:pt x="1592" y="287"/>
                        </a:lnTo>
                        <a:lnTo>
                          <a:pt x="1626" y="307"/>
                        </a:lnTo>
                        <a:lnTo>
                          <a:pt x="1683" y="363"/>
                        </a:lnTo>
                        <a:lnTo>
                          <a:pt x="1707" y="400"/>
                        </a:lnTo>
                        <a:lnTo>
                          <a:pt x="1710" y="439"/>
                        </a:lnTo>
                        <a:lnTo>
                          <a:pt x="1706" y="471"/>
                        </a:lnTo>
                        <a:lnTo>
                          <a:pt x="1692" y="471"/>
                        </a:lnTo>
                        <a:lnTo>
                          <a:pt x="1677" y="459"/>
                        </a:lnTo>
                        <a:lnTo>
                          <a:pt x="1654" y="475"/>
                        </a:lnTo>
                        <a:lnTo>
                          <a:pt x="1633" y="488"/>
                        </a:lnTo>
                        <a:lnTo>
                          <a:pt x="1629" y="513"/>
                        </a:lnTo>
                        <a:lnTo>
                          <a:pt x="1654" y="541"/>
                        </a:lnTo>
                        <a:lnTo>
                          <a:pt x="1638" y="562"/>
                        </a:lnTo>
                        <a:lnTo>
                          <a:pt x="1633" y="599"/>
                        </a:lnTo>
                        <a:lnTo>
                          <a:pt x="1662" y="623"/>
                        </a:lnTo>
                        <a:lnTo>
                          <a:pt x="1693" y="630"/>
                        </a:lnTo>
                        <a:lnTo>
                          <a:pt x="1728" y="655"/>
                        </a:lnTo>
                        <a:lnTo>
                          <a:pt x="1757" y="689"/>
                        </a:lnTo>
                        <a:lnTo>
                          <a:pt x="1758" y="740"/>
                        </a:lnTo>
                        <a:lnTo>
                          <a:pt x="1747" y="763"/>
                        </a:lnTo>
                        <a:lnTo>
                          <a:pt x="1718" y="784"/>
                        </a:lnTo>
                        <a:lnTo>
                          <a:pt x="1680" y="794"/>
                        </a:lnTo>
                        <a:lnTo>
                          <a:pt x="1656" y="809"/>
                        </a:lnTo>
                        <a:lnTo>
                          <a:pt x="1643" y="800"/>
                        </a:lnTo>
                        <a:lnTo>
                          <a:pt x="1631" y="809"/>
                        </a:lnTo>
                        <a:lnTo>
                          <a:pt x="1628" y="846"/>
                        </a:lnTo>
                        <a:lnTo>
                          <a:pt x="1636" y="868"/>
                        </a:lnTo>
                        <a:lnTo>
                          <a:pt x="1674" y="894"/>
                        </a:lnTo>
                        <a:lnTo>
                          <a:pt x="1689" y="919"/>
                        </a:lnTo>
                        <a:lnTo>
                          <a:pt x="1701" y="934"/>
                        </a:lnTo>
                        <a:lnTo>
                          <a:pt x="1697" y="961"/>
                        </a:lnTo>
                        <a:lnTo>
                          <a:pt x="1674" y="983"/>
                        </a:lnTo>
                        <a:lnTo>
                          <a:pt x="1648" y="983"/>
                        </a:lnTo>
                        <a:lnTo>
                          <a:pt x="1607" y="951"/>
                        </a:lnTo>
                        <a:lnTo>
                          <a:pt x="1579" y="939"/>
                        </a:lnTo>
                        <a:lnTo>
                          <a:pt x="1567" y="933"/>
                        </a:lnTo>
                        <a:lnTo>
                          <a:pt x="1555" y="949"/>
                        </a:lnTo>
                        <a:lnTo>
                          <a:pt x="1559" y="973"/>
                        </a:lnTo>
                        <a:lnTo>
                          <a:pt x="1568" y="991"/>
                        </a:lnTo>
                        <a:lnTo>
                          <a:pt x="1575" y="1020"/>
                        </a:lnTo>
                        <a:lnTo>
                          <a:pt x="1601" y="1030"/>
                        </a:lnTo>
                        <a:lnTo>
                          <a:pt x="1592" y="1045"/>
                        </a:lnTo>
                        <a:lnTo>
                          <a:pt x="1594" y="1068"/>
                        </a:lnTo>
                        <a:lnTo>
                          <a:pt x="1602" y="1089"/>
                        </a:lnTo>
                        <a:lnTo>
                          <a:pt x="1586" y="1088"/>
                        </a:lnTo>
                        <a:lnTo>
                          <a:pt x="1567" y="1062"/>
                        </a:lnTo>
                        <a:lnTo>
                          <a:pt x="1568" y="1035"/>
                        </a:lnTo>
                        <a:lnTo>
                          <a:pt x="1562" y="1027"/>
                        </a:lnTo>
                        <a:lnTo>
                          <a:pt x="1555" y="997"/>
                        </a:lnTo>
                        <a:lnTo>
                          <a:pt x="1547" y="988"/>
                        </a:lnTo>
                        <a:lnTo>
                          <a:pt x="1542" y="946"/>
                        </a:lnTo>
                        <a:lnTo>
                          <a:pt x="1532" y="919"/>
                        </a:lnTo>
                        <a:lnTo>
                          <a:pt x="1511" y="895"/>
                        </a:lnTo>
                        <a:lnTo>
                          <a:pt x="1474" y="881"/>
                        </a:lnTo>
                        <a:lnTo>
                          <a:pt x="1447" y="860"/>
                        </a:lnTo>
                        <a:lnTo>
                          <a:pt x="1435" y="842"/>
                        </a:lnTo>
                        <a:lnTo>
                          <a:pt x="1417" y="824"/>
                        </a:lnTo>
                        <a:lnTo>
                          <a:pt x="1387" y="782"/>
                        </a:lnTo>
                        <a:lnTo>
                          <a:pt x="1363" y="786"/>
                        </a:lnTo>
                        <a:lnTo>
                          <a:pt x="1328" y="806"/>
                        </a:lnTo>
                        <a:lnTo>
                          <a:pt x="1313" y="823"/>
                        </a:lnTo>
                        <a:lnTo>
                          <a:pt x="1282" y="854"/>
                        </a:lnTo>
                        <a:lnTo>
                          <a:pt x="1260" y="888"/>
                        </a:lnTo>
                        <a:lnTo>
                          <a:pt x="1252" y="900"/>
                        </a:lnTo>
                        <a:lnTo>
                          <a:pt x="1260" y="941"/>
                        </a:lnTo>
                        <a:lnTo>
                          <a:pt x="1260" y="979"/>
                        </a:lnTo>
                        <a:lnTo>
                          <a:pt x="1231" y="1007"/>
                        </a:lnTo>
                        <a:lnTo>
                          <a:pt x="1216" y="1008"/>
                        </a:lnTo>
                        <a:lnTo>
                          <a:pt x="1185" y="952"/>
                        </a:lnTo>
                        <a:lnTo>
                          <a:pt x="1159" y="912"/>
                        </a:lnTo>
                        <a:lnTo>
                          <a:pt x="1108" y="838"/>
                        </a:lnTo>
                        <a:lnTo>
                          <a:pt x="1107" y="809"/>
                        </a:lnTo>
                        <a:lnTo>
                          <a:pt x="1095" y="796"/>
                        </a:lnTo>
                        <a:lnTo>
                          <a:pt x="1086" y="814"/>
                        </a:lnTo>
                        <a:lnTo>
                          <a:pt x="1042" y="772"/>
                        </a:lnTo>
                        <a:lnTo>
                          <a:pt x="983" y="740"/>
                        </a:lnTo>
                        <a:lnTo>
                          <a:pt x="945" y="746"/>
                        </a:lnTo>
                        <a:lnTo>
                          <a:pt x="891" y="743"/>
                        </a:lnTo>
                        <a:lnTo>
                          <a:pt x="865" y="719"/>
                        </a:lnTo>
                        <a:lnTo>
                          <a:pt x="837" y="723"/>
                        </a:lnTo>
                        <a:lnTo>
                          <a:pt x="797" y="713"/>
                        </a:lnTo>
                        <a:lnTo>
                          <a:pt x="712" y="633"/>
                        </a:lnTo>
                        <a:lnTo>
                          <a:pt x="717" y="666"/>
                        </a:lnTo>
                        <a:lnTo>
                          <a:pt x="743" y="711"/>
                        </a:lnTo>
                        <a:lnTo>
                          <a:pt x="772" y="743"/>
                        </a:lnTo>
                        <a:lnTo>
                          <a:pt x="801" y="760"/>
                        </a:lnTo>
                        <a:lnTo>
                          <a:pt x="836" y="746"/>
                        </a:lnTo>
                        <a:lnTo>
                          <a:pt x="863" y="746"/>
                        </a:lnTo>
                        <a:lnTo>
                          <a:pt x="898" y="775"/>
                        </a:lnTo>
                        <a:lnTo>
                          <a:pt x="918" y="797"/>
                        </a:lnTo>
                        <a:lnTo>
                          <a:pt x="915" y="811"/>
                        </a:lnTo>
                        <a:lnTo>
                          <a:pt x="854" y="873"/>
                        </a:lnTo>
                        <a:lnTo>
                          <a:pt x="813" y="897"/>
                        </a:lnTo>
                        <a:lnTo>
                          <a:pt x="729" y="929"/>
                        </a:lnTo>
                        <a:lnTo>
                          <a:pt x="704" y="939"/>
                        </a:lnTo>
                        <a:lnTo>
                          <a:pt x="688" y="929"/>
                        </a:lnTo>
                        <a:lnTo>
                          <a:pt x="683" y="915"/>
                        </a:lnTo>
                        <a:lnTo>
                          <a:pt x="681" y="897"/>
                        </a:lnTo>
                        <a:lnTo>
                          <a:pt x="675" y="879"/>
                        </a:lnTo>
                        <a:lnTo>
                          <a:pt x="663" y="863"/>
                        </a:lnTo>
                        <a:lnTo>
                          <a:pt x="653" y="850"/>
                        </a:lnTo>
                        <a:lnTo>
                          <a:pt x="638" y="831"/>
                        </a:lnTo>
                        <a:lnTo>
                          <a:pt x="629" y="819"/>
                        </a:lnTo>
                        <a:lnTo>
                          <a:pt x="621" y="804"/>
                        </a:lnTo>
                        <a:lnTo>
                          <a:pt x="611" y="790"/>
                        </a:lnTo>
                        <a:lnTo>
                          <a:pt x="592" y="757"/>
                        </a:lnTo>
                        <a:lnTo>
                          <a:pt x="581" y="743"/>
                        </a:lnTo>
                        <a:lnTo>
                          <a:pt x="568" y="724"/>
                        </a:lnTo>
                        <a:lnTo>
                          <a:pt x="547" y="699"/>
                        </a:lnTo>
                        <a:lnTo>
                          <a:pt x="535" y="684"/>
                        </a:lnTo>
                        <a:lnTo>
                          <a:pt x="524" y="674"/>
                        </a:lnTo>
                        <a:lnTo>
                          <a:pt x="512" y="652"/>
                        </a:lnTo>
                        <a:lnTo>
                          <a:pt x="548" y="632"/>
                        </a:lnTo>
                        <a:lnTo>
                          <a:pt x="563" y="587"/>
                        </a:lnTo>
                        <a:lnTo>
                          <a:pt x="529" y="576"/>
                        </a:lnTo>
                        <a:lnTo>
                          <a:pt x="482" y="583"/>
                        </a:lnTo>
                        <a:lnTo>
                          <a:pt x="471" y="577"/>
                        </a:lnTo>
                        <a:lnTo>
                          <a:pt x="467" y="577"/>
                        </a:lnTo>
                        <a:lnTo>
                          <a:pt x="460" y="577"/>
                        </a:lnTo>
                        <a:lnTo>
                          <a:pt x="455" y="577"/>
                        </a:lnTo>
                        <a:lnTo>
                          <a:pt x="452" y="569"/>
                        </a:lnTo>
                        <a:lnTo>
                          <a:pt x="450" y="562"/>
                        </a:lnTo>
                        <a:lnTo>
                          <a:pt x="450" y="549"/>
                        </a:lnTo>
                        <a:lnTo>
                          <a:pt x="442" y="542"/>
                        </a:lnTo>
                        <a:lnTo>
                          <a:pt x="439" y="533"/>
                        </a:lnTo>
                        <a:lnTo>
                          <a:pt x="434" y="531"/>
                        </a:lnTo>
                        <a:lnTo>
                          <a:pt x="430" y="525"/>
                        </a:lnTo>
                        <a:lnTo>
                          <a:pt x="427" y="518"/>
                        </a:lnTo>
                        <a:lnTo>
                          <a:pt x="424" y="512"/>
                        </a:lnTo>
                        <a:lnTo>
                          <a:pt x="421" y="504"/>
                        </a:lnTo>
                        <a:lnTo>
                          <a:pt x="410" y="504"/>
                        </a:lnTo>
                        <a:lnTo>
                          <a:pt x="404" y="504"/>
                        </a:lnTo>
                        <a:lnTo>
                          <a:pt x="400" y="504"/>
                        </a:lnTo>
                        <a:lnTo>
                          <a:pt x="398" y="517"/>
                        </a:lnTo>
                        <a:lnTo>
                          <a:pt x="398" y="525"/>
                        </a:lnTo>
                        <a:lnTo>
                          <a:pt x="398" y="535"/>
                        </a:lnTo>
                        <a:lnTo>
                          <a:pt x="398" y="545"/>
                        </a:lnTo>
                        <a:lnTo>
                          <a:pt x="398" y="552"/>
                        </a:lnTo>
                        <a:lnTo>
                          <a:pt x="391" y="556"/>
                        </a:lnTo>
                        <a:lnTo>
                          <a:pt x="384" y="562"/>
                        </a:lnTo>
                        <a:lnTo>
                          <a:pt x="373" y="552"/>
                        </a:lnTo>
                        <a:lnTo>
                          <a:pt x="367" y="539"/>
                        </a:lnTo>
                        <a:lnTo>
                          <a:pt x="368" y="523"/>
                        </a:lnTo>
                        <a:lnTo>
                          <a:pt x="358" y="500"/>
                        </a:lnTo>
                        <a:lnTo>
                          <a:pt x="353" y="486"/>
                        </a:lnTo>
                        <a:lnTo>
                          <a:pt x="341" y="477"/>
                        </a:lnTo>
                        <a:lnTo>
                          <a:pt x="328" y="469"/>
                        </a:lnTo>
                        <a:lnTo>
                          <a:pt x="320" y="458"/>
                        </a:lnTo>
                        <a:lnTo>
                          <a:pt x="316" y="450"/>
                        </a:lnTo>
                        <a:lnTo>
                          <a:pt x="304" y="448"/>
                        </a:lnTo>
                        <a:lnTo>
                          <a:pt x="301" y="442"/>
                        </a:lnTo>
                        <a:lnTo>
                          <a:pt x="292" y="442"/>
                        </a:lnTo>
                        <a:lnTo>
                          <a:pt x="286" y="450"/>
                        </a:lnTo>
                        <a:lnTo>
                          <a:pt x="279" y="458"/>
                        </a:lnTo>
                        <a:lnTo>
                          <a:pt x="293" y="466"/>
                        </a:lnTo>
                        <a:lnTo>
                          <a:pt x="302" y="477"/>
                        </a:lnTo>
                        <a:lnTo>
                          <a:pt x="318" y="493"/>
                        </a:lnTo>
                        <a:lnTo>
                          <a:pt x="325" y="500"/>
                        </a:lnTo>
                        <a:lnTo>
                          <a:pt x="336" y="504"/>
                        </a:lnTo>
                        <a:lnTo>
                          <a:pt x="345" y="518"/>
                        </a:lnTo>
                        <a:lnTo>
                          <a:pt x="334" y="531"/>
                        </a:lnTo>
                        <a:lnTo>
                          <a:pt x="332" y="525"/>
                        </a:lnTo>
                        <a:lnTo>
                          <a:pt x="332" y="518"/>
                        </a:lnTo>
                        <a:lnTo>
                          <a:pt x="328" y="533"/>
                        </a:lnTo>
                        <a:lnTo>
                          <a:pt x="326" y="547"/>
                        </a:lnTo>
                        <a:lnTo>
                          <a:pt x="316" y="550"/>
                        </a:lnTo>
                        <a:lnTo>
                          <a:pt x="319" y="533"/>
                        </a:lnTo>
                        <a:lnTo>
                          <a:pt x="318" y="525"/>
                        </a:lnTo>
                        <a:lnTo>
                          <a:pt x="305" y="520"/>
                        </a:lnTo>
                        <a:lnTo>
                          <a:pt x="301" y="517"/>
                        </a:lnTo>
                        <a:lnTo>
                          <a:pt x="295" y="510"/>
                        </a:lnTo>
                        <a:lnTo>
                          <a:pt x="286" y="504"/>
                        </a:lnTo>
                        <a:lnTo>
                          <a:pt x="279" y="498"/>
                        </a:lnTo>
                        <a:lnTo>
                          <a:pt x="273" y="488"/>
                        </a:lnTo>
                        <a:lnTo>
                          <a:pt x="264" y="483"/>
                        </a:lnTo>
                        <a:lnTo>
                          <a:pt x="258" y="473"/>
                        </a:lnTo>
                        <a:lnTo>
                          <a:pt x="256" y="464"/>
                        </a:lnTo>
                        <a:lnTo>
                          <a:pt x="250" y="461"/>
                        </a:lnTo>
                        <a:lnTo>
                          <a:pt x="243" y="456"/>
                        </a:lnTo>
                        <a:lnTo>
                          <a:pt x="229" y="456"/>
                        </a:lnTo>
                        <a:lnTo>
                          <a:pt x="217" y="458"/>
                        </a:lnTo>
                        <a:lnTo>
                          <a:pt x="204" y="456"/>
                        </a:lnTo>
                        <a:lnTo>
                          <a:pt x="180" y="458"/>
                        </a:lnTo>
                        <a:lnTo>
                          <a:pt x="163" y="459"/>
                        </a:lnTo>
                        <a:lnTo>
                          <a:pt x="159" y="463"/>
                        </a:lnTo>
                        <a:lnTo>
                          <a:pt x="157" y="473"/>
                        </a:lnTo>
                        <a:lnTo>
                          <a:pt x="157" y="485"/>
                        </a:lnTo>
                        <a:lnTo>
                          <a:pt x="147" y="496"/>
                        </a:lnTo>
                        <a:lnTo>
                          <a:pt x="140" y="502"/>
                        </a:lnTo>
                        <a:lnTo>
                          <a:pt x="136" y="504"/>
                        </a:lnTo>
                        <a:lnTo>
                          <a:pt x="132" y="517"/>
                        </a:lnTo>
                        <a:lnTo>
                          <a:pt x="127" y="523"/>
                        </a:lnTo>
                        <a:lnTo>
                          <a:pt x="134" y="529"/>
                        </a:lnTo>
                        <a:lnTo>
                          <a:pt x="134" y="539"/>
                        </a:lnTo>
                        <a:lnTo>
                          <a:pt x="132" y="544"/>
                        </a:lnTo>
                        <a:lnTo>
                          <a:pt x="127" y="550"/>
                        </a:lnTo>
                        <a:lnTo>
                          <a:pt x="120" y="562"/>
                        </a:lnTo>
                        <a:lnTo>
                          <a:pt x="114" y="558"/>
                        </a:lnTo>
                        <a:lnTo>
                          <a:pt x="109" y="560"/>
                        </a:lnTo>
                        <a:lnTo>
                          <a:pt x="102" y="566"/>
                        </a:lnTo>
                        <a:lnTo>
                          <a:pt x="93" y="568"/>
                        </a:lnTo>
                        <a:lnTo>
                          <a:pt x="82" y="576"/>
                        </a:lnTo>
                        <a:lnTo>
                          <a:pt x="72" y="577"/>
                        </a:lnTo>
                        <a:lnTo>
                          <a:pt x="62" y="577"/>
                        </a:lnTo>
                        <a:lnTo>
                          <a:pt x="52" y="577"/>
                        </a:lnTo>
                        <a:lnTo>
                          <a:pt x="30" y="583"/>
                        </a:lnTo>
                        <a:lnTo>
                          <a:pt x="20" y="583"/>
                        </a:lnTo>
                        <a:lnTo>
                          <a:pt x="15" y="571"/>
                        </a:lnTo>
                        <a:lnTo>
                          <a:pt x="9" y="556"/>
                        </a:lnTo>
                        <a:lnTo>
                          <a:pt x="6" y="542"/>
                        </a:lnTo>
                        <a:lnTo>
                          <a:pt x="4" y="529"/>
                        </a:lnTo>
                        <a:lnTo>
                          <a:pt x="4" y="512"/>
                        </a:lnTo>
                        <a:lnTo>
                          <a:pt x="0" y="48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84" name=""/>
              <p:cNvGrpSpPr/>
              <p:nvPr/>
            </p:nvGrpSpPr>
            <p:grpSpPr>
              <a:xfrm>
                <a:off x="0" y="1663560"/>
                <a:ext cx="3058920" cy="4475880"/>
                <a:chOff x="0" y="1663560"/>
                <a:chExt cx="3058920" cy="4475880"/>
              </a:xfrm>
            </p:grpSpPr>
            <p:sp>
              <p:nvSpPr>
                <p:cNvPr id="85" name=""/>
                <p:cNvSpPr/>
                <p:nvPr/>
              </p:nvSpPr>
              <p:spPr>
                <a:xfrm>
                  <a:off x="0" y="1862280"/>
                  <a:ext cx="2075400" cy="2098440"/>
                </a:xfrm>
                <a:custGeom>
                  <a:avLst/>
                  <a:gdLst/>
                  <a:ahLst/>
                  <a:rect l="l" t="t" r="r" b="b"/>
                  <a:pathLst>
                    <a:path w="1104" h="947">
                      <a:moveTo>
                        <a:pt x="0" y="243"/>
                      </a:moveTo>
                      <a:lnTo>
                        <a:pt x="52" y="211"/>
                      </a:lnTo>
                      <a:lnTo>
                        <a:pt x="83" y="197"/>
                      </a:lnTo>
                      <a:lnTo>
                        <a:pt x="87" y="177"/>
                      </a:lnTo>
                      <a:lnTo>
                        <a:pt x="63" y="166"/>
                      </a:lnTo>
                      <a:lnTo>
                        <a:pt x="62" y="142"/>
                      </a:lnTo>
                      <a:lnTo>
                        <a:pt x="72" y="135"/>
                      </a:lnTo>
                      <a:lnTo>
                        <a:pt x="70" y="125"/>
                      </a:lnTo>
                      <a:lnTo>
                        <a:pt x="111" y="121"/>
                      </a:lnTo>
                      <a:lnTo>
                        <a:pt x="122" y="102"/>
                      </a:lnTo>
                      <a:lnTo>
                        <a:pt x="123" y="86"/>
                      </a:lnTo>
                      <a:lnTo>
                        <a:pt x="157" y="81"/>
                      </a:lnTo>
                      <a:lnTo>
                        <a:pt x="161" y="64"/>
                      </a:lnTo>
                      <a:lnTo>
                        <a:pt x="128" y="59"/>
                      </a:lnTo>
                      <a:lnTo>
                        <a:pt x="143" y="47"/>
                      </a:lnTo>
                      <a:lnTo>
                        <a:pt x="196" y="47"/>
                      </a:lnTo>
                      <a:lnTo>
                        <a:pt x="211" y="34"/>
                      </a:lnTo>
                      <a:lnTo>
                        <a:pt x="234" y="32"/>
                      </a:lnTo>
                      <a:lnTo>
                        <a:pt x="247" y="20"/>
                      </a:lnTo>
                      <a:lnTo>
                        <a:pt x="264" y="40"/>
                      </a:lnTo>
                      <a:lnTo>
                        <a:pt x="330" y="37"/>
                      </a:lnTo>
                      <a:lnTo>
                        <a:pt x="360" y="57"/>
                      </a:lnTo>
                      <a:lnTo>
                        <a:pt x="459" y="52"/>
                      </a:lnTo>
                      <a:lnTo>
                        <a:pt x="474" y="42"/>
                      </a:lnTo>
                      <a:lnTo>
                        <a:pt x="511" y="59"/>
                      </a:lnTo>
                      <a:lnTo>
                        <a:pt x="550" y="74"/>
                      </a:lnTo>
                      <a:lnTo>
                        <a:pt x="568" y="67"/>
                      </a:lnTo>
                      <a:lnTo>
                        <a:pt x="581" y="59"/>
                      </a:lnTo>
                      <a:lnTo>
                        <a:pt x="613" y="64"/>
                      </a:lnTo>
                      <a:lnTo>
                        <a:pt x="591" y="52"/>
                      </a:lnTo>
                      <a:lnTo>
                        <a:pt x="571" y="54"/>
                      </a:lnTo>
                      <a:lnTo>
                        <a:pt x="540" y="57"/>
                      </a:lnTo>
                      <a:lnTo>
                        <a:pt x="525" y="40"/>
                      </a:lnTo>
                      <a:lnTo>
                        <a:pt x="508" y="32"/>
                      </a:lnTo>
                      <a:lnTo>
                        <a:pt x="508" y="17"/>
                      </a:lnTo>
                      <a:lnTo>
                        <a:pt x="513" y="1"/>
                      </a:lnTo>
                      <a:lnTo>
                        <a:pt x="527" y="0"/>
                      </a:lnTo>
                      <a:lnTo>
                        <a:pt x="546" y="13"/>
                      </a:lnTo>
                      <a:lnTo>
                        <a:pt x="550" y="7"/>
                      </a:lnTo>
                      <a:lnTo>
                        <a:pt x="566" y="0"/>
                      </a:lnTo>
                      <a:lnTo>
                        <a:pt x="585" y="10"/>
                      </a:lnTo>
                      <a:lnTo>
                        <a:pt x="594" y="1"/>
                      </a:lnTo>
                      <a:lnTo>
                        <a:pt x="604" y="15"/>
                      </a:lnTo>
                      <a:lnTo>
                        <a:pt x="606" y="25"/>
                      </a:lnTo>
                      <a:lnTo>
                        <a:pt x="633" y="37"/>
                      </a:lnTo>
                      <a:lnTo>
                        <a:pt x="623" y="47"/>
                      </a:lnTo>
                      <a:lnTo>
                        <a:pt x="623" y="61"/>
                      </a:lnTo>
                      <a:lnTo>
                        <a:pt x="669" y="64"/>
                      </a:lnTo>
                      <a:lnTo>
                        <a:pt x="681" y="47"/>
                      </a:lnTo>
                      <a:lnTo>
                        <a:pt x="672" y="38"/>
                      </a:lnTo>
                      <a:lnTo>
                        <a:pt x="652" y="40"/>
                      </a:lnTo>
                      <a:lnTo>
                        <a:pt x="657" y="20"/>
                      </a:lnTo>
                      <a:lnTo>
                        <a:pt x="697" y="32"/>
                      </a:lnTo>
                      <a:lnTo>
                        <a:pt x="707" y="46"/>
                      </a:lnTo>
                      <a:lnTo>
                        <a:pt x="741" y="46"/>
                      </a:lnTo>
                      <a:lnTo>
                        <a:pt x="773" y="62"/>
                      </a:lnTo>
                      <a:lnTo>
                        <a:pt x="792" y="59"/>
                      </a:lnTo>
                      <a:lnTo>
                        <a:pt x="810" y="74"/>
                      </a:lnTo>
                      <a:lnTo>
                        <a:pt x="792" y="94"/>
                      </a:lnTo>
                      <a:lnTo>
                        <a:pt x="775" y="79"/>
                      </a:lnTo>
                      <a:lnTo>
                        <a:pt x="766" y="84"/>
                      </a:lnTo>
                      <a:lnTo>
                        <a:pt x="750" y="96"/>
                      </a:lnTo>
                      <a:lnTo>
                        <a:pt x="727" y="106"/>
                      </a:lnTo>
                      <a:lnTo>
                        <a:pt x="738" y="121"/>
                      </a:lnTo>
                      <a:lnTo>
                        <a:pt x="718" y="123"/>
                      </a:lnTo>
                      <a:lnTo>
                        <a:pt x="701" y="143"/>
                      </a:lnTo>
                      <a:lnTo>
                        <a:pt x="684" y="169"/>
                      </a:lnTo>
                      <a:lnTo>
                        <a:pt x="709" y="191"/>
                      </a:lnTo>
                      <a:lnTo>
                        <a:pt x="730" y="216"/>
                      </a:lnTo>
                      <a:lnTo>
                        <a:pt x="769" y="220"/>
                      </a:lnTo>
                      <a:lnTo>
                        <a:pt x="802" y="216"/>
                      </a:lnTo>
                      <a:lnTo>
                        <a:pt x="819" y="230"/>
                      </a:lnTo>
                      <a:lnTo>
                        <a:pt x="811" y="237"/>
                      </a:lnTo>
                      <a:lnTo>
                        <a:pt x="800" y="250"/>
                      </a:lnTo>
                      <a:lnTo>
                        <a:pt x="816" y="274"/>
                      </a:lnTo>
                      <a:lnTo>
                        <a:pt x="821" y="291"/>
                      </a:lnTo>
                      <a:lnTo>
                        <a:pt x="840" y="299"/>
                      </a:lnTo>
                      <a:lnTo>
                        <a:pt x="866" y="284"/>
                      </a:lnTo>
                      <a:lnTo>
                        <a:pt x="859" y="262"/>
                      </a:lnTo>
                      <a:lnTo>
                        <a:pt x="837" y="243"/>
                      </a:lnTo>
                      <a:lnTo>
                        <a:pt x="862" y="221"/>
                      </a:lnTo>
                      <a:lnTo>
                        <a:pt x="840" y="184"/>
                      </a:lnTo>
                      <a:lnTo>
                        <a:pt x="820" y="169"/>
                      </a:lnTo>
                      <a:lnTo>
                        <a:pt x="837" y="155"/>
                      </a:lnTo>
                      <a:lnTo>
                        <a:pt x="834" y="135"/>
                      </a:lnTo>
                      <a:lnTo>
                        <a:pt x="846" y="123"/>
                      </a:lnTo>
                      <a:lnTo>
                        <a:pt x="866" y="135"/>
                      </a:lnTo>
                      <a:lnTo>
                        <a:pt x="913" y="179"/>
                      </a:lnTo>
                      <a:lnTo>
                        <a:pt x="942" y="185"/>
                      </a:lnTo>
                      <a:lnTo>
                        <a:pt x="951" y="174"/>
                      </a:lnTo>
                      <a:lnTo>
                        <a:pt x="943" y="150"/>
                      </a:lnTo>
                      <a:lnTo>
                        <a:pt x="961" y="154"/>
                      </a:lnTo>
                      <a:lnTo>
                        <a:pt x="989" y="181"/>
                      </a:lnTo>
                      <a:lnTo>
                        <a:pt x="994" y="196"/>
                      </a:lnTo>
                      <a:lnTo>
                        <a:pt x="1011" y="206"/>
                      </a:lnTo>
                      <a:lnTo>
                        <a:pt x="1046" y="218"/>
                      </a:lnTo>
                      <a:lnTo>
                        <a:pt x="1062" y="239"/>
                      </a:lnTo>
                      <a:lnTo>
                        <a:pt x="1087" y="255"/>
                      </a:lnTo>
                      <a:lnTo>
                        <a:pt x="1101" y="260"/>
                      </a:lnTo>
                      <a:lnTo>
                        <a:pt x="1103" y="274"/>
                      </a:lnTo>
                      <a:lnTo>
                        <a:pt x="1083" y="282"/>
                      </a:lnTo>
                      <a:lnTo>
                        <a:pt x="1071" y="272"/>
                      </a:lnTo>
                      <a:lnTo>
                        <a:pt x="1060" y="274"/>
                      </a:lnTo>
                      <a:lnTo>
                        <a:pt x="1057" y="295"/>
                      </a:lnTo>
                      <a:lnTo>
                        <a:pt x="1040" y="301"/>
                      </a:lnTo>
                      <a:lnTo>
                        <a:pt x="1021" y="289"/>
                      </a:lnTo>
                      <a:lnTo>
                        <a:pt x="982" y="289"/>
                      </a:lnTo>
                      <a:lnTo>
                        <a:pt x="978" y="314"/>
                      </a:lnTo>
                      <a:lnTo>
                        <a:pt x="988" y="330"/>
                      </a:lnTo>
                      <a:lnTo>
                        <a:pt x="1003" y="321"/>
                      </a:lnTo>
                      <a:lnTo>
                        <a:pt x="1018" y="318"/>
                      </a:lnTo>
                      <a:lnTo>
                        <a:pt x="1033" y="326"/>
                      </a:lnTo>
                      <a:lnTo>
                        <a:pt x="1013" y="345"/>
                      </a:lnTo>
                      <a:lnTo>
                        <a:pt x="1033" y="361"/>
                      </a:lnTo>
                      <a:lnTo>
                        <a:pt x="1060" y="367"/>
                      </a:lnTo>
                      <a:lnTo>
                        <a:pt x="1057" y="376"/>
                      </a:lnTo>
                      <a:lnTo>
                        <a:pt x="1046" y="378"/>
                      </a:lnTo>
                      <a:lnTo>
                        <a:pt x="1021" y="436"/>
                      </a:lnTo>
                      <a:lnTo>
                        <a:pt x="1023" y="399"/>
                      </a:lnTo>
                      <a:lnTo>
                        <a:pt x="1035" y="380"/>
                      </a:lnTo>
                      <a:lnTo>
                        <a:pt x="1021" y="372"/>
                      </a:lnTo>
                      <a:lnTo>
                        <a:pt x="1006" y="384"/>
                      </a:lnTo>
                      <a:lnTo>
                        <a:pt x="1015" y="394"/>
                      </a:lnTo>
                      <a:lnTo>
                        <a:pt x="1003" y="400"/>
                      </a:lnTo>
                      <a:lnTo>
                        <a:pt x="991" y="409"/>
                      </a:lnTo>
                      <a:lnTo>
                        <a:pt x="993" y="434"/>
                      </a:lnTo>
                      <a:lnTo>
                        <a:pt x="976" y="444"/>
                      </a:lnTo>
                      <a:lnTo>
                        <a:pt x="952" y="448"/>
                      </a:lnTo>
                      <a:lnTo>
                        <a:pt x="961" y="461"/>
                      </a:lnTo>
                      <a:lnTo>
                        <a:pt x="952" y="477"/>
                      </a:lnTo>
                      <a:lnTo>
                        <a:pt x="961" y="488"/>
                      </a:lnTo>
                      <a:lnTo>
                        <a:pt x="946" y="513"/>
                      </a:lnTo>
                      <a:lnTo>
                        <a:pt x="942" y="537"/>
                      </a:lnTo>
                      <a:lnTo>
                        <a:pt x="922" y="550"/>
                      </a:lnTo>
                      <a:lnTo>
                        <a:pt x="896" y="588"/>
                      </a:lnTo>
                      <a:lnTo>
                        <a:pt x="893" y="614"/>
                      </a:lnTo>
                      <a:lnTo>
                        <a:pt x="901" y="633"/>
                      </a:lnTo>
                      <a:lnTo>
                        <a:pt x="913" y="659"/>
                      </a:lnTo>
                      <a:lnTo>
                        <a:pt x="919" y="686"/>
                      </a:lnTo>
                      <a:lnTo>
                        <a:pt x="907" y="697"/>
                      </a:lnTo>
                      <a:lnTo>
                        <a:pt x="893" y="689"/>
                      </a:lnTo>
                      <a:lnTo>
                        <a:pt x="896" y="676"/>
                      </a:lnTo>
                      <a:lnTo>
                        <a:pt x="887" y="645"/>
                      </a:lnTo>
                      <a:lnTo>
                        <a:pt x="877" y="641"/>
                      </a:lnTo>
                      <a:lnTo>
                        <a:pt x="871" y="622"/>
                      </a:lnTo>
                      <a:lnTo>
                        <a:pt x="858" y="622"/>
                      </a:lnTo>
                      <a:lnTo>
                        <a:pt x="841" y="612"/>
                      </a:lnTo>
                      <a:lnTo>
                        <a:pt x="825" y="615"/>
                      </a:lnTo>
                      <a:lnTo>
                        <a:pt x="810" y="608"/>
                      </a:lnTo>
                      <a:lnTo>
                        <a:pt x="792" y="616"/>
                      </a:lnTo>
                      <a:lnTo>
                        <a:pt x="757" y="610"/>
                      </a:lnTo>
                      <a:lnTo>
                        <a:pt x="780" y="632"/>
                      </a:lnTo>
                      <a:lnTo>
                        <a:pt x="750" y="630"/>
                      </a:lnTo>
                      <a:lnTo>
                        <a:pt x="730" y="614"/>
                      </a:lnTo>
                      <a:lnTo>
                        <a:pt x="696" y="614"/>
                      </a:lnTo>
                      <a:lnTo>
                        <a:pt x="701" y="641"/>
                      </a:lnTo>
                      <a:lnTo>
                        <a:pt x="676" y="632"/>
                      </a:lnTo>
                      <a:lnTo>
                        <a:pt x="662" y="659"/>
                      </a:lnTo>
                      <a:lnTo>
                        <a:pt x="672" y="670"/>
                      </a:lnTo>
                      <a:lnTo>
                        <a:pt x="662" y="703"/>
                      </a:lnTo>
                      <a:lnTo>
                        <a:pt x="673" y="740"/>
                      </a:lnTo>
                      <a:lnTo>
                        <a:pt x="688" y="765"/>
                      </a:lnTo>
                      <a:lnTo>
                        <a:pt x="703" y="789"/>
                      </a:lnTo>
                      <a:lnTo>
                        <a:pt x="750" y="788"/>
                      </a:lnTo>
                      <a:lnTo>
                        <a:pt x="771" y="782"/>
                      </a:lnTo>
                      <a:lnTo>
                        <a:pt x="773" y="765"/>
                      </a:lnTo>
                      <a:lnTo>
                        <a:pt x="763" y="751"/>
                      </a:lnTo>
                      <a:lnTo>
                        <a:pt x="766" y="740"/>
                      </a:lnTo>
                      <a:lnTo>
                        <a:pt x="794" y="743"/>
                      </a:lnTo>
                      <a:lnTo>
                        <a:pt x="823" y="737"/>
                      </a:lnTo>
                      <a:lnTo>
                        <a:pt x="823" y="751"/>
                      </a:lnTo>
                      <a:lnTo>
                        <a:pt x="814" y="774"/>
                      </a:lnTo>
                      <a:lnTo>
                        <a:pt x="800" y="791"/>
                      </a:lnTo>
                      <a:lnTo>
                        <a:pt x="798" y="815"/>
                      </a:lnTo>
                      <a:lnTo>
                        <a:pt x="816" y="824"/>
                      </a:lnTo>
                      <a:lnTo>
                        <a:pt x="841" y="821"/>
                      </a:lnTo>
                      <a:lnTo>
                        <a:pt x="858" y="830"/>
                      </a:lnTo>
                      <a:lnTo>
                        <a:pt x="871" y="826"/>
                      </a:lnTo>
                      <a:lnTo>
                        <a:pt x="876" y="842"/>
                      </a:lnTo>
                      <a:lnTo>
                        <a:pt x="864" y="865"/>
                      </a:lnTo>
                      <a:lnTo>
                        <a:pt x="874" y="879"/>
                      </a:lnTo>
                      <a:lnTo>
                        <a:pt x="876" y="906"/>
                      </a:lnTo>
                      <a:lnTo>
                        <a:pt x="893" y="925"/>
                      </a:lnTo>
                      <a:lnTo>
                        <a:pt x="914" y="929"/>
                      </a:lnTo>
                      <a:lnTo>
                        <a:pt x="930" y="925"/>
                      </a:lnTo>
                      <a:lnTo>
                        <a:pt x="937" y="926"/>
                      </a:lnTo>
                      <a:lnTo>
                        <a:pt x="966" y="926"/>
                      </a:lnTo>
                      <a:lnTo>
                        <a:pt x="991" y="927"/>
                      </a:lnTo>
                      <a:lnTo>
                        <a:pt x="998" y="915"/>
                      </a:lnTo>
                      <a:lnTo>
                        <a:pt x="976" y="936"/>
                      </a:lnTo>
                      <a:lnTo>
                        <a:pt x="961" y="934"/>
                      </a:lnTo>
                      <a:lnTo>
                        <a:pt x="945" y="936"/>
                      </a:lnTo>
                      <a:lnTo>
                        <a:pt x="914" y="946"/>
                      </a:lnTo>
                      <a:lnTo>
                        <a:pt x="889" y="933"/>
                      </a:lnTo>
                      <a:lnTo>
                        <a:pt x="866" y="925"/>
                      </a:lnTo>
                      <a:lnTo>
                        <a:pt x="855" y="926"/>
                      </a:lnTo>
                      <a:lnTo>
                        <a:pt x="858" y="914"/>
                      </a:lnTo>
                      <a:lnTo>
                        <a:pt x="855" y="896"/>
                      </a:lnTo>
                      <a:lnTo>
                        <a:pt x="835" y="879"/>
                      </a:lnTo>
                      <a:lnTo>
                        <a:pt x="793" y="869"/>
                      </a:lnTo>
                      <a:lnTo>
                        <a:pt x="786" y="860"/>
                      </a:lnTo>
                      <a:lnTo>
                        <a:pt x="773" y="861"/>
                      </a:lnTo>
                      <a:lnTo>
                        <a:pt x="762" y="853"/>
                      </a:lnTo>
                      <a:lnTo>
                        <a:pt x="744" y="845"/>
                      </a:lnTo>
                      <a:lnTo>
                        <a:pt x="723" y="821"/>
                      </a:lnTo>
                      <a:lnTo>
                        <a:pt x="699" y="815"/>
                      </a:lnTo>
                      <a:lnTo>
                        <a:pt x="686" y="830"/>
                      </a:lnTo>
                      <a:lnTo>
                        <a:pt x="670" y="818"/>
                      </a:lnTo>
                      <a:lnTo>
                        <a:pt x="652" y="818"/>
                      </a:lnTo>
                      <a:lnTo>
                        <a:pt x="614" y="809"/>
                      </a:lnTo>
                      <a:lnTo>
                        <a:pt x="548" y="769"/>
                      </a:lnTo>
                      <a:lnTo>
                        <a:pt x="541" y="726"/>
                      </a:lnTo>
                      <a:lnTo>
                        <a:pt x="535" y="710"/>
                      </a:lnTo>
                      <a:lnTo>
                        <a:pt x="523" y="697"/>
                      </a:lnTo>
                      <a:lnTo>
                        <a:pt x="508" y="674"/>
                      </a:lnTo>
                      <a:lnTo>
                        <a:pt x="436" y="593"/>
                      </a:lnTo>
                      <a:lnTo>
                        <a:pt x="436" y="623"/>
                      </a:lnTo>
                      <a:lnTo>
                        <a:pt x="482" y="678"/>
                      </a:lnTo>
                      <a:lnTo>
                        <a:pt x="500" y="723"/>
                      </a:lnTo>
                      <a:lnTo>
                        <a:pt x="472" y="713"/>
                      </a:lnTo>
                      <a:lnTo>
                        <a:pt x="468" y="686"/>
                      </a:lnTo>
                      <a:lnTo>
                        <a:pt x="432" y="669"/>
                      </a:lnTo>
                      <a:lnTo>
                        <a:pt x="452" y="659"/>
                      </a:lnTo>
                      <a:lnTo>
                        <a:pt x="405" y="630"/>
                      </a:lnTo>
                      <a:lnTo>
                        <a:pt x="423" y="614"/>
                      </a:lnTo>
                      <a:lnTo>
                        <a:pt x="406" y="579"/>
                      </a:lnTo>
                      <a:lnTo>
                        <a:pt x="348" y="508"/>
                      </a:lnTo>
                      <a:lnTo>
                        <a:pt x="342" y="467"/>
                      </a:lnTo>
                      <a:lnTo>
                        <a:pt x="345" y="434"/>
                      </a:lnTo>
                      <a:lnTo>
                        <a:pt x="360" y="400"/>
                      </a:lnTo>
                      <a:lnTo>
                        <a:pt x="360" y="367"/>
                      </a:lnTo>
                      <a:lnTo>
                        <a:pt x="348" y="346"/>
                      </a:lnTo>
                      <a:lnTo>
                        <a:pt x="381" y="340"/>
                      </a:lnTo>
                      <a:lnTo>
                        <a:pt x="342" y="299"/>
                      </a:lnTo>
                      <a:lnTo>
                        <a:pt x="343" y="280"/>
                      </a:lnTo>
                      <a:lnTo>
                        <a:pt x="327" y="255"/>
                      </a:lnTo>
                      <a:lnTo>
                        <a:pt x="333" y="239"/>
                      </a:lnTo>
                      <a:lnTo>
                        <a:pt x="321" y="231"/>
                      </a:lnTo>
                      <a:lnTo>
                        <a:pt x="320" y="214"/>
                      </a:lnTo>
                      <a:lnTo>
                        <a:pt x="308" y="201"/>
                      </a:lnTo>
                      <a:lnTo>
                        <a:pt x="321" y="189"/>
                      </a:lnTo>
                      <a:lnTo>
                        <a:pt x="302" y="181"/>
                      </a:lnTo>
                      <a:lnTo>
                        <a:pt x="288" y="193"/>
                      </a:lnTo>
                      <a:lnTo>
                        <a:pt x="265" y="169"/>
                      </a:lnTo>
                      <a:lnTo>
                        <a:pt x="242" y="162"/>
                      </a:lnTo>
                      <a:lnTo>
                        <a:pt x="209" y="162"/>
                      </a:lnTo>
                      <a:lnTo>
                        <a:pt x="186" y="184"/>
                      </a:lnTo>
                      <a:lnTo>
                        <a:pt x="176" y="177"/>
                      </a:lnTo>
                      <a:lnTo>
                        <a:pt x="195" y="148"/>
                      </a:lnTo>
                      <a:lnTo>
                        <a:pt x="177" y="154"/>
                      </a:lnTo>
                      <a:lnTo>
                        <a:pt x="143" y="184"/>
                      </a:lnTo>
                      <a:lnTo>
                        <a:pt x="108" y="211"/>
                      </a:lnTo>
                      <a:lnTo>
                        <a:pt x="76" y="218"/>
                      </a:lnTo>
                      <a:lnTo>
                        <a:pt x="21" y="245"/>
                      </a:lnTo>
                      <a:lnTo>
                        <a:pt x="0" y="243"/>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6" name=""/>
                <p:cNvSpPr/>
                <p:nvPr/>
              </p:nvSpPr>
              <p:spPr>
                <a:xfrm>
                  <a:off x="1483200" y="1663560"/>
                  <a:ext cx="704880" cy="551520"/>
                </a:xfrm>
                <a:custGeom>
                  <a:avLst/>
                  <a:gdLst/>
                  <a:ahLst/>
                  <a:rect l="l" t="t" r="r" b="b"/>
                  <a:pathLst>
                    <a:path w="375" h="249">
                      <a:moveTo>
                        <a:pt x="0" y="51"/>
                      </a:moveTo>
                      <a:lnTo>
                        <a:pt x="8" y="33"/>
                      </a:lnTo>
                      <a:lnTo>
                        <a:pt x="8" y="19"/>
                      </a:lnTo>
                      <a:lnTo>
                        <a:pt x="21" y="0"/>
                      </a:lnTo>
                      <a:lnTo>
                        <a:pt x="88" y="12"/>
                      </a:lnTo>
                      <a:lnTo>
                        <a:pt x="207" y="34"/>
                      </a:lnTo>
                      <a:lnTo>
                        <a:pt x="252" y="53"/>
                      </a:lnTo>
                      <a:lnTo>
                        <a:pt x="312" y="70"/>
                      </a:lnTo>
                      <a:lnTo>
                        <a:pt x="343" y="101"/>
                      </a:lnTo>
                      <a:lnTo>
                        <a:pt x="374" y="119"/>
                      </a:lnTo>
                      <a:lnTo>
                        <a:pt x="362" y="130"/>
                      </a:lnTo>
                      <a:lnTo>
                        <a:pt x="362" y="146"/>
                      </a:lnTo>
                      <a:lnTo>
                        <a:pt x="350" y="149"/>
                      </a:lnTo>
                      <a:lnTo>
                        <a:pt x="339" y="163"/>
                      </a:lnTo>
                      <a:lnTo>
                        <a:pt x="350" y="176"/>
                      </a:lnTo>
                      <a:lnTo>
                        <a:pt x="349" y="186"/>
                      </a:lnTo>
                      <a:lnTo>
                        <a:pt x="337" y="200"/>
                      </a:lnTo>
                      <a:lnTo>
                        <a:pt x="338" y="213"/>
                      </a:lnTo>
                      <a:lnTo>
                        <a:pt x="358" y="227"/>
                      </a:lnTo>
                      <a:lnTo>
                        <a:pt x="359" y="240"/>
                      </a:lnTo>
                      <a:lnTo>
                        <a:pt x="355" y="246"/>
                      </a:lnTo>
                      <a:lnTo>
                        <a:pt x="334" y="248"/>
                      </a:lnTo>
                      <a:lnTo>
                        <a:pt x="319" y="241"/>
                      </a:lnTo>
                      <a:lnTo>
                        <a:pt x="302" y="225"/>
                      </a:lnTo>
                      <a:lnTo>
                        <a:pt x="295" y="225"/>
                      </a:lnTo>
                      <a:lnTo>
                        <a:pt x="287" y="218"/>
                      </a:lnTo>
                      <a:lnTo>
                        <a:pt x="278" y="198"/>
                      </a:lnTo>
                      <a:lnTo>
                        <a:pt x="268" y="191"/>
                      </a:lnTo>
                      <a:lnTo>
                        <a:pt x="246" y="181"/>
                      </a:lnTo>
                      <a:lnTo>
                        <a:pt x="227" y="174"/>
                      </a:lnTo>
                      <a:lnTo>
                        <a:pt x="200" y="155"/>
                      </a:lnTo>
                      <a:lnTo>
                        <a:pt x="189" y="142"/>
                      </a:lnTo>
                      <a:lnTo>
                        <a:pt x="190" y="132"/>
                      </a:lnTo>
                      <a:lnTo>
                        <a:pt x="202" y="124"/>
                      </a:lnTo>
                      <a:lnTo>
                        <a:pt x="192" y="111"/>
                      </a:lnTo>
                      <a:lnTo>
                        <a:pt x="182" y="119"/>
                      </a:lnTo>
                      <a:lnTo>
                        <a:pt x="165" y="101"/>
                      </a:lnTo>
                      <a:lnTo>
                        <a:pt x="161" y="110"/>
                      </a:lnTo>
                      <a:lnTo>
                        <a:pt x="147" y="110"/>
                      </a:lnTo>
                      <a:lnTo>
                        <a:pt x="143" y="103"/>
                      </a:lnTo>
                      <a:lnTo>
                        <a:pt x="143" y="91"/>
                      </a:lnTo>
                      <a:lnTo>
                        <a:pt x="136" y="85"/>
                      </a:lnTo>
                      <a:lnTo>
                        <a:pt x="126" y="86"/>
                      </a:lnTo>
                      <a:lnTo>
                        <a:pt x="113" y="68"/>
                      </a:lnTo>
                      <a:lnTo>
                        <a:pt x="102" y="66"/>
                      </a:lnTo>
                      <a:lnTo>
                        <a:pt x="87" y="58"/>
                      </a:lnTo>
                      <a:lnTo>
                        <a:pt x="55" y="59"/>
                      </a:lnTo>
                      <a:lnTo>
                        <a:pt x="22" y="58"/>
                      </a:lnTo>
                      <a:lnTo>
                        <a:pt x="0" y="51"/>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7" name=""/>
                <p:cNvSpPr/>
                <p:nvPr/>
              </p:nvSpPr>
              <p:spPr>
                <a:xfrm>
                  <a:off x="1336320" y="1855800"/>
                  <a:ext cx="458640" cy="287640"/>
                </a:xfrm>
                <a:custGeom>
                  <a:avLst/>
                  <a:gdLst/>
                  <a:ahLst/>
                  <a:rect l="l" t="t" r="r" b="b"/>
                  <a:pathLst>
                    <a:path w="244" h="130">
                      <a:moveTo>
                        <a:pt x="8" y="0"/>
                      </a:moveTo>
                      <a:lnTo>
                        <a:pt x="0" y="10"/>
                      </a:lnTo>
                      <a:lnTo>
                        <a:pt x="0" y="22"/>
                      </a:lnTo>
                      <a:lnTo>
                        <a:pt x="16" y="36"/>
                      </a:lnTo>
                      <a:lnTo>
                        <a:pt x="27" y="32"/>
                      </a:lnTo>
                      <a:lnTo>
                        <a:pt x="30" y="37"/>
                      </a:lnTo>
                      <a:lnTo>
                        <a:pt x="44" y="39"/>
                      </a:lnTo>
                      <a:lnTo>
                        <a:pt x="50" y="31"/>
                      </a:lnTo>
                      <a:lnTo>
                        <a:pt x="73" y="32"/>
                      </a:lnTo>
                      <a:lnTo>
                        <a:pt x="78" y="40"/>
                      </a:lnTo>
                      <a:lnTo>
                        <a:pt x="86" y="44"/>
                      </a:lnTo>
                      <a:lnTo>
                        <a:pt x="106" y="42"/>
                      </a:lnTo>
                      <a:lnTo>
                        <a:pt x="112" y="48"/>
                      </a:lnTo>
                      <a:lnTo>
                        <a:pt x="123" y="52"/>
                      </a:lnTo>
                      <a:lnTo>
                        <a:pt x="131" y="63"/>
                      </a:lnTo>
                      <a:lnTo>
                        <a:pt x="131" y="77"/>
                      </a:lnTo>
                      <a:lnTo>
                        <a:pt x="124" y="79"/>
                      </a:lnTo>
                      <a:lnTo>
                        <a:pt x="129" y="85"/>
                      </a:lnTo>
                      <a:lnTo>
                        <a:pt x="118" y="93"/>
                      </a:lnTo>
                      <a:lnTo>
                        <a:pt x="118" y="105"/>
                      </a:lnTo>
                      <a:lnTo>
                        <a:pt x="133" y="107"/>
                      </a:lnTo>
                      <a:lnTo>
                        <a:pt x="142" y="104"/>
                      </a:lnTo>
                      <a:lnTo>
                        <a:pt x="145" y="98"/>
                      </a:lnTo>
                      <a:lnTo>
                        <a:pt x="150" y="104"/>
                      </a:lnTo>
                      <a:lnTo>
                        <a:pt x="158" y="100"/>
                      </a:lnTo>
                      <a:lnTo>
                        <a:pt x="176" y="107"/>
                      </a:lnTo>
                      <a:lnTo>
                        <a:pt x="188" y="119"/>
                      </a:lnTo>
                      <a:lnTo>
                        <a:pt x="193" y="119"/>
                      </a:lnTo>
                      <a:lnTo>
                        <a:pt x="194" y="125"/>
                      </a:lnTo>
                      <a:lnTo>
                        <a:pt x="206" y="129"/>
                      </a:lnTo>
                      <a:lnTo>
                        <a:pt x="220" y="129"/>
                      </a:lnTo>
                      <a:lnTo>
                        <a:pt x="211" y="122"/>
                      </a:lnTo>
                      <a:lnTo>
                        <a:pt x="213" y="115"/>
                      </a:lnTo>
                      <a:lnTo>
                        <a:pt x="224" y="122"/>
                      </a:lnTo>
                      <a:lnTo>
                        <a:pt x="236" y="123"/>
                      </a:lnTo>
                      <a:lnTo>
                        <a:pt x="238" y="113"/>
                      </a:lnTo>
                      <a:lnTo>
                        <a:pt x="226" y="105"/>
                      </a:lnTo>
                      <a:lnTo>
                        <a:pt x="218" y="105"/>
                      </a:lnTo>
                      <a:lnTo>
                        <a:pt x="206" y="96"/>
                      </a:lnTo>
                      <a:lnTo>
                        <a:pt x="218" y="96"/>
                      </a:lnTo>
                      <a:lnTo>
                        <a:pt x="226" y="102"/>
                      </a:lnTo>
                      <a:lnTo>
                        <a:pt x="243" y="102"/>
                      </a:lnTo>
                      <a:lnTo>
                        <a:pt x="239" y="92"/>
                      </a:lnTo>
                      <a:lnTo>
                        <a:pt x="224" y="81"/>
                      </a:lnTo>
                      <a:lnTo>
                        <a:pt x="213" y="79"/>
                      </a:lnTo>
                      <a:lnTo>
                        <a:pt x="199" y="67"/>
                      </a:lnTo>
                      <a:lnTo>
                        <a:pt x="181" y="65"/>
                      </a:lnTo>
                      <a:lnTo>
                        <a:pt x="165" y="59"/>
                      </a:lnTo>
                      <a:lnTo>
                        <a:pt x="154" y="44"/>
                      </a:lnTo>
                      <a:lnTo>
                        <a:pt x="145" y="23"/>
                      </a:lnTo>
                      <a:lnTo>
                        <a:pt x="133" y="23"/>
                      </a:lnTo>
                      <a:lnTo>
                        <a:pt x="130" y="19"/>
                      </a:lnTo>
                      <a:lnTo>
                        <a:pt x="123" y="21"/>
                      </a:lnTo>
                      <a:lnTo>
                        <a:pt x="111" y="12"/>
                      </a:lnTo>
                      <a:lnTo>
                        <a:pt x="91" y="8"/>
                      </a:lnTo>
                      <a:lnTo>
                        <a:pt x="82" y="13"/>
                      </a:lnTo>
                      <a:lnTo>
                        <a:pt x="64" y="8"/>
                      </a:lnTo>
                      <a:lnTo>
                        <a:pt x="53" y="8"/>
                      </a:lnTo>
                      <a:lnTo>
                        <a:pt x="47" y="2"/>
                      </a:lnTo>
                      <a:lnTo>
                        <a:pt x="41" y="0"/>
                      </a:lnTo>
                      <a:lnTo>
                        <a:pt x="30" y="2"/>
                      </a:lnTo>
                      <a:lnTo>
                        <a:pt x="8"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8" name=""/>
                <p:cNvSpPr/>
                <p:nvPr/>
              </p:nvSpPr>
              <p:spPr>
                <a:xfrm>
                  <a:off x="1594080" y="3435840"/>
                  <a:ext cx="325080" cy="132840"/>
                </a:xfrm>
                <a:custGeom>
                  <a:avLst/>
                  <a:gdLst/>
                  <a:ahLst/>
                  <a:rect l="l" t="t" r="r" b="b"/>
                  <a:pathLst>
                    <a:path w="173" h="60">
                      <a:moveTo>
                        <a:pt x="0" y="30"/>
                      </a:moveTo>
                      <a:lnTo>
                        <a:pt x="16" y="12"/>
                      </a:lnTo>
                      <a:lnTo>
                        <a:pt x="22" y="12"/>
                      </a:lnTo>
                      <a:lnTo>
                        <a:pt x="34" y="3"/>
                      </a:lnTo>
                      <a:lnTo>
                        <a:pt x="47" y="3"/>
                      </a:lnTo>
                      <a:lnTo>
                        <a:pt x="51" y="2"/>
                      </a:lnTo>
                      <a:lnTo>
                        <a:pt x="56" y="0"/>
                      </a:lnTo>
                      <a:lnTo>
                        <a:pt x="74" y="10"/>
                      </a:lnTo>
                      <a:lnTo>
                        <a:pt x="78" y="17"/>
                      </a:lnTo>
                      <a:lnTo>
                        <a:pt x="82" y="13"/>
                      </a:lnTo>
                      <a:lnTo>
                        <a:pt x="95" y="21"/>
                      </a:lnTo>
                      <a:lnTo>
                        <a:pt x="103" y="21"/>
                      </a:lnTo>
                      <a:lnTo>
                        <a:pt x="111" y="26"/>
                      </a:lnTo>
                      <a:lnTo>
                        <a:pt x="121" y="30"/>
                      </a:lnTo>
                      <a:lnTo>
                        <a:pt x="121" y="38"/>
                      </a:lnTo>
                      <a:lnTo>
                        <a:pt x="144" y="38"/>
                      </a:lnTo>
                      <a:lnTo>
                        <a:pt x="150" y="47"/>
                      </a:lnTo>
                      <a:lnTo>
                        <a:pt x="163" y="47"/>
                      </a:lnTo>
                      <a:lnTo>
                        <a:pt x="172" y="57"/>
                      </a:lnTo>
                      <a:lnTo>
                        <a:pt x="167" y="59"/>
                      </a:lnTo>
                      <a:lnTo>
                        <a:pt x="163" y="55"/>
                      </a:lnTo>
                      <a:lnTo>
                        <a:pt x="162" y="53"/>
                      </a:lnTo>
                      <a:lnTo>
                        <a:pt x="150" y="55"/>
                      </a:lnTo>
                      <a:lnTo>
                        <a:pt x="146" y="57"/>
                      </a:lnTo>
                      <a:lnTo>
                        <a:pt x="136" y="59"/>
                      </a:lnTo>
                      <a:lnTo>
                        <a:pt x="121" y="59"/>
                      </a:lnTo>
                      <a:lnTo>
                        <a:pt x="111" y="59"/>
                      </a:lnTo>
                      <a:lnTo>
                        <a:pt x="111" y="53"/>
                      </a:lnTo>
                      <a:lnTo>
                        <a:pt x="95" y="40"/>
                      </a:lnTo>
                      <a:lnTo>
                        <a:pt x="95" y="31"/>
                      </a:lnTo>
                      <a:lnTo>
                        <a:pt x="78" y="31"/>
                      </a:lnTo>
                      <a:lnTo>
                        <a:pt x="71" y="26"/>
                      </a:lnTo>
                      <a:lnTo>
                        <a:pt x="66" y="31"/>
                      </a:lnTo>
                      <a:lnTo>
                        <a:pt x="62" y="24"/>
                      </a:lnTo>
                      <a:lnTo>
                        <a:pt x="56" y="24"/>
                      </a:lnTo>
                      <a:lnTo>
                        <a:pt x="56" y="15"/>
                      </a:lnTo>
                      <a:lnTo>
                        <a:pt x="51" y="12"/>
                      </a:lnTo>
                      <a:lnTo>
                        <a:pt x="35" y="13"/>
                      </a:lnTo>
                      <a:lnTo>
                        <a:pt x="26" y="24"/>
                      </a:lnTo>
                      <a:lnTo>
                        <a:pt x="14" y="26"/>
                      </a:lnTo>
                      <a:lnTo>
                        <a:pt x="0" y="3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89" name=""/>
                <p:cNvSpPr/>
                <p:nvPr/>
              </p:nvSpPr>
              <p:spPr>
                <a:xfrm>
                  <a:off x="1876320" y="3531240"/>
                  <a:ext cx="208440" cy="110520"/>
                </a:xfrm>
                <a:custGeom>
                  <a:avLst/>
                  <a:gdLst/>
                  <a:ahLst/>
                  <a:rect l="l" t="t" r="r" b="b"/>
                  <a:pathLst>
                    <a:path w="111" h="50">
                      <a:moveTo>
                        <a:pt x="0" y="37"/>
                      </a:moveTo>
                      <a:lnTo>
                        <a:pt x="10" y="39"/>
                      </a:lnTo>
                      <a:lnTo>
                        <a:pt x="34" y="37"/>
                      </a:lnTo>
                      <a:lnTo>
                        <a:pt x="45" y="47"/>
                      </a:lnTo>
                      <a:lnTo>
                        <a:pt x="58" y="49"/>
                      </a:lnTo>
                      <a:lnTo>
                        <a:pt x="65" y="37"/>
                      </a:lnTo>
                      <a:lnTo>
                        <a:pt x="62" y="34"/>
                      </a:lnTo>
                      <a:lnTo>
                        <a:pt x="69" y="29"/>
                      </a:lnTo>
                      <a:lnTo>
                        <a:pt x="83" y="37"/>
                      </a:lnTo>
                      <a:lnTo>
                        <a:pt x="92" y="37"/>
                      </a:lnTo>
                      <a:lnTo>
                        <a:pt x="92" y="32"/>
                      </a:lnTo>
                      <a:lnTo>
                        <a:pt x="99" y="32"/>
                      </a:lnTo>
                      <a:lnTo>
                        <a:pt x="110" y="24"/>
                      </a:lnTo>
                      <a:lnTo>
                        <a:pt x="103" y="22"/>
                      </a:lnTo>
                      <a:lnTo>
                        <a:pt x="103" y="14"/>
                      </a:lnTo>
                      <a:lnTo>
                        <a:pt x="103" y="6"/>
                      </a:lnTo>
                      <a:lnTo>
                        <a:pt x="87" y="6"/>
                      </a:lnTo>
                      <a:lnTo>
                        <a:pt x="75" y="6"/>
                      </a:lnTo>
                      <a:lnTo>
                        <a:pt x="65" y="6"/>
                      </a:lnTo>
                      <a:lnTo>
                        <a:pt x="49" y="6"/>
                      </a:lnTo>
                      <a:lnTo>
                        <a:pt x="37" y="0"/>
                      </a:lnTo>
                      <a:lnTo>
                        <a:pt x="34" y="6"/>
                      </a:lnTo>
                      <a:lnTo>
                        <a:pt x="33" y="16"/>
                      </a:lnTo>
                      <a:lnTo>
                        <a:pt x="20" y="16"/>
                      </a:lnTo>
                      <a:lnTo>
                        <a:pt x="18" y="24"/>
                      </a:lnTo>
                      <a:lnTo>
                        <a:pt x="10" y="27"/>
                      </a:lnTo>
                      <a:lnTo>
                        <a:pt x="0" y="37"/>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90" name=""/>
                <p:cNvSpPr/>
                <p:nvPr/>
              </p:nvSpPr>
              <p:spPr>
                <a:xfrm>
                  <a:off x="1748520" y="3850560"/>
                  <a:ext cx="1310400" cy="2288880"/>
                </a:xfrm>
                <a:custGeom>
                  <a:avLst/>
                  <a:gdLst/>
                  <a:ahLst/>
                  <a:rect l="l" t="t" r="r" b="b"/>
                  <a:pathLst>
                    <a:path w="697" h="1033">
                      <a:moveTo>
                        <a:pt x="54" y="46"/>
                      </a:moveTo>
                      <a:lnTo>
                        <a:pt x="62" y="34"/>
                      </a:lnTo>
                      <a:lnTo>
                        <a:pt x="79" y="17"/>
                      </a:lnTo>
                      <a:lnTo>
                        <a:pt x="104" y="7"/>
                      </a:lnTo>
                      <a:lnTo>
                        <a:pt x="117" y="0"/>
                      </a:lnTo>
                      <a:lnTo>
                        <a:pt x="132" y="1"/>
                      </a:lnTo>
                      <a:lnTo>
                        <a:pt x="128" y="9"/>
                      </a:lnTo>
                      <a:lnTo>
                        <a:pt x="113" y="18"/>
                      </a:lnTo>
                      <a:lnTo>
                        <a:pt x="109" y="35"/>
                      </a:lnTo>
                      <a:lnTo>
                        <a:pt x="113" y="48"/>
                      </a:lnTo>
                      <a:lnTo>
                        <a:pt x="126" y="48"/>
                      </a:lnTo>
                      <a:lnTo>
                        <a:pt x="132" y="34"/>
                      </a:lnTo>
                      <a:lnTo>
                        <a:pt x="135" y="18"/>
                      </a:lnTo>
                      <a:lnTo>
                        <a:pt x="142" y="23"/>
                      </a:lnTo>
                      <a:lnTo>
                        <a:pt x="153" y="32"/>
                      </a:lnTo>
                      <a:lnTo>
                        <a:pt x="171" y="28"/>
                      </a:lnTo>
                      <a:lnTo>
                        <a:pt x="180" y="35"/>
                      </a:lnTo>
                      <a:lnTo>
                        <a:pt x="184" y="44"/>
                      </a:lnTo>
                      <a:lnTo>
                        <a:pt x="208" y="40"/>
                      </a:lnTo>
                      <a:lnTo>
                        <a:pt x="260" y="35"/>
                      </a:lnTo>
                      <a:lnTo>
                        <a:pt x="279" y="62"/>
                      </a:lnTo>
                      <a:lnTo>
                        <a:pt x="311" y="75"/>
                      </a:lnTo>
                      <a:lnTo>
                        <a:pt x="309" y="87"/>
                      </a:lnTo>
                      <a:lnTo>
                        <a:pt x="322" y="81"/>
                      </a:lnTo>
                      <a:lnTo>
                        <a:pt x="338" y="81"/>
                      </a:lnTo>
                      <a:lnTo>
                        <a:pt x="357" y="92"/>
                      </a:lnTo>
                      <a:lnTo>
                        <a:pt x="378" y="91"/>
                      </a:lnTo>
                      <a:lnTo>
                        <a:pt x="397" y="92"/>
                      </a:lnTo>
                      <a:lnTo>
                        <a:pt x="427" y="114"/>
                      </a:lnTo>
                      <a:lnTo>
                        <a:pt x="461" y="141"/>
                      </a:lnTo>
                      <a:lnTo>
                        <a:pt x="474" y="172"/>
                      </a:lnTo>
                      <a:lnTo>
                        <a:pt x="465" y="195"/>
                      </a:lnTo>
                      <a:lnTo>
                        <a:pt x="504" y="204"/>
                      </a:lnTo>
                      <a:lnTo>
                        <a:pt x="568" y="216"/>
                      </a:lnTo>
                      <a:lnTo>
                        <a:pt x="634" y="229"/>
                      </a:lnTo>
                      <a:lnTo>
                        <a:pt x="677" y="256"/>
                      </a:lnTo>
                      <a:lnTo>
                        <a:pt x="696" y="282"/>
                      </a:lnTo>
                      <a:lnTo>
                        <a:pt x="696" y="314"/>
                      </a:lnTo>
                      <a:lnTo>
                        <a:pt x="678" y="342"/>
                      </a:lnTo>
                      <a:lnTo>
                        <a:pt x="659" y="357"/>
                      </a:lnTo>
                      <a:lnTo>
                        <a:pt x="648" y="368"/>
                      </a:lnTo>
                      <a:lnTo>
                        <a:pt x="634" y="390"/>
                      </a:lnTo>
                      <a:lnTo>
                        <a:pt x="633" y="409"/>
                      </a:lnTo>
                      <a:lnTo>
                        <a:pt x="634" y="432"/>
                      </a:lnTo>
                      <a:lnTo>
                        <a:pt x="627" y="456"/>
                      </a:lnTo>
                      <a:lnTo>
                        <a:pt x="618" y="461"/>
                      </a:lnTo>
                      <a:lnTo>
                        <a:pt x="613" y="475"/>
                      </a:lnTo>
                      <a:lnTo>
                        <a:pt x="602" y="484"/>
                      </a:lnTo>
                      <a:lnTo>
                        <a:pt x="600" y="496"/>
                      </a:lnTo>
                      <a:lnTo>
                        <a:pt x="585" y="510"/>
                      </a:lnTo>
                      <a:lnTo>
                        <a:pt x="561" y="533"/>
                      </a:lnTo>
                      <a:lnTo>
                        <a:pt x="541" y="540"/>
                      </a:lnTo>
                      <a:lnTo>
                        <a:pt x="528" y="539"/>
                      </a:lnTo>
                      <a:lnTo>
                        <a:pt x="502" y="550"/>
                      </a:lnTo>
                      <a:lnTo>
                        <a:pt x="477" y="577"/>
                      </a:lnTo>
                      <a:lnTo>
                        <a:pt x="471" y="587"/>
                      </a:lnTo>
                      <a:lnTo>
                        <a:pt x="471" y="601"/>
                      </a:lnTo>
                      <a:lnTo>
                        <a:pt x="477" y="616"/>
                      </a:lnTo>
                      <a:lnTo>
                        <a:pt x="465" y="631"/>
                      </a:lnTo>
                      <a:lnTo>
                        <a:pt x="465" y="643"/>
                      </a:lnTo>
                      <a:lnTo>
                        <a:pt x="444" y="657"/>
                      </a:lnTo>
                      <a:lnTo>
                        <a:pt x="429" y="666"/>
                      </a:lnTo>
                      <a:lnTo>
                        <a:pt x="417" y="682"/>
                      </a:lnTo>
                      <a:lnTo>
                        <a:pt x="413" y="697"/>
                      </a:lnTo>
                      <a:lnTo>
                        <a:pt x="396" y="716"/>
                      </a:lnTo>
                      <a:lnTo>
                        <a:pt x="388" y="712"/>
                      </a:lnTo>
                      <a:lnTo>
                        <a:pt x="375" y="712"/>
                      </a:lnTo>
                      <a:lnTo>
                        <a:pt x="359" y="719"/>
                      </a:lnTo>
                      <a:lnTo>
                        <a:pt x="370" y="728"/>
                      </a:lnTo>
                      <a:lnTo>
                        <a:pt x="370" y="744"/>
                      </a:lnTo>
                      <a:lnTo>
                        <a:pt x="368" y="757"/>
                      </a:lnTo>
                      <a:lnTo>
                        <a:pt x="360" y="768"/>
                      </a:lnTo>
                      <a:lnTo>
                        <a:pt x="338" y="770"/>
                      </a:lnTo>
                      <a:lnTo>
                        <a:pt x="321" y="775"/>
                      </a:lnTo>
                      <a:lnTo>
                        <a:pt x="312" y="785"/>
                      </a:lnTo>
                      <a:lnTo>
                        <a:pt x="312" y="802"/>
                      </a:lnTo>
                      <a:lnTo>
                        <a:pt x="293" y="807"/>
                      </a:lnTo>
                      <a:lnTo>
                        <a:pt x="274" y="802"/>
                      </a:lnTo>
                      <a:lnTo>
                        <a:pt x="270" y="812"/>
                      </a:lnTo>
                      <a:lnTo>
                        <a:pt x="279" y="819"/>
                      </a:lnTo>
                      <a:lnTo>
                        <a:pt x="274" y="844"/>
                      </a:lnTo>
                      <a:lnTo>
                        <a:pt x="267" y="866"/>
                      </a:lnTo>
                      <a:lnTo>
                        <a:pt x="245" y="866"/>
                      </a:lnTo>
                      <a:lnTo>
                        <a:pt x="238" y="875"/>
                      </a:lnTo>
                      <a:lnTo>
                        <a:pt x="240" y="891"/>
                      </a:lnTo>
                      <a:lnTo>
                        <a:pt x="252" y="891"/>
                      </a:lnTo>
                      <a:lnTo>
                        <a:pt x="260" y="902"/>
                      </a:lnTo>
                      <a:lnTo>
                        <a:pt x="255" y="918"/>
                      </a:lnTo>
                      <a:lnTo>
                        <a:pt x="243" y="920"/>
                      </a:lnTo>
                      <a:lnTo>
                        <a:pt x="225" y="927"/>
                      </a:lnTo>
                      <a:lnTo>
                        <a:pt x="219" y="941"/>
                      </a:lnTo>
                      <a:lnTo>
                        <a:pt x="218" y="960"/>
                      </a:lnTo>
                      <a:lnTo>
                        <a:pt x="206" y="971"/>
                      </a:lnTo>
                      <a:lnTo>
                        <a:pt x="248" y="1005"/>
                      </a:lnTo>
                      <a:lnTo>
                        <a:pt x="260" y="1022"/>
                      </a:lnTo>
                      <a:lnTo>
                        <a:pt x="254" y="1032"/>
                      </a:lnTo>
                      <a:lnTo>
                        <a:pt x="234" y="1025"/>
                      </a:lnTo>
                      <a:lnTo>
                        <a:pt x="219" y="1012"/>
                      </a:lnTo>
                      <a:lnTo>
                        <a:pt x="198" y="1001"/>
                      </a:lnTo>
                      <a:lnTo>
                        <a:pt x="177" y="985"/>
                      </a:lnTo>
                      <a:lnTo>
                        <a:pt x="163" y="964"/>
                      </a:lnTo>
                      <a:lnTo>
                        <a:pt x="162" y="947"/>
                      </a:lnTo>
                      <a:lnTo>
                        <a:pt x="165" y="933"/>
                      </a:lnTo>
                      <a:lnTo>
                        <a:pt x="163" y="824"/>
                      </a:lnTo>
                      <a:lnTo>
                        <a:pt x="159" y="802"/>
                      </a:lnTo>
                      <a:lnTo>
                        <a:pt x="142" y="782"/>
                      </a:lnTo>
                      <a:lnTo>
                        <a:pt x="142" y="763"/>
                      </a:lnTo>
                      <a:lnTo>
                        <a:pt x="153" y="741"/>
                      </a:lnTo>
                      <a:lnTo>
                        <a:pt x="162" y="714"/>
                      </a:lnTo>
                      <a:lnTo>
                        <a:pt x="159" y="687"/>
                      </a:lnTo>
                      <a:lnTo>
                        <a:pt x="156" y="676"/>
                      </a:lnTo>
                      <a:lnTo>
                        <a:pt x="155" y="660"/>
                      </a:lnTo>
                      <a:lnTo>
                        <a:pt x="161" y="653"/>
                      </a:lnTo>
                      <a:lnTo>
                        <a:pt x="163" y="623"/>
                      </a:lnTo>
                      <a:lnTo>
                        <a:pt x="161" y="608"/>
                      </a:lnTo>
                      <a:lnTo>
                        <a:pt x="167" y="570"/>
                      </a:lnTo>
                      <a:lnTo>
                        <a:pt x="161" y="539"/>
                      </a:lnTo>
                      <a:lnTo>
                        <a:pt x="165" y="521"/>
                      </a:lnTo>
                      <a:lnTo>
                        <a:pt x="174" y="489"/>
                      </a:lnTo>
                      <a:lnTo>
                        <a:pt x="165" y="469"/>
                      </a:lnTo>
                      <a:lnTo>
                        <a:pt x="149" y="454"/>
                      </a:lnTo>
                      <a:lnTo>
                        <a:pt x="142" y="437"/>
                      </a:lnTo>
                      <a:lnTo>
                        <a:pt x="124" y="422"/>
                      </a:lnTo>
                      <a:lnTo>
                        <a:pt x="104" y="411"/>
                      </a:lnTo>
                      <a:lnTo>
                        <a:pt x="75" y="407"/>
                      </a:lnTo>
                      <a:lnTo>
                        <a:pt x="62" y="383"/>
                      </a:lnTo>
                      <a:lnTo>
                        <a:pt x="43" y="361"/>
                      </a:lnTo>
                      <a:lnTo>
                        <a:pt x="42" y="342"/>
                      </a:lnTo>
                      <a:lnTo>
                        <a:pt x="40" y="326"/>
                      </a:lnTo>
                      <a:lnTo>
                        <a:pt x="35" y="314"/>
                      </a:lnTo>
                      <a:lnTo>
                        <a:pt x="24" y="301"/>
                      </a:lnTo>
                      <a:lnTo>
                        <a:pt x="11" y="293"/>
                      </a:lnTo>
                      <a:lnTo>
                        <a:pt x="2" y="280"/>
                      </a:lnTo>
                      <a:lnTo>
                        <a:pt x="12" y="268"/>
                      </a:lnTo>
                      <a:lnTo>
                        <a:pt x="12" y="239"/>
                      </a:lnTo>
                      <a:lnTo>
                        <a:pt x="6" y="224"/>
                      </a:lnTo>
                      <a:lnTo>
                        <a:pt x="0" y="209"/>
                      </a:lnTo>
                      <a:lnTo>
                        <a:pt x="6" y="187"/>
                      </a:lnTo>
                      <a:lnTo>
                        <a:pt x="33" y="133"/>
                      </a:lnTo>
                      <a:lnTo>
                        <a:pt x="35" y="109"/>
                      </a:lnTo>
                      <a:lnTo>
                        <a:pt x="49" y="84"/>
                      </a:lnTo>
                      <a:lnTo>
                        <a:pt x="49" y="71"/>
                      </a:lnTo>
                      <a:lnTo>
                        <a:pt x="54" y="46"/>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sp>
        <p:nvSpPr>
          <p:cNvPr id="91" name=""/>
          <p:cNvSpPr/>
          <p:nvPr/>
        </p:nvSpPr>
        <p:spPr>
          <a:xfrm>
            <a:off x="444600" y="2362320"/>
            <a:ext cx="8204040" cy="3657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80808"/>
                </a:solidFill>
                <a:latin typeface="Comic Sans MS"/>
              </a:rPr>
              <a:t>QoS</a:t>
            </a:r>
            <a:br>
              <a:rPr sz="4800"/>
            </a:br>
            <a:br>
              <a:rPr sz="4800"/>
            </a:br>
            <a:r>
              <a:rPr b="0" lang="en-AU" sz="4800" spc="-1" strike="noStrike">
                <a:solidFill>
                  <a:srgbClr val="080808"/>
                </a:solidFill>
                <a:latin typeface="Comic Sans MS"/>
              </a:rPr>
              <a:t>Enterprise and Carrier Interactions</a:t>
            </a:r>
            <a:endParaRPr b="0" lang="en-US" sz="4800" spc="-1" strike="noStrike">
              <a:solidFill>
                <a:srgbClr val="080808"/>
              </a:solidFill>
              <a:latin typeface="Times New Roman"/>
            </a:endParaRPr>
          </a:p>
        </p:txBody>
      </p:sp>
      <p:grpSp>
        <p:nvGrpSpPr>
          <p:cNvPr id="92" name=""/>
          <p:cNvGrpSpPr/>
          <p:nvPr/>
        </p:nvGrpSpPr>
        <p:grpSpPr>
          <a:xfrm>
            <a:off x="2730600" y="800280"/>
            <a:ext cx="3630600" cy="1600200"/>
            <a:chOff x="2730600" y="800280"/>
            <a:chExt cx="3630600" cy="1600200"/>
          </a:xfrm>
        </p:grpSpPr>
        <p:sp>
          <p:nvSpPr>
            <p:cNvPr id="93" name=""/>
            <p:cNvSpPr/>
            <p:nvPr/>
          </p:nvSpPr>
          <p:spPr>
            <a:xfrm>
              <a:off x="3111480" y="800280"/>
              <a:ext cx="1039680" cy="62244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f9100"/>
                  </a:solidFill>
                  <a:latin typeface="Comic Sans MS"/>
                </a:rPr>
                <a:t>2</a:t>
              </a:r>
              <a:endParaRPr b="0" lang="en-US" sz="4000" spc="-1" strike="noStrike">
                <a:solidFill>
                  <a:srgbClr val="080808"/>
                </a:solidFill>
                <a:latin typeface="Times New Roman"/>
              </a:endParaRPr>
            </a:p>
          </p:txBody>
        </p:sp>
        <p:sp>
          <p:nvSpPr>
            <p:cNvPr id="94" name=""/>
            <p:cNvSpPr/>
            <p:nvPr/>
          </p:nvSpPr>
          <p:spPr>
            <a:xfrm>
              <a:off x="2730600" y="1003320"/>
              <a:ext cx="3630600" cy="1397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ef9100"/>
                  </a:solidFill>
                  <a:latin typeface="Comic Sans MS"/>
                </a:rPr>
                <a:t>A</a:t>
              </a:r>
              <a:r>
                <a:rPr b="1" lang="en-AU" sz="4800" spc="-1" strike="noStrike">
                  <a:solidFill>
                    <a:srgbClr val="080808"/>
                  </a:solidFill>
                  <a:latin typeface="Comic Sans MS"/>
                </a:rPr>
                <a:t>PRICOT</a:t>
              </a:r>
              <a:endParaRPr b="0" lang="en-US" sz="4800" spc="-1" strike="noStrike">
                <a:solidFill>
                  <a:srgbClr val="080808"/>
                </a:solidFill>
                <a:latin typeface="Times New Roman"/>
              </a:endParaRPr>
            </a:p>
          </p:txBody>
        </p:sp>
        <p:sp>
          <p:nvSpPr>
            <p:cNvPr id="95" name=""/>
            <p:cNvSpPr/>
            <p:nvPr/>
          </p:nvSpPr>
          <p:spPr>
            <a:xfrm>
              <a:off x="3085920" y="1117800"/>
              <a:ext cx="1801800" cy="36828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f9100"/>
                  </a:solidFill>
                  <a:latin typeface="Comic Sans MS"/>
                </a:rPr>
                <a:t>000</a:t>
              </a:r>
              <a:endParaRPr b="0" lang="en-US" sz="2400" spc="-1" strike="noStrike">
                <a:solidFill>
                  <a:srgbClr val="080808"/>
                </a:solidFill>
                <a:latin typeface="Times New Roman"/>
              </a:endParaRPr>
            </a:p>
          </p:txBody>
        </p:sp>
      </p:gr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
        <p:nvSpPr>
          <p:cNvPr id="102"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af34"/>
                </a:solidFill>
                <a:latin typeface="Comic Sans MS"/>
              </a:rPr>
              <a:t>What is QoS?</a:t>
            </a:r>
            <a:endParaRPr b="1" lang="en-US" sz="2800" spc="-1" strike="noStrike">
              <a:solidFill>
                <a:srgbClr val="ffaf34"/>
              </a:solidFill>
              <a:latin typeface="Comic Sans MS"/>
            </a:endParaRPr>
          </a:p>
        </p:txBody>
      </p:sp>
      <p:sp>
        <p:nvSpPr>
          <p:cNvPr id="103" name="PlaceHolder 2"/>
          <p:cNvSpPr>
            <a:spLocks noGrp="1"/>
          </p:cNvSpPr>
          <p:nvPr>
            <p:ph/>
          </p:nvPr>
        </p:nvSpPr>
        <p:spPr>
          <a:xfrm>
            <a:off x="380880" y="2922480"/>
            <a:ext cx="8763120" cy="3355920"/>
          </a:xfrm>
          <a:prstGeom prst="rect">
            <a:avLst/>
          </a:prstGeom>
          <a:noFill/>
          <a:ln w="0">
            <a:noFill/>
          </a:ln>
        </p:spPr>
        <p:txBody>
          <a:bodyPr lIns="90360" rIns="90360" tIns="44280" bIns="44280" anchor="t">
            <a:normAutofit/>
          </a:bodyPr>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QoS specifications are typically included as part of an SLA (Service Level Agreement)</a:t>
            </a:r>
            <a:endParaRPr b="0" lang="en-US" sz="2800" spc="-1" strike="noStrike">
              <a:solidFill>
                <a:srgbClr val="000000"/>
              </a:solidFill>
              <a:latin typeface="Comic Sans MS"/>
            </a:endParaRPr>
          </a:p>
          <a:p>
            <a:pPr marL="285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QoS specifications vary for each service (SDH, Voice, ATM, IP, …)</a:t>
            </a:r>
            <a:endParaRPr b="0" lang="en-US" sz="2800" spc="-1" strike="noStrike">
              <a:solidFill>
                <a:srgbClr val="000000"/>
              </a:solidFill>
              <a:latin typeface="Comic Sans MS"/>
            </a:endParaRPr>
          </a:p>
          <a:p>
            <a:pPr marL="285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 general QoS is many things to many people.</a:t>
            </a:r>
            <a:endParaRPr b="0" lang="en-US" sz="2800" spc="-1" strike="noStrike">
              <a:solidFill>
                <a:srgbClr val="000000"/>
              </a:solidFill>
              <a:latin typeface="Comic Sans MS"/>
            </a:endParaRPr>
          </a:p>
        </p:txBody>
      </p:sp>
      <p:sp>
        <p:nvSpPr>
          <p:cNvPr id="104" name=""/>
          <p:cNvSpPr/>
          <p:nvPr/>
        </p:nvSpPr>
        <p:spPr>
          <a:xfrm>
            <a:off x="190440" y="979560"/>
            <a:ext cx="8763120" cy="1603440"/>
          </a:xfrm>
          <a:prstGeom prst="rect">
            <a:avLst/>
          </a:prstGeom>
          <a:noFill/>
          <a:ln w="0">
            <a:noFill/>
          </a:ln>
        </p:spPr>
        <p:style>
          <a:lnRef idx="0"/>
          <a:fillRef idx="0"/>
          <a:effectRef idx="0"/>
          <a:fontRef idx="minor"/>
        </p:style>
        <p:txBody>
          <a:bodyPr lIns="90360" rIns="90360" tIns="44280" bIns="44280" anchor="t">
            <a:normAutofit fontScale="98000"/>
          </a:bodyPr>
          <a:p>
            <a:pPr marL="280080" indent="-280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omic Sans MS"/>
              </a:rPr>
              <a:t>QoS encompasses the specification of a set of objective and subjective parameters relating to an offered service and the subsequent delivery and verification of those parameters.</a:t>
            </a:r>
            <a:endParaRPr b="0" lang="en-US" sz="2800" spc="-1" strike="noStrike">
              <a:solidFill>
                <a:srgbClr val="080808"/>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QoS for Data transport</a:t>
            </a:r>
            <a:endParaRPr b="1" lang="en-US" sz="2800" spc="-1" strike="noStrike">
              <a:solidFill>
                <a:srgbClr val="ffaf34"/>
              </a:solidFill>
              <a:latin typeface="Comic Sans MS"/>
            </a:endParaRPr>
          </a:p>
        </p:txBody>
      </p:sp>
      <p:sp>
        <p:nvSpPr>
          <p:cNvPr id="106" name=""/>
          <p:cNvSpPr/>
          <p:nvPr/>
        </p:nvSpPr>
        <p:spPr>
          <a:xfrm>
            <a:off x="-52560" y="784080"/>
            <a:ext cx="298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nection QoS</a:t>
            </a:r>
            <a:endParaRPr b="0" lang="en-US" sz="2800" spc="-1" strike="noStrike">
              <a:solidFill>
                <a:srgbClr val="080808"/>
              </a:solidFill>
              <a:latin typeface="Times New Roman"/>
            </a:endParaRPr>
          </a:p>
        </p:txBody>
      </p:sp>
      <p:sp>
        <p:nvSpPr>
          <p:cNvPr id="107" name=""/>
          <p:cNvSpPr/>
          <p:nvPr/>
        </p:nvSpPr>
        <p:spPr>
          <a:xfrm>
            <a:off x="4739040" y="78408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cket QoS</a:t>
            </a:r>
            <a:endParaRPr b="0" lang="en-US" sz="2800" spc="-1" strike="noStrike">
              <a:solidFill>
                <a:srgbClr val="080808"/>
              </a:solidFill>
              <a:latin typeface="Times New Roman"/>
            </a:endParaRPr>
          </a:p>
        </p:txBody>
      </p:sp>
      <p:sp>
        <p:nvSpPr>
          <p:cNvPr id="108" name=""/>
          <p:cNvSpPr/>
          <p:nvPr/>
        </p:nvSpPr>
        <p:spPr>
          <a:xfrm>
            <a:off x="0" y="1424160"/>
            <a:ext cx="4470480" cy="501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Differentiates Connection performance</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Parameters define virtual circuit performance</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Data is populated within intermediate nodes</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Each node implements per-connection queuing</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cales poorly (core nodes require per connection state)</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ATMF, IETF RSVP</a:t>
            </a:r>
            <a:endParaRPr b="0" lang="en-US" sz="2000" spc="-1" strike="noStrike">
              <a:solidFill>
                <a:srgbClr val="080808"/>
              </a:solidFill>
              <a:latin typeface="Times New Roman"/>
            </a:endParaRPr>
          </a:p>
        </p:txBody>
      </p:sp>
      <p:sp>
        <p:nvSpPr>
          <p:cNvPr id="109" name=""/>
          <p:cNvSpPr/>
          <p:nvPr/>
        </p:nvSpPr>
        <p:spPr>
          <a:xfrm>
            <a:off x="4673520" y="1424160"/>
            <a:ext cx="4470480" cy="501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Differentiates Forwarding performance</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Parameters define packet forwarding behaviours</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Data is populated within the packets (marking)</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Each node implements a set of standard PHBs</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Scales well (no core node connection state)</a:t>
            </a: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p>
            <a:pPr marL="285840" indent="-285840">
              <a:lnSpc>
                <a:spcPct val="90000"/>
              </a:lnSpc>
              <a:spcBef>
                <a:spcPts val="2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ETF Differentiated Services</a:t>
            </a:r>
            <a:endParaRPr b="0" lang="en-US" sz="2000" spc="-1" strike="noStrike">
              <a:solidFill>
                <a:srgbClr val="080808"/>
              </a:solidFill>
              <a:latin typeface="Times New Roman"/>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Application Requirements</a:t>
            </a:r>
            <a:endParaRPr b="1" lang="en-US" sz="2800" spc="-1" strike="noStrike">
              <a:solidFill>
                <a:srgbClr val="ffaf34"/>
              </a:solidFill>
              <a:latin typeface="Comic Sans MS"/>
            </a:endParaRPr>
          </a:p>
        </p:txBody>
      </p:sp>
      <p:sp>
        <p:nvSpPr>
          <p:cNvPr id="111" name=""/>
          <p:cNvSpPr/>
          <p:nvPr/>
        </p:nvSpPr>
        <p:spPr>
          <a:xfrm>
            <a:off x="380880" y="903240"/>
            <a:ext cx="8763120" cy="5375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Interactive realtime applications</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Voice/Video teleconferencing</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Multiplayer gaming systems</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Closed-loop monitoring and control system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Non-interactive, realtime applications</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Streaming audio/video systems</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Transaction network system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Non-interactive, non-realtime applications</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File transfer services, Web browsing, e-mail</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Applications typically specify connection QoS</a:t>
            </a:r>
            <a:endParaRPr b="0" lang="en-US" sz="2800" spc="-1" strike="noStrike">
              <a:solidFill>
                <a:srgbClr val="080808"/>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Enterprise Requirements</a:t>
            </a:r>
            <a:endParaRPr b="1" lang="en-US" sz="2800" spc="-1" strike="noStrike">
              <a:solidFill>
                <a:srgbClr val="ffaf34"/>
              </a:solidFill>
              <a:latin typeface="Comic Sans MS"/>
            </a:endParaRPr>
          </a:p>
        </p:txBody>
      </p:sp>
      <p:sp>
        <p:nvSpPr>
          <p:cNvPr id="113" name=""/>
          <p:cNvSpPr/>
          <p:nvPr/>
        </p:nvSpPr>
        <p:spPr>
          <a:xfrm>
            <a:off x="380880" y="903240"/>
            <a:ext cx="8763120" cy="5375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Granularity:</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Guarantees provided to individual micro-flows</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Policies controlled on a per user/app/term basi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Convergence:</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Cost reductions and productivity improvement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Flexibility:</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Extensive array of features and service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Policies:</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Users: Application, Roles, Priority, Time</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Resources: Terminals, Servers, Networks</a:t>
            </a:r>
            <a:endParaRPr b="0" lang="en-US" sz="2500" spc="-1" strike="noStrike">
              <a:solidFill>
                <a:srgbClr val="080808"/>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Integrated Services</a:t>
            </a:r>
            <a:endParaRPr b="1" lang="en-US" sz="2800" spc="-1" strike="noStrike">
              <a:solidFill>
                <a:srgbClr val="ffaf34"/>
              </a:solidFill>
              <a:latin typeface="Comic Sans MS"/>
            </a:endParaRPr>
          </a:p>
        </p:txBody>
      </p:sp>
      <p:sp>
        <p:nvSpPr>
          <p:cNvPr id="115" name=""/>
          <p:cNvSpPr/>
          <p:nvPr/>
        </p:nvSpPr>
        <p:spPr>
          <a:xfrm>
            <a:off x="0" y="901800"/>
            <a:ext cx="9144000" cy="3427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rPr>
              <a:t>Defines three modes of operation:</a:t>
            </a:r>
            <a:endParaRPr b="0" lang="en-US" sz="2800" spc="-1" strike="noStrike">
              <a:solidFill>
                <a:srgbClr val="080808"/>
              </a:solidFill>
              <a:latin typeface="Times New Roman"/>
            </a:endParaRPr>
          </a:p>
        </p:txBody>
      </p:sp>
      <p:sp>
        <p:nvSpPr>
          <p:cNvPr id="116" name=""/>
          <p:cNvSpPr/>
          <p:nvPr/>
        </p:nvSpPr>
        <p:spPr>
          <a:xfrm>
            <a:off x="380880" y="1436760"/>
            <a:ext cx="8763120" cy="48416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Best Effort Service</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The network promises nothing but does its best to deliver the packets end to end.</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Guaranteed Service</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Provides an assurance of throughput, max latency and no discard for conforming packets.</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Controlled-Load Service</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Provides a performance level similar to that of an uncongested best effort network for conforming packets.</a:t>
            </a:r>
            <a:endParaRPr b="0" lang="en-US" sz="2500" spc="-1" strike="noStrike">
              <a:solidFill>
                <a:srgbClr val="080808"/>
              </a:solidFill>
              <a:latin typeface="Times New Roman"/>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Provider Requirements</a:t>
            </a:r>
            <a:endParaRPr b="1" lang="en-US" sz="2800" spc="-1" strike="noStrike">
              <a:solidFill>
                <a:srgbClr val="ffaf34"/>
              </a:solidFill>
              <a:latin typeface="Comic Sans MS"/>
            </a:endParaRPr>
          </a:p>
        </p:txBody>
      </p:sp>
      <p:sp>
        <p:nvSpPr>
          <p:cNvPr id="118" name=""/>
          <p:cNvSpPr/>
          <p:nvPr/>
        </p:nvSpPr>
        <p:spPr>
          <a:xfrm>
            <a:off x="380880" y="903240"/>
            <a:ext cx="8763120" cy="53751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Scalability:</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No connection state within the core</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No connection signalling within the core</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Reliability:</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Network redundancy and resiliency to failure</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Monitoring:</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Ability to verify and report performance data</a:t>
            </a:r>
            <a:endParaRPr b="0" lang="en-US" sz="25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285840" indent="-28584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Policies:</a:t>
            </a:r>
            <a:endParaRPr b="0" lang="en-US" sz="28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Customers: Priority, business relationships</a:t>
            </a:r>
            <a:endParaRPr b="0" lang="en-US" sz="2500" spc="-1" strike="noStrike">
              <a:solidFill>
                <a:srgbClr val="080808"/>
              </a:solidFill>
              <a:latin typeface="Times New Roman"/>
            </a:endParaRPr>
          </a:p>
          <a:p>
            <a:pPr lvl="1" marL="628560" indent="-22860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Products: Differentiated service offerings</a:t>
            </a:r>
            <a:endParaRPr b="0" lang="en-US" sz="2500" spc="-1" strike="noStrike">
              <a:solidFill>
                <a:srgbClr val="080808"/>
              </a:solidFill>
              <a:latin typeface="Times New Roman"/>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1200" y="101520"/>
            <a:ext cx="7175520" cy="432000"/>
          </a:xfrm>
          <a:prstGeom prst="rect">
            <a:avLst/>
          </a:prstGeom>
          <a:noFill/>
          <a:ln w="0">
            <a:noFill/>
          </a:ln>
        </p:spPr>
        <p:txBody>
          <a:bodyPr lIns="90360" rIns="90360" tIns="44280" bIns="4428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f34"/>
                </a:solidFill>
                <a:latin typeface="Comic Sans MS"/>
              </a:rPr>
              <a:t>Differentiated Services</a:t>
            </a:r>
            <a:endParaRPr b="1" lang="en-US" sz="2800" spc="-1" strike="noStrike">
              <a:solidFill>
                <a:srgbClr val="ffaf34"/>
              </a:solidFill>
              <a:latin typeface="Comic Sans MS"/>
            </a:endParaRPr>
          </a:p>
        </p:txBody>
      </p:sp>
      <p:sp>
        <p:nvSpPr>
          <p:cNvPr id="120" name=""/>
          <p:cNvSpPr/>
          <p:nvPr/>
        </p:nvSpPr>
        <p:spPr>
          <a:xfrm>
            <a:off x="380880" y="1436760"/>
            <a:ext cx="8763120" cy="48416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Expedited Forwarding</a:t>
            </a:r>
            <a:endParaRPr b="0" lang="en-US" sz="28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Egress rate limited priority queueing.</a:t>
            </a:r>
            <a:endParaRPr b="0" lang="en-US" sz="25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Minimised end-to-end latency, minimal packet loss.</a:t>
            </a:r>
            <a:endParaRPr b="0" lang="en-US" sz="2500" spc="-1" strike="noStrike">
              <a:solidFill>
                <a:srgbClr val="080808"/>
              </a:solidFill>
              <a:latin typeface="Times New Roman"/>
            </a:endParaRPr>
          </a:p>
          <a:p>
            <a:pPr lvl="4" marL="1470960" indent="-169920">
              <a:lnSpc>
                <a:spcPct val="90000"/>
              </a:lnSpc>
              <a:spcBef>
                <a:spcPts val="224"/>
              </a:spcBef>
              <a:buClr>
                <a:srgbClr val="f17603"/>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282960" indent="-28296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Assured Forwarding</a:t>
            </a:r>
            <a:endParaRPr b="0" lang="en-US" sz="28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Medalist classes - Platinum, Gold, Silver, Bronze.</a:t>
            </a:r>
            <a:endParaRPr b="0" lang="en-US" sz="25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Dimensioning can control latency and loss.</a:t>
            </a:r>
            <a:endParaRPr b="0" lang="en-US" sz="2500" spc="-1" strike="noStrike">
              <a:solidFill>
                <a:srgbClr val="080808"/>
              </a:solidFill>
              <a:latin typeface="Times New Roman"/>
            </a:endParaRPr>
          </a:p>
          <a:p>
            <a:pPr lvl="4" marL="1470960" indent="-169920">
              <a:lnSpc>
                <a:spcPct val="90000"/>
              </a:lnSpc>
              <a:spcBef>
                <a:spcPts val="224"/>
              </a:spcBef>
              <a:buClr>
                <a:srgbClr val="f17603"/>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282960" indent="-28296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Default Best Effort Forwarding</a:t>
            </a:r>
            <a:endParaRPr b="0" lang="en-US" sz="28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We are familiar with this one!</a:t>
            </a:r>
            <a:endParaRPr b="0" lang="en-US" sz="2500" spc="-1" strike="noStrike">
              <a:solidFill>
                <a:srgbClr val="080808"/>
              </a:solidFill>
              <a:latin typeface="Times New Roman"/>
            </a:endParaRPr>
          </a:p>
          <a:p>
            <a:pPr lvl="4" marL="1470960" indent="-169920">
              <a:lnSpc>
                <a:spcPct val="90000"/>
              </a:lnSpc>
              <a:spcBef>
                <a:spcPts val="224"/>
              </a:spcBef>
              <a:buClr>
                <a:srgbClr val="f17603"/>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282960" indent="-282960">
              <a:lnSpc>
                <a:spcPct val="90000"/>
              </a:lnSpc>
              <a:spcBef>
                <a:spcPts val="349"/>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mic Sans MS"/>
              </a:rPr>
              <a:t>Others</a:t>
            </a:r>
            <a:endParaRPr b="0" lang="en-US" sz="2800" spc="-1" strike="noStrike">
              <a:solidFill>
                <a:srgbClr val="080808"/>
              </a:solidFill>
              <a:latin typeface="Times New Roman"/>
            </a:endParaRPr>
          </a:p>
          <a:p>
            <a:pPr lvl="1" marL="622080" indent="-226080">
              <a:lnSpc>
                <a:spcPct val="90000"/>
              </a:lnSpc>
              <a:spcBef>
                <a:spcPts val="312"/>
              </a:spcBef>
              <a:buClr>
                <a:srgbClr val="f1760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mic Sans MS"/>
              </a:rPr>
              <a:t>LBE, EF-D, ...</a:t>
            </a:r>
            <a:endParaRPr b="0" lang="en-US" sz="2500" spc="-1" strike="noStrike">
              <a:solidFill>
                <a:srgbClr val="080808"/>
              </a:solidFill>
              <a:latin typeface="Times New Roman"/>
            </a:endParaRPr>
          </a:p>
        </p:txBody>
      </p:sp>
      <p:sp>
        <p:nvSpPr>
          <p:cNvPr id="121" name=""/>
          <p:cNvSpPr/>
          <p:nvPr/>
        </p:nvSpPr>
        <p:spPr>
          <a:xfrm>
            <a:off x="0" y="901800"/>
            <a:ext cx="9144000" cy="3427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rPr>
              <a:t>Defines several Per Hob Behaviours (PHBs):</a:t>
            </a:r>
            <a:endParaRPr b="0" lang="en-US" sz="2800" spc="-1" strike="noStrike">
              <a:solidFill>
                <a:srgbClr val="080808"/>
              </a:solidFill>
              <a:latin typeface="Times New Roman"/>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4T12:07:12Z</dcterms:created>
  <dc:creator>Michael Stefan Cox</dc:creator>
  <dc:description/>
  <dc:language>en-US</dc:language>
  <cp:lastModifiedBy>Michael Cox</cp:lastModifiedBy>
  <cp:lastPrinted>1998-04-18T00:07:22Z</cp:lastPrinted>
  <dcterms:modified xsi:type="dcterms:W3CDTF">2000-03-02T00:47:19Z</dcterms:modified>
  <cp:revision>98</cp:revision>
  <dc:subject/>
  <dc:title>Network Services Overview</dc:title>
</cp:coreProperties>
</file>