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728-1FD5-42A2-9EF3-C7F8CBAF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4D7-BA8E-4479-88C1-FC207453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402-3080-4AF9-B19D-87948114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8DD-3452-4B55-BA00-FECF493D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D6CF-7974-40FA-8DEF-EAC23F43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F851-20E4-4524-B83C-14122F9A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4CFB-686A-4B22-B187-DB6A943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819F-9B2F-47EC-AB26-F2E6D2B7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978F-E853-48E8-AA25-DB167D01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1F88-70B7-4522-9504-D21AD355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D632-7EF2-4698-99F0-B81F6862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9A5-549C-4055-BF21-287FBF23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5090-CE82-49CD-945E-3E4B682B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3FA7-2E60-4ECD-A66A-CA2CBF1B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AC9F-95B7-4CDA-9934-2E8A9DFC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3305-D841-4B05-B9B3-AE45376D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8426-A5E8-41A7-9654-2A686C44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D2E-0481-4F5D-84CA-3CFA3B42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045-60C3-4D6E-93B4-155ED84F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94D-EF87-424B-8AF1-38C5BAA6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ABD-CD0B-45E3-8CCD-7BF595F6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AC7-3631-4D25-9E57-55802AB3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266-737E-49D5-84A6-EF04D4D8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3A6-1695-48A8-81FA-5EA12C47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B19E-AA42-428C-9D55-3D4B4EA7B2B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7A5E-6A8C-45F8-849F-10A78B550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7325-38D7-421C-9EC6-7638FB302B4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EC6B-C7B7-45C7-9CB2-55424B386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311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PNIC Open Address Policy Meeting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567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6400" y="448524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cial Interest Group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PNIC Reverse DNS in 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87000" y="586188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nd, Korea, Seo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273A-739E-410C-B454-D00E662B7D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l the World About 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delegation are not automatically setup as part of an IP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ttp://www.apnic.net/db/domain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es configuration, adds to AP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tes in-addr.arpa domain object in WHOIS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62D-AF53-4A4A-B107-6E3665F969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8400" y="1662120"/>
            <a:ext cx="7925040" cy="47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3C8-F8DD-4C50-B355-813D699F108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ling out the 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25240" y="1574280"/>
            <a:ext cx="172692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6840" y="1613880"/>
            <a:ext cx="59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3.62.61.in-addr.ar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9120" y="2137680"/>
            <a:ext cx="17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8440" y="2645640"/>
            <a:ext cx="1917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-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-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ne-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91040" y="2164680"/>
            <a:ext cx="48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r and Office sub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91040" y="2669760"/>
            <a:ext cx="52322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PNIC) NIC-H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PNIC) NIC-H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PNIC) NIC-H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9200" y="5560200"/>
            <a:ext cx="17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erv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38360" y="5016600"/>
            <a:ext cx="4937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1.my.forward.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2.my.forward.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.some.faraway.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BF2-04B2-4742-990F-BA9E26D7C8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ling out the Form (cont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5600" y="1574280"/>
            <a:ext cx="190008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6840" y="1613880"/>
            <a:ext cx="59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other remarks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9120" y="2137680"/>
            <a:ext cx="17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f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8440" y="2970360"/>
            <a:ext cx="191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t-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t-lo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3680" y="2164680"/>
            <a:ext cx="65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emails this if object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1040" y="2994120"/>
            <a:ext cx="5232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er-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-for-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-as-mnt-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9200" y="5235840"/>
            <a:ext cx="2176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-ma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51320" y="5242320"/>
            <a:ext cx="4937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elf@my.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C45-8B08-48D0-8929-41E1D53B0A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RR: Nameserver mismat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1662120"/>
            <a:ext cx="7924680" cy="47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978-EE37-4B2C-A502-DC2345C792A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quest sent to APN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1662120"/>
            <a:ext cx="7924680" cy="47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8D6-6742-4645-8B4C-F8617EDF5C3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ccessful Upd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1662120"/>
            <a:ext cx="7924680" cy="47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70A-B9DF-4973-BB42-7CDC90B7F1D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are changes activ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662120"/>
            <a:ext cx="81342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ne files rebuilt from database every morning (Mon-Fri) at 10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0am, UTC +1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after 10am Friday not visible until 10am Mon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.apnic.net automatically reloads zone file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s-admin@apnic.net for requesting human   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DFB-6858-4B94-ACFD-0CDF2CB41BE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3A1-F85F-4763-9415-29724C19B907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Reverse D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‘Reverse DNS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40000"/>
              </a:lnSpc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 DNS maps names to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ois.apnic.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3.37.255.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e DNS maps numbers to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3.37.255.97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whois.apnic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881-8A86-4AF5-8C16-B4725437D4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-ADDR.arp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y of IP add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addr.arpa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 address is written L to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3.37.255.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ed in in-addr.arpa hier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.255.37.203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EDE-755F-424F-9A0E-FF8F88A06C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63760" y="1987560"/>
            <a:ext cx="7911000" cy="4136400"/>
            <a:chOff x="563760" y="1987560"/>
            <a:chExt cx="7911000" cy="4136400"/>
          </a:xfrm>
        </p:grpSpPr>
        <p:sp>
          <p:nvSpPr>
            <p:cNvPr id="110" name=""/>
            <p:cNvSpPr/>
            <p:nvPr/>
          </p:nvSpPr>
          <p:spPr>
            <a:xfrm>
              <a:off x="5452920" y="4070520"/>
              <a:ext cx="0" cy="37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359240" y="4009680"/>
              <a:ext cx="1021680" cy="406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5550840" y="3981600"/>
              <a:ext cx="1641240" cy="458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487840" y="3936960"/>
              <a:ext cx="771120" cy="525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63760" y="1987560"/>
              <a:ext cx="7911000" cy="4136400"/>
              <a:chOff x="563760" y="1987560"/>
              <a:chExt cx="7911000" cy="4136400"/>
            </a:xfrm>
          </p:grpSpPr>
          <p:sp>
            <p:nvSpPr>
              <p:cNvPr id="115" name=""/>
              <p:cNvSpPr/>
              <p:nvPr/>
            </p:nvSpPr>
            <p:spPr>
              <a:xfrm>
                <a:off x="1037880" y="3257640"/>
                <a:ext cx="0" cy="447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37880" y="4073760"/>
                <a:ext cx="0" cy="447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563760" y="1987560"/>
                <a:ext cx="7911000" cy="4136400"/>
                <a:chOff x="563760" y="1987560"/>
                <a:chExt cx="7911000" cy="413640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63760" y="4361040"/>
                  <a:ext cx="6963840" cy="519840"/>
                  <a:chOff x="563760" y="4361040"/>
                  <a:chExt cx="6963840" cy="519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63760" y="4361040"/>
                    <a:ext cx="957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whoi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4035240" y="4421160"/>
                    <a:ext cx="3492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A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61     203    210     211..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4358880" y="4854600"/>
                  <a:ext cx="0" cy="241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380200" y="5664240"/>
                  <a:ext cx="309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ff9900"/>
                      </a:solidFill>
                      <a:latin typeface="Arial"/>
                    </a:rPr>
                    <a:t>63.62.61.in-addr.arp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097160" y="5100840"/>
                  <a:ext cx="591840" cy="360360"/>
                </a:xfrm>
                <a:prstGeom prst="rect">
                  <a:avLst/>
                </a:prstGeom>
                <a:noFill/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097160" y="5746680"/>
                  <a:ext cx="591840" cy="360360"/>
                </a:xfrm>
                <a:prstGeom prst="rect">
                  <a:avLst/>
                </a:prstGeom>
                <a:noFill/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397040" y="5467320"/>
                  <a:ext cx="0" cy="241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821120" y="5834160"/>
                  <a:ext cx="590040" cy="181080"/>
                </a:xfrm>
                <a:prstGeom prst="rightArrow">
                  <a:avLst>
                    <a:gd name="adj1" fmla="val 50000"/>
                    <a:gd name="adj2" fmla="val 81461"/>
                  </a:avLst>
                </a:prstGeom>
                <a:noFill/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598320" y="1987560"/>
                  <a:ext cx="6722280" cy="2093400"/>
                  <a:chOff x="598320" y="1987560"/>
                  <a:chExt cx="6722280" cy="20934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130200" y="1987560"/>
                    <a:ext cx="26877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3200" spc="-1" strike="noStrike">
                        <a:solidFill>
                          <a:srgbClr val="ffffff"/>
                        </a:solidFill>
                        <a:latin typeface="Arial"/>
                      </a:rPr>
                      <a:t>Root DNS (‘.’)</a:t>
                    </a:r>
                    <a:endParaRPr b="0" lang="en-US" sz="3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148120" y="2844720"/>
                    <a:ext cx="688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edu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548880" y="2844720"/>
                    <a:ext cx="756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co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000040" y="2844720"/>
                    <a:ext cx="794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arp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487560" y="2844720"/>
                    <a:ext cx="833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p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61400" y="2844720"/>
                    <a:ext cx="604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ne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598320" y="3597480"/>
                    <a:ext cx="5371200" cy="483480"/>
                    <a:chOff x="598320" y="3597480"/>
                    <a:chExt cx="5371200" cy="4834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598320" y="3597480"/>
                      <a:ext cx="907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n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840920" y="3621240"/>
                      <a:ext cx="1128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-add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 flipH="1">
                    <a:off x="2714040" y="2527200"/>
                    <a:ext cx="1234800" cy="436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972960" y="2540160"/>
                    <a:ext cx="0" cy="399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984120" y="2552760"/>
                    <a:ext cx="1355400" cy="39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996720" y="2540160"/>
                    <a:ext cx="2503080" cy="434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400000" y="3351240"/>
                    <a:ext cx="0" cy="338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>
                    <a:off x="1139040" y="2532240"/>
                    <a:ext cx="2828520" cy="372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66"/>
                </a:solidFill>
                <a:latin typeface="Arial"/>
              </a:rPr>
              <a:t>IN-ADDR.arp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2840" y="12981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pping numbers to names - ‘reverse DN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28120" y="5070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28120" y="5729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0364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98960" y="2357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56120" y="4483080"/>
            <a:ext cx="608040" cy="3780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95A-E2ED-42C0-8CBA-588C18F7F2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A Reco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5440" y="1810440"/>
            <a:ext cx="8053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.62.61.in-addr.arpa IN SO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.that.is.primary.NS    myself.my.address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0302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SOA Serial Numb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YYYY MM DD X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Refresh ti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Retry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expi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H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minimum Time To Live (TT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8AA-04C4-48F2-AA5E-7E3F50B820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S Recor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Still in ‘63.62.61.in-addr.arpa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S     ns1.my.forward.domain.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See RFC 10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S     ns2.my.forward.dom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t least two name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S     ns.some.faraway.s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See RFC 2182 - backup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case your site is 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4C2-32B1-4E79-8396-F1F1797F89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TR Recor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PTR records ‘point’ an IP to a host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 current $ORIGIN, 63.62.61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TR   router.my.forward.dom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P address 61.62.6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T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l.my.forward.dom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P address 61.62.63.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T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.machine.in.subn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2E5-7FE9-49F5-8C95-BFEDD226C6C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ways Remember the Do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7760" y="1476000"/>
            <a:ext cx="827100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etting the trailing dots is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appends the current domain ($ORIGIN) to a record without a trailing d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4680" y="3207240"/>
            <a:ext cx="770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ne file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3      IN PTR    machine.no.d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2760" y="4625280"/>
            <a:ext cx="80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 host 61.62.63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2760" y="5313960"/>
            <a:ext cx="8213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63.62.61.IN-ADDR.ARPA domain name poin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.no.dot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3.62.61.in-addr.ar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FF1-0651-44BB-8353-3FE800D41B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od Books for D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9600" y="3699000"/>
            <a:ext cx="827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4040" y="1287360"/>
            <a:ext cx="3880080" cy="5085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32360" y="1298520"/>
            <a:ext cx="3828960" cy="5018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93880" y="6408000"/>
            <a:ext cx="491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copied from http://www.ora.com/ and Copyright O’Reilly and Associ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6C9-B9F0-4AAF-80AB-3FAC6AF71F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1:48:08Z</dcterms:created>
  <dc:creator>Bruce Campbell</dc:creator>
  <dc:description/>
  <dc:language>en-US</dc:language>
  <cp:lastModifiedBy>Anne Lord</cp:lastModifiedBy>
  <cp:lastPrinted>2000-02-18T09:11:45Z</cp:lastPrinted>
  <dcterms:modified xsi:type="dcterms:W3CDTF">2000-02-21T02:22:40Z</dcterms:modified>
  <cp:revision>143</cp:revision>
  <dc:subject/>
  <dc:title>APNIC Reverse DNS in Op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ruce.campbell@apnic.ne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\\Hadrian\bc\www\presen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