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Tahoma"/>
              </a:rPr>
              <a:t>Wormhole Caching and Multicasting </a:t>
            </a:r>
            <a:br>
              <a:rPr sz="3200"/>
            </a:br>
            <a:r>
              <a:rPr b="1" lang="en-US" sz="3200" spc="-1" strike="noStrike">
                <a:solidFill>
                  <a:srgbClr val="00004d"/>
                </a:solidFill>
                <a:latin typeface="Tahoma"/>
              </a:rPr>
              <a:t>for Internet Content Distrib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438280" y="3124080"/>
            <a:ext cx="43056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ahoma"/>
              </a:rPr>
              <a:t>H. Phillip Ch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ahoma"/>
              </a:rPr>
              <a:t>Orblynx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ahoma"/>
              </a:rPr>
              <a:t>200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746440" y="5105520"/>
            <a:ext cx="38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ented at APRICOT 2000, Se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13160" y="53352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HTTP Push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3200400"/>
            <a:ext cx="2438280" cy="838080"/>
          </a:xfrm>
          <a:prstGeom prst="rect">
            <a:avLst/>
          </a:prstGeom>
          <a:solidFill>
            <a:srgbClr val="f88e0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37040" y="3252960"/>
            <a:ext cx="233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http://host/path HTTP/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Heade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Objec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76920" y="5105520"/>
            <a:ext cx="2438280" cy="685800"/>
          </a:xfrm>
          <a:prstGeom prst="rect">
            <a:avLst/>
          </a:prstGeom>
          <a:solidFill>
            <a:srgbClr val="f88e0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5040" y="5181480"/>
            <a:ext cx="1372320" cy="459000"/>
          </a:xfrm>
          <a:prstGeom prst="rect">
            <a:avLst/>
          </a:prstGeom>
          <a:solidFill>
            <a:srgbClr val="f88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/1.0 268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Option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10280" y="41911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41911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41911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560" y="4191120"/>
            <a:ext cx="84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840" y="419112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4343400"/>
            <a:ext cx="304560" cy="304920"/>
          </a:xfrm>
          <a:prstGeom prst="ellipse">
            <a:avLst/>
          </a:prstGeom>
          <a:solidFill>
            <a:srgbClr val="f88e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33376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715000" y="403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66920" y="43434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sh 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7150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629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4267080"/>
            <a:ext cx="90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4191120"/>
            <a:ext cx="304920" cy="761760"/>
          </a:xfrm>
          <a:prstGeom prst="rect">
            <a:avLst/>
          </a:prstGeom>
          <a:solidFill>
            <a:srgbClr val="f88e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4914720" y="445932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20574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91120" y="20574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10280" y="20574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00560" y="2133720"/>
            <a:ext cx="84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45560" y="213372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63640" y="2133720"/>
            <a:ext cx="90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2438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41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33412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590560" y="2514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4120" y="2514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34120" y="2590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92400" y="198108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92760" y="259092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1371600"/>
            <a:ext cx="243864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2880" y="1371600"/>
            <a:ext cx="138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/1.0 20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Objec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1371600"/>
            <a:ext cx="243828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360" y="1371600"/>
            <a:ext cx="224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 http://host/path HTTP/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Heade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676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391520" y="1676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9608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80720" y="214488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80360" y="25257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15360" y="4038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15720" y="4648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00080" y="382104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197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52160" y="3138480"/>
            <a:ext cx="29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Request Driven Ca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28840" y="51958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f88e0e"/>
                </a:solidFill>
                <a:uFillTx/>
                <a:latin typeface="Times New Roman"/>
              </a:rPr>
              <a:t>Update Driven Ca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2057400"/>
            <a:ext cx="228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05520" y="2057400"/>
            <a:ext cx="228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3998880" y="232452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4859280" y="230364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omparison on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457200" y="1981080"/>
          <a:ext cx="8534520" cy="3049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81080"/>
                    <a:ext cx="853452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5410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omparison on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990720" y="1600200"/>
          <a:ext cx="7510320" cy="4076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00200"/>
                    <a:ext cx="75103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IDS_OrbLynx%20schematic_1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672240" cy="54784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371600" y="5791320"/>
            <a:ext cx="52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Demonstrated Live! at ITU Telecom 99 (Geneva) by Orblynx, Teleglobe, Swisscom, INTELS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GAIN_OrbLynx%20schematic_2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6973920" cy="5372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990720" y="5791320"/>
            <a:ext cx="62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IDS 2000 Service is being deployed – in Europe, Middle East, North Africa; and South and South East As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600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Big Bang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of the Web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60948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3480" y="2666880"/>
            <a:ext cx="29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8e0e"/>
                </a:solidFill>
                <a:uFillTx/>
                <a:latin typeface="Times New Roman"/>
              </a:rPr>
              <a:t>Probl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loding Inter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married Bo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pressed 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o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a H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st Rush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743360" y="37018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5" name="supernova" descr=""/>
          <p:cNvPicPr/>
          <p:nvPr/>
        </p:nvPicPr>
        <p:blipFill>
          <a:blip r:embed="rId2"/>
          <a:stretch/>
        </p:blipFill>
        <p:spPr>
          <a:xfrm>
            <a:off x="5029200" y="2895480"/>
            <a:ext cx="2895480" cy="2400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6094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Orblynx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32004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Content Push to the 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68240" y="5562720"/>
            <a:ext cx="52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Added Intelligence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o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Internet via  Satel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4720" y="472428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calable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27760" y="35924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962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Localized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Content to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362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Wormhole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600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Multicast Distribution Overlay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31440" y="60948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Wormhole in th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2209680"/>
            <a:ext cx="6705720" cy="2667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590920" y="2819520"/>
            <a:ext cx="1447560" cy="1600200"/>
            <a:chOff x="2590920" y="2819520"/>
            <a:chExt cx="1447560" cy="1600200"/>
          </a:xfrm>
        </p:grpSpPr>
        <p:sp>
          <p:nvSpPr>
            <p:cNvPr id="57" name=""/>
            <p:cNvSpPr/>
            <p:nvPr/>
          </p:nvSpPr>
          <p:spPr>
            <a:xfrm>
              <a:off x="2590920" y="2819520"/>
              <a:ext cx="533160" cy="1600200"/>
            </a:xfrm>
            <a:custGeom>
              <a:avLst/>
              <a:gdLst>
                <a:gd name="textAreaLeft" fmla="*/ 0 w 533160"/>
                <a:gd name="textAreaRight" fmla="*/ 374040 w 53316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81280" y="2819520"/>
              <a:ext cx="457200" cy="1600200"/>
            </a:xfrm>
            <a:custGeom>
              <a:avLst/>
              <a:gdLst>
                <a:gd name="textAreaLeft" fmla="*/ 134280 w 457200"/>
                <a:gd name="textAreaRight" fmla="*/ 457560 w 45720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24080" y="2819520"/>
              <a:ext cx="457200" cy="199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24080" y="4219560"/>
              <a:ext cx="457200" cy="200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267080" y="3809880"/>
            <a:ext cx="1447920" cy="838440"/>
            <a:chOff x="4267080" y="3809880"/>
            <a:chExt cx="1447920" cy="838440"/>
          </a:xfrm>
        </p:grpSpPr>
        <p:sp>
          <p:nvSpPr>
            <p:cNvPr id="62" name=""/>
            <p:cNvSpPr/>
            <p:nvPr/>
          </p:nvSpPr>
          <p:spPr>
            <a:xfrm>
              <a:off x="4267080" y="3809880"/>
              <a:ext cx="533520" cy="838440"/>
            </a:xfrm>
            <a:custGeom>
              <a:avLst/>
              <a:gdLst>
                <a:gd name="textAreaLeft" fmla="*/ 0 w 533520"/>
                <a:gd name="textAreaRight" fmla="*/ 374400 w 533520"/>
                <a:gd name="textAreaTop" fmla="*/ 34920 h 838440"/>
                <a:gd name="textAreaBottom" fmla="*/ 8035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57800" y="3809880"/>
              <a:ext cx="457200" cy="838440"/>
            </a:xfrm>
            <a:custGeom>
              <a:avLst/>
              <a:gdLst>
                <a:gd name="textAreaLeft" fmla="*/ 134280 w 457200"/>
                <a:gd name="textAreaRight" fmla="*/ 457560 w 457200"/>
                <a:gd name="textAreaTop" fmla="*/ 34920 h 838440"/>
                <a:gd name="textAreaBottom" fmla="*/ 8035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3809880"/>
              <a:ext cx="457200" cy="10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4543560"/>
              <a:ext cx="457200" cy="10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181480" y="2514600"/>
            <a:ext cx="1447920" cy="1066680"/>
            <a:chOff x="5181480" y="2514600"/>
            <a:chExt cx="1447920" cy="1066680"/>
          </a:xfrm>
        </p:grpSpPr>
        <p:sp>
          <p:nvSpPr>
            <p:cNvPr id="67" name=""/>
            <p:cNvSpPr/>
            <p:nvPr/>
          </p:nvSpPr>
          <p:spPr>
            <a:xfrm>
              <a:off x="5181480" y="2514600"/>
              <a:ext cx="533520" cy="1066680"/>
            </a:xfrm>
            <a:custGeom>
              <a:avLst/>
              <a:gdLst>
                <a:gd name="textAreaLeft" fmla="*/ 0 w 533520"/>
                <a:gd name="textAreaRight" fmla="*/ 374400 w 5335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72200" y="2514600"/>
              <a:ext cx="457200" cy="1066680"/>
            </a:xfrm>
            <a:custGeom>
              <a:avLst/>
              <a:gdLst>
                <a:gd name="textAreaLeft" fmla="*/ 134280 w 457200"/>
                <a:gd name="textAreaRight" fmla="*/ 457560 w 45720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15000" y="2514600"/>
              <a:ext cx="457200" cy="13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15000" y="3447720"/>
              <a:ext cx="457200" cy="13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tower"/>
          <p:cNvSpPr/>
          <p:nvPr/>
        </p:nvSpPr>
        <p:spPr>
          <a:xfrm>
            <a:off x="2209680" y="2057400"/>
            <a:ext cx="304920" cy="438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ower"/>
          <p:cNvSpPr/>
          <p:nvPr/>
        </p:nvSpPr>
        <p:spPr>
          <a:xfrm>
            <a:off x="2895480" y="1905120"/>
            <a:ext cx="304920" cy="438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ower"/>
          <p:cNvSpPr/>
          <p:nvPr/>
        </p:nvSpPr>
        <p:spPr>
          <a:xfrm>
            <a:off x="3809880" y="1752480"/>
            <a:ext cx="304920" cy="438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ower"/>
          <p:cNvSpPr/>
          <p:nvPr/>
        </p:nvSpPr>
        <p:spPr>
          <a:xfrm>
            <a:off x="4724280" y="1752480"/>
            <a:ext cx="304920" cy="438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ower"/>
          <p:cNvSpPr/>
          <p:nvPr/>
        </p:nvSpPr>
        <p:spPr>
          <a:xfrm>
            <a:off x="4876920" y="1905120"/>
            <a:ext cx="304560" cy="438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ower"/>
          <p:cNvSpPr/>
          <p:nvPr/>
        </p:nvSpPr>
        <p:spPr>
          <a:xfrm>
            <a:off x="6629400" y="1981080"/>
            <a:ext cx="304920" cy="438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ower"/>
          <p:cNvSpPr/>
          <p:nvPr/>
        </p:nvSpPr>
        <p:spPr>
          <a:xfrm>
            <a:off x="5791320" y="1905120"/>
            <a:ext cx="304560" cy="438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ower"/>
          <p:cNvSpPr/>
          <p:nvPr/>
        </p:nvSpPr>
        <p:spPr>
          <a:xfrm>
            <a:off x="3962520" y="1905120"/>
            <a:ext cx="304560" cy="438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ower"/>
          <p:cNvSpPr/>
          <p:nvPr/>
        </p:nvSpPr>
        <p:spPr>
          <a:xfrm>
            <a:off x="3048120" y="2057400"/>
            <a:ext cx="304560" cy="438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ower"/>
          <p:cNvSpPr/>
          <p:nvPr/>
        </p:nvSpPr>
        <p:spPr>
          <a:xfrm>
            <a:off x="6781680" y="2133720"/>
            <a:ext cx="304920" cy="438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ower"/>
          <p:cNvSpPr/>
          <p:nvPr/>
        </p:nvSpPr>
        <p:spPr>
          <a:xfrm>
            <a:off x="6934320" y="2286000"/>
            <a:ext cx="304560" cy="438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computr1"/>
          <p:cNvSpPr/>
          <p:nvPr/>
        </p:nvSpPr>
        <p:spPr>
          <a:xfrm>
            <a:off x="2057400" y="4572000"/>
            <a:ext cx="304920" cy="30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computr1"/>
          <p:cNvSpPr/>
          <p:nvPr/>
        </p:nvSpPr>
        <p:spPr>
          <a:xfrm>
            <a:off x="2209680" y="4724280"/>
            <a:ext cx="304920" cy="30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omputr1"/>
          <p:cNvSpPr/>
          <p:nvPr/>
        </p:nvSpPr>
        <p:spPr>
          <a:xfrm>
            <a:off x="2362320" y="4876920"/>
            <a:ext cx="304560" cy="30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computr1"/>
          <p:cNvSpPr/>
          <p:nvPr/>
        </p:nvSpPr>
        <p:spPr>
          <a:xfrm>
            <a:off x="2514600" y="5029200"/>
            <a:ext cx="304920" cy="30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computr1"/>
          <p:cNvSpPr/>
          <p:nvPr/>
        </p:nvSpPr>
        <p:spPr>
          <a:xfrm>
            <a:off x="2895480" y="4724280"/>
            <a:ext cx="304920" cy="30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computr1"/>
          <p:cNvSpPr/>
          <p:nvPr/>
        </p:nvSpPr>
        <p:spPr>
          <a:xfrm>
            <a:off x="3505320" y="4876920"/>
            <a:ext cx="304560" cy="30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computr1"/>
          <p:cNvSpPr/>
          <p:nvPr/>
        </p:nvSpPr>
        <p:spPr>
          <a:xfrm>
            <a:off x="4267080" y="4952880"/>
            <a:ext cx="304920" cy="30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omputr1"/>
          <p:cNvSpPr/>
          <p:nvPr/>
        </p:nvSpPr>
        <p:spPr>
          <a:xfrm>
            <a:off x="5029200" y="4876920"/>
            <a:ext cx="304920" cy="30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computr1"/>
          <p:cNvSpPr/>
          <p:nvPr/>
        </p:nvSpPr>
        <p:spPr>
          <a:xfrm>
            <a:off x="6095880" y="4724280"/>
            <a:ext cx="304920" cy="30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computr1"/>
          <p:cNvSpPr/>
          <p:nvPr/>
        </p:nvSpPr>
        <p:spPr>
          <a:xfrm>
            <a:off x="6858000" y="4419720"/>
            <a:ext cx="304920" cy="30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computr1"/>
          <p:cNvSpPr/>
          <p:nvPr/>
        </p:nvSpPr>
        <p:spPr>
          <a:xfrm>
            <a:off x="3657600" y="5029200"/>
            <a:ext cx="304920" cy="30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computr1"/>
          <p:cNvSpPr/>
          <p:nvPr/>
        </p:nvSpPr>
        <p:spPr>
          <a:xfrm>
            <a:off x="3809880" y="5181480"/>
            <a:ext cx="304920" cy="30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computr1"/>
          <p:cNvSpPr/>
          <p:nvPr/>
        </p:nvSpPr>
        <p:spPr>
          <a:xfrm>
            <a:off x="5181480" y="5029200"/>
            <a:ext cx="304920" cy="30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omputr1"/>
          <p:cNvSpPr/>
          <p:nvPr/>
        </p:nvSpPr>
        <p:spPr>
          <a:xfrm>
            <a:off x="5334120" y="5181480"/>
            <a:ext cx="304560" cy="30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omputr1"/>
          <p:cNvSpPr/>
          <p:nvPr/>
        </p:nvSpPr>
        <p:spPr>
          <a:xfrm>
            <a:off x="5486400" y="5334120"/>
            <a:ext cx="304920" cy="30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computr1"/>
          <p:cNvSpPr/>
          <p:nvPr/>
        </p:nvSpPr>
        <p:spPr>
          <a:xfrm>
            <a:off x="7010280" y="4572000"/>
            <a:ext cx="304920" cy="30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computr1"/>
          <p:cNvSpPr/>
          <p:nvPr/>
        </p:nvSpPr>
        <p:spPr>
          <a:xfrm>
            <a:off x="6248520" y="4876920"/>
            <a:ext cx="304560" cy="30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6400" y="1295280"/>
            <a:ext cx="15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1560" y="518148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75920" y="2209680"/>
            <a:ext cx="102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9680" y="297180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mh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ower"/>
          <p:cNvSpPr/>
          <p:nvPr/>
        </p:nvSpPr>
        <p:spPr>
          <a:xfrm>
            <a:off x="4114800" y="2057400"/>
            <a:ext cx="304920" cy="438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computr1"/>
          <p:cNvSpPr/>
          <p:nvPr/>
        </p:nvSpPr>
        <p:spPr>
          <a:xfrm>
            <a:off x="7162920" y="4724280"/>
            <a:ext cx="304560" cy="30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omputr1"/>
          <p:cNvSpPr/>
          <p:nvPr/>
        </p:nvSpPr>
        <p:spPr>
          <a:xfrm>
            <a:off x="7315200" y="4876920"/>
            <a:ext cx="304920" cy="30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computr1"/>
          <p:cNvSpPr/>
          <p:nvPr/>
        </p:nvSpPr>
        <p:spPr>
          <a:xfrm>
            <a:off x="7467480" y="5029200"/>
            <a:ext cx="304920" cy="30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6094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How to Build Wormh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666880" y="2209680"/>
                <a:ext cx="361800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μν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μν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π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rPr>
                        <m:lit/>
                        <m:nor/>
                      </m:rPr>
                      <m:t xml:space="preserve">μ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933120" y="1517760"/>
            <a:ext cx="27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cc99"/>
                </a:solidFill>
                <a:uFillTx/>
                <a:latin typeface="Tahoma"/>
              </a:rPr>
              <a:t>Einstein’s Equation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191120"/>
            <a:ext cx="763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 new class of solutions is presented, that “permit an </a:t>
            </a:r>
            <a:r>
              <a:rPr b="1" i="1" lang="en-US" sz="2000" spc="-1" strike="noStrike">
                <a:solidFill>
                  <a:srgbClr val="cc0000"/>
                </a:solidFill>
                <a:latin typeface="Tahoma"/>
              </a:rPr>
              <a:t>arbitrarily advanced civilization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to construct and maintain wormholes for interstellar travel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- Kip Thorn, June 19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5240" y="3429000"/>
            <a:ext cx="73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8e0e"/>
                </a:solidFill>
                <a:uFillTx/>
                <a:latin typeface="Times New Roman"/>
              </a:rPr>
              <a:t>Wormho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The shortest path connecting two space-time reg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0200" y="609480"/>
            <a:ext cx="43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System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idssysarch" descr=""/>
          <p:cNvPicPr/>
          <p:nvPr/>
        </p:nvPicPr>
        <p:blipFill>
          <a:blip r:embed="rId2"/>
          <a:stretch/>
        </p:blipFill>
        <p:spPr>
          <a:xfrm>
            <a:off x="2514600" y="1676520"/>
            <a:ext cx="4572000" cy="421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2480" y="160020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8e0e"/>
                </a:solidFill>
                <a:latin typeface="Times New Roman"/>
              </a:rPr>
              <a:t>Ten Years Later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95280" y="14475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atellite Overlay versus Optimizing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liable Multicast versus Blind Broad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Adaptive Caching versus Static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rue Push and Pull versus Passive P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Add Intelligence versus Pump and P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Content Distribution and Management versus Content Deli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End-to-End Platform versus End-by-End Fi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Open Standards versus Proprietary Tri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Global Services versus Region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3581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Desig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59072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IDS System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3962520"/>
            <a:ext cx="838080" cy="685800"/>
          </a:xfrm>
          <a:prstGeom prst="rect">
            <a:avLst/>
          </a:prstGeom>
          <a:solidFill>
            <a:srgbClr val="eef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4800600"/>
            <a:ext cx="838080" cy="685800"/>
          </a:xfrm>
          <a:prstGeom prst="rect">
            <a:avLst/>
          </a:prstGeom>
          <a:solidFill>
            <a:srgbClr val="eef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re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76720" y="2057400"/>
            <a:ext cx="380880" cy="3429000"/>
          </a:xfrm>
          <a:prstGeom prst="rect">
            <a:avLst/>
          </a:prstGeom>
          <a:solidFill>
            <a:srgbClr val="eef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3276720"/>
            <a:ext cx="152280" cy="533160"/>
          </a:xfrm>
          <a:solidFill>
            <a:srgbClr val="eef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1676520"/>
            <a:ext cx="1523880" cy="990360"/>
          </a:xfrm>
          <a:prstGeom prst="ellipse">
            <a:avLst/>
          </a:prstGeom>
          <a:solidFill>
            <a:srgbClr val="eef999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72000" y="1981080"/>
            <a:ext cx="457200" cy="457200"/>
            <a:chOff x="4572000" y="1981080"/>
            <a:chExt cx="457200" cy="457200"/>
          </a:xfrm>
        </p:grpSpPr>
        <p:sp>
          <p:nvSpPr>
            <p:cNvPr id="124" name=""/>
            <p:cNvSpPr/>
            <p:nvPr/>
          </p:nvSpPr>
          <p:spPr>
            <a:xfrm>
              <a:off x="4572000" y="20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0" y="2361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1981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1981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53240" y="1981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181120" y="2057400"/>
            <a:ext cx="609840" cy="304560"/>
            <a:chOff x="5181120" y="2057400"/>
            <a:chExt cx="609840" cy="304560"/>
          </a:xfrm>
        </p:grpSpPr>
        <p:sp>
          <p:nvSpPr>
            <p:cNvPr id="131" name=""/>
            <p:cNvSpPr/>
            <p:nvPr/>
          </p:nvSpPr>
          <p:spPr>
            <a:xfrm>
              <a:off x="5486400" y="20574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181120" y="205740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86400" y="205740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952880" y="26668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35812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3581280"/>
            <a:ext cx="1295280" cy="1905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209680" y="27432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7432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44956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10040" y="213372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121932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2057400"/>
            <a:ext cx="838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2057400"/>
            <a:ext cx="838080" cy="685800"/>
          </a:xfrm>
          <a:prstGeom prst="rect">
            <a:avLst/>
          </a:prstGeom>
          <a:solidFill>
            <a:srgbClr val="eef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8960" y="129528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bl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680" y="2133720"/>
            <a:ext cx="64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1905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22096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51055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46479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6668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3600" y="4038480"/>
            <a:ext cx="68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2476800" y="353664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S 2000 Staging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3962520"/>
            <a:ext cx="838080" cy="685800"/>
          </a:xfrm>
          <a:prstGeom prst="rect">
            <a:avLst/>
          </a:prstGeom>
          <a:solidFill>
            <a:srgbClr val="eef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4800600"/>
            <a:ext cx="838080" cy="685800"/>
          </a:xfrm>
          <a:prstGeom prst="rect">
            <a:avLst/>
          </a:prstGeom>
          <a:solidFill>
            <a:srgbClr val="eef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3962520"/>
            <a:ext cx="381240" cy="1523880"/>
          </a:xfrm>
          <a:prstGeom prst="rect">
            <a:avLst/>
          </a:prstGeom>
          <a:solidFill>
            <a:srgbClr val="eef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6876000" y="4665600"/>
            <a:ext cx="124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er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84872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012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38880" y="2971800"/>
            <a:ext cx="838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247800" y="3276720"/>
            <a:ext cx="152280" cy="533160"/>
          </a:xfrm>
          <a:solidFill>
            <a:srgbClr val="eef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4648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6600" y="52578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5486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5867280"/>
            <a:ext cx="556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67480" y="5486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304812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5560" y="4038480"/>
            <a:ext cx="68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5560" y="4876920"/>
            <a:ext cx="68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029200"/>
            <a:ext cx="8380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8840" y="491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040" y="502920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cond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86600" y="41911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3720" y="1295280"/>
            <a:ext cx="43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Global Accelerated Inter-Network (GA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1840" y="5486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IJ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51040" y="54864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84872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7680" y="1828800"/>
            <a:ext cx="136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Wirel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 Other 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26480" y="434340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229600" y="48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5334120"/>
            <a:ext cx="152280" cy="152280"/>
          </a:xfrm>
          <a:prstGeom prst="rect">
            <a:avLst/>
          </a:prstGeom>
          <a:solidFill>
            <a:srgbClr val="eef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3505320"/>
            <a:ext cx="838440" cy="152280"/>
          </a:xfrm>
          <a:prstGeom prst="rect">
            <a:avLst/>
          </a:prstGeom>
          <a:solidFill>
            <a:srgbClr val="eef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62000" y="266688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Multi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828800" y="2057400"/>
            <a:ext cx="5867280" cy="533520"/>
          </a:xfrm>
          <a:prstGeom prst="rect">
            <a:avLst/>
          </a:prstGeom>
          <a:solidFill>
            <a:srgbClr val="eef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2666880"/>
            <a:ext cx="5867280" cy="3812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S Platform and Future 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467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IDS Technology and Service S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5105520"/>
            <a:ext cx="586728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38680" y="4572000"/>
            <a:ext cx="6098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3124080"/>
            <a:ext cx="6858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45720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4572000"/>
            <a:ext cx="6098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4038480"/>
            <a:ext cx="12956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45720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45720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3467160" y="3162240"/>
            <a:ext cx="4572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10280" y="3124080"/>
            <a:ext cx="6858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600200"/>
            <a:ext cx="914400" cy="380880"/>
          </a:xfrm>
          <a:prstGeom prst="rect">
            <a:avLst/>
          </a:prstGeom>
          <a:solidFill>
            <a:srgbClr val="f88e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1600200"/>
            <a:ext cx="1600200" cy="380880"/>
          </a:xfrm>
          <a:prstGeom prst="rect">
            <a:avLst/>
          </a:prstGeom>
          <a:solidFill>
            <a:srgbClr val="f88e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5680" y="1600200"/>
            <a:ext cx="457200" cy="380880"/>
          </a:xfrm>
          <a:prstGeom prst="rect">
            <a:avLst/>
          </a:prstGeom>
          <a:solidFill>
            <a:srgbClr val="f88e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1600200"/>
            <a:ext cx="1143000" cy="380880"/>
          </a:xfrm>
          <a:prstGeom prst="rect">
            <a:avLst/>
          </a:prstGeom>
          <a:solidFill>
            <a:srgbClr val="f88e0e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08520" y="5202360"/>
            <a:ext cx="526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e Technologies (IP+Cache+DB) and Multicast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20080" y="458316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6280" y="457200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F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40480" y="457200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M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6920" y="403848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l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ulti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1558800" y="369828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ent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6981840" y="368352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77000" y="2209680"/>
            <a:ext cx="305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S 2000 Service and Future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9160" y="160020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mart B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39960" y="1600200"/>
            <a:ext cx="177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ent Distrib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7120" y="160020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8480" y="160020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reles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581280"/>
            <a:ext cx="685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3320" y="411480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ormhole Ca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45720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45720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6200" y="4495680"/>
            <a:ext cx="5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94080" y="458316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i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45720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77640" y="457200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1600200"/>
            <a:ext cx="1447560" cy="380880"/>
          </a:xfrm>
          <a:prstGeom prst="rect">
            <a:avLst/>
          </a:prstGeom>
          <a:solidFill>
            <a:srgbClr val="f88e0e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uture Offer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14800" y="35812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76720" y="359244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8T19:06:36Z</dcterms:created>
  <dc:creator>Phillip Chen</dc:creator>
  <dc:description/>
  <dc:language>en-US</dc:language>
  <cp:lastModifiedBy>bi</cp:lastModifiedBy>
  <dcterms:modified xsi:type="dcterms:W3CDTF">2000-02-21T18:45:15Z</dcterms:modified>
  <cp:revision>111</cp:revision>
  <dc:subject/>
  <dc:title>template</dc:title>
</cp:coreProperties>
</file>