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624638" cy="98107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BA7E8-E93B-479C-AA9A-34B2E9E31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C17C4-0C72-4467-81D5-2F2C59AE3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993C2-7925-4AF0-9341-B16BCBAA6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C070A-03F5-472A-AE1E-4AA5495AC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6C9FD-0516-4CAA-82DF-E5291A7B5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F3CE5-26DB-4B78-ABB7-51C1602EE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60947-117F-4740-88A2-E4A3D1689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A4758-D2BF-4314-A67B-BC778E0AF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8E0AF-C4C7-4FAF-A99B-3FE5FE3C3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CC6EA-5D02-494B-A109-A8BF5742F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F9CCE-291E-44BB-91AC-940FC1DB2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0C436-BA7F-4434-874E-5A622B8DC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3DB3D-8927-49A5-8F2F-C6F29EAF69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990360"/>
            <a:ext cx="792468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PRICOT 2000</a:t>
            </a:r>
            <a:br>
              <a:rPr sz="3600"/>
            </a:br>
            <a:br>
              <a:rPr sz="36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Building an Unified User Management Infrastructure for a Mobile/Internet Operator on the Linux Platform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5181480"/>
            <a:ext cx="6400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 K Fu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rectory Applic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DI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diator”: a commercial product from Australia. Found to be stable on Linux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thentication for ac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ores session information for bil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rrently used to control dialup access. Expandable to ADSL, VoIP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rectory Applic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ma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Qmail- LDAP 1.0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thentication, email forward rules, quota, et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 top of Qmail, building a POP3-based webmail 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rectory Applic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W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bsite membership system. Updates sent to Master LDAP directly. Free online membership become a starter for further line-up of servic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services created via different means will reflect on the WW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mbers” in turn may add/drop any service on the WW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rectory Applic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ll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vergence billing always the aim. Billing system already established in telco oper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access related billing data captured in RADIUS. For security, only one way traffi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ose that can’t be handled by RADIUS still a challen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ectronic bill presentation and payment where the leading edge i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 Strateg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Open Sour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n’t mean “cheap” but rather the freedom to deal with the future in your own ha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 mainly in expertise. Savings in not having to pay for multiple licens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quire organizational commitment in know-how retention, i.e. training and room for experiment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 Strategy (Softwar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inu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dHat 6.1 (kernel 2.2.1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oice largely depend on hardwa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mail, Apache, BIND, Squid, et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unity efforts to stay curr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 Strategy (Hardwar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ntel-based hardw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at scales economically to make use of clustering technique; rather than deploying huge, one-piece 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nterprise class hardw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aq ProLiant in rackmount cas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performance and reli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ID (0+1) driver from Compa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 Strateg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formanc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bilit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pandabilit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bscriber is the Business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lecom/Internet operator valuated by its subscriber b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mechanism to grow your subscriber base orderly and rapidly is central to health of mobile/Internet opera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990360"/>
            <a:ext cx="792468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PRICOT 2000</a:t>
            </a:r>
            <a:br>
              <a:rPr sz="3600"/>
            </a:br>
            <a:br>
              <a:rPr sz="36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Building an Unified User Management Infrastructure for a Mobile/Internet Operator on the Linux Platform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523880" y="5181480"/>
            <a:ext cx="6400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 K Fu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ckgrou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2nd wave Interne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eco getting onto Internet, vs 1st generation IS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number of subscribers in a short time fra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ltiple services on top of existing telecom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r management system therefore cruc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se Stud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 GSM Operato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ong brand name, highest recogni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tting onto Internet, at Internet speed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verting” existing GSM sub into Inter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ltiple services: GSM, dialup, WAP, Portal, et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er Manag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n infrastructure th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rks with existing billing/user management syst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rks with IP and non-IP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rks now and hopefully in fu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rks efficiently and economical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chnolog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irector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That works with legacy billing and user management systems but not necessary replacing th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Open Sourc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That really guarantees any-to-any connectivity in the longer term futu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ntel-based hardwa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That scales economically to make use of clustering technique but still enterprise class reli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re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“light weight” version of the X.500 effor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ining wider sup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OpenLDAP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lemented LDAPv2+ (RFC 1777 with U-Mich enhancements); RFC1777 currently a ‘draft standard’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test version 1.2.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1447920" y="1371600"/>
          <a:ext cx="6476760" cy="487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1371600"/>
                    <a:ext cx="6476760" cy="48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rectory Desig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rectory Desig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aster/Slave set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update centralized on Master; queries handled by individual sla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ad distribution via multiple sla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fficiency of each slave via differential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ow for expandability as types of service in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"/>
          <p:cNvGraphicFramePr/>
          <p:nvPr/>
        </p:nvGraphicFramePr>
        <p:xfrm>
          <a:off x="1447920" y="1371600"/>
          <a:ext cx="6248160" cy="5105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1371600"/>
                    <a:ext cx="6248160" cy="510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rectory Distributed Desig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2T07:01:03Z</dcterms:created>
  <dc:creator>Author</dc:creator>
  <dc:description/>
  <dc:language>en-US</dc:language>
  <cp:lastModifiedBy>user</cp:lastModifiedBy>
  <cp:lastPrinted>1999-09-22T02:02:45Z</cp:lastPrinted>
  <dcterms:modified xsi:type="dcterms:W3CDTF">2000-03-02T02:26:32Z</dcterms:modified>
  <cp:revision>57</cp:revision>
  <dc:subject/>
  <dc:title/>
</cp:coreProperties>
</file>