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40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45.png" ContentType="image/png"/>
  <Override PartName="/ppt/media/image5.wmf" ContentType="image/x-wmf"/>
  <Override PartName="/ppt/media/image33.wmf" ContentType="image/x-wmf"/>
  <Override PartName="/ppt/media/image50.png" ContentType="image/png"/>
  <Override PartName="/ppt/media/image47.png" ContentType="image/png"/>
  <Override PartName="/ppt/media/image35.jpeg" ContentType="image/jpeg"/>
  <Override PartName="/ppt/media/image46.png" ContentType="image/png"/>
  <Override PartName="/ppt/media/image6.wmf" ContentType="image/x-wmf"/>
  <Override PartName="/ppt/media/image11.png" ContentType="image/png"/>
  <Override PartName="/ppt/media/image41.png" ContentType="image/png"/>
  <Override PartName="/ppt/media/image48.jpeg" ContentType="image/jpeg"/>
  <Override PartName="/ppt/media/image49.png" ContentType="image/png"/>
  <Override PartName="/ppt/media/image9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7.png" ContentType="image/png"/>
  <Override PartName="/ppt/media/image44.png" ContentType="image/pn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74560" y="2814840"/>
            <a:ext cx="5073480" cy="850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74560" y="5329800"/>
            <a:ext cx="5721480" cy="2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74560" y="5564520"/>
            <a:ext cx="5721480" cy="2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74560" y="2814840"/>
            <a:ext cx="5073480" cy="850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74560" y="5329800"/>
            <a:ext cx="2791800" cy="2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6400" y="5329800"/>
            <a:ext cx="2791800" cy="2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74560" y="5564520"/>
            <a:ext cx="2791800" cy="2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6400" y="5564520"/>
            <a:ext cx="2791800" cy="2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74560" y="2814840"/>
            <a:ext cx="5073480" cy="850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74560" y="5329800"/>
            <a:ext cx="1842120" cy="2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09200" y="5329800"/>
            <a:ext cx="1842120" cy="2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3840" y="5329800"/>
            <a:ext cx="1842120" cy="2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74560" y="5564520"/>
            <a:ext cx="1842120" cy="2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09200" y="5564520"/>
            <a:ext cx="1842120" cy="2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3840" y="5564520"/>
            <a:ext cx="1842120" cy="2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74560" y="2814840"/>
            <a:ext cx="5073480" cy="850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374560" y="5329800"/>
            <a:ext cx="5721480" cy="44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74560" y="2814840"/>
            <a:ext cx="5073480" cy="850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74560" y="5329800"/>
            <a:ext cx="5721480" cy="44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74560" y="2814840"/>
            <a:ext cx="5073480" cy="850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74560" y="5329800"/>
            <a:ext cx="2791800" cy="44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6400" y="5329800"/>
            <a:ext cx="2791800" cy="44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74560" y="2814840"/>
            <a:ext cx="5073480" cy="850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74560" y="2814840"/>
            <a:ext cx="5073480" cy="3944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74560" y="2814840"/>
            <a:ext cx="5073480" cy="850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74560" y="5329800"/>
            <a:ext cx="2791800" cy="2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6400" y="5329800"/>
            <a:ext cx="2791800" cy="44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374560" y="5564520"/>
            <a:ext cx="2791800" cy="2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74560" y="2814840"/>
            <a:ext cx="5073480" cy="850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74560" y="5329800"/>
            <a:ext cx="5721480" cy="448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74560" y="2814840"/>
            <a:ext cx="5073480" cy="850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74560" y="5329800"/>
            <a:ext cx="2791800" cy="44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6400" y="5329800"/>
            <a:ext cx="2791800" cy="2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6400" y="5564520"/>
            <a:ext cx="2791800" cy="2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74560" y="2814840"/>
            <a:ext cx="5073480" cy="850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74560" y="5329800"/>
            <a:ext cx="2791800" cy="2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6400" y="5329800"/>
            <a:ext cx="2791800" cy="2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374560" y="5564520"/>
            <a:ext cx="5721480" cy="2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74560" y="2814840"/>
            <a:ext cx="5073480" cy="850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74560" y="5329800"/>
            <a:ext cx="5721480" cy="2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374560" y="5564520"/>
            <a:ext cx="5721480" cy="2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74560" y="2814840"/>
            <a:ext cx="5073480" cy="850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74560" y="5329800"/>
            <a:ext cx="2791800" cy="2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6400" y="5329800"/>
            <a:ext cx="2791800" cy="2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374560" y="5564520"/>
            <a:ext cx="2791800" cy="2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6400" y="5564520"/>
            <a:ext cx="2791800" cy="2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74560" y="2814840"/>
            <a:ext cx="5073480" cy="850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74560" y="5329800"/>
            <a:ext cx="1842120" cy="2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09200" y="5329800"/>
            <a:ext cx="1842120" cy="2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3840" y="5329800"/>
            <a:ext cx="1842120" cy="2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374560" y="5564520"/>
            <a:ext cx="1842120" cy="2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09200" y="5564520"/>
            <a:ext cx="1842120" cy="2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3840" y="5564520"/>
            <a:ext cx="1842120" cy="2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74560" y="2814840"/>
            <a:ext cx="5073480" cy="850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74560" y="5329800"/>
            <a:ext cx="5721480" cy="44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74560" y="2814840"/>
            <a:ext cx="5073480" cy="850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74560" y="5329800"/>
            <a:ext cx="2791800" cy="44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6400" y="5329800"/>
            <a:ext cx="2791800" cy="44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74560" y="2814840"/>
            <a:ext cx="5073480" cy="850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74560" y="2814840"/>
            <a:ext cx="5073480" cy="3944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74560" y="2814840"/>
            <a:ext cx="5073480" cy="850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74560" y="5329800"/>
            <a:ext cx="2791800" cy="2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6400" y="5329800"/>
            <a:ext cx="2791800" cy="44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74560" y="5564520"/>
            <a:ext cx="2791800" cy="2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74560" y="2814840"/>
            <a:ext cx="5073480" cy="850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74560" y="5329800"/>
            <a:ext cx="2791800" cy="44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6400" y="5329800"/>
            <a:ext cx="2791800" cy="2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6400" y="5564520"/>
            <a:ext cx="2791800" cy="2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74560" y="2814840"/>
            <a:ext cx="5073480" cy="850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74560" y="5329800"/>
            <a:ext cx="2791800" cy="2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6400" y="5329800"/>
            <a:ext cx="2791800" cy="2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74560" y="5564520"/>
            <a:ext cx="5721480" cy="2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kgdLogo3" descr=""/>
          <p:cNvPicPr/>
          <p:nvPr/>
        </p:nvPicPr>
        <p:blipFill>
          <a:blip r:embed="rId2"/>
          <a:stretch/>
        </p:blipFill>
        <p:spPr>
          <a:xfrm>
            <a:off x="0" y="0"/>
            <a:ext cx="51894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37680" y="1625760"/>
            <a:ext cx="86187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36600">
              <a:spcBef>
                <a:spcPts val="1500"/>
              </a:spcBef>
              <a:buClr>
                <a:srgbClr val="003399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1840">
              <a:spcBef>
                <a:spcPts val="15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25720">
              <a:spcBef>
                <a:spcPts val="1500"/>
              </a:spcBef>
              <a:buClr>
                <a:srgbClr val="ff9900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39760" y="267840"/>
            <a:ext cx="8618400" cy="7686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59600" y="6622920"/>
            <a:ext cx="22154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bb2"/>
                </a:solidFill>
                <a:latin typeface="Arial"/>
              </a:rPr>
              <a:t>NORTEL NETWORKS 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17520" y="6648480"/>
            <a:ext cx="8956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23BCD064-EF16-4F93-9BC0-53300F6983D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hitebkghalf72" descr=""/>
          <p:cNvPicPr/>
          <p:nvPr/>
        </p:nvPicPr>
        <p:blipFill>
          <a:blip r:embed="rId2"/>
          <a:stretch/>
        </p:blipFill>
        <p:spPr>
          <a:xfrm>
            <a:off x="0" y="0"/>
            <a:ext cx="51912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92320" y="2360520"/>
            <a:ext cx="0" cy="389592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374560" y="2814840"/>
            <a:ext cx="5073480" cy="850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59600" y="6622920"/>
            <a:ext cx="22154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bb2"/>
                </a:solidFill>
                <a:latin typeface="Arial"/>
              </a:rPr>
              <a:t>NORTEL NETWORKS 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46368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249"/>
              </a:spcBef>
              <a:buClr>
                <a:srgbClr val="0033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60360" algn="ctr">
              <a:spcBef>
                <a:spcPts val="499"/>
              </a:spcBef>
              <a:buClr>
                <a:srgbClr val="ff9900"/>
              </a:buClr>
              <a:buSzPct val="12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jpeg"/><Relationship Id="rId14" Type="http://schemas.openxmlformats.org/officeDocument/2006/relationships/image" Target="../media/image29.png"/><Relationship Id="rId1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5.wmf"/><Relationship Id="rId14" Type="http://schemas.openxmlformats.org/officeDocument/2006/relationships/image" Target="../media/image10.jpeg"/><Relationship Id="rId15" Type="http://schemas.openxmlformats.org/officeDocument/2006/relationships/image" Target="../media/image11.png"/><Relationship Id="rId16" Type="http://schemas.openxmlformats.org/officeDocument/2006/relationships/image" Target="../media/image10.jpeg"/><Relationship Id="rId17" Type="http://schemas.openxmlformats.org/officeDocument/2006/relationships/image" Target="../media/image12.wmf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5.wmf"/><Relationship Id="rId2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jpe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26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49.png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5.wmf"/><Relationship Id="rId14" Type="http://schemas.openxmlformats.org/officeDocument/2006/relationships/image" Target="../media/image10.jpeg"/><Relationship Id="rId15" Type="http://schemas.openxmlformats.org/officeDocument/2006/relationships/image" Target="../media/image11.png"/><Relationship Id="rId16" Type="http://schemas.openxmlformats.org/officeDocument/2006/relationships/image" Target="../media/image10.jpeg"/><Relationship Id="rId17" Type="http://schemas.openxmlformats.org/officeDocument/2006/relationships/image" Target="../media/image12.wmf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5.wmf"/><Relationship Id="rId2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5.wmf"/><Relationship Id="rId14" Type="http://schemas.openxmlformats.org/officeDocument/2006/relationships/image" Target="../media/image10.jpeg"/><Relationship Id="rId15" Type="http://schemas.openxmlformats.org/officeDocument/2006/relationships/image" Target="../media/image11.png"/><Relationship Id="rId16" Type="http://schemas.openxmlformats.org/officeDocument/2006/relationships/image" Target="../media/image10.jpeg"/><Relationship Id="rId17" Type="http://schemas.openxmlformats.org/officeDocument/2006/relationships/image" Target="../media/image12.wmf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5.wmf"/><Relationship Id="rId2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5.wmf"/><Relationship Id="rId14" Type="http://schemas.openxmlformats.org/officeDocument/2006/relationships/image" Target="../media/image10.jpeg"/><Relationship Id="rId15" Type="http://schemas.openxmlformats.org/officeDocument/2006/relationships/image" Target="../media/image11.png"/><Relationship Id="rId16" Type="http://schemas.openxmlformats.org/officeDocument/2006/relationships/image" Target="../media/image10.jpeg"/><Relationship Id="rId17" Type="http://schemas.openxmlformats.org/officeDocument/2006/relationships/image" Target="../media/image12.wmf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5.wmf"/><Relationship Id="rId2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374920" y="2217600"/>
            <a:ext cx="5129280" cy="2044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APRICOT 2000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“Unifying Wireless Networks 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and the Internet”</a:t>
            </a:r>
            <a:br>
              <a:rPr sz="2800"/>
            </a:b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374560" y="4778640"/>
            <a:ext cx="5721480" cy="15555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Wally Ho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Wireless Internet, Asia/Pacific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March 1999</a:t>
            </a:r>
            <a:endParaRPr b="1" lang="en-US" sz="1600" spc="-1" strike="noStrike">
              <a:solidFill>
                <a:srgbClr val="99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email: wallyho@nortelnetworks.com</a:t>
            </a:r>
            <a:endParaRPr b="1" lang="en-US" sz="1600" spc="-1" strike="noStrike">
              <a:solidFill>
                <a:srgbClr val="99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phone: 852-21002103</a:t>
            </a:r>
            <a:endParaRPr b="1" lang="en-US" sz="16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better%20RIO%20MP3%20image" descr=""/>
          <p:cNvPicPr/>
          <p:nvPr/>
        </p:nvPicPr>
        <p:blipFill>
          <a:blip r:embed="rId1"/>
          <a:srcRect l="6860" t="2896" r="12570" b="17419"/>
          <a:stretch/>
        </p:blipFill>
        <p:spPr>
          <a:xfrm>
            <a:off x="8105760" y="4267080"/>
            <a:ext cx="1011240" cy="118296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6400800" y="5562720"/>
            <a:ext cx="2743200" cy="8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End User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Portable De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Specialized 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5562720"/>
            <a:ext cx="2819520" cy="8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Internet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Media Companies, Corporate Intran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nokia6185" descr=""/>
          <p:cNvPicPr/>
          <p:nvPr/>
        </p:nvPicPr>
        <p:blipFill>
          <a:blip r:embed="rId2"/>
          <a:stretch/>
        </p:blipFill>
        <p:spPr>
          <a:xfrm>
            <a:off x="7010280" y="1447920"/>
            <a:ext cx="349200" cy="1057320"/>
          </a:xfrm>
          <a:prstGeom prst="rect">
            <a:avLst/>
          </a:prstGeom>
          <a:ln w="0">
            <a:noFill/>
          </a:ln>
        </p:spPr>
      </p:pic>
      <p:pic>
        <p:nvPicPr>
          <p:cNvPr id="504" name="rocketbook" descr=""/>
          <p:cNvPicPr/>
          <p:nvPr/>
        </p:nvPicPr>
        <p:blipFill>
          <a:blip r:embed="rId3"/>
          <a:stretch/>
        </p:blipFill>
        <p:spPr>
          <a:xfrm>
            <a:off x="6730920" y="4344840"/>
            <a:ext cx="892080" cy="1028880"/>
          </a:xfrm>
          <a:prstGeom prst="rect">
            <a:avLst/>
          </a:prstGeom>
          <a:ln w="0">
            <a:noFill/>
          </a:ln>
        </p:spPr>
      </p:pic>
      <p:pic>
        <p:nvPicPr>
          <p:cNvPr id="505" name="palmcradle" descr=""/>
          <p:cNvPicPr/>
          <p:nvPr/>
        </p:nvPicPr>
        <p:blipFill>
          <a:blip r:embed="rId4"/>
          <a:stretch/>
        </p:blipFill>
        <p:spPr>
          <a:xfrm>
            <a:off x="8234280" y="3021120"/>
            <a:ext cx="750960" cy="914400"/>
          </a:xfrm>
          <a:prstGeom prst="rect">
            <a:avLst/>
          </a:prstGeom>
          <a:ln w="0">
            <a:noFill/>
          </a:ln>
        </p:spPr>
      </p:pic>
      <p:pic>
        <p:nvPicPr>
          <p:cNvPr id="506" name="cnnin_logo" descr=""/>
          <p:cNvPicPr/>
          <p:nvPr/>
        </p:nvPicPr>
        <p:blipFill>
          <a:blip r:embed="rId5"/>
          <a:stretch/>
        </p:blipFill>
        <p:spPr>
          <a:xfrm>
            <a:off x="0" y="1447920"/>
            <a:ext cx="1190520" cy="723960"/>
          </a:xfrm>
          <a:prstGeom prst="rect">
            <a:avLst/>
          </a:prstGeom>
          <a:ln w="0">
            <a:noFill/>
          </a:ln>
        </p:spPr>
      </p:pic>
      <p:pic>
        <p:nvPicPr>
          <p:cNvPr id="507" name="product-type-books" descr=""/>
          <p:cNvPicPr/>
          <p:nvPr/>
        </p:nvPicPr>
        <p:blipFill>
          <a:blip r:embed="rId6"/>
          <a:srcRect l="0" t="0" r="73056" b="0"/>
          <a:stretch/>
        </p:blipFill>
        <p:spPr>
          <a:xfrm>
            <a:off x="0" y="3643200"/>
            <a:ext cx="1514520" cy="400320"/>
          </a:xfrm>
          <a:prstGeom prst="rect">
            <a:avLst/>
          </a:prstGeom>
          <a:ln w="0">
            <a:noFill/>
          </a:ln>
        </p:spPr>
      </p:pic>
      <p:pic>
        <p:nvPicPr>
          <p:cNvPr id="508" name="main33" descr=""/>
          <p:cNvPicPr/>
          <p:nvPr/>
        </p:nvPicPr>
        <p:blipFill>
          <a:blip r:embed="rId7"/>
          <a:srcRect l="32000" t="0" r="30665" b="18642"/>
          <a:stretch/>
        </p:blipFill>
        <p:spPr>
          <a:xfrm>
            <a:off x="457200" y="2743200"/>
            <a:ext cx="1828800" cy="441360"/>
          </a:xfrm>
          <a:prstGeom prst="rect">
            <a:avLst/>
          </a:prstGeom>
          <a:ln w="0">
            <a:noFill/>
          </a:ln>
        </p:spPr>
      </p:pic>
      <p:grpSp>
        <p:nvGrpSpPr>
          <p:cNvPr id="509" name=""/>
          <p:cNvGrpSpPr/>
          <p:nvPr/>
        </p:nvGrpSpPr>
        <p:grpSpPr>
          <a:xfrm>
            <a:off x="2818800" y="1219320"/>
            <a:ext cx="3550320" cy="5219640"/>
            <a:chOff x="2818800" y="1219320"/>
            <a:chExt cx="3550320" cy="5219640"/>
          </a:xfrm>
        </p:grpSpPr>
        <p:sp>
          <p:nvSpPr>
            <p:cNvPr id="510" name=""/>
            <p:cNvSpPr/>
            <p:nvPr/>
          </p:nvSpPr>
          <p:spPr>
            <a:xfrm>
              <a:off x="2819520" y="1295280"/>
              <a:ext cx="3549600" cy="5105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846520" y="1333440"/>
              <a:ext cx="0" cy="5105520"/>
            </a:xfrm>
            <a:prstGeom prst="line">
              <a:avLst/>
            </a:prstGeom>
            <a:ln w="57240">
              <a:solidFill>
                <a:srgbClr val="99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 flipV="1" rot="5400000">
              <a:off x="2037960" y="3066120"/>
              <a:ext cx="3201840" cy="1641240"/>
            </a:xfrm>
            <a:custGeom>
              <a:avLst/>
              <a:gdLst/>
              <a:ahLst/>
              <a:rect l="l" t="t" r="r" b="b"/>
              <a:pathLst>
                <a:path w="1194" h="1633">
                  <a:moveTo>
                    <a:pt x="0" y="0"/>
                  </a:moveTo>
                  <a:lnTo>
                    <a:pt x="491" y="590"/>
                  </a:lnTo>
                  <a:lnTo>
                    <a:pt x="502" y="1566"/>
                  </a:lnTo>
                  <a:lnTo>
                    <a:pt x="511" y="1582"/>
                  </a:lnTo>
                  <a:lnTo>
                    <a:pt x="522" y="1595"/>
                  </a:lnTo>
                  <a:lnTo>
                    <a:pt x="533" y="1607"/>
                  </a:lnTo>
                  <a:lnTo>
                    <a:pt x="548" y="1620"/>
                  </a:lnTo>
                  <a:lnTo>
                    <a:pt x="574" y="1628"/>
                  </a:lnTo>
                  <a:lnTo>
                    <a:pt x="597" y="1633"/>
                  </a:lnTo>
                  <a:lnTo>
                    <a:pt x="615" y="1630"/>
                  </a:lnTo>
                  <a:lnTo>
                    <a:pt x="636" y="1625"/>
                  </a:lnTo>
                  <a:lnTo>
                    <a:pt x="656" y="1615"/>
                  </a:lnTo>
                  <a:lnTo>
                    <a:pt x="672" y="1599"/>
                  </a:lnTo>
                  <a:lnTo>
                    <a:pt x="683" y="1577"/>
                  </a:lnTo>
                  <a:lnTo>
                    <a:pt x="690" y="1566"/>
                  </a:lnTo>
                  <a:lnTo>
                    <a:pt x="719" y="572"/>
                  </a:lnTo>
                  <a:lnTo>
                    <a:pt x="119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c0b"/>
                </a:gs>
                <a:gs pos="100000">
                  <a:srgbClr val="99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rot="5400000">
              <a:off x="3944160" y="3066120"/>
              <a:ext cx="3201840" cy="1641600"/>
            </a:xfrm>
            <a:custGeom>
              <a:avLst/>
              <a:gdLst/>
              <a:ahLst/>
              <a:rect l="l" t="t" r="r" b="b"/>
              <a:pathLst>
                <a:path w="1194" h="1633">
                  <a:moveTo>
                    <a:pt x="0" y="0"/>
                  </a:moveTo>
                  <a:lnTo>
                    <a:pt x="491" y="590"/>
                  </a:lnTo>
                  <a:lnTo>
                    <a:pt x="502" y="1566"/>
                  </a:lnTo>
                  <a:lnTo>
                    <a:pt x="511" y="1582"/>
                  </a:lnTo>
                  <a:lnTo>
                    <a:pt x="522" y="1595"/>
                  </a:lnTo>
                  <a:lnTo>
                    <a:pt x="533" y="1607"/>
                  </a:lnTo>
                  <a:lnTo>
                    <a:pt x="548" y="1620"/>
                  </a:lnTo>
                  <a:lnTo>
                    <a:pt x="574" y="1628"/>
                  </a:lnTo>
                  <a:lnTo>
                    <a:pt x="597" y="1633"/>
                  </a:lnTo>
                  <a:lnTo>
                    <a:pt x="615" y="1630"/>
                  </a:lnTo>
                  <a:lnTo>
                    <a:pt x="636" y="1625"/>
                  </a:lnTo>
                  <a:lnTo>
                    <a:pt x="656" y="1615"/>
                  </a:lnTo>
                  <a:lnTo>
                    <a:pt x="672" y="1599"/>
                  </a:lnTo>
                  <a:lnTo>
                    <a:pt x="683" y="1577"/>
                  </a:lnTo>
                  <a:lnTo>
                    <a:pt x="690" y="1566"/>
                  </a:lnTo>
                  <a:lnTo>
                    <a:pt x="719" y="572"/>
                  </a:lnTo>
                  <a:lnTo>
                    <a:pt x="119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ff9c0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02120" y="3238560"/>
              <a:ext cx="1143000" cy="1295280"/>
            </a:xfrm>
            <a:prstGeom prst="ellipse">
              <a:avLst/>
            </a:prstGeom>
            <a:solidFill>
              <a:srgbClr val="ff9c0b"/>
            </a:solidFill>
            <a:ln w="507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19520" y="1219320"/>
              <a:ext cx="3504960" cy="18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0000"/>
                  </a:solidFill>
                  <a:latin typeface="Arial"/>
                </a:rPr>
                <a:t>Personalized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Device Optimized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Internet / Intranet Cont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Wireless Specific Require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41720" y="3662280"/>
              <a:ext cx="106164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Arial"/>
                </a:rPr>
                <a:t>WP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257640" y="4572000"/>
              <a:ext cx="2665440" cy="17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Wireless Por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Proxy 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00"/>
                  </a:solidFill>
                  <a:latin typeface="Arial"/>
                </a:rPr>
                <a:t>Bandwidth Optimiz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00"/>
                  </a:solidFill>
                  <a:latin typeface="Arial"/>
                </a:rPr>
                <a:t>(Filtering, Compres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00"/>
                  </a:solidFill>
                  <a:latin typeface="Arial"/>
                </a:rPr>
                <a:t>Protocol Conversio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00"/>
                  </a:solidFill>
                  <a:latin typeface="Arial"/>
                </a:rPr>
                <a:t>Content Reformat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34200" y="1333440"/>
              <a:ext cx="0" cy="5105520"/>
            </a:xfrm>
            <a:prstGeom prst="line">
              <a:avLst/>
            </a:prstGeom>
            <a:ln w="57240">
              <a:solidFill>
                <a:srgbClr val="99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9" name="mp3logo" descr=""/>
          <p:cNvPicPr/>
          <p:nvPr/>
        </p:nvPicPr>
        <p:blipFill>
          <a:blip r:embed="rId8"/>
          <a:stretch/>
        </p:blipFill>
        <p:spPr>
          <a:xfrm>
            <a:off x="1676520" y="3429000"/>
            <a:ext cx="1038240" cy="828720"/>
          </a:xfrm>
          <a:prstGeom prst="rect">
            <a:avLst/>
          </a:prstGeom>
          <a:ln w="0">
            <a:noFill/>
          </a:ln>
        </p:spPr>
      </p:pic>
      <p:pic>
        <p:nvPicPr>
          <p:cNvPr id="520" name="e_logo" descr=""/>
          <p:cNvPicPr/>
          <p:nvPr/>
        </p:nvPicPr>
        <p:blipFill>
          <a:blip r:embed="rId9"/>
          <a:stretch/>
        </p:blipFill>
        <p:spPr>
          <a:xfrm>
            <a:off x="1447920" y="2133720"/>
            <a:ext cx="1295280" cy="29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1" name=""/>
          <p:cNvGraphicFramePr/>
          <p:nvPr/>
        </p:nvGraphicFramePr>
        <p:xfrm>
          <a:off x="6553080" y="2819520"/>
          <a:ext cx="1247760" cy="1319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553080" y="2819520"/>
                    <a:ext cx="124776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3" name=""/>
          <p:cNvGrpSpPr/>
          <p:nvPr/>
        </p:nvGrpSpPr>
        <p:grpSpPr>
          <a:xfrm>
            <a:off x="152280" y="4419720"/>
            <a:ext cx="2514600" cy="1143000"/>
            <a:chOff x="152280" y="4419720"/>
            <a:chExt cx="2514600" cy="1143000"/>
          </a:xfrm>
        </p:grpSpPr>
        <p:sp>
          <p:nvSpPr>
            <p:cNvPr id="524" name=""/>
            <p:cNvSpPr/>
            <p:nvPr/>
          </p:nvSpPr>
          <p:spPr>
            <a:xfrm>
              <a:off x="152280" y="4419720"/>
              <a:ext cx="2514600" cy="114300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rporate Intrane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5" name="Collage2" descr=""/>
            <p:cNvPicPr/>
            <p:nvPr/>
          </p:nvPicPr>
          <p:blipFill>
            <a:blip r:embed="rId13"/>
            <a:srcRect l="60454" t="1113" r="4010" b="83339"/>
            <a:stretch/>
          </p:blipFill>
          <p:spPr>
            <a:xfrm>
              <a:off x="762120" y="4572000"/>
              <a:ext cx="129528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6" name="msg_list" descr=""/>
          <p:cNvPicPr/>
          <p:nvPr/>
        </p:nvPicPr>
        <p:blipFill>
          <a:blip r:embed="rId14"/>
          <a:stretch/>
        </p:blipFill>
        <p:spPr>
          <a:xfrm>
            <a:off x="8237520" y="1874880"/>
            <a:ext cx="762120" cy="61920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39760" y="267840"/>
            <a:ext cx="8618400" cy="38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Wireless Portal Proxy Server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2406600">
            <a:off x="7201440" y="628200"/>
            <a:ext cx="1762920" cy="69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value%20chain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2500560" y="6242040"/>
            <a:ext cx="1066320" cy="35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93640" y="128520"/>
            <a:ext cx="15386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Servic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95080" y="885960"/>
            <a:ext cx="1453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bile De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286680" y="1487520"/>
            <a:ext cx="15555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ireless Port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909040" y="2101680"/>
            <a:ext cx="11365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iddle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319360" y="2703600"/>
            <a:ext cx="12675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SP, ASP, 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337120" y="5619600"/>
            <a:ext cx="1333080" cy="5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dio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87640" y="5032440"/>
            <a:ext cx="1325520" cy="5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e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276720" y="4519440"/>
            <a:ext cx="1861920" cy="29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P Standard 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16280" y="3817800"/>
            <a:ext cx="2190960" cy="43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koffi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Network Management &amp; Billin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430160" y="3173400"/>
            <a:ext cx="183600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ireless Servi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rovi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095880" y="4038480"/>
            <a:ext cx="3048120" cy="2286000"/>
          </a:xfrm>
          <a:prstGeom prst="rect">
            <a:avLst/>
          </a:prstGeom>
          <a:solidFill>
            <a:srgbClr val="003eba"/>
          </a:solidFill>
          <a:ln w="0">
            <a:noFill/>
          </a:ln>
          <a:effectLst>
            <a:outerShdw dist="153753" dir="2700000" blurRad="0" rotWithShape="0">
              <a:srgbClr val="00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rtel Networks has defined the Wireless Internet value chain that will transform today’s Wireless Service Providers and enable the development of innovative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39760" y="267840"/>
            <a:ext cx="8618400" cy="7686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Nortel Networks’</a:t>
            </a:r>
            <a:br>
              <a:rPr sz="2800"/>
            </a:b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Wireless Internet Value Chain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5535360" y="2762280"/>
            <a:ext cx="3608280" cy="387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to market with radical approach - Wireless Internet Packet Network (WIP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ic customer 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5524560" y="149400"/>
            <a:ext cx="3409920" cy="2409120"/>
            <a:chOff x="5524560" y="149400"/>
            <a:chExt cx="3409920" cy="2409120"/>
          </a:xfrm>
        </p:grpSpPr>
        <p:sp>
          <p:nvSpPr>
            <p:cNvPr id="545" name=""/>
            <p:cNvSpPr/>
            <p:nvPr/>
          </p:nvSpPr>
          <p:spPr>
            <a:xfrm>
              <a:off x="6505560" y="2205000"/>
              <a:ext cx="328680" cy="2916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896160" y="2265480"/>
              <a:ext cx="328680" cy="2930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7" name="tower" descr=""/>
            <p:cNvPicPr/>
            <p:nvPr/>
          </p:nvPicPr>
          <p:blipFill>
            <a:blip r:embed="rId1"/>
            <a:stretch/>
          </p:blipFill>
          <p:spPr>
            <a:xfrm>
              <a:off x="6966000" y="2295360"/>
              <a:ext cx="220680" cy="23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6751800" y="1312920"/>
              <a:ext cx="981000" cy="2264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265800" y="1236600"/>
              <a:ext cx="1946160" cy="40464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  <a:effectLst>
              <a:outerShdw dist="52300" dir="4563564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637320" y="1266840"/>
              <a:ext cx="117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0000"/>
                  </a:solidFill>
                  <a:latin typeface="Arial"/>
                </a:rPr>
                <a:t>Managed Packet W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60920" y="606240"/>
              <a:ext cx="1455840" cy="3934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32440" y="301680"/>
              <a:ext cx="87804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0000"/>
                  </a:solidFill>
                  <a:latin typeface="Arial"/>
                </a:rPr>
                <a:t>IP Services Intran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78400" y="836640"/>
              <a:ext cx="122400" cy="40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524560" y="865080"/>
              <a:ext cx="938160" cy="2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noAutofit/>
            </a:bodyPr>
            <a:p>
              <a:pPr marL="114480" indent="-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all Server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obility Management Server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10120" y="1231920"/>
              <a:ext cx="6462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noAutofit/>
            </a:bodyPr>
            <a:p>
              <a:pPr marL="114480" indent="-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outers/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witch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5724360" y="601560"/>
              <a:ext cx="1200240" cy="232920"/>
              <a:chOff x="5724360" y="601560"/>
              <a:chExt cx="1200240" cy="232920"/>
            </a:xfrm>
          </p:grpSpPr>
          <p:sp>
            <p:nvSpPr>
              <p:cNvPr id="557" name=""/>
              <p:cNvSpPr/>
              <p:nvPr/>
            </p:nvSpPr>
            <p:spPr>
              <a:xfrm flipV="1">
                <a:off x="5800680" y="744480"/>
                <a:ext cx="0" cy="72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8" name=""/>
              <p:cNvGrpSpPr/>
              <p:nvPr/>
            </p:nvGrpSpPr>
            <p:grpSpPr>
              <a:xfrm>
                <a:off x="5742360" y="647640"/>
                <a:ext cx="103680" cy="97200"/>
                <a:chOff x="5742360" y="647640"/>
                <a:chExt cx="103680" cy="9720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5742360" y="647640"/>
                  <a:ext cx="103680" cy="97200"/>
                </a:xfrm>
                <a:custGeom>
                  <a:avLst/>
                  <a:gdLst/>
                  <a:ahLst/>
                  <a:rect l="l" t="t" r="r" b="b"/>
                  <a:pathLst>
                    <a:path w="596" h="595">
                      <a:moveTo>
                        <a:pt x="298" y="0"/>
                      </a:moveTo>
                      <a:lnTo>
                        <a:pt x="238" y="1"/>
                      </a:lnTo>
                      <a:lnTo>
                        <a:pt x="209" y="4"/>
                      </a:lnTo>
                      <a:lnTo>
                        <a:pt x="181" y="6"/>
                      </a:lnTo>
                      <a:lnTo>
                        <a:pt x="155" y="9"/>
                      </a:lnTo>
                      <a:lnTo>
                        <a:pt x="132" y="12"/>
                      </a:lnTo>
                      <a:lnTo>
                        <a:pt x="108" y="17"/>
                      </a:lnTo>
                      <a:lnTo>
                        <a:pt x="87" y="22"/>
                      </a:lnTo>
                      <a:lnTo>
                        <a:pt x="68" y="27"/>
                      </a:lnTo>
                      <a:lnTo>
                        <a:pt x="51" y="33"/>
                      </a:lnTo>
                      <a:lnTo>
                        <a:pt x="36" y="38"/>
                      </a:lnTo>
                      <a:lnTo>
                        <a:pt x="24" y="46"/>
                      </a:lnTo>
                      <a:lnTo>
                        <a:pt x="14" y="52"/>
                      </a:lnTo>
                      <a:lnTo>
                        <a:pt x="6" y="60"/>
                      </a:lnTo>
                      <a:lnTo>
                        <a:pt x="1" y="67"/>
                      </a:lnTo>
                      <a:lnTo>
                        <a:pt x="0" y="74"/>
                      </a:lnTo>
                      <a:lnTo>
                        <a:pt x="0" y="521"/>
                      </a:lnTo>
                      <a:lnTo>
                        <a:pt x="1" y="528"/>
                      </a:lnTo>
                      <a:lnTo>
                        <a:pt x="6" y="536"/>
                      </a:lnTo>
                      <a:lnTo>
                        <a:pt x="14" y="543"/>
                      </a:lnTo>
                      <a:lnTo>
                        <a:pt x="24" y="549"/>
                      </a:lnTo>
                      <a:lnTo>
                        <a:pt x="36" y="557"/>
                      </a:lnTo>
                      <a:lnTo>
                        <a:pt x="51" y="563"/>
                      </a:lnTo>
                      <a:lnTo>
                        <a:pt x="68" y="568"/>
                      </a:lnTo>
                      <a:lnTo>
                        <a:pt x="87" y="573"/>
                      </a:lnTo>
                      <a:lnTo>
                        <a:pt x="108" y="578"/>
                      </a:lnTo>
                      <a:lnTo>
                        <a:pt x="132" y="583"/>
                      </a:lnTo>
                      <a:lnTo>
                        <a:pt x="155" y="587"/>
                      </a:lnTo>
                      <a:lnTo>
                        <a:pt x="181" y="589"/>
                      </a:lnTo>
                      <a:lnTo>
                        <a:pt x="209" y="592"/>
                      </a:lnTo>
                      <a:lnTo>
                        <a:pt x="238" y="594"/>
                      </a:lnTo>
                      <a:lnTo>
                        <a:pt x="298" y="595"/>
                      </a:lnTo>
                      <a:lnTo>
                        <a:pt x="359" y="594"/>
                      </a:lnTo>
                      <a:lnTo>
                        <a:pt x="387" y="592"/>
                      </a:lnTo>
                      <a:lnTo>
                        <a:pt x="415" y="589"/>
                      </a:lnTo>
                      <a:lnTo>
                        <a:pt x="441" y="587"/>
                      </a:lnTo>
                      <a:lnTo>
                        <a:pt x="464" y="583"/>
                      </a:lnTo>
                      <a:lnTo>
                        <a:pt x="488" y="578"/>
                      </a:lnTo>
                      <a:lnTo>
                        <a:pt x="509" y="573"/>
                      </a:lnTo>
                      <a:lnTo>
                        <a:pt x="528" y="568"/>
                      </a:lnTo>
                      <a:lnTo>
                        <a:pt x="545" y="563"/>
                      </a:lnTo>
                      <a:lnTo>
                        <a:pt x="560" y="557"/>
                      </a:lnTo>
                      <a:lnTo>
                        <a:pt x="572" y="549"/>
                      </a:lnTo>
                      <a:lnTo>
                        <a:pt x="582" y="543"/>
                      </a:lnTo>
                      <a:lnTo>
                        <a:pt x="590" y="536"/>
                      </a:lnTo>
                      <a:lnTo>
                        <a:pt x="595" y="528"/>
                      </a:lnTo>
                      <a:lnTo>
                        <a:pt x="596" y="521"/>
                      </a:lnTo>
                      <a:lnTo>
                        <a:pt x="596" y="74"/>
                      </a:lnTo>
                      <a:lnTo>
                        <a:pt x="595" y="67"/>
                      </a:lnTo>
                      <a:lnTo>
                        <a:pt x="590" y="60"/>
                      </a:lnTo>
                      <a:lnTo>
                        <a:pt x="582" y="52"/>
                      </a:lnTo>
                      <a:lnTo>
                        <a:pt x="572" y="46"/>
                      </a:lnTo>
                      <a:lnTo>
                        <a:pt x="560" y="38"/>
                      </a:lnTo>
                      <a:lnTo>
                        <a:pt x="545" y="33"/>
                      </a:lnTo>
                      <a:lnTo>
                        <a:pt x="528" y="27"/>
                      </a:lnTo>
                      <a:lnTo>
                        <a:pt x="509" y="22"/>
                      </a:lnTo>
                      <a:lnTo>
                        <a:pt x="488" y="17"/>
                      </a:lnTo>
                      <a:lnTo>
                        <a:pt x="464" y="12"/>
                      </a:lnTo>
                      <a:lnTo>
                        <a:pt x="441" y="9"/>
                      </a:lnTo>
                      <a:lnTo>
                        <a:pt x="415" y="6"/>
                      </a:lnTo>
                      <a:lnTo>
                        <a:pt x="387" y="4"/>
                      </a:lnTo>
                      <a:lnTo>
                        <a:pt x="359" y="1"/>
                      </a:lnTo>
                      <a:lnTo>
                        <a:pt x="298" y="0"/>
                      </a:lnTo>
                      <a:close/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5742360" y="647640"/>
                  <a:ext cx="103680" cy="23760"/>
                </a:xfrm>
                <a:custGeom>
                  <a:avLst/>
                  <a:gdLst/>
                  <a:ahLst/>
                  <a:rect l="l" t="t" r="r" b="b"/>
                  <a:pathLst>
                    <a:path w="596" h="149">
                      <a:moveTo>
                        <a:pt x="0" y="74"/>
                      </a:moveTo>
                      <a:lnTo>
                        <a:pt x="1" y="82"/>
                      </a:lnTo>
                      <a:lnTo>
                        <a:pt x="6" y="89"/>
                      </a:lnTo>
                      <a:lnTo>
                        <a:pt x="14" y="97"/>
                      </a:lnTo>
                      <a:lnTo>
                        <a:pt x="24" y="103"/>
                      </a:lnTo>
                      <a:lnTo>
                        <a:pt x="36" y="110"/>
                      </a:lnTo>
                      <a:lnTo>
                        <a:pt x="51" y="117"/>
                      </a:lnTo>
                      <a:lnTo>
                        <a:pt x="68" y="122"/>
                      </a:lnTo>
                      <a:lnTo>
                        <a:pt x="87" y="126"/>
                      </a:lnTo>
                      <a:lnTo>
                        <a:pt x="108" y="131"/>
                      </a:lnTo>
                      <a:lnTo>
                        <a:pt x="132" y="136"/>
                      </a:lnTo>
                      <a:lnTo>
                        <a:pt x="155" y="140"/>
                      </a:lnTo>
                      <a:lnTo>
                        <a:pt x="181" y="143"/>
                      </a:lnTo>
                      <a:lnTo>
                        <a:pt x="209" y="145"/>
                      </a:lnTo>
                      <a:lnTo>
                        <a:pt x="238" y="148"/>
                      </a:lnTo>
                      <a:lnTo>
                        <a:pt x="298" y="149"/>
                      </a:lnTo>
                      <a:lnTo>
                        <a:pt x="359" y="148"/>
                      </a:lnTo>
                      <a:lnTo>
                        <a:pt x="387" y="145"/>
                      </a:lnTo>
                      <a:lnTo>
                        <a:pt x="415" y="143"/>
                      </a:lnTo>
                      <a:lnTo>
                        <a:pt x="441" y="140"/>
                      </a:lnTo>
                      <a:lnTo>
                        <a:pt x="464" y="136"/>
                      </a:lnTo>
                      <a:lnTo>
                        <a:pt x="488" y="131"/>
                      </a:lnTo>
                      <a:lnTo>
                        <a:pt x="509" y="126"/>
                      </a:lnTo>
                      <a:lnTo>
                        <a:pt x="528" y="122"/>
                      </a:lnTo>
                      <a:lnTo>
                        <a:pt x="545" y="117"/>
                      </a:lnTo>
                      <a:lnTo>
                        <a:pt x="560" y="110"/>
                      </a:lnTo>
                      <a:lnTo>
                        <a:pt x="572" y="103"/>
                      </a:lnTo>
                      <a:lnTo>
                        <a:pt x="582" y="97"/>
                      </a:lnTo>
                      <a:lnTo>
                        <a:pt x="590" y="89"/>
                      </a:lnTo>
                      <a:lnTo>
                        <a:pt x="595" y="82"/>
                      </a:lnTo>
                      <a:lnTo>
                        <a:pt x="596" y="74"/>
                      </a:lnTo>
                      <a:lnTo>
                        <a:pt x="595" y="67"/>
                      </a:lnTo>
                      <a:lnTo>
                        <a:pt x="590" y="60"/>
                      </a:lnTo>
                      <a:lnTo>
                        <a:pt x="582" y="52"/>
                      </a:lnTo>
                      <a:lnTo>
                        <a:pt x="572" y="46"/>
                      </a:lnTo>
                      <a:lnTo>
                        <a:pt x="560" y="38"/>
                      </a:lnTo>
                      <a:lnTo>
                        <a:pt x="545" y="33"/>
                      </a:lnTo>
                      <a:lnTo>
                        <a:pt x="528" y="27"/>
                      </a:lnTo>
                      <a:lnTo>
                        <a:pt x="509" y="22"/>
                      </a:lnTo>
                      <a:lnTo>
                        <a:pt x="488" y="17"/>
                      </a:lnTo>
                      <a:lnTo>
                        <a:pt x="464" y="12"/>
                      </a:lnTo>
                      <a:lnTo>
                        <a:pt x="441" y="9"/>
                      </a:lnTo>
                      <a:lnTo>
                        <a:pt x="415" y="6"/>
                      </a:lnTo>
                      <a:lnTo>
                        <a:pt x="387" y="4"/>
                      </a:lnTo>
                      <a:lnTo>
                        <a:pt x="359" y="1"/>
                      </a:lnTo>
                      <a:lnTo>
                        <a:pt x="298" y="0"/>
                      </a:lnTo>
                      <a:lnTo>
                        <a:pt x="238" y="1"/>
                      </a:lnTo>
                      <a:lnTo>
                        <a:pt x="209" y="4"/>
                      </a:lnTo>
                      <a:lnTo>
                        <a:pt x="181" y="6"/>
                      </a:lnTo>
                      <a:lnTo>
                        <a:pt x="155" y="9"/>
                      </a:lnTo>
                      <a:lnTo>
                        <a:pt x="132" y="12"/>
                      </a:lnTo>
                      <a:lnTo>
                        <a:pt x="108" y="17"/>
                      </a:lnTo>
                      <a:lnTo>
                        <a:pt x="87" y="22"/>
                      </a:lnTo>
                      <a:lnTo>
                        <a:pt x="68" y="27"/>
                      </a:lnTo>
                      <a:lnTo>
                        <a:pt x="51" y="33"/>
                      </a:lnTo>
                      <a:lnTo>
                        <a:pt x="36" y="38"/>
                      </a:lnTo>
                      <a:lnTo>
                        <a:pt x="24" y="46"/>
                      </a:lnTo>
                      <a:lnTo>
                        <a:pt x="14" y="52"/>
                      </a:lnTo>
                      <a:lnTo>
                        <a:pt x="6" y="60"/>
                      </a:lnTo>
                      <a:lnTo>
                        <a:pt x="1" y="67"/>
                      </a:lnTo>
                      <a:lnTo>
                        <a:pt x="0" y="74"/>
                      </a:lnTo>
                      <a:close/>
                    </a:path>
                  </a:pathLst>
                </a:custGeom>
                <a:solidFill>
                  <a:srgbClr val="ffd6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5742360" y="647640"/>
                  <a:ext cx="103680" cy="97200"/>
                </a:xfrm>
                <a:custGeom>
                  <a:avLst/>
                  <a:gdLst/>
                  <a:ahLst/>
                  <a:rect l="l" t="t" r="r" b="b"/>
                  <a:pathLst>
                    <a:path w="596" h="595">
                      <a:moveTo>
                        <a:pt x="298" y="0"/>
                      </a:moveTo>
                      <a:lnTo>
                        <a:pt x="238" y="1"/>
                      </a:lnTo>
                      <a:lnTo>
                        <a:pt x="209" y="4"/>
                      </a:lnTo>
                      <a:lnTo>
                        <a:pt x="181" y="6"/>
                      </a:lnTo>
                      <a:lnTo>
                        <a:pt x="155" y="9"/>
                      </a:lnTo>
                      <a:lnTo>
                        <a:pt x="132" y="12"/>
                      </a:lnTo>
                      <a:lnTo>
                        <a:pt x="108" y="17"/>
                      </a:lnTo>
                      <a:lnTo>
                        <a:pt x="87" y="22"/>
                      </a:lnTo>
                      <a:lnTo>
                        <a:pt x="68" y="27"/>
                      </a:lnTo>
                      <a:lnTo>
                        <a:pt x="51" y="33"/>
                      </a:lnTo>
                      <a:lnTo>
                        <a:pt x="36" y="38"/>
                      </a:lnTo>
                      <a:lnTo>
                        <a:pt x="24" y="46"/>
                      </a:lnTo>
                      <a:lnTo>
                        <a:pt x="14" y="52"/>
                      </a:lnTo>
                      <a:lnTo>
                        <a:pt x="6" y="60"/>
                      </a:lnTo>
                      <a:lnTo>
                        <a:pt x="1" y="67"/>
                      </a:lnTo>
                      <a:lnTo>
                        <a:pt x="0" y="74"/>
                      </a:lnTo>
                      <a:lnTo>
                        <a:pt x="0" y="521"/>
                      </a:lnTo>
                      <a:lnTo>
                        <a:pt x="1" y="528"/>
                      </a:lnTo>
                      <a:lnTo>
                        <a:pt x="6" y="536"/>
                      </a:lnTo>
                      <a:lnTo>
                        <a:pt x="14" y="543"/>
                      </a:lnTo>
                      <a:lnTo>
                        <a:pt x="24" y="549"/>
                      </a:lnTo>
                      <a:lnTo>
                        <a:pt x="36" y="557"/>
                      </a:lnTo>
                      <a:lnTo>
                        <a:pt x="51" y="563"/>
                      </a:lnTo>
                      <a:lnTo>
                        <a:pt x="68" y="568"/>
                      </a:lnTo>
                      <a:lnTo>
                        <a:pt x="87" y="573"/>
                      </a:lnTo>
                      <a:lnTo>
                        <a:pt x="108" y="578"/>
                      </a:lnTo>
                      <a:lnTo>
                        <a:pt x="132" y="583"/>
                      </a:lnTo>
                      <a:lnTo>
                        <a:pt x="155" y="587"/>
                      </a:lnTo>
                      <a:lnTo>
                        <a:pt x="181" y="589"/>
                      </a:lnTo>
                      <a:lnTo>
                        <a:pt x="209" y="592"/>
                      </a:lnTo>
                      <a:lnTo>
                        <a:pt x="238" y="594"/>
                      </a:lnTo>
                      <a:lnTo>
                        <a:pt x="298" y="595"/>
                      </a:lnTo>
                      <a:lnTo>
                        <a:pt x="359" y="594"/>
                      </a:lnTo>
                      <a:lnTo>
                        <a:pt x="387" y="592"/>
                      </a:lnTo>
                      <a:lnTo>
                        <a:pt x="415" y="589"/>
                      </a:lnTo>
                      <a:lnTo>
                        <a:pt x="441" y="587"/>
                      </a:lnTo>
                      <a:lnTo>
                        <a:pt x="464" y="583"/>
                      </a:lnTo>
                      <a:lnTo>
                        <a:pt x="488" y="578"/>
                      </a:lnTo>
                      <a:lnTo>
                        <a:pt x="509" y="573"/>
                      </a:lnTo>
                      <a:lnTo>
                        <a:pt x="528" y="568"/>
                      </a:lnTo>
                      <a:lnTo>
                        <a:pt x="545" y="563"/>
                      </a:lnTo>
                      <a:lnTo>
                        <a:pt x="560" y="557"/>
                      </a:lnTo>
                      <a:lnTo>
                        <a:pt x="572" y="549"/>
                      </a:lnTo>
                      <a:lnTo>
                        <a:pt x="582" y="543"/>
                      </a:lnTo>
                      <a:lnTo>
                        <a:pt x="590" y="536"/>
                      </a:lnTo>
                      <a:lnTo>
                        <a:pt x="595" y="528"/>
                      </a:lnTo>
                      <a:lnTo>
                        <a:pt x="596" y="521"/>
                      </a:lnTo>
                      <a:lnTo>
                        <a:pt x="596" y="74"/>
                      </a:lnTo>
                      <a:lnTo>
                        <a:pt x="595" y="67"/>
                      </a:lnTo>
                      <a:lnTo>
                        <a:pt x="590" y="60"/>
                      </a:lnTo>
                      <a:lnTo>
                        <a:pt x="582" y="52"/>
                      </a:lnTo>
                      <a:lnTo>
                        <a:pt x="572" y="46"/>
                      </a:lnTo>
                      <a:lnTo>
                        <a:pt x="560" y="38"/>
                      </a:lnTo>
                      <a:lnTo>
                        <a:pt x="545" y="33"/>
                      </a:lnTo>
                      <a:lnTo>
                        <a:pt x="528" y="27"/>
                      </a:lnTo>
                      <a:lnTo>
                        <a:pt x="509" y="22"/>
                      </a:lnTo>
                      <a:lnTo>
                        <a:pt x="488" y="17"/>
                      </a:lnTo>
                      <a:lnTo>
                        <a:pt x="464" y="12"/>
                      </a:lnTo>
                      <a:lnTo>
                        <a:pt x="441" y="9"/>
                      </a:lnTo>
                      <a:lnTo>
                        <a:pt x="415" y="6"/>
                      </a:lnTo>
                      <a:lnTo>
                        <a:pt x="387" y="4"/>
                      </a:lnTo>
                      <a:lnTo>
                        <a:pt x="359" y="1"/>
                      </a:lnTo>
                      <a:lnTo>
                        <a:pt x="298" y="0"/>
                      </a:lnTo>
                      <a:close/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5742360" y="659160"/>
                  <a:ext cx="103680" cy="12240"/>
                </a:xfrm>
                <a:custGeom>
                  <a:avLst/>
                  <a:gdLst/>
                  <a:ahLst/>
                  <a:rect l="l" t="t" r="r" b="b"/>
                  <a:pathLst>
                    <a:path w="596" h="75">
                      <a:moveTo>
                        <a:pt x="0" y="0"/>
                      </a:moveTo>
                      <a:lnTo>
                        <a:pt x="1" y="8"/>
                      </a:lnTo>
                      <a:lnTo>
                        <a:pt x="6" y="15"/>
                      </a:lnTo>
                      <a:lnTo>
                        <a:pt x="14" y="23"/>
                      </a:lnTo>
                      <a:lnTo>
                        <a:pt x="24" y="29"/>
                      </a:lnTo>
                      <a:lnTo>
                        <a:pt x="36" y="36"/>
                      </a:lnTo>
                      <a:lnTo>
                        <a:pt x="51" y="43"/>
                      </a:lnTo>
                      <a:lnTo>
                        <a:pt x="68" y="48"/>
                      </a:lnTo>
                      <a:lnTo>
                        <a:pt x="87" y="52"/>
                      </a:lnTo>
                      <a:lnTo>
                        <a:pt x="108" y="57"/>
                      </a:lnTo>
                      <a:lnTo>
                        <a:pt x="132" y="62"/>
                      </a:lnTo>
                      <a:lnTo>
                        <a:pt x="155" y="66"/>
                      </a:lnTo>
                      <a:lnTo>
                        <a:pt x="181" y="69"/>
                      </a:lnTo>
                      <a:lnTo>
                        <a:pt x="209" y="71"/>
                      </a:lnTo>
                      <a:lnTo>
                        <a:pt x="238" y="74"/>
                      </a:lnTo>
                      <a:lnTo>
                        <a:pt x="298" y="75"/>
                      </a:lnTo>
                      <a:lnTo>
                        <a:pt x="359" y="74"/>
                      </a:lnTo>
                      <a:lnTo>
                        <a:pt x="387" y="71"/>
                      </a:lnTo>
                      <a:lnTo>
                        <a:pt x="415" y="69"/>
                      </a:lnTo>
                      <a:lnTo>
                        <a:pt x="441" y="66"/>
                      </a:lnTo>
                      <a:lnTo>
                        <a:pt x="464" y="62"/>
                      </a:lnTo>
                      <a:lnTo>
                        <a:pt x="488" y="57"/>
                      </a:lnTo>
                      <a:lnTo>
                        <a:pt x="509" y="52"/>
                      </a:lnTo>
                      <a:lnTo>
                        <a:pt x="528" y="48"/>
                      </a:lnTo>
                      <a:lnTo>
                        <a:pt x="545" y="43"/>
                      </a:lnTo>
                      <a:lnTo>
                        <a:pt x="560" y="36"/>
                      </a:lnTo>
                      <a:lnTo>
                        <a:pt x="572" y="29"/>
                      </a:lnTo>
                      <a:lnTo>
                        <a:pt x="582" y="23"/>
                      </a:lnTo>
                      <a:lnTo>
                        <a:pt x="590" y="15"/>
                      </a:lnTo>
                      <a:lnTo>
                        <a:pt x="595" y="8"/>
                      </a:lnTo>
                      <a:lnTo>
                        <a:pt x="596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5939640" y="601560"/>
                <a:ext cx="147240" cy="232920"/>
                <a:chOff x="5939640" y="601560"/>
                <a:chExt cx="147240" cy="23292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6001200" y="747720"/>
                  <a:ext cx="108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040" bIns="41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6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939640" y="601560"/>
                  <a:ext cx="147240" cy="18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17819" dir="2700000" blurRad="0" rotWithShape="0">
                    <a:srgbClr val="b2b2b2"/>
                  </a:outerShdw>
                </a:effectLst>
              </p:spPr>
            </p:pic>
          </p:grpSp>
          <p:grpSp>
            <p:nvGrpSpPr>
              <p:cNvPr id="566" name=""/>
              <p:cNvGrpSpPr/>
              <p:nvPr/>
            </p:nvGrpSpPr>
            <p:grpSpPr>
              <a:xfrm>
                <a:off x="6124320" y="601560"/>
                <a:ext cx="147240" cy="232920"/>
                <a:chOff x="6124320" y="601560"/>
                <a:chExt cx="147240" cy="23292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6185880" y="747720"/>
                  <a:ext cx="108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040" bIns="41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6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124320" y="601560"/>
                  <a:ext cx="147240" cy="18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17819" dir="2700000" blurRad="0" rotWithShape="0">
                    <a:srgbClr val="b2b2b2"/>
                  </a:outerShdw>
                </a:effectLst>
              </p:spPr>
            </p:pic>
          </p:grpSp>
          <p:grpSp>
            <p:nvGrpSpPr>
              <p:cNvPr id="569" name=""/>
              <p:cNvGrpSpPr/>
              <p:nvPr/>
            </p:nvGrpSpPr>
            <p:grpSpPr>
              <a:xfrm>
                <a:off x="6401520" y="601560"/>
                <a:ext cx="147240" cy="232920"/>
                <a:chOff x="6401520" y="601560"/>
                <a:chExt cx="147240" cy="23292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6463080" y="747720"/>
                  <a:ext cx="108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040" bIns="41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7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401520" y="601560"/>
                  <a:ext cx="147240" cy="18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17819" dir="2700000" blurRad="0" rotWithShape="0">
                    <a:srgbClr val="b2b2b2"/>
                  </a:outerShdw>
                </a:effectLst>
              </p:spPr>
            </p:pic>
          </p:grpSp>
          <p:grpSp>
            <p:nvGrpSpPr>
              <p:cNvPr id="572" name=""/>
              <p:cNvGrpSpPr/>
              <p:nvPr/>
            </p:nvGrpSpPr>
            <p:grpSpPr>
              <a:xfrm>
                <a:off x="6586200" y="601560"/>
                <a:ext cx="147240" cy="232920"/>
                <a:chOff x="6586200" y="601560"/>
                <a:chExt cx="147240" cy="23292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6647760" y="747720"/>
                  <a:ext cx="108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040" bIns="41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7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586200" y="601560"/>
                  <a:ext cx="147240" cy="18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17819" dir="2700000" blurRad="0" rotWithShape="0">
                    <a:srgbClr val="b2b2b2"/>
                  </a:outerShdw>
                </a:effectLst>
              </p:spPr>
            </p:pic>
          </p:grpSp>
          <p:grpSp>
            <p:nvGrpSpPr>
              <p:cNvPr id="575" name=""/>
              <p:cNvGrpSpPr/>
              <p:nvPr/>
            </p:nvGrpSpPr>
            <p:grpSpPr>
              <a:xfrm>
                <a:off x="6770880" y="601560"/>
                <a:ext cx="147240" cy="232920"/>
                <a:chOff x="6770880" y="601560"/>
                <a:chExt cx="147240" cy="23292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6832440" y="747720"/>
                  <a:ext cx="108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040" bIns="41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7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770880" y="601560"/>
                  <a:ext cx="147240" cy="18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17819" dir="2700000" blurRad="0" rotWithShape="0">
                    <a:srgbClr val="b2b2b2"/>
                  </a:outerShdw>
                </a:effectLst>
              </p:spPr>
            </p:pic>
          </p:grpSp>
          <p:sp>
            <p:nvSpPr>
              <p:cNvPr id="578" name=""/>
              <p:cNvSpPr/>
              <p:nvPr/>
            </p:nvSpPr>
            <p:spPr>
              <a:xfrm>
                <a:off x="5724360" y="824760"/>
                <a:ext cx="1200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9" name=""/>
            <p:cNvSpPr/>
            <p:nvPr/>
          </p:nvSpPr>
          <p:spPr>
            <a:xfrm>
              <a:off x="5670720" y="339840"/>
              <a:ext cx="183960" cy="14544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644800" y="3063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1" name="" descr=""/>
            <p:cNvPicPr/>
            <p:nvPr/>
          </p:nvPicPr>
          <p:blipFill>
            <a:blip r:embed="rId7"/>
            <a:stretch/>
          </p:blipFill>
          <p:spPr>
            <a:xfrm>
              <a:off x="6324480" y="1217520"/>
              <a:ext cx="160560" cy="15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6370560" y="865080"/>
              <a:ext cx="7081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noAutofit/>
            </a:bodyPr>
            <a:p>
              <a:pPr marL="114480" indent="-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pplication Server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323120" y="2141640"/>
              <a:ext cx="328680" cy="2930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4" name="" descr=""/>
            <p:cNvPicPr/>
            <p:nvPr/>
          </p:nvPicPr>
          <p:blipFill>
            <a:blip r:embed="rId8"/>
            <a:stretch/>
          </p:blipFill>
          <p:spPr>
            <a:xfrm>
              <a:off x="6046920" y="2068560"/>
              <a:ext cx="347400" cy="272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a0a0a0"/>
              </a:outerShdw>
            </a:effectLst>
          </p:spPr>
        </p:pic>
        <p:pic>
          <p:nvPicPr>
            <p:cNvPr id="585" name="phone" descr=""/>
            <p:cNvPicPr/>
            <p:nvPr/>
          </p:nvPicPr>
          <p:blipFill>
            <a:blip r:embed="rId9"/>
            <a:stretch/>
          </p:blipFill>
          <p:spPr>
            <a:xfrm>
              <a:off x="5954760" y="1687680"/>
              <a:ext cx="345960" cy="36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tower" descr=""/>
            <p:cNvPicPr/>
            <p:nvPr/>
          </p:nvPicPr>
          <p:blipFill>
            <a:blip r:embed="rId10"/>
            <a:stretch/>
          </p:blipFill>
          <p:spPr>
            <a:xfrm>
              <a:off x="6559560" y="2179800"/>
              <a:ext cx="220680" cy="24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tower" descr=""/>
            <p:cNvPicPr/>
            <p:nvPr/>
          </p:nvPicPr>
          <p:blipFill>
            <a:blip r:embed="rId11"/>
            <a:stretch/>
          </p:blipFill>
          <p:spPr>
            <a:xfrm>
              <a:off x="7377120" y="2168640"/>
              <a:ext cx="220680" cy="23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"/>
            <p:cNvSpPr/>
            <p:nvPr/>
          </p:nvSpPr>
          <p:spPr>
            <a:xfrm>
              <a:off x="7683480" y="2205000"/>
              <a:ext cx="184320" cy="14580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657920" y="21668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891560" y="2163600"/>
              <a:ext cx="68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0000"/>
                  </a:solidFill>
                  <a:latin typeface="Arial"/>
                </a:rPr>
                <a:t>Wideband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0000"/>
                  </a:solidFill>
                  <a:latin typeface="Arial"/>
                </a:rPr>
                <a:t>Radi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6740280" y="1716120"/>
              <a:ext cx="291960" cy="52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124760" y="1716120"/>
              <a:ext cx="323640" cy="55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78680" y="1716120"/>
              <a:ext cx="0" cy="53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4" name="sm_box" descr=""/>
            <p:cNvPicPr/>
            <p:nvPr/>
          </p:nvPicPr>
          <p:blipFill>
            <a:blip r:embed="rId12"/>
            <a:srcRect l="10000" t="0" r="0" b="0"/>
            <a:stretch/>
          </p:blipFill>
          <p:spPr>
            <a:xfrm>
              <a:off x="6986520" y="1568520"/>
              <a:ext cx="200160" cy="2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6350040" y="1646280"/>
              <a:ext cx="64620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0000"/>
                  </a:solidFill>
                  <a:latin typeface="Arial"/>
                </a:rPr>
                <a:t>Wireless Access Gatewa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799320" y="1558800"/>
              <a:ext cx="183960" cy="14580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773760" y="1515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8" name="" descr=""/>
            <p:cNvPicPr/>
            <p:nvPr/>
          </p:nvPicPr>
          <p:blipFill>
            <a:blip r:embed="rId13"/>
            <a:stretch/>
          </p:blipFill>
          <p:spPr>
            <a:xfrm>
              <a:off x="7180200" y="1593720"/>
              <a:ext cx="16056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cloud1" descr=""/>
            <p:cNvPicPr/>
            <p:nvPr/>
          </p:nvPicPr>
          <p:blipFill>
            <a:blip r:embed="rId14">
              <a:lum bright="24000"/>
            </a:blip>
            <a:stretch/>
          </p:blipFill>
          <p:spPr>
            <a:xfrm>
              <a:off x="8058240" y="1293840"/>
              <a:ext cx="876240" cy="46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8270280" y="1440000"/>
              <a:ext cx="58320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8c008c"/>
                  </a:solidFill>
                  <a:latin typeface="Arial"/>
                </a:rPr>
                <a:t>PSTN &amp; 2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8c008c"/>
                  </a:solidFill>
                  <a:latin typeface="Arial"/>
                </a:rPr>
                <a:t>Wireles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1" name="" descr=""/>
            <p:cNvPicPr/>
            <p:nvPr/>
          </p:nvPicPr>
          <p:blipFill>
            <a:blip r:embed="rId15"/>
            <a:srcRect l="17925" t="19316" r="15934" b="9658"/>
            <a:stretch/>
          </p:blipFill>
          <p:spPr>
            <a:xfrm>
              <a:off x="7923240" y="1450800"/>
              <a:ext cx="244440" cy="2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7466040" y="1655640"/>
              <a:ext cx="64620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0000"/>
                  </a:solidFill>
                  <a:latin typeface="Arial"/>
                </a:rPr>
                <a:t>Circuit Gatewa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19840" y="1463760"/>
              <a:ext cx="184320" cy="14544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07240" y="14144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5" name="cloud1" descr=""/>
            <p:cNvPicPr/>
            <p:nvPr/>
          </p:nvPicPr>
          <p:blipFill>
            <a:blip r:embed="rId16">
              <a:lum bright="24000"/>
            </a:blip>
            <a:stretch/>
          </p:blipFill>
          <p:spPr>
            <a:xfrm>
              <a:off x="8032680" y="923760"/>
              <a:ext cx="876240" cy="46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8221320" y="1027080"/>
              <a:ext cx="6836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8c008c"/>
                  </a:solidFill>
                  <a:latin typeface="Arial"/>
                </a:rPr>
                <a:t>Internet &amp;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8c008c"/>
                  </a:solidFill>
                  <a:latin typeface="Arial"/>
                </a:rPr>
                <a:t>Packet Traff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7" name="" descr=""/>
            <p:cNvPicPr/>
            <p:nvPr/>
          </p:nvPicPr>
          <p:blipFill>
            <a:blip r:embed="rId17"/>
            <a:stretch/>
          </p:blipFill>
          <p:spPr>
            <a:xfrm>
              <a:off x="7954920" y="1276200"/>
              <a:ext cx="209520" cy="1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 flipH="1">
              <a:off x="7632720" y="834840"/>
              <a:ext cx="1540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045200" y="533520"/>
              <a:ext cx="1457280" cy="385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451640" y="149400"/>
              <a:ext cx="997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0000"/>
                  </a:solidFill>
                  <a:latin typeface="Arial"/>
                </a:rPr>
                <a:t>Internet Customer</a:t>
              </a:r>
              <a:br>
                <a:rPr sz="800"/>
              </a:br>
              <a:r>
                <a:rPr b="1" lang="en-US" sz="800" spc="-1" strike="noStrike">
                  <a:solidFill>
                    <a:srgbClr val="990000"/>
                  </a:solidFill>
                  <a:latin typeface="Arial"/>
                </a:rPr>
                <a:t>Care Cen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155000" y="865080"/>
              <a:ext cx="739800" cy="2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noAutofit/>
            </a:bodyPr>
            <a:p>
              <a:pPr marL="114480" indent="-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etwork Mgm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uthoriza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uthentica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816680" y="865080"/>
              <a:ext cx="648000" cy="2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noAutofit/>
            </a:bodyPr>
            <a:p>
              <a:pPr marL="114480" indent="-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Bill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 Car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ata Min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7216920" y="744480"/>
              <a:ext cx="0" cy="7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157880" y="647640"/>
              <a:ext cx="104760" cy="98280"/>
            </a:xfrm>
            <a:custGeom>
              <a:avLst/>
              <a:gdLst/>
              <a:ahLst/>
              <a:rect l="l" t="t" r="r" b="b"/>
              <a:pathLst>
                <a:path w="596" h="595">
                  <a:moveTo>
                    <a:pt x="298" y="0"/>
                  </a:moveTo>
                  <a:lnTo>
                    <a:pt x="238" y="1"/>
                  </a:lnTo>
                  <a:lnTo>
                    <a:pt x="209" y="4"/>
                  </a:lnTo>
                  <a:lnTo>
                    <a:pt x="181" y="6"/>
                  </a:lnTo>
                  <a:lnTo>
                    <a:pt x="155" y="9"/>
                  </a:lnTo>
                  <a:lnTo>
                    <a:pt x="132" y="12"/>
                  </a:lnTo>
                  <a:lnTo>
                    <a:pt x="108" y="17"/>
                  </a:lnTo>
                  <a:lnTo>
                    <a:pt x="87" y="22"/>
                  </a:lnTo>
                  <a:lnTo>
                    <a:pt x="68" y="27"/>
                  </a:lnTo>
                  <a:lnTo>
                    <a:pt x="51" y="33"/>
                  </a:lnTo>
                  <a:lnTo>
                    <a:pt x="36" y="38"/>
                  </a:lnTo>
                  <a:lnTo>
                    <a:pt x="24" y="46"/>
                  </a:lnTo>
                  <a:lnTo>
                    <a:pt x="14" y="52"/>
                  </a:lnTo>
                  <a:lnTo>
                    <a:pt x="6" y="60"/>
                  </a:lnTo>
                  <a:lnTo>
                    <a:pt x="1" y="67"/>
                  </a:lnTo>
                  <a:lnTo>
                    <a:pt x="0" y="74"/>
                  </a:lnTo>
                  <a:lnTo>
                    <a:pt x="0" y="521"/>
                  </a:lnTo>
                  <a:lnTo>
                    <a:pt x="1" y="528"/>
                  </a:lnTo>
                  <a:lnTo>
                    <a:pt x="6" y="536"/>
                  </a:lnTo>
                  <a:lnTo>
                    <a:pt x="14" y="543"/>
                  </a:lnTo>
                  <a:lnTo>
                    <a:pt x="24" y="549"/>
                  </a:lnTo>
                  <a:lnTo>
                    <a:pt x="36" y="557"/>
                  </a:lnTo>
                  <a:lnTo>
                    <a:pt x="51" y="563"/>
                  </a:lnTo>
                  <a:lnTo>
                    <a:pt x="68" y="568"/>
                  </a:lnTo>
                  <a:lnTo>
                    <a:pt x="87" y="573"/>
                  </a:lnTo>
                  <a:lnTo>
                    <a:pt x="108" y="578"/>
                  </a:lnTo>
                  <a:lnTo>
                    <a:pt x="132" y="583"/>
                  </a:lnTo>
                  <a:lnTo>
                    <a:pt x="155" y="587"/>
                  </a:lnTo>
                  <a:lnTo>
                    <a:pt x="181" y="589"/>
                  </a:lnTo>
                  <a:lnTo>
                    <a:pt x="209" y="592"/>
                  </a:lnTo>
                  <a:lnTo>
                    <a:pt x="238" y="594"/>
                  </a:lnTo>
                  <a:lnTo>
                    <a:pt x="298" y="595"/>
                  </a:lnTo>
                  <a:lnTo>
                    <a:pt x="359" y="594"/>
                  </a:lnTo>
                  <a:lnTo>
                    <a:pt x="387" y="592"/>
                  </a:lnTo>
                  <a:lnTo>
                    <a:pt x="415" y="589"/>
                  </a:lnTo>
                  <a:lnTo>
                    <a:pt x="441" y="587"/>
                  </a:lnTo>
                  <a:lnTo>
                    <a:pt x="464" y="583"/>
                  </a:lnTo>
                  <a:lnTo>
                    <a:pt x="488" y="578"/>
                  </a:lnTo>
                  <a:lnTo>
                    <a:pt x="509" y="573"/>
                  </a:lnTo>
                  <a:lnTo>
                    <a:pt x="528" y="568"/>
                  </a:lnTo>
                  <a:lnTo>
                    <a:pt x="545" y="563"/>
                  </a:lnTo>
                  <a:lnTo>
                    <a:pt x="560" y="557"/>
                  </a:lnTo>
                  <a:lnTo>
                    <a:pt x="572" y="549"/>
                  </a:lnTo>
                  <a:lnTo>
                    <a:pt x="582" y="543"/>
                  </a:lnTo>
                  <a:lnTo>
                    <a:pt x="590" y="536"/>
                  </a:lnTo>
                  <a:lnTo>
                    <a:pt x="595" y="528"/>
                  </a:lnTo>
                  <a:lnTo>
                    <a:pt x="596" y="521"/>
                  </a:lnTo>
                  <a:lnTo>
                    <a:pt x="596" y="74"/>
                  </a:lnTo>
                  <a:lnTo>
                    <a:pt x="595" y="67"/>
                  </a:lnTo>
                  <a:lnTo>
                    <a:pt x="590" y="60"/>
                  </a:lnTo>
                  <a:lnTo>
                    <a:pt x="582" y="52"/>
                  </a:lnTo>
                  <a:lnTo>
                    <a:pt x="572" y="46"/>
                  </a:lnTo>
                  <a:lnTo>
                    <a:pt x="560" y="38"/>
                  </a:lnTo>
                  <a:lnTo>
                    <a:pt x="545" y="33"/>
                  </a:lnTo>
                  <a:lnTo>
                    <a:pt x="528" y="27"/>
                  </a:lnTo>
                  <a:lnTo>
                    <a:pt x="509" y="22"/>
                  </a:lnTo>
                  <a:lnTo>
                    <a:pt x="488" y="17"/>
                  </a:lnTo>
                  <a:lnTo>
                    <a:pt x="464" y="12"/>
                  </a:lnTo>
                  <a:lnTo>
                    <a:pt x="441" y="9"/>
                  </a:lnTo>
                  <a:lnTo>
                    <a:pt x="415" y="6"/>
                  </a:lnTo>
                  <a:lnTo>
                    <a:pt x="387" y="4"/>
                  </a:lnTo>
                  <a:lnTo>
                    <a:pt x="359" y="1"/>
                  </a:lnTo>
                  <a:lnTo>
                    <a:pt x="298" y="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157880" y="647640"/>
              <a:ext cx="104760" cy="23400"/>
            </a:xfrm>
            <a:custGeom>
              <a:avLst/>
              <a:gdLst/>
              <a:ahLst/>
              <a:rect l="l" t="t" r="r" b="b"/>
              <a:pathLst>
                <a:path w="596" h="149">
                  <a:moveTo>
                    <a:pt x="0" y="74"/>
                  </a:moveTo>
                  <a:lnTo>
                    <a:pt x="1" y="82"/>
                  </a:lnTo>
                  <a:lnTo>
                    <a:pt x="6" y="89"/>
                  </a:lnTo>
                  <a:lnTo>
                    <a:pt x="14" y="97"/>
                  </a:lnTo>
                  <a:lnTo>
                    <a:pt x="24" y="103"/>
                  </a:lnTo>
                  <a:lnTo>
                    <a:pt x="36" y="110"/>
                  </a:lnTo>
                  <a:lnTo>
                    <a:pt x="51" y="117"/>
                  </a:lnTo>
                  <a:lnTo>
                    <a:pt x="68" y="122"/>
                  </a:lnTo>
                  <a:lnTo>
                    <a:pt x="87" y="126"/>
                  </a:lnTo>
                  <a:lnTo>
                    <a:pt x="108" y="131"/>
                  </a:lnTo>
                  <a:lnTo>
                    <a:pt x="132" y="136"/>
                  </a:lnTo>
                  <a:lnTo>
                    <a:pt x="155" y="140"/>
                  </a:lnTo>
                  <a:lnTo>
                    <a:pt x="181" y="143"/>
                  </a:lnTo>
                  <a:lnTo>
                    <a:pt x="209" y="145"/>
                  </a:lnTo>
                  <a:lnTo>
                    <a:pt x="238" y="148"/>
                  </a:lnTo>
                  <a:lnTo>
                    <a:pt x="298" y="149"/>
                  </a:lnTo>
                  <a:lnTo>
                    <a:pt x="359" y="148"/>
                  </a:lnTo>
                  <a:lnTo>
                    <a:pt x="387" y="145"/>
                  </a:lnTo>
                  <a:lnTo>
                    <a:pt x="415" y="143"/>
                  </a:lnTo>
                  <a:lnTo>
                    <a:pt x="441" y="140"/>
                  </a:lnTo>
                  <a:lnTo>
                    <a:pt x="464" y="136"/>
                  </a:lnTo>
                  <a:lnTo>
                    <a:pt x="488" y="131"/>
                  </a:lnTo>
                  <a:lnTo>
                    <a:pt x="509" y="126"/>
                  </a:lnTo>
                  <a:lnTo>
                    <a:pt x="528" y="122"/>
                  </a:lnTo>
                  <a:lnTo>
                    <a:pt x="545" y="117"/>
                  </a:lnTo>
                  <a:lnTo>
                    <a:pt x="560" y="110"/>
                  </a:lnTo>
                  <a:lnTo>
                    <a:pt x="572" y="103"/>
                  </a:lnTo>
                  <a:lnTo>
                    <a:pt x="582" y="97"/>
                  </a:lnTo>
                  <a:lnTo>
                    <a:pt x="590" y="89"/>
                  </a:lnTo>
                  <a:lnTo>
                    <a:pt x="595" y="82"/>
                  </a:lnTo>
                  <a:lnTo>
                    <a:pt x="596" y="74"/>
                  </a:lnTo>
                  <a:lnTo>
                    <a:pt x="595" y="67"/>
                  </a:lnTo>
                  <a:lnTo>
                    <a:pt x="590" y="60"/>
                  </a:lnTo>
                  <a:lnTo>
                    <a:pt x="582" y="52"/>
                  </a:lnTo>
                  <a:lnTo>
                    <a:pt x="572" y="46"/>
                  </a:lnTo>
                  <a:lnTo>
                    <a:pt x="560" y="38"/>
                  </a:lnTo>
                  <a:lnTo>
                    <a:pt x="545" y="33"/>
                  </a:lnTo>
                  <a:lnTo>
                    <a:pt x="528" y="27"/>
                  </a:lnTo>
                  <a:lnTo>
                    <a:pt x="509" y="22"/>
                  </a:lnTo>
                  <a:lnTo>
                    <a:pt x="488" y="17"/>
                  </a:lnTo>
                  <a:lnTo>
                    <a:pt x="464" y="12"/>
                  </a:lnTo>
                  <a:lnTo>
                    <a:pt x="441" y="9"/>
                  </a:lnTo>
                  <a:lnTo>
                    <a:pt x="415" y="6"/>
                  </a:lnTo>
                  <a:lnTo>
                    <a:pt x="387" y="4"/>
                  </a:lnTo>
                  <a:lnTo>
                    <a:pt x="359" y="1"/>
                  </a:lnTo>
                  <a:lnTo>
                    <a:pt x="298" y="0"/>
                  </a:lnTo>
                  <a:lnTo>
                    <a:pt x="238" y="1"/>
                  </a:lnTo>
                  <a:lnTo>
                    <a:pt x="209" y="4"/>
                  </a:lnTo>
                  <a:lnTo>
                    <a:pt x="181" y="6"/>
                  </a:lnTo>
                  <a:lnTo>
                    <a:pt x="155" y="9"/>
                  </a:lnTo>
                  <a:lnTo>
                    <a:pt x="132" y="12"/>
                  </a:lnTo>
                  <a:lnTo>
                    <a:pt x="108" y="17"/>
                  </a:lnTo>
                  <a:lnTo>
                    <a:pt x="87" y="22"/>
                  </a:lnTo>
                  <a:lnTo>
                    <a:pt x="68" y="27"/>
                  </a:lnTo>
                  <a:lnTo>
                    <a:pt x="51" y="33"/>
                  </a:lnTo>
                  <a:lnTo>
                    <a:pt x="36" y="38"/>
                  </a:lnTo>
                  <a:lnTo>
                    <a:pt x="24" y="46"/>
                  </a:lnTo>
                  <a:lnTo>
                    <a:pt x="14" y="52"/>
                  </a:lnTo>
                  <a:lnTo>
                    <a:pt x="6" y="60"/>
                  </a:lnTo>
                  <a:lnTo>
                    <a:pt x="1" y="67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d6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157880" y="647640"/>
              <a:ext cx="104760" cy="98280"/>
            </a:xfrm>
            <a:custGeom>
              <a:avLst/>
              <a:gdLst/>
              <a:ahLst/>
              <a:rect l="l" t="t" r="r" b="b"/>
              <a:pathLst>
                <a:path w="596" h="595">
                  <a:moveTo>
                    <a:pt x="298" y="0"/>
                  </a:moveTo>
                  <a:lnTo>
                    <a:pt x="238" y="1"/>
                  </a:lnTo>
                  <a:lnTo>
                    <a:pt x="209" y="4"/>
                  </a:lnTo>
                  <a:lnTo>
                    <a:pt x="181" y="6"/>
                  </a:lnTo>
                  <a:lnTo>
                    <a:pt x="155" y="9"/>
                  </a:lnTo>
                  <a:lnTo>
                    <a:pt x="132" y="12"/>
                  </a:lnTo>
                  <a:lnTo>
                    <a:pt x="108" y="17"/>
                  </a:lnTo>
                  <a:lnTo>
                    <a:pt x="87" y="22"/>
                  </a:lnTo>
                  <a:lnTo>
                    <a:pt x="68" y="27"/>
                  </a:lnTo>
                  <a:lnTo>
                    <a:pt x="51" y="33"/>
                  </a:lnTo>
                  <a:lnTo>
                    <a:pt x="36" y="38"/>
                  </a:lnTo>
                  <a:lnTo>
                    <a:pt x="24" y="46"/>
                  </a:lnTo>
                  <a:lnTo>
                    <a:pt x="14" y="52"/>
                  </a:lnTo>
                  <a:lnTo>
                    <a:pt x="6" y="60"/>
                  </a:lnTo>
                  <a:lnTo>
                    <a:pt x="1" y="67"/>
                  </a:lnTo>
                  <a:lnTo>
                    <a:pt x="0" y="74"/>
                  </a:lnTo>
                  <a:lnTo>
                    <a:pt x="0" y="521"/>
                  </a:lnTo>
                  <a:lnTo>
                    <a:pt x="1" y="528"/>
                  </a:lnTo>
                  <a:lnTo>
                    <a:pt x="6" y="536"/>
                  </a:lnTo>
                  <a:lnTo>
                    <a:pt x="14" y="543"/>
                  </a:lnTo>
                  <a:lnTo>
                    <a:pt x="24" y="549"/>
                  </a:lnTo>
                  <a:lnTo>
                    <a:pt x="36" y="557"/>
                  </a:lnTo>
                  <a:lnTo>
                    <a:pt x="51" y="563"/>
                  </a:lnTo>
                  <a:lnTo>
                    <a:pt x="68" y="568"/>
                  </a:lnTo>
                  <a:lnTo>
                    <a:pt x="87" y="573"/>
                  </a:lnTo>
                  <a:lnTo>
                    <a:pt x="108" y="578"/>
                  </a:lnTo>
                  <a:lnTo>
                    <a:pt x="132" y="583"/>
                  </a:lnTo>
                  <a:lnTo>
                    <a:pt x="155" y="587"/>
                  </a:lnTo>
                  <a:lnTo>
                    <a:pt x="181" y="589"/>
                  </a:lnTo>
                  <a:lnTo>
                    <a:pt x="209" y="592"/>
                  </a:lnTo>
                  <a:lnTo>
                    <a:pt x="238" y="594"/>
                  </a:lnTo>
                  <a:lnTo>
                    <a:pt x="298" y="595"/>
                  </a:lnTo>
                  <a:lnTo>
                    <a:pt x="359" y="594"/>
                  </a:lnTo>
                  <a:lnTo>
                    <a:pt x="387" y="592"/>
                  </a:lnTo>
                  <a:lnTo>
                    <a:pt x="415" y="589"/>
                  </a:lnTo>
                  <a:lnTo>
                    <a:pt x="441" y="587"/>
                  </a:lnTo>
                  <a:lnTo>
                    <a:pt x="464" y="583"/>
                  </a:lnTo>
                  <a:lnTo>
                    <a:pt x="488" y="578"/>
                  </a:lnTo>
                  <a:lnTo>
                    <a:pt x="509" y="573"/>
                  </a:lnTo>
                  <a:lnTo>
                    <a:pt x="528" y="568"/>
                  </a:lnTo>
                  <a:lnTo>
                    <a:pt x="545" y="563"/>
                  </a:lnTo>
                  <a:lnTo>
                    <a:pt x="560" y="557"/>
                  </a:lnTo>
                  <a:lnTo>
                    <a:pt x="572" y="549"/>
                  </a:lnTo>
                  <a:lnTo>
                    <a:pt x="582" y="543"/>
                  </a:lnTo>
                  <a:lnTo>
                    <a:pt x="590" y="536"/>
                  </a:lnTo>
                  <a:lnTo>
                    <a:pt x="595" y="528"/>
                  </a:lnTo>
                  <a:lnTo>
                    <a:pt x="596" y="521"/>
                  </a:lnTo>
                  <a:lnTo>
                    <a:pt x="596" y="74"/>
                  </a:lnTo>
                  <a:lnTo>
                    <a:pt x="595" y="67"/>
                  </a:lnTo>
                  <a:lnTo>
                    <a:pt x="590" y="60"/>
                  </a:lnTo>
                  <a:lnTo>
                    <a:pt x="582" y="52"/>
                  </a:lnTo>
                  <a:lnTo>
                    <a:pt x="572" y="46"/>
                  </a:lnTo>
                  <a:lnTo>
                    <a:pt x="560" y="38"/>
                  </a:lnTo>
                  <a:lnTo>
                    <a:pt x="545" y="33"/>
                  </a:lnTo>
                  <a:lnTo>
                    <a:pt x="528" y="27"/>
                  </a:lnTo>
                  <a:lnTo>
                    <a:pt x="509" y="22"/>
                  </a:lnTo>
                  <a:lnTo>
                    <a:pt x="488" y="17"/>
                  </a:lnTo>
                  <a:lnTo>
                    <a:pt x="464" y="12"/>
                  </a:lnTo>
                  <a:lnTo>
                    <a:pt x="441" y="9"/>
                  </a:lnTo>
                  <a:lnTo>
                    <a:pt x="415" y="6"/>
                  </a:lnTo>
                  <a:lnTo>
                    <a:pt x="387" y="4"/>
                  </a:lnTo>
                  <a:lnTo>
                    <a:pt x="359" y="1"/>
                  </a:lnTo>
                  <a:lnTo>
                    <a:pt x="298" y="0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157880" y="660240"/>
              <a:ext cx="104760" cy="10800"/>
            </a:xfrm>
            <a:custGeom>
              <a:avLst/>
              <a:gdLst/>
              <a:ahLst/>
              <a:rect l="l" t="t" r="r" b="b"/>
              <a:pathLst>
                <a:path w="596" h="75">
                  <a:moveTo>
                    <a:pt x="0" y="0"/>
                  </a:moveTo>
                  <a:lnTo>
                    <a:pt x="1" y="8"/>
                  </a:lnTo>
                  <a:lnTo>
                    <a:pt x="6" y="15"/>
                  </a:lnTo>
                  <a:lnTo>
                    <a:pt x="14" y="23"/>
                  </a:lnTo>
                  <a:lnTo>
                    <a:pt x="24" y="29"/>
                  </a:lnTo>
                  <a:lnTo>
                    <a:pt x="36" y="36"/>
                  </a:lnTo>
                  <a:lnTo>
                    <a:pt x="51" y="43"/>
                  </a:lnTo>
                  <a:lnTo>
                    <a:pt x="68" y="48"/>
                  </a:lnTo>
                  <a:lnTo>
                    <a:pt x="87" y="52"/>
                  </a:lnTo>
                  <a:lnTo>
                    <a:pt x="108" y="57"/>
                  </a:lnTo>
                  <a:lnTo>
                    <a:pt x="132" y="62"/>
                  </a:lnTo>
                  <a:lnTo>
                    <a:pt x="155" y="66"/>
                  </a:lnTo>
                  <a:lnTo>
                    <a:pt x="181" y="69"/>
                  </a:lnTo>
                  <a:lnTo>
                    <a:pt x="209" y="71"/>
                  </a:lnTo>
                  <a:lnTo>
                    <a:pt x="238" y="74"/>
                  </a:lnTo>
                  <a:lnTo>
                    <a:pt x="298" y="75"/>
                  </a:lnTo>
                  <a:lnTo>
                    <a:pt x="359" y="74"/>
                  </a:lnTo>
                  <a:lnTo>
                    <a:pt x="387" y="71"/>
                  </a:lnTo>
                  <a:lnTo>
                    <a:pt x="415" y="69"/>
                  </a:lnTo>
                  <a:lnTo>
                    <a:pt x="441" y="66"/>
                  </a:lnTo>
                  <a:lnTo>
                    <a:pt x="464" y="62"/>
                  </a:lnTo>
                  <a:lnTo>
                    <a:pt x="488" y="57"/>
                  </a:lnTo>
                  <a:lnTo>
                    <a:pt x="509" y="52"/>
                  </a:lnTo>
                  <a:lnTo>
                    <a:pt x="528" y="48"/>
                  </a:lnTo>
                  <a:lnTo>
                    <a:pt x="545" y="43"/>
                  </a:lnTo>
                  <a:lnTo>
                    <a:pt x="560" y="36"/>
                  </a:lnTo>
                  <a:lnTo>
                    <a:pt x="572" y="29"/>
                  </a:lnTo>
                  <a:lnTo>
                    <a:pt x="582" y="23"/>
                  </a:lnTo>
                  <a:lnTo>
                    <a:pt x="590" y="15"/>
                  </a:lnTo>
                  <a:lnTo>
                    <a:pt x="595" y="8"/>
                  </a:lnTo>
                  <a:lnTo>
                    <a:pt x="596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418520" y="747720"/>
              <a:ext cx="1440" cy="8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9" name="" descr=""/>
            <p:cNvPicPr/>
            <p:nvPr/>
          </p:nvPicPr>
          <p:blipFill>
            <a:blip r:embed="rId18"/>
            <a:stretch/>
          </p:blipFill>
          <p:spPr>
            <a:xfrm>
              <a:off x="7356600" y="601560"/>
              <a:ext cx="147600" cy="1872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</p:pic>
        <p:sp>
          <p:nvSpPr>
            <p:cNvPr id="620" name=""/>
            <p:cNvSpPr/>
            <p:nvPr/>
          </p:nvSpPr>
          <p:spPr>
            <a:xfrm>
              <a:off x="7602480" y="747720"/>
              <a:ext cx="1800" cy="8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1" name="" descr=""/>
            <p:cNvPicPr/>
            <p:nvPr/>
          </p:nvPicPr>
          <p:blipFill>
            <a:blip r:embed="rId19"/>
            <a:stretch/>
          </p:blipFill>
          <p:spPr>
            <a:xfrm>
              <a:off x="7540560" y="601560"/>
              <a:ext cx="147600" cy="1872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</p:pic>
        <p:sp>
          <p:nvSpPr>
            <p:cNvPr id="622" name=""/>
            <p:cNvSpPr/>
            <p:nvPr/>
          </p:nvSpPr>
          <p:spPr>
            <a:xfrm>
              <a:off x="7878600" y="747720"/>
              <a:ext cx="1800" cy="8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3" name="" descr=""/>
            <p:cNvPicPr/>
            <p:nvPr/>
          </p:nvPicPr>
          <p:blipFill>
            <a:blip r:embed="rId20"/>
            <a:stretch/>
          </p:blipFill>
          <p:spPr>
            <a:xfrm>
              <a:off x="7816680" y="601560"/>
              <a:ext cx="147960" cy="1872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</p:pic>
        <p:sp>
          <p:nvSpPr>
            <p:cNvPr id="624" name=""/>
            <p:cNvSpPr/>
            <p:nvPr/>
          </p:nvSpPr>
          <p:spPr>
            <a:xfrm>
              <a:off x="8064360" y="747720"/>
              <a:ext cx="1800" cy="8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5" name="" descr=""/>
            <p:cNvPicPr/>
            <p:nvPr/>
          </p:nvPicPr>
          <p:blipFill>
            <a:blip r:embed="rId21"/>
            <a:stretch/>
          </p:blipFill>
          <p:spPr>
            <a:xfrm>
              <a:off x="8002440" y="601560"/>
              <a:ext cx="147960" cy="1872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</p:pic>
        <p:sp>
          <p:nvSpPr>
            <p:cNvPr id="626" name=""/>
            <p:cNvSpPr/>
            <p:nvPr/>
          </p:nvSpPr>
          <p:spPr>
            <a:xfrm>
              <a:off x="8248680" y="747720"/>
              <a:ext cx="1440" cy="8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22"/>
            <a:stretch/>
          </p:blipFill>
          <p:spPr>
            <a:xfrm>
              <a:off x="8186760" y="601560"/>
              <a:ext cx="147600" cy="1872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</p:pic>
        <p:sp>
          <p:nvSpPr>
            <p:cNvPr id="628" name=""/>
            <p:cNvSpPr/>
            <p:nvPr/>
          </p:nvSpPr>
          <p:spPr>
            <a:xfrm>
              <a:off x="7140600" y="825480"/>
              <a:ext cx="1200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48600" y="336600"/>
              <a:ext cx="183960" cy="14724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234200" y="3016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1" name="" descr=""/>
            <p:cNvPicPr/>
            <p:nvPr/>
          </p:nvPicPr>
          <p:blipFill>
            <a:blip r:embed="rId23"/>
            <a:stretch/>
          </p:blipFill>
          <p:spPr>
            <a:xfrm>
              <a:off x="7556400" y="1187280"/>
              <a:ext cx="160560" cy="15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2" name=""/>
          <p:cNvSpPr/>
          <p:nvPr/>
        </p:nvSpPr>
        <p:spPr>
          <a:xfrm>
            <a:off x="2959200" y="4572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73200" y="5410080"/>
            <a:ext cx="4495680" cy="448920"/>
          </a:xfrm>
          <a:prstGeom prst="rect">
            <a:avLst/>
          </a:prstGeom>
          <a:noFill/>
          <a:ln w="76320">
            <a:solidFill>
              <a:srgbClr val="3333ff"/>
            </a:solidFill>
            <a:miter/>
          </a:ln>
          <a:effectLst>
            <a:outerShdw dist="153753" dir="2700000" blurRad="0" rotWithShape="0">
              <a:srgbClr val="1e1e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Cost 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18505200">
            <a:off x="-348120" y="3373200"/>
            <a:ext cx="3809880" cy="448920"/>
          </a:xfrm>
          <a:prstGeom prst="rect">
            <a:avLst/>
          </a:prstGeom>
          <a:noFill/>
          <a:ln w="76320">
            <a:solidFill>
              <a:srgbClr val="3333ff"/>
            </a:solidFill>
            <a:miter/>
          </a:ln>
          <a:effectLst>
            <a:outerShdw dist="153753" dir="2700000" blurRad="0" rotWithShape="0">
              <a:srgbClr val="1e1e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key IP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rot="3241800">
            <a:off x="2588760" y="3379320"/>
            <a:ext cx="3651120" cy="448920"/>
          </a:xfrm>
          <a:prstGeom prst="rect">
            <a:avLst/>
          </a:prstGeom>
          <a:noFill/>
          <a:ln w="76320">
            <a:solidFill>
              <a:srgbClr val="3333ff"/>
            </a:solidFill>
            <a:miter/>
          </a:ln>
          <a:effectLst>
            <a:outerShdw dist="153753" dir="2700000" blurRad="0" rotWithShape="0">
              <a:srgbClr val="1e1e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Discontinuity (WIP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470640" y="1413000"/>
            <a:ext cx="244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title"/>
          </p:nvPr>
        </p:nvSpPr>
        <p:spPr>
          <a:xfrm>
            <a:off x="239760" y="267840"/>
            <a:ext cx="8618400" cy="38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ompelling Offers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4197240" y="1806120"/>
            <a:ext cx="1087560" cy="93996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148360" y="457200"/>
            <a:ext cx="3995640" cy="179388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4849920" y="1027080"/>
          <a:ext cx="410976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9920" y="1027080"/>
                    <a:ext cx="410976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"/>
          <p:cNvSpPr/>
          <p:nvPr/>
        </p:nvSpPr>
        <p:spPr>
          <a:xfrm>
            <a:off x="5218200" y="4456080"/>
            <a:ext cx="1019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Su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217200" y="4457880"/>
            <a:ext cx="810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546680" y="4457880"/>
            <a:ext cx="9597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,000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228280" y="4738680"/>
            <a:ext cx="999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Su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414840" y="4740120"/>
            <a:ext cx="6120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,7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695000" y="4740120"/>
            <a:ext cx="810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0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157320" y="1027080"/>
          <a:ext cx="6097320" cy="406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7320" y="1027080"/>
                    <a:ext cx="609732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"/>
          <p:cNvSpPr/>
          <p:nvPr/>
        </p:nvSpPr>
        <p:spPr>
          <a:xfrm>
            <a:off x="238320" y="4456080"/>
            <a:ext cx="1019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Su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237320" y="4457880"/>
            <a:ext cx="810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719080" y="4457880"/>
            <a:ext cx="9597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,000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48040" y="4738680"/>
            <a:ext cx="999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Su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434960" y="4740120"/>
            <a:ext cx="6120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,7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867760" y="4740120"/>
            <a:ext cx="810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0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6840" y="5175360"/>
            <a:ext cx="3825720" cy="692280"/>
          </a:xfrm>
          <a:prstGeom prst="bevel">
            <a:avLst>
              <a:gd name="adj" fmla="val 0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reless Internet Maintains / Grows Reven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03920" y="5176800"/>
            <a:ext cx="3825720" cy="692280"/>
          </a:xfrm>
          <a:prstGeom prst="bevel">
            <a:avLst>
              <a:gd name="adj" fmla="val 0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reless Internet Reduces Operating Expenses by 3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1731960" y="5904720"/>
            <a:ext cx="652320" cy="561960"/>
          </a:xfrm>
          <a:custGeom>
            <a:avLst/>
            <a:gdLst>
              <a:gd name="textAreaLeft" fmla="*/ 0 w 652320"/>
              <a:gd name="textAreaRight" fmla="*/ 652680 w 652320"/>
              <a:gd name="textAreaTop" fmla="*/ -360 h 561960"/>
              <a:gd name="textAreaBottom" fmla="*/ 561960 h 561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  <a:effectLst>
            <a:outerShdw dist="153753" dir="2700000" blurRad="0" rotWithShape="0">
              <a:srgbClr val="1e1e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 flipV="1">
            <a:off x="6679440" y="5936400"/>
            <a:ext cx="652680" cy="561960"/>
          </a:xfrm>
          <a:custGeom>
            <a:avLst/>
            <a:gdLst>
              <a:gd name="textAreaLeft" fmla="*/ -360 w 652680"/>
              <a:gd name="textAreaRight" fmla="*/ 652680 w 652680"/>
              <a:gd name="textAreaTop" fmla="*/ -360 h 561960"/>
              <a:gd name="textAreaBottom" fmla="*/ 561960 h 561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  <a:effectLst>
            <a:outerShdw dist="153753" dir="2700000" blurRad="0" rotWithShape="0">
              <a:srgbClr val="1e1e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927520" y="5979960"/>
            <a:ext cx="3085560" cy="631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1e1e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ff"/>
                </a:solidFill>
                <a:latin typeface="Arial"/>
              </a:rPr>
              <a:t>Margin Bo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39760" y="267840"/>
            <a:ext cx="8618400" cy="7686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Wireless Internet Improves Margins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Revenue Growth and Operating Expense Savings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0" y="3233880"/>
            <a:ext cx="9144000" cy="547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39760" y="298080"/>
            <a:ext cx="8618400" cy="38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37680" y="1625760"/>
            <a:ext cx="86187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tel Networks Wireless Internet Off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limpse of the Fu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3352680" y="1219320"/>
            <a:ext cx="1943280" cy="36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eba"/>
            </a:solidFill>
            <a:miter/>
          </a:ln>
          <a:effectLst>
            <a:outerShdw dist="53966" dir="2700000" blurRad="0" rotWithShape="0">
              <a:srgbClr val="afca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1905120"/>
            <a:ext cx="1390680" cy="188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eba"/>
            </a:solidFill>
            <a:miter/>
          </a:ln>
          <a:effectLst>
            <a:outerShdw dist="71785" dir="2700000" blurRad="0" rotWithShape="0">
              <a:srgbClr val="afca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487160" y="2847960"/>
            <a:ext cx="16678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re is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union Tower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-52560" y="3510000"/>
            <a:ext cx="1514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re am I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518480" y="1633680"/>
            <a:ext cx="15829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do I get to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it and Park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433160" y="3971880"/>
            <a:ext cx="186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d the nearest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nese restauran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3678120" y="2351160"/>
            <a:ext cx="1051200" cy="138420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3567960" y="3390840"/>
            <a:ext cx="16225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ints of Inter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573360" y="2244600"/>
            <a:ext cx="15800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ess Loc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540960" y="4568760"/>
            <a:ext cx="16592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iness Loc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Dallas%20Map" descr=""/>
          <p:cNvPicPr/>
          <p:nvPr/>
        </p:nvPicPr>
        <p:blipFill>
          <a:blip r:embed="rId2"/>
          <a:stretch/>
        </p:blipFill>
        <p:spPr>
          <a:xfrm>
            <a:off x="3706920" y="1370160"/>
            <a:ext cx="1247760" cy="887400"/>
          </a:xfrm>
          <a:prstGeom prst="rect">
            <a:avLst/>
          </a:prstGeom>
          <a:ln w="0">
            <a:noFill/>
          </a:ln>
        </p:spPr>
      </p:pic>
      <p:pic>
        <p:nvPicPr>
          <p:cNvPr id="676" name="BU011583-2" descr=""/>
          <p:cNvPicPr/>
          <p:nvPr/>
        </p:nvPicPr>
        <p:blipFill>
          <a:blip r:embed="rId3"/>
          <a:stretch/>
        </p:blipFill>
        <p:spPr>
          <a:xfrm>
            <a:off x="3741840" y="3676680"/>
            <a:ext cx="1189080" cy="880920"/>
          </a:xfrm>
          <a:prstGeom prst="rect">
            <a:avLst/>
          </a:prstGeom>
          <a:ln w="0">
            <a:noFill/>
          </a:ln>
        </p:spPr>
      </p:pic>
      <p:pic>
        <p:nvPicPr>
          <p:cNvPr id="677" name="AA000147" descr=""/>
          <p:cNvPicPr/>
          <p:nvPr/>
        </p:nvPicPr>
        <p:blipFill>
          <a:blip r:embed="rId4"/>
          <a:stretch/>
        </p:blipFill>
        <p:spPr>
          <a:xfrm>
            <a:off x="203040" y="2000160"/>
            <a:ext cx="1022400" cy="155268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6095880" y="2286000"/>
            <a:ext cx="2203560" cy="1227240"/>
          </a:xfrm>
          <a:prstGeom prst="cloudCallout">
            <a:avLst>
              <a:gd name="adj1" fmla="val -1370"/>
              <a:gd name="adj2" fmla="val 972"/>
            </a:avLst>
          </a:prstGeom>
          <a:solidFill>
            <a:srgbClr val="003e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ireless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71080" y="268200"/>
            <a:ext cx="8550360" cy="7131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Wireless Internet and Location Information</a:t>
            </a:r>
            <a:br>
              <a:rPr sz="2800"/>
            </a:b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Enabling New Applications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371240" y="5028840"/>
            <a:ext cx="7162920" cy="13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42000" indent="-342000"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rage existing Internet content / intellig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29760">
              <a:spcBef>
                <a:spcPts val="601"/>
              </a:spcBef>
              <a:buClr>
                <a:srgbClr val="003399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(Mapquest.com), Directories (Canada411.c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2000" indent="-342000"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hance with wireless capabil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29760">
              <a:spcBef>
                <a:spcPts val="601"/>
              </a:spcBef>
              <a:buClr>
                <a:srgbClr val="003399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ce-driven interface, real-time location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canada411_large" descr=""/>
          <p:cNvPicPr/>
          <p:nvPr/>
        </p:nvPicPr>
        <p:blipFill>
          <a:blip r:embed="rId5"/>
          <a:stretch/>
        </p:blipFill>
        <p:spPr>
          <a:xfrm>
            <a:off x="6762600" y="838080"/>
            <a:ext cx="2381400" cy="381240"/>
          </a:xfrm>
          <a:prstGeom prst="rect">
            <a:avLst/>
          </a:prstGeom>
          <a:ln w="0">
            <a:noFill/>
          </a:ln>
        </p:spPr>
      </p:pic>
      <p:pic>
        <p:nvPicPr>
          <p:cNvPr id="682" name="header_nav" descr=""/>
          <p:cNvPicPr/>
          <p:nvPr/>
        </p:nvPicPr>
        <p:blipFill>
          <a:blip r:embed="rId6"/>
          <a:srcRect l="16000" t="0" r="49335" b="50030"/>
          <a:stretch/>
        </p:blipFill>
        <p:spPr>
          <a:xfrm>
            <a:off x="6962760" y="4648320"/>
            <a:ext cx="1981080" cy="30456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5599440" y="1600200"/>
            <a:ext cx="9856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"/>
              </a:rPr>
              <a:t>Real-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"/>
              </a:rPr>
              <a:t>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561280" y="3657600"/>
            <a:ext cx="9856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"/>
              </a:rPr>
              <a:t>Real-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"/>
              </a:rPr>
              <a:t>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5943600" y="4266360"/>
            <a:ext cx="685800" cy="685800"/>
          </a:xfrm>
          <a:custGeom>
            <a:avLst/>
            <a:gdLst>
              <a:gd name="textAreaLeft" fmla="*/ 0 w 685800"/>
              <a:gd name="textAreaRight" fmla="*/ 686160 w 68580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943600" y="838080"/>
            <a:ext cx="685800" cy="685800"/>
          </a:xfrm>
          <a:custGeom>
            <a:avLst/>
            <a:gdLst>
              <a:gd name="textAreaLeft" fmla="*/ 0 w 685800"/>
              <a:gd name="textAreaRight" fmla="*/ 686160 w 6858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 rot="10800000">
            <a:off x="8076960" y="3504240"/>
            <a:ext cx="685800" cy="685800"/>
          </a:xfrm>
          <a:custGeom>
            <a:avLst/>
            <a:gdLst>
              <a:gd name="textAreaLeft" fmla="*/ 0 w 685800"/>
              <a:gd name="textAreaRight" fmla="*/ 686160 w 68580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rot="10800000">
            <a:off x="8076960" y="1447560"/>
            <a:ext cx="685800" cy="685800"/>
          </a:xfrm>
          <a:custGeom>
            <a:avLst/>
            <a:gdLst>
              <a:gd name="textAreaLeft" fmla="*/ 0 w 685800"/>
              <a:gd name="textAreaRight" fmla="*/ 686160 w 6858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9" name="Dallas%20Reunion" descr=""/>
          <p:cNvPicPr/>
          <p:nvPr/>
        </p:nvPicPr>
        <p:blipFill>
          <a:blip r:embed="rId7"/>
          <a:stretch/>
        </p:blipFill>
        <p:spPr>
          <a:xfrm>
            <a:off x="3571920" y="2544840"/>
            <a:ext cx="152244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home_phone_image" descr=""/>
          <p:cNvPicPr/>
          <p:nvPr/>
        </p:nvPicPr>
        <p:blipFill>
          <a:blip r:embed="rId1"/>
          <a:stretch/>
        </p:blipFill>
        <p:spPr>
          <a:xfrm>
            <a:off x="2209680" y="4952880"/>
            <a:ext cx="509760" cy="144792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2092320" y="0"/>
            <a:ext cx="0" cy="685800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144880" y="268200"/>
            <a:ext cx="6713280" cy="7131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Bluetooth and WAP</a:t>
            </a:r>
            <a:br>
              <a:rPr sz="2800"/>
            </a:b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Enabling a Multi-Device Environment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150640" y="1625760"/>
            <a:ext cx="68058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P is an optimized protocol for delivering Internet content to portable de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36600">
              <a:spcBef>
                <a:spcPts val="675"/>
              </a:spcBef>
              <a:buClr>
                <a:srgbClr val="003399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lent delivery mechanism for interactive, location-enhanced, information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uetooth is a wireless standard to enable wireless communication between portable de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tel Networks supports both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uetooth and WAP standard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z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mobilon" descr=""/>
          <p:cNvPicPr/>
          <p:nvPr/>
        </p:nvPicPr>
        <p:blipFill>
          <a:blip r:embed="rId2"/>
          <a:srcRect l="37904" t="5778" r="1590" b="13396"/>
          <a:stretch/>
        </p:blipFill>
        <p:spPr>
          <a:xfrm>
            <a:off x="7143840" y="3733920"/>
            <a:ext cx="2000160" cy="1485720"/>
          </a:xfrm>
          <a:prstGeom prst="rect">
            <a:avLst/>
          </a:prstGeom>
          <a:ln w="0">
            <a:noFill/>
          </a:ln>
        </p:spPr>
      </p:pic>
      <p:cxnSp>
        <p:nvCxnSpPr>
          <p:cNvPr id="695" name=""/>
          <p:cNvCxnSpPr>
            <a:stCxn id="694" idx="1"/>
          </p:cNvCxnSpPr>
          <p:nvPr/>
        </p:nvCxnSpPr>
        <p:spPr>
          <a:xfrm flipV="1" rot="10800000">
            <a:off x="2795040" y="4476240"/>
            <a:ext cx="4348800" cy="1324800"/>
          </a:xfrm>
          <a:prstGeom prst="bentConnector3">
            <a:avLst>
              <a:gd name="adj1" fmla="val 7003"/>
            </a:avLst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</p:cxnSp>
      <p:pic>
        <p:nvPicPr>
          <p:cNvPr id="696" name="logos" descr=""/>
          <p:cNvPicPr/>
          <p:nvPr/>
        </p:nvPicPr>
        <p:blipFill>
          <a:blip r:embed="rId3"/>
          <a:srcRect l="2076" t="0" r="86497" b="0"/>
          <a:stretch/>
        </p:blipFill>
        <p:spPr>
          <a:xfrm>
            <a:off x="5638680" y="5334120"/>
            <a:ext cx="1143000" cy="40320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 flipH="1" flipV="1">
            <a:off x="2057040" y="4419360"/>
            <a:ext cx="304920" cy="5331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1981080" y="4419720"/>
            <a:ext cx="7632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 flipV="1">
            <a:off x="1600200" y="419076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4"/>
          <a:stretch/>
        </p:blipFill>
        <p:spPr>
          <a:xfrm>
            <a:off x="2743200" y="5105520"/>
            <a:ext cx="912960" cy="53172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250920" y="3581280"/>
            <a:ext cx="1703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de 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reless Networ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2092320" y="0"/>
            <a:ext cx="0" cy="685800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3" name="computer%20table" descr=""/>
          <p:cNvPicPr/>
          <p:nvPr/>
        </p:nvPicPr>
        <p:blipFill>
          <a:blip r:embed="rId1"/>
          <a:stretch/>
        </p:blipFill>
        <p:spPr>
          <a:xfrm>
            <a:off x="5008680" y="4467240"/>
            <a:ext cx="2068560" cy="216216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286000" y="268200"/>
            <a:ext cx="6572160" cy="7131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Wireless Home Networks</a:t>
            </a:r>
            <a:br>
              <a:rPr sz="2800"/>
            </a:b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Important Market to Monitor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150640" y="1625400"/>
            <a:ext cx="6993000" cy="16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4880" indent="-254880"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reless LANs + cable modem / DSL connections create an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instant on, always there, and accessible anywhe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ernet environment in the 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880" indent="-254880"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erception and use of the Internet will chan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880" indent="-254880"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reless LANs and portable devices will add to demand for wide area Wireless Internet sol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Nortel%20Networks%201-Meg%20Modem" descr=""/>
          <p:cNvPicPr/>
          <p:nvPr/>
        </p:nvPicPr>
        <p:blipFill>
          <a:blip r:embed="rId2"/>
          <a:srcRect l="12295" t="0" r="0" b="0"/>
          <a:stretch/>
        </p:blipFill>
        <p:spPr>
          <a:xfrm>
            <a:off x="7132680" y="5156280"/>
            <a:ext cx="950760" cy="78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7" name=""/>
          <p:cNvGraphicFramePr/>
          <p:nvPr/>
        </p:nvGraphicFramePr>
        <p:xfrm>
          <a:off x="4272120" y="5530680"/>
          <a:ext cx="742680" cy="69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72120" y="5530680"/>
                    <a:ext cx="74268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9" name="HomeFree%20PCMIA" descr=""/>
          <p:cNvPicPr/>
          <p:nvPr/>
        </p:nvPicPr>
        <p:blipFill>
          <a:blip r:embed="rId5"/>
          <a:stretch/>
        </p:blipFill>
        <p:spPr>
          <a:xfrm>
            <a:off x="1093680" y="3718080"/>
            <a:ext cx="847800" cy="637920"/>
          </a:xfrm>
          <a:prstGeom prst="rect">
            <a:avLst/>
          </a:prstGeom>
          <a:ln w="0">
            <a:noFill/>
          </a:ln>
        </p:spPr>
      </p:pic>
      <p:pic>
        <p:nvPicPr>
          <p:cNvPr id="710" name="living%20room" descr=""/>
          <p:cNvPicPr/>
          <p:nvPr/>
        </p:nvPicPr>
        <p:blipFill>
          <a:blip r:embed="rId6"/>
          <a:stretch/>
        </p:blipFill>
        <p:spPr>
          <a:xfrm>
            <a:off x="0" y="838080"/>
            <a:ext cx="2055960" cy="224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1" name=""/>
          <p:cNvGraphicFramePr/>
          <p:nvPr/>
        </p:nvGraphicFramePr>
        <p:xfrm>
          <a:off x="334800" y="4386240"/>
          <a:ext cx="1247760" cy="131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4800" y="4386240"/>
                    <a:ext cx="1247760" cy="13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13" name=""/>
          <p:cNvCxnSpPr>
            <a:endCxn id="709" idx="3"/>
          </p:cNvCxnSpPr>
          <p:nvPr/>
        </p:nvCxnSpPr>
        <p:spPr>
          <a:xfrm flipV="1" rot="16200000">
            <a:off x="2544840" y="3432240"/>
            <a:ext cx="1494360" cy="2702160"/>
          </a:xfrm>
          <a:prstGeom prst="bentConnector2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14" name=""/>
          <p:cNvSpPr/>
          <p:nvPr/>
        </p:nvSpPr>
        <p:spPr>
          <a:xfrm>
            <a:off x="7026840" y="5907240"/>
            <a:ext cx="21164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ortel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ble or DSL Mo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921920" y="4184640"/>
            <a:ext cx="23389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Office / Stu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66400" y="3090960"/>
            <a:ext cx="1601280" cy="35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mily 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7" name=""/>
          <p:cNvGraphicFramePr/>
          <p:nvPr/>
        </p:nvGraphicFramePr>
        <p:xfrm>
          <a:off x="8226360" y="5119560"/>
          <a:ext cx="738360" cy="763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26360" y="5119560"/>
                    <a:ext cx="73836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9" name=""/>
          <p:cNvSpPr/>
          <p:nvPr/>
        </p:nvSpPr>
        <p:spPr>
          <a:xfrm>
            <a:off x="7114320" y="4595760"/>
            <a:ext cx="19364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Sp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516760" y="4033800"/>
            <a:ext cx="1473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reless 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0" y="3781440"/>
            <a:ext cx="9144000" cy="547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39760" y="298080"/>
            <a:ext cx="8618400" cy="38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37680" y="1625760"/>
            <a:ext cx="86187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tel Networks Wireless Internet Off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limpse of the Fu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4616280" y="1835280"/>
            <a:ext cx="2730600" cy="25016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  <a:effectLst>
            <a:outerShdw dist="109184" dir="8671692" blurRad="0" rotWithShape="0">
              <a:srgbClr val="9bb3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026040" y="1835280"/>
            <a:ext cx="2845080" cy="2577960"/>
          </a:xfrm>
          <a:prstGeom prst="ellipse">
            <a:avLst/>
          </a:prstGeom>
          <a:solidFill>
            <a:srgbClr val="6600cc"/>
          </a:solidFill>
          <a:ln w="12600">
            <a:solidFill>
              <a:srgbClr val="000000"/>
            </a:solidFill>
            <a:miter/>
          </a:ln>
          <a:effectLst>
            <a:outerShdw dist="89808" dir="483908" blurRad="0" rotWithShape="0">
              <a:srgbClr val="9bb3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8400" y="3054240"/>
            <a:ext cx="2654280" cy="2502000"/>
          </a:xfrm>
          <a:prstGeom prst="ellipse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  <a:effectLst>
            <a:outerShdw dist="76320" dir="5400000" blurRad="0" rotWithShape="0">
              <a:srgbClr val="9bb3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716360" y="2550960"/>
            <a:ext cx="1447920" cy="10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oco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F 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037200" y="4341960"/>
            <a:ext cx="1186200" cy="10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S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ans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085800" y="3200400"/>
            <a:ext cx="12319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reles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256880" y="2171880"/>
            <a:ext cx="1785240" cy="194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mote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NS, RADIU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HC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378400" y="3054240"/>
            <a:ext cx="2654280" cy="25020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026040" y="1835280"/>
            <a:ext cx="2845080" cy="257796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616280" y="1841400"/>
            <a:ext cx="2787840" cy="25020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420800" y="1379520"/>
            <a:ext cx="14198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Wir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319520" y="1380960"/>
            <a:ext cx="182520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ata and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005520" y="5748480"/>
            <a:ext cx="140148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ele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01680" y="1717560"/>
            <a:ext cx="4159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 Unified Networks based on integration of key attribu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120" indent="-297000">
              <a:lnSpc>
                <a:spcPct val="100000"/>
              </a:lnSpc>
              <a:spcBef>
                <a:spcPts val="675"/>
              </a:spcBef>
              <a:buClr>
                <a:srgbClr val="003399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120" indent="-297000">
              <a:lnSpc>
                <a:spcPct val="100000"/>
              </a:lnSpc>
              <a:spcBef>
                <a:spcPts val="675"/>
              </a:spcBef>
              <a:buClr>
                <a:srgbClr val="003399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ity management (handoff, paging, registr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120" indent="-297000">
              <a:lnSpc>
                <a:spcPct val="100000"/>
              </a:lnSpc>
              <a:spcBef>
                <a:spcPts val="675"/>
              </a:spcBef>
              <a:buClr>
                <a:srgbClr val="003399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 resource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120" indent="-297000">
              <a:lnSpc>
                <a:spcPct val="100000"/>
              </a:lnSpc>
              <a:spcBef>
                <a:spcPts val="675"/>
              </a:spcBef>
              <a:buClr>
                <a:srgbClr val="003399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system signaling (IS-41, MAP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120" indent="-297000">
              <a:lnSpc>
                <a:spcPct val="100000"/>
              </a:lnSpc>
              <a:spcBef>
                <a:spcPts val="675"/>
              </a:spcBef>
              <a:buClr>
                <a:srgbClr val="003399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olution from circuit switched wireless to Wireless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39760" y="267840"/>
            <a:ext cx="8618400" cy="38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Nortel Networks Advantage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storm" descr=""/>
          <p:cNvPicPr/>
          <p:nvPr/>
        </p:nvPicPr>
        <p:blipFill>
          <a:blip r:embed="rId1"/>
          <a:srcRect l="16002" t="8002" r="18000" b="22002"/>
          <a:stretch/>
        </p:blipFill>
        <p:spPr>
          <a:xfrm>
            <a:off x="2592360" y="1217520"/>
            <a:ext cx="3733920" cy="2970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46240" y="4800600"/>
            <a:ext cx="6808680" cy="118044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tapped opportunity to offer Internet and IP services to a growing base of advanced wireless subscribers and mobile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0" y="1206360"/>
            <a:ext cx="3201840" cy="2997000"/>
            <a:chOff x="0" y="1206360"/>
            <a:chExt cx="3201840" cy="2997000"/>
          </a:xfrm>
        </p:grpSpPr>
        <p:sp>
          <p:nvSpPr>
            <p:cNvPr id="87" name=""/>
            <p:cNvSpPr/>
            <p:nvPr/>
          </p:nvSpPr>
          <p:spPr>
            <a:xfrm>
              <a:off x="0" y="1206360"/>
              <a:ext cx="3200400" cy="2997000"/>
            </a:xfrm>
            <a:prstGeom prst="bevel">
              <a:avLst>
                <a:gd name="adj" fmla="val 2833"/>
              </a:avLst>
            </a:prstGeom>
            <a:solidFill>
              <a:srgbClr val="b0b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60" y="1358280"/>
              <a:ext cx="3124080" cy="22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69920" indent="-169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9920" indent="-169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ff"/>
                  </a:solidFill>
                  <a:latin typeface="Arial"/>
                </a:rPr>
                <a:t>Wireles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9920" indent="-16992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9920" indent="-16992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5943600" y="1217520"/>
            <a:ext cx="3200400" cy="2971800"/>
            <a:chOff x="5943600" y="1217520"/>
            <a:chExt cx="3200400" cy="2971800"/>
          </a:xfrm>
        </p:grpSpPr>
        <p:sp>
          <p:nvSpPr>
            <p:cNvPr id="90" name=""/>
            <p:cNvSpPr/>
            <p:nvPr/>
          </p:nvSpPr>
          <p:spPr>
            <a:xfrm>
              <a:off x="5943600" y="1217520"/>
              <a:ext cx="3200400" cy="2971800"/>
            </a:xfrm>
            <a:prstGeom prst="bevel">
              <a:avLst>
                <a:gd name="adj" fmla="val 2833"/>
              </a:avLst>
            </a:prstGeom>
            <a:solidFill>
              <a:srgbClr val="b0b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19560" y="1370160"/>
              <a:ext cx="297036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69920" indent="-169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9920" indent="-169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ff"/>
                  </a:solidFill>
                  <a:latin typeface="Arial"/>
                </a:rPr>
                <a:t>Interne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9920" indent="-169920">
                <a:lnSpc>
                  <a:spcPct val="90000"/>
                </a:lnSpc>
                <a:spcAft>
                  <a:spcPts val="751"/>
                </a:spcAft>
                <a:buClr>
                  <a:srgbClr val="3333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39760" y="267840"/>
            <a:ext cx="8618400" cy="7686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Leveraging the Internet for Wireless Service Providers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152280" y="1069920"/>
            <a:ext cx="5888160" cy="38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095880" y="1752480"/>
            <a:ext cx="2819520" cy="16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</a:rPr>
              <a:t>Nortel Networks has the clout and IP goods.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019920" y="3733920"/>
            <a:ext cx="3085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ff"/>
                </a:solidFill>
                <a:latin typeface="Arial"/>
              </a:rPr>
              <a:t>Yankee Group, March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115920" y="1066680"/>
            <a:ext cx="5903640" cy="3867120"/>
            <a:chOff x="115920" y="1066680"/>
            <a:chExt cx="5903640" cy="3867120"/>
          </a:xfrm>
        </p:grpSpPr>
        <p:sp>
          <p:nvSpPr>
            <p:cNvPr id="743" name=""/>
            <p:cNvSpPr/>
            <p:nvPr/>
          </p:nvSpPr>
          <p:spPr>
            <a:xfrm>
              <a:off x="122040" y="1066680"/>
              <a:ext cx="5891400" cy="3867120"/>
            </a:xfrm>
            <a:prstGeom prst="rect">
              <a:avLst/>
            </a:prstGeom>
            <a:noFill/>
            <a:ln w="28440">
              <a:solidFill>
                <a:srgbClr val="003399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23840" y="1066680"/>
              <a:ext cx="5889600" cy="58572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23840" y="2313000"/>
              <a:ext cx="588960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15920" y="2949480"/>
              <a:ext cx="588960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29960" y="3593880"/>
              <a:ext cx="588960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04560" y="1106280"/>
              <a:ext cx="162108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46306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</a:rPr>
                <a:t>Vendo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28520" y="4252680"/>
              <a:ext cx="588960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034160" y="1108080"/>
              <a:ext cx="14839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</a:rPr>
                <a:t>Posi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91960" y="1084320"/>
              <a:ext cx="5705640" cy="37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ctr" pos="4395960"/>
                  <a:tab algn="l" pos="4603680"/>
                  <a:tab algn="l" pos="5524560"/>
                  <a:tab algn="l" pos="6445080"/>
                  <a:tab algn="l" pos="7365960"/>
                  <a:tab algn="l" pos="8286840"/>
                  <a:tab algn="l" pos="9207360"/>
                  <a:tab algn="l" pos="1012824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Arial Narrow"/>
                </a:rPr>
                <a:t>Vendor</a:t>
              </a:r>
              <a:r>
                <a:rPr b="1" lang="en-US" sz="3200" spc="-1" strike="noStrike">
                  <a:solidFill>
                    <a:srgbClr val="ffff00"/>
                  </a:solidFill>
                  <a:latin typeface="Arial Narrow"/>
                </a:rPr>
                <a:t>	</a:t>
              </a:r>
              <a:r>
                <a:rPr b="1" lang="en-US" sz="3200" spc="-1" strike="noStrike">
                  <a:solidFill>
                    <a:srgbClr val="ffff00"/>
                  </a:solidFill>
                  <a:latin typeface="Arial Narrow"/>
                </a:rPr>
                <a:t>Posi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ctr" pos="4395960"/>
                  <a:tab algn="l" pos="4603680"/>
                  <a:tab algn="l" pos="5524560"/>
                  <a:tab algn="l" pos="6445080"/>
                  <a:tab algn="l" pos="7365960"/>
                  <a:tab algn="l" pos="8286840"/>
                  <a:tab algn="l" pos="9207360"/>
                  <a:tab algn="l" pos="1012824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</a:rPr>
                <a:t>Nortel Networks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</a:rPr>
                <a:t> 4.125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ctr" pos="4395960"/>
                  <a:tab algn="l" pos="4603680"/>
                  <a:tab algn="l" pos="5524560"/>
                  <a:tab algn="l" pos="6445080"/>
                  <a:tab algn="l" pos="7365960"/>
                  <a:tab algn="l" pos="8286840"/>
                  <a:tab algn="l" pos="9207360"/>
                  <a:tab algn="l" pos="1012824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Narrow"/>
                </a:rPr>
                <a:t>Motorola/Cisco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 Narrow"/>
                </a:rPr>
                <a:t>3.75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ctr" pos="4395960"/>
                  <a:tab algn="l" pos="4603680"/>
                  <a:tab algn="l" pos="5524560"/>
                  <a:tab algn="l" pos="6445080"/>
                  <a:tab algn="l" pos="7365960"/>
                  <a:tab algn="l" pos="8286840"/>
                  <a:tab algn="l" pos="9207360"/>
                  <a:tab algn="l" pos="1012824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Narrow"/>
                </a:rPr>
                <a:t>Lucent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 Narrow"/>
                </a:rPr>
                <a:t>3.37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ctr" pos="4395960"/>
                  <a:tab algn="l" pos="4603680"/>
                  <a:tab algn="l" pos="5524560"/>
                  <a:tab algn="l" pos="6445080"/>
                  <a:tab algn="l" pos="7365960"/>
                  <a:tab algn="l" pos="8286840"/>
                  <a:tab algn="l" pos="9207360"/>
                  <a:tab algn="l" pos="1012824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Narrow"/>
                </a:rPr>
                <a:t>Ericsson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 Narrow"/>
                </a:rPr>
                <a:t>3.25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ctr" pos="4395960"/>
                  <a:tab algn="l" pos="4603680"/>
                  <a:tab algn="l" pos="5524560"/>
                  <a:tab algn="l" pos="6445080"/>
                  <a:tab algn="l" pos="7365960"/>
                  <a:tab algn="l" pos="8286840"/>
                  <a:tab algn="l" pos="9207360"/>
                  <a:tab algn="l" pos="1012824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Narrow"/>
                </a:rPr>
                <a:t>Nokia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 Narrow"/>
                </a:rPr>
                <a:t>3.12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228600" y="5156280"/>
            <a:ext cx="8686800" cy="14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85000"/>
              </a:lnSpc>
              <a:spcAft>
                <a:spcPts val="901"/>
              </a:spcAft>
              <a:tabLst>
                <a:tab algn="l" pos="0"/>
                <a:tab algn="r" pos="823284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Only Nortel Networks is promoting new public infrastructure as a way to reducing cost. Other infrastructure vendors are focused on new services.”</a:t>
            </a:r>
            <a:br>
              <a:rPr sz="2200"/>
            </a:b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3333ff"/>
                </a:solidFill>
                <a:latin typeface="Arial"/>
              </a:rPr>
              <a:t>The Shosteck Email Briefing</a:t>
            </a:r>
            <a:br>
              <a:rPr sz="1800"/>
            </a:br>
            <a:r>
              <a:rPr b="1" i="1" lang="en-US" sz="18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3333ff"/>
                </a:solidFill>
                <a:latin typeface="Arial"/>
              </a:rPr>
              <a:t>May,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39760" y="267840"/>
            <a:ext cx="8618400" cy="38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Nortel Networks Architecture - Ranked #1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"/>
          <p:cNvGrpSpPr/>
          <p:nvPr/>
        </p:nvGrpSpPr>
        <p:grpSpPr>
          <a:xfrm>
            <a:off x="7072200" y="942840"/>
            <a:ext cx="2071440" cy="4811760"/>
            <a:chOff x="7072200" y="942840"/>
            <a:chExt cx="2071440" cy="4811760"/>
          </a:xfrm>
        </p:grpSpPr>
        <p:sp>
          <p:nvSpPr>
            <p:cNvPr id="755" name=""/>
            <p:cNvSpPr/>
            <p:nvPr/>
          </p:nvSpPr>
          <p:spPr>
            <a:xfrm>
              <a:off x="7170480" y="1160640"/>
              <a:ext cx="1876320" cy="4593960"/>
            </a:xfrm>
            <a:prstGeom prst="bevel">
              <a:avLst>
                <a:gd name="adj" fmla="val 5509"/>
              </a:avLst>
            </a:prstGeom>
            <a:solidFill>
              <a:srgbClr val="b0b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72200" y="942840"/>
              <a:ext cx="2071440" cy="457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41400" bIns="41400" anchor="ctr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990000"/>
                  </a:solidFill>
                  <a:latin typeface="Arial"/>
                </a:rPr>
                <a:t>Nortel </a:t>
              </a:r>
              <a:br>
                <a:rPr sz="1800"/>
              </a:br>
              <a:r>
                <a:rPr b="1" i="1" lang="en-US" sz="1800" spc="-1" strike="noStrike">
                  <a:solidFill>
                    <a:srgbClr val="990000"/>
                  </a:solidFill>
                  <a:latin typeface="Arial"/>
                </a:rPr>
                <a:t>Networks has the </a:t>
              </a:r>
              <a:r>
                <a:rPr b="1" i="1" lang="en-US" sz="1800" spc="-1" strike="noStrike">
                  <a:solidFill>
                    <a:srgbClr val="003eba"/>
                  </a:solidFill>
                  <a:latin typeface="Arial"/>
                </a:rPr>
                <a:t>resources</a:t>
              </a:r>
              <a:r>
                <a:rPr b="1" i="1" lang="en-US" sz="1800" spc="-1" strike="noStrike">
                  <a:solidFill>
                    <a:srgbClr val="990000"/>
                  </a:solidFill>
                  <a:latin typeface="Arial"/>
                </a:rPr>
                <a:t> and </a:t>
              </a:r>
              <a:r>
                <a:rPr b="1" i="1" lang="en-US" sz="1800" spc="-1" strike="noStrike">
                  <a:solidFill>
                    <a:srgbClr val="003eba"/>
                  </a:solidFill>
                  <a:latin typeface="Arial"/>
                </a:rPr>
                <a:t>IP </a:t>
              </a:r>
              <a:br>
                <a:rPr sz="1800"/>
              </a:br>
              <a:r>
                <a:rPr b="1" i="1" lang="en-US" sz="1800" spc="-1" strike="noStrike">
                  <a:solidFill>
                    <a:srgbClr val="003eba"/>
                  </a:solidFill>
                  <a:latin typeface="Arial"/>
                </a:rPr>
                <a:t>expertise</a:t>
              </a:r>
              <a:r>
                <a:rPr b="1" i="1" lang="en-US" sz="1800" spc="-1" strike="noStrike">
                  <a:solidFill>
                    <a:srgbClr val="990000"/>
                  </a:solidFill>
                  <a:latin typeface="Arial"/>
                </a:rPr>
                <a:t> to deliver </a:t>
              </a:r>
              <a:br>
                <a:rPr sz="1800"/>
              </a:br>
              <a:r>
                <a:rPr b="1" i="1" lang="en-US" sz="1800" spc="-1" strike="noStrike">
                  <a:solidFill>
                    <a:srgbClr val="990000"/>
                  </a:solidFill>
                  <a:latin typeface="Arial"/>
                </a:rPr>
                <a:t>Wireless Internet solutions </a:t>
              </a:r>
              <a:r>
                <a:rPr b="1" i="1" lang="en-US" sz="1800" spc="-1" strike="noStrike">
                  <a:solidFill>
                    <a:srgbClr val="003eba"/>
                  </a:solidFill>
                  <a:latin typeface="Arial"/>
                </a:rPr>
                <a:t>starting </a:t>
              </a:r>
              <a:br>
                <a:rPr sz="1800"/>
              </a:br>
              <a:r>
                <a:rPr b="1" i="1" lang="en-US" sz="1800" spc="-1" strike="noStrike">
                  <a:solidFill>
                    <a:srgbClr val="003eba"/>
                  </a:solidFill>
                  <a:latin typeface="Arial"/>
                </a:rPr>
                <a:t>to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239760" y="267840"/>
            <a:ext cx="8618400" cy="38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289080" y="878040"/>
            <a:ext cx="6798960" cy="488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215280" indent="-215280">
              <a:lnSpc>
                <a:spcPct val="110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et has changed the way business opera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2680" indent="-326160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and exists for IP applications in a mobile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5280" indent="-215280">
              <a:lnSpc>
                <a:spcPct val="110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reless Internet brings the power of IP an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et to wireless service provid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2680" indent="-326160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commitment to deliver fundamentally new network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2680" indent="-326160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portfolio of existing IP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2680" indent="-326160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er of magnitude reduction in cost per M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5280" indent="-215280">
              <a:lnSpc>
                <a:spcPct val="110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by step transition to Wireless Internet yields cost reduced voice, starting today (TDM to packet gateway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5280" indent="-215280">
              <a:lnSpc>
                <a:spcPct val="110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tel Networks is focused on the new business mode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value chain for Wireless IP services and app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5280" indent="-215280">
              <a:lnSpc>
                <a:spcPct val="110000"/>
              </a:lnSpc>
              <a:spcBef>
                <a:spcPts val="1125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started today with turnkey, low risk, offers for 2G and wideband mission critical wireless office application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endlog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2217600" y="3325680"/>
            <a:ext cx="4819680" cy="1051200"/>
            <a:chOff x="2217600" y="3325680"/>
            <a:chExt cx="4819680" cy="1051200"/>
          </a:xfrm>
        </p:grpSpPr>
        <p:sp>
          <p:nvSpPr>
            <p:cNvPr id="94" name=""/>
            <p:cNvSpPr/>
            <p:nvPr/>
          </p:nvSpPr>
          <p:spPr>
            <a:xfrm>
              <a:off x="3417840" y="3524400"/>
              <a:ext cx="2430360" cy="5904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17600" y="3325680"/>
              <a:ext cx="4819680" cy="105120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  <a:effectLst>
              <a:outerShdw dist="52300" dir="4563564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22640" y="3668760"/>
              <a:ext cx="291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Arial"/>
                </a:rPr>
                <a:t>Managed Packet W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80880" y="1046160"/>
            <a:ext cx="3848400" cy="2878200"/>
            <a:chOff x="380880" y="1046160"/>
            <a:chExt cx="3848400" cy="2878200"/>
          </a:xfrm>
        </p:grpSpPr>
        <p:grpSp>
          <p:nvGrpSpPr>
            <p:cNvPr id="98" name=""/>
            <p:cNvGrpSpPr/>
            <p:nvPr/>
          </p:nvGrpSpPr>
          <p:grpSpPr>
            <a:xfrm>
              <a:off x="380880" y="1046160"/>
              <a:ext cx="3695760" cy="2878200"/>
              <a:chOff x="380880" y="1046160"/>
              <a:chExt cx="3695760" cy="2878200"/>
            </a:xfrm>
          </p:grpSpPr>
          <p:sp>
            <p:nvSpPr>
              <p:cNvPr id="99" name=""/>
              <p:cNvSpPr/>
              <p:nvPr/>
            </p:nvSpPr>
            <p:spPr>
              <a:xfrm>
                <a:off x="469800" y="1689120"/>
                <a:ext cx="3606840" cy="102240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298520" y="1046160"/>
                <a:ext cx="1951200" cy="61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Arial"/>
                  </a:rPr>
                  <a:t>IP Services Intran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247840" y="2286000"/>
                <a:ext cx="304920" cy="106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80880" y="2362320"/>
                <a:ext cx="232416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noAutofit/>
              </a:bodyPr>
              <a:p>
                <a:pPr marL="114480" indent="-1144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all Serve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4480" indent="-1144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Mobility Management Serve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523880" y="3314880"/>
                <a:ext cx="160020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noAutofit/>
              </a:bodyPr>
              <a:p>
                <a:pPr marL="114480" indent="-1144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outers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4480" indent="-1144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witch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876240" y="1676520"/>
                <a:ext cx="2971800" cy="608040"/>
                <a:chOff x="876240" y="1676520"/>
                <a:chExt cx="2971800" cy="608040"/>
              </a:xfrm>
            </p:grpSpPr>
            <p:sp>
              <p:nvSpPr>
                <p:cNvPr id="105" name=""/>
                <p:cNvSpPr/>
                <p:nvPr/>
              </p:nvSpPr>
              <p:spPr>
                <a:xfrm flipV="1">
                  <a:off x="1065240" y="2049840"/>
                  <a:ext cx="0" cy="188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6" name=""/>
                <p:cNvGrpSpPr/>
                <p:nvPr/>
              </p:nvGrpSpPr>
              <p:grpSpPr>
                <a:xfrm>
                  <a:off x="920880" y="1797120"/>
                  <a:ext cx="257040" cy="254160"/>
                  <a:chOff x="920880" y="1797120"/>
                  <a:chExt cx="257040" cy="254160"/>
                </a:xfrm>
              </p:grpSpPr>
              <p:sp>
                <p:nvSpPr>
                  <p:cNvPr id="107" name=""/>
                  <p:cNvSpPr/>
                  <p:nvPr/>
                </p:nvSpPr>
                <p:spPr>
                  <a:xfrm>
                    <a:off x="920880" y="1797120"/>
                    <a:ext cx="257040" cy="254160"/>
                  </a:xfrm>
                  <a:custGeom>
                    <a:avLst/>
                    <a:gdLst/>
                    <a:ahLst/>
                    <a:rect l="l" t="t" r="r" b="b"/>
                    <a:pathLst>
                      <a:path w="596" h="595">
                        <a:moveTo>
                          <a:pt x="298" y="0"/>
                        </a:moveTo>
                        <a:lnTo>
                          <a:pt x="238" y="1"/>
                        </a:lnTo>
                        <a:lnTo>
                          <a:pt x="209" y="4"/>
                        </a:lnTo>
                        <a:lnTo>
                          <a:pt x="181" y="6"/>
                        </a:lnTo>
                        <a:lnTo>
                          <a:pt x="155" y="9"/>
                        </a:lnTo>
                        <a:lnTo>
                          <a:pt x="132" y="12"/>
                        </a:lnTo>
                        <a:lnTo>
                          <a:pt x="108" y="17"/>
                        </a:lnTo>
                        <a:lnTo>
                          <a:pt x="87" y="22"/>
                        </a:lnTo>
                        <a:lnTo>
                          <a:pt x="68" y="27"/>
                        </a:lnTo>
                        <a:lnTo>
                          <a:pt x="51" y="33"/>
                        </a:lnTo>
                        <a:lnTo>
                          <a:pt x="36" y="38"/>
                        </a:lnTo>
                        <a:lnTo>
                          <a:pt x="24" y="46"/>
                        </a:lnTo>
                        <a:lnTo>
                          <a:pt x="14" y="52"/>
                        </a:lnTo>
                        <a:lnTo>
                          <a:pt x="6" y="60"/>
                        </a:lnTo>
                        <a:lnTo>
                          <a:pt x="1" y="67"/>
                        </a:lnTo>
                        <a:lnTo>
                          <a:pt x="0" y="74"/>
                        </a:lnTo>
                        <a:lnTo>
                          <a:pt x="0" y="521"/>
                        </a:lnTo>
                        <a:lnTo>
                          <a:pt x="1" y="528"/>
                        </a:lnTo>
                        <a:lnTo>
                          <a:pt x="6" y="536"/>
                        </a:lnTo>
                        <a:lnTo>
                          <a:pt x="14" y="543"/>
                        </a:lnTo>
                        <a:lnTo>
                          <a:pt x="24" y="549"/>
                        </a:lnTo>
                        <a:lnTo>
                          <a:pt x="36" y="557"/>
                        </a:lnTo>
                        <a:lnTo>
                          <a:pt x="51" y="563"/>
                        </a:lnTo>
                        <a:lnTo>
                          <a:pt x="68" y="568"/>
                        </a:lnTo>
                        <a:lnTo>
                          <a:pt x="87" y="573"/>
                        </a:lnTo>
                        <a:lnTo>
                          <a:pt x="108" y="578"/>
                        </a:lnTo>
                        <a:lnTo>
                          <a:pt x="132" y="583"/>
                        </a:lnTo>
                        <a:lnTo>
                          <a:pt x="155" y="587"/>
                        </a:lnTo>
                        <a:lnTo>
                          <a:pt x="181" y="589"/>
                        </a:lnTo>
                        <a:lnTo>
                          <a:pt x="209" y="592"/>
                        </a:lnTo>
                        <a:lnTo>
                          <a:pt x="238" y="594"/>
                        </a:lnTo>
                        <a:lnTo>
                          <a:pt x="298" y="595"/>
                        </a:lnTo>
                        <a:lnTo>
                          <a:pt x="359" y="594"/>
                        </a:lnTo>
                        <a:lnTo>
                          <a:pt x="387" y="592"/>
                        </a:lnTo>
                        <a:lnTo>
                          <a:pt x="415" y="589"/>
                        </a:lnTo>
                        <a:lnTo>
                          <a:pt x="441" y="587"/>
                        </a:lnTo>
                        <a:lnTo>
                          <a:pt x="464" y="583"/>
                        </a:lnTo>
                        <a:lnTo>
                          <a:pt x="488" y="578"/>
                        </a:lnTo>
                        <a:lnTo>
                          <a:pt x="509" y="573"/>
                        </a:lnTo>
                        <a:lnTo>
                          <a:pt x="528" y="568"/>
                        </a:lnTo>
                        <a:lnTo>
                          <a:pt x="545" y="563"/>
                        </a:lnTo>
                        <a:lnTo>
                          <a:pt x="560" y="557"/>
                        </a:lnTo>
                        <a:lnTo>
                          <a:pt x="572" y="549"/>
                        </a:lnTo>
                        <a:lnTo>
                          <a:pt x="582" y="543"/>
                        </a:lnTo>
                        <a:lnTo>
                          <a:pt x="590" y="536"/>
                        </a:lnTo>
                        <a:lnTo>
                          <a:pt x="595" y="528"/>
                        </a:lnTo>
                        <a:lnTo>
                          <a:pt x="596" y="521"/>
                        </a:lnTo>
                        <a:lnTo>
                          <a:pt x="596" y="74"/>
                        </a:lnTo>
                        <a:lnTo>
                          <a:pt x="595" y="67"/>
                        </a:lnTo>
                        <a:lnTo>
                          <a:pt x="590" y="60"/>
                        </a:lnTo>
                        <a:lnTo>
                          <a:pt x="582" y="52"/>
                        </a:lnTo>
                        <a:lnTo>
                          <a:pt x="572" y="46"/>
                        </a:lnTo>
                        <a:lnTo>
                          <a:pt x="560" y="38"/>
                        </a:lnTo>
                        <a:lnTo>
                          <a:pt x="545" y="33"/>
                        </a:lnTo>
                        <a:lnTo>
                          <a:pt x="528" y="27"/>
                        </a:lnTo>
                        <a:lnTo>
                          <a:pt x="509" y="22"/>
                        </a:lnTo>
                        <a:lnTo>
                          <a:pt x="488" y="17"/>
                        </a:lnTo>
                        <a:lnTo>
                          <a:pt x="464" y="12"/>
                        </a:lnTo>
                        <a:lnTo>
                          <a:pt x="441" y="9"/>
                        </a:lnTo>
                        <a:lnTo>
                          <a:pt x="415" y="6"/>
                        </a:lnTo>
                        <a:lnTo>
                          <a:pt x="387" y="4"/>
                        </a:lnTo>
                        <a:lnTo>
                          <a:pt x="359" y="1"/>
                        </a:lnTo>
                        <a:lnTo>
                          <a:pt x="298" y="0"/>
                        </a:lnTo>
                        <a:close/>
                      </a:path>
                    </a:pathLst>
                  </a:custGeom>
                  <a:solidFill>
                    <a:srgbClr val="ff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920880" y="1797120"/>
                    <a:ext cx="25704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596" h="149">
                        <a:moveTo>
                          <a:pt x="0" y="74"/>
                        </a:moveTo>
                        <a:lnTo>
                          <a:pt x="1" y="82"/>
                        </a:lnTo>
                        <a:lnTo>
                          <a:pt x="6" y="89"/>
                        </a:lnTo>
                        <a:lnTo>
                          <a:pt x="14" y="97"/>
                        </a:lnTo>
                        <a:lnTo>
                          <a:pt x="24" y="103"/>
                        </a:lnTo>
                        <a:lnTo>
                          <a:pt x="36" y="110"/>
                        </a:lnTo>
                        <a:lnTo>
                          <a:pt x="51" y="117"/>
                        </a:lnTo>
                        <a:lnTo>
                          <a:pt x="68" y="122"/>
                        </a:lnTo>
                        <a:lnTo>
                          <a:pt x="87" y="126"/>
                        </a:lnTo>
                        <a:lnTo>
                          <a:pt x="108" y="131"/>
                        </a:lnTo>
                        <a:lnTo>
                          <a:pt x="132" y="136"/>
                        </a:lnTo>
                        <a:lnTo>
                          <a:pt x="155" y="140"/>
                        </a:lnTo>
                        <a:lnTo>
                          <a:pt x="181" y="143"/>
                        </a:lnTo>
                        <a:lnTo>
                          <a:pt x="209" y="145"/>
                        </a:lnTo>
                        <a:lnTo>
                          <a:pt x="238" y="148"/>
                        </a:lnTo>
                        <a:lnTo>
                          <a:pt x="298" y="149"/>
                        </a:lnTo>
                        <a:lnTo>
                          <a:pt x="359" y="148"/>
                        </a:lnTo>
                        <a:lnTo>
                          <a:pt x="387" y="145"/>
                        </a:lnTo>
                        <a:lnTo>
                          <a:pt x="415" y="143"/>
                        </a:lnTo>
                        <a:lnTo>
                          <a:pt x="441" y="140"/>
                        </a:lnTo>
                        <a:lnTo>
                          <a:pt x="464" y="136"/>
                        </a:lnTo>
                        <a:lnTo>
                          <a:pt x="488" y="131"/>
                        </a:lnTo>
                        <a:lnTo>
                          <a:pt x="509" y="126"/>
                        </a:lnTo>
                        <a:lnTo>
                          <a:pt x="528" y="122"/>
                        </a:lnTo>
                        <a:lnTo>
                          <a:pt x="545" y="117"/>
                        </a:lnTo>
                        <a:lnTo>
                          <a:pt x="560" y="110"/>
                        </a:lnTo>
                        <a:lnTo>
                          <a:pt x="572" y="103"/>
                        </a:lnTo>
                        <a:lnTo>
                          <a:pt x="582" y="97"/>
                        </a:lnTo>
                        <a:lnTo>
                          <a:pt x="590" y="89"/>
                        </a:lnTo>
                        <a:lnTo>
                          <a:pt x="595" y="82"/>
                        </a:lnTo>
                        <a:lnTo>
                          <a:pt x="596" y="74"/>
                        </a:lnTo>
                        <a:lnTo>
                          <a:pt x="595" y="67"/>
                        </a:lnTo>
                        <a:lnTo>
                          <a:pt x="590" y="60"/>
                        </a:lnTo>
                        <a:lnTo>
                          <a:pt x="582" y="52"/>
                        </a:lnTo>
                        <a:lnTo>
                          <a:pt x="572" y="46"/>
                        </a:lnTo>
                        <a:lnTo>
                          <a:pt x="560" y="38"/>
                        </a:lnTo>
                        <a:lnTo>
                          <a:pt x="545" y="33"/>
                        </a:lnTo>
                        <a:lnTo>
                          <a:pt x="528" y="27"/>
                        </a:lnTo>
                        <a:lnTo>
                          <a:pt x="509" y="22"/>
                        </a:lnTo>
                        <a:lnTo>
                          <a:pt x="488" y="17"/>
                        </a:lnTo>
                        <a:lnTo>
                          <a:pt x="464" y="12"/>
                        </a:lnTo>
                        <a:lnTo>
                          <a:pt x="441" y="9"/>
                        </a:lnTo>
                        <a:lnTo>
                          <a:pt x="415" y="6"/>
                        </a:lnTo>
                        <a:lnTo>
                          <a:pt x="387" y="4"/>
                        </a:lnTo>
                        <a:lnTo>
                          <a:pt x="359" y="1"/>
                        </a:lnTo>
                        <a:lnTo>
                          <a:pt x="298" y="0"/>
                        </a:lnTo>
                        <a:lnTo>
                          <a:pt x="238" y="1"/>
                        </a:lnTo>
                        <a:lnTo>
                          <a:pt x="209" y="4"/>
                        </a:lnTo>
                        <a:lnTo>
                          <a:pt x="181" y="6"/>
                        </a:lnTo>
                        <a:lnTo>
                          <a:pt x="155" y="9"/>
                        </a:lnTo>
                        <a:lnTo>
                          <a:pt x="132" y="12"/>
                        </a:lnTo>
                        <a:lnTo>
                          <a:pt x="108" y="17"/>
                        </a:lnTo>
                        <a:lnTo>
                          <a:pt x="87" y="22"/>
                        </a:lnTo>
                        <a:lnTo>
                          <a:pt x="68" y="27"/>
                        </a:lnTo>
                        <a:lnTo>
                          <a:pt x="51" y="33"/>
                        </a:lnTo>
                        <a:lnTo>
                          <a:pt x="36" y="38"/>
                        </a:lnTo>
                        <a:lnTo>
                          <a:pt x="24" y="46"/>
                        </a:lnTo>
                        <a:lnTo>
                          <a:pt x="14" y="52"/>
                        </a:lnTo>
                        <a:lnTo>
                          <a:pt x="6" y="60"/>
                        </a:lnTo>
                        <a:lnTo>
                          <a:pt x="1" y="67"/>
                        </a:lnTo>
                        <a:lnTo>
                          <a:pt x="0" y="74"/>
                        </a:lnTo>
                        <a:close/>
                      </a:path>
                    </a:pathLst>
                  </a:custGeom>
                  <a:solidFill>
                    <a:srgbClr val="ffd6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920880" y="1797120"/>
                    <a:ext cx="257040" cy="254160"/>
                  </a:xfrm>
                  <a:custGeom>
                    <a:avLst/>
                    <a:gdLst/>
                    <a:ahLst/>
                    <a:rect l="l" t="t" r="r" b="b"/>
                    <a:pathLst>
                      <a:path w="596" h="595">
                        <a:moveTo>
                          <a:pt x="298" y="0"/>
                        </a:moveTo>
                        <a:lnTo>
                          <a:pt x="238" y="1"/>
                        </a:lnTo>
                        <a:lnTo>
                          <a:pt x="209" y="4"/>
                        </a:lnTo>
                        <a:lnTo>
                          <a:pt x="181" y="6"/>
                        </a:lnTo>
                        <a:lnTo>
                          <a:pt x="155" y="9"/>
                        </a:lnTo>
                        <a:lnTo>
                          <a:pt x="132" y="12"/>
                        </a:lnTo>
                        <a:lnTo>
                          <a:pt x="108" y="17"/>
                        </a:lnTo>
                        <a:lnTo>
                          <a:pt x="87" y="22"/>
                        </a:lnTo>
                        <a:lnTo>
                          <a:pt x="68" y="27"/>
                        </a:lnTo>
                        <a:lnTo>
                          <a:pt x="51" y="33"/>
                        </a:lnTo>
                        <a:lnTo>
                          <a:pt x="36" y="38"/>
                        </a:lnTo>
                        <a:lnTo>
                          <a:pt x="24" y="46"/>
                        </a:lnTo>
                        <a:lnTo>
                          <a:pt x="14" y="52"/>
                        </a:lnTo>
                        <a:lnTo>
                          <a:pt x="6" y="60"/>
                        </a:lnTo>
                        <a:lnTo>
                          <a:pt x="1" y="67"/>
                        </a:lnTo>
                        <a:lnTo>
                          <a:pt x="0" y="74"/>
                        </a:lnTo>
                        <a:lnTo>
                          <a:pt x="0" y="521"/>
                        </a:lnTo>
                        <a:lnTo>
                          <a:pt x="1" y="528"/>
                        </a:lnTo>
                        <a:lnTo>
                          <a:pt x="6" y="536"/>
                        </a:lnTo>
                        <a:lnTo>
                          <a:pt x="14" y="543"/>
                        </a:lnTo>
                        <a:lnTo>
                          <a:pt x="24" y="549"/>
                        </a:lnTo>
                        <a:lnTo>
                          <a:pt x="36" y="557"/>
                        </a:lnTo>
                        <a:lnTo>
                          <a:pt x="51" y="563"/>
                        </a:lnTo>
                        <a:lnTo>
                          <a:pt x="68" y="568"/>
                        </a:lnTo>
                        <a:lnTo>
                          <a:pt x="87" y="573"/>
                        </a:lnTo>
                        <a:lnTo>
                          <a:pt x="108" y="578"/>
                        </a:lnTo>
                        <a:lnTo>
                          <a:pt x="132" y="583"/>
                        </a:lnTo>
                        <a:lnTo>
                          <a:pt x="155" y="587"/>
                        </a:lnTo>
                        <a:lnTo>
                          <a:pt x="181" y="589"/>
                        </a:lnTo>
                        <a:lnTo>
                          <a:pt x="209" y="592"/>
                        </a:lnTo>
                        <a:lnTo>
                          <a:pt x="238" y="594"/>
                        </a:lnTo>
                        <a:lnTo>
                          <a:pt x="298" y="595"/>
                        </a:lnTo>
                        <a:lnTo>
                          <a:pt x="359" y="594"/>
                        </a:lnTo>
                        <a:lnTo>
                          <a:pt x="387" y="592"/>
                        </a:lnTo>
                        <a:lnTo>
                          <a:pt x="415" y="589"/>
                        </a:lnTo>
                        <a:lnTo>
                          <a:pt x="441" y="587"/>
                        </a:lnTo>
                        <a:lnTo>
                          <a:pt x="464" y="583"/>
                        </a:lnTo>
                        <a:lnTo>
                          <a:pt x="488" y="578"/>
                        </a:lnTo>
                        <a:lnTo>
                          <a:pt x="509" y="573"/>
                        </a:lnTo>
                        <a:lnTo>
                          <a:pt x="528" y="568"/>
                        </a:lnTo>
                        <a:lnTo>
                          <a:pt x="545" y="563"/>
                        </a:lnTo>
                        <a:lnTo>
                          <a:pt x="560" y="557"/>
                        </a:lnTo>
                        <a:lnTo>
                          <a:pt x="572" y="549"/>
                        </a:lnTo>
                        <a:lnTo>
                          <a:pt x="582" y="543"/>
                        </a:lnTo>
                        <a:lnTo>
                          <a:pt x="590" y="536"/>
                        </a:lnTo>
                        <a:lnTo>
                          <a:pt x="595" y="528"/>
                        </a:lnTo>
                        <a:lnTo>
                          <a:pt x="596" y="521"/>
                        </a:lnTo>
                        <a:lnTo>
                          <a:pt x="596" y="74"/>
                        </a:lnTo>
                        <a:lnTo>
                          <a:pt x="595" y="67"/>
                        </a:lnTo>
                        <a:lnTo>
                          <a:pt x="590" y="60"/>
                        </a:lnTo>
                        <a:lnTo>
                          <a:pt x="582" y="52"/>
                        </a:lnTo>
                        <a:lnTo>
                          <a:pt x="572" y="46"/>
                        </a:lnTo>
                        <a:lnTo>
                          <a:pt x="560" y="38"/>
                        </a:lnTo>
                        <a:lnTo>
                          <a:pt x="545" y="33"/>
                        </a:lnTo>
                        <a:lnTo>
                          <a:pt x="528" y="27"/>
                        </a:lnTo>
                        <a:lnTo>
                          <a:pt x="509" y="22"/>
                        </a:lnTo>
                        <a:lnTo>
                          <a:pt x="488" y="17"/>
                        </a:lnTo>
                        <a:lnTo>
                          <a:pt x="464" y="12"/>
                        </a:lnTo>
                        <a:lnTo>
                          <a:pt x="441" y="9"/>
                        </a:lnTo>
                        <a:lnTo>
                          <a:pt x="415" y="6"/>
                        </a:lnTo>
                        <a:lnTo>
                          <a:pt x="387" y="4"/>
                        </a:lnTo>
                        <a:lnTo>
                          <a:pt x="359" y="1"/>
                        </a:lnTo>
                        <a:lnTo>
                          <a:pt x="298" y="0"/>
                        </a:lnTo>
                        <a:close/>
                      </a:path>
                    </a:pathLst>
                  </a:custGeom>
                  <a:noFill/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920880" y="1827720"/>
                    <a:ext cx="2570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6" h="75">
                        <a:moveTo>
                          <a:pt x="0" y="0"/>
                        </a:moveTo>
                        <a:lnTo>
                          <a:pt x="1" y="8"/>
                        </a:lnTo>
                        <a:lnTo>
                          <a:pt x="6" y="15"/>
                        </a:lnTo>
                        <a:lnTo>
                          <a:pt x="14" y="23"/>
                        </a:lnTo>
                        <a:lnTo>
                          <a:pt x="24" y="29"/>
                        </a:lnTo>
                        <a:lnTo>
                          <a:pt x="36" y="36"/>
                        </a:lnTo>
                        <a:lnTo>
                          <a:pt x="51" y="43"/>
                        </a:lnTo>
                        <a:lnTo>
                          <a:pt x="68" y="48"/>
                        </a:lnTo>
                        <a:lnTo>
                          <a:pt x="87" y="52"/>
                        </a:lnTo>
                        <a:lnTo>
                          <a:pt x="108" y="57"/>
                        </a:lnTo>
                        <a:lnTo>
                          <a:pt x="132" y="62"/>
                        </a:lnTo>
                        <a:lnTo>
                          <a:pt x="155" y="66"/>
                        </a:lnTo>
                        <a:lnTo>
                          <a:pt x="181" y="69"/>
                        </a:lnTo>
                        <a:lnTo>
                          <a:pt x="209" y="71"/>
                        </a:lnTo>
                        <a:lnTo>
                          <a:pt x="238" y="74"/>
                        </a:lnTo>
                        <a:lnTo>
                          <a:pt x="298" y="75"/>
                        </a:lnTo>
                        <a:lnTo>
                          <a:pt x="359" y="74"/>
                        </a:lnTo>
                        <a:lnTo>
                          <a:pt x="387" y="71"/>
                        </a:lnTo>
                        <a:lnTo>
                          <a:pt x="415" y="69"/>
                        </a:lnTo>
                        <a:lnTo>
                          <a:pt x="441" y="66"/>
                        </a:lnTo>
                        <a:lnTo>
                          <a:pt x="464" y="62"/>
                        </a:lnTo>
                        <a:lnTo>
                          <a:pt x="488" y="57"/>
                        </a:lnTo>
                        <a:lnTo>
                          <a:pt x="509" y="52"/>
                        </a:lnTo>
                        <a:lnTo>
                          <a:pt x="528" y="48"/>
                        </a:lnTo>
                        <a:lnTo>
                          <a:pt x="545" y="43"/>
                        </a:lnTo>
                        <a:lnTo>
                          <a:pt x="560" y="36"/>
                        </a:lnTo>
                        <a:lnTo>
                          <a:pt x="572" y="29"/>
                        </a:lnTo>
                        <a:lnTo>
                          <a:pt x="582" y="23"/>
                        </a:lnTo>
                        <a:lnTo>
                          <a:pt x="590" y="15"/>
                        </a:lnTo>
                        <a:lnTo>
                          <a:pt x="595" y="8"/>
                        </a:lnTo>
                        <a:lnTo>
                          <a:pt x="596" y="0"/>
                        </a:lnTo>
                      </a:path>
                    </a:pathLst>
                  </a:custGeom>
                  <a:noFill/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" name=""/>
                <p:cNvGrpSpPr/>
                <p:nvPr/>
              </p:nvGrpSpPr>
              <p:grpSpPr>
                <a:xfrm>
                  <a:off x="1409760" y="1676520"/>
                  <a:ext cx="365040" cy="608040"/>
                  <a:chOff x="1409760" y="1676520"/>
                  <a:chExt cx="365040" cy="60804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1562040" y="2057760"/>
                    <a:ext cx="2520" cy="226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82440" rIns="82440" tIns="41040" bIns="41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3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409760" y="1676520"/>
                    <a:ext cx="365040" cy="489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b2b2b2"/>
                    </a:outerShdw>
                  </a:effectLst>
                </p:spPr>
              </p:pic>
            </p:grpSp>
            <p:grpSp>
              <p:nvGrpSpPr>
                <p:cNvPr id="114" name=""/>
                <p:cNvGrpSpPr/>
                <p:nvPr/>
              </p:nvGrpSpPr>
              <p:grpSpPr>
                <a:xfrm>
                  <a:off x="1866960" y="1676520"/>
                  <a:ext cx="365040" cy="608040"/>
                  <a:chOff x="1866960" y="1676520"/>
                  <a:chExt cx="365040" cy="60804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2019240" y="2057760"/>
                    <a:ext cx="2520" cy="226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82440" rIns="82440" tIns="41040" bIns="41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6960" y="1676520"/>
                    <a:ext cx="365040" cy="489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b2b2b2"/>
                    </a:outerShdw>
                  </a:effectLst>
                </p:spPr>
              </p:pic>
            </p:grpSp>
            <p:grpSp>
              <p:nvGrpSpPr>
                <p:cNvPr id="117" name=""/>
                <p:cNvGrpSpPr/>
                <p:nvPr/>
              </p:nvGrpSpPr>
              <p:grpSpPr>
                <a:xfrm>
                  <a:off x="2552760" y="1676520"/>
                  <a:ext cx="365040" cy="608040"/>
                  <a:chOff x="2552760" y="1676520"/>
                  <a:chExt cx="365040" cy="60804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>
                    <a:off x="2705040" y="2057760"/>
                    <a:ext cx="2520" cy="226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82440" rIns="82440" tIns="41040" bIns="41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2760" y="1676520"/>
                    <a:ext cx="365040" cy="489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b2b2b2"/>
                    </a:outerShdw>
                  </a:effectLst>
                </p:spPr>
              </p:pic>
            </p:grpSp>
            <p:grpSp>
              <p:nvGrpSpPr>
                <p:cNvPr id="120" name=""/>
                <p:cNvGrpSpPr/>
                <p:nvPr/>
              </p:nvGrpSpPr>
              <p:grpSpPr>
                <a:xfrm>
                  <a:off x="3009960" y="1676520"/>
                  <a:ext cx="365040" cy="608040"/>
                  <a:chOff x="3009960" y="1676520"/>
                  <a:chExt cx="365040" cy="60804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3162240" y="2057760"/>
                    <a:ext cx="2520" cy="226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82440" rIns="82440" tIns="41040" bIns="41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09960" y="1676520"/>
                    <a:ext cx="365040" cy="489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b2b2b2"/>
                    </a:outerShdw>
                  </a:effectLst>
                </p:spPr>
              </p:pic>
            </p:grpSp>
            <p:grpSp>
              <p:nvGrpSpPr>
                <p:cNvPr id="123" name=""/>
                <p:cNvGrpSpPr/>
                <p:nvPr/>
              </p:nvGrpSpPr>
              <p:grpSpPr>
                <a:xfrm>
                  <a:off x="3467160" y="1676520"/>
                  <a:ext cx="365040" cy="608040"/>
                  <a:chOff x="3467160" y="1676520"/>
                  <a:chExt cx="365040" cy="60804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>
                    <a:off x="3619440" y="2057760"/>
                    <a:ext cx="2520" cy="226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82440" rIns="82440" tIns="41040" bIns="41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67160" y="1676520"/>
                    <a:ext cx="365040" cy="489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b2b2b2"/>
                    </a:outerShdw>
                  </a:effectLst>
                </p:spPr>
              </p:pic>
            </p:grpSp>
            <p:sp>
              <p:nvSpPr>
                <p:cNvPr id="126" name=""/>
                <p:cNvSpPr/>
                <p:nvPr/>
              </p:nvSpPr>
              <p:spPr>
                <a:xfrm>
                  <a:off x="876240" y="2259360"/>
                  <a:ext cx="29718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743040" y="1162080"/>
                <a:ext cx="457200" cy="380880"/>
                <a:chOff x="743040" y="1162080"/>
                <a:chExt cx="457200" cy="3808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743040" y="1162080"/>
                  <a:ext cx="457200" cy="38088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21160" y="116208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3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362320" y="3276720"/>
                <a:ext cx="398520" cy="392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1" name=""/>
            <p:cNvSpPr/>
            <p:nvPr/>
          </p:nvSpPr>
          <p:spPr>
            <a:xfrm>
              <a:off x="2476440" y="2362320"/>
              <a:ext cx="175284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noAutofit/>
            </a:bodyPr>
            <a:p>
              <a:pPr marL="114480" indent="-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pplication Serv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446120" y="4495680"/>
            <a:ext cx="6213600" cy="2133720"/>
            <a:chOff x="1446120" y="4495680"/>
            <a:chExt cx="6213600" cy="2133720"/>
          </a:xfrm>
        </p:grpSpPr>
        <p:sp>
          <p:nvSpPr>
            <p:cNvPr id="133" name=""/>
            <p:cNvSpPr/>
            <p:nvPr/>
          </p:nvSpPr>
          <p:spPr>
            <a:xfrm>
              <a:off x="2811600" y="5707080"/>
              <a:ext cx="811080" cy="7621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78200" y="5867280"/>
              <a:ext cx="811440" cy="7621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35520" y="5676840"/>
              <a:ext cx="811080" cy="7621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7"/>
            <a:stretch/>
          </p:blipFill>
          <p:spPr>
            <a:xfrm>
              <a:off x="1674720" y="5486400"/>
              <a:ext cx="862200" cy="711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a0a0a0"/>
              </a:outerShdw>
            </a:effectLst>
          </p:spPr>
        </p:pic>
        <p:pic>
          <p:nvPicPr>
            <p:cNvPr id="137" name="phone" descr=""/>
            <p:cNvPicPr/>
            <p:nvPr/>
          </p:nvPicPr>
          <p:blipFill>
            <a:blip r:embed="rId8"/>
            <a:stretch/>
          </p:blipFill>
          <p:spPr>
            <a:xfrm>
              <a:off x="1446120" y="4495680"/>
              <a:ext cx="855720" cy="94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2943360" y="5737320"/>
              <a:ext cx="4716360" cy="830160"/>
              <a:chOff x="2943360" y="5737320"/>
              <a:chExt cx="4716360" cy="830160"/>
            </a:xfrm>
          </p:grpSpPr>
          <p:pic>
            <p:nvPicPr>
              <p:cNvPr id="139" name="tower" descr=""/>
              <p:cNvPicPr/>
              <p:nvPr/>
            </p:nvPicPr>
            <p:blipFill>
              <a:blip r:embed="rId9"/>
              <a:stretch/>
            </p:blipFill>
            <p:spPr>
              <a:xfrm>
                <a:off x="2943360" y="5776920"/>
                <a:ext cx="547560" cy="62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tower" descr=""/>
              <p:cNvPicPr/>
              <p:nvPr/>
            </p:nvPicPr>
            <p:blipFill>
              <a:blip r:embed="rId10"/>
              <a:stretch/>
            </p:blipFill>
            <p:spPr>
              <a:xfrm>
                <a:off x="3948120" y="5943600"/>
                <a:ext cx="547560" cy="62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tower" descr=""/>
              <p:cNvPicPr/>
              <p:nvPr/>
            </p:nvPicPr>
            <p:blipFill>
              <a:blip r:embed="rId11"/>
              <a:stretch/>
            </p:blipFill>
            <p:spPr>
              <a:xfrm>
                <a:off x="4967280" y="5746680"/>
                <a:ext cx="547560" cy="623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2" name=""/>
              <p:cNvGrpSpPr/>
              <p:nvPr/>
            </p:nvGrpSpPr>
            <p:grpSpPr>
              <a:xfrm>
                <a:off x="5726160" y="5842080"/>
                <a:ext cx="457200" cy="380880"/>
                <a:chOff x="5726160" y="5842080"/>
                <a:chExt cx="457200" cy="380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5726160" y="5842080"/>
                  <a:ext cx="457200" cy="38088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804280" y="584208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" name=""/>
              <p:cNvSpPr/>
              <p:nvPr/>
            </p:nvSpPr>
            <p:spPr>
              <a:xfrm>
                <a:off x="6238800" y="5737320"/>
                <a:ext cx="14209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Arial"/>
                  </a:rPr>
                  <a:t>Wideband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Arial"/>
                  </a:rPr>
                  <a:t>Radi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2424240" y="4114800"/>
            <a:ext cx="2719440" cy="1905120"/>
            <a:chOff x="2424240" y="4114800"/>
            <a:chExt cx="2719440" cy="1905120"/>
          </a:xfrm>
        </p:grpSpPr>
        <p:sp>
          <p:nvSpPr>
            <p:cNvPr id="147" name=""/>
            <p:cNvSpPr/>
            <p:nvPr/>
          </p:nvSpPr>
          <p:spPr>
            <a:xfrm flipH="1">
              <a:off x="3390480" y="4572000"/>
              <a:ext cx="7225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41960" y="4572000"/>
              <a:ext cx="80172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29280" y="4572000"/>
              <a:ext cx="0" cy="139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" name="sm_box" descr=""/>
            <p:cNvPicPr/>
            <p:nvPr/>
          </p:nvPicPr>
          <p:blipFill>
            <a:blip r:embed="rId12"/>
            <a:srcRect l="10000" t="0" r="0" b="0"/>
            <a:stretch/>
          </p:blipFill>
          <p:spPr>
            <a:xfrm>
              <a:off x="4000680" y="4191120"/>
              <a:ext cx="49356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424240" y="4392720"/>
              <a:ext cx="160020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Arial"/>
                </a:rPr>
                <a:t>Wireless Access Gatew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3505320" y="4114800"/>
              <a:ext cx="457200" cy="380880"/>
              <a:chOff x="3505320" y="4114800"/>
              <a:chExt cx="457200" cy="380880"/>
            </a:xfrm>
          </p:grpSpPr>
          <p:sp>
            <p:nvSpPr>
              <p:cNvPr id="153" name=""/>
              <p:cNvSpPr/>
              <p:nvPr/>
            </p:nvSpPr>
            <p:spPr>
              <a:xfrm>
                <a:off x="3505320" y="4114800"/>
                <a:ext cx="457200" cy="380880"/>
              </a:xfrm>
              <a:prstGeom prst="ellipse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583440" y="41148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5" name="" descr=""/>
            <p:cNvPicPr/>
            <p:nvPr/>
          </p:nvPicPr>
          <p:blipFill>
            <a:blip r:embed="rId13"/>
            <a:stretch/>
          </p:blipFill>
          <p:spPr>
            <a:xfrm>
              <a:off x="4478400" y="4255920"/>
              <a:ext cx="398520" cy="39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" name=""/>
          <p:cNvGrpSpPr/>
          <p:nvPr/>
        </p:nvGrpSpPr>
        <p:grpSpPr>
          <a:xfrm>
            <a:off x="5189400" y="3657600"/>
            <a:ext cx="3571920" cy="1216080"/>
            <a:chOff x="5189400" y="3657600"/>
            <a:chExt cx="3571920" cy="1216080"/>
          </a:xfrm>
        </p:grpSpPr>
        <p:grpSp>
          <p:nvGrpSpPr>
            <p:cNvPr id="157" name=""/>
            <p:cNvGrpSpPr/>
            <p:nvPr/>
          </p:nvGrpSpPr>
          <p:grpSpPr>
            <a:xfrm>
              <a:off x="6591240" y="3657600"/>
              <a:ext cx="2170080" cy="1208160"/>
              <a:chOff x="6591240" y="3657600"/>
              <a:chExt cx="2170080" cy="1208160"/>
            </a:xfrm>
          </p:grpSpPr>
          <p:pic>
            <p:nvPicPr>
              <p:cNvPr id="158" name="cloud1" descr=""/>
              <p:cNvPicPr/>
              <p:nvPr/>
            </p:nvPicPr>
            <p:blipFill>
              <a:blip r:embed="rId14">
                <a:lum bright="24000"/>
              </a:blip>
              <a:stretch/>
            </p:blipFill>
            <p:spPr>
              <a:xfrm>
                <a:off x="6591240" y="3657600"/>
                <a:ext cx="2170080" cy="120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>
                <a:off x="7347960" y="4127760"/>
                <a:ext cx="9867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c008c"/>
                    </a:solidFill>
                    <a:latin typeface="Arial"/>
                  </a:rPr>
                  <a:t>PSTN &amp; 2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c008c"/>
                    </a:solidFill>
                    <a:latin typeface="Arial"/>
                  </a:rPr>
                  <a:t>Wirele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0" name="" descr=""/>
            <p:cNvPicPr/>
            <p:nvPr/>
          </p:nvPicPr>
          <p:blipFill>
            <a:blip r:embed="rId15"/>
            <a:srcRect l="17925" t="19316" r="15934" b="9658"/>
            <a:stretch/>
          </p:blipFill>
          <p:spPr>
            <a:xfrm>
              <a:off x="6323040" y="3886200"/>
              <a:ext cx="6033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89400" y="4416480"/>
              <a:ext cx="1600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Arial"/>
                </a:rPr>
                <a:t>Circuit Gatew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5816520" y="4081320"/>
              <a:ext cx="457200" cy="381240"/>
              <a:chOff x="5816520" y="4081320"/>
              <a:chExt cx="457200" cy="381240"/>
            </a:xfrm>
          </p:grpSpPr>
          <p:sp>
            <p:nvSpPr>
              <p:cNvPr id="163" name=""/>
              <p:cNvSpPr/>
              <p:nvPr/>
            </p:nvSpPr>
            <p:spPr>
              <a:xfrm>
                <a:off x="5816520" y="4081320"/>
                <a:ext cx="457200" cy="381240"/>
              </a:xfrm>
              <a:prstGeom prst="ellipse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894640" y="40813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9760" y="267840"/>
            <a:ext cx="8618400" cy="38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Wireless Internet Architecture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400800" y="2514600"/>
            <a:ext cx="2360520" cy="1219320"/>
            <a:chOff x="6400800" y="2514600"/>
            <a:chExt cx="2360520" cy="1219320"/>
          </a:xfrm>
        </p:grpSpPr>
        <p:pic>
          <p:nvPicPr>
            <p:cNvPr id="167" name="cloud1" descr=""/>
            <p:cNvPicPr/>
            <p:nvPr/>
          </p:nvPicPr>
          <p:blipFill>
            <a:blip r:embed="rId16">
              <a:lum bright="24000"/>
            </a:blip>
            <a:stretch/>
          </p:blipFill>
          <p:spPr>
            <a:xfrm>
              <a:off x="6591240" y="2514600"/>
              <a:ext cx="217008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7312320" y="2971800"/>
              <a:ext cx="1183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c008c"/>
                  </a:solidFill>
                  <a:latin typeface="Arial"/>
                </a:rPr>
                <a:t>Internet 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c008c"/>
                  </a:solidFill>
                  <a:latin typeface="Arial"/>
                </a:rPr>
                <a:t>Packet Traff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17"/>
            <a:stretch/>
          </p:blipFill>
          <p:spPr>
            <a:xfrm>
              <a:off x="6400800" y="3429000"/>
              <a:ext cx="51912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0" name=""/>
          <p:cNvGrpSpPr/>
          <p:nvPr/>
        </p:nvGrpSpPr>
        <p:grpSpPr>
          <a:xfrm>
            <a:off x="4146480" y="914400"/>
            <a:ext cx="3606840" cy="2678040"/>
            <a:chOff x="4146480" y="914400"/>
            <a:chExt cx="3606840" cy="2678040"/>
          </a:xfrm>
        </p:grpSpPr>
        <p:sp>
          <p:nvSpPr>
            <p:cNvPr id="171" name=""/>
            <p:cNvSpPr/>
            <p:nvPr/>
          </p:nvSpPr>
          <p:spPr>
            <a:xfrm flipH="1">
              <a:off x="5600880" y="2286000"/>
              <a:ext cx="38088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4146480" y="914400"/>
              <a:ext cx="3606840" cy="2678040"/>
              <a:chOff x="4146480" y="914400"/>
              <a:chExt cx="3606840" cy="2678040"/>
            </a:xfrm>
          </p:grpSpPr>
          <p:sp>
            <p:nvSpPr>
              <p:cNvPr id="173" name=""/>
              <p:cNvSpPr/>
              <p:nvPr/>
            </p:nvSpPr>
            <p:spPr>
              <a:xfrm>
                <a:off x="4146480" y="1498680"/>
                <a:ext cx="3606840" cy="100332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151600" y="914400"/>
                <a:ext cx="24685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Arial"/>
                  </a:rPr>
                  <a:t>Internet Customer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990000"/>
                    </a:solidFill>
                    <a:latin typeface="Arial"/>
                  </a:rPr>
                  <a:t>Care Cent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419720" y="2362320"/>
                <a:ext cx="182880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noAutofit/>
              </a:bodyPr>
              <a:p>
                <a:pPr marL="114480" indent="-1144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twork Mgm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4480" indent="-1144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uthoriz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4480" indent="-1144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uthentic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058080" y="2362320"/>
                <a:ext cx="160020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noAutofit/>
              </a:bodyPr>
              <a:p>
                <a:pPr marL="114480" indent="-1144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Bill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4480" indent="-1144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ustomer Ca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4480" indent="-1144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ata Min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4381560" y="1676520"/>
                <a:ext cx="2971800" cy="608040"/>
                <a:chOff x="4381560" y="1676520"/>
                <a:chExt cx="2971800" cy="608040"/>
              </a:xfrm>
            </p:grpSpPr>
            <p:sp>
              <p:nvSpPr>
                <p:cNvPr id="178" name=""/>
                <p:cNvSpPr/>
                <p:nvPr/>
              </p:nvSpPr>
              <p:spPr>
                <a:xfrm flipV="1">
                  <a:off x="4570560" y="2049840"/>
                  <a:ext cx="0" cy="188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9" name=""/>
                <p:cNvGrpSpPr/>
                <p:nvPr/>
              </p:nvGrpSpPr>
              <p:grpSpPr>
                <a:xfrm>
                  <a:off x="4426200" y="1797120"/>
                  <a:ext cx="257040" cy="254160"/>
                  <a:chOff x="4426200" y="1797120"/>
                  <a:chExt cx="257040" cy="25416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>
                    <a:off x="4426200" y="1797120"/>
                    <a:ext cx="257040" cy="254160"/>
                  </a:xfrm>
                  <a:custGeom>
                    <a:avLst/>
                    <a:gdLst/>
                    <a:ahLst/>
                    <a:rect l="l" t="t" r="r" b="b"/>
                    <a:pathLst>
                      <a:path w="596" h="595">
                        <a:moveTo>
                          <a:pt x="298" y="0"/>
                        </a:moveTo>
                        <a:lnTo>
                          <a:pt x="238" y="1"/>
                        </a:lnTo>
                        <a:lnTo>
                          <a:pt x="209" y="4"/>
                        </a:lnTo>
                        <a:lnTo>
                          <a:pt x="181" y="6"/>
                        </a:lnTo>
                        <a:lnTo>
                          <a:pt x="155" y="9"/>
                        </a:lnTo>
                        <a:lnTo>
                          <a:pt x="132" y="12"/>
                        </a:lnTo>
                        <a:lnTo>
                          <a:pt x="108" y="17"/>
                        </a:lnTo>
                        <a:lnTo>
                          <a:pt x="87" y="22"/>
                        </a:lnTo>
                        <a:lnTo>
                          <a:pt x="68" y="27"/>
                        </a:lnTo>
                        <a:lnTo>
                          <a:pt x="51" y="33"/>
                        </a:lnTo>
                        <a:lnTo>
                          <a:pt x="36" y="38"/>
                        </a:lnTo>
                        <a:lnTo>
                          <a:pt x="24" y="46"/>
                        </a:lnTo>
                        <a:lnTo>
                          <a:pt x="14" y="52"/>
                        </a:lnTo>
                        <a:lnTo>
                          <a:pt x="6" y="60"/>
                        </a:lnTo>
                        <a:lnTo>
                          <a:pt x="1" y="67"/>
                        </a:lnTo>
                        <a:lnTo>
                          <a:pt x="0" y="74"/>
                        </a:lnTo>
                        <a:lnTo>
                          <a:pt x="0" y="521"/>
                        </a:lnTo>
                        <a:lnTo>
                          <a:pt x="1" y="528"/>
                        </a:lnTo>
                        <a:lnTo>
                          <a:pt x="6" y="536"/>
                        </a:lnTo>
                        <a:lnTo>
                          <a:pt x="14" y="543"/>
                        </a:lnTo>
                        <a:lnTo>
                          <a:pt x="24" y="549"/>
                        </a:lnTo>
                        <a:lnTo>
                          <a:pt x="36" y="557"/>
                        </a:lnTo>
                        <a:lnTo>
                          <a:pt x="51" y="563"/>
                        </a:lnTo>
                        <a:lnTo>
                          <a:pt x="68" y="568"/>
                        </a:lnTo>
                        <a:lnTo>
                          <a:pt x="87" y="573"/>
                        </a:lnTo>
                        <a:lnTo>
                          <a:pt x="108" y="578"/>
                        </a:lnTo>
                        <a:lnTo>
                          <a:pt x="132" y="583"/>
                        </a:lnTo>
                        <a:lnTo>
                          <a:pt x="155" y="587"/>
                        </a:lnTo>
                        <a:lnTo>
                          <a:pt x="181" y="589"/>
                        </a:lnTo>
                        <a:lnTo>
                          <a:pt x="209" y="592"/>
                        </a:lnTo>
                        <a:lnTo>
                          <a:pt x="238" y="594"/>
                        </a:lnTo>
                        <a:lnTo>
                          <a:pt x="298" y="595"/>
                        </a:lnTo>
                        <a:lnTo>
                          <a:pt x="359" y="594"/>
                        </a:lnTo>
                        <a:lnTo>
                          <a:pt x="387" y="592"/>
                        </a:lnTo>
                        <a:lnTo>
                          <a:pt x="415" y="589"/>
                        </a:lnTo>
                        <a:lnTo>
                          <a:pt x="441" y="587"/>
                        </a:lnTo>
                        <a:lnTo>
                          <a:pt x="464" y="583"/>
                        </a:lnTo>
                        <a:lnTo>
                          <a:pt x="488" y="578"/>
                        </a:lnTo>
                        <a:lnTo>
                          <a:pt x="509" y="573"/>
                        </a:lnTo>
                        <a:lnTo>
                          <a:pt x="528" y="568"/>
                        </a:lnTo>
                        <a:lnTo>
                          <a:pt x="545" y="563"/>
                        </a:lnTo>
                        <a:lnTo>
                          <a:pt x="560" y="557"/>
                        </a:lnTo>
                        <a:lnTo>
                          <a:pt x="572" y="549"/>
                        </a:lnTo>
                        <a:lnTo>
                          <a:pt x="582" y="543"/>
                        </a:lnTo>
                        <a:lnTo>
                          <a:pt x="590" y="536"/>
                        </a:lnTo>
                        <a:lnTo>
                          <a:pt x="595" y="528"/>
                        </a:lnTo>
                        <a:lnTo>
                          <a:pt x="596" y="521"/>
                        </a:lnTo>
                        <a:lnTo>
                          <a:pt x="596" y="74"/>
                        </a:lnTo>
                        <a:lnTo>
                          <a:pt x="595" y="67"/>
                        </a:lnTo>
                        <a:lnTo>
                          <a:pt x="590" y="60"/>
                        </a:lnTo>
                        <a:lnTo>
                          <a:pt x="582" y="52"/>
                        </a:lnTo>
                        <a:lnTo>
                          <a:pt x="572" y="46"/>
                        </a:lnTo>
                        <a:lnTo>
                          <a:pt x="560" y="38"/>
                        </a:lnTo>
                        <a:lnTo>
                          <a:pt x="545" y="33"/>
                        </a:lnTo>
                        <a:lnTo>
                          <a:pt x="528" y="27"/>
                        </a:lnTo>
                        <a:lnTo>
                          <a:pt x="509" y="22"/>
                        </a:lnTo>
                        <a:lnTo>
                          <a:pt x="488" y="17"/>
                        </a:lnTo>
                        <a:lnTo>
                          <a:pt x="464" y="12"/>
                        </a:lnTo>
                        <a:lnTo>
                          <a:pt x="441" y="9"/>
                        </a:lnTo>
                        <a:lnTo>
                          <a:pt x="415" y="6"/>
                        </a:lnTo>
                        <a:lnTo>
                          <a:pt x="387" y="4"/>
                        </a:lnTo>
                        <a:lnTo>
                          <a:pt x="359" y="1"/>
                        </a:lnTo>
                        <a:lnTo>
                          <a:pt x="298" y="0"/>
                        </a:lnTo>
                        <a:close/>
                      </a:path>
                    </a:pathLst>
                  </a:custGeom>
                  <a:solidFill>
                    <a:srgbClr val="ff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4426200" y="1797120"/>
                    <a:ext cx="25704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596" h="149">
                        <a:moveTo>
                          <a:pt x="0" y="74"/>
                        </a:moveTo>
                        <a:lnTo>
                          <a:pt x="1" y="82"/>
                        </a:lnTo>
                        <a:lnTo>
                          <a:pt x="6" y="89"/>
                        </a:lnTo>
                        <a:lnTo>
                          <a:pt x="14" y="97"/>
                        </a:lnTo>
                        <a:lnTo>
                          <a:pt x="24" y="103"/>
                        </a:lnTo>
                        <a:lnTo>
                          <a:pt x="36" y="110"/>
                        </a:lnTo>
                        <a:lnTo>
                          <a:pt x="51" y="117"/>
                        </a:lnTo>
                        <a:lnTo>
                          <a:pt x="68" y="122"/>
                        </a:lnTo>
                        <a:lnTo>
                          <a:pt x="87" y="126"/>
                        </a:lnTo>
                        <a:lnTo>
                          <a:pt x="108" y="131"/>
                        </a:lnTo>
                        <a:lnTo>
                          <a:pt x="132" y="136"/>
                        </a:lnTo>
                        <a:lnTo>
                          <a:pt x="155" y="140"/>
                        </a:lnTo>
                        <a:lnTo>
                          <a:pt x="181" y="143"/>
                        </a:lnTo>
                        <a:lnTo>
                          <a:pt x="209" y="145"/>
                        </a:lnTo>
                        <a:lnTo>
                          <a:pt x="238" y="148"/>
                        </a:lnTo>
                        <a:lnTo>
                          <a:pt x="298" y="149"/>
                        </a:lnTo>
                        <a:lnTo>
                          <a:pt x="359" y="148"/>
                        </a:lnTo>
                        <a:lnTo>
                          <a:pt x="387" y="145"/>
                        </a:lnTo>
                        <a:lnTo>
                          <a:pt x="415" y="143"/>
                        </a:lnTo>
                        <a:lnTo>
                          <a:pt x="441" y="140"/>
                        </a:lnTo>
                        <a:lnTo>
                          <a:pt x="464" y="136"/>
                        </a:lnTo>
                        <a:lnTo>
                          <a:pt x="488" y="131"/>
                        </a:lnTo>
                        <a:lnTo>
                          <a:pt x="509" y="126"/>
                        </a:lnTo>
                        <a:lnTo>
                          <a:pt x="528" y="122"/>
                        </a:lnTo>
                        <a:lnTo>
                          <a:pt x="545" y="117"/>
                        </a:lnTo>
                        <a:lnTo>
                          <a:pt x="560" y="110"/>
                        </a:lnTo>
                        <a:lnTo>
                          <a:pt x="572" y="103"/>
                        </a:lnTo>
                        <a:lnTo>
                          <a:pt x="582" y="97"/>
                        </a:lnTo>
                        <a:lnTo>
                          <a:pt x="590" y="89"/>
                        </a:lnTo>
                        <a:lnTo>
                          <a:pt x="595" y="82"/>
                        </a:lnTo>
                        <a:lnTo>
                          <a:pt x="596" y="74"/>
                        </a:lnTo>
                        <a:lnTo>
                          <a:pt x="595" y="67"/>
                        </a:lnTo>
                        <a:lnTo>
                          <a:pt x="590" y="60"/>
                        </a:lnTo>
                        <a:lnTo>
                          <a:pt x="582" y="52"/>
                        </a:lnTo>
                        <a:lnTo>
                          <a:pt x="572" y="46"/>
                        </a:lnTo>
                        <a:lnTo>
                          <a:pt x="560" y="38"/>
                        </a:lnTo>
                        <a:lnTo>
                          <a:pt x="545" y="33"/>
                        </a:lnTo>
                        <a:lnTo>
                          <a:pt x="528" y="27"/>
                        </a:lnTo>
                        <a:lnTo>
                          <a:pt x="509" y="22"/>
                        </a:lnTo>
                        <a:lnTo>
                          <a:pt x="488" y="17"/>
                        </a:lnTo>
                        <a:lnTo>
                          <a:pt x="464" y="12"/>
                        </a:lnTo>
                        <a:lnTo>
                          <a:pt x="441" y="9"/>
                        </a:lnTo>
                        <a:lnTo>
                          <a:pt x="415" y="6"/>
                        </a:lnTo>
                        <a:lnTo>
                          <a:pt x="387" y="4"/>
                        </a:lnTo>
                        <a:lnTo>
                          <a:pt x="359" y="1"/>
                        </a:lnTo>
                        <a:lnTo>
                          <a:pt x="298" y="0"/>
                        </a:lnTo>
                        <a:lnTo>
                          <a:pt x="238" y="1"/>
                        </a:lnTo>
                        <a:lnTo>
                          <a:pt x="209" y="4"/>
                        </a:lnTo>
                        <a:lnTo>
                          <a:pt x="181" y="6"/>
                        </a:lnTo>
                        <a:lnTo>
                          <a:pt x="155" y="9"/>
                        </a:lnTo>
                        <a:lnTo>
                          <a:pt x="132" y="12"/>
                        </a:lnTo>
                        <a:lnTo>
                          <a:pt x="108" y="17"/>
                        </a:lnTo>
                        <a:lnTo>
                          <a:pt x="87" y="22"/>
                        </a:lnTo>
                        <a:lnTo>
                          <a:pt x="68" y="27"/>
                        </a:lnTo>
                        <a:lnTo>
                          <a:pt x="51" y="33"/>
                        </a:lnTo>
                        <a:lnTo>
                          <a:pt x="36" y="38"/>
                        </a:lnTo>
                        <a:lnTo>
                          <a:pt x="24" y="46"/>
                        </a:lnTo>
                        <a:lnTo>
                          <a:pt x="14" y="52"/>
                        </a:lnTo>
                        <a:lnTo>
                          <a:pt x="6" y="60"/>
                        </a:lnTo>
                        <a:lnTo>
                          <a:pt x="1" y="67"/>
                        </a:lnTo>
                        <a:lnTo>
                          <a:pt x="0" y="74"/>
                        </a:lnTo>
                        <a:close/>
                      </a:path>
                    </a:pathLst>
                  </a:custGeom>
                  <a:solidFill>
                    <a:srgbClr val="ffd6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4426200" y="1797120"/>
                    <a:ext cx="257040" cy="254160"/>
                  </a:xfrm>
                  <a:custGeom>
                    <a:avLst/>
                    <a:gdLst/>
                    <a:ahLst/>
                    <a:rect l="l" t="t" r="r" b="b"/>
                    <a:pathLst>
                      <a:path w="596" h="595">
                        <a:moveTo>
                          <a:pt x="298" y="0"/>
                        </a:moveTo>
                        <a:lnTo>
                          <a:pt x="238" y="1"/>
                        </a:lnTo>
                        <a:lnTo>
                          <a:pt x="209" y="4"/>
                        </a:lnTo>
                        <a:lnTo>
                          <a:pt x="181" y="6"/>
                        </a:lnTo>
                        <a:lnTo>
                          <a:pt x="155" y="9"/>
                        </a:lnTo>
                        <a:lnTo>
                          <a:pt x="132" y="12"/>
                        </a:lnTo>
                        <a:lnTo>
                          <a:pt x="108" y="17"/>
                        </a:lnTo>
                        <a:lnTo>
                          <a:pt x="87" y="22"/>
                        </a:lnTo>
                        <a:lnTo>
                          <a:pt x="68" y="27"/>
                        </a:lnTo>
                        <a:lnTo>
                          <a:pt x="51" y="33"/>
                        </a:lnTo>
                        <a:lnTo>
                          <a:pt x="36" y="38"/>
                        </a:lnTo>
                        <a:lnTo>
                          <a:pt x="24" y="46"/>
                        </a:lnTo>
                        <a:lnTo>
                          <a:pt x="14" y="52"/>
                        </a:lnTo>
                        <a:lnTo>
                          <a:pt x="6" y="60"/>
                        </a:lnTo>
                        <a:lnTo>
                          <a:pt x="1" y="67"/>
                        </a:lnTo>
                        <a:lnTo>
                          <a:pt x="0" y="74"/>
                        </a:lnTo>
                        <a:lnTo>
                          <a:pt x="0" y="521"/>
                        </a:lnTo>
                        <a:lnTo>
                          <a:pt x="1" y="528"/>
                        </a:lnTo>
                        <a:lnTo>
                          <a:pt x="6" y="536"/>
                        </a:lnTo>
                        <a:lnTo>
                          <a:pt x="14" y="543"/>
                        </a:lnTo>
                        <a:lnTo>
                          <a:pt x="24" y="549"/>
                        </a:lnTo>
                        <a:lnTo>
                          <a:pt x="36" y="557"/>
                        </a:lnTo>
                        <a:lnTo>
                          <a:pt x="51" y="563"/>
                        </a:lnTo>
                        <a:lnTo>
                          <a:pt x="68" y="568"/>
                        </a:lnTo>
                        <a:lnTo>
                          <a:pt x="87" y="573"/>
                        </a:lnTo>
                        <a:lnTo>
                          <a:pt x="108" y="578"/>
                        </a:lnTo>
                        <a:lnTo>
                          <a:pt x="132" y="583"/>
                        </a:lnTo>
                        <a:lnTo>
                          <a:pt x="155" y="587"/>
                        </a:lnTo>
                        <a:lnTo>
                          <a:pt x="181" y="589"/>
                        </a:lnTo>
                        <a:lnTo>
                          <a:pt x="209" y="592"/>
                        </a:lnTo>
                        <a:lnTo>
                          <a:pt x="238" y="594"/>
                        </a:lnTo>
                        <a:lnTo>
                          <a:pt x="298" y="595"/>
                        </a:lnTo>
                        <a:lnTo>
                          <a:pt x="359" y="594"/>
                        </a:lnTo>
                        <a:lnTo>
                          <a:pt x="387" y="592"/>
                        </a:lnTo>
                        <a:lnTo>
                          <a:pt x="415" y="589"/>
                        </a:lnTo>
                        <a:lnTo>
                          <a:pt x="441" y="587"/>
                        </a:lnTo>
                        <a:lnTo>
                          <a:pt x="464" y="583"/>
                        </a:lnTo>
                        <a:lnTo>
                          <a:pt x="488" y="578"/>
                        </a:lnTo>
                        <a:lnTo>
                          <a:pt x="509" y="573"/>
                        </a:lnTo>
                        <a:lnTo>
                          <a:pt x="528" y="568"/>
                        </a:lnTo>
                        <a:lnTo>
                          <a:pt x="545" y="563"/>
                        </a:lnTo>
                        <a:lnTo>
                          <a:pt x="560" y="557"/>
                        </a:lnTo>
                        <a:lnTo>
                          <a:pt x="572" y="549"/>
                        </a:lnTo>
                        <a:lnTo>
                          <a:pt x="582" y="543"/>
                        </a:lnTo>
                        <a:lnTo>
                          <a:pt x="590" y="536"/>
                        </a:lnTo>
                        <a:lnTo>
                          <a:pt x="595" y="528"/>
                        </a:lnTo>
                        <a:lnTo>
                          <a:pt x="596" y="521"/>
                        </a:lnTo>
                        <a:lnTo>
                          <a:pt x="596" y="74"/>
                        </a:lnTo>
                        <a:lnTo>
                          <a:pt x="595" y="67"/>
                        </a:lnTo>
                        <a:lnTo>
                          <a:pt x="590" y="60"/>
                        </a:lnTo>
                        <a:lnTo>
                          <a:pt x="582" y="52"/>
                        </a:lnTo>
                        <a:lnTo>
                          <a:pt x="572" y="46"/>
                        </a:lnTo>
                        <a:lnTo>
                          <a:pt x="560" y="38"/>
                        </a:lnTo>
                        <a:lnTo>
                          <a:pt x="545" y="33"/>
                        </a:lnTo>
                        <a:lnTo>
                          <a:pt x="528" y="27"/>
                        </a:lnTo>
                        <a:lnTo>
                          <a:pt x="509" y="22"/>
                        </a:lnTo>
                        <a:lnTo>
                          <a:pt x="488" y="17"/>
                        </a:lnTo>
                        <a:lnTo>
                          <a:pt x="464" y="12"/>
                        </a:lnTo>
                        <a:lnTo>
                          <a:pt x="441" y="9"/>
                        </a:lnTo>
                        <a:lnTo>
                          <a:pt x="415" y="6"/>
                        </a:lnTo>
                        <a:lnTo>
                          <a:pt x="387" y="4"/>
                        </a:lnTo>
                        <a:lnTo>
                          <a:pt x="359" y="1"/>
                        </a:lnTo>
                        <a:lnTo>
                          <a:pt x="298" y="0"/>
                        </a:lnTo>
                        <a:close/>
                      </a:path>
                    </a:pathLst>
                  </a:custGeom>
                  <a:noFill/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4426200" y="1827720"/>
                    <a:ext cx="2570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6" h="75">
                        <a:moveTo>
                          <a:pt x="0" y="0"/>
                        </a:moveTo>
                        <a:lnTo>
                          <a:pt x="1" y="8"/>
                        </a:lnTo>
                        <a:lnTo>
                          <a:pt x="6" y="15"/>
                        </a:lnTo>
                        <a:lnTo>
                          <a:pt x="14" y="23"/>
                        </a:lnTo>
                        <a:lnTo>
                          <a:pt x="24" y="29"/>
                        </a:lnTo>
                        <a:lnTo>
                          <a:pt x="36" y="36"/>
                        </a:lnTo>
                        <a:lnTo>
                          <a:pt x="51" y="43"/>
                        </a:lnTo>
                        <a:lnTo>
                          <a:pt x="68" y="48"/>
                        </a:lnTo>
                        <a:lnTo>
                          <a:pt x="87" y="52"/>
                        </a:lnTo>
                        <a:lnTo>
                          <a:pt x="108" y="57"/>
                        </a:lnTo>
                        <a:lnTo>
                          <a:pt x="132" y="62"/>
                        </a:lnTo>
                        <a:lnTo>
                          <a:pt x="155" y="66"/>
                        </a:lnTo>
                        <a:lnTo>
                          <a:pt x="181" y="69"/>
                        </a:lnTo>
                        <a:lnTo>
                          <a:pt x="209" y="71"/>
                        </a:lnTo>
                        <a:lnTo>
                          <a:pt x="238" y="74"/>
                        </a:lnTo>
                        <a:lnTo>
                          <a:pt x="298" y="75"/>
                        </a:lnTo>
                        <a:lnTo>
                          <a:pt x="359" y="74"/>
                        </a:lnTo>
                        <a:lnTo>
                          <a:pt x="387" y="71"/>
                        </a:lnTo>
                        <a:lnTo>
                          <a:pt x="415" y="69"/>
                        </a:lnTo>
                        <a:lnTo>
                          <a:pt x="441" y="66"/>
                        </a:lnTo>
                        <a:lnTo>
                          <a:pt x="464" y="62"/>
                        </a:lnTo>
                        <a:lnTo>
                          <a:pt x="488" y="57"/>
                        </a:lnTo>
                        <a:lnTo>
                          <a:pt x="509" y="52"/>
                        </a:lnTo>
                        <a:lnTo>
                          <a:pt x="528" y="48"/>
                        </a:lnTo>
                        <a:lnTo>
                          <a:pt x="545" y="43"/>
                        </a:lnTo>
                        <a:lnTo>
                          <a:pt x="560" y="36"/>
                        </a:lnTo>
                        <a:lnTo>
                          <a:pt x="572" y="29"/>
                        </a:lnTo>
                        <a:lnTo>
                          <a:pt x="582" y="23"/>
                        </a:lnTo>
                        <a:lnTo>
                          <a:pt x="590" y="15"/>
                        </a:lnTo>
                        <a:lnTo>
                          <a:pt x="595" y="8"/>
                        </a:lnTo>
                        <a:lnTo>
                          <a:pt x="596" y="0"/>
                        </a:lnTo>
                      </a:path>
                    </a:pathLst>
                  </a:custGeom>
                  <a:noFill/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4915080" y="1676520"/>
                  <a:ext cx="365040" cy="608040"/>
                  <a:chOff x="4915080" y="1676520"/>
                  <a:chExt cx="365040" cy="60804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5067360" y="2057760"/>
                    <a:ext cx="2520" cy="226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82440" rIns="82440" tIns="41040" bIns="41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8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915080" y="1676520"/>
                    <a:ext cx="365040" cy="489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b2b2b2"/>
                    </a:outerShdw>
                  </a:effectLst>
                </p:spPr>
              </p:pic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5372280" y="1676520"/>
                  <a:ext cx="365040" cy="608040"/>
                  <a:chOff x="5372280" y="1676520"/>
                  <a:chExt cx="365040" cy="60804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5524560" y="2057760"/>
                    <a:ext cx="2520" cy="226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82440" rIns="82440" tIns="41040" bIns="41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89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372280" y="1676520"/>
                    <a:ext cx="365040" cy="489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b2b2b2"/>
                    </a:outerShdw>
                  </a:effectLst>
                </p:spPr>
              </p:pic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6058080" y="1676520"/>
                  <a:ext cx="365040" cy="608040"/>
                  <a:chOff x="6058080" y="1676520"/>
                  <a:chExt cx="365040" cy="60804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6210360" y="2057760"/>
                    <a:ext cx="2520" cy="226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82440" rIns="82440" tIns="41040" bIns="41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58080" y="1676520"/>
                    <a:ext cx="365040" cy="489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b2b2b2"/>
                    </a:outerShdw>
                  </a:effectLst>
                </p:spPr>
              </p:pic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6515280" y="1676520"/>
                  <a:ext cx="365040" cy="608040"/>
                  <a:chOff x="6515280" y="1676520"/>
                  <a:chExt cx="365040" cy="60804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6667560" y="2057760"/>
                    <a:ext cx="2520" cy="226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82440" rIns="82440" tIns="41040" bIns="41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5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515280" y="1676520"/>
                    <a:ext cx="365040" cy="489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b2b2b2"/>
                    </a:outerShdw>
                  </a:effectLst>
                </p:spPr>
              </p:pic>
            </p:grpSp>
            <p:grpSp>
              <p:nvGrpSpPr>
                <p:cNvPr id="196" name=""/>
                <p:cNvGrpSpPr/>
                <p:nvPr/>
              </p:nvGrpSpPr>
              <p:grpSpPr>
                <a:xfrm>
                  <a:off x="6972480" y="1676520"/>
                  <a:ext cx="365040" cy="608040"/>
                  <a:chOff x="6972480" y="1676520"/>
                  <a:chExt cx="365040" cy="60804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7124760" y="2057760"/>
                    <a:ext cx="2520" cy="226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82440" rIns="82440" tIns="41040" bIns="41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972480" y="1676520"/>
                    <a:ext cx="365040" cy="489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b2b2b2"/>
                    </a:outerShdw>
                  </a:effectLst>
                </p:spPr>
              </p:pic>
            </p:grpSp>
            <p:sp>
              <p:nvSpPr>
                <p:cNvPr id="199" name=""/>
                <p:cNvSpPr/>
                <p:nvPr/>
              </p:nvSpPr>
              <p:spPr>
                <a:xfrm>
                  <a:off x="4381560" y="2259360"/>
                  <a:ext cx="29718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4648320" y="990720"/>
                <a:ext cx="457200" cy="380880"/>
                <a:chOff x="4648320" y="990720"/>
                <a:chExt cx="457200" cy="38088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4648320" y="990720"/>
                  <a:ext cx="457200" cy="380880"/>
                </a:xfrm>
                <a:prstGeom prst="ellipse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726440" y="99072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03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5410080" y="3200400"/>
                <a:ext cx="398520" cy="392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2690640"/>
            <a:ext cx="9144000" cy="547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9760" y="298080"/>
            <a:ext cx="8618400" cy="38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7680" y="1625760"/>
            <a:ext cx="86187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reless Internet Off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limpse of the Fu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5734080" y="272880"/>
            <a:ext cx="3409920" cy="2409840"/>
            <a:chOff x="5734080" y="272880"/>
            <a:chExt cx="3409920" cy="2409840"/>
          </a:xfrm>
        </p:grpSpPr>
        <p:sp>
          <p:nvSpPr>
            <p:cNvPr id="208" name=""/>
            <p:cNvSpPr/>
            <p:nvPr/>
          </p:nvSpPr>
          <p:spPr>
            <a:xfrm>
              <a:off x="6715080" y="2328840"/>
              <a:ext cx="328680" cy="2919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05680" y="2389320"/>
              <a:ext cx="328680" cy="2934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0" name="tower" descr=""/>
            <p:cNvPicPr/>
            <p:nvPr/>
          </p:nvPicPr>
          <p:blipFill>
            <a:blip r:embed="rId1"/>
            <a:stretch/>
          </p:blipFill>
          <p:spPr>
            <a:xfrm>
              <a:off x="7175520" y="2419200"/>
              <a:ext cx="22068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961320" y="1436760"/>
              <a:ext cx="981000" cy="226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75320" y="1360440"/>
              <a:ext cx="1946160" cy="40500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  <a:effectLst>
              <a:outerShdw dist="52300" dir="4563564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46840" y="1390680"/>
              <a:ext cx="117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0000"/>
                  </a:solidFill>
                  <a:latin typeface="Arial"/>
                </a:rPr>
                <a:t>Managed Packet W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70440" y="730080"/>
              <a:ext cx="1455840" cy="3938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41960" y="425520"/>
              <a:ext cx="87804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0000"/>
                  </a:solidFill>
                  <a:latin typeface="Arial"/>
                </a:rPr>
                <a:t>IP Services Intran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87920" y="960480"/>
              <a:ext cx="122400" cy="40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34080" y="988920"/>
              <a:ext cx="93816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noAutofit/>
            </a:bodyPr>
            <a:p>
              <a:pPr marL="114480" indent="-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all Server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obility Management Server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19640" y="1355760"/>
              <a:ext cx="6462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noAutofit/>
            </a:bodyPr>
            <a:p>
              <a:pPr marL="114480" indent="-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outers/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witch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5933880" y="725400"/>
              <a:ext cx="1200240" cy="232920"/>
              <a:chOff x="5933880" y="725400"/>
              <a:chExt cx="1200240" cy="232920"/>
            </a:xfrm>
          </p:grpSpPr>
          <p:sp>
            <p:nvSpPr>
              <p:cNvPr id="220" name=""/>
              <p:cNvSpPr/>
              <p:nvPr/>
            </p:nvSpPr>
            <p:spPr>
              <a:xfrm flipV="1">
                <a:off x="6010200" y="868320"/>
                <a:ext cx="0" cy="7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5951880" y="771480"/>
                <a:ext cx="103680" cy="97560"/>
                <a:chOff x="5951880" y="771480"/>
                <a:chExt cx="103680" cy="9756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5951880" y="771480"/>
                  <a:ext cx="103680" cy="97560"/>
                </a:xfrm>
                <a:custGeom>
                  <a:avLst/>
                  <a:gdLst/>
                  <a:ahLst/>
                  <a:rect l="l" t="t" r="r" b="b"/>
                  <a:pathLst>
                    <a:path w="596" h="595">
                      <a:moveTo>
                        <a:pt x="298" y="0"/>
                      </a:moveTo>
                      <a:lnTo>
                        <a:pt x="238" y="1"/>
                      </a:lnTo>
                      <a:lnTo>
                        <a:pt x="209" y="4"/>
                      </a:lnTo>
                      <a:lnTo>
                        <a:pt x="181" y="6"/>
                      </a:lnTo>
                      <a:lnTo>
                        <a:pt x="155" y="9"/>
                      </a:lnTo>
                      <a:lnTo>
                        <a:pt x="132" y="12"/>
                      </a:lnTo>
                      <a:lnTo>
                        <a:pt x="108" y="17"/>
                      </a:lnTo>
                      <a:lnTo>
                        <a:pt x="87" y="22"/>
                      </a:lnTo>
                      <a:lnTo>
                        <a:pt x="68" y="27"/>
                      </a:lnTo>
                      <a:lnTo>
                        <a:pt x="51" y="33"/>
                      </a:lnTo>
                      <a:lnTo>
                        <a:pt x="36" y="38"/>
                      </a:lnTo>
                      <a:lnTo>
                        <a:pt x="24" y="46"/>
                      </a:lnTo>
                      <a:lnTo>
                        <a:pt x="14" y="52"/>
                      </a:lnTo>
                      <a:lnTo>
                        <a:pt x="6" y="60"/>
                      </a:lnTo>
                      <a:lnTo>
                        <a:pt x="1" y="67"/>
                      </a:lnTo>
                      <a:lnTo>
                        <a:pt x="0" y="74"/>
                      </a:lnTo>
                      <a:lnTo>
                        <a:pt x="0" y="521"/>
                      </a:lnTo>
                      <a:lnTo>
                        <a:pt x="1" y="528"/>
                      </a:lnTo>
                      <a:lnTo>
                        <a:pt x="6" y="536"/>
                      </a:lnTo>
                      <a:lnTo>
                        <a:pt x="14" y="543"/>
                      </a:lnTo>
                      <a:lnTo>
                        <a:pt x="24" y="549"/>
                      </a:lnTo>
                      <a:lnTo>
                        <a:pt x="36" y="557"/>
                      </a:lnTo>
                      <a:lnTo>
                        <a:pt x="51" y="563"/>
                      </a:lnTo>
                      <a:lnTo>
                        <a:pt x="68" y="568"/>
                      </a:lnTo>
                      <a:lnTo>
                        <a:pt x="87" y="573"/>
                      </a:lnTo>
                      <a:lnTo>
                        <a:pt x="108" y="578"/>
                      </a:lnTo>
                      <a:lnTo>
                        <a:pt x="132" y="583"/>
                      </a:lnTo>
                      <a:lnTo>
                        <a:pt x="155" y="587"/>
                      </a:lnTo>
                      <a:lnTo>
                        <a:pt x="181" y="589"/>
                      </a:lnTo>
                      <a:lnTo>
                        <a:pt x="209" y="592"/>
                      </a:lnTo>
                      <a:lnTo>
                        <a:pt x="238" y="594"/>
                      </a:lnTo>
                      <a:lnTo>
                        <a:pt x="298" y="595"/>
                      </a:lnTo>
                      <a:lnTo>
                        <a:pt x="359" y="594"/>
                      </a:lnTo>
                      <a:lnTo>
                        <a:pt x="387" y="592"/>
                      </a:lnTo>
                      <a:lnTo>
                        <a:pt x="415" y="589"/>
                      </a:lnTo>
                      <a:lnTo>
                        <a:pt x="441" y="587"/>
                      </a:lnTo>
                      <a:lnTo>
                        <a:pt x="464" y="583"/>
                      </a:lnTo>
                      <a:lnTo>
                        <a:pt x="488" y="578"/>
                      </a:lnTo>
                      <a:lnTo>
                        <a:pt x="509" y="573"/>
                      </a:lnTo>
                      <a:lnTo>
                        <a:pt x="528" y="568"/>
                      </a:lnTo>
                      <a:lnTo>
                        <a:pt x="545" y="563"/>
                      </a:lnTo>
                      <a:lnTo>
                        <a:pt x="560" y="557"/>
                      </a:lnTo>
                      <a:lnTo>
                        <a:pt x="572" y="549"/>
                      </a:lnTo>
                      <a:lnTo>
                        <a:pt x="582" y="543"/>
                      </a:lnTo>
                      <a:lnTo>
                        <a:pt x="590" y="536"/>
                      </a:lnTo>
                      <a:lnTo>
                        <a:pt x="595" y="528"/>
                      </a:lnTo>
                      <a:lnTo>
                        <a:pt x="596" y="521"/>
                      </a:lnTo>
                      <a:lnTo>
                        <a:pt x="596" y="74"/>
                      </a:lnTo>
                      <a:lnTo>
                        <a:pt x="595" y="67"/>
                      </a:lnTo>
                      <a:lnTo>
                        <a:pt x="590" y="60"/>
                      </a:lnTo>
                      <a:lnTo>
                        <a:pt x="582" y="52"/>
                      </a:lnTo>
                      <a:lnTo>
                        <a:pt x="572" y="46"/>
                      </a:lnTo>
                      <a:lnTo>
                        <a:pt x="560" y="38"/>
                      </a:lnTo>
                      <a:lnTo>
                        <a:pt x="545" y="33"/>
                      </a:lnTo>
                      <a:lnTo>
                        <a:pt x="528" y="27"/>
                      </a:lnTo>
                      <a:lnTo>
                        <a:pt x="509" y="22"/>
                      </a:lnTo>
                      <a:lnTo>
                        <a:pt x="488" y="17"/>
                      </a:lnTo>
                      <a:lnTo>
                        <a:pt x="464" y="12"/>
                      </a:lnTo>
                      <a:lnTo>
                        <a:pt x="441" y="9"/>
                      </a:lnTo>
                      <a:lnTo>
                        <a:pt x="415" y="6"/>
                      </a:lnTo>
                      <a:lnTo>
                        <a:pt x="387" y="4"/>
                      </a:lnTo>
                      <a:lnTo>
                        <a:pt x="359" y="1"/>
                      </a:lnTo>
                      <a:lnTo>
                        <a:pt x="298" y="0"/>
                      </a:lnTo>
                      <a:close/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951880" y="771480"/>
                  <a:ext cx="103680" cy="24120"/>
                </a:xfrm>
                <a:custGeom>
                  <a:avLst/>
                  <a:gdLst/>
                  <a:ahLst/>
                  <a:rect l="l" t="t" r="r" b="b"/>
                  <a:pathLst>
                    <a:path w="596" h="149">
                      <a:moveTo>
                        <a:pt x="0" y="74"/>
                      </a:moveTo>
                      <a:lnTo>
                        <a:pt x="1" y="82"/>
                      </a:lnTo>
                      <a:lnTo>
                        <a:pt x="6" y="89"/>
                      </a:lnTo>
                      <a:lnTo>
                        <a:pt x="14" y="97"/>
                      </a:lnTo>
                      <a:lnTo>
                        <a:pt x="24" y="103"/>
                      </a:lnTo>
                      <a:lnTo>
                        <a:pt x="36" y="110"/>
                      </a:lnTo>
                      <a:lnTo>
                        <a:pt x="51" y="117"/>
                      </a:lnTo>
                      <a:lnTo>
                        <a:pt x="68" y="122"/>
                      </a:lnTo>
                      <a:lnTo>
                        <a:pt x="87" y="126"/>
                      </a:lnTo>
                      <a:lnTo>
                        <a:pt x="108" y="131"/>
                      </a:lnTo>
                      <a:lnTo>
                        <a:pt x="132" y="136"/>
                      </a:lnTo>
                      <a:lnTo>
                        <a:pt x="155" y="140"/>
                      </a:lnTo>
                      <a:lnTo>
                        <a:pt x="181" y="143"/>
                      </a:lnTo>
                      <a:lnTo>
                        <a:pt x="209" y="145"/>
                      </a:lnTo>
                      <a:lnTo>
                        <a:pt x="238" y="148"/>
                      </a:lnTo>
                      <a:lnTo>
                        <a:pt x="298" y="149"/>
                      </a:lnTo>
                      <a:lnTo>
                        <a:pt x="359" y="148"/>
                      </a:lnTo>
                      <a:lnTo>
                        <a:pt x="387" y="145"/>
                      </a:lnTo>
                      <a:lnTo>
                        <a:pt x="415" y="143"/>
                      </a:lnTo>
                      <a:lnTo>
                        <a:pt x="441" y="140"/>
                      </a:lnTo>
                      <a:lnTo>
                        <a:pt x="464" y="136"/>
                      </a:lnTo>
                      <a:lnTo>
                        <a:pt x="488" y="131"/>
                      </a:lnTo>
                      <a:lnTo>
                        <a:pt x="509" y="126"/>
                      </a:lnTo>
                      <a:lnTo>
                        <a:pt x="528" y="122"/>
                      </a:lnTo>
                      <a:lnTo>
                        <a:pt x="545" y="117"/>
                      </a:lnTo>
                      <a:lnTo>
                        <a:pt x="560" y="110"/>
                      </a:lnTo>
                      <a:lnTo>
                        <a:pt x="572" y="103"/>
                      </a:lnTo>
                      <a:lnTo>
                        <a:pt x="582" y="97"/>
                      </a:lnTo>
                      <a:lnTo>
                        <a:pt x="590" y="89"/>
                      </a:lnTo>
                      <a:lnTo>
                        <a:pt x="595" y="82"/>
                      </a:lnTo>
                      <a:lnTo>
                        <a:pt x="596" y="74"/>
                      </a:lnTo>
                      <a:lnTo>
                        <a:pt x="595" y="67"/>
                      </a:lnTo>
                      <a:lnTo>
                        <a:pt x="590" y="60"/>
                      </a:lnTo>
                      <a:lnTo>
                        <a:pt x="582" y="52"/>
                      </a:lnTo>
                      <a:lnTo>
                        <a:pt x="572" y="46"/>
                      </a:lnTo>
                      <a:lnTo>
                        <a:pt x="560" y="38"/>
                      </a:lnTo>
                      <a:lnTo>
                        <a:pt x="545" y="33"/>
                      </a:lnTo>
                      <a:lnTo>
                        <a:pt x="528" y="27"/>
                      </a:lnTo>
                      <a:lnTo>
                        <a:pt x="509" y="22"/>
                      </a:lnTo>
                      <a:lnTo>
                        <a:pt x="488" y="17"/>
                      </a:lnTo>
                      <a:lnTo>
                        <a:pt x="464" y="12"/>
                      </a:lnTo>
                      <a:lnTo>
                        <a:pt x="441" y="9"/>
                      </a:lnTo>
                      <a:lnTo>
                        <a:pt x="415" y="6"/>
                      </a:lnTo>
                      <a:lnTo>
                        <a:pt x="387" y="4"/>
                      </a:lnTo>
                      <a:lnTo>
                        <a:pt x="359" y="1"/>
                      </a:lnTo>
                      <a:lnTo>
                        <a:pt x="298" y="0"/>
                      </a:lnTo>
                      <a:lnTo>
                        <a:pt x="238" y="1"/>
                      </a:lnTo>
                      <a:lnTo>
                        <a:pt x="209" y="4"/>
                      </a:lnTo>
                      <a:lnTo>
                        <a:pt x="181" y="6"/>
                      </a:lnTo>
                      <a:lnTo>
                        <a:pt x="155" y="9"/>
                      </a:lnTo>
                      <a:lnTo>
                        <a:pt x="132" y="12"/>
                      </a:lnTo>
                      <a:lnTo>
                        <a:pt x="108" y="17"/>
                      </a:lnTo>
                      <a:lnTo>
                        <a:pt x="87" y="22"/>
                      </a:lnTo>
                      <a:lnTo>
                        <a:pt x="68" y="27"/>
                      </a:lnTo>
                      <a:lnTo>
                        <a:pt x="51" y="33"/>
                      </a:lnTo>
                      <a:lnTo>
                        <a:pt x="36" y="38"/>
                      </a:lnTo>
                      <a:lnTo>
                        <a:pt x="24" y="46"/>
                      </a:lnTo>
                      <a:lnTo>
                        <a:pt x="14" y="52"/>
                      </a:lnTo>
                      <a:lnTo>
                        <a:pt x="6" y="60"/>
                      </a:lnTo>
                      <a:lnTo>
                        <a:pt x="1" y="67"/>
                      </a:lnTo>
                      <a:lnTo>
                        <a:pt x="0" y="74"/>
                      </a:lnTo>
                      <a:close/>
                    </a:path>
                  </a:pathLst>
                </a:custGeom>
                <a:solidFill>
                  <a:srgbClr val="ffd6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951880" y="771480"/>
                  <a:ext cx="103680" cy="97560"/>
                </a:xfrm>
                <a:custGeom>
                  <a:avLst/>
                  <a:gdLst/>
                  <a:ahLst/>
                  <a:rect l="l" t="t" r="r" b="b"/>
                  <a:pathLst>
                    <a:path w="596" h="595">
                      <a:moveTo>
                        <a:pt x="298" y="0"/>
                      </a:moveTo>
                      <a:lnTo>
                        <a:pt x="238" y="1"/>
                      </a:lnTo>
                      <a:lnTo>
                        <a:pt x="209" y="4"/>
                      </a:lnTo>
                      <a:lnTo>
                        <a:pt x="181" y="6"/>
                      </a:lnTo>
                      <a:lnTo>
                        <a:pt x="155" y="9"/>
                      </a:lnTo>
                      <a:lnTo>
                        <a:pt x="132" y="12"/>
                      </a:lnTo>
                      <a:lnTo>
                        <a:pt x="108" y="17"/>
                      </a:lnTo>
                      <a:lnTo>
                        <a:pt x="87" y="22"/>
                      </a:lnTo>
                      <a:lnTo>
                        <a:pt x="68" y="27"/>
                      </a:lnTo>
                      <a:lnTo>
                        <a:pt x="51" y="33"/>
                      </a:lnTo>
                      <a:lnTo>
                        <a:pt x="36" y="38"/>
                      </a:lnTo>
                      <a:lnTo>
                        <a:pt x="24" y="46"/>
                      </a:lnTo>
                      <a:lnTo>
                        <a:pt x="14" y="52"/>
                      </a:lnTo>
                      <a:lnTo>
                        <a:pt x="6" y="60"/>
                      </a:lnTo>
                      <a:lnTo>
                        <a:pt x="1" y="67"/>
                      </a:lnTo>
                      <a:lnTo>
                        <a:pt x="0" y="74"/>
                      </a:lnTo>
                      <a:lnTo>
                        <a:pt x="0" y="521"/>
                      </a:lnTo>
                      <a:lnTo>
                        <a:pt x="1" y="528"/>
                      </a:lnTo>
                      <a:lnTo>
                        <a:pt x="6" y="536"/>
                      </a:lnTo>
                      <a:lnTo>
                        <a:pt x="14" y="543"/>
                      </a:lnTo>
                      <a:lnTo>
                        <a:pt x="24" y="549"/>
                      </a:lnTo>
                      <a:lnTo>
                        <a:pt x="36" y="557"/>
                      </a:lnTo>
                      <a:lnTo>
                        <a:pt x="51" y="563"/>
                      </a:lnTo>
                      <a:lnTo>
                        <a:pt x="68" y="568"/>
                      </a:lnTo>
                      <a:lnTo>
                        <a:pt x="87" y="573"/>
                      </a:lnTo>
                      <a:lnTo>
                        <a:pt x="108" y="578"/>
                      </a:lnTo>
                      <a:lnTo>
                        <a:pt x="132" y="583"/>
                      </a:lnTo>
                      <a:lnTo>
                        <a:pt x="155" y="587"/>
                      </a:lnTo>
                      <a:lnTo>
                        <a:pt x="181" y="589"/>
                      </a:lnTo>
                      <a:lnTo>
                        <a:pt x="209" y="592"/>
                      </a:lnTo>
                      <a:lnTo>
                        <a:pt x="238" y="594"/>
                      </a:lnTo>
                      <a:lnTo>
                        <a:pt x="298" y="595"/>
                      </a:lnTo>
                      <a:lnTo>
                        <a:pt x="359" y="594"/>
                      </a:lnTo>
                      <a:lnTo>
                        <a:pt x="387" y="592"/>
                      </a:lnTo>
                      <a:lnTo>
                        <a:pt x="415" y="589"/>
                      </a:lnTo>
                      <a:lnTo>
                        <a:pt x="441" y="587"/>
                      </a:lnTo>
                      <a:lnTo>
                        <a:pt x="464" y="583"/>
                      </a:lnTo>
                      <a:lnTo>
                        <a:pt x="488" y="578"/>
                      </a:lnTo>
                      <a:lnTo>
                        <a:pt x="509" y="573"/>
                      </a:lnTo>
                      <a:lnTo>
                        <a:pt x="528" y="568"/>
                      </a:lnTo>
                      <a:lnTo>
                        <a:pt x="545" y="563"/>
                      </a:lnTo>
                      <a:lnTo>
                        <a:pt x="560" y="557"/>
                      </a:lnTo>
                      <a:lnTo>
                        <a:pt x="572" y="549"/>
                      </a:lnTo>
                      <a:lnTo>
                        <a:pt x="582" y="543"/>
                      </a:lnTo>
                      <a:lnTo>
                        <a:pt x="590" y="536"/>
                      </a:lnTo>
                      <a:lnTo>
                        <a:pt x="595" y="528"/>
                      </a:lnTo>
                      <a:lnTo>
                        <a:pt x="596" y="521"/>
                      </a:lnTo>
                      <a:lnTo>
                        <a:pt x="596" y="74"/>
                      </a:lnTo>
                      <a:lnTo>
                        <a:pt x="595" y="67"/>
                      </a:lnTo>
                      <a:lnTo>
                        <a:pt x="590" y="60"/>
                      </a:lnTo>
                      <a:lnTo>
                        <a:pt x="582" y="52"/>
                      </a:lnTo>
                      <a:lnTo>
                        <a:pt x="572" y="46"/>
                      </a:lnTo>
                      <a:lnTo>
                        <a:pt x="560" y="38"/>
                      </a:lnTo>
                      <a:lnTo>
                        <a:pt x="545" y="33"/>
                      </a:lnTo>
                      <a:lnTo>
                        <a:pt x="528" y="27"/>
                      </a:lnTo>
                      <a:lnTo>
                        <a:pt x="509" y="22"/>
                      </a:lnTo>
                      <a:lnTo>
                        <a:pt x="488" y="17"/>
                      </a:lnTo>
                      <a:lnTo>
                        <a:pt x="464" y="12"/>
                      </a:lnTo>
                      <a:lnTo>
                        <a:pt x="441" y="9"/>
                      </a:lnTo>
                      <a:lnTo>
                        <a:pt x="415" y="6"/>
                      </a:lnTo>
                      <a:lnTo>
                        <a:pt x="387" y="4"/>
                      </a:lnTo>
                      <a:lnTo>
                        <a:pt x="359" y="1"/>
                      </a:lnTo>
                      <a:lnTo>
                        <a:pt x="298" y="0"/>
                      </a:lnTo>
                      <a:close/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951880" y="783000"/>
                  <a:ext cx="103680" cy="12240"/>
                </a:xfrm>
                <a:custGeom>
                  <a:avLst/>
                  <a:gdLst/>
                  <a:ahLst/>
                  <a:rect l="l" t="t" r="r" b="b"/>
                  <a:pathLst>
                    <a:path w="596" h="75">
                      <a:moveTo>
                        <a:pt x="0" y="0"/>
                      </a:moveTo>
                      <a:lnTo>
                        <a:pt x="1" y="8"/>
                      </a:lnTo>
                      <a:lnTo>
                        <a:pt x="6" y="15"/>
                      </a:lnTo>
                      <a:lnTo>
                        <a:pt x="14" y="23"/>
                      </a:lnTo>
                      <a:lnTo>
                        <a:pt x="24" y="29"/>
                      </a:lnTo>
                      <a:lnTo>
                        <a:pt x="36" y="36"/>
                      </a:lnTo>
                      <a:lnTo>
                        <a:pt x="51" y="43"/>
                      </a:lnTo>
                      <a:lnTo>
                        <a:pt x="68" y="48"/>
                      </a:lnTo>
                      <a:lnTo>
                        <a:pt x="87" y="52"/>
                      </a:lnTo>
                      <a:lnTo>
                        <a:pt x="108" y="57"/>
                      </a:lnTo>
                      <a:lnTo>
                        <a:pt x="132" y="62"/>
                      </a:lnTo>
                      <a:lnTo>
                        <a:pt x="155" y="66"/>
                      </a:lnTo>
                      <a:lnTo>
                        <a:pt x="181" y="69"/>
                      </a:lnTo>
                      <a:lnTo>
                        <a:pt x="209" y="71"/>
                      </a:lnTo>
                      <a:lnTo>
                        <a:pt x="238" y="74"/>
                      </a:lnTo>
                      <a:lnTo>
                        <a:pt x="298" y="75"/>
                      </a:lnTo>
                      <a:lnTo>
                        <a:pt x="359" y="74"/>
                      </a:lnTo>
                      <a:lnTo>
                        <a:pt x="387" y="71"/>
                      </a:lnTo>
                      <a:lnTo>
                        <a:pt x="415" y="69"/>
                      </a:lnTo>
                      <a:lnTo>
                        <a:pt x="441" y="66"/>
                      </a:lnTo>
                      <a:lnTo>
                        <a:pt x="464" y="62"/>
                      </a:lnTo>
                      <a:lnTo>
                        <a:pt x="488" y="57"/>
                      </a:lnTo>
                      <a:lnTo>
                        <a:pt x="509" y="52"/>
                      </a:lnTo>
                      <a:lnTo>
                        <a:pt x="528" y="48"/>
                      </a:lnTo>
                      <a:lnTo>
                        <a:pt x="545" y="43"/>
                      </a:lnTo>
                      <a:lnTo>
                        <a:pt x="560" y="36"/>
                      </a:lnTo>
                      <a:lnTo>
                        <a:pt x="572" y="29"/>
                      </a:lnTo>
                      <a:lnTo>
                        <a:pt x="582" y="23"/>
                      </a:lnTo>
                      <a:lnTo>
                        <a:pt x="590" y="15"/>
                      </a:lnTo>
                      <a:lnTo>
                        <a:pt x="595" y="8"/>
                      </a:lnTo>
                      <a:lnTo>
                        <a:pt x="596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6149160" y="725400"/>
                <a:ext cx="147240" cy="232920"/>
                <a:chOff x="6149160" y="725400"/>
                <a:chExt cx="147240" cy="23292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6210720" y="871560"/>
                  <a:ext cx="108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040" bIns="41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2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149160" y="725400"/>
                  <a:ext cx="147240" cy="18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17819" dir="2700000" blurRad="0" rotWithShape="0">
                    <a:srgbClr val="b2b2b2"/>
                  </a:outerShdw>
                </a:effectLst>
              </p:spPr>
            </p:pic>
          </p:grpSp>
          <p:grpSp>
            <p:nvGrpSpPr>
              <p:cNvPr id="229" name=""/>
              <p:cNvGrpSpPr/>
              <p:nvPr/>
            </p:nvGrpSpPr>
            <p:grpSpPr>
              <a:xfrm>
                <a:off x="6333840" y="725400"/>
                <a:ext cx="147240" cy="232920"/>
                <a:chOff x="6333840" y="725400"/>
                <a:chExt cx="147240" cy="23292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6395400" y="871560"/>
                  <a:ext cx="108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040" bIns="41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3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333840" y="725400"/>
                  <a:ext cx="147240" cy="18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17819" dir="2700000" blurRad="0" rotWithShape="0">
                    <a:srgbClr val="b2b2b2"/>
                  </a:outerShdw>
                </a:effectLst>
              </p:spPr>
            </p:pic>
          </p:grpSp>
          <p:grpSp>
            <p:nvGrpSpPr>
              <p:cNvPr id="232" name=""/>
              <p:cNvGrpSpPr/>
              <p:nvPr/>
            </p:nvGrpSpPr>
            <p:grpSpPr>
              <a:xfrm>
                <a:off x="6611040" y="725400"/>
                <a:ext cx="147240" cy="232920"/>
                <a:chOff x="6611040" y="725400"/>
                <a:chExt cx="147240" cy="2329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6672600" y="871560"/>
                  <a:ext cx="108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040" bIns="41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3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611040" y="725400"/>
                  <a:ext cx="147240" cy="18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17819" dir="2700000" blurRad="0" rotWithShape="0">
                    <a:srgbClr val="b2b2b2"/>
                  </a:outerShdw>
                </a:effectLst>
              </p:spPr>
            </p:pic>
          </p:grpSp>
          <p:grpSp>
            <p:nvGrpSpPr>
              <p:cNvPr id="235" name=""/>
              <p:cNvGrpSpPr/>
              <p:nvPr/>
            </p:nvGrpSpPr>
            <p:grpSpPr>
              <a:xfrm>
                <a:off x="6795720" y="725400"/>
                <a:ext cx="147240" cy="232920"/>
                <a:chOff x="6795720" y="725400"/>
                <a:chExt cx="147240" cy="23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857280" y="871560"/>
                  <a:ext cx="108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040" bIns="41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3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95720" y="725400"/>
                  <a:ext cx="147240" cy="18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17819" dir="2700000" blurRad="0" rotWithShape="0">
                    <a:srgbClr val="b2b2b2"/>
                  </a:outerShdw>
                </a:effectLst>
              </p:spPr>
            </p:pic>
          </p:grpSp>
          <p:grpSp>
            <p:nvGrpSpPr>
              <p:cNvPr id="238" name=""/>
              <p:cNvGrpSpPr/>
              <p:nvPr/>
            </p:nvGrpSpPr>
            <p:grpSpPr>
              <a:xfrm>
                <a:off x="6980400" y="725400"/>
                <a:ext cx="147240" cy="232920"/>
                <a:chOff x="6980400" y="725400"/>
                <a:chExt cx="147240" cy="23292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7041960" y="871560"/>
                  <a:ext cx="108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040" bIns="41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4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980400" y="725400"/>
                  <a:ext cx="147240" cy="18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17819" dir="2700000" blurRad="0" rotWithShape="0">
                    <a:srgbClr val="b2b2b2"/>
                  </a:outerShdw>
                </a:effectLst>
              </p:spPr>
            </p:pic>
          </p:grpSp>
          <p:sp>
            <p:nvSpPr>
              <p:cNvPr id="241" name=""/>
              <p:cNvSpPr/>
              <p:nvPr/>
            </p:nvSpPr>
            <p:spPr>
              <a:xfrm>
                <a:off x="5933880" y="948960"/>
                <a:ext cx="1200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5880240" y="463680"/>
              <a:ext cx="183960" cy="14580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854320" y="4302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7"/>
            <a:stretch/>
          </p:blipFill>
          <p:spPr>
            <a:xfrm>
              <a:off x="6534000" y="1341360"/>
              <a:ext cx="160560" cy="1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6580080" y="988920"/>
              <a:ext cx="708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noAutofit/>
            </a:bodyPr>
            <a:p>
              <a:pPr marL="114480" indent="-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pplication Server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32640" y="2265480"/>
              <a:ext cx="328680" cy="2934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8"/>
            <a:stretch/>
          </p:blipFill>
          <p:spPr>
            <a:xfrm>
              <a:off x="6256440" y="2192400"/>
              <a:ext cx="347400" cy="272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a0a0a0"/>
              </a:outerShdw>
            </a:effectLst>
          </p:spPr>
        </p:pic>
        <p:pic>
          <p:nvPicPr>
            <p:cNvPr id="248" name="phone" descr=""/>
            <p:cNvPicPr/>
            <p:nvPr/>
          </p:nvPicPr>
          <p:blipFill>
            <a:blip r:embed="rId9"/>
            <a:stretch/>
          </p:blipFill>
          <p:spPr>
            <a:xfrm>
              <a:off x="6164280" y="1811520"/>
              <a:ext cx="345960" cy="3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tower" descr=""/>
            <p:cNvPicPr/>
            <p:nvPr/>
          </p:nvPicPr>
          <p:blipFill>
            <a:blip r:embed="rId10"/>
            <a:stretch/>
          </p:blipFill>
          <p:spPr>
            <a:xfrm>
              <a:off x="6769080" y="2303640"/>
              <a:ext cx="220680" cy="2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tower" descr=""/>
            <p:cNvPicPr/>
            <p:nvPr/>
          </p:nvPicPr>
          <p:blipFill>
            <a:blip r:embed="rId11"/>
            <a:stretch/>
          </p:blipFill>
          <p:spPr>
            <a:xfrm>
              <a:off x="7586640" y="2292480"/>
              <a:ext cx="22068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7893000" y="2328840"/>
              <a:ext cx="184320" cy="14616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67440" y="22906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01080" y="2287440"/>
              <a:ext cx="68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0000"/>
                  </a:solidFill>
                  <a:latin typeface="Arial"/>
                </a:rPr>
                <a:t>Wideband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0000"/>
                  </a:solidFill>
                  <a:latin typeface="Arial"/>
                </a:rPr>
                <a:t>Radi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6949800" y="1839960"/>
              <a:ext cx="291960" cy="52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34280" y="1839960"/>
              <a:ext cx="323640" cy="5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88200" y="1839960"/>
              <a:ext cx="0" cy="53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7" name="sm_box" descr=""/>
            <p:cNvPicPr/>
            <p:nvPr/>
          </p:nvPicPr>
          <p:blipFill>
            <a:blip r:embed="rId12"/>
            <a:srcRect l="10000" t="0" r="0" b="0"/>
            <a:stretch/>
          </p:blipFill>
          <p:spPr>
            <a:xfrm>
              <a:off x="7196040" y="1692360"/>
              <a:ext cx="200160" cy="21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6559560" y="1770120"/>
              <a:ext cx="646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0000"/>
                  </a:solidFill>
                  <a:latin typeface="Arial"/>
                </a:rPr>
                <a:t>Wireless Access Gatewa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08840" y="1682640"/>
              <a:ext cx="183960" cy="14616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983280" y="16398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13"/>
            <a:stretch/>
          </p:blipFill>
          <p:spPr>
            <a:xfrm>
              <a:off x="7389720" y="1717560"/>
              <a:ext cx="160560" cy="1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cloud1" descr=""/>
            <p:cNvPicPr/>
            <p:nvPr/>
          </p:nvPicPr>
          <p:blipFill>
            <a:blip r:embed="rId14">
              <a:lum bright="24000"/>
            </a:blip>
            <a:stretch/>
          </p:blipFill>
          <p:spPr>
            <a:xfrm>
              <a:off x="8267760" y="1417680"/>
              <a:ext cx="876240" cy="4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8479800" y="1563840"/>
              <a:ext cx="58320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8c008c"/>
                  </a:solidFill>
                  <a:latin typeface="Arial"/>
                </a:rPr>
                <a:t>PSTN &amp; 2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8c008c"/>
                  </a:solidFill>
                  <a:latin typeface="Arial"/>
                </a:rPr>
                <a:t>Wireles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15"/>
            <a:srcRect l="17925" t="19316" r="15934" b="9658"/>
            <a:stretch/>
          </p:blipFill>
          <p:spPr>
            <a:xfrm>
              <a:off x="8132760" y="1574640"/>
              <a:ext cx="244440" cy="2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7675560" y="1779480"/>
              <a:ext cx="646200" cy="1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0000"/>
                  </a:solidFill>
                  <a:latin typeface="Arial"/>
                </a:rPr>
                <a:t>Circuit Gatewa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929360" y="1587600"/>
              <a:ext cx="184320" cy="14580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916760" y="15382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8" name="cloud1" descr=""/>
            <p:cNvPicPr/>
            <p:nvPr/>
          </p:nvPicPr>
          <p:blipFill>
            <a:blip r:embed="rId16">
              <a:lum bright="24000"/>
            </a:blip>
            <a:stretch/>
          </p:blipFill>
          <p:spPr>
            <a:xfrm>
              <a:off x="8242200" y="1047600"/>
              <a:ext cx="876240" cy="4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8430840" y="1150920"/>
              <a:ext cx="6836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8c008c"/>
                  </a:solidFill>
                  <a:latin typeface="Arial"/>
                </a:rPr>
                <a:t>Internet &amp;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8c008c"/>
                  </a:solidFill>
                  <a:latin typeface="Arial"/>
                </a:rPr>
                <a:t>Packet Traff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17"/>
            <a:stretch/>
          </p:blipFill>
          <p:spPr>
            <a:xfrm>
              <a:off x="8164440" y="1400040"/>
              <a:ext cx="209520" cy="1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 flipH="1">
              <a:off x="7842240" y="958680"/>
              <a:ext cx="15408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254720" y="657360"/>
              <a:ext cx="1457280" cy="3855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61160" y="272880"/>
              <a:ext cx="997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0000"/>
                  </a:solidFill>
                  <a:latin typeface="Arial"/>
                </a:rPr>
                <a:t>Internet Customer</a:t>
              </a:r>
              <a:br>
                <a:rPr sz="800"/>
              </a:br>
              <a:r>
                <a:rPr b="1" lang="en-US" sz="800" spc="-1" strike="noStrike">
                  <a:solidFill>
                    <a:srgbClr val="990000"/>
                  </a:solidFill>
                  <a:latin typeface="Arial"/>
                </a:rPr>
                <a:t>Care Cen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64520" y="988920"/>
              <a:ext cx="73980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noAutofit/>
            </a:bodyPr>
            <a:p>
              <a:pPr marL="114480" indent="-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etwork Mgm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uthoriza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uthentica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26200" y="988920"/>
              <a:ext cx="64800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noAutofit/>
            </a:bodyPr>
            <a:p>
              <a:pPr marL="114480" indent="-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Bill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 Car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ata Min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426440" y="867960"/>
              <a:ext cx="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367400" y="771480"/>
              <a:ext cx="104760" cy="98640"/>
            </a:xfrm>
            <a:custGeom>
              <a:avLst/>
              <a:gdLst/>
              <a:ahLst/>
              <a:rect l="l" t="t" r="r" b="b"/>
              <a:pathLst>
                <a:path w="596" h="595">
                  <a:moveTo>
                    <a:pt x="298" y="0"/>
                  </a:moveTo>
                  <a:lnTo>
                    <a:pt x="238" y="1"/>
                  </a:lnTo>
                  <a:lnTo>
                    <a:pt x="209" y="4"/>
                  </a:lnTo>
                  <a:lnTo>
                    <a:pt x="181" y="6"/>
                  </a:lnTo>
                  <a:lnTo>
                    <a:pt x="155" y="9"/>
                  </a:lnTo>
                  <a:lnTo>
                    <a:pt x="132" y="12"/>
                  </a:lnTo>
                  <a:lnTo>
                    <a:pt x="108" y="17"/>
                  </a:lnTo>
                  <a:lnTo>
                    <a:pt x="87" y="22"/>
                  </a:lnTo>
                  <a:lnTo>
                    <a:pt x="68" y="27"/>
                  </a:lnTo>
                  <a:lnTo>
                    <a:pt x="51" y="33"/>
                  </a:lnTo>
                  <a:lnTo>
                    <a:pt x="36" y="38"/>
                  </a:lnTo>
                  <a:lnTo>
                    <a:pt x="24" y="46"/>
                  </a:lnTo>
                  <a:lnTo>
                    <a:pt x="14" y="52"/>
                  </a:lnTo>
                  <a:lnTo>
                    <a:pt x="6" y="60"/>
                  </a:lnTo>
                  <a:lnTo>
                    <a:pt x="1" y="67"/>
                  </a:lnTo>
                  <a:lnTo>
                    <a:pt x="0" y="74"/>
                  </a:lnTo>
                  <a:lnTo>
                    <a:pt x="0" y="521"/>
                  </a:lnTo>
                  <a:lnTo>
                    <a:pt x="1" y="528"/>
                  </a:lnTo>
                  <a:lnTo>
                    <a:pt x="6" y="536"/>
                  </a:lnTo>
                  <a:lnTo>
                    <a:pt x="14" y="543"/>
                  </a:lnTo>
                  <a:lnTo>
                    <a:pt x="24" y="549"/>
                  </a:lnTo>
                  <a:lnTo>
                    <a:pt x="36" y="557"/>
                  </a:lnTo>
                  <a:lnTo>
                    <a:pt x="51" y="563"/>
                  </a:lnTo>
                  <a:lnTo>
                    <a:pt x="68" y="568"/>
                  </a:lnTo>
                  <a:lnTo>
                    <a:pt x="87" y="573"/>
                  </a:lnTo>
                  <a:lnTo>
                    <a:pt x="108" y="578"/>
                  </a:lnTo>
                  <a:lnTo>
                    <a:pt x="132" y="583"/>
                  </a:lnTo>
                  <a:lnTo>
                    <a:pt x="155" y="587"/>
                  </a:lnTo>
                  <a:lnTo>
                    <a:pt x="181" y="589"/>
                  </a:lnTo>
                  <a:lnTo>
                    <a:pt x="209" y="592"/>
                  </a:lnTo>
                  <a:lnTo>
                    <a:pt x="238" y="594"/>
                  </a:lnTo>
                  <a:lnTo>
                    <a:pt x="298" y="595"/>
                  </a:lnTo>
                  <a:lnTo>
                    <a:pt x="359" y="594"/>
                  </a:lnTo>
                  <a:lnTo>
                    <a:pt x="387" y="592"/>
                  </a:lnTo>
                  <a:lnTo>
                    <a:pt x="415" y="589"/>
                  </a:lnTo>
                  <a:lnTo>
                    <a:pt x="441" y="587"/>
                  </a:lnTo>
                  <a:lnTo>
                    <a:pt x="464" y="583"/>
                  </a:lnTo>
                  <a:lnTo>
                    <a:pt x="488" y="578"/>
                  </a:lnTo>
                  <a:lnTo>
                    <a:pt x="509" y="573"/>
                  </a:lnTo>
                  <a:lnTo>
                    <a:pt x="528" y="568"/>
                  </a:lnTo>
                  <a:lnTo>
                    <a:pt x="545" y="563"/>
                  </a:lnTo>
                  <a:lnTo>
                    <a:pt x="560" y="557"/>
                  </a:lnTo>
                  <a:lnTo>
                    <a:pt x="572" y="549"/>
                  </a:lnTo>
                  <a:lnTo>
                    <a:pt x="582" y="543"/>
                  </a:lnTo>
                  <a:lnTo>
                    <a:pt x="590" y="536"/>
                  </a:lnTo>
                  <a:lnTo>
                    <a:pt x="595" y="528"/>
                  </a:lnTo>
                  <a:lnTo>
                    <a:pt x="596" y="521"/>
                  </a:lnTo>
                  <a:lnTo>
                    <a:pt x="596" y="74"/>
                  </a:lnTo>
                  <a:lnTo>
                    <a:pt x="595" y="67"/>
                  </a:lnTo>
                  <a:lnTo>
                    <a:pt x="590" y="60"/>
                  </a:lnTo>
                  <a:lnTo>
                    <a:pt x="582" y="52"/>
                  </a:lnTo>
                  <a:lnTo>
                    <a:pt x="572" y="46"/>
                  </a:lnTo>
                  <a:lnTo>
                    <a:pt x="560" y="38"/>
                  </a:lnTo>
                  <a:lnTo>
                    <a:pt x="545" y="33"/>
                  </a:lnTo>
                  <a:lnTo>
                    <a:pt x="528" y="27"/>
                  </a:lnTo>
                  <a:lnTo>
                    <a:pt x="509" y="22"/>
                  </a:lnTo>
                  <a:lnTo>
                    <a:pt x="488" y="17"/>
                  </a:lnTo>
                  <a:lnTo>
                    <a:pt x="464" y="12"/>
                  </a:lnTo>
                  <a:lnTo>
                    <a:pt x="441" y="9"/>
                  </a:lnTo>
                  <a:lnTo>
                    <a:pt x="415" y="6"/>
                  </a:lnTo>
                  <a:lnTo>
                    <a:pt x="387" y="4"/>
                  </a:lnTo>
                  <a:lnTo>
                    <a:pt x="359" y="1"/>
                  </a:lnTo>
                  <a:lnTo>
                    <a:pt x="298" y="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367400" y="771480"/>
              <a:ext cx="104760" cy="23760"/>
            </a:xfrm>
            <a:custGeom>
              <a:avLst/>
              <a:gdLst/>
              <a:ahLst/>
              <a:rect l="l" t="t" r="r" b="b"/>
              <a:pathLst>
                <a:path w="596" h="149">
                  <a:moveTo>
                    <a:pt x="0" y="74"/>
                  </a:moveTo>
                  <a:lnTo>
                    <a:pt x="1" y="82"/>
                  </a:lnTo>
                  <a:lnTo>
                    <a:pt x="6" y="89"/>
                  </a:lnTo>
                  <a:lnTo>
                    <a:pt x="14" y="97"/>
                  </a:lnTo>
                  <a:lnTo>
                    <a:pt x="24" y="103"/>
                  </a:lnTo>
                  <a:lnTo>
                    <a:pt x="36" y="110"/>
                  </a:lnTo>
                  <a:lnTo>
                    <a:pt x="51" y="117"/>
                  </a:lnTo>
                  <a:lnTo>
                    <a:pt x="68" y="122"/>
                  </a:lnTo>
                  <a:lnTo>
                    <a:pt x="87" y="126"/>
                  </a:lnTo>
                  <a:lnTo>
                    <a:pt x="108" y="131"/>
                  </a:lnTo>
                  <a:lnTo>
                    <a:pt x="132" y="136"/>
                  </a:lnTo>
                  <a:lnTo>
                    <a:pt x="155" y="140"/>
                  </a:lnTo>
                  <a:lnTo>
                    <a:pt x="181" y="143"/>
                  </a:lnTo>
                  <a:lnTo>
                    <a:pt x="209" y="145"/>
                  </a:lnTo>
                  <a:lnTo>
                    <a:pt x="238" y="148"/>
                  </a:lnTo>
                  <a:lnTo>
                    <a:pt x="298" y="149"/>
                  </a:lnTo>
                  <a:lnTo>
                    <a:pt x="359" y="148"/>
                  </a:lnTo>
                  <a:lnTo>
                    <a:pt x="387" y="145"/>
                  </a:lnTo>
                  <a:lnTo>
                    <a:pt x="415" y="143"/>
                  </a:lnTo>
                  <a:lnTo>
                    <a:pt x="441" y="140"/>
                  </a:lnTo>
                  <a:lnTo>
                    <a:pt x="464" y="136"/>
                  </a:lnTo>
                  <a:lnTo>
                    <a:pt x="488" y="131"/>
                  </a:lnTo>
                  <a:lnTo>
                    <a:pt x="509" y="126"/>
                  </a:lnTo>
                  <a:lnTo>
                    <a:pt x="528" y="122"/>
                  </a:lnTo>
                  <a:lnTo>
                    <a:pt x="545" y="117"/>
                  </a:lnTo>
                  <a:lnTo>
                    <a:pt x="560" y="110"/>
                  </a:lnTo>
                  <a:lnTo>
                    <a:pt x="572" y="103"/>
                  </a:lnTo>
                  <a:lnTo>
                    <a:pt x="582" y="97"/>
                  </a:lnTo>
                  <a:lnTo>
                    <a:pt x="590" y="89"/>
                  </a:lnTo>
                  <a:lnTo>
                    <a:pt x="595" y="82"/>
                  </a:lnTo>
                  <a:lnTo>
                    <a:pt x="596" y="74"/>
                  </a:lnTo>
                  <a:lnTo>
                    <a:pt x="595" y="67"/>
                  </a:lnTo>
                  <a:lnTo>
                    <a:pt x="590" y="60"/>
                  </a:lnTo>
                  <a:lnTo>
                    <a:pt x="582" y="52"/>
                  </a:lnTo>
                  <a:lnTo>
                    <a:pt x="572" y="46"/>
                  </a:lnTo>
                  <a:lnTo>
                    <a:pt x="560" y="38"/>
                  </a:lnTo>
                  <a:lnTo>
                    <a:pt x="545" y="33"/>
                  </a:lnTo>
                  <a:lnTo>
                    <a:pt x="528" y="27"/>
                  </a:lnTo>
                  <a:lnTo>
                    <a:pt x="509" y="22"/>
                  </a:lnTo>
                  <a:lnTo>
                    <a:pt x="488" y="17"/>
                  </a:lnTo>
                  <a:lnTo>
                    <a:pt x="464" y="12"/>
                  </a:lnTo>
                  <a:lnTo>
                    <a:pt x="441" y="9"/>
                  </a:lnTo>
                  <a:lnTo>
                    <a:pt x="415" y="6"/>
                  </a:lnTo>
                  <a:lnTo>
                    <a:pt x="387" y="4"/>
                  </a:lnTo>
                  <a:lnTo>
                    <a:pt x="359" y="1"/>
                  </a:lnTo>
                  <a:lnTo>
                    <a:pt x="298" y="0"/>
                  </a:lnTo>
                  <a:lnTo>
                    <a:pt x="238" y="1"/>
                  </a:lnTo>
                  <a:lnTo>
                    <a:pt x="209" y="4"/>
                  </a:lnTo>
                  <a:lnTo>
                    <a:pt x="181" y="6"/>
                  </a:lnTo>
                  <a:lnTo>
                    <a:pt x="155" y="9"/>
                  </a:lnTo>
                  <a:lnTo>
                    <a:pt x="132" y="12"/>
                  </a:lnTo>
                  <a:lnTo>
                    <a:pt x="108" y="17"/>
                  </a:lnTo>
                  <a:lnTo>
                    <a:pt x="87" y="22"/>
                  </a:lnTo>
                  <a:lnTo>
                    <a:pt x="68" y="27"/>
                  </a:lnTo>
                  <a:lnTo>
                    <a:pt x="51" y="33"/>
                  </a:lnTo>
                  <a:lnTo>
                    <a:pt x="36" y="38"/>
                  </a:lnTo>
                  <a:lnTo>
                    <a:pt x="24" y="46"/>
                  </a:lnTo>
                  <a:lnTo>
                    <a:pt x="14" y="52"/>
                  </a:lnTo>
                  <a:lnTo>
                    <a:pt x="6" y="60"/>
                  </a:lnTo>
                  <a:lnTo>
                    <a:pt x="1" y="67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d6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367400" y="771480"/>
              <a:ext cx="104760" cy="98640"/>
            </a:xfrm>
            <a:custGeom>
              <a:avLst/>
              <a:gdLst/>
              <a:ahLst/>
              <a:rect l="l" t="t" r="r" b="b"/>
              <a:pathLst>
                <a:path w="596" h="595">
                  <a:moveTo>
                    <a:pt x="298" y="0"/>
                  </a:moveTo>
                  <a:lnTo>
                    <a:pt x="238" y="1"/>
                  </a:lnTo>
                  <a:lnTo>
                    <a:pt x="209" y="4"/>
                  </a:lnTo>
                  <a:lnTo>
                    <a:pt x="181" y="6"/>
                  </a:lnTo>
                  <a:lnTo>
                    <a:pt x="155" y="9"/>
                  </a:lnTo>
                  <a:lnTo>
                    <a:pt x="132" y="12"/>
                  </a:lnTo>
                  <a:lnTo>
                    <a:pt x="108" y="17"/>
                  </a:lnTo>
                  <a:lnTo>
                    <a:pt x="87" y="22"/>
                  </a:lnTo>
                  <a:lnTo>
                    <a:pt x="68" y="27"/>
                  </a:lnTo>
                  <a:lnTo>
                    <a:pt x="51" y="33"/>
                  </a:lnTo>
                  <a:lnTo>
                    <a:pt x="36" y="38"/>
                  </a:lnTo>
                  <a:lnTo>
                    <a:pt x="24" y="46"/>
                  </a:lnTo>
                  <a:lnTo>
                    <a:pt x="14" y="52"/>
                  </a:lnTo>
                  <a:lnTo>
                    <a:pt x="6" y="60"/>
                  </a:lnTo>
                  <a:lnTo>
                    <a:pt x="1" y="67"/>
                  </a:lnTo>
                  <a:lnTo>
                    <a:pt x="0" y="74"/>
                  </a:lnTo>
                  <a:lnTo>
                    <a:pt x="0" y="521"/>
                  </a:lnTo>
                  <a:lnTo>
                    <a:pt x="1" y="528"/>
                  </a:lnTo>
                  <a:lnTo>
                    <a:pt x="6" y="536"/>
                  </a:lnTo>
                  <a:lnTo>
                    <a:pt x="14" y="543"/>
                  </a:lnTo>
                  <a:lnTo>
                    <a:pt x="24" y="549"/>
                  </a:lnTo>
                  <a:lnTo>
                    <a:pt x="36" y="557"/>
                  </a:lnTo>
                  <a:lnTo>
                    <a:pt x="51" y="563"/>
                  </a:lnTo>
                  <a:lnTo>
                    <a:pt x="68" y="568"/>
                  </a:lnTo>
                  <a:lnTo>
                    <a:pt x="87" y="573"/>
                  </a:lnTo>
                  <a:lnTo>
                    <a:pt x="108" y="578"/>
                  </a:lnTo>
                  <a:lnTo>
                    <a:pt x="132" y="583"/>
                  </a:lnTo>
                  <a:lnTo>
                    <a:pt x="155" y="587"/>
                  </a:lnTo>
                  <a:lnTo>
                    <a:pt x="181" y="589"/>
                  </a:lnTo>
                  <a:lnTo>
                    <a:pt x="209" y="592"/>
                  </a:lnTo>
                  <a:lnTo>
                    <a:pt x="238" y="594"/>
                  </a:lnTo>
                  <a:lnTo>
                    <a:pt x="298" y="595"/>
                  </a:lnTo>
                  <a:lnTo>
                    <a:pt x="359" y="594"/>
                  </a:lnTo>
                  <a:lnTo>
                    <a:pt x="387" y="592"/>
                  </a:lnTo>
                  <a:lnTo>
                    <a:pt x="415" y="589"/>
                  </a:lnTo>
                  <a:lnTo>
                    <a:pt x="441" y="587"/>
                  </a:lnTo>
                  <a:lnTo>
                    <a:pt x="464" y="583"/>
                  </a:lnTo>
                  <a:lnTo>
                    <a:pt x="488" y="578"/>
                  </a:lnTo>
                  <a:lnTo>
                    <a:pt x="509" y="573"/>
                  </a:lnTo>
                  <a:lnTo>
                    <a:pt x="528" y="568"/>
                  </a:lnTo>
                  <a:lnTo>
                    <a:pt x="545" y="563"/>
                  </a:lnTo>
                  <a:lnTo>
                    <a:pt x="560" y="557"/>
                  </a:lnTo>
                  <a:lnTo>
                    <a:pt x="572" y="549"/>
                  </a:lnTo>
                  <a:lnTo>
                    <a:pt x="582" y="543"/>
                  </a:lnTo>
                  <a:lnTo>
                    <a:pt x="590" y="536"/>
                  </a:lnTo>
                  <a:lnTo>
                    <a:pt x="595" y="528"/>
                  </a:lnTo>
                  <a:lnTo>
                    <a:pt x="596" y="521"/>
                  </a:lnTo>
                  <a:lnTo>
                    <a:pt x="596" y="74"/>
                  </a:lnTo>
                  <a:lnTo>
                    <a:pt x="595" y="67"/>
                  </a:lnTo>
                  <a:lnTo>
                    <a:pt x="590" y="60"/>
                  </a:lnTo>
                  <a:lnTo>
                    <a:pt x="582" y="52"/>
                  </a:lnTo>
                  <a:lnTo>
                    <a:pt x="572" y="46"/>
                  </a:lnTo>
                  <a:lnTo>
                    <a:pt x="560" y="38"/>
                  </a:lnTo>
                  <a:lnTo>
                    <a:pt x="545" y="33"/>
                  </a:lnTo>
                  <a:lnTo>
                    <a:pt x="528" y="27"/>
                  </a:lnTo>
                  <a:lnTo>
                    <a:pt x="509" y="22"/>
                  </a:lnTo>
                  <a:lnTo>
                    <a:pt x="488" y="17"/>
                  </a:lnTo>
                  <a:lnTo>
                    <a:pt x="464" y="12"/>
                  </a:lnTo>
                  <a:lnTo>
                    <a:pt x="441" y="9"/>
                  </a:lnTo>
                  <a:lnTo>
                    <a:pt x="415" y="6"/>
                  </a:lnTo>
                  <a:lnTo>
                    <a:pt x="387" y="4"/>
                  </a:lnTo>
                  <a:lnTo>
                    <a:pt x="359" y="1"/>
                  </a:lnTo>
                  <a:lnTo>
                    <a:pt x="298" y="0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367400" y="784080"/>
              <a:ext cx="104760" cy="11160"/>
            </a:xfrm>
            <a:custGeom>
              <a:avLst/>
              <a:gdLst/>
              <a:ahLst/>
              <a:rect l="l" t="t" r="r" b="b"/>
              <a:pathLst>
                <a:path w="596" h="75">
                  <a:moveTo>
                    <a:pt x="0" y="0"/>
                  </a:moveTo>
                  <a:lnTo>
                    <a:pt x="1" y="8"/>
                  </a:lnTo>
                  <a:lnTo>
                    <a:pt x="6" y="15"/>
                  </a:lnTo>
                  <a:lnTo>
                    <a:pt x="14" y="23"/>
                  </a:lnTo>
                  <a:lnTo>
                    <a:pt x="24" y="29"/>
                  </a:lnTo>
                  <a:lnTo>
                    <a:pt x="36" y="36"/>
                  </a:lnTo>
                  <a:lnTo>
                    <a:pt x="51" y="43"/>
                  </a:lnTo>
                  <a:lnTo>
                    <a:pt x="68" y="48"/>
                  </a:lnTo>
                  <a:lnTo>
                    <a:pt x="87" y="52"/>
                  </a:lnTo>
                  <a:lnTo>
                    <a:pt x="108" y="57"/>
                  </a:lnTo>
                  <a:lnTo>
                    <a:pt x="132" y="62"/>
                  </a:lnTo>
                  <a:lnTo>
                    <a:pt x="155" y="66"/>
                  </a:lnTo>
                  <a:lnTo>
                    <a:pt x="181" y="69"/>
                  </a:lnTo>
                  <a:lnTo>
                    <a:pt x="209" y="71"/>
                  </a:lnTo>
                  <a:lnTo>
                    <a:pt x="238" y="74"/>
                  </a:lnTo>
                  <a:lnTo>
                    <a:pt x="298" y="75"/>
                  </a:lnTo>
                  <a:lnTo>
                    <a:pt x="359" y="74"/>
                  </a:lnTo>
                  <a:lnTo>
                    <a:pt x="387" y="71"/>
                  </a:lnTo>
                  <a:lnTo>
                    <a:pt x="415" y="69"/>
                  </a:lnTo>
                  <a:lnTo>
                    <a:pt x="441" y="66"/>
                  </a:lnTo>
                  <a:lnTo>
                    <a:pt x="464" y="62"/>
                  </a:lnTo>
                  <a:lnTo>
                    <a:pt x="488" y="57"/>
                  </a:lnTo>
                  <a:lnTo>
                    <a:pt x="509" y="52"/>
                  </a:lnTo>
                  <a:lnTo>
                    <a:pt x="528" y="48"/>
                  </a:lnTo>
                  <a:lnTo>
                    <a:pt x="545" y="43"/>
                  </a:lnTo>
                  <a:lnTo>
                    <a:pt x="560" y="36"/>
                  </a:lnTo>
                  <a:lnTo>
                    <a:pt x="572" y="29"/>
                  </a:lnTo>
                  <a:lnTo>
                    <a:pt x="582" y="23"/>
                  </a:lnTo>
                  <a:lnTo>
                    <a:pt x="590" y="15"/>
                  </a:lnTo>
                  <a:lnTo>
                    <a:pt x="595" y="8"/>
                  </a:lnTo>
                  <a:lnTo>
                    <a:pt x="596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628040" y="871560"/>
              <a:ext cx="144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2" name="" descr=""/>
            <p:cNvPicPr/>
            <p:nvPr/>
          </p:nvPicPr>
          <p:blipFill>
            <a:blip r:embed="rId18"/>
            <a:stretch/>
          </p:blipFill>
          <p:spPr>
            <a:xfrm>
              <a:off x="7566120" y="725400"/>
              <a:ext cx="147600" cy="1875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</p:pic>
        <p:sp>
          <p:nvSpPr>
            <p:cNvPr id="283" name=""/>
            <p:cNvSpPr/>
            <p:nvPr/>
          </p:nvSpPr>
          <p:spPr>
            <a:xfrm>
              <a:off x="7812000" y="871560"/>
              <a:ext cx="180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4" name="" descr=""/>
            <p:cNvPicPr/>
            <p:nvPr/>
          </p:nvPicPr>
          <p:blipFill>
            <a:blip r:embed="rId19"/>
            <a:stretch/>
          </p:blipFill>
          <p:spPr>
            <a:xfrm>
              <a:off x="7750080" y="725400"/>
              <a:ext cx="147600" cy="1875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</p:pic>
        <p:sp>
          <p:nvSpPr>
            <p:cNvPr id="285" name=""/>
            <p:cNvSpPr/>
            <p:nvPr/>
          </p:nvSpPr>
          <p:spPr>
            <a:xfrm>
              <a:off x="8088120" y="871560"/>
              <a:ext cx="180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20"/>
            <a:stretch/>
          </p:blipFill>
          <p:spPr>
            <a:xfrm>
              <a:off x="8026200" y="725400"/>
              <a:ext cx="147960" cy="1875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</p:pic>
        <p:sp>
          <p:nvSpPr>
            <p:cNvPr id="287" name=""/>
            <p:cNvSpPr/>
            <p:nvPr/>
          </p:nvSpPr>
          <p:spPr>
            <a:xfrm>
              <a:off x="8273880" y="871560"/>
              <a:ext cx="180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8" name="" descr=""/>
            <p:cNvPicPr/>
            <p:nvPr/>
          </p:nvPicPr>
          <p:blipFill>
            <a:blip r:embed="rId21"/>
            <a:stretch/>
          </p:blipFill>
          <p:spPr>
            <a:xfrm>
              <a:off x="8211960" y="725400"/>
              <a:ext cx="147960" cy="1875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</p:pic>
        <p:sp>
          <p:nvSpPr>
            <p:cNvPr id="289" name=""/>
            <p:cNvSpPr/>
            <p:nvPr/>
          </p:nvSpPr>
          <p:spPr>
            <a:xfrm>
              <a:off x="8458200" y="871560"/>
              <a:ext cx="144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0" name="" descr=""/>
            <p:cNvPicPr/>
            <p:nvPr/>
          </p:nvPicPr>
          <p:blipFill>
            <a:blip r:embed="rId22"/>
            <a:stretch/>
          </p:blipFill>
          <p:spPr>
            <a:xfrm>
              <a:off x="8396280" y="725400"/>
              <a:ext cx="147600" cy="1875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</p:pic>
        <p:sp>
          <p:nvSpPr>
            <p:cNvPr id="291" name=""/>
            <p:cNvSpPr/>
            <p:nvPr/>
          </p:nvSpPr>
          <p:spPr>
            <a:xfrm>
              <a:off x="7350120" y="949320"/>
              <a:ext cx="1200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458120" y="460440"/>
              <a:ext cx="183960" cy="14760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443720" y="4255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4" name="" descr=""/>
            <p:cNvPicPr/>
            <p:nvPr/>
          </p:nvPicPr>
          <p:blipFill>
            <a:blip r:embed="rId23"/>
            <a:stretch/>
          </p:blipFill>
          <p:spPr>
            <a:xfrm>
              <a:off x="7765920" y="1311120"/>
              <a:ext cx="160560" cy="15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"/>
          <p:cNvSpPr/>
          <p:nvPr/>
        </p:nvSpPr>
        <p:spPr>
          <a:xfrm>
            <a:off x="4143240" y="4572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48960" y="4178160"/>
            <a:ext cx="3704400" cy="448920"/>
          </a:xfrm>
          <a:prstGeom prst="rect">
            <a:avLst/>
          </a:prstGeom>
          <a:noFill/>
          <a:ln w="76320">
            <a:solidFill>
              <a:srgbClr val="3333ff"/>
            </a:solidFill>
            <a:miter/>
          </a:ln>
          <a:effectLst>
            <a:outerShdw dist="153753" dir="2700000" blurRad="0" rotWithShape="0">
              <a:srgbClr val="1e1e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Cost 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24360" y="5330880"/>
            <a:ext cx="1352520" cy="50976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39760" y="267840"/>
            <a:ext cx="8618400" cy="38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ompelling Offers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5208480" y="1768320"/>
            <a:ext cx="2732040" cy="227664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37680" y="1625760"/>
            <a:ext cx="455004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DM to packet core network cost reduction business cas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ndle with 2G/GPRS/1xRTT radi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ssport Voice Gateway or Succession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5575320" y="160200"/>
            <a:ext cx="3409920" cy="2409840"/>
            <a:chOff x="5575320" y="160200"/>
            <a:chExt cx="3409920" cy="2409840"/>
          </a:xfrm>
        </p:grpSpPr>
        <p:sp>
          <p:nvSpPr>
            <p:cNvPr id="302" name=""/>
            <p:cNvSpPr/>
            <p:nvPr/>
          </p:nvSpPr>
          <p:spPr>
            <a:xfrm>
              <a:off x="6556320" y="2216160"/>
              <a:ext cx="328680" cy="2919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46920" y="2276640"/>
              <a:ext cx="328680" cy="2934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4" name="tower" descr=""/>
            <p:cNvPicPr/>
            <p:nvPr/>
          </p:nvPicPr>
          <p:blipFill>
            <a:blip r:embed="rId1"/>
            <a:stretch/>
          </p:blipFill>
          <p:spPr>
            <a:xfrm>
              <a:off x="7016760" y="2306520"/>
              <a:ext cx="22068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6802560" y="1324080"/>
              <a:ext cx="981000" cy="226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316560" y="1247760"/>
              <a:ext cx="1946160" cy="40500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  <a:effectLst>
              <a:outerShdw dist="52300" dir="4563564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88080" y="1278000"/>
              <a:ext cx="117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0000"/>
                  </a:solidFill>
                  <a:latin typeface="Arial"/>
                </a:rPr>
                <a:t>Managed Packet W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611680" y="617400"/>
              <a:ext cx="1455840" cy="3938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83200" y="312840"/>
              <a:ext cx="87804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0000"/>
                  </a:solidFill>
                  <a:latin typeface="Arial"/>
                </a:rPr>
                <a:t>IP Servic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0000"/>
                  </a:solidFill>
                  <a:latin typeface="Arial"/>
                </a:rPr>
                <a:t>Intran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329160" y="847800"/>
              <a:ext cx="122400" cy="40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575320" y="876240"/>
              <a:ext cx="93816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noAutofit/>
            </a:bodyPr>
            <a:p>
              <a:pPr marL="114480" indent="-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all Server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obility Management Server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960880" y="1243080"/>
              <a:ext cx="6462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noAutofit/>
            </a:bodyPr>
            <a:p>
              <a:pPr marL="114480" indent="-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outers/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witch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5775120" y="612720"/>
              <a:ext cx="1200240" cy="232920"/>
              <a:chOff x="5775120" y="612720"/>
              <a:chExt cx="1200240" cy="232920"/>
            </a:xfrm>
          </p:grpSpPr>
          <p:sp>
            <p:nvSpPr>
              <p:cNvPr id="314" name=""/>
              <p:cNvSpPr/>
              <p:nvPr/>
            </p:nvSpPr>
            <p:spPr>
              <a:xfrm flipV="1">
                <a:off x="5851440" y="755640"/>
                <a:ext cx="0" cy="7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5" name=""/>
              <p:cNvGrpSpPr/>
              <p:nvPr/>
            </p:nvGrpSpPr>
            <p:grpSpPr>
              <a:xfrm>
                <a:off x="5793120" y="658800"/>
                <a:ext cx="103680" cy="97560"/>
                <a:chOff x="5793120" y="658800"/>
                <a:chExt cx="103680" cy="9756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793120" y="658800"/>
                  <a:ext cx="103680" cy="97560"/>
                </a:xfrm>
                <a:custGeom>
                  <a:avLst/>
                  <a:gdLst/>
                  <a:ahLst/>
                  <a:rect l="l" t="t" r="r" b="b"/>
                  <a:pathLst>
                    <a:path w="596" h="595">
                      <a:moveTo>
                        <a:pt x="298" y="0"/>
                      </a:moveTo>
                      <a:lnTo>
                        <a:pt x="238" y="1"/>
                      </a:lnTo>
                      <a:lnTo>
                        <a:pt x="209" y="4"/>
                      </a:lnTo>
                      <a:lnTo>
                        <a:pt x="181" y="6"/>
                      </a:lnTo>
                      <a:lnTo>
                        <a:pt x="155" y="9"/>
                      </a:lnTo>
                      <a:lnTo>
                        <a:pt x="132" y="12"/>
                      </a:lnTo>
                      <a:lnTo>
                        <a:pt x="108" y="17"/>
                      </a:lnTo>
                      <a:lnTo>
                        <a:pt x="87" y="22"/>
                      </a:lnTo>
                      <a:lnTo>
                        <a:pt x="68" y="27"/>
                      </a:lnTo>
                      <a:lnTo>
                        <a:pt x="51" y="33"/>
                      </a:lnTo>
                      <a:lnTo>
                        <a:pt x="36" y="38"/>
                      </a:lnTo>
                      <a:lnTo>
                        <a:pt x="24" y="46"/>
                      </a:lnTo>
                      <a:lnTo>
                        <a:pt x="14" y="52"/>
                      </a:lnTo>
                      <a:lnTo>
                        <a:pt x="6" y="60"/>
                      </a:lnTo>
                      <a:lnTo>
                        <a:pt x="1" y="67"/>
                      </a:lnTo>
                      <a:lnTo>
                        <a:pt x="0" y="74"/>
                      </a:lnTo>
                      <a:lnTo>
                        <a:pt x="0" y="521"/>
                      </a:lnTo>
                      <a:lnTo>
                        <a:pt x="1" y="528"/>
                      </a:lnTo>
                      <a:lnTo>
                        <a:pt x="6" y="536"/>
                      </a:lnTo>
                      <a:lnTo>
                        <a:pt x="14" y="543"/>
                      </a:lnTo>
                      <a:lnTo>
                        <a:pt x="24" y="549"/>
                      </a:lnTo>
                      <a:lnTo>
                        <a:pt x="36" y="557"/>
                      </a:lnTo>
                      <a:lnTo>
                        <a:pt x="51" y="563"/>
                      </a:lnTo>
                      <a:lnTo>
                        <a:pt x="68" y="568"/>
                      </a:lnTo>
                      <a:lnTo>
                        <a:pt x="87" y="573"/>
                      </a:lnTo>
                      <a:lnTo>
                        <a:pt x="108" y="578"/>
                      </a:lnTo>
                      <a:lnTo>
                        <a:pt x="132" y="583"/>
                      </a:lnTo>
                      <a:lnTo>
                        <a:pt x="155" y="587"/>
                      </a:lnTo>
                      <a:lnTo>
                        <a:pt x="181" y="589"/>
                      </a:lnTo>
                      <a:lnTo>
                        <a:pt x="209" y="592"/>
                      </a:lnTo>
                      <a:lnTo>
                        <a:pt x="238" y="594"/>
                      </a:lnTo>
                      <a:lnTo>
                        <a:pt x="298" y="595"/>
                      </a:lnTo>
                      <a:lnTo>
                        <a:pt x="359" y="594"/>
                      </a:lnTo>
                      <a:lnTo>
                        <a:pt x="387" y="592"/>
                      </a:lnTo>
                      <a:lnTo>
                        <a:pt x="415" y="589"/>
                      </a:lnTo>
                      <a:lnTo>
                        <a:pt x="441" y="587"/>
                      </a:lnTo>
                      <a:lnTo>
                        <a:pt x="464" y="583"/>
                      </a:lnTo>
                      <a:lnTo>
                        <a:pt x="488" y="578"/>
                      </a:lnTo>
                      <a:lnTo>
                        <a:pt x="509" y="573"/>
                      </a:lnTo>
                      <a:lnTo>
                        <a:pt x="528" y="568"/>
                      </a:lnTo>
                      <a:lnTo>
                        <a:pt x="545" y="563"/>
                      </a:lnTo>
                      <a:lnTo>
                        <a:pt x="560" y="557"/>
                      </a:lnTo>
                      <a:lnTo>
                        <a:pt x="572" y="549"/>
                      </a:lnTo>
                      <a:lnTo>
                        <a:pt x="582" y="543"/>
                      </a:lnTo>
                      <a:lnTo>
                        <a:pt x="590" y="536"/>
                      </a:lnTo>
                      <a:lnTo>
                        <a:pt x="595" y="528"/>
                      </a:lnTo>
                      <a:lnTo>
                        <a:pt x="596" y="521"/>
                      </a:lnTo>
                      <a:lnTo>
                        <a:pt x="596" y="74"/>
                      </a:lnTo>
                      <a:lnTo>
                        <a:pt x="595" y="67"/>
                      </a:lnTo>
                      <a:lnTo>
                        <a:pt x="590" y="60"/>
                      </a:lnTo>
                      <a:lnTo>
                        <a:pt x="582" y="52"/>
                      </a:lnTo>
                      <a:lnTo>
                        <a:pt x="572" y="46"/>
                      </a:lnTo>
                      <a:lnTo>
                        <a:pt x="560" y="38"/>
                      </a:lnTo>
                      <a:lnTo>
                        <a:pt x="545" y="33"/>
                      </a:lnTo>
                      <a:lnTo>
                        <a:pt x="528" y="27"/>
                      </a:lnTo>
                      <a:lnTo>
                        <a:pt x="509" y="22"/>
                      </a:lnTo>
                      <a:lnTo>
                        <a:pt x="488" y="17"/>
                      </a:lnTo>
                      <a:lnTo>
                        <a:pt x="464" y="12"/>
                      </a:lnTo>
                      <a:lnTo>
                        <a:pt x="441" y="9"/>
                      </a:lnTo>
                      <a:lnTo>
                        <a:pt x="415" y="6"/>
                      </a:lnTo>
                      <a:lnTo>
                        <a:pt x="387" y="4"/>
                      </a:lnTo>
                      <a:lnTo>
                        <a:pt x="359" y="1"/>
                      </a:lnTo>
                      <a:lnTo>
                        <a:pt x="298" y="0"/>
                      </a:lnTo>
                      <a:close/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793120" y="658800"/>
                  <a:ext cx="103680" cy="24120"/>
                </a:xfrm>
                <a:custGeom>
                  <a:avLst/>
                  <a:gdLst/>
                  <a:ahLst/>
                  <a:rect l="l" t="t" r="r" b="b"/>
                  <a:pathLst>
                    <a:path w="596" h="149">
                      <a:moveTo>
                        <a:pt x="0" y="74"/>
                      </a:moveTo>
                      <a:lnTo>
                        <a:pt x="1" y="82"/>
                      </a:lnTo>
                      <a:lnTo>
                        <a:pt x="6" y="89"/>
                      </a:lnTo>
                      <a:lnTo>
                        <a:pt x="14" y="97"/>
                      </a:lnTo>
                      <a:lnTo>
                        <a:pt x="24" y="103"/>
                      </a:lnTo>
                      <a:lnTo>
                        <a:pt x="36" y="110"/>
                      </a:lnTo>
                      <a:lnTo>
                        <a:pt x="51" y="117"/>
                      </a:lnTo>
                      <a:lnTo>
                        <a:pt x="68" y="122"/>
                      </a:lnTo>
                      <a:lnTo>
                        <a:pt x="87" y="126"/>
                      </a:lnTo>
                      <a:lnTo>
                        <a:pt x="108" y="131"/>
                      </a:lnTo>
                      <a:lnTo>
                        <a:pt x="132" y="136"/>
                      </a:lnTo>
                      <a:lnTo>
                        <a:pt x="155" y="140"/>
                      </a:lnTo>
                      <a:lnTo>
                        <a:pt x="181" y="143"/>
                      </a:lnTo>
                      <a:lnTo>
                        <a:pt x="209" y="145"/>
                      </a:lnTo>
                      <a:lnTo>
                        <a:pt x="238" y="148"/>
                      </a:lnTo>
                      <a:lnTo>
                        <a:pt x="298" y="149"/>
                      </a:lnTo>
                      <a:lnTo>
                        <a:pt x="359" y="148"/>
                      </a:lnTo>
                      <a:lnTo>
                        <a:pt x="387" y="145"/>
                      </a:lnTo>
                      <a:lnTo>
                        <a:pt x="415" y="143"/>
                      </a:lnTo>
                      <a:lnTo>
                        <a:pt x="441" y="140"/>
                      </a:lnTo>
                      <a:lnTo>
                        <a:pt x="464" y="136"/>
                      </a:lnTo>
                      <a:lnTo>
                        <a:pt x="488" y="131"/>
                      </a:lnTo>
                      <a:lnTo>
                        <a:pt x="509" y="126"/>
                      </a:lnTo>
                      <a:lnTo>
                        <a:pt x="528" y="122"/>
                      </a:lnTo>
                      <a:lnTo>
                        <a:pt x="545" y="117"/>
                      </a:lnTo>
                      <a:lnTo>
                        <a:pt x="560" y="110"/>
                      </a:lnTo>
                      <a:lnTo>
                        <a:pt x="572" y="103"/>
                      </a:lnTo>
                      <a:lnTo>
                        <a:pt x="582" y="97"/>
                      </a:lnTo>
                      <a:lnTo>
                        <a:pt x="590" y="89"/>
                      </a:lnTo>
                      <a:lnTo>
                        <a:pt x="595" y="82"/>
                      </a:lnTo>
                      <a:lnTo>
                        <a:pt x="596" y="74"/>
                      </a:lnTo>
                      <a:lnTo>
                        <a:pt x="595" y="67"/>
                      </a:lnTo>
                      <a:lnTo>
                        <a:pt x="590" y="60"/>
                      </a:lnTo>
                      <a:lnTo>
                        <a:pt x="582" y="52"/>
                      </a:lnTo>
                      <a:lnTo>
                        <a:pt x="572" y="46"/>
                      </a:lnTo>
                      <a:lnTo>
                        <a:pt x="560" y="38"/>
                      </a:lnTo>
                      <a:lnTo>
                        <a:pt x="545" y="33"/>
                      </a:lnTo>
                      <a:lnTo>
                        <a:pt x="528" y="27"/>
                      </a:lnTo>
                      <a:lnTo>
                        <a:pt x="509" y="22"/>
                      </a:lnTo>
                      <a:lnTo>
                        <a:pt x="488" y="17"/>
                      </a:lnTo>
                      <a:lnTo>
                        <a:pt x="464" y="12"/>
                      </a:lnTo>
                      <a:lnTo>
                        <a:pt x="441" y="9"/>
                      </a:lnTo>
                      <a:lnTo>
                        <a:pt x="415" y="6"/>
                      </a:lnTo>
                      <a:lnTo>
                        <a:pt x="387" y="4"/>
                      </a:lnTo>
                      <a:lnTo>
                        <a:pt x="359" y="1"/>
                      </a:lnTo>
                      <a:lnTo>
                        <a:pt x="298" y="0"/>
                      </a:lnTo>
                      <a:lnTo>
                        <a:pt x="238" y="1"/>
                      </a:lnTo>
                      <a:lnTo>
                        <a:pt x="209" y="4"/>
                      </a:lnTo>
                      <a:lnTo>
                        <a:pt x="181" y="6"/>
                      </a:lnTo>
                      <a:lnTo>
                        <a:pt x="155" y="9"/>
                      </a:lnTo>
                      <a:lnTo>
                        <a:pt x="132" y="12"/>
                      </a:lnTo>
                      <a:lnTo>
                        <a:pt x="108" y="17"/>
                      </a:lnTo>
                      <a:lnTo>
                        <a:pt x="87" y="22"/>
                      </a:lnTo>
                      <a:lnTo>
                        <a:pt x="68" y="27"/>
                      </a:lnTo>
                      <a:lnTo>
                        <a:pt x="51" y="33"/>
                      </a:lnTo>
                      <a:lnTo>
                        <a:pt x="36" y="38"/>
                      </a:lnTo>
                      <a:lnTo>
                        <a:pt x="24" y="46"/>
                      </a:lnTo>
                      <a:lnTo>
                        <a:pt x="14" y="52"/>
                      </a:lnTo>
                      <a:lnTo>
                        <a:pt x="6" y="60"/>
                      </a:lnTo>
                      <a:lnTo>
                        <a:pt x="1" y="67"/>
                      </a:lnTo>
                      <a:lnTo>
                        <a:pt x="0" y="74"/>
                      </a:lnTo>
                      <a:close/>
                    </a:path>
                  </a:pathLst>
                </a:custGeom>
                <a:solidFill>
                  <a:srgbClr val="ffd6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793120" y="658800"/>
                  <a:ext cx="103680" cy="97560"/>
                </a:xfrm>
                <a:custGeom>
                  <a:avLst/>
                  <a:gdLst/>
                  <a:ahLst/>
                  <a:rect l="l" t="t" r="r" b="b"/>
                  <a:pathLst>
                    <a:path w="596" h="595">
                      <a:moveTo>
                        <a:pt x="298" y="0"/>
                      </a:moveTo>
                      <a:lnTo>
                        <a:pt x="238" y="1"/>
                      </a:lnTo>
                      <a:lnTo>
                        <a:pt x="209" y="4"/>
                      </a:lnTo>
                      <a:lnTo>
                        <a:pt x="181" y="6"/>
                      </a:lnTo>
                      <a:lnTo>
                        <a:pt x="155" y="9"/>
                      </a:lnTo>
                      <a:lnTo>
                        <a:pt x="132" y="12"/>
                      </a:lnTo>
                      <a:lnTo>
                        <a:pt x="108" y="17"/>
                      </a:lnTo>
                      <a:lnTo>
                        <a:pt x="87" y="22"/>
                      </a:lnTo>
                      <a:lnTo>
                        <a:pt x="68" y="27"/>
                      </a:lnTo>
                      <a:lnTo>
                        <a:pt x="51" y="33"/>
                      </a:lnTo>
                      <a:lnTo>
                        <a:pt x="36" y="38"/>
                      </a:lnTo>
                      <a:lnTo>
                        <a:pt x="24" y="46"/>
                      </a:lnTo>
                      <a:lnTo>
                        <a:pt x="14" y="52"/>
                      </a:lnTo>
                      <a:lnTo>
                        <a:pt x="6" y="60"/>
                      </a:lnTo>
                      <a:lnTo>
                        <a:pt x="1" y="67"/>
                      </a:lnTo>
                      <a:lnTo>
                        <a:pt x="0" y="74"/>
                      </a:lnTo>
                      <a:lnTo>
                        <a:pt x="0" y="521"/>
                      </a:lnTo>
                      <a:lnTo>
                        <a:pt x="1" y="528"/>
                      </a:lnTo>
                      <a:lnTo>
                        <a:pt x="6" y="536"/>
                      </a:lnTo>
                      <a:lnTo>
                        <a:pt x="14" y="543"/>
                      </a:lnTo>
                      <a:lnTo>
                        <a:pt x="24" y="549"/>
                      </a:lnTo>
                      <a:lnTo>
                        <a:pt x="36" y="557"/>
                      </a:lnTo>
                      <a:lnTo>
                        <a:pt x="51" y="563"/>
                      </a:lnTo>
                      <a:lnTo>
                        <a:pt x="68" y="568"/>
                      </a:lnTo>
                      <a:lnTo>
                        <a:pt x="87" y="573"/>
                      </a:lnTo>
                      <a:lnTo>
                        <a:pt x="108" y="578"/>
                      </a:lnTo>
                      <a:lnTo>
                        <a:pt x="132" y="583"/>
                      </a:lnTo>
                      <a:lnTo>
                        <a:pt x="155" y="587"/>
                      </a:lnTo>
                      <a:lnTo>
                        <a:pt x="181" y="589"/>
                      </a:lnTo>
                      <a:lnTo>
                        <a:pt x="209" y="592"/>
                      </a:lnTo>
                      <a:lnTo>
                        <a:pt x="238" y="594"/>
                      </a:lnTo>
                      <a:lnTo>
                        <a:pt x="298" y="595"/>
                      </a:lnTo>
                      <a:lnTo>
                        <a:pt x="359" y="594"/>
                      </a:lnTo>
                      <a:lnTo>
                        <a:pt x="387" y="592"/>
                      </a:lnTo>
                      <a:lnTo>
                        <a:pt x="415" y="589"/>
                      </a:lnTo>
                      <a:lnTo>
                        <a:pt x="441" y="587"/>
                      </a:lnTo>
                      <a:lnTo>
                        <a:pt x="464" y="583"/>
                      </a:lnTo>
                      <a:lnTo>
                        <a:pt x="488" y="578"/>
                      </a:lnTo>
                      <a:lnTo>
                        <a:pt x="509" y="573"/>
                      </a:lnTo>
                      <a:lnTo>
                        <a:pt x="528" y="568"/>
                      </a:lnTo>
                      <a:lnTo>
                        <a:pt x="545" y="563"/>
                      </a:lnTo>
                      <a:lnTo>
                        <a:pt x="560" y="557"/>
                      </a:lnTo>
                      <a:lnTo>
                        <a:pt x="572" y="549"/>
                      </a:lnTo>
                      <a:lnTo>
                        <a:pt x="582" y="543"/>
                      </a:lnTo>
                      <a:lnTo>
                        <a:pt x="590" y="536"/>
                      </a:lnTo>
                      <a:lnTo>
                        <a:pt x="595" y="528"/>
                      </a:lnTo>
                      <a:lnTo>
                        <a:pt x="596" y="521"/>
                      </a:lnTo>
                      <a:lnTo>
                        <a:pt x="596" y="74"/>
                      </a:lnTo>
                      <a:lnTo>
                        <a:pt x="595" y="67"/>
                      </a:lnTo>
                      <a:lnTo>
                        <a:pt x="590" y="60"/>
                      </a:lnTo>
                      <a:lnTo>
                        <a:pt x="582" y="52"/>
                      </a:lnTo>
                      <a:lnTo>
                        <a:pt x="572" y="46"/>
                      </a:lnTo>
                      <a:lnTo>
                        <a:pt x="560" y="38"/>
                      </a:lnTo>
                      <a:lnTo>
                        <a:pt x="545" y="33"/>
                      </a:lnTo>
                      <a:lnTo>
                        <a:pt x="528" y="27"/>
                      </a:lnTo>
                      <a:lnTo>
                        <a:pt x="509" y="22"/>
                      </a:lnTo>
                      <a:lnTo>
                        <a:pt x="488" y="17"/>
                      </a:lnTo>
                      <a:lnTo>
                        <a:pt x="464" y="12"/>
                      </a:lnTo>
                      <a:lnTo>
                        <a:pt x="441" y="9"/>
                      </a:lnTo>
                      <a:lnTo>
                        <a:pt x="415" y="6"/>
                      </a:lnTo>
                      <a:lnTo>
                        <a:pt x="387" y="4"/>
                      </a:lnTo>
                      <a:lnTo>
                        <a:pt x="359" y="1"/>
                      </a:lnTo>
                      <a:lnTo>
                        <a:pt x="298" y="0"/>
                      </a:lnTo>
                      <a:close/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793120" y="670320"/>
                  <a:ext cx="103680" cy="12240"/>
                </a:xfrm>
                <a:custGeom>
                  <a:avLst/>
                  <a:gdLst/>
                  <a:ahLst/>
                  <a:rect l="l" t="t" r="r" b="b"/>
                  <a:pathLst>
                    <a:path w="596" h="75">
                      <a:moveTo>
                        <a:pt x="0" y="0"/>
                      </a:moveTo>
                      <a:lnTo>
                        <a:pt x="1" y="8"/>
                      </a:lnTo>
                      <a:lnTo>
                        <a:pt x="6" y="15"/>
                      </a:lnTo>
                      <a:lnTo>
                        <a:pt x="14" y="23"/>
                      </a:lnTo>
                      <a:lnTo>
                        <a:pt x="24" y="29"/>
                      </a:lnTo>
                      <a:lnTo>
                        <a:pt x="36" y="36"/>
                      </a:lnTo>
                      <a:lnTo>
                        <a:pt x="51" y="43"/>
                      </a:lnTo>
                      <a:lnTo>
                        <a:pt x="68" y="48"/>
                      </a:lnTo>
                      <a:lnTo>
                        <a:pt x="87" y="52"/>
                      </a:lnTo>
                      <a:lnTo>
                        <a:pt x="108" y="57"/>
                      </a:lnTo>
                      <a:lnTo>
                        <a:pt x="132" y="62"/>
                      </a:lnTo>
                      <a:lnTo>
                        <a:pt x="155" y="66"/>
                      </a:lnTo>
                      <a:lnTo>
                        <a:pt x="181" y="69"/>
                      </a:lnTo>
                      <a:lnTo>
                        <a:pt x="209" y="71"/>
                      </a:lnTo>
                      <a:lnTo>
                        <a:pt x="238" y="74"/>
                      </a:lnTo>
                      <a:lnTo>
                        <a:pt x="298" y="75"/>
                      </a:lnTo>
                      <a:lnTo>
                        <a:pt x="359" y="74"/>
                      </a:lnTo>
                      <a:lnTo>
                        <a:pt x="387" y="71"/>
                      </a:lnTo>
                      <a:lnTo>
                        <a:pt x="415" y="69"/>
                      </a:lnTo>
                      <a:lnTo>
                        <a:pt x="441" y="66"/>
                      </a:lnTo>
                      <a:lnTo>
                        <a:pt x="464" y="62"/>
                      </a:lnTo>
                      <a:lnTo>
                        <a:pt x="488" y="57"/>
                      </a:lnTo>
                      <a:lnTo>
                        <a:pt x="509" y="52"/>
                      </a:lnTo>
                      <a:lnTo>
                        <a:pt x="528" y="48"/>
                      </a:lnTo>
                      <a:lnTo>
                        <a:pt x="545" y="43"/>
                      </a:lnTo>
                      <a:lnTo>
                        <a:pt x="560" y="36"/>
                      </a:lnTo>
                      <a:lnTo>
                        <a:pt x="572" y="29"/>
                      </a:lnTo>
                      <a:lnTo>
                        <a:pt x="582" y="23"/>
                      </a:lnTo>
                      <a:lnTo>
                        <a:pt x="590" y="15"/>
                      </a:lnTo>
                      <a:lnTo>
                        <a:pt x="595" y="8"/>
                      </a:lnTo>
                      <a:lnTo>
                        <a:pt x="596" y="0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5990400" y="612720"/>
                <a:ext cx="147240" cy="232920"/>
                <a:chOff x="5990400" y="612720"/>
                <a:chExt cx="147240" cy="2329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051960" y="758880"/>
                  <a:ext cx="108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040" bIns="41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2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990400" y="612720"/>
                  <a:ext cx="147240" cy="18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17819" dir="2700000" blurRad="0" rotWithShape="0">
                    <a:srgbClr val="b2b2b2"/>
                  </a:outerShdw>
                </a:effectLst>
              </p:spPr>
            </p:pic>
          </p:grpSp>
          <p:grpSp>
            <p:nvGrpSpPr>
              <p:cNvPr id="323" name=""/>
              <p:cNvGrpSpPr/>
              <p:nvPr/>
            </p:nvGrpSpPr>
            <p:grpSpPr>
              <a:xfrm>
                <a:off x="6175080" y="612720"/>
                <a:ext cx="147240" cy="232920"/>
                <a:chOff x="6175080" y="612720"/>
                <a:chExt cx="147240" cy="2329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6236640" y="758880"/>
                  <a:ext cx="108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040" bIns="41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2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175080" y="612720"/>
                  <a:ext cx="147240" cy="18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17819" dir="2700000" blurRad="0" rotWithShape="0">
                    <a:srgbClr val="b2b2b2"/>
                  </a:outerShdw>
                </a:effectLst>
              </p:spPr>
            </p:pic>
          </p:grpSp>
          <p:grpSp>
            <p:nvGrpSpPr>
              <p:cNvPr id="326" name=""/>
              <p:cNvGrpSpPr/>
              <p:nvPr/>
            </p:nvGrpSpPr>
            <p:grpSpPr>
              <a:xfrm>
                <a:off x="6452280" y="612720"/>
                <a:ext cx="147240" cy="232920"/>
                <a:chOff x="6452280" y="612720"/>
                <a:chExt cx="147240" cy="2329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6513840" y="758880"/>
                  <a:ext cx="108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040" bIns="41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2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452280" y="612720"/>
                  <a:ext cx="147240" cy="18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17819" dir="2700000" blurRad="0" rotWithShape="0">
                    <a:srgbClr val="b2b2b2"/>
                  </a:outerShdw>
                </a:effectLst>
              </p:spPr>
            </p:pic>
          </p:grpSp>
          <p:grpSp>
            <p:nvGrpSpPr>
              <p:cNvPr id="329" name=""/>
              <p:cNvGrpSpPr/>
              <p:nvPr/>
            </p:nvGrpSpPr>
            <p:grpSpPr>
              <a:xfrm>
                <a:off x="6636960" y="612720"/>
                <a:ext cx="147240" cy="232920"/>
                <a:chOff x="6636960" y="612720"/>
                <a:chExt cx="147240" cy="23292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698520" y="758880"/>
                  <a:ext cx="108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040" bIns="41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3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636960" y="612720"/>
                  <a:ext cx="147240" cy="18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17819" dir="2700000" blurRad="0" rotWithShape="0">
                    <a:srgbClr val="b2b2b2"/>
                  </a:outerShdw>
                </a:effectLst>
              </p:spPr>
            </p:pic>
          </p:grpSp>
          <p:grpSp>
            <p:nvGrpSpPr>
              <p:cNvPr id="332" name=""/>
              <p:cNvGrpSpPr/>
              <p:nvPr/>
            </p:nvGrpSpPr>
            <p:grpSpPr>
              <a:xfrm>
                <a:off x="6821640" y="612720"/>
                <a:ext cx="147240" cy="232920"/>
                <a:chOff x="6821640" y="612720"/>
                <a:chExt cx="147240" cy="23292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6883200" y="758880"/>
                  <a:ext cx="108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440" rIns="82440" tIns="41040" bIns="41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3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21640" y="612720"/>
                  <a:ext cx="147240" cy="18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17819" dir="2700000" blurRad="0" rotWithShape="0">
                    <a:srgbClr val="b2b2b2"/>
                  </a:outerShdw>
                </a:effectLst>
              </p:spPr>
            </p:pic>
          </p:grpSp>
          <p:sp>
            <p:nvSpPr>
              <p:cNvPr id="335" name=""/>
              <p:cNvSpPr/>
              <p:nvPr/>
            </p:nvSpPr>
            <p:spPr>
              <a:xfrm>
                <a:off x="5775120" y="836280"/>
                <a:ext cx="1200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5721480" y="351000"/>
              <a:ext cx="183960" cy="14580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95560" y="3175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8" name="" descr=""/>
            <p:cNvPicPr/>
            <p:nvPr/>
          </p:nvPicPr>
          <p:blipFill>
            <a:blip r:embed="rId7"/>
            <a:stretch/>
          </p:blipFill>
          <p:spPr>
            <a:xfrm>
              <a:off x="6375240" y="1228680"/>
              <a:ext cx="160560" cy="1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6421320" y="876240"/>
              <a:ext cx="708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noAutofit/>
            </a:bodyPr>
            <a:p>
              <a:pPr marL="114480" indent="-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pplication Server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73880" y="2152800"/>
              <a:ext cx="328680" cy="2934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8"/>
            <a:stretch/>
          </p:blipFill>
          <p:spPr>
            <a:xfrm>
              <a:off x="6097680" y="2079720"/>
              <a:ext cx="347400" cy="272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a0a0a0"/>
              </a:outerShdw>
            </a:effectLst>
          </p:spPr>
        </p:pic>
        <p:pic>
          <p:nvPicPr>
            <p:cNvPr id="342" name="phone" descr=""/>
            <p:cNvPicPr/>
            <p:nvPr/>
          </p:nvPicPr>
          <p:blipFill>
            <a:blip r:embed="rId9"/>
            <a:stretch/>
          </p:blipFill>
          <p:spPr>
            <a:xfrm>
              <a:off x="6005520" y="1698840"/>
              <a:ext cx="345960" cy="3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tower" descr=""/>
            <p:cNvPicPr/>
            <p:nvPr/>
          </p:nvPicPr>
          <p:blipFill>
            <a:blip r:embed="rId10"/>
            <a:stretch/>
          </p:blipFill>
          <p:spPr>
            <a:xfrm>
              <a:off x="6610320" y="2190960"/>
              <a:ext cx="220680" cy="2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tower" descr=""/>
            <p:cNvPicPr/>
            <p:nvPr/>
          </p:nvPicPr>
          <p:blipFill>
            <a:blip r:embed="rId11"/>
            <a:stretch/>
          </p:blipFill>
          <p:spPr>
            <a:xfrm>
              <a:off x="7427880" y="2179800"/>
              <a:ext cx="22068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7734240" y="2216160"/>
              <a:ext cx="184320" cy="14616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708680" y="2178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942320" y="2174760"/>
              <a:ext cx="68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0000"/>
                  </a:solidFill>
                  <a:latin typeface="Arial"/>
                </a:rPr>
                <a:t>Wideband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0000"/>
                  </a:solidFill>
                  <a:latin typeface="Arial"/>
                </a:rPr>
                <a:t>Radi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6791040" y="1727280"/>
              <a:ext cx="291960" cy="52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75520" y="1727280"/>
              <a:ext cx="323640" cy="5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29440" y="1727280"/>
              <a:ext cx="0" cy="53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1" name="sm_box" descr=""/>
            <p:cNvPicPr/>
            <p:nvPr/>
          </p:nvPicPr>
          <p:blipFill>
            <a:blip r:embed="rId12"/>
            <a:srcRect l="10000" t="0" r="0" b="0"/>
            <a:stretch/>
          </p:blipFill>
          <p:spPr>
            <a:xfrm>
              <a:off x="7037280" y="1579680"/>
              <a:ext cx="200160" cy="21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6400800" y="1657440"/>
              <a:ext cx="646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0000"/>
                  </a:solidFill>
                  <a:latin typeface="Arial"/>
                </a:rPr>
                <a:t>Wireless Access Gatewa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50080" y="1569960"/>
              <a:ext cx="183960" cy="14616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824520" y="1527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5" name="" descr=""/>
            <p:cNvPicPr/>
            <p:nvPr/>
          </p:nvPicPr>
          <p:blipFill>
            <a:blip r:embed="rId13"/>
            <a:stretch/>
          </p:blipFill>
          <p:spPr>
            <a:xfrm>
              <a:off x="7230960" y="1604880"/>
              <a:ext cx="160560" cy="1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cloud1" descr=""/>
            <p:cNvPicPr/>
            <p:nvPr/>
          </p:nvPicPr>
          <p:blipFill>
            <a:blip r:embed="rId14">
              <a:lum bright="24000"/>
            </a:blip>
            <a:stretch/>
          </p:blipFill>
          <p:spPr>
            <a:xfrm>
              <a:off x="8109000" y="1305000"/>
              <a:ext cx="876240" cy="4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8321040" y="1451160"/>
              <a:ext cx="58320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8c008c"/>
                  </a:solidFill>
                  <a:latin typeface="Arial"/>
                </a:rPr>
                <a:t>PSTN &amp; 2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8c008c"/>
                  </a:solidFill>
                  <a:latin typeface="Arial"/>
                </a:rPr>
                <a:t>Wireles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8" name="" descr=""/>
            <p:cNvPicPr/>
            <p:nvPr/>
          </p:nvPicPr>
          <p:blipFill>
            <a:blip r:embed="rId15"/>
            <a:srcRect l="17925" t="19316" r="15934" b="9658"/>
            <a:stretch/>
          </p:blipFill>
          <p:spPr>
            <a:xfrm>
              <a:off x="7974000" y="1461960"/>
              <a:ext cx="244440" cy="2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7516800" y="1666800"/>
              <a:ext cx="646200" cy="1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0000"/>
                  </a:solidFill>
                  <a:latin typeface="Arial"/>
                </a:rPr>
                <a:t>Circuit Gatewa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770600" y="1474920"/>
              <a:ext cx="184320" cy="14580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58000" y="1425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2" name="cloud1" descr=""/>
            <p:cNvPicPr/>
            <p:nvPr/>
          </p:nvPicPr>
          <p:blipFill>
            <a:blip r:embed="rId16">
              <a:lum bright="24000"/>
            </a:blip>
            <a:stretch/>
          </p:blipFill>
          <p:spPr>
            <a:xfrm>
              <a:off x="8083440" y="934920"/>
              <a:ext cx="876240" cy="4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8272080" y="1038240"/>
              <a:ext cx="6836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8c008c"/>
                  </a:solidFill>
                  <a:latin typeface="Arial"/>
                </a:rPr>
                <a:t>Internet &amp;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8c008c"/>
                  </a:solidFill>
                  <a:latin typeface="Arial"/>
                </a:rPr>
                <a:t>Packet Traff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4" name="" descr=""/>
            <p:cNvPicPr/>
            <p:nvPr/>
          </p:nvPicPr>
          <p:blipFill>
            <a:blip r:embed="rId17"/>
            <a:stretch/>
          </p:blipFill>
          <p:spPr>
            <a:xfrm>
              <a:off x="8005680" y="1287360"/>
              <a:ext cx="209520" cy="1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 flipH="1">
              <a:off x="7683480" y="846000"/>
              <a:ext cx="15408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95960" y="544680"/>
              <a:ext cx="1457280" cy="3855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502400" y="160200"/>
              <a:ext cx="997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0000"/>
                  </a:solidFill>
                  <a:latin typeface="Arial"/>
                </a:rPr>
                <a:t>Internet Customer</a:t>
              </a:r>
              <a:br>
                <a:rPr sz="800"/>
              </a:br>
              <a:r>
                <a:rPr b="1" lang="en-US" sz="800" spc="-1" strike="noStrike">
                  <a:solidFill>
                    <a:srgbClr val="990000"/>
                  </a:solidFill>
                  <a:latin typeface="Arial"/>
                </a:rPr>
                <a:t>Care Cen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205760" y="876240"/>
              <a:ext cx="73980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noAutofit/>
            </a:bodyPr>
            <a:p>
              <a:pPr marL="114480" indent="-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etwork Mgm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uthoriza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uthentica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867440" y="876240"/>
              <a:ext cx="64800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noAutofit/>
            </a:bodyPr>
            <a:p>
              <a:pPr marL="114480" indent="-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Bill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 Car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ata Min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7267680" y="755280"/>
              <a:ext cx="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208640" y="658800"/>
              <a:ext cx="104760" cy="98640"/>
            </a:xfrm>
            <a:custGeom>
              <a:avLst/>
              <a:gdLst/>
              <a:ahLst/>
              <a:rect l="l" t="t" r="r" b="b"/>
              <a:pathLst>
                <a:path w="596" h="595">
                  <a:moveTo>
                    <a:pt x="298" y="0"/>
                  </a:moveTo>
                  <a:lnTo>
                    <a:pt x="238" y="1"/>
                  </a:lnTo>
                  <a:lnTo>
                    <a:pt x="209" y="4"/>
                  </a:lnTo>
                  <a:lnTo>
                    <a:pt x="181" y="6"/>
                  </a:lnTo>
                  <a:lnTo>
                    <a:pt x="155" y="9"/>
                  </a:lnTo>
                  <a:lnTo>
                    <a:pt x="132" y="12"/>
                  </a:lnTo>
                  <a:lnTo>
                    <a:pt x="108" y="17"/>
                  </a:lnTo>
                  <a:lnTo>
                    <a:pt x="87" y="22"/>
                  </a:lnTo>
                  <a:lnTo>
                    <a:pt x="68" y="27"/>
                  </a:lnTo>
                  <a:lnTo>
                    <a:pt x="51" y="33"/>
                  </a:lnTo>
                  <a:lnTo>
                    <a:pt x="36" y="38"/>
                  </a:lnTo>
                  <a:lnTo>
                    <a:pt x="24" y="46"/>
                  </a:lnTo>
                  <a:lnTo>
                    <a:pt x="14" y="52"/>
                  </a:lnTo>
                  <a:lnTo>
                    <a:pt x="6" y="60"/>
                  </a:lnTo>
                  <a:lnTo>
                    <a:pt x="1" y="67"/>
                  </a:lnTo>
                  <a:lnTo>
                    <a:pt x="0" y="74"/>
                  </a:lnTo>
                  <a:lnTo>
                    <a:pt x="0" y="521"/>
                  </a:lnTo>
                  <a:lnTo>
                    <a:pt x="1" y="528"/>
                  </a:lnTo>
                  <a:lnTo>
                    <a:pt x="6" y="536"/>
                  </a:lnTo>
                  <a:lnTo>
                    <a:pt x="14" y="543"/>
                  </a:lnTo>
                  <a:lnTo>
                    <a:pt x="24" y="549"/>
                  </a:lnTo>
                  <a:lnTo>
                    <a:pt x="36" y="557"/>
                  </a:lnTo>
                  <a:lnTo>
                    <a:pt x="51" y="563"/>
                  </a:lnTo>
                  <a:lnTo>
                    <a:pt x="68" y="568"/>
                  </a:lnTo>
                  <a:lnTo>
                    <a:pt x="87" y="573"/>
                  </a:lnTo>
                  <a:lnTo>
                    <a:pt x="108" y="578"/>
                  </a:lnTo>
                  <a:lnTo>
                    <a:pt x="132" y="583"/>
                  </a:lnTo>
                  <a:lnTo>
                    <a:pt x="155" y="587"/>
                  </a:lnTo>
                  <a:lnTo>
                    <a:pt x="181" y="589"/>
                  </a:lnTo>
                  <a:lnTo>
                    <a:pt x="209" y="592"/>
                  </a:lnTo>
                  <a:lnTo>
                    <a:pt x="238" y="594"/>
                  </a:lnTo>
                  <a:lnTo>
                    <a:pt x="298" y="595"/>
                  </a:lnTo>
                  <a:lnTo>
                    <a:pt x="359" y="594"/>
                  </a:lnTo>
                  <a:lnTo>
                    <a:pt x="387" y="592"/>
                  </a:lnTo>
                  <a:lnTo>
                    <a:pt x="415" y="589"/>
                  </a:lnTo>
                  <a:lnTo>
                    <a:pt x="441" y="587"/>
                  </a:lnTo>
                  <a:lnTo>
                    <a:pt x="464" y="583"/>
                  </a:lnTo>
                  <a:lnTo>
                    <a:pt x="488" y="578"/>
                  </a:lnTo>
                  <a:lnTo>
                    <a:pt x="509" y="573"/>
                  </a:lnTo>
                  <a:lnTo>
                    <a:pt x="528" y="568"/>
                  </a:lnTo>
                  <a:lnTo>
                    <a:pt x="545" y="563"/>
                  </a:lnTo>
                  <a:lnTo>
                    <a:pt x="560" y="557"/>
                  </a:lnTo>
                  <a:lnTo>
                    <a:pt x="572" y="549"/>
                  </a:lnTo>
                  <a:lnTo>
                    <a:pt x="582" y="543"/>
                  </a:lnTo>
                  <a:lnTo>
                    <a:pt x="590" y="536"/>
                  </a:lnTo>
                  <a:lnTo>
                    <a:pt x="595" y="528"/>
                  </a:lnTo>
                  <a:lnTo>
                    <a:pt x="596" y="521"/>
                  </a:lnTo>
                  <a:lnTo>
                    <a:pt x="596" y="74"/>
                  </a:lnTo>
                  <a:lnTo>
                    <a:pt x="595" y="67"/>
                  </a:lnTo>
                  <a:lnTo>
                    <a:pt x="590" y="60"/>
                  </a:lnTo>
                  <a:lnTo>
                    <a:pt x="582" y="52"/>
                  </a:lnTo>
                  <a:lnTo>
                    <a:pt x="572" y="46"/>
                  </a:lnTo>
                  <a:lnTo>
                    <a:pt x="560" y="38"/>
                  </a:lnTo>
                  <a:lnTo>
                    <a:pt x="545" y="33"/>
                  </a:lnTo>
                  <a:lnTo>
                    <a:pt x="528" y="27"/>
                  </a:lnTo>
                  <a:lnTo>
                    <a:pt x="509" y="22"/>
                  </a:lnTo>
                  <a:lnTo>
                    <a:pt x="488" y="17"/>
                  </a:lnTo>
                  <a:lnTo>
                    <a:pt x="464" y="12"/>
                  </a:lnTo>
                  <a:lnTo>
                    <a:pt x="441" y="9"/>
                  </a:lnTo>
                  <a:lnTo>
                    <a:pt x="415" y="6"/>
                  </a:lnTo>
                  <a:lnTo>
                    <a:pt x="387" y="4"/>
                  </a:lnTo>
                  <a:lnTo>
                    <a:pt x="359" y="1"/>
                  </a:lnTo>
                  <a:lnTo>
                    <a:pt x="298" y="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08640" y="658800"/>
              <a:ext cx="104760" cy="23760"/>
            </a:xfrm>
            <a:custGeom>
              <a:avLst/>
              <a:gdLst/>
              <a:ahLst/>
              <a:rect l="l" t="t" r="r" b="b"/>
              <a:pathLst>
                <a:path w="596" h="149">
                  <a:moveTo>
                    <a:pt x="0" y="74"/>
                  </a:moveTo>
                  <a:lnTo>
                    <a:pt x="1" y="82"/>
                  </a:lnTo>
                  <a:lnTo>
                    <a:pt x="6" y="89"/>
                  </a:lnTo>
                  <a:lnTo>
                    <a:pt x="14" y="97"/>
                  </a:lnTo>
                  <a:lnTo>
                    <a:pt x="24" y="103"/>
                  </a:lnTo>
                  <a:lnTo>
                    <a:pt x="36" y="110"/>
                  </a:lnTo>
                  <a:lnTo>
                    <a:pt x="51" y="117"/>
                  </a:lnTo>
                  <a:lnTo>
                    <a:pt x="68" y="122"/>
                  </a:lnTo>
                  <a:lnTo>
                    <a:pt x="87" y="126"/>
                  </a:lnTo>
                  <a:lnTo>
                    <a:pt x="108" y="131"/>
                  </a:lnTo>
                  <a:lnTo>
                    <a:pt x="132" y="136"/>
                  </a:lnTo>
                  <a:lnTo>
                    <a:pt x="155" y="140"/>
                  </a:lnTo>
                  <a:lnTo>
                    <a:pt x="181" y="143"/>
                  </a:lnTo>
                  <a:lnTo>
                    <a:pt x="209" y="145"/>
                  </a:lnTo>
                  <a:lnTo>
                    <a:pt x="238" y="148"/>
                  </a:lnTo>
                  <a:lnTo>
                    <a:pt x="298" y="149"/>
                  </a:lnTo>
                  <a:lnTo>
                    <a:pt x="359" y="148"/>
                  </a:lnTo>
                  <a:lnTo>
                    <a:pt x="387" y="145"/>
                  </a:lnTo>
                  <a:lnTo>
                    <a:pt x="415" y="143"/>
                  </a:lnTo>
                  <a:lnTo>
                    <a:pt x="441" y="140"/>
                  </a:lnTo>
                  <a:lnTo>
                    <a:pt x="464" y="136"/>
                  </a:lnTo>
                  <a:lnTo>
                    <a:pt x="488" y="131"/>
                  </a:lnTo>
                  <a:lnTo>
                    <a:pt x="509" y="126"/>
                  </a:lnTo>
                  <a:lnTo>
                    <a:pt x="528" y="122"/>
                  </a:lnTo>
                  <a:lnTo>
                    <a:pt x="545" y="117"/>
                  </a:lnTo>
                  <a:lnTo>
                    <a:pt x="560" y="110"/>
                  </a:lnTo>
                  <a:lnTo>
                    <a:pt x="572" y="103"/>
                  </a:lnTo>
                  <a:lnTo>
                    <a:pt x="582" y="97"/>
                  </a:lnTo>
                  <a:lnTo>
                    <a:pt x="590" y="89"/>
                  </a:lnTo>
                  <a:lnTo>
                    <a:pt x="595" y="82"/>
                  </a:lnTo>
                  <a:lnTo>
                    <a:pt x="596" y="74"/>
                  </a:lnTo>
                  <a:lnTo>
                    <a:pt x="595" y="67"/>
                  </a:lnTo>
                  <a:lnTo>
                    <a:pt x="590" y="60"/>
                  </a:lnTo>
                  <a:lnTo>
                    <a:pt x="582" y="52"/>
                  </a:lnTo>
                  <a:lnTo>
                    <a:pt x="572" y="46"/>
                  </a:lnTo>
                  <a:lnTo>
                    <a:pt x="560" y="38"/>
                  </a:lnTo>
                  <a:lnTo>
                    <a:pt x="545" y="33"/>
                  </a:lnTo>
                  <a:lnTo>
                    <a:pt x="528" y="27"/>
                  </a:lnTo>
                  <a:lnTo>
                    <a:pt x="509" y="22"/>
                  </a:lnTo>
                  <a:lnTo>
                    <a:pt x="488" y="17"/>
                  </a:lnTo>
                  <a:lnTo>
                    <a:pt x="464" y="12"/>
                  </a:lnTo>
                  <a:lnTo>
                    <a:pt x="441" y="9"/>
                  </a:lnTo>
                  <a:lnTo>
                    <a:pt x="415" y="6"/>
                  </a:lnTo>
                  <a:lnTo>
                    <a:pt x="387" y="4"/>
                  </a:lnTo>
                  <a:lnTo>
                    <a:pt x="359" y="1"/>
                  </a:lnTo>
                  <a:lnTo>
                    <a:pt x="298" y="0"/>
                  </a:lnTo>
                  <a:lnTo>
                    <a:pt x="238" y="1"/>
                  </a:lnTo>
                  <a:lnTo>
                    <a:pt x="209" y="4"/>
                  </a:lnTo>
                  <a:lnTo>
                    <a:pt x="181" y="6"/>
                  </a:lnTo>
                  <a:lnTo>
                    <a:pt x="155" y="9"/>
                  </a:lnTo>
                  <a:lnTo>
                    <a:pt x="132" y="12"/>
                  </a:lnTo>
                  <a:lnTo>
                    <a:pt x="108" y="17"/>
                  </a:lnTo>
                  <a:lnTo>
                    <a:pt x="87" y="22"/>
                  </a:lnTo>
                  <a:lnTo>
                    <a:pt x="68" y="27"/>
                  </a:lnTo>
                  <a:lnTo>
                    <a:pt x="51" y="33"/>
                  </a:lnTo>
                  <a:lnTo>
                    <a:pt x="36" y="38"/>
                  </a:lnTo>
                  <a:lnTo>
                    <a:pt x="24" y="46"/>
                  </a:lnTo>
                  <a:lnTo>
                    <a:pt x="14" y="52"/>
                  </a:lnTo>
                  <a:lnTo>
                    <a:pt x="6" y="60"/>
                  </a:lnTo>
                  <a:lnTo>
                    <a:pt x="1" y="67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d6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08640" y="658800"/>
              <a:ext cx="104760" cy="98640"/>
            </a:xfrm>
            <a:custGeom>
              <a:avLst/>
              <a:gdLst/>
              <a:ahLst/>
              <a:rect l="l" t="t" r="r" b="b"/>
              <a:pathLst>
                <a:path w="596" h="595">
                  <a:moveTo>
                    <a:pt x="298" y="0"/>
                  </a:moveTo>
                  <a:lnTo>
                    <a:pt x="238" y="1"/>
                  </a:lnTo>
                  <a:lnTo>
                    <a:pt x="209" y="4"/>
                  </a:lnTo>
                  <a:lnTo>
                    <a:pt x="181" y="6"/>
                  </a:lnTo>
                  <a:lnTo>
                    <a:pt x="155" y="9"/>
                  </a:lnTo>
                  <a:lnTo>
                    <a:pt x="132" y="12"/>
                  </a:lnTo>
                  <a:lnTo>
                    <a:pt x="108" y="17"/>
                  </a:lnTo>
                  <a:lnTo>
                    <a:pt x="87" y="22"/>
                  </a:lnTo>
                  <a:lnTo>
                    <a:pt x="68" y="27"/>
                  </a:lnTo>
                  <a:lnTo>
                    <a:pt x="51" y="33"/>
                  </a:lnTo>
                  <a:lnTo>
                    <a:pt x="36" y="38"/>
                  </a:lnTo>
                  <a:lnTo>
                    <a:pt x="24" y="46"/>
                  </a:lnTo>
                  <a:lnTo>
                    <a:pt x="14" y="52"/>
                  </a:lnTo>
                  <a:lnTo>
                    <a:pt x="6" y="60"/>
                  </a:lnTo>
                  <a:lnTo>
                    <a:pt x="1" y="67"/>
                  </a:lnTo>
                  <a:lnTo>
                    <a:pt x="0" y="74"/>
                  </a:lnTo>
                  <a:lnTo>
                    <a:pt x="0" y="521"/>
                  </a:lnTo>
                  <a:lnTo>
                    <a:pt x="1" y="528"/>
                  </a:lnTo>
                  <a:lnTo>
                    <a:pt x="6" y="536"/>
                  </a:lnTo>
                  <a:lnTo>
                    <a:pt x="14" y="543"/>
                  </a:lnTo>
                  <a:lnTo>
                    <a:pt x="24" y="549"/>
                  </a:lnTo>
                  <a:lnTo>
                    <a:pt x="36" y="557"/>
                  </a:lnTo>
                  <a:lnTo>
                    <a:pt x="51" y="563"/>
                  </a:lnTo>
                  <a:lnTo>
                    <a:pt x="68" y="568"/>
                  </a:lnTo>
                  <a:lnTo>
                    <a:pt x="87" y="573"/>
                  </a:lnTo>
                  <a:lnTo>
                    <a:pt x="108" y="578"/>
                  </a:lnTo>
                  <a:lnTo>
                    <a:pt x="132" y="583"/>
                  </a:lnTo>
                  <a:lnTo>
                    <a:pt x="155" y="587"/>
                  </a:lnTo>
                  <a:lnTo>
                    <a:pt x="181" y="589"/>
                  </a:lnTo>
                  <a:lnTo>
                    <a:pt x="209" y="592"/>
                  </a:lnTo>
                  <a:lnTo>
                    <a:pt x="238" y="594"/>
                  </a:lnTo>
                  <a:lnTo>
                    <a:pt x="298" y="595"/>
                  </a:lnTo>
                  <a:lnTo>
                    <a:pt x="359" y="594"/>
                  </a:lnTo>
                  <a:lnTo>
                    <a:pt x="387" y="592"/>
                  </a:lnTo>
                  <a:lnTo>
                    <a:pt x="415" y="589"/>
                  </a:lnTo>
                  <a:lnTo>
                    <a:pt x="441" y="587"/>
                  </a:lnTo>
                  <a:lnTo>
                    <a:pt x="464" y="583"/>
                  </a:lnTo>
                  <a:lnTo>
                    <a:pt x="488" y="578"/>
                  </a:lnTo>
                  <a:lnTo>
                    <a:pt x="509" y="573"/>
                  </a:lnTo>
                  <a:lnTo>
                    <a:pt x="528" y="568"/>
                  </a:lnTo>
                  <a:lnTo>
                    <a:pt x="545" y="563"/>
                  </a:lnTo>
                  <a:lnTo>
                    <a:pt x="560" y="557"/>
                  </a:lnTo>
                  <a:lnTo>
                    <a:pt x="572" y="549"/>
                  </a:lnTo>
                  <a:lnTo>
                    <a:pt x="582" y="543"/>
                  </a:lnTo>
                  <a:lnTo>
                    <a:pt x="590" y="536"/>
                  </a:lnTo>
                  <a:lnTo>
                    <a:pt x="595" y="528"/>
                  </a:lnTo>
                  <a:lnTo>
                    <a:pt x="596" y="521"/>
                  </a:lnTo>
                  <a:lnTo>
                    <a:pt x="596" y="74"/>
                  </a:lnTo>
                  <a:lnTo>
                    <a:pt x="595" y="67"/>
                  </a:lnTo>
                  <a:lnTo>
                    <a:pt x="590" y="60"/>
                  </a:lnTo>
                  <a:lnTo>
                    <a:pt x="582" y="52"/>
                  </a:lnTo>
                  <a:lnTo>
                    <a:pt x="572" y="46"/>
                  </a:lnTo>
                  <a:lnTo>
                    <a:pt x="560" y="38"/>
                  </a:lnTo>
                  <a:lnTo>
                    <a:pt x="545" y="33"/>
                  </a:lnTo>
                  <a:lnTo>
                    <a:pt x="528" y="27"/>
                  </a:lnTo>
                  <a:lnTo>
                    <a:pt x="509" y="22"/>
                  </a:lnTo>
                  <a:lnTo>
                    <a:pt x="488" y="17"/>
                  </a:lnTo>
                  <a:lnTo>
                    <a:pt x="464" y="12"/>
                  </a:lnTo>
                  <a:lnTo>
                    <a:pt x="441" y="9"/>
                  </a:lnTo>
                  <a:lnTo>
                    <a:pt x="415" y="6"/>
                  </a:lnTo>
                  <a:lnTo>
                    <a:pt x="387" y="4"/>
                  </a:lnTo>
                  <a:lnTo>
                    <a:pt x="359" y="1"/>
                  </a:lnTo>
                  <a:lnTo>
                    <a:pt x="298" y="0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208640" y="671400"/>
              <a:ext cx="104760" cy="11160"/>
            </a:xfrm>
            <a:custGeom>
              <a:avLst/>
              <a:gdLst/>
              <a:ahLst/>
              <a:rect l="l" t="t" r="r" b="b"/>
              <a:pathLst>
                <a:path w="596" h="75">
                  <a:moveTo>
                    <a:pt x="0" y="0"/>
                  </a:moveTo>
                  <a:lnTo>
                    <a:pt x="1" y="8"/>
                  </a:lnTo>
                  <a:lnTo>
                    <a:pt x="6" y="15"/>
                  </a:lnTo>
                  <a:lnTo>
                    <a:pt x="14" y="23"/>
                  </a:lnTo>
                  <a:lnTo>
                    <a:pt x="24" y="29"/>
                  </a:lnTo>
                  <a:lnTo>
                    <a:pt x="36" y="36"/>
                  </a:lnTo>
                  <a:lnTo>
                    <a:pt x="51" y="43"/>
                  </a:lnTo>
                  <a:lnTo>
                    <a:pt x="68" y="48"/>
                  </a:lnTo>
                  <a:lnTo>
                    <a:pt x="87" y="52"/>
                  </a:lnTo>
                  <a:lnTo>
                    <a:pt x="108" y="57"/>
                  </a:lnTo>
                  <a:lnTo>
                    <a:pt x="132" y="62"/>
                  </a:lnTo>
                  <a:lnTo>
                    <a:pt x="155" y="66"/>
                  </a:lnTo>
                  <a:lnTo>
                    <a:pt x="181" y="69"/>
                  </a:lnTo>
                  <a:lnTo>
                    <a:pt x="209" y="71"/>
                  </a:lnTo>
                  <a:lnTo>
                    <a:pt x="238" y="74"/>
                  </a:lnTo>
                  <a:lnTo>
                    <a:pt x="298" y="75"/>
                  </a:lnTo>
                  <a:lnTo>
                    <a:pt x="359" y="74"/>
                  </a:lnTo>
                  <a:lnTo>
                    <a:pt x="387" y="71"/>
                  </a:lnTo>
                  <a:lnTo>
                    <a:pt x="415" y="69"/>
                  </a:lnTo>
                  <a:lnTo>
                    <a:pt x="441" y="66"/>
                  </a:lnTo>
                  <a:lnTo>
                    <a:pt x="464" y="62"/>
                  </a:lnTo>
                  <a:lnTo>
                    <a:pt x="488" y="57"/>
                  </a:lnTo>
                  <a:lnTo>
                    <a:pt x="509" y="52"/>
                  </a:lnTo>
                  <a:lnTo>
                    <a:pt x="528" y="48"/>
                  </a:lnTo>
                  <a:lnTo>
                    <a:pt x="545" y="43"/>
                  </a:lnTo>
                  <a:lnTo>
                    <a:pt x="560" y="36"/>
                  </a:lnTo>
                  <a:lnTo>
                    <a:pt x="572" y="29"/>
                  </a:lnTo>
                  <a:lnTo>
                    <a:pt x="582" y="23"/>
                  </a:lnTo>
                  <a:lnTo>
                    <a:pt x="590" y="15"/>
                  </a:lnTo>
                  <a:lnTo>
                    <a:pt x="595" y="8"/>
                  </a:lnTo>
                  <a:lnTo>
                    <a:pt x="596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469280" y="758880"/>
              <a:ext cx="144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6" name="" descr=""/>
            <p:cNvPicPr/>
            <p:nvPr/>
          </p:nvPicPr>
          <p:blipFill>
            <a:blip r:embed="rId18"/>
            <a:stretch/>
          </p:blipFill>
          <p:spPr>
            <a:xfrm>
              <a:off x="7407360" y="612720"/>
              <a:ext cx="147600" cy="1875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</p:pic>
        <p:sp>
          <p:nvSpPr>
            <p:cNvPr id="377" name=""/>
            <p:cNvSpPr/>
            <p:nvPr/>
          </p:nvSpPr>
          <p:spPr>
            <a:xfrm>
              <a:off x="7653240" y="758880"/>
              <a:ext cx="180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8" name="" descr=""/>
            <p:cNvPicPr/>
            <p:nvPr/>
          </p:nvPicPr>
          <p:blipFill>
            <a:blip r:embed="rId19"/>
            <a:stretch/>
          </p:blipFill>
          <p:spPr>
            <a:xfrm>
              <a:off x="7591320" y="612720"/>
              <a:ext cx="147600" cy="1875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</p:pic>
        <p:sp>
          <p:nvSpPr>
            <p:cNvPr id="379" name=""/>
            <p:cNvSpPr/>
            <p:nvPr/>
          </p:nvSpPr>
          <p:spPr>
            <a:xfrm>
              <a:off x="7929360" y="758880"/>
              <a:ext cx="180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0" name="" descr=""/>
            <p:cNvPicPr/>
            <p:nvPr/>
          </p:nvPicPr>
          <p:blipFill>
            <a:blip r:embed="rId20"/>
            <a:stretch/>
          </p:blipFill>
          <p:spPr>
            <a:xfrm>
              <a:off x="7867440" y="612720"/>
              <a:ext cx="147960" cy="1875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</p:pic>
        <p:sp>
          <p:nvSpPr>
            <p:cNvPr id="381" name=""/>
            <p:cNvSpPr/>
            <p:nvPr/>
          </p:nvSpPr>
          <p:spPr>
            <a:xfrm>
              <a:off x="8115120" y="758880"/>
              <a:ext cx="180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2" name="" descr=""/>
            <p:cNvPicPr/>
            <p:nvPr/>
          </p:nvPicPr>
          <p:blipFill>
            <a:blip r:embed="rId21"/>
            <a:stretch/>
          </p:blipFill>
          <p:spPr>
            <a:xfrm>
              <a:off x="8053200" y="612720"/>
              <a:ext cx="147960" cy="1875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</p:pic>
        <p:sp>
          <p:nvSpPr>
            <p:cNvPr id="383" name=""/>
            <p:cNvSpPr/>
            <p:nvPr/>
          </p:nvSpPr>
          <p:spPr>
            <a:xfrm>
              <a:off x="8299440" y="758880"/>
              <a:ext cx="144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4" name="" descr=""/>
            <p:cNvPicPr/>
            <p:nvPr/>
          </p:nvPicPr>
          <p:blipFill>
            <a:blip r:embed="rId22"/>
            <a:stretch/>
          </p:blipFill>
          <p:spPr>
            <a:xfrm>
              <a:off x="8237520" y="612720"/>
              <a:ext cx="147600" cy="1875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</p:pic>
        <p:sp>
          <p:nvSpPr>
            <p:cNvPr id="385" name=""/>
            <p:cNvSpPr/>
            <p:nvPr/>
          </p:nvSpPr>
          <p:spPr>
            <a:xfrm>
              <a:off x="7191360" y="836640"/>
              <a:ext cx="1200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299360" y="347760"/>
              <a:ext cx="183960" cy="14760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284960" y="3128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8" name="" descr=""/>
            <p:cNvPicPr/>
            <p:nvPr/>
          </p:nvPicPr>
          <p:blipFill>
            <a:blip r:embed="rId23"/>
            <a:stretch/>
          </p:blipFill>
          <p:spPr>
            <a:xfrm>
              <a:off x="7607160" y="1198440"/>
              <a:ext cx="160560" cy="15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"/>
          <p:cNvSpPr/>
          <p:nvPr/>
        </p:nvSpPr>
        <p:spPr>
          <a:xfrm>
            <a:off x="3352680" y="4572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695400" y="5562720"/>
            <a:ext cx="3704400" cy="448920"/>
          </a:xfrm>
          <a:prstGeom prst="rect">
            <a:avLst/>
          </a:prstGeom>
          <a:noFill/>
          <a:ln w="76320">
            <a:solidFill>
              <a:srgbClr val="3333ff"/>
            </a:solidFill>
            <a:miter/>
          </a:ln>
          <a:effectLst>
            <a:outerShdw dist="153753" dir="2700000" blurRad="0" rotWithShape="0">
              <a:srgbClr val="1e1e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Cost 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rot="18505200">
            <a:off x="2760120" y="3611880"/>
            <a:ext cx="3637440" cy="448920"/>
          </a:xfrm>
          <a:prstGeom prst="rect">
            <a:avLst/>
          </a:prstGeom>
          <a:noFill/>
          <a:ln w="76320">
            <a:solidFill>
              <a:srgbClr val="3333ff"/>
            </a:solidFill>
            <a:miter/>
          </a:ln>
          <a:effectLst>
            <a:outerShdw dist="153753" dir="2700000" blurRad="0" rotWithShape="0">
              <a:srgbClr val="1e1e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key IP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773680" y="877680"/>
            <a:ext cx="295200" cy="140004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39760" y="267840"/>
            <a:ext cx="8618400" cy="38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ompelling Offers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37680" y="94572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iate service with wireless remote access VP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mulate traffic with remote e-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25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mulate applications and appliances via Wireless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ciricles" descr=""/>
          <p:cNvPicPr/>
          <p:nvPr/>
        </p:nvPicPr>
        <p:blipFill>
          <a:blip r:embed="rId1"/>
          <a:srcRect l="2620" t="5438" r="10998" b="14653"/>
          <a:stretch/>
        </p:blipFill>
        <p:spPr>
          <a:xfrm>
            <a:off x="4678200" y="1455840"/>
            <a:ext cx="4191120" cy="45720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6469200" y="6073920"/>
            <a:ext cx="2674800" cy="46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75840" y="166680"/>
            <a:ext cx="8596440" cy="810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Wireless Internet Applications Framework</a:t>
            </a:r>
            <a:br>
              <a:rPr sz="2800"/>
            </a:b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74240" y="1468080"/>
            <a:ext cx="4429080" cy="30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161640" indent="-161640">
              <a:lnSpc>
                <a:spcPct val="90000"/>
              </a:lnSpc>
              <a:spcAft>
                <a:spcPts val="499"/>
              </a:spcAft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centric devices (notebook PCs, PDAs, 2-way messengers) are not subsidiz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200" indent="-309600">
              <a:lnSpc>
                <a:spcPct val="90000"/>
              </a:lnSpc>
              <a:spcAft>
                <a:spcPts val="451"/>
              </a:spcAft>
              <a:buClr>
                <a:srgbClr val="003399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d radios or digital phone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200" indent="-309600">
              <a:lnSpc>
                <a:spcPct val="90000"/>
              </a:lnSpc>
              <a:spcAft>
                <a:spcPts val="451"/>
              </a:spcAft>
              <a:buClr>
                <a:srgbClr val="003399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ser / enterpri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fined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1640" indent="-161640">
              <a:lnSpc>
                <a:spcPct val="90000"/>
              </a:lnSpc>
              <a:spcAft>
                <a:spcPts val="499"/>
              </a:spcAft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ce centric devices (cell phones, smartphones) are subsidiz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200" indent="-309600">
              <a:lnSpc>
                <a:spcPct val="90000"/>
              </a:lnSpc>
              <a:spcAft>
                <a:spcPts val="451"/>
              </a:spcAft>
              <a:buClr>
                <a:srgbClr val="003399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S / WAP provide vehicles for messaging and information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200" indent="-309600">
              <a:lnSpc>
                <a:spcPct val="90000"/>
              </a:lnSpc>
              <a:spcAft>
                <a:spcPts val="451"/>
              </a:spcAft>
              <a:buClr>
                <a:srgbClr val="003399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rvice provi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fined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118200" y="2857680"/>
            <a:ext cx="131328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e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16200000">
            <a:off x="6179040" y="4379400"/>
            <a:ext cx="1258200" cy="35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arrow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952880" y="6019920"/>
            <a:ext cx="38232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Mass Market Phones (subsidiz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965120" y="831960"/>
            <a:ext cx="37317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Non-Phone Data-Centric De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(not subsidiz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208840" y="4076640"/>
            <a:ext cx="132696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ss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fo.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097760" y="4076640"/>
            <a:ext cx="132696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fo.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-C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575320" y="1836720"/>
            <a:ext cx="239688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Mail, Wireles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te Access VP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022800" y="5070600"/>
            <a:ext cx="2424240" cy="1420560"/>
          </a:xfrm>
          <a:prstGeom prst="rect">
            <a:avLst/>
          </a:prstGeom>
          <a:solidFill>
            <a:srgbClr val="e4a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 via 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.e. UUNET, MSN,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326200" y="806400"/>
            <a:ext cx="3817800" cy="3973680"/>
          </a:xfrm>
          <a:prstGeom prst="rect">
            <a:avLst/>
          </a:prstGeom>
          <a:solidFill>
            <a:srgbClr val="e4a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-Site Enterpris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504120" y="384372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porate Location #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04120" y="148932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porate Location #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almvii_prod" descr=""/>
          <p:cNvPicPr/>
          <p:nvPr/>
        </p:nvPicPr>
        <p:blipFill>
          <a:blip r:embed="rId1"/>
          <a:srcRect l="24294" t="0" r="24143" b="0"/>
          <a:stretch/>
        </p:blipFill>
        <p:spPr>
          <a:xfrm>
            <a:off x="235080" y="4780080"/>
            <a:ext cx="628560" cy="14619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134640" y="229644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227240" y="2836080"/>
            <a:ext cx="95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G Circuit via 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prodspot_palmiiie_topview" descr=""/>
          <p:cNvPicPr/>
          <p:nvPr/>
        </p:nvPicPr>
        <p:blipFill>
          <a:blip r:embed="rId2"/>
          <a:srcRect l="27549" t="0" r="16724" b="32452"/>
          <a:stretch/>
        </p:blipFill>
        <p:spPr>
          <a:xfrm>
            <a:off x="25560" y="1379520"/>
            <a:ext cx="607680" cy="893880"/>
          </a:xfrm>
          <a:prstGeom prst="rect">
            <a:avLst/>
          </a:prstGeom>
          <a:ln w="0">
            <a:noFill/>
          </a:ln>
        </p:spPr>
      </p:pic>
      <p:cxnSp>
        <p:nvCxnSpPr>
          <p:cNvPr id="414" name=""/>
          <p:cNvCxnSpPr>
            <a:stCxn id="413" idx="3"/>
            <a:endCxn id="415" idx="1"/>
          </p:cNvCxnSpPr>
          <p:nvPr/>
        </p:nvCxnSpPr>
        <p:spPr>
          <a:xfrm>
            <a:off x="632880" y="1827000"/>
            <a:ext cx="4611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6" name=""/>
          <p:cNvSpPr/>
          <p:nvPr/>
        </p:nvSpPr>
        <p:spPr>
          <a:xfrm>
            <a:off x="1498680" y="1827360"/>
            <a:ext cx="65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nokia6185" descr=""/>
          <p:cNvPicPr/>
          <p:nvPr/>
        </p:nvPicPr>
        <p:blipFill>
          <a:blip r:embed="rId3"/>
          <a:stretch/>
        </p:blipFill>
        <p:spPr>
          <a:xfrm>
            <a:off x="1093680" y="1177920"/>
            <a:ext cx="428760" cy="1297080"/>
          </a:xfrm>
          <a:prstGeom prst="rect">
            <a:avLst/>
          </a:prstGeom>
          <a:ln w="0">
            <a:noFill/>
          </a:ln>
        </p:spPr>
      </p:pic>
      <p:cxnSp>
        <p:nvCxnSpPr>
          <p:cNvPr id="418" name=""/>
          <p:cNvCxnSpPr/>
          <p:nvPr/>
        </p:nvCxnSpPr>
        <p:spPr>
          <a:xfrm>
            <a:off x="919080" y="5905080"/>
            <a:ext cx="1231200" cy="1080"/>
          </a:xfrm>
          <a:prstGeom prst="bentConnector2">
            <a:avLst/>
          </a:prstGeom>
          <a:ln w="12600">
            <a:solidFill>
              <a:srgbClr val="000000"/>
            </a:solidFill>
            <a:prstDash val="sysDot"/>
            <a:miter/>
          </a:ln>
        </p:spPr>
      </p:cxnSp>
      <p:sp>
        <p:nvSpPr>
          <p:cNvPr id="419" name=""/>
          <p:cNvSpPr/>
          <p:nvPr/>
        </p:nvSpPr>
        <p:spPr>
          <a:xfrm flipH="1" flipV="1">
            <a:off x="1810800" y="2016000"/>
            <a:ext cx="1800" cy="696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324480" y="5810400"/>
            <a:ext cx="533520" cy="609480"/>
          </a:xfrm>
          <a:prstGeom prst="flowChartMagneticDisk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491240" y="5884200"/>
            <a:ext cx="73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ent 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6843240" y="5861160"/>
            <a:ext cx="533160" cy="532800"/>
            <a:chOff x="6843240" y="5861160"/>
            <a:chExt cx="533160" cy="532800"/>
          </a:xfrm>
        </p:grpSpPr>
        <p:sp>
          <p:nvSpPr>
            <p:cNvPr id="423" name=""/>
            <p:cNvSpPr/>
            <p:nvPr/>
          </p:nvSpPr>
          <p:spPr>
            <a:xfrm flipH="1">
              <a:off x="6843240" y="5861160"/>
              <a:ext cx="5331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6843240" y="60894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6843240" y="6165720"/>
              <a:ext cx="53316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26" name=""/>
          <p:cNvCxnSpPr/>
          <p:nvPr/>
        </p:nvCxnSpPr>
        <p:spPr>
          <a:xfrm>
            <a:off x="928440" y="4114440"/>
            <a:ext cx="1230840" cy="1080"/>
          </a:xfrm>
          <a:prstGeom prst="bentConnector2">
            <a:avLst/>
          </a:prstGeom>
          <a:ln w="12600">
            <a:solidFill>
              <a:srgbClr val="000000"/>
            </a:solidFill>
            <a:prstDash val="sysDot"/>
            <a:miter/>
          </a:ln>
        </p:spPr>
      </p:cxnSp>
      <p:pic>
        <p:nvPicPr>
          <p:cNvPr id="427" name="16" descr=""/>
          <p:cNvPicPr/>
          <p:nvPr/>
        </p:nvPicPr>
        <p:blipFill>
          <a:blip r:embed="rId4"/>
          <a:srcRect l="5341" t="0" r="0" b="0"/>
          <a:stretch/>
        </p:blipFill>
        <p:spPr>
          <a:xfrm>
            <a:off x="0" y="3100320"/>
            <a:ext cx="1352520" cy="1333440"/>
          </a:xfrm>
          <a:prstGeom prst="rect">
            <a:avLst/>
          </a:prstGeom>
          <a:ln w="0">
            <a:noFill/>
          </a:ln>
        </p:spPr>
      </p:pic>
      <p:cxnSp>
        <p:nvCxnSpPr>
          <p:cNvPr id="428" name=""/>
          <p:cNvCxnSpPr>
            <a:stCxn id="427" idx="0"/>
            <a:endCxn id="417" idx="2"/>
          </p:cNvCxnSpPr>
          <p:nvPr/>
        </p:nvCxnSpPr>
        <p:spPr>
          <a:xfrm flipH="1" flipV="1" rot="5400000">
            <a:off x="679320" y="2471040"/>
            <a:ext cx="626040" cy="63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9" name=""/>
          <p:cNvSpPr/>
          <p:nvPr/>
        </p:nvSpPr>
        <p:spPr>
          <a:xfrm>
            <a:off x="817560" y="4771440"/>
            <a:ext cx="1355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G Circuit via integrated radio or PCMCIA c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646280" y="5369040"/>
            <a:ext cx="0" cy="469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1644480" y="4294080"/>
            <a:ext cx="0" cy="509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638680" y="3687840"/>
            <a:ext cx="827280" cy="83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te Access 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901960" y="1562040"/>
            <a:ext cx="406440" cy="2342880"/>
            <a:chOff x="2901960" y="1562040"/>
            <a:chExt cx="406440" cy="2342880"/>
          </a:xfrm>
        </p:grpSpPr>
        <p:sp>
          <p:nvSpPr>
            <p:cNvPr id="434" name=""/>
            <p:cNvSpPr/>
            <p:nvPr/>
          </p:nvSpPr>
          <p:spPr>
            <a:xfrm>
              <a:off x="2901960" y="1562040"/>
              <a:ext cx="406440" cy="234288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6200000">
              <a:off x="2111760" y="2584800"/>
              <a:ext cx="198756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STN Location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2901960" y="4114800"/>
            <a:ext cx="406440" cy="1866960"/>
            <a:chOff x="2901960" y="4114800"/>
            <a:chExt cx="406440" cy="1866960"/>
          </a:xfrm>
        </p:grpSpPr>
        <p:sp>
          <p:nvSpPr>
            <p:cNvPr id="437" name=""/>
            <p:cNvSpPr/>
            <p:nvPr/>
          </p:nvSpPr>
          <p:spPr>
            <a:xfrm>
              <a:off x="2901960" y="4114800"/>
              <a:ext cx="406440" cy="18669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6213800">
              <a:off x="2348280" y="4900320"/>
              <a:ext cx="15145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STN Location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39" name=""/>
          <p:cNvCxnSpPr>
            <a:stCxn id="437" idx="3"/>
            <a:endCxn id="432" idx="1"/>
          </p:cNvCxnSpPr>
          <p:nvPr/>
        </p:nvCxnSpPr>
        <p:spPr>
          <a:xfrm flipV="1">
            <a:off x="3308040" y="4104720"/>
            <a:ext cx="2331000" cy="943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5640480" y="1333440"/>
            <a:ext cx="826920" cy="83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te Access 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4" idx="3"/>
            <a:endCxn id="440" idx="1"/>
          </p:cNvCxnSpPr>
          <p:nvPr/>
        </p:nvCxnSpPr>
        <p:spPr>
          <a:xfrm flipV="1">
            <a:off x="3308400" y="1750680"/>
            <a:ext cx="2332800" cy="983520"/>
          </a:xfrm>
          <a:prstGeom prst="bentConnector3">
            <a:avLst>
              <a:gd name="adj1" fmla="val 4996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stCxn id="434" idx="1"/>
            <a:endCxn id="443" idx="3"/>
          </p:cNvCxnSpPr>
          <p:nvPr/>
        </p:nvCxnSpPr>
        <p:spPr>
          <a:xfrm flipV="1" rot="10800000">
            <a:off x="2590200" y="2733840"/>
            <a:ext cx="311760" cy="1038600"/>
          </a:xfrm>
          <a:prstGeom prst="bentConnector3">
            <a:avLst>
              <a:gd name="adj1" fmla="val 4994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4" name=""/>
          <p:cNvCxnSpPr>
            <a:stCxn id="437" idx="1"/>
            <a:endCxn id="443" idx="3"/>
          </p:cNvCxnSpPr>
          <p:nvPr/>
        </p:nvCxnSpPr>
        <p:spPr>
          <a:xfrm rot="10800000">
            <a:off x="2590200" y="3771360"/>
            <a:ext cx="311760" cy="1276560"/>
          </a:xfrm>
          <a:prstGeom prst="bentConnector3">
            <a:avLst>
              <a:gd name="adj1" fmla="val 4994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45" name=""/>
          <p:cNvGrpSpPr/>
          <p:nvPr/>
        </p:nvGrpSpPr>
        <p:grpSpPr>
          <a:xfrm>
            <a:off x="2133720" y="1562040"/>
            <a:ext cx="457200" cy="4419360"/>
            <a:chOff x="2133720" y="1562040"/>
            <a:chExt cx="457200" cy="4419360"/>
          </a:xfrm>
        </p:grpSpPr>
        <p:sp>
          <p:nvSpPr>
            <p:cNvPr id="443" name=""/>
            <p:cNvSpPr/>
            <p:nvPr/>
          </p:nvSpPr>
          <p:spPr>
            <a:xfrm>
              <a:off x="2133720" y="1562040"/>
              <a:ext cx="457200" cy="44193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6200000">
              <a:off x="1377000" y="3623040"/>
              <a:ext cx="198756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reless 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5516640" y="1197000"/>
            <a:ext cx="2205000" cy="11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516640" y="3556080"/>
            <a:ext cx="2205000" cy="11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"/>
          <p:cNvCxnSpPr>
            <a:stCxn id="406" idx="0"/>
            <a:endCxn id="407" idx="2"/>
          </p:cNvCxnSpPr>
          <p:nvPr/>
        </p:nvCxnSpPr>
        <p:spPr>
          <a:xfrm flipV="1">
            <a:off x="7235640" y="4779360"/>
            <a:ext cx="108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39760" y="267840"/>
            <a:ext cx="8618400" cy="7686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How Mobile End-users Connect to Enterprise Networks Today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251000" y="3295800"/>
            <a:ext cx="2718360" cy="93564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ircuit Switch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sumes Full Voice 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tensive idl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ll Char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064280" y="2635200"/>
            <a:ext cx="533520" cy="609480"/>
          </a:xfrm>
          <a:prstGeom prst="flowChartMagneticDisk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840800" y="2680200"/>
            <a:ext cx="107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49920" y="2362320"/>
            <a:ext cx="2970360" cy="114876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quires external security &amp;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dem Pool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alability Iss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igher equipment c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96960" y="1949400"/>
            <a:ext cx="2224440" cy="509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pensive Leased 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alability Iss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022800" y="5070600"/>
            <a:ext cx="2424240" cy="1420560"/>
          </a:xfrm>
          <a:prstGeom prst="rect">
            <a:avLst/>
          </a:prstGeom>
          <a:solidFill>
            <a:srgbClr val="e4a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 via 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.e. UUNET, MSN,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326200" y="806400"/>
            <a:ext cx="3817800" cy="3973680"/>
          </a:xfrm>
          <a:prstGeom prst="rect">
            <a:avLst/>
          </a:prstGeom>
          <a:solidFill>
            <a:srgbClr val="e4a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-Site Enterpris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504120" y="384372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porate Location #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504120" y="148932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porate Location #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palmvii_prod" descr=""/>
          <p:cNvPicPr/>
          <p:nvPr/>
        </p:nvPicPr>
        <p:blipFill>
          <a:blip r:embed="rId1"/>
          <a:srcRect l="24294" t="0" r="24143" b="0"/>
          <a:stretch/>
        </p:blipFill>
        <p:spPr>
          <a:xfrm>
            <a:off x="235080" y="4780080"/>
            <a:ext cx="628560" cy="146196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134640" y="229644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27240" y="2667960"/>
            <a:ext cx="952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G Circuit or 2.5G 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prodspot_palmiiie_topview" descr=""/>
          <p:cNvPicPr/>
          <p:nvPr/>
        </p:nvPicPr>
        <p:blipFill>
          <a:blip r:embed="rId2"/>
          <a:srcRect l="27549" t="0" r="16724" b="32452"/>
          <a:stretch/>
        </p:blipFill>
        <p:spPr>
          <a:xfrm>
            <a:off x="25560" y="1379520"/>
            <a:ext cx="607680" cy="893880"/>
          </a:xfrm>
          <a:prstGeom prst="rect">
            <a:avLst/>
          </a:prstGeom>
          <a:ln w="0">
            <a:noFill/>
          </a:ln>
        </p:spPr>
      </p:pic>
      <p:cxnSp>
        <p:nvCxnSpPr>
          <p:cNvPr id="464" name=""/>
          <p:cNvCxnSpPr>
            <a:stCxn id="463" idx="3"/>
            <a:endCxn id="465" idx="1"/>
          </p:cNvCxnSpPr>
          <p:nvPr/>
        </p:nvCxnSpPr>
        <p:spPr>
          <a:xfrm>
            <a:off x="632880" y="1827000"/>
            <a:ext cx="4611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66" name=""/>
          <p:cNvSpPr/>
          <p:nvPr/>
        </p:nvSpPr>
        <p:spPr>
          <a:xfrm>
            <a:off x="1498680" y="1827360"/>
            <a:ext cx="65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nokia6185" descr=""/>
          <p:cNvPicPr/>
          <p:nvPr/>
        </p:nvPicPr>
        <p:blipFill>
          <a:blip r:embed="rId3"/>
          <a:stretch/>
        </p:blipFill>
        <p:spPr>
          <a:xfrm>
            <a:off x="1093680" y="1177920"/>
            <a:ext cx="428760" cy="1297080"/>
          </a:xfrm>
          <a:prstGeom prst="rect">
            <a:avLst/>
          </a:prstGeom>
          <a:ln w="0">
            <a:noFill/>
          </a:ln>
        </p:spPr>
      </p:pic>
      <p:cxnSp>
        <p:nvCxnSpPr>
          <p:cNvPr id="468" name=""/>
          <p:cNvCxnSpPr/>
          <p:nvPr/>
        </p:nvCxnSpPr>
        <p:spPr>
          <a:xfrm>
            <a:off x="919080" y="5905080"/>
            <a:ext cx="1231200" cy="1080"/>
          </a:xfrm>
          <a:prstGeom prst="bentConnector2">
            <a:avLst/>
          </a:prstGeom>
          <a:ln w="12600">
            <a:solidFill>
              <a:srgbClr val="000000"/>
            </a:solidFill>
            <a:prstDash val="sysDot"/>
            <a:miter/>
          </a:ln>
        </p:spPr>
      </p:cxnSp>
      <p:sp>
        <p:nvSpPr>
          <p:cNvPr id="469" name=""/>
          <p:cNvSpPr/>
          <p:nvPr/>
        </p:nvSpPr>
        <p:spPr>
          <a:xfrm flipH="1" flipV="1">
            <a:off x="1810800" y="2016000"/>
            <a:ext cx="1800" cy="696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324480" y="5810400"/>
            <a:ext cx="533520" cy="609480"/>
          </a:xfrm>
          <a:prstGeom prst="flowChartMagneticDisk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491240" y="5884200"/>
            <a:ext cx="73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ent 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6843240" y="5861160"/>
            <a:ext cx="533160" cy="532800"/>
            <a:chOff x="6843240" y="5861160"/>
            <a:chExt cx="533160" cy="532800"/>
          </a:xfrm>
        </p:grpSpPr>
        <p:sp>
          <p:nvSpPr>
            <p:cNvPr id="473" name=""/>
            <p:cNvSpPr/>
            <p:nvPr/>
          </p:nvSpPr>
          <p:spPr>
            <a:xfrm flipH="1">
              <a:off x="6843240" y="5861160"/>
              <a:ext cx="5331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6843240" y="60894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 flipV="1">
              <a:off x="6843240" y="6165720"/>
              <a:ext cx="53316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76" name=""/>
          <p:cNvCxnSpPr/>
          <p:nvPr/>
        </p:nvCxnSpPr>
        <p:spPr>
          <a:xfrm>
            <a:off x="928440" y="4114440"/>
            <a:ext cx="1230840" cy="1080"/>
          </a:xfrm>
          <a:prstGeom prst="bentConnector2">
            <a:avLst/>
          </a:prstGeom>
          <a:ln w="12600">
            <a:solidFill>
              <a:srgbClr val="000000"/>
            </a:solidFill>
            <a:prstDash val="sysDot"/>
            <a:miter/>
          </a:ln>
        </p:spPr>
      </p:cxnSp>
      <p:pic>
        <p:nvPicPr>
          <p:cNvPr id="477" name="16" descr=""/>
          <p:cNvPicPr/>
          <p:nvPr/>
        </p:nvPicPr>
        <p:blipFill>
          <a:blip r:embed="rId4"/>
          <a:srcRect l="5341" t="0" r="0" b="0"/>
          <a:stretch/>
        </p:blipFill>
        <p:spPr>
          <a:xfrm>
            <a:off x="0" y="3100320"/>
            <a:ext cx="1352520" cy="1333440"/>
          </a:xfrm>
          <a:prstGeom prst="rect">
            <a:avLst/>
          </a:prstGeom>
          <a:ln w="0">
            <a:noFill/>
          </a:ln>
        </p:spPr>
      </p:pic>
      <p:cxnSp>
        <p:nvCxnSpPr>
          <p:cNvPr id="478" name=""/>
          <p:cNvCxnSpPr>
            <a:stCxn id="477" idx="0"/>
            <a:endCxn id="467" idx="2"/>
          </p:cNvCxnSpPr>
          <p:nvPr/>
        </p:nvCxnSpPr>
        <p:spPr>
          <a:xfrm flipH="1" flipV="1" rot="5400000">
            <a:off x="679320" y="2471040"/>
            <a:ext cx="626040" cy="63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9" name=""/>
          <p:cNvSpPr/>
          <p:nvPr/>
        </p:nvSpPr>
        <p:spPr>
          <a:xfrm>
            <a:off x="817560" y="4680720"/>
            <a:ext cx="1355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G Circuit or  2.5G Packet via integrated radio or PCMCIA c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646280" y="5369040"/>
            <a:ext cx="0" cy="469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1644480" y="4294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3" idx="6"/>
            <a:endCxn id="484" idx="1"/>
          </p:cNvCxnSpPr>
          <p:nvPr/>
        </p:nvCxnSpPr>
        <p:spPr>
          <a:xfrm>
            <a:off x="4222440" y="3771720"/>
            <a:ext cx="1375560" cy="324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5" name=""/>
          <p:cNvSpPr/>
          <p:nvPr/>
        </p:nvSpPr>
        <p:spPr>
          <a:xfrm>
            <a:off x="5599080" y="1333440"/>
            <a:ext cx="969840" cy="833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ivity Extranet 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3" idx="6"/>
            <a:endCxn id="485" idx="1"/>
          </p:cNvCxnSpPr>
          <p:nvPr/>
        </p:nvCxnSpPr>
        <p:spPr>
          <a:xfrm flipV="1">
            <a:off x="4222440" y="1750680"/>
            <a:ext cx="1377000" cy="202176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87" name=""/>
          <p:cNvGrpSpPr/>
          <p:nvPr/>
        </p:nvGrpSpPr>
        <p:grpSpPr>
          <a:xfrm>
            <a:off x="2133720" y="1562040"/>
            <a:ext cx="457200" cy="4419360"/>
            <a:chOff x="2133720" y="1562040"/>
            <a:chExt cx="457200" cy="4419360"/>
          </a:xfrm>
        </p:grpSpPr>
        <p:sp>
          <p:nvSpPr>
            <p:cNvPr id="488" name=""/>
            <p:cNvSpPr/>
            <p:nvPr/>
          </p:nvSpPr>
          <p:spPr>
            <a:xfrm>
              <a:off x="2133720" y="1562040"/>
              <a:ext cx="457200" cy="44193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16200000">
              <a:off x="1377000" y="3623040"/>
              <a:ext cx="198756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reless 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5516640" y="1197000"/>
            <a:ext cx="2205000" cy="11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516640" y="3556080"/>
            <a:ext cx="2205000" cy="1109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56" idx="0"/>
            <a:endCxn id="457" idx="2"/>
          </p:cNvCxnSpPr>
          <p:nvPr/>
        </p:nvCxnSpPr>
        <p:spPr>
          <a:xfrm flipV="1">
            <a:off x="7235640" y="4779360"/>
            <a:ext cx="108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9760" y="267840"/>
            <a:ext cx="8618400" cy="38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Turnkey Offer: Wireless Remote Access VPN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112920" y="1752480"/>
            <a:ext cx="1109880" cy="4038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ag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4" name=""/>
          <p:cNvCxnSpPr>
            <a:stCxn id="488" idx="3"/>
            <a:endCxn id="483" idx="2"/>
          </p:cNvCxnSpPr>
          <p:nvPr/>
        </p:nvCxnSpPr>
        <p:spPr>
          <a:xfrm>
            <a:off x="2590920" y="3771720"/>
            <a:ext cx="52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4" name=""/>
          <p:cNvSpPr/>
          <p:nvPr/>
        </p:nvSpPr>
        <p:spPr>
          <a:xfrm>
            <a:off x="5597640" y="3678120"/>
            <a:ext cx="969840" cy="833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ivity Extranet 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006720" y="2144880"/>
            <a:ext cx="2193840" cy="7225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solidation of Internet and intranet access lin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871640" y="985680"/>
            <a:ext cx="3254760" cy="7225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fficient use of bandwidth/chann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lways on - Minimized Set u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dwidth on de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064280" y="2635200"/>
            <a:ext cx="533520" cy="609480"/>
          </a:xfrm>
          <a:prstGeom prst="flowChartMagneticDisk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840800" y="2680200"/>
            <a:ext cx="107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170040" y="2441520"/>
            <a:ext cx="2130120" cy="93564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alable, all in one 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lug and p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mbedded 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 Mod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4T22:44:55Z</dcterms:created>
  <dc:creator>Don Miller</dc:creator>
  <dc:description/>
  <dc:language>en-US</dc:language>
  <cp:lastModifiedBy>Nortel Networks</cp:lastModifiedBy>
  <cp:lastPrinted>2000-01-20T11:29:51Z</cp:lastPrinted>
  <dcterms:modified xsi:type="dcterms:W3CDTF">2000-02-21T09:09:49Z</dcterms:modified>
  <cp:revision>601</cp:revision>
  <dc:subject>positioning the new Nortel+Bay Networks</dc:subject>
  <dc:title>Evolving the networked world</dc:title>
</cp:coreProperties>
</file>