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492C-FFD0-4B09-BE8C-2E4AA04C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ACC6-C860-4212-A5EB-11BF4C38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36DD-44CD-495C-87C8-ED3CE34E4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AD96-A588-44B4-84EF-2AA48C639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0B8E-C1B7-4D86-933A-5DD53CAE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12FE-42E3-4FB0-984C-AB0C693A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3A1A-C8E8-428E-A74E-5570993C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4DFE-5F5C-4062-B821-CC25D368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61C2-DE8F-42CD-BBBE-806D1943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7AF0-A6E2-4F40-93AD-EAE5E70D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C875-0C6A-4A55-9790-42530D06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F0C2-5DD0-4970-906C-C0BFB53A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07E0-8ADD-401B-B431-D9EE1C37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41CB-A936-4692-A176-4EF74FFE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7672-3A7B-46FE-860E-E114A040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0713-B3CC-429C-9B72-4ADDE2E66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F15A-AD48-4190-84AB-CDED73B6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9C01-302F-42A3-A452-501B8FCB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2DD3-29C3-4430-8AF7-7062CA0B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4624-ECD3-4539-B1AC-A4FF2863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AB2D-58C8-4F2F-8A19-D8B9C5FE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954E-2F7C-455A-A3D7-4FF07975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6707-0A84-43EE-9392-2E7F9C7B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9E60-FA99-4731-B3F7-EB1CBE5A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DF4C-1E2F-475D-BAD3-3ABF8EF6CEC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" name="newlogo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295280" cy="89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5EA4-2B88-4995-A6AA-C52EFB042FB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newlogo" descr=""/>
          <p:cNvPicPr/>
          <p:nvPr/>
        </p:nvPicPr>
        <p:blipFill>
          <a:blip r:embed="rId2"/>
          <a:stretch/>
        </p:blipFill>
        <p:spPr>
          <a:xfrm>
            <a:off x="3124080" y="228600"/>
            <a:ext cx="2890800" cy="1996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­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51195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arch 1st, Seoul, Kor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04812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APNIC IPv6 Updat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7360" y="4191120"/>
            <a:ext cx="578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pecial Interest Group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PNIC Ran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458200" cy="48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Pv6 Requests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ived 9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 allo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under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JP (WIDE-JP, NTT-JP, JENS-J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AU (CONNECT-A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KR (KOREN-KR, ETRI-K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SG (NUS-S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1 TW (HINET-T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Pv6 reques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Research ISP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Government IS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Commercial ISP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Bone Exper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 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IR upda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alloca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U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7200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PE NC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 allo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DE, 2 UK, CH, AT, GR, RU, NL and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7200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v6 Allocation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http://www.dfn.de/service/ipv6/ipv6aggis.html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 difficul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i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ault Free Zon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ion Servic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ing Sc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ied our exa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ing peering relation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ocu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60240" y="1344600"/>
            <a:ext cx="7925040" cy="53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v6 policy docu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apnic.net/drafts/ipv6/ipv6-policy-280599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 review - feedback wel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request 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apnic.net/apnic-bin/ipv6-subtla-request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14400" y="304812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ne Lord</cp:lastModifiedBy>
  <cp:lastPrinted>2000-02-17T05:14:50Z</cp:lastPrinted>
  <dcterms:modified xsi:type="dcterms:W3CDTF">2000-02-21T02:17:16Z</dcterms:modified>
  <cp:revision>14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apnic.net</vt:lpwstr>
  </property>
  <property fmtid="{D5CDD505-2E9C-101B-9397-08002B2CF9AE}" pid="9" name="LinkColor">
    <vt:r8>16711782</vt:r8>
  </property>
  <property fmtid="{D5CDD505-2E9C-101B-9397-08002B2CF9AE}" pid="10" name="MailAddress">
    <vt:lpwstr>pwilson@apnic.net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APNIC\Presentations\html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