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2825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0108" t="15968" r="10108" b="23969"/>
          <a:stretch/>
        </p:blipFill>
        <p:spPr>
          <a:xfrm>
            <a:off x="7451640" y="4680"/>
            <a:ext cx="1179720" cy="373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664480" y="0"/>
            <a:ext cx="1258920" cy="380880"/>
          </a:xfrm>
          <a:prstGeom prst="rect">
            <a:avLst/>
          </a:prstGeom>
          <a:gradFill rotWithShape="0">
            <a:gsLst>
              <a:gs pos="0">
                <a:srgbClr val="e60114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116680" y="0"/>
            <a:ext cx="23112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601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5199120" cy="380880"/>
          </a:xfrm>
          <a:prstGeom prst="rect">
            <a:avLst/>
          </a:prstGeom>
          <a:solidFill>
            <a:srgbClr val="e60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560" y="290160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Internet Protocol Voic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95320" y="706320"/>
            <a:ext cx="82231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(3) Voice for Facilities Based Resell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3voice" descr=""/>
          <p:cNvPicPr/>
          <p:nvPr/>
        </p:nvPicPr>
        <p:blipFill>
          <a:blip r:embed="rId1"/>
          <a:stretch/>
        </p:blipFill>
        <p:spPr>
          <a:xfrm>
            <a:off x="1200240" y="1773360"/>
            <a:ext cx="7646760" cy="2693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98760" y="2378160"/>
            <a:ext cx="22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84440" y="2749680"/>
            <a:ext cx="2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64080" y="3533760"/>
            <a:ext cx="22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5760" y="3778200"/>
            <a:ext cx="2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01040" y="2968560"/>
            <a:ext cx="22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119200">
            <a:off x="3507480" y="3841560"/>
            <a:ext cx="231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vel 3 Enhanced all-IP-based 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0520" y="4770360"/>
            <a:ext cx="8735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 Customer routes call to nearest Level 3 Gateway via one of the multi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nectivity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  SS7 signaling path is routed through the Level 3 Softswitch to the local teleph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 servicing the called pa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  Call is converted to an IP format and routed to a Level 3 Gateway near the called pa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.  Level 3 converts call back to a traditional switched format and routes it to the local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ephone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  Local telephone company routes call to called pa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1480" y="787320"/>
            <a:ext cx="79326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lobal IP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network_map" descr=""/>
          <p:cNvPicPr/>
          <p:nvPr/>
        </p:nvPicPr>
        <p:blipFill>
          <a:blip r:embed="rId1"/>
          <a:stretch/>
        </p:blipFill>
        <p:spPr>
          <a:xfrm>
            <a:off x="1208160" y="1573200"/>
            <a:ext cx="7719840" cy="3303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092960" y="5178600"/>
            <a:ext cx="3993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lf Healing SONET/SHD r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ulti-conduit fiber optic network (WD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ll IP, no circuit switch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21520" y="5178600"/>
            <a:ext cx="3630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1 international city networ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0 U.S. city networ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ransatlantic and transpacific c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3040" y="8744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Summar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5240" y="1981080"/>
            <a:ext cx="808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P Voice works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ftswitch architecture assures PSTN quality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P Voice is less expensive today and improving faster than PST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morrow, IP Voice will be better quality than PSTN, have more features and be far less 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920" y="44280"/>
            <a:ext cx="3492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IP Voice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Level%203%20rev.red3N" descr=""/>
          <p:cNvPicPr/>
          <p:nvPr/>
        </p:nvPicPr>
        <p:blipFill>
          <a:blip r:embed="rId1"/>
          <a:stretch/>
        </p:blipFill>
        <p:spPr>
          <a:xfrm>
            <a:off x="2035080" y="2340000"/>
            <a:ext cx="58309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3040" y="74268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Internet Protocol Voic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78280" y="1752120"/>
            <a:ext cx="536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oice quality indistinguishable from the telephone net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ll setup times indistinguishable from the telephone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 additional customer equipment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 change in user behavior patterns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verages silicon econo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920" y="44280"/>
            <a:ext cx="3492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IP Voice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3040" y="3124080"/>
            <a:ext cx="280512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ransmissn%20netwk%20NEW2" descr=""/>
          <p:cNvPicPr/>
          <p:nvPr/>
        </p:nvPicPr>
        <p:blipFill>
          <a:blip r:embed="rId1"/>
          <a:stretch/>
        </p:blipFill>
        <p:spPr>
          <a:xfrm>
            <a:off x="2414520" y="2671920"/>
            <a:ext cx="4951440" cy="3914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764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Key Concepts</a:t>
            </a:r>
            <a:br>
              <a:rPr sz="3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jor Communication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09840" y="2390760"/>
            <a:ext cx="1650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P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08600" y="2386080"/>
            <a:ext cx="1733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S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16440" y="2001960"/>
            <a:ext cx="1898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44280"/>
            <a:ext cx="3492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IP Voice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355" b="0"/>
          <a:stretch/>
        </p:blipFill>
        <p:spPr>
          <a:xfrm>
            <a:off x="422280" y="1895400"/>
            <a:ext cx="6234120" cy="4084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3040" y="764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Key Concepts</a:t>
            </a:r>
            <a:br>
              <a:rPr sz="3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Circuit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32520" y="1981080"/>
            <a:ext cx="255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grated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priet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prietary servic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920" y="44280"/>
            <a:ext cx="3492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IP Voice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7617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Key Concepts</a:t>
            </a:r>
            <a:br>
              <a:rPr sz="3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7 Enabled Soft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86280" y="1839960"/>
            <a:ext cx="288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stributed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pe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pen interfaces enable new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verflow to PSTN when quality is unac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920" y="44280"/>
            <a:ext cx="3492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IP Voice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key%20concepts4" descr=""/>
          <p:cNvPicPr/>
          <p:nvPr/>
        </p:nvPicPr>
        <p:blipFill>
          <a:blip r:embed="rId1"/>
          <a:stretch/>
        </p:blipFill>
        <p:spPr>
          <a:xfrm>
            <a:off x="417600" y="2152800"/>
            <a:ext cx="6146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64000" y="2438280"/>
            <a:ext cx="3961080" cy="3429000"/>
          </a:xfrm>
          <a:prstGeom prst="bevel">
            <a:avLst>
              <a:gd name="adj" fmla="val 1574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7520" y="2438280"/>
            <a:ext cx="3962160" cy="3429000"/>
          </a:xfrm>
          <a:prstGeom prst="bevel">
            <a:avLst>
              <a:gd name="adj" fmla="val 1574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7538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apital Cost Comparison</a:t>
            </a:r>
            <a:br>
              <a:rPr sz="3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 Per Ports For 32,256 Ports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U.S. Dolla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2590920"/>
            <a:ext cx="3837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l Control 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.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 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-7 Gatewa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O Cross Connec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3.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7320" y="3809880"/>
            <a:ext cx="3795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 Integrated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9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1120" y="20178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oft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91080" y="201780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ircuit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3040" y="6183360"/>
            <a:ext cx="244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 Level 3 Estim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920" y="44280"/>
            <a:ext cx="3492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IP Voice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23720" y="2058840"/>
            <a:ext cx="3714840" cy="2676600"/>
          </a:xfrm>
          <a:prstGeom prst="bevel">
            <a:avLst>
              <a:gd name="adj" fmla="val 2019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4200" y="753840"/>
            <a:ext cx="841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apital Cost Comparis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120" y="2189160"/>
            <a:ext cx="354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ime To 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erformance Per D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14960" y="1920960"/>
            <a:ext cx="51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urrently a distributed softswitch costs 40% to 45% less than an equivalent circuit swit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iven relative price-performance improvement rates, softswitches will be much less expensive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ver t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tributed components with open interfaces will spur development of new appl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920" y="44280"/>
            <a:ext cx="3492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IP Voice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7280" y="3257640"/>
            <a:ext cx="342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5960" y="3594240"/>
            <a:ext cx="25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ircuit Switch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oftswitch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60240" y="4813200"/>
            <a:ext cx="8664840" cy="60984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0240" y="4165560"/>
            <a:ext cx="8664840" cy="60948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0240" y="3517920"/>
            <a:ext cx="8664840" cy="60948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0240" y="2870280"/>
            <a:ext cx="8664840" cy="60948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0240" y="2209680"/>
            <a:ext cx="8664840" cy="60984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3040" y="7538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Voice Quality Factors</a:t>
            </a:r>
            <a:br>
              <a:rPr sz="3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elephone 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6800" y="2246400"/>
            <a:ext cx="851688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49"/>
              </a:spcBef>
              <a:spcAft>
                <a:spcPts val="1624"/>
              </a:spcAft>
              <a:buNone/>
              <a:tabLst>
                <a:tab algn="l" pos="0"/>
                <a:tab algn="ctr" pos="5597640"/>
                <a:tab algn="l" pos="7711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tency (delay two-way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 than 250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spcAft>
                <a:spcPts val="1624"/>
              </a:spcAft>
              <a:buNone/>
              <a:tabLst>
                <a:tab algn="l" pos="0"/>
                <a:tab algn="ctr" pos="5597640"/>
                <a:tab algn="l" pos="7711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ll setup delay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to 3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spcAft>
                <a:spcPts val="1624"/>
              </a:spcAft>
              <a:buNone/>
              <a:tabLst>
                <a:tab algn="l" pos="0"/>
                <a:tab algn="ctr" pos="5597640"/>
                <a:tab algn="l" pos="7711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gnal los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 than 0.5 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spcAft>
                <a:spcPts val="1624"/>
              </a:spcAft>
              <a:buNone/>
              <a:tabLst>
                <a:tab algn="l" pos="0"/>
                <a:tab algn="ctr" pos="5597640"/>
                <a:tab algn="l" pos="7711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cket los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in 10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spcAft>
                <a:spcPts val="1624"/>
              </a:spcAft>
              <a:buNone/>
              <a:tabLst>
                <a:tab algn="l" pos="0"/>
                <a:tab algn="ctr" pos="5597640"/>
                <a:tab algn="l" pos="7711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peech Quality     Less than 2.0 ITU PSQM S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920" y="44280"/>
            <a:ext cx="3492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IP Voice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60240" y="4824360"/>
            <a:ext cx="8664840" cy="60948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240" y="4176720"/>
            <a:ext cx="8664840" cy="60948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0240" y="3529080"/>
            <a:ext cx="8664840" cy="60948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0240" y="2870280"/>
            <a:ext cx="8664840" cy="60948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0240" y="2209680"/>
            <a:ext cx="8664840" cy="609840"/>
          </a:xfrm>
          <a:prstGeom prst="bevel">
            <a:avLst>
              <a:gd name="adj" fmla="val 9116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3040" y="7538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ctual Quality Measuremen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6800" y="2252520"/>
            <a:ext cx="851688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3828960"/>
                <a:tab algn="l" pos="6172200"/>
                <a:tab algn="l" pos="7711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ncy (delay two-way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 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3828960"/>
                <a:tab algn="l" pos="6172200"/>
                <a:tab algn="l" pos="7711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setup dela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second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3828960"/>
                <a:tab algn="l" pos="6172200"/>
                <a:tab algn="l" pos="7711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al lo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 0 d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 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3828960"/>
                <a:tab algn="l" pos="6172200"/>
                <a:tab algn="l" pos="7711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lo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in 1,000,0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3828960"/>
                <a:tab algn="l" pos="6172200"/>
                <a:tab algn="l" pos="7711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ech Qual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1 PSQ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1 PSQ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920" y="44280"/>
            <a:ext cx="3492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IP Voice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81400" y="1601640"/>
            <a:ext cx="24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6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660840"/>
                <a:tab algn="l" pos="6113520"/>
                <a:tab algn="l" pos="771192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ftswi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72240" y="1595520"/>
            <a:ext cx="3094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6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3660840"/>
                <a:tab algn="l" pos="6113520"/>
                <a:tab algn="l" pos="771192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ircuit Swi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7T17:19:29Z</dcterms:created>
  <dc:creator>Dinah Sink</dc:creator>
  <dc:description/>
  <dc:language>en-US</dc:language>
  <cp:lastModifiedBy>LISA CONSIGLIO</cp:lastModifiedBy>
  <cp:lastPrinted>2000-02-01T09:24:27Z</cp:lastPrinted>
  <dcterms:modified xsi:type="dcterms:W3CDTF">2000-02-16T08:58:19Z</dcterms:modified>
  <cp:revision>79</cp:revision>
  <dc:subject/>
  <dc:title>Market Trends</dc:title>
</cp:coreProperties>
</file>