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EF93-3639-4CD1-B2E6-B0FABA9A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831B-64AB-4E68-B880-2073E5C9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23C0-9972-4B54-958A-E8192FBF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55B7-B11F-498E-AED2-BB47EF29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E173-3AA7-4FED-94D5-9EEDDD07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074A-73E7-4C28-8877-41F59040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5ABD-AC8A-48AB-954F-1112E8E2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53BA-5338-4517-9349-91D52E68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D07F-697E-49AB-A35B-3CC7E1A9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428B-D49E-4B51-8018-EE7E6895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3964-F7CF-4120-A2DE-71982BCB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AAE7-230B-4E5B-A54C-A22A3475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3016-7F0B-4A65-AB11-A88819DAA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 Develop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e web plat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26080" y="4419720"/>
            <a:ext cx="19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Mari Telec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untak L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web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56600" y="2760840"/>
            <a:ext cx="66531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Single player arcade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player vs player arcade(strategy) game [Real Tim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player vs player board game [Turn base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Community 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ing an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18480" y="2901960"/>
            <a:ext cx="6072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OS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[stability, network performan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DB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[performan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Web Server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[easy maintenance, performan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Script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[easy to us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2514600"/>
            <a:ext cx="9144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2514600"/>
            <a:ext cx="9144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14600"/>
            <a:ext cx="1828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3809880"/>
            <a:ext cx="1828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ipt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2514600"/>
            <a:ext cx="9144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3429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2895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4114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77120" y="2895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4114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89120" y="5121360"/>
            <a:ext cx="36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ingle Server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ulti Server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Gam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1520" y="2293920"/>
            <a:ext cx="61286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ground, Scenari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tle based/Trade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long do you want a game campaign exi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e Player Inte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81360" y="2479680"/>
            <a:ext cx="5821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Web Game does not permit real-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on between pla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of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with boards and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 System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38960" y="2597040"/>
            <a:ext cx="2750040" cy="28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ulti Player Ab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lay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impl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eque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64040" y="2228760"/>
            <a:ext cx="445572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CGI -&gt; Web server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Dynamic data ca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Tuning Web Server &amp;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Minimize Time Triggered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Robot player 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 Service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88440" y="2362320"/>
            <a:ext cx="4141440" cy="25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er Feedback - e-mail, no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er Punis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Bal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1T05:27:40Z</dcterms:created>
  <dc:creator>daath</dc:creator>
  <dc:description/>
  <dc:language>en-US</dc:language>
  <cp:lastModifiedBy>daath</cp:lastModifiedBy>
  <dcterms:modified xsi:type="dcterms:W3CDTF">2000-02-21T09:01:26Z</dcterms:modified>
  <cp:revision>1</cp:revision>
  <dc:subject/>
  <dc:title>Game Development on the web platform</dc:title>
</cp:coreProperties>
</file>