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B0C-0BED-42D9-AEFE-06197DDC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603-3F2F-472D-B272-476CFDE5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724-B6C1-4A56-B9B7-888F20A1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2DF-1EE5-426A-B263-350AAB87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5BA-212D-48A0-84F1-E5A519E4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CE5-65A7-44D1-AB6F-73656DBE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662-A670-4BEF-895B-A3248A9B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835-0946-4AA8-BA80-68F65F87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791-2ABC-454D-B4A9-1E7961E5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D1D-EC71-4A75-BCE8-C40637D2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B02-4A0F-4EDE-A645-E95607F4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6B4-C47F-4E8D-8E41-5DB16F9E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7713-8003-437A-988D-C89A3A18B0D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ong@makkoya.com" TargetMode="External"/><Relationship Id="rId2" Type="http://schemas.openxmlformats.org/officeDocument/2006/relationships/hyperlink" Target="http://www.makkoya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Network Game Strateg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DongHee Ho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굴림"/>
                <a:hlinkClick r:id="rId1"/>
              </a:rPr>
              <a:t>Hong@makkoya.co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굴림"/>
                <a:hlinkClick r:id="rId2"/>
              </a:rPr>
              <a:t>HTTP://www.makkoya.co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Makkoya Entertainment Co. Ltd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oday’s Game Industr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ast Growing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mpetitiv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hort Life Cyc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Long Development Tim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igh Risk/High Profi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kkoya Entertainment Co. Lt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Problems of Conventional Gam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Uncertainty of the produc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llegal Cop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ales and distribu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Unable to provide maintenan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kkoya Entertainment Co. Lt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Network Game is …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roviding complex servic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Built-in charging syst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No/Less expenses on sales and distribu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ntinuous upgrade and revis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Less competitivenes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roviding unique amuseme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kkoya Entertainment Co. Lt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Problems of Network Gam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nnec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igh maintenance cost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rregular user traffic/Conges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Effect from all other servic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Hacking/Attack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kkoya Entertainment Co. Lt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Network Game Model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harging based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xed rate (personal/site based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Hourly rat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ree of charge (Advertisement/Inc. hit ratio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nnection based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Dedicat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DSL, ISDN, Mode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nterface based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Web bas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Dedicated Applet bas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kkoya Entertainment Co. Lt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Network Game Model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rver based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UNIX/Mini computer vs. PCs (NT/LINUX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Match Server vs. Event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rvice based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MUG(Multi-user graphic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MUD(Multi-user dunge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pplication promotional/System promotion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apacity based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mall (1, 2-8 people play together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arge (10 – 1,000 people in one field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kkoya Entertainment Co. Lt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50000">
              <a:srgbClr val="fbe4ae"/>
            </a:gs>
            <a:gs pos="100000">
              <a:srgbClr val="fae3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inning Strategy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ick up the right model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ent application will be critical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nsider the connection status of service region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Maximize the advantage of on-line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nsider the development time and cost effectiveness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rver technology is essential. (Infra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kkoya Entertainment Co. Lt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03:12:50Z</dcterms:created>
  <dc:creator>DongHee Hong</dc:creator>
  <dc:description/>
  <dc:language>en-US</dc:language>
  <cp:lastModifiedBy>DongHee Hong</cp:lastModifiedBy>
  <dcterms:modified xsi:type="dcterms:W3CDTF">2000-03-02T03:27:56Z</dcterms:modified>
  <cp:revision>4</cp:revision>
  <dc:subject/>
  <dc:title>Network Game Strategy</dc:title>
</cp:coreProperties>
</file>