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11782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884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39724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8500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39724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8500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850680"/>
            <a:ext cx="5288040" cy="62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52880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9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850680"/>
            <a:ext cx="5288040" cy="62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1884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11782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31884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724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85000" y="8506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9724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85000" y="1178280"/>
            <a:ext cx="17024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52880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9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8840" y="11782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8840" y="850680"/>
            <a:ext cx="258048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1178280"/>
            <a:ext cx="5288040" cy="2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89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539040" y="6589800"/>
            <a:ext cx="2514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467-C9FC-43C5-A69B-F9DE39F1A6A6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6160" y="1336320"/>
            <a:ext cx="823428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8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8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89000"/>
              </a:lnSpc>
              <a:spcBef>
                <a:spcPts val="16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35080">
              <a:lnSpc>
                <a:spcPct val="89000"/>
              </a:lnSpc>
              <a:spcBef>
                <a:spcPts val="165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-169920">
              <a:lnSpc>
                <a:spcPct val="89000"/>
              </a:lnSpc>
              <a:spcBef>
                <a:spcPts val="165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-169920">
              <a:lnSpc>
                <a:spcPct val="89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-169920">
              <a:lnSpc>
                <a:spcPct val="89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95360" y="1143000"/>
            <a:ext cx="8077320" cy="114480"/>
            <a:chOff x="495360" y="1143000"/>
            <a:chExt cx="8077320" cy="114480"/>
          </a:xfrm>
        </p:grpSpPr>
        <p:sp>
          <p:nvSpPr>
            <p:cNvPr id="4" name=""/>
            <p:cNvSpPr/>
            <p:nvPr/>
          </p:nvSpPr>
          <p:spPr>
            <a:xfrm>
              <a:off x="571680" y="1143000"/>
              <a:ext cx="800100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5360" y="1171440"/>
              <a:ext cx="7848720" cy="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 rot="5400000">
            <a:off x="5568840" y="3018240"/>
            <a:ext cx="592776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fdfdf"/>
                </a:solidFill>
                <a:latin typeface="LucentBold"/>
              </a:rPr>
              <a:t>Next Generation Network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7960" y="4734000"/>
            <a:ext cx="2799000" cy="1876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4640" indent="0" algn="ctr">
              <a:lnSpc>
                <a:spcPct val="94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algn="ctr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2520" algn="ctr">
              <a:lnSpc>
                <a:spcPct val="94000"/>
              </a:lnSpc>
              <a:spcBef>
                <a:spcPts val="337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4960" algn="ctr">
              <a:lnSpc>
                <a:spcPct val="94000"/>
              </a:lnSpc>
              <a:spcBef>
                <a:spcPts val="337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4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4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0600" y="2855520"/>
            <a:ext cx="5931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Virtual Private Networ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4420800"/>
            <a:ext cx="5059440" cy="11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Ca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Consul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working Systems, Service Provider Networ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ase@lucen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NextFinal%20copy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609480"/>
            <a:ext cx="609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PN - Defini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345680"/>
            <a:ext cx="8246880" cy="22971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35080" indent="0">
              <a:lnSpc>
                <a:spcPct val="11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 class of network services that use public or shared network resources to emulate the characteristics of a private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160" y="3736800"/>
            <a:ext cx="8288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y use shared facilities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re (partly) managed, engineered and operated by a public network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re comparable to private network solutions in performance, reliability,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urity and Quality of Service (Q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ivacy and Security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6160" y="1336320"/>
            <a:ext cx="823428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11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Iso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mean many (potentially competing) customer s using the same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d User Group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must be kept priv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and Overlapping IP Address Space must be Isol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1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 Trust relationship between the Service Provider and the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 can vary according to the data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1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ly Enough - Trust has Never been an issue until VPNs implemented with IP technologies came into be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plementation: Past, Present and Futur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6160" y="1336320"/>
            <a:ext cx="823428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13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sed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high mar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predictable Network Behav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Bandwidth intens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Difficult to Pro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3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Two Technologies: Frame Relay and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D$10 Billion (and growing) service industry Worldw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Predictable Network Behav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3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to Pro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plementation: Past, Present and Future (Con’t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6160" y="1336320"/>
            <a:ext cx="823428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12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nd Tunneling (IPIP, IPSec, GRE, et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2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’s Greatest Streng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12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one talks to Every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12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Provis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2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nneling schemes do not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12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ifficult to provis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 algn="ctr">
              <a:lnSpc>
                <a:spcPct val="12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carry routing protocols (OSPF, RIP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12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cessor In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2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pplicable to Small Enterprise Do-It-Yourself implementations or when the customer does not Trust the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plementation: Past, Present and Future (Con’t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6160" y="1336320"/>
            <a:ext cx="823428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14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4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some predictability to IP WAN networks by guaranteeing network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4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s Traffic Isolation and Closed User Groups (Standards still being defin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149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s IP’s Strength of Automatic Provis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149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the ability to provision non-optimal paths for best effort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149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plementation: The Real Worl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6160" y="1336320"/>
            <a:ext cx="82342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8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94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MPLS offers Automatic Provisioning of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till provision path as des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94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Other technologies must provision each pat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 Squared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1650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94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TM, and to some extent, Frame Relay CIR, Offer Q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2480">
              <a:lnSpc>
                <a:spcPct val="94000"/>
              </a:lnSpc>
              <a:spcBef>
                <a:spcPts val="374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LS does NOT h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/Maximum Bandwidth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Poli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169920">
              <a:lnSpc>
                <a:spcPct val="94000"/>
              </a:lnSpc>
              <a:spcBef>
                <a:spcPts val="337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 and Jitter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35080" algn="ctr">
              <a:lnSpc>
                <a:spcPct val="94000"/>
              </a:lnSpc>
              <a:spcBef>
                <a:spcPts val="337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ed by Variable length packe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9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840" y="5745240"/>
            <a:ext cx="803088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b6f"/>
                </a:solidFill>
                <a:latin typeface="Times New Roman"/>
              </a:rPr>
              <a:t>Obviously, a mixture of MPLS and ATM technologies are the best path to a Service Oriented 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1885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Expensive part VS. the Easy par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480" y="3933720"/>
            <a:ext cx="76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496880"/>
            <a:ext cx="0" cy="4776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4480" y="6273720"/>
            <a:ext cx="698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6448320"/>
            <a:ext cx="274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 Provid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1760" y="5594400"/>
            <a:ext cx="1587600" cy="52056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8160" y="4890960"/>
            <a:ext cx="1085760" cy="52092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216320"/>
            <a:ext cx="1670040" cy="52092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ed/Managed C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616120"/>
            <a:ext cx="1587240" cy="52092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 with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dwidth guaran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006640"/>
            <a:ext cx="1663560" cy="53352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1015920"/>
            <a:ext cx="1663560" cy="82548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ing &amp;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225960"/>
            <a:ext cx="1663560" cy="838080"/>
          </a:xfrm>
          <a:prstGeom prst="rect">
            <a:avLst/>
          </a:prstGeom>
          <a:solidFill>
            <a:srgbClr val="fdf7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Host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bor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B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1680" y="3921840"/>
            <a:ext cx="592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5840" y="52660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xpensiv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837360"/>
            <a:ext cx="947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73480" y="24958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as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50600" y="2855520"/>
            <a:ext cx="5931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4795920"/>
            <a:ext cx="5059440" cy="7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Ca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Consul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working Systems, Service Provider Networ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ase@lucen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NextFinal%20copy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609480"/>
            <a:ext cx="609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cent</cp:lastModifiedBy>
  <dcterms:modified xsi:type="dcterms:W3CDTF">2000-02-18T17:28:38Z</dcterms:modified>
  <cp:revision>9</cp:revision>
  <dc:subject/>
  <dc:title>TOPIC</dc:title>
</cp:coreProperties>
</file>