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947-78C6-405A-91CB-CA71915E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922-2B25-45FC-B7EE-1BD3721E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956-0666-486F-B19F-C1A76DCA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429-6344-4083-85CF-2E48B540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1E70-1A9D-41F0-9768-1AD8DF62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0ABC-7F45-411B-A1F6-ACA0D80B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7F40-CB52-453C-98D5-2CCF355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943B-B859-4175-A219-B2258009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2725-4F69-4859-9CE0-6F0BF013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D0B-20FD-406C-8F2D-48A95041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9EC-33C3-42CC-83ED-B9449965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F80-6B3D-4649-944A-1FB82BAC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D06-2F98-484B-B313-0CBE5796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37F2-1CA7-4ACF-9529-F22E8BA0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F659-389A-4C80-A136-0C549338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F5D8-6886-4DB2-AB4D-AE6C80BC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A542-3AEC-4014-8903-8D3A1BB9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E0E-20DD-430C-A812-43C9E14C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738-9C70-4258-88B3-D6DD4E09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11A-743A-44E8-A84A-A7E4E18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B1C-B509-4B8E-8199-AA6F515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7BD-7B01-44A2-AA74-9E6BC96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9C6-0305-4C58-A36D-DCB21E2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FE2-8480-4836-BD72-5BDEA32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9B8-8F8C-4D61-A56E-CADFCF695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1AB-4B46-488C-B587-69289335E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laim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(Historically Assigned)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non-routed Address Sp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9144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es Spencel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RICOT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oul, South Ko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snooze, you lo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inate a Reclamation Day - RD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gnments not routed by this date are reclai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 arrangements can b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 of re-claimed space, circulated lo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d with RADB et 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snooze, you lo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rate of space retu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rate of reallo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this space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head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ddle 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 (regularly) cont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antine polic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wners can removed at any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n u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cceptable contac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and leg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quarantine period is reached without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space can be reclai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ddle 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for res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rate of ret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head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to Suc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List 1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 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ncouraging valuation / sale of address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y to Success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from (local) ISP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using space from these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have customers using PI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rned about the routability of this sp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*** Education of ISP community *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the people who can convince PI customers at the 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 in Progress 203/10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 have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i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 and Recording u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ing “owner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ing respo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925 Possible /24s 4821 non-rou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ends /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this mean forgott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ddress shortage increases this becomes less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to …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 address ‘Swamps’ in Asia/Pac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upport to AP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back any space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, mailing list (APN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er term 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 interest and look at 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laiming based on ‘Address Shortage’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laiming based on routing table grow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we looking at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Pa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s, typically /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quirement on u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needed &gt;255 addresses your allocated a B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ain largely unused/forgotten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the /24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s made as free-hold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defines a “Swamp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based on current policy (RC205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non-routed assignments outnumber ro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policy or requirement around 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/24 prefix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“owned” PI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nger term effects of “swamps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routability of /2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 List 1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increase to global routing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demand for PA space if /24 not-rout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bother, too ha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ance of acting 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 space will become more valu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NIC has placed a perceived value on address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ceived  address shortage, increase address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ifficult once, assignments are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quatter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-numb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bother, too hard ?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s to be raised now, rather than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bile Phones / Developing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CANN/ASO/RIR structure make reclaiming workable/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-fragment large address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es are needed longer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Solu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swamp is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 in conjunction with RIR and original 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numerous possible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block will need a different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al concern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questing Sp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email cont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an adaptation of “No Questions ask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s a low rate of ret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s a high rate of re-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head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succes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06:48:28Z</dcterms:created>
  <dc:creator>James Spenceley</dc:creator>
  <dc:description/>
  <dc:language>en-US</dc:language>
  <cp:lastModifiedBy>James Spenceley</cp:lastModifiedBy>
  <dcterms:modified xsi:type="dcterms:W3CDTF">2000-03-01T09:56:28Z</dcterms:modified>
  <cp:revision>17</cp:revision>
  <dc:subject/>
  <dc:title>Reclaiming (Historically Assinged) non-routed address space</dc:title>
</cp:coreProperties>
</file>