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71BD-1015-48BD-A807-3DBB76156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388D-27D9-4759-8A72-444F4557E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DF2B-F488-4980-93F3-468075C31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42B5-C5FE-4C7F-B5A9-9185094EE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8481A-1804-4D88-B3FD-D49DB2AFF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965FE-B3D3-4CA0-BF76-EC3C5A40B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57C96-EB6E-46EC-852C-8E92F0EAF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64F1A-EAC4-4A64-AA17-E8EEAB6EC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AA903-8863-4A38-93EE-5984EE898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A533F-85BE-44E1-A3C7-CCF8CE3C7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85FE1-593E-4A8A-953E-F17035FF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E091-6796-4AE8-818D-2C5E307AC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891E2-648B-4950-A57C-DE82F5B0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D8C0C-6F50-4D82-AE27-93E2F471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0B743-F2FC-423D-B3F7-AE271FABC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931E4-F8A9-4CA3-9F93-E02A09754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FF228-E2BB-4FED-B9C6-70365A9D4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E83F-428E-471E-B3F7-91F6C149F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1FF9-7E07-4EC6-B430-51DB4D7E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A4D5-BEB2-46B1-96E2-4BB522E0A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4D2B-C00C-434A-936F-AA87510C8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3E56-BF33-4590-9481-B45AFAB0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3F7C-144B-4825-9FFC-041D00A3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4730-29B8-42DA-BBC1-76EBE899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EA07D-7940-46D7-AC2D-8BF8C62475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D6232-2405-48B3-99EB-6BF97B99C0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claim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(Historically Assigned)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non-routed Address Spac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-9144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mes Spencel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PRICOT 2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oul, South Kore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You snooze, you loo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minate a Reclamation Day - RD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signments not routed by this date are reclaim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or arrangements can be ma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st of re-claimed space, circulated loca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sted with RADB et 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cep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You snooze, you loo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gh rate of space retur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wer rate of reallo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of this space limi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headach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successfu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iddle Groun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ail (regularly) conta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arantine polic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wners can removed at any tim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sed on us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of acceptable contact poli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siness and legal commun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ce quarantine period is reached without cont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dress space can be reclaim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iddle Groun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ower for resu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gh rate of retur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headach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ccessfu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Key to Succes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du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FC 191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cess List 1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 advant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encouraging valuation / sale of address sp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Key to Success (2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p from (local) ISP commun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ically using space from these bloc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ically have customers using PI sp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cerned about the routability of this spa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*** Education of ISP community ***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se are the people who can convince PI customers at the P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ork in Progress 203/10.1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we have d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rip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itoring and Recording us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acting “owner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ording respon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ul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925 Possible /24s 4821 non-rou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rends / Analys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t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 this mean forgotten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address shortage increases this becomes less tr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ere to …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cate address ‘Swamps’ in Asia/Pacif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ress support to APN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 back any space 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ussion, mailing list (APNI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nger term vi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te interest and look at announc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i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laiming based on ‘Address Shortage’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laiming based on routing table grow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are we looking at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Pas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ignments, typically /2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requirement on us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you needed &gt;255 addresses your allocated a B-Cl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main largely unused/forgotten to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pecially the /24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ignments made as free-hold proper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defines a “Swamp”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based on current policy (RC2050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re non-routed assignments outnumber rou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ttle policy or requirement around assig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ly /24 prefix leng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ically “owned” PI 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onger term effects of “swamps”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duced routability of /24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cess List 1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sible increase to global routing stru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rease demand for PA space if /24 not-route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y bother, too har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ortance of acting n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dress space will become more valu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NIC has placed a perceived value on address sp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ceived  address shortage, increase address val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difficult once, assignments are u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quatter righ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-numb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pu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y bother, too hard ?(2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eds to be raised now, rather than l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bile Phones / Developing count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CANN/ASO/RIR structure make reclaiming workable/poss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vant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-fragment large address bloc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dresses are needed longer-te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ome Solut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ery swamp is differ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licy in conjunction with RIR and original admi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numerous possible approach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ery block will need a different approa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gal concerns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questing Spac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ically email conta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fer an adaptation of “No Questions asked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fers a low rate of retur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fers a high rate of re-u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ss headach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ss success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1T06:48:28Z</dcterms:created>
  <dc:creator>James Spenceley</dc:creator>
  <dc:description/>
  <dc:language>en-US</dc:language>
  <cp:lastModifiedBy>James Spenceley</cp:lastModifiedBy>
  <dcterms:modified xsi:type="dcterms:W3CDTF">2000-03-01T09:45:26Z</dcterms:modified>
  <cp:revision>16</cp:revision>
  <dc:subject/>
  <dc:title>Reclaiming (Historically Assinged) non-routed address space</dc:title>
</cp:coreProperties>
</file>