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48500" cy="8934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4FE-0F34-4B4D-8D83-F0F50DFE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01D3-FC6C-4715-8CED-4DA90254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20D-B027-4141-A2C9-3319452D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6492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476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44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6492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476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FD0D-77DC-4D7F-A19E-F8E926C4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C7FC-D222-44C4-933E-6CE19AEB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4C35-D377-4D75-8CA2-D1F5B995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2455-8271-4C24-94BF-7562CDAC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51A1-3E78-4425-825E-351F8CD0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91CD-3936-40C0-9C14-A74EB920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828800" y="228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D476-8566-49B8-ACEE-6BC50308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7DDE-7BCF-4CCC-BA23-B716BF88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178-8556-4970-A25F-DA51B178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FA12-AD1F-451A-91CC-83B3EC5E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BAAA-6747-4795-9798-EEE2C89D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87B9-0A50-470F-AFC0-5B91FEEA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5A5C-D1D6-4094-9314-A6D869CB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6492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4476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44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6492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4476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F70C-B84A-42D8-B5B5-10117B1D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403-66CC-4B68-AEA6-2E503539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D211-9A73-4B19-8954-147FA1B3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3A79-A62B-4B23-9142-C68FA8D3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828800" y="228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744-1CC3-4098-B425-DB19ED51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593-0163-44AF-AC4F-14840BD3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6210-D8C6-4C46-93AB-EDDCC843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E55E-1A75-42DE-89AB-B780DD4D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8906-2DEF-47A8-B808-485ADE8D93C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E3C8-36EC-416F-9AFF-6493669456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newlogo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295280" cy="89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9DB5-22DC-4989-8DE6-E99C37139FD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DD25-C7B0-4DAB-8637-F0281120D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newlogo" descr=""/>
          <p:cNvPicPr/>
          <p:nvPr/>
        </p:nvPicPr>
        <p:blipFill>
          <a:blip r:embed="rId2"/>
          <a:stretch/>
        </p:blipFill>
        <p:spPr>
          <a:xfrm>
            <a:off x="3124080" y="228600"/>
            <a:ext cx="2890800" cy="1996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311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APNIC Open Address Policy Meeting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560" y="3886200"/>
            <a:ext cx="8567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92280" y="4599720"/>
            <a:ext cx="57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ecial Interest Group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80680" y="5403240"/>
            <a:ext cx="41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 2nd, Korea, Seo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37B5-7C64-4D2A-BB31-B0276346EFD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blem Defin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uld it be mandatory to u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-based web hosting w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chnically feasibl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CBF-AE9A-4A84-BAB1-E2D49267174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tivation and Backgrou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id growth of web hos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tual web” or “virtual domain” services now comm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 on free p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to rapidly affect rates of IP address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10C-45E1-4119-9E3D-56632F5C22D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tivation and Backgrou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tions of ho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 based ho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IP address assigned to physical server that hosts several virtual h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 based ho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unique IP address assigned to eac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tual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3A15-7137-4119-A93B-827E34771BA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tivation and Backgrou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based ho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es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of “Host:” headers in HTTP requests eg. HTTP1.1 compliant browsers, and some earlier versions eg. IE3+, Netscape 2.0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exce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SL certific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tual ftp domains with anonymous lo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F83A-CDFA-424B-9CC1-A95D9F0CACB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360" y="142668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3400" indent="-203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764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8680" indent="-203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 based ho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5480" indent="-15264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&gt; /22 requires submission of URL and IP address list OR registration in APNIC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5480" indent="-15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&lt; /22 verification in infra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86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08680" indent="-203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-based ho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5480" indent="-15264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ification in infrastructure (APNIC-06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576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8680" indent="-203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NIC does no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ame-based hosting, but strongl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ourag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08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5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2050-D7A6-485C-A0AA-40DDAD1683F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IP and name-based ho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of IP addresses and corresponding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PE NC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to APNIC 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renumber to name-based when capable browsers widely deplo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community feedback considering to promote name-based hosting as requi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4844-6614-4CF9-8860-BA0361A4A3B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PNIC memb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8440" indent="-1699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ame-based ho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8440" indent="-1699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ly use more than a /22 for IP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84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ation for name-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commerce/SSL in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8440" indent="-1699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change with new HTTP/1.1 upgrades to T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8440" indent="-1699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ft-ietf-tls-http-upgrade-05.t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26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commerce is increasing with virtually hosted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43E-4AD2-4D69-986D-2731C51B194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th of IP-based hosting and SSL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developments through community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-based hosting not manda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need to redefine current policy regarding acceptable threshold (/2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4F76-15F3-4B07-AB5F-DA4AC859549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01:48:08Z</dcterms:created>
  <dc:creator>Anne Lord</dc:creator>
  <dc:description/>
  <dc:language>en-US</dc:language>
  <cp:lastModifiedBy>Guest</cp:lastModifiedBy>
  <cp:lastPrinted>2000-02-23T00:04:11Z</cp:lastPrinted>
  <dcterms:modified xsi:type="dcterms:W3CDTF">2000-02-23T06:50:49Z</dcterms:modified>
  <cp:revision>138</cp:revision>
  <dc:subject/>
  <dc:title>Welcome APNIC Members Training Cou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pwilson@apnic.net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N:\www\Presentations\Beijing Oct 98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