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553B-9195-44BE-A7B2-1C8FB88A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440" y="413712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5690-5C6C-4DE1-93D6-A71BC203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462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4944-D6D4-41E7-AF64-F9E7CE4A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6492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4476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44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6492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4476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A855-EC77-430A-BF18-6659897C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F119-0F64-4E29-9288-221BA025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0FE1-D96C-41C9-900E-C28866B4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DF29-CD4E-4A49-8E8F-C89798D5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F391-BB72-4C1D-B981-D87EBB58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9F2D-2FDE-4F86-94C2-E0C1D26E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828800" y="2282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EC72-8FF3-400C-AB88-3C42F098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B2FD-6179-4A7F-A84E-21FD3119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912-27CE-4550-86CA-95DA6350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62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24C2-18B9-4333-BE1B-8AE21FB5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F41D-CE84-44FB-AE08-6D97B099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440" y="413712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EEDE-EB99-41AD-85B5-FD261517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62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FF07-1385-4D8A-81DF-3B5ED4E9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6492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4476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44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6492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4476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99C8-6C2B-40CE-971E-5A28C33D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E9D0-5E24-46A0-849F-0B1B38E9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2626-D485-47F6-8233-A55204D2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1F63-5C03-489D-9A51-4F871AA0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828800" y="2282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8FBC-A6F1-463F-B2DF-DC654EC0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6C77-51C4-47B2-9A57-E24C013A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462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F907-1790-4710-B107-3E41B120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48B6-33DE-40AD-BD34-49C2C19E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AFF9-B2B1-4EA0-80B3-15D0D75F1E4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2EF2-472C-4C96-B445-7D48FA1EF2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" name="newlogo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295280" cy="89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F9DE-3743-44E0-AFBE-57303414535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0262-0EF8-45DD-8B71-9A310979D2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newlogo" descr=""/>
          <p:cNvPicPr/>
          <p:nvPr/>
        </p:nvPicPr>
        <p:blipFill>
          <a:blip r:embed="rId2"/>
          <a:stretch/>
        </p:blipFill>
        <p:spPr>
          <a:xfrm>
            <a:off x="3124080" y="228600"/>
            <a:ext cx="2890800" cy="1996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algn="ctr"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4120" y="311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APNIC Open Address Policy Meeting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560" y="3886200"/>
            <a:ext cx="85676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14520" y="4391640"/>
            <a:ext cx="57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ecial Interest Group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39560" y="5385600"/>
            <a:ext cx="41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h 2nd, Korea, Seo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E620-CF4E-409A-985C-ECFD99769F6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blem Defini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future of ISP Confe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3BEC-117E-4DE4-951B-44518226804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tivation and Backgrou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0680" y="1379160"/>
            <a:ext cx="79246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Confedera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d address space to further allocate to their me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d multiple allocations concurre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Internet Registries’ (NI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9520" indent="-179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 a membership of a particular coun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P confederation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9520" indent="-179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 a membership of that I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9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ly 7 ISP confed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C91C-F16A-4D41-B57C-5C3DECA395B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548640" indent="-2192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1645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confederations suspended Dec 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24080" indent="-172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 decision following problems with policy frame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1645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bers can open separate member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8640" indent="-2192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PE NC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1645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operate a ‘confederation’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1645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bers open separate memberships for separate al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8640" indent="-2192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1645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as RIPE N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1645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have two NICs - Brazil and Mex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E60E-A9D4-4D77-AFB8-979B8F42969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y fra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226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open allocations permit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8440" indent="-1699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rate address space into ‘pool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226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cate a /19 per m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8440" indent="-1699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ways necessary for ISP confe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226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rastructure not exam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8440" indent="-1699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ed address request form does not ask for infra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226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‘assignment window’ for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8440" indent="-1699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‘second opinion’ for assign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A466-9606-4DF0-AB4F-CC49DEB70B6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39560" y="2448000"/>
          <a:ext cx="7691760" cy="44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2448000"/>
                    <a:ext cx="769176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01560" y="3262320"/>
            <a:ext cx="733896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1920" y="1416960"/>
            <a:ext cx="36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dural over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2280" y="607212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F67-8863-4E78-9ABD-FCEA76FDEDE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2684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182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21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y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31240" indent="-16596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nsistently appl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31240" indent="-16596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fair to me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18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21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y goals not pursued on an equitable b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31240" indent="-16596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31240" indent="-16596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er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31240" indent="-16596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ar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8B2-91C5-410E-AFE8-8192D23C0DC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P confe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they continue, but with modification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, implement assignment and allocation windows and use apnic-065 with their me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es, what criteria determine who can become an ISP confeder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95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no, cease membership catego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C08F-FD7D-40B7-A34B-FC2B2541575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NIC recommends no new ISP confe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members can either convert to multiple memberships or remain as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remain as is, propose to impl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ment and Allocation windows and use apnic-065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EBDE-0CAC-4446-9C03-E7C50917435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01:48:08Z</dcterms:created>
  <dc:creator>Anne Lord</dc:creator>
  <dc:description/>
  <dc:language>en-US</dc:language>
  <cp:lastModifiedBy>Anne Lord</cp:lastModifiedBy>
  <cp:lastPrinted>2000-02-04T00:09:19Z</cp:lastPrinted>
  <dcterms:modified xsi:type="dcterms:W3CDTF">2000-02-22T05:01:40Z</dcterms:modified>
  <cp:revision>131</cp:revision>
  <dc:subject/>
  <dc:title>Welcome APNIC Members Training Cour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pwilson@apnic.net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N:\www\Presentations\Beijing Oct 98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