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6014-3F5F-4BB7-B085-2198CB0DA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440" y="413712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3780-6D36-4FC3-BD51-98408DF4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462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9B1D-3271-40ED-811A-125E3A55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6492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4476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44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6492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4476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53CB-B103-47A2-A124-EF580128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5283-F99A-4FFD-9AFB-443EAD54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35FC-ACC2-48B3-A17A-3E75B233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BB41-5EFF-4804-BDEB-8F0C5F8F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B568-B554-4AEF-89F7-C4B7B007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ADB2-1802-4C39-82BA-C003FC21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828800" y="2282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9675-FED5-4616-B288-84A6C6F0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011F-6ABA-4AEE-81C2-87BFE9C5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D8C4-C1C5-4712-9797-7DC21671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62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8F5C-0408-4E8F-9626-C21F5BFA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30F1-9E5D-4315-919D-A76B0DB8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440" y="413712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7308-1051-4122-8989-E3F05CFB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62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6C39-E5FC-4D76-9A82-EDD41EC9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6492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4476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44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6492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4476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67F6-A126-4D38-BEA0-1CC22A05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305D-BAD8-49CE-9BF8-DDF8EC4E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8CBC-38E3-4298-8364-D6A06CBD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2673-135A-42FD-A1F9-DC1C2CC9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828800" y="2282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3C49-9169-45DD-9875-9C362494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E381-0BA4-4944-B615-326B6CD2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462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060A-496A-4EDB-A537-E5BED35F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85A8-4E8B-4CEC-BFE3-88805A20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286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F2AE-5368-4E47-B129-EBA234FC872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4B18-FCB9-41E0-8752-6D8CF937A8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" name="newlogo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295280" cy="89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2925-A9D5-4611-BCDE-057474A576D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1E78-6017-42F0-8864-53EA649A7A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newlogo" descr=""/>
          <p:cNvPicPr/>
          <p:nvPr/>
        </p:nvPicPr>
        <p:blipFill>
          <a:blip r:embed="rId2"/>
          <a:stretch/>
        </p:blipFill>
        <p:spPr>
          <a:xfrm>
            <a:off x="3124080" y="228600"/>
            <a:ext cx="2890800" cy="1996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algn="ctr"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4120" y="311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APNIC Open Address Policy Meeting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560" y="3886200"/>
            <a:ext cx="85676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14520" y="4391640"/>
            <a:ext cx="578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pecial Interest Group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56840" y="5190480"/>
            <a:ext cx="41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ch 2nd, Korea, Seo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A5D1-1519-4F2C-B74E-3075C70AB82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proced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a special PI category with strictly defined eligibility criteria, fee structure and contract (or lea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s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act enables management of resources to be formali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g. registration, transfers, reverse-dns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urces always subject to current poli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actual framework allow recovery of unused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stency across reg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998D-E782-4200-8EC5-073E378DC03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blem Defini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der what circumstances should APNIC make Provider-Independent (PI) assignment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3D9A-1FAD-4BA4-8AD4-1856C2390B3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reques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d for small assig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homed networks,‘essential infrastructure’ eg.  public exchange points, country code T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ing table size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sion of routing tables with /24 prefix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e was ‘non-member’ policy to deter reques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4C88-3A14-4224-8721-4C4DB49BE7C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NIC proced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 PI to NON-MEM with one-time paym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US$8,192 (form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recently, assign PI through existing members without charge to both applicant and member (inform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onsistent across memb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NIC needs a clearer policy framework when assigning Provider Independent (PI) addr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03BE-B458-4CED-843C-FA6742E6CCE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3760" y="1292400"/>
            <a:ext cx="79250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RI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PE NC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 PI to end-users only through memb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-users must give reas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minimum assignment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sation must be multi-homed and should utilise /21 and demonstrate need for /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ion: Public IXes can receive /24 but should not be routed on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FD4B-B205-4734-9BEF-E528FCC17FC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Areas need to be consider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7656-908B-467B-AE53-47EB5E41B23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sidera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61680" y="1222200"/>
            <a:ext cx="7924680" cy="47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0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02920" indent="-200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of si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05400" indent="-15084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small assignments  available for “essential infrastructure”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13920" indent="-157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es, what is  “essential infrastructure?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s, domain registries, RIRs, NIRs, IX’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2920" indent="-200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ze of si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05400" indent="-15084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large (hosts) should a site be before a PI can be assign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2920" indent="-200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of connectiv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05400" indent="-15084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GP mandatory criteri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05400" indent="-15084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of multi-homing relevan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C306-2358-4D63-8FE1-9E2727E0787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95440" y="1807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sidera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I via APNIC members not well kn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formal relationship or contract between APNIC and end-us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 NIRs also have different policies- leading to lack of consistency across the reg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i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uld PI requestors be APNIC member of some for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current charging model for non-mem (US$8192) adequat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C64F-5A68-46F8-932D-BA2403A221B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non-member policy with fee of US$8,19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members submit requests on behalf of their customers (no fee to both members and their custom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 with the current procedure (use both of the abo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95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procedure with a special PI membership category with strictly defined eligibility criteria and fee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F723-C6B8-437C-9663-9F7837C1651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01:48:08Z</dcterms:created>
  <dc:creator>Anne Lord</dc:creator>
  <dc:description/>
  <dc:language>en-US</dc:language>
  <cp:lastModifiedBy>Anne Lord</cp:lastModifiedBy>
  <cp:lastPrinted>2000-02-04T00:09:19Z</cp:lastPrinted>
  <dcterms:modified xsi:type="dcterms:W3CDTF">2000-02-21T04:26:20Z</dcterms:modified>
  <cp:revision>132</cp:revision>
  <dc:subject/>
  <dc:title>Welcome APNIC Members Training Cour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pwilson@apnic.net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N:\www\Presentations\Beijing Oct 98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