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890B-0BED-48C2-AA94-27E6F51B3D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896400" y="740880"/>
            <a:ext cx="495324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898200" y="4703400"/>
            <a:ext cx="494676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09E4-FE9E-4E90-B3A0-B68629938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96760" y="7412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98200" y="4703400"/>
            <a:ext cx="494676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9 indetermin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 mostly those who have held the allocation for less     than a yea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 factored up the /19 over the number of days it has been held for.  Explains why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13D5-3008-40F0-9DA6-45794597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440" y="4137120"/>
            <a:ext cx="7924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AC5E-8527-4232-8716-CB3BB289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4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462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39C7-40C9-4AA2-BE26-BC2714CC9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64920" y="166176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44760" y="166176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440" y="413712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64920" y="413712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44760" y="413712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FF5E-4DC0-44CE-BC1A-235771D3B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22CD-2A96-4EC8-9258-154B31146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CB50-CD92-43C6-A6DF-7D07C1BB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5C27-09CF-4610-A5B9-B7031159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946B-67EB-4890-AE06-48881CD9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A3EB-52CD-4227-B7E3-2DB21873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828800" y="2282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0528-FF57-4D33-8ABF-CF411DB3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30B0-B923-4A1D-BFA6-70C7DA82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4C48-155A-4393-A8EE-A8FFD157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462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2C68-9AC5-4A90-BBA3-EF29A154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440" y="4137120"/>
            <a:ext cx="7924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BCF2-0F93-45E5-9141-9370EA4B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440" y="4137120"/>
            <a:ext cx="7924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DBC1-1788-4142-8453-7567079A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4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62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7117-24F8-4A0B-AD14-A87F308A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64920" y="166176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44760" y="166176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440" y="413712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64920" y="413712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44760" y="413712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6033-606B-4D70-95F8-F33F070C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9FCF-5B65-4670-9544-504001DE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CBC1-95F5-433E-9F2C-138ACA44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2B40-8A86-4CB8-9C14-05A69BD3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828800" y="2282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BDD6-91D4-4C25-997D-FC1D59A5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28A9-07A4-4582-A1C5-9788A812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462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91CF-9CE5-4F73-B8D3-FFEF6C8B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4137120"/>
            <a:ext cx="7924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1728-44FC-4BB1-BB8F-3AF401AD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286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69ED-0C4F-4056-9ACE-0C5BB4F2193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64D8-A9BF-4765-AA7B-885495A412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" name="newlogo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295280" cy="89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1E1F-DD98-4D07-8593-4D6E422DAB6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3753-A823-4E86-ADB9-52BD712D0C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newlogo" descr=""/>
          <p:cNvPicPr/>
          <p:nvPr/>
        </p:nvPicPr>
        <p:blipFill>
          <a:blip r:embed="rId2"/>
          <a:stretch/>
        </p:blipFill>
        <p:spPr>
          <a:xfrm>
            <a:off x="3124080" y="228600"/>
            <a:ext cx="2890800" cy="19969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algn="ctr">
              <a:spcBef>
                <a:spcPts val="499"/>
              </a:spcBef>
              <a:buClr>
                <a:srgbClr val="ffffff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>
              <a:spcBef>
                <a:spcPts val="49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>
              <a:spcBef>
                <a:spcPts val="49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4120" y="311760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APNIC Open Address Policy Meeting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560" y="3886200"/>
            <a:ext cx="856764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14520" y="4391640"/>
            <a:ext cx="578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pecial Interest Group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56840" y="5261760"/>
            <a:ext cx="41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ch 2nd, Korea, Seo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07C6-A9B6-49D8-A5C4-AEEFB1CEF91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0360" y="1871640"/>
            <a:ext cx="8275680" cy="3432240"/>
          </a:xfrm>
          <a:prstGeom prst="ellipse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8200" y="2595600"/>
            <a:ext cx="2232000" cy="1460520"/>
          </a:xfrm>
          <a:prstGeom prst="ellipse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36240" y="2838600"/>
            <a:ext cx="129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7 &gt; /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et A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33760" y="2610000"/>
            <a:ext cx="2907000" cy="1562040"/>
          </a:xfrm>
          <a:prstGeom prst="ellipse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73400" y="2971800"/>
            <a:ext cx="184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 &lt; /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et A1+B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03240" y="2036880"/>
            <a:ext cx="7159680" cy="2658960"/>
          </a:xfrm>
          <a:prstGeom prst="ellipse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01360" y="216576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7 memb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25040" y="5705640"/>
            <a:ext cx="765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/147 (75%) of APNIC members are consuming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address space at a rate of less than one /19 per ye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16520" y="472968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memb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00" y="5028480"/>
            <a:ext cx="216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23800" y="125676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luding 119 with no accurate dat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EFC0-065A-42E5-B748-9AF0490ACBF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9520" y="14475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03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er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08680" indent="-203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rvation can be impro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5480" indent="-15264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% of APNIC members use greater than a /19 per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8680" indent="-203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conservation an issu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5480" indent="-15264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% of total address space is already alloc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5480" indent="-15264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act of new technologies/IPv6 unkn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3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08680" indent="-203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routing table size increa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5480" indent="-15264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, just a longer pref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5480" indent="-15264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, more people may ap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BA06-D0DC-4C48-8D1A-78E8767182B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commenda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NIC recomme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o lower the minimum allocation from a /19 to a /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ise the change on all major operational and APNIC mailing lis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months lead time befor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E3C5-E8A5-4288-8822-804C3622AA8D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blem Defini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uld APNIC lower the size of the minimum allocation from /19 to /20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A1B0-5448-43CB-BA9B-AAB35EE8116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tivation and Backgroun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ship requested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review necess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6, minimum allocation was /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to /19 in January 19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ivation was consistency with other RI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0A0A-78D4-48C3-A6B2-314ACCE1E4C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mum allocation is a /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review for over 2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bers voted to change the size of the minimum allocation from /19 to a /20 in Oct ‘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ivation was to allow more organisations access to receive address space from AR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sation eligible only if multi-homed and has used a /21 from its upstream IS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56D5-0D26-4A2F-9F1E-83584C1878F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PE NC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66960" indent="-16128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mum allocation is a /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66960" indent="-16128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iewed size in October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7120" indent="-2145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of 1,410 L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6960" indent="-16128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% (304) had assigned less than or equivalent to a  /20 during the first 12 month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66960" indent="-16128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304, 32  LIRs had since become ina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7120" indent="-2145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6960" indent="-16128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vote to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66960" indent="-16128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R working group felt that the benefits for conservation would not be 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E7E4-E010-4DBE-9182-860DCC42DA5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835200" y="2106720"/>
          <a:ext cx="7297560" cy="416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2106720"/>
                    <a:ext cx="7297560" cy="41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13680" y="56901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f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317520" y="3819600"/>
            <a:ext cx="19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% of 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83440" y="1608840"/>
            <a:ext cx="77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NIC Percentage total allocations per me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80440" y="6172560"/>
            <a:ext cx="66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5% Approximately member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&l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/19 in  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F312-F63A-4DD7-AF21-CCF83149AE8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3840" y="2035080"/>
            <a:ext cx="8275320" cy="4286520"/>
          </a:xfrm>
          <a:prstGeom prst="ellipse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97320" y="5468040"/>
            <a:ext cx="235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12 mem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4560" y="3086280"/>
            <a:ext cx="2641680" cy="2003400"/>
          </a:xfrm>
          <a:prstGeom prst="ellipse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08000" y="3460680"/>
            <a:ext cx="161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A - 8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or mo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63920" y="2593800"/>
            <a:ext cx="2906640" cy="2676600"/>
          </a:xfrm>
          <a:prstGeom prst="ellipse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20840" y="3313080"/>
            <a:ext cx="172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B - 18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allo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88280" y="3168720"/>
            <a:ext cx="2017440" cy="1887480"/>
          </a:xfrm>
          <a:prstGeom prst="ellipse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46600" y="3427200"/>
            <a:ext cx="188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C - 4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allo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27280" y="1362960"/>
            <a:ext cx="585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set of ‘open’ APNIC memb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6663-7F6B-4C09-B50B-724A3AFF578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84320" y="2003400"/>
            <a:ext cx="6667560" cy="3792600"/>
          </a:xfrm>
          <a:prstGeom prst="ellipse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41360" y="1348560"/>
            <a:ext cx="46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A - 2 or more allo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74800" y="2544840"/>
            <a:ext cx="2495520" cy="2527200"/>
          </a:xfrm>
          <a:prstGeom prst="ellipse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73640" y="2495160"/>
            <a:ext cx="2954160" cy="2804400"/>
          </a:xfrm>
          <a:prstGeom prst="ellipse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7 consu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han a /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 ye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80720" y="2818440"/>
            <a:ext cx="209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7 consum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than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19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 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94080" y="51094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4 mem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B544-00CF-485C-A734-785632ED461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84320" y="2003400"/>
            <a:ext cx="6667560" cy="3863880"/>
          </a:xfrm>
          <a:prstGeom prst="ellipse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42600" y="1410480"/>
            <a:ext cx="392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B - only 1 allo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0720" y="5899680"/>
            <a:ext cx="684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establish a maximum consumption rate based on th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number of days since the allocation was m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27200" y="2544840"/>
            <a:ext cx="2643120" cy="2527200"/>
          </a:xfrm>
          <a:prstGeom prst="ellipse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94680" y="2850480"/>
            <a:ext cx="209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1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7 consum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th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19 per 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24400" y="5214240"/>
            <a:ext cx="235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2 mem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22320" y="2893320"/>
            <a:ext cx="278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9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nsu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han a /19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 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59320" y="2625840"/>
            <a:ext cx="2873520" cy="2527200"/>
          </a:xfrm>
          <a:prstGeom prst="ellipse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D0D6-3E01-439E-B7FB-6500CE1F832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01:48:08Z</dcterms:created>
  <dc:creator>Anne Lord</dc:creator>
  <dc:description/>
  <dc:language>en-US</dc:language>
  <cp:lastModifiedBy>Anne Lord</cp:lastModifiedBy>
  <cp:lastPrinted>2000-02-04T00:09:19Z</cp:lastPrinted>
  <dcterms:modified xsi:type="dcterms:W3CDTF">2000-02-21T04:19:47Z</dcterms:modified>
  <cp:revision>132</cp:revision>
  <dc:subject/>
  <dc:title>Welcome APNIC Members Training Cour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pwilson@apnic.net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N:\www\Presentations\Beijing Oct 98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