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6D0-A580-4197-9483-63E6A652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07A-6D98-4E08-A374-B1319731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CAC-1ACD-42B5-9E08-58869EDC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5B6-1051-4C8B-99EE-F4204CD5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9326-30FF-47C6-99A1-31ACD2E3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9A33-D68E-455B-A928-CC522B3F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05CD-DF26-4812-A322-E1871946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09A-A8E1-4E81-9B4D-68B2A853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552-9B6E-469D-892A-C588506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460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0214-132B-42C5-B6E5-5737B623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BB25-6678-48EF-8D12-EAF80F5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188-8DBE-493F-B5B3-377926B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8015-6336-41C1-ADB3-528592D0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BE54-DBDE-4279-B18A-6BDFF1C9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C90-0C59-4D56-9D5F-CD6F40D8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439C-7C46-4B30-8B23-C1824ADB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6CCC-9131-4555-857C-9907FD75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CB4-D140-4B6A-AC70-26BAC392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11B-0257-4711-BF39-77F63500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D2A-0276-47D5-B9A4-CCEB7743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460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F7A-02AB-4253-B881-22E15CC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429-E12B-4A79-B319-0D1764F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190-4708-4880-9D20-65126FE9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3BF-07DB-49B5-9927-86E7A0D8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4407-AEE7-4619-84DD-E8E4194A4B5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C2ED-2378-4520-979A-3241EC08D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DFD-16AB-434F-B47D-EC7EC8593A3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E1D-B3EE-4B00-AD0F-21FAB9F72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Open Address Policy Meet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14520" y="439164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9560" y="568404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nd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566-0301-4FE8-A74D-F7824BB406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se d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enough to effect policy changes within a reasonable tim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enough for easy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s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with current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nditions (policy changes) become active on renewal of 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840-2C98-4F10-B61E-1D19F02C8B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: Resource cer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industry-standard certification system to represent resource 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 X.509 Attribute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uthorisation for use of resources, within generalised certification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 with APNIC C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during security S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D3E-C4C4-444C-AEAE-3E6C33BBED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leasing system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mportant formal step in development of resource management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 for achieving common goals, as expressed in agreed registr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fundamental change in policies or resource management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technical change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administrative support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future extension to support author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3CE-5723-4521-892E-241A068781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960" y="316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6B7C-AC37-4CCD-B132-BBED541A6924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mplementation of Internet Resource Leasing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28E-9DAB-4D1D-BD96-BE69059119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82882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easing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tained within new APNIC policy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NIC-076, section 7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docs/add-manage-policy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ific details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vides mechanism f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anagement of resource allo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velopment of resource management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t yet imple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287-3979-42AA-B627-8A0B18B64B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82882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stor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ocations made on unclear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RI-NIC, Inter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IRs to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pecific ‘title’ to resources un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fault assumption is ‘freehold titl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.e. ‘ownership’ of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ew policy clarifies ‘leasehold titl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e. occupation or ‘custodianship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6CF-DFC0-411F-92AC-EAFC661167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hold title’ implies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sell and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ry to current management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ing new policy to old alloca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difficult or im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rimental to correct resourc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t rulings likely to assume property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precedents (if an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E31-544E-44E7-BEE7-EC21BEC2B0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s are a membership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tle’ status previously amb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iry of 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drawal of resources will fol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challenged in future under ‘freehold title’ cla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Members and historical al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 agreement of any k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112-4171-4465-A32C-68B39B3012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19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s withdrawn on lapse of membership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645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ation Service Agreement separate from Membership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19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les of leasing agreed but not formalised in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PE N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19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A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-2192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greements for non-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90D-07C9-41E2-B1A5-CF8FB36476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84582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 Policy docu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docs/add-manage-policy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allocated on ‘lease’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limited (normally 1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e conditions set out 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es renewed auto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current policies/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e policies/conditions may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nsensus of APNIC members, of cour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FE2-E2F9-4B86-A720-CE084E6B38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of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v4/v6 address blocks, AS numbers/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APNIC member or non-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duration, and other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se rene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to reapply to address space 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renewal, by defa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C96-A2CB-4B9A-864D-630000CF30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Anne Lord</dc:creator>
  <dc:description/>
  <dc:language>en-US</dc:language>
  <cp:lastModifiedBy>paul</cp:lastModifiedBy>
  <cp:lastPrinted>2000-02-04T00:09:19Z</cp:lastPrinted>
  <dcterms:modified xsi:type="dcterms:W3CDTF">2000-02-22T02:48:14Z</dcterms:modified>
  <cp:revision>128</cp:revision>
  <dc:subject/>
  <dc:title>Welcome APNIC Members Training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N:\www\Presentations\Beijing Oct 98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