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36685-6D19-4A83-95F4-5A2115FA69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3000" y="392868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3591-FF75-4656-ADAE-FD18E32D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62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BD17-CDAD-41C4-A347-CEDCE89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432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2600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4300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432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2600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465A-DA34-4F4E-9500-DD6A4F76C2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02ACC-6DD0-4727-A9B8-938FB32A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BC8C-A590-4377-887E-D870D624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C93A4-B9C9-406E-8885-35EA85B8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A2EC9-C275-4043-AF0B-7F25042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B84A-DD31-4625-B6A0-AD40472B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5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9DA96-81DD-4CD9-9BDE-D184D623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9A045-E0A8-401E-8257-1F78303D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7DCD-4684-4488-8DBB-431B5F3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62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261F7-8DDA-42DF-AF2E-3CC7E1D1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34969-099E-4D34-856C-D2ECB870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43000" y="392868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19E8E-302E-4B75-BD09-ABCA997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462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151D-6360-4A2D-894B-DEF001E9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78432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26000" y="114264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4300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78432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26000" y="3928680"/>
            <a:ext cx="2515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1D44F-71D2-4CCA-BFB5-7F6ED328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3B71-6FD3-4504-A6C1-9E7FA73F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B37B-DAD0-4058-8C1F-D7975D27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0035F-FADD-45F9-9D15-91C90786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75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8E64-AD6F-4D00-A29C-FF5532D4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4407-E53F-4B79-ABCE-D5DBB5C1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6200" y="392868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8F81-E56A-45C3-8628-5AF5CF26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6200" y="1142640"/>
            <a:ext cx="38120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28680"/>
            <a:ext cx="7812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0D8C-8358-40E9-AD69-2FB4BF7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152280"/>
            <a:ext cx="8542080" cy="1052280"/>
            <a:chOff x="152280" y="1522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442800" y="260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25480" y="260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66640" y="682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36360" y="682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609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7320" y="152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000" y="942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HY견고딕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75960" y="6552720"/>
            <a:ext cx="3886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333399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333399"/>
                </a:solidFill>
                <a:latin typeface="굴림"/>
              </a:rPr>
              <a:t>&lt;date/time&gt;</a:t>
            </a:r>
            <a:r>
              <a:rPr b="0" lang="en-US" sz="1300" spc="-1" strike="noStrike">
                <a:solidFill>
                  <a:srgbClr val="333399"/>
                </a:solidFill>
                <a:latin typeface="굴림"/>
              </a:rPr>
              <a:t>ngDNS (Next Generation DN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37335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045-3E51-45C7-BAA7-6365593B168E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logo" descr=""/>
          <p:cNvPicPr/>
          <p:nvPr/>
        </p:nvPicPr>
        <p:blipFill>
          <a:blip r:embed="rId2"/>
          <a:stretch/>
        </p:blipFill>
        <p:spPr>
          <a:xfrm>
            <a:off x="7772400" y="6248520"/>
            <a:ext cx="114300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HY견고딕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F4BD-18B8-483A-A36A-4AA9C1261F57}" type="slidenum">
              <a:rPr b="0" lang="ko-KR" sz="1400" spc="-1" strike="noStrike">
                <a:solidFill>
                  <a:srgbClr val="1c1c1c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cwd.go.kr/" TargetMode="External"/><Relationship Id="rId3" Type="http://schemas.openxmlformats.org/officeDocument/2006/relationships/hyperlink" Target="http://www.cwd.go.kr/" TargetMode="External"/><Relationship Id="rId4" Type="http://schemas.openxmlformats.org/officeDocument/2006/relationships/hyperlink" Target="http://www.cwd.go.kr/" TargetMode="External"/><Relationship Id="rId5" Type="http://schemas.openxmlformats.org/officeDocument/2006/relationships/hyperlink" Target="http://www.cwd.go.kr/" TargetMode="External"/><Relationship Id="rId6" Type="http://schemas.openxmlformats.org/officeDocument/2006/relationships/hyperlink" Target="http://www.cwd.go.kr/" TargetMode="External"/><Relationship Id="rId7" Type="http://schemas.openxmlformats.org/officeDocument/2006/relationships/hyperlink" Target="http://www.cwd.go.kr/" TargetMode="External"/><Relationship Id="rId8" Type="http://schemas.openxmlformats.org/officeDocument/2006/relationships/hyperlink" Target="http://www.cwd.go.kr/" TargetMode="External"/><Relationship Id="rId9" Type="http://schemas.openxmlformats.org/officeDocument/2006/relationships/hyperlink" Target="http://www.cwd.go.kr/" TargetMode="External"/><Relationship Id="rId10" Type="http://schemas.openxmlformats.org/officeDocument/2006/relationships/image" Target="../media/image3.png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1447920"/>
            <a:ext cx="7848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굴림"/>
                <a:ea typeface="굴림"/>
              </a:rPr>
              <a:t>Multilingual Domain Name System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굴림"/>
                <a:ea typeface="굴림"/>
              </a:rPr>
              <a:t>ngDNS </a:t>
            </a:r>
            <a:r>
              <a:rPr b="1" lang="en-US" sz="2000" spc="-1" strike="noStrike">
                <a:solidFill>
                  <a:srgbClr val="333399"/>
                </a:solidFill>
                <a:latin typeface="굴림"/>
                <a:ea typeface="굴림"/>
              </a:rPr>
              <a:t>(Next Generation Domain Name System)</a:t>
            </a:r>
            <a:endParaRPr b="1" lang="en-US" sz="2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.B.I Co., Ltd. (Multingual Domain Name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logo" descr=""/>
          <p:cNvPicPr/>
          <p:nvPr/>
        </p:nvPicPr>
        <p:blipFill>
          <a:blip r:embed="rId1"/>
          <a:stretch/>
        </p:blipFill>
        <p:spPr>
          <a:xfrm>
            <a:off x="3886200" y="4952880"/>
            <a:ext cx="1143000" cy="411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05920" y="624852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63C8D-D229-4E9A-940B-BF6C536B5B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8. ngDNS Encoding 2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812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Encoding form from IBI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User Inpu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Unicod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UTF-8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onverting to charact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byte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-&gt; 6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Byt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User Inpu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onverting to charact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byte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-&gt; 4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Byte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Query Analysis in identifying multilingual languag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Using Awareness Program (AI)                        Identifying the Language from a cli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9436D-834D-4F6C-B898-2318F0CBF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9. Advantage of ngDNS 1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27080" y="1143000"/>
            <a:ext cx="781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00% Compatible with the present D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mpatible with Web, E-Mail,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TP, Telnet </a:t>
            </a:r>
            <a:br>
              <a:rPr sz="1800"/>
            </a:b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acking the both of Multilingual Domain, Romanised Doma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Multilingual Do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or Exampl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넷피아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omanised Domai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For Exampl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www.netpia.c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EC85-709C-4406-A3F1-5BE7765D0064}" type="slidenum">
              <a:t>11</a:t>
            </a:fld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Advantage of ngDNS</a:t>
            </a:r>
            <a:r>
              <a:rPr b="1" lang="ko-KR" sz="3000" spc="-1" strike="noStrike">
                <a:solidFill>
                  <a:srgbClr val="333399"/>
                </a:solidFill>
                <a:latin typeface="굴림"/>
                <a:ea typeface="굴림"/>
              </a:rPr>
              <a:t> 2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812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Hierarchical structure and keywor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upporting the Hierarchical struc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For Example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넷피아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upporting the keywor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For Exampl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넷피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10C1D-117B-4D7D-A053-9015D130FF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Advantage of ngDNS</a:t>
            </a:r>
            <a:r>
              <a:rPr b="1" lang="ko-KR" sz="3000" spc="-1" strike="noStrike">
                <a:solidFill>
                  <a:srgbClr val="333399"/>
                </a:solidFill>
                <a:latin typeface="굴림"/>
                <a:ea typeface="굴림"/>
              </a:rPr>
              <a:t>  3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812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Additional Fun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reventing children from accessing porn sit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Search Engine Servic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arching in Brows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D632-8E50-4161-9C45-B7E139C46D77}" type="slidenum">
              <a:t>13</a:t>
            </a:fld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굴림"/>
                <a:ea typeface="굴림"/>
              </a:rPr>
              <a:t>10.Present status of ngDNS in Korea</a:t>
            </a:r>
            <a:endParaRPr b="1" lang="en-US" sz="32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he Number of users per Month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eb 1999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(250,000/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onth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eb 200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(13,000,000/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onth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he Number of Domain Registratio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fter commercialization in Sep 199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년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resentl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e number of registration on ngDNS in Korean is around 18,00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 Feb 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4AA6-3E67-4663-A338-F375AFAE1C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Keyword Structure - ngDNS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pic>
        <p:nvPicPr>
          <p:cNvPr id="200" name="청와대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7820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A6C43-180B-426C-8662-29FF69ECED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Hierarchical Structure - ngDNS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pic>
        <p:nvPicPr>
          <p:cNvPr id="202" name="넷피아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553080" cy="469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C3E03-6291-4826-8810-FE6CA6538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HY견고딕"/>
              </a:rPr>
              <a:t>Content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History of Internet Addres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. Domain Name System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. The Operating System of DNS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Encod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. Pre-condition of ngDN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. Format of ngDNS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Flow Chart of ngDNS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ngDNS Encoding 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Advantages of ngDN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0. P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resent status of ngDNS in Korea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57F2-09BD-496A-AC94-2CECDE7E7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473040"/>
            <a:ext cx="7572240" cy="365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1. History of Internet Address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142640"/>
            <a:ext cx="7735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e way of representing Internet Addr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umerical IP Addr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r Example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 210.103.175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e Basic Internet Addres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efe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ifficult to use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omanised Internet Address =&gt; Domain Nam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r Example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www.netpia.co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Ordinary For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efe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phabet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rabic Number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yphen “ – ”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E553-9417-49B1-AAAF-B1151AC362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2. Domain Name System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09" name=""/>
          <p:cNvSpPr/>
          <p:nvPr/>
        </p:nvSpPr>
        <p:spPr>
          <a:xfrm>
            <a:off x="890640" y="5943600"/>
            <a:ext cx="1317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Resol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157400" y="1447920"/>
            <a:ext cx="1049040" cy="1333440"/>
            <a:chOff x="1157400" y="1447920"/>
            <a:chExt cx="1049040" cy="13334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1266480" y="1447920"/>
              <a:ext cx="93996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157400" y="2248920"/>
              <a:ext cx="10098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240" y="2742840"/>
            <a:ext cx="3131640" cy="1066680"/>
            <a:chOff x="57240" y="2742840"/>
            <a:chExt cx="3131640" cy="1066680"/>
          </a:xfrm>
        </p:grpSpPr>
        <p:sp>
          <p:nvSpPr>
            <p:cNvPr id="114" name=""/>
            <p:cNvSpPr/>
            <p:nvPr/>
          </p:nvSpPr>
          <p:spPr>
            <a:xfrm flipV="1">
              <a:off x="1603080" y="274284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40" y="2952360"/>
              <a:ext cx="128412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Step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 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2"/>
                </a:rPr>
                <a:t>www.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3"/>
                </a:rPr>
                <a:t>cwd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4"/>
                </a:rPr>
                <a:t>.go.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5"/>
                </a:rPr>
                <a:t>k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IP Address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831680" y="274284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5560" y="2936520"/>
              <a:ext cx="1363320" cy="84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Step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 2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6"/>
                </a:rPr>
                <a:t>www.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7"/>
                </a:rPr>
                <a:t>cwd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8"/>
                </a:rPr>
                <a:t>.go.</a:t>
              </a:r>
              <a:r>
                <a:rPr b="0" lang="en-US" sz="1200" spc="-1" strike="noStrike" u="sng">
                  <a:solidFill>
                    <a:srgbClr val="ff0000"/>
                  </a:solidFill>
                  <a:uFillTx/>
                  <a:latin typeface="굴림"/>
                  <a:hlinkClick r:id="rId9"/>
                </a:rPr>
                <a:t>kr</a:t>
              </a: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IP Address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"/>
                </a:rPr>
                <a:t>203.254.41.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14800" y="2209680"/>
            <a:ext cx="2971800" cy="2590920"/>
          </a:xfrm>
          <a:prstGeom prst="cloudCallout">
            <a:avLst>
              <a:gd name="adj1" fmla="val 268"/>
              <a:gd name="adj2" fmla="val -61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HY견고딕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447840" y="3924360"/>
            <a:ext cx="2409840" cy="203040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6903000" y="1219320"/>
            <a:ext cx="2107080" cy="1553040"/>
            <a:chOff x="6903000" y="1219320"/>
            <a:chExt cx="2107080" cy="1553040"/>
          </a:xfrm>
        </p:grpSpPr>
        <p:pic>
          <p:nvPicPr>
            <p:cNvPr id="121" name="" descr=""/>
            <p:cNvPicPr/>
            <p:nvPr/>
          </p:nvPicPr>
          <p:blipFill>
            <a:blip r:embed="rId11"/>
            <a:stretch/>
          </p:blipFill>
          <p:spPr>
            <a:xfrm>
              <a:off x="7554600" y="1219320"/>
              <a:ext cx="937800" cy="7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03000" y="2020680"/>
              <a:ext cx="210708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Web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203.254.41.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www.cwd.go.k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829320" y="1676520"/>
            <a:ext cx="130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ep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03.254.41.1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V="1">
            <a:off x="2857320" y="2056680"/>
            <a:ext cx="4096440" cy="2545560"/>
          </a:xfrm>
          <a:prstGeom prst="curvedConnector5">
            <a:avLst>
              <a:gd name="adj1" fmla="val 36306"/>
              <a:gd name="adj2" fmla="val 50000"/>
              <a:gd name="adj3" fmla="val 36306"/>
            </a:avLst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5" name=""/>
          <p:cNvCxnSpPr>
            <a:stCxn id="122" idx="2"/>
            <a:endCxn id="119" idx="3"/>
          </p:cNvCxnSpPr>
          <p:nvPr/>
        </p:nvCxnSpPr>
        <p:spPr>
          <a:xfrm rot="5400000">
            <a:off x="4321440" y="1305720"/>
            <a:ext cx="2170800" cy="509976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773760" y="4114800"/>
            <a:ext cx="16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ep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eb Pag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62520" y="5410080"/>
          <a:ext cx="4495680" cy="7066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5410080"/>
                    <a:ext cx="4495680" cy="7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588960" y="4419720"/>
            <a:ext cx="1219320" cy="3045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3000">
            <a:off x="1676160" y="494784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ffcf01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CA69-18B4-4A39-86FB-ABCB80F31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3. The Operating System of DNS 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333440" y="5181480"/>
            <a:ext cx="1317600" cy="1343880"/>
            <a:chOff x="1333440" y="5181480"/>
            <a:chExt cx="1317600" cy="1343880"/>
          </a:xfrm>
        </p:grpSpPr>
        <p:sp>
          <p:nvSpPr>
            <p:cNvPr id="133" name=""/>
            <p:cNvSpPr/>
            <p:nvPr/>
          </p:nvSpPr>
          <p:spPr>
            <a:xfrm>
              <a:off x="1333440" y="5992920"/>
              <a:ext cx="1317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(Resolve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701720" y="5181480"/>
              <a:ext cx="692280" cy="8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1380600" y="2819520"/>
            <a:ext cx="1256760" cy="1120320"/>
            <a:chOff x="1380600" y="2819520"/>
            <a:chExt cx="1256760" cy="112032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613160" y="2819520"/>
              <a:ext cx="939600" cy="7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80600" y="3602160"/>
              <a:ext cx="1256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Local 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752480" y="39621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040" y="4172040"/>
            <a:ext cx="1474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www.netpia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81080" y="396216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8440" y="4156200"/>
            <a:ext cx="126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210.220.160.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377040" y="1523880"/>
            <a:ext cx="2108520" cy="1116000"/>
            <a:chOff x="6377040" y="1523880"/>
            <a:chExt cx="2108520" cy="111600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7032600" y="1523880"/>
              <a:ext cx="944280" cy="7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377040" y="2326680"/>
              <a:ext cx="2108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oot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89280" y="2819520"/>
            <a:ext cx="2117520" cy="1115640"/>
            <a:chOff x="6389280" y="2819520"/>
            <a:chExt cx="2117520" cy="111564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7050960" y="2819520"/>
              <a:ext cx="93780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389280" y="3621960"/>
              <a:ext cx="2117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COM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272280" y="4419720"/>
            <a:ext cx="2349360" cy="1115640"/>
            <a:chOff x="6272280" y="4419720"/>
            <a:chExt cx="2349360" cy="1115640"/>
          </a:xfrm>
        </p:grpSpPr>
        <p:pic>
          <p:nvPicPr>
            <p:cNvPr id="149" name="" descr=""/>
            <p:cNvPicPr/>
            <p:nvPr/>
          </p:nvPicPr>
          <p:blipFill>
            <a:blip r:embed="rId5"/>
            <a:stretch/>
          </p:blipFill>
          <p:spPr>
            <a:xfrm>
              <a:off x="7048800" y="4419720"/>
              <a:ext cx="942840" cy="7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272280" y="5222160"/>
              <a:ext cx="2349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Netpia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NS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80760" y="160020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www.netpia.com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flipH="1" rot="10800000">
            <a:off x="2057040" y="1904400"/>
            <a:ext cx="4877640" cy="762480"/>
          </a:xfrm>
          <a:prstGeom prst="bentConnector3">
            <a:avLst>
              <a:gd name="adj1" fmla="val -9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209680" y="2056680"/>
            <a:ext cx="4725000" cy="610200"/>
          </a:xfrm>
          <a:prstGeom prst="bentConnector3">
            <a:avLst>
              <a:gd name="adj1" fmla="val 60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2917440" y="2108160"/>
            <a:ext cx="30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Com Name Server’s IP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297180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124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80760" y="264960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www.netpia.com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6200" y="3174840"/>
            <a:ext cx="319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netpia Name Server’s IP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/>
          <p:nvPr/>
        </p:nvCxnSpPr>
        <p:spPr>
          <a:xfrm>
            <a:off x="2743200" y="3657600"/>
            <a:ext cx="4039200" cy="991440"/>
          </a:xfrm>
          <a:prstGeom prst="bentConnector3">
            <a:avLst>
              <a:gd name="adj1" fmla="val 307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/>
          <p:nvPr/>
        </p:nvCxnSpPr>
        <p:spPr>
          <a:xfrm>
            <a:off x="2743200" y="3809880"/>
            <a:ext cx="4039200" cy="991440"/>
          </a:xfrm>
          <a:prstGeom prst="bentConnector3">
            <a:avLst>
              <a:gd name="adj1" fmla="val 23968"/>
            </a:avLst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4066560" y="4325760"/>
            <a:ext cx="22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www.netpia.com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2200" y="4844880"/>
            <a:ext cx="16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www.netpia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210.220.160.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D07A-E753-449C-9571-4F5023811B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4. Encoding 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812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Encoding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Using Character when encoding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                         (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phabets 2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rabic Number 1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otal 3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When Encoding the number of Multilingual language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3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aracters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: 36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x 36 x 36 = 46,65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4 characters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: 36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x 36 x 36 x 36 = 1,679,61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yte =&gt; I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n be possible to represent all language character set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A30E1-53BB-46F8-812D-DE71131EE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  <a:ea typeface="굴림"/>
              </a:rPr>
              <a:t>5. Pre-condition of ngDNS</a:t>
            </a:r>
            <a:endParaRPr b="1" lang="en-US" sz="28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  <a:ea typeface="바탕체"/>
              </a:rPr>
              <a:t>The development of Name Server to support the Unicod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  <a:ea typeface="바탕체"/>
              </a:rPr>
              <a:t>The Name Server should support the both present and the Unicode system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  <a:ea typeface="바탕체"/>
              </a:rPr>
              <a:t>All internet programs in use among the Each client should support the Unicode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1010A-94B2-4FD2-807F-79ADFEC11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6. Format of ng DNS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1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The Form of Key 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. Keyword – using the Netpia application pro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ttp://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ftp://</a:t>
            </a:r>
            <a:r>
              <a:rPr b="0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東京大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rvice in Korea, China and Jap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I. Hierarchical structure - Standardizing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ttp://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웹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Mailto: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홍길동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@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ftp://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파일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청와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정부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http://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東京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大學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日本 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II. Keyword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0899E-301E-4CD3-A0B4-247611FC63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572240" cy="609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굴림"/>
                <a:ea typeface="굴림"/>
              </a:rPr>
              <a:t>7. Flow Chart of ngDNS </a:t>
            </a:r>
            <a:endParaRPr b="1" lang="en-US" sz="3000" spc="-1" strike="noStrike">
              <a:solidFill>
                <a:srgbClr val="333399"/>
              </a:solidFill>
              <a:latin typeface="HY견고딕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990720"/>
            <a:ext cx="1600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li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3800" y="1752480"/>
            <a:ext cx="1895400" cy="533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ultilingua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514600"/>
            <a:ext cx="2210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Query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omanised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2895480"/>
            <a:ext cx="22100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Query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ultilingual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2209680"/>
            <a:ext cx="2210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ultilingual en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3733920"/>
            <a:ext cx="2210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4495680"/>
            <a:ext cx="2210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ultilingual De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0920" y="5867280"/>
            <a:ext cx="281916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espons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0" idx="2"/>
            <a:endCxn id="171" idx="0"/>
          </p:cNvCxnSpPr>
          <p:nvPr/>
        </p:nvCxnSpPr>
        <p:spPr>
          <a:xfrm>
            <a:off x="4076280" y="15235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1" idx="3"/>
            <a:endCxn id="174" idx="0"/>
          </p:cNvCxnSpPr>
          <p:nvPr/>
        </p:nvCxnSpPr>
        <p:spPr>
          <a:xfrm>
            <a:off x="5029200" y="2018880"/>
            <a:ext cx="148680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1"/>
            <a:endCxn id="172" idx="0"/>
          </p:cNvCxnSpPr>
          <p:nvPr/>
        </p:nvCxnSpPr>
        <p:spPr>
          <a:xfrm flipV="1" rot="10800000">
            <a:off x="1942560" y="2018880"/>
            <a:ext cx="119124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6" idx="2"/>
            <a:endCxn id="177" idx="0"/>
          </p:cNvCxnSpPr>
          <p:nvPr/>
        </p:nvCxnSpPr>
        <p:spPr>
          <a:xfrm rot="5400000">
            <a:off x="4762080" y="4114440"/>
            <a:ext cx="991080" cy="251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1143000" y="3443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2" idx="2"/>
            <a:endCxn id="182" idx="0"/>
          </p:cNvCxnSpPr>
          <p:nvPr/>
        </p:nvCxnSpPr>
        <p:spPr>
          <a:xfrm flipV="1" rot="10800000">
            <a:off x="1942560" y="3047760"/>
            <a:ext cx="108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6781680" y="266688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/>
          <p:nvPr/>
        </p:nvCxnSpPr>
        <p:spPr>
          <a:xfrm flipH="1" rot="16200000">
            <a:off x="1949040" y="3802680"/>
            <a:ext cx="2044080" cy="2057760"/>
          </a:xfrm>
          <a:prstGeom prst="bentConnector3">
            <a:avLst>
              <a:gd name="adj1" fmla="val 764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4" idx="2"/>
            <a:endCxn id="173" idx="0"/>
          </p:cNvCxnSpPr>
          <p:nvPr/>
        </p:nvCxnSpPr>
        <p:spPr>
          <a:xfrm flipV="1" rot="10800000">
            <a:off x="651456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3" idx="2"/>
            <a:endCxn id="175" idx="0"/>
          </p:cNvCxnSpPr>
          <p:nvPr/>
        </p:nvCxnSpPr>
        <p:spPr>
          <a:xfrm flipV="1" rot="10800000">
            <a:off x="6514560" y="342864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75" idx="2"/>
            <a:endCxn id="176" idx="0"/>
          </p:cNvCxnSpPr>
          <p:nvPr/>
        </p:nvCxnSpPr>
        <p:spPr>
          <a:xfrm flipV="1" rot="10800000">
            <a:off x="6514560" y="411444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6F3D3-A8AD-4AFC-9969-63A30D5164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11:57:32Z</dcterms:created>
  <dc:creator>박은용</dc:creator>
  <dc:description/>
  <dc:language>en-US</dc:language>
  <cp:lastModifiedBy>krnic3</cp:lastModifiedBy>
  <cp:lastPrinted>2000-02-24T06:06:24Z</cp:lastPrinted>
  <dcterms:modified xsi:type="dcterms:W3CDTF">2000-03-09T05:46:41Z</dcterms:modified>
  <cp:revision>134</cp:revision>
  <dc:subject/>
  <dc:title>JavaScript</dc:title>
</cp:coreProperties>
</file>