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86790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DB5-C171-4D49-9941-FCCD0BE4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347-1330-4190-84B5-A88495B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E3C-2944-47A3-B7E5-2BADAB69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28A-D670-4C7F-B24E-238E089A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53B9-5FBE-4314-8011-1D0FFD82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B294-64CB-4C68-8A76-55928D9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6047-A662-4325-B5F7-C5C06EA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501-FC55-48E8-B904-29D76D5B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6474-9208-4028-8AAB-7060F9D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243F-0C16-48C9-869F-69D6723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B8ED-ED10-4C7C-BC72-4A690E9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C05-5B17-41A5-8AA2-183B00E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892C-B960-4B70-A957-869DCA7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3CD8-0828-43EA-9FC1-2B085F9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97F1-DB87-4089-A731-79C1FAF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3D5-F1F5-4455-9464-F1480EE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0149-30DF-457C-886D-7436BBC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551-8B18-4BAC-8121-C54D920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82F-16D1-4CB7-B660-56056F6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3C-B7D4-4344-BA0D-A3EBB67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17B-02A2-4D96-BC3A-F47E95F5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081-B3FF-4445-9F4F-E85D101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774-6A1A-4420-9148-1D15BB3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838-99C4-4529-A26E-4708EBE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AA5-E97D-4657-9870-2884AFD0BC2A}" type="slidenum"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156-6864-49D2-80D7-C4D75BE7E55B}" type="slidenum"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yahoo.co.jp/" TargetMode="External"/><Relationship Id="rId7" Type="http://schemas.openxmlformats.org/officeDocument/2006/relationships/hyperlink" Target="http://www.yahoo.co.jp/" TargetMode="External"/><Relationship Id="rId8" Type="http://schemas.openxmlformats.org/officeDocument/2006/relationships/hyperlink" Target="file:///../WINNT/Profiles/shi/&#12487;&#12473;&#12463;&#12488;&#12483;&#12503;/chinese.yahoo.com" TargetMode="External"/><Relationship Id="rId9" Type="http://schemas.openxmlformats.org/officeDocument/2006/relationships/hyperlink" Target="file:///../WINNT/Profiles/shi/&#12487;&#12473;&#12463;&#12488;&#12483;&#12503;/chinese.yahoo.com" TargetMode="External"/><Relationship Id="rId10" Type="http://schemas.openxmlformats.org/officeDocument/2006/relationships/hyperlink" Target="http://www.yahoo.com/" TargetMode="External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aseda.ac.jp/" TargetMode="External"/><Relationship Id="rId6" Type="http://schemas.openxmlformats.org/officeDocument/2006/relationships/hyperlink" Target="http://www.waseda.ac.jp/" TargetMode="External"/><Relationship Id="rId7" Type="http://schemas.openxmlformats.org/officeDocument/2006/relationships/hyperlink" Target="http://www.waseda.ac.jp/" TargetMode="External"/><Relationship Id="rId8" Type="http://schemas.openxmlformats.org/officeDocument/2006/relationships/hyperlink" Target="http://www.waseda.ac.jp/" TargetMode="External"/><Relationship Id="rId9" Type="http://schemas.openxmlformats.org/officeDocument/2006/relationships/hyperlink" Target="http://www.waseda.ac.jp/" TargetMode="External"/><Relationship Id="rId10" Type="http://schemas.openxmlformats.org/officeDocument/2006/relationships/hyperlink" Target="http://www.waseda.ac.jp/" TargetMode="External"/><Relationship Id="rId11" Type="http://schemas.openxmlformats.org/officeDocument/2006/relationships/hyperlink" Target="http://www.waseda.ac.jp/" TargetMode="External"/><Relationship Id="rId12" Type="http://schemas.openxmlformats.org/officeDocument/2006/relationships/hyperlink" Target="http://www.waseda.ac.jp/" TargetMode="External"/><Relationship Id="rId13" Type="http://schemas.openxmlformats.org/officeDocument/2006/relationships/hyperlink" Target="http://www.waseda.ac.jp/" TargetMode="External"/><Relationship Id="rId14" Type="http://schemas.openxmlformats.org/officeDocument/2006/relationships/hyperlink" Target="http://www.waseda.ac.jp/" TargetMode="External"/><Relationship Id="rId15" Type="http://schemas.openxmlformats.org/officeDocument/2006/relationships/hyperlink" Target="http://www.waseda.ac.jp/" TargetMode="External"/><Relationship Id="rId16" Type="http://schemas.openxmlformats.org/officeDocument/2006/relationships/hyperlink" Target="http://www.waseda.ac.jp/" TargetMode="External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8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PNIC IDN-TF status and implement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ngbo SHI &lt;shi@goto.info.waseda.ac.jp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F311-969A-44E4-9D0A-20E2597008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rrent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mplementing our own IDN serv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dnx-j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mple DNS proxy to translate Japanese character code sets into UTF-5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dd invisible ZLD when .</a:t>
            </a:r>
            <a:r>
              <a:rPr b="0" lang="ja-JP" sz="2000" spc="-1" strike="noStrike">
                <a:solidFill>
                  <a:srgbClr val="545472"/>
                </a:solidFill>
                <a:latin typeface="Tahoma"/>
              </a:rPr>
              <a:t>日本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s TLD in quer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fer to IETF draf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D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8bit thru DNS Server based on BIN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Uses character code set tag in reverse lookup table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Original idea inspired by Sinica’s implementatio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598-CF43-43AF-A2A6-80C938CA4D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xt ste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athers requirements for ID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amine interoperabilities and discuss issues of our implementati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ribute to IETF and the Internet communit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00A-F927-494E-834B-571A12B880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NX requirement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nx-jp 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sahiko Hyo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&lt;hyohdo@dsl.gr.jp&gt;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9B02-548A-43DA-9CF0-23D2816685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IDNX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NX means Internationalized Domain Name exchange. (extension, experiment?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erimental model for using ID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is an another implementation of iD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exchanges the query of internationalized domain name (IDN) into the existing domain name so it can be us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will be implemented as a proxy system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166760" y="5907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734-D791-44BD-9263-D1A82C29E6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rements of IDN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 change to a name serv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 change to clien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few change to DNS protoco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separate I18N part and L10N part easi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be in a neutral position at current discussion in IDN-WG (IETF)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454-E0B2-4AC4-A7AC-2AB8B2FA77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cations of IDN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coded character set</a:t>
            </a:r>
            <a:r>
              <a:rPr b="0" lang="ja-JP" sz="32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CS) for IDNX is Unicod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character encoding scheme(CES) for clients is UTF-8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S for a name server is UTF-5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dd hidden “zero-level” domain (ZLD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l characters for IDN used in IDNX should be distinguish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pital or Small, Latin or Cyrillic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756-240A-4E5D-97CB-55DF8270DD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ow of IDNX name re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276720"/>
            <a:ext cx="173988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819520"/>
            <a:ext cx="1828800" cy="22096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IDNX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2819520"/>
            <a:ext cx="2209680" cy="86364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name server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105520"/>
            <a:ext cx="2209680" cy="86364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name server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657600"/>
            <a:ext cx="761760" cy="0"/>
          </a:xfrm>
          <a:prstGeom prst="line">
            <a:avLst/>
          </a:prstGeom>
          <a:ln w="38160">
            <a:solidFill>
              <a:srgbClr val="54547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7280" y="1983600"/>
            <a:ext cx="3551040" cy="693720"/>
          </a:xfrm>
          <a:prstGeom prst="wedgeRoundRectCallout">
            <a:avLst>
              <a:gd name="adj1" fmla="val 17236"/>
              <a:gd name="adj2" fmla="val 187236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Internationalized) Domain Nam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SCII or UTF-8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62320" y="3886200"/>
            <a:ext cx="761760" cy="0"/>
          </a:xfrm>
          <a:prstGeom prst="line">
            <a:avLst/>
          </a:prstGeom>
          <a:ln w="38160">
            <a:solidFill>
              <a:srgbClr val="545472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4960" y="4495680"/>
            <a:ext cx="1217160" cy="397080"/>
          </a:xfrm>
          <a:prstGeom prst="wedgeRoundRectCallout">
            <a:avLst>
              <a:gd name="adj1" fmla="val 53810"/>
              <a:gd name="adj2" fmla="val -202263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IP</a:t>
            </a:r>
            <a:r>
              <a:rPr b="0" lang="ja-JP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3200400"/>
            <a:ext cx="838440" cy="0"/>
          </a:xfrm>
          <a:prstGeom prst="line">
            <a:avLst/>
          </a:prstGeom>
          <a:ln w="3816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5760" y="1907280"/>
            <a:ext cx="3551040" cy="693720"/>
          </a:xfrm>
          <a:prstGeom prst="wedgeRoundRectCallout">
            <a:avLst>
              <a:gd name="adj1" fmla="val -23828"/>
              <a:gd name="adj2" fmla="val 135736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(Internationalized) Domain Nam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SCII or UTF-5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520" y="3429000"/>
            <a:ext cx="838440" cy="0"/>
          </a:xfrm>
          <a:prstGeom prst="line">
            <a:avLst/>
          </a:prstGeom>
          <a:ln w="38160">
            <a:solidFill>
              <a:srgbClr val="545472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809880"/>
            <a:ext cx="1279440" cy="397080"/>
          </a:xfrm>
          <a:prstGeom prst="wedgeRoundRectCallout">
            <a:avLst>
              <a:gd name="adj1" fmla="val -44180"/>
              <a:gd name="adj2" fmla="val -151810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IP addre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876920" y="4647960"/>
            <a:ext cx="914400" cy="609480"/>
          </a:xfrm>
          <a:prstGeom prst="line">
            <a:avLst/>
          </a:prstGeom>
          <a:ln w="38160">
            <a:solidFill>
              <a:srgbClr val="545472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080" y="4572000"/>
            <a:ext cx="1217160" cy="397080"/>
          </a:xfrm>
          <a:prstGeom prst="wedgeRoundRectCallout">
            <a:avLst>
              <a:gd name="adj1" fmla="val -76166"/>
              <a:gd name="adj2" fmla="val 52805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IP addre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4800600"/>
            <a:ext cx="1067040" cy="762120"/>
          </a:xfrm>
          <a:prstGeom prst="line">
            <a:avLst/>
          </a:prstGeom>
          <a:ln w="3816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5340960"/>
            <a:ext cx="3543480" cy="989640"/>
          </a:xfrm>
          <a:prstGeom prst="wedgeRoundRectCallout">
            <a:avLst>
              <a:gd name="adj1" fmla="val 49773"/>
              <a:gd name="adj2" fmla="val -63962"/>
              <a:gd name="adj3" fmla="val 16667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Internationalized) Domain Nam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SCII or UTF-5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3640" y="535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DA7-3F65-4679-A50C-0F4CC5979E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nx-j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dnx-jp is the implementation of IDNX with Japanese extensi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LD for Japanese is “.</a:t>
            </a:r>
            <a:r>
              <a:rPr b="0" lang="ja-JP" sz="2800" spc="-1" strike="noStrike">
                <a:solidFill>
                  <a:srgbClr val="545472"/>
                </a:solidFill>
                <a:latin typeface="Tahoma"/>
              </a:rPr>
              <a:t>日本”</a:t>
            </a:r>
            <a:r>
              <a:rPr b="0" lang="ja-JP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ZLD added by</a:t>
            </a:r>
            <a:r>
              <a:rPr b="0" lang="ja-JP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nx-jp is “.idns.nic.ad.jp”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o store in the existing domain name spac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mit use of SJIS and EUC-J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nx-jp distinguishes its CESs automatical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nx-jp unifies CCSs into Unicod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177-4B9F-4ACB-9E0B-767FE3F90E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.conf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options {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directory "/var/named"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named-xfer "/usr/sbin/named-xfer"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dump-file "dump.db"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pid-file "/var/run/named.pid"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}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zone 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M5E5M72C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.idns1.nic.ad.jp" in {//M5E5M72C means </a:t>
            </a:r>
            <a:r>
              <a:rPr b="0" lang="ja-JP" sz="2000" spc="-1" strike="noStrike">
                <a:solidFill>
                  <a:srgbClr val="545472"/>
                </a:solidFill>
                <a:latin typeface="ＭＳ Ｐゴシック"/>
              </a:rPr>
              <a:t>日本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in UTF-5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type master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file "nippon.zone"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Ｐゴシック"/>
              </a:rPr>
              <a:t>}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7E6-46DC-4A4C-8675-D5AE8FFA7C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ppon.z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@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SOA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dns1.nic.ad.jp.   root.idns1.nic.ad.jp. (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2000021700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Seri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28800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Refres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14400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Ret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3600000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Expir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86400 )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Minimu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202.12.30.33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NS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dns.nic.ad.jp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dns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CNAME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dns1.nic.ad.jp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L965LC71N814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133.15.144.1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; </a:t>
            </a:r>
            <a:r>
              <a:rPr b="0" lang="ja-JP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奥山研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J0E4J0D5J0FC</a:t>
            </a: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IN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CNAME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www.yahoo.co.jp.;</a:t>
            </a:r>
            <a:r>
              <a:rPr b="0" lang="ja-JP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ヤフー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45472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4FA-E089-4B4B-9E1F-22CF2EEB26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Recent Topic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 status re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DNX requirements and idnx-jp imple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lobal Domain Name System – New Usage of Alias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844-FBF7-44D8-8CDF-80A4FA1C44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nslookup%20奥山研.日本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6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49B-ABC3-4247-8C44-2A8A5096A6E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ie%20ヤフー.日本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56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48D-FE46-4255-9548-D19A03C8761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ie%20首相官邸.日本" descr=""/>
          <p:cNvPicPr/>
          <p:nvPr/>
        </p:nvPicPr>
        <p:blipFill>
          <a:blip r:embed="rId2"/>
          <a:stretch/>
        </p:blipFill>
        <p:spPr>
          <a:xfrm>
            <a:off x="914400" y="390600"/>
            <a:ext cx="7313760" cy="60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A54-DE5F-4517-A59F-01018FD1D70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mitations of current idnx-j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IDN for idnx-jp must be FQDN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ting IDN search list for resolver causes unexpected charsets combination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No reverse mapping from Unicode.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dnx-jp can not assume client’s CCS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domain name registered in a name server are returned direct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08D-70EE-4F4D-841A-2C334DB5F7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lobal Domain Name System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  <a:ea typeface="ＭＳ Ｐ明朝"/>
              </a:rPr>
              <a:t>-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 New Usage of Alias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ngbo Shi             shi@goto.info.waseda.ac.j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A43-B264-459A-8E31-E82E94690B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Global Domain Name Syst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GD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cal Domai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national Domain Nam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ee Structur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verse mapp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haracteristic</a:t>
            </a:r>
            <a:r>
              <a:rPr b="0" lang="ja-JP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peri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E87-946B-4CB6-99C0-E266C3EB40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What is GD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lobal Domain Name Syst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erimentation of DNS which can suppor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national Domain Na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41C-2916-4DA2-86FC-8BED23D222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Local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Local Domai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gle character set domain na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ample 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www.yahoo.co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ウェブ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ヤフー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会社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日本                       </a:t>
            </a:r>
            <a:r>
              <a:rPr b="0" lang="en-US" sz="20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www.yahoo.co.</a:t>
            </a:r>
            <a:r>
              <a:rPr b="0" lang="en-US" sz="20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jp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1" lang="ja-JP" sz="1800" spc="-1" strike="noStrike">
                <a:solidFill>
                  <a:srgbClr val="545472"/>
                </a:solidFill>
                <a:latin typeface="ＭＳ Ｐゴシック"/>
              </a:rPr>
              <a:t>繁体中文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000" spc="-1" strike="noStrike">
                <a:solidFill>
                  <a:srgbClr val="545472"/>
                </a:solidFill>
                <a:latin typeface="ＭＳ Ｐゴシック"/>
              </a:rPr>
              <a:t>雅虎</a:t>
            </a:r>
            <a:r>
              <a:rPr b="1" lang="ja-JP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000" spc="-1" strike="noStrike">
                <a:solidFill>
                  <a:srgbClr val="545472"/>
                </a:solidFill>
                <a:latin typeface="ＭＳ Ｐゴシック"/>
              </a:rPr>
              <a:t>公司                         </a:t>
            </a:r>
            <a:r>
              <a:rPr b="0" lang="en-US" sz="2000" spc="-1" strike="noStrike" u="sng">
                <a:solidFill>
                  <a:srgbClr val="9595ff"/>
                </a:solidFill>
                <a:uFillTx/>
                <a:latin typeface="ＭＳ Ｐゴシック"/>
                <a:hlinkClick r:id="rId8"/>
              </a:rPr>
              <a:t>chinese</a:t>
            </a:r>
            <a:r>
              <a:rPr b="0" lang="en-US" sz="2000" spc="-1" strike="noStrike" u="sng">
                <a:solidFill>
                  <a:srgbClr val="9595ff"/>
                </a:solidFill>
                <a:uFillTx/>
                <a:latin typeface="ＭＳ Ｐゴシック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595ff"/>
                </a:solidFill>
                <a:uFillTx/>
                <a:latin typeface="ＭＳ Ｐゴシック"/>
                <a:hlinkClick r:id="rId10"/>
              </a:rPr>
              <a:t>yahoo.co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434340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7242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4BD-3552-4A5E-9291-5134206D84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International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International Domai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set of  Local Domain Na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www.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waseda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.ac.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jp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ウェブ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早稲田大学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教育研究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日本                        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www.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waseda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.ac.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jp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全球網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早稲田大学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教育研究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日本                      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www.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waseda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.ac.</a:t>
            </a:r>
            <a:r>
              <a:rPr b="0" lang="en-US" sz="18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jp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419112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457200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766-F331-4C22-88B1-2C51F5374D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Tree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1523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1" lang="ja-JP" sz="2800" spc="-1" strike="noStrike">
                <a:solidFill>
                  <a:srgbClr val="545472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2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jp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or</a:t>
            </a:r>
            <a:r>
              <a:rPr b="1" i="1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日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89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ac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or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教育研究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380988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21337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waseda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or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早稲田大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62160" y="3429000"/>
            <a:ext cx="15228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190760" y="2666880"/>
            <a:ext cx="15228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1905120"/>
            <a:ext cx="1800" cy="3808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905120"/>
            <a:ext cx="762120" cy="3808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352320" y="1905120"/>
            <a:ext cx="685800" cy="3808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57400" y="1828800"/>
            <a:ext cx="18288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828800"/>
            <a:ext cx="18288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657240" y="4267080"/>
            <a:ext cx="15228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57913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99360" y="449568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info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情報学科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209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s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com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k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500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tw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1752480"/>
            <a:ext cx="350532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352680" y="5105520"/>
            <a:ext cx="15264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5257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goto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or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後藤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095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vox-angelica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or </a:t>
            </a:r>
            <a:r>
              <a:rPr b="1" lang="ja-JP" sz="2400" spc="-1" strike="noStrike">
                <a:solidFill>
                  <a:srgbClr val="545472"/>
                </a:solidFill>
                <a:latin typeface="Times New Roman"/>
              </a:rPr>
              <a:t>ウェブ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47760" y="5867280"/>
            <a:ext cx="15228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F35-E596-469B-983A-73581BECDE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PNIC Recent Top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to KAWASAKI &lt;kawasaki@nic.ad.jp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114-FEC1-46C8-90B7-C5F6B921C2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Lucida Handwriting"/>
              </a:rPr>
              <a:t>ZONE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amed.conf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sji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zone  “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後藤研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情報学科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早稲田大学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教育研究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日本” 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ype master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le “lab.sjis-zone”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};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zone “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後藤研</a:t>
            </a: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o.waseda.ac.jp” 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ype master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le  “lab.sjis-zone”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3E1-82AA-426E-87F3-189230FEA5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343400" y="380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rp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676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in-add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14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JI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2514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GB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2514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IG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27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3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7160" y="243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5146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scii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6360" y="3276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3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9200" y="3124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6760" y="3124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2400" y="3124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7680" y="3124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545472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3886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832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0240" y="838080"/>
            <a:ext cx="15228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680" y="1523880"/>
            <a:ext cx="15264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209680"/>
            <a:ext cx="1440" cy="3812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2209680"/>
            <a:ext cx="762120" cy="3812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504960" y="2209680"/>
            <a:ext cx="685800" cy="3812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209680" y="2133720"/>
            <a:ext cx="18288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133720"/>
            <a:ext cx="18288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5520" y="3276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3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840" y="3276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3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676520" y="3048120"/>
            <a:ext cx="30456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048120"/>
            <a:ext cx="30492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895480" y="3733920"/>
            <a:ext cx="15264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4572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65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23880" y="3733920"/>
            <a:ext cx="15264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4343400"/>
            <a:ext cx="2286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4343400"/>
            <a:ext cx="2286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029200"/>
            <a:ext cx="2286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5029200"/>
            <a:ext cx="2286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7080" y="52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5835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958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lias: </a:t>
            </a:r>
            <a:r>
              <a:rPr b="1" lang="ja-JP" sz="2800" spc="-1" strike="noStrike">
                <a:solidFill>
                  <a:srgbClr val="545472"/>
                </a:solidFill>
                <a:latin typeface="Times New Roman"/>
              </a:rPr>
              <a:t>ウェブ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09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IP address: 133.9.81.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3657600"/>
            <a:ext cx="59436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hostnam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vox-angelica.goto.info.waseda.ac.j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ウェブ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後藤研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情報学科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早稲田大学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教育研究</a:t>
            </a:r>
            <a:r>
              <a:rPr b="0" i="1" lang="ja-JP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i="1" lang="ja-JP" sz="1800" spc="-1" strike="noStrike">
                <a:solidFill>
                  <a:srgbClr val="545472"/>
                </a:solidFill>
                <a:latin typeface="Times New Roman"/>
              </a:rPr>
              <a:t>日本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048120"/>
            <a:ext cx="30492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3048120"/>
            <a:ext cx="30492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30456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048120" y="3048120"/>
            <a:ext cx="30456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266720" y="3048120"/>
            <a:ext cx="30492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62720" y="3048120"/>
            <a:ext cx="30456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2286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958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name: vox-angelic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541008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5410080"/>
            <a:ext cx="304560" cy="685800"/>
          </a:xfrm>
          <a:custGeom>
            <a:avLst/>
            <a:gdLst>
              <a:gd name="textAreaLeft" fmla="*/ 40680 w 304560"/>
              <a:gd name="textAreaRight" fmla="*/ 263880 w 30456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F94-1CE5-4666-BE48-B9FE53067FA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Reverse Mapp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ddition domain spac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 character set name as subdomain of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-ADDR.ARPA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sc.in-addr.arp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jis.in-addr.arp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b.in-addr.arp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ig5.in-addr.arp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462-D3C5-497C-B7E9-FBFB8532A3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Lucida Handwriting"/>
              </a:rPr>
              <a:t>ZONE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amed.conf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zone  “81.9.133.in-addr.arpa” 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ype master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le “lab.cname-rev”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};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zone “ 81.9.133.SJIS.in-addr.arpa” {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ype master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le  “lab.aliases-rev”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A8B-A2D0-42B2-BFA9-B3AE9FF60E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Lucida Handwriting"/>
              </a:rPr>
              <a:t>ZONE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ab.cname-rev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as ordinary sty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ab.aliases-rev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63    IN   PTR    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タンバリン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後藤研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情報学科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早稲田大学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教育研究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日本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545472"/>
                </a:solidFill>
                <a:latin typeface="Tahoma"/>
              </a:rPr>
              <a:t>      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ab.sjis-z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ja-JP" sz="1800" spc="-1" strike="noStrike">
                <a:solidFill>
                  <a:srgbClr val="545472"/>
                </a:solidFill>
                <a:latin typeface="Tahoma"/>
              </a:rPr>
              <a:t>タンバリン     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IN      CNAME      tambouri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      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C2D-C7A0-4CCC-A04E-0D9727155E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Characterist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rt international domain na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 not need special top level domain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r hidden zero level domain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exist with other Domain Name Syste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verse mapping canonical names and Alias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8F0-7FD8-48F2-9B1A-6D180B1635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1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Japanese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46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8F3-C89A-4859-B388-1A06C8A341E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2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Japanese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616-3654-46CB-93D7-449AABDCE2E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3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Chinese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76520"/>
          <a:ext cx="830592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8305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34D-B782-4F37-A648-B48092FA461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4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Chinese Domain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0880" y="1676520"/>
          <a:ext cx="8382240" cy="48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822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F42-BD43-4FED-B93E-D57002EA5AB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ement of JPN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 25 Feb, JPNIC declared to provide Multilingual Domai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ttp://www.nic.ad.jp/jp/topics/archive/20000225-01.html (original(Japanese)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ttp://www.nic.ad.jp/en/topics/archive/20000225-01.html (translation(English)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nd out is availab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B73-25F6-4F0C-AA72-AE88082C33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5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Coexistence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22960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9D6-EFF2-413F-A42D-A5A6C5956C6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Experiment 6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Coexistence cont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8077320" cy="48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B03-3DD2-4886-BBD8-9750A7C1CF9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(1/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5472"/>
                </a:solidFill>
                <a:latin typeface="Tahoma"/>
              </a:rPr>
              <a:t>Domain Names - Concepts and Facilities</a:t>
            </a:r>
            <a:endParaRPr b="0" lang="en-US" sz="3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 Unicode MS"/>
              </a:rPr>
              <a:t>P. Mockapetris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RFC1034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5472"/>
                </a:solidFill>
                <a:latin typeface="Tahoma"/>
              </a:rPr>
              <a:t>Domain Names - Implementation and Specification</a:t>
            </a:r>
            <a:endParaRPr b="0" lang="en-US" sz="3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 Unicode MS"/>
              </a:rPr>
              <a:t>P. Mockapetris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RFC1035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4F9-1C21-4A79-A362-EC81BF63DA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(2/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5472"/>
                </a:solidFill>
                <a:latin typeface="Tahoma"/>
              </a:rPr>
              <a:t>The Report of the IAB Character Set Workshop held 29 February - 1 March, 1996</a:t>
            </a:r>
            <a:endParaRPr b="0" lang="en-US" sz="3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C. Weider, C. Preston, K. Simonsen, H. Alvestrand, R. Atkinson, M. Crispin, P. Svanberg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RFC2130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A94-719F-4D1C-9104-634E0B388F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(3/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IETF IDN WG(currentry unofficial)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L subscribe: idn-request@ops.ietf.org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Webpage: http://www.imc.org/idn/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APNG iDNS WG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Webpage: http://www.idns.org/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494-BCB7-497D-9750-AA86C21D6C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(4/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Internationalization of Domain Names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.Durest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draft-durest-dns-i18n-02.txt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UTF-5, a transformation format of Unicode and ISO 10646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James Seng, Martin Durest, Tin Wee Tan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draft-jseng-utf5-00.txt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CBC-A324-443D-B4D1-2B40D80348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(5/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ssues of internationalized Domain Name Syste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Hongbo Shi, Izuru Sato and Shigeki Got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WI99, 1999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ernationalization of DNS in the Interne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Hongbo Sh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raduation thesis, Waseda University, 2000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國際化的網域名稱系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45472"/>
                </a:solidFill>
                <a:latin typeface="Tahoma"/>
              </a:rPr>
              <a:t>黃勝雄、蔣大偉 、陳文水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http://idns.sinica.edu.tw/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20-01B0-4C39-AE58-59B89251F43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 of JPNIC stat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cognized the demand on ID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med IDN-TF in May, 1999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aluated existing IDN implement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veloping two experimental implement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egins IDN services targeted by the end of Mar 2001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NS as infrastructure requires exhaustive consider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C64-EC5C-4AC8-A583-806ABD632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chnical Researc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N-TF of JPNIC (mailto:idns-tf@nic.ad.jp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olitical Steering Committ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be formed in JPN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now, pls mail to IDN-TF abo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lanning our web page on ID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be announced at http://www.nic.ad.jp/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3AC-AF0A-4ABE-A9A4-C6A3AE4AE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PNIC IDN-TF status re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PNIC IDN-T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Yoshiro YONEYA &lt;yone@nic.ad.jp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036-D38A-4C68-BCF8-3F7FF3F75D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r Standp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 should be acceptable to the Internet community as the fundamental infrastructure technology of the Interne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valuate implementations of domain name internationalization according to IETF draf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4E7-390B-4645-867A-545BF5CA66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 join and work actively with IETF IDN-WG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 examine its possibility of realization with focusing on technical side issu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 will examine and discuss another sides issues, such as social and operational, then conclud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DNS/APRICOT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2B7-B716-4FD9-803F-0949D82FAE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 Mar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米谷嘉朗</cp:lastModifiedBy>
  <dcterms:modified xsi:type="dcterms:W3CDTF">2000-03-01T01:16:56Z</dcterms:modified>
  <cp:revision>36</cp:revision>
  <dc:subject/>
  <dc:title>PowerPoint Presentation</dc:title>
</cp:coreProperties>
</file>