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1D3A-3B42-4C02-9358-72545B46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123-744F-45D7-9ADF-5414C2AB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7FE3-25BA-4CED-B552-930025AD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89D8-823A-4E2F-A8E5-AEDE88BB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0A59-88F1-4CE1-A099-22C96769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0136-EBEC-4D81-BB99-0DED85E2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4A45-15B4-429C-921B-CFE83AE3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FD2D-1485-497B-9EF1-5B9D77F2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FC6A-08F8-4194-B592-2151E41A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4B5F-C17B-4535-A00D-CFEA63E3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7C0B-D617-4C0E-9DCF-702FE8A9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8968-85F7-4CAD-93A1-95B8123F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2DDF-A959-499E-8231-D0840C41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392E-AB1E-4460-861D-25ADAF14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DC0C-3778-4DC8-A191-1682ED7F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6489-1030-4871-AD6C-67BB4A17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8417-AE93-4694-A5B0-393232CD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C33-95D2-43C7-A6B3-4C0CC22E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5D0-4502-48E6-ABA7-6BE7F1EC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224-E79C-4D22-93E2-6232A8C1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CAE-947F-4680-85A0-23782568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912D-387F-425D-9DD0-8C9FE62D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A36B-A4D4-4D72-8891-F87D4CB6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6AA3-8F9E-4B91-8A90-45F689D4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752480" cy="6856560"/>
            <a:chOff x="0" y="0"/>
            <a:chExt cx="17524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7524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763b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52280" y="374760"/>
              <a:ext cx="1525680" cy="1226880"/>
              <a:chOff x="152280" y="374760"/>
              <a:chExt cx="1525680" cy="1226880"/>
            </a:xfrm>
          </p:grpSpPr>
          <p:sp>
            <p:nvSpPr>
              <p:cNvPr id="3" name=""/>
              <p:cNvSpPr/>
              <p:nvPr/>
            </p:nvSpPr>
            <p:spPr>
              <a:xfrm>
                <a:off x="1171440" y="785880"/>
                <a:ext cx="506520" cy="506520"/>
              </a:xfrm>
              <a:custGeom>
                <a:avLst/>
                <a:gdLst/>
                <a:ahLst/>
                <a:rect l="l" t="t" r="r" b="b"/>
                <a:pathLst>
                  <a:path w="319" h="319">
                    <a:moveTo>
                      <a:pt x="318" y="198"/>
                    </a:moveTo>
                    <a:lnTo>
                      <a:pt x="318" y="318"/>
                    </a:lnTo>
                    <a:lnTo>
                      <a:pt x="1" y="99"/>
                    </a:lnTo>
                    <a:lnTo>
                      <a:pt x="0" y="108"/>
                    </a:lnTo>
                    <a:lnTo>
                      <a:pt x="46" y="0"/>
                    </a:lnTo>
                    <a:lnTo>
                      <a:pt x="318" y="198"/>
                    </a:lnTo>
                  </a:path>
                </a:pathLst>
              </a:custGeom>
              <a:gradFill rotWithShape="0">
                <a:gsLst>
                  <a:gs pos="0">
                    <a:srgbClr val="00763b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52280" y="785880"/>
                <a:ext cx="506520" cy="506520"/>
              </a:xfrm>
              <a:custGeom>
                <a:avLst/>
                <a:gdLst/>
                <a:ahLst/>
                <a:rect l="l" t="t" r="r" b="b"/>
                <a:pathLst>
                  <a:path w="319" h="319">
                    <a:moveTo>
                      <a:pt x="0" y="198"/>
                    </a:moveTo>
                    <a:lnTo>
                      <a:pt x="0" y="318"/>
                    </a:lnTo>
                    <a:lnTo>
                      <a:pt x="316" y="99"/>
                    </a:lnTo>
                    <a:lnTo>
                      <a:pt x="318" y="108"/>
                    </a:lnTo>
                    <a:lnTo>
                      <a:pt x="271" y="0"/>
                    </a:lnTo>
                    <a:lnTo>
                      <a:pt x="0" y="198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763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" name=""/>
              <p:cNvGrpSpPr/>
              <p:nvPr/>
            </p:nvGrpSpPr>
            <p:grpSpPr>
              <a:xfrm>
                <a:off x="240480" y="374760"/>
                <a:ext cx="1307160" cy="1226880"/>
                <a:chOff x="240480" y="374760"/>
                <a:chExt cx="1307160" cy="1226880"/>
              </a:xfrm>
            </p:grpSpPr>
            <p:sp>
              <p:nvSpPr>
                <p:cNvPr id="6" name=""/>
                <p:cNvSpPr/>
                <p:nvPr/>
              </p:nvSpPr>
              <p:spPr>
                <a:xfrm flipH="1" rot="10800000">
                  <a:off x="240120" y="374760"/>
                  <a:ext cx="1305000" cy="1225440"/>
                </a:xfrm>
                <a:prstGeom prst="triangle">
                  <a:avLst>
                    <a:gd name="adj" fmla="val 49995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cap="sq" w="1260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41200" y="374760"/>
                  <a:ext cx="654120" cy="1226880"/>
                </a:xfrm>
                <a:custGeom>
                  <a:avLst/>
                  <a:gdLst/>
                  <a:ahLst/>
                  <a:rect l="l" t="t" r="r" b="b"/>
                  <a:pathLst>
                    <a:path w="412" h="773">
                      <a:moveTo>
                        <a:pt x="411" y="772"/>
                      </a:moveTo>
                      <a:lnTo>
                        <a:pt x="411" y="637"/>
                      </a:lnTo>
                      <a:lnTo>
                        <a:pt x="127" y="75"/>
                      </a:lnTo>
                      <a:lnTo>
                        <a:pt x="0" y="0"/>
                      </a:lnTo>
                      <a:lnTo>
                        <a:pt x="411" y="772"/>
                      </a:lnTo>
                    </a:path>
                  </a:pathLst>
                </a:custGeom>
                <a:solidFill>
                  <a:srgbClr val="002010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41200" y="374760"/>
                  <a:ext cx="1306440" cy="122040"/>
                </a:xfrm>
                <a:custGeom>
                  <a:avLst/>
                  <a:gdLst/>
                  <a:ahLst/>
                  <a:rect l="l" t="t" r="r" b="b"/>
                  <a:pathLst>
                    <a:path w="823" h="77">
                      <a:moveTo>
                        <a:pt x="0" y="0"/>
                      </a:moveTo>
                      <a:lnTo>
                        <a:pt x="127" y="76"/>
                      </a:lnTo>
                      <a:lnTo>
                        <a:pt x="712" y="76"/>
                      </a:lnTo>
                      <a:lnTo>
                        <a:pt x="82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1bb96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893880" y="374760"/>
                  <a:ext cx="653760" cy="1226880"/>
                </a:xfrm>
                <a:custGeom>
                  <a:avLst/>
                  <a:gdLst/>
                  <a:ahLst/>
                  <a:rect l="l" t="t" r="r" b="b"/>
                  <a:pathLst>
                    <a:path w="412" h="773">
                      <a:moveTo>
                        <a:pt x="0" y="772"/>
                      </a:moveTo>
                      <a:lnTo>
                        <a:pt x="0" y="637"/>
                      </a:lnTo>
                      <a:lnTo>
                        <a:pt x="283" y="75"/>
                      </a:lnTo>
                      <a:lnTo>
                        <a:pt x="411" y="0"/>
                      </a:lnTo>
                      <a:lnTo>
                        <a:pt x="0" y="772"/>
                      </a:lnTo>
                    </a:path>
                  </a:pathLst>
                </a:custGeom>
                <a:solidFill>
                  <a:srgbClr val="006633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" name=""/>
              <p:cNvSpPr/>
              <p:nvPr/>
            </p:nvSpPr>
            <p:spPr>
              <a:xfrm>
                <a:off x="152280" y="1117440"/>
                <a:ext cx="1522440" cy="1731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029200" y="434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E643-787C-4EE0-A226-B02BC3CB681C}" type="datetime">
              <a:rPr b="0" lang="ko-KR" sz="1400" spc="-1" strike="noStrike">
                <a:solidFill>
                  <a:srgbClr val="eaeaea"/>
                </a:solidFill>
                <a:latin typeface="Times New Roman"/>
              </a:rPr>
              <a:t>26年 7月 29日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5105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695720" y="647712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62EE-62F8-498C-AFA5-CCBBABAE309C}" type="slidenum">
              <a:rPr b="0" lang="ko-K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295360" y="6521400"/>
            <a:ext cx="485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 Black"/>
                <a:ea typeface="HCI 엑스포"/>
              </a:rPr>
              <a:t>Korea Information Society Development Institut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" name="kisdiBLACK" descr=""/>
          <p:cNvPicPr/>
          <p:nvPr/>
        </p:nvPicPr>
        <p:blipFill>
          <a:blip r:embed="rId4"/>
          <a:stretch/>
        </p:blipFill>
        <p:spPr>
          <a:xfrm>
            <a:off x="1071720" y="6470640"/>
            <a:ext cx="60480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2133720" y="0"/>
            <a:ext cx="4878360" cy="6856560"/>
            <a:chOff x="2133720" y="0"/>
            <a:chExt cx="4878360" cy="6856560"/>
          </a:xfrm>
        </p:grpSpPr>
        <p:sp>
          <p:nvSpPr>
            <p:cNvPr id="55" name=""/>
            <p:cNvSpPr/>
            <p:nvPr/>
          </p:nvSpPr>
          <p:spPr>
            <a:xfrm>
              <a:off x="2895480" y="0"/>
              <a:ext cx="335304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763b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133720" y="472680"/>
              <a:ext cx="4878360" cy="3491280"/>
              <a:chOff x="2133720" y="472680"/>
              <a:chExt cx="4878360" cy="3491280"/>
            </a:xfrm>
          </p:grpSpPr>
          <p:sp>
            <p:nvSpPr>
              <p:cNvPr id="57" name=""/>
              <p:cNvSpPr/>
              <p:nvPr/>
            </p:nvSpPr>
            <p:spPr>
              <a:xfrm>
                <a:off x="2133720" y="1643040"/>
                <a:ext cx="1617480" cy="1440000"/>
              </a:xfrm>
              <a:custGeom>
                <a:avLst/>
                <a:gdLst/>
                <a:ahLst/>
                <a:rect l="l" t="t" r="r" b="b"/>
                <a:pathLst>
                  <a:path w="1019" h="907">
                    <a:moveTo>
                      <a:pt x="0" y="566"/>
                    </a:moveTo>
                    <a:lnTo>
                      <a:pt x="0" y="906"/>
                    </a:lnTo>
                    <a:lnTo>
                      <a:pt x="1014" y="283"/>
                    </a:lnTo>
                    <a:lnTo>
                      <a:pt x="1018" y="307"/>
                    </a:lnTo>
                    <a:lnTo>
                      <a:pt x="869" y="0"/>
                    </a:lnTo>
                    <a:lnTo>
                      <a:pt x="0" y="566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763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94240" y="1643040"/>
                <a:ext cx="1617840" cy="1440000"/>
              </a:xfrm>
              <a:custGeom>
                <a:avLst/>
                <a:gdLst/>
                <a:ahLst/>
                <a:rect l="l" t="t" r="r" b="b"/>
                <a:pathLst>
                  <a:path w="1019" h="907">
                    <a:moveTo>
                      <a:pt x="1018" y="566"/>
                    </a:moveTo>
                    <a:lnTo>
                      <a:pt x="1018" y="906"/>
                    </a:lnTo>
                    <a:lnTo>
                      <a:pt x="3" y="283"/>
                    </a:lnTo>
                    <a:lnTo>
                      <a:pt x="0" y="307"/>
                    </a:lnTo>
                    <a:lnTo>
                      <a:pt x="148" y="0"/>
                    </a:lnTo>
                    <a:lnTo>
                      <a:pt x="1018" y="566"/>
                    </a:lnTo>
                  </a:path>
                </a:pathLst>
              </a:custGeom>
              <a:gradFill rotWithShape="0">
                <a:gsLst>
                  <a:gs pos="0">
                    <a:srgbClr val="00763b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2494080" y="472680"/>
                <a:ext cx="4178160" cy="3491280"/>
                <a:chOff x="2494080" y="472680"/>
                <a:chExt cx="4178160" cy="3491280"/>
              </a:xfrm>
            </p:grpSpPr>
            <p:sp>
              <p:nvSpPr>
                <p:cNvPr id="60" name=""/>
                <p:cNvSpPr/>
                <p:nvPr/>
              </p:nvSpPr>
              <p:spPr>
                <a:xfrm flipH="1" rot="10800000">
                  <a:off x="2494080" y="472680"/>
                  <a:ext cx="4176720" cy="3489480"/>
                </a:xfrm>
                <a:prstGeom prst="triangle">
                  <a:avLst>
                    <a:gd name="adj" fmla="val 49995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cap="sq" w="1260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494080" y="473040"/>
                  <a:ext cx="2089080" cy="3490920"/>
                </a:xfrm>
                <a:custGeom>
                  <a:avLst/>
                  <a:gdLst/>
                  <a:ahLst/>
                  <a:rect l="l" t="t" r="r" b="b"/>
                  <a:pathLst>
                    <a:path w="1316" h="2199">
                      <a:moveTo>
                        <a:pt x="1315" y="2198"/>
                      </a:moveTo>
                      <a:lnTo>
                        <a:pt x="1315" y="1815"/>
                      </a:lnTo>
                      <a:lnTo>
                        <a:pt x="409" y="214"/>
                      </a:lnTo>
                      <a:lnTo>
                        <a:pt x="0" y="0"/>
                      </a:lnTo>
                      <a:lnTo>
                        <a:pt x="1315" y="2198"/>
                      </a:lnTo>
                    </a:path>
                  </a:pathLst>
                </a:custGeom>
                <a:solidFill>
                  <a:srgbClr val="002010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494080" y="473040"/>
                  <a:ext cx="4178160" cy="344520"/>
                </a:xfrm>
                <a:custGeom>
                  <a:avLst/>
                  <a:gdLst/>
                  <a:ahLst/>
                  <a:rect l="l" t="t" r="r" b="b"/>
                  <a:pathLst>
                    <a:path w="2632" h="217">
                      <a:moveTo>
                        <a:pt x="0" y="0"/>
                      </a:moveTo>
                      <a:lnTo>
                        <a:pt x="409" y="216"/>
                      </a:lnTo>
                      <a:lnTo>
                        <a:pt x="2279" y="216"/>
                      </a:lnTo>
                      <a:lnTo>
                        <a:pt x="263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1bb96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581360" y="473040"/>
                  <a:ext cx="2090880" cy="3490920"/>
                </a:xfrm>
                <a:custGeom>
                  <a:avLst/>
                  <a:gdLst/>
                  <a:ahLst/>
                  <a:rect l="l" t="t" r="r" b="b"/>
                  <a:pathLst>
                    <a:path w="1317" h="2199">
                      <a:moveTo>
                        <a:pt x="0" y="2198"/>
                      </a:moveTo>
                      <a:lnTo>
                        <a:pt x="0" y="1815"/>
                      </a:lnTo>
                      <a:lnTo>
                        <a:pt x="906" y="214"/>
                      </a:lnTo>
                      <a:lnTo>
                        <a:pt x="1316" y="0"/>
                      </a:lnTo>
                      <a:lnTo>
                        <a:pt x="0" y="2198"/>
                      </a:lnTo>
                    </a:path>
                  </a:pathLst>
                </a:custGeom>
                <a:solidFill>
                  <a:srgbClr val="006633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2133720" y="2589120"/>
                <a:ext cx="4871880" cy="492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06C5-EECB-46F7-9EA2-3E62A488466E}" type="datetime">
              <a:rPr b="0" lang="ko-KR" sz="1400" spc="-1" strike="noStrike">
                <a:solidFill>
                  <a:srgbClr val="eaeaea"/>
                </a:solidFill>
                <a:latin typeface="Times New Roman"/>
              </a:rPr>
              <a:t>26年 7月 29日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151B-21D4-445E-BF02-B1E24A245F98}" type="slidenum">
              <a:rPr b="0" lang="ko-K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xperiences with Network Unbundling of xDS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920" y="4647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Jonghwa Le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kisdiBLACK" descr=""/>
          <p:cNvPicPr/>
          <p:nvPr/>
        </p:nvPicPr>
        <p:blipFill>
          <a:blip r:embed="rId1"/>
          <a:stretch/>
        </p:blipFill>
        <p:spPr>
          <a:xfrm>
            <a:off x="990720" y="5257800"/>
            <a:ext cx="838080" cy="581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049120" y="5334120"/>
            <a:ext cx="62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orea Information Society Development Institu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27480" y="6019920"/>
            <a:ext cx="43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Disclaimer: Any of views appeared in this presentation is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my personal opinion and does not reflect those of KISDI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very ISP or Only New Local Carriers? (continued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only new local carriers are entitled to LLU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y limit competition in broadband internet mark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 local carriers are the only effective contenders to deploy DSL equipments in incumbent’s offices under the Korean Telecommunications La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00F3-8927-46EC-9886-00D79C3326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ber or Copper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luding Fiber Loop and in LLU El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Compet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ss Incentive to Deploy Fiber in the Fut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luding Only Copper Loop in LLU El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ss Compet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verinvestment in Optical Fiber Loop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BCF1-6AA3-4A0E-8938-D5B9EF98F6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eographical Deaveraging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iform Pric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ets the conventional wisd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thout universal service fund, the incumbent may not recover the costs in high-cost are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ographical Deaverag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ces reflect the cost struct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incumbent recovers the cos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m-skimming is greater in the latter c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6D2-979E-41B6-8CA4-D9E4C7D601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imes New Roman"/>
              </a:rPr>
              <a:t>Part 2    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cc"/>
              </a:buClr>
              <a:buSzPct val="7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eaeaea"/>
                </a:solidFill>
                <a:latin typeface="Times New Roman"/>
              </a:rPr>
              <a:t>The UK experiences 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(from Oftel’s documents)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5D1-03D4-4587-99F9-44238732CB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tions of LL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tion 1: Unbundled Local Loo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tion 2: Partial Basedband Leased Circu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tion 3: Beatstream Acc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tion 4: Permanent Virtual Circuit Acc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tion 5: Indirect Acc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77F-7B78-471E-9DDF-097D850EFA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tion 1: Unbundled Local Loop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9" name="1llu1298" descr=""/>
          <p:cNvPicPr/>
          <p:nvPr/>
        </p:nvPicPr>
        <p:blipFill>
          <a:blip r:embed="rId2"/>
          <a:stretch/>
        </p:blipFill>
        <p:spPr>
          <a:xfrm>
            <a:off x="2438280" y="1984320"/>
            <a:ext cx="5486400" cy="397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FDF-4847-4EC9-8DBE-BFA8B298CA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tion 1: Unbundled Local Loop (continued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entrant controls the loop and equip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entrant co-locate equipments in the incumbent’s offic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entrant provides telephony as well as broadband intern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tential interference between services provided over unbundled loop and other services controlled by the incumbent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BC26-EB5D-42E6-94A2-C540AADACF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tion 2: Partial Baseband Leased Circui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2llu1298" descr=""/>
          <p:cNvPicPr/>
          <p:nvPr/>
        </p:nvPicPr>
        <p:blipFill>
          <a:blip r:embed="rId2"/>
          <a:stretch/>
        </p:blipFill>
        <p:spPr>
          <a:xfrm>
            <a:off x="2057400" y="1901880"/>
            <a:ext cx="5791320" cy="405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8BE-3B8A-4E7B-A108-BFCCFA5574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tion 2: Partial Baseband Leased Circuit (continued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incumbent provides a lease line between the customer and local exchan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entrant co-locate equipments in the incumbent’s offic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incumbent is responsible for the quality of servi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tential interference problem rema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355D-34A9-426B-9D60-860BFD397C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tion 3: Beatstream Access (Layer 1 Digital Access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3llu1298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6629400" cy="29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225F-205B-4262-AFAA-3173308F6D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imes New Roman"/>
              </a:rPr>
              <a:t>Part 1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cc"/>
              </a:buClr>
              <a:buSzPct val="7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Times New Roman"/>
              </a:rPr>
              <a:t>Issues on Local Loop Unbundling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4B8-5345-4177-B695-59C2FB23A3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tion 3: Beatstream Access (continued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s a partial digital leased circuit service between the customer and local exchan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entrant co-locate equipments in the incumbent’s offic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SL modems are attached and controlled by the incumben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opted in Canada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F7F-8345-4B5C-975B-9A82861F18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tion 4: Permanent Virtual Circuit Acc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4" name="4llu1298" descr=""/>
          <p:cNvPicPr/>
          <p:nvPr/>
        </p:nvPicPr>
        <p:blipFill>
          <a:blip r:embed="rId2"/>
          <a:stretch/>
        </p:blipFill>
        <p:spPr>
          <a:xfrm>
            <a:off x="2514600" y="1930320"/>
            <a:ext cx="5486400" cy="399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B1E3-7D90-4263-B448-48ED7ADB60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tion 4: Permanent Virtual Circuit Access (continued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incumbent retains ownership of the line but allows the entrants’ access to incumbent’s customers using the incumbent’s l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entrant do not co-locate equipments in the incumbent’s offic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ferred by B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DA3-1C5A-4D2B-8A5B-978981902A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tion 5: Indirect Acc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9" name="5llu1298" descr=""/>
          <p:cNvPicPr/>
          <p:nvPr/>
        </p:nvPicPr>
        <p:blipFill>
          <a:blip r:embed="rId2"/>
          <a:stretch/>
        </p:blipFill>
        <p:spPr>
          <a:xfrm>
            <a:off x="2057400" y="1962000"/>
            <a:ext cx="5943600" cy="401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4BD2-149D-4B75-B19D-61875DA6A6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tion 5: Indirect Access (continued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milar to Option 4, but the ATM switches are providing call by call selection of the destin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pport individual selection of services provider points as well as other broadband custom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milar to to the system of Indirect Access of today’s telephone net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BE9-D717-4753-8DCB-9FB6A663B9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tel decided to go for Option 2 while BT wanted to go for Option 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ice = LRIC + Markup for common and joint cos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ographical averaging is not requi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-location should be provided where space is availabl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7AA-3938-4546-BDD0-1D76E3A0748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imes New Roman"/>
              </a:rPr>
              <a:t>Part 3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cc"/>
              </a:buClr>
              <a:buSzPct val="7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Times New Roman"/>
              </a:rPr>
              <a:t>The Korean Experience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E68-4293-4798-AEF7-20B21778D9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ternet Is Exploding…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676520" y="1963800"/>
          <a:ext cx="6019560" cy="4056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963800"/>
                    <a:ext cx="6019560" cy="40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F8B-E3EE-4976-BD77-D26CDBC8AB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STN Dial-Up Acc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900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752480" y="1859040"/>
          <a:ext cx="6019920" cy="4205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859040"/>
                    <a:ext cx="601992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0111-4316-4693-9A1A-896219F61F1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o is the Broadband Deman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752480" y="1905120"/>
          <a:ext cx="6400800" cy="426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905120"/>
                    <a:ext cx="64008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479F-04C6-41FC-AD2F-5CE3A9115F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 of Regulation in Telecommunica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romote Effective &amp; Sustainable Competi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rovide Reasonably-Priced Service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Encourage Development of Innovative Service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Ensure Good Quality, Choice &amp; Value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Create Value for the National and Worldwide Economy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9FB-A88B-4BE3-8A87-C524FC321D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roadband Platform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828800" y="1981080"/>
          <a:ext cx="6289560" cy="4876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981080"/>
                    <a:ext cx="62895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7B6-9876-46F4-86EC-EB8CB8626A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roadband Facilities (continued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Hanaro’s own facility build-up is confined to large apartments and buildings in metropolitan are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KEPCO’s cable TV network is limited to 4,625 thousand househol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For national deployment of xDSL, unbundling of KT’s local loop is necessar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5C0-646F-4968-96E8-4E91FA0EC3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erators’ Positions on LL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incumb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LLU requirement is the most preferred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if LLU is to be required, the price based on ECPR or leased line pr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cal carri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LU requirement only to local operat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rice based on LRIC but FDC is accept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-location requir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try facilities to customers are shared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AFC-4B20-4C93-8145-FF54E17DBA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erators’ Positions (continued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ased line provi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LU requirement to leased line providers as well as local carri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price based on LRIC but FDC is accepta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datory co-lo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try facilities to customer are shared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B429-CF0B-4E99-AD78-37A5573CD59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erators’ Positions (continued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net service provi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ven if ISPs are not common carriers, customers’ choice of an ISP should be guarante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mon carriers are network operators and ISPs are service providers: Common carriers provide network and ISPs provide servic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370-34FC-4E97-9052-674F81AC83B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LU required for the faster deployment of xDSL technolog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price of LLU be based on LRIC and markup to cover the common and joint cos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CPR does not induce correct expectation of new entrant and thus leads to overinvestment by the new entra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DC applied until LRIC model is buil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E736-D6FB-48F9-930D-C0038F40135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nclusion (continued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LU be given to many carriers for the promotion of the nationwide local compet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ographical deaveraging be the decision by KT, but has to be consist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-location be provided where space is availabl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116-55A7-42B8-AB46-F471C319379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is Local Loop Unbundling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ue to the ubiquity of the copper loops, DSL technology offers the most effective mechanism to upgrade the subscribers’ loop over the next few yea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bundling’ means that competing operators can ‘lease’ incumbent’s local loop to provide higher bandwidth servi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3316-10B5-482A-974C-3D8DC32B64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LU Creates Valu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rom a Subscriber’s Perspective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riety of Choices and Low Pri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rom an entrant’s Perspectiv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sy Entry and Effective Compet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rom the Incumbent’s Perspectiv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covery of Cos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1D0-D978-4535-B0E6-3249CFFF8F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oints of Controvers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ices for LLU: LRIC or ECPR?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o has the right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very ISP or Only local carriers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ludes optical fiber?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ographical deaveraging necessar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5CCE-FBBE-4E01-822C-604EFBC7F8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RIC or ECPR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RIC(Long-Run Incremental Cost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lects true economic cos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s correct incentives to new entra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incumbent may not recover the historical cos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entrants co-locate only in the high profit are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5C1-3281-4650-AF62-47729B6863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RIC or ECPR? (continued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CPR(Efficient Component Pricing Rul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lects opportunity costs of the loo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lly recovers the incumbent’s lost earnings as well as its cost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s excess incentive to build own facilities by new entra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ters active compet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90E0-EEE8-41BC-9944-16BDB6EA80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very ISP or Only Local Carriers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Every ISP Is Entitled to LLU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ll blown competition in broadband internet mark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 there is disequilibrium if LRIC is charged: Too many operators and ISPs want to use LLU instead of their own facility build-up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2F8-28C8-41D7-AE4D-A3F1635E31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8T00:42:58Z</dcterms:created>
  <dc:creator>이 종 화</dc:creator>
  <dc:description/>
  <dc:language>en-US</dc:language>
  <cp:lastModifiedBy>이 종 화</cp:lastModifiedBy>
  <cp:lastPrinted>2000-02-18T04:56:40Z</cp:lastPrinted>
  <dcterms:modified xsi:type="dcterms:W3CDTF">2000-02-28T06:48:18Z</dcterms:modified>
  <cp:revision>60</cp:revision>
  <dc:subject/>
  <dc:title>Local Loop Unbundling      in Korea</dc:title>
</cp:coreProperties>
</file>