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53213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FF3B-C191-4E82-B782-5E98CBC7C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8840" y="3954960"/>
            <a:ext cx="789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A97A-B0F4-40A9-9719-A5829D9BF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840" y="39549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9549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867E-13FC-4A83-9E12-27A459E93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4475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6920" y="14475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8840" y="39549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9549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6920" y="39549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EC65-5992-44E7-8F3B-6A56BCFE9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F21D-A85F-482F-A83F-A8F3CC9618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6FCC-1AF1-420D-B0E8-D3CE5C160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3EEB-E89D-4455-8FC4-905A66EC83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BE62-25BA-41F7-915A-69F1B07C80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6B3A-EE1D-4743-8A6C-9DB747A56D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82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EBF9-843F-43F9-B0C4-B595C61A4F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8840" y="39549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89CD-22EB-4955-A839-33551AD9D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5CB5-19DE-4116-A6BB-1BF3E456F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4160" y="39549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BCE9-BEDA-4988-955B-586AC3543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840" y="3954960"/>
            <a:ext cx="789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D696-FFC9-49FF-A025-BB89F9F9BE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8840" y="3954960"/>
            <a:ext cx="789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EB66-096C-44A7-9A54-F0A995142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840" y="39549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4160" y="39549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9263-29B2-4A24-9974-665E57D363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7880" y="14475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6920" y="14475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8840" y="39549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7880" y="39549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6920" y="3954960"/>
            <a:ext cx="2541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C75C-8CF3-4AB3-888A-3C666B323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ABE6-2B62-4DF1-8121-86C586196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3D65-8CBB-4769-A4B5-CB2BCE8DF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464E-F963-403C-99A5-99FD9671C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82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80FE-2C08-4016-8C67-AA06C21B0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8840" y="39549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0710-950C-4776-94DE-D41ED6B13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9549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804E-C7D3-47AA-86EE-E9C78D2FD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447560"/>
            <a:ext cx="385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8840" y="3954960"/>
            <a:ext cx="789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7FF9-CEA9-457B-A482-20C3F8F5D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ncc-logo" descr=""/>
          <p:cNvPicPr/>
          <p:nvPr/>
        </p:nvPicPr>
        <p:blipFill>
          <a:blip r:embed="rId2"/>
          <a:stretch/>
        </p:blipFill>
        <p:spPr>
          <a:xfrm>
            <a:off x="69840" y="76320"/>
            <a:ext cx="992160" cy="715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6461280"/>
            <a:ext cx="9090000" cy="337320"/>
            <a:chOff x="0" y="6461280"/>
            <a:chExt cx="9090000" cy="337320"/>
          </a:xfrm>
        </p:grpSpPr>
        <p:sp>
          <p:nvSpPr>
            <p:cNvPr id="4" name=""/>
            <p:cNvSpPr/>
            <p:nvPr/>
          </p:nvSpPr>
          <p:spPr>
            <a:xfrm>
              <a:off x="0" y="6461280"/>
              <a:ext cx="909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João Damas          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          APRICOT 2000, 1 March 2000, Seoul          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          http://www.ripe.net/ris</a:t>
              </a:r>
              <a:endParaRPr b="0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604800" y="6465240"/>
              <a:ext cx="794304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170560" y="6324120"/>
            <a:ext cx="765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FA1F-CDED-4BBC-AACB-67F8ED2C313F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" name="ncc-logo" descr=""/>
          <p:cNvPicPr/>
          <p:nvPr/>
        </p:nvPicPr>
        <p:blipFill>
          <a:blip r:embed="rId2"/>
          <a:stretch/>
        </p:blipFill>
        <p:spPr>
          <a:xfrm>
            <a:off x="69840" y="76320"/>
            <a:ext cx="992160" cy="7156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0" y="6461280"/>
            <a:ext cx="9090000" cy="337320"/>
            <a:chOff x="0" y="6461280"/>
            <a:chExt cx="9090000" cy="337320"/>
          </a:xfrm>
        </p:grpSpPr>
        <p:sp>
          <p:nvSpPr>
            <p:cNvPr id="46" name=""/>
            <p:cNvSpPr/>
            <p:nvPr/>
          </p:nvSpPr>
          <p:spPr>
            <a:xfrm>
              <a:off x="0" y="6461280"/>
              <a:ext cx="909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Henk Uijterwaal, &lt;henk@ripe.net&gt;          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          RIPE35, </a:t>
              </a:r>
              <a:fld id="{1F745DDF-A85C-4BAC-99D2-EE263D4AD2C0}" type="datetime3"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July 31, 2026</a:t>
              </a:fld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     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          http://www.ripe.net/rist </a:t>
              </a:r>
              <a:endParaRPr b="0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604800" y="6465240"/>
              <a:ext cx="794304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8170560" y="6324120"/>
            <a:ext cx="765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E3A6-CAF1-4012-9934-A203F9794608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bcoude.ripe.net/~antony/ris-alpha.cgi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ripe.net/ris" TargetMode="External"/><Relationship Id="rId3" Type="http://schemas.openxmlformats.org/officeDocument/2006/relationships/hyperlink" Target="http://www.ripe.net/ris" TargetMode="External"/><Relationship Id="rId4" Type="http://schemas.openxmlformats.org/officeDocument/2006/relationships/hyperlink" Target="http://www.ripe.net/ris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outing Information Service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tatus and Pla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652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tony Antony, Henk Uijterwaa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esen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João Dama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IPE NC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369B-93B2-44FD-80BC-42895BBDD7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mote Route Collector (RRC)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GP4 ipv4 announcements between AS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 path  &amp; origin AS #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oute prefix and length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GP attribute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rrors in the BGP announcement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napshots of routing table 3/da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RC’s do not announce routes to pe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RC’s will not forward IP traffic to pe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3BB2-ACB7-4773-938C-6D80B65D37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219320" y="1143000"/>
          <a:ext cx="6819840" cy="74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6819840" cy="74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143000" y="5714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45"/>
                </a:solidFill>
                <a:latin typeface="Arial"/>
              </a:rPr>
              <a:t>* Multiple Peers from same A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IS Prototype Pe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1B3D-D928-48A1-8828-94CA93774A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IS Databas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rst estimates showed that the RIS will produce 1.7 Tbyte/yea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itical component of the RI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oked at several produc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ata volumes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w to access the data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cided to use MySQL for the prototyp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visit this question lat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ata is imported into the database once a da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42DD-DB06-49F2-903B-025B1F2BE1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ossible Queries to RIS Databas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93.0.0.0/22 updates since  yesterda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efixes originating from AS3333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o announced 193.0.0.0/22 yesterda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lap statistics of a Prefix/AS#  for a perio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Your suggestions..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D01D-3730-4E12-988B-AC6EBC72B4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11000" y="0"/>
            <a:ext cx="60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ototype User Interfac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A99A-E5B3-41E2-B4B0-58D09F14D7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utput of Que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8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7CBF-68C2-4FA6-B8D8-A9A1033935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ere is this web page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99"/>
                </a:solidFill>
                <a:uFillTx/>
                <a:latin typeface="Arial"/>
                <a:hlinkClick r:id="rId1"/>
              </a:rPr>
              <a:t>http://abcoude.ripe.net/ris/ris-alpha.cg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line help availab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ally need your feedbac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s this useful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so, let us know!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not, why not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ther queries that you like to se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formation missing in the help fil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EC68-5A67-405B-853B-90F7B7278D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announce" descr=""/>
          <p:cNvPicPr/>
          <p:nvPr/>
        </p:nvPicPr>
        <p:blipFill>
          <a:blip r:embed="rId1"/>
          <a:stretch/>
        </p:blipFill>
        <p:spPr>
          <a:xfrm>
            <a:off x="380880" y="714240"/>
            <a:ext cx="8305920" cy="57452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pdates Per Da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2FBE-76ED-47CA-AA18-A20704B4DB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refix" descr=""/>
          <p:cNvPicPr/>
          <p:nvPr/>
        </p:nvPicPr>
        <p:blipFill>
          <a:blip r:embed="rId1"/>
          <a:stretch/>
        </p:blipFill>
        <p:spPr>
          <a:xfrm>
            <a:off x="895320" y="952560"/>
            <a:ext cx="7353360" cy="4991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ark Prefixes in IPv4 Space 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5638680"/>
            <a:ext cx="7894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S1221 Telstra http://www.telstra.net/ops/bgptable.htm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S3333 RIPE NCC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C4E1-7E18-4391-9052-20D07521AB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2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ore than half of the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outing table are /24’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0" name="prefdis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524E-8E34-403C-91D1-12B6729939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87680"/>
            <a:ext cx="79246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gres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so fa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urrent setup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me interesting observations in the da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lans for the next month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6A88-EFE6-462D-B277-C35BA7AAA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lans for the next month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 more features to our current setup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er feedbac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ok in more detail at the data-bas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ich product should we us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rder and install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up more RRC’s around the worl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perational issu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tinue working on the open quest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F195-EC4D-42C8-AD8D-783309D931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lans for the next months (2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re peering sessions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es, always as long as we can store the dat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tact Antony Antony to set this u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alysis of the da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ots of interesting effec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llaboration with other efforts in this area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w to turn this into a regular servic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7D88-9199-46E6-8E5C-B895975832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velopment of the RIS according to schedu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otype RIS available for general us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r feedback is welcom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ts of interesting effects in the da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71DD-2403-426E-BC7D-EEBF274554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8" name="questionmark" descr=""/>
          <p:cNvPicPr/>
          <p:nvPr/>
        </p:nvPicPr>
        <p:blipFill>
          <a:blip r:embed="rId1"/>
          <a:stretch/>
        </p:blipFill>
        <p:spPr>
          <a:xfrm>
            <a:off x="2335320" y="1447920"/>
            <a:ext cx="4462200" cy="480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406480" y="1670040"/>
            <a:ext cx="3048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  <a:hlinkClick r:id="rId2"/>
              </a:rPr>
              <a:t>http://www.ripe.net/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  <a:hlinkClick r:id="rId3"/>
              </a:rPr>
              <a:t>ris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A5C8-0715-4D52-B49C-41D5E3BA38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troduction/Goals of the RI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llect default-free time-stamped BGP announcements between AS’s and store in a data bas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t several points on the interne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up interactive query to databas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iant looking glass with hi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etwork reachability from other networ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vide raw da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r reality checks,  IRR/RC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o generate trend analysi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vailable to the Commun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3200-2BBE-4526-9CC4-7ED1BCD13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276720"/>
            <a:ext cx="83822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4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914400"/>
            <a:ext cx="556236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4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733920"/>
            <a:ext cx="236232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45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38160" y="1219320"/>
            <a:ext cx="785880" cy="533160"/>
            <a:chOff x="1838160" y="1219320"/>
            <a:chExt cx="785880" cy="533160"/>
          </a:xfrm>
        </p:grpSpPr>
        <p:sp>
          <p:nvSpPr>
            <p:cNvPr id="96" name=""/>
            <p:cNvSpPr/>
            <p:nvPr/>
          </p:nvSpPr>
          <p:spPr>
            <a:xfrm>
              <a:off x="1838160" y="1219320"/>
              <a:ext cx="785880" cy="533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24000" y="1371240"/>
              <a:ext cx="218880" cy="1803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2133000" y="1371600"/>
              <a:ext cx="195480" cy="1900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28800" y="2057400"/>
            <a:ext cx="785880" cy="533520"/>
            <a:chOff x="1828800" y="2057400"/>
            <a:chExt cx="785880" cy="533520"/>
          </a:xfrm>
        </p:grpSpPr>
        <p:sp>
          <p:nvSpPr>
            <p:cNvPr id="100" name=""/>
            <p:cNvSpPr/>
            <p:nvPr/>
          </p:nvSpPr>
          <p:spPr>
            <a:xfrm>
              <a:off x="1828800" y="2057400"/>
              <a:ext cx="785880" cy="533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114640" y="2210040"/>
              <a:ext cx="218880" cy="18072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123640" y="2209680"/>
              <a:ext cx="195480" cy="1904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310360" y="1219320"/>
            <a:ext cx="785520" cy="533160"/>
            <a:chOff x="5310360" y="1219320"/>
            <a:chExt cx="785520" cy="533160"/>
          </a:xfrm>
        </p:grpSpPr>
        <p:sp>
          <p:nvSpPr>
            <p:cNvPr id="104" name=""/>
            <p:cNvSpPr/>
            <p:nvPr/>
          </p:nvSpPr>
          <p:spPr>
            <a:xfrm>
              <a:off x="5310360" y="1219320"/>
              <a:ext cx="785520" cy="533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595840" y="1371240"/>
              <a:ext cx="218520" cy="1803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605200" y="1371600"/>
              <a:ext cx="195120" cy="1900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495680" y="2057400"/>
            <a:ext cx="18288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905120"/>
            <a:ext cx="457200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1752480"/>
            <a:ext cx="0" cy="1526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1905120"/>
            <a:ext cx="0" cy="152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924680" y="2590920"/>
            <a:ext cx="785880" cy="533160"/>
            <a:chOff x="7924680" y="2590920"/>
            <a:chExt cx="785880" cy="533160"/>
          </a:xfrm>
        </p:grpSpPr>
        <p:sp>
          <p:nvSpPr>
            <p:cNvPr id="113" name=""/>
            <p:cNvSpPr/>
            <p:nvPr/>
          </p:nvSpPr>
          <p:spPr>
            <a:xfrm>
              <a:off x="7924680" y="2590920"/>
              <a:ext cx="785880" cy="533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210520" y="2742840"/>
              <a:ext cx="218880" cy="1803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8219520" y="2743200"/>
              <a:ext cx="195480" cy="1900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924680" y="1219320"/>
            <a:ext cx="785880" cy="533160"/>
            <a:chOff x="7924680" y="1219320"/>
            <a:chExt cx="785880" cy="533160"/>
          </a:xfrm>
        </p:grpSpPr>
        <p:sp>
          <p:nvSpPr>
            <p:cNvPr id="117" name=""/>
            <p:cNvSpPr/>
            <p:nvPr/>
          </p:nvSpPr>
          <p:spPr>
            <a:xfrm>
              <a:off x="7924680" y="1219320"/>
              <a:ext cx="785880" cy="533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210520" y="1371240"/>
              <a:ext cx="218880" cy="1803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8219520" y="1371600"/>
              <a:ext cx="195480" cy="1900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733920"/>
            <a:ext cx="26668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4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3733920"/>
            <a:ext cx="213372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4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895480"/>
            <a:ext cx="0" cy="838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25720" y="3807360"/>
            <a:ext cx="1736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BGP Updat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RIB dump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95360" y="3807360"/>
            <a:ext cx="1892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Remote Route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Coll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4191120"/>
            <a:ext cx="45720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114800"/>
            <a:ext cx="22860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3124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2860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1447920"/>
            <a:ext cx="1904760" cy="838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76920" y="1523880"/>
            <a:ext cx="380880" cy="5335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24480" y="1523880"/>
            <a:ext cx="1600200" cy="99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120" y="129456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G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9360" y="2131200"/>
            <a:ext cx="1892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Remote Route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Coll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8480" y="9435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X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440" y="5026680"/>
            <a:ext cx="2061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Command line&amp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Web Interfac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0080" y="4950360"/>
            <a:ext cx="1495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Raw data &amp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Statistic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4864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114800" y="4572000"/>
            <a:ext cx="609480" cy="914400"/>
          </a:xfrm>
          <a:prstGeom prst="line">
            <a:avLst/>
          </a:prstGeom>
          <a:ln w="57240">
            <a:solidFill>
              <a:srgbClr val="0033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057400" y="4572000"/>
            <a:ext cx="1295280" cy="990720"/>
          </a:xfrm>
          <a:prstGeom prst="line">
            <a:avLst/>
          </a:prstGeom>
          <a:ln w="57240">
            <a:solidFill>
              <a:srgbClr val="00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2720" y="3275640"/>
            <a:ext cx="367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RIPE NCC Central Collector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05560" y="1826280"/>
            <a:ext cx="1967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Default fre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f45"/>
                </a:solidFill>
                <a:latin typeface="Arial"/>
              </a:rPr>
              <a:t>Border Rout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2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troduction/Setu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D2A7-41CF-4272-A9D8-DCFCF1D935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troduction/Schedu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829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IPE34 (9/99): Present project to the commun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ct 1999-Feb 2000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velopment of a first version of the RI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swers to the open questions in the project plan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IPE35 (2/00)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monstrate first RIS vers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fter RIPE35?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ater slid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AD19-CE23-48DC-AD0D-7AEBD8CD39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urrent statu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nalize project pla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up first Remote Route Collector (RRC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up peering sessions with interested parti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ore da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velop user-interfac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rst round of data-analys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ork on the open questions in the design docu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alize and order the hardware for the RRC’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0097-5358-4DD1-A62D-574D384BC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search topic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there any added value in collecting data at more than 1 point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hat is the best data-base to store the information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ow long should data be online? What should be done with old data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termine optimal number of routing table dumps per da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ow to turn this into a regular servic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2495-5861-4E77-915E-30CF98D1DA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urrent setu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rdered a Remote Route Collector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entium III with 2 NIC, lots of memory and dis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llection software based on MR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ot a machine to store and analyze the da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up AS# for this proje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up about 12 peering sess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llecting data since Octob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72AF-F255-46E1-AE32-28A4BE094D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1371600"/>
            <a:ext cx="464832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981080"/>
            <a:ext cx="1371600" cy="1295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45"/>
                </a:solidFill>
                <a:latin typeface="Arial"/>
              </a:rPr>
              <a:t>BGP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45"/>
                </a:solidFill>
                <a:latin typeface="Arial"/>
              </a:rPr>
              <a:t>listen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45"/>
                </a:solidFill>
                <a:latin typeface="Arial"/>
              </a:rPr>
              <a:t>MR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1981080"/>
            <a:ext cx="1752840" cy="1295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45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45"/>
                </a:solidFill>
                <a:latin typeface="Arial"/>
              </a:rPr>
              <a:t>Collect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8720" y="5181480"/>
            <a:ext cx="1143000" cy="1067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4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63640" y="5410080"/>
            <a:ext cx="533520" cy="5335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76240" y="5413320"/>
            <a:ext cx="533520" cy="5335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590920"/>
            <a:ext cx="5331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6120" y="6185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f45"/>
                </a:solidFill>
                <a:latin typeface="Arial"/>
              </a:rPr>
              <a:t>Peer 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97080" y="5148360"/>
            <a:ext cx="1143000" cy="10666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4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2000" y="5376960"/>
            <a:ext cx="533160" cy="5331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14600" y="5379840"/>
            <a:ext cx="533520" cy="5331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4480" y="6185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f45"/>
                </a:solidFill>
                <a:latin typeface="Arial"/>
              </a:rPr>
              <a:t>Peer 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072040"/>
            <a:ext cx="1143000" cy="10666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4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300640"/>
            <a:ext cx="533520" cy="5335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965840" y="5303880"/>
            <a:ext cx="533160" cy="5335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6080" y="61095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f45"/>
                </a:solidFill>
                <a:latin typeface="Arial"/>
              </a:rPr>
              <a:t>Peer 1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429000"/>
            <a:ext cx="914400" cy="914400"/>
          </a:xfrm>
          <a:prstGeom prst="flowChartMagneticDisk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45"/>
                </a:solidFill>
                <a:latin typeface="Arial"/>
              </a:rPr>
              <a:t>DB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276720"/>
            <a:ext cx="0" cy="1522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560" y="2130480"/>
            <a:ext cx="17611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45"/>
                </a:solidFill>
                <a:latin typeface="Arial"/>
              </a:rPr>
              <a:t>User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45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362320"/>
            <a:ext cx="1447560" cy="485640"/>
          </a:xfrm>
          <a:prstGeom prst="leftRightArrow">
            <a:avLst>
              <a:gd name="adj1" fmla="val 50000"/>
              <a:gd name="adj2" fmla="val 59338"/>
            </a:avLst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066680" y="3276360"/>
            <a:ext cx="533520" cy="19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599840" y="3276360"/>
            <a:ext cx="1066680" cy="19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599840" y="3276720"/>
            <a:ext cx="30481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8520" y="45712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BG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9520" y="144684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45"/>
                </a:solidFill>
                <a:latin typeface="Arial"/>
              </a:rPr>
              <a:t>RIPE NCC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7680" y="36565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0 Mbytes/peer/da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urrent Setup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0 AS’s, 12 EBGP Pe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CEC8-43ED-4E02-A8B0-23C63B2F68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09:52:25Z</dcterms:created>
  <dc:creator>João Damas</dc:creator>
  <dc:description/>
  <dc:language>en-US</dc:language>
  <cp:lastModifiedBy>João Damas</cp:lastModifiedBy>
  <cp:lastPrinted>2000-02-24T15:08:20Z</cp:lastPrinted>
  <dcterms:modified xsi:type="dcterms:W3CDTF">2000-02-29T02:12:53Z</dcterms:modified>
  <cp:revision>6</cp:revision>
  <dc:subject/>
  <dc:title>Routing Information Service Status and P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ripe.net/ris/</vt:lpwstr>
  </property>
  <property fmtid="{D5CDD505-2E9C-101B-9397-08002B2CF9AE}" pid="9" name="LinkColor">
    <vt:r8>255</vt:r8>
  </property>
  <property fmtid="{D5CDD505-2E9C-101B-9397-08002B2CF9AE}" pid="10" name="MailAddress">
    <vt:lpwstr>henk@ripe.net</vt:lpwstr>
  </property>
  <property fmtid="{D5CDD505-2E9C-101B-9397-08002B2CF9AE}" pid="11" name="NavBtnPos">
    <vt:r8>1</vt:r8>
  </property>
  <property fmtid="{D5CDD505-2E9C-101B-9397-08002B2CF9AE}" pid="12" name="Other">
    <vt:lpwstr>Talk given at RIPE35, February 2000</vt:lpwstr>
  </property>
  <property fmtid="{D5CDD505-2E9C-101B-9397-08002B2CF9AE}" pid="13" name="OutputDir">
    <vt:lpwstr>C:\Henk\Talks\RIPE35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