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9.png" ContentType="image/png"/>
  <Override PartName="/ppt/media/image14.wmf" ContentType="image/x-wmf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31840" y="688680"/>
            <a:ext cx="459576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85000"/>
              </a:lnSpc>
              <a:spcBef>
                <a:spcPts val="825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056B-EC4D-4EC9-B967-67FABFC82D8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2029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205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ent distribution is not a simple process without the right tools, and there are considerable challeng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cing this hot marke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 The first challenge of content distribution is moving any type of content, including text files, graphics file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eaming content,  and applications to any type of delivery vehicle including web servers, caches 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 serv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 The second key challenge is updating content on live sites and servers without affecting the end user performanc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one can afford to bring down servers on their web network when they need to update content. Be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e to do graceful updates on a site that is live without affecting the end user experience or affecting thos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ople that are currently using the old content is very important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 The third challenge is monitoring and reporting on distributed content usage and performance. Any busines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eds to know  in real time how  a site is performing.  For service providers it is important for billing and service lev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iance reasons.  For e-businesses, it is important for capturing and retaining customers.  For enterprise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is important for productivity and internal customer satisfac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  The fourth challenge is the ability to audit content distribution and enable the roll-back of cont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well as other types of error proofing.  Many sites are distributing information that, for legal or custom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e reasons, must be auditable. Error-proofing measures such as rolling back incorrect content are crit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a robust content distribution syste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.  Finally content distribution needs to be integrated with other pieces of the content delivery proces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, traffic management: if you are updating content on a site that has ten servers and one of the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 not accept the update, you need to update the load balancer to let it know that content is no long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vailable on that serve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sldImg"/>
          </p:nvPr>
        </p:nvSpPr>
        <p:spPr>
          <a:xfrm>
            <a:off x="1138320" y="706320"/>
            <a:ext cx="4578120" cy="3434040"/>
          </a:xfrm>
          <a:prstGeom prst="rect">
            <a:avLst/>
          </a:prstGeom>
          <a:ln w="0">
            <a:noFill/>
          </a:ln>
        </p:spPr>
      </p:sp>
      <p:sp>
        <p:nvSpPr>
          <p:cNvPr id="2052" name="PlaceHolder 2"/>
          <p:cNvSpPr>
            <a:spLocks noGrp="1"/>
          </p:cNvSpPr>
          <p:nvPr>
            <p:ph type="body"/>
          </p:nvPr>
        </p:nvSpPr>
        <p:spPr>
          <a:xfrm>
            <a:off x="918720" y="4343040"/>
            <a:ext cx="500868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ing the Inktomi Content Delivery Suite (C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Content Delivery Suite provides a complete content delivery infrastructure to enable serv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viders and enterprises to reliably move content and applications closer to end users wherev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y may be: across the globe, across a LAN network, or across a group of distributed data center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205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looking at content delivery it helps to take a step back and look at the entire content workflow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 divide the content workflow into two pieces: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ent development (Not Inktomi’s business) - includes the design and creation of conte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ing tools like Microsoft FrontPage or Cold Fusion for application development or Adob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hop, as well as content publishing tools such as Vignette, Broadvision or Interwove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ich help manage and organize the content for Web produc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ent Production - Broken into Distribution, Delivery and Managemen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ktomi is the only vendor to provide a complete solution across all of those three segment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Content Distributor distributes content out across a network, Traffic Server delivers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ent to end users, and the Content Manager controls and monitors the usage an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formance of the distributed conten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0A93-69AC-4664-BA80-D413A2686C5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1"/>
          <p:cNvSpPr>
            <a:spLocks noGrp="1"/>
          </p:cNvSpPr>
          <p:nvPr>
            <p:ph type="sldImg"/>
          </p:nvPr>
        </p:nvSpPr>
        <p:spPr>
          <a:xfrm>
            <a:off x="1284120" y="803160"/>
            <a:ext cx="4292640" cy="3218040"/>
          </a:xfrm>
          <a:prstGeom prst="rect">
            <a:avLst/>
          </a:prstGeom>
          <a:ln w="0">
            <a:noFill/>
          </a:ln>
        </p:spPr>
      </p:sp>
      <p:sp>
        <p:nvSpPr>
          <p:cNvPr id="2062" name="PlaceHolder 2"/>
          <p:cNvSpPr>
            <a:spLocks noGrp="1"/>
          </p:cNvSpPr>
          <p:nvPr>
            <p:ph type="body"/>
          </p:nvPr>
        </p:nvSpPr>
        <p:spPr>
          <a:xfrm>
            <a:off x="993600" y="4365360"/>
            <a:ext cx="4870800" cy="413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t’s look at the first component of Inktomi’s Content Delivery Suite:  The Content Distributor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Content Distributor takes content from the creation source, usually on a staging server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licates the content and distributes it to destination servers.  It also informs Traffic Serv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ches that that content has changed and to invalidate the old content. Once it has done tha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t provides content routing information to the load balancer so that if a particular server did no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cept the update, the load balancer will cease sending traffic ther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206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Content Distributor provides a highly scalable cross-geography content distribution mechanism.  It c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tribute content across a LAN or a WAN, or into distributed data centers at different service providers, for exampl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can distribute any type of content: HTML, basic text pages, graphics, streaming, dynamic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ent and it even enables graceful application updates that guarantee application availabilit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Content Distributor can update content on live servers by delivering and unpacking new  cont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ongside the old, then doing a synchronized switchover of all servers to the new content while enabl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rrent users to maintain their connections to the old content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synchronizes content  across servers and caches so that you guarantee the same content is be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ivered by all replicated servers and caches. The synchronization of updates is particularly important f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ustries such as the financial industry, where you cannot have some customers getting information ahea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customers. It also keeps content in the cache very fresh because it informs the cache to invalidat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ent whenever an update takes plac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Content Distributor informs load balancers of changes in content availabilit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has very robust auditing and error recovery features, with the ability roll back complete content se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can perform automated catch up of off line servers, ensuring that all servers are always synchronized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, if servers are down for maintenance they are updated with a complete version of all the new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ent when they come back onlin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nally the Content Distributor provides easy administration of a complex content jobs, with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asy-to-use graphical interface and a robust set of features that simplify an administrators job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C412-B242-4FF2-AD4F-B5E91AF591E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PlaceHolder 1"/>
          <p:cNvSpPr>
            <a:spLocks noGrp="1"/>
          </p:cNvSpPr>
          <p:nvPr>
            <p:ph type="sldImg"/>
          </p:nvPr>
        </p:nvSpPr>
        <p:spPr>
          <a:xfrm>
            <a:off x="1285920" y="803160"/>
            <a:ext cx="4289400" cy="3218040"/>
          </a:xfrm>
          <a:prstGeom prst="rect">
            <a:avLst/>
          </a:prstGeom>
          <a:ln w="0">
            <a:noFill/>
          </a:ln>
        </p:spPr>
      </p:sp>
      <p:sp>
        <p:nvSpPr>
          <p:cNvPr id="2070" name="PlaceHolder 2"/>
          <p:cNvSpPr>
            <a:spLocks noGrp="1"/>
          </p:cNvSpPr>
          <p:nvPr>
            <p:ph type="body"/>
          </p:nvPr>
        </p:nvSpPr>
        <p:spPr>
          <a:xfrm>
            <a:off x="993600" y="4365360"/>
            <a:ext cx="4870800" cy="413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w let’s look at the second component of Inktomi’s Content Delivery Suite:  The Content Manage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Content Manager takes all of the information from the different web servers an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ches, consolidates and monitors the data in real-time so that customers know the performance of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of a customer’s content across the network. The Content Manager aggregates all of the dat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bout content usage and performance, tracks whether a customer’s service level requiremen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e being met and enables customers  to adjust content availability to meet those requirement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Content Manager is a powerful real-time tool for optimizing the performance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tributed content and application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Content Manger provides a unified view of content and application availability, performance and loc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ross the network. It gives customers real time centralized collection of distributed server, cache, 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 log data, consolidating it all in one database.  From that database customers can run report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billing or other customized application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Content Manager also provides centralized collection and graphical viewing in real time of hardware 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ware system information, providing better diagnostic capabilities for performance or availability problem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ent Manager monitors pre- defined performance thresholds, or service level agreements, sending alerts 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wing views of real-time SLA compliance. Alerting can be done through email, pager or visual, on-screen aler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nally, Content Manager is designed to enable customers to view content and applications based on how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business is run. If customers need to monitor a site by business function so that a business unit manag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n view the usage and the performance of a particular application, Content Manager  allows customers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ize views.  Profiles can also be set up to show views by geography or by user profile. This enab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ers to see real-time information that can help run an E Business site better or help run your customer’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sted sites better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, if you are a manager at the Gap on line, you can monitor the site based on product line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promotions, to see in real time how many hits are coming in for that particular product, and whether 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performance is deteriorating due to increased traffic.  Content Manager provides this information in time to le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 respond before customers are affected and click-away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sldImg"/>
          </p:nvPr>
        </p:nvSpPr>
        <p:spPr>
          <a:xfrm>
            <a:off x="1138320" y="706320"/>
            <a:ext cx="4578120" cy="3434040"/>
          </a:xfrm>
          <a:prstGeom prst="rect">
            <a:avLst/>
          </a:prstGeom>
          <a:ln w="0">
            <a:noFill/>
          </a:ln>
        </p:spPr>
      </p:sp>
      <p:sp>
        <p:nvSpPr>
          <p:cNvPr id="2074" name="PlaceHolder 2"/>
          <p:cNvSpPr>
            <a:spLocks noGrp="1"/>
          </p:cNvSpPr>
          <p:nvPr>
            <p:ph type="body"/>
          </p:nvPr>
        </p:nvSpPr>
        <p:spPr>
          <a:xfrm>
            <a:off x="918720" y="4343040"/>
            <a:ext cx="500868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let’s take a look and some Content Delivery Services that the Content Delivery Suite will enable Service Providers to deliv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E2D7-5AB9-4C12-8B54-DCF228C8F38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080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Content Distributor and the Content Manager along with Traffic Server can only be used by hosters 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ervice providers to develop revenue-generating services for their customer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the business to consumer market a hoster or a backbone provider can provide their customers wi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content distribution or a mirroring service.  This type of service is increasingly important as a way to impro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d-user performanc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Flash Crowd protection service can be offered to help customers overcome traffic spikes, with the host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iding overflow capacity both for planned and unplanned ev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other service example is different service level reporting. A hoster could provide customized reports 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alysis of site usage and performance, helping the customer to understand how their E Business 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b site is performing,  as well as helping in forecasting efforts.  This also helps the host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force service level guarant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the business to business market content syndication as a good example of a service that would enab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yndicators to use the Internet to deliver content to their customers in a secured reliable fashion.  There a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business to business opportunities including extranet opportunities  that hosters could be involved 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well. In the intranet market a content distribution and synchronization service can help improve th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stency of content across a global corporation, as well as provide specific content services such as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eaming media service, for corporate training or corporate communications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208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f you look at a business to consumer example, take somebody like Digital Island who is hosting 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te for Compaq. Digital Island gets the original content from Compaq, on the left, who sends it to 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ging server where the content distributor takes it, replicates it, packages it up and distribut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t out to the different origin servers as well as to the caches within digital islands main data centers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t also gets sent across the internet to their local content managers which sit at access points i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fferent geographic locatio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this case, Digital Island is providing a complete distribution process, enabling Compaq to improve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ynchronize frequent content updates, get content closer to end users and improve performanc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 example in the business to business arena is content syndication. Take an examp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ch as Reuters. Reuters needs to distribute content out to the different newspapers or web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ations that ultimately show the content, news headline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service provider could offer Reuters the service of selecting, packaging and distributing headli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ight into the networks where other sites are hosted.  Reuters will rest assured that all of thei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tributors receive the same content, at the the same time, with guaranteed, sec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liver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is a highly scalable process that, as Reuters adds more customers, can easily scale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tribution of their content. The service provider can charge a handsome fee for this value-add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ice, and base billing on the amount of content delive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208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re are many opportunities in the service provider in providing services to Enterprises interest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outsourced intranets. With content distribution, a multinational corporation such as General Motors,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n make sure content is distributed, updated and synchronized across all of its different region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works simultaneous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 many network executives know, an intranet can easily get out of control with many differe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ople updating content from different places.  A service provider could use content distribution t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sure that all of the content is synchroniz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sldImg"/>
          </p:nvPr>
        </p:nvSpPr>
        <p:spPr>
          <a:xfrm>
            <a:off x="1138320" y="706320"/>
            <a:ext cx="4578120" cy="3434040"/>
          </a:xfrm>
          <a:prstGeom prst="rect">
            <a:avLst/>
          </a:prstGeom>
          <a:ln w="0">
            <a:noFill/>
          </a:ln>
        </p:spPr>
      </p:sp>
      <p:sp>
        <p:nvSpPr>
          <p:cNvPr id="2088" name="PlaceHolder 2"/>
          <p:cNvSpPr>
            <a:spLocks noGrp="1"/>
          </p:cNvSpPr>
          <p:nvPr>
            <p:ph type="body"/>
          </p:nvPr>
        </p:nvSpPr>
        <p:spPr>
          <a:xfrm>
            <a:off x="918720" y="4343040"/>
            <a:ext cx="500868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 now lets look at some practical examples of service providers who, today, are capitalizing on different content distribution services based on Inktomi’s Network product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209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re we see how they market this service as a cost savings to the global customer, as well as a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formance improvement for their end-us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FCD3-5666-4200-B538-38157DA99B9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1"/>
          <p:cNvSpPr>
            <a:spLocks noGrp="1"/>
          </p:cNvSpPr>
          <p:nvPr>
            <p:ph type="sldImg"/>
          </p:nvPr>
        </p:nvSpPr>
        <p:spPr>
          <a:xfrm>
            <a:off x="1284120" y="803160"/>
            <a:ext cx="4291200" cy="3218040"/>
          </a:xfrm>
          <a:prstGeom prst="rect">
            <a:avLst/>
          </a:prstGeom>
          <a:ln w="0">
            <a:noFill/>
          </a:ln>
        </p:spPr>
      </p:sp>
      <p:sp>
        <p:nvSpPr>
          <p:cNvPr id="2096" name="PlaceHolder 2"/>
          <p:cNvSpPr>
            <a:spLocks noGrp="1"/>
          </p:cNvSpPr>
          <p:nvPr>
            <p:ph type="body"/>
          </p:nvPr>
        </p:nvSpPr>
        <p:spPr>
          <a:xfrm>
            <a:off x="993600" y="4365360"/>
            <a:ext cx="4870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r third example is Adero, and we see they take a slightly different tact. Adero is doing a similar glob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lication and content distribution service but they do not run their own data centers, rather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y work entirely on the servers and caches that they put into other people’s network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at they do is manage the distribution to the servers and caches located in those network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ero uses the Content Delivery Suite to proactively distribute content out to the differe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cations across the world and to manage the performance of the applications and content a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the different locations.  They use Traffic Server to serve up content quickly. They ar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pporting a variety of distributed applications, E Commerce, and other basic content distribu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ices with this infrastructur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36520" y="70632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8720" y="4341600"/>
            <a:ext cx="50086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ffic Server and the Content Delivery Suite are the two Network Products product lin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ffic Server is a highly scalable network cache platform; it is built t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vide performance, scalability and to be a platform for network service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affic Server is comprised of two distinct product class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affic Server C-clas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is the carrier-class version of traffic server, aimed at carriers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types of service and backbone provid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affic Server E-clas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targeted at enterprise LAN/WAN deployment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Content Delivery Suite is comprise of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ent Distributor - provides a proactive push of content and application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cross a netwo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ent Manager - which provides real time management and monitoring of distribut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ent and application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209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so we can see how the Content Delivery Suite addresses each of the challe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review earli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210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 we have talked about the different market conditions that are driving the need for content distribu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content management services. We have described Inktomi’s offerings that help create a cont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ivery service or implement content delivery services in a content providers network,  and have review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actical examples about how these products can be used to better serve customers and to develop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venue opportunities for Service Provid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ummarize, the Content Distributor answers the key challenges of content distribution, it moves any typ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content to the edges of the network including application with graceful application updates. It enab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ers  to move content on live sites and overcome some of the performance challenges of the new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ent type and of delivering content to already connected live users. It uses a robust method of distribu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guarantee the delivery and availability and the synchronization of content. So the Content Distribu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lly answers the needs to get any type of content to any type of delive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hicle toda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Content Manager manages and monitors in real time so customers get a real time view of the activi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performance of a site, as well as provide a tool that measures service level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Content Manager also simplifies the administration of very complex sites. It enables customers to focu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ngineering talent on creating new features or implementing new ways to do business on a sit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ther than administrating the update of content and application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pportunity here is a new, complete, flexible platform that enables ser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iders to delivery a wide variety of services that will gener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 margin revenu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sldImg"/>
          </p:nvPr>
        </p:nvSpPr>
        <p:spPr>
          <a:xfrm>
            <a:off x="1138320" y="706320"/>
            <a:ext cx="4578120" cy="3434040"/>
          </a:xfrm>
          <a:prstGeom prst="rect">
            <a:avLst/>
          </a:prstGeom>
          <a:ln w="0">
            <a:noFill/>
          </a:ln>
        </p:spPr>
      </p:sp>
      <p:sp>
        <p:nvSpPr>
          <p:cNvPr id="2102" name="PlaceHolder 2"/>
          <p:cNvSpPr>
            <a:spLocks noGrp="1"/>
          </p:cNvSpPr>
          <p:nvPr>
            <p:ph type="body"/>
          </p:nvPr>
        </p:nvSpPr>
        <p:spPr>
          <a:xfrm>
            <a:off x="918720" y="4343040"/>
            <a:ext cx="5008680" cy="41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210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Content Delivery Suite has a very robust graphical user interface. I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gins with the launcher from which you would launch any other of the oth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s that you would use as you are setting up a content job, as you a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ining different delivery types and grouping them, as you are administer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monitoring of the actual delivery- what is the status of differ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ent jobs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first window group Large Server Sets, we are able to take the servers 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 them so that as you are setting up individual content jobs you don’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ve to go server by server indicating every single server a content job go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. You can determine category of servers that content gets delivered t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 can schedule and monitor jobs, so you have scheduled a job you have se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he directory from where you are getting the content you specified th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s and the caches that this content needs to be delivered to and th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 have scheduled the time or frequency at which the content is updat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ou can set the schedule based on time of day that content needs to b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daily, you can set specific times and dates, you can set it to chec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content changes every minute or every hour. There are lots of differ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ys that you can determine content scheduling. You can then monitor the job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tus to see is it running now has it run was it completed is there catch up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at needs to be done to servers or other delivery devices that would no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pt the update at that given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 you can look a the different maps for content, you may want to set up 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p based on geography or based on the type of content or the content produc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at is being delivered. You can also do that for the caches so that you c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 up caches that are in different locations or caches that are in intern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centers. All of this is set to make it very easy to administer ve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x content jobs. It is also set to be able to address the differ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ys that content provider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210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next screen shot is the Content Delivery Suite Content Manag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Content Manager you are able to group the different URLs that you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b site is delivering based on their business function. So you could group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of the URLs for a specific customer, for example, or you could group al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the URLs that participate in the stock purchasing function or all the URL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at are in the girls clothing function on your retail site. Once you ha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ped the different URLs you are able to see how your site is perform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sed on how your business is run, so you could see oh we are having 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blem with the girls clothing application, then you are able to look 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that the girls clothing application is made up of these different URL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you drill down a layer further to see these URLs are located on thes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s and caches where exactly is the performance problem taking place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be that one server located in Atlanta has completely failed and we a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ing a overall dip for that application. So it is a very finely tu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vice to tell you in real time how your site is performing, based on bot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physical layouts of the site as well as the business functions that you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te is performing. You are able to set thresholds so that you can be war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alerted as different performance metrics gets neared. So you can set 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eshold for the average turnaround time of a request. If the turnarou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me goes above or nears that threshold you can be warned or alerted you c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 in two different layers of alerting, you can also set that if that if th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rnaround time is too low you may know that obviously it is not going to th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base and getting data and there is a problem there. You can also measur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sed on a number of aborts, the amount of people who click away from a pag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as well as based on a measure of a number of hits that are tak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ce at any given time so that you are warned if all of the sudden there i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 upswing on the number of hits coming in that could indicate that traffic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piking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210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ntent Distributor and the Content Manager will be located wherever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ministrator of the site is located, they would have a management couns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 would interface both of these elements. The manager connects to 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al database, it takes all of the information from the site and pu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 in that relational database and then there is a content tracking couns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 would enable people to monitor the site’s performance and activity. T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ent Distributor distributes out to first level web servers that a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nning the content distributor agents then out to the traffic servers tha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running agents, then informs low balancers that are closer to the e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s of what content is available at which locations. All of this can b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tributed geographically; you can do a lot of remote distribution a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ment of content and applications using this architectur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2110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he Content Distribution Process is highly robust. First it takes the sourc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o destination mapping and sees where it is getting content and where it i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ing it to, it uses scheduling to determine when it is going to do th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job, it determines the changes using a robust mechanism for determining thes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hanges that is not just based on the file time stamp, but it actually goe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hrough and runs an MD5hash (????) on it to determine what has actuall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hanged from the directory, it then checks with the different end points it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s delivering to see if they can accept these changes, can they accept 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le updated to this size are they up and running and able to do that. It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ses a corium that the administrator sets to say alright 8 out of the 10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rvers have said that they can accept this is that enough, and th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ministrator would have set a corium that would say if 7 servers accept th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pdate then we can go along with it. If only 6 can accept the update then w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know we are not going to have the type of server power that will give th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erformance that we need and don’t perform the update. So it verifies th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ceptance criteria and then it does a very resilient network transfer: It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mpresses the data and then encrypts it and can distribute it out to far wall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sing various secure mechanisms. It is unpacked at the destination poin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ong side the live content, it’s unpacked and then all of the end poin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port back to the content distributor that yes the new content is ready to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o, and once the corium has been reached the new content is switched live.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here can be a graceful shut down of the old content so that current user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re not booted off of it. And then there is a commit of that content or a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oll back, so it is either determined that yes all of that content is live at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hat point low balancers are updated that maybe 2 or 3 of the users did not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cept the content not to send there anymore, or it can say at the last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inute server 7 failed the complete content update did not go through, w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eed to roll it all back. So this is a very robust process, it has integrit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hresholds at each stage using the corium to make sure that we are updatin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n an upservice to provide the performance we need and then once the whol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pdate takes place there is automatic catch up of those servers that did not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ccept the update so that they are completely synchronized once they com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ack online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ktomi Network Products provide the software infrastructure for Internet content and applic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tribution, delivery and managemen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ent infrastructure software is what enables IP networks to support and scale those types of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ent and applications vital to E business sites, as well as other Internet, intranet and extranet si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ktomi is the only vendor to provide a solution that goes across the range of distribution, deliver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management functions that make up Content Infrastructure softwar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1158480" y="5043960"/>
            <a:ext cx="47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t’s look at some of the market drivers for content distribu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203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f you take the service provider and hosting market as an example, we se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evolution of service providers in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ree phase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he first phase is focused on the physical site. Service providers and hosters in particular ar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cused on the physical site integrity; providing a secure facility with a cage for the server an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nectivity to the internet backbon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At stage two we see service providers move to providing a measurable managed servic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y are providing different service level guaranties, different fail over methods, and basi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alue added services on top of hosting the physical si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Stage three is focused on dynamic global content services, and this is the phase we ar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tering today.  Hosters and service providers are asking themselves”How can we bet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p our customers distribute content or manage different types of content?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y are starting to offer streaming media content services or event hosting.  For examp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customer may only need to scale the content on their site for a certain time period in or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handle a  live event or a seasonal promotion.  At this stage, customers are trying to deliv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fferent types of content including applications. Application service providers would fall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space because they are providing a service around application content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ice providers who enter stage three are moving away from commodotization of thei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ices and are moving into a high-margin revenue segment of the marke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2040" name="PlaceHolder 2"/>
          <p:cNvSpPr>
            <a:spLocks noGrp="1"/>
          </p:cNvSpPr>
          <p:nvPr>
            <p:ph type="body"/>
          </p:nvPr>
        </p:nvSpPr>
        <p:spPr>
          <a:xfrm>
            <a:off x="914400" y="470340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moving to support different types of content it is important to understand some of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alability issues that are  taking place on the Web today.  Recently the Northeast Consult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earch Institute did a study on the “World Wide Wait”, looking at Web content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ts performance for the end-user..  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CR found that between 1995 and 1999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size of the typical Web page increased by about 60%.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complexity of the typical page increased by about 120% (Meaning the number of elemen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transactions that might be involved in delivering a web page is increasing dramatically.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as you might imagine, the time it takes to deliver the average page has increased by about 35%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nce 1995 the performance of the Web has actually decrease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looking at the factors contributing to this worsening performance on the internet they foun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at of the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ree main factors that influence end-user performanc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  The end-user’s PC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  The end-user’s connectivity to the interne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  The overall time it takes to move content through the internet infrastructur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the back bone and the all the routers)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 see it is the Network Infrastructure that is the dominant element responsible for the poo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b experience, not a user’s PC or their connection to the Internet.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ecifically contributing to Network sluggishness is the number of router hops it takes to delive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ent across the network.  As that number has increased over the years, end-user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as considerably slow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us, the only thing that is going to help us to improve performance given the increasing amou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content that we have and the complexity of that content is moving content closer to end user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ching and content distribution are the only practical way to reduce network dela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D2CB-4299-4372-A90F-9B7E310D913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284120" y="803160"/>
            <a:ext cx="4292640" cy="321804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93600" y="4365360"/>
            <a:ext cx="4870800" cy="413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w do we define content distribution? Content distribution is a way to distribute content an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lications across a geographically distributed network to strategically placed servers that ar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asily accessed by the end us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addition, it is important to be able to track, manage and report on the usage an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formance of distributed content. It is one thing to distribute content out to many delivery poin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 the network but it is also crucial to have real time tracking and analysis of what is happen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ith that conten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all of  this is done in order to provide better, faster and more reliable delivery of conte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of applications to end user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726920"/>
            <a:ext cx="8077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120" y="4194720"/>
            <a:ext cx="8077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72692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8400" y="172692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419472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48400" y="419472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72692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40080" y="172692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71400" y="172692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120" y="419472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40080" y="419472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71400" y="419472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172692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72692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72692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48400" y="172692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72692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400" y="172692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9120" y="419472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120" y="172692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72692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8400" y="172692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48400" y="419472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72692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8400" y="172692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120" y="4194720"/>
            <a:ext cx="8077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726920"/>
            <a:ext cx="8077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120" y="4194720"/>
            <a:ext cx="8077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72692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8400" y="172692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120" y="419472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48400" y="419472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72692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40080" y="172692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1400" y="172692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9120" y="419472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40080" y="419472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1400" y="419472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120" y="172692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120" y="172692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48400" y="172692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72692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8400" y="172692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120" y="419472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726920"/>
            <a:ext cx="3941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8400" y="172692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8400" y="419472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72692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8400" y="1726920"/>
            <a:ext cx="3941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120" y="4194720"/>
            <a:ext cx="8077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72692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86280" y="1561680"/>
            <a:ext cx="561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825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3086280" y="2959200"/>
            <a:ext cx="5667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5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9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9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9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9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9.png"/><Relationship Id="rId22" Type="http://schemas.openxmlformats.org/officeDocument/2006/relationships/slideLayout" Target="../slideLayouts/slideLayout5.xml"/><Relationship Id="rId2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9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9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9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9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9.png"/><Relationship Id="rId22" Type="http://schemas.openxmlformats.org/officeDocument/2006/relationships/slideLayout" Target="../slideLayouts/slideLayout5.xml"/><Relationship Id="rId2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9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jpeg"/><Relationship Id="rId6" Type="http://schemas.openxmlformats.org/officeDocument/2006/relationships/image" Target="../media/image14.wmf"/><Relationship Id="rId7" Type="http://schemas.openxmlformats.org/officeDocument/2006/relationships/image" Target="../media/image31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85920" y="1561680"/>
            <a:ext cx="605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825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ktomi Content Delivery Suit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04920" y="26676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Challenges for Content 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612800"/>
            <a:ext cx="80773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ing ANY type of content (applications, streaming, etc.) to ANY type of delivery veh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 content on sites and servers that are live, without affecting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itoring and reporting on distributed content usage and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125"/>
              </a:spcBef>
              <a:spcAft>
                <a:spcPts val="75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t for billing and service level com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diting and roll-back functionality and highly automated error-proo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ed with other segments of the content delivery process, i.e. traffic mgm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960" y="266400"/>
            <a:ext cx="798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rget customers for Content Distribution product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47312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ice Provider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-added hosting or backbone provid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commodity hosting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erprise and E-Busines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-centric enterprise customers with large, distributed IP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Businesses or Content Providers co-locating their content at distributed 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98680" y="6293880"/>
            <a:ext cx="138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ource: HTRC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9500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ntent Delivery Suite Custom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logo-tagline" descr=""/>
          <p:cNvPicPr/>
          <p:nvPr/>
        </p:nvPicPr>
        <p:blipFill>
          <a:blip r:embed="rId2"/>
          <a:stretch/>
        </p:blipFill>
        <p:spPr>
          <a:xfrm>
            <a:off x="6934320" y="4343400"/>
            <a:ext cx="1123920" cy="647640"/>
          </a:xfrm>
          <a:prstGeom prst="rect">
            <a:avLst/>
          </a:prstGeom>
          <a:ln w="0">
            <a:noFill/>
          </a:ln>
        </p:spPr>
      </p:pic>
      <p:pic>
        <p:nvPicPr>
          <p:cNvPr id="206" name="mastleft" descr=""/>
          <p:cNvPicPr/>
          <p:nvPr/>
        </p:nvPicPr>
        <p:blipFill>
          <a:blip r:embed="rId3"/>
          <a:stretch/>
        </p:blipFill>
        <p:spPr>
          <a:xfrm>
            <a:off x="7162920" y="5562720"/>
            <a:ext cx="1738080" cy="469800"/>
          </a:xfrm>
          <a:prstGeom prst="rect">
            <a:avLst/>
          </a:prstGeom>
          <a:ln w="0">
            <a:noFill/>
          </a:ln>
        </p:spPr>
      </p:pic>
      <p:pic>
        <p:nvPicPr>
          <p:cNvPr id="207" name="nytlogo12" descr=""/>
          <p:cNvPicPr/>
          <p:nvPr/>
        </p:nvPicPr>
        <p:blipFill>
          <a:blip r:embed="rId4"/>
          <a:stretch/>
        </p:blipFill>
        <p:spPr>
          <a:xfrm>
            <a:off x="5307120" y="6058080"/>
            <a:ext cx="3205080" cy="495000"/>
          </a:xfrm>
          <a:prstGeom prst="rect">
            <a:avLst/>
          </a:prstGeom>
          <a:ln w="0">
            <a:noFill/>
          </a:ln>
        </p:spPr>
      </p:pic>
      <p:pic>
        <p:nvPicPr>
          <p:cNvPr id="208" name="LOGO" descr=""/>
          <p:cNvPicPr/>
          <p:nvPr/>
        </p:nvPicPr>
        <p:blipFill>
          <a:blip r:embed="rId5"/>
          <a:stretch/>
        </p:blipFill>
        <p:spPr>
          <a:xfrm>
            <a:off x="4419720" y="4495680"/>
            <a:ext cx="1941480" cy="503280"/>
          </a:xfrm>
          <a:prstGeom prst="rect">
            <a:avLst/>
          </a:prstGeom>
          <a:ln w="0">
            <a:noFill/>
          </a:ln>
        </p:spPr>
      </p:pic>
      <p:pic>
        <p:nvPicPr>
          <p:cNvPr id="209" name="ils" descr=""/>
          <p:cNvPicPr/>
          <p:nvPr/>
        </p:nvPicPr>
        <p:blipFill>
          <a:blip r:embed="rId6"/>
          <a:stretch/>
        </p:blipFill>
        <p:spPr>
          <a:xfrm>
            <a:off x="2057400" y="4572000"/>
            <a:ext cx="1828800" cy="412920"/>
          </a:xfrm>
          <a:prstGeom prst="rect">
            <a:avLst/>
          </a:prstGeom>
          <a:ln w="0">
            <a:noFill/>
          </a:ln>
        </p:spPr>
      </p:pic>
      <p:pic>
        <p:nvPicPr>
          <p:cNvPr id="210" name="logo(1)" descr=""/>
          <p:cNvPicPr/>
          <p:nvPr/>
        </p:nvPicPr>
        <p:blipFill>
          <a:blip r:embed="rId7"/>
          <a:stretch/>
        </p:blipFill>
        <p:spPr>
          <a:xfrm>
            <a:off x="514440" y="4492800"/>
            <a:ext cx="1201680" cy="126036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4343400" y="5562720"/>
            <a:ext cx="1969920" cy="399960"/>
            <a:chOff x="4343400" y="5562720"/>
            <a:chExt cx="1969920" cy="399960"/>
          </a:xfrm>
        </p:grpSpPr>
        <p:sp>
          <p:nvSpPr>
            <p:cNvPr id="212" name=""/>
            <p:cNvSpPr/>
            <p:nvPr/>
          </p:nvSpPr>
          <p:spPr>
            <a:xfrm>
              <a:off x="4343400" y="5562720"/>
              <a:ext cx="1969920" cy="3999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versaware" descr=""/>
            <p:cNvPicPr/>
            <p:nvPr/>
          </p:nvPicPr>
          <p:blipFill>
            <a:blip r:embed="rId8"/>
            <a:stretch/>
          </p:blipFill>
          <p:spPr>
            <a:xfrm>
              <a:off x="4411080" y="5619600"/>
              <a:ext cx="1774800" cy="2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"/>
          <p:cNvSpPr/>
          <p:nvPr/>
        </p:nvSpPr>
        <p:spPr>
          <a:xfrm>
            <a:off x="3588120" y="1854720"/>
            <a:ext cx="159336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ktomi 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25840" y="2122560"/>
            <a:ext cx="0" cy="101124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32280" y="3133800"/>
            <a:ext cx="102852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32280" y="2549520"/>
            <a:ext cx="1028520" cy="0"/>
          </a:xfrm>
          <a:prstGeom prst="line">
            <a:avLst/>
          </a:prstGeom>
          <a:ln w="25560">
            <a:solidFill>
              <a:srgbClr val="00cc9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0600" y="1598400"/>
            <a:ext cx="276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Hosting Service Provi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01760" y="2233440"/>
            <a:ext cx="2630520" cy="675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p T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Dedicated, Customiz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01760" y="2908440"/>
            <a:ext cx="2630520" cy="674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d T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Co-Loca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01760" y="3583080"/>
            <a:ext cx="2630520" cy="689040"/>
          </a:xfrm>
          <a:prstGeom prst="roundRect">
            <a:avLst>
              <a:gd name="adj" fmla="val 16667"/>
            </a:avLst>
          </a:prstGeom>
          <a:blipFill rotWithShape="0">
            <a:blip r:embed="rId9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 Volume Ho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har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08480" y="43876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65400" y="1598400"/>
            <a:ext cx="324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ontent Providers/Enterpr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30720" y="2233440"/>
            <a:ext cx="2632320" cy="675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to 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30720" y="2908440"/>
            <a:ext cx="2632320" cy="674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to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30720" y="3583080"/>
            <a:ext cx="2632320" cy="690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r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54800" y="43894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25840" y="2894040"/>
            <a:ext cx="0" cy="101268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33760" y="3887640"/>
            <a:ext cx="536760" cy="972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logo" descr=""/>
          <p:cNvPicPr/>
          <p:nvPr/>
        </p:nvPicPr>
        <p:blipFill>
          <a:blip r:embed="rId10"/>
          <a:stretch/>
        </p:blipFill>
        <p:spPr>
          <a:xfrm>
            <a:off x="914400" y="5943600"/>
            <a:ext cx="1486080" cy="403200"/>
          </a:xfrm>
          <a:prstGeom prst="rect">
            <a:avLst/>
          </a:prstGeom>
          <a:ln w="0">
            <a:noFill/>
          </a:ln>
        </p:spPr>
      </p:pic>
      <p:pic>
        <p:nvPicPr>
          <p:cNvPr id="231" name="logo" descr=""/>
          <p:cNvPicPr/>
          <p:nvPr/>
        </p:nvPicPr>
        <p:blipFill>
          <a:blip r:embed="rId11"/>
          <a:stretch/>
        </p:blipFill>
        <p:spPr>
          <a:xfrm>
            <a:off x="5486400" y="5029200"/>
            <a:ext cx="2295360" cy="463680"/>
          </a:xfrm>
          <a:prstGeom prst="rect">
            <a:avLst/>
          </a:prstGeom>
          <a:ln w="0">
            <a:noFill/>
          </a:ln>
        </p:spPr>
      </p:pic>
      <p:pic>
        <p:nvPicPr>
          <p:cNvPr id="232" name="mirror%20image%20logo" descr=""/>
          <p:cNvPicPr/>
          <p:nvPr/>
        </p:nvPicPr>
        <p:blipFill>
          <a:blip r:embed="rId12"/>
          <a:stretch/>
        </p:blipFill>
        <p:spPr>
          <a:xfrm>
            <a:off x="1905120" y="5105520"/>
            <a:ext cx="2104920" cy="628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3"/>
          <a:stretch/>
        </p:blipFill>
        <p:spPr>
          <a:xfrm>
            <a:off x="2819520" y="5943600"/>
            <a:ext cx="633240" cy="623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85920" y="1561680"/>
            <a:ext cx="605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825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ktomi Content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livery Suite (CDS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3276720" y="3111480"/>
            <a:ext cx="3961800" cy="3463920"/>
            <a:chOff x="3276720" y="3111480"/>
            <a:chExt cx="3961800" cy="3463920"/>
          </a:xfrm>
        </p:grpSpPr>
        <p:sp>
          <p:nvSpPr>
            <p:cNvPr id="236" name=""/>
            <p:cNvSpPr/>
            <p:nvPr/>
          </p:nvSpPr>
          <p:spPr>
            <a:xfrm>
              <a:off x="3276720" y="3111480"/>
              <a:ext cx="3961800" cy="3463920"/>
            </a:xfrm>
            <a:prstGeom prst="ellipse">
              <a:avLst/>
            </a:prstGeom>
            <a:gradFill rotWithShape="0">
              <a:gsLst>
                <a:gs pos="0">
                  <a:srgbClr val="172d58"/>
                </a:gs>
                <a:gs pos="100000">
                  <a:srgbClr val="3463c0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3967560" y="3111480"/>
              <a:ext cx="3225960" cy="3424320"/>
              <a:chOff x="3967560" y="3111480"/>
              <a:chExt cx="3225960" cy="342432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3967560" y="3111480"/>
                <a:ext cx="3225960" cy="3424320"/>
                <a:chOff x="3967560" y="3111480"/>
                <a:chExt cx="3225960" cy="342432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4395960" y="5177880"/>
                  <a:ext cx="1086840" cy="1357920"/>
                  <a:chOff x="4395960" y="5177880"/>
                  <a:chExt cx="1086840" cy="135792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4395960" y="5177880"/>
                    <a:ext cx="1086840" cy="126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237">
                        <a:moveTo>
                          <a:pt x="20" y="5"/>
                        </a:moveTo>
                        <a:lnTo>
                          <a:pt x="30" y="0"/>
                        </a:lnTo>
                        <a:lnTo>
                          <a:pt x="39" y="0"/>
                        </a:lnTo>
                        <a:lnTo>
                          <a:pt x="42" y="0"/>
                        </a:lnTo>
                        <a:lnTo>
                          <a:pt x="42" y="1"/>
                        </a:lnTo>
                        <a:lnTo>
                          <a:pt x="42" y="5"/>
                        </a:lnTo>
                        <a:lnTo>
                          <a:pt x="44" y="5"/>
                        </a:lnTo>
                        <a:lnTo>
                          <a:pt x="46" y="1"/>
                        </a:lnTo>
                        <a:lnTo>
                          <a:pt x="46" y="0"/>
                        </a:lnTo>
                        <a:lnTo>
                          <a:pt x="49" y="0"/>
                        </a:lnTo>
                        <a:lnTo>
                          <a:pt x="49" y="1"/>
                        </a:lnTo>
                        <a:lnTo>
                          <a:pt x="54" y="5"/>
                        </a:lnTo>
                        <a:lnTo>
                          <a:pt x="56" y="5"/>
                        </a:lnTo>
                        <a:lnTo>
                          <a:pt x="63" y="5"/>
                        </a:lnTo>
                        <a:lnTo>
                          <a:pt x="68" y="7"/>
                        </a:lnTo>
                        <a:lnTo>
                          <a:pt x="70" y="7"/>
                        </a:lnTo>
                        <a:lnTo>
                          <a:pt x="72" y="7"/>
                        </a:lnTo>
                        <a:lnTo>
                          <a:pt x="74" y="9"/>
                        </a:lnTo>
                        <a:lnTo>
                          <a:pt x="78" y="12"/>
                        </a:lnTo>
                        <a:lnTo>
                          <a:pt x="78" y="13"/>
                        </a:lnTo>
                        <a:lnTo>
                          <a:pt x="82" y="13"/>
                        </a:lnTo>
                        <a:lnTo>
                          <a:pt x="84" y="19"/>
                        </a:lnTo>
                        <a:lnTo>
                          <a:pt x="89" y="23"/>
                        </a:lnTo>
                        <a:lnTo>
                          <a:pt x="93" y="26"/>
                        </a:lnTo>
                        <a:lnTo>
                          <a:pt x="96" y="26"/>
                        </a:lnTo>
                        <a:lnTo>
                          <a:pt x="100" y="26"/>
                        </a:lnTo>
                        <a:lnTo>
                          <a:pt x="103" y="28"/>
                        </a:lnTo>
                        <a:lnTo>
                          <a:pt x="108" y="30"/>
                        </a:lnTo>
                        <a:lnTo>
                          <a:pt x="112" y="35"/>
                        </a:lnTo>
                        <a:lnTo>
                          <a:pt x="115" y="37"/>
                        </a:lnTo>
                        <a:lnTo>
                          <a:pt x="117" y="41"/>
                        </a:lnTo>
                        <a:lnTo>
                          <a:pt x="115" y="44"/>
                        </a:lnTo>
                        <a:lnTo>
                          <a:pt x="112" y="48"/>
                        </a:lnTo>
                        <a:lnTo>
                          <a:pt x="115" y="51"/>
                        </a:lnTo>
                        <a:lnTo>
                          <a:pt x="117" y="54"/>
                        </a:lnTo>
                        <a:lnTo>
                          <a:pt x="122" y="51"/>
                        </a:lnTo>
                        <a:lnTo>
                          <a:pt x="127" y="48"/>
                        </a:lnTo>
                        <a:lnTo>
                          <a:pt x="131" y="51"/>
                        </a:lnTo>
                        <a:lnTo>
                          <a:pt x="134" y="51"/>
                        </a:lnTo>
                        <a:lnTo>
                          <a:pt x="138" y="54"/>
                        </a:lnTo>
                        <a:lnTo>
                          <a:pt x="143" y="56"/>
                        </a:lnTo>
                        <a:lnTo>
                          <a:pt x="147" y="56"/>
                        </a:lnTo>
                        <a:lnTo>
                          <a:pt x="155" y="56"/>
                        </a:lnTo>
                        <a:lnTo>
                          <a:pt x="160" y="60"/>
                        </a:lnTo>
                        <a:lnTo>
                          <a:pt x="167" y="60"/>
                        </a:lnTo>
                        <a:lnTo>
                          <a:pt x="171" y="63"/>
                        </a:lnTo>
                        <a:lnTo>
                          <a:pt x="174" y="67"/>
                        </a:lnTo>
                        <a:lnTo>
                          <a:pt x="174" y="73"/>
                        </a:lnTo>
                        <a:lnTo>
                          <a:pt x="168" y="78"/>
                        </a:lnTo>
                        <a:lnTo>
                          <a:pt x="167" y="82"/>
                        </a:lnTo>
                        <a:lnTo>
                          <a:pt x="162" y="86"/>
                        </a:lnTo>
                        <a:lnTo>
                          <a:pt x="162" y="92"/>
                        </a:lnTo>
                        <a:lnTo>
                          <a:pt x="157" y="96"/>
                        </a:lnTo>
                        <a:lnTo>
                          <a:pt x="160" y="101"/>
                        </a:lnTo>
                        <a:lnTo>
                          <a:pt x="160" y="109"/>
                        </a:lnTo>
                        <a:lnTo>
                          <a:pt x="157" y="113"/>
                        </a:lnTo>
                        <a:lnTo>
                          <a:pt x="157" y="118"/>
                        </a:lnTo>
                        <a:lnTo>
                          <a:pt x="153" y="124"/>
                        </a:lnTo>
                        <a:lnTo>
                          <a:pt x="150" y="124"/>
                        </a:lnTo>
                        <a:lnTo>
                          <a:pt x="145" y="126"/>
                        </a:lnTo>
                        <a:lnTo>
                          <a:pt x="141" y="126"/>
                        </a:lnTo>
                        <a:lnTo>
                          <a:pt x="134" y="130"/>
                        </a:lnTo>
                        <a:lnTo>
                          <a:pt x="128" y="134"/>
                        </a:lnTo>
                        <a:lnTo>
                          <a:pt x="123" y="139"/>
                        </a:lnTo>
                        <a:lnTo>
                          <a:pt x="122" y="141"/>
                        </a:lnTo>
                        <a:lnTo>
                          <a:pt x="127" y="144"/>
                        </a:lnTo>
                        <a:lnTo>
                          <a:pt x="127" y="145"/>
                        </a:lnTo>
                        <a:lnTo>
                          <a:pt x="117" y="152"/>
                        </a:lnTo>
                        <a:lnTo>
                          <a:pt x="112" y="162"/>
                        </a:lnTo>
                        <a:lnTo>
                          <a:pt x="105" y="169"/>
                        </a:lnTo>
                        <a:lnTo>
                          <a:pt x="100" y="169"/>
                        </a:lnTo>
                        <a:lnTo>
                          <a:pt x="93" y="165"/>
                        </a:lnTo>
                        <a:lnTo>
                          <a:pt x="93" y="171"/>
                        </a:lnTo>
                        <a:lnTo>
                          <a:pt x="96" y="174"/>
                        </a:lnTo>
                        <a:lnTo>
                          <a:pt x="96" y="180"/>
                        </a:lnTo>
                        <a:lnTo>
                          <a:pt x="87" y="186"/>
                        </a:lnTo>
                        <a:lnTo>
                          <a:pt x="82" y="186"/>
                        </a:lnTo>
                        <a:lnTo>
                          <a:pt x="78" y="193"/>
                        </a:lnTo>
                        <a:lnTo>
                          <a:pt x="72" y="195"/>
                        </a:lnTo>
                        <a:lnTo>
                          <a:pt x="70" y="198"/>
                        </a:lnTo>
                        <a:lnTo>
                          <a:pt x="72" y="203"/>
                        </a:lnTo>
                        <a:lnTo>
                          <a:pt x="68" y="207"/>
                        </a:lnTo>
                        <a:lnTo>
                          <a:pt x="72" y="216"/>
                        </a:lnTo>
                        <a:lnTo>
                          <a:pt x="68" y="222"/>
                        </a:lnTo>
                        <a:lnTo>
                          <a:pt x="65" y="229"/>
                        </a:lnTo>
                        <a:lnTo>
                          <a:pt x="68" y="233"/>
                        </a:lnTo>
                        <a:lnTo>
                          <a:pt x="61" y="233"/>
                        </a:lnTo>
                        <a:lnTo>
                          <a:pt x="56" y="236"/>
                        </a:lnTo>
                        <a:lnTo>
                          <a:pt x="49" y="224"/>
                        </a:lnTo>
                        <a:lnTo>
                          <a:pt x="46" y="214"/>
                        </a:lnTo>
                        <a:lnTo>
                          <a:pt x="46" y="195"/>
                        </a:lnTo>
                        <a:lnTo>
                          <a:pt x="39" y="188"/>
                        </a:lnTo>
                        <a:lnTo>
                          <a:pt x="39" y="176"/>
                        </a:lnTo>
                        <a:lnTo>
                          <a:pt x="44" y="167"/>
                        </a:lnTo>
                        <a:lnTo>
                          <a:pt x="42" y="158"/>
                        </a:lnTo>
                        <a:lnTo>
                          <a:pt x="42" y="148"/>
                        </a:lnTo>
                        <a:lnTo>
                          <a:pt x="42" y="124"/>
                        </a:lnTo>
                        <a:lnTo>
                          <a:pt x="44" y="115"/>
                        </a:lnTo>
                        <a:lnTo>
                          <a:pt x="39" y="109"/>
                        </a:lnTo>
                        <a:lnTo>
                          <a:pt x="35" y="103"/>
                        </a:lnTo>
                        <a:lnTo>
                          <a:pt x="33" y="101"/>
                        </a:lnTo>
                        <a:lnTo>
                          <a:pt x="30" y="99"/>
                        </a:lnTo>
                        <a:lnTo>
                          <a:pt x="27" y="99"/>
                        </a:lnTo>
                        <a:lnTo>
                          <a:pt x="23" y="99"/>
                        </a:lnTo>
                        <a:lnTo>
                          <a:pt x="23" y="96"/>
                        </a:lnTo>
                        <a:lnTo>
                          <a:pt x="20" y="94"/>
                        </a:lnTo>
                        <a:lnTo>
                          <a:pt x="18" y="89"/>
                        </a:lnTo>
                        <a:lnTo>
                          <a:pt x="16" y="82"/>
                        </a:lnTo>
                        <a:lnTo>
                          <a:pt x="14" y="78"/>
                        </a:lnTo>
                        <a:lnTo>
                          <a:pt x="14" y="75"/>
                        </a:lnTo>
                        <a:lnTo>
                          <a:pt x="12" y="75"/>
                        </a:lnTo>
                        <a:lnTo>
                          <a:pt x="9" y="67"/>
                        </a:lnTo>
                        <a:lnTo>
                          <a:pt x="5" y="66"/>
                        </a:lnTo>
                        <a:lnTo>
                          <a:pt x="5" y="58"/>
                        </a:lnTo>
                        <a:lnTo>
                          <a:pt x="2" y="56"/>
                        </a:lnTo>
                        <a:lnTo>
                          <a:pt x="0" y="54"/>
                        </a:lnTo>
                        <a:lnTo>
                          <a:pt x="5" y="48"/>
                        </a:lnTo>
                        <a:lnTo>
                          <a:pt x="9" y="47"/>
                        </a:lnTo>
                        <a:lnTo>
                          <a:pt x="5" y="44"/>
                        </a:lnTo>
                        <a:lnTo>
                          <a:pt x="5" y="39"/>
                        </a:lnTo>
                        <a:lnTo>
                          <a:pt x="5" y="37"/>
                        </a:lnTo>
                        <a:lnTo>
                          <a:pt x="9" y="33"/>
                        </a:lnTo>
                        <a:lnTo>
                          <a:pt x="14" y="30"/>
                        </a:lnTo>
                        <a:lnTo>
                          <a:pt x="16" y="26"/>
                        </a:lnTo>
                        <a:lnTo>
                          <a:pt x="18" y="23"/>
                        </a:lnTo>
                        <a:lnTo>
                          <a:pt x="18" y="19"/>
                        </a:lnTo>
                        <a:lnTo>
                          <a:pt x="18" y="13"/>
                        </a:lnTo>
                        <a:lnTo>
                          <a:pt x="20" y="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3e00"/>
                      </a:gs>
                      <a:gs pos="100000">
                        <a:srgbClr val="00ae00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0033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4781520" y="6438960"/>
                    <a:ext cx="13644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8">
                        <a:moveTo>
                          <a:pt x="7" y="0"/>
                        </a:moveTo>
                        <a:lnTo>
                          <a:pt x="0" y="11"/>
                        </a:lnTo>
                        <a:lnTo>
                          <a:pt x="4" y="17"/>
                        </a:lnTo>
                        <a:lnTo>
                          <a:pt x="14" y="17"/>
                        </a:lnTo>
                        <a:lnTo>
                          <a:pt x="21" y="17"/>
                        </a:lnTo>
                        <a:lnTo>
                          <a:pt x="14" y="11"/>
                        </a:lnTo>
                        <a:lnTo>
                          <a:pt x="7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3e00"/>
                      </a:gs>
                      <a:gs pos="100000">
                        <a:srgbClr val="00ae00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0033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3967560" y="3539880"/>
                  <a:ext cx="1544760" cy="1720800"/>
                  <a:chOff x="3967560" y="3539880"/>
                  <a:chExt cx="1544760" cy="17208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4794120" y="4123080"/>
                    <a:ext cx="10404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0" y="12"/>
                        </a:moveTo>
                        <a:lnTo>
                          <a:pt x="16" y="17"/>
                        </a:lnTo>
                        <a:lnTo>
                          <a:pt x="16" y="8"/>
                        </a:lnTo>
                        <a:lnTo>
                          <a:pt x="16" y="4"/>
                        </a:lnTo>
                        <a:lnTo>
                          <a:pt x="10" y="0"/>
                        </a:lnTo>
                        <a:lnTo>
                          <a:pt x="4" y="4"/>
                        </a:lnTo>
                        <a:lnTo>
                          <a:pt x="0" y="1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3e00"/>
                      </a:gs>
                      <a:gs pos="100000">
                        <a:srgbClr val="00ae00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0033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3967560" y="3539880"/>
                    <a:ext cx="1544760" cy="1720800"/>
                    <a:chOff x="3967560" y="3539880"/>
                    <a:chExt cx="1544760" cy="1720800"/>
                  </a:xfrm>
                </p:grpSpPr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3967560" y="3539880"/>
                      <a:ext cx="1091880" cy="172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" h="322">
                          <a:moveTo>
                            <a:pt x="90" y="314"/>
                          </a:moveTo>
                          <a:lnTo>
                            <a:pt x="83" y="307"/>
                          </a:lnTo>
                          <a:lnTo>
                            <a:pt x="76" y="307"/>
                          </a:lnTo>
                          <a:lnTo>
                            <a:pt x="69" y="301"/>
                          </a:lnTo>
                          <a:lnTo>
                            <a:pt x="69" y="295"/>
                          </a:lnTo>
                          <a:lnTo>
                            <a:pt x="71" y="292"/>
                          </a:lnTo>
                          <a:lnTo>
                            <a:pt x="71" y="290"/>
                          </a:lnTo>
                          <a:lnTo>
                            <a:pt x="74" y="285"/>
                          </a:lnTo>
                          <a:lnTo>
                            <a:pt x="71" y="278"/>
                          </a:lnTo>
                          <a:lnTo>
                            <a:pt x="67" y="278"/>
                          </a:lnTo>
                          <a:lnTo>
                            <a:pt x="60" y="273"/>
                          </a:lnTo>
                          <a:lnTo>
                            <a:pt x="60" y="269"/>
                          </a:lnTo>
                          <a:lnTo>
                            <a:pt x="67" y="259"/>
                          </a:lnTo>
                          <a:lnTo>
                            <a:pt x="65" y="256"/>
                          </a:lnTo>
                          <a:lnTo>
                            <a:pt x="58" y="254"/>
                          </a:lnTo>
                          <a:lnTo>
                            <a:pt x="53" y="256"/>
                          </a:lnTo>
                          <a:lnTo>
                            <a:pt x="51" y="259"/>
                          </a:lnTo>
                          <a:lnTo>
                            <a:pt x="43" y="259"/>
                          </a:lnTo>
                          <a:lnTo>
                            <a:pt x="39" y="256"/>
                          </a:lnTo>
                          <a:lnTo>
                            <a:pt x="34" y="248"/>
                          </a:lnTo>
                          <a:lnTo>
                            <a:pt x="37" y="240"/>
                          </a:lnTo>
                          <a:lnTo>
                            <a:pt x="39" y="233"/>
                          </a:lnTo>
                          <a:lnTo>
                            <a:pt x="41" y="231"/>
                          </a:lnTo>
                          <a:lnTo>
                            <a:pt x="43" y="229"/>
                          </a:lnTo>
                          <a:lnTo>
                            <a:pt x="45" y="223"/>
                          </a:lnTo>
                          <a:lnTo>
                            <a:pt x="51" y="222"/>
                          </a:lnTo>
                          <a:lnTo>
                            <a:pt x="55" y="219"/>
                          </a:lnTo>
                          <a:lnTo>
                            <a:pt x="60" y="222"/>
                          </a:lnTo>
                          <a:lnTo>
                            <a:pt x="65" y="222"/>
                          </a:lnTo>
                          <a:lnTo>
                            <a:pt x="67" y="226"/>
                          </a:lnTo>
                          <a:lnTo>
                            <a:pt x="69" y="226"/>
                          </a:lnTo>
                          <a:lnTo>
                            <a:pt x="76" y="223"/>
                          </a:lnTo>
                          <a:lnTo>
                            <a:pt x="79" y="226"/>
                          </a:lnTo>
                          <a:lnTo>
                            <a:pt x="86" y="233"/>
                          </a:lnTo>
                          <a:lnTo>
                            <a:pt x="83" y="240"/>
                          </a:lnTo>
                          <a:lnTo>
                            <a:pt x="86" y="242"/>
                          </a:lnTo>
                          <a:lnTo>
                            <a:pt x="86" y="244"/>
                          </a:lnTo>
                          <a:lnTo>
                            <a:pt x="90" y="248"/>
                          </a:lnTo>
                          <a:lnTo>
                            <a:pt x="92" y="250"/>
                          </a:lnTo>
                          <a:lnTo>
                            <a:pt x="92" y="244"/>
                          </a:lnTo>
                          <a:lnTo>
                            <a:pt x="92" y="235"/>
                          </a:lnTo>
                          <a:lnTo>
                            <a:pt x="92" y="231"/>
                          </a:lnTo>
                          <a:lnTo>
                            <a:pt x="92" y="229"/>
                          </a:lnTo>
                          <a:lnTo>
                            <a:pt x="95" y="223"/>
                          </a:lnTo>
                          <a:lnTo>
                            <a:pt x="100" y="222"/>
                          </a:lnTo>
                          <a:lnTo>
                            <a:pt x="102" y="219"/>
                          </a:lnTo>
                          <a:lnTo>
                            <a:pt x="107" y="222"/>
                          </a:lnTo>
                          <a:lnTo>
                            <a:pt x="108" y="219"/>
                          </a:lnTo>
                          <a:lnTo>
                            <a:pt x="114" y="214"/>
                          </a:lnTo>
                          <a:lnTo>
                            <a:pt x="118" y="212"/>
                          </a:lnTo>
                          <a:lnTo>
                            <a:pt x="116" y="210"/>
                          </a:lnTo>
                          <a:lnTo>
                            <a:pt x="121" y="204"/>
                          </a:lnTo>
                          <a:lnTo>
                            <a:pt x="123" y="200"/>
                          </a:lnTo>
                          <a:lnTo>
                            <a:pt x="128" y="197"/>
                          </a:lnTo>
                          <a:lnTo>
                            <a:pt x="135" y="197"/>
                          </a:lnTo>
                          <a:lnTo>
                            <a:pt x="133" y="193"/>
                          </a:lnTo>
                          <a:lnTo>
                            <a:pt x="140" y="191"/>
                          </a:lnTo>
                          <a:lnTo>
                            <a:pt x="147" y="188"/>
                          </a:lnTo>
                          <a:lnTo>
                            <a:pt x="151" y="186"/>
                          </a:lnTo>
                          <a:lnTo>
                            <a:pt x="149" y="191"/>
                          </a:lnTo>
                          <a:lnTo>
                            <a:pt x="155" y="186"/>
                          </a:lnTo>
                          <a:lnTo>
                            <a:pt x="151" y="183"/>
                          </a:lnTo>
                          <a:lnTo>
                            <a:pt x="151" y="174"/>
                          </a:lnTo>
                          <a:lnTo>
                            <a:pt x="147" y="174"/>
                          </a:lnTo>
                          <a:lnTo>
                            <a:pt x="147" y="172"/>
                          </a:lnTo>
                          <a:lnTo>
                            <a:pt x="165" y="172"/>
                          </a:lnTo>
                          <a:lnTo>
                            <a:pt x="175" y="165"/>
                          </a:lnTo>
                          <a:lnTo>
                            <a:pt x="175" y="160"/>
                          </a:lnTo>
                          <a:lnTo>
                            <a:pt x="170" y="158"/>
                          </a:lnTo>
                          <a:lnTo>
                            <a:pt x="170" y="150"/>
                          </a:lnTo>
                          <a:lnTo>
                            <a:pt x="165" y="148"/>
                          </a:lnTo>
                          <a:lnTo>
                            <a:pt x="165" y="144"/>
                          </a:lnTo>
                          <a:lnTo>
                            <a:pt x="163" y="141"/>
                          </a:lnTo>
                          <a:lnTo>
                            <a:pt x="158" y="141"/>
                          </a:lnTo>
                          <a:lnTo>
                            <a:pt x="151" y="137"/>
                          </a:lnTo>
                          <a:lnTo>
                            <a:pt x="151" y="129"/>
                          </a:lnTo>
                          <a:lnTo>
                            <a:pt x="144" y="122"/>
                          </a:lnTo>
                          <a:lnTo>
                            <a:pt x="135" y="131"/>
                          </a:lnTo>
                          <a:lnTo>
                            <a:pt x="135" y="144"/>
                          </a:lnTo>
                          <a:lnTo>
                            <a:pt x="133" y="145"/>
                          </a:lnTo>
                          <a:lnTo>
                            <a:pt x="130" y="145"/>
                          </a:lnTo>
                          <a:lnTo>
                            <a:pt x="128" y="148"/>
                          </a:lnTo>
                          <a:lnTo>
                            <a:pt x="126" y="153"/>
                          </a:lnTo>
                          <a:lnTo>
                            <a:pt x="123" y="160"/>
                          </a:lnTo>
                          <a:lnTo>
                            <a:pt x="118" y="153"/>
                          </a:lnTo>
                          <a:lnTo>
                            <a:pt x="123" y="145"/>
                          </a:lnTo>
                          <a:lnTo>
                            <a:pt x="121" y="141"/>
                          </a:lnTo>
                          <a:lnTo>
                            <a:pt x="116" y="139"/>
                          </a:lnTo>
                          <a:lnTo>
                            <a:pt x="108" y="126"/>
                          </a:lnTo>
                          <a:lnTo>
                            <a:pt x="108" y="122"/>
                          </a:lnTo>
                          <a:lnTo>
                            <a:pt x="118" y="110"/>
                          </a:lnTo>
                          <a:lnTo>
                            <a:pt x="126" y="110"/>
                          </a:lnTo>
                          <a:lnTo>
                            <a:pt x="130" y="110"/>
                          </a:lnTo>
                          <a:lnTo>
                            <a:pt x="135" y="105"/>
                          </a:lnTo>
                          <a:lnTo>
                            <a:pt x="142" y="105"/>
                          </a:lnTo>
                          <a:lnTo>
                            <a:pt x="144" y="103"/>
                          </a:lnTo>
                          <a:lnTo>
                            <a:pt x="149" y="103"/>
                          </a:lnTo>
                          <a:lnTo>
                            <a:pt x="147" y="99"/>
                          </a:lnTo>
                          <a:lnTo>
                            <a:pt x="144" y="91"/>
                          </a:lnTo>
                          <a:lnTo>
                            <a:pt x="140" y="99"/>
                          </a:lnTo>
                          <a:lnTo>
                            <a:pt x="135" y="96"/>
                          </a:lnTo>
                          <a:lnTo>
                            <a:pt x="142" y="89"/>
                          </a:lnTo>
                          <a:lnTo>
                            <a:pt x="142" y="82"/>
                          </a:lnTo>
                          <a:lnTo>
                            <a:pt x="135" y="87"/>
                          </a:lnTo>
                          <a:lnTo>
                            <a:pt x="130" y="91"/>
                          </a:lnTo>
                          <a:lnTo>
                            <a:pt x="114" y="80"/>
                          </a:lnTo>
                          <a:lnTo>
                            <a:pt x="116" y="56"/>
                          </a:lnTo>
                          <a:lnTo>
                            <a:pt x="108" y="47"/>
                          </a:lnTo>
                          <a:lnTo>
                            <a:pt x="107" y="39"/>
                          </a:lnTo>
                          <a:lnTo>
                            <a:pt x="111" y="28"/>
                          </a:lnTo>
                          <a:lnTo>
                            <a:pt x="114" y="14"/>
                          </a:lnTo>
                          <a:lnTo>
                            <a:pt x="107" y="9"/>
                          </a:lnTo>
                          <a:lnTo>
                            <a:pt x="102" y="7"/>
                          </a:lnTo>
                          <a:lnTo>
                            <a:pt x="97" y="5"/>
                          </a:lnTo>
                          <a:lnTo>
                            <a:pt x="97" y="0"/>
                          </a:lnTo>
                          <a:lnTo>
                            <a:pt x="90" y="9"/>
                          </a:lnTo>
                          <a:lnTo>
                            <a:pt x="86" y="9"/>
                          </a:lnTo>
                          <a:lnTo>
                            <a:pt x="83" y="1"/>
                          </a:lnTo>
                          <a:lnTo>
                            <a:pt x="79" y="5"/>
                          </a:lnTo>
                          <a:lnTo>
                            <a:pt x="74" y="5"/>
                          </a:lnTo>
                          <a:lnTo>
                            <a:pt x="60" y="19"/>
                          </a:lnTo>
                          <a:lnTo>
                            <a:pt x="55" y="16"/>
                          </a:lnTo>
                          <a:lnTo>
                            <a:pt x="51" y="7"/>
                          </a:lnTo>
                          <a:lnTo>
                            <a:pt x="51" y="14"/>
                          </a:lnTo>
                          <a:lnTo>
                            <a:pt x="55" y="20"/>
                          </a:lnTo>
                          <a:lnTo>
                            <a:pt x="62" y="28"/>
                          </a:lnTo>
                          <a:lnTo>
                            <a:pt x="67" y="28"/>
                          </a:lnTo>
                          <a:lnTo>
                            <a:pt x="67" y="33"/>
                          </a:lnTo>
                          <a:lnTo>
                            <a:pt x="69" y="37"/>
                          </a:lnTo>
                          <a:lnTo>
                            <a:pt x="67" y="41"/>
                          </a:lnTo>
                          <a:lnTo>
                            <a:pt x="67" y="51"/>
                          </a:lnTo>
                          <a:lnTo>
                            <a:pt x="65" y="63"/>
                          </a:lnTo>
                          <a:lnTo>
                            <a:pt x="55" y="80"/>
                          </a:lnTo>
                          <a:lnTo>
                            <a:pt x="51" y="80"/>
                          </a:lnTo>
                          <a:lnTo>
                            <a:pt x="43" y="96"/>
                          </a:lnTo>
                          <a:lnTo>
                            <a:pt x="41" y="105"/>
                          </a:lnTo>
                          <a:lnTo>
                            <a:pt x="37" y="105"/>
                          </a:lnTo>
                          <a:lnTo>
                            <a:pt x="37" y="108"/>
                          </a:lnTo>
                          <a:lnTo>
                            <a:pt x="30" y="115"/>
                          </a:lnTo>
                          <a:lnTo>
                            <a:pt x="25" y="118"/>
                          </a:lnTo>
                          <a:lnTo>
                            <a:pt x="16" y="126"/>
                          </a:lnTo>
                          <a:lnTo>
                            <a:pt x="9" y="134"/>
                          </a:lnTo>
                          <a:lnTo>
                            <a:pt x="9" y="141"/>
                          </a:lnTo>
                          <a:lnTo>
                            <a:pt x="6" y="144"/>
                          </a:lnTo>
                          <a:lnTo>
                            <a:pt x="4" y="148"/>
                          </a:lnTo>
                          <a:lnTo>
                            <a:pt x="4" y="153"/>
                          </a:lnTo>
                          <a:lnTo>
                            <a:pt x="4" y="158"/>
                          </a:lnTo>
                          <a:lnTo>
                            <a:pt x="6" y="167"/>
                          </a:lnTo>
                          <a:lnTo>
                            <a:pt x="4" y="172"/>
                          </a:lnTo>
                          <a:lnTo>
                            <a:pt x="2" y="181"/>
                          </a:lnTo>
                          <a:lnTo>
                            <a:pt x="0" y="193"/>
                          </a:lnTo>
                          <a:lnTo>
                            <a:pt x="2" y="200"/>
                          </a:lnTo>
                          <a:lnTo>
                            <a:pt x="0" y="212"/>
                          </a:lnTo>
                          <a:lnTo>
                            <a:pt x="4" y="214"/>
                          </a:lnTo>
                          <a:lnTo>
                            <a:pt x="6" y="197"/>
                          </a:lnTo>
                          <a:lnTo>
                            <a:pt x="6" y="183"/>
                          </a:lnTo>
                          <a:lnTo>
                            <a:pt x="9" y="179"/>
                          </a:lnTo>
                          <a:lnTo>
                            <a:pt x="9" y="186"/>
                          </a:lnTo>
                          <a:lnTo>
                            <a:pt x="9" y="188"/>
                          </a:lnTo>
                          <a:lnTo>
                            <a:pt x="9" y="195"/>
                          </a:lnTo>
                          <a:lnTo>
                            <a:pt x="9" y="202"/>
                          </a:lnTo>
                          <a:lnTo>
                            <a:pt x="11" y="212"/>
                          </a:lnTo>
                          <a:lnTo>
                            <a:pt x="11" y="219"/>
                          </a:lnTo>
                          <a:lnTo>
                            <a:pt x="13" y="223"/>
                          </a:lnTo>
                          <a:lnTo>
                            <a:pt x="13" y="229"/>
                          </a:lnTo>
                          <a:lnTo>
                            <a:pt x="11" y="233"/>
                          </a:lnTo>
                          <a:lnTo>
                            <a:pt x="13" y="240"/>
                          </a:lnTo>
                          <a:lnTo>
                            <a:pt x="16" y="250"/>
                          </a:lnTo>
                          <a:lnTo>
                            <a:pt x="20" y="254"/>
                          </a:lnTo>
                          <a:lnTo>
                            <a:pt x="27" y="261"/>
                          </a:lnTo>
                          <a:lnTo>
                            <a:pt x="32" y="269"/>
                          </a:lnTo>
                          <a:lnTo>
                            <a:pt x="34" y="266"/>
                          </a:lnTo>
                          <a:lnTo>
                            <a:pt x="39" y="271"/>
                          </a:lnTo>
                          <a:lnTo>
                            <a:pt x="41" y="273"/>
                          </a:lnTo>
                          <a:lnTo>
                            <a:pt x="43" y="276"/>
                          </a:lnTo>
                          <a:lnTo>
                            <a:pt x="53" y="285"/>
                          </a:lnTo>
                          <a:lnTo>
                            <a:pt x="55" y="285"/>
                          </a:lnTo>
                          <a:lnTo>
                            <a:pt x="62" y="292"/>
                          </a:lnTo>
                          <a:lnTo>
                            <a:pt x="62" y="299"/>
                          </a:lnTo>
                          <a:lnTo>
                            <a:pt x="69" y="309"/>
                          </a:lnTo>
                          <a:lnTo>
                            <a:pt x="76" y="316"/>
                          </a:lnTo>
                          <a:lnTo>
                            <a:pt x="79" y="316"/>
                          </a:lnTo>
                          <a:lnTo>
                            <a:pt x="81" y="314"/>
                          </a:lnTo>
                          <a:lnTo>
                            <a:pt x="83" y="314"/>
                          </a:lnTo>
                          <a:lnTo>
                            <a:pt x="88" y="321"/>
                          </a:lnTo>
                          <a:lnTo>
                            <a:pt x="90" y="314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3e00"/>
                        </a:gs>
                        <a:gs pos="100000">
                          <a:srgbClr val="00ae00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0033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4446000" y="4903200"/>
                      <a:ext cx="1911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0" y="0"/>
                          </a:moveTo>
                          <a:lnTo>
                            <a:pt x="8" y="0"/>
                          </a:lnTo>
                          <a:lnTo>
                            <a:pt x="13" y="4"/>
                          </a:lnTo>
                          <a:lnTo>
                            <a:pt x="15" y="7"/>
                          </a:lnTo>
                          <a:lnTo>
                            <a:pt x="20" y="9"/>
                          </a:lnTo>
                          <a:lnTo>
                            <a:pt x="22" y="11"/>
                          </a:lnTo>
                          <a:lnTo>
                            <a:pt x="28" y="17"/>
                          </a:lnTo>
                          <a:lnTo>
                            <a:pt x="30" y="19"/>
                          </a:lnTo>
                          <a:lnTo>
                            <a:pt x="22" y="19"/>
                          </a:lnTo>
                          <a:lnTo>
                            <a:pt x="17" y="14"/>
                          </a:lnTo>
                          <a:lnTo>
                            <a:pt x="13" y="11"/>
                          </a:lnTo>
                          <a:lnTo>
                            <a:pt x="8" y="9"/>
                          </a:lnTo>
                          <a:lnTo>
                            <a:pt x="4" y="7"/>
                          </a:lnTo>
                          <a:lnTo>
                            <a:pt x="0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3e00"/>
                        </a:gs>
                        <a:gs pos="100000">
                          <a:srgbClr val="00ae00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0033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4631760" y="5020920"/>
                      <a:ext cx="11088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7">
                          <a:moveTo>
                            <a:pt x="0" y="11"/>
                          </a:moveTo>
                          <a:lnTo>
                            <a:pt x="4" y="0"/>
                          </a:lnTo>
                          <a:lnTo>
                            <a:pt x="12" y="0"/>
                          </a:lnTo>
                          <a:lnTo>
                            <a:pt x="17" y="11"/>
                          </a:lnTo>
                          <a:lnTo>
                            <a:pt x="17" y="16"/>
                          </a:lnTo>
                          <a:lnTo>
                            <a:pt x="14" y="16"/>
                          </a:lnTo>
                          <a:lnTo>
                            <a:pt x="8" y="16"/>
                          </a:lnTo>
                          <a:lnTo>
                            <a:pt x="4" y="16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3e00"/>
                        </a:gs>
                        <a:gs pos="100000">
                          <a:srgbClr val="00ae00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0033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4711680" y="3854880"/>
                      <a:ext cx="112320" cy="11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22">
                          <a:moveTo>
                            <a:pt x="2" y="0"/>
                          </a:moveTo>
                          <a:lnTo>
                            <a:pt x="7" y="4"/>
                          </a:lnTo>
                          <a:lnTo>
                            <a:pt x="10" y="4"/>
                          </a:lnTo>
                          <a:lnTo>
                            <a:pt x="17" y="9"/>
                          </a:lnTo>
                          <a:lnTo>
                            <a:pt x="17" y="11"/>
                          </a:lnTo>
                          <a:lnTo>
                            <a:pt x="14" y="13"/>
                          </a:lnTo>
                          <a:lnTo>
                            <a:pt x="14" y="15"/>
                          </a:lnTo>
                          <a:lnTo>
                            <a:pt x="12" y="15"/>
                          </a:lnTo>
                          <a:lnTo>
                            <a:pt x="10" y="21"/>
                          </a:lnTo>
                          <a:lnTo>
                            <a:pt x="7" y="18"/>
                          </a:lnTo>
                          <a:lnTo>
                            <a:pt x="4" y="21"/>
                          </a:lnTo>
                          <a:lnTo>
                            <a:pt x="0" y="13"/>
                          </a:lnTo>
                          <a:lnTo>
                            <a:pt x="2" y="9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3e00"/>
                        </a:gs>
                        <a:gs pos="100000">
                          <a:srgbClr val="00ae00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0033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4811760" y="3823200"/>
                      <a:ext cx="105480" cy="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8">
                          <a:moveTo>
                            <a:pt x="0" y="12"/>
                          </a:moveTo>
                          <a:lnTo>
                            <a:pt x="9" y="17"/>
                          </a:lnTo>
                          <a:lnTo>
                            <a:pt x="16" y="8"/>
                          </a:lnTo>
                          <a:lnTo>
                            <a:pt x="13" y="4"/>
                          </a:lnTo>
                          <a:lnTo>
                            <a:pt x="9" y="4"/>
                          </a:lnTo>
                          <a:lnTo>
                            <a:pt x="9" y="0"/>
                          </a:lnTo>
                          <a:lnTo>
                            <a:pt x="5" y="8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3e00"/>
                        </a:gs>
                        <a:gs pos="100000">
                          <a:srgbClr val="00ae00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0033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4724640" y="3823200"/>
                      <a:ext cx="110880" cy="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8">
                          <a:moveTo>
                            <a:pt x="0" y="0"/>
                          </a:moveTo>
                          <a:lnTo>
                            <a:pt x="6" y="0"/>
                          </a:lnTo>
                          <a:lnTo>
                            <a:pt x="17" y="17"/>
                          </a:lnTo>
                          <a:lnTo>
                            <a:pt x="10" y="17"/>
                          </a:lnTo>
                          <a:lnTo>
                            <a:pt x="10" y="10"/>
                          </a:lnTo>
                          <a:lnTo>
                            <a:pt x="6" y="17"/>
                          </a:lnTo>
                          <a:lnTo>
                            <a:pt x="2" y="17"/>
                          </a:lnTo>
                          <a:lnTo>
                            <a:pt x="2" y="10"/>
                          </a:lnTo>
                          <a:lnTo>
                            <a:pt x="2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3e00"/>
                        </a:gs>
                        <a:gs pos="100000">
                          <a:srgbClr val="00ae00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0033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4866480" y="3967560"/>
                      <a:ext cx="180000" cy="26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50">
                          <a:moveTo>
                            <a:pt x="11" y="28"/>
                          </a:moveTo>
                          <a:lnTo>
                            <a:pt x="7" y="32"/>
                          </a:lnTo>
                          <a:lnTo>
                            <a:pt x="5" y="35"/>
                          </a:lnTo>
                          <a:lnTo>
                            <a:pt x="1" y="35"/>
                          </a:lnTo>
                          <a:lnTo>
                            <a:pt x="5" y="37"/>
                          </a:lnTo>
                          <a:lnTo>
                            <a:pt x="7" y="37"/>
                          </a:lnTo>
                          <a:lnTo>
                            <a:pt x="9" y="39"/>
                          </a:lnTo>
                          <a:lnTo>
                            <a:pt x="11" y="42"/>
                          </a:lnTo>
                          <a:lnTo>
                            <a:pt x="11" y="43"/>
                          </a:lnTo>
                          <a:lnTo>
                            <a:pt x="16" y="49"/>
                          </a:lnTo>
                          <a:lnTo>
                            <a:pt x="16" y="43"/>
                          </a:lnTo>
                          <a:lnTo>
                            <a:pt x="16" y="42"/>
                          </a:lnTo>
                          <a:lnTo>
                            <a:pt x="18" y="42"/>
                          </a:lnTo>
                          <a:lnTo>
                            <a:pt x="18" y="43"/>
                          </a:lnTo>
                          <a:lnTo>
                            <a:pt x="20" y="43"/>
                          </a:lnTo>
                          <a:lnTo>
                            <a:pt x="20" y="42"/>
                          </a:lnTo>
                          <a:lnTo>
                            <a:pt x="20" y="39"/>
                          </a:lnTo>
                          <a:lnTo>
                            <a:pt x="18" y="37"/>
                          </a:lnTo>
                          <a:lnTo>
                            <a:pt x="20" y="32"/>
                          </a:lnTo>
                          <a:lnTo>
                            <a:pt x="25" y="39"/>
                          </a:lnTo>
                          <a:lnTo>
                            <a:pt x="25" y="35"/>
                          </a:lnTo>
                          <a:lnTo>
                            <a:pt x="28" y="32"/>
                          </a:lnTo>
                          <a:lnTo>
                            <a:pt x="23" y="28"/>
                          </a:lnTo>
                          <a:lnTo>
                            <a:pt x="23" y="25"/>
                          </a:lnTo>
                          <a:lnTo>
                            <a:pt x="23" y="18"/>
                          </a:lnTo>
                          <a:lnTo>
                            <a:pt x="18" y="11"/>
                          </a:lnTo>
                          <a:lnTo>
                            <a:pt x="14" y="6"/>
                          </a:lnTo>
                          <a:lnTo>
                            <a:pt x="11" y="4"/>
                          </a:lnTo>
                          <a:lnTo>
                            <a:pt x="11" y="2"/>
                          </a:lnTo>
                          <a:lnTo>
                            <a:pt x="7" y="6"/>
                          </a:lnTo>
                          <a:lnTo>
                            <a:pt x="7" y="4"/>
                          </a:lnTo>
                          <a:lnTo>
                            <a:pt x="9" y="2"/>
                          </a:lnTo>
                          <a:lnTo>
                            <a:pt x="9" y="0"/>
                          </a:lnTo>
                          <a:lnTo>
                            <a:pt x="7" y="0"/>
                          </a:lnTo>
                          <a:lnTo>
                            <a:pt x="5" y="2"/>
                          </a:lnTo>
                          <a:lnTo>
                            <a:pt x="0" y="2"/>
                          </a:lnTo>
                          <a:lnTo>
                            <a:pt x="0" y="4"/>
                          </a:lnTo>
                          <a:lnTo>
                            <a:pt x="0" y="6"/>
                          </a:lnTo>
                          <a:lnTo>
                            <a:pt x="1" y="9"/>
                          </a:lnTo>
                          <a:lnTo>
                            <a:pt x="5" y="9"/>
                          </a:lnTo>
                          <a:lnTo>
                            <a:pt x="5" y="13"/>
                          </a:lnTo>
                          <a:lnTo>
                            <a:pt x="7" y="13"/>
                          </a:lnTo>
                          <a:lnTo>
                            <a:pt x="9" y="13"/>
                          </a:lnTo>
                          <a:lnTo>
                            <a:pt x="11" y="16"/>
                          </a:lnTo>
                          <a:lnTo>
                            <a:pt x="11" y="20"/>
                          </a:lnTo>
                          <a:lnTo>
                            <a:pt x="11" y="22"/>
                          </a:lnTo>
                          <a:lnTo>
                            <a:pt x="11" y="28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3e00"/>
                        </a:gs>
                        <a:gs pos="100000">
                          <a:srgbClr val="00ae00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0033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4960800" y="3823200"/>
                      <a:ext cx="160200" cy="12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4">
                          <a:moveTo>
                            <a:pt x="0" y="17"/>
                          </a:moveTo>
                          <a:lnTo>
                            <a:pt x="6" y="23"/>
                          </a:lnTo>
                          <a:lnTo>
                            <a:pt x="9" y="20"/>
                          </a:lnTo>
                          <a:lnTo>
                            <a:pt x="11" y="20"/>
                          </a:lnTo>
                          <a:lnTo>
                            <a:pt x="14" y="12"/>
                          </a:lnTo>
                          <a:lnTo>
                            <a:pt x="20" y="12"/>
                          </a:lnTo>
                          <a:lnTo>
                            <a:pt x="22" y="7"/>
                          </a:lnTo>
                          <a:lnTo>
                            <a:pt x="22" y="5"/>
                          </a:lnTo>
                          <a:lnTo>
                            <a:pt x="25" y="5"/>
                          </a:lnTo>
                          <a:lnTo>
                            <a:pt x="22" y="2"/>
                          </a:lnTo>
                          <a:lnTo>
                            <a:pt x="20" y="2"/>
                          </a:lnTo>
                          <a:lnTo>
                            <a:pt x="14" y="2"/>
                          </a:lnTo>
                          <a:lnTo>
                            <a:pt x="14" y="0"/>
                          </a:lnTo>
                          <a:lnTo>
                            <a:pt x="11" y="0"/>
                          </a:lnTo>
                          <a:lnTo>
                            <a:pt x="11" y="2"/>
                          </a:lnTo>
                          <a:lnTo>
                            <a:pt x="11" y="5"/>
                          </a:lnTo>
                          <a:lnTo>
                            <a:pt x="11" y="9"/>
                          </a:lnTo>
                          <a:lnTo>
                            <a:pt x="9" y="9"/>
                          </a:lnTo>
                          <a:lnTo>
                            <a:pt x="6" y="12"/>
                          </a:lnTo>
                          <a:lnTo>
                            <a:pt x="1" y="14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3e00"/>
                        </a:gs>
                        <a:gs pos="100000">
                          <a:srgbClr val="00ae00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0033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401440" y="4122720"/>
                      <a:ext cx="110880" cy="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8">
                          <a:moveTo>
                            <a:pt x="0" y="6"/>
                          </a:moveTo>
                          <a:lnTo>
                            <a:pt x="5" y="2"/>
                          </a:lnTo>
                          <a:lnTo>
                            <a:pt x="8" y="2"/>
                          </a:lnTo>
                          <a:lnTo>
                            <a:pt x="8" y="0"/>
                          </a:lnTo>
                          <a:lnTo>
                            <a:pt x="11" y="0"/>
                          </a:lnTo>
                          <a:lnTo>
                            <a:pt x="14" y="2"/>
                          </a:lnTo>
                          <a:lnTo>
                            <a:pt x="14" y="6"/>
                          </a:lnTo>
                          <a:lnTo>
                            <a:pt x="17" y="6"/>
                          </a:lnTo>
                          <a:lnTo>
                            <a:pt x="17" y="10"/>
                          </a:lnTo>
                          <a:lnTo>
                            <a:pt x="14" y="10"/>
                          </a:lnTo>
                          <a:lnTo>
                            <a:pt x="14" y="13"/>
                          </a:lnTo>
                          <a:lnTo>
                            <a:pt x="14" y="17"/>
                          </a:lnTo>
                          <a:lnTo>
                            <a:pt x="5" y="17"/>
                          </a:lnTo>
                          <a:lnTo>
                            <a:pt x="5" y="13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3e00"/>
                        </a:gs>
                        <a:gs pos="100000">
                          <a:srgbClr val="00ae00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0033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5077800" y="3845160"/>
                      <a:ext cx="298080" cy="43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81">
                          <a:moveTo>
                            <a:pt x="0" y="22"/>
                          </a:moveTo>
                          <a:lnTo>
                            <a:pt x="0" y="15"/>
                          </a:lnTo>
                          <a:lnTo>
                            <a:pt x="2" y="15"/>
                          </a:lnTo>
                          <a:lnTo>
                            <a:pt x="2" y="13"/>
                          </a:lnTo>
                          <a:lnTo>
                            <a:pt x="7" y="9"/>
                          </a:lnTo>
                          <a:lnTo>
                            <a:pt x="9" y="6"/>
                          </a:lnTo>
                          <a:lnTo>
                            <a:pt x="11" y="4"/>
                          </a:lnTo>
                          <a:lnTo>
                            <a:pt x="14" y="1"/>
                          </a:lnTo>
                          <a:lnTo>
                            <a:pt x="16" y="1"/>
                          </a:lnTo>
                          <a:lnTo>
                            <a:pt x="18" y="0"/>
                          </a:lnTo>
                          <a:lnTo>
                            <a:pt x="20" y="0"/>
                          </a:lnTo>
                          <a:lnTo>
                            <a:pt x="26" y="0"/>
                          </a:lnTo>
                          <a:lnTo>
                            <a:pt x="28" y="1"/>
                          </a:lnTo>
                          <a:lnTo>
                            <a:pt x="28" y="4"/>
                          </a:lnTo>
                          <a:lnTo>
                            <a:pt x="30" y="6"/>
                          </a:lnTo>
                          <a:lnTo>
                            <a:pt x="33" y="1"/>
                          </a:lnTo>
                          <a:lnTo>
                            <a:pt x="33" y="6"/>
                          </a:lnTo>
                          <a:lnTo>
                            <a:pt x="35" y="13"/>
                          </a:lnTo>
                          <a:lnTo>
                            <a:pt x="37" y="19"/>
                          </a:lnTo>
                          <a:lnTo>
                            <a:pt x="41" y="25"/>
                          </a:lnTo>
                          <a:lnTo>
                            <a:pt x="41" y="27"/>
                          </a:lnTo>
                          <a:lnTo>
                            <a:pt x="41" y="34"/>
                          </a:lnTo>
                          <a:lnTo>
                            <a:pt x="44" y="36"/>
                          </a:lnTo>
                          <a:lnTo>
                            <a:pt x="47" y="42"/>
                          </a:lnTo>
                          <a:lnTo>
                            <a:pt x="44" y="46"/>
                          </a:lnTo>
                          <a:lnTo>
                            <a:pt x="44" y="48"/>
                          </a:lnTo>
                          <a:lnTo>
                            <a:pt x="41" y="48"/>
                          </a:lnTo>
                          <a:lnTo>
                            <a:pt x="37" y="50"/>
                          </a:lnTo>
                          <a:lnTo>
                            <a:pt x="35" y="54"/>
                          </a:lnTo>
                          <a:lnTo>
                            <a:pt x="37" y="56"/>
                          </a:lnTo>
                          <a:lnTo>
                            <a:pt x="33" y="58"/>
                          </a:lnTo>
                          <a:lnTo>
                            <a:pt x="30" y="58"/>
                          </a:lnTo>
                          <a:lnTo>
                            <a:pt x="28" y="60"/>
                          </a:lnTo>
                          <a:lnTo>
                            <a:pt x="28" y="63"/>
                          </a:lnTo>
                          <a:lnTo>
                            <a:pt x="26" y="65"/>
                          </a:lnTo>
                          <a:lnTo>
                            <a:pt x="26" y="68"/>
                          </a:lnTo>
                          <a:lnTo>
                            <a:pt x="23" y="72"/>
                          </a:lnTo>
                          <a:lnTo>
                            <a:pt x="23" y="74"/>
                          </a:lnTo>
                          <a:lnTo>
                            <a:pt x="23" y="77"/>
                          </a:lnTo>
                          <a:lnTo>
                            <a:pt x="20" y="80"/>
                          </a:lnTo>
                          <a:lnTo>
                            <a:pt x="18" y="80"/>
                          </a:lnTo>
                          <a:lnTo>
                            <a:pt x="16" y="80"/>
                          </a:lnTo>
                          <a:lnTo>
                            <a:pt x="11" y="77"/>
                          </a:lnTo>
                          <a:lnTo>
                            <a:pt x="9" y="74"/>
                          </a:lnTo>
                          <a:lnTo>
                            <a:pt x="9" y="72"/>
                          </a:lnTo>
                          <a:lnTo>
                            <a:pt x="9" y="70"/>
                          </a:lnTo>
                          <a:lnTo>
                            <a:pt x="9" y="65"/>
                          </a:lnTo>
                          <a:lnTo>
                            <a:pt x="7" y="63"/>
                          </a:lnTo>
                          <a:lnTo>
                            <a:pt x="7" y="60"/>
                          </a:lnTo>
                          <a:lnTo>
                            <a:pt x="7" y="58"/>
                          </a:lnTo>
                          <a:lnTo>
                            <a:pt x="7" y="56"/>
                          </a:lnTo>
                          <a:lnTo>
                            <a:pt x="9" y="54"/>
                          </a:lnTo>
                          <a:lnTo>
                            <a:pt x="9" y="50"/>
                          </a:lnTo>
                          <a:lnTo>
                            <a:pt x="9" y="48"/>
                          </a:lnTo>
                          <a:lnTo>
                            <a:pt x="9" y="46"/>
                          </a:lnTo>
                          <a:lnTo>
                            <a:pt x="7" y="44"/>
                          </a:lnTo>
                          <a:lnTo>
                            <a:pt x="7" y="40"/>
                          </a:lnTo>
                          <a:lnTo>
                            <a:pt x="7" y="36"/>
                          </a:lnTo>
                          <a:lnTo>
                            <a:pt x="7" y="33"/>
                          </a:lnTo>
                          <a:lnTo>
                            <a:pt x="5" y="27"/>
                          </a:lnTo>
                          <a:lnTo>
                            <a:pt x="2" y="25"/>
                          </a:lnTo>
                          <a:lnTo>
                            <a:pt x="0" y="22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3e00"/>
                        </a:gs>
                        <a:gs pos="100000">
                          <a:srgbClr val="00ae00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0033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4997520" y="4448520"/>
                      <a:ext cx="110880" cy="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8">
                          <a:moveTo>
                            <a:pt x="0" y="11"/>
                          </a:moveTo>
                          <a:lnTo>
                            <a:pt x="5" y="14"/>
                          </a:lnTo>
                          <a:lnTo>
                            <a:pt x="11" y="14"/>
                          </a:lnTo>
                          <a:lnTo>
                            <a:pt x="14" y="17"/>
                          </a:lnTo>
                          <a:lnTo>
                            <a:pt x="17" y="14"/>
                          </a:lnTo>
                          <a:lnTo>
                            <a:pt x="17" y="11"/>
                          </a:lnTo>
                          <a:lnTo>
                            <a:pt x="17" y="9"/>
                          </a:lnTo>
                          <a:lnTo>
                            <a:pt x="17" y="7"/>
                          </a:lnTo>
                          <a:lnTo>
                            <a:pt x="14" y="9"/>
                          </a:lnTo>
                          <a:lnTo>
                            <a:pt x="11" y="5"/>
                          </a:lnTo>
                          <a:lnTo>
                            <a:pt x="11" y="2"/>
                          </a:lnTo>
                          <a:lnTo>
                            <a:pt x="11" y="0"/>
                          </a:lnTo>
                          <a:lnTo>
                            <a:pt x="5" y="2"/>
                          </a:lnTo>
                          <a:lnTo>
                            <a:pt x="5" y="5"/>
                          </a:lnTo>
                          <a:lnTo>
                            <a:pt x="5" y="7"/>
                          </a:lnTo>
                          <a:lnTo>
                            <a:pt x="2" y="11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3e00"/>
                        </a:gs>
                        <a:gs pos="100000">
                          <a:srgbClr val="00ae00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0033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56" name=""/>
                <p:cNvSpPr/>
                <p:nvPr/>
              </p:nvSpPr>
              <p:spPr>
                <a:xfrm>
                  <a:off x="5782680" y="4369680"/>
                  <a:ext cx="1410840" cy="1583640"/>
                </a:xfrm>
                <a:custGeom>
                  <a:avLst/>
                  <a:gdLst/>
                  <a:ahLst/>
                  <a:rect l="l" t="t" r="r" b="b"/>
                  <a:pathLst>
                    <a:path w="227" h="296">
                      <a:moveTo>
                        <a:pt x="19" y="41"/>
                      </a:moveTo>
                      <a:lnTo>
                        <a:pt x="29" y="38"/>
                      </a:lnTo>
                      <a:lnTo>
                        <a:pt x="37" y="28"/>
                      </a:lnTo>
                      <a:lnTo>
                        <a:pt x="42" y="26"/>
                      </a:lnTo>
                      <a:lnTo>
                        <a:pt x="51" y="19"/>
                      </a:lnTo>
                      <a:lnTo>
                        <a:pt x="60" y="30"/>
                      </a:lnTo>
                      <a:lnTo>
                        <a:pt x="65" y="26"/>
                      </a:lnTo>
                      <a:lnTo>
                        <a:pt x="70" y="28"/>
                      </a:lnTo>
                      <a:lnTo>
                        <a:pt x="72" y="26"/>
                      </a:lnTo>
                      <a:lnTo>
                        <a:pt x="77" y="26"/>
                      </a:lnTo>
                      <a:lnTo>
                        <a:pt x="82" y="26"/>
                      </a:lnTo>
                      <a:lnTo>
                        <a:pt x="89" y="20"/>
                      </a:lnTo>
                      <a:lnTo>
                        <a:pt x="84" y="16"/>
                      </a:lnTo>
                      <a:lnTo>
                        <a:pt x="91" y="9"/>
                      </a:lnTo>
                      <a:lnTo>
                        <a:pt x="98" y="9"/>
                      </a:lnTo>
                      <a:lnTo>
                        <a:pt x="105" y="0"/>
                      </a:lnTo>
                      <a:lnTo>
                        <a:pt x="113" y="0"/>
                      </a:lnTo>
                      <a:lnTo>
                        <a:pt x="115" y="0"/>
                      </a:lnTo>
                      <a:lnTo>
                        <a:pt x="124" y="0"/>
                      </a:lnTo>
                      <a:lnTo>
                        <a:pt x="129" y="5"/>
                      </a:lnTo>
                      <a:lnTo>
                        <a:pt x="132" y="5"/>
                      </a:lnTo>
                      <a:lnTo>
                        <a:pt x="139" y="7"/>
                      </a:lnTo>
                      <a:lnTo>
                        <a:pt x="146" y="11"/>
                      </a:lnTo>
                      <a:lnTo>
                        <a:pt x="152" y="13"/>
                      </a:lnTo>
                      <a:lnTo>
                        <a:pt x="160" y="23"/>
                      </a:lnTo>
                      <a:lnTo>
                        <a:pt x="164" y="28"/>
                      </a:lnTo>
                      <a:lnTo>
                        <a:pt x="171" y="28"/>
                      </a:lnTo>
                      <a:lnTo>
                        <a:pt x="185" y="30"/>
                      </a:lnTo>
                      <a:lnTo>
                        <a:pt x="193" y="33"/>
                      </a:lnTo>
                      <a:lnTo>
                        <a:pt x="206" y="23"/>
                      </a:lnTo>
                      <a:lnTo>
                        <a:pt x="206" y="16"/>
                      </a:lnTo>
                      <a:lnTo>
                        <a:pt x="212" y="11"/>
                      </a:lnTo>
                      <a:lnTo>
                        <a:pt x="216" y="9"/>
                      </a:lnTo>
                      <a:lnTo>
                        <a:pt x="219" y="16"/>
                      </a:lnTo>
                      <a:lnTo>
                        <a:pt x="219" y="28"/>
                      </a:lnTo>
                      <a:lnTo>
                        <a:pt x="223" y="39"/>
                      </a:lnTo>
                      <a:lnTo>
                        <a:pt x="223" y="48"/>
                      </a:lnTo>
                      <a:lnTo>
                        <a:pt x="219" y="56"/>
                      </a:lnTo>
                      <a:lnTo>
                        <a:pt x="223" y="58"/>
                      </a:lnTo>
                      <a:lnTo>
                        <a:pt x="221" y="67"/>
                      </a:lnTo>
                      <a:lnTo>
                        <a:pt x="219" y="79"/>
                      </a:lnTo>
                      <a:lnTo>
                        <a:pt x="216" y="86"/>
                      </a:lnTo>
                      <a:lnTo>
                        <a:pt x="212" y="94"/>
                      </a:lnTo>
                      <a:lnTo>
                        <a:pt x="212" y="99"/>
                      </a:lnTo>
                      <a:lnTo>
                        <a:pt x="212" y="105"/>
                      </a:lnTo>
                      <a:lnTo>
                        <a:pt x="214" y="115"/>
                      </a:lnTo>
                      <a:lnTo>
                        <a:pt x="212" y="122"/>
                      </a:lnTo>
                      <a:lnTo>
                        <a:pt x="212" y="126"/>
                      </a:lnTo>
                      <a:lnTo>
                        <a:pt x="214" y="132"/>
                      </a:lnTo>
                      <a:lnTo>
                        <a:pt x="219" y="136"/>
                      </a:lnTo>
                      <a:lnTo>
                        <a:pt x="226" y="145"/>
                      </a:lnTo>
                      <a:lnTo>
                        <a:pt x="223" y="155"/>
                      </a:lnTo>
                      <a:lnTo>
                        <a:pt x="221" y="170"/>
                      </a:lnTo>
                      <a:lnTo>
                        <a:pt x="216" y="189"/>
                      </a:lnTo>
                      <a:lnTo>
                        <a:pt x="212" y="199"/>
                      </a:lnTo>
                      <a:lnTo>
                        <a:pt x="206" y="214"/>
                      </a:lnTo>
                      <a:lnTo>
                        <a:pt x="200" y="230"/>
                      </a:lnTo>
                      <a:lnTo>
                        <a:pt x="193" y="242"/>
                      </a:lnTo>
                      <a:lnTo>
                        <a:pt x="185" y="256"/>
                      </a:lnTo>
                      <a:lnTo>
                        <a:pt x="178" y="266"/>
                      </a:lnTo>
                      <a:lnTo>
                        <a:pt x="171" y="278"/>
                      </a:lnTo>
                      <a:lnTo>
                        <a:pt x="161" y="289"/>
                      </a:lnTo>
                      <a:lnTo>
                        <a:pt x="152" y="295"/>
                      </a:lnTo>
                      <a:lnTo>
                        <a:pt x="146" y="292"/>
                      </a:lnTo>
                      <a:lnTo>
                        <a:pt x="141" y="283"/>
                      </a:lnTo>
                      <a:lnTo>
                        <a:pt x="142" y="280"/>
                      </a:lnTo>
                      <a:lnTo>
                        <a:pt x="146" y="272"/>
                      </a:lnTo>
                      <a:lnTo>
                        <a:pt x="141" y="271"/>
                      </a:lnTo>
                      <a:lnTo>
                        <a:pt x="141" y="264"/>
                      </a:lnTo>
                      <a:lnTo>
                        <a:pt x="139" y="261"/>
                      </a:lnTo>
                      <a:lnTo>
                        <a:pt x="139" y="247"/>
                      </a:lnTo>
                      <a:lnTo>
                        <a:pt x="134" y="237"/>
                      </a:lnTo>
                      <a:lnTo>
                        <a:pt x="132" y="232"/>
                      </a:lnTo>
                      <a:lnTo>
                        <a:pt x="127" y="228"/>
                      </a:lnTo>
                      <a:lnTo>
                        <a:pt x="122" y="221"/>
                      </a:lnTo>
                      <a:lnTo>
                        <a:pt x="127" y="211"/>
                      </a:lnTo>
                      <a:lnTo>
                        <a:pt x="127" y="205"/>
                      </a:lnTo>
                      <a:lnTo>
                        <a:pt x="127" y="199"/>
                      </a:lnTo>
                      <a:lnTo>
                        <a:pt x="132" y="198"/>
                      </a:lnTo>
                      <a:lnTo>
                        <a:pt x="129" y="190"/>
                      </a:lnTo>
                      <a:lnTo>
                        <a:pt x="129" y="183"/>
                      </a:lnTo>
                      <a:lnTo>
                        <a:pt x="127" y="177"/>
                      </a:lnTo>
                      <a:lnTo>
                        <a:pt x="105" y="160"/>
                      </a:lnTo>
                      <a:lnTo>
                        <a:pt x="103" y="153"/>
                      </a:lnTo>
                      <a:lnTo>
                        <a:pt x="105" y="143"/>
                      </a:lnTo>
                      <a:lnTo>
                        <a:pt x="101" y="136"/>
                      </a:lnTo>
                      <a:lnTo>
                        <a:pt x="96" y="141"/>
                      </a:lnTo>
                      <a:lnTo>
                        <a:pt x="86" y="141"/>
                      </a:lnTo>
                      <a:lnTo>
                        <a:pt x="82" y="136"/>
                      </a:lnTo>
                      <a:lnTo>
                        <a:pt x="75" y="143"/>
                      </a:lnTo>
                      <a:lnTo>
                        <a:pt x="72" y="148"/>
                      </a:lnTo>
                      <a:lnTo>
                        <a:pt x="65" y="148"/>
                      </a:lnTo>
                      <a:lnTo>
                        <a:pt x="60" y="153"/>
                      </a:lnTo>
                      <a:lnTo>
                        <a:pt x="54" y="153"/>
                      </a:lnTo>
                      <a:lnTo>
                        <a:pt x="44" y="160"/>
                      </a:lnTo>
                      <a:lnTo>
                        <a:pt x="35" y="158"/>
                      </a:lnTo>
                      <a:lnTo>
                        <a:pt x="20" y="148"/>
                      </a:lnTo>
                      <a:lnTo>
                        <a:pt x="11" y="139"/>
                      </a:lnTo>
                      <a:lnTo>
                        <a:pt x="5" y="134"/>
                      </a:lnTo>
                      <a:lnTo>
                        <a:pt x="5" y="115"/>
                      </a:lnTo>
                      <a:lnTo>
                        <a:pt x="0" y="111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5" y="91"/>
                      </a:lnTo>
                      <a:lnTo>
                        <a:pt x="1" y="84"/>
                      </a:lnTo>
                      <a:lnTo>
                        <a:pt x="5" y="77"/>
                      </a:lnTo>
                      <a:lnTo>
                        <a:pt x="9" y="75"/>
                      </a:lnTo>
                      <a:lnTo>
                        <a:pt x="13" y="70"/>
                      </a:lnTo>
                      <a:lnTo>
                        <a:pt x="13" y="66"/>
                      </a:lnTo>
                      <a:lnTo>
                        <a:pt x="9" y="63"/>
                      </a:lnTo>
                      <a:lnTo>
                        <a:pt x="9" y="58"/>
                      </a:lnTo>
                      <a:lnTo>
                        <a:pt x="11" y="56"/>
                      </a:lnTo>
                      <a:lnTo>
                        <a:pt x="19" y="41"/>
                      </a:lnTo>
                    </a:path>
                  </a:pathLst>
                </a:custGeom>
                <a:gradFill rotWithShape="0">
                  <a:gsLst>
                    <a:gs pos="0">
                      <a:srgbClr val="003e00"/>
                    </a:gs>
                    <a:gs pos="100000">
                      <a:srgbClr val="00ae00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7819" dir="2700000" blurRad="0" rotWithShape="0">
                    <a:srgbClr val="0033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576320" y="3111480"/>
                  <a:ext cx="2455200" cy="1509480"/>
                </a:xfrm>
                <a:custGeom>
                  <a:avLst/>
                  <a:gdLst/>
                  <a:ahLst/>
                  <a:rect l="l" t="t" r="r" b="b"/>
                  <a:pathLst>
                    <a:path w="395" h="282">
                      <a:moveTo>
                        <a:pt x="191" y="261"/>
                      </a:moveTo>
                      <a:lnTo>
                        <a:pt x="198" y="269"/>
                      </a:lnTo>
                      <a:lnTo>
                        <a:pt x="195" y="273"/>
                      </a:lnTo>
                      <a:lnTo>
                        <a:pt x="198" y="278"/>
                      </a:lnTo>
                      <a:lnTo>
                        <a:pt x="200" y="281"/>
                      </a:lnTo>
                      <a:lnTo>
                        <a:pt x="206" y="281"/>
                      </a:lnTo>
                      <a:lnTo>
                        <a:pt x="211" y="273"/>
                      </a:lnTo>
                      <a:lnTo>
                        <a:pt x="217" y="269"/>
                      </a:lnTo>
                      <a:lnTo>
                        <a:pt x="221" y="267"/>
                      </a:lnTo>
                      <a:lnTo>
                        <a:pt x="219" y="261"/>
                      </a:lnTo>
                      <a:lnTo>
                        <a:pt x="219" y="256"/>
                      </a:lnTo>
                      <a:lnTo>
                        <a:pt x="219" y="252"/>
                      </a:lnTo>
                      <a:lnTo>
                        <a:pt x="221" y="252"/>
                      </a:lnTo>
                      <a:lnTo>
                        <a:pt x="221" y="247"/>
                      </a:lnTo>
                      <a:lnTo>
                        <a:pt x="221" y="244"/>
                      </a:lnTo>
                      <a:lnTo>
                        <a:pt x="224" y="242"/>
                      </a:lnTo>
                      <a:lnTo>
                        <a:pt x="225" y="242"/>
                      </a:lnTo>
                      <a:lnTo>
                        <a:pt x="229" y="239"/>
                      </a:lnTo>
                      <a:lnTo>
                        <a:pt x="229" y="235"/>
                      </a:lnTo>
                      <a:lnTo>
                        <a:pt x="229" y="232"/>
                      </a:lnTo>
                      <a:lnTo>
                        <a:pt x="237" y="235"/>
                      </a:lnTo>
                      <a:lnTo>
                        <a:pt x="240" y="237"/>
                      </a:lnTo>
                      <a:lnTo>
                        <a:pt x="256" y="235"/>
                      </a:lnTo>
                      <a:lnTo>
                        <a:pt x="256" y="232"/>
                      </a:lnTo>
                      <a:lnTo>
                        <a:pt x="251" y="228"/>
                      </a:lnTo>
                      <a:lnTo>
                        <a:pt x="243" y="228"/>
                      </a:lnTo>
                      <a:lnTo>
                        <a:pt x="237" y="228"/>
                      </a:lnTo>
                      <a:lnTo>
                        <a:pt x="236" y="225"/>
                      </a:lnTo>
                      <a:lnTo>
                        <a:pt x="236" y="223"/>
                      </a:lnTo>
                      <a:lnTo>
                        <a:pt x="237" y="221"/>
                      </a:lnTo>
                      <a:lnTo>
                        <a:pt x="240" y="223"/>
                      </a:lnTo>
                      <a:lnTo>
                        <a:pt x="247" y="223"/>
                      </a:lnTo>
                      <a:lnTo>
                        <a:pt x="251" y="223"/>
                      </a:lnTo>
                      <a:lnTo>
                        <a:pt x="254" y="223"/>
                      </a:lnTo>
                      <a:lnTo>
                        <a:pt x="258" y="225"/>
                      </a:lnTo>
                      <a:lnTo>
                        <a:pt x="264" y="228"/>
                      </a:lnTo>
                      <a:lnTo>
                        <a:pt x="268" y="230"/>
                      </a:lnTo>
                      <a:lnTo>
                        <a:pt x="268" y="225"/>
                      </a:lnTo>
                      <a:lnTo>
                        <a:pt x="270" y="223"/>
                      </a:lnTo>
                      <a:lnTo>
                        <a:pt x="268" y="221"/>
                      </a:lnTo>
                      <a:lnTo>
                        <a:pt x="265" y="218"/>
                      </a:lnTo>
                      <a:lnTo>
                        <a:pt x="268" y="216"/>
                      </a:lnTo>
                      <a:lnTo>
                        <a:pt x="268" y="214"/>
                      </a:lnTo>
                      <a:lnTo>
                        <a:pt x="273" y="209"/>
                      </a:lnTo>
                      <a:lnTo>
                        <a:pt x="275" y="211"/>
                      </a:lnTo>
                      <a:lnTo>
                        <a:pt x="273" y="216"/>
                      </a:lnTo>
                      <a:lnTo>
                        <a:pt x="275" y="218"/>
                      </a:lnTo>
                      <a:lnTo>
                        <a:pt x="277" y="218"/>
                      </a:lnTo>
                      <a:lnTo>
                        <a:pt x="283" y="221"/>
                      </a:lnTo>
                      <a:lnTo>
                        <a:pt x="287" y="221"/>
                      </a:lnTo>
                      <a:lnTo>
                        <a:pt x="289" y="218"/>
                      </a:lnTo>
                      <a:lnTo>
                        <a:pt x="292" y="216"/>
                      </a:lnTo>
                      <a:lnTo>
                        <a:pt x="292" y="214"/>
                      </a:lnTo>
                      <a:lnTo>
                        <a:pt x="294" y="211"/>
                      </a:lnTo>
                      <a:lnTo>
                        <a:pt x="296" y="209"/>
                      </a:lnTo>
                      <a:lnTo>
                        <a:pt x="299" y="206"/>
                      </a:lnTo>
                      <a:lnTo>
                        <a:pt x="299" y="204"/>
                      </a:lnTo>
                      <a:lnTo>
                        <a:pt x="299" y="202"/>
                      </a:lnTo>
                      <a:lnTo>
                        <a:pt x="303" y="206"/>
                      </a:lnTo>
                      <a:lnTo>
                        <a:pt x="305" y="211"/>
                      </a:lnTo>
                      <a:lnTo>
                        <a:pt x="308" y="214"/>
                      </a:lnTo>
                      <a:lnTo>
                        <a:pt x="308" y="216"/>
                      </a:lnTo>
                      <a:lnTo>
                        <a:pt x="311" y="221"/>
                      </a:lnTo>
                      <a:lnTo>
                        <a:pt x="311" y="223"/>
                      </a:lnTo>
                      <a:lnTo>
                        <a:pt x="311" y="228"/>
                      </a:lnTo>
                      <a:lnTo>
                        <a:pt x="313" y="230"/>
                      </a:lnTo>
                      <a:lnTo>
                        <a:pt x="315" y="232"/>
                      </a:lnTo>
                      <a:lnTo>
                        <a:pt x="320" y="232"/>
                      </a:lnTo>
                      <a:lnTo>
                        <a:pt x="324" y="232"/>
                      </a:lnTo>
                      <a:lnTo>
                        <a:pt x="332" y="232"/>
                      </a:lnTo>
                      <a:lnTo>
                        <a:pt x="339" y="237"/>
                      </a:lnTo>
                      <a:lnTo>
                        <a:pt x="343" y="237"/>
                      </a:lnTo>
                      <a:lnTo>
                        <a:pt x="346" y="239"/>
                      </a:lnTo>
                      <a:lnTo>
                        <a:pt x="350" y="244"/>
                      </a:lnTo>
                      <a:lnTo>
                        <a:pt x="356" y="247"/>
                      </a:lnTo>
                      <a:lnTo>
                        <a:pt x="360" y="247"/>
                      </a:lnTo>
                      <a:lnTo>
                        <a:pt x="365" y="247"/>
                      </a:lnTo>
                      <a:lnTo>
                        <a:pt x="372" y="252"/>
                      </a:lnTo>
                      <a:lnTo>
                        <a:pt x="379" y="259"/>
                      </a:lnTo>
                      <a:lnTo>
                        <a:pt x="384" y="264"/>
                      </a:lnTo>
                      <a:lnTo>
                        <a:pt x="386" y="256"/>
                      </a:lnTo>
                      <a:lnTo>
                        <a:pt x="388" y="252"/>
                      </a:lnTo>
                      <a:lnTo>
                        <a:pt x="391" y="244"/>
                      </a:lnTo>
                      <a:lnTo>
                        <a:pt x="394" y="235"/>
                      </a:lnTo>
                      <a:lnTo>
                        <a:pt x="394" y="225"/>
                      </a:lnTo>
                      <a:lnTo>
                        <a:pt x="394" y="223"/>
                      </a:lnTo>
                      <a:lnTo>
                        <a:pt x="394" y="211"/>
                      </a:lnTo>
                      <a:lnTo>
                        <a:pt x="394" y="202"/>
                      </a:lnTo>
                      <a:lnTo>
                        <a:pt x="391" y="197"/>
                      </a:lnTo>
                      <a:lnTo>
                        <a:pt x="391" y="190"/>
                      </a:lnTo>
                      <a:lnTo>
                        <a:pt x="388" y="187"/>
                      </a:lnTo>
                      <a:lnTo>
                        <a:pt x="386" y="183"/>
                      </a:lnTo>
                      <a:lnTo>
                        <a:pt x="384" y="178"/>
                      </a:lnTo>
                      <a:lnTo>
                        <a:pt x="384" y="176"/>
                      </a:lnTo>
                      <a:lnTo>
                        <a:pt x="381" y="170"/>
                      </a:lnTo>
                      <a:lnTo>
                        <a:pt x="377" y="170"/>
                      </a:lnTo>
                      <a:lnTo>
                        <a:pt x="375" y="170"/>
                      </a:lnTo>
                      <a:lnTo>
                        <a:pt x="372" y="176"/>
                      </a:lnTo>
                      <a:lnTo>
                        <a:pt x="369" y="176"/>
                      </a:lnTo>
                      <a:lnTo>
                        <a:pt x="365" y="176"/>
                      </a:lnTo>
                      <a:lnTo>
                        <a:pt x="365" y="181"/>
                      </a:lnTo>
                      <a:lnTo>
                        <a:pt x="367" y="185"/>
                      </a:lnTo>
                      <a:lnTo>
                        <a:pt x="365" y="187"/>
                      </a:lnTo>
                      <a:lnTo>
                        <a:pt x="365" y="192"/>
                      </a:lnTo>
                      <a:lnTo>
                        <a:pt x="362" y="192"/>
                      </a:lnTo>
                      <a:lnTo>
                        <a:pt x="358" y="192"/>
                      </a:lnTo>
                      <a:lnTo>
                        <a:pt x="356" y="192"/>
                      </a:lnTo>
                      <a:lnTo>
                        <a:pt x="354" y="190"/>
                      </a:lnTo>
                      <a:lnTo>
                        <a:pt x="348" y="190"/>
                      </a:lnTo>
                      <a:lnTo>
                        <a:pt x="346" y="190"/>
                      </a:lnTo>
                      <a:lnTo>
                        <a:pt x="343" y="190"/>
                      </a:lnTo>
                      <a:lnTo>
                        <a:pt x="341" y="185"/>
                      </a:lnTo>
                      <a:lnTo>
                        <a:pt x="343" y="183"/>
                      </a:lnTo>
                      <a:lnTo>
                        <a:pt x="346" y="183"/>
                      </a:lnTo>
                      <a:lnTo>
                        <a:pt x="348" y="183"/>
                      </a:lnTo>
                      <a:lnTo>
                        <a:pt x="350" y="183"/>
                      </a:lnTo>
                      <a:lnTo>
                        <a:pt x="356" y="181"/>
                      </a:lnTo>
                      <a:lnTo>
                        <a:pt x="358" y="176"/>
                      </a:lnTo>
                      <a:lnTo>
                        <a:pt x="362" y="170"/>
                      </a:lnTo>
                      <a:lnTo>
                        <a:pt x="365" y="166"/>
                      </a:lnTo>
                      <a:lnTo>
                        <a:pt x="367" y="164"/>
                      </a:lnTo>
                      <a:lnTo>
                        <a:pt x="369" y="161"/>
                      </a:lnTo>
                      <a:lnTo>
                        <a:pt x="372" y="156"/>
                      </a:lnTo>
                      <a:lnTo>
                        <a:pt x="375" y="147"/>
                      </a:lnTo>
                      <a:lnTo>
                        <a:pt x="362" y="130"/>
                      </a:lnTo>
                      <a:lnTo>
                        <a:pt x="350" y="116"/>
                      </a:lnTo>
                      <a:lnTo>
                        <a:pt x="339" y="102"/>
                      </a:lnTo>
                      <a:lnTo>
                        <a:pt x="327" y="90"/>
                      </a:lnTo>
                      <a:lnTo>
                        <a:pt x="318" y="82"/>
                      </a:lnTo>
                      <a:lnTo>
                        <a:pt x="311" y="75"/>
                      </a:lnTo>
                      <a:lnTo>
                        <a:pt x="301" y="66"/>
                      </a:lnTo>
                      <a:lnTo>
                        <a:pt x="289" y="59"/>
                      </a:lnTo>
                      <a:lnTo>
                        <a:pt x="277" y="49"/>
                      </a:lnTo>
                      <a:lnTo>
                        <a:pt x="265" y="42"/>
                      </a:lnTo>
                      <a:lnTo>
                        <a:pt x="256" y="38"/>
                      </a:lnTo>
                      <a:lnTo>
                        <a:pt x="245" y="30"/>
                      </a:lnTo>
                      <a:lnTo>
                        <a:pt x="233" y="26"/>
                      </a:lnTo>
                      <a:lnTo>
                        <a:pt x="214" y="19"/>
                      </a:lnTo>
                      <a:lnTo>
                        <a:pt x="193" y="11"/>
                      </a:lnTo>
                      <a:lnTo>
                        <a:pt x="176" y="6"/>
                      </a:lnTo>
                      <a:lnTo>
                        <a:pt x="162" y="5"/>
                      </a:lnTo>
                      <a:lnTo>
                        <a:pt x="146" y="2"/>
                      </a:lnTo>
                      <a:lnTo>
                        <a:pt x="121" y="0"/>
                      </a:lnTo>
                      <a:lnTo>
                        <a:pt x="93" y="0"/>
                      </a:lnTo>
                      <a:lnTo>
                        <a:pt x="73" y="0"/>
                      </a:lnTo>
                      <a:lnTo>
                        <a:pt x="70" y="5"/>
                      </a:lnTo>
                      <a:lnTo>
                        <a:pt x="65" y="5"/>
                      </a:lnTo>
                      <a:lnTo>
                        <a:pt x="63" y="6"/>
                      </a:lnTo>
                      <a:lnTo>
                        <a:pt x="55" y="6"/>
                      </a:lnTo>
                      <a:lnTo>
                        <a:pt x="52" y="9"/>
                      </a:lnTo>
                      <a:lnTo>
                        <a:pt x="45" y="9"/>
                      </a:lnTo>
                      <a:lnTo>
                        <a:pt x="39" y="16"/>
                      </a:lnTo>
                      <a:lnTo>
                        <a:pt x="37" y="19"/>
                      </a:lnTo>
                      <a:lnTo>
                        <a:pt x="35" y="26"/>
                      </a:lnTo>
                      <a:lnTo>
                        <a:pt x="27" y="26"/>
                      </a:lnTo>
                      <a:lnTo>
                        <a:pt x="23" y="30"/>
                      </a:lnTo>
                      <a:lnTo>
                        <a:pt x="23" y="23"/>
                      </a:lnTo>
                      <a:lnTo>
                        <a:pt x="27" y="13"/>
                      </a:lnTo>
                      <a:lnTo>
                        <a:pt x="27" y="9"/>
                      </a:lnTo>
                      <a:lnTo>
                        <a:pt x="18" y="11"/>
                      </a:lnTo>
                      <a:lnTo>
                        <a:pt x="9" y="13"/>
                      </a:lnTo>
                      <a:lnTo>
                        <a:pt x="11" y="16"/>
                      </a:lnTo>
                      <a:lnTo>
                        <a:pt x="16" y="20"/>
                      </a:lnTo>
                      <a:lnTo>
                        <a:pt x="16" y="26"/>
                      </a:lnTo>
                      <a:lnTo>
                        <a:pt x="16" y="30"/>
                      </a:lnTo>
                      <a:lnTo>
                        <a:pt x="11" y="35"/>
                      </a:lnTo>
                      <a:lnTo>
                        <a:pt x="7" y="38"/>
                      </a:lnTo>
                      <a:lnTo>
                        <a:pt x="7" y="45"/>
                      </a:lnTo>
                      <a:lnTo>
                        <a:pt x="5" y="52"/>
                      </a:lnTo>
                      <a:lnTo>
                        <a:pt x="5" y="56"/>
                      </a:lnTo>
                      <a:lnTo>
                        <a:pt x="11" y="56"/>
                      </a:lnTo>
                      <a:lnTo>
                        <a:pt x="9" y="63"/>
                      </a:lnTo>
                      <a:lnTo>
                        <a:pt x="5" y="66"/>
                      </a:lnTo>
                      <a:lnTo>
                        <a:pt x="0" y="71"/>
                      </a:lnTo>
                      <a:lnTo>
                        <a:pt x="7" y="75"/>
                      </a:lnTo>
                      <a:lnTo>
                        <a:pt x="11" y="71"/>
                      </a:lnTo>
                      <a:lnTo>
                        <a:pt x="16" y="71"/>
                      </a:lnTo>
                      <a:lnTo>
                        <a:pt x="20" y="68"/>
                      </a:lnTo>
                      <a:lnTo>
                        <a:pt x="26" y="66"/>
                      </a:lnTo>
                      <a:lnTo>
                        <a:pt x="27" y="66"/>
                      </a:lnTo>
                      <a:lnTo>
                        <a:pt x="35" y="61"/>
                      </a:lnTo>
                      <a:lnTo>
                        <a:pt x="37" y="54"/>
                      </a:lnTo>
                      <a:lnTo>
                        <a:pt x="42" y="54"/>
                      </a:lnTo>
                      <a:lnTo>
                        <a:pt x="46" y="52"/>
                      </a:lnTo>
                      <a:lnTo>
                        <a:pt x="54" y="52"/>
                      </a:lnTo>
                      <a:lnTo>
                        <a:pt x="58" y="52"/>
                      </a:lnTo>
                      <a:lnTo>
                        <a:pt x="61" y="49"/>
                      </a:lnTo>
                      <a:lnTo>
                        <a:pt x="68" y="49"/>
                      </a:lnTo>
                      <a:lnTo>
                        <a:pt x="70" y="52"/>
                      </a:lnTo>
                      <a:lnTo>
                        <a:pt x="77" y="52"/>
                      </a:lnTo>
                      <a:lnTo>
                        <a:pt x="84" y="49"/>
                      </a:lnTo>
                      <a:lnTo>
                        <a:pt x="87" y="47"/>
                      </a:lnTo>
                      <a:lnTo>
                        <a:pt x="93" y="47"/>
                      </a:lnTo>
                      <a:lnTo>
                        <a:pt x="99" y="47"/>
                      </a:lnTo>
                      <a:lnTo>
                        <a:pt x="102" y="47"/>
                      </a:lnTo>
                      <a:lnTo>
                        <a:pt x="102" y="52"/>
                      </a:lnTo>
                      <a:lnTo>
                        <a:pt x="102" y="54"/>
                      </a:lnTo>
                      <a:lnTo>
                        <a:pt x="108" y="54"/>
                      </a:lnTo>
                      <a:lnTo>
                        <a:pt x="110" y="52"/>
                      </a:lnTo>
                      <a:lnTo>
                        <a:pt x="115" y="54"/>
                      </a:lnTo>
                      <a:lnTo>
                        <a:pt x="119" y="56"/>
                      </a:lnTo>
                      <a:lnTo>
                        <a:pt x="125" y="59"/>
                      </a:lnTo>
                      <a:lnTo>
                        <a:pt x="134" y="59"/>
                      </a:lnTo>
                      <a:lnTo>
                        <a:pt x="125" y="61"/>
                      </a:lnTo>
                      <a:lnTo>
                        <a:pt x="119" y="61"/>
                      </a:lnTo>
                      <a:lnTo>
                        <a:pt x="117" y="63"/>
                      </a:lnTo>
                      <a:lnTo>
                        <a:pt x="121" y="71"/>
                      </a:lnTo>
                      <a:lnTo>
                        <a:pt x="125" y="73"/>
                      </a:lnTo>
                      <a:lnTo>
                        <a:pt x="131" y="73"/>
                      </a:lnTo>
                      <a:lnTo>
                        <a:pt x="136" y="75"/>
                      </a:lnTo>
                      <a:lnTo>
                        <a:pt x="143" y="78"/>
                      </a:lnTo>
                      <a:lnTo>
                        <a:pt x="148" y="78"/>
                      </a:lnTo>
                      <a:lnTo>
                        <a:pt x="153" y="78"/>
                      </a:lnTo>
                      <a:lnTo>
                        <a:pt x="162" y="73"/>
                      </a:lnTo>
                      <a:lnTo>
                        <a:pt x="164" y="73"/>
                      </a:lnTo>
                      <a:lnTo>
                        <a:pt x="160" y="78"/>
                      </a:lnTo>
                      <a:lnTo>
                        <a:pt x="164" y="85"/>
                      </a:lnTo>
                      <a:lnTo>
                        <a:pt x="174" y="82"/>
                      </a:lnTo>
                      <a:lnTo>
                        <a:pt x="176" y="80"/>
                      </a:lnTo>
                      <a:lnTo>
                        <a:pt x="176" y="75"/>
                      </a:lnTo>
                      <a:lnTo>
                        <a:pt x="181" y="78"/>
                      </a:lnTo>
                      <a:lnTo>
                        <a:pt x="185" y="82"/>
                      </a:lnTo>
                      <a:lnTo>
                        <a:pt x="181" y="82"/>
                      </a:lnTo>
                      <a:lnTo>
                        <a:pt x="179" y="82"/>
                      </a:lnTo>
                      <a:lnTo>
                        <a:pt x="176" y="85"/>
                      </a:lnTo>
                      <a:lnTo>
                        <a:pt x="172" y="85"/>
                      </a:lnTo>
                      <a:lnTo>
                        <a:pt x="169" y="85"/>
                      </a:lnTo>
                      <a:lnTo>
                        <a:pt x="164" y="90"/>
                      </a:lnTo>
                      <a:lnTo>
                        <a:pt x="169" y="92"/>
                      </a:lnTo>
                      <a:lnTo>
                        <a:pt x="181" y="90"/>
                      </a:lnTo>
                      <a:lnTo>
                        <a:pt x="179" y="95"/>
                      </a:lnTo>
                      <a:lnTo>
                        <a:pt x="179" y="102"/>
                      </a:lnTo>
                      <a:lnTo>
                        <a:pt x="181" y="102"/>
                      </a:lnTo>
                      <a:lnTo>
                        <a:pt x="185" y="104"/>
                      </a:lnTo>
                      <a:lnTo>
                        <a:pt x="185" y="111"/>
                      </a:lnTo>
                      <a:lnTo>
                        <a:pt x="188" y="113"/>
                      </a:lnTo>
                      <a:lnTo>
                        <a:pt x="188" y="118"/>
                      </a:lnTo>
                      <a:lnTo>
                        <a:pt x="188" y="120"/>
                      </a:lnTo>
                      <a:lnTo>
                        <a:pt x="200" y="132"/>
                      </a:lnTo>
                      <a:lnTo>
                        <a:pt x="200" y="138"/>
                      </a:lnTo>
                      <a:lnTo>
                        <a:pt x="198" y="138"/>
                      </a:lnTo>
                      <a:lnTo>
                        <a:pt x="195" y="138"/>
                      </a:lnTo>
                      <a:lnTo>
                        <a:pt x="193" y="138"/>
                      </a:lnTo>
                      <a:lnTo>
                        <a:pt x="191" y="138"/>
                      </a:lnTo>
                      <a:lnTo>
                        <a:pt x="193" y="132"/>
                      </a:lnTo>
                      <a:lnTo>
                        <a:pt x="193" y="128"/>
                      </a:lnTo>
                      <a:lnTo>
                        <a:pt x="188" y="128"/>
                      </a:lnTo>
                      <a:lnTo>
                        <a:pt x="185" y="128"/>
                      </a:lnTo>
                      <a:lnTo>
                        <a:pt x="183" y="128"/>
                      </a:lnTo>
                      <a:lnTo>
                        <a:pt x="181" y="130"/>
                      </a:lnTo>
                      <a:lnTo>
                        <a:pt x="179" y="132"/>
                      </a:lnTo>
                      <a:lnTo>
                        <a:pt x="174" y="132"/>
                      </a:lnTo>
                      <a:lnTo>
                        <a:pt x="169" y="132"/>
                      </a:lnTo>
                      <a:lnTo>
                        <a:pt x="169" y="138"/>
                      </a:lnTo>
                      <a:lnTo>
                        <a:pt x="169" y="142"/>
                      </a:lnTo>
                      <a:lnTo>
                        <a:pt x="169" y="147"/>
                      </a:lnTo>
                      <a:lnTo>
                        <a:pt x="169" y="151"/>
                      </a:lnTo>
                      <a:lnTo>
                        <a:pt x="172" y="156"/>
                      </a:lnTo>
                      <a:lnTo>
                        <a:pt x="172" y="159"/>
                      </a:lnTo>
                      <a:lnTo>
                        <a:pt x="174" y="164"/>
                      </a:lnTo>
                      <a:lnTo>
                        <a:pt x="176" y="166"/>
                      </a:lnTo>
                      <a:lnTo>
                        <a:pt x="176" y="168"/>
                      </a:lnTo>
                      <a:lnTo>
                        <a:pt x="179" y="170"/>
                      </a:lnTo>
                      <a:lnTo>
                        <a:pt x="179" y="176"/>
                      </a:lnTo>
                      <a:lnTo>
                        <a:pt x="179" y="181"/>
                      </a:lnTo>
                      <a:lnTo>
                        <a:pt x="181" y="185"/>
                      </a:lnTo>
                      <a:lnTo>
                        <a:pt x="185" y="192"/>
                      </a:lnTo>
                      <a:lnTo>
                        <a:pt x="188" y="192"/>
                      </a:lnTo>
                      <a:lnTo>
                        <a:pt x="191" y="192"/>
                      </a:lnTo>
                      <a:lnTo>
                        <a:pt x="195" y="187"/>
                      </a:lnTo>
                      <a:lnTo>
                        <a:pt x="198" y="185"/>
                      </a:lnTo>
                      <a:lnTo>
                        <a:pt x="202" y="190"/>
                      </a:lnTo>
                      <a:lnTo>
                        <a:pt x="204" y="190"/>
                      </a:lnTo>
                      <a:lnTo>
                        <a:pt x="210" y="187"/>
                      </a:lnTo>
                      <a:lnTo>
                        <a:pt x="210" y="185"/>
                      </a:lnTo>
                      <a:lnTo>
                        <a:pt x="204" y="181"/>
                      </a:lnTo>
                      <a:lnTo>
                        <a:pt x="202" y="176"/>
                      </a:lnTo>
                      <a:lnTo>
                        <a:pt x="200" y="173"/>
                      </a:lnTo>
                      <a:lnTo>
                        <a:pt x="198" y="170"/>
                      </a:lnTo>
                      <a:lnTo>
                        <a:pt x="193" y="168"/>
                      </a:lnTo>
                      <a:lnTo>
                        <a:pt x="193" y="164"/>
                      </a:lnTo>
                      <a:lnTo>
                        <a:pt x="191" y="161"/>
                      </a:lnTo>
                      <a:lnTo>
                        <a:pt x="188" y="159"/>
                      </a:lnTo>
                      <a:lnTo>
                        <a:pt x="188" y="151"/>
                      </a:lnTo>
                      <a:lnTo>
                        <a:pt x="193" y="154"/>
                      </a:lnTo>
                      <a:lnTo>
                        <a:pt x="193" y="159"/>
                      </a:lnTo>
                      <a:lnTo>
                        <a:pt x="195" y="161"/>
                      </a:lnTo>
                      <a:lnTo>
                        <a:pt x="198" y="164"/>
                      </a:lnTo>
                      <a:lnTo>
                        <a:pt x="200" y="166"/>
                      </a:lnTo>
                      <a:lnTo>
                        <a:pt x="202" y="164"/>
                      </a:lnTo>
                      <a:lnTo>
                        <a:pt x="204" y="164"/>
                      </a:lnTo>
                      <a:lnTo>
                        <a:pt x="206" y="161"/>
                      </a:lnTo>
                      <a:lnTo>
                        <a:pt x="206" y="159"/>
                      </a:lnTo>
                      <a:lnTo>
                        <a:pt x="211" y="159"/>
                      </a:lnTo>
                      <a:lnTo>
                        <a:pt x="210" y="161"/>
                      </a:lnTo>
                      <a:lnTo>
                        <a:pt x="210" y="166"/>
                      </a:lnTo>
                      <a:lnTo>
                        <a:pt x="214" y="166"/>
                      </a:lnTo>
                      <a:lnTo>
                        <a:pt x="214" y="170"/>
                      </a:lnTo>
                      <a:lnTo>
                        <a:pt x="210" y="173"/>
                      </a:lnTo>
                      <a:lnTo>
                        <a:pt x="211" y="176"/>
                      </a:lnTo>
                      <a:lnTo>
                        <a:pt x="214" y="178"/>
                      </a:lnTo>
                      <a:lnTo>
                        <a:pt x="217" y="181"/>
                      </a:lnTo>
                      <a:lnTo>
                        <a:pt x="214" y="185"/>
                      </a:lnTo>
                      <a:lnTo>
                        <a:pt x="214" y="187"/>
                      </a:lnTo>
                      <a:lnTo>
                        <a:pt x="214" y="190"/>
                      </a:lnTo>
                      <a:lnTo>
                        <a:pt x="211" y="195"/>
                      </a:lnTo>
                      <a:lnTo>
                        <a:pt x="210" y="197"/>
                      </a:lnTo>
                      <a:lnTo>
                        <a:pt x="206" y="200"/>
                      </a:lnTo>
                      <a:lnTo>
                        <a:pt x="206" y="197"/>
                      </a:lnTo>
                      <a:lnTo>
                        <a:pt x="202" y="197"/>
                      </a:lnTo>
                      <a:lnTo>
                        <a:pt x="200" y="195"/>
                      </a:lnTo>
                      <a:lnTo>
                        <a:pt x="200" y="192"/>
                      </a:lnTo>
                      <a:lnTo>
                        <a:pt x="198" y="190"/>
                      </a:lnTo>
                      <a:lnTo>
                        <a:pt x="195" y="192"/>
                      </a:lnTo>
                      <a:lnTo>
                        <a:pt x="198" y="195"/>
                      </a:lnTo>
                      <a:lnTo>
                        <a:pt x="198" y="197"/>
                      </a:lnTo>
                      <a:lnTo>
                        <a:pt x="198" y="200"/>
                      </a:lnTo>
                      <a:lnTo>
                        <a:pt x="200" y="200"/>
                      </a:lnTo>
                      <a:lnTo>
                        <a:pt x="202" y="202"/>
                      </a:lnTo>
                      <a:lnTo>
                        <a:pt x="202" y="204"/>
                      </a:lnTo>
                      <a:lnTo>
                        <a:pt x="200" y="209"/>
                      </a:lnTo>
                      <a:lnTo>
                        <a:pt x="200" y="214"/>
                      </a:lnTo>
                      <a:lnTo>
                        <a:pt x="200" y="218"/>
                      </a:lnTo>
                      <a:lnTo>
                        <a:pt x="200" y="225"/>
                      </a:lnTo>
                      <a:lnTo>
                        <a:pt x="200" y="228"/>
                      </a:lnTo>
                      <a:lnTo>
                        <a:pt x="195" y="232"/>
                      </a:lnTo>
                      <a:lnTo>
                        <a:pt x="195" y="235"/>
                      </a:lnTo>
                      <a:lnTo>
                        <a:pt x="198" y="239"/>
                      </a:lnTo>
                      <a:lnTo>
                        <a:pt x="200" y="239"/>
                      </a:lnTo>
                      <a:lnTo>
                        <a:pt x="204" y="242"/>
                      </a:lnTo>
                      <a:lnTo>
                        <a:pt x="206" y="247"/>
                      </a:lnTo>
                      <a:lnTo>
                        <a:pt x="204" y="247"/>
                      </a:lnTo>
                      <a:lnTo>
                        <a:pt x="200" y="252"/>
                      </a:lnTo>
                      <a:lnTo>
                        <a:pt x="195" y="254"/>
                      </a:lnTo>
                      <a:lnTo>
                        <a:pt x="191" y="261"/>
                      </a:lnTo>
                    </a:path>
                  </a:pathLst>
                </a:custGeom>
                <a:gradFill rotWithShape="0">
                  <a:gsLst>
                    <a:gs pos="0">
                      <a:srgbClr val="003e00"/>
                    </a:gs>
                    <a:gs pos="100000">
                      <a:srgbClr val="00ae00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7819" dir="2700000" blurRad="0" rotWithShape="0">
                    <a:srgbClr val="0033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8" name=""/>
                <p:cNvGrpSpPr/>
                <p:nvPr/>
              </p:nvGrpSpPr>
              <p:grpSpPr>
                <a:xfrm>
                  <a:off x="5478480" y="3646440"/>
                  <a:ext cx="873720" cy="844560"/>
                  <a:chOff x="5478480" y="3646440"/>
                  <a:chExt cx="873720" cy="84456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5638680" y="4271760"/>
                    <a:ext cx="1123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4" y="0"/>
                        </a:moveTo>
                        <a:lnTo>
                          <a:pt x="0" y="6"/>
                        </a:lnTo>
                        <a:lnTo>
                          <a:pt x="4" y="16"/>
                        </a:lnTo>
                        <a:lnTo>
                          <a:pt x="8" y="16"/>
                        </a:lnTo>
                        <a:lnTo>
                          <a:pt x="17" y="16"/>
                        </a:lnTo>
                        <a:lnTo>
                          <a:pt x="13" y="9"/>
                        </a:lnTo>
                        <a:lnTo>
                          <a:pt x="17" y="6"/>
                        </a:lnTo>
                        <a:lnTo>
                          <a:pt x="4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3e00"/>
                      </a:gs>
                      <a:gs pos="100000">
                        <a:srgbClr val="00ae00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0033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664240" y="4197600"/>
                    <a:ext cx="154800" cy="16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1">
                        <a:moveTo>
                          <a:pt x="0" y="0"/>
                        </a:moveTo>
                        <a:lnTo>
                          <a:pt x="7" y="4"/>
                        </a:lnTo>
                        <a:lnTo>
                          <a:pt x="9" y="4"/>
                        </a:lnTo>
                        <a:lnTo>
                          <a:pt x="12" y="9"/>
                        </a:lnTo>
                        <a:lnTo>
                          <a:pt x="14" y="11"/>
                        </a:lnTo>
                        <a:lnTo>
                          <a:pt x="16" y="13"/>
                        </a:lnTo>
                        <a:lnTo>
                          <a:pt x="19" y="13"/>
                        </a:lnTo>
                        <a:lnTo>
                          <a:pt x="24" y="16"/>
                        </a:lnTo>
                        <a:lnTo>
                          <a:pt x="21" y="20"/>
                        </a:lnTo>
                        <a:lnTo>
                          <a:pt x="24" y="22"/>
                        </a:lnTo>
                        <a:lnTo>
                          <a:pt x="19" y="24"/>
                        </a:lnTo>
                        <a:lnTo>
                          <a:pt x="16" y="30"/>
                        </a:lnTo>
                        <a:lnTo>
                          <a:pt x="14" y="30"/>
                        </a:lnTo>
                        <a:lnTo>
                          <a:pt x="12" y="28"/>
                        </a:lnTo>
                        <a:lnTo>
                          <a:pt x="14" y="24"/>
                        </a:lnTo>
                        <a:lnTo>
                          <a:pt x="12" y="20"/>
                        </a:lnTo>
                        <a:lnTo>
                          <a:pt x="12" y="16"/>
                        </a:lnTo>
                        <a:lnTo>
                          <a:pt x="9" y="13"/>
                        </a:lnTo>
                        <a:lnTo>
                          <a:pt x="4" y="13"/>
                        </a:lnTo>
                        <a:lnTo>
                          <a:pt x="4" y="11"/>
                        </a:lnTo>
                        <a:lnTo>
                          <a:pt x="2" y="9"/>
                        </a:lnTo>
                        <a:lnTo>
                          <a:pt x="0" y="6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3e00"/>
                      </a:gs>
                      <a:gs pos="100000">
                        <a:srgbClr val="00ae00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0033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030000" y="4400280"/>
                    <a:ext cx="11088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7" y="16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3e00"/>
                      </a:gs>
                      <a:gs pos="100000">
                        <a:srgbClr val="00ae00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0033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122880" y="4400280"/>
                    <a:ext cx="1123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7">
                        <a:moveTo>
                          <a:pt x="0" y="16"/>
                        </a:moveTo>
                        <a:lnTo>
                          <a:pt x="8" y="0"/>
                        </a:lnTo>
                        <a:lnTo>
                          <a:pt x="17" y="4"/>
                        </a:lnTo>
                        <a:lnTo>
                          <a:pt x="8" y="16"/>
                        </a:lnTo>
                        <a:lnTo>
                          <a:pt x="0" y="1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3e00"/>
                      </a:gs>
                      <a:gs pos="100000">
                        <a:srgbClr val="00ae00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0033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6246720" y="4331160"/>
                    <a:ext cx="1054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0" y="12"/>
                        </a:moveTo>
                        <a:lnTo>
                          <a:pt x="16" y="17"/>
                        </a:lnTo>
                        <a:lnTo>
                          <a:pt x="8" y="0"/>
                        </a:lnTo>
                        <a:lnTo>
                          <a:pt x="0" y="1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3e00"/>
                      </a:gs>
                      <a:gs pos="100000">
                        <a:srgbClr val="00ae00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0033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478480" y="3646440"/>
                    <a:ext cx="20376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17">
                        <a:moveTo>
                          <a:pt x="0" y="10"/>
                        </a:moveTo>
                        <a:lnTo>
                          <a:pt x="14" y="10"/>
                        </a:lnTo>
                        <a:lnTo>
                          <a:pt x="19" y="13"/>
                        </a:lnTo>
                        <a:lnTo>
                          <a:pt x="22" y="16"/>
                        </a:lnTo>
                        <a:lnTo>
                          <a:pt x="32" y="10"/>
                        </a:lnTo>
                        <a:lnTo>
                          <a:pt x="26" y="8"/>
                        </a:lnTo>
                        <a:lnTo>
                          <a:pt x="19" y="8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0" y="1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3e00"/>
                      </a:gs>
                      <a:gs pos="100000">
                        <a:srgbClr val="00ae00"/>
                      </a:gs>
                    </a:gsLst>
                    <a:lin ang="13500000"/>
                  </a:gradFill>
                  <a:ln w="0">
                    <a:noFill/>
                  </a:ln>
                  <a:effectLst>
                    <a:outerShdw dist="17819" dir="2700000" blurRad="0" rotWithShape="0">
                      <a:srgbClr val="0033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5" name=""/>
              <p:cNvGrpSpPr/>
              <p:nvPr/>
            </p:nvGrpSpPr>
            <p:grpSpPr>
              <a:xfrm>
                <a:off x="4534200" y="3823200"/>
                <a:ext cx="2589840" cy="1468800"/>
                <a:chOff x="4534200" y="3823200"/>
                <a:chExt cx="2589840" cy="14688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4534200" y="4399920"/>
                  <a:ext cx="247680" cy="233640"/>
                  <a:chOff x="4534200" y="4399920"/>
                  <a:chExt cx="247680" cy="23364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4534200" y="4399920"/>
                    <a:ext cx="14292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4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9" y="0"/>
                        </a:lnTo>
                        <a:lnTo>
                          <a:pt x="12" y="0"/>
                        </a:lnTo>
                        <a:lnTo>
                          <a:pt x="14" y="1"/>
                        </a:lnTo>
                        <a:lnTo>
                          <a:pt x="14" y="4"/>
                        </a:lnTo>
                        <a:lnTo>
                          <a:pt x="14" y="7"/>
                        </a:lnTo>
                        <a:lnTo>
                          <a:pt x="14" y="9"/>
                        </a:lnTo>
                        <a:lnTo>
                          <a:pt x="17" y="9"/>
                        </a:lnTo>
                        <a:lnTo>
                          <a:pt x="19" y="13"/>
                        </a:lnTo>
                        <a:lnTo>
                          <a:pt x="22" y="13"/>
                        </a:lnTo>
                        <a:lnTo>
                          <a:pt x="22" y="15"/>
                        </a:lnTo>
                        <a:lnTo>
                          <a:pt x="19" y="18"/>
                        </a:lnTo>
                        <a:lnTo>
                          <a:pt x="17" y="23"/>
                        </a:lnTo>
                        <a:lnTo>
                          <a:pt x="14" y="23"/>
                        </a:lnTo>
                        <a:lnTo>
                          <a:pt x="14" y="20"/>
                        </a:lnTo>
                        <a:lnTo>
                          <a:pt x="14" y="15"/>
                        </a:lnTo>
                        <a:lnTo>
                          <a:pt x="14" y="13"/>
                        </a:lnTo>
                        <a:lnTo>
                          <a:pt x="9" y="13"/>
                        </a:lnTo>
                        <a:lnTo>
                          <a:pt x="5" y="18"/>
                        </a:lnTo>
                        <a:lnTo>
                          <a:pt x="5" y="20"/>
                        </a:lnTo>
                        <a:lnTo>
                          <a:pt x="5" y="23"/>
                        </a:lnTo>
                        <a:lnTo>
                          <a:pt x="2" y="23"/>
                        </a:lnTo>
                        <a:lnTo>
                          <a:pt x="0" y="20"/>
                        </a:lnTo>
                        <a:lnTo>
                          <a:pt x="2" y="18"/>
                        </a:lnTo>
                        <a:lnTo>
                          <a:pt x="2" y="15"/>
                        </a:lnTo>
                        <a:lnTo>
                          <a:pt x="5" y="11"/>
                        </a:lnTo>
                        <a:lnTo>
                          <a:pt x="7" y="11"/>
                        </a:lnTo>
                        <a:lnTo>
                          <a:pt x="9" y="11"/>
                        </a:lnTo>
                        <a:lnTo>
                          <a:pt x="12" y="11"/>
                        </a:lnTo>
                        <a:lnTo>
                          <a:pt x="12" y="9"/>
                        </a:lnTo>
                        <a:lnTo>
                          <a:pt x="7" y="9"/>
                        </a:lnTo>
                        <a:lnTo>
                          <a:pt x="7" y="4"/>
                        </a:lnTo>
                        <a:lnTo>
                          <a:pt x="2" y="4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08360" y="4538520"/>
                    <a:ext cx="1119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8">
                        <a:moveTo>
                          <a:pt x="0" y="10"/>
                        </a:moveTo>
                        <a:lnTo>
                          <a:pt x="9" y="17"/>
                        </a:lnTo>
                        <a:lnTo>
                          <a:pt x="17" y="10"/>
                        </a:lnTo>
                        <a:lnTo>
                          <a:pt x="9" y="0"/>
                        </a:lnTo>
                        <a:lnTo>
                          <a:pt x="3" y="1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4677120" y="4538520"/>
                    <a:ext cx="10476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0" y="17"/>
                        </a:moveTo>
                        <a:lnTo>
                          <a:pt x="10" y="17"/>
                        </a:lnTo>
                        <a:lnTo>
                          <a:pt x="16" y="0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6908760" y="4940640"/>
                  <a:ext cx="215280" cy="351360"/>
                  <a:chOff x="6908760" y="4940640"/>
                  <a:chExt cx="215280" cy="35136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6908760" y="4940640"/>
                    <a:ext cx="11052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0">
                        <a:moveTo>
                          <a:pt x="13" y="0"/>
                        </a:moveTo>
                        <a:lnTo>
                          <a:pt x="0" y="6"/>
                        </a:lnTo>
                        <a:lnTo>
                          <a:pt x="3" y="14"/>
                        </a:lnTo>
                        <a:lnTo>
                          <a:pt x="7" y="19"/>
                        </a:lnTo>
                        <a:lnTo>
                          <a:pt x="17" y="14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013520" y="5195520"/>
                    <a:ext cx="11052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8">
                        <a:moveTo>
                          <a:pt x="12" y="0"/>
                        </a:moveTo>
                        <a:lnTo>
                          <a:pt x="0" y="2"/>
                        </a:lnTo>
                        <a:lnTo>
                          <a:pt x="3" y="9"/>
                        </a:lnTo>
                        <a:lnTo>
                          <a:pt x="3" y="17"/>
                        </a:lnTo>
                        <a:lnTo>
                          <a:pt x="17" y="17"/>
                        </a:lnTo>
                        <a:lnTo>
                          <a:pt x="17" y="1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3" name=""/>
                <p:cNvSpPr/>
                <p:nvPr/>
              </p:nvSpPr>
              <p:spPr>
                <a:xfrm>
                  <a:off x="6287040" y="3823200"/>
                  <a:ext cx="291600" cy="176760"/>
                </a:xfrm>
                <a:custGeom>
                  <a:avLst/>
                  <a:gdLst/>
                  <a:ahLst/>
                  <a:rect l="l" t="t" r="r" b="b"/>
                  <a:pathLst>
                    <a:path w="47" h="33">
                      <a:moveTo>
                        <a:pt x="43" y="19"/>
                      </a:moveTo>
                      <a:lnTo>
                        <a:pt x="46" y="29"/>
                      </a:lnTo>
                      <a:lnTo>
                        <a:pt x="40" y="32"/>
                      </a:lnTo>
                      <a:lnTo>
                        <a:pt x="33" y="32"/>
                      </a:lnTo>
                      <a:lnTo>
                        <a:pt x="28" y="29"/>
                      </a:lnTo>
                      <a:lnTo>
                        <a:pt x="26" y="24"/>
                      </a:lnTo>
                      <a:lnTo>
                        <a:pt x="24" y="22"/>
                      </a:lnTo>
                      <a:lnTo>
                        <a:pt x="16" y="22"/>
                      </a:lnTo>
                      <a:lnTo>
                        <a:pt x="12" y="24"/>
                      </a:lnTo>
                      <a:lnTo>
                        <a:pt x="7" y="22"/>
                      </a:lnTo>
                      <a:lnTo>
                        <a:pt x="4" y="17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4" y="0"/>
                      </a:ln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9" y="7"/>
                      </a:lnTo>
                      <a:lnTo>
                        <a:pt x="12" y="7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9" y="9"/>
                      </a:lnTo>
                      <a:lnTo>
                        <a:pt x="21" y="9"/>
                      </a:lnTo>
                      <a:lnTo>
                        <a:pt x="24" y="7"/>
                      </a:lnTo>
                      <a:lnTo>
                        <a:pt x="26" y="7"/>
                      </a:lnTo>
                      <a:lnTo>
                        <a:pt x="26" y="9"/>
                      </a:lnTo>
                      <a:lnTo>
                        <a:pt x="26" y="11"/>
                      </a:lnTo>
                      <a:lnTo>
                        <a:pt x="31" y="11"/>
                      </a:lnTo>
                      <a:lnTo>
                        <a:pt x="35" y="11"/>
                      </a:lnTo>
                      <a:lnTo>
                        <a:pt x="38" y="11"/>
                      </a:lnTo>
                      <a:lnTo>
                        <a:pt x="43" y="1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4" name=""/>
          <p:cNvGrpSpPr/>
          <p:nvPr/>
        </p:nvGrpSpPr>
        <p:grpSpPr>
          <a:xfrm>
            <a:off x="1066680" y="2895480"/>
            <a:ext cx="2895480" cy="1731240"/>
            <a:chOff x="1066680" y="2895480"/>
            <a:chExt cx="2895480" cy="1731240"/>
          </a:xfrm>
        </p:grpSpPr>
        <p:grpSp>
          <p:nvGrpSpPr>
            <p:cNvPr id="275" name=""/>
            <p:cNvGrpSpPr/>
            <p:nvPr/>
          </p:nvGrpSpPr>
          <p:grpSpPr>
            <a:xfrm>
              <a:off x="1066680" y="3000240"/>
              <a:ext cx="2895480" cy="1626480"/>
              <a:chOff x="1066680" y="3000240"/>
              <a:chExt cx="2895480" cy="1626480"/>
            </a:xfrm>
          </p:grpSpPr>
          <p:pic>
            <p:nvPicPr>
              <p:cNvPr id="276" name="portal" descr=""/>
              <p:cNvPicPr/>
              <p:nvPr/>
            </p:nvPicPr>
            <p:blipFill>
              <a:blip r:embed="rId2"/>
              <a:stretch/>
            </p:blipFill>
            <p:spPr>
              <a:xfrm>
                <a:off x="1066680" y="3000240"/>
                <a:ext cx="960120" cy="122436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277" name=""/>
              <p:cNvGraphicFramePr/>
              <p:nvPr/>
            </p:nvGraphicFramePr>
            <p:xfrm>
              <a:off x="1783080" y="3723840"/>
              <a:ext cx="1288800" cy="902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783080" y="3723840"/>
                        <a:ext cx="1288800" cy="90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279" name="portal" descr=""/>
              <p:cNvPicPr/>
              <p:nvPr/>
            </p:nvPicPr>
            <p:blipFill>
              <a:blip r:embed="rId5"/>
              <a:stretch/>
            </p:blipFill>
            <p:spPr>
              <a:xfrm>
                <a:off x="3002040" y="3289680"/>
                <a:ext cx="960120" cy="1224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80" name="forbeseric" descr=""/>
            <p:cNvPicPr/>
            <p:nvPr/>
          </p:nvPicPr>
          <p:blipFill>
            <a:blip r:embed="rId6"/>
            <a:stretch/>
          </p:blipFill>
          <p:spPr>
            <a:xfrm>
              <a:off x="1995480" y="2895480"/>
              <a:ext cx="1038240" cy="680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</p:pic>
      </p:grpSp>
      <p:pic>
        <p:nvPicPr>
          <p:cNvPr id="281" name="pc" descr=""/>
          <p:cNvPicPr/>
          <p:nvPr/>
        </p:nvPicPr>
        <p:blipFill>
          <a:blip r:embed="rId7"/>
          <a:srcRect l="0" t="4665" r="0" b="0"/>
          <a:stretch/>
        </p:blipFill>
        <p:spPr>
          <a:xfrm>
            <a:off x="6172200" y="3255840"/>
            <a:ext cx="798480" cy="747720"/>
          </a:xfrm>
          <a:prstGeom prst="rect">
            <a:avLst/>
          </a:prstGeom>
          <a:ln w="0">
            <a:noFill/>
          </a:ln>
        </p:spPr>
      </p:pic>
      <p:pic>
        <p:nvPicPr>
          <p:cNvPr id="282" name="pc" descr=""/>
          <p:cNvPicPr/>
          <p:nvPr/>
        </p:nvPicPr>
        <p:blipFill>
          <a:blip r:embed="rId8"/>
          <a:srcRect l="0" t="4665" r="0" b="0"/>
          <a:stretch/>
        </p:blipFill>
        <p:spPr>
          <a:xfrm>
            <a:off x="6934320" y="4843440"/>
            <a:ext cx="798480" cy="747720"/>
          </a:xfrm>
          <a:prstGeom prst="rect">
            <a:avLst/>
          </a:prstGeom>
          <a:ln w="0">
            <a:noFill/>
          </a:ln>
        </p:spPr>
      </p:pic>
      <p:pic>
        <p:nvPicPr>
          <p:cNvPr id="283" name="pc" descr=""/>
          <p:cNvPicPr/>
          <p:nvPr/>
        </p:nvPicPr>
        <p:blipFill>
          <a:blip r:embed="rId9"/>
          <a:srcRect l="0" t="4665" r="0" b="0"/>
          <a:stretch/>
        </p:blipFill>
        <p:spPr>
          <a:xfrm>
            <a:off x="4343400" y="4194000"/>
            <a:ext cx="798480" cy="747720"/>
          </a:xfrm>
          <a:prstGeom prst="rect">
            <a:avLst/>
          </a:prstGeom>
          <a:ln w="0">
            <a:noFill/>
          </a:ln>
        </p:spPr>
      </p:pic>
      <p:pic>
        <p:nvPicPr>
          <p:cNvPr id="284" name="pc" descr=""/>
          <p:cNvPicPr/>
          <p:nvPr/>
        </p:nvPicPr>
        <p:blipFill>
          <a:blip r:embed="rId10"/>
          <a:srcRect l="0" t="4665" r="0" b="0"/>
          <a:stretch/>
        </p:blipFill>
        <p:spPr>
          <a:xfrm>
            <a:off x="3886200" y="5665680"/>
            <a:ext cx="798480" cy="7477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 Delivery Sui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52280" y="14457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omplete content delivery infrastructure enabling service providers and enterprises to reliably move content and applications closer to end-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33200" y="1600200"/>
            <a:ext cx="1905120" cy="510552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5105520"/>
              <a:gd name="textAreaBottom" fmla="*/ 5012640 h 5105520"/>
            </a:gdLst>
            <a:ahLst/>
            <a:rect l="textAreaLeft" t="textAreaTop" r="textAreaRight" b="textAreaBottom"/>
            <a:pathLst>
              <a:path w="21600" h="57879">
                <a:moveTo>
                  <a:pt x="3600" y="0"/>
                </a:moveTo>
                <a:arcTo wR="3600" hR="3600" stAng="16200000" swAng="-5400000"/>
                <a:lnTo>
                  <a:pt x="0" y="54279"/>
                </a:lnTo>
                <a:arcTo wR="3600" hR="3600" stAng="10800000" swAng="-5400000"/>
                <a:lnTo>
                  <a:pt x="18000" y="578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500800" y="1600200"/>
            <a:ext cx="1828800" cy="5105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105520"/>
              <a:gd name="textAreaBottom" fmla="*/ 5016240 h 5105520"/>
            </a:gdLst>
            <a:ahLst/>
            <a:rect l="textAreaLeft" t="textAreaTop" r="textAreaRight" b="textAreaBottom"/>
            <a:pathLst>
              <a:path w="21600" h="60294">
                <a:moveTo>
                  <a:pt x="3600" y="0"/>
                </a:moveTo>
                <a:arcTo wR="3600" hR="3600" stAng="16200000" swAng="-5400000"/>
                <a:lnTo>
                  <a:pt x="0" y="56694"/>
                </a:lnTo>
                <a:arcTo wR="3600" hR="3600" stAng="10800000" swAng="-5400000"/>
                <a:lnTo>
                  <a:pt x="18000" y="60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15200" y="1600200"/>
            <a:ext cx="1828800" cy="5105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105520"/>
              <a:gd name="textAreaBottom" fmla="*/ 5016240 h 5105520"/>
            </a:gdLst>
            <a:ahLst/>
            <a:rect l="textAreaLeft" t="textAreaTop" r="textAreaRight" b="textAreaBottom"/>
            <a:pathLst>
              <a:path w="21600" h="60294">
                <a:moveTo>
                  <a:pt x="3600" y="0"/>
                </a:moveTo>
                <a:arcTo wR="3600" hR="3600" stAng="16200000" swAng="-5400000"/>
                <a:lnTo>
                  <a:pt x="0" y="56694"/>
                </a:lnTo>
                <a:arcTo wR="3600" hR="3600" stAng="10800000" swAng="-5400000"/>
                <a:lnTo>
                  <a:pt x="18000" y="60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98640" y="1600200"/>
            <a:ext cx="1828800" cy="5105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105520"/>
              <a:gd name="textAreaBottom" fmla="*/ 5016240 h 5105520"/>
            </a:gdLst>
            <a:ahLst/>
            <a:rect l="textAreaLeft" t="textAreaTop" r="textAreaRight" b="textAreaBottom"/>
            <a:pathLst>
              <a:path w="21600" h="60294">
                <a:moveTo>
                  <a:pt x="3600" y="0"/>
                </a:moveTo>
                <a:arcTo wR="3600" hR="3600" stAng="16200000" swAng="-5400000"/>
                <a:lnTo>
                  <a:pt x="0" y="56694"/>
                </a:lnTo>
                <a:arcTo wR="3600" hR="3600" stAng="10800000" swAng="-5400000"/>
                <a:lnTo>
                  <a:pt x="18000" y="60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47960" y="1600200"/>
            <a:ext cx="1752840" cy="51055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5105520"/>
              <a:gd name="textAreaBottom" fmla="*/ 5020200 h 5105520"/>
            </a:gdLst>
            <a:ahLst/>
            <a:rect l="textAreaLeft" t="textAreaTop" r="textAreaRight" b="textAreaBottom"/>
            <a:pathLst>
              <a:path w="21600" h="62906">
                <a:moveTo>
                  <a:pt x="3600" y="0"/>
                </a:moveTo>
                <a:arcTo wR="3600" hR="3600" stAng="16200000" swAng="-5400000"/>
                <a:lnTo>
                  <a:pt x="0" y="59306"/>
                </a:lnTo>
                <a:arcTo wR="3600" hR="3600" stAng="10800000" swAng="-5400000"/>
                <a:lnTo>
                  <a:pt x="18000" y="629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6960" y="2800440"/>
            <a:ext cx="1295640" cy="1066680"/>
          </a:xfrm>
          <a:prstGeom prst="flowChartPredefinedProcess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43160" y="2800440"/>
            <a:ext cx="1219320" cy="990360"/>
          </a:xfrm>
          <a:prstGeom prst="flowChartMultidocumen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118040" y="2533680"/>
            <a:ext cx="1198440" cy="1764720"/>
            <a:chOff x="4118040" y="2533680"/>
            <a:chExt cx="1198440" cy="1764720"/>
          </a:xfrm>
        </p:grpSpPr>
        <p:sp>
          <p:nvSpPr>
            <p:cNvPr id="295" name=""/>
            <p:cNvSpPr/>
            <p:nvPr/>
          </p:nvSpPr>
          <p:spPr>
            <a:xfrm>
              <a:off x="4118040" y="2533680"/>
              <a:ext cx="1027080" cy="761760"/>
            </a:xfrm>
            <a:custGeom>
              <a:avLst/>
              <a:gdLst>
                <a:gd name="textAreaLeft" fmla="*/ 0 w 1027080"/>
                <a:gd name="textAreaRight" fmla="*/ 1027440 w 102708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4118040" y="3535920"/>
              <a:ext cx="1027080" cy="762120"/>
            </a:xfrm>
            <a:custGeom>
              <a:avLst/>
              <a:gdLst>
                <a:gd name="textAreaLeft" fmla="*/ 0 w 1027080"/>
                <a:gd name="textAreaRight" fmla="*/ 1027440 w 1027080"/>
                <a:gd name="textAreaTop" fmla="*/ -360 h 762120"/>
                <a:gd name="textAreaBottom" fmla="*/ 7621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118040" y="3181320"/>
              <a:ext cx="1198440" cy="482400"/>
            </a:xfrm>
            <a:prstGeom prst="rightArrow">
              <a:avLst>
                <a:gd name="adj1" fmla="val 50000"/>
                <a:gd name="adj2" fmla="val 62108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006960" y="2724120"/>
            <a:ext cx="685800" cy="60948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5760" y="1659600"/>
            <a:ext cx="177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13200" y="1659600"/>
            <a:ext cx="147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blis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12840" y="1659600"/>
            <a:ext cx="160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64320" y="165960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06960" y="3409920"/>
            <a:ext cx="685800" cy="60948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70120" y="6140520"/>
            <a:ext cx="1138320" cy="304560"/>
          </a:xfrm>
          <a:custGeom>
            <a:avLst/>
            <a:gdLst>
              <a:gd name="textAreaLeft" fmla="*/ 177840 w 1138320"/>
              <a:gd name="textAreaRight" fmla="*/ 996120 w 11383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181800" y="6140520"/>
            <a:ext cx="901800" cy="304560"/>
          </a:xfrm>
          <a:custGeom>
            <a:avLst/>
            <a:gdLst>
              <a:gd name="textAreaLeft" fmla="*/ 140760 w 901800"/>
              <a:gd name="textAreaRight" fmla="*/ 789120 w 901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65600" y="6109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88120" y="6140520"/>
            <a:ext cx="1774800" cy="304560"/>
          </a:xfrm>
          <a:custGeom>
            <a:avLst/>
            <a:gdLst>
              <a:gd name="textAreaLeft" fmla="*/ 277200 w 1774800"/>
              <a:gd name="textAreaRight" fmla="*/ 1631160 w 1774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8103" y="5400"/>
                </a:lnTo>
                <a:lnTo>
                  <a:pt x="18103" y="0"/>
                </a:lnTo>
                <a:lnTo>
                  <a:pt x="21600" y="10800"/>
                </a:lnTo>
                <a:lnTo>
                  <a:pt x="18103" y="21600"/>
                </a:lnTo>
                <a:lnTo>
                  <a:pt x="18103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3807720" y="6140520"/>
            <a:ext cx="1955880" cy="304560"/>
          </a:xfrm>
          <a:custGeom>
            <a:avLst/>
            <a:gdLst>
              <a:gd name="textAreaLeft" fmla="*/ 305280 w 1955880"/>
              <a:gd name="textAreaRight" fmla="*/ 1839600 w 1955880"/>
              <a:gd name="textAreaTop" fmla="*/ 8568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6074"/>
                </a:moveTo>
                <a:lnTo>
                  <a:pt x="18672" y="6074"/>
                </a:lnTo>
                <a:lnTo>
                  <a:pt x="18672" y="0"/>
                </a:lnTo>
                <a:lnTo>
                  <a:pt x="21600" y="10800"/>
                </a:lnTo>
                <a:lnTo>
                  <a:pt x="18672" y="21600"/>
                </a:lnTo>
                <a:lnTo>
                  <a:pt x="18672" y="15526"/>
                </a:lnTo>
                <a:lnTo>
                  <a:pt x="3375" y="15526"/>
                </a:lnTo>
                <a:close/>
              </a:path>
              <a:path w="21600" h="21600">
                <a:moveTo>
                  <a:pt x="0" y="6074"/>
                </a:moveTo>
                <a:lnTo>
                  <a:pt x="675" y="6074"/>
                </a:lnTo>
                <a:lnTo>
                  <a:pt x="675" y="15526"/>
                </a:lnTo>
                <a:lnTo>
                  <a:pt x="0" y="15526"/>
                </a:lnTo>
                <a:close/>
              </a:path>
              <a:path w="21600" h="21600">
                <a:moveTo>
                  <a:pt x="1350" y="6074"/>
                </a:moveTo>
                <a:lnTo>
                  <a:pt x="2700" y="6074"/>
                </a:lnTo>
                <a:lnTo>
                  <a:pt x="2700" y="15526"/>
                </a:lnTo>
                <a:lnTo>
                  <a:pt x="1350" y="1552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75840" y="610956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9920" y="4554720"/>
            <a:ext cx="1811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crosoft Front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aire Cold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obe Photosh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88120" y="1659600"/>
            <a:ext cx="173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99240" y="2952720"/>
            <a:ext cx="914400" cy="838080"/>
          </a:xfrm>
          <a:custGeom>
            <a:avLst/>
            <a:gdLst>
              <a:gd name="textAreaLeft" fmla="*/ 0 w 914400"/>
              <a:gd name="textAreaRight" fmla="*/ 914760 w 9144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33920" y="4554720"/>
            <a:ext cx="183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gnette Story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roadvision 1t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erwoven Team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440" y="1719360"/>
            <a:ext cx="0" cy="47577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ntent Workfl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7695720" y="4646880"/>
            <a:ext cx="756720" cy="872640"/>
            <a:chOff x="7695720" y="4646880"/>
            <a:chExt cx="756720" cy="872640"/>
          </a:xfrm>
        </p:grpSpPr>
        <p:sp>
          <p:nvSpPr>
            <p:cNvPr id="318" name=""/>
            <p:cNvSpPr/>
            <p:nvPr/>
          </p:nvSpPr>
          <p:spPr>
            <a:xfrm>
              <a:off x="7695720" y="4646880"/>
              <a:ext cx="75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Arial"/>
                </a:rPr>
                <a:t>Inktom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7772400" y="4952880"/>
              <a:ext cx="497880" cy="566640"/>
              <a:chOff x="7772400" y="4952880"/>
              <a:chExt cx="497880" cy="566640"/>
            </a:xfrm>
          </p:grpSpPr>
          <p:sp>
            <p:nvSpPr>
              <p:cNvPr id="320" name=""/>
              <p:cNvSpPr/>
              <p:nvPr/>
            </p:nvSpPr>
            <p:spPr>
              <a:xfrm>
                <a:off x="7788600" y="4970880"/>
                <a:ext cx="481680" cy="274320"/>
              </a:xfrm>
              <a:custGeom>
                <a:avLst/>
                <a:gdLst/>
                <a:ahLst/>
                <a:rect l="l" t="t" r="r" b="b"/>
                <a:pathLst>
                  <a:path w="7272" h="4197">
                    <a:moveTo>
                      <a:pt x="7272" y="2098"/>
                    </a:moveTo>
                    <a:lnTo>
                      <a:pt x="3636" y="0"/>
                    </a:lnTo>
                    <a:lnTo>
                      <a:pt x="0" y="2098"/>
                    </a:lnTo>
                    <a:lnTo>
                      <a:pt x="3636" y="4197"/>
                    </a:lnTo>
                    <a:lnTo>
                      <a:pt x="7272" y="209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788600" y="5106960"/>
                <a:ext cx="240840" cy="412560"/>
              </a:xfrm>
              <a:custGeom>
                <a:avLst/>
                <a:gdLst/>
                <a:ahLst/>
                <a:rect l="l" t="t" r="r" b="b"/>
                <a:pathLst>
                  <a:path w="3636" h="6296">
                    <a:moveTo>
                      <a:pt x="0" y="0"/>
                    </a:moveTo>
                    <a:lnTo>
                      <a:pt x="3636" y="2099"/>
                    </a:lnTo>
                    <a:lnTo>
                      <a:pt x="3636" y="6296"/>
                    </a:lnTo>
                    <a:lnTo>
                      <a:pt x="0" y="4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029800" y="5106960"/>
                <a:ext cx="240480" cy="412560"/>
              </a:xfrm>
              <a:custGeom>
                <a:avLst/>
                <a:gdLst/>
                <a:ahLst/>
                <a:rect l="l" t="t" r="r" b="b"/>
                <a:pathLst>
                  <a:path w="3636" h="6296">
                    <a:moveTo>
                      <a:pt x="3636" y="0"/>
                    </a:moveTo>
                    <a:lnTo>
                      <a:pt x="0" y="2099"/>
                    </a:lnTo>
                    <a:lnTo>
                      <a:pt x="0" y="6296"/>
                    </a:lnTo>
                    <a:lnTo>
                      <a:pt x="3636" y="4197"/>
                    </a:lnTo>
                    <a:lnTo>
                      <a:pt x="3636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872120" y="5063040"/>
                <a:ext cx="317160" cy="182160"/>
              </a:xfrm>
              <a:custGeom>
                <a:avLst/>
                <a:gdLst/>
                <a:ahLst/>
                <a:rect l="l" t="t" r="r" b="b"/>
                <a:pathLst>
                  <a:path w="4800" h="2770">
                    <a:moveTo>
                      <a:pt x="4800" y="1384"/>
                    </a:moveTo>
                    <a:lnTo>
                      <a:pt x="2400" y="0"/>
                    </a:lnTo>
                    <a:lnTo>
                      <a:pt x="0" y="1384"/>
                    </a:lnTo>
                    <a:lnTo>
                      <a:pt x="2400" y="2770"/>
                    </a:lnTo>
                    <a:lnTo>
                      <a:pt x="4800" y="138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872120" y="5155560"/>
                <a:ext cx="157320" cy="271800"/>
              </a:xfrm>
              <a:custGeom>
                <a:avLst/>
                <a:gdLst/>
                <a:ahLst/>
                <a:rect l="l" t="t" r="r" b="b"/>
                <a:pathLst>
                  <a:path w="2400" h="4156">
                    <a:moveTo>
                      <a:pt x="0" y="0"/>
                    </a:moveTo>
                    <a:lnTo>
                      <a:pt x="2400" y="1386"/>
                    </a:lnTo>
                    <a:lnTo>
                      <a:pt x="2400" y="4156"/>
                    </a:lnTo>
                    <a:lnTo>
                      <a:pt x="0" y="27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029800" y="5155560"/>
                <a:ext cx="159480" cy="271800"/>
              </a:xfrm>
              <a:custGeom>
                <a:avLst/>
                <a:gdLst/>
                <a:ahLst/>
                <a:rect l="l" t="t" r="r" b="b"/>
                <a:pathLst>
                  <a:path w="2400" h="4156">
                    <a:moveTo>
                      <a:pt x="2400" y="0"/>
                    </a:moveTo>
                    <a:lnTo>
                      <a:pt x="0" y="1386"/>
                    </a:lnTo>
                    <a:lnTo>
                      <a:pt x="0" y="4156"/>
                    </a:lnTo>
                    <a:lnTo>
                      <a:pt x="2400" y="2771"/>
                    </a:lnTo>
                    <a:lnTo>
                      <a:pt x="240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950960" y="5155560"/>
                <a:ext cx="156960" cy="89640"/>
              </a:xfrm>
              <a:custGeom>
                <a:avLst/>
                <a:gdLst/>
                <a:ahLst/>
                <a:rect l="l" t="t" r="r" b="b"/>
                <a:pathLst>
                  <a:path w="2400" h="1386">
                    <a:moveTo>
                      <a:pt x="2400" y="693"/>
                    </a:moveTo>
                    <a:lnTo>
                      <a:pt x="1200" y="0"/>
                    </a:lnTo>
                    <a:lnTo>
                      <a:pt x="0" y="693"/>
                    </a:lnTo>
                    <a:lnTo>
                      <a:pt x="1200" y="1386"/>
                    </a:lnTo>
                    <a:lnTo>
                      <a:pt x="2400" y="69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950960" y="5199120"/>
                <a:ext cx="78480" cy="136440"/>
              </a:xfrm>
              <a:custGeom>
                <a:avLst/>
                <a:gdLst/>
                <a:ahLst/>
                <a:rect l="l" t="t" r="r" b="b"/>
                <a:pathLst>
                  <a:path w="1200" h="2078">
                    <a:moveTo>
                      <a:pt x="0" y="0"/>
                    </a:moveTo>
                    <a:lnTo>
                      <a:pt x="1200" y="693"/>
                    </a:lnTo>
                    <a:lnTo>
                      <a:pt x="1200" y="2078"/>
                    </a:lnTo>
                    <a:lnTo>
                      <a:pt x="0" y="13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029800" y="5199120"/>
                <a:ext cx="78120" cy="136440"/>
              </a:xfrm>
              <a:custGeom>
                <a:avLst/>
                <a:gdLst/>
                <a:ahLst/>
                <a:rect l="l" t="t" r="r" b="b"/>
                <a:pathLst>
                  <a:path w="1200" h="2078">
                    <a:moveTo>
                      <a:pt x="1200" y="0"/>
                    </a:moveTo>
                    <a:lnTo>
                      <a:pt x="0" y="693"/>
                    </a:lnTo>
                    <a:lnTo>
                      <a:pt x="0" y="2078"/>
                    </a:lnTo>
                    <a:lnTo>
                      <a:pt x="1200" y="1386"/>
                    </a:lnTo>
                    <a:lnTo>
                      <a:pt x="120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772400" y="4952880"/>
                <a:ext cx="481680" cy="273960"/>
              </a:xfrm>
              <a:custGeom>
                <a:avLst/>
                <a:gdLst/>
                <a:ahLst/>
                <a:rect l="l" t="t" r="r" b="b"/>
                <a:pathLst>
                  <a:path w="7272" h="4197">
                    <a:moveTo>
                      <a:pt x="7272" y="2098"/>
                    </a:moveTo>
                    <a:lnTo>
                      <a:pt x="3636" y="0"/>
                    </a:lnTo>
                    <a:lnTo>
                      <a:pt x="0" y="2098"/>
                    </a:lnTo>
                    <a:lnTo>
                      <a:pt x="3636" y="4197"/>
                    </a:lnTo>
                    <a:lnTo>
                      <a:pt x="7272" y="2098"/>
                    </a:lnTo>
                    <a:close/>
                  </a:path>
                </a:pathLst>
              </a:custGeom>
              <a:solidFill>
                <a:srgbClr val="d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772400" y="5088600"/>
                <a:ext cx="240840" cy="412560"/>
              </a:xfrm>
              <a:custGeom>
                <a:avLst/>
                <a:gdLst/>
                <a:ahLst/>
                <a:rect l="l" t="t" r="r" b="b"/>
                <a:pathLst>
                  <a:path w="3636" h="6296">
                    <a:moveTo>
                      <a:pt x="0" y="0"/>
                    </a:moveTo>
                    <a:lnTo>
                      <a:pt x="3636" y="2099"/>
                    </a:lnTo>
                    <a:lnTo>
                      <a:pt x="3636" y="6296"/>
                    </a:lnTo>
                    <a:lnTo>
                      <a:pt x="0" y="4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013240" y="5088600"/>
                <a:ext cx="240480" cy="412560"/>
              </a:xfrm>
              <a:custGeom>
                <a:avLst/>
                <a:gdLst/>
                <a:ahLst/>
                <a:rect l="l" t="t" r="r" b="b"/>
                <a:pathLst>
                  <a:path w="3636" h="6296">
                    <a:moveTo>
                      <a:pt x="3636" y="0"/>
                    </a:moveTo>
                    <a:lnTo>
                      <a:pt x="0" y="2099"/>
                    </a:lnTo>
                    <a:lnTo>
                      <a:pt x="0" y="6296"/>
                    </a:lnTo>
                    <a:lnTo>
                      <a:pt x="3636" y="4197"/>
                    </a:lnTo>
                    <a:lnTo>
                      <a:pt x="3636" y="0"/>
                    </a:lnTo>
                    <a:close/>
                  </a:path>
                </a:pathLst>
              </a:custGeom>
              <a:solidFill>
                <a:srgbClr val="b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855920" y="5044680"/>
                <a:ext cx="317160" cy="181800"/>
              </a:xfrm>
              <a:custGeom>
                <a:avLst/>
                <a:gdLst/>
                <a:ahLst/>
                <a:rect l="l" t="t" r="r" b="b"/>
                <a:pathLst>
                  <a:path w="4800" h="2770">
                    <a:moveTo>
                      <a:pt x="4800" y="1384"/>
                    </a:moveTo>
                    <a:lnTo>
                      <a:pt x="2400" y="0"/>
                    </a:lnTo>
                    <a:lnTo>
                      <a:pt x="0" y="1384"/>
                    </a:lnTo>
                    <a:lnTo>
                      <a:pt x="2400" y="2770"/>
                    </a:lnTo>
                    <a:lnTo>
                      <a:pt x="4800" y="1384"/>
                    </a:lnTo>
                    <a:close/>
                  </a:path>
                </a:pathLst>
              </a:custGeom>
              <a:solidFill>
                <a:srgbClr val="db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855920" y="5136840"/>
                <a:ext cx="157320" cy="272160"/>
              </a:xfrm>
              <a:custGeom>
                <a:avLst/>
                <a:gdLst/>
                <a:ahLst/>
                <a:rect l="l" t="t" r="r" b="b"/>
                <a:pathLst>
                  <a:path w="2400" h="4156">
                    <a:moveTo>
                      <a:pt x="0" y="0"/>
                    </a:moveTo>
                    <a:lnTo>
                      <a:pt x="2400" y="1386"/>
                    </a:lnTo>
                    <a:lnTo>
                      <a:pt x="2400" y="4156"/>
                    </a:lnTo>
                    <a:lnTo>
                      <a:pt x="0" y="27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013240" y="5136840"/>
                <a:ext cx="159480" cy="272160"/>
              </a:xfrm>
              <a:custGeom>
                <a:avLst/>
                <a:gdLst/>
                <a:ahLst/>
                <a:rect l="l" t="t" r="r" b="b"/>
                <a:pathLst>
                  <a:path w="2400" h="4156">
                    <a:moveTo>
                      <a:pt x="2400" y="0"/>
                    </a:moveTo>
                    <a:lnTo>
                      <a:pt x="0" y="1386"/>
                    </a:lnTo>
                    <a:lnTo>
                      <a:pt x="0" y="4156"/>
                    </a:lnTo>
                    <a:lnTo>
                      <a:pt x="2400" y="2771"/>
                    </a:lnTo>
                    <a:lnTo>
                      <a:pt x="2400" y="0"/>
                    </a:lnTo>
                    <a:close/>
                  </a:path>
                </a:pathLst>
              </a:cu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934400" y="5136840"/>
                <a:ext cx="157320" cy="89640"/>
              </a:xfrm>
              <a:custGeom>
                <a:avLst/>
                <a:gdLst/>
                <a:ahLst/>
                <a:rect l="l" t="t" r="r" b="b"/>
                <a:pathLst>
                  <a:path w="2400" h="1386">
                    <a:moveTo>
                      <a:pt x="2400" y="693"/>
                    </a:moveTo>
                    <a:lnTo>
                      <a:pt x="1200" y="0"/>
                    </a:lnTo>
                    <a:lnTo>
                      <a:pt x="0" y="693"/>
                    </a:lnTo>
                    <a:lnTo>
                      <a:pt x="1200" y="1386"/>
                    </a:lnTo>
                    <a:lnTo>
                      <a:pt x="2400" y="693"/>
                    </a:lnTo>
                    <a:close/>
                  </a:path>
                </a:pathLst>
              </a:custGeom>
              <a:solidFill>
                <a:srgbClr val="0f75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934400" y="5180760"/>
                <a:ext cx="78480" cy="135720"/>
              </a:xfrm>
              <a:custGeom>
                <a:avLst/>
                <a:gdLst/>
                <a:ahLst/>
                <a:rect l="l" t="t" r="r" b="b"/>
                <a:pathLst>
                  <a:path w="1200" h="2078">
                    <a:moveTo>
                      <a:pt x="0" y="0"/>
                    </a:moveTo>
                    <a:lnTo>
                      <a:pt x="1200" y="693"/>
                    </a:lnTo>
                    <a:lnTo>
                      <a:pt x="1200" y="2078"/>
                    </a:lnTo>
                    <a:lnTo>
                      <a:pt x="0" y="13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2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013240" y="5180760"/>
                <a:ext cx="78480" cy="135720"/>
              </a:xfrm>
              <a:custGeom>
                <a:avLst/>
                <a:gdLst/>
                <a:ahLst/>
                <a:rect l="l" t="t" r="r" b="b"/>
                <a:pathLst>
                  <a:path w="1200" h="2078">
                    <a:moveTo>
                      <a:pt x="1200" y="0"/>
                    </a:moveTo>
                    <a:lnTo>
                      <a:pt x="0" y="693"/>
                    </a:lnTo>
                    <a:lnTo>
                      <a:pt x="0" y="2078"/>
                    </a:lnTo>
                    <a:lnTo>
                      <a:pt x="1200" y="1386"/>
                    </a:lnTo>
                    <a:lnTo>
                      <a:pt x="1200" y="0"/>
                    </a:lnTo>
                    <a:close/>
                  </a:path>
                </a:pathLst>
              </a:custGeom>
              <a:solidFill>
                <a:srgbClr val="004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4266720" y="4646880"/>
            <a:ext cx="756720" cy="872640"/>
            <a:chOff x="4266720" y="4646880"/>
            <a:chExt cx="756720" cy="872640"/>
          </a:xfrm>
        </p:grpSpPr>
        <p:sp>
          <p:nvSpPr>
            <p:cNvPr id="339" name=""/>
            <p:cNvSpPr/>
            <p:nvPr/>
          </p:nvSpPr>
          <p:spPr>
            <a:xfrm>
              <a:off x="4266720" y="4646880"/>
              <a:ext cx="75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Arial"/>
                </a:rPr>
                <a:t>Inktom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4343400" y="4952880"/>
              <a:ext cx="497880" cy="566640"/>
              <a:chOff x="4343400" y="4952880"/>
              <a:chExt cx="497880" cy="566640"/>
            </a:xfrm>
          </p:grpSpPr>
          <p:sp>
            <p:nvSpPr>
              <p:cNvPr id="341" name=""/>
              <p:cNvSpPr/>
              <p:nvPr/>
            </p:nvSpPr>
            <p:spPr>
              <a:xfrm>
                <a:off x="4359600" y="4970880"/>
                <a:ext cx="481680" cy="274320"/>
              </a:xfrm>
              <a:custGeom>
                <a:avLst/>
                <a:gdLst/>
                <a:ahLst/>
                <a:rect l="l" t="t" r="r" b="b"/>
                <a:pathLst>
                  <a:path w="7272" h="4197">
                    <a:moveTo>
                      <a:pt x="7272" y="2098"/>
                    </a:moveTo>
                    <a:lnTo>
                      <a:pt x="3636" y="0"/>
                    </a:lnTo>
                    <a:lnTo>
                      <a:pt x="0" y="2098"/>
                    </a:lnTo>
                    <a:lnTo>
                      <a:pt x="3636" y="4197"/>
                    </a:lnTo>
                    <a:lnTo>
                      <a:pt x="7272" y="209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59600" y="5106960"/>
                <a:ext cx="240840" cy="412560"/>
              </a:xfrm>
              <a:custGeom>
                <a:avLst/>
                <a:gdLst/>
                <a:ahLst/>
                <a:rect l="l" t="t" r="r" b="b"/>
                <a:pathLst>
                  <a:path w="3636" h="6296">
                    <a:moveTo>
                      <a:pt x="0" y="0"/>
                    </a:moveTo>
                    <a:lnTo>
                      <a:pt x="3636" y="2099"/>
                    </a:lnTo>
                    <a:lnTo>
                      <a:pt x="3636" y="6296"/>
                    </a:lnTo>
                    <a:lnTo>
                      <a:pt x="0" y="4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600800" y="5106960"/>
                <a:ext cx="240480" cy="412560"/>
              </a:xfrm>
              <a:custGeom>
                <a:avLst/>
                <a:gdLst/>
                <a:ahLst/>
                <a:rect l="l" t="t" r="r" b="b"/>
                <a:pathLst>
                  <a:path w="3636" h="6296">
                    <a:moveTo>
                      <a:pt x="3636" y="0"/>
                    </a:moveTo>
                    <a:lnTo>
                      <a:pt x="0" y="2099"/>
                    </a:lnTo>
                    <a:lnTo>
                      <a:pt x="0" y="6296"/>
                    </a:lnTo>
                    <a:lnTo>
                      <a:pt x="3636" y="4197"/>
                    </a:lnTo>
                    <a:lnTo>
                      <a:pt x="3636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443120" y="5063040"/>
                <a:ext cx="317160" cy="182160"/>
              </a:xfrm>
              <a:custGeom>
                <a:avLst/>
                <a:gdLst/>
                <a:ahLst/>
                <a:rect l="l" t="t" r="r" b="b"/>
                <a:pathLst>
                  <a:path w="4800" h="2770">
                    <a:moveTo>
                      <a:pt x="4800" y="1384"/>
                    </a:moveTo>
                    <a:lnTo>
                      <a:pt x="2400" y="0"/>
                    </a:lnTo>
                    <a:lnTo>
                      <a:pt x="0" y="1384"/>
                    </a:lnTo>
                    <a:lnTo>
                      <a:pt x="2400" y="2770"/>
                    </a:lnTo>
                    <a:lnTo>
                      <a:pt x="4800" y="138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443120" y="5155560"/>
                <a:ext cx="157320" cy="271800"/>
              </a:xfrm>
              <a:custGeom>
                <a:avLst/>
                <a:gdLst/>
                <a:ahLst/>
                <a:rect l="l" t="t" r="r" b="b"/>
                <a:pathLst>
                  <a:path w="2400" h="4156">
                    <a:moveTo>
                      <a:pt x="0" y="0"/>
                    </a:moveTo>
                    <a:lnTo>
                      <a:pt x="2400" y="1386"/>
                    </a:lnTo>
                    <a:lnTo>
                      <a:pt x="2400" y="4156"/>
                    </a:lnTo>
                    <a:lnTo>
                      <a:pt x="0" y="27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600800" y="5155560"/>
                <a:ext cx="159480" cy="271800"/>
              </a:xfrm>
              <a:custGeom>
                <a:avLst/>
                <a:gdLst/>
                <a:ahLst/>
                <a:rect l="l" t="t" r="r" b="b"/>
                <a:pathLst>
                  <a:path w="2400" h="4156">
                    <a:moveTo>
                      <a:pt x="2400" y="0"/>
                    </a:moveTo>
                    <a:lnTo>
                      <a:pt x="0" y="1386"/>
                    </a:lnTo>
                    <a:lnTo>
                      <a:pt x="0" y="4156"/>
                    </a:lnTo>
                    <a:lnTo>
                      <a:pt x="2400" y="2771"/>
                    </a:lnTo>
                    <a:lnTo>
                      <a:pt x="240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521960" y="5155560"/>
                <a:ext cx="156960" cy="89640"/>
              </a:xfrm>
              <a:custGeom>
                <a:avLst/>
                <a:gdLst/>
                <a:ahLst/>
                <a:rect l="l" t="t" r="r" b="b"/>
                <a:pathLst>
                  <a:path w="2400" h="1386">
                    <a:moveTo>
                      <a:pt x="2400" y="693"/>
                    </a:moveTo>
                    <a:lnTo>
                      <a:pt x="1200" y="0"/>
                    </a:lnTo>
                    <a:lnTo>
                      <a:pt x="0" y="693"/>
                    </a:lnTo>
                    <a:lnTo>
                      <a:pt x="1200" y="1386"/>
                    </a:lnTo>
                    <a:lnTo>
                      <a:pt x="2400" y="69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521960" y="5199120"/>
                <a:ext cx="78480" cy="136440"/>
              </a:xfrm>
              <a:custGeom>
                <a:avLst/>
                <a:gdLst/>
                <a:ahLst/>
                <a:rect l="l" t="t" r="r" b="b"/>
                <a:pathLst>
                  <a:path w="1200" h="2078">
                    <a:moveTo>
                      <a:pt x="0" y="0"/>
                    </a:moveTo>
                    <a:lnTo>
                      <a:pt x="1200" y="693"/>
                    </a:lnTo>
                    <a:lnTo>
                      <a:pt x="1200" y="2078"/>
                    </a:lnTo>
                    <a:lnTo>
                      <a:pt x="0" y="13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600800" y="5199120"/>
                <a:ext cx="78120" cy="136440"/>
              </a:xfrm>
              <a:custGeom>
                <a:avLst/>
                <a:gdLst/>
                <a:ahLst/>
                <a:rect l="l" t="t" r="r" b="b"/>
                <a:pathLst>
                  <a:path w="1200" h="2078">
                    <a:moveTo>
                      <a:pt x="1200" y="0"/>
                    </a:moveTo>
                    <a:lnTo>
                      <a:pt x="0" y="693"/>
                    </a:lnTo>
                    <a:lnTo>
                      <a:pt x="0" y="2078"/>
                    </a:lnTo>
                    <a:lnTo>
                      <a:pt x="1200" y="1386"/>
                    </a:lnTo>
                    <a:lnTo>
                      <a:pt x="120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343400" y="4952880"/>
                <a:ext cx="481680" cy="273960"/>
              </a:xfrm>
              <a:custGeom>
                <a:avLst/>
                <a:gdLst/>
                <a:ahLst/>
                <a:rect l="l" t="t" r="r" b="b"/>
                <a:pathLst>
                  <a:path w="7272" h="4197">
                    <a:moveTo>
                      <a:pt x="7272" y="2098"/>
                    </a:moveTo>
                    <a:lnTo>
                      <a:pt x="3636" y="0"/>
                    </a:lnTo>
                    <a:lnTo>
                      <a:pt x="0" y="2098"/>
                    </a:lnTo>
                    <a:lnTo>
                      <a:pt x="3636" y="4197"/>
                    </a:lnTo>
                    <a:lnTo>
                      <a:pt x="7272" y="2098"/>
                    </a:lnTo>
                    <a:close/>
                  </a:path>
                </a:pathLst>
              </a:custGeom>
              <a:solidFill>
                <a:srgbClr val="d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343400" y="5088600"/>
                <a:ext cx="240840" cy="412560"/>
              </a:xfrm>
              <a:custGeom>
                <a:avLst/>
                <a:gdLst/>
                <a:ahLst/>
                <a:rect l="l" t="t" r="r" b="b"/>
                <a:pathLst>
                  <a:path w="3636" h="6296">
                    <a:moveTo>
                      <a:pt x="0" y="0"/>
                    </a:moveTo>
                    <a:lnTo>
                      <a:pt x="3636" y="2099"/>
                    </a:lnTo>
                    <a:lnTo>
                      <a:pt x="3636" y="6296"/>
                    </a:lnTo>
                    <a:lnTo>
                      <a:pt x="0" y="4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584240" y="5088600"/>
                <a:ext cx="240480" cy="412560"/>
              </a:xfrm>
              <a:custGeom>
                <a:avLst/>
                <a:gdLst/>
                <a:ahLst/>
                <a:rect l="l" t="t" r="r" b="b"/>
                <a:pathLst>
                  <a:path w="3636" h="6296">
                    <a:moveTo>
                      <a:pt x="3636" y="0"/>
                    </a:moveTo>
                    <a:lnTo>
                      <a:pt x="0" y="2099"/>
                    </a:lnTo>
                    <a:lnTo>
                      <a:pt x="0" y="6296"/>
                    </a:lnTo>
                    <a:lnTo>
                      <a:pt x="3636" y="4197"/>
                    </a:lnTo>
                    <a:lnTo>
                      <a:pt x="3636" y="0"/>
                    </a:lnTo>
                    <a:close/>
                  </a:path>
                </a:pathLst>
              </a:custGeom>
              <a:solidFill>
                <a:srgbClr val="b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6920" y="5044680"/>
                <a:ext cx="317160" cy="181800"/>
              </a:xfrm>
              <a:custGeom>
                <a:avLst/>
                <a:gdLst/>
                <a:ahLst/>
                <a:rect l="l" t="t" r="r" b="b"/>
                <a:pathLst>
                  <a:path w="4800" h="2770">
                    <a:moveTo>
                      <a:pt x="4800" y="1384"/>
                    </a:moveTo>
                    <a:lnTo>
                      <a:pt x="2400" y="0"/>
                    </a:lnTo>
                    <a:lnTo>
                      <a:pt x="0" y="1384"/>
                    </a:lnTo>
                    <a:lnTo>
                      <a:pt x="2400" y="2770"/>
                    </a:lnTo>
                    <a:lnTo>
                      <a:pt x="4800" y="1384"/>
                    </a:lnTo>
                    <a:close/>
                  </a:path>
                </a:pathLst>
              </a:custGeom>
              <a:solidFill>
                <a:srgbClr val="db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426920" y="5136840"/>
                <a:ext cx="157320" cy="272160"/>
              </a:xfrm>
              <a:custGeom>
                <a:avLst/>
                <a:gdLst/>
                <a:ahLst/>
                <a:rect l="l" t="t" r="r" b="b"/>
                <a:pathLst>
                  <a:path w="2400" h="4156">
                    <a:moveTo>
                      <a:pt x="0" y="0"/>
                    </a:moveTo>
                    <a:lnTo>
                      <a:pt x="2400" y="1386"/>
                    </a:lnTo>
                    <a:lnTo>
                      <a:pt x="2400" y="4156"/>
                    </a:lnTo>
                    <a:lnTo>
                      <a:pt x="0" y="27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584240" y="5136840"/>
                <a:ext cx="159480" cy="272160"/>
              </a:xfrm>
              <a:custGeom>
                <a:avLst/>
                <a:gdLst/>
                <a:ahLst/>
                <a:rect l="l" t="t" r="r" b="b"/>
                <a:pathLst>
                  <a:path w="2400" h="4156">
                    <a:moveTo>
                      <a:pt x="2400" y="0"/>
                    </a:moveTo>
                    <a:lnTo>
                      <a:pt x="0" y="1386"/>
                    </a:lnTo>
                    <a:lnTo>
                      <a:pt x="0" y="4156"/>
                    </a:lnTo>
                    <a:lnTo>
                      <a:pt x="2400" y="2771"/>
                    </a:lnTo>
                    <a:lnTo>
                      <a:pt x="2400" y="0"/>
                    </a:lnTo>
                    <a:close/>
                  </a:path>
                </a:pathLst>
              </a:cu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05400" y="5136840"/>
                <a:ext cx="157320" cy="89640"/>
              </a:xfrm>
              <a:custGeom>
                <a:avLst/>
                <a:gdLst/>
                <a:ahLst/>
                <a:rect l="l" t="t" r="r" b="b"/>
                <a:pathLst>
                  <a:path w="2400" h="1386">
                    <a:moveTo>
                      <a:pt x="2400" y="693"/>
                    </a:moveTo>
                    <a:lnTo>
                      <a:pt x="1200" y="0"/>
                    </a:lnTo>
                    <a:lnTo>
                      <a:pt x="0" y="693"/>
                    </a:lnTo>
                    <a:lnTo>
                      <a:pt x="1200" y="1386"/>
                    </a:lnTo>
                    <a:lnTo>
                      <a:pt x="2400" y="693"/>
                    </a:lnTo>
                    <a:close/>
                  </a:path>
                </a:pathLst>
              </a:custGeom>
              <a:solidFill>
                <a:srgbClr val="0f75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505400" y="5180760"/>
                <a:ext cx="78480" cy="135720"/>
              </a:xfrm>
              <a:custGeom>
                <a:avLst/>
                <a:gdLst/>
                <a:ahLst/>
                <a:rect l="l" t="t" r="r" b="b"/>
                <a:pathLst>
                  <a:path w="1200" h="2078">
                    <a:moveTo>
                      <a:pt x="0" y="0"/>
                    </a:moveTo>
                    <a:lnTo>
                      <a:pt x="1200" y="693"/>
                    </a:lnTo>
                    <a:lnTo>
                      <a:pt x="1200" y="2078"/>
                    </a:lnTo>
                    <a:lnTo>
                      <a:pt x="0" y="13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2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584240" y="5180760"/>
                <a:ext cx="78480" cy="135720"/>
              </a:xfrm>
              <a:custGeom>
                <a:avLst/>
                <a:gdLst/>
                <a:ahLst/>
                <a:rect l="l" t="t" r="r" b="b"/>
                <a:pathLst>
                  <a:path w="1200" h="2078">
                    <a:moveTo>
                      <a:pt x="1200" y="0"/>
                    </a:moveTo>
                    <a:lnTo>
                      <a:pt x="0" y="693"/>
                    </a:lnTo>
                    <a:lnTo>
                      <a:pt x="0" y="2078"/>
                    </a:lnTo>
                    <a:lnTo>
                      <a:pt x="1200" y="1386"/>
                    </a:lnTo>
                    <a:lnTo>
                      <a:pt x="1200" y="0"/>
                    </a:lnTo>
                    <a:close/>
                  </a:path>
                </a:pathLst>
              </a:custGeom>
              <a:solidFill>
                <a:srgbClr val="004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9" name=""/>
          <p:cNvGrpSpPr/>
          <p:nvPr/>
        </p:nvGrpSpPr>
        <p:grpSpPr>
          <a:xfrm>
            <a:off x="6019560" y="4646880"/>
            <a:ext cx="756720" cy="872640"/>
            <a:chOff x="6019560" y="4646880"/>
            <a:chExt cx="756720" cy="872640"/>
          </a:xfrm>
        </p:grpSpPr>
        <p:sp>
          <p:nvSpPr>
            <p:cNvPr id="360" name=""/>
            <p:cNvSpPr/>
            <p:nvPr/>
          </p:nvSpPr>
          <p:spPr>
            <a:xfrm>
              <a:off x="6019560" y="4646880"/>
              <a:ext cx="75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00"/>
                  </a:solidFill>
                  <a:latin typeface="Arial"/>
                </a:rPr>
                <a:t>Inktom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6096240" y="4952880"/>
              <a:ext cx="497880" cy="566640"/>
              <a:chOff x="6096240" y="4952880"/>
              <a:chExt cx="497880" cy="566640"/>
            </a:xfrm>
          </p:grpSpPr>
          <p:sp>
            <p:nvSpPr>
              <p:cNvPr id="362" name=""/>
              <p:cNvSpPr/>
              <p:nvPr/>
            </p:nvSpPr>
            <p:spPr>
              <a:xfrm>
                <a:off x="6112440" y="4970880"/>
                <a:ext cx="481680" cy="274320"/>
              </a:xfrm>
              <a:custGeom>
                <a:avLst/>
                <a:gdLst/>
                <a:ahLst/>
                <a:rect l="l" t="t" r="r" b="b"/>
                <a:pathLst>
                  <a:path w="7272" h="4197">
                    <a:moveTo>
                      <a:pt x="7272" y="2098"/>
                    </a:moveTo>
                    <a:lnTo>
                      <a:pt x="3636" y="0"/>
                    </a:lnTo>
                    <a:lnTo>
                      <a:pt x="0" y="2098"/>
                    </a:lnTo>
                    <a:lnTo>
                      <a:pt x="3636" y="4197"/>
                    </a:lnTo>
                    <a:lnTo>
                      <a:pt x="7272" y="209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112440" y="5106960"/>
                <a:ext cx="240840" cy="412560"/>
              </a:xfrm>
              <a:custGeom>
                <a:avLst/>
                <a:gdLst/>
                <a:ahLst/>
                <a:rect l="l" t="t" r="r" b="b"/>
                <a:pathLst>
                  <a:path w="3636" h="6296">
                    <a:moveTo>
                      <a:pt x="0" y="0"/>
                    </a:moveTo>
                    <a:lnTo>
                      <a:pt x="3636" y="2099"/>
                    </a:lnTo>
                    <a:lnTo>
                      <a:pt x="3636" y="6296"/>
                    </a:lnTo>
                    <a:lnTo>
                      <a:pt x="0" y="4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353640" y="5106960"/>
                <a:ext cx="240480" cy="412560"/>
              </a:xfrm>
              <a:custGeom>
                <a:avLst/>
                <a:gdLst/>
                <a:ahLst/>
                <a:rect l="l" t="t" r="r" b="b"/>
                <a:pathLst>
                  <a:path w="3636" h="6296">
                    <a:moveTo>
                      <a:pt x="3636" y="0"/>
                    </a:moveTo>
                    <a:lnTo>
                      <a:pt x="0" y="2099"/>
                    </a:lnTo>
                    <a:lnTo>
                      <a:pt x="0" y="6296"/>
                    </a:lnTo>
                    <a:lnTo>
                      <a:pt x="3636" y="4197"/>
                    </a:lnTo>
                    <a:lnTo>
                      <a:pt x="3636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195960" y="5063040"/>
                <a:ext cx="317160" cy="182160"/>
              </a:xfrm>
              <a:custGeom>
                <a:avLst/>
                <a:gdLst/>
                <a:ahLst/>
                <a:rect l="l" t="t" r="r" b="b"/>
                <a:pathLst>
                  <a:path w="4800" h="2770">
                    <a:moveTo>
                      <a:pt x="4800" y="1384"/>
                    </a:moveTo>
                    <a:lnTo>
                      <a:pt x="2400" y="0"/>
                    </a:lnTo>
                    <a:lnTo>
                      <a:pt x="0" y="1384"/>
                    </a:lnTo>
                    <a:lnTo>
                      <a:pt x="2400" y="2770"/>
                    </a:lnTo>
                    <a:lnTo>
                      <a:pt x="4800" y="138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195960" y="5155560"/>
                <a:ext cx="157320" cy="271800"/>
              </a:xfrm>
              <a:custGeom>
                <a:avLst/>
                <a:gdLst/>
                <a:ahLst/>
                <a:rect l="l" t="t" r="r" b="b"/>
                <a:pathLst>
                  <a:path w="2400" h="4156">
                    <a:moveTo>
                      <a:pt x="0" y="0"/>
                    </a:moveTo>
                    <a:lnTo>
                      <a:pt x="2400" y="1386"/>
                    </a:lnTo>
                    <a:lnTo>
                      <a:pt x="2400" y="4156"/>
                    </a:lnTo>
                    <a:lnTo>
                      <a:pt x="0" y="27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353640" y="5155560"/>
                <a:ext cx="159480" cy="271800"/>
              </a:xfrm>
              <a:custGeom>
                <a:avLst/>
                <a:gdLst/>
                <a:ahLst/>
                <a:rect l="l" t="t" r="r" b="b"/>
                <a:pathLst>
                  <a:path w="2400" h="4156">
                    <a:moveTo>
                      <a:pt x="2400" y="0"/>
                    </a:moveTo>
                    <a:lnTo>
                      <a:pt x="0" y="1386"/>
                    </a:lnTo>
                    <a:lnTo>
                      <a:pt x="0" y="4156"/>
                    </a:lnTo>
                    <a:lnTo>
                      <a:pt x="2400" y="2771"/>
                    </a:lnTo>
                    <a:lnTo>
                      <a:pt x="240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74800" y="5155560"/>
                <a:ext cx="156960" cy="89640"/>
              </a:xfrm>
              <a:custGeom>
                <a:avLst/>
                <a:gdLst/>
                <a:ahLst/>
                <a:rect l="l" t="t" r="r" b="b"/>
                <a:pathLst>
                  <a:path w="2400" h="1386">
                    <a:moveTo>
                      <a:pt x="2400" y="693"/>
                    </a:moveTo>
                    <a:lnTo>
                      <a:pt x="1200" y="0"/>
                    </a:lnTo>
                    <a:lnTo>
                      <a:pt x="0" y="693"/>
                    </a:lnTo>
                    <a:lnTo>
                      <a:pt x="1200" y="1386"/>
                    </a:lnTo>
                    <a:lnTo>
                      <a:pt x="2400" y="69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74800" y="5199120"/>
                <a:ext cx="78480" cy="136440"/>
              </a:xfrm>
              <a:custGeom>
                <a:avLst/>
                <a:gdLst/>
                <a:ahLst/>
                <a:rect l="l" t="t" r="r" b="b"/>
                <a:pathLst>
                  <a:path w="1200" h="2078">
                    <a:moveTo>
                      <a:pt x="0" y="0"/>
                    </a:moveTo>
                    <a:lnTo>
                      <a:pt x="1200" y="693"/>
                    </a:lnTo>
                    <a:lnTo>
                      <a:pt x="1200" y="2078"/>
                    </a:lnTo>
                    <a:lnTo>
                      <a:pt x="0" y="13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353640" y="5199120"/>
                <a:ext cx="78120" cy="136440"/>
              </a:xfrm>
              <a:custGeom>
                <a:avLst/>
                <a:gdLst/>
                <a:ahLst/>
                <a:rect l="l" t="t" r="r" b="b"/>
                <a:pathLst>
                  <a:path w="1200" h="2078">
                    <a:moveTo>
                      <a:pt x="1200" y="0"/>
                    </a:moveTo>
                    <a:lnTo>
                      <a:pt x="0" y="693"/>
                    </a:lnTo>
                    <a:lnTo>
                      <a:pt x="0" y="2078"/>
                    </a:lnTo>
                    <a:lnTo>
                      <a:pt x="1200" y="1386"/>
                    </a:lnTo>
                    <a:lnTo>
                      <a:pt x="120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096240" y="4952880"/>
                <a:ext cx="481680" cy="273960"/>
              </a:xfrm>
              <a:custGeom>
                <a:avLst/>
                <a:gdLst/>
                <a:ahLst/>
                <a:rect l="l" t="t" r="r" b="b"/>
                <a:pathLst>
                  <a:path w="7272" h="4197">
                    <a:moveTo>
                      <a:pt x="7272" y="2098"/>
                    </a:moveTo>
                    <a:lnTo>
                      <a:pt x="3636" y="0"/>
                    </a:lnTo>
                    <a:lnTo>
                      <a:pt x="0" y="2098"/>
                    </a:lnTo>
                    <a:lnTo>
                      <a:pt x="3636" y="4197"/>
                    </a:lnTo>
                    <a:lnTo>
                      <a:pt x="7272" y="2098"/>
                    </a:lnTo>
                    <a:close/>
                  </a:path>
                </a:pathLst>
              </a:custGeom>
              <a:solidFill>
                <a:srgbClr val="d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096240" y="5088600"/>
                <a:ext cx="240840" cy="412560"/>
              </a:xfrm>
              <a:custGeom>
                <a:avLst/>
                <a:gdLst/>
                <a:ahLst/>
                <a:rect l="l" t="t" r="r" b="b"/>
                <a:pathLst>
                  <a:path w="3636" h="6296">
                    <a:moveTo>
                      <a:pt x="0" y="0"/>
                    </a:moveTo>
                    <a:lnTo>
                      <a:pt x="3636" y="2099"/>
                    </a:lnTo>
                    <a:lnTo>
                      <a:pt x="3636" y="6296"/>
                    </a:lnTo>
                    <a:lnTo>
                      <a:pt x="0" y="41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37080" y="5088600"/>
                <a:ext cx="240480" cy="412560"/>
              </a:xfrm>
              <a:custGeom>
                <a:avLst/>
                <a:gdLst/>
                <a:ahLst/>
                <a:rect l="l" t="t" r="r" b="b"/>
                <a:pathLst>
                  <a:path w="3636" h="6296">
                    <a:moveTo>
                      <a:pt x="3636" y="0"/>
                    </a:moveTo>
                    <a:lnTo>
                      <a:pt x="0" y="2099"/>
                    </a:lnTo>
                    <a:lnTo>
                      <a:pt x="0" y="6296"/>
                    </a:lnTo>
                    <a:lnTo>
                      <a:pt x="3636" y="4197"/>
                    </a:lnTo>
                    <a:lnTo>
                      <a:pt x="3636" y="0"/>
                    </a:lnTo>
                    <a:close/>
                  </a:path>
                </a:pathLst>
              </a:custGeom>
              <a:solidFill>
                <a:srgbClr val="b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179760" y="5044680"/>
                <a:ext cx="317160" cy="181800"/>
              </a:xfrm>
              <a:custGeom>
                <a:avLst/>
                <a:gdLst/>
                <a:ahLst/>
                <a:rect l="l" t="t" r="r" b="b"/>
                <a:pathLst>
                  <a:path w="4800" h="2770">
                    <a:moveTo>
                      <a:pt x="4800" y="1384"/>
                    </a:moveTo>
                    <a:lnTo>
                      <a:pt x="2400" y="0"/>
                    </a:lnTo>
                    <a:lnTo>
                      <a:pt x="0" y="1384"/>
                    </a:lnTo>
                    <a:lnTo>
                      <a:pt x="2400" y="2770"/>
                    </a:lnTo>
                    <a:lnTo>
                      <a:pt x="4800" y="1384"/>
                    </a:lnTo>
                    <a:close/>
                  </a:path>
                </a:pathLst>
              </a:custGeom>
              <a:solidFill>
                <a:srgbClr val="db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179760" y="5136840"/>
                <a:ext cx="157320" cy="272160"/>
              </a:xfrm>
              <a:custGeom>
                <a:avLst/>
                <a:gdLst/>
                <a:ahLst/>
                <a:rect l="l" t="t" r="r" b="b"/>
                <a:pathLst>
                  <a:path w="2400" h="4156">
                    <a:moveTo>
                      <a:pt x="0" y="0"/>
                    </a:moveTo>
                    <a:lnTo>
                      <a:pt x="2400" y="1386"/>
                    </a:lnTo>
                    <a:lnTo>
                      <a:pt x="2400" y="4156"/>
                    </a:lnTo>
                    <a:lnTo>
                      <a:pt x="0" y="27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337080" y="5136840"/>
                <a:ext cx="159480" cy="272160"/>
              </a:xfrm>
              <a:custGeom>
                <a:avLst/>
                <a:gdLst/>
                <a:ahLst/>
                <a:rect l="l" t="t" r="r" b="b"/>
                <a:pathLst>
                  <a:path w="2400" h="4156">
                    <a:moveTo>
                      <a:pt x="2400" y="0"/>
                    </a:moveTo>
                    <a:lnTo>
                      <a:pt x="0" y="1386"/>
                    </a:lnTo>
                    <a:lnTo>
                      <a:pt x="0" y="4156"/>
                    </a:lnTo>
                    <a:lnTo>
                      <a:pt x="2400" y="2771"/>
                    </a:lnTo>
                    <a:lnTo>
                      <a:pt x="2400" y="0"/>
                    </a:lnTo>
                    <a:close/>
                  </a:path>
                </a:pathLst>
              </a:custGeom>
              <a:solidFill>
                <a:srgbClr val="b5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258240" y="5136840"/>
                <a:ext cx="157320" cy="89640"/>
              </a:xfrm>
              <a:custGeom>
                <a:avLst/>
                <a:gdLst/>
                <a:ahLst/>
                <a:rect l="l" t="t" r="r" b="b"/>
                <a:pathLst>
                  <a:path w="2400" h="1386">
                    <a:moveTo>
                      <a:pt x="2400" y="693"/>
                    </a:moveTo>
                    <a:lnTo>
                      <a:pt x="1200" y="0"/>
                    </a:lnTo>
                    <a:lnTo>
                      <a:pt x="0" y="693"/>
                    </a:lnTo>
                    <a:lnTo>
                      <a:pt x="1200" y="1386"/>
                    </a:lnTo>
                    <a:lnTo>
                      <a:pt x="2400" y="693"/>
                    </a:lnTo>
                    <a:close/>
                  </a:path>
                </a:pathLst>
              </a:custGeom>
              <a:solidFill>
                <a:srgbClr val="0f75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58240" y="5180760"/>
                <a:ext cx="78480" cy="135720"/>
              </a:xfrm>
              <a:custGeom>
                <a:avLst/>
                <a:gdLst/>
                <a:ahLst/>
                <a:rect l="l" t="t" r="r" b="b"/>
                <a:pathLst>
                  <a:path w="1200" h="2078">
                    <a:moveTo>
                      <a:pt x="0" y="0"/>
                    </a:moveTo>
                    <a:lnTo>
                      <a:pt x="1200" y="693"/>
                    </a:lnTo>
                    <a:lnTo>
                      <a:pt x="1200" y="2078"/>
                    </a:lnTo>
                    <a:lnTo>
                      <a:pt x="0" y="13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2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337080" y="5180760"/>
                <a:ext cx="78480" cy="135720"/>
              </a:xfrm>
              <a:custGeom>
                <a:avLst/>
                <a:gdLst/>
                <a:ahLst/>
                <a:rect l="l" t="t" r="r" b="b"/>
                <a:pathLst>
                  <a:path w="1200" h="2078">
                    <a:moveTo>
                      <a:pt x="1200" y="0"/>
                    </a:moveTo>
                    <a:lnTo>
                      <a:pt x="0" y="693"/>
                    </a:lnTo>
                    <a:lnTo>
                      <a:pt x="0" y="2078"/>
                    </a:lnTo>
                    <a:lnTo>
                      <a:pt x="1200" y="1386"/>
                    </a:lnTo>
                    <a:lnTo>
                      <a:pt x="1200" y="0"/>
                    </a:lnTo>
                    <a:close/>
                  </a:path>
                </a:pathLst>
              </a:custGeom>
              <a:solidFill>
                <a:srgbClr val="004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 Delivery Sui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 Distribu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182680" y="2641320"/>
            <a:ext cx="5600160" cy="3872160"/>
            <a:chOff x="2182680" y="2641320"/>
            <a:chExt cx="5600160" cy="3872160"/>
          </a:xfrm>
        </p:grpSpPr>
        <p:sp>
          <p:nvSpPr>
            <p:cNvPr id="382" name=""/>
            <p:cNvSpPr/>
            <p:nvPr/>
          </p:nvSpPr>
          <p:spPr>
            <a:xfrm>
              <a:off x="3641760" y="2895480"/>
              <a:ext cx="2911320" cy="2990880"/>
            </a:xfrm>
            <a:custGeom>
              <a:avLst/>
              <a:gdLst/>
              <a:ahLst/>
              <a:rect l="l" t="t" r="r" b="b"/>
              <a:pathLst>
                <a:path w="18270" h="10780">
                  <a:moveTo>
                    <a:pt x="18270" y="6600"/>
                  </a:moveTo>
                  <a:lnTo>
                    <a:pt x="18268" y="6525"/>
                  </a:lnTo>
                  <a:lnTo>
                    <a:pt x="18262" y="6451"/>
                  </a:lnTo>
                  <a:lnTo>
                    <a:pt x="18252" y="6378"/>
                  </a:lnTo>
                  <a:lnTo>
                    <a:pt x="18238" y="6305"/>
                  </a:lnTo>
                  <a:lnTo>
                    <a:pt x="18221" y="6233"/>
                  </a:lnTo>
                  <a:lnTo>
                    <a:pt x="18199" y="6161"/>
                  </a:lnTo>
                  <a:lnTo>
                    <a:pt x="18174" y="6091"/>
                  </a:lnTo>
                  <a:lnTo>
                    <a:pt x="18146" y="6020"/>
                  </a:lnTo>
                  <a:lnTo>
                    <a:pt x="18112" y="5952"/>
                  </a:lnTo>
                  <a:lnTo>
                    <a:pt x="18077" y="5883"/>
                  </a:lnTo>
                  <a:lnTo>
                    <a:pt x="18038" y="5817"/>
                  </a:lnTo>
                  <a:lnTo>
                    <a:pt x="17995" y="5751"/>
                  </a:lnTo>
                  <a:lnTo>
                    <a:pt x="17949" y="5685"/>
                  </a:lnTo>
                  <a:lnTo>
                    <a:pt x="17900" y="5621"/>
                  </a:lnTo>
                  <a:lnTo>
                    <a:pt x="17848" y="5558"/>
                  </a:lnTo>
                  <a:lnTo>
                    <a:pt x="17792" y="5496"/>
                  </a:lnTo>
                  <a:lnTo>
                    <a:pt x="17733" y="5435"/>
                  </a:lnTo>
                  <a:lnTo>
                    <a:pt x="17672" y="5375"/>
                  </a:lnTo>
                  <a:lnTo>
                    <a:pt x="17607" y="5317"/>
                  </a:lnTo>
                  <a:lnTo>
                    <a:pt x="17539" y="5260"/>
                  </a:lnTo>
                  <a:lnTo>
                    <a:pt x="17470" y="5204"/>
                  </a:lnTo>
                  <a:lnTo>
                    <a:pt x="17396" y="5149"/>
                  </a:lnTo>
                  <a:lnTo>
                    <a:pt x="17320" y="5095"/>
                  </a:lnTo>
                  <a:lnTo>
                    <a:pt x="17242" y="5044"/>
                  </a:lnTo>
                  <a:lnTo>
                    <a:pt x="17161" y="4994"/>
                  </a:lnTo>
                  <a:lnTo>
                    <a:pt x="17077" y="4945"/>
                  </a:lnTo>
                  <a:lnTo>
                    <a:pt x="16991" y="4897"/>
                  </a:lnTo>
                  <a:lnTo>
                    <a:pt x="16903" y="4851"/>
                  </a:lnTo>
                  <a:lnTo>
                    <a:pt x="16812" y="4807"/>
                  </a:lnTo>
                  <a:lnTo>
                    <a:pt x="16719" y="4764"/>
                  </a:lnTo>
                  <a:lnTo>
                    <a:pt x="16623" y="4723"/>
                  </a:lnTo>
                  <a:lnTo>
                    <a:pt x="16526" y="4683"/>
                  </a:lnTo>
                  <a:lnTo>
                    <a:pt x="16557" y="4657"/>
                  </a:lnTo>
                  <a:lnTo>
                    <a:pt x="16586" y="4630"/>
                  </a:lnTo>
                  <a:lnTo>
                    <a:pt x="16615" y="4602"/>
                  </a:lnTo>
                  <a:lnTo>
                    <a:pt x="16643" y="4574"/>
                  </a:lnTo>
                  <a:lnTo>
                    <a:pt x="16670" y="4546"/>
                  </a:lnTo>
                  <a:lnTo>
                    <a:pt x="16696" y="4518"/>
                  </a:lnTo>
                  <a:lnTo>
                    <a:pt x="16722" y="4489"/>
                  </a:lnTo>
                  <a:lnTo>
                    <a:pt x="16746" y="4460"/>
                  </a:lnTo>
                  <a:lnTo>
                    <a:pt x="16770" y="4430"/>
                  </a:lnTo>
                  <a:lnTo>
                    <a:pt x="16792" y="4400"/>
                  </a:lnTo>
                  <a:lnTo>
                    <a:pt x="16814" y="4370"/>
                  </a:lnTo>
                  <a:lnTo>
                    <a:pt x="16835" y="4340"/>
                  </a:lnTo>
                  <a:lnTo>
                    <a:pt x="16855" y="4310"/>
                  </a:lnTo>
                  <a:lnTo>
                    <a:pt x="16873" y="4279"/>
                  </a:lnTo>
                  <a:lnTo>
                    <a:pt x="16892" y="4247"/>
                  </a:lnTo>
                  <a:lnTo>
                    <a:pt x="16909" y="4216"/>
                  </a:lnTo>
                  <a:lnTo>
                    <a:pt x="16926" y="4184"/>
                  </a:lnTo>
                  <a:lnTo>
                    <a:pt x="16941" y="4152"/>
                  </a:lnTo>
                  <a:lnTo>
                    <a:pt x="16955" y="4120"/>
                  </a:lnTo>
                  <a:lnTo>
                    <a:pt x="16968" y="4088"/>
                  </a:lnTo>
                  <a:lnTo>
                    <a:pt x="16981" y="4055"/>
                  </a:lnTo>
                  <a:lnTo>
                    <a:pt x="16992" y="4023"/>
                  </a:lnTo>
                  <a:lnTo>
                    <a:pt x="17003" y="3990"/>
                  </a:lnTo>
                  <a:lnTo>
                    <a:pt x="17012" y="3957"/>
                  </a:lnTo>
                  <a:lnTo>
                    <a:pt x="17020" y="3923"/>
                  </a:lnTo>
                  <a:lnTo>
                    <a:pt x="17026" y="3890"/>
                  </a:lnTo>
                  <a:lnTo>
                    <a:pt x="17032" y="3856"/>
                  </a:lnTo>
                  <a:lnTo>
                    <a:pt x="17038" y="3821"/>
                  </a:lnTo>
                  <a:lnTo>
                    <a:pt x="17041" y="3788"/>
                  </a:lnTo>
                  <a:lnTo>
                    <a:pt x="17044" y="3753"/>
                  </a:lnTo>
                  <a:lnTo>
                    <a:pt x="17046" y="3719"/>
                  </a:lnTo>
                  <a:lnTo>
                    <a:pt x="17046" y="3684"/>
                  </a:lnTo>
                  <a:lnTo>
                    <a:pt x="17042" y="3593"/>
                  </a:lnTo>
                  <a:lnTo>
                    <a:pt x="17031" y="3503"/>
                  </a:lnTo>
                  <a:lnTo>
                    <a:pt x="17012" y="3414"/>
                  </a:lnTo>
                  <a:lnTo>
                    <a:pt x="16985" y="3326"/>
                  </a:lnTo>
                  <a:lnTo>
                    <a:pt x="16952" y="3240"/>
                  </a:lnTo>
                  <a:lnTo>
                    <a:pt x="16911" y="3156"/>
                  </a:lnTo>
                  <a:lnTo>
                    <a:pt x="16864" y="3073"/>
                  </a:lnTo>
                  <a:lnTo>
                    <a:pt x="16811" y="2992"/>
                  </a:lnTo>
                  <a:lnTo>
                    <a:pt x="16750" y="2914"/>
                  </a:lnTo>
                  <a:lnTo>
                    <a:pt x="16684" y="2837"/>
                  </a:lnTo>
                  <a:lnTo>
                    <a:pt x="16612" y="2763"/>
                  </a:lnTo>
                  <a:lnTo>
                    <a:pt x="16533" y="2691"/>
                  </a:lnTo>
                  <a:lnTo>
                    <a:pt x="16450" y="2621"/>
                  </a:lnTo>
                  <a:lnTo>
                    <a:pt x="16361" y="2554"/>
                  </a:lnTo>
                  <a:lnTo>
                    <a:pt x="16266" y="2489"/>
                  </a:lnTo>
                  <a:lnTo>
                    <a:pt x="16167" y="2427"/>
                  </a:lnTo>
                  <a:lnTo>
                    <a:pt x="16063" y="2369"/>
                  </a:lnTo>
                  <a:lnTo>
                    <a:pt x="15953" y="2313"/>
                  </a:lnTo>
                  <a:lnTo>
                    <a:pt x="15840" y="2261"/>
                  </a:lnTo>
                  <a:lnTo>
                    <a:pt x="15722" y="2210"/>
                  </a:lnTo>
                  <a:lnTo>
                    <a:pt x="15600" y="2165"/>
                  </a:lnTo>
                  <a:lnTo>
                    <a:pt x="15475" y="2121"/>
                  </a:lnTo>
                  <a:lnTo>
                    <a:pt x="15346" y="2082"/>
                  </a:lnTo>
                  <a:lnTo>
                    <a:pt x="15212" y="2047"/>
                  </a:lnTo>
                  <a:lnTo>
                    <a:pt x="15076" y="2015"/>
                  </a:lnTo>
                  <a:lnTo>
                    <a:pt x="14936" y="1987"/>
                  </a:lnTo>
                  <a:lnTo>
                    <a:pt x="14794" y="1963"/>
                  </a:lnTo>
                  <a:lnTo>
                    <a:pt x="14648" y="1943"/>
                  </a:lnTo>
                  <a:lnTo>
                    <a:pt x="14501" y="1927"/>
                  </a:lnTo>
                  <a:lnTo>
                    <a:pt x="14350" y="1916"/>
                  </a:lnTo>
                  <a:lnTo>
                    <a:pt x="14198" y="1909"/>
                  </a:lnTo>
                  <a:lnTo>
                    <a:pt x="14043" y="1907"/>
                  </a:lnTo>
                  <a:lnTo>
                    <a:pt x="13965" y="1908"/>
                  </a:lnTo>
                  <a:lnTo>
                    <a:pt x="13887" y="1909"/>
                  </a:lnTo>
                  <a:lnTo>
                    <a:pt x="13811" y="1912"/>
                  </a:lnTo>
                  <a:lnTo>
                    <a:pt x="13734" y="1916"/>
                  </a:lnTo>
                  <a:lnTo>
                    <a:pt x="13659" y="1921"/>
                  </a:lnTo>
                  <a:lnTo>
                    <a:pt x="13584" y="1928"/>
                  </a:lnTo>
                  <a:lnTo>
                    <a:pt x="13508" y="1935"/>
                  </a:lnTo>
                  <a:lnTo>
                    <a:pt x="13434" y="1943"/>
                  </a:lnTo>
                  <a:lnTo>
                    <a:pt x="13361" y="1953"/>
                  </a:lnTo>
                  <a:lnTo>
                    <a:pt x="13289" y="1964"/>
                  </a:lnTo>
                  <a:lnTo>
                    <a:pt x="13217" y="1975"/>
                  </a:lnTo>
                  <a:lnTo>
                    <a:pt x="13145" y="1988"/>
                  </a:lnTo>
                  <a:lnTo>
                    <a:pt x="13074" y="2001"/>
                  </a:lnTo>
                  <a:lnTo>
                    <a:pt x="13005" y="2016"/>
                  </a:lnTo>
                  <a:lnTo>
                    <a:pt x="12936" y="2032"/>
                  </a:lnTo>
                  <a:lnTo>
                    <a:pt x="12868" y="2048"/>
                  </a:lnTo>
                  <a:lnTo>
                    <a:pt x="12844" y="1941"/>
                  </a:lnTo>
                  <a:lnTo>
                    <a:pt x="12812" y="1836"/>
                  </a:lnTo>
                  <a:lnTo>
                    <a:pt x="12772" y="1732"/>
                  </a:lnTo>
                  <a:lnTo>
                    <a:pt x="12725" y="1629"/>
                  </a:lnTo>
                  <a:lnTo>
                    <a:pt x="12669" y="1530"/>
                  </a:lnTo>
                  <a:lnTo>
                    <a:pt x="12606" y="1432"/>
                  </a:lnTo>
                  <a:lnTo>
                    <a:pt x="12536" y="1336"/>
                  </a:lnTo>
                  <a:lnTo>
                    <a:pt x="12459" y="1242"/>
                  </a:lnTo>
                  <a:lnTo>
                    <a:pt x="12374" y="1152"/>
                  </a:lnTo>
                  <a:lnTo>
                    <a:pt x="12284" y="1063"/>
                  </a:lnTo>
                  <a:lnTo>
                    <a:pt x="12187" y="977"/>
                  </a:lnTo>
                  <a:lnTo>
                    <a:pt x="12083" y="894"/>
                  </a:lnTo>
                  <a:lnTo>
                    <a:pt x="11974" y="814"/>
                  </a:lnTo>
                  <a:lnTo>
                    <a:pt x="11858" y="738"/>
                  </a:lnTo>
                  <a:lnTo>
                    <a:pt x="11738" y="663"/>
                  </a:lnTo>
                  <a:lnTo>
                    <a:pt x="11612" y="593"/>
                  </a:lnTo>
                  <a:lnTo>
                    <a:pt x="11480" y="525"/>
                  </a:lnTo>
                  <a:lnTo>
                    <a:pt x="11343" y="461"/>
                  </a:lnTo>
                  <a:lnTo>
                    <a:pt x="11202" y="401"/>
                  </a:lnTo>
                  <a:lnTo>
                    <a:pt x="11056" y="345"/>
                  </a:lnTo>
                  <a:lnTo>
                    <a:pt x="10905" y="292"/>
                  </a:lnTo>
                  <a:lnTo>
                    <a:pt x="10750" y="243"/>
                  </a:lnTo>
                  <a:lnTo>
                    <a:pt x="10591" y="199"/>
                  </a:lnTo>
                  <a:lnTo>
                    <a:pt x="10429" y="159"/>
                  </a:lnTo>
                  <a:lnTo>
                    <a:pt x="10262" y="122"/>
                  </a:lnTo>
                  <a:lnTo>
                    <a:pt x="10092" y="90"/>
                  </a:lnTo>
                  <a:lnTo>
                    <a:pt x="9918" y="63"/>
                  </a:lnTo>
                  <a:lnTo>
                    <a:pt x="9742" y="41"/>
                  </a:lnTo>
                  <a:lnTo>
                    <a:pt x="9563" y="23"/>
                  </a:lnTo>
                  <a:lnTo>
                    <a:pt x="9382" y="10"/>
                  </a:lnTo>
                  <a:lnTo>
                    <a:pt x="9198" y="2"/>
                  </a:lnTo>
                  <a:lnTo>
                    <a:pt x="9011" y="0"/>
                  </a:lnTo>
                  <a:lnTo>
                    <a:pt x="8838" y="2"/>
                  </a:lnTo>
                  <a:lnTo>
                    <a:pt x="8667" y="9"/>
                  </a:lnTo>
                  <a:lnTo>
                    <a:pt x="8498" y="19"/>
                  </a:lnTo>
                  <a:lnTo>
                    <a:pt x="8331" y="35"/>
                  </a:lnTo>
                  <a:lnTo>
                    <a:pt x="8167" y="55"/>
                  </a:lnTo>
                  <a:lnTo>
                    <a:pt x="8005" y="78"/>
                  </a:lnTo>
                  <a:lnTo>
                    <a:pt x="7846" y="105"/>
                  </a:lnTo>
                  <a:lnTo>
                    <a:pt x="7689" y="137"/>
                  </a:lnTo>
                  <a:lnTo>
                    <a:pt x="7536" y="171"/>
                  </a:lnTo>
                  <a:lnTo>
                    <a:pt x="7386" y="210"/>
                  </a:lnTo>
                  <a:lnTo>
                    <a:pt x="7239" y="252"/>
                  </a:lnTo>
                  <a:lnTo>
                    <a:pt x="7097" y="298"/>
                  </a:lnTo>
                  <a:lnTo>
                    <a:pt x="6957" y="348"/>
                  </a:lnTo>
                  <a:lnTo>
                    <a:pt x="6822" y="401"/>
                  </a:lnTo>
                  <a:lnTo>
                    <a:pt x="6690" y="456"/>
                  </a:lnTo>
                  <a:lnTo>
                    <a:pt x="6563" y="515"/>
                  </a:lnTo>
                  <a:lnTo>
                    <a:pt x="6440" y="577"/>
                  </a:lnTo>
                  <a:lnTo>
                    <a:pt x="6321" y="642"/>
                  </a:lnTo>
                  <a:lnTo>
                    <a:pt x="6207" y="709"/>
                  </a:lnTo>
                  <a:lnTo>
                    <a:pt x="6099" y="780"/>
                  </a:lnTo>
                  <a:lnTo>
                    <a:pt x="5995" y="852"/>
                  </a:lnTo>
                  <a:lnTo>
                    <a:pt x="5896" y="928"/>
                  </a:lnTo>
                  <a:lnTo>
                    <a:pt x="5802" y="1006"/>
                  </a:lnTo>
                  <a:lnTo>
                    <a:pt x="5714" y="1086"/>
                  </a:lnTo>
                  <a:lnTo>
                    <a:pt x="5631" y="1169"/>
                  </a:lnTo>
                  <a:lnTo>
                    <a:pt x="5554" y="1254"/>
                  </a:lnTo>
                  <a:lnTo>
                    <a:pt x="5482" y="1340"/>
                  </a:lnTo>
                  <a:lnTo>
                    <a:pt x="5418" y="1429"/>
                  </a:lnTo>
                  <a:lnTo>
                    <a:pt x="5359" y="1520"/>
                  </a:lnTo>
                  <a:lnTo>
                    <a:pt x="5306" y="1612"/>
                  </a:lnTo>
                  <a:lnTo>
                    <a:pt x="5261" y="1707"/>
                  </a:lnTo>
                  <a:lnTo>
                    <a:pt x="5222" y="1803"/>
                  </a:lnTo>
                  <a:lnTo>
                    <a:pt x="5156" y="1787"/>
                  </a:lnTo>
                  <a:lnTo>
                    <a:pt x="5088" y="1773"/>
                  </a:lnTo>
                  <a:lnTo>
                    <a:pt x="5021" y="1759"/>
                  </a:lnTo>
                  <a:lnTo>
                    <a:pt x="4952" y="1746"/>
                  </a:lnTo>
                  <a:lnTo>
                    <a:pt x="4884" y="1734"/>
                  </a:lnTo>
                  <a:lnTo>
                    <a:pt x="4814" y="1724"/>
                  </a:lnTo>
                  <a:lnTo>
                    <a:pt x="4744" y="1714"/>
                  </a:lnTo>
                  <a:lnTo>
                    <a:pt x="4674" y="1705"/>
                  </a:lnTo>
                  <a:lnTo>
                    <a:pt x="4602" y="1697"/>
                  </a:lnTo>
                  <a:lnTo>
                    <a:pt x="4530" y="1690"/>
                  </a:lnTo>
                  <a:lnTo>
                    <a:pt x="4458" y="1684"/>
                  </a:lnTo>
                  <a:lnTo>
                    <a:pt x="4384" y="1679"/>
                  </a:lnTo>
                  <a:lnTo>
                    <a:pt x="4311" y="1676"/>
                  </a:lnTo>
                  <a:lnTo>
                    <a:pt x="4236" y="1673"/>
                  </a:lnTo>
                  <a:lnTo>
                    <a:pt x="4162" y="1671"/>
                  </a:lnTo>
                  <a:lnTo>
                    <a:pt x="4087" y="1670"/>
                  </a:lnTo>
                  <a:lnTo>
                    <a:pt x="3933" y="1673"/>
                  </a:lnTo>
                  <a:lnTo>
                    <a:pt x="3780" y="1679"/>
                  </a:lnTo>
                  <a:lnTo>
                    <a:pt x="3629" y="1691"/>
                  </a:lnTo>
                  <a:lnTo>
                    <a:pt x="3482" y="1707"/>
                  </a:lnTo>
                  <a:lnTo>
                    <a:pt x="3337" y="1726"/>
                  </a:lnTo>
                  <a:lnTo>
                    <a:pt x="3194" y="1750"/>
                  </a:lnTo>
                  <a:lnTo>
                    <a:pt x="3055" y="1779"/>
                  </a:lnTo>
                  <a:lnTo>
                    <a:pt x="2917" y="1811"/>
                  </a:lnTo>
                  <a:lnTo>
                    <a:pt x="2785" y="1846"/>
                  </a:lnTo>
                  <a:lnTo>
                    <a:pt x="2655" y="1885"/>
                  </a:lnTo>
                  <a:lnTo>
                    <a:pt x="2529" y="1928"/>
                  </a:lnTo>
                  <a:lnTo>
                    <a:pt x="2408" y="1974"/>
                  </a:lnTo>
                  <a:lnTo>
                    <a:pt x="2289" y="2024"/>
                  </a:lnTo>
                  <a:lnTo>
                    <a:pt x="2176" y="2077"/>
                  </a:lnTo>
                  <a:lnTo>
                    <a:pt x="2068" y="2133"/>
                  </a:lnTo>
                  <a:lnTo>
                    <a:pt x="1963" y="2191"/>
                  </a:lnTo>
                  <a:lnTo>
                    <a:pt x="1864" y="2253"/>
                  </a:lnTo>
                  <a:lnTo>
                    <a:pt x="1770" y="2318"/>
                  </a:lnTo>
                  <a:lnTo>
                    <a:pt x="1680" y="2385"/>
                  </a:lnTo>
                  <a:lnTo>
                    <a:pt x="1596" y="2455"/>
                  </a:lnTo>
                  <a:lnTo>
                    <a:pt x="1519" y="2527"/>
                  </a:lnTo>
                  <a:lnTo>
                    <a:pt x="1446" y="2601"/>
                  </a:lnTo>
                  <a:lnTo>
                    <a:pt x="1379" y="2677"/>
                  </a:lnTo>
                  <a:lnTo>
                    <a:pt x="1320" y="2756"/>
                  </a:lnTo>
                  <a:lnTo>
                    <a:pt x="1266" y="2837"/>
                  </a:lnTo>
                  <a:lnTo>
                    <a:pt x="1218" y="2919"/>
                  </a:lnTo>
                  <a:lnTo>
                    <a:pt x="1178" y="3004"/>
                  </a:lnTo>
                  <a:lnTo>
                    <a:pt x="1144" y="3089"/>
                  </a:lnTo>
                  <a:lnTo>
                    <a:pt x="1118" y="3177"/>
                  </a:lnTo>
                  <a:lnTo>
                    <a:pt x="1100" y="3266"/>
                  </a:lnTo>
                  <a:lnTo>
                    <a:pt x="1087" y="3357"/>
                  </a:lnTo>
                  <a:lnTo>
                    <a:pt x="1084" y="3448"/>
                  </a:lnTo>
                  <a:lnTo>
                    <a:pt x="1085" y="3490"/>
                  </a:lnTo>
                  <a:lnTo>
                    <a:pt x="1087" y="3532"/>
                  </a:lnTo>
                  <a:lnTo>
                    <a:pt x="1092" y="3575"/>
                  </a:lnTo>
                  <a:lnTo>
                    <a:pt x="1097" y="3616"/>
                  </a:lnTo>
                  <a:lnTo>
                    <a:pt x="1104" y="3657"/>
                  </a:lnTo>
                  <a:lnTo>
                    <a:pt x="1113" y="3698"/>
                  </a:lnTo>
                  <a:lnTo>
                    <a:pt x="1124" y="3739"/>
                  </a:lnTo>
                  <a:lnTo>
                    <a:pt x="1136" y="3779"/>
                  </a:lnTo>
                  <a:lnTo>
                    <a:pt x="1150" y="3820"/>
                  </a:lnTo>
                  <a:lnTo>
                    <a:pt x="1165" y="3859"/>
                  </a:lnTo>
                  <a:lnTo>
                    <a:pt x="1182" y="3899"/>
                  </a:lnTo>
                  <a:lnTo>
                    <a:pt x="1199" y="3938"/>
                  </a:lnTo>
                  <a:lnTo>
                    <a:pt x="1220" y="3977"/>
                  </a:lnTo>
                  <a:lnTo>
                    <a:pt x="1240" y="4015"/>
                  </a:lnTo>
                  <a:lnTo>
                    <a:pt x="1263" y="4053"/>
                  </a:lnTo>
                  <a:lnTo>
                    <a:pt x="1286" y="4091"/>
                  </a:lnTo>
                  <a:lnTo>
                    <a:pt x="1312" y="4127"/>
                  </a:lnTo>
                  <a:lnTo>
                    <a:pt x="1338" y="4165"/>
                  </a:lnTo>
                  <a:lnTo>
                    <a:pt x="1366" y="4200"/>
                  </a:lnTo>
                  <a:lnTo>
                    <a:pt x="1395" y="4237"/>
                  </a:lnTo>
                  <a:lnTo>
                    <a:pt x="1426" y="4272"/>
                  </a:lnTo>
                  <a:lnTo>
                    <a:pt x="1458" y="4307"/>
                  </a:lnTo>
                  <a:lnTo>
                    <a:pt x="1491" y="4342"/>
                  </a:lnTo>
                  <a:lnTo>
                    <a:pt x="1526" y="4375"/>
                  </a:lnTo>
                  <a:lnTo>
                    <a:pt x="1561" y="4409"/>
                  </a:lnTo>
                  <a:lnTo>
                    <a:pt x="1597" y="4442"/>
                  </a:lnTo>
                  <a:lnTo>
                    <a:pt x="1635" y="4474"/>
                  </a:lnTo>
                  <a:lnTo>
                    <a:pt x="1675" y="4506"/>
                  </a:lnTo>
                  <a:lnTo>
                    <a:pt x="1715" y="4537"/>
                  </a:lnTo>
                  <a:lnTo>
                    <a:pt x="1756" y="4568"/>
                  </a:lnTo>
                  <a:lnTo>
                    <a:pt x="1800" y="4599"/>
                  </a:lnTo>
                  <a:lnTo>
                    <a:pt x="1843" y="4628"/>
                  </a:lnTo>
                  <a:lnTo>
                    <a:pt x="1740" y="4667"/>
                  </a:lnTo>
                  <a:lnTo>
                    <a:pt x="1640" y="4708"/>
                  </a:lnTo>
                  <a:lnTo>
                    <a:pt x="1542" y="4751"/>
                  </a:lnTo>
                  <a:lnTo>
                    <a:pt x="1447" y="4795"/>
                  </a:lnTo>
                  <a:lnTo>
                    <a:pt x="1353" y="4841"/>
                  </a:lnTo>
                  <a:lnTo>
                    <a:pt x="1262" y="4889"/>
                  </a:lnTo>
                  <a:lnTo>
                    <a:pt x="1174" y="4938"/>
                  </a:lnTo>
                  <a:lnTo>
                    <a:pt x="1088" y="4988"/>
                  </a:lnTo>
                  <a:lnTo>
                    <a:pt x="1006" y="5041"/>
                  </a:lnTo>
                  <a:lnTo>
                    <a:pt x="925" y="5094"/>
                  </a:lnTo>
                  <a:lnTo>
                    <a:pt x="848" y="5150"/>
                  </a:lnTo>
                  <a:lnTo>
                    <a:pt x="774" y="5207"/>
                  </a:lnTo>
                  <a:lnTo>
                    <a:pt x="702" y="5266"/>
                  </a:lnTo>
                  <a:lnTo>
                    <a:pt x="634" y="5325"/>
                  </a:lnTo>
                  <a:lnTo>
                    <a:pt x="569" y="5385"/>
                  </a:lnTo>
                  <a:lnTo>
                    <a:pt x="507" y="5447"/>
                  </a:lnTo>
                  <a:lnTo>
                    <a:pt x="448" y="5511"/>
                  </a:lnTo>
                  <a:lnTo>
                    <a:pt x="393" y="5576"/>
                  </a:lnTo>
                  <a:lnTo>
                    <a:pt x="340" y="5641"/>
                  </a:lnTo>
                  <a:lnTo>
                    <a:pt x="291" y="5709"/>
                  </a:lnTo>
                  <a:lnTo>
                    <a:pt x="247" y="5776"/>
                  </a:lnTo>
                  <a:lnTo>
                    <a:pt x="204" y="5846"/>
                  </a:lnTo>
                  <a:lnTo>
                    <a:pt x="167" y="5915"/>
                  </a:lnTo>
                  <a:lnTo>
                    <a:pt x="132" y="5986"/>
                  </a:lnTo>
                  <a:lnTo>
                    <a:pt x="102" y="6058"/>
                  </a:lnTo>
                  <a:lnTo>
                    <a:pt x="75" y="6130"/>
                  </a:lnTo>
                  <a:lnTo>
                    <a:pt x="53" y="6204"/>
                  </a:lnTo>
                  <a:lnTo>
                    <a:pt x="34" y="6278"/>
                  </a:lnTo>
                  <a:lnTo>
                    <a:pt x="19" y="6354"/>
                  </a:lnTo>
                  <a:lnTo>
                    <a:pt x="8" y="6429"/>
                  </a:lnTo>
                  <a:lnTo>
                    <a:pt x="2" y="6505"/>
                  </a:lnTo>
                  <a:lnTo>
                    <a:pt x="0" y="6583"/>
                  </a:lnTo>
                  <a:lnTo>
                    <a:pt x="5" y="6700"/>
                  </a:lnTo>
                  <a:lnTo>
                    <a:pt x="19" y="6815"/>
                  </a:lnTo>
                  <a:lnTo>
                    <a:pt x="43" y="6928"/>
                  </a:lnTo>
                  <a:lnTo>
                    <a:pt x="77" y="7040"/>
                  </a:lnTo>
                  <a:lnTo>
                    <a:pt x="119" y="7149"/>
                  </a:lnTo>
                  <a:lnTo>
                    <a:pt x="170" y="7257"/>
                  </a:lnTo>
                  <a:lnTo>
                    <a:pt x="230" y="7363"/>
                  </a:lnTo>
                  <a:lnTo>
                    <a:pt x="297" y="7466"/>
                  </a:lnTo>
                  <a:lnTo>
                    <a:pt x="373" y="7566"/>
                  </a:lnTo>
                  <a:lnTo>
                    <a:pt x="457" y="7664"/>
                  </a:lnTo>
                  <a:lnTo>
                    <a:pt x="548" y="7759"/>
                  </a:lnTo>
                  <a:lnTo>
                    <a:pt x="646" y="7852"/>
                  </a:lnTo>
                  <a:lnTo>
                    <a:pt x="752" y="7942"/>
                  </a:lnTo>
                  <a:lnTo>
                    <a:pt x="864" y="8027"/>
                  </a:lnTo>
                  <a:lnTo>
                    <a:pt x="984" y="8111"/>
                  </a:lnTo>
                  <a:lnTo>
                    <a:pt x="1110" y="8189"/>
                  </a:lnTo>
                  <a:lnTo>
                    <a:pt x="1241" y="8266"/>
                  </a:lnTo>
                  <a:lnTo>
                    <a:pt x="1378" y="8338"/>
                  </a:lnTo>
                  <a:lnTo>
                    <a:pt x="1522" y="8405"/>
                  </a:lnTo>
                  <a:lnTo>
                    <a:pt x="1671" y="8470"/>
                  </a:lnTo>
                  <a:lnTo>
                    <a:pt x="1825" y="8530"/>
                  </a:lnTo>
                  <a:lnTo>
                    <a:pt x="1983" y="8586"/>
                  </a:lnTo>
                  <a:lnTo>
                    <a:pt x="2148" y="8637"/>
                  </a:lnTo>
                  <a:lnTo>
                    <a:pt x="2316" y="8684"/>
                  </a:lnTo>
                  <a:lnTo>
                    <a:pt x="2488" y="8726"/>
                  </a:lnTo>
                  <a:lnTo>
                    <a:pt x="2665" y="8764"/>
                  </a:lnTo>
                  <a:lnTo>
                    <a:pt x="2846" y="8796"/>
                  </a:lnTo>
                  <a:lnTo>
                    <a:pt x="3029" y="8823"/>
                  </a:lnTo>
                  <a:lnTo>
                    <a:pt x="3217" y="8845"/>
                  </a:lnTo>
                  <a:lnTo>
                    <a:pt x="3407" y="8861"/>
                  </a:lnTo>
                  <a:lnTo>
                    <a:pt x="3601" y="8872"/>
                  </a:lnTo>
                  <a:lnTo>
                    <a:pt x="3797" y="8878"/>
                  </a:lnTo>
                  <a:lnTo>
                    <a:pt x="3796" y="8893"/>
                  </a:lnTo>
                  <a:lnTo>
                    <a:pt x="3793" y="8909"/>
                  </a:lnTo>
                  <a:lnTo>
                    <a:pt x="3792" y="8925"/>
                  </a:lnTo>
                  <a:lnTo>
                    <a:pt x="3791" y="8940"/>
                  </a:lnTo>
                  <a:lnTo>
                    <a:pt x="3790" y="8956"/>
                  </a:lnTo>
                  <a:lnTo>
                    <a:pt x="3790" y="8972"/>
                  </a:lnTo>
                  <a:lnTo>
                    <a:pt x="3789" y="8988"/>
                  </a:lnTo>
                  <a:lnTo>
                    <a:pt x="3789" y="9002"/>
                  </a:lnTo>
                  <a:lnTo>
                    <a:pt x="3793" y="9095"/>
                  </a:lnTo>
                  <a:lnTo>
                    <a:pt x="3805" y="9185"/>
                  </a:lnTo>
                  <a:lnTo>
                    <a:pt x="3823" y="9274"/>
                  </a:lnTo>
                  <a:lnTo>
                    <a:pt x="3850" y="9361"/>
                  </a:lnTo>
                  <a:lnTo>
                    <a:pt x="3884" y="9448"/>
                  </a:lnTo>
                  <a:lnTo>
                    <a:pt x="3923" y="9531"/>
                  </a:lnTo>
                  <a:lnTo>
                    <a:pt x="3971" y="9614"/>
                  </a:lnTo>
                  <a:lnTo>
                    <a:pt x="4025" y="9694"/>
                  </a:lnTo>
                  <a:lnTo>
                    <a:pt x="4084" y="9773"/>
                  </a:lnTo>
                  <a:lnTo>
                    <a:pt x="4152" y="9850"/>
                  </a:lnTo>
                  <a:lnTo>
                    <a:pt x="4224" y="9925"/>
                  </a:lnTo>
                  <a:lnTo>
                    <a:pt x="4301" y="9997"/>
                  </a:lnTo>
                  <a:lnTo>
                    <a:pt x="4386" y="10066"/>
                  </a:lnTo>
                  <a:lnTo>
                    <a:pt x="4475" y="10134"/>
                  </a:lnTo>
                  <a:lnTo>
                    <a:pt x="4569" y="10198"/>
                  </a:lnTo>
                  <a:lnTo>
                    <a:pt x="4668" y="10259"/>
                  </a:lnTo>
                  <a:lnTo>
                    <a:pt x="4773" y="10319"/>
                  </a:lnTo>
                  <a:lnTo>
                    <a:pt x="4882" y="10375"/>
                  </a:lnTo>
                  <a:lnTo>
                    <a:pt x="4996" y="10427"/>
                  </a:lnTo>
                  <a:lnTo>
                    <a:pt x="5113" y="10476"/>
                  </a:lnTo>
                  <a:lnTo>
                    <a:pt x="5234" y="10523"/>
                  </a:lnTo>
                  <a:lnTo>
                    <a:pt x="5360" y="10565"/>
                  </a:lnTo>
                  <a:lnTo>
                    <a:pt x="5490" y="10605"/>
                  </a:lnTo>
                  <a:lnTo>
                    <a:pt x="5623" y="10641"/>
                  </a:lnTo>
                  <a:lnTo>
                    <a:pt x="5760" y="10673"/>
                  </a:lnTo>
                  <a:lnTo>
                    <a:pt x="5899" y="10700"/>
                  </a:lnTo>
                  <a:lnTo>
                    <a:pt x="6042" y="10724"/>
                  </a:lnTo>
                  <a:lnTo>
                    <a:pt x="6187" y="10743"/>
                  </a:lnTo>
                  <a:lnTo>
                    <a:pt x="6335" y="10759"/>
                  </a:lnTo>
                  <a:lnTo>
                    <a:pt x="6485" y="10771"/>
                  </a:lnTo>
                  <a:lnTo>
                    <a:pt x="6638" y="10778"/>
                  </a:lnTo>
                  <a:lnTo>
                    <a:pt x="6792" y="10780"/>
                  </a:lnTo>
                  <a:lnTo>
                    <a:pt x="6865" y="10780"/>
                  </a:lnTo>
                  <a:lnTo>
                    <a:pt x="6937" y="10778"/>
                  </a:lnTo>
                  <a:lnTo>
                    <a:pt x="7008" y="10775"/>
                  </a:lnTo>
                  <a:lnTo>
                    <a:pt x="7080" y="10772"/>
                  </a:lnTo>
                  <a:lnTo>
                    <a:pt x="7150" y="10767"/>
                  </a:lnTo>
                  <a:lnTo>
                    <a:pt x="7220" y="10762"/>
                  </a:lnTo>
                  <a:lnTo>
                    <a:pt x="7290" y="10756"/>
                  </a:lnTo>
                  <a:lnTo>
                    <a:pt x="7359" y="10748"/>
                  </a:lnTo>
                  <a:lnTo>
                    <a:pt x="7428" y="10740"/>
                  </a:lnTo>
                  <a:lnTo>
                    <a:pt x="7495" y="10731"/>
                  </a:lnTo>
                  <a:lnTo>
                    <a:pt x="7563" y="10721"/>
                  </a:lnTo>
                  <a:lnTo>
                    <a:pt x="7630" y="10710"/>
                  </a:lnTo>
                  <a:lnTo>
                    <a:pt x="7695" y="10698"/>
                  </a:lnTo>
                  <a:lnTo>
                    <a:pt x="7761" y="10685"/>
                  </a:lnTo>
                  <a:lnTo>
                    <a:pt x="7826" y="10672"/>
                  </a:lnTo>
                  <a:lnTo>
                    <a:pt x="7890" y="10658"/>
                  </a:lnTo>
                  <a:lnTo>
                    <a:pt x="7953" y="10642"/>
                  </a:lnTo>
                  <a:lnTo>
                    <a:pt x="8016" y="10626"/>
                  </a:lnTo>
                  <a:lnTo>
                    <a:pt x="8078" y="10609"/>
                  </a:lnTo>
                  <a:lnTo>
                    <a:pt x="8139" y="10592"/>
                  </a:lnTo>
                  <a:lnTo>
                    <a:pt x="8200" y="10573"/>
                  </a:lnTo>
                  <a:lnTo>
                    <a:pt x="8259" y="10554"/>
                  </a:lnTo>
                  <a:lnTo>
                    <a:pt x="8319" y="10533"/>
                  </a:lnTo>
                  <a:lnTo>
                    <a:pt x="8376" y="10513"/>
                  </a:lnTo>
                  <a:lnTo>
                    <a:pt x="8433" y="10491"/>
                  </a:lnTo>
                  <a:lnTo>
                    <a:pt x="8489" y="10469"/>
                  </a:lnTo>
                  <a:lnTo>
                    <a:pt x="8545" y="10447"/>
                  </a:lnTo>
                  <a:lnTo>
                    <a:pt x="8598" y="10423"/>
                  </a:lnTo>
                  <a:lnTo>
                    <a:pt x="8652" y="10398"/>
                  </a:lnTo>
                  <a:lnTo>
                    <a:pt x="8705" y="10372"/>
                  </a:lnTo>
                  <a:lnTo>
                    <a:pt x="8756" y="10347"/>
                  </a:lnTo>
                  <a:lnTo>
                    <a:pt x="8806" y="10321"/>
                  </a:lnTo>
                  <a:lnTo>
                    <a:pt x="8868" y="10347"/>
                  </a:lnTo>
                  <a:lnTo>
                    <a:pt x="8929" y="10372"/>
                  </a:lnTo>
                  <a:lnTo>
                    <a:pt x="8992" y="10398"/>
                  </a:lnTo>
                  <a:lnTo>
                    <a:pt x="9056" y="10423"/>
                  </a:lnTo>
                  <a:lnTo>
                    <a:pt x="9120" y="10445"/>
                  </a:lnTo>
                  <a:lnTo>
                    <a:pt x="9186" y="10468"/>
                  </a:lnTo>
                  <a:lnTo>
                    <a:pt x="9253" y="10491"/>
                  </a:lnTo>
                  <a:lnTo>
                    <a:pt x="9319" y="10512"/>
                  </a:lnTo>
                  <a:lnTo>
                    <a:pt x="9387" y="10533"/>
                  </a:lnTo>
                  <a:lnTo>
                    <a:pt x="9456" y="10553"/>
                  </a:lnTo>
                  <a:lnTo>
                    <a:pt x="9526" y="10572"/>
                  </a:lnTo>
                  <a:lnTo>
                    <a:pt x="9595" y="10590"/>
                  </a:lnTo>
                  <a:lnTo>
                    <a:pt x="9666" y="10608"/>
                  </a:lnTo>
                  <a:lnTo>
                    <a:pt x="9737" y="10625"/>
                  </a:lnTo>
                  <a:lnTo>
                    <a:pt x="9810" y="10641"/>
                  </a:lnTo>
                  <a:lnTo>
                    <a:pt x="9882" y="10656"/>
                  </a:lnTo>
                  <a:lnTo>
                    <a:pt x="9956" y="10669"/>
                  </a:lnTo>
                  <a:lnTo>
                    <a:pt x="10030" y="10683"/>
                  </a:lnTo>
                  <a:lnTo>
                    <a:pt x="10104" y="10696"/>
                  </a:lnTo>
                  <a:lnTo>
                    <a:pt x="10180" y="10707"/>
                  </a:lnTo>
                  <a:lnTo>
                    <a:pt x="10255" y="10717"/>
                  </a:lnTo>
                  <a:lnTo>
                    <a:pt x="10332" y="10727"/>
                  </a:lnTo>
                  <a:lnTo>
                    <a:pt x="10409" y="10737"/>
                  </a:lnTo>
                  <a:lnTo>
                    <a:pt x="10487" y="10745"/>
                  </a:lnTo>
                  <a:lnTo>
                    <a:pt x="10565" y="10751"/>
                  </a:lnTo>
                  <a:lnTo>
                    <a:pt x="10643" y="10758"/>
                  </a:lnTo>
                  <a:lnTo>
                    <a:pt x="10722" y="10763"/>
                  </a:lnTo>
                  <a:lnTo>
                    <a:pt x="10802" y="10767"/>
                  </a:lnTo>
                  <a:lnTo>
                    <a:pt x="10882" y="10771"/>
                  </a:lnTo>
                  <a:lnTo>
                    <a:pt x="10962" y="10773"/>
                  </a:lnTo>
                  <a:lnTo>
                    <a:pt x="11043" y="10775"/>
                  </a:lnTo>
                  <a:lnTo>
                    <a:pt x="11124" y="10775"/>
                  </a:lnTo>
                  <a:lnTo>
                    <a:pt x="11303" y="10773"/>
                  </a:lnTo>
                  <a:lnTo>
                    <a:pt x="11479" y="10766"/>
                  </a:lnTo>
                  <a:lnTo>
                    <a:pt x="11654" y="10754"/>
                  </a:lnTo>
                  <a:lnTo>
                    <a:pt x="11826" y="10738"/>
                  </a:lnTo>
                  <a:lnTo>
                    <a:pt x="11995" y="10717"/>
                  </a:lnTo>
                  <a:lnTo>
                    <a:pt x="12162" y="10692"/>
                  </a:lnTo>
                  <a:lnTo>
                    <a:pt x="12325" y="10664"/>
                  </a:lnTo>
                  <a:lnTo>
                    <a:pt x="12486" y="10630"/>
                  </a:lnTo>
                  <a:lnTo>
                    <a:pt x="12643" y="10593"/>
                  </a:lnTo>
                  <a:lnTo>
                    <a:pt x="12797" y="10552"/>
                  </a:lnTo>
                  <a:lnTo>
                    <a:pt x="12947" y="10507"/>
                  </a:lnTo>
                  <a:lnTo>
                    <a:pt x="13093" y="10458"/>
                  </a:lnTo>
                  <a:lnTo>
                    <a:pt x="13235" y="10407"/>
                  </a:lnTo>
                  <a:lnTo>
                    <a:pt x="13374" y="10351"/>
                  </a:lnTo>
                  <a:lnTo>
                    <a:pt x="13507" y="10291"/>
                  </a:lnTo>
                  <a:lnTo>
                    <a:pt x="13636" y="10230"/>
                  </a:lnTo>
                  <a:lnTo>
                    <a:pt x="13761" y="10163"/>
                  </a:lnTo>
                  <a:lnTo>
                    <a:pt x="13881" y="10095"/>
                  </a:lnTo>
                  <a:lnTo>
                    <a:pt x="13995" y="10024"/>
                  </a:lnTo>
                  <a:lnTo>
                    <a:pt x="14104" y="9950"/>
                  </a:lnTo>
                  <a:lnTo>
                    <a:pt x="14208" y="9872"/>
                  </a:lnTo>
                  <a:lnTo>
                    <a:pt x="14307" y="9792"/>
                  </a:lnTo>
                  <a:lnTo>
                    <a:pt x="14399" y="9710"/>
                  </a:lnTo>
                  <a:lnTo>
                    <a:pt x="14486" y="9626"/>
                  </a:lnTo>
                  <a:lnTo>
                    <a:pt x="14567" y="9539"/>
                  </a:lnTo>
                  <a:lnTo>
                    <a:pt x="14641" y="9450"/>
                  </a:lnTo>
                  <a:lnTo>
                    <a:pt x="14710" y="9357"/>
                  </a:lnTo>
                  <a:lnTo>
                    <a:pt x="14771" y="9265"/>
                  </a:lnTo>
                  <a:lnTo>
                    <a:pt x="14825" y="9169"/>
                  </a:lnTo>
                  <a:lnTo>
                    <a:pt x="14873" y="9072"/>
                  </a:lnTo>
                  <a:lnTo>
                    <a:pt x="14914" y="8973"/>
                  </a:lnTo>
                  <a:lnTo>
                    <a:pt x="14947" y="8872"/>
                  </a:lnTo>
                  <a:lnTo>
                    <a:pt x="15122" y="8855"/>
                  </a:lnTo>
                  <a:lnTo>
                    <a:pt x="15294" y="8833"/>
                  </a:lnTo>
                  <a:lnTo>
                    <a:pt x="15463" y="8807"/>
                  </a:lnTo>
                  <a:lnTo>
                    <a:pt x="15629" y="8776"/>
                  </a:lnTo>
                  <a:lnTo>
                    <a:pt x="15792" y="8741"/>
                  </a:lnTo>
                  <a:lnTo>
                    <a:pt x="15951" y="8702"/>
                  </a:lnTo>
                  <a:lnTo>
                    <a:pt x="16107" y="8660"/>
                  </a:lnTo>
                  <a:lnTo>
                    <a:pt x="16259" y="8613"/>
                  </a:lnTo>
                  <a:lnTo>
                    <a:pt x="16406" y="8562"/>
                  </a:lnTo>
                  <a:lnTo>
                    <a:pt x="16550" y="8507"/>
                  </a:lnTo>
                  <a:lnTo>
                    <a:pt x="16690" y="8450"/>
                  </a:lnTo>
                  <a:lnTo>
                    <a:pt x="16824" y="8388"/>
                  </a:lnTo>
                  <a:lnTo>
                    <a:pt x="16953" y="8323"/>
                  </a:lnTo>
                  <a:lnTo>
                    <a:pt x="17079" y="8256"/>
                  </a:lnTo>
                  <a:lnTo>
                    <a:pt x="17199" y="8184"/>
                  </a:lnTo>
                  <a:lnTo>
                    <a:pt x="17313" y="8110"/>
                  </a:lnTo>
                  <a:lnTo>
                    <a:pt x="17422" y="8033"/>
                  </a:lnTo>
                  <a:lnTo>
                    <a:pt x="17525" y="7953"/>
                  </a:lnTo>
                  <a:lnTo>
                    <a:pt x="17623" y="7870"/>
                  </a:lnTo>
                  <a:lnTo>
                    <a:pt x="17714" y="7785"/>
                  </a:lnTo>
                  <a:lnTo>
                    <a:pt x="17800" y="7697"/>
                  </a:lnTo>
                  <a:lnTo>
                    <a:pt x="17877" y="7607"/>
                  </a:lnTo>
                  <a:lnTo>
                    <a:pt x="17950" y="7515"/>
                  </a:lnTo>
                  <a:lnTo>
                    <a:pt x="18015" y="7420"/>
                  </a:lnTo>
                  <a:lnTo>
                    <a:pt x="18074" y="7324"/>
                  </a:lnTo>
                  <a:lnTo>
                    <a:pt x="18124" y="7226"/>
                  </a:lnTo>
                  <a:lnTo>
                    <a:pt x="18168" y="7125"/>
                  </a:lnTo>
                  <a:lnTo>
                    <a:pt x="18204" y="7023"/>
                  </a:lnTo>
                  <a:lnTo>
                    <a:pt x="18232" y="6920"/>
                  </a:lnTo>
                  <a:lnTo>
                    <a:pt x="18253" y="6815"/>
                  </a:lnTo>
                  <a:lnTo>
                    <a:pt x="18265" y="6708"/>
                  </a:lnTo>
                  <a:lnTo>
                    <a:pt x="18270" y="6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fefefe"/>
                </a:gs>
                <a:gs pos="100000">
                  <a:srgbClr val="969696"/>
                </a:gs>
              </a:gsLst>
              <a:lin ang="13500000"/>
            </a:gradFill>
            <a:ln w="12600">
              <a:solidFill>
                <a:srgbClr val="80808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7224840" y="2708280"/>
              <a:ext cx="323640" cy="507960"/>
              <a:chOff x="7224840" y="2708280"/>
              <a:chExt cx="323640" cy="507960"/>
            </a:xfrm>
          </p:grpSpPr>
          <p:sp>
            <p:nvSpPr>
              <p:cNvPr id="384" name=""/>
              <p:cNvSpPr/>
              <p:nvPr/>
            </p:nvSpPr>
            <p:spPr>
              <a:xfrm>
                <a:off x="7224840" y="2708280"/>
                <a:ext cx="323640" cy="507960"/>
              </a:xfrm>
              <a:prstGeom prst="rect">
                <a:avLst/>
              </a:prstGeom>
              <a:solidFill>
                <a:srgbClr val="6489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262640" y="2771640"/>
                <a:ext cx="231840" cy="3924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62640" y="2839680"/>
                <a:ext cx="231840" cy="3960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262640" y="2908080"/>
                <a:ext cx="231840" cy="3924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262640" y="2977920"/>
                <a:ext cx="231840" cy="3924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89" name=""/>
              <p:cNvGraphicFramePr/>
              <p:nvPr/>
            </p:nvGraphicFramePr>
            <p:xfrm>
              <a:off x="7288200" y="3044520"/>
              <a:ext cx="165240" cy="164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90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288200" y="3044520"/>
                        <a:ext cx="165240" cy="16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91" name=""/>
            <p:cNvGrpSpPr/>
            <p:nvPr/>
          </p:nvGrpSpPr>
          <p:grpSpPr>
            <a:xfrm>
              <a:off x="6589800" y="3684600"/>
              <a:ext cx="323640" cy="507960"/>
              <a:chOff x="6589800" y="3684600"/>
              <a:chExt cx="323640" cy="507960"/>
            </a:xfrm>
          </p:grpSpPr>
          <p:sp>
            <p:nvSpPr>
              <p:cNvPr id="392" name=""/>
              <p:cNvSpPr/>
              <p:nvPr/>
            </p:nvSpPr>
            <p:spPr>
              <a:xfrm>
                <a:off x="6589800" y="3684600"/>
                <a:ext cx="323640" cy="507960"/>
              </a:xfrm>
              <a:prstGeom prst="rect">
                <a:avLst/>
              </a:prstGeom>
              <a:solidFill>
                <a:srgbClr val="6489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627600" y="3747960"/>
                <a:ext cx="231840" cy="3924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627600" y="3816000"/>
                <a:ext cx="231840" cy="3960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627600" y="3884400"/>
                <a:ext cx="231840" cy="3924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627600" y="3954240"/>
                <a:ext cx="231840" cy="3924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97" name=""/>
              <p:cNvGraphicFramePr/>
              <p:nvPr/>
            </p:nvGraphicFramePr>
            <p:xfrm>
              <a:off x="6653160" y="4020840"/>
              <a:ext cx="165240" cy="1648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398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6653160" y="4020840"/>
                        <a:ext cx="165240" cy="16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99" name=""/>
            <p:cNvGrpSpPr/>
            <p:nvPr/>
          </p:nvGrpSpPr>
          <p:grpSpPr>
            <a:xfrm>
              <a:off x="7161120" y="5132520"/>
              <a:ext cx="323640" cy="507960"/>
              <a:chOff x="7161120" y="5132520"/>
              <a:chExt cx="323640" cy="507960"/>
            </a:xfrm>
          </p:grpSpPr>
          <p:sp>
            <p:nvSpPr>
              <p:cNvPr id="400" name=""/>
              <p:cNvSpPr/>
              <p:nvPr/>
            </p:nvSpPr>
            <p:spPr>
              <a:xfrm>
                <a:off x="7161120" y="5132520"/>
                <a:ext cx="323640" cy="507960"/>
              </a:xfrm>
              <a:prstGeom prst="rect">
                <a:avLst/>
              </a:prstGeom>
              <a:solidFill>
                <a:srgbClr val="6489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198920" y="5195880"/>
                <a:ext cx="231840" cy="3924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198920" y="5263920"/>
                <a:ext cx="231840" cy="3960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198920" y="5332320"/>
                <a:ext cx="231840" cy="3924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198920" y="5402160"/>
                <a:ext cx="231840" cy="3924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05" name=""/>
              <p:cNvGraphicFramePr/>
              <p:nvPr/>
            </p:nvGraphicFramePr>
            <p:xfrm>
              <a:off x="7224480" y="5468760"/>
              <a:ext cx="165240" cy="16488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406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7224480" y="5468760"/>
                        <a:ext cx="165240" cy="16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07" name=""/>
            <p:cNvGrpSpPr/>
            <p:nvPr/>
          </p:nvGrpSpPr>
          <p:grpSpPr>
            <a:xfrm>
              <a:off x="6551640" y="6005520"/>
              <a:ext cx="324000" cy="507960"/>
              <a:chOff x="6551640" y="6005520"/>
              <a:chExt cx="324000" cy="507960"/>
            </a:xfrm>
          </p:grpSpPr>
          <p:sp>
            <p:nvSpPr>
              <p:cNvPr id="408" name=""/>
              <p:cNvSpPr/>
              <p:nvPr/>
            </p:nvSpPr>
            <p:spPr>
              <a:xfrm>
                <a:off x="6551640" y="6005520"/>
                <a:ext cx="324000" cy="507960"/>
              </a:xfrm>
              <a:prstGeom prst="rect">
                <a:avLst/>
              </a:prstGeom>
              <a:solidFill>
                <a:srgbClr val="6489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589800" y="6068880"/>
                <a:ext cx="231840" cy="3960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589800" y="6137280"/>
                <a:ext cx="231840" cy="3960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589800" y="6205320"/>
                <a:ext cx="231840" cy="3960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589800" y="6275160"/>
                <a:ext cx="231840" cy="3960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13" name=""/>
              <p:cNvGraphicFramePr/>
              <p:nvPr/>
            </p:nvGraphicFramePr>
            <p:xfrm>
              <a:off x="6615360" y="6341760"/>
              <a:ext cx="164880" cy="16524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414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6615360" y="6341760"/>
                        <a:ext cx="164880" cy="165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15" name=""/>
            <p:cNvGrpSpPr/>
            <p:nvPr/>
          </p:nvGrpSpPr>
          <p:grpSpPr>
            <a:xfrm>
              <a:off x="2182680" y="3166560"/>
              <a:ext cx="5079960" cy="3340440"/>
              <a:chOff x="2182680" y="3166560"/>
              <a:chExt cx="5079960" cy="3340440"/>
            </a:xfrm>
          </p:grpSpPr>
          <p:sp>
            <p:nvSpPr>
              <p:cNvPr id="416" name=""/>
              <p:cNvSpPr/>
              <p:nvPr/>
            </p:nvSpPr>
            <p:spPr>
              <a:xfrm>
                <a:off x="2182680" y="4583160"/>
                <a:ext cx="2889360" cy="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5072040" y="3166560"/>
                <a:ext cx="2190600" cy="13957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5072040" y="4152600"/>
                <a:ext cx="1581120" cy="43020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084640" y="4591080"/>
                <a:ext cx="2114640" cy="10238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084640" y="4591080"/>
                <a:ext cx="1530360" cy="191592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7045920" y="3590640"/>
              <a:ext cx="7369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raff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525000" y="2641320"/>
              <a:ext cx="7369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raff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61640" y="4855680"/>
              <a:ext cx="7369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raff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07760" y="5900400"/>
              <a:ext cx="7369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raff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195640" y="4218120"/>
            <a:ext cx="6591240" cy="707760"/>
            <a:chOff x="2195640" y="4218120"/>
            <a:chExt cx="6591240" cy="707760"/>
          </a:xfrm>
        </p:grpSpPr>
        <p:grpSp>
          <p:nvGrpSpPr>
            <p:cNvPr id="426" name=""/>
            <p:cNvGrpSpPr/>
            <p:nvPr/>
          </p:nvGrpSpPr>
          <p:grpSpPr>
            <a:xfrm>
              <a:off x="7921800" y="4218120"/>
              <a:ext cx="826920" cy="190440"/>
              <a:chOff x="7921800" y="4218120"/>
              <a:chExt cx="826920" cy="190440"/>
            </a:xfrm>
          </p:grpSpPr>
          <p:sp>
            <p:nvSpPr>
              <p:cNvPr id="427" name=""/>
              <p:cNvSpPr/>
              <p:nvPr/>
            </p:nvSpPr>
            <p:spPr>
              <a:xfrm>
                <a:off x="7921800" y="4218120"/>
                <a:ext cx="826920" cy="190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956360" y="4301640"/>
                <a:ext cx="104760" cy="5544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117280" y="4301640"/>
                <a:ext cx="104400" cy="5544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278200" y="4301640"/>
                <a:ext cx="104760" cy="5544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451000" y="4301640"/>
                <a:ext cx="104760" cy="5544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600400" y="4301640"/>
                <a:ext cx="104760" cy="5544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7959600" y="4735440"/>
              <a:ext cx="827280" cy="190440"/>
              <a:chOff x="7959600" y="4735440"/>
              <a:chExt cx="827280" cy="190440"/>
            </a:xfrm>
          </p:grpSpPr>
          <p:sp>
            <p:nvSpPr>
              <p:cNvPr id="434" name=""/>
              <p:cNvSpPr/>
              <p:nvPr/>
            </p:nvSpPr>
            <p:spPr>
              <a:xfrm>
                <a:off x="7959600" y="4735440"/>
                <a:ext cx="827280" cy="190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994160" y="4818960"/>
                <a:ext cx="104760" cy="5544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155080" y="4818960"/>
                <a:ext cx="104760" cy="5544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316000" y="4818960"/>
                <a:ext cx="104760" cy="5544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489160" y="4818960"/>
                <a:ext cx="104760" cy="5544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638560" y="4818960"/>
                <a:ext cx="104760" cy="5544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2195640" y="4301640"/>
              <a:ext cx="5761080" cy="573480"/>
              <a:chOff x="2195640" y="4301640"/>
              <a:chExt cx="5761080" cy="573480"/>
            </a:xfrm>
          </p:grpSpPr>
          <p:sp>
            <p:nvSpPr>
              <p:cNvPr id="441" name=""/>
              <p:cNvSpPr/>
              <p:nvPr/>
            </p:nvSpPr>
            <p:spPr>
              <a:xfrm>
                <a:off x="2195640" y="4583160"/>
                <a:ext cx="509256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7262640" y="4301640"/>
                <a:ext cx="659160" cy="2811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262640" y="4583160"/>
                <a:ext cx="694080" cy="29196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4" name=""/>
          <p:cNvSpPr/>
          <p:nvPr/>
        </p:nvSpPr>
        <p:spPr>
          <a:xfrm>
            <a:off x="438480" y="1536840"/>
            <a:ext cx="59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rieves content from development or management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38840" y="1841400"/>
            <a:ext cx="564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plicates and distributes content to destination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38840" y="2146320"/>
            <a:ext cx="535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ides content routing information to load balan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970600" y="184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d updates c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2001960" y="2754000"/>
            <a:ext cx="1922400" cy="3576600"/>
            <a:chOff x="2001960" y="2754000"/>
            <a:chExt cx="1922400" cy="3576600"/>
          </a:xfrm>
        </p:grpSpPr>
        <p:grpSp>
          <p:nvGrpSpPr>
            <p:cNvPr id="449" name=""/>
            <p:cNvGrpSpPr/>
            <p:nvPr/>
          </p:nvGrpSpPr>
          <p:grpSpPr>
            <a:xfrm>
              <a:off x="2540160" y="4721040"/>
              <a:ext cx="1350360" cy="630360"/>
              <a:chOff x="2540160" y="4721040"/>
              <a:chExt cx="1350360" cy="630360"/>
            </a:xfrm>
          </p:grpSpPr>
          <p:grpSp>
            <p:nvGrpSpPr>
              <p:cNvPr id="450" name=""/>
              <p:cNvGrpSpPr/>
              <p:nvPr/>
            </p:nvGrpSpPr>
            <p:grpSpPr>
              <a:xfrm>
                <a:off x="2540160" y="4721040"/>
                <a:ext cx="1350360" cy="630360"/>
                <a:chOff x="2540160" y="4721040"/>
                <a:chExt cx="1350360" cy="630360"/>
              </a:xfrm>
            </p:grpSpPr>
            <p:grpSp>
              <p:nvGrpSpPr>
                <p:cNvPr id="451" name=""/>
                <p:cNvGrpSpPr/>
                <p:nvPr/>
              </p:nvGrpSpPr>
              <p:grpSpPr>
                <a:xfrm>
                  <a:off x="2540160" y="4843440"/>
                  <a:ext cx="323640" cy="507960"/>
                  <a:chOff x="2540160" y="4843440"/>
                  <a:chExt cx="323640" cy="50796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>
                    <a:off x="2540160" y="4843440"/>
                    <a:ext cx="323640" cy="50796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2578320" y="4907160"/>
                    <a:ext cx="231480" cy="396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2578320" y="4975200"/>
                    <a:ext cx="231480" cy="3996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578320" y="5043600"/>
                    <a:ext cx="231480" cy="396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578320" y="5113440"/>
                    <a:ext cx="231480" cy="396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7" name=""/>
                <p:cNvSpPr/>
                <p:nvPr/>
              </p:nvSpPr>
              <p:spPr>
                <a:xfrm>
                  <a:off x="2981160" y="4721040"/>
                  <a:ext cx="909360" cy="4770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e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Serv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458" name=""/>
              <p:cNvGraphicFramePr/>
              <p:nvPr/>
            </p:nvGraphicFramePr>
            <p:xfrm>
              <a:off x="2602080" y="5178600"/>
              <a:ext cx="164880" cy="16488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459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2602080" y="5178600"/>
                        <a:ext cx="164880" cy="16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60" name=""/>
            <p:cNvGrpSpPr/>
            <p:nvPr/>
          </p:nvGrpSpPr>
          <p:grpSpPr>
            <a:xfrm>
              <a:off x="2563920" y="5700240"/>
              <a:ext cx="1350360" cy="630360"/>
              <a:chOff x="2563920" y="5700240"/>
              <a:chExt cx="1350360" cy="63036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2563920" y="5700240"/>
                <a:ext cx="1350360" cy="630360"/>
                <a:chOff x="2563920" y="5700240"/>
                <a:chExt cx="1350360" cy="63036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2563920" y="5822640"/>
                  <a:ext cx="323640" cy="507960"/>
                  <a:chOff x="2563920" y="5822640"/>
                  <a:chExt cx="323640" cy="50796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>
                    <a:off x="2563920" y="5822640"/>
                    <a:ext cx="323640" cy="50796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602080" y="5886360"/>
                    <a:ext cx="231480" cy="396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2602080" y="5954400"/>
                    <a:ext cx="231480" cy="3996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602080" y="6022800"/>
                    <a:ext cx="231480" cy="396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2602080" y="6092640"/>
                    <a:ext cx="231480" cy="396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8" name=""/>
                <p:cNvSpPr/>
                <p:nvPr/>
              </p:nvSpPr>
              <p:spPr>
                <a:xfrm>
                  <a:off x="3004920" y="5700240"/>
                  <a:ext cx="909360" cy="4770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e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Serv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469" name=""/>
              <p:cNvGraphicFramePr/>
              <p:nvPr/>
            </p:nvGraphicFramePr>
            <p:xfrm>
              <a:off x="2630520" y="6162840"/>
              <a:ext cx="165240" cy="16488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470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2630520" y="6162840"/>
                        <a:ext cx="165240" cy="16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71" name=""/>
            <p:cNvSpPr/>
            <p:nvPr/>
          </p:nvSpPr>
          <p:spPr>
            <a:xfrm flipV="1">
              <a:off x="2036880" y="4390560"/>
              <a:ext cx="552240" cy="810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2001960" y="3404880"/>
              <a:ext cx="612720" cy="12128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009880" y="4626000"/>
              <a:ext cx="566640" cy="6843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035080" y="4680000"/>
              <a:ext cx="608040" cy="16351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2576520" y="2754000"/>
              <a:ext cx="1347840" cy="651240"/>
              <a:chOff x="2576520" y="2754000"/>
              <a:chExt cx="1347840" cy="6512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2576520" y="2754000"/>
                <a:ext cx="1347840" cy="651240"/>
                <a:chOff x="2576520" y="2754000"/>
                <a:chExt cx="1347840" cy="65124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2576520" y="2897280"/>
                  <a:ext cx="323640" cy="507960"/>
                  <a:chOff x="2576520" y="2897280"/>
                  <a:chExt cx="323640" cy="50796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>
                    <a:off x="2576520" y="2897280"/>
                    <a:ext cx="323640" cy="507960"/>
                  </a:xfrm>
                  <a:prstGeom prst="rect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2614680" y="2960640"/>
                    <a:ext cx="231480" cy="39600"/>
                  </a:xfrm>
                  <a:prstGeom prst="rect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2614680" y="3029040"/>
                    <a:ext cx="231480" cy="39600"/>
                  </a:xfrm>
                  <a:prstGeom prst="rect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2614680" y="3097080"/>
                    <a:ext cx="231480" cy="39600"/>
                  </a:xfrm>
                  <a:prstGeom prst="rect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2614680" y="3166920"/>
                    <a:ext cx="231480" cy="39960"/>
                  </a:xfrm>
                  <a:prstGeom prst="rect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3" name=""/>
                <p:cNvSpPr/>
                <p:nvPr/>
              </p:nvSpPr>
              <p:spPr>
                <a:xfrm>
                  <a:off x="3014640" y="2754000"/>
                  <a:ext cx="909720" cy="4770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d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Serv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484" name=""/>
              <p:cNvGraphicFramePr/>
              <p:nvPr/>
            </p:nvGraphicFramePr>
            <p:xfrm>
              <a:off x="2643120" y="3235320"/>
              <a:ext cx="165240" cy="16524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485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2643120" y="3235320"/>
                        <a:ext cx="165240" cy="165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86" name=""/>
            <p:cNvGrpSpPr/>
            <p:nvPr/>
          </p:nvGrpSpPr>
          <p:grpSpPr>
            <a:xfrm>
              <a:off x="2550960" y="3760560"/>
              <a:ext cx="1351080" cy="641520"/>
              <a:chOff x="2550960" y="3760560"/>
              <a:chExt cx="1351080" cy="641520"/>
            </a:xfrm>
          </p:grpSpPr>
          <p:grpSp>
            <p:nvGrpSpPr>
              <p:cNvPr id="487" name=""/>
              <p:cNvGrpSpPr/>
              <p:nvPr/>
            </p:nvGrpSpPr>
            <p:grpSpPr>
              <a:xfrm>
                <a:off x="2550960" y="3760560"/>
                <a:ext cx="1351080" cy="630360"/>
                <a:chOff x="2550960" y="3760560"/>
                <a:chExt cx="1351080" cy="630360"/>
              </a:xfrm>
            </p:grpSpPr>
            <p:grpSp>
              <p:nvGrpSpPr>
                <p:cNvPr id="488" name=""/>
                <p:cNvGrpSpPr/>
                <p:nvPr/>
              </p:nvGrpSpPr>
              <p:grpSpPr>
                <a:xfrm>
                  <a:off x="2550960" y="3882960"/>
                  <a:ext cx="323640" cy="507960"/>
                  <a:chOff x="2550960" y="3882960"/>
                  <a:chExt cx="323640" cy="50796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2550960" y="3882960"/>
                    <a:ext cx="323640" cy="50796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2589120" y="3946680"/>
                    <a:ext cx="231480" cy="396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2589120" y="4014720"/>
                    <a:ext cx="231480" cy="3996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2589120" y="4083120"/>
                    <a:ext cx="231480" cy="396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2589120" y="4152960"/>
                    <a:ext cx="231480" cy="396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4" name=""/>
                <p:cNvSpPr/>
                <p:nvPr/>
              </p:nvSpPr>
              <p:spPr>
                <a:xfrm>
                  <a:off x="2992320" y="3760560"/>
                  <a:ext cx="909720" cy="47700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e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Serv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495" name=""/>
              <p:cNvGraphicFramePr/>
              <p:nvPr/>
            </p:nvGraphicFramePr>
            <p:xfrm>
              <a:off x="2614680" y="4237200"/>
              <a:ext cx="164880" cy="16488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496" name="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2614680" y="4237200"/>
                        <a:ext cx="164880" cy="16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497" name=""/>
          <p:cNvGrpSpPr/>
          <p:nvPr/>
        </p:nvGrpSpPr>
        <p:grpSpPr>
          <a:xfrm>
            <a:off x="74160" y="3753000"/>
            <a:ext cx="2063520" cy="1792080"/>
            <a:chOff x="74160" y="3753000"/>
            <a:chExt cx="2063520" cy="1792080"/>
          </a:xfrm>
        </p:grpSpPr>
        <p:grpSp>
          <p:nvGrpSpPr>
            <p:cNvPr id="498" name=""/>
            <p:cNvGrpSpPr/>
            <p:nvPr/>
          </p:nvGrpSpPr>
          <p:grpSpPr>
            <a:xfrm>
              <a:off x="74160" y="3753000"/>
              <a:ext cx="505440" cy="457200"/>
              <a:chOff x="74160" y="3753000"/>
              <a:chExt cx="505440" cy="457200"/>
            </a:xfrm>
          </p:grpSpPr>
          <p:sp>
            <p:nvSpPr>
              <p:cNvPr id="499" name=""/>
              <p:cNvSpPr/>
              <p:nvPr/>
            </p:nvSpPr>
            <p:spPr>
              <a:xfrm flipH="1">
                <a:off x="73800" y="4036680"/>
                <a:ext cx="122760" cy="173160"/>
              </a:xfrm>
              <a:custGeom>
                <a:avLst/>
                <a:gdLst/>
                <a:ahLst/>
                <a:rect l="l" t="t" r="r" b="b"/>
                <a:pathLst>
                  <a:path w="3967" h="6591">
                    <a:moveTo>
                      <a:pt x="3967" y="4235"/>
                    </a:moveTo>
                    <a:lnTo>
                      <a:pt x="3967" y="0"/>
                    </a:lnTo>
                    <a:lnTo>
                      <a:pt x="0" y="1552"/>
                    </a:lnTo>
                    <a:lnTo>
                      <a:pt x="0" y="6591"/>
                    </a:lnTo>
                    <a:lnTo>
                      <a:pt x="3967" y="42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5e5b"/>
                  </a:gs>
                  <a:gs pos="100000">
                    <a:srgbClr val="b7aaa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197280" y="4065480"/>
                <a:ext cx="382320" cy="144720"/>
              </a:xfrm>
              <a:custGeom>
                <a:avLst/>
                <a:gdLst/>
                <a:ahLst/>
                <a:rect l="l" t="t" r="r" b="b"/>
                <a:pathLst>
                  <a:path w="12371" h="5729">
                    <a:moveTo>
                      <a:pt x="0" y="4694"/>
                    </a:moveTo>
                    <a:lnTo>
                      <a:pt x="0" y="0"/>
                    </a:lnTo>
                    <a:lnTo>
                      <a:pt x="12371" y="690"/>
                    </a:lnTo>
                    <a:lnTo>
                      <a:pt x="12371" y="5729"/>
                    </a:lnTo>
                    <a:lnTo>
                      <a:pt x="0" y="469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cfca"/>
                  </a:gs>
                  <a:gs pos="100000">
                    <a:srgbClr val="968f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73800" y="4021200"/>
                <a:ext cx="505080" cy="66240"/>
              </a:xfrm>
              <a:custGeom>
                <a:avLst/>
                <a:gdLst/>
                <a:ahLst/>
                <a:rect l="l" t="t" r="r" b="b"/>
                <a:pathLst>
                  <a:path w="16338" h="2034">
                    <a:moveTo>
                      <a:pt x="5308" y="0"/>
                    </a:moveTo>
                    <a:lnTo>
                      <a:pt x="0" y="1344"/>
                    </a:lnTo>
                    <a:lnTo>
                      <a:pt x="12371" y="2034"/>
                    </a:lnTo>
                    <a:lnTo>
                      <a:pt x="16338" y="482"/>
                    </a:lnTo>
                    <a:lnTo>
                      <a:pt x="5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cbc6"/>
                  </a:gs>
                  <a:gs pos="100000">
                    <a:srgbClr val="eee3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152640" y="3982320"/>
                <a:ext cx="323640" cy="84240"/>
              </a:xfrm>
              <a:custGeom>
                <a:avLst/>
                <a:gdLst/>
                <a:ahLst/>
                <a:rect l="l" t="t" r="r" b="b"/>
                <a:pathLst>
                  <a:path w="11046" h="2745">
                    <a:moveTo>
                      <a:pt x="11046" y="0"/>
                    </a:moveTo>
                    <a:lnTo>
                      <a:pt x="11046" y="1726"/>
                    </a:lnTo>
                    <a:lnTo>
                      <a:pt x="8437" y="2745"/>
                    </a:lnTo>
                    <a:lnTo>
                      <a:pt x="110" y="2377"/>
                    </a:lnTo>
                    <a:lnTo>
                      <a:pt x="0" y="981"/>
                    </a:lnTo>
                    <a:lnTo>
                      <a:pt x="1104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755"/>
                  </a:gs>
                  <a:gs pos="100000">
                    <a:srgbClr val="c8be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135720" y="3784680"/>
                <a:ext cx="52200" cy="232200"/>
              </a:xfrm>
              <a:custGeom>
                <a:avLst/>
                <a:gdLst/>
                <a:ahLst/>
                <a:rect l="l" t="t" r="r" b="b"/>
                <a:pathLst>
                  <a:path w="1756" h="7513">
                    <a:moveTo>
                      <a:pt x="137" y="0"/>
                    </a:moveTo>
                    <a:lnTo>
                      <a:pt x="1715" y="950"/>
                    </a:lnTo>
                    <a:lnTo>
                      <a:pt x="1756" y="1024"/>
                    </a:lnTo>
                    <a:lnTo>
                      <a:pt x="1756" y="6260"/>
                    </a:lnTo>
                    <a:lnTo>
                      <a:pt x="1738" y="6310"/>
                    </a:lnTo>
                    <a:lnTo>
                      <a:pt x="0" y="7513"/>
                    </a:lnTo>
                    <a:lnTo>
                      <a:pt x="13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5e5b"/>
                  </a:gs>
                  <a:gs pos="100000">
                    <a:srgbClr val="b7aaa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203400" y="3753000"/>
                <a:ext cx="305640" cy="286200"/>
              </a:xfrm>
              <a:custGeom>
                <a:avLst/>
                <a:gdLst/>
                <a:ahLst/>
                <a:rect l="l" t="t" r="r" b="b"/>
                <a:pathLst>
                  <a:path w="10407" h="9275">
                    <a:moveTo>
                      <a:pt x="77" y="573"/>
                    </a:moveTo>
                    <a:lnTo>
                      <a:pt x="289" y="446"/>
                    </a:lnTo>
                    <a:lnTo>
                      <a:pt x="412" y="390"/>
                    </a:lnTo>
                    <a:lnTo>
                      <a:pt x="513" y="367"/>
                    </a:lnTo>
                    <a:lnTo>
                      <a:pt x="9876" y="0"/>
                    </a:lnTo>
                    <a:lnTo>
                      <a:pt x="10265" y="64"/>
                    </a:lnTo>
                    <a:lnTo>
                      <a:pt x="10375" y="120"/>
                    </a:lnTo>
                    <a:lnTo>
                      <a:pt x="10407" y="156"/>
                    </a:lnTo>
                    <a:lnTo>
                      <a:pt x="10366" y="9275"/>
                    </a:lnTo>
                    <a:lnTo>
                      <a:pt x="270" y="8921"/>
                    </a:lnTo>
                    <a:lnTo>
                      <a:pt x="178" y="8880"/>
                    </a:lnTo>
                    <a:lnTo>
                      <a:pt x="123" y="8835"/>
                    </a:lnTo>
                    <a:lnTo>
                      <a:pt x="73" y="8765"/>
                    </a:lnTo>
                    <a:lnTo>
                      <a:pt x="0" y="8632"/>
                    </a:lnTo>
                    <a:lnTo>
                      <a:pt x="77" y="57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cfca"/>
                  </a:gs>
                  <a:gs pos="100000">
                    <a:srgbClr val="968f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151560" y="3753000"/>
                <a:ext cx="78120" cy="313200"/>
              </a:xfrm>
              <a:custGeom>
                <a:avLst/>
                <a:gdLst/>
                <a:ahLst/>
                <a:rect l="l" t="t" r="r" b="b"/>
                <a:pathLst>
                  <a:path w="2678" h="10161">
                    <a:moveTo>
                      <a:pt x="0" y="10161"/>
                    </a:moveTo>
                    <a:lnTo>
                      <a:pt x="51" y="9248"/>
                    </a:lnTo>
                    <a:lnTo>
                      <a:pt x="353" y="9248"/>
                    </a:lnTo>
                    <a:lnTo>
                      <a:pt x="491" y="9220"/>
                    </a:lnTo>
                    <a:lnTo>
                      <a:pt x="583" y="9142"/>
                    </a:lnTo>
                    <a:lnTo>
                      <a:pt x="629" y="9009"/>
                    </a:lnTo>
                    <a:lnTo>
                      <a:pt x="629" y="248"/>
                    </a:lnTo>
                    <a:lnTo>
                      <a:pt x="614" y="162"/>
                    </a:lnTo>
                    <a:lnTo>
                      <a:pt x="596" y="88"/>
                    </a:lnTo>
                    <a:lnTo>
                      <a:pt x="568" y="51"/>
                    </a:lnTo>
                    <a:lnTo>
                      <a:pt x="491" y="0"/>
                    </a:lnTo>
                    <a:lnTo>
                      <a:pt x="857" y="60"/>
                    </a:lnTo>
                    <a:lnTo>
                      <a:pt x="1023" y="110"/>
                    </a:lnTo>
                    <a:lnTo>
                      <a:pt x="1682" y="538"/>
                    </a:lnTo>
                    <a:lnTo>
                      <a:pt x="1701" y="556"/>
                    </a:lnTo>
                    <a:lnTo>
                      <a:pt x="1715" y="584"/>
                    </a:lnTo>
                    <a:lnTo>
                      <a:pt x="1719" y="620"/>
                    </a:lnTo>
                    <a:lnTo>
                      <a:pt x="2678" y="7320"/>
                    </a:lnTo>
                    <a:lnTo>
                      <a:pt x="2669" y="9137"/>
                    </a:lnTo>
                    <a:lnTo>
                      <a:pt x="27" y="10161"/>
                    </a:lnTo>
                    <a:lnTo>
                      <a:pt x="0" y="1016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5e5b"/>
                  </a:gs>
                  <a:gs pos="100000">
                    <a:srgbClr val="b7aaa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228240" y="4029120"/>
                <a:ext cx="247320" cy="18000"/>
              </a:xfrm>
              <a:custGeom>
                <a:avLst/>
                <a:gdLst/>
                <a:ahLst/>
                <a:rect l="l" t="t" r="r" b="b"/>
                <a:pathLst>
                  <a:path w="8422" h="579">
                    <a:moveTo>
                      <a:pt x="0" y="0"/>
                    </a:moveTo>
                    <a:lnTo>
                      <a:pt x="8422" y="304"/>
                    </a:lnTo>
                    <a:lnTo>
                      <a:pt x="8391" y="579"/>
                    </a:lnTo>
                    <a:lnTo>
                      <a:pt x="18" y="23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642"/>
                  </a:gs>
                  <a:gs pos="100000">
                    <a:srgbClr val="a898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246240" y="3796200"/>
                <a:ext cx="231840" cy="200880"/>
              </a:xfrm>
              <a:custGeom>
                <a:avLst/>
                <a:gdLst/>
                <a:ahLst/>
                <a:rect l="l" t="t" r="r" b="b"/>
                <a:pathLst>
                  <a:path w="7886" h="6539">
                    <a:moveTo>
                      <a:pt x="0" y="6084"/>
                    </a:moveTo>
                    <a:lnTo>
                      <a:pt x="73" y="6282"/>
                    </a:lnTo>
                    <a:lnTo>
                      <a:pt x="7775" y="6539"/>
                    </a:lnTo>
                    <a:lnTo>
                      <a:pt x="7817" y="6480"/>
                    </a:lnTo>
                    <a:lnTo>
                      <a:pt x="7863" y="6410"/>
                    </a:lnTo>
                    <a:lnTo>
                      <a:pt x="7886" y="229"/>
                    </a:lnTo>
                    <a:lnTo>
                      <a:pt x="7867" y="118"/>
                    </a:lnTo>
                    <a:lnTo>
                      <a:pt x="7817" y="63"/>
                    </a:lnTo>
                    <a:lnTo>
                      <a:pt x="7460" y="0"/>
                    </a:lnTo>
                    <a:lnTo>
                      <a:pt x="206" y="197"/>
                    </a:lnTo>
                    <a:lnTo>
                      <a:pt x="14" y="3312"/>
                    </a:lnTo>
                    <a:lnTo>
                      <a:pt x="0" y="60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4b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249480" y="4011120"/>
                <a:ext cx="39600" cy="7560"/>
              </a:xfrm>
              <a:custGeom>
                <a:avLst/>
                <a:gdLst/>
                <a:ahLst/>
                <a:rect l="l" t="t" r="r" b="b"/>
                <a:pathLst>
                  <a:path w="1357" h="276">
                    <a:moveTo>
                      <a:pt x="1357" y="55"/>
                    </a:moveTo>
                    <a:lnTo>
                      <a:pt x="0" y="0"/>
                    </a:lnTo>
                    <a:lnTo>
                      <a:pt x="0" y="225"/>
                    </a:lnTo>
                    <a:lnTo>
                      <a:pt x="1357" y="276"/>
                    </a:lnTo>
                    <a:lnTo>
                      <a:pt x="1357" y="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2be00"/>
                  </a:gs>
                  <a:gs pos="100000">
                    <a:srgbClr val="0b7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246240" y="3794400"/>
                <a:ext cx="236880" cy="198360"/>
              </a:xfrm>
              <a:custGeom>
                <a:avLst/>
                <a:gdLst/>
                <a:ahLst/>
                <a:rect l="l" t="t" r="r" b="b"/>
                <a:pathLst>
                  <a:path w="8034" h="6443">
                    <a:moveTo>
                      <a:pt x="8034" y="206"/>
                    </a:moveTo>
                    <a:lnTo>
                      <a:pt x="8020" y="147"/>
                    </a:lnTo>
                    <a:lnTo>
                      <a:pt x="7969" y="64"/>
                    </a:lnTo>
                    <a:lnTo>
                      <a:pt x="7919" y="32"/>
                    </a:lnTo>
                    <a:lnTo>
                      <a:pt x="7818" y="9"/>
                    </a:lnTo>
                    <a:lnTo>
                      <a:pt x="7722" y="0"/>
                    </a:lnTo>
                    <a:lnTo>
                      <a:pt x="294" y="179"/>
                    </a:lnTo>
                    <a:lnTo>
                      <a:pt x="180" y="193"/>
                    </a:lnTo>
                    <a:lnTo>
                      <a:pt x="97" y="239"/>
                    </a:lnTo>
                    <a:lnTo>
                      <a:pt x="51" y="298"/>
                    </a:lnTo>
                    <a:lnTo>
                      <a:pt x="24" y="372"/>
                    </a:lnTo>
                    <a:lnTo>
                      <a:pt x="0" y="495"/>
                    </a:lnTo>
                    <a:lnTo>
                      <a:pt x="0" y="6177"/>
                    </a:lnTo>
                    <a:lnTo>
                      <a:pt x="10" y="6273"/>
                    </a:lnTo>
                    <a:lnTo>
                      <a:pt x="33" y="6356"/>
                    </a:lnTo>
                    <a:lnTo>
                      <a:pt x="61" y="6388"/>
                    </a:lnTo>
                    <a:lnTo>
                      <a:pt x="111" y="6420"/>
                    </a:lnTo>
                    <a:lnTo>
                      <a:pt x="162" y="6443"/>
                    </a:lnTo>
                    <a:lnTo>
                      <a:pt x="510" y="6255"/>
                    </a:lnTo>
                    <a:lnTo>
                      <a:pt x="468" y="6218"/>
                    </a:lnTo>
                    <a:lnTo>
                      <a:pt x="427" y="6172"/>
                    </a:lnTo>
                    <a:lnTo>
                      <a:pt x="409" y="6126"/>
                    </a:lnTo>
                    <a:lnTo>
                      <a:pt x="390" y="6007"/>
                    </a:lnTo>
                    <a:lnTo>
                      <a:pt x="354" y="4823"/>
                    </a:lnTo>
                    <a:lnTo>
                      <a:pt x="322" y="3455"/>
                    </a:lnTo>
                    <a:lnTo>
                      <a:pt x="331" y="2460"/>
                    </a:lnTo>
                    <a:lnTo>
                      <a:pt x="363" y="1284"/>
                    </a:lnTo>
                    <a:lnTo>
                      <a:pt x="440" y="711"/>
                    </a:lnTo>
                    <a:lnTo>
                      <a:pt x="464" y="551"/>
                    </a:lnTo>
                    <a:lnTo>
                      <a:pt x="501" y="436"/>
                    </a:lnTo>
                    <a:lnTo>
                      <a:pt x="542" y="376"/>
                    </a:lnTo>
                    <a:lnTo>
                      <a:pt x="593" y="339"/>
                    </a:lnTo>
                    <a:lnTo>
                      <a:pt x="633" y="317"/>
                    </a:lnTo>
                    <a:lnTo>
                      <a:pt x="716" y="307"/>
                    </a:lnTo>
                    <a:lnTo>
                      <a:pt x="7689" y="138"/>
                    </a:lnTo>
                    <a:lnTo>
                      <a:pt x="7805" y="138"/>
                    </a:lnTo>
                    <a:lnTo>
                      <a:pt x="7892" y="138"/>
                    </a:lnTo>
                    <a:lnTo>
                      <a:pt x="7969" y="160"/>
                    </a:lnTo>
                    <a:lnTo>
                      <a:pt x="8034" y="20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954"/>
                  </a:gs>
                  <a:gs pos="100000">
                    <a:srgbClr val="8a80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246240" y="3986640"/>
                <a:ext cx="231840" cy="13680"/>
              </a:xfrm>
              <a:custGeom>
                <a:avLst/>
                <a:gdLst/>
                <a:ahLst/>
                <a:rect l="l" t="t" r="r" b="b"/>
                <a:pathLst>
                  <a:path w="7879" h="426">
                    <a:moveTo>
                      <a:pt x="7872" y="123"/>
                    </a:moveTo>
                    <a:lnTo>
                      <a:pt x="7858" y="151"/>
                    </a:lnTo>
                    <a:lnTo>
                      <a:pt x="7845" y="179"/>
                    </a:lnTo>
                    <a:lnTo>
                      <a:pt x="7817" y="197"/>
                    </a:lnTo>
                    <a:lnTo>
                      <a:pt x="7808" y="210"/>
                    </a:lnTo>
                    <a:lnTo>
                      <a:pt x="7803" y="210"/>
                    </a:lnTo>
                    <a:lnTo>
                      <a:pt x="7799" y="215"/>
                    </a:lnTo>
                    <a:lnTo>
                      <a:pt x="7716" y="243"/>
                    </a:lnTo>
                    <a:lnTo>
                      <a:pt x="458" y="27"/>
                    </a:lnTo>
                    <a:lnTo>
                      <a:pt x="390" y="13"/>
                    </a:lnTo>
                    <a:lnTo>
                      <a:pt x="329" y="0"/>
                    </a:lnTo>
                    <a:lnTo>
                      <a:pt x="0" y="183"/>
                    </a:lnTo>
                    <a:lnTo>
                      <a:pt x="5373" y="339"/>
                    </a:lnTo>
                    <a:lnTo>
                      <a:pt x="5449" y="340"/>
                    </a:lnTo>
                    <a:lnTo>
                      <a:pt x="5654" y="341"/>
                    </a:lnTo>
                    <a:lnTo>
                      <a:pt x="5950" y="345"/>
                    </a:lnTo>
                    <a:lnTo>
                      <a:pt x="6302" y="352"/>
                    </a:lnTo>
                    <a:lnTo>
                      <a:pt x="6487" y="356"/>
                    </a:lnTo>
                    <a:lnTo>
                      <a:pt x="6673" y="363"/>
                    </a:lnTo>
                    <a:lnTo>
                      <a:pt x="6853" y="369"/>
                    </a:lnTo>
                    <a:lnTo>
                      <a:pt x="7025" y="376"/>
                    </a:lnTo>
                    <a:lnTo>
                      <a:pt x="7107" y="380"/>
                    </a:lnTo>
                    <a:lnTo>
                      <a:pt x="7183" y="384"/>
                    </a:lnTo>
                    <a:lnTo>
                      <a:pt x="7257" y="389"/>
                    </a:lnTo>
                    <a:lnTo>
                      <a:pt x="7324" y="394"/>
                    </a:lnTo>
                    <a:lnTo>
                      <a:pt x="7386" y="399"/>
                    </a:lnTo>
                    <a:lnTo>
                      <a:pt x="7442" y="405"/>
                    </a:lnTo>
                    <a:lnTo>
                      <a:pt x="7492" y="411"/>
                    </a:lnTo>
                    <a:lnTo>
                      <a:pt x="7532" y="417"/>
                    </a:lnTo>
                    <a:lnTo>
                      <a:pt x="7571" y="422"/>
                    </a:lnTo>
                    <a:lnTo>
                      <a:pt x="7606" y="425"/>
                    </a:lnTo>
                    <a:lnTo>
                      <a:pt x="7639" y="426"/>
                    </a:lnTo>
                    <a:lnTo>
                      <a:pt x="7668" y="424"/>
                    </a:lnTo>
                    <a:lnTo>
                      <a:pt x="7696" y="421"/>
                    </a:lnTo>
                    <a:lnTo>
                      <a:pt x="7720" y="416"/>
                    </a:lnTo>
                    <a:lnTo>
                      <a:pt x="7744" y="409"/>
                    </a:lnTo>
                    <a:lnTo>
                      <a:pt x="7764" y="400"/>
                    </a:lnTo>
                    <a:lnTo>
                      <a:pt x="7782" y="390"/>
                    </a:lnTo>
                    <a:lnTo>
                      <a:pt x="7798" y="380"/>
                    </a:lnTo>
                    <a:lnTo>
                      <a:pt x="7813" y="368"/>
                    </a:lnTo>
                    <a:lnTo>
                      <a:pt x="7826" y="354"/>
                    </a:lnTo>
                    <a:lnTo>
                      <a:pt x="7837" y="341"/>
                    </a:lnTo>
                    <a:lnTo>
                      <a:pt x="7846" y="326"/>
                    </a:lnTo>
                    <a:lnTo>
                      <a:pt x="7854" y="311"/>
                    </a:lnTo>
                    <a:lnTo>
                      <a:pt x="7860" y="296"/>
                    </a:lnTo>
                    <a:lnTo>
                      <a:pt x="7866" y="281"/>
                    </a:lnTo>
                    <a:lnTo>
                      <a:pt x="7870" y="266"/>
                    </a:lnTo>
                    <a:lnTo>
                      <a:pt x="7874" y="250"/>
                    </a:lnTo>
                    <a:lnTo>
                      <a:pt x="7876" y="235"/>
                    </a:lnTo>
                    <a:lnTo>
                      <a:pt x="7878" y="220"/>
                    </a:lnTo>
                    <a:lnTo>
                      <a:pt x="7879" y="205"/>
                    </a:lnTo>
                    <a:lnTo>
                      <a:pt x="7879" y="192"/>
                    </a:lnTo>
                    <a:lnTo>
                      <a:pt x="7879" y="179"/>
                    </a:lnTo>
                    <a:lnTo>
                      <a:pt x="7875" y="139"/>
                    </a:lnTo>
                    <a:lnTo>
                      <a:pt x="7872" y="123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220680" y="4104000"/>
                <a:ext cx="73800" cy="10800"/>
              </a:xfrm>
              <a:custGeom>
                <a:avLst/>
                <a:gdLst/>
                <a:ahLst/>
                <a:rect l="l" t="t" r="r" b="b"/>
                <a:pathLst>
                  <a:path w="2378" h="344">
                    <a:moveTo>
                      <a:pt x="0" y="222"/>
                    </a:moveTo>
                    <a:lnTo>
                      <a:pt x="0" y="0"/>
                    </a:lnTo>
                    <a:lnTo>
                      <a:pt x="2378" y="107"/>
                    </a:lnTo>
                    <a:lnTo>
                      <a:pt x="2378" y="344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6a6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1045440" y="4758840"/>
              <a:ext cx="10922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istribu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74160" y="4429080"/>
              <a:ext cx="505440" cy="457200"/>
              <a:chOff x="74160" y="4429080"/>
              <a:chExt cx="505440" cy="457200"/>
            </a:xfrm>
          </p:grpSpPr>
          <p:sp>
            <p:nvSpPr>
              <p:cNvPr id="514" name=""/>
              <p:cNvSpPr/>
              <p:nvPr/>
            </p:nvSpPr>
            <p:spPr>
              <a:xfrm flipH="1">
                <a:off x="73800" y="4712760"/>
                <a:ext cx="122760" cy="173160"/>
              </a:xfrm>
              <a:custGeom>
                <a:avLst/>
                <a:gdLst/>
                <a:ahLst/>
                <a:rect l="l" t="t" r="r" b="b"/>
                <a:pathLst>
                  <a:path w="3967" h="6591">
                    <a:moveTo>
                      <a:pt x="3967" y="4235"/>
                    </a:moveTo>
                    <a:lnTo>
                      <a:pt x="3967" y="0"/>
                    </a:lnTo>
                    <a:lnTo>
                      <a:pt x="0" y="1552"/>
                    </a:lnTo>
                    <a:lnTo>
                      <a:pt x="0" y="6591"/>
                    </a:lnTo>
                    <a:lnTo>
                      <a:pt x="3967" y="42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5e5b"/>
                  </a:gs>
                  <a:gs pos="100000">
                    <a:srgbClr val="b7aaa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197280" y="4741560"/>
                <a:ext cx="382320" cy="144720"/>
              </a:xfrm>
              <a:custGeom>
                <a:avLst/>
                <a:gdLst/>
                <a:ahLst/>
                <a:rect l="l" t="t" r="r" b="b"/>
                <a:pathLst>
                  <a:path w="12371" h="5729">
                    <a:moveTo>
                      <a:pt x="0" y="4694"/>
                    </a:moveTo>
                    <a:lnTo>
                      <a:pt x="0" y="0"/>
                    </a:lnTo>
                    <a:lnTo>
                      <a:pt x="12371" y="690"/>
                    </a:lnTo>
                    <a:lnTo>
                      <a:pt x="12371" y="5729"/>
                    </a:lnTo>
                    <a:lnTo>
                      <a:pt x="0" y="469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cfca"/>
                  </a:gs>
                  <a:gs pos="100000">
                    <a:srgbClr val="968f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73800" y="4697280"/>
                <a:ext cx="505080" cy="66240"/>
              </a:xfrm>
              <a:custGeom>
                <a:avLst/>
                <a:gdLst/>
                <a:ahLst/>
                <a:rect l="l" t="t" r="r" b="b"/>
                <a:pathLst>
                  <a:path w="16338" h="2034">
                    <a:moveTo>
                      <a:pt x="5308" y="0"/>
                    </a:moveTo>
                    <a:lnTo>
                      <a:pt x="0" y="1344"/>
                    </a:lnTo>
                    <a:lnTo>
                      <a:pt x="12371" y="2034"/>
                    </a:lnTo>
                    <a:lnTo>
                      <a:pt x="16338" y="482"/>
                    </a:lnTo>
                    <a:lnTo>
                      <a:pt x="5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cbc6"/>
                  </a:gs>
                  <a:gs pos="100000">
                    <a:srgbClr val="eee3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152640" y="4658400"/>
                <a:ext cx="323640" cy="84240"/>
              </a:xfrm>
              <a:custGeom>
                <a:avLst/>
                <a:gdLst/>
                <a:ahLst/>
                <a:rect l="l" t="t" r="r" b="b"/>
                <a:pathLst>
                  <a:path w="11046" h="2745">
                    <a:moveTo>
                      <a:pt x="11046" y="0"/>
                    </a:moveTo>
                    <a:lnTo>
                      <a:pt x="11046" y="1726"/>
                    </a:lnTo>
                    <a:lnTo>
                      <a:pt x="8437" y="2745"/>
                    </a:lnTo>
                    <a:lnTo>
                      <a:pt x="110" y="2377"/>
                    </a:lnTo>
                    <a:lnTo>
                      <a:pt x="0" y="981"/>
                    </a:lnTo>
                    <a:lnTo>
                      <a:pt x="1104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755"/>
                  </a:gs>
                  <a:gs pos="100000">
                    <a:srgbClr val="c8be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135720" y="4460760"/>
                <a:ext cx="52200" cy="232200"/>
              </a:xfrm>
              <a:custGeom>
                <a:avLst/>
                <a:gdLst/>
                <a:ahLst/>
                <a:rect l="l" t="t" r="r" b="b"/>
                <a:pathLst>
                  <a:path w="1756" h="7513">
                    <a:moveTo>
                      <a:pt x="137" y="0"/>
                    </a:moveTo>
                    <a:lnTo>
                      <a:pt x="1715" y="950"/>
                    </a:lnTo>
                    <a:lnTo>
                      <a:pt x="1756" y="1024"/>
                    </a:lnTo>
                    <a:lnTo>
                      <a:pt x="1756" y="6260"/>
                    </a:lnTo>
                    <a:lnTo>
                      <a:pt x="1738" y="6310"/>
                    </a:lnTo>
                    <a:lnTo>
                      <a:pt x="0" y="7513"/>
                    </a:lnTo>
                    <a:lnTo>
                      <a:pt x="13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5e5b"/>
                  </a:gs>
                  <a:gs pos="100000">
                    <a:srgbClr val="b7aaa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203400" y="4429080"/>
                <a:ext cx="305640" cy="286200"/>
              </a:xfrm>
              <a:custGeom>
                <a:avLst/>
                <a:gdLst/>
                <a:ahLst/>
                <a:rect l="l" t="t" r="r" b="b"/>
                <a:pathLst>
                  <a:path w="10407" h="9275">
                    <a:moveTo>
                      <a:pt x="77" y="573"/>
                    </a:moveTo>
                    <a:lnTo>
                      <a:pt x="289" y="446"/>
                    </a:lnTo>
                    <a:lnTo>
                      <a:pt x="412" y="390"/>
                    </a:lnTo>
                    <a:lnTo>
                      <a:pt x="513" y="367"/>
                    </a:lnTo>
                    <a:lnTo>
                      <a:pt x="9876" y="0"/>
                    </a:lnTo>
                    <a:lnTo>
                      <a:pt x="10265" y="64"/>
                    </a:lnTo>
                    <a:lnTo>
                      <a:pt x="10375" y="120"/>
                    </a:lnTo>
                    <a:lnTo>
                      <a:pt x="10407" y="156"/>
                    </a:lnTo>
                    <a:lnTo>
                      <a:pt x="10366" y="9275"/>
                    </a:lnTo>
                    <a:lnTo>
                      <a:pt x="270" y="8921"/>
                    </a:lnTo>
                    <a:lnTo>
                      <a:pt x="178" y="8880"/>
                    </a:lnTo>
                    <a:lnTo>
                      <a:pt x="123" y="8835"/>
                    </a:lnTo>
                    <a:lnTo>
                      <a:pt x="73" y="8765"/>
                    </a:lnTo>
                    <a:lnTo>
                      <a:pt x="0" y="8632"/>
                    </a:lnTo>
                    <a:lnTo>
                      <a:pt x="77" y="57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cfca"/>
                  </a:gs>
                  <a:gs pos="100000">
                    <a:srgbClr val="968f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151560" y="4429080"/>
                <a:ext cx="78120" cy="313200"/>
              </a:xfrm>
              <a:custGeom>
                <a:avLst/>
                <a:gdLst/>
                <a:ahLst/>
                <a:rect l="l" t="t" r="r" b="b"/>
                <a:pathLst>
                  <a:path w="2678" h="10161">
                    <a:moveTo>
                      <a:pt x="0" y="10161"/>
                    </a:moveTo>
                    <a:lnTo>
                      <a:pt x="51" y="9248"/>
                    </a:lnTo>
                    <a:lnTo>
                      <a:pt x="353" y="9248"/>
                    </a:lnTo>
                    <a:lnTo>
                      <a:pt x="491" y="9220"/>
                    </a:lnTo>
                    <a:lnTo>
                      <a:pt x="583" y="9142"/>
                    </a:lnTo>
                    <a:lnTo>
                      <a:pt x="629" y="9009"/>
                    </a:lnTo>
                    <a:lnTo>
                      <a:pt x="629" y="248"/>
                    </a:lnTo>
                    <a:lnTo>
                      <a:pt x="614" y="162"/>
                    </a:lnTo>
                    <a:lnTo>
                      <a:pt x="596" y="88"/>
                    </a:lnTo>
                    <a:lnTo>
                      <a:pt x="568" y="51"/>
                    </a:lnTo>
                    <a:lnTo>
                      <a:pt x="491" y="0"/>
                    </a:lnTo>
                    <a:lnTo>
                      <a:pt x="857" y="60"/>
                    </a:lnTo>
                    <a:lnTo>
                      <a:pt x="1023" y="110"/>
                    </a:lnTo>
                    <a:lnTo>
                      <a:pt x="1682" y="538"/>
                    </a:lnTo>
                    <a:lnTo>
                      <a:pt x="1701" y="556"/>
                    </a:lnTo>
                    <a:lnTo>
                      <a:pt x="1715" y="584"/>
                    </a:lnTo>
                    <a:lnTo>
                      <a:pt x="1719" y="620"/>
                    </a:lnTo>
                    <a:lnTo>
                      <a:pt x="2678" y="7320"/>
                    </a:lnTo>
                    <a:lnTo>
                      <a:pt x="2669" y="9137"/>
                    </a:lnTo>
                    <a:lnTo>
                      <a:pt x="27" y="10161"/>
                    </a:lnTo>
                    <a:lnTo>
                      <a:pt x="0" y="1016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5e5b"/>
                  </a:gs>
                  <a:gs pos="100000">
                    <a:srgbClr val="b7aaa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228240" y="4705200"/>
                <a:ext cx="247320" cy="18000"/>
              </a:xfrm>
              <a:custGeom>
                <a:avLst/>
                <a:gdLst/>
                <a:ahLst/>
                <a:rect l="l" t="t" r="r" b="b"/>
                <a:pathLst>
                  <a:path w="8422" h="579">
                    <a:moveTo>
                      <a:pt x="0" y="0"/>
                    </a:moveTo>
                    <a:lnTo>
                      <a:pt x="8422" y="304"/>
                    </a:lnTo>
                    <a:lnTo>
                      <a:pt x="8391" y="579"/>
                    </a:lnTo>
                    <a:lnTo>
                      <a:pt x="18" y="23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642"/>
                  </a:gs>
                  <a:gs pos="100000">
                    <a:srgbClr val="a898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246240" y="4472280"/>
                <a:ext cx="231840" cy="200880"/>
              </a:xfrm>
              <a:custGeom>
                <a:avLst/>
                <a:gdLst/>
                <a:ahLst/>
                <a:rect l="l" t="t" r="r" b="b"/>
                <a:pathLst>
                  <a:path w="7886" h="6539">
                    <a:moveTo>
                      <a:pt x="0" y="6084"/>
                    </a:moveTo>
                    <a:lnTo>
                      <a:pt x="73" y="6282"/>
                    </a:lnTo>
                    <a:lnTo>
                      <a:pt x="7775" y="6539"/>
                    </a:lnTo>
                    <a:lnTo>
                      <a:pt x="7817" y="6480"/>
                    </a:lnTo>
                    <a:lnTo>
                      <a:pt x="7863" y="6410"/>
                    </a:lnTo>
                    <a:lnTo>
                      <a:pt x="7886" y="229"/>
                    </a:lnTo>
                    <a:lnTo>
                      <a:pt x="7867" y="118"/>
                    </a:lnTo>
                    <a:lnTo>
                      <a:pt x="7817" y="63"/>
                    </a:lnTo>
                    <a:lnTo>
                      <a:pt x="7460" y="0"/>
                    </a:lnTo>
                    <a:lnTo>
                      <a:pt x="206" y="197"/>
                    </a:lnTo>
                    <a:lnTo>
                      <a:pt x="14" y="3312"/>
                    </a:lnTo>
                    <a:lnTo>
                      <a:pt x="0" y="60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4b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249480" y="4687200"/>
                <a:ext cx="39600" cy="7560"/>
              </a:xfrm>
              <a:custGeom>
                <a:avLst/>
                <a:gdLst/>
                <a:ahLst/>
                <a:rect l="l" t="t" r="r" b="b"/>
                <a:pathLst>
                  <a:path w="1357" h="276">
                    <a:moveTo>
                      <a:pt x="1357" y="55"/>
                    </a:moveTo>
                    <a:lnTo>
                      <a:pt x="0" y="0"/>
                    </a:lnTo>
                    <a:lnTo>
                      <a:pt x="0" y="225"/>
                    </a:lnTo>
                    <a:lnTo>
                      <a:pt x="1357" y="276"/>
                    </a:lnTo>
                    <a:lnTo>
                      <a:pt x="1357" y="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2be00"/>
                  </a:gs>
                  <a:gs pos="100000">
                    <a:srgbClr val="0b7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246240" y="4470480"/>
                <a:ext cx="236880" cy="198360"/>
              </a:xfrm>
              <a:custGeom>
                <a:avLst/>
                <a:gdLst/>
                <a:ahLst/>
                <a:rect l="l" t="t" r="r" b="b"/>
                <a:pathLst>
                  <a:path w="8034" h="6443">
                    <a:moveTo>
                      <a:pt x="8034" y="206"/>
                    </a:moveTo>
                    <a:lnTo>
                      <a:pt x="8020" y="147"/>
                    </a:lnTo>
                    <a:lnTo>
                      <a:pt x="7969" y="64"/>
                    </a:lnTo>
                    <a:lnTo>
                      <a:pt x="7919" y="32"/>
                    </a:lnTo>
                    <a:lnTo>
                      <a:pt x="7818" y="9"/>
                    </a:lnTo>
                    <a:lnTo>
                      <a:pt x="7722" y="0"/>
                    </a:lnTo>
                    <a:lnTo>
                      <a:pt x="294" y="179"/>
                    </a:lnTo>
                    <a:lnTo>
                      <a:pt x="180" y="193"/>
                    </a:lnTo>
                    <a:lnTo>
                      <a:pt x="97" y="239"/>
                    </a:lnTo>
                    <a:lnTo>
                      <a:pt x="51" y="298"/>
                    </a:lnTo>
                    <a:lnTo>
                      <a:pt x="24" y="372"/>
                    </a:lnTo>
                    <a:lnTo>
                      <a:pt x="0" y="495"/>
                    </a:lnTo>
                    <a:lnTo>
                      <a:pt x="0" y="6177"/>
                    </a:lnTo>
                    <a:lnTo>
                      <a:pt x="10" y="6273"/>
                    </a:lnTo>
                    <a:lnTo>
                      <a:pt x="33" y="6356"/>
                    </a:lnTo>
                    <a:lnTo>
                      <a:pt x="61" y="6388"/>
                    </a:lnTo>
                    <a:lnTo>
                      <a:pt x="111" y="6420"/>
                    </a:lnTo>
                    <a:lnTo>
                      <a:pt x="162" y="6443"/>
                    </a:lnTo>
                    <a:lnTo>
                      <a:pt x="510" y="6255"/>
                    </a:lnTo>
                    <a:lnTo>
                      <a:pt x="468" y="6218"/>
                    </a:lnTo>
                    <a:lnTo>
                      <a:pt x="427" y="6172"/>
                    </a:lnTo>
                    <a:lnTo>
                      <a:pt x="409" y="6126"/>
                    </a:lnTo>
                    <a:lnTo>
                      <a:pt x="390" y="6007"/>
                    </a:lnTo>
                    <a:lnTo>
                      <a:pt x="354" y="4823"/>
                    </a:lnTo>
                    <a:lnTo>
                      <a:pt x="322" y="3455"/>
                    </a:lnTo>
                    <a:lnTo>
                      <a:pt x="331" y="2460"/>
                    </a:lnTo>
                    <a:lnTo>
                      <a:pt x="363" y="1284"/>
                    </a:lnTo>
                    <a:lnTo>
                      <a:pt x="440" y="711"/>
                    </a:lnTo>
                    <a:lnTo>
                      <a:pt x="464" y="551"/>
                    </a:lnTo>
                    <a:lnTo>
                      <a:pt x="501" y="436"/>
                    </a:lnTo>
                    <a:lnTo>
                      <a:pt x="542" y="376"/>
                    </a:lnTo>
                    <a:lnTo>
                      <a:pt x="593" y="339"/>
                    </a:lnTo>
                    <a:lnTo>
                      <a:pt x="633" y="317"/>
                    </a:lnTo>
                    <a:lnTo>
                      <a:pt x="716" y="307"/>
                    </a:lnTo>
                    <a:lnTo>
                      <a:pt x="7689" y="138"/>
                    </a:lnTo>
                    <a:lnTo>
                      <a:pt x="7805" y="138"/>
                    </a:lnTo>
                    <a:lnTo>
                      <a:pt x="7892" y="138"/>
                    </a:lnTo>
                    <a:lnTo>
                      <a:pt x="7969" y="160"/>
                    </a:lnTo>
                    <a:lnTo>
                      <a:pt x="8034" y="20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954"/>
                  </a:gs>
                  <a:gs pos="100000">
                    <a:srgbClr val="8a80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246240" y="4662720"/>
                <a:ext cx="231840" cy="13680"/>
              </a:xfrm>
              <a:custGeom>
                <a:avLst/>
                <a:gdLst/>
                <a:ahLst/>
                <a:rect l="l" t="t" r="r" b="b"/>
                <a:pathLst>
                  <a:path w="7879" h="426">
                    <a:moveTo>
                      <a:pt x="7872" y="123"/>
                    </a:moveTo>
                    <a:lnTo>
                      <a:pt x="7858" y="151"/>
                    </a:lnTo>
                    <a:lnTo>
                      <a:pt x="7845" y="179"/>
                    </a:lnTo>
                    <a:lnTo>
                      <a:pt x="7817" y="197"/>
                    </a:lnTo>
                    <a:lnTo>
                      <a:pt x="7808" y="210"/>
                    </a:lnTo>
                    <a:lnTo>
                      <a:pt x="7803" y="210"/>
                    </a:lnTo>
                    <a:lnTo>
                      <a:pt x="7799" y="215"/>
                    </a:lnTo>
                    <a:lnTo>
                      <a:pt x="7716" y="243"/>
                    </a:lnTo>
                    <a:lnTo>
                      <a:pt x="458" y="27"/>
                    </a:lnTo>
                    <a:lnTo>
                      <a:pt x="390" y="13"/>
                    </a:lnTo>
                    <a:lnTo>
                      <a:pt x="329" y="0"/>
                    </a:lnTo>
                    <a:lnTo>
                      <a:pt x="0" y="183"/>
                    </a:lnTo>
                    <a:lnTo>
                      <a:pt x="5373" y="339"/>
                    </a:lnTo>
                    <a:lnTo>
                      <a:pt x="5449" y="340"/>
                    </a:lnTo>
                    <a:lnTo>
                      <a:pt x="5654" y="341"/>
                    </a:lnTo>
                    <a:lnTo>
                      <a:pt x="5950" y="345"/>
                    </a:lnTo>
                    <a:lnTo>
                      <a:pt x="6302" y="352"/>
                    </a:lnTo>
                    <a:lnTo>
                      <a:pt x="6487" y="356"/>
                    </a:lnTo>
                    <a:lnTo>
                      <a:pt x="6673" y="363"/>
                    </a:lnTo>
                    <a:lnTo>
                      <a:pt x="6853" y="369"/>
                    </a:lnTo>
                    <a:lnTo>
                      <a:pt x="7025" y="376"/>
                    </a:lnTo>
                    <a:lnTo>
                      <a:pt x="7107" y="380"/>
                    </a:lnTo>
                    <a:lnTo>
                      <a:pt x="7183" y="384"/>
                    </a:lnTo>
                    <a:lnTo>
                      <a:pt x="7257" y="389"/>
                    </a:lnTo>
                    <a:lnTo>
                      <a:pt x="7324" y="394"/>
                    </a:lnTo>
                    <a:lnTo>
                      <a:pt x="7386" y="399"/>
                    </a:lnTo>
                    <a:lnTo>
                      <a:pt x="7442" y="405"/>
                    </a:lnTo>
                    <a:lnTo>
                      <a:pt x="7492" y="411"/>
                    </a:lnTo>
                    <a:lnTo>
                      <a:pt x="7532" y="417"/>
                    </a:lnTo>
                    <a:lnTo>
                      <a:pt x="7571" y="422"/>
                    </a:lnTo>
                    <a:lnTo>
                      <a:pt x="7606" y="425"/>
                    </a:lnTo>
                    <a:lnTo>
                      <a:pt x="7639" y="426"/>
                    </a:lnTo>
                    <a:lnTo>
                      <a:pt x="7668" y="424"/>
                    </a:lnTo>
                    <a:lnTo>
                      <a:pt x="7696" y="421"/>
                    </a:lnTo>
                    <a:lnTo>
                      <a:pt x="7720" y="416"/>
                    </a:lnTo>
                    <a:lnTo>
                      <a:pt x="7744" y="409"/>
                    </a:lnTo>
                    <a:lnTo>
                      <a:pt x="7764" y="400"/>
                    </a:lnTo>
                    <a:lnTo>
                      <a:pt x="7782" y="390"/>
                    </a:lnTo>
                    <a:lnTo>
                      <a:pt x="7798" y="380"/>
                    </a:lnTo>
                    <a:lnTo>
                      <a:pt x="7813" y="368"/>
                    </a:lnTo>
                    <a:lnTo>
                      <a:pt x="7826" y="354"/>
                    </a:lnTo>
                    <a:lnTo>
                      <a:pt x="7837" y="341"/>
                    </a:lnTo>
                    <a:lnTo>
                      <a:pt x="7846" y="326"/>
                    </a:lnTo>
                    <a:lnTo>
                      <a:pt x="7854" y="311"/>
                    </a:lnTo>
                    <a:lnTo>
                      <a:pt x="7860" y="296"/>
                    </a:lnTo>
                    <a:lnTo>
                      <a:pt x="7866" y="281"/>
                    </a:lnTo>
                    <a:lnTo>
                      <a:pt x="7870" y="266"/>
                    </a:lnTo>
                    <a:lnTo>
                      <a:pt x="7874" y="250"/>
                    </a:lnTo>
                    <a:lnTo>
                      <a:pt x="7876" y="235"/>
                    </a:lnTo>
                    <a:lnTo>
                      <a:pt x="7878" y="220"/>
                    </a:lnTo>
                    <a:lnTo>
                      <a:pt x="7879" y="205"/>
                    </a:lnTo>
                    <a:lnTo>
                      <a:pt x="7879" y="192"/>
                    </a:lnTo>
                    <a:lnTo>
                      <a:pt x="7879" y="179"/>
                    </a:lnTo>
                    <a:lnTo>
                      <a:pt x="7875" y="139"/>
                    </a:lnTo>
                    <a:lnTo>
                      <a:pt x="7872" y="123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220680" y="4780080"/>
                <a:ext cx="73800" cy="10800"/>
              </a:xfrm>
              <a:custGeom>
                <a:avLst/>
                <a:gdLst/>
                <a:ahLst/>
                <a:rect l="l" t="t" r="r" b="b"/>
                <a:pathLst>
                  <a:path w="2378" h="344">
                    <a:moveTo>
                      <a:pt x="0" y="222"/>
                    </a:moveTo>
                    <a:lnTo>
                      <a:pt x="0" y="0"/>
                    </a:lnTo>
                    <a:lnTo>
                      <a:pt x="2378" y="107"/>
                    </a:lnTo>
                    <a:lnTo>
                      <a:pt x="2378" y="344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6a6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74160" y="5087880"/>
              <a:ext cx="505440" cy="457200"/>
              <a:chOff x="74160" y="5087880"/>
              <a:chExt cx="505440" cy="457200"/>
            </a:xfrm>
          </p:grpSpPr>
          <p:sp>
            <p:nvSpPr>
              <p:cNvPr id="528" name=""/>
              <p:cNvSpPr/>
              <p:nvPr/>
            </p:nvSpPr>
            <p:spPr>
              <a:xfrm flipH="1">
                <a:off x="73800" y="5371560"/>
                <a:ext cx="122760" cy="173160"/>
              </a:xfrm>
              <a:custGeom>
                <a:avLst/>
                <a:gdLst/>
                <a:ahLst/>
                <a:rect l="l" t="t" r="r" b="b"/>
                <a:pathLst>
                  <a:path w="3967" h="6591">
                    <a:moveTo>
                      <a:pt x="3967" y="4235"/>
                    </a:moveTo>
                    <a:lnTo>
                      <a:pt x="3967" y="0"/>
                    </a:lnTo>
                    <a:lnTo>
                      <a:pt x="0" y="1552"/>
                    </a:lnTo>
                    <a:lnTo>
                      <a:pt x="0" y="6591"/>
                    </a:lnTo>
                    <a:lnTo>
                      <a:pt x="3967" y="42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5e5b"/>
                  </a:gs>
                  <a:gs pos="100000">
                    <a:srgbClr val="b7aaa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197280" y="5400360"/>
                <a:ext cx="382320" cy="144720"/>
              </a:xfrm>
              <a:custGeom>
                <a:avLst/>
                <a:gdLst/>
                <a:ahLst/>
                <a:rect l="l" t="t" r="r" b="b"/>
                <a:pathLst>
                  <a:path w="12371" h="5729">
                    <a:moveTo>
                      <a:pt x="0" y="4694"/>
                    </a:moveTo>
                    <a:lnTo>
                      <a:pt x="0" y="0"/>
                    </a:lnTo>
                    <a:lnTo>
                      <a:pt x="12371" y="690"/>
                    </a:lnTo>
                    <a:lnTo>
                      <a:pt x="12371" y="5729"/>
                    </a:lnTo>
                    <a:lnTo>
                      <a:pt x="0" y="469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cfca"/>
                  </a:gs>
                  <a:gs pos="100000">
                    <a:srgbClr val="968f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73800" y="5356080"/>
                <a:ext cx="505080" cy="66240"/>
              </a:xfrm>
              <a:custGeom>
                <a:avLst/>
                <a:gdLst/>
                <a:ahLst/>
                <a:rect l="l" t="t" r="r" b="b"/>
                <a:pathLst>
                  <a:path w="16338" h="2034">
                    <a:moveTo>
                      <a:pt x="5308" y="0"/>
                    </a:moveTo>
                    <a:lnTo>
                      <a:pt x="0" y="1344"/>
                    </a:lnTo>
                    <a:lnTo>
                      <a:pt x="12371" y="2034"/>
                    </a:lnTo>
                    <a:lnTo>
                      <a:pt x="16338" y="482"/>
                    </a:lnTo>
                    <a:lnTo>
                      <a:pt x="530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cbc6"/>
                  </a:gs>
                  <a:gs pos="100000">
                    <a:srgbClr val="eee3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152640" y="5317200"/>
                <a:ext cx="323640" cy="84240"/>
              </a:xfrm>
              <a:custGeom>
                <a:avLst/>
                <a:gdLst/>
                <a:ahLst/>
                <a:rect l="l" t="t" r="r" b="b"/>
                <a:pathLst>
                  <a:path w="11046" h="2745">
                    <a:moveTo>
                      <a:pt x="11046" y="0"/>
                    </a:moveTo>
                    <a:lnTo>
                      <a:pt x="11046" y="1726"/>
                    </a:lnTo>
                    <a:lnTo>
                      <a:pt x="8437" y="2745"/>
                    </a:lnTo>
                    <a:lnTo>
                      <a:pt x="110" y="2377"/>
                    </a:lnTo>
                    <a:lnTo>
                      <a:pt x="0" y="981"/>
                    </a:lnTo>
                    <a:lnTo>
                      <a:pt x="1104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755"/>
                  </a:gs>
                  <a:gs pos="100000">
                    <a:srgbClr val="c8be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135720" y="5119560"/>
                <a:ext cx="52200" cy="232200"/>
              </a:xfrm>
              <a:custGeom>
                <a:avLst/>
                <a:gdLst/>
                <a:ahLst/>
                <a:rect l="l" t="t" r="r" b="b"/>
                <a:pathLst>
                  <a:path w="1756" h="7513">
                    <a:moveTo>
                      <a:pt x="137" y="0"/>
                    </a:moveTo>
                    <a:lnTo>
                      <a:pt x="1715" y="950"/>
                    </a:lnTo>
                    <a:lnTo>
                      <a:pt x="1756" y="1024"/>
                    </a:lnTo>
                    <a:lnTo>
                      <a:pt x="1756" y="6260"/>
                    </a:lnTo>
                    <a:lnTo>
                      <a:pt x="1738" y="6310"/>
                    </a:lnTo>
                    <a:lnTo>
                      <a:pt x="0" y="7513"/>
                    </a:lnTo>
                    <a:lnTo>
                      <a:pt x="13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5e5b"/>
                  </a:gs>
                  <a:gs pos="100000">
                    <a:srgbClr val="b7aaa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203400" y="5087880"/>
                <a:ext cx="305640" cy="286200"/>
              </a:xfrm>
              <a:custGeom>
                <a:avLst/>
                <a:gdLst/>
                <a:ahLst/>
                <a:rect l="l" t="t" r="r" b="b"/>
                <a:pathLst>
                  <a:path w="10407" h="9275">
                    <a:moveTo>
                      <a:pt x="77" y="573"/>
                    </a:moveTo>
                    <a:lnTo>
                      <a:pt x="289" y="446"/>
                    </a:lnTo>
                    <a:lnTo>
                      <a:pt x="412" y="390"/>
                    </a:lnTo>
                    <a:lnTo>
                      <a:pt x="513" y="367"/>
                    </a:lnTo>
                    <a:lnTo>
                      <a:pt x="9876" y="0"/>
                    </a:lnTo>
                    <a:lnTo>
                      <a:pt x="10265" y="64"/>
                    </a:lnTo>
                    <a:lnTo>
                      <a:pt x="10375" y="120"/>
                    </a:lnTo>
                    <a:lnTo>
                      <a:pt x="10407" y="156"/>
                    </a:lnTo>
                    <a:lnTo>
                      <a:pt x="10366" y="9275"/>
                    </a:lnTo>
                    <a:lnTo>
                      <a:pt x="270" y="8921"/>
                    </a:lnTo>
                    <a:lnTo>
                      <a:pt x="178" y="8880"/>
                    </a:lnTo>
                    <a:lnTo>
                      <a:pt x="123" y="8835"/>
                    </a:lnTo>
                    <a:lnTo>
                      <a:pt x="73" y="8765"/>
                    </a:lnTo>
                    <a:lnTo>
                      <a:pt x="0" y="8632"/>
                    </a:lnTo>
                    <a:lnTo>
                      <a:pt x="77" y="57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9cfca"/>
                  </a:gs>
                  <a:gs pos="100000">
                    <a:srgbClr val="968f8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151560" y="5087880"/>
                <a:ext cx="78120" cy="313200"/>
              </a:xfrm>
              <a:custGeom>
                <a:avLst/>
                <a:gdLst/>
                <a:ahLst/>
                <a:rect l="l" t="t" r="r" b="b"/>
                <a:pathLst>
                  <a:path w="2678" h="10161">
                    <a:moveTo>
                      <a:pt x="0" y="10161"/>
                    </a:moveTo>
                    <a:lnTo>
                      <a:pt x="51" y="9248"/>
                    </a:lnTo>
                    <a:lnTo>
                      <a:pt x="353" y="9248"/>
                    </a:lnTo>
                    <a:lnTo>
                      <a:pt x="491" y="9220"/>
                    </a:lnTo>
                    <a:lnTo>
                      <a:pt x="583" y="9142"/>
                    </a:lnTo>
                    <a:lnTo>
                      <a:pt x="629" y="9009"/>
                    </a:lnTo>
                    <a:lnTo>
                      <a:pt x="629" y="248"/>
                    </a:lnTo>
                    <a:lnTo>
                      <a:pt x="614" y="162"/>
                    </a:lnTo>
                    <a:lnTo>
                      <a:pt x="596" y="88"/>
                    </a:lnTo>
                    <a:lnTo>
                      <a:pt x="568" y="51"/>
                    </a:lnTo>
                    <a:lnTo>
                      <a:pt x="491" y="0"/>
                    </a:lnTo>
                    <a:lnTo>
                      <a:pt x="857" y="60"/>
                    </a:lnTo>
                    <a:lnTo>
                      <a:pt x="1023" y="110"/>
                    </a:lnTo>
                    <a:lnTo>
                      <a:pt x="1682" y="538"/>
                    </a:lnTo>
                    <a:lnTo>
                      <a:pt x="1701" y="556"/>
                    </a:lnTo>
                    <a:lnTo>
                      <a:pt x="1715" y="584"/>
                    </a:lnTo>
                    <a:lnTo>
                      <a:pt x="1719" y="620"/>
                    </a:lnTo>
                    <a:lnTo>
                      <a:pt x="2678" y="7320"/>
                    </a:lnTo>
                    <a:lnTo>
                      <a:pt x="2669" y="9137"/>
                    </a:lnTo>
                    <a:lnTo>
                      <a:pt x="27" y="10161"/>
                    </a:lnTo>
                    <a:lnTo>
                      <a:pt x="0" y="1016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5e5b"/>
                  </a:gs>
                  <a:gs pos="100000">
                    <a:srgbClr val="b7aaa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228240" y="5364000"/>
                <a:ext cx="247320" cy="18000"/>
              </a:xfrm>
              <a:custGeom>
                <a:avLst/>
                <a:gdLst/>
                <a:ahLst/>
                <a:rect l="l" t="t" r="r" b="b"/>
                <a:pathLst>
                  <a:path w="8422" h="579">
                    <a:moveTo>
                      <a:pt x="0" y="0"/>
                    </a:moveTo>
                    <a:lnTo>
                      <a:pt x="8422" y="304"/>
                    </a:lnTo>
                    <a:lnTo>
                      <a:pt x="8391" y="579"/>
                    </a:lnTo>
                    <a:lnTo>
                      <a:pt x="18" y="23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642"/>
                  </a:gs>
                  <a:gs pos="100000">
                    <a:srgbClr val="a898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246240" y="5131080"/>
                <a:ext cx="231840" cy="200880"/>
              </a:xfrm>
              <a:custGeom>
                <a:avLst/>
                <a:gdLst/>
                <a:ahLst/>
                <a:rect l="l" t="t" r="r" b="b"/>
                <a:pathLst>
                  <a:path w="7886" h="6539">
                    <a:moveTo>
                      <a:pt x="0" y="6084"/>
                    </a:moveTo>
                    <a:lnTo>
                      <a:pt x="73" y="6282"/>
                    </a:lnTo>
                    <a:lnTo>
                      <a:pt x="7775" y="6539"/>
                    </a:lnTo>
                    <a:lnTo>
                      <a:pt x="7817" y="6480"/>
                    </a:lnTo>
                    <a:lnTo>
                      <a:pt x="7863" y="6410"/>
                    </a:lnTo>
                    <a:lnTo>
                      <a:pt x="7886" y="229"/>
                    </a:lnTo>
                    <a:lnTo>
                      <a:pt x="7867" y="118"/>
                    </a:lnTo>
                    <a:lnTo>
                      <a:pt x="7817" y="63"/>
                    </a:lnTo>
                    <a:lnTo>
                      <a:pt x="7460" y="0"/>
                    </a:lnTo>
                    <a:lnTo>
                      <a:pt x="206" y="197"/>
                    </a:lnTo>
                    <a:lnTo>
                      <a:pt x="14" y="3312"/>
                    </a:lnTo>
                    <a:lnTo>
                      <a:pt x="0" y="60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4b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249480" y="5346000"/>
                <a:ext cx="39600" cy="7560"/>
              </a:xfrm>
              <a:custGeom>
                <a:avLst/>
                <a:gdLst/>
                <a:ahLst/>
                <a:rect l="l" t="t" r="r" b="b"/>
                <a:pathLst>
                  <a:path w="1357" h="276">
                    <a:moveTo>
                      <a:pt x="1357" y="55"/>
                    </a:moveTo>
                    <a:lnTo>
                      <a:pt x="0" y="0"/>
                    </a:lnTo>
                    <a:lnTo>
                      <a:pt x="0" y="225"/>
                    </a:lnTo>
                    <a:lnTo>
                      <a:pt x="1357" y="276"/>
                    </a:lnTo>
                    <a:lnTo>
                      <a:pt x="1357" y="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2be00"/>
                  </a:gs>
                  <a:gs pos="100000">
                    <a:srgbClr val="0b7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246240" y="5129280"/>
                <a:ext cx="236880" cy="198360"/>
              </a:xfrm>
              <a:custGeom>
                <a:avLst/>
                <a:gdLst/>
                <a:ahLst/>
                <a:rect l="l" t="t" r="r" b="b"/>
                <a:pathLst>
                  <a:path w="8034" h="6443">
                    <a:moveTo>
                      <a:pt x="8034" y="206"/>
                    </a:moveTo>
                    <a:lnTo>
                      <a:pt x="8020" y="147"/>
                    </a:lnTo>
                    <a:lnTo>
                      <a:pt x="7969" y="64"/>
                    </a:lnTo>
                    <a:lnTo>
                      <a:pt x="7919" y="32"/>
                    </a:lnTo>
                    <a:lnTo>
                      <a:pt x="7818" y="9"/>
                    </a:lnTo>
                    <a:lnTo>
                      <a:pt x="7722" y="0"/>
                    </a:lnTo>
                    <a:lnTo>
                      <a:pt x="294" y="179"/>
                    </a:lnTo>
                    <a:lnTo>
                      <a:pt x="180" y="193"/>
                    </a:lnTo>
                    <a:lnTo>
                      <a:pt x="97" y="239"/>
                    </a:lnTo>
                    <a:lnTo>
                      <a:pt x="51" y="298"/>
                    </a:lnTo>
                    <a:lnTo>
                      <a:pt x="24" y="372"/>
                    </a:lnTo>
                    <a:lnTo>
                      <a:pt x="0" y="495"/>
                    </a:lnTo>
                    <a:lnTo>
                      <a:pt x="0" y="6177"/>
                    </a:lnTo>
                    <a:lnTo>
                      <a:pt x="10" y="6273"/>
                    </a:lnTo>
                    <a:lnTo>
                      <a:pt x="33" y="6356"/>
                    </a:lnTo>
                    <a:lnTo>
                      <a:pt x="61" y="6388"/>
                    </a:lnTo>
                    <a:lnTo>
                      <a:pt x="111" y="6420"/>
                    </a:lnTo>
                    <a:lnTo>
                      <a:pt x="162" y="6443"/>
                    </a:lnTo>
                    <a:lnTo>
                      <a:pt x="510" y="6255"/>
                    </a:lnTo>
                    <a:lnTo>
                      <a:pt x="468" y="6218"/>
                    </a:lnTo>
                    <a:lnTo>
                      <a:pt x="427" y="6172"/>
                    </a:lnTo>
                    <a:lnTo>
                      <a:pt x="409" y="6126"/>
                    </a:lnTo>
                    <a:lnTo>
                      <a:pt x="390" y="6007"/>
                    </a:lnTo>
                    <a:lnTo>
                      <a:pt x="354" y="4823"/>
                    </a:lnTo>
                    <a:lnTo>
                      <a:pt x="322" y="3455"/>
                    </a:lnTo>
                    <a:lnTo>
                      <a:pt x="331" y="2460"/>
                    </a:lnTo>
                    <a:lnTo>
                      <a:pt x="363" y="1284"/>
                    </a:lnTo>
                    <a:lnTo>
                      <a:pt x="440" y="711"/>
                    </a:lnTo>
                    <a:lnTo>
                      <a:pt x="464" y="551"/>
                    </a:lnTo>
                    <a:lnTo>
                      <a:pt x="501" y="436"/>
                    </a:lnTo>
                    <a:lnTo>
                      <a:pt x="542" y="376"/>
                    </a:lnTo>
                    <a:lnTo>
                      <a:pt x="593" y="339"/>
                    </a:lnTo>
                    <a:lnTo>
                      <a:pt x="633" y="317"/>
                    </a:lnTo>
                    <a:lnTo>
                      <a:pt x="716" y="307"/>
                    </a:lnTo>
                    <a:lnTo>
                      <a:pt x="7689" y="138"/>
                    </a:lnTo>
                    <a:lnTo>
                      <a:pt x="7805" y="138"/>
                    </a:lnTo>
                    <a:lnTo>
                      <a:pt x="7892" y="138"/>
                    </a:lnTo>
                    <a:lnTo>
                      <a:pt x="7969" y="160"/>
                    </a:lnTo>
                    <a:lnTo>
                      <a:pt x="8034" y="20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5954"/>
                  </a:gs>
                  <a:gs pos="100000">
                    <a:srgbClr val="8a80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246240" y="5321520"/>
                <a:ext cx="231840" cy="13680"/>
              </a:xfrm>
              <a:custGeom>
                <a:avLst/>
                <a:gdLst/>
                <a:ahLst/>
                <a:rect l="l" t="t" r="r" b="b"/>
                <a:pathLst>
                  <a:path w="7879" h="426">
                    <a:moveTo>
                      <a:pt x="7872" y="123"/>
                    </a:moveTo>
                    <a:lnTo>
                      <a:pt x="7858" y="151"/>
                    </a:lnTo>
                    <a:lnTo>
                      <a:pt x="7845" y="179"/>
                    </a:lnTo>
                    <a:lnTo>
                      <a:pt x="7817" y="197"/>
                    </a:lnTo>
                    <a:lnTo>
                      <a:pt x="7808" y="210"/>
                    </a:lnTo>
                    <a:lnTo>
                      <a:pt x="7803" y="210"/>
                    </a:lnTo>
                    <a:lnTo>
                      <a:pt x="7799" y="215"/>
                    </a:lnTo>
                    <a:lnTo>
                      <a:pt x="7716" y="243"/>
                    </a:lnTo>
                    <a:lnTo>
                      <a:pt x="458" y="27"/>
                    </a:lnTo>
                    <a:lnTo>
                      <a:pt x="390" y="13"/>
                    </a:lnTo>
                    <a:lnTo>
                      <a:pt x="329" y="0"/>
                    </a:lnTo>
                    <a:lnTo>
                      <a:pt x="0" y="183"/>
                    </a:lnTo>
                    <a:lnTo>
                      <a:pt x="5373" y="339"/>
                    </a:lnTo>
                    <a:lnTo>
                      <a:pt x="5449" y="340"/>
                    </a:lnTo>
                    <a:lnTo>
                      <a:pt x="5654" y="341"/>
                    </a:lnTo>
                    <a:lnTo>
                      <a:pt x="5950" y="345"/>
                    </a:lnTo>
                    <a:lnTo>
                      <a:pt x="6302" y="352"/>
                    </a:lnTo>
                    <a:lnTo>
                      <a:pt x="6487" y="356"/>
                    </a:lnTo>
                    <a:lnTo>
                      <a:pt x="6673" y="363"/>
                    </a:lnTo>
                    <a:lnTo>
                      <a:pt x="6853" y="369"/>
                    </a:lnTo>
                    <a:lnTo>
                      <a:pt x="7025" y="376"/>
                    </a:lnTo>
                    <a:lnTo>
                      <a:pt x="7107" y="380"/>
                    </a:lnTo>
                    <a:lnTo>
                      <a:pt x="7183" y="384"/>
                    </a:lnTo>
                    <a:lnTo>
                      <a:pt x="7257" y="389"/>
                    </a:lnTo>
                    <a:lnTo>
                      <a:pt x="7324" y="394"/>
                    </a:lnTo>
                    <a:lnTo>
                      <a:pt x="7386" y="399"/>
                    </a:lnTo>
                    <a:lnTo>
                      <a:pt x="7442" y="405"/>
                    </a:lnTo>
                    <a:lnTo>
                      <a:pt x="7492" y="411"/>
                    </a:lnTo>
                    <a:lnTo>
                      <a:pt x="7532" y="417"/>
                    </a:lnTo>
                    <a:lnTo>
                      <a:pt x="7571" y="422"/>
                    </a:lnTo>
                    <a:lnTo>
                      <a:pt x="7606" y="425"/>
                    </a:lnTo>
                    <a:lnTo>
                      <a:pt x="7639" y="426"/>
                    </a:lnTo>
                    <a:lnTo>
                      <a:pt x="7668" y="424"/>
                    </a:lnTo>
                    <a:lnTo>
                      <a:pt x="7696" y="421"/>
                    </a:lnTo>
                    <a:lnTo>
                      <a:pt x="7720" y="416"/>
                    </a:lnTo>
                    <a:lnTo>
                      <a:pt x="7744" y="409"/>
                    </a:lnTo>
                    <a:lnTo>
                      <a:pt x="7764" y="400"/>
                    </a:lnTo>
                    <a:lnTo>
                      <a:pt x="7782" y="390"/>
                    </a:lnTo>
                    <a:lnTo>
                      <a:pt x="7798" y="380"/>
                    </a:lnTo>
                    <a:lnTo>
                      <a:pt x="7813" y="368"/>
                    </a:lnTo>
                    <a:lnTo>
                      <a:pt x="7826" y="354"/>
                    </a:lnTo>
                    <a:lnTo>
                      <a:pt x="7837" y="341"/>
                    </a:lnTo>
                    <a:lnTo>
                      <a:pt x="7846" y="326"/>
                    </a:lnTo>
                    <a:lnTo>
                      <a:pt x="7854" y="311"/>
                    </a:lnTo>
                    <a:lnTo>
                      <a:pt x="7860" y="296"/>
                    </a:lnTo>
                    <a:lnTo>
                      <a:pt x="7866" y="281"/>
                    </a:lnTo>
                    <a:lnTo>
                      <a:pt x="7870" y="266"/>
                    </a:lnTo>
                    <a:lnTo>
                      <a:pt x="7874" y="250"/>
                    </a:lnTo>
                    <a:lnTo>
                      <a:pt x="7876" y="235"/>
                    </a:lnTo>
                    <a:lnTo>
                      <a:pt x="7878" y="220"/>
                    </a:lnTo>
                    <a:lnTo>
                      <a:pt x="7879" y="205"/>
                    </a:lnTo>
                    <a:lnTo>
                      <a:pt x="7879" y="192"/>
                    </a:lnTo>
                    <a:lnTo>
                      <a:pt x="7879" y="179"/>
                    </a:lnTo>
                    <a:lnTo>
                      <a:pt x="7875" y="139"/>
                    </a:lnTo>
                    <a:lnTo>
                      <a:pt x="7872" y="123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220680" y="5438880"/>
                <a:ext cx="73800" cy="10800"/>
              </a:xfrm>
              <a:custGeom>
                <a:avLst/>
                <a:gdLst/>
                <a:ahLst/>
                <a:rect l="l" t="t" r="r" b="b"/>
                <a:pathLst>
                  <a:path w="2378" h="344">
                    <a:moveTo>
                      <a:pt x="0" y="222"/>
                    </a:moveTo>
                    <a:lnTo>
                      <a:pt x="0" y="0"/>
                    </a:lnTo>
                    <a:lnTo>
                      <a:pt x="2378" y="107"/>
                    </a:lnTo>
                    <a:lnTo>
                      <a:pt x="2378" y="344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6a6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1122480" y="4459320"/>
              <a:ext cx="912600" cy="271440"/>
              <a:chOff x="1122480" y="4459320"/>
              <a:chExt cx="912600" cy="271440"/>
            </a:xfrm>
          </p:grpSpPr>
          <p:sp>
            <p:nvSpPr>
              <p:cNvPr id="542" name=""/>
              <p:cNvSpPr/>
              <p:nvPr/>
            </p:nvSpPr>
            <p:spPr>
              <a:xfrm>
                <a:off x="1122480" y="4459320"/>
                <a:ext cx="912600" cy="271440"/>
              </a:xfrm>
              <a:prstGeom prst="rect">
                <a:avLst/>
              </a:prstGeom>
              <a:solidFill>
                <a:srgbClr val="6489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160640" y="4523040"/>
                <a:ext cx="231480" cy="3960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160640" y="4591080"/>
                <a:ext cx="231480" cy="3996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160640" y="4659480"/>
                <a:ext cx="231480" cy="3960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546" name=""/>
              <p:cNvGraphicFramePr/>
              <p:nvPr/>
            </p:nvGraphicFramePr>
            <p:xfrm>
              <a:off x="1751040" y="4523040"/>
              <a:ext cx="165240" cy="16488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547" name="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1751040" y="4523040"/>
                        <a:ext cx="165240" cy="16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548" name=""/>
            <p:cNvGrpSpPr/>
            <p:nvPr/>
          </p:nvGrpSpPr>
          <p:grpSpPr>
            <a:xfrm>
              <a:off x="476280" y="4056120"/>
              <a:ext cx="646200" cy="1271160"/>
              <a:chOff x="476280" y="4056120"/>
              <a:chExt cx="646200" cy="1271160"/>
            </a:xfrm>
          </p:grpSpPr>
          <p:sp>
            <p:nvSpPr>
              <p:cNvPr id="549" name=""/>
              <p:cNvSpPr/>
              <p:nvPr/>
            </p:nvSpPr>
            <p:spPr>
              <a:xfrm>
                <a:off x="496800" y="4673880"/>
                <a:ext cx="625680" cy="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09760" y="4056120"/>
                <a:ext cx="612720" cy="59544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476280" y="4703400"/>
                <a:ext cx="646200" cy="623880"/>
              </a:xfrm>
              <a:prstGeom prst="line">
                <a:avLst/>
              </a:prstGeom>
              <a:ln w="25560">
                <a:solidFill>
                  <a:srgbClr val="ffcc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52" name=""/>
          <p:cNvGraphicFramePr/>
          <p:nvPr/>
        </p:nvGraphicFramePr>
        <p:xfrm>
          <a:off x="4511520" y="6345360"/>
          <a:ext cx="165240" cy="1648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511520" y="6345360"/>
                    <a:ext cx="165240" cy="1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4696920" y="6274440"/>
            <a:ext cx="11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DS 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 Distributo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Fea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ighly scalable, cross-geography content distribu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stributes all types of content: HTML, graphic images, streaming, dynamic and applica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es content on live servers without affecting the user experi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ynchronizes content across servers and cach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forms load balancers of changes in content availability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obust auditing and error recovery featur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erforms automated catch-up of offline servers so that servers are always synchronize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asy administration of complex content job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437760" y="1521000"/>
            <a:ext cx="550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ggregates data about content usage and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6960" y="2282760"/>
            <a:ext cx="793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ables adjustment of content availability to meet those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38480" y="1901880"/>
            <a:ext cx="564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cks whether service level requirements are being m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 Delivery Sui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 Manag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137120" y="2895480"/>
            <a:ext cx="2911320" cy="2990880"/>
          </a:xfrm>
          <a:custGeom>
            <a:avLst/>
            <a:gdLst/>
            <a:ahLst/>
            <a:rect l="l" t="t" r="r" b="b"/>
            <a:pathLst>
              <a:path w="18270" h="10780">
                <a:moveTo>
                  <a:pt x="18270" y="6600"/>
                </a:moveTo>
                <a:lnTo>
                  <a:pt x="18268" y="6525"/>
                </a:lnTo>
                <a:lnTo>
                  <a:pt x="18262" y="6451"/>
                </a:lnTo>
                <a:lnTo>
                  <a:pt x="18252" y="6378"/>
                </a:lnTo>
                <a:lnTo>
                  <a:pt x="18238" y="6305"/>
                </a:lnTo>
                <a:lnTo>
                  <a:pt x="18221" y="6233"/>
                </a:lnTo>
                <a:lnTo>
                  <a:pt x="18199" y="6161"/>
                </a:lnTo>
                <a:lnTo>
                  <a:pt x="18174" y="6091"/>
                </a:lnTo>
                <a:lnTo>
                  <a:pt x="18146" y="6020"/>
                </a:lnTo>
                <a:lnTo>
                  <a:pt x="18112" y="5952"/>
                </a:lnTo>
                <a:lnTo>
                  <a:pt x="18077" y="5883"/>
                </a:lnTo>
                <a:lnTo>
                  <a:pt x="18038" y="5817"/>
                </a:lnTo>
                <a:lnTo>
                  <a:pt x="17995" y="5751"/>
                </a:lnTo>
                <a:lnTo>
                  <a:pt x="17949" y="5685"/>
                </a:lnTo>
                <a:lnTo>
                  <a:pt x="17900" y="5621"/>
                </a:lnTo>
                <a:lnTo>
                  <a:pt x="17848" y="5558"/>
                </a:lnTo>
                <a:lnTo>
                  <a:pt x="17792" y="5496"/>
                </a:lnTo>
                <a:lnTo>
                  <a:pt x="17733" y="5435"/>
                </a:lnTo>
                <a:lnTo>
                  <a:pt x="17672" y="5375"/>
                </a:lnTo>
                <a:lnTo>
                  <a:pt x="17607" y="5317"/>
                </a:lnTo>
                <a:lnTo>
                  <a:pt x="17539" y="5260"/>
                </a:lnTo>
                <a:lnTo>
                  <a:pt x="17470" y="5204"/>
                </a:lnTo>
                <a:lnTo>
                  <a:pt x="17396" y="5149"/>
                </a:lnTo>
                <a:lnTo>
                  <a:pt x="17320" y="5095"/>
                </a:lnTo>
                <a:lnTo>
                  <a:pt x="17242" y="5044"/>
                </a:lnTo>
                <a:lnTo>
                  <a:pt x="17161" y="4994"/>
                </a:lnTo>
                <a:lnTo>
                  <a:pt x="17077" y="4945"/>
                </a:lnTo>
                <a:lnTo>
                  <a:pt x="16991" y="4897"/>
                </a:lnTo>
                <a:lnTo>
                  <a:pt x="16903" y="4851"/>
                </a:lnTo>
                <a:lnTo>
                  <a:pt x="16812" y="4807"/>
                </a:lnTo>
                <a:lnTo>
                  <a:pt x="16719" y="4764"/>
                </a:lnTo>
                <a:lnTo>
                  <a:pt x="16623" y="4723"/>
                </a:lnTo>
                <a:lnTo>
                  <a:pt x="16526" y="4683"/>
                </a:lnTo>
                <a:lnTo>
                  <a:pt x="16557" y="4657"/>
                </a:lnTo>
                <a:lnTo>
                  <a:pt x="16586" y="4630"/>
                </a:lnTo>
                <a:lnTo>
                  <a:pt x="16615" y="4602"/>
                </a:lnTo>
                <a:lnTo>
                  <a:pt x="16643" y="4574"/>
                </a:lnTo>
                <a:lnTo>
                  <a:pt x="16670" y="4546"/>
                </a:lnTo>
                <a:lnTo>
                  <a:pt x="16696" y="4518"/>
                </a:lnTo>
                <a:lnTo>
                  <a:pt x="16722" y="4489"/>
                </a:lnTo>
                <a:lnTo>
                  <a:pt x="16746" y="4460"/>
                </a:lnTo>
                <a:lnTo>
                  <a:pt x="16770" y="4430"/>
                </a:lnTo>
                <a:lnTo>
                  <a:pt x="16792" y="4400"/>
                </a:lnTo>
                <a:lnTo>
                  <a:pt x="16814" y="4370"/>
                </a:lnTo>
                <a:lnTo>
                  <a:pt x="16835" y="4340"/>
                </a:lnTo>
                <a:lnTo>
                  <a:pt x="16855" y="4310"/>
                </a:lnTo>
                <a:lnTo>
                  <a:pt x="16873" y="4279"/>
                </a:lnTo>
                <a:lnTo>
                  <a:pt x="16892" y="4247"/>
                </a:lnTo>
                <a:lnTo>
                  <a:pt x="16909" y="4216"/>
                </a:lnTo>
                <a:lnTo>
                  <a:pt x="16926" y="4184"/>
                </a:lnTo>
                <a:lnTo>
                  <a:pt x="16941" y="4152"/>
                </a:lnTo>
                <a:lnTo>
                  <a:pt x="16955" y="4120"/>
                </a:lnTo>
                <a:lnTo>
                  <a:pt x="16968" y="4088"/>
                </a:lnTo>
                <a:lnTo>
                  <a:pt x="16981" y="4055"/>
                </a:lnTo>
                <a:lnTo>
                  <a:pt x="16992" y="4023"/>
                </a:lnTo>
                <a:lnTo>
                  <a:pt x="17003" y="3990"/>
                </a:lnTo>
                <a:lnTo>
                  <a:pt x="17012" y="3957"/>
                </a:lnTo>
                <a:lnTo>
                  <a:pt x="17020" y="3923"/>
                </a:lnTo>
                <a:lnTo>
                  <a:pt x="17026" y="3890"/>
                </a:lnTo>
                <a:lnTo>
                  <a:pt x="17032" y="3856"/>
                </a:lnTo>
                <a:lnTo>
                  <a:pt x="17038" y="3821"/>
                </a:lnTo>
                <a:lnTo>
                  <a:pt x="17041" y="3788"/>
                </a:lnTo>
                <a:lnTo>
                  <a:pt x="17044" y="3753"/>
                </a:lnTo>
                <a:lnTo>
                  <a:pt x="17046" y="3719"/>
                </a:lnTo>
                <a:lnTo>
                  <a:pt x="17046" y="3684"/>
                </a:lnTo>
                <a:lnTo>
                  <a:pt x="17042" y="3593"/>
                </a:lnTo>
                <a:lnTo>
                  <a:pt x="17031" y="3503"/>
                </a:lnTo>
                <a:lnTo>
                  <a:pt x="17012" y="3414"/>
                </a:lnTo>
                <a:lnTo>
                  <a:pt x="16985" y="3326"/>
                </a:lnTo>
                <a:lnTo>
                  <a:pt x="16952" y="3240"/>
                </a:lnTo>
                <a:lnTo>
                  <a:pt x="16911" y="3156"/>
                </a:lnTo>
                <a:lnTo>
                  <a:pt x="16864" y="3073"/>
                </a:lnTo>
                <a:lnTo>
                  <a:pt x="16811" y="2992"/>
                </a:lnTo>
                <a:lnTo>
                  <a:pt x="16750" y="2914"/>
                </a:lnTo>
                <a:lnTo>
                  <a:pt x="16684" y="2837"/>
                </a:lnTo>
                <a:lnTo>
                  <a:pt x="16612" y="2763"/>
                </a:lnTo>
                <a:lnTo>
                  <a:pt x="16533" y="2691"/>
                </a:lnTo>
                <a:lnTo>
                  <a:pt x="16450" y="2621"/>
                </a:lnTo>
                <a:lnTo>
                  <a:pt x="16361" y="2554"/>
                </a:lnTo>
                <a:lnTo>
                  <a:pt x="16266" y="2489"/>
                </a:lnTo>
                <a:lnTo>
                  <a:pt x="16167" y="2427"/>
                </a:lnTo>
                <a:lnTo>
                  <a:pt x="16063" y="2369"/>
                </a:lnTo>
                <a:lnTo>
                  <a:pt x="15953" y="2313"/>
                </a:lnTo>
                <a:lnTo>
                  <a:pt x="15840" y="2261"/>
                </a:lnTo>
                <a:lnTo>
                  <a:pt x="15722" y="2210"/>
                </a:lnTo>
                <a:lnTo>
                  <a:pt x="15600" y="2165"/>
                </a:lnTo>
                <a:lnTo>
                  <a:pt x="15475" y="2121"/>
                </a:lnTo>
                <a:lnTo>
                  <a:pt x="15346" y="2082"/>
                </a:lnTo>
                <a:lnTo>
                  <a:pt x="15212" y="2047"/>
                </a:lnTo>
                <a:lnTo>
                  <a:pt x="15076" y="2015"/>
                </a:lnTo>
                <a:lnTo>
                  <a:pt x="14936" y="1987"/>
                </a:lnTo>
                <a:lnTo>
                  <a:pt x="14794" y="1963"/>
                </a:lnTo>
                <a:lnTo>
                  <a:pt x="14648" y="1943"/>
                </a:lnTo>
                <a:lnTo>
                  <a:pt x="14501" y="1927"/>
                </a:lnTo>
                <a:lnTo>
                  <a:pt x="14350" y="1916"/>
                </a:lnTo>
                <a:lnTo>
                  <a:pt x="14198" y="1909"/>
                </a:lnTo>
                <a:lnTo>
                  <a:pt x="14043" y="1907"/>
                </a:lnTo>
                <a:lnTo>
                  <a:pt x="13965" y="1908"/>
                </a:lnTo>
                <a:lnTo>
                  <a:pt x="13887" y="1909"/>
                </a:lnTo>
                <a:lnTo>
                  <a:pt x="13811" y="1912"/>
                </a:lnTo>
                <a:lnTo>
                  <a:pt x="13734" y="1916"/>
                </a:lnTo>
                <a:lnTo>
                  <a:pt x="13659" y="1921"/>
                </a:lnTo>
                <a:lnTo>
                  <a:pt x="13584" y="1928"/>
                </a:lnTo>
                <a:lnTo>
                  <a:pt x="13508" y="1935"/>
                </a:lnTo>
                <a:lnTo>
                  <a:pt x="13434" y="1943"/>
                </a:lnTo>
                <a:lnTo>
                  <a:pt x="13361" y="1953"/>
                </a:lnTo>
                <a:lnTo>
                  <a:pt x="13289" y="1964"/>
                </a:lnTo>
                <a:lnTo>
                  <a:pt x="13217" y="1975"/>
                </a:lnTo>
                <a:lnTo>
                  <a:pt x="13145" y="1988"/>
                </a:lnTo>
                <a:lnTo>
                  <a:pt x="13074" y="2001"/>
                </a:lnTo>
                <a:lnTo>
                  <a:pt x="13005" y="2016"/>
                </a:lnTo>
                <a:lnTo>
                  <a:pt x="12936" y="2032"/>
                </a:lnTo>
                <a:lnTo>
                  <a:pt x="12868" y="2048"/>
                </a:lnTo>
                <a:lnTo>
                  <a:pt x="12844" y="1941"/>
                </a:lnTo>
                <a:lnTo>
                  <a:pt x="12812" y="1836"/>
                </a:lnTo>
                <a:lnTo>
                  <a:pt x="12772" y="1732"/>
                </a:lnTo>
                <a:lnTo>
                  <a:pt x="12725" y="1629"/>
                </a:lnTo>
                <a:lnTo>
                  <a:pt x="12669" y="1530"/>
                </a:lnTo>
                <a:lnTo>
                  <a:pt x="12606" y="1432"/>
                </a:lnTo>
                <a:lnTo>
                  <a:pt x="12536" y="1336"/>
                </a:lnTo>
                <a:lnTo>
                  <a:pt x="12459" y="1242"/>
                </a:lnTo>
                <a:lnTo>
                  <a:pt x="12374" y="1152"/>
                </a:lnTo>
                <a:lnTo>
                  <a:pt x="12284" y="1063"/>
                </a:lnTo>
                <a:lnTo>
                  <a:pt x="12187" y="977"/>
                </a:lnTo>
                <a:lnTo>
                  <a:pt x="12083" y="894"/>
                </a:lnTo>
                <a:lnTo>
                  <a:pt x="11974" y="814"/>
                </a:lnTo>
                <a:lnTo>
                  <a:pt x="11858" y="738"/>
                </a:lnTo>
                <a:lnTo>
                  <a:pt x="11738" y="663"/>
                </a:lnTo>
                <a:lnTo>
                  <a:pt x="11612" y="593"/>
                </a:lnTo>
                <a:lnTo>
                  <a:pt x="11480" y="525"/>
                </a:lnTo>
                <a:lnTo>
                  <a:pt x="11343" y="461"/>
                </a:lnTo>
                <a:lnTo>
                  <a:pt x="11202" y="401"/>
                </a:lnTo>
                <a:lnTo>
                  <a:pt x="11056" y="345"/>
                </a:lnTo>
                <a:lnTo>
                  <a:pt x="10905" y="292"/>
                </a:lnTo>
                <a:lnTo>
                  <a:pt x="10750" y="243"/>
                </a:lnTo>
                <a:lnTo>
                  <a:pt x="10591" y="199"/>
                </a:lnTo>
                <a:lnTo>
                  <a:pt x="10429" y="159"/>
                </a:lnTo>
                <a:lnTo>
                  <a:pt x="10262" y="122"/>
                </a:lnTo>
                <a:lnTo>
                  <a:pt x="10092" y="90"/>
                </a:lnTo>
                <a:lnTo>
                  <a:pt x="9918" y="63"/>
                </a:lnTo>
                <a:lnTo>
                  <a:pt x="9742" y="41"/>
                </a:lnTo>
                <a:lnTo>
                  <a:pt x="9563" y="23"/>
                </a:lnTo>
                <a:lnTo>
                  <a:pt x="9382" y="10"/>
                </a:lnTo>
                <a:lnTo>
                  <a:pt x="9198" y="2"/>
                </a:lnTo>
                <a:lnTo>
                  <a:pt x="9011" y="0"/>
                </a:lnTo>
                <a:lnTo>
                  <a:pt x="8838" y="2"/>
                </a:lnTo>
                <a:lnTo>
                  <a:pt x="8667" y="9"/>
                </a:lnTo>
                <a:lnTo>
                  <a:pt x="8498" y="19"/>
                </a:lnTo>
                <a:lnTo>
                  <a:pt x="8331" y="35"/>
                </a:lnTo>
                <a:lnTo>
                  <a:pt x="8167" y="55"/>
                </a:lnTo>
                <a:lnTo>
                  <a:pt x="8005" y="78"/>
                </a:lnTo>
                <a:lnTo>
                  <a:pt x="7846" y="105"/>
                </a:lnTo>
                <a:lnTo>
                  <a:pt x="7689" y="137"/>
                </a:lnTo>
                <a:lnTo>
                  <a:pt x="7536" y="171"/>
                </a:lnTo>
                <a:lnTo>
                  <a:pt x="7386" y="210"/>
                </a:lnTo>
                <a:lnTo>
                  <a:pt x="7239" y="252"/>
                </a:lnTo>
                <a:lnTo>
                  <a:pt x="7097" y="298"/>
                </a:lnTo>
                <a:lnTo>
                  <a:pt x="6957" y="348"/>
                </a:lnTo>
                <a:lnTo>
                  <a:pt x="6822" y="401"/>
                </a:lnTo>
                <a:lnTo>
                  <a:pt x="6690" y="456"/>
                </a:lnTo>
                <a:lnTo>
                  <a:pt x="6563" y="515"/>
                </a:lnTo>
                <a:lnTo>
                  <a:pt x="6440" y="577"/>
                </a:lnTo>
                <a:lnTo>
                  <a:pt x="6321" y="642"/>
                </a:lnTo>
                <a:lnTo>
                  <a:pt x="6207" y="709"/>
                </a:lnTo>
                <a:lnTo>
                  <a:pt x="6099" y="780"/>
                </a:lnTo>
                <a:lnTo>
                  <a:pt x="5995" y="852"/>
                </a:lnTo>
                <a:lnTo>
                  <a:pt x="5896" y="928"/>
                </a:lnTo>
                <a:lnTo>
                  <a:pt x="5802" y="1006"/>
                </a:lnTo>
                <a:lnTo>
                  <a:pt x="5714" y="1086"/>
                </a:lnTo>
                <a:lnTo>
                  <a:pt x="5631" y="1169"/>
                </a:lnTo>
                <a:lnTo>
                  <a:pt x="5554" y="1254"/>
                </a:lnTo>
                <a:lnTo>
                  <a:pt x="5482" y="1340"/>
                </a:lnTo>
                <a:lnTo>
                  <a:pt x="5418" y="1429"/>
                </a:lnTo>
                <a:lnTo>
                  <a:pt x="5359" y="1520"/>
                </a:lnTo>
                <a:lnTo>
                  <a:pt x="5306" y="1612"/>
                </a:lnTo>
                <a:lnTo>
                  <a:pt x="5261" y="1707"/>
                </a:lnTo>
                <a:lnTo>
                  <a:pt x="5222" y="1803"/>
                </a:lnTo>
                <a:lnTo>
                  <a:pt x="5156" y="1787"/>
                </a:lnTo>
                <a:lnTo>
                  <a:pt x="5088" y="1773"/>
                </a:lnTo>
                <a:lnTo>
                  <a:pt x="5021" y="1759"/>
                </a:lnTo>
                <a:lnTo>
                  <a:pt x="4952" y="1746"/>
                </a:lnTo>
                <a:lnTo>
                  <a:pt x="4884" y="1734"/>
                </a:lnTo>
                <a:lnTo>
                  <a:pt x="4814" y="1724"/>
                </a:lnTo>
                <a:lnTo>
                  <a:pt x="4744" y="1714"/>
                </a:lnTo>
                <a:lnTo>
                  <a:pt x="4674" y="1705"/>
                </a:lnTo>
                <a:lnTo>
                  <a:pt x="4602" y="1697"/>
                </a:lnTo>
                <a:lnTo>
                  <a:pt x="4530" y="1690"/>
                </a:lnTo>
                <a:lnTo>
                  <a:pt x="4458" y="1684"/>
                </a:lnTo>
                <a:lnTo>
                  <a:pt x="4384" y="1679"/>
                </a:lnTo>
                <a:lnTo>
                  <a:pt x="4311" y="1676"/>
                </a:lnTo>
                <a:lnTo>
                  <a:pt x="4236" y="1673"/>
                </a:lnTo>
                <a:lnTo>
                  <a:pt x="4162" y="1671"/>
                </a:lnTo>
                <a:lnTo>
                  <a:pt x="4087" y="1670"/>
                </a:lnTo>
                <a:lnTo>
                  <a:pt x="3933" y="1673"/>
                </a:lnTo>
                <a:lnTo>
                  <a:pt x="3780" y="1679"/>
                </a:lnTo>
                <a:lnTo>
                  <a:pt x="3629" y="1691"/>
                </a:lnTo>
                <a:lnTo>
                  <a:pt x="3482" y="1707"/>
                </a:lnTo>
                <a:lnTo>
                  <a:pt x="3337" y="1726"/>
                </a:lnTo>
                <a:lnTo>
                  <a:pt x="3194" y="1750"/>
                </a:lnTo>
                <a:lnTo>
                  <a:pt x="3055" y="1779"/>
                </a:lnTo>
                <a:lnTo>
                  <a:pt x="2917" y="1811"/>
                </a:lnTo>
                <a:lnTo>
                  <a:pt x="2785" y="1846"/>
                </a:lnTo>
                <a:lnTo>
                  <a:pt x="2655" y="1885"/>
                </a:lnTo>
                <a:lnTo>
                  <a:pt x="2529" y="1928"/>
                </a:lnTo>
                <a:lnTo>
                  <a:pt x="2408" y="1974"/>
                </a:lnTo>
                <a:lnTo>
                  <a:pt x="2289" y="2024"/>
                </a:lnTo>
                <a:lnTo>
                  <a:pt x="2176" y="2077"/>
                </a:lnTo>
                <a:lnTo>
                  <a:pt x="2068" y="2133"/>
                </a:lnTo>
                <a:lnTo>
                  <a:pt x="1963" y="2191"/>
                </a:lnTo>
                <a:lnTo>
                  <a:pt x="1864" y="2253"/>
                </a:lnTo>
                <a:lnTo>
                  <a:pt x="1770" y="2318"/>
                </a:lnTo>
                <a:lnTo>
                  <a:pt x="1680" y="2385"/>
                </a:lnTo>
                <a:lnTo>
                  <a:pt x="1596" y="2455"/>
                </a:lnTo>
                <a:lnTo>
                  <a:pt x="1519" y="2527"/>
                </a:lnTo>
                <a:lnTo>
                  <a:pt x="1446" y="2601"/>
                </a:lnTo>
                <a:lnTo>
                  <a:pt x="1379" y="2677"/>
                </a:lnTo>
                <a:lnTo>
                  <a:pt x="1320" y="2756"/>
                </a:lnTo>
                <a:lnTo>
                  <a:pt x="1266" y="2837"/>
                </a:lnTo>
                <a:lnTo>
                  <a:pt x="1218" y="2919"/>
                </a:lnTo>
                <a:lnTo>
                  <a:pt x="1178" y="3004"/>
                </a:lnTo>
                <a:lnTo>
                  <a:pt x="1144" y="3089"/>
                </a:lnTo>
                <a:lnTo>
                  <a:pt x="1118" y="3177"/>
                </a:lnTo>
                <a:lnTo>
                  <a:pt x="1100" y="3266"/>
                </a:lnTo>
                <a:lnTo>
                  <a:pt x="1087" y="3357"/>
                </a:lnTo>
                <a:lnTo>
                  <a:pt x="1084" y="3448"/>
                </a:lnTo>
                <a:lnTo>
                  <a:pt x="1085" y="3490"/>
                </a:lnTo>
                <a:lnTo>
                  <a:pt x="1087" y="3532"/>
                </a:lnTo>
                <a:lnTo>
                  <a:pt x="1092" y="3575"/>
                </a:lnTo>
                <a:lnTo>
                  <a:pt x="1097" y="3616"/>
                </a:lnTo>
                <a:lnTo>
                  <a:pt x="1104" y="3657"/>
                </a:lnTo>
                <a:lnTo>
                  <a:pt x="1113" y="3698"/>
                </a:lnTo>
                <a:lnTo>
                  <a:pt x="1124" y="3739"/>
                </a:lnTo>
                <a:lnTo>
                  <a:pt x="1136" y="3779"/>
                </a:lnTo>
                <a:lnTo>
                  <a:pt x="1150" y="3820"/>
                </a:lnTo>
                <a:lnTo>
                  <a:pt x="1165" y="3859"/>
                </a:lnTo>
                <a:lnTo>
                  <a:pt x="1182" y="3899"/>
                </a:lnTo>
                <a:lnTo>
                  <a:pt x="1199" y="3938"/>
                </a:lnTo>
                <a:lnTo>
                  <a:pt x="1220" y="3977"/>
                </a:lnTo>
                <a:lnTo>
                  <a:pt x="1240" y="4015"/>
                </a:lnTo>
                <a:lnTo>
                  <a:pt x="1263" y="4053"/>
                </a:lnTo>
                <a:lnTo>
                  <a:pt x="1286" y="4091"/>
                </a:lnTo>
                <a:lnTo>
                  <a:pt x="1312" y="4127"/>
                </a:lnTo>
                <a:lnTo>
                  <a:pt x="1338" y="4165"/>
                </a:lnTo>
                <a:lnTo>
                  <a:pt x="1366" y="4200"/>
                </a:lnTo>
                <a:lnTo>
                  <a:pt x="1395" y="4237"/>
                </a:lnTo>
                <a:lnTo>
                  <a:pt x="1426" y="4272"/>
                </a:lnTo>
                <a:lnTo>
                  <a:pt x="1458" y="4307"/>
                </a:lnTo>
                <a:lnTo>
                  <a:pt x="1491" y="4342"/>
                </a:lnTo>
                <a:lnTo>
                  <a:pt x="1526" y="4375"/>
                </a:lnTo>
                <a:lnTo>
                  <a:pt x="1561" y="4409"/>
                </a:lnTo>
                <a:lnTo>
                  <a:pt x="1597" y="4442"/>
                </a:lnTo>
                <a:lnTo>
                  <a:pt x="1635" y="4474"/>
                </a:lnTo>
                <a:lnTo>
                  <a:pt x="1675" y="4506"/>
                </a:lnTo>
                <a:lnTo>
                  <a:pt x="1715" y="4537"/>
                </a:lnTo>
                <a:lnTo>
                  <a:pt x="1756" y="4568"/>
                </a:lnTo>
                <a:lnTo>
                  <a:pt x="1800" y="4599"/>
                </a:lnTo>
                <a:lnTo>
                  <a:pt x="1843" y="4628"/>
                </a:lnTo>
                <a:lnTo>
                  <a:pt x="1740" y="4667"/>
                </a:lnTo>
                <a:lnTo>
                  <a:pt x="1640" y="4708"/>
                </a:lnTo>
                <a:lnTo>
                  <a:pt x="1542" y="4751"/>
                </a:lnTo>
                <a:lnTo>
                  <a:pt x="1447" y="4795"/>
                </a:lnTo>
                <a:lnTo>
                  <a:pt x="1353" y="4841"/>
                </a:lnTo>
                <a:lnTo>
                  <a:pt x="1262" y="4889"/>
                </a:lnTo>
                <a:lnTo>
                  <a:pt x="1174" y="4938"/>
                </a:lnTo>
                <a:lnTo>
                  <a:pt x="1088" y="4988"/>
                </a:lnTo>
                <a:lnTo>
                  <a:pt x="1006" y="5041"/>
                </a:lnTo>
                <a:lnTo>
                  <a:pt x="925" y="5094"/>
                </a:lnTo>
                <a:lnTo>
                  <a:pt x="848" y="5150"/>
                </a:lnTo>
                <a:lnTo>
                  <a:pt x="774" y="5207"/>
                </a:lnTo>
                <a:lnTo>
                  <a:pt x="702" y="5266"/>
                </a:lnTo>
                <a:lnTo>
                  <a:pt x="634" y="5325"/>
                </a:lnTo>
                <a:lnTo>
                  <a:pt x="569" y="5385"/>
                </a:lnTo>
                <a:lnTo>
                  <a:pt x="507" y="5447"/>
                </a:lnTo>
                <a:lnTo>
                  <a:pt x="448" y="5511"/>
                </a:lnTo>
                <a:lnTo>
                  <a:pt x="393" y="5576"/>
                </a:lnTo>
                <a:lnTo>
                  <a:pt x="340" y="5641"/>
                </a:lnTo>
                <a:lnTo>
                  <a:pt x="291" y="5709"/>
                </a:lnTo>
                <a:lnTo>
                  <a:pt x="247" y="5776"/>
                </a:lnTo>
                <a:lnTo>
                  <a:pt x="204" y="5846"/>
                </a:lnTo>
                <a:lnTo>
                  <a:pt x="167" y="5915"/>
                </a:lnTo>
                <a:lnTo>
                  <a:pt x="132" y="5986"/>
                </a:lnTo>
                <a:lnTo>
                  <a:pt x="102" y="6058"/>
                </a:lnTo>
                <a:lnTo>
                  <a:pt x="75" y="6130"/>
                </a:lnTo>
                <a:lnTo>
                  <a:pt x="53" y="6204"/>
                </a:lnTo>
                <a:lnTo>
                  <a:pt x="34" y="6278"/>
                </a:lnTo>
                <a:lnTo>
                  <a:pt x="19" y="6354"/>
                </a:lnTo>
                <a:lnTo>
                  <a:pt x="8" y="6429"/>
                </a:lnTo>
                <a:lnTo>
                  <a:pt x="2" y="6505"/>
                </a:lnTo>
                <a:lnTo>
                  <a:pt x="0" y="6583"/>
                </a:lnTo>
                <a:lnTo>
                  <a:pt x="5" y="6700"/>
                </a:lnTo>
                <a:lnTo>
                  <a:pt x="19" y="6815"/>
                </a:lnTo>
                <a:lnTo>
                  <a:pt x="43" y="6928"/>
                </a:lnTo>
                <a:lnTo>
                  <a:pt x="77" y="7040"/>
                </a:lnTo>
                <a:lnTo>
                  <a:pt x="119" y="7149"/>
                </a:lnTo>
                <a:lnTo>
                  <a:pt x="170" y="7257"/>
                </a:lnTo>
                <a:lnTo>
                  <a:pt x="230" y="7363"/>
                </a:lnTo>
                <a:lnTo>
                  <a:pt x="297" y="7466"/>
                </a:lnTo>
                <a:lnTo>
                  <a:pt x="373" y="7566"/>
                </a:lnTo>
                <a:lnTo>
                  <a:pt x="457" y="7664"/>
                </a:lnTo>
                <a:lnTo>
                  <a:pt x="548" y="7759"/>
                </a:lnTo>
                <a:lnTo>
                  <a:pt x="646" y="7852"/>
                </a:lnTo>
                <a:lnTo>
                  <a:pt x="752" y="7942"/>
                </a:lnTo>
                <a:lnTo>
                  <a:pt x="864" y="8027"/>
                </a:lnTo>
                <a:lnTo>
                  <a:pt x="984" y="8111"/>
                </a:lnTo>
                <a:lnTo>
                  <a:pt x="1110" y="8189"/>
                </a:lnTo>
                <a:lnTo>
                  <a:pt x="1241" y="8266"/>
                </a:lnTo>
                <a:lnTo>
                  <a:pt x="1378" y="8338"/>
                </a:lnTo>
                <a:lnTo>
                  <a:pt x="1522" y="8405"/>
                </a:lnTo>
                <a:lnTo>
                  <a:pt x="1671" y="8470"/>
                </a:lnTo>
                <a:lnTo>
                  <a:pt x="1825" y="8530"/>
                </a:lnTo>
                <a:lnTo>
                  <a:pt x="1983" y="8586"/>
                </a:lnTo>
                <a:lnTo>
                  <a:pt x="2148" y="8637"/>
                </a:lnTo>
                <a:lnTo>
                  <a:pt x="2316" y="8684"/>
                </a:lnTo>
                <a:lnTo>
                  <a:pt x="2488" y="8726"/>
                </a:lnTo>
                <a:lnTo>
                  <a:pt x="2665" y="8764"/>
                </a:lnTo>
                <a:lnTo>
                  <a:pt x="2846" y="8796"/>
                </a:lnTo>
                <a:lnTo>
                  <a:pt x="3029" y="8823"/>
                </a:lnTo>
                <a:lnTo>
                  <a:pt x="3217" y="8845"/>
                </a:lnTo>
                <a:lnTo>
                  <a:pt x="3407" y="8861"/>
                </a:lnTo>
                <a:lnTo>
                  <a:pt x="3601" y="8872"/>
                </a:lnTo>
                <a:lnTo>
                  <a:pt x="3797" y="8878"/>
                </a:lnTo>
                <a:lnTo>
                  <a:pt x="3796" y="8893"/>
                </a:lnTo>
                <a:lnTo>
                  <a:pt x="3793" y="8909"/>
                </a:lnTo>
                <a:lnTo>
                  <a:pt x="3792" y="8925"/>
                </a:lnTo>
                <a:lnTo>
                  <a:pt x="3791" y="8940"/>
                </a:lnTo>
                <a:lnTo>
                  <a:pt x="3790" y="8956"/>
                </a:lnTo>
                <a:lnTo>
                  <a:pt x="3790" y="8972"/>
                </a:lnTo>
                <a:lnTo>
                  <a:pt x="3789" y="8988"/>
                </a:lnTo>
                <a:lnTo>
                  <a:pt x="3789" y="9002"/>
                </a:lnTo>
                <a:lnTo>
                  <a:pt x="3793" y="9095"/>
                </a:lnTo>
                <a:lnTo>
                  <a:pt x="3805" y="9185"/>
                </a:lnTo>
                <a:lnTo>
                  <a:pt x="3823" y="9274"/>
                </a:lnTo>
                <a:lnTo>
                  <a:pt x="3850" y="9361"/>
                </a:lnTo>
                <a:lnTo>
                  <a:pt x="3884" y="9448"/>
                </a:lnTo>
                <a:lnTo>
                  <a:pt x="3923" y="9531"/>
                </a:lnTo>
                <a:lnTo>
                  <a:pt x="3971" y="9614"/>
                </a:lnTo>
                <a:lnTo>
                  <a:pt x="4025" y="9694"/>
                </a:lnTo>
                <a:lnTo>
                  <a:pt x="4084" y="9773"/>
                </a:lnTo>
                <a:lnTo>
                  <a:pt x="4152" y="9850"/>
                </a:lnTo>
                <a:lnTo>
                  <a:pt x="4224" y="9925"/>
                </a:lnTo>
                <a:lnTo>
                  <a:pt x="4301" y="9997"/>
                </a:lnTo>
                <a:lnTo>
                  <a:pt x="4386" y="10066"/>
                </a:lnTo>
                <a:lnTo>
                  <a:pt x="4475" y="10134"/>
                </a:lnTo>
                <a:lnTo>
                  <a:pt x="4569" y="10198"/>
                </a:lnTo>
                <a:lnTo>
                  <a:pt x="4668" y="10259"/>
                </a:lnTo>
                <a:lnTo>
                  <a:pt x="4773" y="10319"/>
                </a:lnTo>
                <a:lnTo>
                  <a:pt x="4882" y="10375"/>
                </a:lnTo>
                <a:lnTo>
                  <a:pt x="4996" y="10427"/>
                </a:lnTo>
                <a:lnTo>
                  <a:pt x="5113" y="10476"/>
                </a:lnTo>
                <a:lnTo>
                  <a:pt x="5234" y="10523"/>
                </a:lnTo>
                <a:lnTo>
                  <a:pt x="5360" y="10565"/>
                </a:lnTo>
                <a:lnTo>
                  <a:pt x="5490" y="10605"/>
                </a:lnTo>
                <a:lnTo>
                  <a:pt x="5623" y="10641"/>
                </a:lnTo>
                <a:lnTo>
                  <a:pt x="5760" y="10673"/>
                </a:lnTo>
                <a:lnTo>
                  <a:pt x="5899" y="10700"/>
                </a:lnTo>
                <a:lnTo>
                  <a:pt x="6042" y="10724"/>
                </a:lnTo>
                <a:lnTo>
                  <a:pt x="6187" y="10743"/>
                </a:lnTo>
                <a:lnTo>
                  <a:pt x="6335" y="10759"/>
                </a:lnTo>
                <a:lnTo>
                  <a:pt x="6485" y="10771"/>
                </a:lnTo>
                <a:lnTo>
                  <a:pt x="6638" y="10778"/>
                </a:lnTo>
                <a:lnTo>
                  <a:pt x="6792" y="10780"/>
                </a:lnTo>
                <a:lnTo>
                  <a:pt x="6865" y="10780"/>
                </a:lnTo>
                <a:lnTo>
                  <a:pt x="6937" y="10778"/>
                </a:lnTo>
                <a:lnTo>
                  <a:pt x="7008" y="10775"/>
                </a:lnTo>
                <a:lnTo>
                  <a:pt x="7080" y="10772"/>
                </a:lnTo>
                <a:lnTo>
                  <a:pt x="7150" y="10767"/>
                </a:lnTo>
                <a:lnTo>
                  <a:pt x="7220" y="10762"/>
                </a:lnTo>
                <a:lnTo>
                  <a:pt x="7290" y="10756"/>
                </a:lnTo>
                <a:lnTo>
                  <a:pt x="7359" y="10748"/>
                </a:lnTo>
                <a:lnTo>
                  <a:pt x="7428" y="10740"/>
                </a:lnTo>
                <a:lnTo>
                  <a:pt x="7495" y="10731"/>
                </a:lnTo>
                <a:lnTo>
                  <a:pt x="7563" y="10721"/>
                </a:lnTo>
                <a:lnTo>
                  <a:pt x="7630" y="10710"/>
                </a:lnTo>
                <a:lnTo>
                  <a:pt x="7695" y="10698"/>
                </a:lnTo>
                <a:lnTo>
                  <a:pt x="7761" y="10685"/>
                </a:lnTo>
                <a:lnTo>
                  <a:pt x="7826" y="10672"/>
                </a:lnTo>
                <a:lnTo>
                  <a:pt x="7890" y="10658"/>
                </a:lnTo>
                <a:lnTo>
                  <a:pt x="7953" y="10642"/>
                </a:lnTo>
                <a:lnTo>
                  <a:pt x="8016" y="10626"/>
                </a:lnTo>
                <a:lnTo>
                  <a:pt x="8078" y="10609"/>
                </a:lnTo>
                <a:lnTo>
                  <a:pt x="8139" y="10592"/>
                </a:lnTo>
                <a:lnTo>
                  <a:pt x="8200" y="10573"/>
                </a:lnTo>
                <a:lnTo>
                  <a:pt x="8259" y="10554"/>
                </a:lnTo>
                <a:lnTo>
                  <a:pt x="8319" y="10533"/>
                </a:lnTo>
                <a:lnTo>
                  <a:pt x="8376" y="10513"/>
                </a:lnTo>
                <a:lnTo>
                  <a:pt x="8433" y="10491"/>
                </a:lnTo>
                <a:lnTo>
                  <a:pt x="8489" y="10469"/>
                </a:lnTo>
                <a:lnTo>
                  <a:pt x="8545" y="10447"/>
                </a:lnTo>
                <a:lnTo>
                  <a:pt x="8598" y="10423"/>
                </a:lnTo>
                <a:lnTo>
                  <a:pt x="8652" y="10398"/>
                </a:lnTo>
                <a:lnTo>
                  <a:pt x="8705" y="10372"/>
                </a:lnTo>
                <a:lnTo>
                  <a:pt x="8756" y="10347"/>
                </a:lnTo>
                <a:lnTo>
                  <a:pt x="8806" y="10321"/>
                </a:lnTo>
                <a:lnTo>
                  <a:pt x="8868" y="10347"/>
                </a:lnTo>
                <a:lnTo>
                  <a:pt x="8929" y="10372"/>
                </a:lnTo>
                <a:lnTo>
                  <a:pt x="8992" y="10398"/>
                </a:lnTo>
                <a:lnTo>
                  <a:pt x="9056" y="10423"/>
                </a:lnTo>
                <a:lnTo>
                  <a:pt x="9120" y="10445"/>
                </a:lnTo>
                <a:lnTo>
                  <a:pt x="9186" y="10468"/>
                </a:lnTo>
                <a:lnTo>
                  <a:pt x="9253" y="10491"/>
                </a:lnTo>
                <a:lnTo>
                  <a:pt x="9319" y="10512"/>
                </a:lnTo>
                <a:lnTo>
                  <a:pt x="9387" y="10533"/>
                </a:lnTo>
                <a:lnTo>
                  <a:pt x="9456" y="10553"/>
                </a:lnTo>
                <a:lnTo>
                  <a:pt x="9526" y="10572"/>
                </a:lnTo>
                <a:lnTo>
                  <a:pt x="9595" y="10590"/>
                </a:lnTo>
                <a:lnTo>
                  <a:pt x="9666" y="10608"/>
                </a:lnTo>
                <a:lnTo>
                  <a:pt x="9737" y="10625"/>
                </a:lnTo>
                <a:lnTo>
                  <a:pt x="9810" y="10641"/>
                </a:lnTo>
                <a:lnTo>
                  <a:pt x="9882" y="10656"/>
                </a:lnTo>
                <a:lnTo>
                  <a:pt x="9956" y="10669"/>
                </a:lnTo>
                <a:lnTo>
                  <a:pt x="10030" y="10683"/>
                </a:lnTo>
                <a:lnTo>
                  <a:pt x="10104" y="10696"/>
                </a:lnTo>
                <a:lnTo>
                  <a:pt x="10180" y="10707"/>
                </a:lnTo>
                <a:lnTo>
                  <a:pt x="10255" y="10717"/>
                </a:lnTo>
                <a:lnTo>
                  <a:pt x="10332" y="10727"/>
                </a:lnTo>
                <a:lnTo>
                  <a:pt x="10409" y="10737"/>
                </a:lnTo>
                <a:lnTo>
                  <a:pt x="10487" y="10745"/>
                </a:lnTo>
                <a:lnTo>
                  <a:pt x="10565" y="10751"/>
                </a:lnTo>
                <a:lnTo>
                  <a:pt x="10643" y="10758"/>
                </a:lnTo>
                <a:lnTo>
                  <a:pt x="10722" y="10763"/>
                </a:lnTo>
                <a:lnTo>
                  <a:pt x="10802" y="10767"/>
                </a:lnTo>
                <a:lnTo>
                  <a:pt x="10882" y="10771"/>
                </a:lnTo>
                <a:lnTo>
                  <a:pt x="10962" y="10773"/>
                </a:lnTo>
                <a:lnTo>
                  <a:pt x="11043" y="10775"/>
                </a:lnTo>
                <a:lnTo>
                  <a:pt x="11124" y="10775"/>
                </a:lnTo>
                <a:lnTo>
                  <a:pt x="11303" y="10773"/>
                </a:lnTo>
                <a:lnTo>
                  <a:pt x="11479" y="10766"/>
                </a:lnTo>
                <a:lnTo>
                  <a:pt x="11654" y="10754"/>
                </a:lnTo>
                <a:lnTo>
                  <a:pt x="11826" y="10738"/>
                </a:lnTo>
                <a:lnTo>
                  <a:pt x="11995" y="10717"/>
                </a:lnTo>
                <a:lnTo>
                  <a:pt x="12162" y="10692"/>
                </a:lnTo>
                <a:lnTo>
                  <a:pt x="12325" y="10664"/>
                </a:lnTo>
                <a:lnTo>
                  <a:pt x="12486" y="10630"/>
                </a:lnTo>
                <a:lnTo>
                  <a:pt x="12643" y="10593"/>
                </a:lnTo>
                <a:lnTo>
                  <a:pt x="12797" y="10552"/>
                </a:lnTo>
                <a:lnTo>
                  <a:pt x="12947" y="10507"/>
                </a:lnTo>
                <a:lnTo>
                  <a:pt x="13093" y="10458"/>
                </a:lnTo>
                <a:lnTo>
                  <a:pt x="13235" y="10407"/>
                </a:lnTo>
                <a:lnTo>
                  <a:pt x="13374" y="10351"/>
                </a:lnTo>
                <a:lnTo>
                  <a:pt x="13507" y="10291"/>
                </a:lnTo>
                <a:lnTo>
                  <a:pt x="13636" y="10230"/>
                </a:lnTo>
                <a:lnTo>
                  <a:pt x="13761" y="10163"/>
                </a:lnTo>
                <a:lnTo>
                  <a:pt x="13881" y="10095"/>
                </a:lnTo>
                <a:lnTo>
                  <a:pt x="13995" y="10024"/>
                </a:lnTo>
                <a:lnTo>
                  <a:pt x="14104" y="9950"/>
                </a:lnTo>
                <a:lnTo>
                  <a:pt x="14208" y="9872"/>
                </a:lnTo>
                <a:lnTo>
                  <a:pt x="14307" y="9792"/>
                </a:lnTo>
                <a:lnTo>
                  <a:pt x="14399" y="9710"/>
                </a:lnTo>
                <a:lnTo>
                  <a:pt x="14486" y="9626"/>
                </a:lnTo>
                <a:lnTo>
                  <a:pt x="14567" y="9539"/>
                </a:lnTo>
                <a:lnTo>
                  <a:pt x="14641" y="9450"/>
                </a:lnTo>
                <a:lnTo>
                  <a:pt x="14710" y="9357"/>
                </a:lnTo>
                <a:lnTo>
                  <a:pt x="14771" y="9265"/>
                </a:lnTo>
                <a:lnTo>
                  <a:pt x="14825" y="9169"/>
                </a:lnTo>
                <a:lnTo>
                  <a:pt x="14873" y="9072"/>
                </a:lnTo>
                <a:lnTo>
                  <a:pt x="14914" y="8973"/>
                </a:lnTo>
                <a:lnTo>
                  <a:pt x="14947" y="8872"/>
                </a:lnTo>
                <a:lnTo>
                  <a:pt x="15122" y="8855"/>
                </a:lnTo>
                <a:lnTo>
                  <a:pt x="15294" y="8833"/>
                </a:lnTo>
                <a:lnTo>
                  <a:pt x="15463" y="8807"/>
                </a:lnTo>
                <a:lnTo>
                  <a:pt x="15629" y="8776"/>
                </a:lnTo>
                <a:lnTo>
                  <a:pt x="15792" y="8741"/>
                </a:lnTo>
                <a:lnTo>
                  <a:pt x="15951" y="8702"/>
                </a:lnTo>
                <a:lnTo>
                  <a:pt x="16107" y="8660"/>
                </a:lnTo>
                <a:lnTo>
                  <a:pt x="16259" y="8613"/>
                </a:lnTo>
                <a:lnTo>
                  <a:pt x="16406" y="8562"/>
                </a:lnTo>
                <a:lnTo>
                  <a:pt x="16550" y="8507"/>
                </a:lnTo>
                <a:lnTo>
                  <a:pt x="16690" y="8450"/>
                </a:lnTo>
                <a:lnTo>
                  <a:pt x="16824" y="8388"/>
                </a:lnTo>
                <a:lnTo>
                  <a:pt x="16953" y="8323"/>
                </a:lnTo>
                <a:lnTo>
                  <a:pt x="17079" y="8256"/>
                </a:lnTo>
                <a:lnTo>
                  <a:pt x="17199" y="8184"/>
                </a:lnTo>
                <a:lnTo>
                  <a:pt x="17313" y="8110"/>
                </a:lnTo>
                <a:lnTo>
                  <a:pt x="17422" y="8033"/>
                </a:lnTo>
                <a:lnTo>
                  <a:pt x="17525" y="7953"/>
                </a:lnTo>
                <a:lnTo>
                  <a:pt x="17623" y="7870"/>
                </a:lnTo>
                <a:lnTo>
                  <a:pt x="17714" y="7785"/>
                </a:lnTo>
                <a:lnTo>
                  <a:pt x="17800" y="7697"/>
                </a:lnTo>
                <a:lnTo>
                  <a:pt x="17877" y="7607"/>
                </a:lnTo>
                <a:lnTo>
                  <a:pt x="17950" y="7515"/>
                </a:lnTo>
                <a:lnTo>
                  <a:pt x="18015" y="7420"/>
                </a:lnTo>
                <a:lnTo>
                  <a:pt x="18074" y="7324"/>
                </a:lnTo>
                <a:lnTo>
                  <a:pt x="18124" y="7226"/>
                </a:lnTo>
                <a:lnTo>
                  <a:pt x="18168" y="7125"/>
                </a:lnTo>
                <a:lnTo>
                  <a:pt x="18204" y="7023"/>
                </a:lnTo>
                <a:lnTo>
                  <a:pt x="18232" y="6920"/>
                </a:lnTo>
                <a:lnTo>
                  <a:pt x="18253" y="6815"/>
                </a:lnTo>
                <a:lnTo>
                  <a:pt x="18265" y="6708"/>
                </a:lnTo>
                <a:lnTo>
                  <a:pt x="18270" y="6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3500000"/>
          </a:gradFill>
          <a:ln w="12600">
            <a:solidFill>
              <a:srgbClr val="80808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7719840" y="2708280"/>
            <a:ext cx="323640" cy="507960"/>
            <a:chOff x="7719840" y="2708280"/>
            <a:chExt cx="323640" cy="507960"/>
          </a:xfrm>
        </p:grpSpPr>
        <p:sp>
          <p:nvSpPr>
            <p:cNvPr id="563" name=""/>
            <p:cNvSpPr/>
            <p:nvPr/>
          </p:nvSpPr>
          <p:spPr>
            <a:xfrm>
              <a:off x="7719840" y="2708280"/>
              <a:ext cx="323640" cy="507960"/>
            </a:xfrm>
            <a:prstGeom prst="rect">
              <a:avLst/>
            </a:prstGeom>
            <a:solidFill>
              <a:srgbClr val="648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757640" y="2771640"/>
              <a:ext cx="231840" cy="3924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57640" y="2839680"/>
              <a:ext cx="231840" cy="3960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57640" y="2908080"/>
              <a:ext cx="231840" cy="3924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757640" y="2977920"/>
              <a:ext cx="231840" cy="3924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8" name=""/>
            <p:cNvGraphicFramePr/>
            <p:nvPr/>
          </p:nvGraphicFramePr>
          <p:xfrm>
            <a:off x="7783200" y="3044520"/>
            <a:ext cx="165240" cy="164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783200" y="3044520"/>
                      <a:ext cx="165240" cy="16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70" name=""/>
          <p:cNvGrpSpPr/>
          <p:nvPr/>
        </p:nvGrpSpPr>
        <p:grpSpPr>
          <a:xfrm>
            <a:off x="7085160" y="3684600"/>
            <a:ext cx="323640" cy="507960"/>
            <a:chOff x="7085160" y="3684600"/>
            <a:chExt cx="323640" cy="507960"/>
          </a:xfrm>
        </p:grpSpPr>
        <p:sp>
          <p:nvSpPr>
            <p:cNvPr id="571" name=""/>
            <p:cNvSpPr/>
            <p:nvPr/>
          </p:nvSpPr>
          <p:spPr>
            <a:xfrm>
              <a:off x="7085160" y="3684600"/>
              <a:ext cx="323640" cy="507960"/>
            </a:xfrm>
            <a:prstGeom prst="rect">
              <a:avLst/>
            </a:prstGeom>
            <a:solidFill>
              <a:srgbClr val="648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122960" y="3747960"/>
              <a:ext cx="231840" cy="3924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122960" y="3816000"/>
              <a:ext cx="231840" cy="3960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122960" y="3884400"/>
              <a:ext cx="231840" cy="3924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122960" y="3954240"/>
              <a:ext cx="231840" cy="3924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76" name=""/>
            <p:cNvGraphicFramePr/>
            <p:nvPr/>
          </p:nvGraphicFramePr>
          <p:xfrm>
            <a:off x="7148520" y="4020840"/>
            <a:ext cx="165240" cy="164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7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48520" y="4020840"/>
                      <a:ext cx="165240" cy="16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78" name=""/>
          <p:cNvGrpSpPr/>
          <p:nvPr/>
        </p:nvGrpSpPr>
        <p:grpSpPr>
          <a:xfrm>
            <a:off x="7656480" y="5132520"/>
            <a:ext cx="323640" cy="507960"/>
            <a:chOff x="7656480" y="5132520"/>
            <a:chExt cx="323640" cy="507960"/>
          </a:xfrm>
        </p:grpSpPr>
        <p:sp>
          <p:nvSpPr>
            <p:cNvPr id="579" name=""/>
            <p:cNvSpPr/>
            <p:nvPr/>
          </p:nvSpPr>
          <p:spPr>
            <a:xfrm>
              <a:off x="7656480" y="5132520"/>
              <a:ext cx="323640" cy="507960"/>
            </a:xfrm>
            <a:prstGeom prst="rect">
              <a:avLst/>
            </a:prstGeom>
            <a:solidFill>
              <a:srgbClr val="648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694280" y="5195880"/>
              <a:ext cx="231840" cy="3924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694280" y="5263920"/>
              <a:ext cx="231840" cy="3960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94280" y="5332320"/>
              <a:ext cx="231840" cy="3924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94280" y="5402160"/>
              <a:ext cx="231840" cy="3924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84" name=""/>
            <p:cNvGraphicFramePr/>
            <p:nvPr/>
          </p:nvGraphicFramePr>
          <p:xfrm>
            <a:off x="7719840" y="5468760"/>
            <a:ext cx="165240" cy="164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8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19840" y="5468760"/>
                      <a:ext cx="165240" cy="16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86" name=""/>
          <p:cNvGrpSpPr/>
          <p:nvPr/>
        </p:nvGrpSpPr>
        <p:grpSpPr>
          <a:xfrm>
            <a:off x="7047000" y="6005520"/>
            <a:ext cx="323640" cy="507960"/>
            <a:chOff x="7047000" y="6005520"/>
            <a:chExt cx="323640" cy="507960"/>
          </a:xfrm>
        </p:grpSpPr>
        <p:sp>
          <p:nvSpPr>
            <p:cNvPr id="587" name=""/>
            <p:cNvSpPr/>
            <p:nvPr/>
          </p:nvSpPr>
          <p:spPr>
            <a:xfrm>
              <a:off x="7047000" y="6005520"/>
              <a:ext cx="323640" cy="507960"/>
            </a:xfrm>
            <a:prstGeom prst="rect">
              <a:avLst/>
            </a:prstGeom>
            <a:solidFill>
              <a:srgbClr val="648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84800" y="6068880"/>
              <a:ext cx="231480" cy="3960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84800" y="6137280"/>
              <a:ext cx="231480" cy="3960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84800" y="6205320"/>
              <a:ext cx="231480" cy="3960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84800" y="6275160"/>
              <a:ext cx="231480" cy="3960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2" name=""/>
            <p:cNvGraphicFramePr/>
            <p:nvPr/>
          </p:nvGraphicFramePr>
          <p:xfrm>
            <a:off x="7110360" y="6341760"/>
            <a:ext cx="164520" cy="1652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9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110360" y="6341760"/>
                      <a:ext cx="164520" cy="16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94" name=""/>
          <p:cNvGrpSpPr/>
          <p:nvPr/>
        </p:nvGrpSpPr>
        <p:grpSpPr>
          <a:xfrm>
            <a:off x="2678040" y="3166560"/>
            <a:ext cx="5079960" cy="3340440"/>
            <a:chOff x="2678040" y="3166560"/>
            <a:chExt cx="5079960" cy="3340440"/>
          </a:xfrm>
        </p:grpSpPr>
        <p:sp>
          <p:nvSpPr>
            <p:cNvPr id="595" name=""/>
            <p:cNvSpPr/>
            <p:nvPr/>
          </p:nvSpPr>
          <p:spPr>
            <a:xfrm>
              <a:off x="2678040" y="4583160"/>
              <a:ext cx="2889360" cy="0"/>
            </a:xfrm>
            <a:prstGeom prst="line">
              <a:avLst/>
            </a:prstGeom>
            <a:ln w="2556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5567400" y="3166560"/>
              <a:ext cx="2190600" cy="1395720"/>
            </a:xfrm>
            <a:prstGeom prst="line">
              <a:avLst/>
            </a:prstGeom>
            <a:ln w="2556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5567400" y="4152600"/>
              <a:ext cx="1581120" cy="430200"/>
            </a:xfrm>
            <a:prstGeom prst="line">
              <a:avLst/>
            </a:prstGeom>
            <a:ln w="2556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80000" y="4591080"/>
              <a:ext cx="2114640" cy="1023840"/>
            </a:xfrm>
            <a:prstGeom prst="line">
              <a:avLst/>
            </a:prstGeom>
            <a:ln w="2556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80000" y="4591080"/>
              <a:ext cx="1530360" cy="1915920"/>
            </a:xfrm>
            <a:prstGeom prst="line">
              <a:avLst/>
            </a:prstGeom>
            <a:ln w="2556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541280" y="3590640"/>
            <a:ext cx="7369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020360" y="2641320"/>
            <a:ext cx="7369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57000" y="4855680"/>
            <a:ext cx="7369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503120" y="5900400"/>
            <a:ext cx="7369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3035160" y="4721040"/>
            <a:ext cx="1350360" cy="630360"/>
            <a:chOff x="3035160" y="4721040"/>
            <a:chExt cx="1350360" cy="630360"/>
          </a:xfrm>
        </p:grpSpPr>
        <p:grpSp>
          <p:nvGrpSpPr>
            <p:cNvPr id="605" name=""/>
            <p:cNvGrpSpPr/>
            <p:nvPr/>
          </p:nvGrpSpPr>
          <p:grpSpPr>
            <a:xfrm>
              <a:off x="3035160" y="4721040"/>
              <a:ext cx="1350360" cy="630360"/>
              <a:chOff x="3035160" y="4721040"/>
              <a:chExt cx="1350360" cy="63036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3035160" y="4843440"/>
                <a:ext cx="323640" cy="507960"/>
                <a:chOff x="3035160" y="4843440"/>
                <a:chExt cx="323640" cy="50796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3035160" y="4843440"/>
                  <a:ext cx="323640" cy="5079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073320" y="4907160"/>
                  <a:ext cx="231480" cy="396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073320" y="4975200"/>
                  <a:ext cx="231480" cy="399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073320" y="5043600"/>
                  <a:ext cx="231480" cy="396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073320" y="5113440"/>
                  <a:ext cx="231480" cy="396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3476160" y="4721040"/>
                <a:ext cx="909360" cy="4770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e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erv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613" name=""/>
            <p:cNvGraphicFramePr/>
            <p:nvPr/>
          </p:nvGraphicFramePr>
          <p:xfrm>
            <a:off x="3097080" y="5178600"/>
            <a:ext cx="164880" cy="1648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61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097080" y="5178600"/>
                      <a:ext cx="164880" cy="16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15" name=""/>
          <p:cNvGrpSpPr/>
          <p:nvPr/>
        </p:nvGrpSpPr>
        <p:grpSpPr>
          <a:xfrm>
            <a:off x="3059280" y="5700240"/>
            <a:ext cx="1350360" cy="630360"/>
            <a:chOff x="3059280" y="5700240"/>
            <a:chExt cx="1350360" cy="630360"/>
          </a:xfrm>
        </p:grpSpPr>
        <p:grpSp>
          <p:nvGrpSpPr>
            <p:cNvPr id="616" name=""/>
            <p:cNvGrpSpPr/>
            <p:nvPr/>
          </p:nvGrpSpPr>
          <p:grpSpPr>
            <a:xfrm>
              <a:off x="3059280" y="5700240"/>
              <a:ext cx="1350360" cy="630360"/>
              <a:chOff x="3059280" y="5700240"/>
              <a:chExt cx="1350360" cy="630360"/>
            </a:xfrm>
          </p:grpSpPr>
          <p:grpSp>
            <p:nvGrpSpPr>
              <p:cNvPr id="617" name=""/>
              <p:cNvGrpSpPr/>
              <p:nvPr/>
            </p:nvGrpSpPr>
            <p:grpSpPr>
              <a:xfrm>
                <a:off x="3059280" y="5822640"/>
                <a:ext cx="323640" cy="507960"/>
                <a:chOff x="3059280" y="5822640"/>
                <a:chExt cx="323640" cy="5079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3059280" y="5822640"/>
                  <a:ext cx="323640" cy="5079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097440" y="5886360"/>
                  <a:ext cx="231480" cy="396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097440" y="5954400"/>
                  <a:ext cx="231480" cy="399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3097440" y="6022800"/>
                  <a:ext cx="231480" cy="396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097440" y="6092640"/>
                  <a:ext cx="231480" cy="396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3500280" y="5700240"/>
                <a:ext cx="909360" cy="4770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e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erv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624" name=""/>
            <p:cNvGraphicFramePr/>
            <p:nvPr/>
          </p:nvGraphicFramePr>
          <p:xfrm>
            <a:off x="3125880" y="6162840"/>
            <a:ext cx="165240" cy="164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62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125880" y="6162840"/>
                      <a:ext cx="165240" cy="16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26" name=""/>
          <p:cNvGrpSpPr/>
          <p:nvPr/>
        </p:nvGrpSpPr>
        <p:grpSpPr>
          <a:xfrm>
            <a:off x="3071880" y="2754000"/>
            <a:ext cx="1347840" cy="651240"/>
            <a:chOff x="3071880" y="2754000"/>
            <a:chExt cx="1347840" cy="651240"/>
          </a:xfrm>
        </p:grpSpPr>
        <p:grpSp>
          <p:nvGrpSpPr>
            <p:cNvPr id="627" name=""/>
            <p:cNvGrpSpPr/>
            <p:nvPr/>
          </p:nvGrpSpPr>
          <p:grpSpPr>
            <a:xfrm>
              <a:off x="3071880" y="2754000"/>
              <a:ext cx="1347840" cy="651240"/>
              <a:chOff x="3071880" y="2754000"/>
              <a:chExt cx="1347840" cy="651240"/>
            </a:xfrm>
          </p:grpSpPr>
          <p:grpSp>
            <p:nvGrpSpPr>
              <p:cNvPr id="628" name=""/>
              <p:cNvGrpSpPr/>
              <p:nvPr/>
            </p:nvGrpSpPr>
            <p:grpSpPr>
              <a:xfrm>
                <a:off x="3071880" y="2897280"/>
                <a:ext cx="323640" cy="507960"/>
                <a:chOff x="3071880" y="2897280"/>
                <a:chExt cx="323640" cy="50796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3071880" y="2897280"/>
                  <a:ext cx="323640" cy="50796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110040" y="2960640"/>
                  <a:ext cx="231480" cy="3960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110040" y="3029040"/>
                  <a:ext cx="231480" cy="3960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110040" y="3097080"/>
                  <a:ext cx="231480" cy="3960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110040" y="3166920"/>
                  <a:ext cx="231480" cy="3996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4" name=""/>
              <p:cNvSpPr/>
              <p:nvPr/>
            </p:nvSpPr>
            <p:spPr>
              <a:xfrm>
                <a:off x="3510000" y="2754000"/>
                <a:ext cx="909720" cy="4770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ed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erv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635" name=""/>
            <p:cNvGraphicFramePr/>
            <p:nvPr/>
          </p:nvGraphicFramePr>
          <p:xfrm>
            <a:off x="3138480" y="3235320"/>
            <a:ext cx="165240" cy="1652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636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138480" y="3235320"/>
                      <a:ext cx="165240" cy="16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37" name=""/>
          <p:cNvGrpSpPr/>
          <p:nvPr/>
        </p:nvGrpSpPr>
        <p:grpSpPr>
          <a:xfrm>
            <a:off x="3046320" y="3760560"/>
            <a:ext cx="1351080" cy="641520"/>
            <a:chOff x="3046320" y="3760560"/>
            <a:chExt cx="1351080" cy="641520"/>
          </a:xfrm>
        </p:grpSpPr>
        <p:grpSp>
          <p:nvGrpSpPr>
            <p:cNvPr id="638" name=""/>
            <p:cNvGrpSpPr/>
            <p:nvPr/>
          </p:nvGrpSpPr>
          <p:grpSpPr>
            <a:xfrm>
              <a:off x="3046320" y="3760560"/>
              <a:ext cx="1351080" cy="630360"/>
              <a:chOff x="3046320" y="3760560"/>
              <a:chExt cx="1351080" cy="63036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3046320" y="3882960"/>
                <a:ext cx="323640" cy="507960"/>
                <a:chOff x="3046320" y="3882960"/>
                <a:chExt cx="323640" cy="50796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3046320" y="3882960"/>
                  <a:ext cx="323640" cy="5079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084480" y="3946680"/>
                  <a:ext cx="231480" cy="396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084480" y="4014720"/>
                  <a:ext cx="231480" cy="399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084480" y="4083120"/>
                  <a:ext cx="231480" cy="396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084480" y="4152960"/>
                  <a:ext cx="231480" cy="396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3487680" y="3760560"/>
                <a:ext cx="909720" cy="4770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e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erv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646" name=""/>
            <p:cNvGraphicFramePr/>
            <p:nvPr/>
          </p:nvGraphicFramePr>
          <p:xfrm>
            <a:off x="3110040" y="4237200"/>
            <a:ext cx="164880" cy="1648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647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3110040" y="4237200"/>
                      <a:ext cx="164880" cy="16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48" name=""/>
          <p:cNvSpPr/>
          <p:nvPr/>
        </p:nvSpPr>
        <p:spPr>
          <a:xfrm>
            <a:off x="1630440" y="4758840"/>
            <a:ext cx="9122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84560" y="4146480"/>
            <a:ext cx="1170720" cy="1281240"/>
            <a:chOff x="484560" y="4146480"/>
            <a:chExt cx="1170720" cy="1281240"/>
          </a:xfrm>
        </p:grpSpPr>
        <p:grpSp>
          <p:nvGrpSpPr>
            <p:cNvPr id="650" name=""/>
            <p:cNvGrpSpPr/>
            <p:nvPr/>
          </p:nvGrpSpPr>
          <p:grpSpPr>
            <a:xfrm>
              <a:off x="610920" y="4146480"/>
              <a:ext cx="1044360" cy="626760"/>
              <a:chOff x="610920" y="4146480"/>
              <a:chExt cx="1044360" cy="626760"/>
            </a:xfrm>
          </p:grpSpPr>
          <p:sp>
            <p:nvSpPr>
              <p:cNvPr id="651" name=""/>
              <p:cNvSpPr/>
              <p:nvPr/>
            </p:nvSpPr>
            <p:spPr>
              <a:xfrm>
                <a:off x="1207800" y="4659480"/>
                <a:ext cx="447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2" name=""/>
              <p:cNvGrpSpPr/>
              <p:nvPr/>
            </p:nvGrpSpPr>
            <p:grpSpPr>
              <a:xfrm>
                <a:off x="610920" y="4146480"/>
                <a:ext cx="692280" cy="626760"/>
                <a:chOff x="610920" y="4146480"/>
                <a:chExt cx="692280" cy="626760"/>
              </a:xfrm>
            </p:grpSpPr>
            <p:sp>
              <p:nvSpPr>
                <p:cNvPr id="653" name=""/>
                <p:cNvSpPr/>
                <p:nvPr/>
              </p:nvSpPr>
              <p:spPr>
                <a:xfrm flipH="1">
                  <a:off x="610560" y="4535640"/>
                  <a:ext cx="168120" cy="237600"/>
                </a:xfrm>
                <a:custGeom>
                  <a:avLst/>
                  <a:gdLst/>
                  <a:ahLst/>
                  <a:rect l="l" t="t" r="r" b="b"/>
                  <a:pathLst>
                    <a:path w="3967" h="6591">
                      <a:moveTo>
                        <a:pt x="3967" y="4235"/>
                      </a:moveTo>
                      <a:lnTo>
                        <a:pt x="3967" y="0"/>
                      </a:lnTo>
                      <a:lnTo>
                        <a:pt x="0" y="1552"/>
                      </a:lnTo>
                      <a:lnTo>
                        <a:pt x="0" y="6591"/>
                      </a:lnTo>
                      <a:lnTo>
                        <a:pt x="3967" y="42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5e5b"/>
                    </a:gs>
                    <a:gs pos="100000">
                      <a:srgbClr val="b7aaa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H="1">
                  <a:off x="779400" y="4574880"/>
                  <a:ext cx="523440" cy="198360"/>
                </a:xfrm>
                <a:custGeom>
                  <a:avLst/>
                  <a:gdLst/>
                  <a:ahLst/>
                  <a:rect l="l" t="t" r="r" b="b"/>
                  <a:pathLst>
                    <a:path w="12371" h="5729">
                      <a:moveTo>
                        <a:pt x="0" y="4694"/>
                      </a:moveTo>
                      <a:lnTo>
                        <a:pt x="0" y="0"/>
                      </a:lnTo>
                      <a:lnTo>
                        <a:pt x="12371" y="690"/>
                      </a:lnTo>
                      <a:lnTo>
                        <a:pt x="12371" y="5729"/>
                      </a:lnTo>
                      <a:lnTo>
                        <a:pt x="0" y="469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9cfca"/>
                    </a:gs>
                    <a:gs pos="100000">
                      <a:srgbClr val="968f8c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>
                  <a:off x="611280" y="4514400"/>
                  <a:ext cx="691920" cy="90720"/>
                </a:xfrm>
                <a:custGeom>
                  <a:avLst/>
                  <a:gdLst/>
                  <a:ahLst/>
                  <a:rect l="l" t="t" r="r" b="b"/>
                  <a:pathLst>
                    <a:path w="16338" h="2034">
                      <a:moveTo>
                        <a:pt x="5308" y="0"/>
                      </a:moveTo>
                      <a:lnTo>
                        <a:pt x="0" y="1344"/>
                      </a:lnTo>
                      <a:lnTo>
                        <a:pt x="12371" y="2034"/>
                      </a:lnTo>
                      <a:lnTo>
                        <a:pt x="16338" y="482"/>
                      </a:lnTo>
                      <a:lnTo>
                        <a:pt x="530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4cbc6"/>
                    </a:gs>
                    <a:gs pos="100000">
                      <a:srgbClr val="eee3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>
                  <a:off x="719280" y="4461120"/>
                  <a:ext cx="443520" cy="115920"/>
                </a:xfrm>
                <a:custGeom>
                  <a:avLst/>
                  <a:gdLst/>
                  <a:ahLst/>
                  <a:rect l="l" t="t" r="r" b="b"/>
                  <a:pathLst>
                    <a:path w="11046" h="2745">
                      <a:moveTo>
                        <a:pt x="11046" y="0"/>
                      </a:moveTo>
                      <a:lnTo>
                        <a:pt x="11046" y="1726"/>
                      </a:lnTo>
                      <a:lnTo>
                        <a:pt x="8437" y="2745"/>
                      </a:lnTo>
                      <a:lnTo>
                        <a:pt x="110" y="2377"/>
                      </a:lnTo>
                      <a:lnTo>
                        <a:pt x="0" y="981"/>
                      </a:lnTo>
                      <a:lnTo>
                        <a:pt x="1104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c5755"/>
                    </a:gs>
                    <a:gs pos="100000">
                      <a:srgbClr val="c8be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>
                  <a:off x="695520" y="4190040"/>
                  <a:ext cx="71640" cy="318240"/>
                </a:xfrm>
                <a:custGeom>
                  <a:avLst/>
                  <a:gdLst/>
                  <a:ahLst/>
                  <a:rect l="l" t="t" r="r" b="b"/>
                  <a:pathLst>
                    <a:path w="1756" h="7513">
                      <a:moveTo>
                        <a:pt x="137" y="0"/>
                      </a:moveTo>
                      <a:lnTo>
                        <a:pt x="1715" y="950"/>
                      </a:lnTo>
                      <a:lnTo>
                        <a:pt x="1756" y="1024"/>
                      </a:lnTo>
                      <a:lnTo>
                        <a:pt x="1756" y="6260"/>
                      </a:lnTo>
                      <a:lnTo>
                        <a:pt x="1738" y="6310"/>
                      </a:lnTo>
                      <a:lnTo>
                        <a:pt x="0" y="7513"/>
                      </a:lnTo>
                      <a:lnTo>
                        <a:pt x="13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5e5b"/>
                    </a:gs>
                    <a:gs pos="100000">
                      <a:srgbClr val="b7aaa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>
                  <a:off x="788760" y="4146480"/>
                  <a:ext cx="418320" cy="392760"/>
                </a:xfrm>
                <a:custGeom>
                  <a:avLst/>
                  <a:gdLst/>
                  <a:ahLst/>
                  <a:rect l="l" t="t" r="r" b="b"/>
                  <a:pathLst>
                    <a:path w="10407" h="9275">
                      <a:moveTo>
                        <a:pt x="77" y="573"/>
                      </a:moveTo>
                      <a:lnTo>
                        <a:pt x="289" y="446"/>
                      </a:lnTo>
                      <a:lnTo>
                        <a:pt x="412" y="390"/>
                      </a:lnTo>
                      <a:lnTo>
                        <a:pt x="513" y="367"/>
                      </a:lnTo>
                      <a:lnTo>
                        <a:pt x="9876" y="0"/>
                      </a:lnTo>
                      <a:lnTo>
                        <a:pt x="10265" y="64"/>
                      </a:lnTo>
                      <a:lnTo>
                        <a:pt x="10375" y="120"/>
                      </a:lnTo>
                      <a:lnTo>
                        <a:pt x="10407" y="156"/>
                      </a:lnTo>
                      <a:lnTo>
                        <a:pt x="10366" y="9275"/>
                      </a:lnTo>
                      <a:lnTo>
                        <a:pt x="270" y="8921"/>
                      </a:lnTo>
                      <a:lnTo>
                        <a:pt x="178" y="8880"/>
                      </a:lnTo>
                      <a:lnTo>
                        <a:pt x="123" y="8835"/>
                      </a:lnTo>
                      <a:lnTo>
                        <a:pt x="73" y="8765"/>
                      </a:lnTo>
                      <a:lnTo>
                        <a:pt x="0" y="8632"/>
                      </a:lnTo>
                      <a:lnTo>
                        <a:pt x="77" y="57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9cfca"/>
                    </a:gs>
                    <a:gs pos="100000">
                      <a:srgbClr val="968f8c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H="1">
                  <a:off x="717120" y="4146480"/>
                  <a:ext cx="106920" cy="429480"/>
                </a:xfrm>
                <a:custGeom>
                  <a:avLst/>
                  <a:gdLst/>
                  <a:ahLst/>
                  <a:rect l="l" t="t" r="r" b="b"/>
                  <a:pathLst>
                    <a:path w="2678" h="10161">
                      <a:moveTo>
                        <a:pt x="0" y="10161"/>
                      </a:moveTo>
                      <a:lnTo>
                        <a:pt x="51" y="9248"/>
                      </a:lnTo>
                      <a:lnTo>
                        <a:pt x="353" y="9248"/>
                      </a:lnTo>
                      <a:lnTo>
                        <a:pt x="491" y="9220"/>
                      </a:lnTo>
                      <a:lnTo>
                        <a:pt x="583" y="9142"/>
                      </a:lnTo>
                      <a:lnTo>
                        <a:pt x="629" y="9009"/>
                      </a:lnTo>
                      <a:lnTo>
                        <a:pt x="629" y="248"/>
                      </a:lnTo>
                      <a:lnTo>
                        <a:pt x="614" y="162"/>
                      </a:lnTo>
                      <a:lnTo>
                        <a:pt x="596" y="88"/>
                      </a:lnTo>
                      <a:lnTo>
                        <a:pt x="568" y="51"/>
                      </a:lnTo>
                      <a:lnTo>
                        <a:pt x="491" y="0"/>
                      </a:lnTo>
                      <a:lnTo>
                        <a:pt x="857" y="60"/>
                      </a:lnTo>
                      <a:lnTo>
                        <a:pt x="1023" y="110"/>
                      </a:lnTo>
                      <a:lnTo>
                        <a:pt x="1682" y="538"/>
                      </a:lnTo>
                      <a:lnTo>
                        <a:pt x="1701" y="556"/>
                      </a:lnTo>
                      <a:lnTo>
                        <a:pt x="1715" y="584"/>
                      </a:lnTo>
                      <a:lnTo>
                        <a:pt x="1719" y="620"/>
                      </a:lnTo>
                      <a:lnTo>
                        <a:pt x="2678" y="7320"/>
                      </a:lnTo>
                      <a:lnTo>
                        <a:pt x="2669" y="9137"/>
                      </a:lnTo>
                      <a:lnTo>
                        <a:pt x="27" y="10161"/>
                      </a:lnTo>
                      <a:lnTo>
                        <a:pt x="0" y="1016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5e5b"/>
                    </a:gs>
                    <a:gs pos="100000">
                      <a:srgbClr val="b7aaa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>
                  <a:off x="822600" y="4524840"/>
                  <a:ext cx="339120" cy="24840"/>
                </a:xfrm>
                <a:custGeom>
                  <a:avLst/>
                  <a:gdLst/>
                  <a:ahLst/>
                  <a:rect l="l" t="t" r="r" b="b"/>
                  <a:pathLst>
                    <a:path w="8422" h="579">
                      <a:moveTo>
                        <a:pt x="0" y="0"/>
                      </a:moveTo>
                      <a:lnTo>
                        <a:pt x="8422" y="304"/>
                      </a:lnTo>
                      <a:lnTo>
                        <a:pt x="8391" y="579"/>
                      </a:lnTo>
                      <a:lnTo>
                        <a:pt x="18" y="23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642"/>
                    </a:gs>
                    <a:gs pos="100000">
                      <a:srgbClr val="a8989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H="1">
                  <a:off x="846360" y="4205520"/>
                  <a:ext cx="317520" cy="275400"/>
                </a:xfrm>
                <a:custGeom>
                  <a:avLst/>
                  <a:gdLst/>
                  <a:ahLst/>
                  <a:rect l="l" t="t" r="r" b="b"/>
                  <a:pathLst>
                    <a:path w="7886" h="6539">
                      <a:moveTo>
                        <a:pt x="0" y="6084"/>
                      </a:moveTo>
                      <a:lnTo>
                        <a:pt x="73" y="6282"/>
                      </a:lnTo>
                      <a:lnTo>
                        <a:pt x="7775" y="6539"/>
                      </a:lnTo>
                      <a:lnTo>
                        <a:pt x="7817" y="6480"/>
                      </a:lnTo>
                      <a:lnTo>
                        <a:pt x="7863" y="6410"/>
                      </a:lnTo>
                      <a:lnTo>
                        <a:pt x="7886" y="229"/>
                      </a:lnTo>
                      <a:lnTo>
                        <a:pt x="7867" y="118"/>
                      </a:lnTo>
                      <a:lnTo>
                        <a:pt x="7817" y="63"/>
                      </a:lnTo>
                      <a:lnTo>
                        <a:pt x="7460" y="0"/>
                      </a:lnTo>
                      <a:lnTo>
                        <a:pt x="206" y="197"/>
                      </a:lnTo>
                      <a:lnTo>
                        <a:pt x="14" y="3312"/>
                      </a:lnTo>
                      <a:lnTo>
                        <a:pt x="0" y="60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4b"/>
                    </a:gs>
                    <a:gs pos="100000">
                      <a:srgbClr val="000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H="1">
                  <a:off x="851040" y="4500360"/>
                  <a:ext cx="54720" cy="10440"/>
                </a:xfrm>
                <a:custGeom>
                  <a:avLst/>
                  <a:gdLst/>
                  <a:ahLst/>
                  <a:rect l="l" t="t" r="r" b="b"/>
                  <a:pathLst>
                    <a:path w="1357" h="276">
                      <a:moveTo>
                        <a:pt x="1357" y="55"/>
                      </a:moveTo>
                      <a:lnTo>
                        <a:pt x="0" y="0"/>
                      </a:lnTo>
                      <a:lnTo>
                        <a:pt x="0" y="225"/>
                      </a:lnTo>
                      <a:lnTo>
                        <a:pt x="1357" y="276"/>
                      </a:lnTo>
                      <a:lnTo>
                        <a:pt x="1357" y="5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2be00"/>
                    </a:gs>
                    <a:gs pos="100000">
                      <a:srgbClr val="0b7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H="1">
                  <a:off x="845640" y="4203360"/>
                  <a:ext cx="324360" cy="271800"/>
                </a:xfrm>
                <a:custGeom>
                  <a:avLst/>
                  <a:gdLst/>
                  <a:ahLst/>
                  <a:rect l="l" t="t" r="r" b="b"/>
                  <a:pathLst>
                    <a:path w="8034" h="6443">
                      <a:moveTo>
                        <a:pt x="8034" y="206"/>
                      </a:moveTo>
                      <a:lnTo>
                        <a:pt x="8020" y="147"/>
                      </a:lnTo>
                      <a:lnTo>
                        <a:pt x="7969" y="64"/>
                      </a:lnTo>
                      <a:lnTo>
                        <a:pt x="7919" y="32"/>
                      </a:lnTo>
                      <a:lnTo>
                        <a:pt x="7818" y="9"/>
                      </a:lnTo>
                      <a:lnTo>
                        <a:pt x="7722" y="0"/>
                      </a:lnTo>
                      <a:lnTo>
                        <a:pt x="294" y="179"/>
                      </a:lnTo>
                      <a:lnTo>
                        <a:pt x="180" y="193"/>
                      </a:lnTo>
                      <a:lnTo>
                        <a:pt x="97" y="239"/>
                      </a:lnTo>
                      <a:lnTo>
                        <a:pt x="51" y="298"/>
                      </a:lnTo>
                      <a:lnTo>
                        <a:pt x="24" y="372"/>
                      </a:lnTo>
                      <a:lnTo>
                        <a:pt x="0" y="495"/>
                      </a:lnTo>
                      <a:lnTo>
                        <a:pt x="0" y="6177"/>
                      </a:lnTo>
                      <a:lnTo>
                        <a:pt x="10" y="6273"/>
                      </a:lnTo>
                      <a:lnTo>
                        <a:pt x="33" y="6356"/>
                      </a:lnTo>
                      <a:lnTo>
                        <a:pt x="61" y="6388"/>
                      </a:lnTo>
                      <a:lnTo>
                        <a:pt x="111" y="6420"/>
                      </a:lnTo>
                      <a:lnTo>
                        <a:pt x="162" y="6443"/>
                      </a:lnTo>
                      <a:lnTo>
                        <a:pt x="510" y="6255"/>
                      </a:lnTo>
                      <a:lnTo>
                        <a:pt x="468" y="6218"/>
                      </a:lnTo>
                      <a:lnTo>
                        <a:pt x="427" y="6172"/>
                      </a:lnTo>
                      <a:lnTo>
                        <a:pt x="409" y="6126"/>
                      </a:lnTo>
                      <a:lnTo>
                        <a:pt x="390" y="6007"/>
                      </a:lnTo>
                      <a:lnTo>
                        <a:pt x="354" y="4823"/>
                      </a:lnTo>
                      <a:lnTo>
                        <a:pt x="322" y="3455"/>
                      </a:lnTo>
                      <a:lnTo>
                        <a:pt x="331" y="2460"/>
                      </a:lnTo>
                      <a:lnTo>
                        <a:pt x="363" y="1284"/>
                      </a:lnTo>
                      <a:lnTo>
                        <a:pt x="440" y="711"/>
                      </a:lnTo>
                      <a:lnTo>
                        <a:pt x="464" y="551"/>
                      </a:lnTo>
                      <a:lnTo>
                        <a:pt x="501" y="436"/>
                      </a:lnTo>
                      <a:lnTo>
                        <a:pt x="542" y="376"/>
                      </a:lnTo>
                      <a:lnTo>
                        <a:pt x="593" y="339"/>
                      </a:lnTo>
                      <a:lnTo>
                        <a:pt x="633" y="317"/>
                      </a:lnTo>
                      <a:lnTo>
                        <a:pt x="716" y="307"/>
                      </a:lnTo>
                      <a:lnTo>
                        <a:pt x="7689" y="138"/>
                      </a:lnTo>
                      <a:lnTo>
                        <a:pt x="7805" y="138"/>
                      </a:lnTo>
                      <a:lnTo>
                        <a:pt x="7892" y="138"/>
                      </a:lnTo>
                      <a:lnTo>
                        <a:pt x="7969" y="160"/>
                      </a:lnTo>
                      <a:lnTo>
                        <a:pt x="8034" y="20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f5954"/>
                    </a:gs>
                    <a:gs pos="100000">
                      <a:srgbClr val="8a807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flipH="1">
                  <a:off x="846360" y="4466880"/>
                  <a:ext cx="317520" cy="18720"/>
                </a:xfrm>
                <a:custGeom>
                  <a:avLst/>
                  <a:gdLst/>
                  <a:ahLst/>
                  <a:rect l="l" t="t" r="r" b="b"/>
                  <a:pathLst>
                    <a:path w="7879" h="426">
                      <a:moveTo>
                        <a:pt x="7872" y="123"/>
                      </a:moveTo>
                      <a:lnTo>
                        <a:pt x="7858" y="151"/>
                      </a:lnTo>
                      <a:lnTo>
                        <a:pt x="7845" y="179"/>
                      </a:lnTo>
                      <a:lnTo>
                        <a:pt x="7817" y="197"/>
                      </a:lnTo>
                      <a:lnTo>
                        <a:pt x="7808" y="210"/>
                      </a:lnTo>
                      <a:lnTo>
                        <a:pt x="7803" y="210"/>
                      </a:lnTo>
                      <a:lnTo>
                        <a:pt x="7799" y="215"/>
                      </a:lnTo>
                      <a:lnTo>
                        <a:pt x="7716" y="243"/>
                      </a:lnTo>
                      <a:lnTo>
                        <a:pt x="458" y="27"/>
                      </a:lnTo>
                      <a:lnTo>
                        <a:pt x="390" y="13"/>
                      </a:lnTo>
                      <a:lnTo>
                        <a:pt x="329" y="0"/>
                      </a:lnTo>
                      <a:lnTo>
                        <a:pt x="0" y="183"/>
                      </a:lnTo>
                      <a:lnTo>
                        <a:pt x="5373" y="339"/>
                      </a:lnTo>
                      <a:lnTo>
                        <a:pt x="5449" y="340"/>
                      </a:lnTo>
                      <a:lnTo>
                        <a:pt x="5654" y="341"/>
                      </a:lnTo>
                      <a:lnTo>
                        <a:pt x="5950" y="345"/>
                      </a:lnTo>
                      <a:lnTo>
                        <a:pt x="6302" y="352"/>
                      </a:lnTo>
                      <a:lnTo>
                        <a:pt x="6487" y="356"/>
                      </a:lnTo>
                      <a:lnTo>
                        <a:pt x="6673" y="363"/>
                      </a:lnTo>
                      <a:lnTo>
                        <a:pt x="6853" y="369"/>
                      </a:lnTo>
                      <a:lnTo>
                        <a:pt x="7025" y="376"/>
                      </a:lnTo>
                      <a:lnTo>
                        <a:pt x="7107" y="380"/>
                      </a:lnTo>
                      <a:lnTo>
                        <a:pt x="7183" y="384"/>
                      </a:lnTo>
                      <a:lnTo>
                        <a:pt x="7257" y="389"/>
                      </a:lnTo>
                      <a:lnTo>
                        <a:pt x="7324" y="394"/>
                      </a:lnTo>
                      <a:lnTo>
                        <a:pt x="7386" y="399"/>
                      </a:lnTo>
                      <a:lnTo>
                        <a:pt x="7442" y="405"/>
                      </a:lnTo>
                      <a:lnTo>
                        <a:pt x="7492" y="411"/>
                      </a:lnTo>
                      <a:lnTo>
                        <a:pt x="7532" y="417"/>
                      </a:lnTo>
                      <a:lnTo>
                        <a:pt x="7571" y="422"/>
                      </a:lnTo>
                      <a:lnTo>
                        <a:pt x="7606" y="425"/>
                      </a:lnTo>
                      <a:lnTo>
                        <a:pt x="7639" y="426"/>
                      </a:lnTo>
                      <a:lnTo>
                        <a:pt x="7668" y="424"/>
                      </a:lnTo>
                      <a:lnTo>
                        <a:pt x="7696" y="421"/>
                      </a:lnTo>
                      <a:lnTo>
                        <a:pt x="7720" y="416"/>
                      </a:lnTo>
                      <a:lnTo>
                        <a:pt x="7744" y="409"/>
                      </a:lnTo>
                      <a:lnTo>
                        <a:pt x="7764" y="400"/>
                      </a:lnTo>
                      <a:lnTo>
                        <a:pt x="7782" y="390"/>
                      </a:lnTo>
                      <a:lnTo>
                        <a:pt x="7798" y="380"/>
                      </a:lnTo>
                      <a:lnTo>
                        <a:pt x="7813" y="368"/>
                      </a:lnTo>
                      <a:lnTo>
                        <a:pt x="7826" y="354"/>
                      </a:lnTo>
                      <a:lnTo>
                        <a:pt x="7837" y="341"/>
                      </a:lnTo>
                      <a:lnTo>
                        <a:pt x="7846" y="326"/>
                      </a:lnTo>
                      <a:lnTo>
                        <a:pt x="7854" y="311"/>
                      </a:lnTo>
                      <a:lnTo>
                        <a:pt x="7860" y="296"/>
                      </a:lnTo>
                      <a:lnTo>
                        <a:pt x="7866" y="281"/>
                      </a:lnTo>
                      <a:lnTo>
                        <a:pt x="7870" y="266"/>
                      </a:lnTo>
                      <a:lnTo>
                        <a:pt x="7874" y="250"/>
                      </a:lnTo>
                      <a:lnTo>
                        <a:pt x="7876" y="235"/>
                      </a:lnTo>
                      <a:lnTo>
                        <a:pt x="7878" y="220"/>
                      </a:lnTo>
                      <a:lnTo>
                        <a:pt x="7879" y="205"/>
                      </a:lnTo>
                      <a:lnTo>
                        <a:pt x="7879" y="192"/>
                      </a:lnTo>
                      <a:lnTo>
                        <a:pt x="7879" y="179"/>
                      </a:lnTo>
                      <a:lnTo>
                        <a:pt x="7875" y="139"/>
                      </a:lnTo>
                      <a:lnTo>
                        <a:pt x="7872" y="123"/>
                      </a:lnTo>
                      <a:close/>
                    </a:path>
                  </a:pathLst>
                </a:custGeom>
                <a:solidFill>
                  <a:srgbClr val="d3d3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H="1">
                  <a:off x="811800" y="4628160"/>
                  <a:ext cx="101160" cy="15120"/>
                </a:xfrm>
                <a:custGeom>
                  <a:avLst/>
                  <a:gdLst/>
                  <a:ahLst/>
                  <a:rect l="l" t="t" r="r" b="b"/>
                  <a:pathLst>
                    <a:path w="2378" h="344">
                      <a:moveTo>
                        <a:pt x="0" y="222"/>
                      </a:moveTo>
                      <a:lnTo>
                        <a:pt x="0" y="0"/>
                      </a:lnTo>
                      <a:lnTo>
                        <a:pt x="2378" y="107"/>
                      </a:lnTo>
                      <a:lnTo>
                        <a:pt x="2378" y="344"/>
                      </a:lnTo>
                      <a:lnTo>
                        <a:pt x="0" y="222"/>
                      </a:lnTo>
                      <a:close/>
                    </a:path>
                  </a:pathLst>
                </a:custGeom>
                <a:solidFill>
                  <a:srgbClr val="6a605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6" name=""/>
            <p:cNvSpPr/>
            <p:nvPr/>
          </p:nvSpPr>
          <p:spPr>
            <a:xfrm>
              <a:off x="484560" y="4759200"/>
              <a:ext cx="9122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so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2496960" y="3404880"/>
            <a:ext cx="641160" cy="2910240"/>
            <a:chOff x="2496960" y="3404880"/>
            <a:chExt cx="641160" cy="2910240"/>
          </a:xfrm>
        </p:grpSpPr>
        <p:sp>
          <p:nvSpPr>
            <p:cNvPr id="668" name=""/>
            <p:cNvSpPr/>
            <p:nvPr/>
          </p:nvSpPr>
          <p:spPr>
            <a:xfrm flipV="1">
              <a:off x="2531880" y="4390560"/>
              <a:ext cx="552240" cy="81000"/>
            </a:xfrm>
            <a:prstGeom prst="line">
              <a:avLst/>
            </a:prstGeom>
            <a:ln w="2556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2496960" y="3404880"/>
              <a:ext cx="612720" cy="1212840"/>
            </a:xfrm>
            <a:prstGeom prst="line">
              <a:avLst/>
            </a:prstGeom>
            <a:ln w="2556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504880" y="4626000"/>
              <a:ext cx="566640" cy="684360"/>
            </a:xfrm>
            <a:prstGeom prst="line">
              <a:avLst/>
            </a:prstGeom>
            <a:ln w="2556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530080" y="4680000"/>
              <a:ext cx="608040" cy="1635120"/>
            </a:xfrm>
            <a:prstGeom prst="line">
              <a:avLst/>
            </a:prstGeom>
            <a:ln w="25560">
              <a:solidFill>
                <a:srgbClr val="ff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2500200" y="3393720"/>
            <a:ext cx="641520" cy="2910240"/>
            <a:chOff x="2500200" y="3393720"/>
            <a:chExt cx="641520" cy="2910240"/>
          </a:xfrm>
        </p:grpSpPr>
        <p:sp>
          <p:nvSpPr>
            <p:cNvPr id="673" name=""/>
            <p:cNvSpPr/>
            <p:nvPr/>
          </p:nvSpPr>
          <p:spPr>
            <a:xfrm flipV="1">
              <a:off x="2535120" y="4379760"/>
              <a:ext cx="552600" cy="810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2500200" y="3393720"/>
              <a:ext cx="612720" cy="1212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08120" y="4614840"/>
              <a:ext cx="566640" cy="68436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33680" y="4668840"/>
              <a:ext cx="608040" cy="16351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1617840" y="4459320"/>
            <a:ext cx="912600" cy="271440"/>
            <a:chOff x="1617840" y="4459320"/>
            <a:chExt cx="912600" cy="271440"/>
          </a:xfrm>
        </p:grpSpPr>
        <p:sp>
          <p:nvSpPr>
            <p:cNvPr id="678" name=""/>
            <p:cNvSpPr/>
            <p:nvPr/>
          </p:nvSpPr>
          <p:spPr>
            <a:xfrm>
              <a:off x="1617840" y="4459320"/>
              <a:ext cx="912600" cy="271440"/>
            </a:xfrm>
            <a:prstGeom prst="rect">
              <a:avLst/>
            </a:prstGeom>
            <a:solidFill>
              <a:srgbClr val="648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655640" y="4522680"/>
              <a:ext cx="231840" cy="3996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655640" y="4591080"/>
              <a:ext cx="231840" cy="3960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655640" y="4659480"/>
              <a:ext cx="231840" cy="3960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2" name=""/>
            <p:cNvGraphicFramePr/>
            <p:nvPr/>
          </p:nvGraphicFramePr>
          <p:xfrm>
            <a:off x="2246400" y="4522680"/>
            <a:ext cx="164880" cy="16524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683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2246400" y="4522680"/>
                      <a:ext cx="164880" cy="16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84" name=""/>
          <p:cNvGrpSpPr/>
          <p:nvPr/>
        </p:nvGrpSpPr>
        <p:grpSpPr>
          <a:xfrm>
            <a:off x="1930320" y="3625920"/>
            <a:ext cx="480960" cy="769680"/>
            <a:chOff x="1930320" y="3625920"/>
            <a:chExt cx="480960" cy="769680"/>
          </a:xfrm>
        </p:grpSpPr>
        <p:sp>
          <p:nvSpPr>
            <p:cNvPr id="685" name=""/>
            <p:cNvSpPr/>
            <p:nvPr/>
          </p:nvSpPr>
          <p:spPr>
            <a:xfrm flipV="1">
              <a:off x="2133720" y="4114440"/>
              <a:ext cx="0" cy="281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930320" y="3625920"/>
              <a:ext cx="480960" cy="527040"/>
            </a:xfrm>
            <a:prstGeom prst="can">
              <a:avLst>
                <a:gd name="adj" fmla="val 24893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87" name=""/>
          <p:cNvGraphicFramePr/>
          <p:nvPr/>
        </p:nvGraphicFramePr>
        <p:xfrm>
          <a:off x="4819680" y="6315120"/>
          <a:ext cx="165240" cy="1648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819680" y="6315120"/>
                    <a:ext cx="165240" cy="1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"/>
          <p:cNvSpPr/>
          <p:nvPr/>
        </p:nvSpPr>
        <p:spPr>
          <a:xfrm>
            <a:off x="5004720" y="6244200"/>
            <a:ext cx="11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DS Ag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 Manage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Fea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825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fied view of content and application availability, performance and location across the network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spcAft>
                <a:spcPts val="825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al-time, centralized collection of distributed Web server, cache and application server log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14"/>
              </a:spcBef>
              <a:spcAft>
                <a:spcPts val="825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al-time, centralized collection and graphical viewing of system information for better diagnosis of performance or availability issu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825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nitors administrator-defined performance thresholds or SLA’s, including alerting and real-time views of SLA complia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825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ustomized views by geography, by business function and by user profi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 to Content Distribu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Distribution Market 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ontent Delivery Su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Delivery Services with CDS and Traffic Ser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ying Opportunities and Customer Case Studi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86280" y="1561680"/>
            <a:ext cx="561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825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ent Delivery Servic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3086280" y="3429000"/>
            <a:ext cx="561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latform for Value-Added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52280" y="392040"/>
            <a:ext cx="805032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ktomi Content Infrastructur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ing Content Delivery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87360" y="1450800"/>
            <a:ext cx="823104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to Consumer Mark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Content Distribution/Mirroring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45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s geographic mirroring for high availability, redundanc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45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mlessly distributes/synchronize customer’s content to edges of network for high perform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Flash Crowd Protection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45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 overflow capacity for planned and unplanned ev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45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ary hosting for non-hosted custo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ervice-Level Repor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45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s customized reports and analysis - usage, forecas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45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s content delivery service-level guarant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to Business Mark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Content Synd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4"/>
              </a:spcBef>
              <a:spcAft>
                <a:spcPts val="45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dication service for delivering content from original providers to secondary distribu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anet Mark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Inter-Office Content Distribution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Corporate Training and Media Broadcast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"/>
          <p:cNvGrpSpPr/>
          <p:nvPr/>
        </p:nvGrpSpPr>
        <p:grpSpPr>
          <a:xfrm>
            <a:off x="6748560" y="2266920"/>
            <a:ext cx="1735200" cy="3884400"/>
            <a:chOff x="6748560" y="2266920"/>
            <a:chExt cx="1735200" cy="3884400"/>
          </a:xfrm>
        </p:grpSpPr>
        <p:grpSp>
          <p:nvGrpSpPr>
            <p:cNvPr id="697" name=""/>
            <p:cNvGrpSpPr/>
            <p:nvPr/>
          </p:nvGrpSpPr>
          <p:grpSpPr>
            <a:xfrm>
              <a:off x="6821640" y="2317680"/>
              <a:ext cx="1662120" cy="3833640"/>
              <a:chOff x="6821640" y="2317680"/>
              <a:chExt cx="1662120" cy="3833640"/>
            </a:xfrm>
          </p:grpSpPr>
          <p:sp>
            <p:nvSpPr>
              <p:cNvPr id="698" name=""/>
              <p:cNvSpPr/>
              <p:nvPr/>
            </p:nvSpPr>
            <p:spPr>
              <a:xfrm>
                <a:off x="6850440" y="4463640"/>
                <a:ext cx="1569960" cy="1687680"/>
              </a:xfrm>
              <a:prstGeom prst="rect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821640" y="2317680"/>
                <a:ext cx="1662120" cy="1425240"/>
              </a:xfrm>
              <a:prstGeom prst="rect">
                <a:avLst/>
              </a:pr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6748560" y="2266920"/>
              <a:ext cx="1670040" cy="3834000"/>
              <a:chOff x="6748560" y="2266920"/>
              <a:chExt cx="1670040" cy="3834000"/>
            </a:xfrm>
          </p:grpSpPr>
          <p:sp>
            <p:nvSpPr>
              <p:cNvPr id="701" name=""/>
              <p:cNvSpPr/>
              <p:nvPr/>
            </p:nvSpPr>
            <p:spPr>
              <a:xfrm>
                <a:off x="6786720" y="4424400"/>
                <a:ext cx="1582560" cy="16765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748560" y="2266920"/>
                <a:ext cx="1670040" cy="143676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3" name=""/>
          <p:cNvSpPr/>
          <p:nvPr/>
        </p:nvSpPr>
        <p:spPr>
          <a:xfrm>
            <a:off x="3727440" y="2151000"/>
            <a:ext cx="3205080" cy="3692520"/>
          </a:xfrm>
          <a:custGeom>
            <a:avLst/>
            <a:gdLst/>
            <a:ahLst/>
            <a:rect l="l" t="t" r="r" b="b"/>
            <a:pathLst>
              <a:path w="18270" h="10780">
                <a:moveTo>
                  <a:pt x="18270" y="6600"/>
                </a:moveTo>
                <a:lnTo>
                  <a:pt x="18268" y="6525"/>
                </a:lnTo>
                <a:lnTo>
                  <a:pt x="18262" y="6451"/>
                </a:lnTo>
                <a:lnTo>
                  <a:pt x="18252" y="6378"/>
                </a:lnTo>
                <a:lnTo>
                  <a:pt x="18238" y="6305"/>
                </a:lnTo>
                <a:lnTo>
                  <a:pt x="18221" y="6233"/>
                </a:lnTo>
                <a:lnTo>
                  <a:pt x="18199" y="6161"/>
                </a:lnTo>
                <a:lnTo>
                  <a:pt x="18174" y="6091"/>
                </a:lnTo>
                <a:lnTo>
                  <a:pt x="18146" y="6020"/>
                </a:lnTo>
                <a:lnTo>
                  <a:pt x="18112" y="5952"/>
                </a:lnTo>
                <a:lnTo>
                  <a:pt x="18077" y="5883"/>
                </a:lnTo>
                <a:lnTo>
                  <a:pt x="18038" y="5817"/>
                </a:lnTo>
                <a:lnTo>
                  <a:pt x="17995" y="5751"/>
                </a:lnTo>
                <a:lnTo>
                  <a:pt x="17949" y="5685"/>
                </a:lnTo>
                <a:lnTo>
                  <a:pt x="17900" y="5621"/>
                </a:lnTo>
                <a:lnTo>
                  <a:pt x="17848" y="5558"/>
                </a:lnTo>
                <a:lnTo>
                  <a:pt x="17792" y="5496"/>
                </a:lnTo>
                <a:lnTo>
                  <a:pt x="17733" y="5435"/>
                </a:lnTo>
                <a:lnTo>
                  <a:pt x="17672" y="5375"/>
                </a:lnTo>
                <a:lnTo>
                  <a:pt x="17607" y="5317"/>
                </a:lnTo>
                <a:lnTo>
                  <a:pt x="17539" y="5260"/>
                </a:lnTo>
                <a:lnTo>
                  <a:pt x="17470" y="5204"/>
                </a:lnTo>
                <a:lnTo>
                  <a:pt x="17396" y="5149"/>
                </a:lnTo>
                <a:lnTo>
                  <a:pt x="17320" y="5095"/>
                </a:lnTo>
                <a:lnTo>
                  <a:pt x="17242" y="5044"/>
                </a:lnTo>
                <a:lnTo>
                  <a:pt x="17161" y="4994"/>
                </a:lnTo>
                <a:lnTo>
                  <a:pt x="17077" y="4945"/>
                </a:lnTo>
                <a:lnTo>
                  <a:pt x="16991" y="4897"/>
                </a:lnTo>
                <a:lnTo>
                  <a:pt x="16903" y="4851"/>
                </a:lnTo>
                <a:lnTo>
                  <a:pt x="16812" y="4807"/>
                </a:lnTo>
                <a:lnTo>
                  <a:pt x="16719" y="4764"/>
                </a:lnTo>
                <a:lnTo>
                  <a:pt x="16623" y="4723"/>
                </a:lnTo>
                <a:lnTo>
                  <a:pt x="16526" y="4683"/>
                </a:lnTo>
                <a:lnTo>
                  <a:pt x="16557" y="4657"/>
                </a:lnTo>
                <a:lnTo>
                  <a:pt x="16586" y="4630"/>
                </a:lnTo>
                <a:lnTo>
                  <a:pt x="16615" y="4602"/>
                </a:lnTo>
                <a:lnTo>
                  <a:pt x="16643" y="4574"/>
                </a:lnTo>
                <a:lnTo>
                  <a:pt x="16670" y="4546"/>
                </a:lnTo>
                <a:lnTo>
                  <a:pt x="16696" y="4518"/>
                </a:lnTo>
                <a:lnTo>
                  <a:pt x="16722" y="4489"/>
                </a:lnTo>
                <a:lnTo>
                  <a:pt x="16746" y="4460"/>
                </a:lnTo>
                <a:lnTo>
                  <a:pt x="16770" y="4430"/>
                </a:lnTo>
                <a:lnTo>
                  <a:pt x="16792" y="4400"/>
                </a:lnTo>
                <a:lnTo>
                  <a:pt x="16814" y="4370"/>
                </a:lnTo>
                <a:lnTo>
                  <a:pt x="16835" y="4340"/>
                </a:lnTo>
                <a:lnTo>
                  <a:pt x="16855" y="4310"/>
                </a:lnTo>
                <a:lnTo>
                  <a:pt x="16873" y="4279"/>
                </a:lnTo>
                <a:lnTo>
                  <a:pt x="16892" y="4247"/>
                </a:lnTo>
                <a:lnTo>
                  <a:pt x="16909" y="4216"/>
                </a:lnTo>
                <a:lnTo>
                  <a:pt x="16926" y="4184"/>
                </a:lnTo>
                <a:lnTo>
                  <a:pt x="16941" y="4152"/>
                </a:lnTo>
                <a:lnTo>
                  <a:pt x="16955" y="4120"/>
                </a:lnTo>
                <a:lnTo>
                  <a:pt x="16968" y="4088"/>
                </a:lnTo>
                <a:lnTo>
                  <a:pt x="16981" y="4055"/>
                </a:lnTo>
                <a:lnTo>
                  <a:pt x="16992" y="4023"/>
                </a:lnTo>
                <a:lnTo>
                  <a:pt x="17003" y="3990"/>
                </a:lnTo>
                <a:lnTo>
                  <a:pt x="17012" y="3957"/>
                </a:lnTo>
                <a:lnTo>
                  <a:pt x="17020" y="3923"/>
                </a:lnTo>
                <a:lnTo>
                  <a:pt x="17026" y="3890"/>
                </a:lnTo>
                <a:lnTo>
                  <a:pt x="17032" y="3856"/>
                </a:lnTo>
                <a:lnTo>
                  <a:pt x="17038" y="3821"/>
                </a:lnTo>
                <a:lnTo>
                  <a:pt x="17041" y="3788"/>
                </a:lnTo>
                <a:lnTo>
                  <a:pt x="17044" y="3753"/>
                </a:lnTo>
                <a:lnTo>
                  <a:pt x="17046" y="3719"/>
                </a:lnTo>
                <a:lnTo>
                  <a:pt x="17046" y="3684"/>
                </a:lnTo>
                <a:lnTo>
                  <a:pt x="17042" y="3593"/>
                </a:lnTo>
                <a:lnTo>
                  <a:pt x="17031" y="3503"/>
                </a:lnTo>
                <a:lnTo>
                  <a:pt x="17012" y="3414"/>
                </a:lnTo>
                <a:lnTo>
                  <a:pt x="16985" y="3326"/>
                </a:lnTo>
                <a:lnTo>
                  <a:pt x="16952" y="3240"/>
                </a:lnTo>
                <a:lnTo>
                  <a:pt x="16911" y="3156"/>
                </a:lnTo>
                <a:lnTo>
                  <a:pt x="16864" y="3073"/>
                </a:lnTo>
                <a:lnTo>
                  <a:pt x="16811" y="2992"/>
                </a:lnTo>
                <a:lnTo>
                  <a:pt x="16750" y="2914"/>
                </a:lnTo>
                <a:lnTo>
                  <a:pt x="16684" y="2837"/>
                </a:lnTo>
                <a:lnTo>
                  <a:pt x="16612" y="2763"/>
                </a:lnTo>
                <a:lnTo>
                  <a:pt x="16533" y="2691"/>
                </a:lnTo>
                <a:lnTo>
                  <a:pt x="16450" y="2621"/>
                </a:lnTo>
                <a:lnTo>
                  <a:pt x="16361" y="2554"/>
                </a:lnTo>
                <a:lnTo>
                  <a:pt x="16266" y="2489"/>
                </a:lnTo>
                <a:lnTo>
                  <a:pt x="16167" y="2427"/>
                </a:lnTo>
                <a:lnTo>
                  <a:pt x="16063" y="2369"/>
                </a:lnTo>
                <a:lnTo>
                  <a:pt x="15953" y="2313"/>
                </a:lnTo>
                <a:lnTo>
                  <a:pt x="15840" y="2261"/>
                </a:lnTo>
                <a:lnTo>
                  <a:pt x="15722" y="2210"/>
                </a:lnTo>
                <a:lnTo>
                  <a:pt x="15600" y="2165"/>
                </a:lnTo>
                <a:lnTo>
                  <a:pt x="15475" y="2121"/>
                </a:lnTo>
                <a:lnTo>
                  <a:pt x="15346" y="2082"/>
                </a:lnTo>
                <a:lnTo>
                  <a:pt x="15212" y="2047"/>
                </a:lnTo>
                <a:lnTo>
                  <a:pt x="15076" y="2015"/>
                </a:lnTo>
                <a:lnTo>
                  <a:pt x="14936" y="1987"/>
                </a:lnTo>
                <a:lnTo>
                  <a:pt x="14794" y="1963"/>
                </a:lnTo>
                <a:lnTo>
                  <a:pt x="14648" y="1943"/>
                </a:lnTo>
                <a:lnTo>
                  <a:pt x="14501" y="1927"/>
                </a:lnTo>
                <a:lnTo>
                  <a:pt x="14350" y="1916"/>
                </a:lnTo>
                <a:lnTo>
                  <a:pt x="14198" y="1909"/>
                </a:lnTo>
                <a:lnTo>
                  <a:pt x="14043" y="1907"/>
                </a:lnTo>
                <a:lnTo>
                  <a:pt x="13965" y="1908"/>
                </a:lnTo>
                <a:lnTo>
                  <a:pt x="13887" y="1909"/>
                </a:lnTo>
                <a:lnTo>
                  <a:pt x="13811" y="1912"/>
                </a:lnTo>
                <a:lnTo>
                  <a:pt x="13734" y="1916"/>
                </a:lnTo>
                <a:lnTo>
                  <a:pt x="13659" y="1921"/>
                </a:lnTo>
                <a:lnTo>
                  <a:pt x="13584" y="1928"/>
                </a:lnTo>
                <a:lnTo>
                  <a:pt x="13508" y="1935"/>
                </a:lnTo>
                <a:lnTo>
                  <a:pt x="13434" y="1943"/>
                </a:lnTo>
                <a:lnTo>
                  <a:pt x="13361" y="1953"/>
                </a:lnTo>
                <a:lnTo>
                  <a:pt x="13289" y="1964"/>
                </a:lnTo>
                <a:lnTo>
                  <a:pt x="13217" y="1975"/>
                </a:lnTo>
                <a:lnTo>
                  <a:pt x="13145" y="1988"/>
                </a:lnTo>
                <a:lnTo>
                  <a:pt x="13074" y="2001"/>
                </a:lnTo>
                <a:lnTo>
                  <a:pt x="13005" y="2016"/>
                </a:lnTo>
                <a:lnTo>
                  <a:pt x="12936" y="2032"/>
                </a:lnTo>
                <a:lnTo>
                  <a:pt x="12868" y="2048"/>
                </a:lnTo>
                <a:lnTo>
                  <a:pt x="12844" y="1941"/>
                </a:lnTo>
                <a:lnTo>
                  <a:pt x="12812" y="1836"/>
                </a:lnTo>
                <a:lnTo>
                  <a:pt x="12772" y="1732"/>
                </a:lnTo>
                <a:lnTo>
                  <a:pt x="12725" y="1629"/>
                </a:lnTo>
                <a:lnTo>
                  <a:pt x="12669" y="1530"/>
                </a:lnTo>
                <a:lnTo>
                  <a:pt x="12606" y="1432"/>
                </a:lnTo>
                <a:lnTo>
                  <a:pt x="12536" y="1336"/>
                </a:lnTo>
                <a:lnTo>
                  <a:pt x="12459" y="1242"/>
                </a:lnTo>
                <a:lnTo>
                  <a:pt x="12374" y="1152"/>
                </a:lnTo>
                <a:lnTo>
                  <a:pt x="12284" y="1063"/>
                </a:lnTo>
                <a:lnTo>
                  <a:pt x="12187" y="977"/>
                </a:lnTo>
                <a:lnTo>
                  <a:pt x="12083" y="894"/>
                </a:lnTo>
                <a:lnTo>
                  <a:pt x="11974" y="814"/>
                </a:lnTo>
                <a:lnTo>
                  <a:pt x="11858" y="738"/>
                </a:lnTo>
                <a:lnTo>
                  <a:pt x="11738" y="663"/>
                </a:lnTo>
                <a:lnTo>
                  <a:pt x="11612" y="593"/>
                </a:lnTo>
                <a:lnTo>
                  <a:pt x="11480" y="525"/>
                </a:lnTo>
                <a:lnTo>
                  <a:pt x="11343" y="461"/>
                </a:lnTo>
                <a:lnTo>
                  <a:pt x="11202" y="401"/>
                </a:lnTo>
                <a:lnTo>
                  <a:pt x="11056" y="345"/>
                </a:lnTo>
                <a:lnTo>
                  <a:pt x="10905" y="292"/>
                </a:lnTo>
                <a:lnTo>
                  <a:pt x="10750" y="243"/>
                </a:lnTo>
                <a:lnTo>
                  <a:pt x="10591" y="199"/>
                </a:lnTo>
                <a:lnTo>
                  <a:pt x="10429" y="159"/>
                </a:lnTo>
                <a:lnTo>
                  <a:pt x="10262" y="122"/>
                </a:lnTo>
                <a:lnTo>
                  <a:pt x="10092" y="90"/>
                </a:lnTo>
                <a:lnTo>
                  <a:pt x="9918" y="63"/>
                </a:lnTo>
                <a:lnTo>
                  <a:pt x="9742" y="41"/>
                </a:lnTo>
                <a:lnTo>
                  <a:pt x="9563" y="23"/>
                </a:lnTo>
                <a:lnTo>
                  <a:pt x="9382" y="10"/>
                </a:lnTo>
                <a:lnTo>
                  <a:pt x="9198" y="2"/>
                </a:lnTo>
                <a:lnTo>
                  <a:pt x="9011" y="0"/>
                </a:lnTo>
                <a:lnTo>
                  <a:pt x="8838" y="2"/>
                </a:lnTo>
                <a:lnTo>
                  <a:pt x="8667" y="9"/>
                </a:lnTo>
                <a:lnTo>
                  <a:pt x="8498" y="19"/>
                </a:lnTo>
                <a:lnTo>
                  <a:pt x="8331" y="35"/>
                </a:lnTo>
                <a:lnTo>
                  <a:pt x="8167" y="55"/>
                </a:lnTo>
                <a:lnTo>
                  <a:pt x="8005" y="78"/>
                </a:lnTo>
                <a:lnTo>
                  <a:pt x="7846" y="105"/>
                </a:lnTo>
                <a:lnTo>
                  <a:pt x="7689" y="137"/>
                </a:lnTo>
                <a:lnTo>
                  <a:pt x="7536" y="171"/>
                </a:lnTo>
                <a:lnTo>
                  <a:pt x="7386" y="210"/>
                </a:lnTo>
                <a:lnTo>
                  <a:pt x="7239" y="252"/>
                </a:lnTo>
                <a:lnTo>
                  <a:pt x="7097" y="298"/>
                </a:lnTo>
                <a:lnTo>
                  <a:pt x="6957" y="348"/>
                </a:lnTo>
                <a:lnTo>
                  <a:pt x="6822" y="401"/>
                </a:lnTo>
                <a:lnTo>
                  <a:pt x="6690" y="456"/>
                </a:lnTo>
                <a:lnTo>
                  <a:pt x="6563" y="515"/>
                </a:lnTo>
                <a:lnTo>
                  <a:pt x="6440" y="577"/>
                </a:lnTo>
                <a:lnTo>
                  <a:pt x="6321" y="642"/>
                </a:lnTo>
                <a:lnTo>
                  <a:pt x="6207" y="709"/>
                </a:lnTo>
                <a:lnTo>
                  <a:pt x="6099" y="780"/>
                </a:lnTo>
                <a:lnTo>
                  <a:pt x="5995" y="852"/>
                </a:lnTo>
                <a:lnTo>
                  <a:pt x="5896" y="928"/>
                </a:lnTo>
                <a:lnTo>
                  <a:pt x="5802" y="1006"/>
                </a:lnTo>
                <a:lnTo>
                  <a:pt x="5714" y="1086"/>
                </a:lnTo>
                <a:lnTo>
                  <a:pt x="5631" y="1169"/>
                </a:lnTo>
                <a:lnTo>
                  <a:pt x="5554" y="1254"/>
                </a:lnTo>
                <a:lnTo>
                  <a:pt x="5482" y="1340"/>
                </a:lnTo>
                <a:lnTo>
                  <a:pt x="5418" y="1429"/>
                </a:lnTo>
                <a:lnTo>
                  <a:pt x="5359" y="1520"/>
                </a:lnTo>
                <a:lnTo>
                  <a:pt x="5306" y="1612"/>
                </a:lnTo>
                <a:lnTo>
                  <a:pt x="5261" y="1707"/>
                </a:lnTo>
                <a:lnTo>
                  <a:pt x="5222" y="1803"/>
                </a:lnTo>
                <a:lnTo>
                  <a:pt x="5156" y="1787"/>
                </a:lnTo>
                <a:lnTo>
                  <a:pt x="5088" y="1773"/>
                </a:lnTo>
                <a:lnTo>
                  <a:pt x="5021" y="1759"/>
                </a:lnTo>
                <a:lnTo>
                  <a:pt x="4952" y="1746"/>
                </a:lnTo>
                <a:lnTo>
                  <a:pt x="4884" y="1734"/>
                </a:lnTo>
                <a:lnTo>
                  <a:pt x="4814" y="1724"/>
                </a:lnTo>
                <a:lnTo>
                  <a:pt x="4744" y="1714"/>
                </a:lnTo>
                <a:lnTo>
                  <a:pt x="4674" y="1705"/>
                </a:lnTo>
                <a:lnTo>
                  <a:pt x="4602" y="1697"/>
                </a:lnTo>
                <a:lnTo>
                  <a:pt x="4530" y="1690"/>
                </a:lnTo>
                <a:lnTo>
                  <a:pt x="4458" y="1684"/>
                </a:lnTo>
                <a:lnTo>
                  <a:pt x="4384" y="1679"/>
                </a:lnTo>
                <a:lnTo>
                  <a:pt x="4311" y="1676"/>
                </a:lnTo>
                <a:lnTo>
                  <a:pt x="4236" y="1673"/>
                </a:lnTo>
                <a:lnTo>
                  <a:pt x="4162" y="1671"/>
                </a:lnTo>
                <a:lnTo>
                  <a:pt x="4087" y="1670"/>
                </a:lnTo>
                <a:lnTo>
                  <a:pt x="3933" y="1673"/>
                </a:lnTo>
                <a:lnTo>
                  <a:pt x="3780" y="1679"/>
                </a:lnTo>
                <a:lnTo>
                  <a:pt x="3629" y="1691"/>
                </a:lnTo>
                <a:lnTo>
                  <a:pt x="3482" y="1707"/>
                </a:lnTo>
                <a:lnTo>
                  <a:pt x="3337" y="1726"/>
                </a:lnTo>
                <a:lnTo>
                  <a:pt x="3194" y="1750"/>
                </a:lnTo>
                <a:lnTo>
                  <a:pt x="3055" y="1779"/>
                </a:lnTo>
                <a:lnTo>
                  <a:pt x="2917" y="1811"/>
                </a:lnTo>
                <a:lnTo>
                  <a:pt x="2785" y="1846"/>
                </a:lnTo>
                <a:lnTo>
                  <a:pt x="2655" y="1885"/>
                </a:lnTo>
                <a:lnTo>
                  <a:pt x="2529" y="1928"/>
                </a:lnTo>
                <a:lnTo>
                  <a:pt x="2408" y="1974"/>
                </a:lnTo>
                <a:lnTo>
                  <a:pt x="2289" y="2024"/>
                </a:lnTo>
                <a:lnTo>
                  <a:pt x="2176" y="2077"/>
                </a:lnTo>
                <a:lnTo>
                  <a:pt x="2068" y="2133"/>
                </a:lnTo>
                <a:lnTo>
                  <a:pt x="1963" y="2191"/>
                </a:lnTo>
                <a:lnTo>
                  <a:pt x="1864" y="2253"/>
                </a:lnTo>
                <a:lnTo>
                  <a:pt x="1770" y="2318"/>
                </a:lnTo>
                <a:lnTo>
                  <a:pt x="1680" y="2385"/>
                </a:lnTo>
                <a:lnTo>
                  <a:pt x="1596" y="2455"/>
                </a:lnTo>
                <a:lnTo>
                  <a:pt x="1519" y="2527"/>
                </a:lnTo>
                <a:lnTo>
                  <a:pt x="1446" y="2601"/>
                </a:lnTo>
                <a:lnTo>
                  <a:pt x="1379" y="2677"/>
                </a:lnTo>
                <a:lnTo>
                  <a:pt x="1320" y="2756"/>
                </a:lnTo>
                <a:lnTo>
                  <a:pt x="1266" y="2837"/>
                </a:lnTo>
                <a:lnTo>
                  <a:pt x="1218" y="2919"/>
                </a:lnTo>
                <a:lnTo>
                  <a:pt x="1178" y="3004"/>
                </a:lnTo>
                <a:lnTo>
                  <a:pt x="1144" y="3089"/>
                </a:lnTo>
                <a:lnTo>
                  <a:pt x="1118" y="3177"/>
                </a:lnTo>
                <a:lnTo>
                  <a:pt x="1100" y="3266"/>
                </a:lnTo>
                <a:lnTo>
                  <a:pt x="1087" y="3357"/>
                </a:lnTo>
                <a:lnTo>
                  <a:pt x="1084" y="3448"/>
                </a:lnTo>
                <a:lnTo>
                  <a:pt x="1085" y="3490"/>
                </a:lnTo>
                <a:lnTo>
                  <a:pt x="1087" y="3532"/>
                </a:lnTo>
                <a:lnTo>
                  <a:pt x="1092" y="3575"/>
                </a:lnTo>
                <a:lnTo>
                  <a:pt x="1097" y="3616"/>
                </a:lnTo>
                <a:lnTo>
                  <a:pt x="1104" y="3657"/>
                </a:lnTo>
                <a:lnTo>
                  <a:pt x="1113" y="3698"/>
                </a:lnTo>
                <a:lnTo>
                  <a:pt x="1124" y="3739"/>
                </a:lnTo>
                <a:lnTo>
                  <a:pt x="1136" y="3779"/>
                </a:lnTo>
                <a:lnTo>
                  <a:pt x="1150" y="3820"/>
                </a:lnTo>
                <a:lnTo>
                  <a:pt x="1165" y="3859"/>
                </a:lnTo>
                <a:lnTo>
                  <a:pt x="1182" y="3899"/>
                </a:lnTo>
                <a:lnTo>
                  <a:pt x="1199" y="3938"/>
                </a:lnTo>
                <a:lnTo>
                  <a:pt x="1220" y="3977"/>
                </a:lnTo>
                <a:lnTo>
                  <a:pt x="1240" y="4015"/>
                </a:lnTo>
                <a:lnTo>
                  <a:pt x="1263" y="4053"/>
                </a:lnTo>
                <a:lnTo>
                  <a:pt x="1286" y="4091"/>
                </a:lnTo>
                <a:lnTo>
                  <a:pt x="1312" y="4127"/>
                </a:lnTo>
                <a:lnTo>
                  <a:pt x="1338" y="4165"/>
                </a:lnTo>
                <a:lnTo>
                  <a:pt x="1366" y="4200"/>
                </a:lnTo>
                <a:lnTo>
                  <a:pt x="1395" y="4237"/>
                </a:lnTo>
                <a:lnTo>
                  <a:pt x="1426" y="4272"/>
                </a:lnTo>
                <a:lnTo>
                  <a:pt x="1458" y="4307"/>
                </a:lnTo>
                <a:lnTo>
                  <a:pt x="1491" y="4342"/>
                </a:lnTo>
                <a:lnTo>
                  <a:pt x="1526" y="4375"/>
                </a:lnTo>
                <a:lnTo>
                  <a:pt x="1561" y="4409"/>
                </a:lnTo>
                <a:lnTo>
                  <a:pt x="1597" y="4442"/>
                </a:lnTo>
                <a:lnTo>
                  <a:pt x="1635" y="4474"/>
                </a:lnTo>
                <a:lnTo>
                  <a:pt x="1675" y="4506"/>
                </a:lnTo>
                <a:lnTo>
                  <a:pt x="1715" y="4537"/>
                </a:lnTo>
                <a:lnTo>
                  <a:pt x="1756" y="4568"/>
                </a:lnTo>
                <a:lnTo>
                  <a:pt x="1800" y="4599"/>
                </a:lnTo>
                <a:lnTo>
                  <a:pt x="1843" y="4628"/>
                </a:lnTo>
                <a:lnTo>
                  <a:pt x="1740" y="4667"/>
                </a:lnTo>
                <a:lnTo>
                  <a:pt x="1640" y="4708"/>
                </a:lnTo>
                <a:lnTo>
                  <a:pt x="1542" y="4751"/>
                </a:lnTo>
                <a:lnTo>
                  <a:pt x="1447" y="4795"/>
                </a:lnTo>
                <a:lnTo>
                  <a:pt x="1353" y="4841"/>
                </a:lnTo>
                <a:lnTo>
                  <a:pt x="1262" y="4889"/>
                </a:lnTo>
                <a:lnTo>
                  <a:pt x="1174" y="4938"/>
                </a:lnTo>
                <a:lnTo>
                  <a:pt x="1088" y="4988"/>
                </a:lnTo>
                <a:lnTo>
                  <a:pt x="1006" y="5041"/>
                </a:lnTo>
                <a:lnTo>
                  <a:pt x="925" y="5094"/>
                </a:lnTo>
                <a:lnTo>
                  <a:pt x="848" y="5150"/>
                </a:lnTo>
                <a:lnTo>
                  <a:pt x="774" y="5207"/>
                </a:lnTo>
                <a:lnTo>
                  <a:pt x="702" y="5266"/>
                </a:lnTo>
                <a:lnTo>
                  <a:pt x="634" y="5325"/>
                </a:lnTo>
                <a:lnTo>
                  <a:pt x="569" y="5385"/>
                </a:lnTo>
                <a:lnTo>
                  <a:pt x="507" y="5447"/>
                </a:lnTo>
                <a:lnTo>
                  <a:pt x="448" y="5511"/>
                </a:lnTo>
                <a:lnTo>
                  <a:pt x="393" y="5576"/>
                </a:lnTo>
                <a:lnTo>
                  <a:pt x="340" y="5641"/>
                </a:lnTo>
                <a:lnTo>
                  <a:pt x="291" y="5709"/>
                </a:lnTo>
                <a:lnTo>
                  <a:pt x="247" y="5776"/>
                </a:lnTo>
                <a:lnTo>
                  <a:pt x="204" y="5846"/>
                </a:lnTo>
                <a:lnTo>
                  <a:pt x="167" y="5915"/>
                </a:lnTo>
                <a:lnTo>
                  <a:pt x="132" y="5986"/>
                </a:lnTo>
                <a:lnTo>
                  <a:pt x="102" y="6058"/>
                </a:lnTo>
                <a:lnTo>
                  <a:pt x="75" y="6130"/>
                </a:lnTo>
                <a:lnTo>
                  <a:pt x="53" y="6204"/>
                </a:lnTo>
                <a:lnTo>
                  <a:pt x="34" y="6278"/>
                </a:lnTo>
                <a:lnTo>
                  <a:pt x="19" y="6354"/>
                </a:lnTo>
                <a:lnTo>
                  <a:pt x="8" y="6429"/>
                </a:lnTo>
                <a:lnTo>
                  <a:pt x="2" y="6505"/>
                </a:lnTo>
                <a:lnTo>
                  <a:pt x="0" y="6583"/>
                </a:lnTo>
                <a:lnTo>
                  <a:pt x="5" y="6700"/>
                </a:lnTo>
                <a:lnTo>
                  <a:pt x="19" y="6815"/>
                </a:lnTo>
                <a:lnTo>
                  <a:pt x="43" y="6928"/>
                </a:lnTo>
                <a:lnTo>
                  <a:pt x="77" y="7040"/>
                </a:lnTo>
                <a:lnTo>
                  <a:pt x="119" y="7149"/>
                </a:lnTo>
                <a:lnTo>
                  <a:pt x="170" y="7257"/>
                </a:lnTo>
                <a:lnTo>
                  <a:pt x="230" y="7363"/>
                </a:lnTo>
                <a:lnTo>
                  <a:pt x="297" y="7466"/>
                </a:lnTo>
                <a:lnTo>
                  <a:pt x="373" y="7566"/>
                </a:lnTo>
                <a:lnTo>
                  <a:pt x="457" y="7664"/>
                </a:lnTo>
                <a:lnTo>
                  <a:pt x="548" y="7759"/>
                </a:lnTo>
                <a:lnTo>
                  <a:pt x="646" y="7852"/>
                </a:lnTo>
                <a:lnTo>
                  <a:pt x="752" y="7942"/>
                </a:lnTo>
                <a:lnTo>
                  <a:pt x="864" y="8027"/>
                </a:lnTo>
                <a:lnTo>
                  <a:pt x="984" y="8111"/>
                </a:lnTo>
                <a:lnTo>
                  <a:pt x="1110" y="8189"/>
                </a:lnTo>
                <a:lnTo>
                  <a:pt x="1241" y="8266"/>
                </a:lnTo>
                <a:lnTo>
                  <a:pt x="1378" y="8338"/>
                </a:lnTo>
                <a:lnTo>
                  <a:pt x="1522" y="8405"/>
                </a:lnTo>
                <a:lnTo>
                  <a:pt x="1671" y="8470"/>
                </a:lnTo>
                <a:lnTo>
                  <a:pt x="1825" y="8530"/>
                </a:lnTo>
                <a:lnTo>
                  <a:pt x="1983" y="8586"/>
                </a:lnTo>
                <a:lnTo>
                  <a:pt x="2148" y="8637"/>
                </a:lnTo>
                <a:lnTo>
                  <a:pt x="2316" y="8684"/>
                </a:lnTo>
                <a:lnTo>
                  <a:pt x="2488" y="8726"/>
                </a:lnTo>
                <a:lnTo>
                  <a:pt x="2665" y="8764"/>
                </a:lnTo>
                <a:lnTo>
                  <a:pt x="2846" y="8796"/>
                </a:lnTo>
                <a:lnTo>
                  <a:pt x="3029" y="8823"/>
                </a:lnTo>
                <a:lnTo>
                  <a:pt x="3217" y="8845"/>
                </a:lnTo>
                <a:lnTo>
                  <a:pt x="3407" y="8861"/>
                </a:lnTo>
                <a:lnTo>
                  <a:pt x="3601" y="8872"/>
                </a:lnTo>
                <a:lnTo>
                  <a:pt x="3797" y="8878"/>
                </a:lnTo>
                <a:lnTo>
                  <a:pt x="3796" y="8893"/>
                </a:lnTo>
                <a:lnTo>
                  <a:pt x="3793" y="8909"/>
                </a:lnTo>
                <a:lnTo>
                  <a:pt x="3792" y="8925"/>
                </a:lnTo>
                <a:lnTo>
                  <a:pt x="3791" y="8940"/>
                </a:lnTo>
                <a:lnTo>
                  <a:pt x="3790" y="8956"/>
                </a:lnTo>
                <a:lnTo>
                  <a:pt x="3790" y="8972"/>
                </a:lnTo>
                <a:lnTo>
                  <a:pt x="3789" y="8988"/>
                </a:lnTo>
                <a:lnTo>
                  <a:pt x="3789" y="9002"/>
                </a:lnTo>
                <a:lnTo>
                  <a:pt x="3793" y="9095"/>
                </a:lnTo>
                <a:lnTo>
                  <a:pt x="3805" y="9185"/>
                </a:lnTo>
                <a:lnTo>
                  <a:pt x="3823" y="9274"/>
                </a:lnTo>
                <a:lnTo>
                  <a:pt x="3850" y="9361"/>
                </a:lnTo>
                <a:lnTo>
                  <a:pt x="3884" y="9448"/>
                </a:lnTo>
                <a:lnTo>
                  <a:pt x="3923" y="9531"/>
                </a:lnTo>
                <a:lnTo>
                  <a:pt x="3971" y="9614"/>
                </a:lnTo>
                <a:lnTo>
                  <a:pt x="4025" y="9694"/>
                </a:lnTo>
                <a:lnTo>
                  <a:pt x="4084" y="9773"/>
                </a:lnTo>
                <a:lnTo>
                  <a:pt x="4152" y="9850"/>
                </a:lnTo>
                <a:lnTo>
                  <a:pt x="4224" y="9925"/>
                </a:lnTo>
                <a:lnTo>
                  <a:pt x="4301" y="9997"/>
                </a:lnTo>
                <a:lnTo>
                  <a:pt x="4386" y="10066"/>
                </a:lnTo>
                <a:lnTo>
                  <a:pt x="4475" y="10134"/>
                </a:lnTo>
                <a:lnTo>
                  <a:pt x="4569" y="10198"/>
                </a:lnTo>
                <a:lnTo>
                  <a:pt x="4668" y="10259"/>
                </a:lnTo>
                <a:lnTo>
                  <a:pt x="4773" y="10319"/>
                </a:lnTo>
                <a:lnTo>
                  <a:pt x="4882" y="10375"/>
                </a:lnTo>
                <a:lnTo>
                  <a:pt x="4996" y="10427"/>
                </a:lnTo>
                <a:lnTo>
                  <a:pt x="5113" y="10476"/>
                </a:lnTo>
                <a:lnTo>
                  <a:pt x="5234" y="10523"/>
                </a:lnTo>
                <a:lnTo>
                  <a:pt x="5360" y="10565"/>
                </a:lnTo>
                <a:lnTo>
                  <a:pt x="5490" y="10605"/>
                </a:lnTo>
                <a:lnTo>
                  <a:pt x="5623" y="10641"/>
                </a:lnTo>
                <a:lnTo>
                  <a:pt x="5760" y="10673"/>
                </a:lnTo>
                <a:lnTo>
                  <a:pt x="5899" y="10700"/>
                </a:lnTo>
                <a:lnTo>
                  <a:pt x="6042" y="10724"/>
                </a:lnTo>
                <a:lnTo>
                  <a:pt x="6187" y="10743"/>
                </a:lnTo>
                <a:lnTo>
                  <a:pt x="6335" y="10759"/>
                </a:lnTo>
                <a:lnTo>
                  <a:pt x="6485" y="10771"/>
                </a:lnTo>
                <a:lnTo>
                  <a:pt x="6638" y="10778"/>
                </a:lnTo>
                <a:lnTo>
                  <a:pt x="6792" y="10780"/>
                </a:lnTo>
                <a:lnTo>
                  <a:pt x="6865" y="10780"/>
                </a:lnTo>
                <a:lnTo>
                  <a:pt x="6937" y="10778"/>
                </a:lnTo>
                <a:lnTo>
                  <a:pt x="7008" y="10775"/>
                </a:lnTo>
                <a:lnTo>
                  <a:pt x="7080" y="10772"/>
                </a:lnTo>
                <a:lnTo>
                  <a:pt x="7150" y="10767"/>
                </a:lnTo>
                <a:lnTo>
                  <a:pt x="7220" y="10762"/>
                </a:lnTo>
                <a:lnTo>
                  <a:pt x="7290" y="10756"/>
                </a:lnTo>
                <a:lnTo>
                  <a:pt x="7359" y="10748"/>
                </a:lnTo>
                <a:lnTo>
                  <a:pt x="7428" y="10740"/>
                </a:lnTo>
                <a:lnTo>
                  <a:pt x="7495" y="10731"/>
                </a:lnTo>
                <a:lnTo>
                  <a:pt x="7563" y="10721"/>
                </a:lnTo>
                <a:lnTo>
                  <a:pt x="7630" y="10710"/>
                </a:lnTo>
                <a:lnTo>
                  <a:pt x="7695" y="10698"/>
                </a:lnTo>
                <a:lnTo>
                  <a:pt x="7761" y="10685"/>
                </a:lnTo>
                <a:lnTo>
                  <a:pt x="7826" y="10672"/>
                </a:lnTo>
                <a:lnTo>
                  <a:pt x="7890" y="10658"/>
                </a:lnTo>
                <a:lnTo>
                  <a:pt x="7953" y="10642"/>
                </a:lnTo>
                <a:lnTo>
                  <a:pt x="8016" y="10626"/>
                </a:lnTo>
                <a:lnTo>
                  <a:pt x="8078" y="10609"/>
                </a:lnTo>
                <a:lnTo>
                  <a:pt x="8139" y="10592"/>
                </a:lnTo>
                <a:lnTo>
                  <a:pt x="8200" y="10573"/>
                </a:lnTo>
                <a:lnTo>
                  <a:pt x="8259" y="10554"/>
                </a:lnTo>
                <a:lnTo>
                  <a:pt x="8319" y="10533"/>
                </a:lnTo>
                <a:lnTo>
                  <a:pt x="8376" y="10513"/>
                </a:lnTo>
                <a:lnTo>
                  <a:pt x="8433" y="10491"/>
                </a:lnTo>
                <a:lnTo>
                  <a:pt x="8489" y="10469"/>
                </a:lnTo>
                <a:lnTo>
                  <a:pt x="8545" y="10447"/>
                </a:lnTo>
                <a:lnTo>
                  <a:pt x="8598" y="10423"/>
                </a:lnTo>
                <a:lnTo>
                  <a:pt x="8652" y="10398"/>
                </a:lnTo>
                <a:lnTo>
                  <a:pt x="8705" y="10372"/>
                </a:lnTo>
                <a:lnTo>
                  <a:pt x="8756" y="10347"/>
                </a:lnTo>
                <a:lnTo>
                  <a:pt x="8806" y="10321"/>
                </a:lnTo>
                <a:lnTo>
                  <a:pt x="8868" y="10347"/>
                </a:lnTo>
                <a:lnTo>
                  <a:pt x="8929" y="10372"/>
                </a:lnTo>
                <a:lnTo>
                  <a:pt x="8992" y="10398"/>
                </a:lnTo>
                <a:lnTo>
                  <a:pt x="9056" y="10423"/>
                </a:lnTo>
                <a:lnTo>
                  <a:pt x="9120" y="10445"/>
                </a:lnTo>
                <a:lnTo>
                  <a:pt x="9186" y="10468"/>
                </a:lnTo>
                <a:lnTo>
                  <a:pt x="9253" y="10491"/>
                </a:lnTo>
                <a:lnTo>
                  <a:pt x="9319" y="10512"/>
                </a:lnTo>
                <a:lnTo>
                  <a:pt x="9387" y="10533"/>
                </a:lnTo>
                <a:lnTo>
                  <a:pt x="9456" y="10553"/>
                </a:lnTo>
                <a:lnTo>
                  <a:pt x="9526" y="10572"/>
                </a:lnTo>
                <a:lnTo>
                  <a:pt x="9595" y="10590"/>
                </a:lnTo>
                <a:lnTo>
                  <a:pt x="9666" y="10608"/>
                </a:lnTo>
                <a:lnTo>
                  <a:pt x="9737" y="10625"/>
                </a:lnTo>
                <a:lnTo>
                  <a:pt x="9810" y="10641"/>
                </a:lnTo>
                <a:lnTo>
                  <a:pt x="9882" y="10656"/>
                </a:lnTo>
                <a:lnTo>
                  <a:pt x="9956" y="10669"/>
                </a:lnTo>
                <a:lnTo>
                  <a:pt x="10030" y="10683"/>
                </a:lnTo>
                <a:lnTo>
                  <a:pt x="10104" y="10696"/>
                </a:lnTo>
                <a:lnTo>
                  <a:pt x="10180" y="10707"/>
                </a:lnTo>
                <a:lnTo>
                  <a:pt x="10255" y="10717"/>
                </a:lnTo>
                <a:lnTo>
                  <a:pt x="10332" y="10727"/>
                </a:lnTo>
                <a:lnTo>
                  <a:pt x="10409" y="10737"/>
                </a:lnTo>
                <a:lnTo>
                  <a:pt x="10487" y="10745"/>
                </a:lnTo>
                <a:lnTo>
                  <a:pt x="10565" y="10751"/>
                </a:lnTo>
                <a:lnTo>
                  <a:pt x="10643" y="10758"/>
                </a:lnTo>
                <a:lnTo>
                  <a:pt x="10722" y="10763"/>
                </a:lnTo>
                <a:lnTo>
                  <a:pt x="10802" y="10767"/>
                </a:lnTo>
                <a:lnTo>
                  <a:pt x="10882" y="10771"/>
                </a:lnTo>
                <a:lnTo>
                  <a:pt x="10962" y="10773"/>
                </a:lnTo>
                <a:lnTo>
                  <a:pt x="11043" y="10775"/>
                </a:lnTo>
                <a:lnTo>
                  <a:pt x="11124" y="10775"/>
                </a:lnTo>
                <a:lnTo>
                  <a:pt x="11303" y="10773"/>
                </a:lnTo>
                <a:lnTo>
                  <a:pt x="11479" y="10766"/>
                </a:lnTo>
                <a:lnTo>
                  <a:pt x="11654" y="10754"/>
                </a:lnTo>
                <a:lnTo>
                  <a:pt x="11826" y="10738"/>
                </a:lnTo>
                <a:lnTo>
                  <a:pt x="11995" y="10717"/>
                </a:lnTo>
                <a:lnTo>
                  <a:pt x="12162" y="10692"/>
                </a:lnTo>
                <a:lnTo>
                  <a:pt x="12325" y="10664"/>
                </a:lnTo>
                <a:lnTo>
                  <a:pt x="12486" y="10630"/>
                </a:lnTo>
                <a:lnTo>
                  <a:pt x="12643" y="10593"/>
                </a:lnTo>
                <a:lnTo>
                  <a:pt x="12797" y="10552"/>
                </a:lnTo>
                <a:lnTo>
                  <a:pt x="12947" y="10507"/>
                </a:lnTo>
                <a:lnTo>
                  <a:pt x="13093" y="10458"/>
                </a:lnTo>
                <a:lnTo>
                  <a:pt x="13235" y="10407"/>
                </a:lnTo>
                <a:lnTo>
                  <a:pt x="13374" y="10351"/>
                </a:lnTo>
                <a:lnTo>
                  <a:pt x="13507" y="10291"/>
                </a:lnTo>
                <a:lnTo>
                  <a:pt x="13636" y="10230"/>
                </a:lnTo>
                <a:lnTo>
                  <a:pt x="13761" y="10163"/>
                </a:lnTo>
                <a:lnTo>
                  <a:pt x="13881" y="10095"/>
                </a:lnTo>
                <a:lnTo>
                  <a:pt x="13995" y="10024"/>
                </a:lnTo>
                <a:lnTo>
                  <a:pt x="14104" y="9950"/>
                </a:lnTo>
                <a:lnTo>
                  <a:pt x="14208" y="9872"/>
                </a:lnTo>
                <a:lnTo>
                  <a:pt x="14307" y="9792"/>
                </a:lnTo>
                <a:lnTo>
                  <a:pt x="14399" y="9710"/>
                </a:lnTo>
                <a:lnTo>
                  <a:pt x="14486" y="9626"/>
                </a:lnTo>
                <a:lnTo>
                  <a:pt x="14567" y="9539"/>
                </a:lnTo>
                <a:lnTo>
                  <a:pt x="14641" y="9450"/>
                </a:lnTo>
                <a:lnTo>
                  <a:pt x="14710" y="9357"/>
                </a:lnTo>
                <a:lnTo>
                  <a:pt x="14771" y="9265"/>
                </a:lnTo>
                <a:lnTo>
                  <a:pt x="14825" y="9169"/>
                </a:lnTo>
                <a:lnTo>
                  <a:pt x="14873" y="9072"/>
                </a:lnTo>
                <a:lnTo>
                  <a:pt x="14914" y="8973"/>
                </a:lnTo>
                <a:lnTo>
                  <a:pt x="14947" y="8872"/>
                </a:lnTo>
                <a:lnTo>
                  <a:pt x="15122" y="8855"/>
                </a:lnTo>
                <a:lnTo>
                  <a:pt x="15294" y="8833"/>
                </a:lnTo>
                <a:lnTo>
                  <a:pt x="15463" y="8807"/>
                </a:lnTo>
                <a:lnTo>
                  <a:pt x="15629" y="8776"/>
                </a:lnTo>
                <a:lnTo>
                  <a:pt x="15792" y="8741"/>
                </a:lnTo>
                <a:lnTo>
                  <a:pt x="15951" y="8702"/>
                </a:lnTo>
                <a:lnTo>
                  <a:pt x="16107" y="8660"/>
                </a:lnTo>
                <a:lnTo>
                  <a:pt x="16259" y="8613"/>
                </a:lnTo>
                <a:lnTo>
                  <a:pt x="16406" y="8562"/>
                </a:lnTo>
                <a:lnTo>
                  <a:pt x="16550" y="8507"/>
                </a:lnTo>
                <a:lnTo>
                  <a:pt x="16690" y="8450"/>
                </a:lnTo>
                <a:lnTo>
                  <a:pt x="16824" y="8388"/>
                </a:lnTo>
                <a:lnTo>
                  <a:pt x="16953" y="8323"/>
                </a:lnTo>
                <a:lnTo>
                  <a:pt x="17079" y="8256"/>
                </a:lnTo>
                <a:lnTo>
                  <a:pt x="17199" y="8184"/>
                </a:lnTo>
                <a:lnTo>
                  <a:pt x="17313" y="8110"/>
                </a:lnTo>
                <a:lnTo>
                  <a:pt x="17422" y="8033"/>
                </a:lnTo>
                <a:lnTo>
                  <a:pt x="17525" y="7953"/>
                </a:lnTo>
                <a:lnTo>
                  <a:pt x="17623" y="7870"/>
                </a:lnTo>
                <a:lnTo>
                  <a:pt x="17714" y="7785"/>
                </a:lnTo>
                <a:lnTo>
                  <a:pt x="17800" y="7697"/>
                </a:lnTo>
                <a:lnTo>
                  <a:pt x="17877" y="7607"/>
                </a:lnTo>
                <a:lnTo>
                  <a:pt x="17950" y="7515"/>
                </a:lnTo>
                <a:lnTo>
                  <a:pt x="18015" y="7420"/>
                </a:lnTo>
                <a:lnTo>
                  <a:pt x="18074" y="7324"/>
                </a:lnTo>
                <a:lnTo>
                  <a:pt x="18124" y="7226"/>
                </a:lnTo>
                <a:lnTo>
                  <a:pt x="18168" y="7125"/>
                </a:lnTo>
                <a:lnTo>
                  <a:pt x="18204" y="7023"/>
                </a:lnTo>
                <a:lnTo>
                  <a:pt x="18232" y="6920"/>
                </a:lnTo>
                <a:lnTo>
                  <a:pt x="18253" y="6815"/>
                </a:lnTo>
                <a:lnTo>
                  <a:pt x="18265" y="6708"/>
                </a:lnTo>
                <a:lnTo>
                  <a:pt x="18270" y="6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3500000"/>
          </a:gradFill>
          <a:ln w="12600">
            <a:solidFill>
              <a:srgbClr val="80808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872480" y="3732120"/>
            <a:ext cx="1285920" cy="635040"/>
          </a:xfrm>
          <a:prstGeom prst="ellipse">
            <a:avLst/>
          </a:prstGeom>
          <a:solidFill>
            <a:srgbClr val="e8b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87200" y="955800"/>
            <a:ext cx="8956800" cy="1314360"/>
          </a:xfrm>
          <a:prstGeom prst="rightArrow">
            <a:avLst>
              <a:gd name="adj1" fmla="val 50000"/>
              <a:gd name="adj2" fmla="val 170364"/>
            </a:avLst>
          </a:prstGeom>
          <a:solidFill>
            <a:srgbClr val="0066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34960" y="2220840"/>
            <a:ext cx="2899080" cy="388944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397160" y="2090880"/>
            <a:ext cx="2898720" cy="399096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312680" y="6151680"/>
            <a:ext cx="7246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964920" y="1363680"/>
            <a:ext cx="11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ess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i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818360" y="163008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osting Provi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268520" y="1644120"/>
            <a:ext cx="214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ckbone Provi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402000" y="2166840"/>
            <a:ext cx="743040" cy="40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dia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402000" y="3201840"/>
            <a:ext cx="743040" cy="40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e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402000" y="4059360"/>
            <a:ext cx="743040" cy="40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e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402000" y="5430960"/>
            <a:ext cx="743040" cy="40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eb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3660840" y="2679480"/>
            <a:ext cx="379440" cy="457560"/>
            <a:chOff x="3660840" y="2679480"/>
            <a:chExt cx="379440" cy="457560"/>
          </a:xfrm>
        </p:grpSpPr>
        <p:sp>
          <p:nvSpPr>
            <p:cNvPr id="717" name=""/>
            <p:cNvSpPr/>
            <p:nvPr/>
          </p:nvSpPr>
          <p:spPr>
            <a:xfrm>
              <a:off x="3660840" y="2687760"/>
              <a:ext cx="379440" cy="449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62640" y="2679480"/>
              <a:ext cx="37584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3660840" y="4687560"/>
            <a:ext cx="379440" cy="457560"/>
            <a:chOff x="3660840" y="4687560"/>
            <a:chExt cx="379440" cy="457560"/>
          </a:xfrm>
        </p:grpSpPr>
        <p:sp>
          <p:nvSpPr>
            <p:cNvPr id="720" name=""/>
            <p:cNvSpPr/>
            <p:nvPr/>
          </p:nvSpPr>
          <p:spPr>
            <a:xfrm>
              <a:off x="3660840" y="4695840"/>
              <a:ext cx="379440" cy="449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662640" y="4687560"/>
              <a:ext cx="37584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647640" y="2725560"/>
            <a:ext cx="1761480" cy="3811320"/>
            <a:chOff x="647640" y="2725560"/>
            <a:chExt cx="1761480" cy="3811320"/>
          </a:xfrm>
        </p:grpSpPr>
        <p:sp>
          <p:nvSpPr>
            <p:cNvPr id="723" name=""/>
            <p:cNvSpPr/>
            <p:nvPr/>
          </p:nvSpPr>
          <p:spPr>
            <a:xfrm>
              <a:off x="1449720" y="6151320"/>
              <a:ext cx="959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nten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istribu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647640" y="2725560"/>
              <a:ext cx="1014120" cy="2476440"/>
              <a:chOff x="647640" y="2725560"/>
              <a:chExt cx="1014120" cy="2476440"/>
            </a:xfrm>
          </p:grpSpPr>
          <p:sp>
            <p:nvSpPr>
              <p:cNvPr id="725" name=""/>
              <p:cNvSpPr/>
              <p:nvPr/>
            </p:nvSpPr>
            <p:spPr>
              <a:xfrm>
                <a:off x="651960" y="2725560"/>
                <a:ext cx="1009800" cy="1009800"/>
              </a:xfrm>
              <a:custGeom>
                <a:avLst/>
                <a:gdLst/>
                <a:ahLst/>
                <a:rect l="l" t="t" r="r" b="b"/>
                <a:pathLst>
                  <a:path w="690" h="636">
                    <a:moveTo>
                      <a:pt x="0" y="0"/>
                    </a:moveTo>
                    <a:cubicBezTo>
                      <a:pt x="202" y="41"/>
                      <a:pt x="405" y="82"/>
                      <a:pt x="520" y="188"/>
                    </a:cubicBezTo>
                    <a:cubicBezTo>
                      <a:pt x="635" y="294"/>
                      <a:pt x="647" y="509"/>
                      <a:pt x="690" y="636"/>
                    </a:cubicBezTo>
                  </a:path>
                </a:pathLst>
              </a:custGeom>
              <a:noFill/>
              <a:ln w="25560">
                <a:solidFill>
                  <a:srgbClr val="e8bc00"/>
                </a:solidFill>
                <a:prstDash val="dash"/>
                <a:round/>
                <a:tailEnd len="med" type="stealth" w="med"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647640" y="4192560"/>
                <a:ext cx="1010160" cy="1009440"/>
              </a:xfrm>
              <a:custGeom>
                <a:avLst/>
                <a:gdLst/>
                <a:ahLst/>
                <a:rect l="l" t="t" r="r" b="b"/>
                <a:pathLst>
                  <a:path w="690" h="636">
                    <a:moveTo>
                      <a:pt x="0" y="0"/>
                    </a:moveTo>
                    <a:cubicBezTo>
                      <a:pt x="202" y="41"/>
                      <a:pt x="405" y="82"/>
                      <a:pt x="520" y="188"/>
                    </a:cubicBezTo>
                    <a:cubicBezTo>
                      <a:pt x="635" y="294"/>
                      <a:pt x="647" y="509"/>
                      <a:pt x="690" y="636"/>
                    </a:cubicBezTo>
                  </a:path>
                </a:pathLst>
              </a:custGeom>
              <a:noFill/>
              <a:ln w="25560">
                <a:solidFill>
                  <a:srgbClr val="e8bc00"/>
                </a:solidFill>
                <a:prstDash val="dash"/>
                <a:round/>
                <a:tailEnd len="med" type="stealth" w="med"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41760" y="3962160"/>
                <a:ext cx="576360" cy="0"/>
              </a:xfrm>
              <a:prstGeom prst="line">
                <a:avLst/>
              </a:prstGeom>
              <a:ln w="25560">
                <a:solidFill>
                  <a:srgbClr val="e8bc00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1560600" y="3887640"/>
              <a:ext cx="646200" cy="192240"/>
              <a:chOff x="1560600" y="3887640"/>
              <a:chExt cx="646200" cy="192240"/>
            </a:xfrm>
          </p:grpSpPr>
          <p:sp>
            <p:nvSpPr>
              <p:cNvPr id="729" name=""/>
              <p:cNvSpPr/>
              <p:nvPr/>
            </p:nvSpPr>
            <p:spPr>
              <a:xfrm>
                <a:off x="1560600" y="3887640"/>
                <a:ext cx="646200" cy="192240"/>
              </a:xfrm>
              <a:prstGeom prst="rect">
                <a:avLst/>
              </a:prstGeom>
              <a:solidFill>
                <a:srgbClr val="6489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587240" y="3932280"/>
                <a:ext cx="164160" cy="2808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587240" y="3980880"/>
                <a:ext cx="164160" cy="2772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587240" y="4029120"/>
                <a:ext cx="164160" cy="2772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33" name=""/>
              <p:cNvGraphicFramePr/>
              <p:nvPr/>
            </p:nvGraphicFramePr>
            <p:xfrm>
              <a:off x="2005560" y="3932280"/>
              <a:ext cx="116640" cy="1170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734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005560" y="3932280"/>
                        <a:ext cx="116640" cy="11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735" name=""/>
          <p:cNvGrpSpPr/>
          <p:nvPr/>
        </p:nvGrpSpPr>
        <p:grpSpPr>
          <a:xfrm>
            <a:off x="2317680" y="2900520"/>
            <a:ext cx="2246760" cy="3636720"/>
            <a:chOff x="2317680" y="2900520"/>
            <a:chExt cx="2246760" cy="3636720"/>
          </a:xfrm>
        </p:grpSpPr>
        <p:sp>
          <p:nvSpPr>
            <p:cNvPr id="736" name=""/>
            <p:cNvSpPr/>
            <p:nvPr/>
          </p:nvSpPr>
          <p:spPr>
            <a:xfrm>
              <a:off x="3681360" y="2900520"/>
              <a:ext cx="198360" cy="171360"/>
            </a:xfrm>
            <a:prstGeom prst="plus">
              <a:avLst>
                <a:gd name="adj" fmla="val 25000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681360" y="4908960"/>
              <a:ext cx="198360" cy="171360"/>
            </a:xfrm>
            <a:prstGeom prst="plus">
              <a:avLst>
                <a:gd name="adj" fmla="val 25000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2317680" y="2980080"/>
              <a:ext cx="2246760" cy="3557160"/>
              <a:chOff x="2317680" y="2980080"/>
              <a:chExt cx="2246760" cy="3557160"/>
            </a:xfrm>
          </p:grpSpPr>
          <p:sp>
            <p:nvSpPr>
              <p:cNvPr id="739" name=""/>
              <p:cNvSpPr/>
              <p:nvPr/>
            </p:nvSpPr>
            <p:spPr>
              <a:xfrm>
                <a:off x="3371760" y="6151680"/>
                <a:ext cx="11926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ver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xy Cach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344680" y="2980080"/>
                <a:ext cx="1478160" cy="930240"/>
              </a:xfrm>
              <a:custGeom>
                <a:avLst/>
                <a:gdLst/>
                <a:ahLst/>
                <a:rect l="l" t="t" r="r" b="b"/>
                <a:pathLst>
                  <a:path w="752" h="566">
                    <a:moveTo>
                      <a:pt x="0" y="566"/>
                    </a:moveTo>
                    <a:cubicBezTo>
                      <a:pt x="62" y="374"/>
                      <a:pt x="125" y="182"/>
                      <a:pt x="250" y="91"/>
                    </a:cubicBezTo>
                    <a:cubicBezTo>
                      <a:pt x="375" y="0"/>
                      <a:pt x="563" y="9"/>
                      <a:pt x="752" y="19"/>
                    </a:cubicBezTo>
                  </a:path>
                </a:pathLst>
              </a:custGeom>
              <a:noFill/>
              <a:ln w="25560">
                <a:solidFill>
                  <a:srgbClr val="e8bc00"/>
                </a:solidFill>
                <a:prstDash val="dash"/>
                <a:round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2317680" y="3909600"/>
                <a:ext cx="1435320" cy="1052280"/>
              </a:xfrm>
              <a:custGeom>
                <a:avLst/>
                <a:gdLst/>
                <a:ahLst/>
                <a:rect l="l" t="t" r="r" b="b"/>
                <a:pathLst>
                  <a:path w="752" h="566">
                    <a:moveTo>
                      <a:pt x="0" y="566"/>
                    </a:moveTo>
                    <a:cubicBezTo>
                      <a:pt x="62" y="374"/>
                      <a:pt x="125" y="182"/>
                      <a:pt x="250" y="91"/>
                    </a:cubicBezTo>
                    <a:cubicBezTo>
                      <a:pt x="375" y="0"/>
                      <a:pt x="563" y="9"/>
                      <a:pt x="752" y="19"/>
                    </a:cubicBezTo>
                  </a:path>
                </a:pathLst>
              </a:custGeom>
              <a:noFill/>
              <a:ln w="25560">
                <a:solidFill>
                  <a:srgbClr val="e8bc00"/>
                </a:solidFill>
                <a:prstDash val="dash"/>
                <a:round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2" name=""/>
          <p:cNvSpPr/>
          <p:nvPr/>
        </p:nvSpPr>
        <p:spPr>
          <a:xfrm>
            <a:off x="2651400" y="6151680"/>
            <a:ext cx="7430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rig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2619360" y="2630520"/>
            <a:ext cx="353880" cy="135000"/>
            <a:chOff x="2619360" y="2630520"/>
            <a:chExt cx="353880" cy="135000"/>
          </a:xfrm>
        </p:grpSpPr>
        <p:sp>
          <p:nvSpPr>
            <p:cNvPr id="744" name=""/>
            <p:cNvSpPr/>
            <p:nvPr/>
          </p:nvSpPr>
          <p:spPr>
            <a:xfrm>
              <a:off x="2619360" y="2630520"/>
              <a:ext cx="353880" cy="1350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2663640" y="2647440"/>
              <a:ext cx="272160" cy="100440"/>
              <a:chOff x="2663640" y="2647440"/>
              <a:chExt cx="272160" cy="100440"/>
            </a:xfrm>
          </p:grpSpPr>
          <p:sp>
            <p:nvSpPr>
              <p:cNvPr id="746" name=""/>
              <p:cNvSpPr/>
              <p:nvPr/>
            </p:nvSpPr>
            <p:spPr>
              <a:xfrm>
                <a:off x="2663640" y="2647440"/>
                <a:ext cx="272160" cy="2232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663640" y="2685240"/>
                <a:ext cx="272160" cy="2340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663640" y="2724840"/>
                <a:ext cx="272160" cy="2304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9" name=""/>
          <p:cNvGrpSpPr/>
          <p:nvPr/>
        </p:nvGrpSpPr>
        <p:grpSpPr>
          <a:xfrm>
            <a:off x="2619360" y="3641760"/>
            <a:ext cx="353880" cy="135000"/>
            <a:chOff x="2619360" y="3641760"/>
            <a:chExt cx="353880" cy="135000"/>
          </a:xfrm>
        </p:grpSpPr>
        <p:sp>
          <p:nvSpPr>
            <p:cNvPr id="750" name=""/>
            <p:cNvSpPr/>
            <p:nvPr/>
          </p:nvSpPr>
          <p:spPr>
            <a:xfrm>
              <a:off x="2619360" y="3641760"/>
              <a:ext cx="353880" cy="1350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2663640" y="3658680"/>
              <a:ext cx="272160" cy="100440"/>
              <a:chOff x="2663640" y="3658680"/>
              <a:chExt cx="272160" cy="100440"/>
            </a:xfrm>
          </p:grpSpPr>
          <p:sp>
            <p:nvSpPr>
              <p:cNvPr id="752" name=""/>
              <p:cNvSpPr/>
              <p:nvPr/>
            </p:nvSpPr>
            <p:spPr>
              <a:xfrm>
                <a:off x="2663640" y="3658680"/>
                <a:ext cx="272160" cy="2232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663640" y="3696480"/>
                <a:ext cx="272160" cy="2340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663640" y="3736080"/>
                <a:ext cx="272160" cy="2304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5" name=""/>
          <p:cNvGrpSpPr/>
          <p:nvPr/>
        </p:nvGrpSpPr>
        <p:grpSpPr>
          <a:xfrm>
            <a:off x="2619360" y="4498920"/>
            <a:ext cx="353880" cy="135000"/>
            <a:chOff x="2619360" y="4498920"/>
            <a:chExt cx="353880" cy="135000"/>
          </a:xfrm>
        </p:grpSpPr>
        <p:sp>
          <p:nvSpPr>
            <p:cNvPr id="756" name=""/>
            <p:cNvSpPr/>
            <p:nvPr/>
          </p:nvSpPr>
          <p:spPr>
            <a:xfrm>
              <a:off x="2619360" y="4498920"/>
              <a:ext cx="353880" cy="1350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2663640" y="4515840"/>
              <a:ext cx="272160" cy="100440"/>
              <a:chOff x="2663640" y="4515840"/>
              <a:chExt cx="272160" cy="100440"/>
            </a:xfrm>
          </p:grpSpPr>
          <p:sp>
            <p:nvSpPr>
              <p:cNvPr id="758" name=""/>
              <p:cNvSpPr/>
              <p:nvPr/>
            </p:nvSpPr>
            <p:spPr>
              <a:xfrm>
                <a:off x="2663640" y="4515840"/>
                <a:ext cx="272160" cy="2232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663640" y="4553640"/>
                <a:ext cx="272160" cy="2340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663640" y="4593240"/>
                <a:ext cx="272160" cy="2304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1" name=""/>
          <p:cNvGrpSpPr/>
          <p:nvPr/>
        </p:nvGrpSpPr>
        <p:grpSpPr>
          <a:xfrm>
            <a:off x="2619360" y="5870520"/>
            <a:ext cx="353880" cy="135000"/>
            <a:chOff x="2619360" y="5870520"/>
            <a:chExt cx="353880" cy="135000"/>
          </a:xfrm>
        </p:grpSpPr>
        <p:sp>
          <p:nvSpPr>
            <p:cNvPr id="762" name=""/>
            <p:cNvSpPr/>
            <p:nvPr/>
          </p:nvSpPr>
          <p:spPr>
            <a:xfrm>
              <a:off x="2619360" y="5870520"/>
              <a:ext cx="353880" cy="1350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2663640" y="5887440"/>
              <a:ext cx="272160" cy="100440"/>
              <a:chOff x="2663640" y="5887440"/>
              <a:chExt cx="272160" cy="100440"/>
            </a:xfrm>
          </p:grpSpPr>
          <p:sp>
            <p:nvSpPr>
              <p:cNvPr id="764" name=""/>
              <p:cNvSpPr/>
              <p:nvPr/>
            </p:nvSpPr>
            <p:spPr>
              <a:xfrm>
                <a:off x="2663640" y="5887440"/>
                <a:ext cx="272160" cy="2232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663640" y="5925240"/>
                <a:ext cx="272160" cy="2340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663640" y="5964840"/>
                <a:ext cx="272160" cy="2304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7" name=""/>
          <p:cNvSpPr/>
          <p:nvPr/>
        </p:nvSpPr>
        <p:spPr>
          <a:xfrm>
            <a:off x="2324160" y="3930480"/>
            <a:ext cx="528480" cy="1757520"/>
          </a:xfrm>
          <a:prstGeom prst="line">
            <a:avLst/>
          </a:prstGeom>
          <a:ln w="25560">
            <a:solidFill>
              <a:srgbClr val="e8bc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328840" y="3715920"/>
            <a:ext cx="442800" cy="214200"/>
          </a:xfrm>
          <a:prstGeom prst="line">
            <a:avLst/>
          </a:prstGeom>
          <a:ln w="25560">
            <a:solidFill>
              <a:srgbClr val="e8bc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27400" y="3914640"/>
            <a:ext cx="403200" cy="474840"/>
          </a:xfrm>
          <a:prstGeom prst="line">
            <a:avLst/>
          </a:prstGeom>
          <a:ln w="25560">
            <a:solidFill>
              <a:srgbClr val="e8bc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2319480" y="2789280"/>
            <a:ext cx="466560" cy="1117440"/>
          </a:xfrm>
          <a:prstGeom prst="line">
            <a:avLst/>
          </a:prstGeom>
          <a:ln w="25560">
            <a:solidFill>
              <a:srgbClr val="e8bc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721640" y="3798720"/>
            <a:ext cx="1631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92600" y="6151680"/>
            <a:ext cx="9352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sto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399600" y="2428920"/>
            <a:ext cx="727560" cy="581040"/>
            <a:chOff x="399600" y="2428920"/>
            <a:chExt cx="727560" cy="581040"/>
          </a:xfrm>
        </p:grpSpPr>
        <p:sp>
          <p:nvSpPr>
            <p:cNvPr id="774" name=""/>
            <p:cNvSpPr/>
            <p:nvPr/>
          </p:nvSpPr>
          <p:spPr>
            <a:xfrm flipH="1">
              <a:off x="399240" y="2789640"/>
              <a:ext cx="176760" cy="220320"/>
            </a:xfrm>
            <a:custGeom>
              <a:avLst/>
              <a:gdLst/>
              <a:ahLst/>
              <a:rect l="l" t="t" r="r" b="b"/>
              <a:pathLst>
                <a:path w="3967" h="6591">
                  <a:moveTo>
                    <a:pt x="3967" y="4235"/>
                  </a:moveTo>
                  <a:lnTo>
                    <a:pt x="3967" y="0"/>
                  </a:lnTo>
                  <a:lnTo>
                    <a:pt x="0" y="1552"/>
                  </a:lnTo>
                  <a:lnTo>
                    <a:pt x="0" y="6591"/>
                  </a:lnTo>
                  <a:lnTo>
                    <a:pt x="3967" y="4235"/>
                  </a:lnTo>
                  <a:close/>
                </a:path>
              </a:pathLst>
            </a:custGeom>
            <a:gradFill rotWithShape="0">
              <a:gsLst>
                <a:gs pos="0">
                  <a:srgbClr val="665e5b"/>
                </a:gs>
                <a:gs pos="100000">
                  <a:srgbClr val="b7aaa3"/>
                </a:gs>
              </a:gsLst>
              <a:lin ang="108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576720" y="2826000"/>
              <a:ext cx="550080" cy="183960"/>
            </a:xfrm>
            <a:custGeom>
              <a:avLst/>
              <a:gdLst/>
              <a:ahLst/>
              <a:rect l="l" t="t" r="r" b="b"/>
              <a:pathLst>
                <a:path w="12371" h="5729">
                  <a:moveTo>
                    <a:pt x="0" y="4694"/>
                  </a:moveTo>
                  <a:lnTo>
                    <a:pt x="0" y="0"/>
                  </a:lnTo>
                  <a:lnTo>
                    <a:pt x="12371" y="690"/>
                  </a:lnTo>
                  <a:lnTo>
                    <a:pt x="12371" y="5729"/>
                  </a:lnTo>
                  <a:lnTo>
                    <a:pt x="0" y="4694"/>
                  </a:lnTo>
                  <a:close/>
                </a:path>
              </a:pathLst>
            </a:custGeom>
            <a:gradFill rotWithShape="0">
              <a:gsLst>
                <a:gs pos="0">
                  <a:srgbClr val="d9cfca"/>
                </a:gs>
                <a:gs pos="100000">
                  <a:srgbClr val="968f8c"/>
                </a:gs>
              </a:gsLst>
              <a:lin ang="135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399960" y="2769840"/>
              <a:ext cx="727200" cy="84240"/>
            </a:xfrm>
            <a:custGeom>
              <a:avLst/>
              <a:gdLst/>
              <a:ahLst/>
              <a:rect l="l" t="t" r="r" b="b"/>
              <a:pathLst>
                <a:path w="16338" h="2034">
                  <a:moveTo>
                    <a:pt x="5308" y="0"/>
                  </a:moveTo>
                  <a:lnTo>
                    <a:pt x="0" y="1344"/>
                  </a:lnTo>
                  <a:lnTo>
                    <a:pt x="12371" y="2034"/>
                  </a:lnTo>
                  <a:lnTo>
                    <a:pt x="16338" y="482"/>
                  </a:lnTo>
                  <a:lnTo>
                    <a:pt x="5308" y="0"/>
                  </a:lnTo>
                  <a:close/>
                </a:path>
              </a:pathLst>
            </a:custGeom>
            <a:gradFill rotWithShape="0">
              <a:gsLst>
                <a:gs pos="0">
                  <a:srgbClr val="d4cbc6"/>
                </a:gs>
                <a:gs pos="100000">
                  <a:srgbClr val="eee3de"/>
                </a:gs>
              </a:gsLst>
              <a:lin ang="54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512640" y="2720520"/>
              <a:ext cx="466200" cy="107280"/>
            </a:xfrm>
            <a:custGeom>
              <a:avLst/>
              <a:gdLst/>
              <a:ahLst/>
              <a:rect l="l" t="t" r="r" b="b"/>
              <a:pathLst>
                <a:path w="11046" h="2745">
                  <a:moveTo>
                    <a:pt x="11046" y="0"/>
                  </a:moveTo>
                  <a:lnTo>
                    <a:pt x="11046" y="1726"/>
                  </a:lnTo>
                  <a:lnTo>
                    <a:pt x="8437" y="2745"/>
                  </a:lnTo>
                  <a:lnTo>
                    <a:pt x="110" y="2377"/>
                  </a:lnTo>
                  <a:lnTo>
                    <a:pt x="0" y="981"/>
                  </a:lnTo>
                  <a:lnTo>
                    <a:pt x="11046" y="0"/>
                  </a:lnTo>
                  <a:close/>
                </a:path>
              </a:pathLst>
            </a:custGeom>
            <a:gradFill rotWithShape="0">
              <a:gsLst>
                <a:gs pos="0">
                  <a:srgbClr val="5c5755"/>
                </a:gs>
                <a:gs pos="100000">
                  <a:srgbClr val="c8beb9"/>
                </a:gs>
              </a:gsLst>
              <a:lin ang="54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88520" y="2469240"/>
              <a:ext cx="75240" cy="294840"/>
            </a:xfrm>
            <a:custGeom>
              <a:avLst/>
              <a:gdLst/>
              <a:ahLst/>
              <a:rect l="l" t="t" r="r" b="b"/>
              <a:pathLst>
                <a:path w="1756" h="7513">
                  <a:moveTo>
                    <a:pt x="137" y="0"/>
                  </a:moveTo>
                  <a:lnTo>
                    <a:pt x="1715" y="950"/>
                  </a:lnTo>
                  <a:lnTo>
                    <a:pt x="1756" y="1024"/>
                  </a:lnTo>
                  <a:lnTo>
                    <a:pt x="1756" y="6260"/>
                  </a:lnTo>
                  <a:lnTo>
                    <a:pt x="1738" y="6310"/>
                  </a:lnTo>
                  <a:lnTo>
                    <a:pt x="0" y="7513"/>
                  </a:lnTo>
                  <a:lnTo>
                    <a:pt x="13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5e5b"/>
                </a:gs>
                <a:gs pos="100000">
                  <a:srgbClr val="b7aaa3"/>
                </a:gs>
              </a:gsLst>
              <a:lin ang="108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586440" y="2428920"/>
              <a:ext cx="439920" cy="363960"/>
            </a:xfrm>
            <a:custGeom>
              <a:avLst/>
              <a:gdLst/>
              <a:ahLst/>
              <a:rect l="l" t="t" r="r" b="b"/>
              <a:pathLst>
                <a:path w="10407" h="9275">
                  <a:moveTo>
                    <a:pt x="77" y="573"/>
                  </a:moveTo>
                  <a:lnTo>
                    <a:pt x="289" y="446"/>
                  </a:lnTo>
                  <a:lnTo>
                    <a:pt x="412" y="390"/>
                  </a:lnTo>
                  <a:lnTo>
                    <a:pt x="513" y="367"/>
                  </a:lnTo>
                  <a:lnTo>
                    <a:pt x="9876" y="0"/>
                  </a:lnTo>
                  <a:lnTo>
                    <a:pt x="10265" y="64"/>
                  </a:lnTo>
                  <a:lnTo>
                    <a:pt x="10375" y="120"/>
                  </a:lnTo>
                  <a:lnTo>
                    <a:pt x="10407" y="156"/>
                  </a:lnTo>
                  <a:lnTo>
                    <a:pt x="10366" y="9275"/>
                  </a:lnTo>
                  <a:lnTo>
                    <a:pt x="270" y="8921"/>
                  </a:lnTo>
                  <a:lnTo>
                    <a:pt x="178" y="8880"/>
                  </a:lnTo>
                  <a:lnTo>
                    <a:pt x="123" y="8835"/>
                  </a:lnTo>
                  <a:lnTo>
                    <a:pt x="73" y="8765"/>
                  </a:lnTo>
                  <a:lnTo>
                    <a:pt x="0" y="8632"/>
                  </a:lnTo>
                  <a:lnTo>
                    <a:pt x="77" y="573"/>
                  </a:lnTo>
                  <a:close/>
                </a:path>
              </a:pathLst>
            </a:custGeom>
            <a:gradFill rotWithShape="0">
              <a:gsLst>
                <a:gs pos="0">
                  <a:srgbClr val="d9cfca"/>
                </a:gs>
                <a:gs pos="100000">
                  <a:srgbClr val="968f8c"/>
                </a:gs>
              </a:gsLst>
              <a:lin ang="135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511920" y="2428920"/>
              <a:ext cx="112320" cy="397800"/>
            </a:xfrm>
            <a:custGeom>
              <a:avLst/>
              <a:gdLst/>
              <a:ahLst/>
              <a:rect l="l" t="t" r="r" b="b"/>
              <a:pathLst>
                <a:path w="2678" h="10161">
                  <a:moveTo>
                    <a:pt x="0" y="10161"/>
                  </a:moveTo>
                  <a:lnTo>
                    <a:pt x="51" y="9248"/>
                  </a:lnTo>
                  <a:lnTo>
                    <a:pt x="353" y="9248"/>
                  </a:lnTo>
                  <a:lnTo>
                    <a:pt x="491" y="9220"/>
                  </a:lnTo>
                  <a:lnTo>
                    <a:pt x="583" y="9142"/>
                  </a:lnTo>
                  <a:lnTo>
                    <a:pt x="629" y="9009"/>
                  </a:lnTo>
                  <a:lnTo>
                    <a:pt x="629" y="248"/>
                  </a:lnTo>
                  <a:lnTo>
                    <a:pt x="614" y="162"/>
                  </a:lnTo>
                  <a:lnTo>
                    <a:pt x="596" y="88"/>
                  </a:lnTo>
                  <a:lnTo>
                    <a:pt x="568" y="51"/>
                  </a:lnTo>
                  <a:lnTo>
                    <a:pt x="491" y="0"/>
                  </a:lnTo>
                  <a:lnTo>
                    <a:pt x="857" y="60"/>
                  </a:lnTo>
                  <a:lnTo>
                    <a:pt x="1023" y="110"/>
                  </a:lnTo>
                  <a:lnTo>
                    <a:pt x="1682" y="538"/>
                  </a:lnTo>
                  <a:lnTo>
                    <a:pt x="1701" y="556"/>
                  </a:lnTo>
                  <a:lnTo>
                    <a:pt x="1715" y="584"/>
                  </a:lnTo>
                  <a:lnTo>
                    <a:pt x="1719" y="620"/>
                  </a:lnTo>
                  <a:lnTo>
                    <a:pt x="2678" y="7320"/>
                  </a:lnTo>
                  <a:lnTo>
                    <a:pt x="2669" y="9137"/>
                  </a:lnTo>
                  <a:lnTo>
                    <a:pt x="27" y="10161"/>
                  </a:lnTo>
                  <a:lnTo>
                    <a:pt x="0" y="10161"/>
                  </a:lnTo>
                  <a:close/>
                </a:path>
              </a:pathLst>
            </a:custGeom>
            <a:gradFill rotWithShape="0">
              <a:gsLst>
                <a:gs pos="0">
                  <a:srgbClr val="665e5b"/>
                </a:gs>
                <a:gs pos="100000">
                  <a:srgbClr val="b7aaa3"/>
                </a:gs>
              </a:gsLst>
              <a:lin ang="108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622080" y="2779560"/>
              <a:ext cx="356400" cy="23040"/>
            </a:xfrm>
            <a:custGeom>
              <a:avLst/>
              <a:gdLst/>
              <a:ahLst/>
              <a:rect l="l" t="t" r="r" b="b"/>
              <a:pathLst>
                <a:path w="8422" h="579">
                  <a:moveTo>
                    <a:pt x="0" y="0"/>
                  </a:moveTo>
                  <a:lnTo>
                    <a:pt x="8422" y="304"/>
                  </a:lnTo>
                  <a:lnTo>
                    <a:pt x="8391" y="579"/>
                  </a:lnTo>
                  <a:lnTo>
                    <a:pt x="18" y="23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642"/>
                </a:gs>
                <a:gs pos="100000">
                  <a:srgbClr val="a89890"/>
                </a:gs>
              </a:gsLst>
              <a:lin ang="54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646560" y="2483640"/>
              <a:ext cx="333720" cy="255240"/>
            </a:xfrm>
            <a:custGeom>
              <a:avLst/>
              <a:gdLst/>
              <a:ahLst/>
              <a:rect l="l" t="t" r="r" b="b"/>
              <a:pathLst>
                <a:path w="7886" h="6539">
                  <a:moveTo>
                    <a:pt x="0" y="6084"/>
                  </a:moveTo>
                  <a:lnTo>
                    <a:pt x="73" y="6282"/>
                  </a:lnTo>
                  <a:lnTo>
                    <a:pt x="7775" y="6539"/>
                  </a:lnTo>
                  <a:lnTo>
                    <a:pt x="7817" y="6480"/>
                  </a:lnTo>
                  <a:lnTo>
                    <a:pt x="7863" y="6410"/>
                  </a:lnTo>
                  <a:lnTo>
                    <a:pt x="7886" y="229"/>
                  </a:lnTo>
                  <a:lnTo>
                    <a:pt x="7867" y="118"/>
                  </a:lnTo>
                  <a:lnTo>
                    <a:pt x="7817" y="63"/>
                  </a:lnTo>
                  <a:lnTo>
                    <a:pt x="7460" y="0"/>
                  </a:lnTo>
                  <a:lnTo>
                    <a:pt x="206" y="197"/>
                  </a:lnTo>
                  <a:lnTo>
                    <a:pt x="14" y="3312"/>
                  </a:lnTo>
                  <a:lnTo>
                    <a:pt x="0" y="6084"/>
                  </a:lnTo>
                  <a:close/>
                </a:path>
              </a:pathLst>
            </a:custGeom>
            <a:gradFill rotWithShape="0">
              <a:gsLst>
                <a:gs pos="0">
                  <a:srgbClr val="4b4b4b"/>
                </a:gs>
                <a:gs pos="100000">
                  <a:srgbClr val="000000"/>
                </a:gs>
              </a:gsLst>
              <a:lin ang="81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651240" y="2756880"/>
              <a:ext cx="57240" cy="9360"/>
            </a:xfrm>
            <a:custGeom>
              <a:avLst/>
              <a:gdLst/>
              <a:ahLst/>
              <a:rect l="l" t="t" r="r" b="b"/>
              <a:pathLst>
                <a:path w="1357" h="276">
                  <a:moveTo>
                    <a:pt x="1357" y="55"/>
                  </a:moveTo>
                  <a:lnTo>
                    <a:pt x="0" y="0"/>
                  </a:lnTo>
                  <a:lnTo>
                    <a:pt x="0" y="225"/>
                  </a:lnTo>
                  <a:lnTo>
                    <a:pt x="1357" y="276"/>
                  </a:lnTo>
                  <a:lnTo>
                    <a:pt x="1357" y="55"/>
                  </a:lnTo>
                  <a:close/>
                </a:path>
              </a:pathLst>
            </a:custGeom>
            <a:gradFill rotWithShape="0">
              <a:gsLst>
                <a:gs pos="0">
                  <a:srgbClr val="12be00"/>
                </a:gs>
                <a:gs pos="100000">
                  <a:srgbClr val="0b7c00"/>
                </a:gs>
              </a:gsLst>
              <a:lin ang="10800000"/>
            </a:gra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646560" y="2481480"/>
              <a:ext cx="340920" cy="252000"/>
            </a:xfrm>
            <a:custGeom>
              <a:avLst/>
              <a:gdLst/>
              <a:ahLst/>
              <a:rect l="l" t="t" r="r" b="b"/>
              <a:pathLst>
                <a:path w="8034" h="6443">
                  <a:moveTo>
                    <a:pt x="8034" y="206"/>
                  </a:moveTo>
                  <a:lnTo>
                    <a:pt x="8020" y="147"/>
                  </a:lnTo>
                  <a:lnTo>
                    <a:pt x="7969" y="64"/>
                  </a:lnTo>
                  <a:lnTo>
                    <a:pt x="7919" y="32"/>
                  </a:lnTo>
                  <a:lnTo>
                    <a:pt x="7818" y="9"/>
                  </a:lnTo>
                  <a:lnTo>
                    <a:pt x="7722" y="0"/>
                  </a:lnTo>
                  <a:lnTo>
                    <a:pt x="294" y="179"/>
                  </a:lnTo>
                  <a:lnTo>
                    <a:pt x="180" y="193"/>
                  </a:lnTo>
                  <a:lnTo>
                    <a:pt x="97" y="239"/>
                  </a:lnTo>
                  <a:lnTo>
                    <a:pt x="51" y="298"/>
                  </a:lnTo>
                  <a:lnTo>
                    <a:pt x="24" y="372"/>
                  </a:lnTo>
                  <a:lnTo>
                    <a:pt x="0" y="495"/>
                  </a:lnTo>
                  <a:lnTo>
                    <a:pt x="0" y="6177"/>
                  </a:lnTo>
                  <a:lnTo>
                    <a:pt x="10" y="6273"/>
                  </a:lnTo>
                  <a:lnTo>
                    <a:pt x="33" y="6356"/>
                  </a:lnTo>
                  <a:lnTo>
                    <a:pt x="61" y="6388"/>
                  </a:lnTo>
                  <a:lnTo>
                    <a:pt x="111" y="6420"/>
                  </a:lnTo>
                  <a:lnTo>
                    <a:pt x="162" y="6443"/>
                  </a:lnTo>
                  <a:lnTo>
                    <a:pt x="510" y="6255"/>
                  </a:lnTo>
                  <a:lnTo>
                    <a:pt x="468" y="6218"/>
                  </a:lnTo>
                  <a:lnTo>
                    <a:pt x="427" y="6172"/>
                  </a:lnTo>
                  <a:lnTo>
                    <a:pt x="409" y="6126"/>
                  </a:lnTo>
                  <a:lnTo>
                    <a:pt x="390" y="6007"/>
                  </a:lnTo>
                  <a:lnTo>
                    <a:pt x="354" y="4823"/>
                  </a:lnTo>
                  <a:lnTo>
                    <a:pt x="322" y="3455"/>
                  </a:lnTo>
                  <a:lnTo>
                    <a:pt x="331" y="2460"/>
                  </a:lnTo>
                  <a:lnTo>
                    <a:pt x="363" y="1284"/>
                  </a:lnTo>
                  <a:lnTo>
                    <a:pt x="440" y="711"/>
                  </a:lnTo>
                  <a:lnTo>
                    <a:pt x="464" y="551"/>
                  </a:lnTo>
                  <a:lnTo>
                    <a:pt x="501" y="436"/>
                  </a:lnTo>
                  <a:lnTo>
                    <a:pt x="542" y="376"/>
                  </a:lnTo>
                  <a:lnTo>
                    <a:pt x="593" y="339"/>
                  </a:lnTo>
                  <a:lnTo>
                    <a:pt x="633" y="317"/>
                  </a:lnTo>
                  <a:lnTo>
                    <a:pt x="716" y="307"/>
                  </a:lnTo>
                  <a:lnTo>
                    <a:pt x="7689" y="138"/>
                  </a:lnTo>
                  <a:lnTo>
                    <a:pt x="7805" y="138"/>
                  </a:lnTo>
                  <a:lnTo>
                    <a:pt x="7892" y="138"/>
                  </a:lnTo>
                  <a:lnTo>
                    <a:pt x="7969" y="160"/>
                  </a:lnTo>
                  <a:lnTo>
                    <a:pt x="8034" y="206"/>
                  </a:lnTo>
                  <a:close/>
                </a:path>
              </a:pathLst>
            </a:custGeom>
            <a:gradFill rotWithShape="0">
              <a:gsLst>
                <a:gs pos="0">
                  <a:srgbClr val="5f5954"/>
                </a:gs>
                <a:gs pos="100000">
                  <a:srgbClr val="8a807a"/>
                </a:gs>
              </a:gsLst>
              <a:lin ang="54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46560" y="2725920"/>
              <a:ext cx="333720" cy="17640"/>
            </a:xfrm>
            <a:custGeom>
              <a:avLst/>
              <a:gdLst/>
              <a:ahLst/>
              <a:rect l="l" t="t" r="r" b="b"/>
              <a:pathLst>
                <a:path w="7879" h="426">
                  <a:moveTo>
                    <a:pt x="7872" y="123"/>
                  </a:moveTo>
                  <a:lnTo>
                    <a:pt x="7858" y="151"/>
                  </a:lnTo>
                  <a:lnTo>
                    <a:pt x="7845" y="179"/>
                  </a:lnTo>
                  <a:lnTo>
                    <a:pt x="7817" y="197"/>
                  </a:lnTo>
                  <a:lnTo>
                    <a:pt x="7808" y="210"/>
                  </a:lnTo>
                  <a:lnTo>
                    <a:pt x="7803" y="210"/>
                  </a:lnTo>
                  <a:lnTo>
                    <a:pt x="7799" y="215"/>
                  </a:lnTo>
                  <a:lnTo>
                    <a:pt x="7716" y="243"/>
                  </a:lnTo>
                  <a:lnTo>
                    <a:pt x="458" y="27"/>
                  </a:lnTo>
                  <a:lnTo>
                    <a:pt x="390" y="13"/>
                  </a:lnTo>
                  <a:lnTo>
                    <a:pt x="329" y="0"/>
                  </a:lnTo>
                  <a:lnTo>
                    <a:pt x="0" y="183"/>
                  </a:lnTo>
                  <a:lnTo>
                    <a:pt x="5373" y="339"/>
                  </a:lnTo>
                  <a:lnTo>
                    <a:pt x="5449" y="340"/>
                  </a:lnTo>
                  <a:lnTo>
                    <a:pt x="5654" y="341"/>
                  </a:lnTo>
                  <a:lnTo>
                    <a:pt x="5950" y="345"/>
                  </a:lnTo>
                  <a:lnTo>
                    <a:pt x="6302" y="352"/>
                  </a:lnTo>
                  <a:lnTo>
                    <a:pt x="6487" y="356"/>
                  </a:lnTo>
                  <a:lnTo>
                    <a:pt x="6673" y="363"/>
                  </a:lnTo>
                  <a:lnTo>
                    <a:pt x="6853" y="369"/>
                  </a:lnTo>
                  <a:lnTo>
                    <a:pt x="7025" y="376"/>
                  </a:lnTo>
                  <a:lnTo>
                    <a:pt x="7107" y="380"/>
                  </a:lnTo>
                  <a:lnTo>
                    <a:pt x="7183" y="384"/>
                  </a:lnTo>
                  <a:lnTo>
                    <a:pt x="7257" y="389"/>
                  </a:lnTo>
                  <a:lnTo>
                    <a:pt x="7324" y="394"/>
                  </a:lnTo>
                  <a:lnTo>
                    <a:pt x="7386" y="399"/>
                  </a:lnTo>
                  <a:lnTo>
                    <a:pt x="7442" y="405"/>
                  </a:lnTo>
                  <a:lnTo>
                    <a:pt x="7492" y="411"/>
                  </a:lnTo>
                  <a:lnTo>
                    <a:pt x="7532" y="417"/>
                  </a:lnTo>
                  <a:lnTo>
                    <a:pt x="7571" y="422"/>
                  </a:lnTo>
                  <a:lnTo>
                    <a:pt x="7606" y="425"/>
                  </a:lnTo>
                  <a:lnTo>
                    <a:pt x="7639" y="426"/>
                  </a:lnTo>
                  <a:lnTo>
                    <a:pt x="7668" y="424"/>
                  </a:lnTo>
                  <a:lnTo>
                    <a:pt x="7696" y="421"/>
                  </a:lnTo>
                  <a:lnTo>
                    <a:pt x="7720" y="416"/>
                  </a:lnTo>
                  <a:lnTo>
                    <a:pt x="7744" y="409"/>
                  </a:lnTo>
                  <a:lnTo>
                    <a:pt x="7764" y="400"/>
                  </a:lnTo>
                  <a:lnTo>
                    <a:pt x="7782" y="390"/>
                  </a:lnTo>
                  <a:lnTo>
                    <a:pt x="7798" y="380"/>
                  </a:lnTo>
                  <a:lnTo>
                    <a:pt x="7813" y="368"/>
                  </a:lnTo>
                  <a:lnTo>
                    <a:pt x="7826" y="354"/>
                  </a:lnTo>
                  <a:lnTo>
                    <a:pt x="7837" y="341"/>
                  </a:lnTo>
                  <a:lnTo>
                    <a:pt x="7846" y="326"/>
                  </a:lnTo>
                  <a:lnTo>
                    <a:pt x="7854" y="311"/>
                  </a:lnTo>
                  <a:lnTo>
                    <a:pt x="7860" y="296"/>
                  </a:lnTo>
                  <a:lnTo>
                    <a:pt x="7866" y="281"/>
                  </a:lnTo>
                  <a:lnTo>
                    <a:pt x="7870" y="266"/>
                  </a:lnTo>
                  <a:lnTo>
                    <a:pt x="7874" y="250"/>
                  </a:lnTo>
                  <a:lnTo>
                    <a:pt x="7876" y="235"/>
                  </a:lnTo>
                  <a:lnTo>
                    <a:pt x="7878" y="220"/>
                  </a:lnTo>
                  <a:lnTo>
                    <a:pt x="7879" y="205"/>
                  </a:lnTo>
                  <a:lnTo>
                    <a:pt x="7879" y="192"/>
                  </a:lnTo>
                  <a:lnTo>
                    <a:pt x="7879" y="179"/>
                  </a:lnTo>
                  <a:lnTo>
                    <a:pt x="7875" y="139"/>
                  </a:lnTo>
                  <a:lnTo>
                    <a:pt x="7872" y="123"/>
                  </a:lnTo>
                  <a:close/>
                </a:path>
              </a:pathLst>
            </a:custGeom>
            <a:solidFill>
              <a:srgbClr val="d3d3d3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611280" y="2874960"/>
              <a:ext cx="106560" cy="14040"/>
            </a:xfrm>
            <a:custGeom>
              <a:avLst/>
              <a:gdLst/>
              <a:ahLst/>
              <a:rect l="l" t="t" r="r" b="b"/>
              <a:pathLst>
                <a:path w="2378" h="344">
                  <a:moveTo>
                    <a:pt x="0" y="222"/>
                  </a:moveTo>
                  <a:lnTo>
                    <a:pt x="0" y="0"/>
                  </a:lnTo>
                  <a:lnTo>
                    <a:pt x="2378" y="107"/>
                  </a:lnTo>
                  <a:lnTo>
                    <a:pt x="2378" y="344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6a605a"/>
            </a:soli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399600" y="3581280"/>
            <a:ext cx="727560" cy="581040"/>
            <a:chOff x="399600" y="3581280"/>
            <a:chExt cx="727560" cy="581040"/>
          </a:xfrm>
        </p:grpSpPr>
        <p:sp>
          <p:nvSpPr>
            <p:cNvPr id="788" name=""/>
            <p:cNvSpPr/>
            <p:nvPr/>
          </p:nvSpPr>
          <p:spPr>
            <a:xfrm flipH="1">
              <a:off x="399240" y="3942000"/>
              <a:ext cx="176760" cy="220320"/>
            </a:xfrm>
            <a:custGeom>
              <a:avLst/>
              <a:gdLst/>
              <a:ahLst/>
              <a:rect l="l" t="t" r="r" b="b"/>
              <a:pathLst>
                <a:path w="3967" h="6591">
                  <a:moveTo>
                    <a:pt x="3967" y="4235"/>
                  </a:moveTo>
                  <a:lnTo>
                    <a:pt x="3967" y="0"/>
                  </a:lnTo>
                  <a:lnTo>
                    <a:pt x="0" y="1552"/>
                  </a:lnTo>
                  <a:lnTo>
                    <a:pt x="0" y="6591"/>
                  </a:lnTo>
                  <a:lnTo>
                    <a:pt x="3967" y="4235"/>
                  </a:lnTo>
                  <a:close/>
                </a:path>
              </a:pathLst>
            </a:custGeom>
            <a:gradFill rotWithShape="0">
              <a:gsLst>
                <a:gs pos="0">
                  <a:srgbClr val="665e5b"/>
                </a:gs>
                <a:gs pos="100000">
                  <a:srgbClr val="b7aaa3"/>
                </a:gs>
              </a:gsLst>
              <a:lin ang="108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576720" y="3978360"/>
              <a:ext cx="550080" cy="183960"/>
            </a:xfrm>
            <a:custGeom>
              <a:avLst/>
              <a:gdLst/>
              <a:ahLst/>
              <a:rect l="l" t="t" r="r" b="b"/>
              <a:pathLst>
                <a:path w="12371" h="5729">
                  <a:moveTo>
                    <a:pt x="0" y="4694"/>
                  </a:moveTo>
                  <a:lnTo>
                    <a:pt x="0" y="0"/>
                  </a:lnTo>
                  <a:lnTo>
                    <a:pt x="12371" y="690"/>
                  </a:lnTo>
                  <a:lnTo>
                    <a:pt x="12371" y="5729"/>
                  </a:lnTo>
                  <a:lnTo>
                    <a:pt x="0" y="4694"/>
                  </a:lnTo>
                  <a:close/>
                </a:path>
              </a:pathLst>
            </a:custGeom>
            <a:gradFill rotWithShape="0">
              <a:gsLst>
                <a:gs pos="0">
                  <a:srgbClr val="d9cfca"/>
                </a:gs>
                <a:gs pos="100000">
                  <a:srgbClr val="968f8c"/>
                </a:gs>
              </a:gsLst>
              <a:lin ang="135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399960" y="3922200"/>
              <a:ext cx="727200" cy="84240"/>
            </a:xfrm>
            <a:custGeom>
              <a:avLst/>
              <a:gdLst/>
              <a:ahLst/>
              <a:rect l="l" t="t" r="r" b="b"/>
              <a:pathLst>
                <a:path w="16338" h="2034">
                  <a:moveTo>
                    <a:pt x="5308" y="0"/>
                  </a:moveTo>
                  <a:lnTo>
                    <a:pt x="0" y="1344"/>
                  </a:lnTo>
                  <a:lnTo>
                    <a:pt x="12371" y="2034"/>
                  </a:lnTo>
                  <a:lnTo>
                    <a:pt x="16338" y="482"/>
                  </a:lnTo>
                  <a:lnTo>
                    <a:pt x="5308" y="0"/>
                  </a:lnTo>
                  <a:close/>
                </a:path>
              </a:pathLst>
            </a:custGeom>
            <a:gradFill rotWithShape="0">
              <a:gsLst>
                <a:gs pos="0">
                  <a:srgbClr val="d4cbc6"/>
                </a:gs>
                <a:gs pos="100000">
                  <a:srgbClr val="eee3de"/>
                </a:gs>
              </a:gsLst>
              <a:lin ang="54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512640" y="3872880"/>
              <a:ext cx="466200" cy="107280"/>
            </a:xfrm>
            <a:custGeom>
              <a:avLst/>
              <a:gdLst/>
              <a:ahLst/>
              <a:rect l="l" t="t" r="r" b="b"/>
              <a:pathLst>
                <a:path w="11046" h="2745">
                  <a:moveTo>
                    <a:pt x="11046" y="0"/>
                  </a:moveTo>
                  <a:lnTo>
                    <a:pt x="11046" y="1726"/>
                  </a:lnTo>
                  <a:lnTo>
                    <a:pt x="8437" y="2745"/>
                  </a:lnTo>
                  <a:lnTo>
                    <a:pt x="110" y="2377"/>
                  </a:lnTo>
                  <a:lnTo>
                    <a:pt x="0" y="981"/>
                  </a:lnTo>
                  <a:lnTo>
                    <a:pt x="11046" y="0"/>
                  </a:lnTo>
                  <a:close/>
                </a:path>
              </a:pathLst>
            </a:custGeom>
            <a:gradFill rotWithShape="0">
              <a:gsLst>
                <a:gs pos="0">
                  <a:srgbClr val="5c5755"/>
                </a:gs>
                <a:gs pos="100000">
                  <a:srgbClr val="c8beb9"/>
                </a:gs>
              </a:gsLst>
              <a:lin ang="54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488520" y="3621600"/>
              <a:ext cx="75240" cy="294840"/>
            </a:xfrm>
            <a:custGeom>
              <a:avLst/>
              <a:gdLst/>
              <a:ahLst/>
              <a:rect l="l" t="t" r="r" b="b"/>
              <a:pathLst>
                <a:path w="1756" h="7513">
                  <a:moveTo>
                    <a:pt x="137" y="0"/>
                  </a:moveTo>
                  <a:lnTo>
                    <a:pt x="1715" y="950"/>
                  </a:lnTo>
                  <a:lnTo>
                    <a:pt x="1756" y="1024"/>
                  </a:lnTo>
                  <a:lnTo>
                    <a:pt x="1756" y="6260"/>
                  </a:lnTo>
                  <a:lnTo>
                    <a:pt x="1738" y="6310"/>
                  </a:lnTo>
                  <a:lnTo>
                    <a:pt x="0" y="7513"/>
                  </a:lnTo>
                  <a:lnTo>
                    <a:pt x="13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5e5b"/>
                </a:gs>
                <a:gs pos="100000">
                  <a:srgbClr val="b7aaa3"/>
                </a:gs>
              </a:gsLst>
              <a:lin ang="108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586440" y="3581280"/>
              <a:ext cx="439920" cy="363960"/>
            </a:xfrm>
            <a:custGeom>
              <a:avLst/>
              <a:gdLst/>
              <a:ahLst/>
              <a:rect l="l" t="t" r="r" b="b"/>
              <a:pathLst>
                <a:path w="10407" h="9275">
                  <a:moveTo>
                    <a:pt x="77" y="573"/>
                  </a:moveTo>
                  <a:lnTo>
                    <a:pt x="289" y="446"/>
                  </a:lnTo>
                  <a:lnTo>
                    <a:pt x="412" y="390"/>
                  </a:lnTo>
                  <a:lnTo>
                    <a:pt x="513" y="367"/>
                  </a:lnTo>
                  <a:lnTo>
                    <a:pt x="9876" y="0"/>
                  </a:lnTo>
                  <a:lnTo>
                    <a:pt x="10265" y="64"/>
                  </a:lnTo>
                  <a:lnTo>
                    <a:pt x="10375" y="120"/>
                  </a:lnTo>
                  <a:lnTo>
                    <a:pt x="10407" y="156"/>
                  </a:lnTo>
                  <a:lnTo>
                    <a:pt x="10366" y="9275"/>
                  </a:lnTo>
                  <a:lnTo>
                    <a:pt x="270" y="8921"/>
                  </a:lnTo>
                  <a:lnTo>
                    <a:pt x="178" y="8880"/>
                  </a:lnTo>
                  <a:lnTo>
                    <a:pt x="123" y="8835"/>
                  </a:lnTo>
                  <a:lnTo>
                    <a:pt x="73" y="8765"/>
                  </a:lnTo>
                  <a:lnTo>
                    <a:pt x="0" y="8632"/>
                  </a:lnTo>
                  <a:lnTo>
                    <a:pt x="77" y="573"/>
                  </a:lnTo>
                  <a:close/>
                </a:path>
              </a:pathLst>
            </a:custGeom>
            <a:gradFill rotWithShape="0">
              <a:gsLst>
                <a:gs pos="0">
                  <a:srgbClr val="d9cfca"/>
                </a:gs>
                <a:gs pos="100000">
                  <a:srgbClr val="968f8c"/>
                </a:gs>
              </a:gsLst>
              <a:lin ang="135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511920" y="3581280"/>
              <a:ext cx="112320" cy="397800"/>
            </a:xfrm>
            <a:custGeom>
              <a:avLst/>
              <a:gdLst/>
              <a:ahLst/>
              <a:rect l="l" t="t" r="r" b="b"/>
              <a:pathLst>
                <a:path w="2678" h="10161">
                  <a:moveTo>
                    <a:pt x="0" y="10161"/>
                  </a:moveTo>
                  <a:lnTo>
                    <a:pt x="51" y="9248"/>
                  </a:lnTo>
                  <a:lnTo>
                    <a:pt x="353" y="9248"/>
                  </a:lnTo>
                  <a:lnTo>
                    <a:pt x="491" y="9220"/>
                  </a:lnTo>
                  <a:lnTo>
                    <a:pt x="583" y="9142"/>
                  </a:lnTo>
                  <a:lnTo>
                    <a:pt x="629" y="9009"/>
                  </a:lnTo>
                  <a:lnTo>
                    <a:pt x="629" y="248"/>
                  </a:lnTo>
                  <a:lnTo>
                    <a:pt x="614" y="162"/>
                  </a:lnTo>
                  <a:lnTo>
                    <a:pt x="596" y="88"/>
                  </a:lnTo>
                  <a:lnTo>
                    <a:pt x="568" y="51"/>
                  </a:lnTo>
                  <a:lnTo>
                    <a:pt x="491" y="0"/>
                  </a:lnTo>
                  <a:lnTo>
                    <a:pt x="857" y="60"/>
                  </a:lnTo>
                  <a:lnTo>
                    <a:pt x="1023" y="110"/>
                  </a:lnTo>
                  <a:lnTo>
                    <a:pt x="1682" y="538"/>
                  </a:lnTo>
                  <a:lnTo>
                    <a:pt x="1701" y="556"/>
                  </a:lnTo>
                  <a:lnTo>
                    <a:pt x="1715" y="584"/>
                  </a:lnTo>
                  <a:lnTo>
                    <a:pt x="1719" y="620"/>
                  </a:lnTo>
                  <a:lnTo>
                    <a:pt x="2678" y="7320"/>
                  </a:lnTo>
                  <a:lnTo>
                    <a:pt x="2669" y="9137"/>
                  </a:lnTo>
                  <a:lnTo>
                    <a:pt x="27" y="10161"/>
                  </a:lnTo>
                  <a:lnTo>
                    <a:pt x="0" y="10161"/>
                  </a:lnTo>
                  <a:close/>
                </a:path>
              </a:pathLst>
            </a:custGeom>
            <a:gradFill rotWithShape="0">
              <a:gsLst>
                <a:gs pos="0">
                  <a:srgbClr val="665e5b"/>
                </a:gs>
                <a:gs pos="100000">
                  <a:srgbClr val="b7aaa3"/>
                </a:gs>
              </a:gsLst>
              <a:lin ang="108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622080" y="3931920"/>
              <a:ext cx="356400" cy="23040"/>
            </a:xfrm>
            <a:custGeom>
              <a:avLst/>
              <a:gdLst/>
              <a:ahLst/>
              <a:rect l="l" t="t" r="r" b="b"/>
              <a:pathLst>
                <a:path w="8422" h="579">
                  <a:moveTo>
                    <a:pt x="0" y="0"/>
                  </a:moveTo>
                  <a:lnTo>
                    <a:pt x="8422" y="304"/>
                  </a:lnTo>
                  <a:lnTo>
                    <a:pt x="8391" y="579"/>
                  </a:lnTo>
                  <a:lnTo>
                    <a:pt x="18" y="23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642"/>
                </a:gs>
                <a:gs pos="100000">
                  <a:srgbClr val="a89890"/>
                </a:gs>
              </a:gsLst>
              <a:lin ang="54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646560" y="3636000"/>
              <a:ext cx="333720" cy="255240"/>
            </a:xfrm>
            <a:custGeom>
              <a:avLst/>
              <a:gdLst/>
              <a:ahLst/>
              <a:rect l="l" t="t" r="r" b="b"/>
              <a:pathLst>
                <a:path w="7886" h="6539">
                  <a:moveTo>
                    <a:pt x="0" y="6084"/>
                  </a:moveTo>
                  <a:lnTo>
                    <a:pt x="73" y="6282"/>
                  </a:lnTo>
                  <a:lnTo>
                    <a:pt x="7775" y="6539"/>
                  </a:lnTo>
                  <a:lnTo>
                    <a:pt x="7817" y="6480"/>
                  </a:lnTo>
                  <a:lnTo>
                    <a:pt x="7863" y="6410"/>
                  </a:lnTo>
                  <a:lnTo>
                    <a:pt x="7886" y="229"/>
                  </a:lnTo>
                  <a:lnTo>
                    <a:pt x="7867" y="118"/>
                  </a:lnTo>
                  <a:lnTo>
                    <a:pt x="7817" y="63"/>
                  </a:lnTo>
                  <a:lnTo>
                    <a:pt x="7460" y="0"/>
                  </a:lnTo>
                  <a:lnTo>
                    <a:pt x="206" y="197"/>
                  </a:lnTo>
                  <a:lnTo>
                    <a:pt x="14" y="3312"/>
                  </a:lnTo>
                  <a:lnTo>
                    <a:pt x="0" y="6084"/>
                  </a:lnTo>
                  <a:close/>
                </a:path>
              </a:pathLst>
            </a:custGeom>
            <a:gradFill rotWithShape="0">
              <a:gsLst>
                <a:gs pos="0">
                  <a:srgbClr val="4b4b4b"/>
                </a:gs>
                <a:gs pos="100000">
                  <a:srgbClr val="000000"/>
                </a:gs>
              </a:gsLst>
              <a:lin ang="81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651240" y="3909240"/>
              <a:ext cx="57240" cy="9360"/>
            </a:xfrm>
            <a:custGeom>
              <a:avLst/>
              <a:gdLst/>
              <a:ahLst/>
              <a:rect l="l" t="t" r="r" b="b"/>
              <a:pathLst>
                <a:path w="1357" h="276">
                  <a:moveTo>
                    <a:pt x="1357" y="55"/>
                  </a:moveTo>
                  <a:lnTo>
                    <a:pt x="0" y="0"/>
                  </a:lnTo>
                  <a:lnTo>
                    <a:pt x="0" y="225"/>
                  </a:lnTo>
                  <a:lnTo>
                    <a:pt x="1357" y="276"/>
                  </a:lnTo>
                  <a:lnTo>
                    <a:pt x="1357" y="55"/>
                  </a:lnTo>
                  <a:close/>
                </a:path>
              </a:pathLst>
            </a:custGeom>
            <a:gradFill rotWithShape="0">
              <a:gsLst>
                <a:gs pos="0">
                  <a:srgbClr val="12be00"/>
                </a:gs>
                <a:gs pos="100000">
                  <a:srgbClr val="0b7c00"/>
                </a:gs>
              </a:gsLst>
              <a:lin ang="10800000"/>
            </a:gra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646560" y="3633840"/>
              <a:ext cx="340920" cy="252000"/>
            </a:xfrm>
            <a:custGeom>
              <a:avLst/>
              <a:gdLst/>
              <a:ahLst/>
              <a:rect l="l" t="t" r="r" b="b"/>
              <a:pathLst>
                <a:path w="8034" h="6443">
                  <a:moveTo>
                    <a:pt x="8034" y="206"/>
                  </a:moveTo>
                  <a:lnTo>
                    <a:pt x="8020" y="147"/>
                  </a:lnTo>
                  <a:lnTo>
                    <a:pt x="7969" y="64"/>
                  </a:lnTo>
                  <a:lnTo>
                    <a:pt x="7919" y="32"/>
                  </a:lnTo>
                  <a:lnTo>
                    <a:pt x="7818" y="9"/>
                  </a:lnTo>
                  <a:lnTo>
                    <a:pt x="7722" y="0"/>
                  </a:lnTo>
                  <a:lnTo>
                    <a:pt x="294" y="179"/>
                  </a:lnTo>
                  <a:lnTo>
                    <a:pt x="180" y="193"/>
                  </a:lnTo>
                  <a:lnTo>
                    <a:pt x="97" y="239"/>
                  </a:lnTo>
                  <a:lnTo>
                    <a:pt x="51" y="298"/>
                  </a:lnTo>
                  <a:lnTo>
                    <a:pt x="24" y="372"/>
                  </a:lnTo>
                  <a:lnTo>
                    <a:pt x="0" y="495"/>
                  </a:lnTo>
                  <a:lnTo>
                    <a:pt x="0" y="6177"/>
                  </a:lnTo>
                  <a:lnTo>
                    <a:pt x="10" y="6273"/>
                  </a:lnTo>
                  <a:lnTo>
                    <a:pt x="33" y="6356"/>
                  </a:lnTo>
                  <a:lnTo>
                    <a:pt x="61" y="6388"/>
                  </a:lnTo>
                  <a:lnTo>
                    <a:pt x="111" y="6420"/>
                  </a:lnTo>
                  <a:lnTo>
                    <a:pt x="162" y="6443"/>
                  </a:lnTo>
                  <a:lnTo>
                    <a:pt x="510" y="6255"/>
                  </a:lnTo>
                  <a:lnTo>
                    <a:pt x="468" y="6218"/>
                  </a:lnTo>
                  <a:lnTo>
                    <a:pt x="427" y="6172"/>
                  </a:lnTo>
                  <a:lnTo>
                    <a:pt x="409" y="6126"/>
                  </a:lnTo>
                  <a:lnTo>
                    <a:pt x="390" y="6007"/>
                  </a:lnTo>
                  <a:lnTo>
                    <a:pt x="354" y="4823"/>
                  </a:lnTo>
                  <a:lnTo>
                    <a:pt x="322" y="3455"/>
                  </a:lnTo>
                  <a:lnTo>
                    <a:pt x="331" y="2460"/>
                  </a:lnTo>
                  <a:lnTo>
                    <a:pt x="363" y="1284"/>
                  </a:lnTo>
                  <a:lnTo>
                    <a:pt x="440" y="711"/>
                  </a:lnTo>
                  <a:lnTo>
                    <a:pt x="464" y="551"/>
                  </a:lnTo>
                  <a:lnTo>
                    <a:pt x="501" y="436"/>
                  </a:lnTo>
                  <a:lnTo>
                    <a:pt x="542" y="376"/>
                  </a:lnTo>
                  <a:lnTo>
                    <a:pt x="593" y="339"/>
                  </a:lnTo>
                  <a:lnTo>
                    <a:pt x="633" y="317"/>
                  </a:lnTo>
                  <a:lnTo>
                    <a:pt x="716" y="307"/>
                  </a:lnTo>
                  <a:lnTo>
                    <a:pt x="7689" y="138"/>
                  </a:lnTo>
                  <a:lnTo>
                    <a:pt x="7805" y="138"/>
                  </a:lnTo>
                  <a:lnTo>
                    <a:pt x="7892" y="138"/>
                  </a:lnTo>
                  <a:lnTo>
                    <a:pt x="7969" y="160"/>
                  </a:lnTo>
                  <a:lnTo>
                    <a:pt x="8034" y="206"/>
                  </a:lnTo>
                  <a:close/>
                </a:path>
              </a:pathLst>
            </a:custGeom>
            <a:gradFill rotWithShape="0">
              <a:gsLst>
                <a:gs pos="0">
                  <a:srgbClr val="5f5954"/>
                </a:gs>
                <a:gs pos="100000">
                  <a:srgbClr val="8a807a"/>
                </a:gs>
              </a:gsLst>
              <a:lin ang="54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646560" y="3878280"/>
              <a:ext cx="333720" cy="17640"/>
            </a:xfrm>
            <a:custGeom>
              <a:avLst/>
              <a:gdLst/>
              <a:ahLst/>
              <a:rect l="l" t="t" r="r" b="b"/>
              <a:pathLst>
                <a:path w="7879" h="426">
                  <a:moveTo>
                    <a:pt x="7872" y="123"/>
                  </a:moveTo>
                  <a:lnTo>
                    <a:pt x="7858" y="151"/>
                  </a:lnTo>
                  <a:lnTo>
                    <a:pt x="7845" y="179"/>
                  </a:lnTo>
                  <a:lnTo>
                    <a:pt x="7817" y="197"/>
                  </a:lnTo>
                  <a:lnTo>
                    <a:pt x="7808" y="210"/>
                  </a:lnTo>
                  <a:lnTo>
                    <a:pt x="7803" y="210"/>
                  </a:lnTo>
                  <a:lnTo>
                    <a:pt x="7799" y="215"/>
                  </a:lnTo>
                  <a:lnTo>
                    <a:pt x="7716" y="243"/>
                  </a:lnTo>
                  <a:lnTo>
                    <a:pt x="458" y="27"/>
                  </a:lnTo>
                  <a:lnTo>
                    <a:pt x="390" y="13"/>
                  </a:lnTo>
                  <a:lnTo>
                    <a:pt x="329" y="0"/>
                  </a:lnTo>
                  <a:lnTo>
                    <a:pt x="0" y="183"/>
                  </a:lnTo>
                  <a:lnTo>
                    <a:pt x="5373" y="339"/>
                  </a:lnTo>
                  <a:lnTo>
                    <a:pt x="5449" y="340"/>
                  </a:lnTo>
                  <a:lnTo>
                    <a:pt x="5654" y="341"/>
                  </a:lnTo>
                  <a:lnTo>
                    <a:pt x="5950" y="345"/>
                  </a:lnTo>
                  <a:lnTo>
                    <a:pt x="6302" y="352"/>
                  </a:lnTo>
                  <a:lnTo>
                    <a:pt x="6487" y="356"/>
                  </a:lnTo>
                  <a:lnTo>
                    <a:pt x="6673" y="363"/>
                  </a:lnTo>
                  <a:lnTo>
                    <a:pt x="6853" y="369"/>
                  </a:lnTo>
                  <a:lnTo>
                    <a:pt x="7025" y="376"/>
                  </a:lnTo>
                  <a:lnTo>
                    <a:pt x="7107" y="380"/>
                  </a:lnTo>
                  <a:lnTo>
                    <a:pt x="7183" y="384"/>
                  </a:lnTo>
                  <a:lnTo>
                    <a:pt x="7257" y="389"/>
                  </a:lnTo>
                  <a:lnTo>
                    <a:pt x="7324" y="394"/>
                  </a:lnTo>
                  <a:lnTo>
                    <a:pt x="7386" y="399"/>
                  </a:lnTo>
                  <a:lnTo>
                    <a:pt x="7442" y="405"/>
                  </a:lnTo>
                  <a:lnTo>
                    <a:pt x="7492" y="411"/>
                  </a:lnTo>
                  <a:lnTo>
                    <a:pt x="7532" y="417"/>
                  </a:lnTo>
                  <a:lnTo>
                    <a:pt x="7571" y="422"/>
                  </a:lnTo>
                  <a:lnTo>
                    <a:pt x="7606" y="425"/>
                  </a:lnTo>
                  <a:lnTo>
                    <a:pt x="7639" y="426"/>
                  </a:lnTo>
                  <a:lnTo>
                    <a:pt x="7668" y="424"/>
                  </a:lnTo>
                  <a:lnTo>
                    <a:pt x="7696" y="421"/>
                  </a:lnTo>
                  <a:lnTo>
                    <a:pt x="7720" y="416"/>
                  </a:lnTo>
                  <a:lnTo>
                    <a:pt x="7744" y="409"/>
                  </a:lnTo>
                  <a:lnTo>
                    <a:pt x="7764" y="400"/>
                  </a:lnTo>
                  <a:lnTo>
                    <a:pt x="7782" y="390"/>
                  </a:lnTo>
                  <a:lnTo>
                    <a:pt x="7798" y="380"/>
                  </a:lnTo>
                  <a:lnTo>
                    <a:pt x="7813" y="368"/>
                  </a:lnTo>
                  <a:lnTo>
                    <a:pt x="7826" y="354"/>
                  </a:lnTo>
                  <a:lnTo>
                    <a:pt x="7837" y="341"/>
                  </a:lnTo>
                  <a:lnTo>
                    <a:pt x="7846" y="326"/>
                  </a:lnTo>
                  <a:lnTo>
                    <a:pt x="7854" y="311"/>
                  </a:lnTo>
                  <a:lnTo>
                    <a:pt x="7860" y="296"/>
                  </a:lnTo>
                  <a:lnTo>
                    <a:pt x="7866" y="281"/>
                  </a:lnTo>
                  <a:lnTo>
                    <a:pt x="7870" y="266"/>
                  </a:lnTo>
                  <a:lnTo>
                    <a:pt x="7874" y="250"/>
                  </a:lnTo>
                  <a:lnTo>
                    <a:pt x="7876" y="235"/>
                  </a:lnTo>
                  <a:lnTo>
                    <a:pt x="7878" y="220"/>
                  </a:lnTo>
                  <a:lnTo>
                    <a:pt x="7879" y="205"/>
                  </a:lnTo>
                  <a:lnTo>
                    <a:pt x="7879" y="192"/>
                  </a:lnTo>
                  <a:lnTo>
                    <a:pt x="7879" y="179"/>
                  </a:lnTo>
                  <a:lnTo>
                    <a:pt x="7875" y="139"/>
                  </a:lnTo>
                  <a:lnTo>
                    <a:pt x="7872" y="123"/>
                  </a:lnTo>
                  <a:close/>
                </a:path>
              </a:pathLst>
            </a:custGeom>
            <a:solidFill>
              <a:srgbClr val="d3d3d3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611280" y="4027320"/>
              <a:ext cx="106560" cy="14040"/>
            </a:xfrm>
            <a:custGeom>
              <a:avLst/>
              <a:gdLst/>
              <a:ahLst/>
              <a:rect l="l" t="t" r="r" b="b"/>
              <a:pathLst>
                <a:path w="2378" h="344">
                  <a:moveTo>
                    <a:pt x="0" y="222"/>
                  </a:moveTo>
                  <a:lnTo>
                    <a:pt x="0" y="0"/>
                  </a:lnTo>
                  <a:lnTo>
                    <a:pt x="2378" y="107"/>
                  </a:lnTo>
                  <a:lnTo>
                    <a:pt x="2378" y="344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6a605a"/>
            </a:soli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399600" y="4757760"/>
            <a:ext cx="727560" cy="581040"/>
            <a:chOff x="399600" y="4757760"/>
            <a:chExt cx="727560" cy="581040"/>
          </a:xfrm>
        </p:grpSpPr>
        <p:sp>
          <p:nvSpPr>
            <p:cNvPr id="802" name=""/>
            <p:cNvSpPr/>
            <p:nvPr/>
          </p:nvSpPr>
          <p:spPr>
            <a:xfrm flipH="1">
              <a:off x="399240" y="5118480"/>
              <a:ext cx="176760" cy="220320"/>
            </a:xfrm>
            <a:custGeom>
              <a:avLst/>
              <a:gdLst/>
              <a:ahLst/>
              <a:rect l="l" t="t" r="r" b="b"/>
              <a:pathLst>
                <a:path w="3967" h="6591">
                  <a:moveTo>
                    <a:pt x="3967" y="4235"/>
                  </a:moveTo>
                  <a:lnTo>
                    <a:pt x="3967" y="0"/>
                  </a:lnTo>
                  <a:lnTo>
                    <a:pt x="0" y="1552"/>
                  </a:lnTo>
                  <a:lnTo>
                    <a:pt x="0" y="6591"/>
                  </a:lnTo>
                  <a:lnTo>
                    <a:pt x="3967" y="4235"/>
                  </a:lnTo>
                  <a:close/>
                </a:path>
              </a:pathLst>
            </a:custGeom>
            <a:gradFill rotWithShape="0">
              <a:gsLst>
                <a:gs pos="0">
                  <a:srgbClr val="665e5b"/>
                </a:gs>
                <a:gs pos="100000">
                  <a:srgbClr val="b7aaa3"/>
                </a:gs>
              </a:gsLst>
              <a:lin ang="108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576720" y="5154840"/>
              <a:ext cx="550080" cy="183960"/>
            </a:xfrm>
            <a:custGeom>
              <a:avLst/>
              <a:gdLst/>
              <a:ahLst/>
              <a:rect l="l" t="t" r="r" b="b"/>
              <a:pathLst>
                <a:path w="12371" h="5729">
                  <a:moveTo>
                    <a:pt x="0" y="4694"/>
                  </a:moveTo>
                  <a:lnTo>
                    <a:pt x="0" y="0"/>
                  </a:lnTo>
                  <a:lnTo>
                    <a:pt x="12371" y="690"/>
                  </a:lnTo>
                  <a:lnTo>
                    <a:pt x="12371" y="5729"/>
                  </a:lnTo>
                  <a:lnTo>
                    <a:pt x="0" y="4694"/>
                  </a:lnTo>
                  <a:close/>
                </a:path>
              </a:pathLst>
            </a:custGeom>
            <a:gradFill rotWithShape="0">
              <a:gsLst>
                <a:gs pos="0">
                  <a:srgbClr val="d9cfca"/>
                </a:gs>
                <a:gs pos="100000">
                  <a:srgbClr val="968f8c"/>
                </a:gs>
              </a:gsLst>
              <a:lin ang="135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399960" y="5098680"/>
              <a:ext cx="727200" cy="84240"/>
            </a:xfrm>
            <a:custGeom>
              <a:avLst/>
              <a:gdLst/>
              <a:ahLst/>
              <a:rect l="l" t="t" r="r" b="b"/>
              <a:pathLst>
                <a:path w="16338" h="2034">
                  <a:moveTo>
                    <a:pt x="5308" y="0"/>
                  </a:moveTo>
                  <a:lnTo>
                    <a:pt x="0" y="1344"/>
                  </a:lnTo>
                  <a:lnTo>
                    <a:pt x="12371" y="2034"/>
                  </a:lnTo>
                  <a:lnTo>
                    <a:pt x="16338" y="482"/>
                  </a:lnTo>
                  <a:lnTo>
                    <a:pt x="5308" y="0"/>
                  </a:lnTo>
                  <a:close/>
                </a:path>
              </a:pathLst>
            </a:custGeom>
            <a:gradFill rotWithShape="0">
              <a:gsLst>
                <a:gs pos="0">
                  <a:srgbClr val="d4cbc6"/>
                </a:gs>
                <a:gs pos="100000">
                  <a:srgbClr val="eee3de"/>
                </a:gs>
              </a:gsLst>
              <a:lin ang="54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512640" y="5049360"/>
              <a:ext cx="466200" cy="107280"/>
            </a:xfrm>
            <a:custGeom>
              <a:avLst/>
              <a:gdLst/>
              <a:ahLst/>
              <a:rect l="l" t="t" r="r" b="b"/>
              <a:pathLst>
                <a:path w="11046" h="2745">
                  <a:moveTo>
                    <a:pt x="11046" y="0"/>
                  </a:moveTo>
                  <a:lnTo>
                    <a:pt x="11046" y="1726"/>
                  </a:lnTo>
                  <a:lnTo>
                    <a:pt x="8437" y="2745"/>
                  </a:lnTo>
                  <a:lnTo>
                    <a:pt x="110" y="2377"/>
                  </a:lnTo>
                  <a:lnTo>
                    <a:pt x="0" y="981"/>
                  </a:lnTo>
                  <a:lnTo>
                    <a:pt x="11046" y="0"/>
                  </a:lnTo>
                  <a:close/>
                </a:path>
              </a:pathLst>
            </a:custGeom>
            <a:gradFill rotWithShape="0">
              <a:gsLst>
                <a:gs pos="0">
                  <a:srgbClr val="5c5755"/>
                </a:gs>
                <a:gs pos="100000">
                  <a:srgbClr val="c8beb9"/>
                </a:gs>
              </a:gsLst>
              <a:lin ang="54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488520" y="4798080"/>
              <a:ext cx="75240" cy="294840"/>
            </a:xfrm>
            <a:custGeom>
              <a:avLst/>
              <a:gdLst/>
              <a:ahLst/>
              <a:rect l="l" t="t" r="r" b="b"/>
              <a:pathLst>
                <a:path w="1756" h="7513">
                  <a:moveTo>
                    <a:pt x="137" y="0"/>
                  </a:moveTo>
                  <a:lnTo>
                    <a:pt x="1715" y="950"/>
                  </a:lnTo>
                  <a:lnTo>
                    <a:pt x="1756" y="1024"/>
                  </a:lnTo>
                  <a:lnTo>
                    <a:pt x="1756" y="6260"/>
                  </a:lnTo>
                  <a:lnTo>
                    <a:pt x="1738" y="6310"/>
                  </a:lnTo>
                  <a:lnTo>
                    <a:pt x="0" y="7513"/>
                  </a:lnTo>
                  <a:lnTo>
                    <a:pt x="13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5e5b"/>
                </a:gs>
                <a:gs pos="100000">
                  <a:srgbClr val="b7aaa3"/>
                </a:gs>
              </a:gsLst>
              <a:lin ang="108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586440" y="4757760"/>
              <a:ext cx="439920" cy="363960"/>
            </a:xfrm>
            <a:custGeom>
              <a:avLst/>
              <a:gdLst/>
              <a:ahLst/>
              <a:rect l="l" t="t" r="r" b="b"/>
              <a:pathLst>
                <a:path w="10407" h="9275">
                  <a:moveTo>
                    <a:pt x="77" y="573"/>
                  </a:moveTo>
                  <a:lnTo>
                    <a:pt x="289" y="446"/>
                  </a:lnTo>
                  <a:lnTo>
                    <a:pt x="412" y="390"/>
                  </a:lnTo>
                  <a:lnTo>
                    <a:pt x="513" y="367"/>
                  </a:lnTo>
                  <a:lnTo>
                    <a:pt x="9876" y="0"/>
                  </a:lnTo>
                  <a:lnTo>
                    <a:pt x="10265" y="64"/>
                  </a:lnTo>
                  <a:lnTo>
                    <a:pt x="10375" y="120"/>
                  </a:lnTo>
                  <a:lnTo>
                    <a:pt x="10407" y="156"/>
                  </a:lnTo>
                  <a:lnTo>
                    <a:pt x="10366" y="9275"/>
                  </a:lnTo>
                  <a:lnTo>
                    <a:pt x="270" y="8921"/>
                  </a:lnTo>
                  <a:lnTo>
                    <a:pt x="178" y="8880"/>
                  </a:lnTo>
                  <a:lnTo>
                    <a:pt x="123" y="8835"/>
                  </a:lnTo>
                  <a:lnTo>
                    <a:pt x="73" y="8765"/>
                  </a:lnTo>
                  <a:lnTo>
                    <a:pt x="0" y="8632"/>
                  </a:lnTo>
                  <a:lnTo>
                    <a:pt x="77" y="573"/>
                  </a:lnTo>
                  <a:close/>
                </a:path>
              </a:pathLst>
            </a:custGeom>
            <a:gradFill rotWithShape="0">
              <a:gsLst>
                <a:gs pos="0">
                  <a:srgbClr val="d9cfca"/>
                </a:gs>
                <a:gs pos="100000">
                  <a:srgbClr val="968f8c"/>
                </a:gs>
              </a:gsLst>
              <a:lin ang="135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511920" y="4757760"/>
              <a:ext cx="112320" cy="397800"/>
            </a:xfrm>
            <a:custGeom>
              <a:avLst/>
              <a:gdLst/>
              <a:ahLst/>
              <a:rect l="l" t="t" r="r" b="b"/>
              <a:pathLst>
                <a:path w="2678" h="10161">
                  <a:moveTo>
                    <a:pt x="0" y="10161"/>
                  </a:moveTo>
                  <a:lnTo>
                    <a:pt x="51" y="9248"/>
                  </a:lnTo>
                  <a:lnTo>
                    <a:pt x="353" y="9248"/>
                  </a:lnTo>
                  <a:lnTo>
                    <a:pt x="491" y="9220"/>
                  </a:lnTo>
                  <a:lnTo>
                    <a:pt x="583" y="9142"/>
                  </a:lnTo>
                  <a:lnTo>
                    <a:pt x="629" y="9009"/>
                  </a:lnTo>
                  <a:lnTo>
                    <a:pt x="629" y="248"/>
                  </a:lnTo>
                  <a:lnTo>
                    <a:pt x="614" y="162"/>
                  </a:lnTo>
                  <a:lnTo>
                    <a:pt x="596" y="88"/>
                  </a:lnTo>
                  <a:lnTo>
                    <a:pt x="568" y="51"/>
                  </a:lnTo>
                  <a:lnTo>
                    <a:pt x="491" y="0"/>
                  </a:lnTo>
                  <a:lnTo>
                    <a:pt x="857" y="60"/>
                  </a:lnTo>
                  <a:lnTo>
                    <a:pt x="1023" y="110"/>
                  </a:lnTo>
                  <a:lnTo>
                    <a:pt x="1682" y="538"/>
                  </a:lnTo>
                  <a:lnTo>
                    <a:pt x="1701" y="556"/>
                  </a:lnTo>
                  <a:lnTo>
                    <a:pt x="1715" y="584"/>
                  </a:lnTo>
                  <a:lnTo>
                    <a:pt x="1719" y="620"/>
                  </a:lnTo>
                  <a:lnTo>
                    <a:pt x="2678" y="7320"/>
                  </a:lnTo>
                  <a:lnTo>
                    <a:pt x="2669" y="9137"/>
                  </a:lnTo>
                  <a:lnTo>
                    <a:pt x="27" y="10161"/>
                  </a:lnTo>
                  <a:lnTo>
                    <a:pt x="0" y="10161"/>
                  </a:lnTo>
                  <a:close/>
                </a:path>
              </a:pathLst>
            </a:custGeom>
            <a:gradFill rotWithShape="0">
              <a:gsLst>
                <a:gs pos="0">
                  <a:srgbClr val="665e5b"/>
                </a:gs>
                <a:gs pos="100000">
                  <a:srgbClr val="b7aaa3"/>
                </a:gs>
              </a:gsLst>
              <a:lin ang="108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622080" y="5108400"/>
              <a:ext cx="356400" cy="23040"/>
            </a:xfrm>
            <a:custGeom>
              <a:avLst/>
              <a:gdLst/>
              <a:ahLst/>
              <a:rect l="l" t="t" r="r" b="b"/>
              <a:pathLst>
                <a:path w="8422" h="579">
                  <a:moveTo>
                    <a:pt x="0" y="0"/>
                  </a:moveTo>
                  <a:lnTo>
                    <a:pt x="8422" y="304"/>
                  </a:lnTo>
                  <a:lnTo>
                    <a:pt x="8391" y="579"/>
                  </a:lnTo>
                  <a:lnTo>
                    <a:pt x="18" y="23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642"/>
                </a:gs>
                <a:gs pos="100000">
                  <a:srgbClr val="a89890"/>
                </a:gs>
              </a:gsLst>
              <a:lin ang="54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646560" y="4812480"/>
              <a:ext cx="333720" cy="255240"/>
            </a:xfrm>
            <a:custGeom>
              <a:avLst/>
              <a:gdLst/>
              <a:ahLst/>
              <a:rect l="l" t="t" r="r" b="b"/>
              <a:pathLst>
                <a:path w="7886" h="6539">
                  <a:moveTo>
                    <a:pt x="0" y="6084"/>
                  </a:moveTo>
                  <a:lnTo>
                    <a:pt x="73" y="6282"/>
                  </a:lnTo>
                  <a:lnTo>
                    <a:pt x="7775" y="6539"/>
                  </a:lnTo>
                  <a:lnTo>
                    <a:pt x="7817" y="6480"/>
                  </a:lnTo>
                  <a:lnTo>
                    <a:pt x="7863" y="6410"/>
                  </a:lnTo>
                  <a:lnTo>
                    <a:pt x="7886" y="229"/>
                  </a:lnTo>
                  <a:lnTo>
                    <a:pt x="7867" y="118"/>
                  </a:lnTo>
                  <a:lnTo>
                    <a:pt x="7817" y="63"/>
                  </a:lnTo>
                  <a:lnTo>
                    <a:pt x="7460" y="0"/>
                  </a:lnTo>
                  <a:lnTo>
                    <a:pt x="206" y="197"/>
                  </a:lnTo>
                  <a:lnTo>
                    <a:pt x="14" y="3312"/>
                  </a:lnTo>
                  <a:lnTo>
                    <a:pt x="0" y="6084"/>
                  </a:lnTo>
                  <a:close/>
                </a:path>
              </a:pathLst>
            </a:custGeom>
            <a:gradFill rotWithShape="0">
              <a:gsLst>
                <a:gs pos="0">
                  <a:srgbClr val="4b4b4b"/>
                </a:gs>
                <a:gs pos="100000">
                  <a:srgbClr val="000000"/>
                </a:gs>
              </a:gsLst>
              <a:lin ang="81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651240" y="5085720"/>
              <a:ext cx="57240" cy="9360"/>
            </a:xfrm>
            <a:custGeom>
              <a:avLst/>
              <a:gdLst/>
              <a:ahLst/>
              <a:rect l="l" t="t" r="r" b="b"/>
              <a:pathLst>
                <a:path w="1357" h="276">
                  <a:moveTo>
                    <a:pt x="1357" y="55"/>
                  </a:moveTo>
                  <a:lnTo>
                    <a:pt x="0" y="0"/>
                  </a:lnTo>
                  <a:lnTo>
                    <a:pt x="0" y="225"/>
                  </a:lnTo>
                  <a:lnTo>
                    <a:pt x="1357" y="276"/>
                  </a:lnTo>
                  <a:lnTo>
                    <a:pt x="1357" y="55"/>
                  </a:lnTo>
                  <a:close/>
                </a:path>
              </a:pathLst>
            </a:custGeom>
            <a:gradFill rotWithShape="0">
              <a:gsLst>
                <a:gs pos="0">
                  <a:srgbClr val="12be00"/>
                </a:gs>
                <a:gs pos="100000">
                  <a:srgbClr val="0b7c00"/>
                </a:gs>
              </a:gsLst>
              <a:lin ang="10800000"/>
            </a:gra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646560" y="4810320"/>
              <a:ext cx="340920" cy="252000"/>
            </a:xfrm>
            <a:custGeom>
              <a:avLst/>
              <a:gdLst/>
              <a:ahLst/>
              <a:rect l="l" t="t" r="r" b="b"/>
              <a:pathLst>
                <a:path w="8034" h="6443">
                  <a:moveTo>
                    <a:pt x="8034" y="206"/>
                  </a:moveTo>
                  <a:lnTo>
                    <a:pt x="8020" y="147"/>
                  </a:lnTo>
                  <a:lnTo>
                    <a:pt x="7969" y="64"/>
                  </a:lnTo>
                  <a:lnTo>
                    <a:pt x="7919" y="32"/>
                  </a:lnTo>
                  <a:lnTo>
                    <a:pt x="7818" y="9"/>
                  </a:lnTo>
                  <a:lnTo>
                    <a:pt x="7722" y="0"/>
                  </a:lnTo>
                  <a:lnTo>
                    <a:pt x="294" y="179"/>
                  </a:lnTo>
                  <a:lnTo>
                    <a:pt x="180" y="193"/>
                  </a:lnTo>
                  <a:lnTo>
                    <a:pt x="97" y="239"/>
                  </a:lnTo>
                  <a:lnTo>
                    <a:pt x="51" y="298"/>
                  </a:lnTo>
                  <a:lnTo>
                    <a:pt x="24" y="372"/>
                  </a:lnTo>
                  <a:lnTo>
                    <a:pt x="0" y="495"/>
                  </a:lnTo>
                  <a:lnTo>
                    <a:pt x="0" y="6177"/>
                  </a:lnTo>
                  <a:lnTo>
                    <a:pt x="10" y="6273"/>
                  </a:lnTo>
                  <a:lnTo>
                    <a:pt x="33" y="6356"/>
                  </a:lnTo>
                  <a:lnTo>
                    <a:pt x="61" y="6388"/>
                  </a:lnTo>
                  <a:lnTo>
                    <a:pt x="111" y="6420"/>
                  </a:lnTo>
                  <a:lnTo>
                    <a:pt x="162" y="6443"/>
                  </a:lnTo>
                  <a:lnTo>
                    <a:pt x="510" y="6255"/>
                  </a:lnTo>
                  <a:lnTo>
                    <a:pt x="468" y="6218"/>
                  </a:lnTo>
                  <a:lnTo>
                    <a:pt x="427" y="6172"/>
                  </a:lnTo>
                  <a:lnTo>
                    <a:pt x="409" y="6126"/>
                  </a:lnTo>
                  <a:lnTo>
                    <a:pt x="390" y="6007"/>
                  </a:lnTo>
                  <a:lnTo>
                    <a:pt x="354" y="4823"/>
                  </a:lnTo>
                  <a:lnTo>
                    <a:pt x="322" y="3455"/>
                  </a:lnTo>
                  <a:lnTo>
                    <a:pt x="331" y="2460"/>
                  </a:lnTo>
                  <a:lnTo>
                    <a:pt x="363" y="1284"/>
                  </a:lnTo>
                  <a:lnTo>
                    <a:pt x="440" y="711"/>
                  </a:lnTo>
                  <a:lnTo>
                    <a:pt x="464" y="551"/>
                  </a:lnTo>
                  <a:lnTo>
                    <a:pt x="501" y="436"/>
                  </a:lnTo>
                  <a:lnTo>
                    <a:pt x="542" y="376"/>
                  </a:lnTo>
                  <a:lnTo>
                    <a:pt x="593" y="339"/>
                  </a:lnTo>
                  <a:lnTo>
                    <a:pt x="633" y="317"/>
                  </a:lnTo>
                  <a:lnTo>
                    <a:pt x="716" y="307"/>
                  </a:lnTo>
                  <a:lnTo>
                    <a:pt x="7689" y="138"/>
                  </a:lnTo>
                  <a:lnTo>
                    <a:pt x="7805" y="138"/>
                  </a:lnTo>
                  <a:lnTo>
                    <a:pt x="7892" y="138"/>
                  </a:lnTo>
                  <a:lnTo>
                    <a:pt x="7969" y="160"/>
                  </a:lnTo>
                  <a:lnTo>
                    <a:pt x="8034" y="206"/>
                  </a:lnTo>
                  <a:close/>
                </a:path>
              </a:pathLst>
            </a:custGeom>
            <a:gradFill rotWithShape="0">
              <a:gsLst>
                <a:gs pos="0">
                  <a:srgbClr val="5f5954"/>
                </a:gs>
                <a:gs pos="100000">
                  <a:srgbClr val="8a807a"/>
                </a:gs>
              </a:gsLst>
              <a:lin ang="54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646560" y="5054760"/>
              <a:ext cx="333720" cy="17640"/>
            </a:xfrm>
            <a:custGeom>
              <a:avLst/>
              <a:gdLst/>
              <a:ahLst/>
              <a:rect l="l" t="t" r="r" b="b"/>
              <a:pathLst>
                <a:path w="7879" h="426">
                  <a:moveTo>
                    <a:pt x="7872" y="123"/>
                  </a:moveTo>
                  <a:lnTo>
                    <a:pt x="7858" y="151"/>
                  </a:lnTo>
                  <a:lnTo>
                    <a:pt x="7845" y="179"/>
                  </a:lnTo>
                  <a:lnTo>
                    <a:pt x="7817" y="197"/>
                  </a:lnTo>
                  <a:lnTo>
                    <a:pt x="7808" y="210"/>
                  </a:lnTo>
                  <a:lnTo>
                    <a:pt x="7803" y="210"/>
                  </a:lnTo>
                  <a:lnTo>
                    <a:pt x="7799" y="215"/>
                  </a:lnTo>
                  <a:lnTo>
                    <a:pt x="7716" y="243"/>
                  </a:lnTo>
                  <a:lnTo>
                    <a:pt x="458" y="27"/>
                  </a:lnTo>
                  <a:lnTo>
                    <a:pt x="390" y="13"/>
                  </a:lnTo>
                  <a:lnTo>
                    <a:pt x="329" y="0"/>
                  </a:lnTo>
                  <a:lnTo>
                    <a:pt x="0" y="183"/>
                  </a:lnTo>
                  <a:lnTo>
                    <a:pt x="5373" y="339"/>
                  </a:lnTo>
                  <a:lnTo>
                    <a:pt x="5449" y="340"/>
                  </a:lnTo>
                  <a:lnTo>
                    <a:pt x="5654" y="341"/>
                  </a:lnTo>
                  <a:lnTo>
                    <a:pt x="5950" y="345"/>
                  </a:lnTo>
                  <a:lnTo>
                    <a:pt x="6302" y="352"/>
                  </a:lnTo>
                  <a:lnTo>
                    <a:pt x="6487" y="356"/>
                  </a:lnTo>
                  <a:lnTo>
                    <a:pt x="6673" y="363"/>
                  </a:lnTo>
                  <a:lnTo>
                    <a:pt x="6853" y="369"/>
                  </a:lnTo>
                  <a:lnTo>
                    <a:pt x="7025" y="376"/>
                  </a:lnTo>
                  <a:lnTo>
                    <a:pt x="7107" y="380"/>
                  </a:lnTo>
                  <a:lnTo>
                    <a:pt x="7183" y="384"/>
                  </a:lnTo>
                  <a:lnTo>
                    <a:pt x="7257" y="389"/>
                  </a:lnTo>
                  <a:lnTo>
                    <a:pt x="7324" y="394"/>
                  </a:lnTo>
                  <a:lnTo>
                    <a:pt x="7386" y="399"/>
                  </a:lnTo>
                  <a:lnTo>
                    <a:pt x="7442" y="405"/>
                  </a:lnTo>
                  <a:lnTo>
                    <a:pt x="7492" y="411"/>
                  </a:lnTo>
                  <a:lnTo>
                    <a:pt x="7532" y="417"/>
                  </a:lnTo>
                  <a:lnTo>
                    <a:pt x="7571" y="422"/>
                  </a:lnTo>
                  <a:lnTo>
                    <a:pt x="7606" y="425"/>
                  </a:lnTo>
                  <a:lnTo>
                    <a:pt x="7639" y="426"/>
                  </a:lnTo>
                  <a:lnTo>
                    <a:pt x="7668" y="424"/>
                  </a:lnTo>
                  <a:lnTo>
                    <a:pt x="7696" y="421"/>
                  </a:lnTo>
                  <a:lnTo>
                    <a:pt x="7720" y="416"/>
                  </a:lnTo>
                  <a:lnTo>
                    <a:pt x="7744" y="409"/>
                  </a:lnTo>
                  <a:lnTo>
                    <a:pt x="7764" y="400"/>
                  </a:lnTo>
                  <a:lnTo>
                    <a:pt x="7782" y="390"/>
                  </a:lnTo>
                  <a:lnTo>
                    <a:pt x="7798" y="380"/>
                  </a:lnTo>
                  <a:lnTo>
                    <a:pt x="7813" y="368"/>
                  </a:lnTo>
                  <a:lnTo>
                    <a:pt x="7826" y="354"/>
                  </a:lnTo>
                  <a:lnTo>
                    <a:pt x="7837" y="341"/>
                  </a:lnTo>
                  <a:lnTo>
                    <a:pt x="7846" y="326"/>
                  </a:lnTo>
                  <a:lnTo>
                    <a:pt x="7854" y="311"/>
                  </a:lnTo>
                  <a:lnTo>
                    <a:pt x="7860" y="296"/>
                  </a:lnTo>
                  <a:lnTo>
                    <a:pt x="7866" y="281"/>
                  </a:lnTo>
                  <a:lnTo>
                    <a:pt x="7870" y="266"/>
                  </a:lnTo>
                  <a:lnTo>
                    <a:pt x="7874" y="250"/>
                  </a:lnTo>
                  <a:lnTo>
                    <a:pt x="7876" y="235"/>
                  </a:lnTo>
                  <a:lnTo>
                    <a:pt x="7878" y="220"/>
                  </a:lnTo>
                  <a:lnTo>
                    <a:pt x="7879" y="205"/>
                  </a:lnTo>
                  <a:lnTo>
                    <a:pt x="7879" y="192"/>
                  </a:lnTo>
                  <a:lnTo>
                    <a:pt x="7879" y="179"/>
                  </a:lnTo>
                  <a:lnTo>
                    <a:pt x="7875" y="139"/>
                  </a:lnTo>
                  <a:lnTo>
                    <a:pt x="7872" y="123"/>
                  </a:lnTo>
                  <a:close/>
                </a:path>
              </a:pathLst>
            </a:custGeom>
            <a:solidFill>
              <a:srgbClr val="d3d3d3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611280" y="5203800"/>
              <a:ext cx="106560" cy="14040"/>
            </a:xfrm>
            <a:custGeom>
              <a:avLst/>
              <a:gdLst/>
              <a:ahLst/>
              <a:rect l="l" t="t" r="r" b="b"/>
              <a:pathLst>
                <a:path w="2378" h="344">
                  <a:moveTo>
                    <a:pt x="0" y="222"/>
                  </a:moveTo>
                  <a:lnTo>
                    <a:pt x="0" y="0"/>
                  </a:lnTo>
                  <a:lnTo>
                    <a:pt x="2378" y="107"/>
                  </a:lnTo>
                  <a:lnTo>
                    <a:pt x="2378" y="344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6a605a"/>
            </a:soli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976480" y="2322360"/>
            <a:ext cx="323640" cy="459000"/>
            <a:chOff x="2976480" y="2322360"/>
            <a:chExt cx="323640" cy="459000"/>
          </a:xfrm>
        </p:grpSpPr>
        <p:sp>
          <p:nvSpPr>
            <p:cNvPr id="816" name=""/>
            <p:cNvSpPr/>
            <p:nvPr/>
          </p:nvSpPr>
          <p:spPr>
            <a:xfrm>
              <a:off x="2976480" y="2322360"/>
              <a:ext cx="323640" cy="4590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014640" y="2379600"/>
              <a:ext cx="231480" cy="35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14640" y="2441160"/>
              <a:ext cx="231480" cy="35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14640" y="2502720"/>
              <a:ext cx="231480" cy="35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14640" y="2565720"/>
              <a:ext cx="231480" cy="360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2970360" y="3316320"/>
            <a:ext cx="323640" cy="468000"/>
            <a:chOff x="2970360" y="3316320"/>
            <a:chExt cx="323640" cy="468000"/>
          </a:xfrm>
        </p:grpSpPr>
        <p:grpSp>
          <p:nvGrpSpPr>
            <p:cNvPr id="822" name=""/>
            <p:cNvGrpSpPr/>
            <p:nvPr/>
          </p:nvGrpSpPr>
          <p:grpSpPr>
            <a:xfrm>
              <a:off x="2970360" y="3316320"/>
              <a:ext cx="323640" cy="458640"/>
              <a:chOff x="2970360" y="3316320"/>
              <a:chExt cx="323640" cy="458640"/>
            </a:xfrm>
          </p:grpSpPr>
          <p:sp>
            <p:nvSpPr>
              <p:cNvPr id="823" name=""/>
              <p:cNvSpPr/>
              <p:nvPr/>
            </p:nvSpPr>
            <p:spPr>
              <a:xfrm>
                <a:off x="2970360" y="3316320"/>
                <a:ext cx="323640" cy="458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008520" y="3373560"/>
                <a:ext cx="231480" cy="35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008520" y="3435120"/>
                <a:ext cx="231480" cy="36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08520" y="3497040"/>
                <a:ext cx="231480" cy="35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008520" y="3560040"/>
                <a:ext cx="231480" cy="35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828" name=""/>
            <p:cNvGraphicFramePr/>
            <p:nvPr/>
          </p:nvGraphicFramePr>
          <p:xfrm>
            <a:off x="3033360" y="3635640"/>
            <a:ext cx="164880" cy="148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2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033360" y="3635640"/>
                      <a:ext cx="164880" cy="14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30" name=""/>
          <p:cNvGrpSpPr/>
          <p:nvPr/>
        </p:nvGrpSpPr>
        <p:grpSpPr>
          <a:xfrm>
            <a:off x="2970360" y="4173480"/>
            <a:ext cx="323640" cy="468000"/>
            <a:chOff x="2970360" y="4173480"/>
            <a:chExt cx="323640" cy="468000"/>
          </a:xfrm>
        </p:grpSpPr>
        <p:grpSp>
          <p:nvGrpSpPr>
            <p:cNvPr id="831" name=""/>
            <p:cNvGrpSpPr/>
            <p:nvPr/>
          </p:nvGrpSpPr>
          <p:grpSpPr>
            <a:xfrm>
              <a:off x="2970360" y="4173480"/>
              <a:ext cx="323640" cy="458640"/>
              <a:chOff x="2970360" y="4173480"/>
              <a:chExt cx="323640" cy="458640"/>
            </a:xfrm>
          </p:grpSpPr>
          <p:sp>
            <p:nvSpPr>
              <p:cNvPr id="832" name=""/>
              <p:cNvSpPr/>
              <p:nvPr/>
            </p:nvSpPr>
            <p:spPr>
              <a:xfrm>
                <a:off x="2970360" y="4173480"/>
                <a:ext cx="323640" cy="458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008520" y="4230720"/>
                <a:ext cx="231480" cy="35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008520" y="4292280"/>
                <a:ext cx="231480" cy="36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008520" y="4354200"/>
                <a:ext cx="231480" cy="35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08520" y="4417200"/>
                <a:ext cx="231480" cy="35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837" name=""/>
            <p:cNvGraphicFramePr/>
            <p:nvPr/>
          </p:nvGraphicFramePr>
          <p:xfrm>
            <a:off x="3033360" y="4492800"/>
            <a:ext cx="164880" cy="148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3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033360" y="4492800"/>
                      <a:ext cx="164880" cy="14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39" name=""/>
          <p:cNvGrpSpPr/>
          <p:nvPr/>
        </p:nvGrpSpPr>
        <p:grpSpPr>
          <a:xfrm>
            <a:off x="2970360" y="5545080"/>
            <a:ext cx="323640" cy="468000"/>
            <a:chOff x="2970360" y="5545080"/>
            <a:chExt cx="323640" cy="468000"/>
          </a:xfrm>
        </p:grpSpPr>
        <p:grpSp>
          <p:nvGrpSpPr>
            <p:cNvPr id="840" name=""/>
            <p:cNvGrpSpPr/>
            <p:nvPr/>
          </p:nvGrpSpPr>
          <p:grpSpPr>
            <a:xfrm>
              <a:off x="2970360" y="5545080"/>
              <a:ext cx="323640" cy="458640"/>
              <a:chOff x="2970360" y="5545080"/>
              <a:chExt cx="323640" cy="458640"/>
            </a:xfrm>
          </p:grpSpPr>
          <p:sp>
            <p:nvSpPr>
              <p:cNvPr id="841" name=""/>
              <p:cNvSpPr/>
              <p:nvPr/>
            </p:nvSpPr>
            <p:spPr>
              <a:xfrm>
                <a:off x="2970360" y="5545080"/>
                <a:ext cx="323640" cy="458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008520" y="5602320"/>
                <a:ext cx="231480" cy="35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008520" y="5663880"/>
                <a:ext cx="231480" cy="36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008520" y="5725800"/>
                <a:ext cx="231480" cy="35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008520" y="5788800"/>
                <a:ext cx="231480" cy="35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846" name=""/>
            <p:cNvGraphicFramePr/>
            <p:nvPr/>
          </p:nvGraphicFramePr>
          <p:xfrm>
            <a:off x="3033360" y="5864400"/>
            <a:ext cx="164880" cy="1486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4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033360" y="5864400"/>
                      <a:ext cx="164880" cy="14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48" name=""/>
          <p:cNvSpPr/>
          <p:nvPr/>
        </p:nvSpPr>
        <p:spPr>
          <a:xfrm flipV="1">
            <a:off x="2332080" y="3920760"/>
            <a:ext cx="2828880" cy="12600"/>
          </a:xfrm>
          <a:prstGeom prst="line">
            <a:avLst/>
          </a:prstGeom>
          <a:ln w="25560">
            <a:solidFill>
              <a:srgbClr val="e8b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5049720" y="2482920"/>
            <a:ext cx="2958840" cy="3490920"/>
            <a:chOff x="5049720" y="2482920"/>
            <a:chExt cx="2958840" cy="3490920"/>
          </a:xfrm>
        </p:grpSpPr>
        <p:grpSp>
          <p:nvGrpSpPr>
            <p:cNvPr id="850" name=""/>
            <p:cNvGrpSpPr/>
            <p:nvPr/>
          </p:nvGrpSpPr>
          <p:grpSpPr>
            <a:xfrm>
              <a:off x="7629480" y="2482920"/>
              <a:ext cx="379080" cy="449280"/>
              <a:chOff x="7629480" y="2482920"/>
              <a:chExt cx="379080" cy="449280"/>
            </a:xfrm>
          </p:grpSpPr>
          <p:sp>
            <p:nvSpPr>
              <p:cNvPr id="851" name=""/>
              <p:cNvSpPr/>
              <p:nvPr/>
            </p:nvSpPr>
            <p:spPr>
              <a:xfrm>
                <a:off x="7629480" y="2482920"/>
                <a:ext cx="379080" cy="44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30920" y="2494800"/>
                <a:ext cx="375840" cy="24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7358040" y="5524560"/>
              <a:ext cx="379080" cy="449280"/>
              <a:chOff x="7358040" y="5524560"/>
              <a:chExt cx="379080" cy="449280"/>
            </a:xfrm>
          </p:grpSpPr>
          <p:sp>
            <p:nvSpPr>
              <p:cNvPr id="854" name=""/>
              <p:cNvSpPr/>
              <p:nvPr/>
            </p:nvSpPr>
            <p:spPr>
              <a:xfrm>
                <a:off x="7358040" y="5524560"/>
                <a:ext cx="379080" cy="44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359480" y="5536440"/>
                <a:ext cx="375840" cy="24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7039080" y="3171960"/>
              <a:ext cx="379440" cy="449280"/>
              <a:chOff x="7039080" y="3171960"/>
              <a:chExt cx="379440" cy="449280"/>
            </a:xfrm>
          </p:grpSpPr>
          <p:sp>
            <p:nvSpPr>
              <p:cNvPr id="857" name=""/>
              <p:cNvSpPr/>
              <p:nvPr/>
            </p:nvSpPr>
            <p:spPr>
              <a:xfrm>
                <a:off x="7039080" y="3171960"/>
                <a:ext cx="379440" cy="44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040880" y="3183840"/>
                <a:ext cx="375840" cy="24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7039080" y="4705200"/>
              <a:ext cx="379440" cy="449280"/>
              <a:chOff x="7039080" y="4705200"/>
              <a:chExt cx="379440" cy="449280"/>
            </a:xfrm>
          </p:grpSpPr>
          <p:sp>
            <p:nvSpPr>
              <p:cNvPr id="860" name=""/>
              <p:cNvSpPr/>
              <p:nvPr/>
            </p:nvSpPr>
            <p:spPr>
              <a:xfrm>
                <a:off x="7039080" y="4705200"/>
                <a:ext cx="379440" cy="44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040880" y="4717080"/>
                <a:ext cx="375840" cy="24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 flipV="1">
              <a:off x="5057640" y="2724120"/>
              <a:ext cx="2549520" cy="1192320"/>
            </a:xfrm>
            <a:prstGeom prst="line">
              <a:avLst/>
            </a:prstGeom>
            <a:ln w="25560">
              <a:solidFill>
                <a:srgbClr val="e8bc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5095800" y="3489480"/>
              <a:ext cx="1974960" cy="436320"/>
            </a:xfrm>
            <a:prstGeom prst="line">
              <a:avLst/>
            </a:prstGeom>
            <a:ln w="25560">
              <a:solidFill>
                <a:srgbClr val="e8bc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049720" y="4005360"/>
              <a:ext cx="1990800" cy="955440"/>
            </a:xfrm>
            <a:prstGeom prst="line">
              <a:avLst/>
            </a:prstGeom>
            <a:ln w="25560">
              <a:solidFill>
                <a:srgbClr val="e8bc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073480" y="4103640"/>
              <a:ext cx="2262240" cy="1503360"/>
            </a:xfrm>
            <a:prstGeom prst="line">
              <a:avLst/>
            </a:prstGeom>
            <a:ln w="25560">
              <a:solidFill>
                <a:srgbClr val="e8bc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678800" y="2712960"/>
              <a:ext cx="198360" cy="154080"/>
            </a:xfrm>
            <a:prstGeom prst="plus">
              <a:avLst>
                <a:gd name="adj" fmla="val 25000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088040" y="3402000"/>
              <a:ext cx="198720" cy="154080"/>
            </a:xfrm>
            <a:prstGeom prst="plus">
              <a:avLst>
                <a:gd name="adj" fmla="val 25000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088040" y="4935600"/>
              <a:ext cx="198720" cy="154080"/>
            </a:xfrm>
            <a:prstGeom prst="plus">
              <a:avLst>
                <a:gd name="adj" fmla="val 25000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407360" y="5754600"/>
              <a:ext cx="198360" cy="154080"/>
            </a:xfrm>
            <a:prstGeom prst="plus">
              <a:avLst>
                <a:gd name="adj" fmla="val 25000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 Services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 to Consumer Content Provi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8124840" y="2914560"/>
            <a:ext cx="446040" cy="852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719840" y="3362400"/>
            <a:ext cx="793800" cy="40464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7763040" y="4329000"/>
            <a:ext cx="838080" cy="54936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7994520" y="4300200"/>
            <a:ext cx="621000" cy="140004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227240" y="1300320"/>
            <a:ext cx="5699160" cy="374400"/>
          </a:xfrm>
          <a:prstGeom prst="rect">
            <a:avLst/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494000" y="1335600"/>
            <a:ext cx="520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abling Content Flow is a Lucrative Business Opport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83240" y="1343160"/>
            <a:ext cx="11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ent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i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879480" y="1589040"/>
            <a:ext cx="7711920" cy="4421160"/>
          </a:xfrm>
          <a:custGeom>
            <a:avLst/>
            <a:gdLst/>
            <a:ahLst/>
            <a:rect l="l" t="t" r="r" b="b"/>
            <a:pathLst>
              <a:path w="18270" h="10780">
                <a:moveTo>
                  <a:pt x="18270" y="6600"/>
                </a:moveTo>
                <a:lnTo>
                  <a:pt x="18268" y="6525"/>
                </a:lnTo>
                <a:lnTo>
                  <a:pt x="18262" y="6451"/>
                </a:lnTo>
                <a:lnTo>
                  <a:pt x="18252" y="6378"/>
                </a:lnTo>
                <a:lnTo>
                  <a:pt x="18238" y="6305"/>
                </a:lnTo>
                <a:lnTo>
                  <a:pt x="18221" y="6233"/>
                </a:lnTo>
                <a:lnTo>
                  <a:pt x="18199" y="6161"/>
                </a:lnTo>
                <a:lnTo>
                  <a:pt x="18174" y="6091"/>
                </a:lnTo>
                <a:lnTo>
                  <a:pt x="18146" y="6020"/>
                </a:lnTo>
                <a:lnTo>
                  <a:pt x="18112" y="5952"/>
                </a:lnTo>
                <a:lnTo>
                  <a:pt x="18077" y="5883"/>
                </a:lnTo>
                <a:lnTo>
                  <a:pt x="18038" y="5817"/>
                </a:lnTo>
                <a:lnTo>
                  <a:pt x="17995" y="5751"/>
                </a:lnTo>
                <a:lnTo>
                  <a:pt x="17949" y="5685"/>
                </a:lnTo>
                <a:lnTo>
                  <a:pt x="17900" y="5621"/>
                </a:lnTo>
                <a:lnTo>
                  <a:pt x="17848" y="5558"/>
                </a:lnTo>
                <a:lnTo>
                  <a:pt x="17792" y="5496"/>
                </a:lnTo>
                <a:lnTo>
                  <a:pt x="17733" y="5435"/>
                </a:lnTo>
                <a:lnTo>
                  <a:pt x="17672" y="5375"/>
                </a:lnTo>
                <a:lnTo>
                  <a:pt x="17607" y="5317"/>
                </a:lnTo>
                <a:lnTo>
                  <a:pt x="17539" y="5260"/>
                </a:lnTo>
                <a:lnTo>
                  <a:pt x="17470" y="5204"/>
                </a:lnTo>
                <a:lnTo>
                  <a:pt x="17396" y="5149"/>
                </a:lnTo>
                <a:lnTo>
                  <a:pt x="17320" y="5095"/>
                </a:lnTo>
                <a:lnTo>
                  <a:pt x="17242" y="5044"/>
                </a:lnTo>
                <a:lnTo>
                  <a:pt x="17161" y="4994"/>
                </a:lnTo>
                <a:lnTo>
                  <a:pt x="17077" y="4945"/>
                </a:lnTo>
                <a:lnTo>
                  <a:pt x="16991" y="4897"/>
                </a:lnTo>
                <a:lnTo>
                  <a:pt x="16903" y="4851"/>
                </a:lnTo>
                <a:lnTo>
                  <a:pt x="16812" y="4807"/>
                </a:lnTo>
                <a:lnTo>
                  <a:pt x="16719" y="4764"/>
                </a:lnTo>
                <a:lnTo>
                  <a:pt x="16623" y="4723"/>
                </a:lnTo>
                <a:lnTo>
                  <a:pt x="16526" y="4683"/>
                </a:lnTo>
                <a:lnTo>
                  <a:pt x="16557" y="4657"/>
                </a:lnTo>
                <a:lnTo>
                  <a:pt x="16586" y="4630"/>
                </a:lnTo>
                <a:lnTo>
                  <a:pt x="16615" y="4602"/>
                </a:lnTo>
                <a:lnTo>
                  <a:pt x="16643" y="4574"/>
                </a:lnTo>
                <a:lnTo>
                  <a:pt x="16670" y="4546"/>
                </a:lnTo>
                <a:lnTo>
                  <a:pt x="16696" y="4518"/>
                </a:lnTo>
                <a:lnTo>
                  <a:pt x="16722" y="4489"/>
                </a:lnTo>
                <a:lnTo>
                  <a:pt x="16746" y="4460"/>
                </a:lnTo>
                <a:lnTo>
                  <a:pt x="16770" y="4430"/>
                </a:lnTo>
                <a:lnTo>
                  <a:pt x="16792" y="4400"/>
                </a:lnTo>
                <a:lnTo>
                  <a:pt x="16814" y="4370"/>
                </a:lnTo>
                <a:lnTo>
                  <a:pt x="16835" y="4340"/>
                </a:lnTo>
                <a:lnTo>
                  <a:pt x="16855" y="4310"/>
                </a:lnTo>
                <a:lnTo>
                  <a:pt x="16873" y="4279"/>
                </a:lnTo>
                <a:lnTo>
                  <a:pt x="16892" y="4247"/>
                </a:lnTo>
                <a:lnTo>
                  <a:pt x="16909" y="4216"/>
                </a:lnTo>
                <a:lnTo>
                  <a:pt x="16926" y="4184"/>
                </a:lnTo>
                <a:lnTo>
                  <a:pt x="16941" y="4152"/>
                </a:lnTo>
                <a:lnTo>
                  <a:pt x="16955" y="4120"/>
                </a:lnTo>
                <a:lnTo>
                  <a:pt x="16968" y="4088"/>
                </a:lnTo>
                <a:lnTo>
                  <a:pt x="16981" y="4055"/>
                </a:lnTo>
                <a:lnTo>
                  <a:pt x="16992" y="4023"/>
                </a:lnTo>
                <a:lnTo>
                  <a:pt x="17003" y="3990"/>
                </a:lnTo>
                <a:lnTo>
                  <a:pt x="17012" y="3957"/>
                </a:lnTo>
                <a:lnTo>
                  <a:pt x="17020" y="3923"/>
                </a:lnTo>
                <a:lnTo>
                  <a:pt x="17026" y="3890"/>
                </a:lnTo>
                <a:lnTo>
                  <a:pt x="17032" y="3856"/>
                </a:lnTo>
                <a:lnTo>
                  <a:pt x="17038" y="3821"/>
                </a:lnTo>
                <a:lnTo>
                  <a:pt x="17041" y="3788"/>
                </a:lnTo>
                <a:lnTo>
                  <a:pt x="17044" y="3753"/>
                </a:lnTo>
                <a:lnTo>
                  <a:pt x="17046" y="3719"/>
                </a:lnTo>
                <a:lnTo>
                  <a:pt x="17046" y="3684"/>
                </a:lnTo>
                <a:lnTo>
                  <a:pt x="17042" y="3593"/>
                </a:lnTo>
                <a:lnTo>
                  <a:pt x="17031" y="3503"/>
                </a:lnTo>
                <a:lnTo>
                  <a:pt x="17012" y="3414"/>
                </a:lnTo>
                <a:lnTo>
                  <a:pt x="16985" y="3326"/>
                </a:lnTo>
                <a:lnTo>
                  <a:pt x="16952" y="3240"/>
                </a:lnTo>
                <a:lnTo>
                  <a:pt x="16911" y="3156"/>
                </a:lnTo>
                <a:lnTo>
                  <a:pt x="16864" y="3073"/>
                </a:lnTo>
                <a:lnTo>
                  <a:pt x="16811" y="2992"/>
                </a:lnTo>
                <a:lnTo>
                  <a:pt x="16750" y="2914"/>
                </a:lnTo>
                <a:lnTo>
                  <a:pt x="16684" y="2837"/>
                </a:lnTo>
                <a:lnTo>
                  <a:pt x="16612" y="2763"/>
                </a:lnTo>
                <a:lnTo>
                  <a:pt x="16533" y="2691"/>
                </a:lnTo>
                <a:lnTo>
                  <a:pt x="16450" y="2621"/>
                </a:lnTo>
                <a:lnTo>
                  <a:pt x="16361" y="2554"/>
                </a:lnTo>
                <a:lnTo>
                  <a:pt x="16266" y="2489"/>
                </a:lnTo>
                <a:lnTo>
                  <a:pt x="16167" y="2427"/>
                </a:lnTo>
                <a:lnTo>
                  <a:pt x="16063" y="2369"/>
                </a:lnTo>
                <a:lnTo>
                  <a:pt x="15953" y="2313"/>
                </a:lnTo>
                <a:lnTo>
                  <a:pt x="15840" y="2261"/>
                </a:lnTo>
                <a:lnTo>
                  <a:pt x="15722" y="2210"/>
                </a:lnTo>
                <a:lnTo>
                  <a:pt x="15600" y="2165"/>
                </a:lnTo>
                <a:lnTo>
                  <a:pt x="15475" y="2121"/>
                </a:lnTo>
                <a:lnTo>
                  <a:pt x="15346" y="2082"/>
                </a:lnTo>
                <a:lnTo>
                  <a:pt x="15212" y="2047"/>
                </a:lnTo>
                <a:lnTo>
                  <a:pt x="15076" y="2015"/>
                </a:lnTo>
                <a:lnTo>
                  <a:pt x="14936" y="1987"/>
                </a:lnTo>
                <a:lnTo>
                  <a:pt x="14794" y="1963"/>
                </a:lnTo>
                <a:lnTo>
                  <a:pt x="14648" y="1943"/>
                </a:lnTo>
                <a:lnTo>
                  <a:pt x="14501" y="1927"/>
                </a:lnTo>
                <a:lnTo>
                  <a:pt x="14350" y="1916"/>
                </a:lnTo>
                <a:lnTo>
                  <a:pt x="14198" y="1909"/>
                </a:lnTo>
                <a:lnTo>
                  <a:pt x="14043" y="1907"/>
                </a:lnTo>
                <a:lnTo>
                  <a:pt x="13965" y="1908"/>
                </a:lnTo>
                <a:lnTo>
                  <a:pt x="13887" y="1909"/>
                </a:lnTo>
                <a:lnTo>
                  <a:pt x="13811" y="1912"/>
                </a:lnTo>
                <a:lnTo>
                  <a:pt x="13734" y="1916"/>
                </a:lnTo>
                <a:lnTo>
                  <a:pt x="13659" y="1921"/>
                </a:lnTo>
                <a:lnTo>
                  <a:pt x="13584" y="1928"/>
                </a:lnTo>
                <a:lnTo>
                  <a:pt x="13508" y="1935"/>
                </a:lnTo>
                <a:lnTo>
                  <a:pt x="13434" y="1943"/>
                </a:lnTo>
                <a:lnTo>
                  <a:pt x="13361" y="1953"/>
                </a:lnTo>
                <a:lnTo>
                  <a:pt x="13289" y="1964"/>
                </a:lnTo>
                <a:lnTo>
                  <a:pt x="13217" y="1975"/>
                </a:lnTo>
                <a:lnTo>
                  <a:pt x="13145" y="1988"/>
                </a:lnTo>
                <a:lnTo>
                  <a:pt x="13074" y="2001"/>
                </a:lnTo>
                <a:lnTo>
                  <a:pt x="13005" y="2016"/>
                </a:lnTo>
                <a:lnTo>
                  <a:pt x="12936" y="2032"/>
                </a:lnTo>
                <a:lnTo>
                  <a:pt x="12868" y="2048"/>
                </a:lnTo>
                <a:lnTo>
                  <a:pt x="12844" y="1941"/>
                </a:lnTo>
                <a:lnTo>
                  <a:pt x="12812" y="1836"/>
                </a:lnTo>
                <a:lnTo>
                  <a:pt x="12772" y="1732"/>
                </a:lnTo>
                <a:lnTo>
                  <a:pt x="12725" y="1629"/>
                </a:lnTo>
                <a:lnTo>
                  <a:pt x="12669" y="1530"/>
                </a:lnTo>
                <a:lnTo>
                  <a:pt x="12606" y="1432"/>
                </a:lnTo>
                <a:lnTo>
                  <a:pt x="12536" y="1336"/>
                </a:lnTo>
                <a:lnTo>
                  <a:pt x="12459" y="1242"/>
                </a:lnTo>
                <a:lnTo>
                  <a:pt x="12374" y="1152"/>
                </a:lnTo>
                <a:lnTo>
                  <a:pt x="12284" y="1063"/>
                </a:lnTo>
                <a:lnTo>
                  <a:pt x="12187" y="977"/>
                </a:lnTo>
                <a:lnTo>
                  <a:pt x="12083" y="894"/>
                </a:lnTo>
                <a:lnTo>
                  <a:pt x="11974" y="814"/>
                </a:lnTo>
                <a:lnTo>
                  <a:pt x="11858" y="738"/>
                </a:lnTo>
                <a:lnTo>
                  <a:pt x="11738" y="663"/>
                </a:lnTo>
                <a:lnTo>
                  <a:pt x="11612" y="593"/>
                </a:lnTo>
                <a:lnTo>
                  <a:pt x="11480" y="525"/>
                </a:lnTo>
                <a:lnTo>
                  <a:pt x="11343" y="461"/>
                </a:lnTo>
                <a:lnTo>
                  <a:pt x="11202" y="401"/>
                </a:lnTo>
                <a:lnTo>
                  <a:pt x="11056" y="345"/>
                </a:lnTo>
                <a:lnTo>
                  <a:pt x="10905" y="292"/>
                </a:lnTo>
                <a:lnTo>
                  <a:pt x="10750" y="243"/>
                </a:lnTo>
                <a:lnTo>
                  <a:pt x="10591" y="199"/>
                </a:lnTo>
                <a:lnTo>
                  <a:pt x="10429" y="159"/>
                </a:lnTo>
                <a:lnTo>
                  <a:pt x="10262" y="122"/>
                </a:lnTo>
                <a:lnTo>
                  <a:pt x="10092" y="90"/>
                </a:lnTo>
                <a:lnTo>
                  <a:pt x="9918" y="63"/>
                </a:lnTo>
                <a:lnTo>
                  <a:pt x="9742" y="41"/>
                </a:lnTo>
                <a:lnTo>
                  <a:pt x="9563" y="23"/>
                </a:lnTo>
                <a:lnTo>
                  <a:pt x="9382" y="10"/>
                </a:lnTo>
                <a:lnTo>
                  <a:pt x="9198" y="2"/>
                </a:lnTo>
                <a:lnTo>
                  <a:pt x="9011" y="0"/>
                </a:lnTo>
                <a:lnTo>
                  <a:pt x="8838" y="2"/>
                </a:lnTo>
                <a:lnTo>
                  <a:pt x="8667" y="9"/>
                </a:lnTo>
                <a:lnTo>
                  <a:pt x="8498" y="19"/>
                </a:lnTo>
                <a:lnTo>
                  <a:pt x="8331" y="35"/>
                </a:lnTo>
                <a:lnTo>
                  <a:pt x="8167" y="55"/>
                </a:lnTo>
                <a:lnTo>
                  <a:pt x="8005" y="78"/>
                </a:lnTo>
                <a:lnTo>
                  <a:pt x="7846" y="105"/>
                </a:lnTo>
                <a:lnTo>
                  <a:pt x="7689" y="137"/>
                </a:lnTo>
                <a:lnTo>
                  <a:pt x="7536" y="171"/>
                </a:lnTo>
                <a:lnTo>
                  <a:pt x="7386" y="210"/>
                </a:lnTo>
                <a:lnTo>
                  <a:pt x="7239" y="252"/>
                </a:lnTo>
                <a:lnTo>
                  <a:pt x="7097" y="298"/>
                </a:lnTo>
                <a:lnTo>
                  <a:pt x="6957" y="348"/>
                </a:lnTo>
                <a:lnTo>
                  <a:pt x="6822" y="401"/>
                </a:lnTo>
                <a:lnTo>
                  <a:pt x="6690" y="456"/>
                </a:lnTo>
                <a:lnTo>
                  <a:pt x="6563" y="515"/>
                </a:lnTo>
                <a:lnTo>
                  <a:pt x="6440" y="577"/>
                </a:lnTo>
                <a:lnTo>
                  <a:pt x="6321" y="642"/>
                </a:lnTo>
                <a:lnTo>
                  <a:pt x="6207" y="709"/>
                </a:lnTo>
                <a:lnTo>
                  <a:pt x="6099" y="780"/>
                </a:lnTo>
                <a:lnTo>
                  <a:pt x="5995" y="852"/>
                </a:lnTo>
                <a:lnTo>
                  <a:pt x="5896" y="928"/>
                </a:lnTo>
                <a:lnTo>
                  <a:pt x="5802" y="1006"/>
                </a:lnTo>
                <a:lnTo>
                  <a:pt x="5714" y="1086"/>
                </a:lnTo>
                <a:lnTo>
                  <a:pt x="5631" y="1169"/>
                </a:lnTo>
                <a:lnTo>
                  <a:pt x="5554" y="1254"/>
                </a:lnTo>
                <a:lnTo>
                  <a:pt x="5482" y="1340"/>
                </a:lnTo>
                <a:lnTo>
                  <a:pt x="5418" y="1429"/>
                </a:lnTo>
                <a:lnTo>
                  <a:pt x="5359" y="1520"/>
                </a:lnTo>
                <a:lnTo>
                  <a:pt x="5306" y="1612"/>
                </a:lnTo>
                <a:lnTo>
                  <a:pt x="5261" y="1707"/>
                </a:lnTo>
                <a:lnTo>
                  <a:pt x="5222" y="1803"/>
                </a:lnTo>
                <a:lnTo>
                  <a:pt x="5156" y="1787"/>
                </a:lnTo>
                <a:lnTo>
                  <a:pt x="5088" y="1773"/>
                </a:lnTo>
                <a:lnTo>
                  <a:pt x="5021" y="1759"/>
                </a:lnTo>
                <a:lnTo>
                  <a:pt x="4952" y="1746"/>
                </a:lnTo>
                <a:lnTo>
                  <a:pt x="4884" y="1734"/>
                </a:lnTo>
                <a:lnTo>
                  <a:pt x="4814" y="1724"/>
                </a:lnTo>
                <a:lnTo>
                  <a:pt x="4744" y="1714"/>
                </a:lnTo>
                <a:lnTo>
                  <a:pt x="4674" y="1705"/>
                </a:lnTo>
                <a:lnTo>
                  <a:pt x="4602" y="1697"/>
                </a:lnTo>
                <a:lnTo>
                  <a:pt x="4530" y="1690"/>
                </a:lnTo>
                <a:lnTo>
                  <a:pt x="4458" y="1684"/>
                </a:lnTo>
                <a:lnTo>
                  <a:pt x="4384" y="1679"/>
                </a:lnTo>
                <a:lnTo>
                  <a:pt x="4311" y="1676"/>
                </a:lnTo>
                <a:lnTo>
                  <a:pt x="4236" y="1673"/>
                </a:lnTo>
                <a:lnTo>
                  <a:pt x="4162" y="1671"/>
                </a:lnTo>
                <a:lnTo>
                  <a:pt x="4087" y="1670"/>
                </a:lnTo>
                <a:lnTo>
                  <a:pt x="3933" y="1673"/>
                </a:lnTo>
                <a:lnTo>
                  <a:pt x="3780" y="1679"/>
                </a:lnTo>
                <a:lnTo>
                  <a:pt x="3629" y="1691"/>
                </a:lnTo>
                <a:lnTo>
                  <a:pt x="3482" y="1707"/>
                </a:lnTo>
                <a:lnTo>
                  <a:pt x="3337" y="1726"/>
                </a:lnTo>
                <a:lnTo>
                  <a:pt x="3194" y="1750"/>
                </a:lnTo>
                <a:lnTo>
                  <a:pt x="3055" y="1779"/>
                </a:lnTo>
                <a:lnTo>
                  <a:pt x="2917" y="1811"/>
                </a:lnTo>
                <a:lnTo>
                  <a:pt x="2785" y="1846"/>
                </a:lnTo>
                <a:lnTo>
                  <a:pt x="2655" y="1885"/>
                </a:lnTo>
                <a:lnTo>
                  <a:pt x="2529" y="1928"/>
                </a:lnTo>
                <a:lnTo>
                  <a:pt x="2408" y="1974"/>
                </a:lnTo>
                <a:lnTo>
                  <a:pt x="2289" y="2024"/>
                </a:lnTo>
                <a:lnTo>
                  <a:pt x="2176" y="2077"/>
                </a:lnTo>
                <a:lnTo>
                  <a:pt x="2068" y="2133"/>
                </a:lnTo>
                <a:lnTo>
                  <a:pt x="1963" y="2191"/>
                </a:lnTo>
                <a:lnTo>
                  <a:pt x="1864" y="2253"/>
                </a:lnTo>
                <a:lnTo>
                  <a:pt x="1770" y="2318"/>
                </a:lnTo>
                <a:lnTo>
                  <a:pt x="1680" y="2385"/>
                </a:lnTo>
                <a:lnTo>
                  <a:pt x="1596" y="2455"/>
                </a:lnTo>
                <a:lnTo>
                  <a:pt x="1519" y="2527"/>
                </a:lnTo>
                <a:lnTo>
                  <a:pt x="1446" y="2601"/>
                </a:lnTo>
                <a:lnTo>
                  <a:pt x="1379" y="2677"/>
                </a:lnTo>
                <a:lnTo>
                  <a:pt x="1320" y="2756"/>
                </a:lnTo>
                <a:lnTo>
                  <a:pt x="1266" y="2837"/>
                </a:lnTo>
                <a:lnTo>
                  <a:pt x="1218" y="2919"/>
                </a:lnTo>
                <a:lnTo>
                  <a:pt x="1178" y="3004"/>
                </a:lnTo>
                <a:lnTo>
                  <a:pt x="1144" y="3089"/>
                </a:lnTo>
                <a:lnTo>
                  <a:pt x="1118" y="3177"/>
                </a:lnTo>
                <a:lnTo>
                  <a:pt x="1100" y="3266"/>
                </a:lnTo>
                <a:lnTo>
                  <a:pt x="1087" y="3357"/>
                </a:lnTo>
                <a:lnTo>
                  <a:pt x="1084" y="3448"/>
                </a:lnTo>
                <a:lnTo>
                  <a:pt x="1085" y="3490"/>
                </a:lnTo>
                <a:lnTo>
                  <a:pt x="1087" y="3532"/>
                </a:lnTo>
                <a:lnTo>
                  <a:pt x="1092" y="3575"/>
                </a:lnTo>
                <a:lnTo>
                  <a:pt x="1097" y="3616"/>
                </a:lnTo>
                <a:lnTo>
                  <a:pt x="1104" y="3657"/>
                </a:lnTo>
                <a:lnTo>
                  <a:pt x="1113" y="3698"/>
                </a:lnTo>
                <a:lnTo>
                  <a:pt x="1124" y="3739"/>
                </a:lnTo>
                <a:lnTo>
                  <a:pt x="1136" y="3779"/>
                </a:lnTo>
                <a:lnTo>
                  <a:pt x="1150" y="3820"/>
                </a:lnTo>
                <a:lnTo>
                  <a:pt x="1165" y="3859"/>
                </a:lnTo>
                <a:lnTo>
                  <a:pt x="1182" y="3899"/>
                </a:lnTo>
                <a:lnTo>
                  <a:pt x="1199" y="3938"/>
                </a:lnTo>
                <a:lnTo>
                  <a:pt x="1220" y="3977"/>
                </a:lnTo>
                <a:lnTo>
                  <a:pt x="1240" y="4015"/>
                </a:lnTo>
                <a:lnTo>
                  <a:pt x="1263" y="4053"/>
                </a:lnTo>
                <a:lnTo>
                  <a:pt x="1286" y="4091"/>
                </a:lnTo>
                <a:lnTo>
                  <a:pt x="1312" y="4127"/>
                </a:lnTo>
                <a:lnTo>
                  <a:pt x="1338" y="4165"/>
                </a:lnTo>
                <a:lnTo>
                  <a:pt x="1366" y="4200"/>
                </a:lnTo>
                <a:lnTo>
                  <a:pt x="1395" y="4237"/>
                </a:lnTo>
                <a:lnTo>
                  <a:pt x="1426" y="4272"/>
                </a:lnTo>
                <a:lnTo>
                  <a:pt x="1458" y="4307"/>
                </a:lnTo>
                <a:lnTo>
                  <a:pt x="1491" y="4342"/>
                </a:lnTo>
                <a:lnTo>
                  <a:pt x="1526" y="4375"/>
                </a:lnTo>
                <a:lnTo>
                  <a:pt x="1561" y="4409"/>
                </a:lnTo>
                <a:lnTo>
                  <a:pt x="1597" y="4442"/>
                </a:lnTo>
                <a:lnTo>
                  <a:pt x="1635" y="4474"/>
                </a:lnTo>
                <a:lnTo>
                  <a:pt x="1675" y="4506"/>
                </a:lnTo>
                <a:lnTo>
                  <a:pt x="1715" y="4537"/>
                </a:lnTo>
                <a:lnTo>
                  <a:pt x="1756" y="4568"/>
                </a:lnTo>
                <a:lnTo>
                  <a:pt x="1800" y="4599"/>
                </a:lnTo>
                <a:lnTo>
                  <a:pt x="1843" y="4628"/>
                </a:lnTo>
                <a:lnTo>
                  <a:pt x="1740" y="4667"/>
                </a:lnTo>
                <a:lnTo>
                  <a:pt x="1640" y="4708"/>
                </a:lnTo>
                <a:lnTo>
                  <a:pt x="1542" y="4751"/>
                </a:lnTo>
                <a:lnTo>
                  <a:pt x="1447" y="4795"/>
                </a:lnTo>
                <a:lnTo>
                  <a:pt x="1353" y="4841"/>
                </a:lnTo>
                <a:lnTo>
                  <a:pt x="1262" y="4889"/>
                </a:lnTo>
                <a:lnTo>
                  <a:pt x="1174" y="4938"/>
                </a:lnTo>
                <a:lnTo>
                  <a:pt x="1088" y="4988"/>
                </a:lnTo>
                <a:lnTo>
                  <a:pt x="1006" y="5041"/>
                </a:lnTo>
                <a:lnTo>
                  <a:pt x="925" y="5094"/>
                </a:lnTo>
                <a:lnTo>
                  <a:pt x="848" y="5150"/>
                </a:lnTo>
                <a:lnTo>
                  <a:pt x="774" y="5207"/>
                </a:lnTo>
                <a:lnTo>
                  <a:pt x="702" y="5266"/>
                </a:lnTo>
                <a:lnTo>
                  <a:pt x="634" y="5325"/>
                </a:lnTo>
                <a:lnTo>
                  <a:pt x="569" y="5385"/>
                </a:lnTo>
                <a:lnTo>
                  <a:pt x="507" y="5447"/>
                </a:lnTo>
                <a:lnTo>
                  <a:pt x="448" y="5511"/>
                </a:lnTo>
                <a:lnTo>
                  <a:pt x="393" y="5576"/>
                </a:lnTo>
                <a:lnTo>
                  <a:pt x="340" y="5641"/>
                </a:lnTo>
                <a:lnTo>
                  <a:pt x="291" y="5709"/>
                </a:lnTo>
                <a:lnTo>
                  <a:pt x="247" y="5776"/>
                </a:lnTo>
                <a:lnTo>
                  <a:pt x="204" y="5846"/>
                </a:lnTo>
                <a:lnTo>
                  <a:pt x="167" y="5915"/>
                </a:lnTo>
                <a:lnTo>
                  <a:pt x="132" y="5986"/>
                </a:lnTo>
                <a:lnTo>
                  <a:pt x="102" y="6058"/>
                </a:lnTo>
                <a:lnTo>
                  <a:pt x="75" y="6130"/>
                </a:lnTo>
                <a:lnTo>
                  <a:pt x="53" y="6204"/>
                </a:lnTo>
                <a:lnTo>
                  <a:pt x="34" y="6278"/>
                </a:lnTo>
                <a:lnTo>
                  <a:pt x="19" y="6354"/>
                </a:lnTo>
                <a:lnTo>
                  <a:pt x="8" y="6429"/>
                </a:lnTo>
                <a:lnTo>
                  <a:pt x="2" y="6505"/>
                </a:lnTo>
                <a:lnTo>
                  <a:pt x="0" y="6583"/>
                </a:lnTo>
                <a:lnTo>
                  <a:pt x="5" y="6700"/>
                </a:lnTo>
                <a:lnTo>
                  <a:pt x="19" y="6815"/>
                </a:lnTo>
                <a:lnTo>
                  <a:pt x="43" y="6928"/>
                </a:lnTo>
                <a:lnTo>
                  <a:pt x="77" y="7040"/>
                </a:lnTo>
                <a:lnTo>
                  <a:pt x="119" y="7149"/>
                </a:lnTo>
                <a:lnTo>
                  <a:pt x="170" y="7257"/>
                </a:lnTo>
                <a:lnTo>
                  <a:pt x="230" y="7363"/>
                </a:lnTo>
                <a:lnTo>
                  <a:pt x="297" y="7466"/>
                </a:lnTo>
                <a:lnTo>
                  <a:pt x="373" y="7566"/>
                </a:lnTo>
                <a:lnTo>
                  <a:pt x="457" y="7664"/>
                </a:lnTo>
                <a:lnTo>
                  <a:pt x="548" y="7759"/>
                </a:lnTo>
                <a:lnTo>
                  <a:pt x="646" y="7852"/>
                </a:lnTo>
                <a:lnTo>
                  <a:pt x="752" y="7942"/>
                </a:lnTo>
                <a:lnTo>
                  <a:pt x="864" y="8027"/>
                </a:lnTo>
                <a:lnTo>
                  <a:pt x="984" y="8111"/>
                </a:lnTo>
                <a:lnTo>
                  <a:pt x="1110" y="8189"/>
                </a:lnTo>
                <a:lnTo>
                  <a:pt x="1241" y="8266"/>
                </a:lnTo>
                <a:lnTo>
                  <a:pt x="1378" y="8338"/>
                </a:lnTo>
                <a:lnTo>
                  <a:pt x="1522" y="8405"/>
                </a:lnTo>
                <a:lnTo>
                  <a:pt x="1671" y="8470"/>
                </a:lnTo>
                <a:lnTo>
                  <a:pt x="1825" y="8530"/>
                </a:lnTo>
                <a:lnTo>
                  <a:pt x="1983" y="8586"/>
                </a:lnTo>
                <a:lnTo>
                  <a:pt x="2148" y="8637"/>
                </a:lnTo>
                <a:lnTo>
                  <a:pt x="2316" y="8684"/>
                </a:lnTo>
                <a:lnTo>
                  <a:pt x="2488" y="8726"/>
                </a:lnTo>
                <a:lnTo>
                  <a:pt x="2665" y="8764"/>
                </a:lnTo>
                <a:lnTo>
                  <a:pt x="2846" y="8796"/>
                </a:lnTo>
                <a:lnTo>
                  <a:pt x="3029" y="8823"/>
                </a:lnTo>
                <a:lnTo>
                  <a:pt x="3217" y="8845"/>
                </a:lnTo>
                <a:lnTo>
                  <a:pt x="3407" y="8861"/>
                </a:lnTo>
                <a:lnTo>
                  <a:pt x="3601" y="8872"/>
                </a:lnTo>
                <a:lnTo>
                  <a:pt x="3797" y="8878"/>
                </a:lnTo>
                <a:lnTo>
                  <a:pt x="3796" y="8893"/>
                </a:lnTo>
                <a:lnTo>
                  <a:pt x="3793" y="8909"/>
                </a:lnTo>
                <a:lnTo>
                  <a:pt x="3792" y="8925"/>
                </a:lnTo>
                <a:lnTo>
                  <a:pt x="3791" y="8940"/>
                </a:lnTo>
                <a:lnTo>
                  <a:pt x="3790" y="8956"/>
                </a:lnTo>
                <a:lnTo>
                  <a:pt x="3790" y="8972"/>
                </a:lnTo>
                <a:lnTo>
                  <a:pt x="3789" y="8988"/>
                </a:lnTo>
                <a:lnTo>
                  <a:pt x="3789" y="9002"/>
                </a:lnTo>
                <a:lnTo>
                  <a:pt x="3793" y="9095"/>
                </a:lnTo>
                <a:lnTo>
                  <a:pt x="3805" y="9185"/>
                </a:lnTo>
                <a:lnTo>
                  <a:pt x="3823" y="9274"/>
                </a:lnTo>
                <a:lnTo>
                  <a:pt x="3850" y="9361"/>
                </a:lnTo>
                <a:lnTo>
                  <a:pt x="3884" y="9448"/>
                </a:lnTo>
                <a:lnTo>
                  <a:pt x="3923" y="9531"/>
                </a:lnTo>
                <a:lnTo>
                  <a:pt x="3971" y="9614"/>
                </a:lnTo>
                <a:lnTo>
                  <a:pt x="4025" y="9694"/>
                </a:lnTo>
                <a:lnTo>
                  <a:pt x="4084" y="9773"/>
                </a:lnTo>
                <a:lnTo>
                  <a:pt x="4152" y="9850"/>
                </a:lnTo>
                <a:lnTo>
                  <a:pt x="4224" y="9925"/>
                </a:lnTo>
                <a:lnTo>
                  <a:pt x="4301" y="9997"/>
                </a:lnTo>
                <a:lnTo>
                  <a:pt x="4386" y="10066"/>
                </a:lnTo>
                <a:lnTo>
                  <a:pt x="4475" y="10134"/>
                </a:lnTo>
                <a:lnTo>
                  <a:pt x="4569" y="10198"/>
                </a:lnTo>
                <a:lnTo>
                  <a:pt x="4668" y="10259"/>
                </a:lnTo>
                <a:lnTo>
                  <a:pt x="4773" y="10319"/>
                </a:lnTo>
                <a:lnTo>
                  <a:pt x="4882" y="10375"/>
                </a:lnTo>
                <a:lnTo>
                  <a:pt x="4996" y="10427"/>
                </a:lnTo>
                <a:lnTo>
                  <a:pt x="5113" y="10476"/>
                </a:lnTo>
                <a:lnTo>
                  <a:pt x="5234" y="10523"/>
                </a:lnTo>
                <a:lnTo>
                  <a:pt x="5360" y="10565"/>
                </a:lnTo>
                <a:lnTo>
                  <a:pt x="5490" y="10605"/>
                </a:lnTo>
                <a:lnTo>
                  <a:pt x="5623" y="10641"/>
                </a:lnTo>
                <a:lnTo>
                  <a:pt x="5760" y="10673"/>
                </a:lnTo>
                <a:lnTo>
                  <a:pt x="5899" y="10700"/>
                </a:lnTo>
                <a:lnTo>
                  <a:pt x="6042" y="10724"/>
                </a:lnTo>
                <a:lnTo>
                  <a:pt x="6187" y="10743"/>
                </a:lnTo>
                <a:lnTo>
                  <a:pt x="6335" y="10759"/>
                </a:lnTo>
                <a:lnTo>
                  <a:pt x="6485" y="10771"/>
                </a:lnTo>
                <a:lnTo>
                  <a:pt x="6638" y="10778"/>
                </a:lnTo>
                <a:lnTo>
                  <a:pt x="6792" y="10780"/>
                </a:lnTo>
                <a:lnTo>
                  <a:pt x="6865" y="10780"/>
                </a:lnTo>
                <a:lnTo>
                  <a:pt x="6937" y="10778"/>
                </a:lnTo>
                <a:lnTo>
                  <a:pt x="7008" y="10775"/>
                </a:lnTo>
                <a:lnTo>
                  <a:pt x="7080" y="10772"/>
                </a:lnTo>
                <a:lnTo>
                  <a:pt x="7150" y="10767"/>
                </a:lnTo>
                <a:lnTo>
                  <a:pt x="7220" y="10762"/>
                </a:lnTo>
                <a:lnTo>
                  <a:pt x="7290" y="10756"/>
                </a:lnTo>
                <a:lnTo>
                  <a:pt x="7359" y="10748"/>
                </a:lnTo>
                <a:lnTo>
                  <a:pt x="7428" y="10740"/>
                </a:lnTo>
                <a:lnTo>
                  <a:pt x="7495" y="10731"/>
                </a:lnTo>
                <a:lnTo>
                  <a:pt x="7563" y="10721"/>
                </a:lnTo>
                <a:lnTo>
                  <a:pt x="7630" y="10710"/>
                </a:lnTo>
                <a:lnTo>
                  <a:pt x="7695" y="10698"/>
                </a:lnTo>
                <a:lnTo>
                  <a:pt x="7761" y="10685"/>
                </a:lnTo>
                <a:lnTo>
                  <a:pt x="7826" y="10672"/>
                </a:lnTo>
                <a:lnTo>
                  <a:pt x="7890" y="10658"/>
                </a:lnTo>
                <a:lnTo>
                  <a:pt x="7953" y="10642"/>
                </a:lnTo>
                <a:lnTo>
                  <a:pt x="8016" y="10626"/>
                </a:lnTo>
                <a:lnTo>
                  <a:pt x="8078" y="10609"/>
                </a:lnTo>
                <a:lnTo>
                  <a:pt x="8139" y="10592"/>
                </a:lnTo>
                <a:lnTo>
                  <a:pt x="8200" y="10573"/>
                </a:lnTo>
                <a:lnTo>
                  <a:pt x="8259" y="10554"/>
                </a:lnTo>
                <a:lnTo>
                  <a:pt x="8319" y="10533"/>
                </a:lnTo>
                <a:lnTo>
                  <a:pt x="8376" y="10513"/>
                </a:lnTo>
                <a:lnTo>
                  <a:pt x="8433" y="10491"/>
                </a:lnTo>
                <a:lnTo>
                  <a:pt x="8489" y="10469"/>
                </a:lnTo>
                <a:lnTo>
                  <a:pt x="8545" y="10447"/>
                </a:lnTo>
                <a:lnTo>
                  <a:pt x="8598" y="10423"/>
                </a:lnTo>
                <a:lnTo>
                  <a:pt x="8652" y="10398"/>
                </a:lnTo>
                <a:lnTo>
                  <a:pt x="8705" y="10372"/>
                </a:lnTo>
                <a:lnTo>
                  <a:pt x="8756" y="10347"/>
                </a:lnTo>
                <a:lnTo>
                  <a:pt x="8806" y="10321"/>
                </a:lnTo>
                <a:lnTo>
                  <a:pt x="8868" y="10347"/>
                </a:lnTo>
                <a:lnTo>
                  <a:pt x="8929" y="10372"/>
                </a:lnTo>
                <a:lnTo>
                  <a:pt x="8992" y="10398"/>
                </a:lnTo>
                <a:lnTo>
                  <a:pt x="9056" y="10423"/>
                </a:lnTo>
                <a:lnTo>
                  <a:pt x="9120" y="10445"/>
                </a:lnTo>
                <a:lnTo>
                  <a:pt x="9186" y="10468"/>
                </a:lnTo>
                <a:lnTo>
                  <a:pt x="9253" y="10491"/>
                </a:lnTo>
                <a:lnTo>
                  <a:pt x="9319" y="10512"/>
                </a:lnTo>
                <a:lnTo>
                  <a:pt x="9387" y="10533"/>
                </a:lnTo>
                <a:lnTo>
                  <a:pt x="9456" y="10553"/>
                </a:lnTo>
                <a:lnTo>
                  <a:pt x="9526" y="10572"/>
                </a:lnTo>
                <a:lnTo>
                  <a:pt x="9595" y="10590"/>
                </a:lnTo>
                <a:lnTo>
                  <a:pt x="9666" y="10608"/>
                </a:lnTo>
                <a:lnTo>
                  <a:pt x="9737" y="10625"/>
                </a:lnTo>
                <a:lnTo>
                  <a:pt x="9810" y="10641"/>
                </a:lnTo>
                <a:lnTo>
                  <a:pt x="9882" y="10656"/>
                </a:lnTo>
                <a:lnTo>
                  <a:pt x="9956" y="10669"/>
                </a:lnTo>
                <a:lnTo>
                  <a:pt x="10030" y="10683"/>
                </a:lnTo>
                <a:lnTo>
                  <a:pt x="10104" y="10696"/>
                </a:lnTo>
                <a:lnTo>
                  <a:pt x="10180" y="10707"/>
                </a:lnTo>
                <a:lnTo>
                  <a:pt x="10255" y="10717"/>
                </a:lnTo>
                <a:lnTo>
                  <a:pt x="10332" y="10727"/>
                </a:lnTo>
                <a:lnTo>
                  <a:pt x="10409" y="10737"/>
                </a:lnTo>
                <a:lnTo>
                  <a:pt x="10487" y="10745"/>
                </a:lnTo>
                <a:lnTo>
                  <a:pt x="10565" y="10751"/>
                </a:lnTo>
                <a:lnTo>
                  <a:pt x="10643" y="10758"/>
                </a:lnTo>
                <a:lnTo>
                  <a:pt x="10722" y="10763"/>
                </a:lnTo>
                <a:lnTo>
                  <a:pt x="10802" y="10767"/>
                </a:lnTo>
                <a:lnTo>
                  <a:pt x="10882" y="10771"/>
                </a:lnTo>
                <a:lnTo>
                  <a:pt x="10962" y="10773"/>
                </a:lnTo>
                <a:lnTo>
                  <a:pt x="11043" y="10775"/>
                </a:lnTo>
                <a:lnTo>
                  <a:pt x="11124" y="10775"/>
                </a:lnTo>
                <a:lnTo>
                  <a:pt x="11303" y="10773"/>
                </a:lnTo>
                <a:lnTo>
                  <a:pt x="11479" y="10766"/>
                </a:lnTo>
                <a:lnTo>
                  <a:pt x="11654" y="10754"/>
                </a:lnTo>
                <a:lnTo>
                  <a:pt x="11826" y="10738"/>
                </a:lnTo>
                <a:lnTo>
                  <a:pt x="11995" y="10717"/>
                </a:lnTo>
                <a:lnTo>
                  <a:pt x="12162" y="10692"/>
                </a:lnTo>
                <a:lnTo>
                  <a:pt x="12325" y="10664"/>
                </a:lnTo>
                <a:lnTo>
                  <a:pt x="12486" y="10630"/>
                </a:lnTo>
                <a:lnTo>
                  <a:pt x="12643" y="10593"/>
                </a:lnTo>
                <a:lnTo>
                  <a:pt x="12797" y="10552"/>
                </a:lnTo>
                <a:lnTo>
                  <a:pt x="12947" y="10507"/>
                </a:lnTo>
                <a:lnTo>
                  <a:pt x="13093" y="10458"/>
                </a:lnTo>
                <a:lnTo>
                  <a:pt x="13235" y="10407"/>
                </a:lnTo>
                <a:lnTo>
                  <a:pt x="13374" y="10351"/>
                </a:lnTo>
                <a:lnTo>
                  <a:pt x="13507" y="10291"/>
                </a:lnTo>
                <a:lnTo>
                  <a:pt x="13636" y="10230"/>
                </a:lnTo>
                <a:lnTo>
                  <a:pt x="13761" y="10163"/>
                </a:lnTo>
                <a:lnTo>
                  <a:pt x="13881" y="10095"/>
                </a:lnTo>
                <a:lnTo>
                  <a:pt x="13995" y="10024"/>
                </a:lnTo>
                <a:lnTo>
                  <a:pt x="14104" y="9950"/>
                </a:lnTo>
                <a:lnTo>
                  <a:pt x="14208" y="9872"/>
                </a:lnTo>
                <a:lnTo>
                  <a:pt x="14307" y="9792"/>
                </a:lnTo>
                <a:lnTo>
                  <a:pt x="14399" y="9710"/>
                </a:lnTo>
                <a:lnTo>
                  <a:pt x="14486" y="9626"/>
                </a:lnTo>
                <a:lnTo>
                  <a:pt x="14567" y="9539"/>
                </a:lnTo>
                <a:lnTo>
                  <a:pt x="14641" y="9450"/>
                </a:lnTo>
                <a:lnTo>
                  <a:pt x="14710" y="9357"/>
                </a:lnTo>
                <a:lnTo>
                  <a:pt x="14771" y="9265"/>
                </a:lnTo>
                <a:lnTo>
                  <a:pt x="14825" y="9169"/>
                </a:lnTo>
                <a:lnTo>
                  <a:pt x="14873" y="9072"/>
                </a:lnTo>
                <a:lnTo>
                  <a:pt x="14914" y="8973"/>
                </a:lnTo>
                <a:lnTo>
                  <a:pt x="14947" y="8872"/>
                </a:lnTo>
                <a:lnTo>
                  <a:pt x="15122" y="8855"/>
                </a:lnTo>
                <a:lnTo>
                  <a:pt x="15294" y="8833"/>
                </a:lnTo>
                <a:lnTo>
                  <a:pt x="15463" y="8807"/>
                </a:lnTo>
                <a:lnTo>
                  <a:pt x="15629" y="8776"/>
                </a:lnTo>
                <a:lnTo>
                  <a:pt x="15792" y="8741"/>
                </a:lnTo>
                <a:lnTo>
                  <a:pt x="15951" y="8702"/>
                </a:lnTo>
                <a:lnTo>
                  <a:pt x="16107" y="8660"/>
                </a:lnTo>
                <a:lnTo>
                  <a:pt x="16259" y="8613"/>
                </a:lnTo>
                <a:lnTo>
                  <a:pt x="16406" y="8562"/>
                </a:lnTo>
                <a:lnTo>
                  <a:pt x="16550" y="8507"/>
                </a:lnTo>
                <a:lnTo>
                  <a:pt x="16690" y="8450"/>
                </a:lnTo>
                <a:lnTo>
                  <a:pt x="16824" y="8388"/>
                </a:lnTo>
                <a:lnTo>
                  <a:pt x="16953" y="8323"/>
                </a:lnTo>
                <a:lnTo>
                  <a:pt x="17079" y="8256"/>
                </a:lnTo>
                <a:lnTo>
                  <a:pt x="17199" y="8184"/>
                </a:lnTo>
                <a:lnTo>
                  <a:pt x="17313" y="8110"/>
                </a:lnTo>
                <a:lnTo>
                  <a:pt x="17422" y="8033"/>
                </a:lnTo>
                <a:lnTo>
                  <a:pt x="17525" y="7953"/>
                </a:lnTo>
                <a:lnTo>
                  <a:pt x="17623" y="7870"/>
                </a:lnTo>
                <a:lnTo>
                  <a:pt x="17714" y="7785"/>
                </a:lnTo>
                <a:lnTo>
                  <a:pt x="17800" y="7697"/>
                </a:lnTo>
                <a:lnTo>
                  <a:pt x="17877" y="7607"/>
                </a:lnTo>
                <a:lnTo>
                  <a:pt x="17950" y="7515"/>
                </a:lnTo>
                <a:lnTo>
                  <a:pt x="18015" y="7420"/>
                </a:lnTo>
                <a:lnTo>
                  <a:pt x="18074" y="7324"/>
                </a:lnTo>
                <a:lnTo>
                  <a:pt x="18124" y="7226"/>
                </a:lnTo>
                <a:lnTo>
                  <a:pt x="18168" y="7125"/>
                </a:lnTo>
                <a:lnTo>
                  <a:pt x="18204" y="7023"/>
                </a:lnTo>
                <a:lnTo>
                  <a:pt x="18232" y="6920"/>
                </a:lnTo>
                <a:lnTo>
                  <a:pt x="18253" y="6815"/>
                </a:lnTo>
                <a:lnTo>
                  <a:pt x="18265" y="6708"/>
                </a:lnTo>
                <a:lnTo>
                  <a:pt x="18270" y="6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3500000"/>
          </a:gradFill>
          <a:ln w="12600">
            <a:solidFill>
              <a:srgbClr val="80808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 Services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 to Business Content Provi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263680" y="3724200"/>
            <a:ext cx="1011240" cy="130968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955960" y="5829480"/>
            <a:ext cx="3348000" cy="61560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489560" y="6238800"/>
            <a:ext cx="358560" cy="412920"/>
          </a:xfrm>
          <a:prstGeom prst="upArrow">
            <a:avLst>
              <a:gd name="adj1" fmla="val 53102"/>
              <a:gd name="adj2" fmla="val 50052"/>
            </a:avLst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259000" y="4991040"/>
            <a:ext cx="1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266920" y="5106960"/>
            <a:ext cx="727200" cy="19044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728080" y="2727360"/>
            <a:ext cx="6577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ffic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889440" y="350424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18120" y="1548360"/>
            <a:ext cx="221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.g. Reuters, ESPN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322360" y="5087880"/>
            <a:ext cx="203400" cy="230400"/>
            <a:chOff x="2322360" y="5087880"/>
            <a:chExt cx="203400" cy="230400"/>
          </a:xfrm>
        </p:grpSpPr>
        <p:sp>
          <p:nvSpPr>
            <p:cNvPr id="889" name=""/>
            <p:cNvSpPr/>
            <p:nvPr/>
          </p:nvSpPr>
          <p:spPr>
            <a:xfrm>
              <a:off x="2322360" y="5087880"/>
              <a:ext cx="203400" cy="11520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322360" y="5145120"/>
              <a:ext cx="101880" cy="17316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424240" y="5145120"/>
              <a:ext cx="101520" cy="17316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357280" y="5126760"/>
              <a:ext cx="133920" cy="7596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57280" y="5164920"/>
              <a:ext cx="66600" cy="1137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424240" y="5164920"/>
              <a:ext cx="66960" cy="1137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390400" y="5164920"/>
              <a:ext cx="66960" cy="3780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90400" y="5183640"/>
              <a:ext cx="33480" cy="5724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24240" y="5183640"/>
              <a:ext cx="33120" cy="5724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2357280" y="2879640"/>
            <a:ext cx="257400" cy="403200"/>
            <a:chOff x="2357280" y="2879640"/>
            <a:chExt cx="257400" cy="403200"/>
          </a:xfrm>
        </p:grpSpPr>
        <p:sp>
          <p:nvSpPr>
            <p:cNvPr id="899" name=""/>
            <p:cNvSpPr/>
            <p:nvPr/>
          </p:nvSpPr>
          <p:spPr>
            <a:xfrm>
              <a:off x="2357280" y="2879640"/>
              <a:ext cx="257400" cy="403200"/>
            </a:xfrm>
            <a:prstGeom prst="rect">
              <a:avLst/>
            </a:prstGeom>
            <a:solidFill>
              <a:srgbClr val="648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387160" y="2930040"/>
              <a:ext cx="184320" cy="3132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387160" y="2984040"/>
              <a:ext cx="184320" cy="3168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387160" y="3038400"/>
              <a:ext cx="184320" cy="3132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387160" y="3093840"/>
              <a:ext cx="184320" cy="3132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04" name=""/>
            <p:cNvGraphicFramePr/>
            <p:nvPr/>
          </p:nvGraphicFramePr>
          <p:xfrm>
            <a:off x="2407680" y="3146400"/>
            <a:ext cx="131400" cy="131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0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407680" y="3146400"/>
                      <a:ext cx="131400" cy="13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06" name=""/>
          <p:cNvGrpSpPr/>
          <p:nvPr/>
        </p:nvGrpSpPr>
        <p:grpSpPr>
          <a:xfrm>
            <a:off x="2332080" y="4484520"/>
            <a:ext cx="241200" cy="385560"/>
            <a:chOff x="2332080" y="4484520"/>
            <a:chExt cx="241200" cy="385560"/>
          </a:xfrm>
        </p:grpSpPr>
        <p:grpSp>
          <p:nvGrpSpPr>
            <p:cNvPr id="907" name=""/>
            <p:cNvGrpSpPr/>
            <p:nvPr/>
          </p:nvGrpSpPr>
          <p:grpSpPr>
            <a:xfrm>
              <a:off x="2332080" y="4484520"/>
              <a:ext cx="241200" cy="377640"/>
              <a:chOff x="2332080" y="4484520"/>
              <a:chExt cx="241200" cy="377640"/>
            </a:xfrm>
          </p:grpSpPr>
          <p:sp>
            <p:nvSpPr>
              <p:cNvPr id="908" name=""/>
              <p:cNvSpPr/>
              <p:nvPr/>
            </p:nvSpPr>
            <p:spPr>
              <a:xfrm>
                <a:off x="2332080" y="4484520"/>
                <a:ext cx="241200" cy="377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360520" y="4531680"/>
                <a:ext cx="172440" cy="29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360520" y="4582440"/>
                <a:ext cx="172440" cy="29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360520" y="4633200"/>
                <a:ext cx="172440" cy="29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360520" y="4685040"/>
                <a:ext cx="172440" cy="29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913" name=""/>
            <p:cNvGraphicFramePr/>
            <p:nvPr/>
          </p:nvGraphicFramePr>
          <p:xfrm>
            <a:off x="2379240" y="4747680"/>
            <a:ext cx="122760" cy="122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1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379240" y="4747680"/>
                      <a:ext cx="122760" cy="12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15" name=""/>
          <p:cNvGrpSpPr/>
          <p:nvPr/>
        </p:nvGrpSpPr>
        <p:grpSpPr>
          <a:xfrm>
            <a:off x="2803680" y="4484520"/>
            <a:ext cx="241200" cy="385560"/>
            <a:chOff x="2803680" y="4484520"/>
            <a:chExt cx="241200" cy="385560"/>
          </a:xfrm>
        </p:grpSpPr>
        <p:grpSp>
          <p:nvGrpSpPr>
            <p:cNvPr id="916" name=""/>
            <p:cNvGrpSpPr/>
            <p:nvPr/>
          </p:nvGrpSpPr>
          <p:grpSpPr>
            <a:xfrm>
              <a:off x="2803680" y="4484520"/>
              <a:ext cx="241200" cy="377640"/>
              <a:chOff x="2803680" y="4484520"/>
              <a:chExt cx="241200" cy="377640"/>
            </a:xfrm>
          </p:grpSpPr>
          <p:sp>
            <p:nvSpPr>
              <p:cNvPr id="917" name=""/>
              <p:cNvSpPr/>
              <p:nvPr/>
            </p:nvSpPr>
            <p:spPr>
              <a:xfrm>
                <a:off x="2803680" y="4484520"/>
                <a:ext cx="241200" cy="377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832120" y="4531680"/>
                <a:ext cx="172440" cy="29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832120" y="4582440"/>
                <a:ext cx="172440" cy="29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832120" y="4633200"/>
                <a:ext cx="172440" cy="29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832120" y="4685040"/>
                <a:ext cx="172440" cy="29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922" name=""/>
            <p:cNvGraphicFramePr/>
            <p:nvPr/>
          </p:nvGraphicFramePr>
          <p:xfrm>
            <a:off x="2850840" y="4747680"/>
            <a:ext cx="122760" cy="122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2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850840" y="4747680"/>
                      <a:ext cx="122760" cy="12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24" name=""/>
          <p:cNvSpPr/>
          <p:nvPr/>
        </p:nvSpPr>
        <p:spPr>
          <a:xfrm>
            <a:off x="2676960" y="3718080"/>
            <a:ext cx="6577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229480" y="4824000"/>
            <a:ext cx="11073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486160" y="4205160"/>
            <a:ext cx="74520" cy="228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e8bc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2332080" y="3925800"/>
            <a:ext cx="241200" cy="378000"/>
            <a:chOff x="2332080" y="3925800"/>
            <a:chExt cx="241200" cy="378000"/>
          </a:xfrm>
        </p:grpSpPr>
        <p:sp>
          <p:nvSpPr>
            <p:cNvPr id="928" name=""/>
            <p:cNvSpPr/>
            <p:nvPr/>
          </p:nvSpPr>
          <p:spPr>
            <a:xfrm>
              <a:off x="2332080" y="3925800"/>
              <a:ext cx="241200" cy="3780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360520" y="3972960"/>
              <a:ext cx="172440" cy="291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0520" y="4023720"/>
              <a:ext cx="172440" cy="291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360520" y="4074480"/>
              <a:ext cx="172440" cy="291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360520" y="4126320"/>
              <a:ext cx="172440" cy="295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2266920" y="3382920"/>
            <a:ext cx="984240" cy="25704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2317680" y="3313080"/>
            <a:ext cx="371520" cy="420840"/>
            <a:chOff x="2317680" y="3313080"/>
            <a:chExt cx="371520" cy="420840"/>
          </a:xfrm>
        </p:grpSpPr>
        <p:sp>
          <p:nvSpPr>
            <p:cNvPr id="935" name=""/>
            <p:cNvSpPr/>
            <p:nvPr/>
          </p:nvSpPr>
          <p:spPr>
            <a:xfrm>
              <a:off x="2317680" y="3313080"/>
              <a:ext cx="371520" cy="21024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317680" y="3417480"/>
              <a:ext cx="186120" cy="31644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503800" y="3417480"/>
              <a:ext cx="185040" cy="31644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381760" y="3384360"/>
              <a:ext cx="244440" cy="13896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381760" y="3453840"/>
              <a:ext cx="122040" cy="20808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503800" y="3453840"/>
              <a:ext cx="122400" cy="20808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42240" y="3453840"/>
              <a:ext cx="122400" cy="6948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42240" y="3488040"/>
              <a:ext cx="61560" cy="1044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503800" y="3488040"/>
              <a:ext cx="60480" cy="1044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1809720" y="3524400"/>
            <a:ext cx="457200" cy="2000160"/>
          </a:xfrm>
          <a:custGeom>
            <a:avLst/>
            <a:gdLst/>
            <a:ahLst/>
            <a:rect l="l" t="t" r="r" b="b"/>
            <a:pathLst>
              <a:path w="288" h="1716">
                <a:moveTo>
                  <a:pt x="288" y="0"/>
                </a:moveTo>
                <a:lnTo>
                  <a:pt x="0" y="0"/>
                </a:lnTo>
                <a:lnTo>
                  <a:pt x="0" y="171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800360" y="5210280"/>
            <a:ext cx="466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176560" y="238500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tributo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216480" y="3724200"/>
            <a:ext cx="1011240" cy="130968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211800" y="4991040"/>
            <a:ext cx="1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458040" y="5106960"/>
            <a:ext cx="726840" cy="19044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RN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680880" y="2727360"/>
            <a:ext cx="6577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ffic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6904080" y="5087880"/>
            <a:ext cx="203040" cy="230400"/>
            <a:chOff x="6904080" y="5087880"/>
            <a:chExt cx="203040" cy="230400"/>
          </a:xfrm>
        </p:grpSpPr>
        <p:sp>
          <p:nvSpPr>
            <p:cNvPr id="952" name=""/>
            <p:cNvSpPr/>
            <p:nvPr/>
          </p:nvSpPr>
          <p:spPr>
            <a:xfrm>
              <a:off x="6904080" y="5087880"/>
              <a:ext cx="203040" cy="11520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904080" y="5145120"/>
              <a:ext cx="101880" cy="17316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005960" y="5145120"/>
              <a:ext cx="101160" cy="17316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939000" y="5126760"/>
              <a:ext cx="133560" cy="7596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939000" y="5164920"/>
              <a:ext cx="66600" cy="1137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005960" y="5164920"/>
              <a:ext cx="66960" cy="1137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972120" y="5164920"/>
              <a:ext cx="66960" cy="3780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972120" y="5183640"/>
              <a:ext cx="33480" cy="5724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005960" y="5183640"/>
              <a:ext cx="33120" cy="5724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6310440" y="2879640"/>
            <a:ext cx="257040" cy="403200"/>
            <a:chOff x="6310440" y="2879640"/>
            <a:chExt cx="257040" cy="403200"/>
          </a:xfrm>
        </p:grpSpPr>
        <p:sp>
          <p:nvSpPr>
            <p:cNvPr id="962" name=""/>
            <p:cNvSpPr/>
            <p:nvPr/>
          </p:nvSpPr>
          <p:spPr>
            <a:xfrm>
              <a:off x="6310440" y="2879640"/>
              <a:ext cx="257040" cy="403200"/>
            </a:xfrm>
            <a:prstGeom prst="rect">
              <a:avLst/>
            </a:prstGeom>
            <a:solidFill>
              <a:srgbClr val="648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340320" y="2930040"/>
              <a:ext cx="183960" cy="3132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340320" y="2984040"/>
              <a:ext cx="183960" cy="3168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340320" y="3038400"/>
              <a:ext cx="183960" cy="3132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340320" y="3093840"/>
              <a:ext cx="183960" cy="3132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67" name=""/>
            <p:cNvGraphicFramePr/>
            <p:nvPr/>
          </p:nvGraphicFramePr>
          <p:xfrm>
            <a:off x="6360480" y="3146400"/>
            <a:ext cx="131040" cy="131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6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360480" y="3146400"/>
                      <a:ext cx="131040" cy="13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69" name=""/>
          <p:cNvGrpSpPr/>
          <p:nvPr/>
        </p:nvGrpSpPr>
        <p:grpSpPr>
          <a:xfrm>
            <a:off x="6284880" y="4484520"/>
            <a:ext cx="241200" cy="385560"/>
            <a:chOff x="6284880" y="4484520"/>
            <a:chExt cx="241200" cy="385560"/>
          </a:xfrm>
        </p:grpSpPr>
        <p:grpSp>
          <p:nvGrpSpPr>
            <p:cNvPr id="970" name=""/>
            <p:cNvGrpSpPr/>
            <p:nvPr/>
          </p:nvGrpSpPr>
          <p:grpSpPr>
            <a:xfrm>
              <a:off x="6284880" y="4484520"/>
              <a:ext cx="241200" cy="377640"/>
              <a:chOff x="6284880" y="4484520"/>
              <a:chExt cx="241200" cy="377640"/>
            </a:xfrm>
          </p:grpSpPr>
          <p:sp>
            <p:nvSpPr>
              <p:cNvPr id="971" name=""/>
              <p:cNvSpPr/>
              <p:nvPr/>
            </p:nvSpPr>
            <p:spPr>
              <a:xfrm>
                <a:off x="6284880" y="4484520"/>
                <a:ext cx="241200" cy="377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313320" y="4531680"/>
                <a:ext cx="172440" cy="29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313320" y="4582440"/>
                <a:ext cx="172440" cy="29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313320" y="4633200"/>
                <a:ext cx="172440" cy="29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313320" y="4685040"/>
                <a:ext cx="172440" cy="29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976" name=""/>
            <p:cNvGraphicFramePr/>
            <p:nvPr/>
          </p:nvGraphicFramePr>
          <p:xfrm>
            <a:off x="6332040" y="4747680"/>
            <a:ext cx="122760" cy="1224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977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332040" y="4747680"/>
                      <a:ext cx="122760" cy="12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78" name=""/>
          <p:cNvGrpSpPr/>
          <p:nvPr/>
        </p:nvGrpSpPr>
        <p:grpSpPr>
          <a:xfrm>
            <a:off x="6756480" y="4484520"/>
            <a:ext cx="241200" cy="385560"/>
            <a:chOff x="6756480" y="4484520"/>
            <a:chExt cx="241200" cy="385560"/>
          </a:xfrm>
        </p:grpSpPr>
        <p:grpSp>
          <p:nvGrpSpPr>
            <p:cNvPr id="979" name=""/>
            <p:cNvGrpSpPr/>
            <p:nvPr/>
          </p:nvGrpSpPr>
          <p:grpSpPr>
            <a:xfrm>
              <a:off x="6756480" y="4484520"/>
              <a:ext cx="241200" cy="377640"/>
              <a:chOff x="6756480" y="4484520"/>
              <a:chExt cx="241200" cy="377640"/>
            </a:xfrm>
          </p:grpSpPr>
          <p:sp>
            <p:nvSpPr>
              <p:cNvPr id="980" name=""/>
              <p:cNvSpPr/>
              <p:nvPr/>
            </p:nvSpPr>
            <p:spPr>
              <a:xfrm>
                <a:off x="6756480" y="4484520"/>
                <a:ext cx="241200" cy="377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784920" y="4531680"/>
                <a:ext cx="172440" cy="29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784920" y="4582440"/>
                <a:ext cx="172440" cy="29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784920" y="4633200"/>
                <a:ext cx="172440" cy="29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784920" y="4685040"/>
                <a:ext cx="172440" cy="29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985" name=""/>
            <p:cNvGraphicFramePr/>
            <p:nvPr/>
          </p:nvGraphicFramePr>
          <p:xfrm>
            <a:off x="6803640" y="4747680"/>
            <a:ext cx="122760" cy="1224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98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803640" y="4747680"/>
                      <a:ext cx="122760" cy="12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7" name=""/>
          <p:cNvSpPr/>
          <p:nvPr/>
        </p:nvSpPr>
        <p:spPr>
          <a:xfrm>
            <a:off x="6630120" y="3718080"/>
            <a:ext cx="6577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182280" y="4824000"/>
            <a:ext cx="110736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438960" y="4205160"/>
            <a:ext cx="74520" cy="228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e8bc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6284880" y="3925800"/>
            <a:ext cx="241200" cy="378000"/>
            <a:chOff x="6284880" y="3925800"/>
            <a:chExt cx="241200" cy="378000"/>
          </a:xfrm>
        </p:grpSpPr>
        <p:sp>
          <p:nvSpPr>
            <p:cNvPr id="991" name=""/>
            <p:cNvSpPr/>
            <p:nvPr/>
          </p:nvSpPr>
          <p:spPr>
            <a:xfrm>
              <a:off x="6284880" y="3925800"/>
              <a:ext cx="241200" cy="3780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313320" y="3972960"/>
              <a:ext cx="172440" cy="291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313320" y="4023720"/>
              <a:ext cx="172440" cy="291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313320" y="4074480"/>
              <a:ext cx="172440" cy="291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313320" y="4126320"/>
              <a:ext cx="172440" cy="295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6219720" y="3382920"/>
            <a:ext cx="984240" cy="25704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RN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6775560" y="3313080"/>
            <a:ext cx="371520" cy="420840"/>
            <a:chOff x="6775560" y="3313080"/>
            <a:chExt cx="371520" cy="420840"/>
          </a:xfrm>
        </p:grpSpPr>
        <p:sp>
          <p:nvSpPr>
            <p:cNvPr id="998" name=""/>
            <p:cNvSpPr/>
            <p:nvPr/>
          </p:nvSpPr>
          <p:spPr>
            <a:xfrm>
              <a:off x="6775560" y="3313080"/>
              <a:ext cx="371520" cy="21024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775560" y="3417480"/>
              <a:ext cx="186120" cy="31644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961680" y="3417480"/>
              <a:ext cx="185040" cy="31644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839640" y="3384360"/>
              <a:ext cx="244440" cy="13896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839640" y="3453840"/>
              <a:ext cx="122040" cy="20808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961680" y="3453840"/>
              <a:ext cx="122400" cy="20808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900120" y="3453840"/>
              <a:ext cx="122400" cy="6948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900120" y="3488040"/>
              <a:ext cx="61560" cy="1044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961680" y="3488040"/>
              <a:ext cx="60480" cy="1044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 flipH="1">
            <a:off x="7201080" y="3524400"/>
            <a:ext cx="457200" cy="2000160"/>
          </a:xfrm>
          <a:custGeom>
            <a:avLst/>
            <a:gdLst/>
            <a:ahLst/>
            <a:rect l="l" t="t" r="r" b="b"/>
            <a:pathLst>
              <a:path w="288" h="1716">
                <a:moveTo>
                  <a:pt x="288" y="0"/>
                </a:moveTo>
                <a:lnTo>
                  <a:pt x="0" y="0"/>
                </a:lnTo>
                <a:lnTo>
                  <a:pt x="0" y="171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191360" y="5210280"/>
            <a:ext cx="4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124680" y="238500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tributor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19440" y="5505480"/>
            <a:ext cx="5838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3191040" y="5524560"/>
            <a:ext cx="0" cy="37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6010200" y="5524560"/>
            <a:ext cx="0" cy="37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038400" y="5883120"/>
            <a:ext cx="727200" cy="19080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3094200" y="5864400"/>
            <a:ext cx="203040" cy="229680"/>
            <a:chOff x="3094200" y="5864400"/>
            <a:chExt cx="203040" cy="229680"/>
          </a:xfrm>
        </p:grpSpPr>
        <p:sp>
          <p:nvSpPr>
            <p:cNvPr id="1015" name=""/>
            <p:cNvSpPr/>
            <p:nvPr/>
          </p:nvSpPr>
          <p:spPr>
            <a:xfrm>
              <a:off x="3094200" y="5864400"/>
              <a:ext cx="203040" cy="11484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094200" y="5921280"/>
              <a:ext cx="101880" cy="1728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196080" y="5921280"/>
              <a:ext cx="101160" cy="1728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129120" y="5903280"/>
              <a:ext cx="133560" cy="7596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129120" y="5941440"/>
              <a:ext cx="66600" cy="1137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196080" y="5941440"/>
              <a:ext cx="66960" cy="1137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162240" y="5941440"/>
              <a:ext cx="66960" cy="3780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162240" y="5960160"/>
              <a:ext cx="33480" cy="5724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196080" y="5960160"/>
              <a:ext cx="33120" cy="5724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4" name=""/>
          <p:cNvSpPr/>
          <p:nvPr/>
        </p:nvSpPr>
        <p:spPr>
          <a:xfrm>
            <a:off x="5467320" y="5884920"/>
            <a:ext cx="727200" cy="19044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RN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5913360" y="5864400"/>
            <a:ext cx="203400" cy="229680"/>
            <a:chOff x="5913360" y="5864400"/>
            <a:chExt cx="203400" cy="229680"/>
          </a:xfrm>
        </p:grpSpPr>
        <p:sp>
          <p:nvSpPr>
            <p:cNvPr id="1026" name=""/>
            <p:cNvSpPr/>
            <p:nvPr/>
          </p:nvSpPr>
          <p:spPr>
            <a:xfrm>
              <a:off x="5913360" y="5864400"/>
              <a:ext cx="203400" cy="11484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913360" y="5921280"/>
              <a:ext cx="101880" cy="1728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015240" y="5921280"/>
              <a:ext cx="101520" cy="1728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948280" y="5903280"/>
              <a:ext cx="133920" cy="7596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948280" y="5941440"/>
              <a:ext cx="66600" cy="1137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015240" y="5941440"/>
              <a:ext cx="66960" cy="1137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981400" y="5941440"/>
              <a:ext cx="66960" cy="3780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981400" y="5960160"/>
              <a:ext cx="33480" cy="5724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015240" y="5960160"/>
              <a:ext cx="33120" cy="5724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3350880" y="6001200"/>
            <a:ext cx="254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inal Content Syndi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603760" y="6238800"/>
            <a:ext cx="358920" cy="412920"/>
          </a:xfrm>
          <a:prstGeom prst="upArrow">
            <a:avLst>
              <a:gd name="adj1" fmla="val 53102"/>
              <a:gd name="adj2" fmla="val 50002"/>
            </a:avLst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375000" y="6238800"/>
            <a:ext cx="358920" cy="412920"/>
          </a:xfrm>
          <a:prstGeom prst="upArrow">
            <a:avLst>
              <a:gd name="adj1" fmla="val 53102"/>
              <a:gd name="adj2" fmla="val 50002"/>
            </a:avLst>
          </a:prstGeom>
          <a:gradFill rotWithShape="0">
            <a:gsLst>
              <a:gs pos="0">
                <a:srgbClr val="0000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209680" y="5505480"/>
            <a:ext cx="5144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610320" y="5505480"/>
            <a:ext cx="5144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-64440" y="317700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1996920" y="1938240"/>
            <a:ext cx="5069160" cy="4643640"/>
          </a:xfrm>
          <a:custGeom>
            <a:avLst/>
            <a:gdLst/>
            <a:ahLst/>
            <a:rect l="l" t="t" r="r" b="b"/>
            <a:pathLst>
              <a:path w="18270" h="10780">
                <a:moveTo>
                  <a:pt x="18270" y="6600"/>
                </a:moveTo>
                <a:lnTo>
                  <a:pt x="18268" y="6525"/>
                </a:lnTo>
                <a:lnTo>
                  <a:pt x="18262" y="6451"/>
                </a:lnTo>
                <a:lnTo>
                  <a:pt x="18252" y="6378"/>
                </a:lnTo>
                <a:lnTo>
                  <a:pt x="18238" y="6305"/>
                </a:lnTo>
                <a:lnTo>
                  <a:pt x="18221" y="6233"/>
                </a:lnTo>
                <a:lnTo>
                  <a:pt x="18199" y="6161"/>
                </a:lnTo>
                <a:lnTo>
                  <a:pt x="18174" y="6091"/>
                </a:lnTo>
                <a:lnTo>
                  <a:pt x="18146" y="6020"/>
                </a:lnTo>
                <a:lnTo>
                  <a:pt x="18112" y="5952"/>
                </a:lnTo>
                <a:lnTo>
                  <a:pt x="18077" y="5883"/>
                </a:lnTo>
                <a:lnTo>
                  <a:pt x="18038" y="5817"/>
                </a:lnTo>
                <a:lnTo>
                  <a:pt x="17995" y="5751"/>
                </a:lnTo>
                <a:lnTo>
                  <a:pt x="17949" y="5685"/>
                </a:lnTo>
                <a:lnTo>
                  <a:pt x="17900" y="5621"/>
                </a:lnTo>
                <a:lnTo>
                  <a:pt x="17848" y="5558"/>
                </a:lnTo>
                <a:lnTo>
                  <a:pt x="17792" y="5496"/>
                </a:lnTo>
                <a:lnTo>
                  <a:pt x="17733" y="5435"/>
                </a:lnTo>
                <a:lnTo>
                  <a:pt x="17672" y="5375"/>
                </a:lnTo>
                <a:lnTo>
                  <a:pt x="17607" y="5317"/>
                </a:lnTo>
                <a:lnTo>
                  <a:pt x="17539" y="5260"/>
                </a:lnTo>
                <a:lnTo>
                  <a:pt x="17470" y="5204"/>
                </a:lnTo>
                <a:lnTo>
                  <a:pt x="17396" y="5149"/>
                </a:lnTo>
                <a:lnTo>
                  <a:pt x="17320" y="5095"/>
                </a:lnTo>
                <a:lnTo>
                  <a:pt x="17242" y="5044"/>
                </a:lnTo>
                <a:lnTo>
                  <a:pt x="17161" y="4994"/>
                </a:lnTo>
                <a:lnTo>
                  <a:pt x="17077" y="4945"/>
                </a:lnTo>
                <a:lnTo>
                  <a:pt x="16991" y="4897"/>
                </a:lnTo>
                <a:lnTo>
                  <a:pt x="16903" y="4851"/>
                </a:lnTo>
                <a:lnTo>
                  <a:pt x="16812" y="4807"/>
                </a:lnTo>
                <a:lnTo>
                  <a:pt x="16719" y="4764"/>
                </a:lnTo>
                <a:lnTo>
                  <a:pt x="16623" y="4723"/>
                </a:lnTo>
                <a:lnTo>
                  <a:pt x="16526" y="4683"/>
                </a:lnTo>
                <a:lnTo>
                  <a:pt x="16557" y="4657"/>
                </a:lnTo>
                <a:lnTo>
                  <a:pt x="16586" y="4630"/>
                </a:lnTo>
                <a:lnTo>
                  <a:pt x="16615" y="4602"/>
                </a:lnTo>
                <a:lnTo>
                  <a:pt x="16643" y="4574"/>
                </a:lnTo>
                <a:lnTo>
                  <a:pt x="16670" y="4546"/>
                </a:lnTo>
                <a:lnTo>
                  <a:pt x="16696" y="4518"/>
                </a:lnTo>
                <a:lnTo>
                  <a:pt x="16722" y="4489"/>
                </a:lnTo>
                <a:lnTo>
                  <a:pt x="16746" y="4460"/>
                </a:lnTo>
                <a:lnTo>
                  <a:pt x="16770" y="4430"/>
                </a:lnTo>
                <a:lnTo>
                  <a:pt x="16792" y="4400"/>
                </a:lnTo>
                <a:lnTo>
                  <a:pt x="16814" y="4370"/>
                </a:lnTo>
                <a:lnTo>
                  <a:pt x="16835" y="4340"/>
                </a:lnTo>
                <a:lnTo>
                  <a:pt x="16855" y="4310"/>
                </a:lnTo>
                <a:lnTo>
                  <a:pt x="16873" y="4279"/>
                </a:lnTo>
                <a:lnTo>
                  <a:pt x="16892" y="4247"/>
                </a:lnTo>
                <a:lnTo>
                  <a:pt x="16909" y="4216"/>
                </a:lnTo>
                <a:lnTo>
                  <a:pt x="16926" y="4184"/>
                </a:lnTo>
                <a:lnTo>
                  <a:pt x="16941" y="4152"/>
                </a:lnTo>
                <a:lnTo>
                  <a:pt x="16955" y="4120"/>
                </a:lnTo>
                <a:lnTo>
                  <a:pt x="16968" y="4088"/>
                </a:lnTo>
                <a:lnTo>
                  <a:pt x="16981" y="4055"/>
                </a:lnTo>
                <a:lnTo>
                  <a:pt x="16992" y="4023"/>
                </a:lnTo>
                <a:lnTo>
                  <a:pt x="17003" y="3990"/>
                </a:lnTo>
                <a:lnTo>
                  <a:pt x="17012" y="3957"/>
                </a:lnTo>
                <a:lnTo>
                  <a:pt x="17020" y="3923"/>
                </a:lnTo>
                <a:lnTo>
                  <a:pt x="17026" y="3890"/>
                </a:lnTo>
                <a:lnTo>
                  <a:pt x="17032" y="3856"/>
                </a:lnTo>
                <a:lnTo>
                  <a:pt x="17038" y="3821"/>
                </a:lnTo>
                <a:lnTo>
                  <a:pt x="17041" y="3788"/>
                </a:lnTo>
                <a:lnTo>
                  <a:pt x="17044" y="3753"/>
                </a:lnTo>
                <a:lnTo>
                  <a:pt x="17046" y="3719"/>
                </a:lnTo>
                <a:lnTo>
                  <a:pt x="17046" y="3684"/>
                </a:lnTo>
                <a:lnTo>
                  <a:pt x="17042" y="3593"/>
                </a:lnTo>
                <a:lnTo>
                  <a:pt x="17031" y="3503"/>
                </a:lnTo>
                <a:lnTo>
                  <a:pt x="17012" y="3414"/>
                </a:lnTo>
                <a:lnTo>
                  <a:pt x="16985" y="3326"/>
                </a:lnTo>
                <a:lnTo>
                  <a:pt x="16952" y="3240"/>
                </a:lnTo>
                <a:lnTo>
                  <a:pt x="16911" y="3156"/>
                </a:lnTo>
                <a:lnTo>
                  <a:pt x="16864" y="3073"/>
                </a:lnTo>
                <a:lnTo>
                  <a:pt x="16811" y="2992"/>
                </a:lnTo>
                <a:lnTo>
                  <a:pt x="16750" y="2914"/>
                </a:lnTo>
                <a:lnTo>
                  <a:pt x="16684" y="2837"/>
                </a:lnTo>
                <a:lnTo>
                  <a:pt x="16612" y="2763"/>
                </a:lnTo>
                <a:lnTo>
                  <a:pt x="16533" y="2691"/>
                </a:lnTo>
                <a:lnTo>
                  <a:pt x="16450" y="2621"/>
                </a:lnTo>
                <a:lnTo>
                  <a:pt x="16361" y="2554"/>
                </a:lnTo>
                <a:lnTo>
                  <a:pt x="16266" y="2489"/>
                </a:lnTo>
                <a:lnTo>
                  <a:pt x="16167" y="2427"/>
                </a:lnTo>
                <a:lnTo>
                  <a:pt x="16063" y="2369"/>
                </a:lnTo>
                <a:lnTo>
                  <a:pt x="15953" y="2313"/>
                </a:lnTo>
                <a:lnTo>
                  <a:pt x="15840" y="2261"/>
                </a:lnTo>
                <a:lnTo>
                  <a:pt x="15722" y="2210"/>
                </a:lnTo>
                <a:lnTo>
                  <a:pt x="15600" y="2165"/>
                </a:lnTo>
                <a:lnTo>
                  <a:pt x="15475" y="2121"/>
                </a:lnTo>
                <a:lnTo>
                  <a:pt x="15346" y="2082"/>
                </a:lnTo>
                <a:lnTo>
                  <a:pt x="15212" y="2047"/>
                </a:lnTo>
                <a:lnTo>
                  <a:pt x="15076" y="2015"/>
                </a:lnTo>
                <a:lnTo>
                  <a:pt x="14936" y="1987"/>
                </a:lnTo>
                <a:lnTo>
                  <a:pt x="14794" y="1963"/>
                </a:lnTo>
                <a:lnTo>
                  <a:pt x="14648" y="1943"/>
                </a:lnTo>
                <a:lnTo>
                  <a:pt x="14501" y="1927"/>
                </a:lnTo>
                <a:lnTo>
                  <a:pt x="14350" y="1916"/>
                </a:lnTo>
                <a:lnTo>
                  <a:pt x="14198" y="1909"/>
                </a:lnTo>
                <a:lnTo>
                  <a:pt x="14043" y="1907"/>
                </a:lnTo>
                <a:lnTo>
                  <a:pt x="13965" y="1908"/>
                </a:lnTo>
                <a:lnTo>
                  <a:pt x="13887" y="1909"/>
                </a:lnTo>
                <a:lnTo>
                  <a:pt x="13811" y="1912"/>
                </a:lnTo>
                <a:lnTo>
                  <a:pt x="13734" y="1916"/>
                </a:lnTo>
                <a:lnTo>
                  <a:pt x="13659" y="1921"/>
                </a:lnTo>
                <a:lnTo>
                  <a:pt x="13584" y="1928"/>
                </a:lnTo>
                <a:lnTo>
                  <a:pt x="13508" y="1935"/>
                </a:lnTo>
                <a:lnTo>
                  <a:pt x="13434" y="1943"/>
                </a:lnTo>
                <a:lnTo>
                  <a:pt x="13361" y="1953"/>
                </a:lnTo>
                <a:lnTo>
                  <a:pt x="13289" y="1964"/>
                </a:lnTo>
                <a:lnTo>
                  <a:pt x="13217" y="1975"/>
                </a:lnTo>
                <a:lnTo>
                  <a:pt x="13145" y="1988"/>
                </a:lnTo>
                <a:lnTo>
                  <a:pt x="13074" y="2001"/>
                </a:lnTo>
                <a:lnTo>
                  <a:pt x="13005" y="2016"/>
                </a:lnTo>
                <a:lnTo>
                  <a:pt x="12936" y="2032"/>
                </a:lnTo>
                <a:lnTo>
                  <a:pt x="12868" y="2048"/>
                </a:lnTo>
                <a:lnTo>
                  <a:pt x="12844" y="1941"/>
                </a:lnTo>
                <a:lnTo>
                  <a:pt x="12812" y="1836"/>
                </a:lnTo>
                <a:lnTo>
                  <a:pt x="12772" y="1732"/>
                </a:lnTo>
                <a:lnTo>
                  <a:pt x="12725" y="1629"/>
                </a:lnTo>
                <a:lnTo>
                  <a:pt x="12669" y="1530"/>
                </a:lnTo>
                <a:lnTo>
                  <a:pt x="12606" y="1432"/>
                </a:lnTo>
                <a:lnTo>
                  <a:pt x="12536" y="1336"/>
                </a:lnTo>
                <a:lnTo>
                  <a:pt x="12459" y="1242"/>
                </a:lnTo>
                <a:lnTo>
                  <a:pt x="12374" y="1152"/>
                </a:lnTo>
                <a:lnTo>
                  <a:pt x="12284" y="1063"/>
                </a:lnTo>
                <a:lnTo>
                  <a:pt x="12187" y="977"/>
                </a:lnTo>
                <a:lnTo>
                  <a:pt x="12083" y="894"/>
                </a:lnTo>
                <a:lnTo>
                  <a:pt x="11974" y="814"/>
                </a:lnTo>
                <a:lnTo>
                  <a:pt x="11858" y="738"/>
                </a:lnTo>
                <a:lnTo>
                  <a:pt x="11738" y="663"/>
                </a:lnTo>
                <a:lnTo>
                  <a:pt x="11612" y="593"/>
                </a:lnTo>
                <a:lnTo>
                  <a:pt x="11480" y="525"/>
                </a:lnTo>
                <a:lnTo>
                  <a:pt x="11343" y="461"/>
                </a:lnTo>
                <a:lnTo>
                  <a:pt x="11202" y="401"/>
                </a:lnTo>
                <a:lnTo>
                  <a:pt x="11056" y="345"/>
                </a:lnTo>
                <a:lnTo>
                  <a:pt x="10905" y="292"/>
                </a:lnTo>
                <a:lnTo>
                  <a:pt x="10750" y="243"/>
                </a:lnTo>
                <a:lnTo>
                  <a:pt x="10591" y="199"/>
                </a:lnTo>
                <a:lnTo>
                  <a:pt x="10429" y="159"/>
                </a:lnTo>
                <a:lnTo>
                  <a:pt x="10262" y="122"/>
                </a:lnTo>
                <a:lnTo>
                  <a:pt x="10092" y="90"/>
                </a:lnTo>
                <a:lnTo>
                  <a:pt x="9918" y="63"/>
                </a:lnTo>
                <a:lnTo>
                  <a:pt x="9742" y="41"/>
                </a:lnTo>
                <a:lnTo>
                  <a:pt x="9563" y="23"/>
                </a:lnTo>
                <a:lnTo>
                  <a:pt x="9382" y="10"/>
                </a:lnTo>
                <a:lnTo>
                  <a:pt x="9198" y="2"/>
                </a:lnTo>
                <a:lnTo>
                  <a:pt x="9011" y="0"/>
                </a:lnTo>
                <a:lnTo>
                  <a:pt x="8838" y="2"/>
                </a:lnTo>
                <a:lnTo>
                  <a:pt x="8667" y="9"/>
                </a:lnTo>
                <a:lnTo>
                  <a:pt x="8498" y="19"/>
                </a:lnTo>
                <a:lnTo>
                  <a:pt x="8331" y="35"/>
                </a:lnTo>
                <a:lnTo>
                  <a:pt x="8167" y="55"/>
                </a:lnTo>
                <a:lnTo>
                  <a:pt x="8005" y="78"/>
                </a:lnTo>
                <a:lnTo>
                  <a:pt x="7846" y="105"/>
                </a:lnTo>
                <a:lnTo>
                  <a:pt x="7689" y="137"/>
                </a:lnTo>
                <a:lnTo>
                  <a:pt x="7536" y="171"/>
                </a:lnTo>
                <a:lnTo>
                  <a:pt x="7386" y="210"/>
                </a:lnTo>
                <a:lnTo>
                  <a:pt x="7239" y="252"/>
                </a:lnTo>
                <a:lnTo>
                  <a:pt x="7097" y="298"/>
                </a:lnTo>
                <a:lnTo>
                  <a:pt x="6957" y="348"/>
                </a:lnTo>
                <a:lnTo>
                  <a:pt x="6822" y="401"/>
                </a:lnTo>
                <a:lnTo>
                  <a:pt x="6690" y="456"/>
                </a:lnTo>
                <a:lnTo>
                  <a:pt x="6563" y="515"/>
                </a:lnTo>
                <a:lnTo>
                  <a:pt x="6440" y="577"/>
                </a:lnTo>
                <a:lnTo>
                  <a:pt x="6321" y="642"/>
                </a:lnTo>
                <a:lnTo>
                  <a:pt x="6207" y="709"/>
                </a:lnTo>
                <a:lnTo>
                  <a:pt x="6099" y="780"/>
                </a:lnTo>
                <a:lnTo>
                  <a:pt x="5995" y="852"/>
                </a:lnTo>
                <a:lnTo>
                  <a:pt x="5896" y="928"/>
                </a:lnTo>
                <a:lnTo>
                  <a:pt x="5802" y="1006"/>
                </a:lnTo>
                <a:lnTo>
                  <a:pt x="5714" y="1086"/>
                </a:lnTo>
                <a:lnTo>
                  <a:pt x="5631" y="1169"/>
                </a:lnTo>
                <a:lnTo>
                  <a:pt x="5554" y="1254"/>
                </a:lnTo>
                <a:lnTo>
                  <a:pt x="5482" y="1340"/>
                </a:lnTo>
                <a:lnTo>
                  <a:pt x="5418" y="1429"/>
                </a:lnTo>
                <a:lnTo>
                  <a:pt x="5359" y="1520"/>
                </a:lnTo>
                <a:lnTo>
                  <a:pt x="5306" y="1612"/>
                </a:lnTo>
                <a:lnTo>
                  <a:pt x="5261" y="1707"/>
                </a:lnTo>
                <a:lnTo>
                  <a:pt x="5222" y="1803"/>
                </a:lnTo>
                <a:lnTo>
                  <a:pt x="5156" y="1787"/>
                </a:lnTo>
                <a:lnTo>
                  <a:pt x="5088" y="1773"/>
                </a:lnTo>
                <a:lnTo>
                  <a:pt x="5021" y="1759"/>
                </a:lnTo>
                <a:lnTo>
                  <a:pt x="4952" y="1746"/>
                </a:lnTo>
                <a:lnTo>
                  <a:pt x="4884" y="1734"/>
                </a:lnTo>
                <a:lnTo>
                  <a:pt x="4814" y="1724"/>
                </a:lnTo>
                <a:lnTo>
                  <a:pt x="4744" y="1714"/>
                </a:lnTo>
                <a:lnTo>
                  <a:pt x="4674" y="1705"/>
                </a:lnTo>
                <a:lnTo>
                  <a:pt x="4602" y="1697"/>
                </a:lnTo>
                <a:lnTo>
                  <a:pt x="4530" y="1690"/>
                </a:lnTo>
                <a:lnTo>
                  <a:pt x="4458" y="1684"/>
                </a:lnTo>
                <a:lnTo>
                  <a:pt x="4384" y="1679"/>
                </a:lnTo>
                <a:lnTo>
                  <a:pt x="4311" y="1676"/>
                </a:lnTo>
                <a:lnTo>
                  <a:pt x="4236" y="1673"/>
                </a:lnTo>
                <a:lnTo>
                  <a:pt x="4162" y="1671"/>
                </a:lnTo>
                <a:lnTo>
                  <a:pt x="4087" y="1670"/>
                </a:lnTo>
                <a:lnTo>
                  <a:pt x="3933" y="1673"/>
                </a:lnTo>
                <a:lnTo>
                  <a:pt x="3780" y="1679"/>
                </a:lnTo>
                <a:lnTo>
                  <a:pt x="3629" y="1691"/>
                </a:lnTo>
                <a:lnTo>
                  <a:pt x="3482" y="1707"/>
                </a:lnTo>
                <a:lnTo>
                  <a:pt x="3337" y="1726"/>
                </a:lnTo>
                <a:lnTo>
                  <a:pt x="3194" y="1750"/>
                </a:lnTo>
                <a:lnTo>
                  <a:pt x="3055" y="1779"/>
                </a:lnTo>
                <a:lnTo>
                  <a:pt x="2917" y="1811"/>
                </a:lnTo>
                <a:lnTo>
                  <a:pt x="2785" y="1846"/>
                </a:lnTo>
                <a:lnTo>
                  <a:pt x="2655" y="1885"/>
                </a:lnTo>
                <a:lnTo>
                  <a:pt x="2529" y="1928"/>
                </a:lnTo>
                <a:lnTo>
                  <a:pt x="2408" y="1974"/>
                </a:lnTo>
                <a:lnTo>
                  <a:pt x="2289" y="2024"/>
                </a:lnTo>
                <a:lnTo>
                  <a:pt x="2176" y="2077"/>
                </a:lnTo>
                <a:lnTo>
                  <a:pt x="2068" y="2133"/>
                </a:lnTo>
                <a:lnTo>
                  <a:pt x="1963" y="2191"/>
                </a:lnTo>
                <a:lnTo>
                  <a:pt x="1864" y="2253"/>
                </a:lnTo>
                <a:lnTo>
                  <a:pt x="1770" y="2318"/>
                </a:lnTo>
                <a:lnTo>
                  <a:pt x="1680" y="2385"/>
                </a:lnTo>
                <a:lnTo>
                  <a:pt x="1596" y="2455"/>
                </a:lnTo>
                <a:lnTo>
                  <a:pt x="1519" y="2527"/>
                </a:lnTo>
                <a:lnTo>
                  <a:pt x="1446" y="2601"/>
                </a:lnTo>
                <a:lnTo>
                  <a:pt x="1379" y="2677"/>
                </a:lnTo>
                <a:lnTo>
                  <a:pt x="1320" y="2756"/>
                </a:lnTo>
                <a:lnTo>
                  <a:pt x="1266" y="2837"/>
                </a:lnTo>
                <a:lnTo>
                  <a:pt x="1218" y="2919"/>
                </a:lnTo>
                <a:lnTo>
                  <a:pt x="1178" y="3004"/>
                </a:lnTo>
                <a:lnTo>
                  <a:pt x="1144" y="3089"/>
                </a:lnTo>
                <a:lnTo>
                  <a:pt x="1118" y="3177"/>
                </a:lnTo>
                <a:lnTo>
                  <a:pt x="1100" y="3266"/>
                </a:lnTo>
                <a:lnTo>
                  <a:pt x="1087" y="3357"/>
                </a:lnTo>
                <a:lnTo>
                  <a:pt x="1084" y="3448"/>
                </a:lnTo>
                <a:lnTo>
                  <a:pt x="1085" y="3490"/>
                </a:lnTo>
                <a:lnTo>
                  <a:pt x="1087" y="3532"/>
                </a:lnTo>
                <a:lnTo>
                  <a:pt x="1092" y="3575"/>
                </a:lnTo>
                <a:lnTo>
                  <a:pt x="1097" y="3616"/>
                </a:lnTo>
                <a:lnTo>
                  <a:pt x="1104" y="3657"/>
                </a:lnTo>
                <a:lnTo>
                  <a:pt x="1113" y="3698"/>
                </a:lnTo>
                <a:lnTo>
                  <a:pt x="1124" y="3739"/>
                </a:lnTo>
                <a:lnTo>
                  <a:pt x="1136" y="3779"/>
                </a:lnTo>
                <a:lnTo>
                  <a:pt x="1150" y="3820"/>
                </a:lnTo>
                <a:lnTo>
                  <a:pt x="1165" y="3859"/>
                </a:lnTo>
                <a:lnTo>
                  <a:pt x="1182" y="3899"/>
                </a:lnTo>
                <a:lnTo>
                  <a:pt x="1199" y="3938"/>
                </a:lnTo>
                <a:lnTo>
                  <a:pt x="1220" y="3977"/>
                </a:lnTo>
                <a:lnTo>
                  <a:pt x="1240" y="4015"/>
                </a:lnTo>
                <a:lnTo>
                  <a:pt x="1263" y="4053"/>
                </a:lnTo>
                <a:lnTo>
                  <a:pt x="1286" y="4091"/>
                </a:lnTo>
                <a:lnTo>
                  <a:pt x="1312" y="4127"/>
                </a:lnTo>
                <a:lnTo>
                  <a:pt x="1338" y="4165"/>
                </a:lnTo>
                <a:lnTo>
                  <a:pt x="1366" y="4200"/>
                </a:lnTo>
                <a:lnTo>
                  <a:pt x="1395" y="4237"/>
                </a:lnTo>
                <a:lnTo>
                  <a:pt x="1426" y="4272"/>
                </a:lnTo>
                <a:lnTo>
                  <a:pt x="1458" y="4307"/>
                </a:lnTo>
                <a:lnTo>
                  <a:pt x="1491" y="4342"/>
                </a:lnTo>
                <a:lnTo>
                  <a:pt x="1526" y="4375"/>
                </a:lnTo>
                <a:lnTo>
                  <a:pt x="1561" y="4409"/>
                </a:lnTo>
                <a:lnTo>
                  <a:pt x="1597" y="4442"/>
                </a:lnTo>
                <a:lnTo>
                  <a:pt x="1635" y="4474"/>
                </a:lnTo>
                <a:lnTo>
                  <a:pt x="1675" y="4506"/>
                </a:lnTo>
                <a:lnTo>
                  <a:pt x="1715" y="4537"/>
                </a:lnTo>
                <a:lnTo>
                  <a:pt x="1756" y="4568"/>
                </a:lnTo>
                <a:lnTo>
                  <a:pt x="1800" y="4599"/>
                </a:lnTo>
                <a:lnTo>
                  <a:pt x="1843" y="4628"/>
                </a:lnTo>
                <a:lnTo>
                  <a:pt x="1740" y="4667"/>
                </a:lnTo>
                <a:lnTo>
                  <a:pt x="1640" y="4708"/>
                </a:lnTo>
                <a:lnTo>
                  <a:pt x="1542" y="4751"/>
                </a:lnTo>
                <a:lnTo>
                  <a:pt x="1447" y="4795"/>
                </a:lnTo>
                <a:lnTo>
                  <a:pt x="1353" y="4841"/>
                </a:lnTo>
                <a:lnTo>
                  <a:pt x="1262" y="4889"/>
                </a:lnTo>
                <a:lnTo>
                  <a:pt x="1174" y="4938"/>
                </a:lnTo>
                <a:lnTo>
                  <a:pt x="1088" y="4988"/>
                </a:lnTo>
                <a:lnTo>
                  <a:pt x="1006" y="5041"/>
                </a:lnTo>
                <a:lnTo>
                  <a:pt x="925" y="5094"/>
                </a:lnTo>
                <a:lnTo>
                  <a:pt x="848" y="5150"/>
                </a:lnTo>
                <a:lnTo>
                  <a:pt x="774" y="5207"/>
                </a:lnTo>
                <a:lnTo>
                  <a:pt x="702" y="5266"/>
                </a:lnTo>
                <a:lnTo>
                  <a:pt x="634" y="5325"/>
                </a:lnTo>
                <a:lnTo>
                  <a:pt x="569" y="5385"/>
                </a:lnTo>
                <a:lnTo>
                  <a:pt x="507" y="5447"/>
                </a:lnTo>
                <a:lnTo>
                  <a:pt x="448" y="5511"/>
                </a:lnTo>
                <a:lnTo>
                  <a:pt x="393" y="5576"/>
                </a:lnTo>
                <a:lnTo>
                  <a:pt x="340" y="5641"/>
                </a:lnTo>
                <a:lnTo>
                  <a:pt x="291" y="5709"/>
                </a:lnTo>
                <a:lnTo>
                  <a:pt x="247" y="5776"/>
                </a:lnTo>
                <a:lnTo>
                  <a:pt x="204" y="5846"/>
                </a:lnTo>
                <a:lnTo>
                  <a:pt x="167" y="5915"/>
                </a:lnTo>
                <a:lnTo>
                  <a:pt x="132" y="5986"/>
                </a:lnTo>
                <a:lnTo>
                  <a:pt x="102" y="6058"/>
                </a:lnTo>
                <a:lnTo>
                  <a:pt x="75" y="6130"/>
                </a:lnTo>
                <a:lnTo>
                  <a:pt x="53" y="6204"/>
                </a:lnTo>
                <a:lnTo>
                  <a:pt x="34" y="6278"/>
                </a:lnTo>
                <a:lnTo>
                  <a:pt x="19" y="6354"/>
                </a:lnTo>
                <a:lnTo>
                  <a:pt x="8" y="6429"/>
                </a:lnTo>
                <a:lnTo>
                  <a:pt x="2" y="6505"/>
                </a:lnTo>
                <a:lnTo>
                  <a:pt x="0" y="6583"/>
                </a:lnTo>
                <a:lnTo>
                  <a:pt x="5" y="6700"/>
                </a:lnTo>
                <a:lnTo>
                  <a:pt x="19" y="6815"/>
                </a:lnTo>
                <a:lnTo>
                  <a:pt x="43" y="6928"/>
                </a:lnTo>
                <a:lnTo>
                  <a:pt x="77" y="7040"/>
                </a:lnTo>
                <a:lnTo>
                  <a:pt x="119" y="7149"/>
                </a:lnTo>
                <a:lnTo>
                  <a:pt x="170" y="7257"/>
                </a:lnTo>
                <a:lnTo>
                  <a:pt x="230" y="7363"/>
                </a:lnTo>
                <a:lnTo>
                  <a:pt x="297" y="7466"/>
                </a:lnTo>
                <a:lnTo>
                  <a:pt x="373" y="7566"/>
                </a:lnTo>
                <a:lnTo>
                  <a:pt x="457" y="7664"/>
                </a:lnTo>
                <a:lnTo>
                  <a:pt x="548" y="7759"/>
                </a:lnTo>
                <a:lnTo>
                  <a:pt x="646" y="7852"/>
                </a:lnTo>
                <a:lnTo>
                  <a:pt x="752" y="7942"/>
                </a:lnTo>
                <a:lnTo>
                  <a:pt x="864" y="8027"/>
                </a:lnTo>
                <a:lnTo>
                  <a:pt x="984" y="8111"/>
                </a:lnTo>
                <a:lnTo>
                  <a:pt x="1110" y="8189"/>
                </a:lnTo>
                <a:lnTo>
                  <a:pt x="1241" y="8266"/>
                </a:lnTo>
                <a:lnTo>
                  <a:pt x="1378" y="8338"/>
                </a:lnTo>
                <a:lnTo>
                  <a:pt x="1522" y="8405"/>
                </a:lnTo>
                <a:lnTo>
                  <a:pt x="1671" y="8470"/>
                </a:lnTo>
                <a:lnTo>
                  <a:pt x="1825" y="8530"/>
                </a:lnTo>
                <a:lnTo>
                  <a:pt x="1983" y="8586"/>
                </a:lnTo>
                <a:lnTo>
                  <a:pt x="2148" y="8637"/>
                </a:lnTo>
                <a:lnTo>
                  <a:pt x="2316" y="8684"/>
                </a:lnTo>
                <a:lnTo>
                  <a:pt x="2488" y="8726"/>
                </a:lnTo>
                <a:lnTo>
                  <a:pt x="2665" y="8764"/>
                </a:lnTo>
                <a:lnTo>
                  <a:pt x="2846" y="8796"/>
                </a:lnTo>
                <a:lnTo>
                  <a:pt x="3029" y="8823"/>
                </a:lnTo>
                <a:lnTo>
                  <a:pt x="3217" y="8845"/>
                </a:lnTo>
                <a:lnTo>
                  <a:pt x="3407" y="8861"/>
                </a:lnTo>
                <a:lnTo>
                  <a:pt x="3601" y="8872"/>
                </a:lnTo>
                <a:lnTo>
                  <a:pt x="3797" y="8878"/>
                </a:lnTo>
                <a:lnTo>
                  <a:pt x="3796" y="8893"/>
                </a:lnTo>
                <a:lnTo>
                  <a:pt x="3793" y="8909"/>
                </a:lnTo>
                <a:lnTo>
                  <a:pt x="3792" y="8925"/>
                </a:lnTo>
                <a:lnTo>
                  <a:pt x="3791" y="8940"/>
                </a:lnTo>
                <a:lnTo>
                  <a:pt x="3790" y="8956"/>
                </a:lnTo>
                <a:lnTo>
                  <a:pt x="3790" y="8972"/>
                </a:lnTo>
                <a:lnTo>
                  <a:pt x="3789" y="8988"/>
                </a:lnTo>
                <a:lnTo>
                  <a:pt x="3789" y="9002"/>
                </a:lnTo>
                <a:lnTo>
                  <a:pt x="3793" y="9095"/>
                </a:lnTo>
                <a:lnTo>
                  <a:pt x="3805" y="9185"/>
                </a:lnTo>
                <a:lnTo>
                  <a:pt x="3823" y="9274"/>
                </a:lnTo>
                <a:lnTo>
                  <a:pt x="3850" y="9361"/>
                </a:lnTo>
                <a:lnTo>
                  <a:pt x="3884" y="9448"/>
                </a:lnTo>
                <a:lnTo>
                  <a:pt x="3923" y="9531"/>
                </a:lnTo>
                <a:lnTo>
                  <a:pt x="3971" y="9614"/>
                </a:lnTo>
                <a:lnTo>
                  <a:pt x="4025" y="9694"/>
                </a:lnTo>
                <a:lnTo>
                  <a:pt x="4084" y="9773"/>
                </a:lnTo>
                <a:lnTo>
                  <a:pt x="4152" y="9850"/>
                </a:lnTo>
                <a:lnTo>
                  <a:pt x="4224" y="9925"/>
                </a:lnTo>
                <a:lnTo>
                  <a:pt x="4301" y="9997"/>
                </a:lnTo>
                <a:lnTo>
                  <a:pt x="4386" y="10066"/>
                </a:lnTo>
                <a:lnTo>
                  <a:pt x="4475" y="10134"/>
                </a:lnTo>
                <a:lnTo>
                  <a:pt x="4569" y="10198"/>
                </a:lnTo>
                <a:lnTo>
                  <a:pt x="4668" y="10259"/>
                </a:lnTo>
                <a:lnTo>
                  <a:pt x="4773" y="10319"/>
                </a:lnTo>
                <a:lnTo>
                  <a:pt x="4882" y="10375"/>
                </a:lnTo>
                <a:lnTo>
                  <a:pt x="4996" y="10427"/>
                </a:lnTo>
                <a:lnTo>
                  <a:pt x="5113" y="10476"/>
                </a:lnTo>
                <a:lnTo>
                  <a:pt x="5234" y="10523"/>
                </a:lnTo>
                <a:lnTo>
                  <a:pt x="5360" y="10565"/>
                </a:lnTo>
                <a:lnTo>
                  <a:pt x="5490" y="10605"/>
                </a:lnTo>
                <a:lnTo>
                  <a:pt x="5623" y="10641"/>
                </a:lnTo>
                <a:lnTo>
                  <a:pt x="5760" y="10673"/>
                </a:lnTo>
                <a:lnTo>
                  <a:pt x="5899" y="10700"/>
                </a:lnTo>
                <a:lnTo>
                  <a:pt x="6042" y="10724"/>
                </a:lnTo>
                <a:lnTo>
                  <a:pt x="6187" y="10743"/>
                </a:lnTo>
                <a:lnTo>
                  <a:pt x="6335" y="10759"/>
                </a:lnTo>
                <a:lnTo>
                  <a:pt x="6485" y="10771"/>
                </a:lnTo>
                <a:lnTo>
                  <a:pt x="6638" y="10778"/>
                </a:lnTo>
                <a:lnTo>
                  <a:pt x="6792" y="10780"/>
                </a:lnTo>
                <a:lnTo>
                  <a:pt x="6865" y="10780"/>
                </a:lnTo>
                <a:lnTo>
                  <a:pt x="6937" y="10778"/>
                </a:lnTo>
                <a:lnTo>
                  <a:pt x="7008" y="10775"/>
                </a:lnTo>
                <a:lnTo>
                  <a:pt x="7080" y="10772"/>
                </a:lnTo>
                <a:lnTo>
                  <a:pt x="7150" y="10767"/>
                </a:lnTo>
                <a:lnTo>
                  <a:pt x="7220" y="10762"/>
                </a:lnTo>
                <a:lnTo>
                  <a:pt x="7290" y="10756"/>
                </a:lnTo>
                <a:lnTo>
                  <a:pt x="7359" y="10748"/>
                </a:lnTo>
                <a:lnTo>
                  <a:pt x="7428" y="10740"/>
                </a:lnTo>
                <a:lnTo>
                  <a:pt x="7495" y="10731"/>
                </a:lnTo>
                <a:lnTo>
                  <a:pt x="7563" y="10721"/>
                </a:lnTo>
                <a:lnTo>
                  <a:pt x="7630" y="10710"/>
                </a:lnTo>
                <a:lnTo>
                  <a:pt x="7695" y="10698"/>
                </a:lnTo>
                <a:lnTo>
                  <a:pt x="7761" y="10685"/>
                </a:lnTo>
                <a:lnTo>
                  <a:pt x="7826" y="10672"/>
                </a:lnTo>
                <a:lnTo>
                  <a:pt x="7890" y="10658"/>
                </a:lnTo>
                <a:lnTo>
                  <a:pt x="7953" y="10642"/>
                </a:lnTo>
                <a:lnTo>
                  <a:pt x="8016" y="10626"/>
                </a:lnTo>
                <a:lnTo>
                  <a:pt x="8078" y="10609"/>
                </a:lnTo>
                <a:lnTo>
                  <a:pt x="8139" y="10592"/>
                </a:lnTo>
                <a:lnTo>
                  <a:pt x="8200" y="10573"/>
                </a:lnTo>
                <a:lnTo>
                  <a:pt x="8259" y="10554"/>
                </a:lnTo>
                <a:lnTo>
                  <a:pt x="8319" y="10533"/>
                </a:lnTo>
                <a:lnTo>
                  <a:pt x="8376" y="10513"/>
                </a:lnTo>
                <a:lnTo>
                  <a:pt x="8433" y="10491"/>
                </a:lnTo>
                <a:lnTo>
                  <a:pt x="8489" y="10469"/>
                </a:lnTo>
                <a:lnTo>
                  <a:pt x="8545" y="10447"/>
                </a:lnTo>
                <a:lnTo>
                  <a:pt x="8598" y="10423"/>
                </a:lnTo>
                <a:lnTo>
                  <a:pt x="8652" y="10398"/>
                </a:lnTo>
                <a:lnTo>
                  <a:pt x="8705" y="10372"/>
                </a:lnTo>
                <a:lnTo>
                  <a:pt x="8756" y="10347"/>
                </a:lnTo>
                <a:lnTo>
                  <a:pt x="8806" y="10321"/>
                </a:lnTo>
                <a:lnTo>
                  <a:pt x="8868" y="10347"/>
                </a:lnTo>
                <a:lnTo>
                  <a:pt x="8929" y="10372"/>
                </a:lnTo>
                <a:lnTo>
                  <a:pt x="8992" y="10398"/>
                </a:lnTo>
                <a:lnTo>
                  <a:pt x="9056" y="10423"/>
                </a:lnTo>
                <a:lnTo>
                  <a:pt x="9120" y="10445"/>
                </a:lnTo>
                <a:lnTo>
                  <a:pt x="9186" y="10468"/>
                </a:lnTo>
                <a:lnTo>
                  <a:pt x="9253" y="10491"/>
                </a:lnTo>
                <a:lnTo>
                  <a:pt x="9319" y="10512"/>
                </a:lnTo>
                <a:lnTo>
                  <a:pt x="9387" y="10533"/>
                </a:lnTo>
                <a:lnTo>
                  <a:pt x="9456" y="10553"/>
                </a:lnTo>
                <a:lnTo>
                  <a:pt x="9526" y="10572"/>
                </a:lnTo>
                <a:lnTo>
                  <a:pt x="9595" y="10590"/>
                </a:lnTo>
                <a:lnTo>
                  <a:pt x="9666" y="10608"/>
                </a:lnTo>
                <a:lnTo>
                  <a:pt x="9737" y="10625"/>
                </a:lnTo>
                <a:lnTo>
                  <a:pt x="9810" y="10641"/>
                </a:lnTo>
                <a:lnTo>
                  <a:pt x="9882" y="10656"/>
                </a:lnTo>
                <a:lnTo>
                  <a:pt x="9956" y="10669"/>
                </a:lnTo>
                <a:lnTo>
                  <a:pt x="10030" y="10683"/>
                </a:lnTo>
                <a:lnTo>
                  <a:pt x="10104" y="10696"/>
                </a:lnTo>
                <a:lnTo>
                  <a:pt x="10180" y="10707"/>
                </a:lnTo>
                <a:lnTo>
                  <a:pt x="10255" y="10717"/>
                </a:lnTo>
                <a:lnTo>
                  <a:pt x="10332" y="10727"/>
                </a:lnTo>
                <a:lnTo>
                  <a:pt x="10409" y="10737"/>
                </a:lnTo>
                <a:lnTo>
                  <a:pt x="10487" y="10745"/>
                </a:lnTo>
                <a:lnTo>
                  <a:pt x="10565" y="10751"/>
                </a:lnTo>
                <a:lnTo>
                  <a:pt x="10643" y="10758"/>
                </a:lnTo>
                <a:lnTo>
                  <a:pt x="10722" y="10763"/>
                </a:lnTo>
                <a:lnTo>
                  <a:pt x="10802" y="10767"/>
                </a:lnTo>
                <a:lnTo>
                  <a:pt x="10882" y="10771"/>
                </a:lnTo>
                <a:lnTo>
                  <a:pt x="10962" y="10773"/>
                </a:lnTo>
                <a:lnTo>
                  <a:pt x="11043" y="10775"/>
                </a:lnTo>
                <a:lnTo>
                  <a:pt x="11124" y="10775"/>
                </a:lnTo>
                <a:lnTo>
                  <a:pt x="11303" y="10773"/>
                </a:lnTo>
                <a:lnTo>
                  <a:pt x="11479" y="10766"/>
                </a:lnTo>
                <a:lnTo>
                  <a:pt x="11654" y="10754"/>
                </a:lnTo>
                <a:lnTo>
                  <a:pt x="11826" y="10738"/>
                </a:lnTo>
                <a:lnTo>
                  <a:pt x="11995" y="10717"/>
                </a:lnTo>
                <a:lnTo>
                  <a:pt x="12162" y="10692"/>
                </a:lnTo>
                <a:lnTo>
                  <a:pt x="12325" y="10664"/>
                </a:lnTo>
                <a:lnTo>
                  <a:pt x="12486" y="10630"/>
                </a:lnTo>
                <a:lnTo>
                  <a:pt x="12643" y="10593"/>
                </a:lnTo>
                <a:lnTo>
                  <a:pt x="12797" y="10552"/>
                </a:lnTo>
                <a:lnTo>
                  <a:pt x="12947" y="10507"/>
                </a:lnTo>
                <a:lnTo>
                  <a:pt x="13093" y="10458"/>
                </a:lnTo>
                <a:lnTo>
                  <a:pt x="13235" y="10407"/>
                </a:lnTo>
                <a:lnTo>
                  <a:pt x="13374" y="10351"/>
                </a:lnTo>
                <a:lnTo>
                  <a:pt x="13507" y="10291"/>
                </a:lnTo>
                <a:lnTo>
                  <a:pt x="13636" y="10230"/>
                </a:lnTo>
                <a:lnTo>
                  <a:pt x="13761" y="10163"/>
                </a:lnTo>
                <a:lnTo>
                  <a:pt x="13881" y="10095"/>
                </a:lnTo>
                <a:lnTo>
                  <a:pt x="13995" y="10024"/>
                </a:lnTo>
                <a:lnTo>
                  <a:pt x="14104" y="9950"/>
                </a:lnTo>
                <a:lnTo>
                  <a:pt x="14208" y="9872"/>
                </a:lnTo>
                <a:lnTo>
                  <a:pt x="14307" y="9792"/>
                </a:lnTo>
                <a:lnTo>
                  <a:pt x="14399" y="9710"/>
                </a:lnTo>
                <a:lnTo>
                  <a:pt x="14486" y="9626"/>
                </a:lnTo>
                <a:lnTo>
                  <a:pt x="14567" y="9539"/>
                </a:lnTo>
                <a:lnTo>
                  <a:pt x="14641" y="9450"/>
                </a:lnTo>
                <a:lnTo>
                  <a:pt x="14710" y="9357"/>
                </a:lnTo>
                <a:lnTo>
                  <a:pt x="14771" y="9265"/>
                </a:lnTo>
                <a:lnTo>
                  <a:pt x="14825" y="9169"/>
                </a:lnTo>
                <a:lnTo>
                  <a:pt x="14873" y="9072"/>
                </a:lnTo>
                <a:lnTo>
                  <a:pt x="14914" y="8973"/>
                </a:lnTo>
                <a:lnTo>
                  <a:pt x="14947" y="8872"/>
                </a:lnTo>
                <a:lnTo>
                  <a:pt x="15122" y="8855"/>
                </a:lnTo>
                <a:lnTo>
                  <a:pt x="15294" y="8833"/>
                </a:lnTo>
                <a:lnTo>
                  <a:pt x="15463" y="8807"/>
                </a:lnTo>
                <a:lnTo>
                  <a:pt x="15629" y="8776"/>
                </a:lnTo>
                <a:lnTo>
                  <a:pt x="15792" y="8741"/>
                </a:lnTo>
                <a:lnTo>
                  <a:pt x="15951" y="8702"/>
                </a:lnTo>
                <a:lnTo>
                  <a:pt x="16107" y="8660"/>
                </a:lnTo>
                <a:lnTo>
                  <a:pt x="16259" y="8613"/>
                </a:lnTo>
                <a:lnTo>
                  <a:pt x="16406" y="8562"/>
                </a:lnTo>
                <a:lnTo>
                  <a:pt x="16550" y="8507"/>
                </a:lnTo>
                <a:lnTo>
                  <a:pt x="16690" y="8450"/>
                </a:lnTo>
                <a:lnTo>
                  <a:pt x="16824" y="8388"/>
                </a:lnTo>
                <a:lnTo>
                  <a:pt x="16953" y="8323"/>
                </a:lnTo>
                <a:lnTo>
                  <a:pt x="17079" y="8256"/>
                </a:lnTo>
                <a:lnTo>
                  <a:pt x="17199" y="8184"/>
                </a:lnTo>
                <a:lnTo>
                  <a:pt x="17313" y="8110"/>
                </a:lnTo>
                <a:lnTo>
                  <a:pt x="17422" y="8033"/>
                </a:lnTo>
                <a:lnTo>
                  <a:pt x="17525" y="7953"/>
                </a:lnTo>
                <a:lnTo>
                  <a:pt x="17623" y="7870"/>
                </a:lnTo>
                <a:lnTo>
                  <a:pt x="17714" y="7785"/>
                </a:lnTo>
                <a:lnTo>
                  <a:pt x="17800" y="7697"/>
                </a:lnTo>
                <a:lnTo>
                  <a:pt x="17877" y="7607"/>
                </a:lnTo>
                <a:lnTo>
                  <a:pt x="17950" y="7515"/>
                </a:lnTo>
                <a:lnTo>
                  <a:pt x="18015" y="7420"/>
                </a:lnTo>
                <a:lnTo>
                  <a:pt x="18074" y="7324"/>
                </a:lnTo>
                <a:lnTo>
                  <a:pt x="18124" y="7226"/>
                </a:lnTo>
                <a:lnTo>
                  <a:pt x="18168" y="7125"/>
                </a:lnTo>
                <a:lnTo>
                  <a:pt x="18204" y="7023"/>
                </a:lnTo>
                <a:lnTo>
                  <a:pt x="18232" y="6920"/>
                </a:lnTo>
                <a:lnTo>
                  <a:pt x="18253" y="6815"/>
                </a:lnTo>
                <a:lnTo>
                  <a:pt x="18265" y="6708"/>
                </a:lnTo>
                <a:lnTo>
                  <a:pt x="18270" y="6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fefefe"/>
              </a:gs>
              <a:gs pos="100000">
                <a:srgbClr val="969696"/>
              </a:gs>
            </a:gsLst>
            <a:lin ang="13500000"/>
          </a:gradFill>
          <a:ln w="12600">
            <a:solidFill>
              <a:srgbClr val="80808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6323760" y="3936960"/>
            <a:ext cx="482760" cy="1185840"/>
          </a:xfrm>
          <a:custGeom>
            <a:avLst/>
            <a:gdLst/>
            <a:ahLst/>
            <a:rect l="l" t="t" r="r" b="b"/>
            <a:pathLst>
              <a:path w="913" h="97">
                <a:moveTo>
                  <a:pt x="0" y="0"/>
                </a:moveTo>
                <a:lnTo>
                  <a:pt x="479" y="0"/>
                </a:lnTo>
                <a:lnTo>
                  <a:pt x="383" y="96"/>
                </a:lnTo>
                <a:lnTo>
                  <a:pt x="912" y="96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 Services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anet Content Provi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135600" y="4079520"/>
            <a:ext cx="2674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tent Disse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requent Up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ime Sensitive 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-Office WAN Ex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190600" y="3936960"/>
            <a:ext cx="482760" cy="1185840"/>
          </a:xfrm>
          <a:custGeom>
            <a:avLst/>
            <a:gdLst/>
            <a:ahLst/>
            <a:rect l="l" t="t" r="r" b="b"/>
            <a:pathLst>
              <a:path w="913" h="97">
                <a:moveTo>
                  <a:pt x="0" y="0"/>
                </a:moveTo>
                <a:lnTo>
                  <a:pt x="479" y="0"/>
                </a:lnTo>
                <a:lnTo>
                  <a:pt x="383" y="96"/>
                </a:lnTo>
                <a:lnTo>
                  <a:pt x="912" y="96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991040" y="2968560"/>
            <a:ext cx="1731960" cy="152640"/>
          </a:xfrm>
          <a:custGeom>
            <a:avLst/>
            <a:gdLst/>
            <a:ahLst/>
            <a:rect l="l" t="t" r="r" b="b"/>
            <a:pathLst>
              <a:path w="1091" h="96">
                <a:moveTo>
                  <a:pt x="0" y="2"/>
                </a:moveTo>
                <a:lnTo>
                  <a:pt x="505" y="0"/>
                </a:lnTo>
                <a:lnTo>
                  <a:pt x="375" y="96"/>
                </a:lnTo>
                <a:lnTo>
                  <a:pt x="1091" y="96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314880" y="5967360"/>
            <a:ext cx="2487600" cy="154080"/>
          </a:xfrm>
          <a:custGeom>
            <a:avLst/>
            <a:gdLst/>
            <a:ahLst/>
            <a:rect l="l" t="t" r="r" b="b"/>
            <a:pathLst>
              <a:path w="913" h="97">
                <a:moveTo>
                  <a:pt x="0" y="0"/>
                </a:moveTo>
                <a:lnTo>
                  <a:pt x="479" y="0"/>
                </a:lnTo>
                <a:lnTo>
                  <a:pt x="383" y="96"/>
                </a:lnTo>
                <a:lnTo>
                  <a:pt x="912" y="96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04200" y="1370880"/>
            <a:ext cx="31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.g. Merrill Lynch, GM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593040" y="2418480"/>
            <a:ext cx="1221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Y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981840" y="5492160"/>
            <a:ext cx="854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k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880800" y="1567800"/>
            <a:ext cx="1169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780360" y="357876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240920" y="5397120"/>
            <a:ext cx="766080" cy="55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n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251080" y="2968560"/>
            <a:ext cx="1673280" cy="152640"/>
          </a:xfrm>
          <a:custGeom>
            <a:avLst/>
            <a:gdLst/>
            <a:ahLst/>
            <a:rect l="l" t="t" r="r" b="b"/>
            <a:pathLst>
              <a:path w="1054" h="96">
                <a:moveTo>
                  <a:pt x="1054" y="2"/>
                </a:moveTo>
                <a:lnTo>
                  <a:pt x="586" y="0"/>
                </a:lnTo>
                <a:lnTo>
                  <a:pt x="716" y="96"/>
                </a:lnTo>
                <a:lnTo>
                  <a:pt x="0" y="96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604880" y="2418480"/>
            <a:ext cx="527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990720" y="2697120"/>
            <a:ext cx="1739880" cy="1663920"/>
            <a:chOff x="990720" y="2697120"/>
            <a:chExt cx="1739880" cy="1663920"/>
          </a:xfrm>
        </p:grpSpPr>
        <p:sp>
          <p:nvSpPr>
            <p:cNvPr id="1057" name=""/>
            <p:cNvSpPr/>
            <p:nvPr/>
          </p:nvSpPr>
          <p:spPr>
            <a:xfrm>
              <a:off x="990720" y="2697120"/>
              <a:ext cx="1739880" cy="1663920"/>
            </a:xfrm>
            <a:prstGeom prst="diamond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8" name=""/>
            <p:cNvGrpSpPr/>
            <p:nvPr/>
          </p:nvGrpSpPr>
          <p:grpSpPr>
            <a:xfrm>
              <a:off x="1251000" y="3349800"/>
              <a:ext cx="173160" cy="330120"/>
              <a:chOff x="1251000" y="3349800"/>
              <a:chExt cx="173160" cy="330120"/>
            </a:xfrm>
          </p:grpSpPr>
          <p:sp>
            <p:nvSpPr>
              <p:cNvPr id="1059" name=""/>
              <p:cNvSpPr/>
              <p:nvPr/>
            </p:nvSpPr>
            <p:spPr>
              <a:xfrm>
                <a:off x="1251000" y="3349800"/>
                <a:ext cx="173160" cy="330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271520" y="3390840"/>
                <a:ext cx="123840" cy="2556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271520" y="343548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271520" y="3479760"/>
                <a:ext cx="123840" cy="2556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271520" y="3525840"/>
                <a:ext cx="123840" cy="2556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4" name=""/>
            <p:cNvSpPr/>
            <p:nvPr/>
          </p:nvSpPr>
          <p:spPr>
            <a:xfrm flipH="1">
              <a:off x="1663200" y="3297240"/>
              <a:ext cx="2574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663560" y="3297240"/>
              <a:ext cx="0" cy="442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1460520" y="3519360"/>
              <a:ext cx="676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1663200" y="3740040"/>
              <a:ext cx="141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1832040" y="3063960"/>
              <a:ext cx="172800" cy="330120"/>
              <a:chOff x="1832040" y="3063960"/>
              <a:chExt cx="172800" cy="330120"/>
            </a:xfrm>
          </p:grpSpPr>
          <p:sp>
            <p:nvSpPr>
              <p:cNvPr id="1069" name=""/>
              <p:cNvSpPr/>
              <p:nvPr/>
            </p:nvSpPr>
            <p:spPr>
              <a:xfrm>
                <a:off x="1832040" y="3063960"/>
                <a:ext cx="172800" cy="330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852560" y="3105000"/>
                <a:ext cx="123840" cy="2556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852560" y="314964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852560" y="3193920"/>
                <a:ext cx="123840" cy="2556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852560" y="3240000"/>
                <a:ext cx="123840" cy="2556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2136600" y="3359160"/>
              <a:ext cx="173160" cy="330120"/>
              <a:chOff x="2136600" y="3359160"/>
              <a:chExt cx="173160" cy="330120"/>
            </a:xfrm>
          </p:grpSpPr>
          <p:sp>
            <p:nvSpPr>
              <p:cNvPr id="1075" name=""/>
              <p:cNvSpPr/>
              <p:nvPr/>
            </p:nvSpPr>
            <p:spPr>
              <a:xfrm>
                <a:off x="2136600" y="3359160"/>
                <a:ext cx="173160" cy="330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157480" y="340056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157480" y="3444840"/>
                <a:ext cx="123840" cy="2556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157480" y="348948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157480" y="3535200"/>
                <a:ext cx="123840" cy="2556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1755720" y="3664080"/>
              <a:ext cx="173160" cy="330120"/>
              <a:chOff x="1755720" y="3664080"/>
              <a:chExt cx="173160" cy="330120"/>
            </a:xfrm>
          </p:grpSpPr>
          <p:sp>
            <p:nvSpPr>
              <p:cNvPr id="1081" name=""/>
              <p:cNvSpPr/>
              <p:nvPr/>
            </p:nvSpPr>
            <p:spPr>
              <a:xfrm>
                <a:off x="1755720" y="3664080"/>
                <a:ext cx="173160" cy="330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776240" y="3705120"/>
                <a:ext cx="123840" cy="2556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776240" y="374976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776240" y="3794040"/>
                <a:ext cx="123840" cy="2556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776240" y="3840120"/>
                <a:ext cx="123840" cy="2556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6" name=""/>
          <p:cNvGrpSpPr/>
          <p:nvPr/>
        </p:nvGrpSpPr>
        <p:grpSpPr>
          <a:xfrm>
            <a:off x="1905120" y="4876920"/>
            <a:ext cx="1739880" cy="1663560"/>
            <a:chOff x="1905120" y="4876920"/>
            <a:chExt cx="1739880" cy="1663560"/>
          </a:xfrm>
        </p:grpSpPr>
        <p:sp>
          <p:nvSpPr>
            <p:cNvPr id="1087" name=""/>
            <p:cNvSpPr/>
            <p:nvPr/>
          </p:nvSpPr>
          <p:spPr>
            <a:xfrm>
              <a:off x="1905120" y="4876920"/>
              <a:ext cx="1739880" cy="1663560"/>
            </a:xfrm>
            <a:prstGeom prst="diamond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8" name=""/>
            <p:cNvGrpSpPr/>
            <p:nvPr/>
          </p:nvGrpSpPr>
          <p:grpSpPr>
            <a:xfrm>
              <a:off x="2165400" y="5529240"/>
              <a:ext cx="173160" cy="329760"/>
              <a:chOff x="2165400" y="5529240"/>
              <a:chExt cx="173160" cy="329760"/>
            </a:xfrm>
          </p:grpSpPr>
          <p:sp>
            <p:nvSpPr>
              <p:cNvPr id="1089" name=""/>
              <p:cNvSpPr/>
              <p:nvPr/>
            </p:nvSpPr>
            <p:spPr>
              <a:xfrm>
                <a:off x="2165400" y="5529240"/>
                <a:ext cx="173160" cy="32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185920" y="556992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185920" y="5614560"/>
                <a:ext cx="123840" cy="2484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185920" y="565884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185920" y="570492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 flipH="1">
              <a:off x="2577600" y="5476680"/>
              <a:ext cx="2574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577960" y="5476680"/>
              <a:ext cx="0" cy="442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2374920" y="5698800"/>
              <a:ext cx="676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2577600" y="5919480"/>
              <a:ext cx="141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2746440" y="5243400"/>
              <a:ext cx="172800" cy="329760"/>
              <a:chOff x="2746440" y="5243400"/>
              <a:chExt cx="172800" cy="329760"/>
            </a:xfrm>
          </p:grpSpPr>
          <p:sp>
            <p:nvSpPr>
              <p:cNvPr id="1099" name=""/>
              <p:cNvSpPr/>
              <p:nvPr/>
            </p:nvSpPr>
            <p:spPr>
              <a:xfrm>
                <a:off x="2746440" y="5243400"/>
                <a:ext cx="172800" cy="32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766960" y="528408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766960" y="5328720"/>
                <a:ext cx="123840" cy="2484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766960" y="537300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766960" y="541908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4" name=""/>
            <p:cNvGrpSpPr/>
            <p:nvPr/>
          </p:nvGrpSpPr>
          <p:grpSpPr>
            <a:xfrm>
              <a:off x="3051000" y="5538600"/>
              <a:ext cx="173160" cy="329760"/>
              <a:chOff x="3051000" y="5538600"/>
              <a:chExt cx="173160" cy="329760"/>
            </a:xfrm>
          </p:grpSpPr>
          <p:sp>
            <p:nvSpPr>
              <p:cNvPr id="1105" name=""/>
              <p:cNvSpPr/>
              <p:nvPr/>
            </p:nvSpPr>
            <p:spPr>
              <a:xfrm>
                <a:off x="3051000" y="5538600"/>
                <a:ext cx="173160" cy="32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071880" y="5579640"/>
                <a:ext cx="123840" cy="2484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071880" y="562392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071880" y="5668560"/>
                <a:ext cx="123840" cy="2484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071880" y="571428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2670120" y="5843520"/>
              <a:ext cx="173160" cy="329760"/>
              <a:chOff x="2670120" y="5843520"/>
              <a:chExt cx="173160" cy="329760"/>
            </a:xfrm>
          </p:grpSpPr>
          <p:sp>
            <p:nvSpPr>
              <p:cNvPr id="1111" name=""/>
              <p:cNvSpPr/>
              <p:nvPr/>
            </p:nvSpPr>
            <p:spPr>
              <a:xfrm>
                <a:off x="2670120" y="5843520"/>
                <a:ext cx="173160" cy="32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690640" y="588420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690640" y="5928840"/>
                <a:ext cx="123840" cy="2484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690640" y="597312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690640" y="601920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6" name=""/>
          <p:cNvGrpSpPr/>
          <p:nvPr/>
        </p:nvGrpSpPr>
        <p:grpSpPr>
          <a:xfrm>
            <a:off x="6324480" y="2697120"/>
            <a:ext cx="1739880" cy="1663920"/>
            <a:chOff x="6324480" y="2697120"/>
            <a:chExt cx="1739880" cy="1663920"/>
          </a:xfrm>
        </p:grpSpPr>
        <p:sp>
          <p:nvSpPr>
            <p:cNvPr id="1117" name=""/>
            <p:cNvSpPr/>
            <p:nvPr/>
          </p:nvSpPr>
          <p:spPr>
            <a:xfrm>
              <a:off x="6324480" y="2697120"/>
              <a:ext cx="1739880" cy="1663920"/>
            </a:xfrm>
            <a:prstGeom prst="diamond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8" name=""/>
            <p:cNvGrpSpPr/>
            <p:nvPr/>
          </p:nvGrpSpPr>
          <p:grpSpPr>
            <a:xfrm>
              <a:off x="6584760" y="3349800"/>
              <a:ext cx="173160" cy="330120"/>
              <a:chOff x="6584760" y="3349800"/>
              <a:chExt cx="173160" cy="330120"/>
            </a:xfrm>
          </p:grpSpPr>
          <p:sp>
            <p:nvSpPr>
              <p:cNvPr id="1119" name=""/>
              <p:cNvSpPr/>
              <p:nvPr/>
            </p:nvSpPr>
            <p:spPr>
              <a:xfrm>
                <a:off x="6584760" y="3349800"/>
                <a:ext cx="173160" cy="330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605280" y="3390840"/>
                <a:ext cx="123840" cy="2556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605280" y="343548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605280" y="3479760"/>
                <a:ext cx="123840" cy="2556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605280" y="3525840"/>
                <a:ext cx="123840" cy="2556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4" name=""/>
            <p:cNvSpPr/>
            <p:nvPr/>
          </p:nvSpPr>
          <p:spPr>
            <a:xfrm flipH="1">
              <a:off x="6996960" y="3297240"/>
              <a:ext cx="2574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997320" y="3297240"/>
              <a:ext cx="0" cy="442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6794280" y="3519360"/>
              <a:ext cx="676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6996960" y="3740040"/>
              <a:ext cx="141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8" name=""/>
            <p:cNvGrpSpPr/>
            <p:nvPr/>
          </p:nvGrpSpPr>
          <p:grpSpPr>
            <a:xfrm>
              <a:off x="7165800" y="3063960"/>
              <a:ext cx="172800" cy="330120"/>
              <a:chOff x="7165800" y="3063960"/>
              <a:chExt cx="172800" cy="330120"/>
            </a:xfrm>
          </p:grpSpPr>
          <p:sp>
            <p:nvSpPr>
              <p:cNvPr id="1129" name=""/>
              <p:cNvSpPr/>
              <p:nvPr/>
            </p:nvSpPr>
            <p:spPr>
              <a:xfrm>
                <a:off x="7165800" y="3063960"/>
                <a:ext cx="172800" cy="330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186320" y="3105000"/>
                <a:ext cx="123840" cy="2556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186320" y="314964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186320" y="3193920"/>
                <a:ext cx="123840" cy="2556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186320" y="3240000"/>
                <a:ext cx="123840" cy="2556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7470360" y="3359160"/>
              <a:ext cx="173160" cy="330120"/>
              <a:chOff x="7470360" y="3359160"/>
              <a:chExt cx="173160" cy="330120"/>
            </a:xfrm>
          </p:grpSpPr>
          <p:sp>
            <p:nvSpPr>
              <p:cNvPr id="1135" name=""/>
              <p:cNvSpPr/>
              <p:nvPr/>
            </p:nvSpPr>
            <p:spPr>
              <a:xfrm>
                <a:off x="7470360" y="3359160"/>
                <a:ext cx="173160" cy="330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491240" y="340056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491240" y="3444840"/>
                <a:ext cx="123840" cy="2556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491240" y="348948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491240" y="3535200"/>
                <a:ext cx="123840" cy="2556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7089480" y="3664080"/>
              <a:ext cx="173160" cy="330120"/>
              <a:chOff x="7089480" y="3664080"/>
              <a:chExt cx="173160" cy="330120"/>
            </a:xfrm>
          </p:grpSpPr>
          <p:sp>
            <p:nvSpPr>
              <p:cNvPr id="1141" name=""/>
              <p:cNvSpPr/>
              <p:nvPr/>
            </p:nvSpPr>
            <p:spPr>
              <a:xfrm>
                <a:off x="7089480" y="3664080"/>
                <a:ext cx="173160" cy="330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110000" y="3705120"/>
                <a:ext cx="123840" cy="2556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110000" y="374976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110000" y="3794040"/>
                <a:ext cx="123840" cy="2556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110000" y="3840120"/>
                <a:ext cx="123840" cy="2556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6" name=""/>
          <p:cNvGrpSpPr/>
          <p:nvPr/>
        </p:nvGrpSpPr>
        <p:grpSpPr>
          <a:xfrm>
            <a:off x="5334120" y="4876920"/>
            <a:ext cx="1739880" cy="1663560"/>
            <a:chOff x="5334120" y="4876920"/>
            <a:chExt cx="1739880" cy="1663560"/>
          </a:xfrm>
        </p:grpSpPr>
        <p:sp>
          <p:nvSpPr>
            <p:cNvPr id="1147" name=""/>
            <p:cNvSpPr/>
            <p:nvPr/>
          </p:nvSpPr>
          <p:spPr>
            <a:xfrm>
              <a:off x="5334120" y="4876920"/>
              <a:ext cx="1739880" cy="1663560"/>
            </a:xfrm>
            <a:prstGeom prst="diamond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8" name=""/>
            <p:cNvGrpSpPr/>
            <p:nvPr/>
          </p:nvGrpSpPr>
          <p:grpSpPr>
            <a:xfrm>
              <a:off x="5594400" y="5529240"/>
              <a:ext cx="173160" cy="329760"/>
              <a:chOff x="5594400" y="5529240"/>
              <a:chExt cx="173160" cy="329760"/>
            </a:xfrm>
          </p:grpSpPr>
          <p:sp>
            <p:nvSpPr>
              <p:cNvPr id="1149" name=""/>
              <p:cNvSpPr/>
              <p:nvPr/>
            </p:nvSpPr>
            <p:spPr>
              <a:xfrm>
                <a:off x="5594400" y="5529240"/>
                <a:ext cx="173160" cy="32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614920" y="556992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614920" y="5614560"/>
                <a:ext cx="123840" cy="2484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614920" y="565884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614920" y="570492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4" name=""/>
            <p:cNvSpPr/>
            <p:nvPr/>
          </p:nvSpPr>
          <p:spPr>
            <a:xfrm flipH="1">
              <a:off x="6006600" y="5476680"/>
              <a:ext cx="2574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006960" y="5476680"/>
              <a:ext cx="0" cy="442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5803920" y="5698800"/>
              <a:ext cx="676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6006600" y="5919480"/>
              <a:ext cx="141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6175440" y="5243400"/>
              <a:ext cx="172800" cy="329760"/>
              <a:chOff x="6175440" y="5243400"/>
              <a:chExt cx="172800" cy="329760"/>
            </a:xfrm>
          </p:grpSpPr>
          <p:sp>
            <p:nvSpPr>
              <p:cNvPr id="1159" name=""/>
              <p:cNvSpPr/>
              <p:nvPr/>
            </p:nvSpPr>
            <p:spPr>
              <a:xfrm>
                <a:off x="6175440" y="5243400"/>
                <a:ext cx="172800" cy="32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195960" y="528408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195960" y="5328720"/>
                <a:ext cx="123840" cy="2484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195960" y="537300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195960" y="541908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6480000" y="5538600"/>
              <a:ext cx="173160" cy="329760"/>
              <a:chOff x="6480000" y="5538600"/>
              <a:chExt cx="173160" cy="329760"/>
            </a:xfrm>
          </p:grpSpPr>
          <p:sp>
            <p:nvSpPr>
              <p:cNvPr id="1165" name=""/>
              <p:cNvSpPr/>
              <p:nvPr/>
            </p:nvSpPr>
            <p:spPr>
              <a:xfrm>
                <a:off x="6480000" y="5538600"/>
                <a:ext cx="173160" cy="32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500880" y="5579640"/>
                <a:ext cx="123840" cy="2484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500880" y="562392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500880" y="5668560"/>
                <a:ext cx="123840" cy="2484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500880" y="571428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6099120" y="5843520"/>
              <a:ext cx="173160" cy="329760"/>
              <a:chOff x="6099120" y="5843520"/>
              <a:chExt cx="173160" cy="329760"/>
            </a:xfrm>
          </p:grpSpPr>
          <p:sp>
            <p:nvSpPr>
              <p:cNvPr id="1171" name=""/>
              <p:cNvSpPr/>
              <p:nvPr/>
            </p:nvSpPr>
            <p:spPr>
              <a:xfrm>
                <a:off x="6099120" y="5843520"/>
                <a:ext cx="173160" cy="32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119640" y="588420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119640" y="5928840"/>
                <a:ext cx="123840" cy="2484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119640" y="597312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119640" y="601920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6" name=""/>
          <p:cNvGrpSpPr/>
          <p:nvPr/>
        </p:nvGrpSpPr>
        <p:grpSpPr>
          <a:xfrm>
            <a:off x="3581280" y="1847880"/>
            <a:ext cx="1739880" cy="1663560"/>
            <a:chOff x="3581280" y="1847880"/>
            <a:chExt cx="1739880" cy="1663560"/>
          </a:xfrm>
        </p:grpSpPr>
        <p:sp>
          <p:nvSpPr>
            <p:cNvPr id="1177" name=""/>
            <p:cNvSpPr/>
            <p:nvPr/>
          </p:nvSpPr>
          <p:spPr>
            <a:xfrm>
              <a:off x="3581280" y="1847880"/>
              <a:ext cx="1739880" cy="1663560"/>
            </a:xfrm>
            <a:prstGeom prst="diamond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8" name=""/>
            <p:cNvGrpSpPr/>
            <p:nvPr/>
          </p:nvGrpSpPr>
          <p:grpSpPr>
            <a:xfrm>
              <a:off x="3841560" y="2500200"/>
              <a:ext cx="173160" cy="329760"/>
              <a:chOff x="3841560" y="2500200"/>
              <a:chExt cx="173160" cy="329760"/>
            </a:xfrm>
          </p:grpSpPr>
          <p:sp>
            <p:nvSpPr>
              <p:cNvPr id="1179" name=""/>
              <p:cNvSpPr/>
              <p:nvPr/>
            </p:nvSpPr>
            <p:spPr>
              <a:xfrm>
                <a:off x="3841560" y="2500200"/>
                <a:ext cx="173160" cy="32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62080" y="254088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862080" y="2585520"/>
                <a:ext cx="123840" cy="2484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862080" y="262980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862080" y="267588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4" name=""/>
            <p:cNvSpPr/>
            <p:nvPr/>
          </p:nvSpPr>
          <p:spPr>
            <a:xfrm flipH="1">
              <a:off x="4253760" y="2447640"/>
              <a:ext cx="2574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254120" y="2447640"/>
              <a:ext cx="0" cy="442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4051080" y="2669760"/>
              <a:ext cx="676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4253760" y="2890440"/>
              <a:ext cx="141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8" name=""/>
            <p:cNvGrpSpPr/>
            <p:nvPr/>
          </p:nvGrpSpPr>
          <p:grpSpPr>
            <a:xfrm>
              <a:off x="4422600" y="2214360"/>
              <a:ext cx="172800" cy="329760"/>
              <a:chOff x="4422600" y="2214360"/>
              <a:chExt cx="172800" cy="329760"/>
            </a:xfrm>
          </p:grpSpPr>
          <p:sp>
            <p:nvSpPr>
              <p:cNvPr id="1189" name=""/>
              <p:cNvSpPr/>
              <p:nvPr/>
            </p:nvSpPr>
            <p:spPr>
              <a:xfrm>
                <a:off x="4422600" y="2214360"/>
                <a:ext cx="172800" cy="32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443120" y="225504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443120" y="2299680"/>
                <a:ext cx="123840" cy="2484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443120" y="234396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443120" y="239004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4727160" y="2509560"/>
              <a:ext cx="173160" cy="329760"/>
              <a:chOff x="4727160" y="2509560"/>
              <a:chExt cx="173160" cy="329760"/>
            </a:xfrm>
          </p:grpSpPr>
          <p:sp>
            <p:nvSpPr>
              <p:cNvPr id="1195" name=""/>
              <p:cNvSpPr/>
              <p:nvPr/>
            </p:nvSpPr>
            <p:spPr>
              <a:xfrm>
                <a:off x="4727160" y="2509560"/>
                <a:ext cx="173160" cy="32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748040" y="2550600"/>
                <a:ext cx="123840" cy="2484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748040" y="259488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748040" y="2639520"/>
                <a:ext cx="123840" cy="2484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748040" y="268524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4346280" y="2814480"/>
              <a:ext cx="173160" cy="329760"/>
              <a:chOff x="4346280" y="2814480"/>
              <a:chExt cx="173160" cy="329760"/>
            </a:xfrm>
          </p:grpSpPr>
          <p:sp>
            <p:nvSpPr>
              <p:cNvPr id="1201" name=""/>
              <p:cNvSpPr/>
              <p:nvPr/>
            </p:nvSpPr>
            <p:spPr>
              <a:xfrm>
                <a:off x="4346280" y="2814480"/>
                <a:ext cx="173160" cy="32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366800" y="285516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366800" y="2899800"/>
                <a:ext cx="123840" cy="2484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366800" y="294408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366800" y="2990160"/>
                <a:ext cx="123840" cy="25200"/>
              </a:xfrm>
              <a:prstGeom prst="rect">
                <a:avLst/>
              </a:prstGeom>
              <a:gradFill rotWithShape="0">
                <a:gsLst>
                  <a:gs pos="0">
                    <a:srgbClr val="878787"/>
                  </a:gs>
                  <a:gs pos="50000">
                    <a:srgbClr val="b2b2b2"/>
                  </a:gs>
                  <a:gs pos="100000">
                    <a:srgbClr val="878787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3085920" y="1447560"/>
            <a:ext cx="605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825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dentifying a CDS Opportunity and Case Studi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rvice Providers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sters or Backb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09120" y="172692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hoster providing or looking to provide distributed content and application ho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hoster wanting to enable customers to administer their sites remote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Service Provid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bone provider offering value-added serv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y hoster or backbone provider developing distributed data ce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yone looking to develop a Content Delivery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303120" y="2286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0" y="158580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ffic Server, CDS and MediaIXT are installed in Local Content Managers to provide fast access to content in every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exible, low cost solution complements full site re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04920" y="2286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gital Island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lobal Content 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505640" y="3219480"/>
            <a:ext cx="1505160" cy="3257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1532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3" name="" descr=""/>
          <p:cNvPicPr/>
          <p:nvPr/>
        </p:nvPicPr>
        <p:blipFill>
          <a:blip r:embed="rId2"/>
          <a:stretch/>
        </p:blipFill>
        <p:spPr>
          <a:xfrm>
            <a:off x="5518080" y="3224160"/>
            <a:ext cx="1739880" cy="3443400"/>
          </a:xfrm>
          <a:prstGeom prst="rect">
            <a:avLst/>
          </a:prstGeom>
          <a:ln w="0">
            <a:noFill/>
          </a:ln>
        </p:spPr>
      </p:pic>
      <p:pic>
        <p:nvPicPr>
          <p:cNvPr id="1214" name="" descr=""/>
          <p:cNvPicPr/>
          <p:nvPr/>
        </p:nvPicPr>
        <p:blipFill>
          <a:blip r:embed="rId3"/>
          <a:stretch/>
        </p:blipFill>
        <p:spPr>
          <a:xfrm>
            <a:off x="2468520" y="3238560"/>
            <a:ext cx="2629080" cy="3219480"/>
          </a:xfrm>
          <a:prstGeom prst="rect">
            <a:avLst/>
          </a:prstGeom>
          <a:ln w="0">
            <a:noFill/>
          </a:ln>
        </p:spPr>
      </p:pic>
      <p:pic>
        <p:nvPicPr>
          <p:cNvPr id="1215" name="" descr=""/>
          <p:cNvPicPr/>
          <p:nvPr/>
        </p:nvPicPr>
        <p:blipFill>
          <a:blip r:embed="rId4"/>
          <a:stretch/>
        </p:blipFill>
        <p:spPr>
          <a:xfrm>
            <a:off x="460440" y="3224160"/>
            <a:ext cx="2128680" cy="3219480"/>
          </a:xfrm>
          <a:prstGeom prst="rect">
            <a:avLst/>
          </a:prstGeom>
          <a:ln w="0">
            <a:noFill/>
          </a:ln>
        </p:spPr>
      </p:pic>
      <p:sp>
        <p:nvSpPr>
          <p:cNvPr id="1216" name=""/>
          <p:cNvSpPr/>
          <p:nvPr/>
        </p:nvSpPr>
        <p:spPr>
          <a:xfrm>
            <a:off x="2017800" y="4019400"/>
            <a:ext cx="11026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ad15"/>
                </a:solidFill>
                <a:latin typeface="Arial Black"/>
              </a:rPr>
              <a:t>Silicon 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ad15"/>
                </a:solidFill>
                <a:latin typeface="Arial Black"/>
              </a:rPr>
              <a:t>Data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197440" y="5146560"/>
            <a:ext cx="10357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ad15"/>
                </a:solidFill>
                <a:latin typeface="Arial Black"/>
              </a:rPr>
              <a:t>Honolul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ad15"/>
                </a:solidFill>
                <a:latin typeface="Arial Black"/>
              </a:rPr>
              <a:t>Data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845240" y="3359160"/>
            <a:ext cx="1035720" cy="40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ad15"/>
                </a:solidFill>
                <a:latin typeface="Arial Black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ad15"/>
                </a:solidFill>
                <a:latin typeface="Arial Black"/>
              </a:rPr>
              <a:t>Data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 flipV="1">
            <a:off x="5473800" y="3962520"/>
            <a:ext cx="169920" cy="341280"/>
          </a:xfrm>
          <a:prstGeom prst="line">
            <a:avLst/>
          </a:prstGeom>
          <a:ln w="28440">
            <a:solidFill>
              <a:srgbClr val="f2d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 flipV="1">
            <a:off x="5443200" y="3956040"/>
            <a:ext cx="561960" cy="331920"/>
          </a:xfrm>
          <a:prstGeom prst="line">
            <a:avLst/>
          </a:prstGeom>
          <a:ln w="19080">
            <a:solidFill>
              <a:srgbClr val="f2d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 flipV="1">
            <a:off x="5457960" y="3967200"/>
            <a:ext cx="839520" cy="822240"/>
          </a:xfrm>
          <a:prstGeom prst="line">
            <a:avLst/>
          </a:prstGeom>
          <a:ln w="19080">
            <a:solidFill>
              <a:srgbClr val="f2d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 flipV="1">
            <a:off x="5479920" y="3978000"/>
            <a:ext cx="860400" cy="250920"/>
          </a:xfrm>
          <a:prstGeom prst="line">
            <a:avLst/>
          </a:prstGeom>
          <a:ln w="19080">
            <a:solidFill>
              <a:srgbClr val="f2d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 flipV="1">
            <a:off x="5459400" y="3957480"/>
            <a:ext cx="301680" cy="416160"/>
          </a:xfrm>
          <a:prstGeom prst="line">
            <a:avLst/>
          </a:prstGeom>
          <a:ln w="19080">
            <a:solidFill>
              <a:srgbClr val="f2d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977080" y="4251240"/>
            <a:ext cx="114120" cy="112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H="1" flipV="1">
            <a:off x="4307040" y="4465800"/>
            <a:ext cx="382320" cy="1116000"/>
          </a:xfrm>
          <a:prstGeom prst="line">
            <a:avLst/>
          </a:prstGeom>
          <a:ln w="19080">
            <a:solidFill>
              <a:srgbClr val="f2d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622760" y="5530680"/>
            <a:ext cx="114480" cy="11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 flipV="1">
            <a:off x="4092480" y="4240080"/>
            <a:ext cx="169920" cy="169920"/>
          </a:xfrm>
          <a:prstGeom prst="line">
            <a:avLst/>
          </a:prstGeom>
          <a:ln w="19080">
            <a:solidFill>
              <a:srgbClr val="f2d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106880" y="4587840"/>
            <a:ext cx="1258920" cy="40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ad15"/>
                </a:solidFill>
                <a:latin typeface="Arial Black"/>
              </a:rPr>
              <a:t>New Y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ad15"/>
                </a:solidFill>
                <a:latin typeface="Arial Black"/>
              </a:rPr>
              <a:t>Data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 flipV="1">
            <a:off x="1698120" y="4513320"/>
            <a:ext cx="622440" cy="395280"/>
          </a:xfrm>
          <a:prstGeom prst="line">
            <a:avLst/>
          </a:prstGeom>
          <a:ln w="19080">
            <a:solidFill>
              <a:srgbClr val="f2d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1023480" y="4908600"/>
            <a:ext cx="1297080" cy="179280"/>
          </a:xfrm>
          <a:prstGeom prst="line">
            <a:avLst/>
          </a:prstGeom>
          <a:ln w="19080">
            <a:solidFill>
              <a:srgbClr val="f2d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870120" y="4908600"/>
            <a:ext cx="1450800" cy="369720"/>
          </a:xfrm>
          <a:prstGeom prst="line">
            <a:avLst/>
          </a:prstGeom>
          <a:ln w="19080">
            <a:solidFill>
              <a:srgbClr val="f2d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1757160" y="4908600"/>
            <a:ext cx="563400" cy="960480"/>
          </a:xfrm>
          <a:prstGeom prst="line">
            <a:avLst/>
          </a:prstGeom>
          <a:ln w="19080">
            <a:solidFill>
              <a:srgbClr val="f2d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600200" y="4427640"/>
            <a:ext cx="112680" cy="11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 flipV="1">
            <a:off x="1333080" y="4411800"/>
            <a:ext cx="987480" cy="496800"/>
          </a:xfrm>
          <a:prstGeom prst="line">
            <a:avLst/>
          </a:prstGeom>
          <a:ln w="19080">
            <a:solidFill>
              <a:srgbClr val="f2d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 flipV="1">
            <a:off x="1346040" y="4606920"/>
            <a:ext cx="974880" cy="301680"/>
          </a:xfrm>
          <a:prstGeom prst="line">
            <a:avLst/>
          </a:prstGeom>
          <a:ln w="19080">
            <a:solidFill>
              <a:srgbClr val="f2d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 flipV="1">
            <a:off x="1039320" y="4878360"/>
            <a:ext cx="1281240" cy="30240"/>
          </a:xfrm>
          <a:prstGeom prst="line">
            <a:avLst/>
          </a:prstGeom>
          <a:ln w="19080">
            <a:solidFill>
              <a:srgbClr val="f2d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717560" y="5823000"/>
            <a:ext cx="112680" cy="112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506680" y="4579920"/>
            <a:ext cx="623880" cy="395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3187800" y="4465440"/>
            <a:ext cx="1187280" cy="114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4375080" y="3957480"/>
            <a:ext cx="1131840" cy="5083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1" name=""/>
          <p:cNvCxnSpPr/>
          <p:nvPr/>
        </p:nvCxnSpPr>
        <p:spPr>
          <a:xfrm flipH="1" flipV="1" rot="5400000">
            <a:off x="3466080" y="2827800"/>
            <a:ext cx="1015200" cy="3077280"/>
          </a:xfrm>
          <a:prstGeom prst="bentConnector3">
            <a:avLst>
              <a:gd name="adj1" fmla="val -16672"/>
            </a:avLst>
          </a:prstGeom>
          <a:ln w="25560">
            <a:solidFill>
              <a:srgbClr val="ffffff"/>
            </a:solidFill>
            <a:miter/>
          </a:ln>
        </p:spPr>
      </p:cxnSp>
      <p:sp>
        <p:nvSpPr>
          <p:cNvPr id="1242" name=""/>
          <p:cNvSpPr/>
          <p:nvPr/>
        </p:nvSpPr>
        <p:spPr>
          <a:xfrm>
            <a:off x="3129480" y="5597640"/>
            <a:ext cx="88632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 Black"/>
              </a:rPr>
              <a:t>Switched </a:t>
            </a:r>
            <a:br>
              <a:rPr sz="1200"/>
            </a:br>
            <a:r>
              <a:rPr b="0" lang="en-US" sz="1200" spc="-1" strike="noStrike">
                <a:solidFill>
                  <a:srgbClr val="fe9b03"/>
                </a:solidFill>
                <a:latin typeface="Arial Black"/>
              </a:rPr>
              <a:t>L2 A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 Black"/>
              </a:rPr>
              <a:t>Backb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397560" y="411012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083200" y="40640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.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000840" y="3368520"/>
            <a:ext cx="1063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ether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286320" y="467820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710960" y="541656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733920" y="400680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oro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400400" y="414648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816120" y="413064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74320" y="4422600"/>
            <a:ext cx="10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uth Ko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31760" y="53071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ingap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82320" y="49467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i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947960" y="5707080"/>
            <a:ext cx="8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2452680" y="4537080"/>
            <a:ext cx="1857240" cy="449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206960" y="4354560"/>
            <a:ext cx="225360" cy="2253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293920" y="4876920"/>
            <a:ext cx="227160" cy="2253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H="1" flipV="1">
            <a:off x="5474880" y="3960720"/>
            <a:ext cx="569880" cy="2098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9" name=""/>
          <p:cNvCxnSpPr/>
          <p:nvPr/>
        </p:nvCxnSpPr>
        <p:spPr>
          <a:xfrm flipH="1" flipV="1" rot="5400000">
            <a:off x="4173840" y="2976480"/>
            <a:ext cx="443880" cy="2388600"/>
          </a:xfrm>
          <a:prstGeom prst="bentConnector2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260" name=""/>
          <p:cNvSpPr/>
          <p:nvPr/>
        </p:nvSpPr>
        <p:spPr>
          <a:xfrm>
            <a:off x="6406920" y="426564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407280" y="3917880"/>
            <a:ext cx="76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 flipV="1">
            <a:off x="6175080" y="4002120"/>
            <a:ext cx="307800" cy="25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405120" y="442764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H="1" flipV="1">
            <a:off x="5951520" y="4489560"/>
            <a:ext cx="395280" cy="48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949640" y="4354560"/>
            <a:ext cx="596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220200" y="50227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H="1" flipV="1">
            <a:off x="3243240" y="4560840"/>
            <a:ext cx="447840" cy="371520"/>
          </a:xfrm>
          <a:prstGeom prst="line">
            <a:avLst/>
          </a:prstGeom>
          <a:ln w="19080">
            <a:solidFill>
              <a:srgbClr val="f2d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076560" y="4452840"/>
            <a:ext cx="225360" cy="22392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549760" y="6116760"/>
            <a:ext cx="10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 flipV="1">
            <a:off x="5481720" y="3962520"/>
            <a:ext cx="487440" cy="69840"/>
          </a:xfrm>
          <a:prstGeom prst="line">
            <a:avLst/>
          </a:prstGeom>
          <a:ln w="19080">
            <a:solidFill>
              <a:srgbClr val="f2d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 flipV="1">
            <a:off x="5477040" y="3976200"/>
            <a:ext cx="442800" cy="497160"/>
          </a:xfrm>
          <a:prstGeom prst="line">
            <a:avLst/>
          </a:prstGeom>
          <a:ln w="19080">
            <a:solidFill>
              <a:srgbClr val="f2d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 flipV="1">
            <a:off x="5463720" y="3962160"/>
            <a:ext cx="125640" cy="631800"/>
          </a:xfrm>
          <a:prstGeom prst="line">
            <a:avLst/>
          </a:prstGeom>
          <a:ln w="19080">
            <a:solidFill>
              <a:srgbClr val="f2d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3583080" y="5265720"/>
            <a:ext cx="1440" cy="326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375160" y="3846600"/>
            <a:ext cx="227160" cy="22392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292640" y="4471920"/>
            <a:ext cx="112680" cy="112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157560" y="4567320"/>
            <a:ext cx="112680" cy="112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382840" y="4991040"/>
            <a:ext cx="114120" cy="114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 flipV="1">
            <a:off x="6262560" y="4355640"/>
            <a:ext cx="252720" cy="586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021360" y="6045120"/>
            <a:ext cx="57240" cy="58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272280" y="4759200"/>
            <a:ext cx="58680" cy="6048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557680" y="4562640"/>
            <a:ext cx="59040" cy="60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881680" y="4444920"/>
            <a:ext cx="60480" cy="58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749920" y="4361040"/>
            <a:ext cx="60480" cy="5868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592600" y="4248000"/>
            <a:ext cx="59040" cy="6048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 flipV="1">
            <a:off x="5459040" y="3962520"/>
            <a:ext cx="423720" cy="328320"/>
          </a:xfrm>
          <a:prstGeom prst="line">
            <a:avLst/>
          </a:prstGeom>
          <a:ln w="19080">
            <a:solidFill>
              <a:srgbClr val="f2d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951520" y="4002120"/>
            <a:ext cx="58680" cy="58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462640" y="3957480"/>
            <a:ext cx="112680" cy="113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843520" y="4253040"/>
            <a:ext cx="58680" cy="5868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330960" y="4203720"/>
            <a:ext cx="58680" cy="5868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051440" y="4199040"/>
            <a:ext cx="58680" cy="5868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652920" y="4902120"/>
            <a:ext cx="58680" cy="6048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481720" y="4592520"/>
            <a:ext cx="6822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 flipV="1">
            <a:off x="5775120" y="4444560"/>
            <a:ext cx="37800" cy="11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31960" y="5248440"/>
            <a:ext cx="58680" cy="5868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998640" y="5054760"/>
            <a:ext cx="60120" cy="60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324080" y="4583160"/>
            <a:ext cx="58680" cy="5868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293840" y="4371840"/>
            <a:ext cx="60120" cy="5904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979560" y="4819680"/>
            <a:ext cx="114120" cy="1112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1760" y="4649760"/>
            <a:ext cx="10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ng K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44480" y="5232240"/>
            <a:ext cx="112680" cy="1130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925960" y="3933720"/>
            <a:ext cx="114480" cy="1112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594560" y="3443400"/>
            <a:ext cx="235080" cy="2332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877160" y="337968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ata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746840" y="3941640"/>
            <a:ext cx="146160" cy="146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7877880" y="3851280"/>
            <a:ext cx="93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cal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Content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888320" y="4527720"/>
            <a:ext cx="94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lanne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Local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Content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756560" y="4646520"/>
            <a:ext cx="146160" cy="1447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888320" y="5448240"/>
            <a:ext cx="94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lanne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I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835760" y="5537160"/>
            <a:ext cx="114480" cy="1144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897680" y="5900760"/>
            <a:ext cx="104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ploye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I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835760" y="5991120"/>
            <a:ext cx="114480" cy="11448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2" name=""/>
          <p:cNvGrpSpPr/>
          <p:nvPr/>
        </p:nvGrpSpPr>
        <p:grpSpPr>
          <a:xfrm>
            <a:off x="1874880" y="5769000"/>
            <a:ext cx="146160" cy="166680"/>
            <a:chOff x="1874880" y="5769000"/>
            <a:chExt cx="146160" cy="166680"/>
          </a:xfrm>
        </p:grpSpPr>
        <p:sp>
          <p:nvSpPr>
            <p:cNvPr id="1313" name=""/>
            <p:cNvSpPr/>
            <p:nvPr/>
          </p:nvSpPr>
          <p:spPr>
            <a:xfrm>
              <a:off x="1874880" y="5769000"/>
              <a:ext cx="146160" cy="8316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874880" y="5810400"/>
              <a:ext cx="73080" cy="12528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947960" y="5810400"/>
              <a:ext cx="72720" cy="12528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900080" y="5797080"/>
              <a:ext cx="96120" cy="5508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900080" y="5824800"/>
              <a:ext cx="47880" cy="82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947960" y="5824800"/>
              <a:ext cx="47880" cy="82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923840" y="5824800"/>
              <a:ext cx="47880" cy="2736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923840" y="5838480"/>
              <a:ext cx="24120" cy="414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947960" y="5838480"/>
              <a:ext cx="23760" cy="414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893880" y="5187960"/>
            <a:ext cx="145800" cy="166680"/>
            <a:chOff x="893880" y="5187960"/>
            <a:chExt cx="145800" cy="166680"/>
          </a:xfrm>
        </p:grpSpPr>
        <p:sp>
          <p:nvSpPr>
            <p:cNvPr id="1323" name=""/>
            <p:cNvSpPr/>
            <p:nvPr/>
          </p:nvSpPr>
          <p:spPr>
            <a:xfrm>
              <a:off x="893880" y="5187960"/>
              <a:ext cx="145800" cy="8316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93880" y="5229360"/>
              <a:ext cx="73080" cy="12528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966960" y="5229360"/>
              <a:ext cx="72720" cy="12528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919080" y="5216040"/>
              <a:ext cx="96120" cy="5508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919080" y="5243760"/>
              <a:ext cx="47880" cy="82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966960" y="5243760"/>
              <a:ext cx="47880" cy="82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942840" y="5243760"/>
              <a:ext cx="47880" cy="2736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942840" y="5257440"/>
              <a:ext cx="24120" cy="414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966960" y="5257440"/>
              <a:ext cx="23760" cy="414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1131840" y="4759200"/>
            <a:ext cx="146160" cy="166680"/>
            <a:chOff x="1131840" y="4759200"/>
            <a:chExt cx="146160" cy="166680"/>
          </a:xfrm>
        </p:grpSpPr>
        <p:sp>
          <p:nvSpPr>
            <p:cNvPr id="1333" name=""/>
            <p:cNvSpPr/>
            <p:nvPr/>
          </p:nvSpPr>
          <p:spPr>
            <a:xfrm>
              <a:off x="1131840" y="4759200"/>
              <a:ext cx="146160" cy="8316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131840" y="4800600"/>
              <a:ext cx="73080" cy="12528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204920" y="4800600"/>
              <a:ext cx="72720" cy="12528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157040" y="4787280"/>
              <a:ext cx="96120" cy="5508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157040" y="4815000"/>
              <a:ext cx="47880" cy="82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204920" y="4815000"/>
              <a:ext cx="47880" cy="82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80800" y="4815000"/>
              <a:ext cx="47880" cy="2736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180800" y="4828680"/>
              <a:ext cx="24120" cy="414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204920" y="4828680"/>
              <a:ext cx="23760" cy="414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1760400" y="4378320"/>
            <a:ext cx="146160" cy="166680"/>
            <a:chOff x="1760400" y="4378320"/>
            <a:chExt cx="146160" cy="166680"/>
          </a:xfrm>
        </p:grpSpPr>
        <p:sp>
          <p:nvSpPr>
            <p:cNvPr id="1343" name=""/>
            <p:cNvSpPr/>
            <p:nvPr/>
          </p:nvSpPr>
          <p:spPr>
            <a:xfrm>
              <a:off x="1760400" y="4378320"/>
              <a:ext cx="146160" cy="8316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760400" y="4419720"/>
              <a:ext cx="73080" cy="12528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33480" y="4419720"/>
              <a:ext cx="72720" cy="12528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785600" y="4406400"/>
              <a:ext cx="96120" cy="5508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785600" y="4434120"/>
              <a:ext cx="47880" cy="82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833480" y="4434120"/>
              <a:ext cx="47880" cy="82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809360" y="4434120"/>
              <a:ext cx="47880" cy="2736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809360" y="4447800"/>
              <a:ext cx="24120" cy="414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833480" y="4447800"/>
              <a:ext cx="23760" cy="414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2541600" y="4930920"/>
            <a:ext cx="146160" cy="166680"/>
            <a:chOff x="2541600" y="4930920"/>
            <a:chExt cx="146160" cy="166680"/>
          </a:xfrm>
        </p:grpSpPr>
        <p:sp>
          <p:nvSpPr>
            <p:cNvPr id="1353" name=""/>
            <p:cNvSpPr/>
            <p:nvPr/>
          </p:nvSpPr>
          <p:spPr>
            <a:xfrm>
              <a:off x="2541600" y="4930920"/>
              <a:ext cx="146160" cy="8316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541600" y="4972320"/>
              <a:ext cx="73080" cy="12528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614680" y="4972320"/>
              <a:ext cx="72720" cy="12528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66800" y="4959000"/>
              <a:ext cx="96120" cy="5508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566800" y="4986720"/>
              <a:ext cx="47880" cy="82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614680" y="4986720"/>
              <a:ext cx="47880" cy="82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590560" y="4986720"/>
              <a:ext cx="47880" cy="2736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590560" y="5000400"/>
              <a:ext cx="24120" cy="414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614680" y="5000400"/>
              <a:ext cx="23760" cy="414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3313080" y="4521240"/>
            <a:ext cx="146160" cy="166680"/>
            <a:chOff x="3313080" y="4521240"/>
            <a:chExt cx="146160" cy="166680"/>
          </a:xfrm>
        </p:grpSpPr>
        <p:sp>
          <p:nvSpPr>
            <p:cNvPr id="1363" name=""/>
            <p:cNvSpPr/>
            <p:nvPr/>
          </p:nvSpPr>
          <p:spPr>
            <a:xfrm>
              <a:off x="3313080" y="4521240"/>
              <a:ext cx="146160" cy="8316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313080" y="4562640"/>
              <a:ext cx="73080" cy="12528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386160" y="4562640"/>
              <a:ext cx="72720" cy="12528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338280" y="4549320"/>
              <a:ext cx="96120" cy="5508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338280" y="4577040"/>
              <a:ext cx="47880" cy="82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386160" y="4577040"/>
              <a:ext cx="47880" cy="82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362040" y="4577040"/>
              <a:ext cx="47880" cy="2736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362040" y="4590720"/>
              <a:ext cx="24120" cy="414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386160" y="4590720"/>
              <a:ext cx="23760" cy="414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2" name=""/>
          <p:cNvGrpSpPr/>
          <p:nvPr/>
        </p:nvGrpSpPr>
        <p:grpSpPr>
          <a:xfrm>
            <a:off x="4446720" y="4416480"/>
            <a:ext cx="145800" cy="166680"/>
            <a:chOff x="4446720" y="4416480"/>
            <a:chExt cx="145800" cy="166680"/>
          </a:xfrm>
        </p:grpSpPr>
        <p:sp>
          <p:nvSpPr>
            <p:cNvPr id="1373" name=""/>
            <p:cNvSpPr/>
            <p:nvPr/>
          </p:nvSpPr>
          <p:spPr>
            <a:xfrm>
              <a:off x="4446720" y="4416480"/>
              <a:ext cx="145800" cy="8316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446720" y="4457880"/>
              <a:ext cx="73080" cy="12528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519800" y="4457880"/>
              <a:ext cx="72720" cy="12528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471920" y="4444560"/>
              <a:ext cx="96120" cy="5508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471920" y="4472280"/>
              <a:ext cx="47880" cy="82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519800" y="4472280"/>
              <a:ext cx="47880" cy="82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495680" y="4472280"/>
              <a:ext cx="47880" cy="2736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495680" y="4485960"/>
              <a:ext cx="24120" cy="414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519800" y="4485960"/>
              <a:ext cx="23760" cy="414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5618160" y="3902040"/>
            <a:ext cx="146160" cy="166680"/>
            <a:chOff x="5618160" y="3902040"/>
            <a:chExt cx="146160" cy="166680"/>
          </a:xfrm>
        </p:grpSpPr>
        <p:sp>
          <p:nvSpPr>
            <p:cNvPr id="1383" name=""/>
            <p:cNvSpPr/>
            <p:nvPr/>
          </p:nvSpPr>
          <p:spPr>
            <a:xfrm>
              <a:off x="5618160" y="3902040"/>
              <a:ext cx="146160" cy="8316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618160" y="3943440"/>
              <a:ext cx="73080" cy="12528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691240" y="3943440"/>
              <a:ext cx="72720" cy="12528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643360" y="3930120"/>
              <a:ext cx="96120" cy="5508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43360" y="3957840"/>
              <a:ext cx="47880" cy="82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691240" y="3957840"/>
              <a:ext cx="47880" cy="82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667120" y="3957840"/>
              <a:ext cx="47880" cy="2736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667120" y="3971520"/>
              <a:ext cx="24120" cy="414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691240" y="3971520"/>
              <a:ext cx="23760" cy="414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2" name=""/>
          <p:cNvGrpSpPr/>
          <p:nvPr/>
        </p:nvGrpSpPr>
        <p:grpSpPr>
          <a:xfrm>
            <a:off x="6075360" y="3873600"/>
            <a:ext cx="146160" cy="166680"/>
            <a:chOff x="6075360" y="3873600"/>
            <a:chExt cx="146160" cy="166680"/>
          </a:xfrm>
        </p:grpSpPr>
        <p:sp>
          <p:nvSpPr>
            <p:cNvPr id="1393" name=""/>
            <p:cNvSpPr/>
            <p:nvPr/>
          </p:nvSpPr>
          <p:spPr>
            <a:xfrm>
              <a:off x="6075360" y="3873600"/>
              <a:ext cx="146160" cy="8316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075360" y="3915000"/>
              <a:ext cx="73080" cy="12528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148440" y="3915000"/>
              <a:ext cx="72720" cy="12528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100560" y="3901680"/>
              <a:ext cx="96120" cy="5508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00560" y="3929400"/>
              <a:ext cx="47880" cy="82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148440" y="3929400"/>
              <a:ext cx="47880" cy="82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124320" y="3929400"/>
              <a:ext cx="47880" cy="2736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124320" y="3943080"/>
              <a:ext cx="24120" cy="414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148440" y="3943080"/>
              <a:ext cx="23760" cy="414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2" name=""/>
          <p:cNvSpPr/>
          <p:nvPr/>
        </p:nvSpPr>
        <p:spPr>
          <a:xfrm>
            <a:off x="5877000" y="3581280"/>
            <a:ext cx="171360" cy="609840"/>
          </a:xfrm>
          <a:custGeom>
            <a:avLst/>
            <a:gdLst/>
            <a:ahLst/>
            <a:rect l="l" t="t" r="r" b="b"/>
            <a:pathLst>
              <a:path w="108" h="384">
                <a:moveTo>
                  <a:pt x="0" y="384"/>
                </a:moveTo>
                <a:lnTo>
                  <a:pt x="0" y="108"/>
                </a:lnTo>
                <a:lnTo>
                  <a:pt x="10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3" name=""/>
          <p:cNvGrpSpPr/>
          <p:nvPr/>
        </p:nvGrpSpPr>
        <p:grpSpPr>
          <a:xfrm>
            <a:off x="6122880" y="4206960"/>
            <a:ext cx="146160" cy="166680"/>
            <a:chOff x="6122880" y="4206960"/>
            <a:chExt cx="146160" cy="166680"/>
          </a:xfrm>
        </p:grpSpPr>
        <p:sp>
          <p:nvSpPr>
            <p:cNvPr id="1404" name=""/>
            <p:cNvSpPr/>
            <p:nvPr/>
          </p:nvSpPr>
          <p:spPr>
            <a:xfrm>
              <a:off x="6122880" y="4206960"/>
              <a:ext cx="146160" cy="8316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122880" y="4248360"/>
              <a:ext cx="73080" cy="12528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195960" y="4248360"/>
              <a:ext cx="72720" cy="12528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148080" y="4235040"/>
              <a:ext cx="96120" cy="5508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148080" y="4262760"/>
              <a:ext cx="47880" cy="82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195960" y="4262760"/>
              <a:ext cx="47880" cy="82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171840" y="4262760"/>
              <a:ext cx="47880" cy="2736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171840" y="4276440"/>
              <a:ext cx="24120" cy="414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195960" y="4276440"/>
              <a:ext cx="23760" cy="414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" name=""/>
          <p:cNvSpPr/>
          <p:nvPr/>
        </p:nvSpPr>
        <p:spPr>
          <a:xfrm>
            <a:off x="5586480" y="4413240"/>
            <a:ext cx="112680" cy="1126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4" name=""/>
          <p:cNvGrpSpPr/>
          <p:nvPr/>
        </p:nvGrpSpPr>
        <p:grpSpPr>
          <a:xfrm>
            <a:off x="5742000" y="4359240"/>
            <a:ext cx="146160" cy="166680"/>
            <a:chOff x="5742000" y="4359240"/>
            <a:chExt cx="146160" cy="166680"/>
          </a:xfrm>
        </p:grpSpPr>
        <p:sp>
          <p:nvSpPr>
            <p:cNvPr id="1415" name=""/>
            <p:cNvSpPr/>
            <p:nvPr/>
          </p:nvSpPr>
          <p:spPr>
            <a:xfrm>
              <a:off x="5742000" y="4359240"/>
              <a:ext cx="146160" cy="8316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742000" y="4400640"/>
              <a:ext cx="73080" cy="12528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15080" y="4400640"/>
              <a:ext cx="72720" cy="12528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767200" y="4387320"/>
              <a:ext cx="96120" cy="5508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767200" y="4415040"/>
              <a:ext cx="47880" cy="82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15080" y="4415040"/>
              <a:ext cx="47880" cy="82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790960" y="4415040"/>
              <a:ext cx="47880" cy="2736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790960" y="4428720"/>
              <a:ext cx="24120" cy="414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15080" y="4428720"/>
              <a:ext cx="23760" cy="414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gital Isl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95000" y="1371600"/>
            <a:ext cx="504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ital Island provides add-value, revenue-generating services to its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consistent content delivery and reduced latency in deploying new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t cost savings in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operational efficiency, simplified administration of distributed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6" name="nsc" descr=""/>
          <p:cNvPicPr/>
          <p:nvPr/>
        </p:nvPicPr>
        <p:blipFill>
          <a:blip r:embed="rId2"/>
          <a:stretch/>
        </p:blipFill>
        <p:spPr>
          <a:xfrm>
            <a:off x="5537160" y="1825560"/>
            <a:ext cx="3238560" cy="4556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eroWorld Service: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lobal Platform for Content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8" name=""/>
          <p:cNvGrpSpPr/>
          <p:nvPr/>
        </p:nvGrpSpPr>
        <p:grpSpPr>
          <a:xfrm>
            <a:off x="333000" y="3848040"/>
            <a:ext cx="1856880" cy="1065960"/>
            <a:chOff x="333000" y="3848040"/>
            <a:chExt cx="1856880" cy="1065960"/>
          </a:xfrm>
        </p:grpSpPr>
        <p:sp>
          <p:nvSpPr>
            <p:cNvPr id="1429" name=""/>
            <p:cNvSpPr/>
            <p:nvPr/>
          </p:nvSpPr>
          <p:spPr>
            <a:xfrm>
              <a:off x="333000" y="3848040"/>
              <a:ext cx="185688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ero Intelligent No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eployed Today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9 Cou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5 Nod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 Networ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546200" y="384804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1" name=""/>
          <p:cNvSpPr/>
          <p:nvPr/>
        </p:nvSpPr>
        <p:spPr>
          <a:xfrm>
            <a:off x="333000" y="5118120"/>
            <a:ext cx="18568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ero Intelligent N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ployed in Q4/99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0 Cou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 N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Backb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0760" y="3943440"/>
            <a:ext cx="136440" cy="136440"/>
          </a:xfrm>
          <a:prstGeom prst="rect">
            <a:avLst/>
          </a:prstGeom>
          <a:solidFill>
            <a:srgbClr val="000000"/>
          </a:solidFill>
          <a:ln w="7632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0760" y="5197320"/>
            <a:ext cx="136440" cy="13680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4" name=""/>
          <p:cNvGrpSpPr/>
          <p:nvPr/>
        </p:nvGrpSpPr>
        <p:grpSpPr>
          <a:xfrm>
            <a:off x="2224080" y="3502080"/>
            <a:ext cx="6996240" cy="3133440"/>
            <a:chOff x="2224080" y="3502080"/>
            <a:chExt cx="6996240" cy="3133440"/>
          </a:xfrm>
        </p:grpSpPr>
        <p:sp>
          <p:nvSpPr>
            <p:cNvPr id="1435" name=""/>
            <p:cNvSpPr/>
            <p:nvPr/>
          </p:nvSpPr>
          <p:spPr>
            <a:xfrm>
              <a:off x="5789520" y="5348160"/>
              <a:ext cx="758880" cy="1287360"/>
            </a:xfrm>
            <a:custGeom>
              <a:avLst/>
              <a:gdLst/>
              <a:ahLst/>
              <a:rect l="l" t="t" r="r" b="b"/>
              <a:pathLst>
                <a:path w="632" h="1072">
                  <a:moveTo>
                    <a:pt x="24" y="64"/>
                  </a:moveTo>
                  <a:lnTo>
                    <a:pt x="24" y="64"/>
                  </a:lnTo>
                  <a:lnTo>
                    <a:pt x="8" y="112"/>
                  </a:lnTo>
                  <a:lnTo>
                    <a:pt x="0" y="176"/>
                  </a:lnTo>
                  <a:lnTo>
                    <a:pt x="0" y="240"/>
                  </a:lnTo>
                  <a:lnTo>
                    <a:pt x="16" y="296"/>
                  </a:lnTo>
                  <a:lnTo>
                    <a:pt x="32" y="320"/>
                  </a:lnTo>
                  <a:lnTo>
                    <a:pt x="48" y="336"/>
                  </a:lnTo>
                  <a:lnTo>
                    <a:pt x="64" y="360"/>
                  </a:lnTo>
                  <a:lnTo>
                    <a:pt x="88" y="376"/>
                  </a:lnTo>
                  <a:lnTo>
                    <a:pt x="104" y="392"/>
                  </a:lnTo>
                  <a:lnTo>
                    <a:pt x="120" y="408"/>
                  </a:lnTo>
                  <a:lnTo>
                    <a:pt x="128" y="432"/>
                  </a:lnTo>
                  <a:lnTo>
                    <a:pt x="136" y="448"/>
                  </a:lnTo>
                  <a:lnTo>
                    <a:pt x="144" y="488"/>
                  </a:lnTo>
                  <a:lnTo>
                    <a:pt x="144" y="536"/>
                  </a:lnTo>
                  <a:lnTo>
                    <a:pt x="144" y="584"/>
                  </a:lnTo>
                  <a:lnTo>
                    <a:pt x="128" y="640"/>
                  </a:lnTo>
                  <a:lnTo>
                    <a:pt x="120" y="672"/>
                  </a:lnTo>
                  <a:lnTo>
                    <a:pt x="120" y="704"/>
                  </a:lnTo>
                  <a:lnTo>
                    <a:pt x="120" y="736"/>
                  </a:lnTo>
                  <a:lnTo>
                    <a:pt x="112" y="768"/>
                  </a:lnTo>
                  <a:lnTo>
                    <a:pt x="112" y="800"/>
                  </a:lnTo>
                  <a:lnTo>
                    <a:pt x="112" y="824"/>
                  </a:lnTo>
                  <a:lnTo>
                    <a:pt x="104" y="856"/>
                  </a:lnTo>
                  <a:lnTo>
                    <a:pt x="104" y="872"/>
                  </a:lnTo>
                  <a:lnTo>
                    <a:pt x="96" y="896"/>
                  </a:lnTo>
                  <a:lnTo>
                    <a:pt x="88" y="920"/>
                  </a:lnTo>
                  <a:lnTo>
                    <a:pt x="88" y="944"/>
                  </a:lnTo>
                  <a:lnTo>
                    <a:pt x="88" y="960"/>
                  </a:lnTo>
                  <a:lnTo>
                    <a:pt x="104" y="992"/>
                  </a:lnTo>
                  <a:lnTo>
                    <a:pt x="112" y="1016"/>
                  </a:lnTo>
                  <a:lnTo>
                    <a:pt x="128" y="1040"/>
                  </a:lnTo>
                  <a:lnTo>
                    <a:pt x="144" y="1056"/>
                  </a:lnTo>
                  <a:lnTo>
                    <a:pt x="152" y="1064"/>
                  </a:lnTo>
                  <a:lnTo>
                    <a:pt x="168" y="1064"/>
                  </a:lnTo>
                  <a:lnTo>
                    <a:pt x="176" y="1072"/>
                  </a:lnTo>
                  <a:lnTo>
                    <a:pt x="184" y="1072"/>
                  </a:lnTo>
                  <a:lnTo>
                    <a:pt x="200" y="1072"/>
                  </a:lnTo>
                  <a:lnTo>
                    <a:pt x="208" y="1072"/>
                  </a:lnTo>
                  <a:lnTo>
                    <a:pt x="216" y="1072"/>
                  </a:lnTo>
                  <a:lnTo>
                    <a:pt x="216" y="1064"/>
                  </a:lnTo>
                  <a:lnTo>
                    <a:pt x="216" y="1056"/>
                  </a:lnTo>
                  <a:lnTo>
                    <a:pt x="216" y="1056"/>
                  </a:lnTo>
                  <a:lnTo>
                    <a:pt x="208" y="1048"/>
                  </a:lnTo>
                  <a:lnTo>
                    <a:pt x="200" y="1040"/>
                  </a:lnTo>
                  <a:lnTo>
                    <a:pt x="192" y="1024"/>
                  </a:lnTo>
                  <a:lnTo>
                    <a:pt x="184" y="1008"/>
                  </a:lnTo>
                  <a:lnTo>
                    <a:pt x="184" y="992"/>
                  </a:lnTo>
                  <a:lnTo>
                    <a:pt x="184" y="960"/>
                  </a:lnTo>
                  <a:lnTo>
                    <a:pt x="192" y="928"/>
                  </a:lnTo>
                  <a:lnTo>
                    <a:pt x="200" y="912"/>
                  </a:lnTo>
                  <a:lnTo>
                    <a:pt x="216" y="896"/>
                  </a:lnTo>
                  <a:lnTo>
                    <a:pt x="232" y="880"/>
                  </a:lnTo>
                  <a:lnTo>
                    <a:pt x="248" y="864"/>
                  </a:lnTo>
                  <a:lnTo>
                    <a:pt x="256" y="848"/>
                  </a:lnTo>
                  <a:lnTo>
                    <a:pt x="264" y="824"/>
                  </a:lnTo>
                  <a:lnTo>
                    <a:pt x="272" y="800"/>
                  </a:lnTo>
                  <a:lnTo>
                    <a:pt x="288" y="784"/>
                  </a:lnTo>
                  <a:lnTo>
                    <a:pt x="296" y="776"/>
                  </a:lnTo>
                  <a:lnTo>
                    <a:pt x="312" y="776"/>
                  </a:lnTo>
                  <a:lnTo>
                    <a:pt x="328" y="768"/>
                  </a:lnTo>
                  <a:lnTo>
                    <a:pt x="336" y="752"/>
                  </a:lnTo>
                  <a:lnTo>
                    <a:pt x="352" y="736"/>
                  </a:lnTo>
                  <a:lnTo>
                    <a:pt x="360" y="728"/>
                  </a:lnTo>
                  <a:lnTo>
                    <a:pt x="368" y="712"/>
                  </a:lnTo>
                  <a:lnTo>
                    <a:pt x="384" y="696"/>
                  </a:lnTo>
                  <a:lnTo>
                    <a:pt x="392" y="688"/>
                  </a:lnTo>
                  <a:lnTo>
                    <a:pt x="400" y="672"/>
                  </a:lnTo>
                  <a:lnTo>
                    <a:pt x="408" y="664"/>
                  </a:lnTo>
                  <a:lnTo>
                    <a:pt x="416" y="648"/>
                  </a:lnTo>
                  <a:lnTo>
                    <a:pt x="424" y="640"/>
                  </a:lnTo>
                  <a:lnTo>
                    <a:pt x="424" y="632"/>
                  </a:lnTo>
                  <a:lnTo>
                    <a:pt x="432" y="616"/>
                  </a:lnTo>
                  <a:lnTo>
                    <a:pt x="440" y="608"/>
                  </a:lnTo>
                  <a:lnTo>
                    <a:pt x="440" y="592"/>
                  </a:lnTo>
                  <a:lnTo>
                    <a:pt x="432" y="576"/>
                  </a:lnTo>
                  <a:lnTo>
                    <a:pt x="440" y="560"/>
                  </a:lnTo>
                  <a:lnTo>
                    <a:pt x="448" y="560"/>
                  </a:lnTo>
                  <a:lnTo>
                    <a:pt x="464" y="560"/>
                  </a:lnTo>
                  <a:lnTo>
                    <a:pt x="472" y="560"/>
                  </a:lnTo>
                  <a:lnTo>
                    <a:pt x="480" y="552"/>
                  </a:lnTo>
                  <a:lnTo>
                    <a:pt x="496" y="552"/>
                  </a:lnTo>
                  <a:lnTo>
                    <a:pt x="512" y="544"/>
                  </a:lnTo>
                  <a:lnTo>
                    <a:pt x="528" y="536"/>
                  </a:lnTo>
                  <a:lnTo>
                    <a:pt x="536" y="536"/>
                  </a:lnTo>
                  <a:lnTo>
                    <a:pt x="552" y="536"/>
                  </a:lnTo>
                  <a:lnTo>
                    <a:pt x="560" y="528"/>
                  </a:lnTo>
                  <a:lnTo>
                    <a:pt x="568" y="512"/>
                  </a:lnTo>
                  <a:lnTo>
                    <a:pt x="576" y="504"/>
                  </a:lnTo>
                  <a:lnTo>
                    <a:pt x="584" y="488"/>
                  </a:lnTo>
                  <a:lnTo>
                    <a:pt x="592" y="456"/>
                  </a:lnTo>
                  <a:lnTo>
                    <a:pt x="608" y="424"/>
                  </a:lnTo>
                  <a:lnTo>
                    <a:pt x="616" y="400"/>
                  </a:lnTo>
                  <a:lnTo>
                    <a:pt x="616" y="384"/>
                  </a:lnTo>
                  <a:lnTo>
                    <a:pt x="624" y="360"/>
                  </a:lnTo>
                  <a:lnTo>
                    <a:pt x="624" y="344"/>
                  </a:lnTo>
                  <a:lnTo>
                    <a:pt x="632" y="320"/>
                  </a:lnTo>
                  <a:lnTo>
                    <a:pt x="632" y="304"/>
                  </a:lnTo>
                  <a:lnTo>
                    <a:pt x="632" y="288"/>
                  </a:lnTo>
                  <a:lnTo>
                    <a:pt x="624" y="264"/>
                  </a:lnTo>
                  <a:lnTo>
                    <a:pt x="616" y="256"/>
                  </a:lnTo>
                  <a:lnTo>
                    <a:pt x="616" y="256"/>
                  </a:lnTo>
                  <a:lnTo>
                    <a:pt x="608" y="248"/>
                  </a:lnTo>
                  <a:lnTo>
                    <a:pt x="592" y="248"/>
                  </a:lnTo>
                  <a:lnTo>
                    <a:pt x="584" y="248"/>
                  </a:lnTo>
                  <a:lnTo>
                    <a:pt x="576" y="240"/>
                  </a:lnTo>
                  <a:lnTo>
                    <a:pt x="568" y="232"/>
                  </a:lnTo>
                  <a:lnTo>
                    <a:pt x="560" y="232"/>
                  </a:lnTo>
                  <a:lnTo>
                    <a:pt x="560" y="224"/>
                  </a:lnTo>
                  <a:lnTo>
                    <a:pt x="552" y="208"/>
                  </a:lnTo>
                  <a:lnTo>
                    <a:pt x="544" y="200"/>
                  </a:lnTo>
                  <a:lnTo>
                    <a:pt x="536" y="192"/>
                  </a:lnTo>
                  <a:lnTo>
                    <a:pt x="520" y="192"/>
                  </a:lnTo>
                  <a:lnTo>
                    <a:pt x="520" y="192"/>
                  </a:lnTo>
                  <a:lnTo>
                    <a:pt x="504" y="192"/>
                  </a:lnTo>
                  <a:lnTo>
                    <a:pt x="496" y="192"/>
                  </a:lnTo>
                  <a:lnTo>
                    <a:pt x="488" y="192"/>
                  </a:lnTo>
                  <a:lnTo>
                    <a:pt x="480" y="192"/>
                  </a:lnTo>
                  <a:lnTo>
                    <a:pt x="472" y="184"/>
                  </a:lnTo>
                  <a:lnTo>
                    <a:pt x="464" y="184"/>
                  </a:lnTo>
                  <a:lnTo>
                    <a:pt x="456" y="176"/>
                  </a:lnTo>
                  <a:lnTo>
                    <a:pt x="448" y="160"/>
                  </a:lnTo>
                  <a:lnTo>
                    <a:pt x="432" y="136"/>
                  </a:lnTo>
                  <a:lnTo>
                    <a:pt x="424" y="120"/>
                  </a:lnTo>
                  <a:lnTo>
                    <a:pt x="408" y="104"/>
                  </a:lnTo>
                  <a:lnTo>
                    <a:pt x="400" y="104"/>
                  </a:lnTo>
                  <a:lnTo>
                    <a:pt x="392" y="88"/>
                  </a:lnTo>
                  <a:lnTo>
                    <a:pt x="368" y="80"/>
                  </a:lnTo>
                  <a:lnTo>
                    <a:pt x="344" y="64"/>
                  </a:lnTo>
                  <a:lnTo>
                    <a:pt x="320" y="48"/>
                  </a:lnTo>
                  <a:lnTo>
                    <a:pt x="296" y="40"/>
                  </a:lnTo>
                  <a:lnTo>
                    <a:pt x="272" y="32"/>
                  </a:lnTo>
                  <a:lnTo>
                    <a:pt x="256" y="24"/>
                  </a:lnTo>
                  <a:lnTo>
                    <a:pt x="232" y="24"/>
                  </a:lnTo>
                  <a:lnTo>
                    <a:pt x="216" y="24"/>
                  </a:lnTo>
                  <a:lnTo>
                    <a:pt x="200" y="24"/>
                  </a:lnTo>
                  <a:lnTo>
                    <a:pt x="184" y="16"/>
                  </a:lnTo>
                  <a:lnTo>
                    <a:pt x="176" y="16"/>
                  </a:lnTo>
                  <a:lnTo>
                    <a:pt x="168" y="16"/>
                  </a:lnTo>
                  <a:lnTo>
                    <a:pt x="160" y="16"/>
                  </a:lnTo>
                  <a:lnTo>
                    <a:pt x="152" y="16"/>
                  </a:lnTo>
                  <a:lnTo>
                    <a:pt x="144" y="16"/>
                  </a:lnTo>
                  <a:lnTo>
                    <a:pt x="136" y="16"/>
                  </a:lnTo>
                  <a:lnTo>
                    <a:pt x="128" y="8"/>
                  </a:lnTo>
                  <a:lnTo>
                    <a:pt x="120" y="0"/>
                  </a:lnTo>
                  <a:lnTo>
                    <a:pt x="112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8" y="8"/>
                  </a:lnTo>
                  <a:lnTo>
                    <a:pt x="80" y="16"/>
                  </a:lnTo>
                  <a:lnTo>
                    <a:pt x="72" y="24"/>
                  </a:lnTo>
                  <a:lnTo>
                    <a:pt x="64" y="32"/>
                  </a:lnTo>
                  <a:lnTo>
                    <a:pt x="48" y="40"/>
                  </a:lnTo>
                  <a:lnTo>
                    <a:pt x="48" y="48"/>
                  </a:lnTo>
                  <a:lnTo>
                    <a:pt x="40" y="48"/>
                  </a:lnTo>
                  <a:lnTo>
                    <a:pt x="32" y="56"/>
                  </a:lnTo>
                  <a:lnTo>
                    <a:pt x="24" y="64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309920" y="3983040"/>
              <a:ext cx="1930680" cy="1441440"/>
            </a:xfrm>
            <a:custGeom>
              <a:avLst/>
              <a:gdLst/>
              <a:ahLst/>
              <a:rect l="l" t="t" r="r" b="b"/>
              <a:pathLst>
                <a:path w="1608" h="1200">
                  <a:moveTo>
                    <a:pt x="1176" y="872"/>
                  </a:moveTo>
                  <a:lnTo>
                    <a:pt x="1176" y="872"/>
                  </a:lnTo>
                  <a:lnTo>
                    <a:pt x="1160" y="872"/>
                  </a:lnTo>
                  <a:lnTo>
                    <a:pt x="1144" y="872"/>
                  </a:lnTo>
                  <a:lnTo>
                    <a:pt x="1136" y="864"/>
                  </a:lnTo>
                  <a:lnTo>
                    <a:pt x="1120" y="872"/>
                  </a:lnTo>
                  <a:lnTo>
                    <a:pt x="1104" y="880"/>
                  </a:lnTo>
                  <a:lnTo>
                    <a:pt x="1096" y="888"/>
                  </a:lnTo>
                  <a:lnTo>
                    <a:pt x="1088" y="896"/>
                  </a:lnTo>
                  <a:lnTo>
                    <a:pt x="1080" y="896"/>
                  </a:lnTo>
                  <a:lnTo>
                    <a:pt x="1072" y="896"/>
                  </a:lnTo>
                  <a:lnTo>
                    <a:pt x="1056" y="896"/>
                  </a:lnTo>
                  <a:lnTo>
                    <a:pt x="1048" y="896"/>
                  </a:lnTo>
                  <a:lnTo>
                    <a:pt x="1040" y="896"/>
                  </a:lnTo>
                  <a:lnTo>
                    <a:pt x="1032" y="904"/>
                  </a:lnTo>
                  <a:lnTo>
                    <a:pt x="1024" y="912"/>
                  </a:lnTo>
                  <a:lnTo>
                    <a:pt x="1016" y="920"/>
                  </a:lnTo>
                  <a:lnTo>
                    <a:pt x="1008" y="944"/>
                  </a:lnTo>
                  <a:lnTo>
                    <a:pt x="1008" y="968"/>
                  </a:lnTo>
                  <a:lnTo>
                    <a:pt x="1008" y="984"/>
                  </a:lnTo>
                  <a:lnTo>
                    <a:pt x="1016" y="1000"/>
                  </a:lnTo>
                  <a:lnTo>
                    <a:pt x="1024" y="1008"/>
                  </a:lnTo>
                  <a:lnTo>
                    <a:pt x="1040" y="1024"/>
                  </a:lnTo>
                  <a:lnTo>
                    <a:pt x="1048" y="1032"/>
                  </a:lnTo>
                  <a:lnTo>
                    <a:pt x="1056" y="1032"/>
                  </a:lnTo>
                  <a:lnTo>
                    <a:pt x="1064" y="1040"/>
                  </a:lnTo>
                  <a:lnTo>
                    <a:pt x="1072" y="1040"/>
                  </a:lnTo>
                  <a:lnTo>
                    <a:pt x="1080" y="1032"/>
                  </a:lnTo>
                  <a:lnTo>
                    <a:pt x="1088" y="1032"/>
                  </a:lnTo>
                  <a:lnTo>
                    <a:pt x="1096" y="1024"/>
                  </a:lnTo>
                  <a:lnTo>
                    <a:pt x="1104" y="1016"/>
                  </a:lnTo>
                  <a:lnTo>
                    <a:pt x="1112" y="1008"/>
                  </a:lnTo>
                  <a:lnTo>
                    <a:pt x="1120" y="1008"/>
                  </a:lnTo>
                  <a:lnTo>
                    <a:pt x="1128" y="1000"/>
                  </a:lnTo>
                  <a:lnTo>
                    <a:pt x="1144" y="992"/>
                  </a:lnTo>
                  <a:lnTo>
                    <a:pt x="1152" y="1008"/>
                  </a:lnTo>
                  <a:lnTo>
                    <a:pt x="1152" y="1032"/>
                  </a:lnTo>
                  <a:lnTo>
                    <a:pt x="1144" y="1048"/>
                  </a:lnTo>
                  <a:lnTo>
                    <a:pt x="1136" y="1056"/>
                  </a:lnTo>
                  <a:lnTo>
                    <a:pt x="1144" y="1064"/>
                  </a:lnTo>
                  <a:lnTo>
                    <a:pt x="1152" y="1072"/>
                  </a:lnTo>
                  <a:lnTo>
                    <a:pt x="1160" y="1072"/>
                  </a:lnTo>
                  <a:lnTo>
                    <a:pt x="1176" y="1080"/>
                  </a:lnTo>
                  <a:lnTo>
                    <a:pt x="1184" y="1088"/>
                  </a:lnTo>
                  <a:lnTo>
                    <a:pt x="1200" y="1104"/>
                  </a:lnTo>
                  <a:lnTo>
                    <a:pt x="1208" y="1120"/>
                  </a:lnTo>
                  <a:lnTo>
                    <a:pt x="1208" y="1136"/>
                  </a:lnTo>
                  <a:lnTo>
                    <a:pt x="1208" y="1152"/>
                  </a:lnTo>
                  <a:lnTo>
                    <a:pt x="1208" y="1160"/>
                  </a:lnTo>
                  <a:lnTo>
                    <a:pt x="1216" y="1168"/>
                  </a:lnTo>
                  <a:lnTo>
                    <a:pt x="1224" y="1176"/>
                  </a:lnTo>
                  <a:lnTo>
                    <a:pt x="1240" y="1176"/>
                  </a:lnTo>
                  <a:lnTo>
                    <a:pt x="1248" y="1184"/>
                  </a:lnTo>
                  <a:lnTo>
                    <a:pt x="1256" y="1184"/>
                  </a:lnTo>
                  <a:lnTo>
                    <a:pt x="1264" y="1184"/>
                  </a:lnTo>
                  <a:lnTo>
                    <a:pt x="1272" y="1184"/>
                  </a:lnTo>
                  <a:lnTo>
                    <a:pt x="1272" y="1184"/>
                  </a:lnTo>
                  <a:lnTo>
                    <a:pt x="1272" y="1184"/>
                  </a:lnTo>
                  <a:lnTo>
                    <a:pt x="1272" y="1184"/>
                  </a:lnTo>
                  <a:lnTo>
                    <a:pt x="1264" y="1192"/>
                  </a:lnTo>
                  <a:lnTo>
                    <a:pt x="1264" y="1200"/>
                  </a:lnTo>
                  <a:lnTo>
                    <a:pt x="1256" y="1200"/>
                  </a:lnTo>
                  <a:lnTo>
                    <a:pt x="1248" y="1200"/>
                  </a:lnTo>
                  <a:lnTo>
                    <a:pt x="1240" y="1200"/>
                  </a:lnTo>
                  <a:lnTo>
                    <a:pt x="1232" y="1200"/>
                  </a:lnTo>
                  <a:lnTo>
                    <a:pt x="1216" y="1192"/>
                  </a:lnTo>
                  <a:lnTo>
                    <a:pt x="1208" y="1192"/>
                  </a:lnTo>
                  <a:lnTo>
                    <a:pt x="1200" y="1192"/>
                  </a:lnTo>
                  <a:lnTo>
                    <a:pt x="1192" y="1184"/>
                  </a:lnTo>
                  <a:lnTo>
                    <a:pt x="1192" y="1184"/>
                  </a:lnTo>
                  <a:lnTo>
                    <a:pt x="1184" y="1184"/>
                  </a:lnTo>
                  <a:lnTo>
                    <a:pt x="1176" y="1176"/>
                  </a:lnTo>
                  <a:lnTo>
                    <a:pt x="1160" y="1168"/>
                  </a:lnTo>
                  <a:lnTo>
                    <a:pt x="1144" y="1160"/>
                  </a:lnTo>
                  <a:lnTo>
                    <a:pt x="1136" y="1144"/>
                  </a:lnTo>
                  <a:lnTo>
                    <a:pt x="1128" y="1136"/>
                  </a:lnTo>
                  <a:lnTo>
                    <a:pt x="1120" y="1128"/>
                  </a:lnTo>
                  <a:lnTo>
                    <a:pt x="1112" y="1128"/>
                  </a:lnTo>
                  <a:lnTo>
                    <a:pt x="1104" y="1120"/>
                  </a:lnTo>
                  <a:lnTo>
                    <a:pt x="1096" y="1112"/>
                  </a:lnTo>
                  <a:lnTo>
                    <a:pt x="1088" y="1104"/>
                  </a:lnTo>
                  <a:lnTo>
                    <a:pt x="1072" y="1104"/>
                  </a:lnTo>
                  <a:lnTo>
                    <a:pt x="1056" y="1096"/>
                  </a:lnTo>
                  <a:lnTo>
                    <a:pt x="1048" y="1088"/>
                  </a:lnTo>
                  <a:lnTo>
                    <a:pt x="1032" y="1088"/>
                  </a:lnTo>
                  <a:lnTo>
                    <a:pt x="1016" y="1080"/>
                  </a:lnTo>
                  <a:lnTo>
                    <a:pt x="1008" y="1080"/>
                  </a:lnTo>
                  <a:lnTo>
                    <a:pt x="1000" y="1072"/>
                  </a:lnTo>
                  <a:lnTo>
                    <a:pt x="984" y="1064"/>
                  </a:lnTo>
                  <a:lnTo>
                    <a:pt x="976" y="1064"/>
                  </a:lnTo>
                  <a:lnTo>
                    <a:pt x="968" y="1056"/>
                  </a:lnTo>
                  <a:lnTo>
                    <a:pt x="960" y="1048"/>
                  </a:lnTo>
                  <a:lnTo>
                    <a:pt x="944" y="1040"/>
                  </a:lnTo>
                  <a:lnTo>
                    <a:pt x="936" y="1032"/>
                  </a:lnTo>
                  <a:lnTo>
                    <a:pt x="928" y="1024"/>
                  </a:lnTo>
                  <a:lnTo>
                    <a:pt x="920" y="1008"/>
                  </a:lnTo>
                  <a:lnTo>
                    <a:pt x="912" y="1000"/>
                  </a:lnTo>
                  <a:lnTo>
                    <a:pt x="912" y="1000"/>
                  </a:lnTo>
                  <a:lnTo>
                    <a:pt x="904" y="992"/>
                  </a:lnTo>
                  <a:lnTo>
                    <a:pt x="888" y="976"/>
                  </a:lnTo>
                  <a:lnTo>
                    <a:pt x="880" y="968"/>
                  </a:lnTo>
                  <a:lnTo>
                    <a:pt x="864" y="960"/>
                  </a:lnTo>
                  <a:lnTo>
                    <a:pt x="856" y="960"/>
                  </a:lnTo>
                  <a:lnTo>
                    <a:pt x="848" y="960"/>
                  </a:lnTo>
                  <a:lnTo>
                    <a:pt x="832" y="952"/>
                  </a:lnTo>
                  <a:lnTo>
                    <a:pt x="824" y="952"/>
                  </a:lnTo>
                  <a:lnTo>
                    <a:pt x="808" y="944"/>
                  </a:lnTo>
                  <a:lnTo>
                    <a:pt x="800" y="936"/>
                  </a:lnTo>
                  <a:lnTo>
                    <a:pt x="784" y="928"/>
                  </a:lnTo>
                  <a:lnTo>
                    <a:pt x="776" y="920"/>
                  </a:lnTo>
                  <a:lnTo>
                    <a:pt x="760" y="904"/>
                  </a:lnTo>
                  <a:lnTo>
                    <a:pt x="744" y="880"/>
                  </a:lnTo>
                  <a:lnTo>
                    <a:pt x="728" y="864"/>
                  </a:lnTo>
                  <a:lnTo>
                    <a:pt x="720" y="848"/>
                  </a:lnTo>
                  <a:lnTo>
                    <a:pt x="720" y="832"/>
                  </a:lnTo>
                  <a:lnTo>
                    <a:pt x="712" y="816"/>
                  </a:lnTo>
                  <a:lnTo>
                    <a:pt x="704" y="800"/>
                  </a:lnTo>
                  <a:lnTo>
                    <a:pt x="704" y="784"/>
                  </a:lnTo>
                  <a:lnTo>
                    <a:pt x="696" y="776"/>
                  </a:lnTo>
                  <a:lnTo>
                    <a:pt x="688" y="768"/>
                  </a:lnTo>
                  <a:lnTo>
                    <a:pt x="680" y="760"/>
                  </a:lnTo>
                  <a:lnTo>
                    <a:pt x="672" y="752"/>
                  </a:lnTo>
                  <a:lnTo>
                    <a:pt x="664" y="744"/>
                  </a:lnTo>
                  <a:lnTo>
                    <a:pt x="648" y="736"/>
                  </a:lnTo>
                  <a:lnTo>
                    <a:pt x="640" y="720"/>
                  </a:lnTo>
                  <a:lnTo>
                    <a:pt x="632" y="712"/>
                  </a:lnTo>
                  <a:lnTo>
                    <a:pt x="624" y="688"/>
                  </a:lnTo>
                  <a:lnTo>
                    <a:pt x="624" y="656"/>
                  </a:lnTo>
                  <a:lnTo>
                    <a:pt x="632" y="632"/>
                  </a:lnTo>
                  <a:lnTo>
                    <a:pt x="640" y="616"/>
                  </a:lnTo>
                  <a:lnTo>
                    <a:pt x="640" y="600"/>
                  </a:lnTo>
                  <a:lnTo>
                    <a:pt x="640" y="576"/>
                  </a:lnTo>
                  <a:lnTo>
                    <a:pt x="640" y="544"/>
                  </a:lnTo>
                  <a:lnTo>
                    <a:pt x="632" y="520"/>
                  </a:lnTo>
                  <a:lnTo>
                    <a:pt x="624" y="496"/>
                  </a:lnTo>
                  <a:lnTo>
                    <a:pt x="616" y="488"/>
                  </a:lnTo>
                  <a:lnTo>
                    <a:pt x="608" y="480"/>
                  </a:lnTo>
                  <a:lnTo>
                    <a:pt x="592" y="472"/>
                  </a:lnTo>
                  <a:lnTo>
                    <a:pt x="584" y="456"/>
                  </a:lnTo>
                  <a:lnTo>
                    <a:pt x="576" y="448"/>
                  </a:lnTo>
                  <a:lnTo>
                    <a:pt x="568" y="432"/>
                  </a:lnTo>
                  <a:lnTo>
                    <a:pt x="560" y="416"/>
                  </a:lnTo>
                  <a:lnTo>
                    <a:pt x="552" y="400"/>
                  </a:lnTo>
                  <a:lnTo>
                    <a:pt x="544" y="392"/>
                  </a:lnTo>
                  <a:lnTo>
                    <a:pt x="528" y="384"/>
                  </a:lnTo>
                  <a:lnTo>
                    <a:pt x="512" y="384"/>
                  </a:lnTo>
                  <a:lnTo>
                    <a:pt x="512" y="384"/>
                  </a:lnTo>
                  <a:lnTo>
                    <a:pt x="496" y="384"/>
                  </a:lnTo>
                  <a:lnTo>
                    <a:pt x="488" y="384"/>
                  </a:lnTo>
                  <a:lnTo>
                    <a:pt x="480" y="376"/>
                  </a:lnTo>
                  <a:lnTo>
                    <a:pt x="472" y="368"/>
                  </a:lnTo>
                  <a:lnTo>
                    <a:pt x="456" y="368"/>
                  </a:lnTo>
                  <a:lnTo>
                    <a:pt x="448" y="360"/>
                  </a:lnTo>
                  <a:lnTo>
                    <a:pt x="440" y="360"/>
                  </a:lnTo>
                  <a:lnTo>
                    <a:pt x="424" y="352"/>
                  </a:lnTo>
                  <a:lnTo>
                    <a:pt x="416" y="344"/>
                  </a:lnTo>
                  <a:lnTo>
                    <a:pt x="408" y="336"/>
                  </a:lnTo>
                  <a:lnTo>
                    <a:pt x="392" y="336"/>
                  </a:lnTo>
                  <a:lnTo>
                    <a:pt x="384" y="336"/>
                  </a:lnTo>
                  <a:lnTo>
                    <a:pt x="376" y="336"/>
                  </a:lnTo>
                  <a:lnTo>
                    <a:pt x="368" y="336"/>
                  </a:lnTo>
                  <a:lnTo>
                    <a:pt x="360" y="336"/>
                  </a:lnTo>
                  <a:lnTo>
                    <a:pt x="344" y="336"/>
                  </a:lnTo>
                  <a:lnTo>
                    <a:pt x="336" y="336"/>
                  </a:lnTo>
                  <a:lnTo>
                    <a:pt x="328" y="328"/>
                  </a:lnTo>
                  <a:lnTo>
                    <a:pt x="320" y="328"/>
                  </a:lnTo>
                  <a:lnTo>
                    <a:pt x="304" y="320"/>
                  </a:lnTo>
                  <a:lnTo>
                    <a:pt x="296" y="312"/>
                  </a:lnTo>
                  <a:lnTo>
                    <a:pt x="288" y="312"/>
                  </a:lnTo>
                  <a:lnTo>
                    <a:pt x="280" y="312"/>
                  </a:lnTo>
                  <a:lnTo>
                    <a:pt x="264" y="312"/>
                  </a:lnTo>
                  <a:lnTo>
                    <a:pt x="256" y="312"/>
                  </a:lnTo>
                  <a:lnTo>
                    <a:pt x="240" y="312"/>
                  </a:lnTo>
                  <a:lnTo>
                    <a:pt x="224" y="312"/>
                  </a:lnTo>
                  <a:lnTo>
                    <a:pt x="216" y="320"/>
                  </a:lnTo>
                  <a:lnTo>
                    <a:pt x="200" y="328"/>
                  </a:lnTo>
                  <a:lnTo>
                    <a:pt x="192" y="344"/>
                  </a:lnTo>
                  <a:lnTo>
                    <a:pt x="176" y="352"/>
                  </a:lnTo>
                  <a:lnTo>
                    <a:pt x="168" y="368"/>
                  </a:lnTo>
                  <a:lnTo>
                    <a:pt x="152" y="376"/>
                  </a:lnTo>
                  <a:lnTo>
                    <a:pt x="144" y="384"/>
                  </a:lnTo>
                  <a:lnTo>
                    <a:pt x="128" y="384"/>
                  </a:lnTo>
                  <a:lnTo>
                    <a:pt x="112" y="376"/>
                  </a:lnTo>
                  <a:lnTo>
                    <a:pt x="104" y="368"/>
                  </a:lnTo>
                  <a:lnTo>
                    <a:pt x="96" y="360"/>
                  </a:lnTo>
                  <a:lnTo>
                    <a:pt x="88" y="352"/>
                  </a:lnTo>
                  <a:lnTo>
                    <a:pt x="72" y="336"/>
                  </a:lnTo>
                  <a:lnTo>
                    <a:pt x="72" y="320"/>
                  </a:lnTo>
                  <a:lnTo>
                    <a:pt x="72" y="296"/>
                  </a:lnTo>
                  <a:lnTo>
                    <a:pt x="80" y="264"/>
                  </a:lnTo>
                  <a:lnTo>
                    <a:pt x="80" y="248"/>
                  </a:lnTo>
                  <a:lnTo>
                    <a:pt x="80" y="232"/>
                  </a:lnTo>
                  <a:lnTo>
                    <a:pt x="72" y="224"/>
                  </a:lnTo>
                  <a:lnTo>
                    <a:pt x="64" y="224"/>
                  </a:lnTo>
                  <a:lnTo>
                    <a:pt x="56" y="224"/>
                  </a:lnTo>
                  <a:lnTo>
                    <a:pt x="40" y="216"/>
                  </a:lnTo>
                  <a:lnTo>
                    <a:pt x="24" y="216"/>
                  </a:lnTo>
                  <a:lnTo>
                    <a:pt x="8" y="208"/>
                  </a:lnTo>
                  <a:lnTo>
                    <a:pt x="0" y="200"/>
                  </a:lnTo>
                  <a:lnTo>
                    <a:pt x="0" y="184"/>
                  </a:lnTo>
                  <a:lnTo>
                    <a:pt x="8" y="168"/>
                  </a:lnTo>
                  <a:lnTo>
                    <a:pt x="24" y="144"/>
                  </a:lnTo>
                  <a:lnTo>
                    <a:pt x="32" y="128"/>
                  </a:lnTo>
                  <a:lnTo>
                    <a:pt x="48" y="112"/>
                  </a:lnTo>
                  <a:lnTo>
                    <a:pt x="64" y="96"/>
                  </a:lnTo>
                  <a:lnTo>
                    <a:pt x="80" y="88"/>
                  </a:lnTo>
                  <a:lnTo>
                    <a:pt x="88" y="80"/>
                  </a:lnTo>
                  <a:lnTo>
                    <a:pt x="96" y="72"/>
                  </a:lnTo>
                  <a:lnTo>
                    <a:pt x="112" y="64"/>
                  </a:lnTo>
                  <a:lnTo>
                    <a:pt x="128" y="56"/>
                  </a:lnTo>
                  <a:lnTo>
                    <a:pt x="144" y="48"/>
                  </a:lnTo>
                  <a:lnTo>
                    <a:pt x="176" y="40"/>
                  </a:lnTo>
                  <a:lnTo>
                    <a:pt x="208" y="40"/>
                  </a:lnTo>
                  <a:lnTo>
                    <a:pt x="248" y="48"/>
                  </a:lnTo>
                  <a:lnTo>
                    <a:pt x="264" y="56"/>
                  </a:lnTo>
                  <a:lnTo>
                    <a:pt x="280" y="64"/>
                  </a:lnTo>
                  <a:lnTo>
                    <a:pt x="296" y="72"/>
                  </a:lnTo>
                  <a:lnTo>
                    <a:pt x="312" y="80"/>
                  </a:lnTo>
                  <a:lnTo>
                    <a:pt x="320" y="80"/>
                  </a:lnTo>
                  <a:lnTo>
                    <a:pt x="328" y="80"/>
                  </a:lnTo>
                  <a:lnTo>
                    <a:pt x="344" y="88"/>
                  </a:lnTo>
                  <a:lnTo>
                    <a:pt x="352" y="88"/>
                  </a:lnTo>
                  <a:lnTo>
                    <a:pt x="360" y="88"/>
                  </a:lnTo>
                  <a:lnTo>
                    <a:pt x="376" y="96"/>
                  </a:lnTo>
                  <a:lnTo>
                    <a:pt x="400" y="96"/>
                  </a:lnTo>
                  <a:lnTo>
                    <a:pt x="416" y="96"/>
                  </a:lnTo>
                  <a:lnTo>
                    <a:pt x="440" y="104"/>
                  </a:lnTo>
                  <a:lnTo>
                    <a:pt x="464" y="104"/>
                  </a:lnTo>
                  <a:lnTo>
                    <a:pt x="480" y="104"/>
                  </a:lnTo>
                  <a:lnTo>
                    <a:pt x="488" y="104"/>
                  </a:lnTo>
                  <a:lnTo>
                    <a:pt x="504" y="96"/>
                  </a:lnTo>
                  <a:lnTo>
                    <a:pt x="520" y="96"/>
                  </a:lnTo>
                  <a:lnTo>
                    <a:pt x="536" y="96"/>
                  </a:lnTo>
                  <a:lnTo>
                    <a:pt x="560" y="96"/>
                  </a:lnTo>
                  <a:lnTo>
                    <a:pt x="576" y="96"/>
                  </a:lnTo>
                  <a:lnTo>
                    <a:pt x="600" y="104"/>
                  </a:lnTo>
                  <a:lnTo>
                    <a:pt x="616" y="104"/>
                  </a:lnTo>
                  <a:lnTo>
                    <a:pt x="624" y="104"/>
                  </a:lnTo>
                  <a:lnTo>
                    <a:pt x="632" y="104"/>
                  </a:lnTo>
                  <a:lnTo>
                    <a:pt x="640" y="104"/>
                  </a:lnTo>
                  <a:lnTo>
                    <a:pt x="656" y="104"/>
                  </a:lnTo>
                  <a:lnTo>
                    <a:pt x="664" y="104"/>
                  </a:lnTo>
                  <a:lnTo>
                    <a:pt x="680" y="112"/>
                  </a:lnTo>
                  <a:lnTo>
                    <a:pt x="688" y="112"/>
                  </a:lnTo>
                  <a:lnTo>
                    <a:pt x="704" y="112"/>
                  </a:lnTo>
                  <a:lnTo>
                    <a:pt x="712" y="120"/>
                  </a:lnTo>
                  <a:lnTo>
                    <a:pt x="728" y="120"/>
                  </a:lnTo>
                  <a:lnTo>
                    <a:pt x="744" y="128"/>
                  </a:lnTo>
                  <a:lnTo>
                    <a:pt x="768" y="128"/>
                  </a:lnTo>
                  <a:lnTo>
                    <a:pt x="784" y="136"/>
                  </a:lnTo>
                  <a:lnTo>
                    <a:pt x="808" y="136"/>
                  </a:lnTo>
                  <a:lnTo>
                    <a:pt x="832" y="144"/>
                  </a:lnTo>
                  <a:lnTo>
                    <a:pt x="848" y="144"/>
                  </a:lnTo>
                  <a:lnTo>
                    <a:pt x="856" y="144"/>
                  </a:lnTo>
                  <a:lnTo>
                    <a:pt x="872" y="144"/>
                  </a:lnTo>
                  <a:lnTo>
                    <a:pt x="888" y="144"/>
                  </a:lnTo>
                  <a:lnTo>
                    <a:pt x="912" y="144"/>
                  </a:lnTo>
                  <a:lnTo>
                    <a:pt x="936" y="136"/>
                  </a:lnTo>
                  <a:lnTo>
                    <a:pt x="960" y="136"/>
                  </a:lnTo>
                  <a:lnTo>
                    <a:pt x="976" y="136"/>
                  </a:lnTo>
                  <a:lnTo>
                    <a:pt x="1000" y="128"/>
                  </a:lnTo>
                  <a:lnTo>
                    <a:pt x="1016" y="120"/>
                  </a:lnTo>
                  <a:lnTo>
                    <a:pt x="1032" y="112"/>
                  </a:lnTo>
                  <a:lnTo>
                    <a:pt x="1048" y="104"/>
                  </a:lnTo>
                  <a:lnTo>
                    <a:pt x="1048" y="96"/>
                  </a:lnTo>
                  <a:lnTo>
                    <a:pt x="1056" y="88"/>
                  </a:lnTo>
                  <a:lnTo>
                    <a:pt x="1048" y="80"/>
                  </a:lnTo>
                  <a:lnTo>
                    <a:pt x="1040" y="72"/>
                  </a:lnTo>
                  <a:lnTo>
                    <a:pt x="1032" y="56"/>
                  </a:lnTo>
                  <a:lnTo>
                    <a:pt x="1016" y="48"/>
                  </a:lnTo>
                  <a:lnTo>
                    <a:pt x="1016" y="40"/>
                  </a:lnTo>
                  <a:lnTo>
                    <a:pt x="1024" y="32"/>
                  </a:lnTo>
                  <a:lnTo>
                    <a:pt x="1032" y="16"/>
                  </a:lnTo>
                  <a:lnTo>
                    <a:pt x="1040" y="0"/>
                  </a:lnTo>
                  <a:lnTo>
                    <a:pt x="1048" y="0"/>
                  </a:lnTo>
                  <a:lnTo>
                    <a:pt x="1064" y="0"/>
                  </a:lnTo>
                  <a:lnTo>
                    <a:pt x="1080" y="8"/>
                  </a:lnTo>
                  <a:lnTo>
                    <a:pt x="1096" y="16"/>
                  </a:lnTo>
                  <a:lnTo>
                    <a:pt x="1104" y="24"/>
                  </a:lnTo>
                  <a:lnTo>
                    <a:pt x="1104" y="32"/>
                  </a:lnTo>
                  <a:lnTo>
                    <a:pt x="1104" y="48"/>
                  </a:lnTo>
                  <a:lnTo>
                    <a:pt x="1104" y="56"/>
                  </a:lnTo>
                  <a:lnTo>
                    <a:pt x="1104" y="64"/>
                  </a:lnTo>
                  <a:lnTo>
                    <a:pt x="1120" y="80"/>
                  </a:lnTo>
                  <a:lnTo>
                    <a:pt x="1128" y="88"/>
                  </a:lnTo>
                  <a:lnTo>
                    <a:pt x="1152" y="96"/>
                  </a:lnTo>
                  <a:lnTo>
                    <a:pt x="1160" y="96"/>
                  </a:lnTo>
                  <a:lnTo>
                    <a:pt x="1168" y="96"/>
                  </a:lnTo>
                  <a:lnTo>
                    <a:pt x="1184" y="96"/>
                  </a:lnTo>
                  <a:lnTo>
                    <a:pt x="1192" y="96"/>
                  </a:lnTo>
                  <a:lnTo>
                    <a:pt x="1200" y="104"/>
                  </a:lnTo>
                  <a:lnTo>
                    <a:pt x="1208" y="104"/>
                  </a:lnTo>
                  <a:lnTo>
                    <a:pt x="1224" y="104"/>
                  </a:lnTo>
                  <a:lnTo>
                    <a:pt x="1232" y="104"/>
                  </a:lnTo>
                  <a:lnTo>
                    <a:pt x="1248" y="112"/>
                  </a:lnTo>
                  <a:lnTo>
                    <a:pt x="1256" y="112"/>
                  </a:lnTo>
                  <a:lnTo>
                    <a:pt x="1256" y="120"/>
                  </a:lnTo>
                  <a:lnTo>
                    <a:pt x="1256" y="128"/>
                  </a:lnTo>
                  <a:lnTo>
                    <a:pt x="1248" y="136"/>
                  </a:lnTo>
                  <a:lnTo>
                    <a:pt x="1248" y="144"/>
                  </a:lnTo>
                  <a:lnTo>
                    <a:pt x="1240" y="144"/>
                  </a:lnTo>
                  <a:lnTo>
                    <a:pt x="1232" y="152"/>
                  </a:lnTo>
                  <a:lnTo>
                    <a:pt x="1216" y="152"/>
                  </a:lnTo>
                  <a:lnTo>
                    <a:pt x="1208" y="152"/>
                  </a:lnTo>
                  <a:lnTo>
                    <a:pt x="1200" y="152"/>
                  </a:lnTo>
                  <a:lnTo>
                    <a:pt x="1192" y="160"/>
                  </a:lnTo>
                  <a:lnTo>
                    <a:pt x="1168" y="160"/>
                  </a:lnTo>
                  <a:lnTo>
                    <a:pt x="1152" y="168"/>
                  </a:lnTo>
                  <a:lnTo>
                    <a:pt x="1144" y="176"/>
                  </a:lnTo>
                  <a:lnTo>
                    <a:pt x="1128" y="192"/>
                  </a:lnTo>
                  <a:lnTo>
                    <a:pt x="1120" y="200"/>
                  </a:lnTo>
                  <a:lnTo>
                    <a:pt x="1104" y="216"/>
                  </a:lnTo>
                  <a:lnTo>
                    <a:pt x="1088" y="232"/>
                  </a:lnTo>
                  <a:lnTo>
                    <a:pt x="1072" y="256"/>
                  </a:lnTo>
                  <a:lnTo>
                    <a:pt x="1064" y="280"/>
                  </a:lnTo>
                  <a:lnTo>
                    <a:pt x="1064" y="320"/>
                  </a:lnTo>
                  <a:lnTo>
                    <a:pt x="1072" y="352"/>
                  </a:lnTo>
                  <a:lnTo>
                    <a:pt x="1072" y="376"/>
                  </a:lnTo>
                  <a:lnTo>
                    <a:pt x="1080" y="384"/>
                  </a:lnTo>
                  <a:lnTo>
                    <a:pt x="1088" y="384"/>
                  </a:lnTo>
                  <a:lnTo>
                    <a:pt x="1096" y="384"/>
                  </a:lnTo>
                  <a:lnTo>
                    <a:pt x="1104" y="384"/>
                  </a:lnTo>
                  <a:lnTo>
                    <a:pt x="1120" y="384"/>
                  </a:lnTo>
                  <a:lnTo>
                    <a:pt x="1136" y="384"/>
                  </a:lnTo>
                  <a:lnTo>
                    <a:pt x="1144" y="392"/>
                  </a:lnTo>
                  <a:lnTo>
                    <a:pt x="1160" y="400"/>
                  </a:lnTo>
                  <a:lnTo>
                    <a:pt x="1168" y="400"/>
                  </a:lnTo>
                  <a:lnTo>
                    <a:pt x="1184" y="408"/>
                  </a:lnTo>
                  <a:lnTo>
                    <a:pt x="1192" y="408"/>
                  </a:lnTo>
                  <a:lnTo>
                    <a:pt x="1200" y="408"/>
                  </a:lnTo>
                  <a:lnTo>
                    <a:pt x="1208" y="408"/>
                  </a:lnTo>
                  <a:lnTo>
                    <a:pt x="1216" y="416"/>
                  </a:lnTo>
                  <a:lnTo>
                    <a:pt x="1224" y="424"/>
                  </a:lnTo>
                  <a:lnTo>
                    <a:pt x="1224" y="432"/>
                  </a:lnTo>
                  <a:lnTo>
                    <a:pt x="1232" y="440"/>
                  </a:lnTo>
                  <a:lnTo>
                    <a:pt x="1232" y="448"/>
                  </a:lnTo>
                  <a:lnTo>
                    <a:pt x="1240" y="448"/>
                  </a:lnTo>
                  <a:lnTo>
                    <a:pt x="1256" y="456"/>
                  </a:lnTo>
                  <a:lnTo>
                    <a:pt x="1256" y="448"/>
                  </a:lnTo>
                  <a:lnTo>
                    <a:pt x="1264" y="432"/>
                  </a:lnTo>
                  <a:lnTo>
                    <a:pt x="1264" y="408"/>
                  </a:lnTo>
                  <a:lnTo>
                    <a:pt x="1256" y="392"/>
                  </a:lnTo>
                  <a:lnTo>
                    <a:pt x="1256" y="384"/>
                  </a:lnTo>
                  <a:lnTo>
                    <a:pt x="1272" y="376"/>
                  </a:lnTo>
                  <a:lnTo>
                    <a:pt x="1288" y="368"/>
                  </a:lnTo>
                  <a:lnTo>
                    <a:pt x="1296" y="368"/>
                  </a:lnTo>
                  <a:lnTo>
                    <a:pt x="1312" y="360"/>
                  </a:lnTo>
                  <a:lnTo>
                    <a:pt x="1304" y="344"/>
                  </a:lnTo>
                  <a:lnTo>
                    <a:pt x="1304" y="328"/>
                  </a:lnTo>
                  <a:lnTo>
                    <a:pt x="1288" y="320"/>
                  </a:lnTo>
                  <a:lnTo>
                    <a:pt x="1280" y="312"/>
                  </a:lnTo>
                  <a:lnTo>
                    <a:pt x="1280" y="296"/>
                  </a:lnTo>
                  <a:lnTo>
                    <a:pt x="1280" y="288"/>
                  </a:lnTo>
                  <a:lnTo>
                    <a:pt x="1280" y="272"/>
                  </a:lnTo>
                  <a:lnTo>
                    <a:pt x="1296" y="264"/>
                  </a:lnTo>
                  <a:lnTo>
                    <a:pt x="1312" y="256"/>
                  </a:lnTo>
                  <a:lnTo>
                    <a:pt x="1328" y="264"/>
                  </a:lnTo>
                  <a:lnTo>
                    <a:pt x="1344" y="272"/>
                  </a:lnTo>
                  <a:lnTo>
                    <a:pt x="1352" y="280"/>
                  </a:lnTo>
                  <a:lnTo>
                    <a:pt x="1360" y="288"/>
                  </a:lnTo>
                  <a:lnTo>
                    <a:pt x="1376" y="288"/>
                  </a:lnTo>
                  <a:lnTo>
                    <a:pt x="1384" y="296"/>
                  </a:lnTo>
                  <a:lnTo>
                    <a:pt x="1392" y="304"/>
                  </a:lnTo>
                  <a:lnTo>
                    <a:pt x="1400" y="312"/>
                  </a:lnTo>
                  <a:lnTo>
                    <a:pt x="1408" y="320"/>
                  </a:lnTo>
                  <a:lnTo>
                    <a:pt x="1416" y="328"/>
                  </a:lnTo>
                  <a:lnTo>
                    <a:pt x="1424" y="328"/>
                  </a:lnTo>
                  <a:lnTo>
                    <a:pt x="1432" y="320"/>
                  </a:lnTo>
                  <a:lnTo>
                    <a:pt x="1448" y="312"/>
                  </a:lnTo>
                  <a:lnTo>
                    <a:pt x="1456" y="296"/>
                  </a:lnTo>
                  <a:lnTo>
                    <a:pt x="1464" y="296"/>
                  </a:lnTo>
                  <a:lnTo>
                    <a:pt x="1480" y="296"/>
                  </a:lnTo>
                  <a:lnTo>
                    <a:pt x="1488" y="304"/>
                  </a:lnTo>
                  <a:lnTo>
                    <a:pt x="1496" y="320"/>
                  </a:lnTo>
                  <a:lnTo>
                    <a:pt x="1504" y="336"/>
                  </a:lnTo>
                  <a:lnTo>
                    <a:pt x="1512" y="344"/>
                  </a:lnTo>
                  <a:lnTo>
                    <a:pt x="1520" y="360"/>
                  </a:lnTo>
                  <a:lnTo>
                    <a:pt x="1536" y="368"/>
                  </a:lnTo>
                  <a:lnTo>
                    <a:pt x="1544" y="384"/>
                  </a:lnTo>
                  <a:lnTo>
                    <a:pt x="1552" y="392"/>
                  </a:lnTo>
                  <a:lnTo>
                    <a:pt x="1552" y="408"/>
                  </a:lnTo>
                  <a:lnTo>
                    <a:pt x="1560" y="416"/>
                  </a:lnTo>
                  <a:lnTo>
                    <a:pt x="1560" y="424"/>
                  </a:lnTo>
                  <a:lnTo>
                    <a:pt x="1568" y="424"/>
                  </a:lnTo>
                  <a:lnTo>
                    <a:pt x="1584" y="424"/>
                  </a:lnTo>
                  <a:lnTo>
                    <a:pt x="1592" y="424"/>
                  </a:lnTo>
                  <a:lnTo>
                    <a:pt x="1600" y="424"/>
                  </a:lnTo>
                  <a:lnTo>
                    <a:pt x="1608" y="432"/>
                  </a:lnTo>
                  <a:lnTo>
                    <a:pt x="1608" y="448"/>
                  </a:lnTo>
                  <a:lnTo>
                    <a:pt x="1600" y="464"/>
                  </a:lnTo>
                  <a:lnTo>
                    <a:pt x="1584" y="480"/>
                  </a:lnTo>
                  <a:lnTo>
                    <a:pt x="1576" y="488"/>
                  </a:lnTo>
                  <a:lnTo>
                    <a:pt x="1568" y="488"/>
                  </a:lnTo>
                  <a:lnTo>
                    <a:pt x="1552" y="488"/>
                  </a:lnTo>
                  <a:lnTo>
                    <a:pt x="1536" y="496"/>
                  </a:lnTo>
                  <a:lnTo>
                    <a:pt x="1528" y="496"/>
                  </a:lnTo>
                  <a:lnTo>
                    <a:pt x="1520" y="496"/>
                  </a:lnTo>
                  <a:lnTo>
                    <a:pt x="1512" y="504"/>
                  </a:lnTo>
                  <a:lnTo>
                    <a:pt x="1504" y="512"/>
                  </a:lnTo>
                  <a:lnTo>
                    <a:pt x="1504" y="528"/>
                  </a:lnTo>
                  <a:lnTo>
                    <a:pt x="1512" y="544"/>
                  </a:lnTo>
                  <a:lnTo>
                    <a:pt x="1512" y="560"/>
                  </a:lnTo>
                  <a:lnTo>
                    <a:pt x="1504" y="576"/>
                  </a:lnTo>
                  <a:lnTo>
                    <a:pt x="1496" y="584"/>
                  </a:lnTo>
                  <a:lnTo>
                    <a:pt x="1472" y="600"/>
                  </a:lnTo>
                  <a:lnTo>
                    <a:pt x="1456" y="600"/>
                  </a:lnTo>
                  <a:lnTo>
                    <a:pt x="1448" y="608"/>
                  </a:lnTo>
                  <a:lnTo>
                    <a:pt x="1432" y="616"/>
                  </a:lnTo>
                  <a:lnTo>
                    <a:pt x="1424" y="632"/>
                  </a:lnTo>
                  <a:lnTo>
                    <a:pt x="1416" y="648"/>
                  </a:lnTo>
                  <a:lnTo>
                    <a:pt x="1408" y="656"/>
                  </a:lnTo>
                  <a:lnTo>
                    <a:pt x="1400" y="664"/>
                  </a:lnTo>
                  <a:lnTo>
                    <a:pt x="1392" y="672"/>
                  </a:lnTo>
                  <a:lnTo>
                    <a:pt x="1384" y="688"/>
                  </a:lnTo>
                  <a:lnTo>
                    <a:pt x="1376" y="696"/>
                  </a:lnTo>
                  <a:lnTo>
                    <a:pt x="1368" y="696"/>
                  </a:lnTo>
                  <a:lnTo>
                    <a:pt x="1352" y="696"/>
                  </a:lnTo>
                  <a:lnTo>
                    <a:pt x="1344" y="704"/>
                  </a:lnTo>
                  <a:lnTo>
                    <a:pt x="1336" y="712"/>
                  </a:lnTo>
                  <a:lnTo>
                    <a:pt x="1336" y="720"/>
                  </a:lnTo>
                  <a:lnTo>
                    <a:pt x="1336" y="728"/>
                  </a:lnTo>
                  <a:lnTo>
                    <a:pt x="1336" y="736"/>
                  </a:lnTo>
                  <a:lnTo>
                    <a:pt x="1328" y="752"/>
                  </a:lnTo>
                  <a:lnTo>
                    <a:pt x="1328" y="760"/>
                  </a:lnTo>
                  <a:lnTo>
                    <a:pt x="1320" y="776"/>
                  </a:lnTo>
                  <a:lnTo>
                    <a:pt x="1320" y="784"/>
                  </a:lnTo>
                  <a:lnTo>
                    <a:pt x="1312" y="800"/>
                  </a:lnTo>
                  <a:lnTo>
                    <a:pt x="1312" y="808"/>
                  </a:lnTo>
                  <a:lnTo>
                    <a:pt x="1312" y="816"/>
                  </a:lnTo>
                  <a:lnTo>
                    <a:pt x="1296" y="816"/>
                  </a:lnTo>
                  <a:lnTo>
                    <a:pt x="1288" y="816"/>
                  </a:lnTo>
                  <a:lnTo>
                    <a:pt x="1280" y="816"/>
                  </a:lnTo>
                  <a:lnTo>
                    <a:pt x="1272" y="824"/>
                  </a:lnTo>
                  <a:lnTo>
                    <a:pt x="1264" y="840"/>
                  </a:lnTo>
                  <a:lnTo>
                    <a:pt x="1272" y="864"/>
                  </a:lnTo>
                  <a:lnTo>
                    <a:pt x="1272" y="896"/>
                  </a:lnTo>
                  <a:lnTo>
                    <a:pt x="1280" y="928"/>
                  </a:lnTo>
                  <a:lnTo>
                    <a:pt x="1264" y="944"/>
                  </a:lnTo>
                  <a:lnTo>
                    <a:pt x="1256" y="936"/>
                  </a:lnTo>
                  <a:lnTo>
                    <a:pt x="1248" y="936"/>
                  </a:lnTo>
                  <a:lnTo>
                    <a:pt x="1240" y="928"/>
                  </a:lnTo>
                  <a:lnTo>
                    <a:pt x="1232" y="912"/>
                  </a:lnTo>
                  <a:lnTo>
                    <a:pt x="1224" y="904"/>
                  </a:lnTo>
                  <a:lnTo>
                    <a:pt x="1224" y="888"/>
                  </a:lnTo>
                  <a:lnTo>
                    <a:pt x="1216" y="880"/>
                  </a:lnTo>
                  <a:lnTo>
                    <a:pt x="1216" y="872"/>
                  </a:lnTo>
                  <a:lnTo>
                    <a:pt x="1216" y="872"/>
                  </a:lnTo>
                  <a:lnTo>
                    <a:pt x="1200" y="872"/>
                  </a:lnTo>
                  <a:lnTo>
                    <a:pt x="1184" y="872"/>
                  </a:lnTo>
                  <a:lnTo>
                    <a:pt x="1176" y="872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692680" y="3925800"/>
              <a:ext cx="471600" cy="363600"/>
            </a:xfrm>
            <a:custGeom>
              <a:avLst/>
              <a:gdLst/>
              <a:ahLst/>
              <a:rect l="l" t="t" r="r" b="b"/>
              <a:pathLst>
                <a:path w="392" h="304">
                  <a:moveTo>
                    <a:pt x="24" y="8"/>
                  </a:moveTo>
                  <a:lnTo>
                    <a:pt x="24" y="8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8" y="8"/>
                  </a:lnTo>
                  <a:lnTo>
                    <a:pt x="104" y="8"/>
                  </a:lnTo>
                  <a:lnTo>
                    <a:pt x="112" y="16"/>
                  </a:lnTo>
                  <a:lnTo>
                    <a:pt x="128" y="16"/>
                  </a:lnTo>
                  <a:lnTo>
                    <a:pt x="136" y="24"/>
                  </a:lnTo>
                  <a:lnTo>
                    <a:pt x="152" y="24"/>
                  </a:lnTo>
                  <a:lnTo>
                    <a:pt x="168" y="32"/>
                  </a:lnTo>
                  <a:lnTo>
                    <a:pt x="176" y="32"/>
                  </a:lnTo>
                  <a:lnTo>
                    <a:pt x="192" y="40"/>
                  </a:lnTo>
                  <a:lnTo>
                    <a:pt x="200" y="40"/>
                  </a:lnTo>
                  <a:lnTo>
                    <a:pt x="208" y="40"/>
                  </a:lnTo>
                  <a:lnTo>
                    <a:pt x="224" y="48"/>
                  </a:lnTo>
                  <a:lnTo>
                    <a:pt x="240" y="48"/>
                  </a:lnTo>
                  <a:lnTo>
                    <a:pt x="256" y="56"/>
                  </a:lnTo>
                  <a:lnTo>
                    <a:pt x="272" y="64"/>
                  </a:lnTo>
                  <a:lnTo>
                    <a:pt x="288" y="72"/>
                  </a:lnTo>
                  <a:lnTo>
                    <a:pt x="296" y="80"/>
                  </a:lnTo>
                  <a:lnTo>
                    <a:pt x="312" y="88"/>
                  </a:lnTo>
                  <a:lnTo>
                    <a:pt x="320" y="112"/>
                  </a:lnTo>
                  <a:lnTo>
                    <a:pt x="336" y="144"/>
                  </a:lnTo>
                  <a:lnTo>
                    <a:pt x="344" y="168"/>
                  </a:lnTo>
                  <a:lnTo>
                    <a:pt x="352" y="184"/>
                  </a:lnTo>
                  <a:lnTo>
                    <a:pt x="368" y="192"/>
                  </a:lnTo>
                  <a:lnTo>
                    <a:pt x="376" y="208"/>
                  </a:lnTo>
                  <a:lnTo>
                    <a:pt x="376" y="224"/>
                  </a:lnTo>
                  <a:lnTo>
                    <a:pt x="376" y="240"/>
                  </a:lnTo>
                  <a:lnTo>
                    <a:pt x="376" y="256"/>
                  </a:lnTo>
                  <a:lnTo>
                    <a:pt x="384" y="264"/>
                  </a:lnTo>
                  <a:lnTo>
                    <a:pt x="384" y="272"/>
                  </a:lnTo>
                  <a:lnTo>
                    <a:pt x="392" y="288"/>
                  </a:lnTo>
                  <a:lnTo>
                    <a:pt x="392" y="288"/>
                  </a:lnTo>
                  <a:lnTo>
                    <a:pt x="384" y="296"/>
                  </a:lnTo>
                  <a:lnTo>
                    <a:pt x="368" y="304"/>
                  </a:lnTo>
                  <a:lnTo>
                    <a:pt x="360" y="304"/>
                  </a:lnTo>
                  <a:lnTo>
                    <a:pt x="344" y="304"/>
                  </a:lnTo>
                  <a:lnTo>
                    <a:pt x="328" y="304"/>
                  </a:lnTo>
                  <a:lnTo>
                    <a:pt x="312" y="296"/>
                  </a:lnTo>
                  <a:lnTo>
                    <a:pt x="304" y="288"/>
                  </a:lnTo>
                  <a:lnTo>
                    <a:pt x="296" y="280"/>
                  </a:lnTo>
                  <a:lnTo>
                    <a:pt x="280" y="272"/>
                  </a:lnTo>
                  <a:lnTo>
                    <a:pt x="272" y="264"/>
                  </a:lnTo>
                  <a:lnTo>
                    <a:pt x="256" y="256"/>
                  </a:lnTo>
                  <a:lnTo>
                    <a:pt x="248" y="248"/>
                  </a:lnTo>
                  <a:lnTo>
                    <a:pt x="232" y="240"/>
                  </a:lnTo>
                  <a:lnTo>
                    <a:pt x="224" y="240"/>
                  </a:lnTo>
                  <a:lnTo>
                    <a:pt x="216" y="240"/>
                  </a:lnTo>
                  <a:lnTo>
                    <a:pt x="192" y="232"/>
                  </a:lnTo>
                  <a:lnTo>
                    <a:pt x="176" y="224"/>
                  </a:lnTo>
                  <a:lnTo>
                    <a:pt x="168" y="208"/>
                  </a:lnTo>
                  <a:lnTo>
                    <a:pt x="168" y="192"/>
                  </a:lnTo>
                  <a:lnTo>
                    <a:pt x="168" y="192"/>
                  </a:lnTo>
                  <a:lnTo>
                    <a:pt x="176" y="184"/>
                  </a:lnTo>
                  <a:lnTo>
                    <a:pt x="184" y="184"/>
                  </a:lnTo>
                  <a:lnTo>
                    <a:pt x="192" y="184"/>
                  </a:lnTo>
                  <a:lnTo>
                    <a:pt x="200" y="184"/>
                  </a:lnTo>
                  <a:lnTo>
                    <a:pt x="216" y="184"/>
                  </a:lnTo>
                  <a:lnTo>
                    <a:pt x="224" y="184"/>
                  </a:lnTo>
                  <a:lnTo>
                    <a:pt x="232" y="176"/>
                  </a:lnTo>
                  <a:lnTo>
                    <a:pt x="232" y="168"/>
                  </a:lnTo>
                  <a:lnTo>
                    <a:pt x="224" y="152"/>
                  </a:lnTo>
                  <a:lnTo>
                    <a:pt x="208" y="136"/>
                  </a:lnTo>
                  <a:lnTo>
                    <a:pt x="200" y="128"/>
                  </a:lnTo>
                  <a:lnTo>
                    <a:pt x="192" y="120"/>
                  </a:lnTo>
                  <a:lnTo>
                    <a:pt x="176" y="120"/>
                  </a:lnTo>
                  <a:lnTo>
                    <a:pt x="160" y="112"/>
                  </a:lnTo>
                  <a:lnTo>
                    <a:pt x="136" y="112"/>
                  </a:lnTo>
                  <a:lnTo>
                    <a:pt x="120" y="104"/>
                  </a:lnTo>
                  <a:lnTo>
                    <a:pt x="104" y="104"/>
                  </a:lnTo>
                  <a:lnTo>
                    <a:pt x="88" y="96"/>
                  </a:lnTo>
                  <a:lnTo>
                    <a:pt x="72" y="96"/>
                  </a:lnTo>
                  <a:lnTo>
                    <a:pt x="56" y="88"/>
                  </a:lnTo>
                  <a:lnTo>
                    <a:pt x="48" y="80"/>
                  </a:lnTo>
                  <a:lnTo>
                    <a:pt x="32" y="72"/>
                  </a:lnTo>
                  <a:lnTo>
                    <a:pt x="16" y="56"/>
                  </a:lnTo>
                  <a:lnTo>
                    <a:pt x="8" y="48"/>
                  </a:lnTo>
                  <a:lnTo>
                    <a:pt x="0" y="32"/>
                  </a:lnTo>
                  <a:lnTo>
                    <a:pt x="8" y="16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91120" y="3502080"/>
              <a:ext cx="952560" cy="787320"/>
            </a:xfrm>
            <a:custGeom>
              <a:avLst/>
              <a:gdLst/>
              <a:ahLst/>
              <a:rect l="l" t="t" r="r" b="b"/>
              <a:pathLst>
                <a:path w="792" h="656">
                  <a:moveTo>
                    <a:pt x="184" y="88"/>
                  </a:moveTo>
                  <a:lnTo>
                    <a:pt x="184" y="88"/>
                  </a:lnTo>
                  <a:lnTo>
                    <a:pt x="168" y="96"/>
                  </a:lnTo>
                  <a:lnTo>
                    <a:pt x="160" y="96"/>
                  </a:lnTo>
                  <a:lnTo>
                    <a:pt x="152" y="96"/>
                  </a:lnTo>
                  <a:lnTo>
                    <a:pt x="144" y="96"/>
                  </a:lnTo>
                  <a:lnTo>
                    <a:pt x="136" y="96"/>
                  </a:lnTo>
                  <a:lnTo>
                    <a:pt x="128" y="96"/>
                  </a:lnTo>
                  <a:lnTo>
                    <a:pt x="120" y="104"/>
                  </a:lnTo>
                  <a:lnTo>
                    <a:pt x="112" y="112"/>
                  </a:lnTo>
                  <a:lnTo>
                    <a:pt x="96" y="128"/>
                  </a:lnTo>
                  <a:lnTo>
                    <a:pt x="88" y="152"/>
                  </a:lnTo>
                  <a:lnTo>
                    <a:pt x="72" y="168"/>
                  </a:lnTo>
                  <a:lnTo>
                    <a:pt x="64" y="176"/>
                  </a:lnTo>
                  <a:lnTo>
                    <a:pt x="48" y="184"/>
                  </a:lnTo>
                  <a:lnTo>
                    <a:pt x="40" y="192"/>
                  </a:lnTo>
                  <a:lnTo>
                    <a:pt x="24" y="192"/>
                  </a:lnTo>
                  <a:lnTo>
                    <a:pt x="16" y="200"/>
                  </a:lnTo>
                  <a:lnTo>
                    <a:pt x="8" y="208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0" y="224"/>
                  </a:lnTo>
                  <a:lnTo>
                    <a:pt x="8" y="232"/>
                  </a:lnTo>
                  <a:lnTo>
                    <a:pt x="16" y="240"/>
                  </a:lnTo>
                  <a:lnTo>
                    <a:pt x="24" y="240"/>
                  </a:lnTo>
                  <a:lnTo>
                    <a:pt x="32" y="248"/>
                  </a:lnTo>
                  <a:lnTo>
                    <a:pt x="32" y="264"/>
                  </a:lnTo>
                  <a:lnTo>
                    <a:pt x="48" y="272"/>
                  </a:lnTo>
                  <a:lnTo>
                    <a:pt x="56" y="280"/>
                  </a:lnTo>
                  <a:lnTo>
                    <a:pt x="72" y="272"/>
                  </a:lnTo>
                  <a:lnTo>
                    <a:pt x="88" y="264"/>
                  </a:lnTo>
                  <a:lnTo>
                    <a:pt x="104" y="256"/>
                  </a:lnTo>
                  <a:lnTo>
                    <a:pt x="120" y="256"/>
                  </a:lnTo>
                  <a:lnTo>
                    <a:pt x="128" y="248"/>
                  </a:lnTo>
                  <a:lnTo>
                    <a:pt x="144" y="248"/>
                  </a:lnTo>
                  <a:lnTo>
                    <a:pt x="152" y="248"/>
                  </a:lnTo>
                  <a:lnTo>
                    <a:pt x="152" y="248"/>
                  </a:lnTo>
                  <a:lnTo>
                    <a:pt x="160" y="256"/>
                  </a:lnTo>
                  <a:lnTo>
                    <a:pt x="168" y="264"/>
                  </a:lnTo>
                  <a:lnTo>
                    <a:pt x="184" y="280"/>
                  </a:lnTo>
                  <a:lnTo>
                    <a:pt x="192" y="288"/>
                  </a:lnTo>
                  <a:lnTo>
                    <a:pt x="200" y="296"/>
                  </a:lnTo>
                  <a:lnTo>
                    <a:pt x="200" y="296"/>
                  </a:lnTo>
                  <a:lnTo>
                    <a:pt x="200" y="304"/>
                  </a:lnTo>
                  <a:lnTo>
                    <a:pt x="200" y="320"/>
                  </a:lnTo>
                  <a:lnTo>
                    <a:pt x="200" y="328"/>
                  </a:lnTo>
                  <a:lnTo>
                    <a:pt x="208" y="344"/>
                  </a:lnTo>
                  <a:lnTo>
                    <a:pt x="216" y="352"/>
                  </a:lnTo>
                  <a:lnTo>
                    <a:pt x="232" y="368"/>
                  </a:lnTo>
                  <a:lnTo>
                    <a:pt x="240" y="376"/>
                  </a:lnTo>
                  <a:lnTo>
                    <a:pt x="248" y="392"/>
                  </a:lnTo>
                  <a:lnTo>
                    <a:pt x="256" y="400"/>
                  </a:lnTo>
                  <a:lnTo>
                    <a:pt x="256" y="416"/>
                  </a:lnTo>
                  <a:lnTo>
                    <a:pt x="256" y="432"/>
                  </a:lnTo>
                  <a:lnTo>
                    <a:pt x="256" y="448"/>
                  </a:lnTo>
                  <a:lnTo>
                    <a:pt x="264" y="472"/>
                  </a:lnTo>
                  <a:lnTo>
                    <a:pt x="264" y="496"/>
                  </a:lnTo>
                  <a:lnTo>
                    <a:pt x="256" y="504"/>
                  </a:lnTo>
                  <a:lnTo>
                    <a:pt x="256" y="520"/>
                  </a:lnTo>
                  <a:lnTo>
                    <a:pt x="248" y="528"/>
                  </a:lnTo>
                  <a:lnTo>
                    <a:pt x="240" y="544"/>
                  </a:lnTo>
                  <a:lnTo>
                    <a:pt x="240" y="552"/>
                  </a:lnTo>
                  <a:lnTo>
                    <a:pt x="240" y="568"/>
                  </a:lnTo>
                  <a:lnTo>
                    <a:pt x="248" y="568"/>
                  </a:lnTo>
                  <a:lnTo>
                    <a:pt x="256" y="576"/>
                  </a:lnTo>
                  <a:lnTo>
                    <a:pt x="256" y="584"/>
                  </a:lnTo>
                  <a:lnTo>
                    <a:pt x="264" y="592"/>
                  </a:lnTo>
                  <a:lnTo>
                    <a:pt x="264" y="608"/>
                  </a:lnTo>
                  <a:lnTo>
                    <a:pt x="272" y="616"/>
                  </a:lnTo>
                  <a:lnTo>
                    <a:pt x="280" y="632"/>
                  </a:lnTo>
                  <a:lnTo>
                    <a:pt x="288" y="632"/>
                  </a:lnTo>
                  <a:lnTo>
                    <a:pt x="296" y="640"/>
                  </a:lnTo>
                  <a:lnTo>
                    <a:pt x="304" y="648"/>
                  </a:lnTo>
                  <a:lnTo>
                    <a:pt x="320" y="648"/>
                  </a:lnTo>
                  <a:lnTo>
                    <a:pt x="336" y="656"/>
                  </a:lnTo>
                  <a:lnTo>
                    <a:pt x="352" y="656"/>
                  </a:lnTo>
                  <a:lnTo>
                    <a:pt x="360" y="656"/>
                  </a:lnTo>
                  <a:lnTo>
                    <a:pt x="368" y="648"/>
                  </a:lnTo>
                  <a:lnTo>
                    <a:pt x="376" y="640"/>
                  </a:lnTo>
                  <a:lnTo>
                    <a:pt x="384" y="632"/>
                  </a:lnTo>
                  <a:lnTo>
                    <a:pt x="392" y="624"/>
                  </a:lnTo>
                  <a:lnTo>
                    <a:pt x="408" y="608"/>
                  </a:lnTo>
                  <a:lnTo>
                    <a:pt x="416" y="600"/>
                  </a:lnTo>
                  <a:lnTo>
                    <a:pt x="432" y="584"/>
                  </a:lnTo>
                  <a:lnTo>
                    <a:pt x="440" y="576"/>
                  </a:lnTo>
                  <a:lnTo>
                    <a:pt x="448" y="568"/>
                  </a:lnTo>
                  <a:lnTo>
                    <a:pt x="456" y="560"/>
                  </a:lnTo>
                  <a:lnTo>
                    <a:pt x="464" y="544"/>
                  </a:lnTo>
                  <a:lnTo>
                    <a:pt x="472" y="536"/>
                  </a:lnTo>
                  <a:lnTo>
                    <a:pt x="488" y="520"/>
                  </a:lnTo>
                  <a:lnTo>
                    <a:pt x="496" y="512"/>
                  </a:lnTo>
                  <a:lnTo>
                    <a:pt x="504" y="496"/>
                  </a:lnTo>
                  <a:lnTo>
                    <a:pt x="512" y="488"/>
                  </a:lnTo>
                  <a:lnTo>
                    <a:pt x="520" y="488"/>
                  </a:lnTo>
                  <a:lnTo>
                    <a:pt x="528" y="488"/>
                  </a:lnTo>
                  <a:lnTo>
                    <a:pt x="544" y="480"/>
                  </a:lnTo>
                  <a:lnTo>
                    <a:pt x="552" y="480"/>
                  </a:lnTo>
                  <a:lnTo>
                    <a:pt x="560" y="480"/>
                  </a:lnTo>
                  <a:lnTo>
                    <a:pt x="568" y="480"/>
                  </a:lnTo>
                  <a:lnTo>
                    <a:pt x="584" y="472"/>
                  </a:lnTo>
                  <a:lnTo>
                    <a:pt x="592" y="472"/>
                  </a:lnTo>
                  <a:lnTo>
                    <a:pt x="592" y="464"/>
                  </a:lnTo>
                  <a:lnTo>
                    <a:pt x="608" y="456"/>
                  </a:lnTo>
                  <a:lnTo>
                    <a:pt x="616" y="448"/>
                  </a:lnTo>
                  <a:lnTo>
                    <a:pt x="624" y="448"/>
                  </a:lnTo>
                  <a:lnTo>
                    <a:pt x="640" y="440"/>
                  </a:lnTo>
                  <a:lnTo>
                    <a:pt x="648" y="432"/>
                  </a:lnTo>
                  <a:lnTo>
                    <a:pt x="656" y="416"/>
                  </a:lnTo>
                  <a:lnTo>
                    <a:pt x="664" y="408"/>
                  </a:lnTo>
                  <a:lnTo>
                    <a:pt x="664" y="400"/>
                  </a:lnTo>
                  <a:lnTo>
                    <a:pt x="656" y="400"/>
                  </a:lnTo>
                  <a:lnTo>
                    <a:pt x="648" y="392"/>
                  </a:lnTo>
                  <a:lnTo>
                    <a:pt x="640" y="384"/>
                  </a:lnTo>
                  <a:lnTo>
                    <a:pt x="640" y="384"/>
                  </a:lnTo>
                  <a:lnTo>
                    <a:pt x="632" y="384"/>
                  </a:lnTo>
                  <a:lnTo>
                    <a:pt x="616" y="376"/>
                  </a:lnTo>
                  <a:lnTo>
                    <a:pt x="608" y="376"/>
                  </a:lnTo>
                  <a:lnTo>
                    <a:pt x="608" y="360"/>
                  </a:lnTo>
                  <a:lnTo>
                    <a:pt x="616" y="352"/>
                  </a:lnTo>
                  <a:lnTo>
                    <a:pt x="616" y="336"/>
                  </a:lnTo>
                  <a:lnTo>
                    <a:pt x="624" y="336"/>
                  </a:lnTo>
                  <a:lnTo>
                    <a:pt x="640" y="336"/>
                  </a:lnTo>
                  <a:lnTo>
                    <a:pt x="648" y="336"/>
                  </a:lnTo>
                  <a:lnTo>
                    <a:pt x="664" y="344"/>
                  </a:lnTo>
                  <a:lnTo>
                    <a:pt x="680" y="344"/>
                  </a:lnTo>
                  <a:lnTo>
                    <a:pt x="680" y="344"/>
                  </a:lnTo>
                  <a:lnTo>
                    <a:pt x="688" y="344"/>
                  </a:lnTo>
                  <a:lnTo>
                    <a:pt x="688" y="336"/>
                  </a:lnTo>
                  <a:lnTo>
                    <a:pt x="688" y="328"/>
                  </a:lnTo>
                  <a:lnTo>
                    <a:pt x="696" y="312"/>
                  </a:lnTo>
                  <a:lnTo>
                    <a:pt x="696" y="296"/>
                  </a:lnTo>
                  <a:lnTo>
                    <a:pt x="704" y="280"/>
                  </a:lnTo>
                  <a:lnTo>
                    <a:pt x="696" y="264"/>
                  </a:lnTo>
                  <a:lnTo>
                    <a:pt x="696" y="248"/>
                  </a:lnTo>
                  <a:lnTo>
                    <a:pt x="696" y="232"/>
                  </a:lnTo>
                  <a:lnTo>
                    <a:pt x="696" y="216"/>
                  </a:lnTo>
                  <a:lnTo>
                    <a:pt x="696" y="192"/>
                  </a:lnTo>
                  <a:lnTo>
                    <a:pt x="704" y="176"/>
                  </a:lnTo>
                  <a:lnTo>
                    <a:pt x="712" y="160"/>
                  </a:lnTo>
                  <a:lnTo>
                    <a:pt x="720" y="152"/>
                  </a:lnTo>
                  <a:lnTo>
                    <a:pt x="728" y="136"/>
                  </a:lnTo>
                  <a:lnTo>
                    <a:pt x="736" y="136"/>
                  </a:lnTo>
                  <a:lnTo>
                    <a:pt x="744" y="128"/>
                  </a:lnTo>
                  <a:lnTo>
                    <a:pt x="752" y="120"/>
                  </a:lnTo>
                  <a:lnTo>
                    <a:pt x="760" y="112"/>
                  </a:lnTo>
                  <a:lnTo>
                    <a:pt x="768" y="112"/>
                  </a:lnTo>
                  <a:lnTo>
                    <a:pt x="776" y="104"/>
                  </a:lnTo>
                  <a:lnTo>
                    <a:pt x="784" y="96"/>
                  </a:lnTo>
                  <a:lnTo>
                    <a:pt x="792" y="88"/>
                  </a:lnTo>
                  <a:lnTo>
                    <a:pt x="792" y="80"/>
                  </a:lnTo>
                  <a:lnTo>
                    <a:pt x="784" y="72"/>
                  </a:lnTo>
                  <a:lnTo>
                    <a:pt x="776" y="72"/>
                  </a:lnTo>
                  <a:lnTo>
                    <a:pt x="760" y="72"/>
                  </a:lnTo>
                  <a:lnTo>
                    <a:pt x="752" y="72"/>
                  </a:lnTo>
                  <a:lnTo>
                    <a:pt x="736" y="72"/>
                  </a:lnTo>
                  <a:lnTo>
                    <a:pt x="720" y="72"/>
                  </a:lnTo>
                  <a:lnTo>
                    <a:pt x="712" y="64"/>
                  </a:lnTo>
                  <a:lnTo>
                    <a:pt x="704" y="64"/>
                  </a:lnTo>
                  <a:lnTo>
                    <a:pt x="696" y="64"/>
                  </a:lnTo>
                  <a:lnTo>
                    <a:pt x="688" y="72"/>
                  </a:lnTo>
                  <a:lnTo>
                    <a:pt x="680" y="80"/>
                  </a:lnTo>
                  <a:lnTo>
                    <a:pt x="680" y="88"/>
                  </a:lnTo>
                  <a:lnTo>
                    <a:pt x="672" y="88"/>
                  </a:lnTo>
                  <a:lnTo>
                    <a:pt x="664" y="88"/>
                  </a:lnTo>
                  <a:lnTo>
                    <a:pt x="656" y="88"/>
                  </a:lnTo>
                  <a:lnTo>
                    <a:pt x="648" y="88"/>
                  </a:lnTo>
                  <a:lnTo>
                    <a:pt x="640" y="88"/>
                  </a:lnTo>
                  <a:lnTo>
                    <a:pt x="632" y="88"/>
                  </a:lnTo>
                  <a:lnTo>
                    <a:pt x="616" y="88"/>
                  </a:lnTo>
                  <a:lnTo>
                    <a:pt x="600" y="88"/>
                  </a:lnTo>
                  <a:lnTo>
                    <a:pt x="584" y="88"/>
                  </a:lnTo>
                  <a:lnTo>
                    <a:pt x="576" y="88"/>
                  </a:lnTo>
                  <a:lnTo>
                    <a:pt x="560" y="88"/>
                  </a:lnTo>
                  <a:lnTo>
                    <a:pt x="552" y="88"/>
                  </a:lnTo>
                  <a:lnTo>
                    <a:pt x="560" y="80"/>
                  </a:lnTo>
                  <a:lnTo>
                    <a:pt x="568" y="80"/>
                  </a:lnTo>
                  <a:lnTo>
                    <a:pt x="584" y="72"/>
                  </a:lnTo>
                  <a:lnTo>
                    <a:pt x="592" y="56"/>
                  </a:lnTo>
                  <a:lnTo>
                    <a:pt x="608" y="56"/>
                  </a:lnTo>
                  <a:lnTo>
                    <a:pt x="616" y="48"/>
                  </a:lnTo>
                  <a:lnTo>
                    <a:pt x="632" y="48"/>
                  </a:lnTo>
                  <a:lnTo>
                    <a:pt x="648" y="48"/>
                  </a:lnTo>
                  <a:lnTo>
                    <a:pt x="664" y="48"/>
                  </a:lnTo>
                  <a:lnTo>
                    <a:pt x="680" y="56"/>
                  </a:lnTo>
                  <a:lnTo>
                    <a:pt x="680" y="56"/>
                  </a:lnTo>
                  <a:lnTo>
                    <a:pt x="672" y="40"/>
                  </a:lnTo>
                  <a:lnTo>
                    <a:pt x="656" y="24"/>
                  </a:lnTo>
                  <a:lnTo>
                    <a:pt x="648" y="8"/>
                  </a:lnTo>
                  <a:lnTo>
                    <a:pt x="632" y="8"/>
                  </a:lnTo>
                  <a:lnTo>
                    <a:pt x="624" y="0"/>
                  </a:lnTo>
                  <a:lnTo>
                    <a:pt x="616" y="0"/>
                  </a:lnTo>
                  <a:lnTo>
                    <a:pt x="608" y="0"/>
                  </a:lnTo>
                  <a:lnTo>
                    <a:pt x="592" y="0"/>
                  </a:lnTo>
                  <a:lnTo>
                    <a:pt x="584" y="0"/>
                  </a:lnTo>
                  <a:lnTo>
                    <a:pt x="568" y="0"/>
                  </a:lnTo>
                  <a:lnTo>
                    <a:pt x="552" y="0"/>
                  </a:lnTo>
                  <a:lnTo>
                    <a:pt x="536" y="0"/>
                  </a:lnTo>
                  <a:lnTo>
                    <a:pt x="528" y="0"/>
                  </a:lnTo>
                  <a:lnTo>
                    <a:pt x="512" y="8"/>
                  </a:lnTo>
                  <a:lnTo>
                    <a:pt x="496" y="8"/>
                  </a:lnTo>
                  <a:lnTo>
                    <a:pt x="480" y="8"/>
                  </a:lnTo>
                  <a:lnTo>
                    <a:pt x="464" y="8"/>
                  </a:lnTo>
                  <a:lnTo>
                    <a:pt x="456" y="8"/>
                  </a:lnTo>
                  <a:lnTo>
                    <a:pt x="440" y="8"/>
                  </a:lnTo>
                  <a:lnTo>
                    <a:pt x="432" y="8"/>
                  </a:lnTo>
                  <a:lnTo>
                    <a:pt x="424" y="16"/>
                  </a:lnTo>
                  <a:lnTo>
                    <a:pt x="408" y="24"/>
                  </a:lnTo>
                  <a:lnTo>
                    <a:pt x="400" y="24"/>
                  </a:lnTo>
                  <a:lnTo>
                    <a:pt x="384" y="32"/>
                  </a:lnTo>
                  <a:lnTo>
                    <a:pt x="376" y="32"/>
                  </a:lnTo>
                  <a:lnTo>
                    <a:pt x="368" y="32"/>
                  </a:lnTo>
                  <a:lnTo>
                    <a:pt x="360" y="40"/>
                  </a:lnTo>
                  <a:lnTo>
                    <a:pt x="352" y="40"/>
                  </a:lnTo>
                  <a:lnTo>
                    <a:pt x="344" y="48"/>
                  </a:lnTo>
                  <a:lnTo>
                    <a:pt x="352" y="56"/>
                  </a:lnTo>
                  <a:lnTo>
                    <a:pt x="352" y="64"/>
                  </a:lnTo>
                  <a:lnTo>
                    <a:pt x="360" y="72"/>
                  </a:lnTo>
                  <a:lnTo>
                    <a:pt x="360" y="80"/>
                  </a:lnTo>
                  <a:lnTo>
                    <a:pt x="352" y="80"/>
                  </a:lnTo>
                  <a:lnTo>
                    <a:pt x="336" y="80"/>
                  </a:lnTo>
                  <a:lnTo>
                    <a:pt x="320" y="80"/>
                  </a:lnTo>
                  <a:lnTo>
                    <a:pt x="304" y="88"/>
                  </a:lnTo>
                  <a:lnTo>
                    <a:pt x="296" y="88"/>
                  </a:lnTo>
                  <a:lnTo>
                    <a:pt x="288" y="88"/>
                  </a:lnTo>
                  <a:lnTo>
                    <a:pt x="280" y="80"/>
                  </a:lnTo>
                  <a:lnTo>
                    <a:pt x="272" y="80"/>
                  </a:lnTo>
                  <a:lnTo>
                    <a:pt x="256" y="88"/>
                  </a:lnTo>
                  <a:lnTo>
                    <a:pt x="240" y="88"/>
                  </a:lnTo>
                  <a:lnTo>
                    <a:pt x="240" y="88"/>
                  </a:lnTo>
                  <a:lnTo>
                    <a:pt x="232" y="88"/>
                  </a:lnTo>
                  <a:lnTo>
                    <a:pt x="216" y="88"/>
                  </a:lnTo>
                  <a:lnTo>
                    <a:pt x="200" y="88"/>
                  </a:lnTo>
                  <a:lnTo>
                    <a:pt x="184" y="88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654520" y="3549600"/>
              <a:ext cx="519120" cy="270000"/>
            </a:xfrm>
            <a:custGeom>
              <a:avLst/>
              <a:gdLst/>
              <a:ahLst/>
              <a:rect l="l" t="t" r="r" b="b"/>
              <a:pathLst>
                <a:path w="432" h="224">
                  <a:moveTo>
                    <a:pt x="432" y="24"/>
                  </a:moveTo>
                  <a:lnTo>
                    <a:pt x="432" y="24"/>
                  </a:lnTo>
                  <a:lnTo>
                    <a:pt x="424" y="24"/>
                  </a:lnTo>
                  <a:lnTo>
                    <a:pt x="416" y="24"/>
                  </a:lnTo>
                  <a:lnTo>
                    <a:pt x="392" y="24"/>
                  </a:lnTo>
                  <a:lnTo>
                    <a:pt x="376" y="24"/>
                  </a:lnTo>
                  <a:lnTo>
                    <a:pt x="352" y="24"/>
                  </a:lnTo>
                  <a:lnTo>
                    <a:pt x="328" y="24"/>
                  </a:lnTo>
                  <a:lnTo>
                    <a:pt x="304" y="16"/>
                  </a:lnTo>
                  <a:lnTo>
                    <a:pt x="296" y="16"/>
                  </a:lnTo>
                  <a:lnTo>
                    <a:pt x="280" y="16"/>
                  </a:lnTo>
                  <a:lnTo>
                    <a:pt x="264" y="8"/>
                  </a:lnTo>
                  <a:lnTo>
                    <a:pt x="240" y="8"/>
                  </a:lnTo>
                  <a:lnTo>
                    <a:pt x="216" y="8"/>
                  </a:lnTo>
                  <a:lnTo>
                    <a:pt x="192" y="0"/>
                  </a:lnTo>
                  <a:lnTo>
                    <a:pt x="168" y="8"/>
                  </a:lnTo>
                  <a:lnTo>
                    <a:pt x="152" y="8"/>
                  </a:lnTo>
                  <a:lnTo>
                    <a:pt x="144" y="8"/>
                  </a:lnTo>
                  <a:lnTo>
                    <a:pt x="128" y="16"/>
                  </a:lnTo>
                  <a:lnTo>
                    <a:pt x="120" y="24"/>
                  </a:lnTo>
                  <a:lnTo>
                    <a:pt x="104" y="24"/>
                  </a:lnTo>
                  <a:lnTo>
                    <a:pt x="96" y="24"/>
                  </a:lnTo>
                  <a:lnTo>
                    <a:pt x="80" y="32"/>
                  </a:lnTo>
                  <a:lnTo>
                    <a:pt x="72" y="32"/>
                  </a:lnTo>
                  <a:lnTo>
                    <a:pt x="64" y="32"/>
                  </a:lnTo>
                  <a:lnTo>
                    <a:pt x="56" y="32"/>
                  </a:lnTo>
                  <a:lnTo>
                    <a:pt x="40" y="40"/>
                  </a:lnTo>
                  <a:lnTo>
                    <a:pt x="24" y="40"/>
                  </a:lnTo>
                  <a:lnTo>
                    <a:pt x="8" y="40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8" y="64"/>
                  </a:lnTo>
                  <a:lnTo>
                    <a:pt x="24" y="72"/>
                  </a:lnTo>
                  <a:lnTo>
                    <a:pt x="32" y="72"/>
                  </a:lnTo>
                  <a:lnTo>
                    <a:pt x="40" y="80"/>
                  </a:lnTo>
                  <a:lnTo>
                    <a:pt x="56" y="80"/>
                  </a:lnTo>
                  <a:lnTo>
                    <a:pt x="72" y="88"/>
                  </a:lnTo>
                  <a:lnTo>
                    <a:pt x="80" y="88"/>
                  </a:lnTo>
                  <a:lnTo>
                    <a:pt x="96" y="104"/>
                  </a:lnTo>
                  <a:lnTo>
                    <a:pt x="104" y="112"/>
                  </a:lnTo>
                  <a:lnTo>
                    <a:pt x="104" y="128"/>
                  </a:lnTo>
                  <a:lnTo>
                    <a:pt x="96" y="136"/>
                  </a:lnTo>
                  <a:lnTo>
                    <a:pt x="80" y="144"/>
                  </a:lnTo>
                  <a:lnTo>
                    <a:pt x="64" y="160"/>
                  </a:lnTo>
                  <a:lnTo>
                    <a:pt x="64" y="176"/>
                  </a:lnTo>
                  <a:lnTo>
                    <a:pt x="56" y="176"/>
                  </a:lnTo>
                  <a:lnTo>
                    <a:pt x="56" y="216"/>
                  </a:lnTo>
                  <a:lnTo>
                    <a:pt x="112" y="216"/>
                  </a:lnTo>
                  <a:lnTo>
                    <a:pt x="112" y="216"/>
                  </a:lnTo>
                  <a:lnTo>
                    <a:pt x="120" y="216"/>
                  </a:lnTo>
                  <a:lnTo>
                    <a:pt x="128" y="224"/>
                  </a:lnTo>
                  <a:lnTo>
                    <a:pt x="144" y="224"/>
                  </a:lnTo>
                  <a:lnTo>
                    <a:pt x="144" y="216"/>
                  </a:lnTo>
                  <a:lnTo>
                    <a:pt x="152" y="216"/>
                  </a:lnTo>
                  <a:lnTo>
                    <a:pt x="168" y="208"/>
                  </a:lnTo>
                  <a:lnTo>
                    <a:pt x="176" y="200"/>
                  </a:lnTo>
                  <a:lnTo>
                    <a:pt x="184" y="192"/>
                  </a:lnTo>
                  <a:lnTo>
                    <a:pt x="200" y="184"/>
                  </a:lnTo>
                  <a:lnTo>
                    <a:pt x="200" y="184"/>
                  </a:lnTo>
                  <a:lnTo>
                    <a:pt x="208" y="176"/>
                  </a:lnTo>
                  <a:lnTo>
                    <a:pt x="208" y="168"/>
                  </a:lnTo>
                  <a:lnTo>
                    <a:pt x="200" y="160"/>
                  </a:lnTo>
                  <a:lnTo>
                    <a:pt x="208" y="144"/>
                  </a:lnTo>
                  <a:lnTo>
                    <a:pt x="208" y="136"/>
                  </a:lnTo>
                  <a:lnTo>
                    <a:pt x="216" y="120"/>
                  </a:lnTo>
                  <a:lnTo>
                    <a:pt x="224" y="104"/>
                  </a:lnTo>
                  <a:lnTo>
                    <a:pt x="232" y="96"/>
                  </a:lnTo>
                  <a:lnTo>
                    <a:pt x="240" y="96"/>
                  </a:lnTo>
                  <a:lnTo>
                    <a:pt x="248" y="104"/>
                  </a:lnTo>
                  <a:lnTo>
                    <a:pt x="264" y="112"/>
                  </a:lnTo>
                  <a:lnTo>
                    <a:pt x="272" y="120"/>
                  </a:lnTo>
                  <a:lnTo>
                    <a:pt x="272" y="136"/>
                  </a:lnTo>
                  <a:lnTo>
                    <a:pt x="272" y="144"/>
                  </a:lnTo>
                  <a:lnTo>
                    <a:pt x="280" y="144"/>
                  </a:lnTo>
                  <a:lnTo>
                    <a:pt x="288" y="152"/>
                  </a:lnTo>
                  <a:lnTo>
                    <a:pt x="304" y="144"/>
                  </a:lnTo>
                  <a:lnTo>
                    <a:pt x="312" y="136"/>
                  </a:lnTo>
                  <a:lnTo>
                    <a:pt x="320" y="120"/>
                  </a:lnTo>
                  <a:lnTo>
                    <a:pt x="336" y="104"/>
                  </a:lnTo>
                  <a:lnTo>
                    <a:pt x="352" y="88"/>
                  </a:lnTo>
                  <a:lnTo>
                    <a:pt x="368" y="72"/>
                  </a:lnTo>
                  <a:lnTo>
                    <a:pt x="384" y="56"/>
                  </a:lnTo>
                  <a:lnTo>
                    <a:pt x="408" y="40"/>
                  </a:lnTo>
                  <a:lnTo>
                    <a:pt x="432" y="24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203800" y="3962160"/>
              <a:ext cx="258840" cy="136800"/>
            </a:xfrm>
            <a:custGeom>
              <a:avLst/>
              <a:gdLst/>
              <a:ahLst/>
              <a:rect l="l" t="t" r="r" b="b"/>
              <a:pathLst>
                <a:path w="216" h="112">
                  <a:moveTo>
                    <a:pt x="24" y="8"/>
                  </a:moveTo>
                  <a:lnTo>
                    <a:pt x="24" y="8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72" y="0"/>
                  </a:lnTo>
                  <a:lnTo>
                    <a:pt x="88" y="0"/>
                  </a:lnTo>
                  <a:lnTo>
                    <a:pt x="96" y="8"/>
                  </a:lnTo>
                  <a:lnTo>
                    <a:pt x="104" y="8"/>
                  </a:lnTo>
                  <a:lnTo>
                    <a:pt x="112" y="16"/>
                  </a:lnTo>
                  <a:lnTo>
                    <a:pt x="120" y="16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44" y="32"/>
                  </a:lnTo>
                  <a:lnTo>
                    <a:pt x="152" y="32"/>
                  </a:lnTo>
                  <a:lnTo>
                    <a:pt x="160" y="40"/>
                  </a:lnTo>
                  <a:lnTo>
                    <a:pt x="168" y="40"/>
                  </a:lnTo>
                  <a:lnTo>
                    <a:pt x="176" y="40"/>
                  </a:lnTo>
                  <a:lnTo>
                    <a:pt x="192" y="48"/>
                  </a:lnTo>
                  <a:lnTo>
                    <a:pt x="208" y="64"/>
                  </a:lnTo>
                  <a:lnTo>
                    <a:pt x="216" y="80"/>
                  </a:lnTo>
                  <a:lnTo>
                    <a:pt x="216" y="88"/>
                  </a:lnTo>
                  <a:lnTo>
                    <a:pt x="216" y="88"/>
                  </a:lnTo>
                  <a:lnTo>
                    <a:pt x="208" y="88"/>
                  </a:lnTo>
                  <a:lnTo>
                    <a:pt x="200" y="88"/>
                  </a:lnTo>
                  <a:lnTo>
                    <a:pt x="192" y="96"/>
                  </a:lnTo>
                  <a:lnTo>
                    <a:pt x="184" y="96"/>
                  </a:lnTo>
                  <a:lnTo>
                    <a:pt x="168" y="96"/>
                  </a:lnTo>
                  <a:lnTo>
                    <a:pt x="160" y="96"/>
                  </a:lnTo>
                  <a:lnTo>
                    <a:pt x="152" y="96"/>
                  </a:lnTo>
                  <a:lnTo>
                    <a:pt x="144" y="96"/>
                  </a:lnTo>
                  <a:lnTo>
                    <a:pt x="128" y="96"/>
                  </a:lnTo>
                  <a:lnTo>
                    <a:pt x="112" y="96"/>
                  </a:lnTo>
                  <a:lnTo>
                    <a:pt x="104" y="104"/>
                  </a:lnTo>
                  <a:lnTo>
                    <a:pt x="88" y="104"/>
                  </a:lnTo>
                  <a:lnTo>
                    <a:pt x="80" y="104"/>
                  </a:lnTo>
                  <a:lnTo>
                    <a:pt x="80" y="112"/>
                  </a:lnTo>
                  <a:lnTo>
                    <a:pt x="72" y="112"/>
                  </a:lnTo>
                  <a:lnTo>
                    <a:pt x="64" y="112"/>
                  </a:lnTo>
                  <a:lnTo>
                    <a:pt x="48" y="112"/>
                  </a:lnTo>
                  <a:lnTo>
                    <a:pt x="24" y="112"/>
                  </a:lnTo>
                  <a:lnTo>
                    <a:pt x="16" y="104"/>
                  </a:lnTo>
                  <a:lnTo>
                    <a:pt x="24" y="88"/>
                  </a:lnTo>
                  <a:lnTo>
                    <a:pt x="32" y="72"/>
                  </a:lnTo>
                  <a:lnTo>
                    <a:pt x="40" y="64"/>
                  </a:lnTo>
                  <a:lnTo>
                    <a:pt x="40" y="56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750000" y="4116240"/>
              <a:ext cx="203400" cy="106560"/>
            </a:xfrm>
            <a:custGeom>
              <a:avLst/>
              <a:gdLst/>
              <a:ahLst/>
              <a:rect l="l" t="t" r="r" b="b"/>
              <a:pathLst>
                <a:path w="168" h="88">
                  <a:moveTo>
                    <a:pt x="64" y="24"/>
                  </a:moveTo>
                  <a:lnTo>
                    <a:pt x="64" y="24"/>
                  </a:lnTo>
                  <a:lnTo>
                    <a:pt x="64" y="32"/>
                  </a:lnTo>
                  <a:lnTo>
                    <a:pt x="72" y="40"/>
                  </a:lnTo>
                  <a:lnTo>
                    <a:pt x="88" y="32"/>
                  </a:lnTo>
                  <a:lnTo>
                    <a:pt x="96" y="24"/>
                  </a:lnTo>
                  <a:lnTo>
                    <a:pt x="112" y="16"/>
                  </a:lnTo>
                  <a:lnTo>
                    <a:pt x="128" y="8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60" y="16"/>
                  </a:lnTo>
                  <a:lnTo>
                    <a:pt x="168" y="40"/>
                  </a:lnTo>
                  <a:lnTo>
                    <a:pt x="168" y="56"/>
                  </a:lnTo>
                  <a:lnTo>
                    <a:pt x="168" y="64"/>
                  </a:lnTo>
                  <a:lnTo>
                    <a:pt x="160" y="64"/>
                  </a:lnTo>
                  <a:lnTo>
                    <a:pt x="152" y="72"/>
                  </a:lnTo>
                  <a:lnTo>
                    <a:pt x="136" y="80"/>
                  </a:lnTo>
                  <a:lnTo>
                    <a:pt x="112" y="88"/>
                  </a:lnTo>
                  <a:lnTo>
                    <a:pt x="104" y="88"/>
                  </a:lnTo>
                  <a:lnTo>
                    <a:pt x="88" y="88"/>
                  </a:lnTo>
                  <a:lnTo>
                    <a:pt x="80" y="88"/>
                  </a:lnTo>
                  <a:lnTo>
                    <a:pt x="64" y="88"/>
                  </a:lnTo>
                  <a:lnTo>
                    <a:pt x="56" y="88"/>
                  </a:lnTo>
                  <a:lnTo>
                    <a:pt x="48" y="80"/>
                  </a:lnTo>
                  <a:lnTo>
                    <a:pt x="40" y="80"/>
                  </a:lnTo>
                  <a:lnTo>
                    <a:pt x="40" y="72"/>
                  </a:lnTo>
                  <a:lnTo>
                    <a:pt x="32" y="64"/>
                  </a:lnTo>
                  <a:lnTo>
                    <a:pt x="16" y="56"/>
                  </a:lnTo>
                  <a:lnTo>
                    <a:pt x="8" y="48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8" y="8"/>
                  </a:lnTo>
                  <a:lnTo>
                    <a:pt x="24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64" y="16"/>
                  </a:lnTo>
                  <a:lnTo>
                    <a:pt x="64" y="24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818320" y="5194080"/>
              <a:ext cx="182520" cy="95400"/>
            </a:xfrm>
            <a:custGeom>
              <a:avLst/>
              <a:gdLst/>
              <a:ahLst/>
              <a:rect l="l" t="t" r="r" b="b"/>
              <a:pathLst>
                <a:path w="152" h="80">
                  <a:moveTo>
                    <a:pt x="0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48" y="8"/>
                  </a:lnTo>
                  <a:lnTo>
                    <a:pt x="72" y="16"/>
                  </a:lnTo>
                  <a:lnTo>
                    <a:pt x="88" y="32"/>
                  </a:lnTo>
                  <a:lnTo>
                    <a:pt x="104" y="40"/>
                  </a:lnTo>
                  <a:lnTo>
                    <a:pt x="112" y="48"/>
                  </a:lnTo>
                  <a:lnTo>
                    <a:pt x="136" y="56"/>
                  </a:lnTo>
                  <a:lnTo>
                    <a:pt x="152" y="64"/>
                  </a:lnTo>
                  <a:lnTo>
                    <a:pt x="152" y="72"/>
                  </a:lnTo>
                  <a:lnTo>
                    <a:pt x="144" y="80"/>
                  </a:lnTo>
                  <a:lnTo>
                    <a:pt x="136" y="80"/>
                  </a:lnTo>
                  <a:lnTo>
                    <a:pt x="120" y="72"/>
                  </a:lnTo>
                  <a:lnTo>
                    <a:pt x="112" y="72"/>
                  </a:lnTo>
                  <a:lnTo>
                    <a:pt x="104" y="72"/>
                  </a:lnTo>
                  <a:lnTo>
                    <a:pt x="88" y="72"/>
                  </a:lnTo>
                  <a:lnTo>
                    <a:pt x="80" y="72"/>
                  </a:lnTo>
                  <a:lnTo>
                    <a:pt x="80" y="64"/>
                  </a:lnTo>
                  <a:lnTo>
                    <a:pt x="80" y="64"/>
                  </a:lnTo>
                  <a:lnTo>
                    <a:pt x="72" y="64"/>
                  </a:lnTo>
                  <a:lnTo>
                    <a:pt x="64" y="56"/>
                  </a:lnTo>
                  <a:lnTo>
                    <a:pt x="48" y="56"/>
                  </a:lnTo>
                  <a:lnTo>
                    <a:pt x="40" y="48"/>
                  </a:lnTo>
                  <a:lnTo>
                    <a:pt x="24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224080" y="3752640"/>
              <a:ext cx="2019240" cy="844560"/>
            </a:xfrm>
            <a:custGeom>
              <a:avLst/>
              <a:gdLst/>
              <a:ahLst/>
              <a:rect l="l" t="t" r="r" b="b"/>
              <a:pathLst>
                <a:path w="1680" h="704">
                  <a:moveTo>
                    <a:pt x="0" y="704"/>
                  </a:moveTo>
                  <a:lnTo>
                    <a:pt x="0" y="704"/>
                  </a:lnTo>
                  <a:lnTo>
                    <a:pt x="984" y="704"/>
                  </a:lnTo>
                  <a:lnTo>
                    <a:pt x="992" y="688"/>
                  </a:lnTo>
                  <a:lnTo>
                    <a:pt x="1008" y="656"/>
                  </a:lnTo>
                  <a:lnTo>
                    <a:pt x="1016" y="632"/>
                  </a:lnTo>
                  <a:lnTo>
                    <a:pt x="1024" y="616"/>
                  </a:lnTo>
                  <a:lnTo>
                    <a:pt x="1032" y="600"/>
                  </a:lnTo>
                  <a:lnTo>
                    <a:pt x="1024" y="576"/>
                  </a:lnTo>
                  <a:lnTo>
                    <a:pt x="1008" y="560"/>
                  </a:lnTo>
                  <a:lnTo>
                    <a:pt x="984" y="552"/>
                  </a:lnTo>
                  <a:lnTo>
                    <a:pt x="960" y="552"/>
                  </a:lnTo>
                  <a:lnTo>
                    <a:pt x="960" y="536"/>
                  </a:lnTo>
                  <a:lnTo>
                    <a:pt x="968" y="520"/>
                  </a:lnTo>
                  <a:lnTo>
                    <a:pt x="992" y="504"/>
                  </a:lnTo>
                  <a:lnTo>
                    <a:pt x="1000" y="496"/>
                  </a:lnTo>
                  <a:lnTo>
                    <a:pt x="1016" y="480"/>
                  </a:lnTo>
                  <a:lnTo>
                    <a:pt x="1032" y="472"/>
                  </a:lnTo>
                  <a:lnTo>
                    <a:pt x="1048" y="456"/>
                  </a:lnTo>
                  <a:lnTo>
                    <a:pt x="1064" y="448"/>
                  </a:lnTo>
                  <a:lnTo>
                    <a:pt x="1080" y="448"/>
                  </a:lnTo>
                  <a:lnTo>
                    <a:pt x="1088" y="448"/>
                  </a:lnTo>
                  <a:lnTo>
                    <a:pt x="1088" y="448"/>
                  </a:lnTo>
                  <a:lnTo>
                    <a:pt x="1096" y="464"/>
                  </a:lnTo>
                  <a:lnTo>
                    <a:pt x="1104" y="472"/>
                  </a:lnTo>
                  <a:lnTo>
                    <a:pt x="1120" y="480"/>
                  </a:lnTo>
                  <a:lnTo>
                    <a:pt x="1128" y="472"/>
                  </a:lnTo>
                  <a:lnTo>
                    <a:pt x="1144" y="464"/>
                  </a:lnTo>
                  <a:lnTo>
                    <a:pt x="1160" y="456"/>
                  </a:lnTo>
                  <a:lnTo>
                    <a:pt x="1176" y="456"/>
                  </a:lnTo>
                  <a:lnTo>
                    <a:pt x="1184" y="464"/>
                  </a:lnTo>
                  <a:lnTo>
                    <a:pt x="1192" y="480"/>
                  </a:lnTo>
                  <a:lnTo>
                    <a:pt x="1192" y="488"/>
                  </a:lnTo>
                  <a:lnTo>
                    <a:pt x="1208" y="488"/>
                  </a:lnTo>
                  <a:lnTo>
                    <a:pt x="1216" y="480"/>
                  </a:lnTo>
                  <a:lnTo>
                    <a:pt x="1224" y="472"/>
                  </a:lnTo>
                  <a:lnTo>
                    <a:pt x="1240" y="456"/>
                  </a:lnTo>
                  <a:lnTo>
                    <a:pt x="1248" y="448"/>
                  </a:lnTo>
                  <a:lnTo>
                    <a:pt x="1256" y="432"/>
                  </a:lnTo>
                  <a:lnTo>
                    <a:pt x="1272" y="424"/>
                  </a:lnTo>
                  <a:lnTo>
                    <a:pt x="1280" y="416"/>
                  </a:lnTo>
                  <a:lnTo>
                    <a:pt x="1288" y="416"/>
                  </a:lnTo>
                  <a:lnTo>
                    <a:pt x="1296" y="424"/>
                  </a:lnTo>
                  <a:lnTo>
                    <a:pt x="1312" y="440"/>
                  </a:lnTo>
                  <a:lnTo>
                    <a:pt x="1312" y="448"/>
                  </a:lnTo>
                  <a:lnTo>
                    <a:pt x="1296" y="456"/>
                  </a:lnTo>
                  <a:lnTo>
                    <a:pt x="1288" y="472"/>
                  </a:lnTo>
                  <a:lnTo>
                    <a:pt x="1280" y="480"/>
                  </a:lnTo>
                  <a:lnTo>
                    <a:pt x="1272" y="488"/>
                  </a:lnTo>
                  <a:lnTo>
                    <a:pt x="1256" y="496"/>
                  </a:lnTo>
                  <a:lnTo>
                    <a:pt x="1248" y="496"/>
                  </a:lnTo>
                  <a:lnTo>
                    <a:pt x="1240" y="504"/>
                  </a:lnTo>
                  <a:lnTo>
                    <a:pt x="1232" y="512"/>
                  </a:lnTo>
                  <a:lnTo>
                    <a:pt x="1224" y="520"/>
                  </a:lnTo>
                  <a:lnTo>
                    <a:pt x="1232" y="528"/>
                  </a:lnTo>
                  <a:lnTo>
                    <a:pt x="1232" y="552"/>
                  </a:lnTo>
                  <a:lnTo>
                    <a:pt x="1240" y="584"/>
                  </a:lnTo>
                  <a:lnTo>
                    <a:pt x="1240" y="608"/>
                  </a:lnTo>
                  <a:lnTo>
                    <a:pt x="1256" y="624"/>
                  </a:lnTo>
                  <a:lnTo>
                    <a:pt x="1264" y="624"/>
                  </a:lnTo>
                  <a:lnTo>
                    <a:pt x="1272" y="624"/>
                  </a:lnTo>
                  <a:lnTo>
                    <a:pt x="1280" y="616"/>
                  </a:lnTo>
                  <a:lnTo>
                    <a:pt x="1296" y="600"/>
                  </a:lnTo>
                  <a:lnTo>
                    <a:pt x="1304" y="592"/>
                  </a:lnTo>
                  <a:lnTo>
                    <a:pt x="1312" y="584"/>
                  </a:lnTo>
                  <a:lnTo>
                    <a:pt x="1328" y="576"/>
                  </a:lnTo>
                  <a:lnTo>
                    <a:pt x="1328" y="568"/>
                  </a:lnTo>
                  <a:lnTo>
                    <a:pt x="1344" y="552"/>
                  </a:lnTo>
                  <a:lnTo>
                    <a:pt x="1352" y="528"/>
                  </a:lnTo>
                  <a:lnTo>
                    <a:pt x="1352" y="512"/>
                  </a:lnTo>
                  <a:lnTo>
                    <a:pt x="1360" y="496"/>
                  </a:lnTo>
                  <a:lnTo>
                    <a:pt x="1360" y="488"/>
                  </a:lnTo>
                  <a:lnTo>
                    <a:pt x="1368" y="472"/>
                  </a:lnTo>
                  <a:lnTo>
                    <a:pt x="1384" y="464"/>
                  </a:lnTo>
                  <a:lnTo>
                    <a:pt x="1408" y="456"/>
                  </a:lnTo>
                  <a:lnTo>
                    <a:pt x="1424" y="448"/>
                  </a:lnTo>
                  <a:lnTo>
                    <a:pt x="1448" y="448"/>
                  </a:lnTo>
                  <a:lnTo>
                    <a:pt x="1464" y="440"/>
                  </a:lnTo>
                  <a:lnTo>
                    <a:pt x="1488" y="432"/>
                  </a:lnTo>
                  <a:lnTo>
                    <a:pt x="1504" y="424"/>
                  </a:lnTo>
                  <a:lnTo>
                    <a:pt x="1520" y="424"/>
                  </a:lnTo>
                  <a:lnTo>
                    <a:pt x="1536" y="416"/>
                  </a:lnTo>
                  <a:lnTo>
                    <a:pt x="1536" y="408"/>
                  </a:lnTo>
                  <a:lnTo>
                    <a:pt x="1552" y="392"/>
                  </a:lnTo>
                  <a:lnTo>
                    <a:pt x="1560" y="368"/>
                  </a:lnTo>
                  <a:lnTo>
                    <a:pt x="1576" y="360"/>
                  </a:lnTo>
                  <a:lnTo>
                    <a:pt x="1584" y="352"/>
                  </a:lnTo>
                  <a:lnTo>
                    <a:pt x="1648" y="400"/>
                  </a:lnTo>
                  <a:lnTo>
                    <a:pt x="1656" y="376"/>
                  </a:lnTo>
                  <a:lnTo>
                    <a:pt x="1664" y="344"/>
                  </a:lnTo>
                  <a:lnTo>
                    <a:pt x="1680" y="312"/>
                  </a:lnTo>
                  <a:lnTo>
                    <a:pt x="1672" y="296"/>
                  </a:lnTo>
                  <a:lnTo>
                    <a:pt x="1664" y="296"/>
                  </a:lnTo>
                  <a:lnTo>
                    <a:pt x="1656" y="296"/>
                  </a:lnTo>
                  <a:lnTo>
                    <a:pt x="1648" y="296"/>
                  </a:lnTo>
                  <a:lnTo>
                    <a:pt x="1632" y="296"/>
                  </a:lnTo>
                  <a:lnTo>
                    <a:pt x="1624" y="296"/>
                  </a:lnTo>
                  <a:lnTo>
                    <a:pt x="1616" y="304"/>
                  </a:lnTo>
                  <a:lnTo>
                    <a:pt x="1608" y="304"/>
                  </a:lnTo>
                  <a:lnTo>
                    <a:pt x="1608" y="304"/>
                  </a:lnTo>
                  <a:lnTo>
                    <a:pt x="1600" y="304"/>
                  </a:lnTo>
                  <a:lnTo>
                    <a:pt x="1592" y="296"/>
                  </a:lnTo>
                  <a:lnTo>
                    <a:pt x="1568" y="288"/>
                  </a:lnTo>
                  <a:lnTo>
                    <a:pt x="1552" y="280"/>
                  </a:lnTo>
                  <a:lnTo>
                    <a:pt x="1544" y="272"/>
                  </a:lnTo>
                  <a:lnTo>
                    <a:pt x="1536" y="264"/>
                  </a:lnTo>
                  <a:lnTo>
                    <a:pt x="1520" y="256"/>
                  </a:lnTo>
                  <a:lnTo>
                    <a:pt x="1504" y="248"/>
                  </a:lnTo>
                  <a:lnTo>
                    <a:pt x="1488" y="240"/>
                  </a:lnTo>
                  <a:lnTo>
                    <a:pt x="1480" y="240"/>
                  </a:lnTo>
                  <a:lnTo>
                    <a:pt x="1464" y="240"/>
                  </a:lnTo>
                  <a:lnTo>
                    <a:pt x="1456" y="248"/>
                  </a:lnTo>
                  <a:lnTo>
                    <a:pt x="1456" y="256"/>
                  </a:lnTo>
                  <a:lnTo>
                    <a:pt x="1440" y="256"/>
                  </a:lnTo>
                  <a:lnTo>
                    <a:pt x="1424" y="264"/>
                  </a:lnTo>
                  <a:lnTo>
                    <a:pt x="1408" y="264"/>
                  </a:lnTo>
                  <a:lnTo>
                    <a:pt x="1384" y="264"/>
                  </a:lnTo>
                  <a:lnTo>
                    <a:pt x="1360" y="256"/>
                  </a:lnTo>
                  <a:lnTo>
                    <a:pt x="1336" y="256"/>
                  </a:lnTo>
                  <a:lnTo>
                    <a:pt x="1312" y="248"/>
                  </a:lnTo>
                  <a:lnTo>
                    <a:pt x="1288" y="232"/>
                  </a:lnTo>
                  <a:lnTo>
                    <a:pt x="1264" y="224"/>
                  </a:lnTo>
                  <a:lnTo>
                    <a:pt x="1232" y="208"/>
                  </a:lnTo>
                  <a:lnTo>
                    <a:pt x="1208" y="192"/>
                  </a:lnTo>
                  <a:lnTo>
                    <a:pt x="1184" y="184"/>
                  </a:lnTo>
                  <a:lnTo>
                    <a:pt x="1160" y="168"/>
                  </a:lnTo>
                  <a:lnTo>
                    <a:pt x="1136" y="168"/>
                  </a:lnTo>
                  <a:lnTo>
                    <a:pt x="1120" y="168"/>
                  </a:lnTo>
                  <a:lnTo>
                    <a:pt x="1112" y="168"/>
                  </a:lnTo>
                  <a:lnTo>
                    <a:pt x="1104" y="160"/>
                  </a:lnTo>
                  <a:lnTo>
                    <a:pt x="1096" y="152"/>
                  </a:lnTo>
                  <a:lnTo>
                    <a:pt x="1096" y="144"/>
                  </a:lnTo>
                  <a:lnTo>
                    <a:pt x="1088" y="136"/>
                  </a:lnTo>
                  <a:lnTo>
                    <a:pt x="1080" y="136"/>
                  </a:lnTo>
                  <a:lnTo>
                    <a:pt x="1072" y="136"/>
                  </a:lnTo>
                  <a:lnTo>
                    <a:pt x="1056" y="136"/>
                  </a:lnTo>
                  <a:lnTo>
                    <a:pt x="1032" y="144"/>
                  </a:lnTo>
                  <a:lnTo>
                    <a:pt x="1016" y="160"/>
                  </a:lnTo>
                  <a:lnTo>
                    <a:pt x="992" y="168"/>
                  </a:lnTo>
                  <a:lnTo>
                    <a:pt x="968" y="176"/>
                  </a:lnTo>
                  <a:lnTo>
                    <a:pt x="952" y="184"/>
                  </a:lnTo>
                  <a:lnTo>
                    <a:pt x="928" y="184"/>
                  </a:lnTo>
                  <a:lnTo>
                    <a:pt x="896" y="184"/>
                  </a:lnTo>
                  <a:lnTo>
                    <a:pt x="872" y="176"/>
                  </a:lnTo>
                  <a:lnTo>
                    <a:pt x="840" y="168"/>
                  </a:lnTo>
                  <a:lnTo>
                    <a:pt x="816" y="152"/>
                  </a:lnTo>
                  <a:lnTo>
                    <a:pt x="784" y="144"/>
                  </a:lnTo>
                  <a:lnTo>
                    <a:pt x="760" y="136"/>
                  </a:lnTo>
                  <a:lnTo>
                    <a:pt x="728" y="136"/>
                  </a:lnTo>
                  <a:lnTo>
                    <a:pt x="704" y="128"/>
                  </a:lnTo>
                  <a:lnTo>
                    <a:pt x="688" y="128"/>
                  </a:lnTo>
                  <a:lnTo>
                    <a:pt x="664" y="136"/>
                  </a:lnTo>
                  <a:lnTo>
                    <a:pt x="648" y="136"/>
                  </a:lnTo>
                  <a:lnTo>
                    <a:pt x="632" y="144"/>
                  </a:lnTo>
                  <a:lnTo>
                    <a:pt x="616" y="144"/>
                  </a:lnTo>
                  <a:lnTo>
                    <a:pt x="592" y="152"/>
                  </a:lnTo>
                  <a:lnTo>
                    <a:pt x="576" y="152"/>
                  </a:lnTo>
                  <a:lnTo>
                    <a:pt x="560" y="152"/>
                  </a:lnTo>
                  <a:lnTo>
                    <a:pt x="552" y="152"/>
                  </a:lnTo>
                  <a:lnTo>
                    <a:pt x="544" y="152"/>
                  </a:lnTo>
                  <a:lnTo>
                    <a:pt x="560" y="136"/>
                  </a:lnTo>
                  <a:lnTo>
                    <a:pt x="568" y="120"/>
                  </a:lnTo>
                  <a:lnTo>
                    <a:pt x="568" y="104"/>
                  </a:lnTo>
                  <a:lnTo>
                    <a:pt x="560" y="96"/>
                  </a:lnTo>
                  <a:lnTo>
                    <a:pt x="608" y="80"/>
                  </a:lnTo>
                  <a:lnTo>
                    <a:pt x="592" y="64"/>
                  </a:lnTo>
                  <a:lnTo>
                    <a:pt x="568" y="48"/>
                  </a:lnTo>
                  <a:lnTo>
                    <a:pt x="552" y="32"/>
                  </a:lnTo>
                  <a:lnTo>
                    <a:pt x="536" y="24"/>
                  </a:lnTo>
                  <a:lnTo>
                    <a:pt x="520" y="8"/>
                  </a:lnTo>
                  <a:lnTo>
                    <a:pt x="504" y="0"/>
                  </a:lnTo>
                  <a:lnTo>
                    <a:pt x="496" y="0"/>
                  </a:lnTo>
                  <a:lnTo>
                    <a:pt x="480" y="0"/>
                  </a:lnTo>
                  <a:lnTo>
                    <a:pt x="472" y="8"/>
                  </a:lnTo>
                  <a:lnTo>
                    <a:pt x="464" y="16"/>
                  </a:lnTo>
                  <a:lnTo>
                    <a:pt x="456" y="24"/>
                  </a:lnTo>
                  <a:lnTo>
                    <a:pt x="440" y="32"/>
                  </a:lnTo>
                  <a:lnTo>
                    <a:pt x="432" y="40"/>
                  </a:lnTo>
                  <a:lnTo>
                    <a:pt x="424" y="48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56"/>
                  </a:lnTo>
                  <a:lnTo>
                    <a:pt x="384" y="48"/>
                  </a:lnTo>
                  <a:lnTo>
                    <a:pt x="368" y="40"/>
                  </a:lnTo>
                  <a:lnTo>
                    <a:pt x="352" y="40"/>
                  </a:lnTo>
                  <a:lnTo>
                    <a:pt x="336" y="48"/>
                  </a:lnTo>
                  <a:lnTo>
                    <a:pt x="320" y="56"/>
                  </a:lnTo>
                  <a:lnTo>
                    <a:pt x="304" y="64"/>
                  </a:lnTo>
                  <a:lnTo>
                    <a:pt x="296" y="80"/>
                  </a:lnTo>
                  <a:lnTo>
                    <a:pt x="280" y="88"/>
                  </a:lnTo>
                  <a:lnTo>
                    <a:pt x="264" y="96"/>
                  </a:lnTo>
                  <a:lnTo>
                    <a:pt x="248" y="96"/>
                  </a:lnTo>
                  <a:lnTo>
                    <a:pt x="232" y="104"/>
                  </a:lnTo>
                  <a:lnTo>
                    <a:pt x="216" y="104"/>
                  </a:lnTo>
                  <a:lnTo>
                    <a:pt x="208" y="112"/>
                  </a:lnTo>
                  <a:lnTo>
                    <a:pt x="192" y="128"/>
                  </a:lnTo>
                  <a:lnTo>
                    <a:pt x="184" y="136"/>
                  </a:lnTo>
                  <a:lnTo>
                    <a:pt x="176" y="152"/>
                  </a:lnTo>
                  <a:lnTo>
                    <a:pt x="168" y="168"/>
                  </a:lnTo>
                  <a:lnTo>
                    <a:pt x="160" y="184"/>
                  </a:lnTo>
                  <a:lnTo>
                    <a:pt x="144" y="192"/>
                  </a:lnTo>
                  <a:lnTo>
                    <a:pt x="136" y="192"/>
                  </a:lnTo>
                  <a:lnTo>
                    <a:pt x="128" y="192"/>
                  </a:lnTo>
                  <a:lnTo>
                    <a:pt x="120" y="192"/>
                  </a:lnTo>
                  <a:lnTo>
                    <a:pt x="112" y="192"/>
                  </a:lnTo>
                  <a:lnTo>
                    <a:pt x="96" y="192"/>
                  </a:lnTo>
                  <a:lnTo>
                    <a:pt x="88" y="184"/>
                  </a:lnTo>
                  <a:lnTo>
                    <a:pt x="72" y="184"/>
                  </a:lnTo>
                  <a:lnTo>
                    <a:pt x="64" y="184"/>
                  </a:lnTo>
                  <a:lnTo>
                    <a:pt x="48" y="176"/>
                  </a:lnTo>
                  <a:lnTo>
                    <a:pt x="32" y="184"/>
                  </a:lnTo>
                  <a:lnTo>
                    <a:pt x="0" y="184"/>
                  </a:lnTo>
                  <a:lnTo>
                    <a:pt x="0" y="704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021120" y="5711760"/>
              <a:ext cx="691920" cy="539640"/>
            </a:xfrm>
            <a:custGeom>
              <a:avLst/>
              <a:gdLst/>
              <a:ahLst/>
              <a:rect l="l" t="t" r="r" b="b"/>
              <a:pathLst>
                <a:path w="576" h="448">
                  <a:moveTo>
                    <a:pt x="400" y="88"/>
                  </a:moveTo>
                  <a:lnTo>
                    <a:pt x="400" y="88"/>
                  </a:lnTo>
                  <a:lnTo>
                    <a:pt x="392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0" y="88"/>
                  </a:lnTo>
                  <a:lnTo>
                    <a:pt x="352" y="80"/>
                  </a:lnTo>
                  <a:lnTo>
                    <a:pt x="344" y="80"/>
                  </a:lnTo>
                  <a:lnTo>
                    <a:pt x="336" y="80"/>
                  </a:lnTo>
                  <a:lnTo>
                    <a:pt x="328" y="80"/>
                  </a:lnTo>
                  <a:lnTo>
                    <a:pt x="320" y="72"/>
                  </a:lnTo>
                  <a:lnTo>
                    <a:pt x="320" y="64"/>
                  </a:lnTo>
                  <a:lnTo>
                    <a:pt x="328" y="56"/>
                  </a:lnTo>
                  <a:lnTo>
                    <a:pt x="336" y="48"/>
                  </a:lnTo>
                  <a:lnTo>
                    <a:pt x="344" y="40"/>
                  </a:lnTo>
                  <a:lnTo>
                    <a:pt x="328" y="32"/>
                  </a:lnTo>
                  <a:lnTo>
                    <a:pt x="320" y="24"/>
                  </a:lnTo>
                  <a:lnTo>
                    <a:pt x="304" y="16"/>
                  </a:lnTo>
                  <a:lnTo>
                    <a:pt x="304" y="8"/>
                  </a:lnTo>
                  <a:lnTo>
                    <a:pt x="296" y="0"/>
                  </a:lnTo>
                  <a:lnTo>
                    <a:pt x="288" y="0"/>
                  </a:lnTo>
                  <a:lnTo>
                    <a:pt x="288" y="8"/>
                  </a:lnTo>
                  <a:lnTo>
                    <a:pt x="280" y="16"/>
                  </a:lnTo>
                  <a:lnTo>
                    <a:pt x="264" y="24"/>
                  </a:lnTo>
                  <a:lnTo>
                    <a:pt x="240" y="32"/>
                  </a:lnTo>
                  <a:lnTo>
                    <a:pt x="224" y="40"/>
                  </a:lnTo>
                  <a:lnTo>
                    <a:pt x="216" y="48"/>
                  </a:lnTo>
                  <a:lnTo>
                    <a:pt x="208" y="56"/>
                  </a:lnTo>
                  <a:lnTo>
                    <a:pt x="200" y="56"/>
                  </a:lnTo>
                  <a:lnTo>
                    <a:pt x="192" y="56"/>
                  </a:lnTo>
                  <a:lnTo>
                    <a:pt x="184" y="64"/>
                  </a:lnTo>
                  <a:lnTo>
                    <a:pt x="168" y="64"/>
                  </a:lnTo>
                  <a:lnTo>
                    <a:pt x="160" y="72"/>
                  </a:lnTo>
                  <a:lnTo>
                    <a:pt x="152" y="72"/>
                  </a:lnTo>
                  <a:lnTo>
                    <a:pt x="136" y="80"/>
                  </a:lnTo>
                  <a:lnTo>
                    <a:pt x="128" y="88"/>
                  </a:lnTo>
                  <a:lnTo>
                    <a:pt x="120" y="104"/>
                  </a:lnTo>
                  <a:lnTo>
                    <a:pt x="112" y="112"/>
                  </a:lnTo>
                  <a:lnTo>
                    <a:pt x="104" y="120"/>
                  </a:lnTo>
                  <a:lnTo>
                    <a:pt x="96" y="128"/>
                  </a:lnTo>
                  <a:lnTo>
                    <a:pt x="88" y="136"/>
                  </a:lnTo>
                  <a:lnTo>
                    <a:pt x="80" y="144"/>
                  </a:lnTo>
                  <a:lnTo>
                    <a:pt x="72" y="144"/>
                  </a:lnTo>
                  <a:lnTo>
                    <a:pt x="64" y="160"/>
                  </a:lnTo>
                  <a:lnTo>
                    <a:pt x="48" y="160"/>
                  </a:lnTo>
                  <a:lnTo>
                    <a:pt x="40" y="168"/>
                  </a:lnTo>
                  <a:lnTo>
                    <a:pt x="24" y="176"/>
                  </a:lnTo>
                  <a:lnTo>
                    <a:pt x="16" y="176"/>
                  </a:lnTo>
                  <a:lnTo>
                    <a:pt x="8" y="184"/>
                  </a:lnTo>
                  <a:lnTo>
                    <a:pt x="0" y="232"/>
                  </a:lnTo>
                  <a:lnTo>
                    <a:pt x="0" y="248"/>
                  </a:lnTo>
                  <a:lnTo>
                    <a:pt x="8" y="256"/>
                  </a:lnTo>
                  <a:lnTo>
                    <a:pt x="8" y="264"/>
                  </a:lnTo>
                  <a:lnTo>
                    <a:pt x="16" y="280"/>
                  </a:lnTo>
                  <a:lnTo>
                    <a:pt x="24" y="288"/>
                  </a:lnTo>
                  <a:lnTo>
                    <a:pt x="32" y="296"/>
                  </a:lnTo>
                  <a:lnTo>
                    <a:pt x="40" y="304"/>
                  </a:lnTo>
                  <a:lnTo>
                    <a:pt x="32" y="312"/>
                  </a:lnTo>
                  <a:lnTo>
                    <a:pt x="32" y="328"/>
                  </a:lnTo>
                  <a:lnTo>
                    <a:pt x="24" y="336"/>
                  </a:lnTo>
                  <a:lnTo>
                    <a:pt x="16" y="344"/>
                  </a:lnTo>
                  <a:lnTo>
                    <a:pt x="16" y="360"/>
                  </a:lnTo>
                  <a:lnTo>
                    <a:pt x="24" y="368"/>
                  </a:lnTo>
                  <a:lnTo>
                    <a:pt x="32" y="376"/>
                  </a:lnTo>
                  <a:lnTo>
                    <a:pt x="40" y="384"/>
                  </a:lnTo>
                  <a:lnTo>
                    <a:pt x="56" y="384"/>
                  </a:lnTo>
                  <a:lnTo>
                    <a:pt x="64" y="384"/>
                  </a:lnTo>
                  <a:lnTo>
                    <a:pt x="80" y="384"/>
                  </a:lnTo>
                  <a:lnTo>
                    <a:pt x="88" y="384"/>
                  </a:lnTo>
                  <a:lnTo>
                    <a:pt x="104" y="376"/>
                  </a:lnTo>
                  <a:lnTo>
                    <a:pt x="112" y="376"/>
                  </a:lnTo>
                  <a:lnTo>
                    <a:pt x="120" y="368"/>
                  </a:lnTo>
                  <a:lnTo>
                    <a:pt x="128" y="368"/>
                  </a:lnTo>
                  <a:lnTo>
                    <a:pt x="144" y="360"/>
                  </a:lnTo>
                  <a:lnTo>
                    <a:pt x="152" y="360"/>
                  </a:lnTo>
                  <a:lnTo>
                    <a:pt x="168" y="352"/>
                  </a:lnTo>
                  <a:lnTo>
                    <a:pt x="176" y="352"/>
                  </a:lnTo>
                  <a:lnTo>
                    <a:pt x="192" y="344"/>
                  </a:lnTo>
                  <a:lnTo>
                    <a:pt x="200" y="344"/>
                  </a:lnTo>
                  <a:lnTo>
                    <a:pt x="216" y="344"/>
                  </a:lnTo>
                  <a:lnTo>
                    <a:pt x="240" y="336"/>
                  </a:lnTo>
                  <a:lnTo>
                    <a:pt x="256" y="336"/>
                  </a:lnTo>
                  <a:lnTo>
                    <a:pt x="272" y="336"/>
                  </a:lnTo>
                  <a:lnTo>
                    <a:pt x="296" y="344"/>
                  </a:lnTo>
                  <a:lnTo>
                    <a:pt x="312" y="344"/>
                  </a:lnTo>
                  <a:lnTo>
                    <a:pt x="320" y="352"/>
                  </a:lnTo>
                  <a:lnTo>
                    <a:pt x="336" y="360"/>
                  </a:lnTo>
                  <a:lnTo>
                    <a:pt x="344" y="368"/>
                  </a:lnTo>
                  <a:lnTo>
                    <a:pt x="360" y="384"/>
                  </a:lnTo>
                  <a:lnTo>
                    <a:pt x="368" y="392"/>
                  </a:lnTo>
                  <a:lnTo>
                    <a:pt x="376" y="408"/>
                  </a:lnTo>
                  <a:lnTo>
                    <a:pt x="384" y="416"/>
                  </a:lnTo>
                  <a:lnTo>
                    <a:pt x="392" y="424"/>
                  </a:lnTo>
                  <a:lnTo>
                    <a:pt x="400" y="440"/>
                  </a:lnTo>
                  <a:lnTo>
                    <a:pt x="408" y="440"/>
                  </a:lnTo>
                  <a:lnTo>
                    <a:pt x="416" y="448"/>
                  </a:lnTo>
                  <a:lnTo>
                    <a:pt x="432" y="448"/>
                  </a:lnTo>
                  <a:lnTo>
                    <a:pt x="448" y="448"/>
                  </a:lnTo>
                  <a:lnTo>
                    <a:pt x="464" y="448"/>
                  </a:lnTo>
                  <a:lnTo>
                    <a:pt x="480" y="440"/>
                  </a:lnTo>
                  <a:lnTo>
                    <a:pt x="488" y="440"/>
                  </a:lnTo>
                  <a:lnTo>
                    <a:pt x="488" y="432"/>
                  </a:lnTo>
                  <a:lnTo>
                    <a:pt x="496" y="416"/>
                  </a:lnTo>
                  <a:lnTo>
                    <a:pt x="504" y="400"/>
                  </a:lnTo>
                  <a:lnTo>
                    <a:pt x="512" y="384"/>
                  </a:lnTo>
                  <a:lnTo>
                    <a:pt x="512" y="368"/>
                  </a:lnTo>
                  <a:lnTo>
                    <a:pt x="520" y="360"/>
                  </a:lnTo>
                  <a:lnTo>
                    <a:pt x="536" y="344"/>
                  </a:lnTo>
                  <a:lnTo>
                    <a:pt x="544" y="328"/>
                  </a:lnTo>
                  <a:lnTo>
                    <a:pt x="552" y="312"/>
                  </a:lnTo>
                  <a:lnTo>
                    <a:pt x="552" y="304"/>
                  </a:lnTo>
                  <a:lnTo>
                    <a:pt x="560" y="288"/>
                  </a:lnTo>
                  <a:lnTo>
                    <a:pt x="568" y="264"/>
                  </a:lnTo>
                  <a:lnTo>
                    <a:pt x="576" y="248"/>
                  </a:lnTo>
                  <a:lnTo>
                    <a:pt x="568" y="240"/>
                  </a:lnTo>
                  <a:lnTo>
                    <a:pt x="568" y="232"/>
                  </a:lnTo>
                  <a:lnTo>
                    <a:pt x="560" y="224"/>
                  </a:lnTo>
                  <a:lnTo>
                    <a:pt x="552" y="216"/>
                  </a:lnTo>
                  <a:lnTo>
                    <a:pt x="536" y="208"/>
                  </a:lnTo>
                  <a:lnTo>
                    <a:pt x="528" y="200"/>
                  </a:lnTo>
                  <a:lnTo>
                    <a:pt x="520" y="192"/>
                  </a:lnTo>
                  <a:lnTo>
                    <a:pt x="512" y="184"/>
                  </a:lnTo>
                  <a:lnTo>
                    <a:pt x="496" y="168"/>
                  </a:lnTo>
                  <a:lnTo>
                    <a:pt x="480" y="144"/>
                  </a:lnTo>
                  <a:lnTo>
                    <a:pt x="472" y="136"/>
                  </a:lnTo>
                  <a:lnTo>
                    <a:pt x="464" y="120"/>
                  </a:lnTo>
                  <a:lnTo>
                    <a:pt x="456" y="96"/>
                  </a:lnTo>
                  <a:lnTo>
                    <a:pt x="456" y="80"/>
                  </a:lnTo>
                  <a:lnTo>
                    <a:pt x="456" y="56"/>
                  </a:lnTo>
                  <a:lnTo>
                    <a:pt x="448" y="40"/>
                  </a:lnTo>
                  <a:lnTo>
                    <a:pt x="440" y="32"/>
                  </a:lnTo>
                  <a:lnTo>
                    <a:pt x="432" y="16"/>
                  </a:lnTo>
                  <a:lnTo>
                    <a:pt x="424" y="8"/>
                  </a:lnTo>
                  <a:lnTo>
                    <a:pt x="408" y="0"/>
                  </a:lnTo>
                  <a:lnTo>
                    <a:pt x="416" y="24"/>
                  </a:lnTo>
                  <a:lnTo>
                    <a:pt x="424" y="40"/>
                  </a:lnTo>
                  <a:lnTo>
                    <a:pt x="424" y="64"/>
                  </a:lnTo>
                  <a:lnTo>
                    <a:pt x="424" y="72"/>
                  </a:lnTo>
                  <a:lnTo>
                    <a:pt x="424" y="80"/>
                  </a:lnTo>
                  <a:lnTo>
                    <a:pt x="416" y="88"/>
                  </a:lnTo>
                  <a:lnTo>
                    <a:pt x="408" y="88"/>
                  </a:lnTo>
                  <a:lnTo>
                    <a:pt x="400" y="88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963880" y="5394240"/>
              <a:ext cx="135000" cy="193680"/>
            </a:xfrm>
            <a:custGeom>
              <a:avLst/>
              <a:gdLst/>
              <a:ahLst/>
              <a:rect l="l" t="t" r="r" b="b"/>
              <a:pathLst>
                <a:path w="112" h="160">
                  <a:moveTo>
                    <a:pt x="32" y="56"/>
                  </a:moveTo>
                  <a:lnTo>
                    <a:pt x="32" y="56"/>
                  </a:lnTo>
                  <a:lnTo>
                    <a:pt x="48" y="48"/>
                  </a:lnTo>
                  <a:lnTo>
                    <a:pt x="56" y="40"/>
                  </a:lnTo>
                  <a:lnTo>
                    <a:pt x="64" y="32"/>
                  </a:lnTo>
                  <a:lnTo>
                    <a:pt x="72" y="16"/>
                  </a:lnTo>
                  <a:lnTo>
                    <a:pt x="88" y="8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12" y="16"/>
                  </a:lnTo>
                  <a:lnTo>
                    <a:pt x="112" y="40"/>
                  </a:lnTo>
                  <a:lnTo>
                    <a:pt x="112" y="56"/>
                  </a:lnTo>
                  <a:lnTo>
                    <a:pt x="104" y="72"/>
                  </a:lnTo>
                  <a:lnTo>
                    <a:pt x="104" y="88"/>
                  </a:lnTo>
                  <a:lnTo>
                    <a:pt x="104" y="96"/>
                  </a:lnTo>
                  <a:lnTo>
                    <a:pt x="104" y="112"/>
                  </a:lnTo>
                  <a:lnTo>
                    <a:pt x="96" y="128"/>
                  </a:lnTo>
                  <a:lnTo>
                    <a:pt x="80" y="128"/>
                  </a:lnTo>
                  <a:lnTo>
                    <a:pt x="72" y="136"/>
                  </a:lnTo>
                  <a:lnTo>
                    <a:pt x="56" y="144"/>
                  </a:lnTo>
                  <a:lnTo>
                    <a:pt x="48" y="144"/>
                  </a:lnTo>
                  <a:lnTo>
                    <a:pt x="40" y="152"/>
                  </a:lnTo>
                  <a:lnTo>
                    <a:pt x="32" y="160"/>
                  </a:lnTo>
                  <a:lnTo>
                    <a:pt x="24" y="160"/>
                  </a:lnTo>
                  <a:lnTo>
                    <a:pt x="16" y="152"/>
                  </a:lnTo>
                  <a:lnTo>
                    <a:pt x="8" y="136"/>
                  </a:lnTo>
                  <a:lnTo>
                    <a:pt x="0" y="120"/>
                  </a:lnTo>
                  <a:lnTo>
                    <a:pt x="0" y="96"/>
                  </a:lnTo>
                  <a:lnTo>
                    <a:pt x="8" y="72"/>
                  </a:lnTo>
                  <a:lnTo>
                    <a:pt x="32" y="56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695680" y="5491080"/>
              <a:ext cx="201600" cy="193680"/>
            </a:xfrm>
            <a:custGeom>
              <a:avLst/>
              <a:gdLst/>
              <a:ahLst/>
              <a:rect l="l" t="t" r="r" b="b"/>
              <a:pathLst>
                <a:path w="168" h="160">
                  <a:moveTo>
                    <a:pt x="0" y="8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16" y="24"/>
                  </a:lnTo>
                  <a:lnTo>
                    <a:pt x="40" y="32"/>
                  </a:lnTo>
                  <a:lnTo>
                    <a:pt x="48" y="48"/>
                  </a:lnTo>
                  <a:lnTo>
                    <a:pt x="56" y="56"/>
                  </a:lnTo>
                  <a:lnTo>
                    <a:pt x="64" y="72"/>
                  </a:lnTo>
                  <a:lnTo>
                    <a:pt x="72" y="80"/>
                  </a:lnTo>
                  <a:lnTo>
                    <a:pt x="72" y="96"/>
                  </a:lnTo>
                  <a:lnTo>
                    <a:pt x="80" y="104"/>
                  </a:lnTo>
                  <a:lnTo>
                    <a:pt x="96" y="120"/>
                  </a:lnTo>
                  <a:lnTo>
                    <a:pt x="104" y="136"/>
                  </a:lnTo>
                  <a:lnTo>
                    <a:pt x="120" y="160"/>
                  </a:lnTo>
                  <a:lnTo>
                    <a:pt x="136" y="160"/>
                  </a:lnTo>
                  <a:lnTo>
                    <a:pt x="144" y="160"/>
                  </a:lnTo>
                  <a:lnTo>
                    <a:pt x="160" y="160"/>
                  </a:lnTo>
                  <a:lnTo>
                    <a:pt x="168" y="152"/>
                  </a:lnTo>
                  <a:lnTo>
                    <a:pt x="168" y="144"/>
                  </a:lnTo>
                  <a:lnTo>
                    <a:pt x="168" y="128"/>
                  </a:lnTo>
                  <a:lnTo>
                    <a:pt x="160" y="120"/>
                  </a:lnTo>
                  <a:lnTo>
                    <a:pt x="144" y="104"/>
                  </a:lnTo>
                  <a:lnTo>
                    <a:pt x="136" y="96"/>
                  </a:lnTo>
                  <a:lnTo>
                    <a:pt x="128" y="88"/>
                  </a:lnTo>
                  <a:lnTo>
                    <a:pt x="112" y="80"/>
                  </a:lnTo>
                  <a:lnTo>
                    <a:pt x="104" y="72"/>
                  </a:lnTo>
                  <a:lnTo>
                    <a:pt x="96" y="64"/>
                  </a:lnTo>
                  <a:lnTo>
                    <a:pt x="88" y="56"/>
                  </a:lnTo>
                  <a:lnTo>
                    <a:pt x="80" y="48"/>
                  </a:lnTo>
                  <a:lnTo>
                    <a:pt x="72" y="40"/>
                  </a:lnTo>
                  <a:lnTo>
                    <a:pt x="64" y="32"/>
                  </a:lnTo>
                  <a:lnTo>
                    <a:pt x="56" y="24"/>
                  </a:lnTo>
                  <a:lnTo>
                    <a:pt x="48" y="16"/>
                  </a:lnTo>
                  <a:lnTo>
                    <a:pt x="40" y="16"/>
                  </a:lnTo>
                  <a:lnTo>
                    <a:pt x="32" y="8"/>
                  </a:lnTo>
                  <a:lnTo>
                    <a:pt x="16" y="8"/>
                  </a:lnTo>
                  <a:lnTo>
                    <a:pt x="8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348000" y="4703760"/>
              <a:ext cx="211320" cy="21096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112" y="160"/>
                  </a:moveTo>
                  <a:lnTo>
                    <a:pt x="112" y="160"/>
                  </a:lnTo>
                  <a:lnTo>
                    <a:pt x="128" y="136"/>
                  </a:lnTo>
                  <a:lnTo>
                    <a:pt x="144" y="112"/>
                  </a:lnTo>
                  <a:lnTo>
                    <a:pt x="152" y="88"/>
                  </a:lnTo>
                  <a:lnTo>
                    <a:pt x="160" y="64"/>
                  </a:lnTo>
                  <a:lnTo>
                    <a:pt x="168" y="48"/>
                  </a:lnTo>
                  <a:lnTo>
                    <a:pt x="176" y="32"/>
                  </a:lnTo>
                  <a:lnTo>
                    <a:pt x="176" y="16"/>
                  </a:lnTo>
                  <a:lnTo>
                    <a:pt x="168" y="8"/>
                  </a:lnTo>
                  <a:lnTo>
                    <a:pt x="152" y="0"/>
                  </a:lnTo>
                  <a:lnTo>
                    <a:pt x="144" y="0"/>
                  </a:lnTo>
                  <a:lnTo>
                    <a:pt x="136" y="8"/>
                  </a:lnTo>
                  <a:lnTo>
                    <a:pt x="136" y="24"/>
                  </a:lnTo>
                  <a:lnTo>
                    <a:pt x="128" y="48"/>
                  </a:lnTo>
                  <a:lnTo>
                    <a:pt x="120" y="64"/>
                  </a:lnTo>
                  <a:lnTo>
                    <a:pt x="104" y="88"/>
                  </a:lnTo>
                  <a:lnTo>
                    <a:pt x="96" y="104"/>
                  </a:lnTo>
                  <a:lnTo>
                    <a:pt x="88" y="112"/>
                  </a:lnTo>
                  <a:lnTo>
                    <a:pt x="72" y="120"/>
                  </a:lnTo>
                  <a:lnTo>
                    <a:pt x="56" y="128"/>
                  </a:lnTo>
                  <a:lnTo>
                    <a:pt x="40" y="136"/>
                  </a:lnTo>
                  <a:lnTo>
                    <a:pt x="24" y="144"/>
                  </a:lnTo>
                  <a:lnTo>
                    <a:pt x="8" y="152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8" y="168"/>
                  </a:lnTo>
                  <a:lnTo>
                    <a:pt x="24" y="168"/>
                  </a:lnTo>
                  <a:lnTo>
                    <a:pt x="40" y="176"/>
                  </a:lnTo>
                  <a:lnTo>
                    <a:pt x="48" y="176"/>
                  </a:lnTo>
                  <a:lnTo>
                    <a:pt x="64" y="176"/>
                  </a:lnTo>
                  <a:lnTo>
                    <a:pt x="80" y="176"/>
                  </a:lnTo>
                  <a:lnTo>
                    <a:pt x="96" y="168"/>
                  </a:lnTo>
                  <a:lnTo>
                    <a:pt x="112" y="160"/>
                  </a:lnTo>
                  <a:close/>
                </a:path>
              </a:pathLst>
            </a:custGeom>
            <a:solidFill>
              <a:srgbClr val="37c5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359160" y="5557680"/>
              <a:ext cx="277920" cy="146160"/>
            </a:xfrm>
            <a:custGeom>
              <a:avLst/>
              <a:gdLst/>
              <a:ahLst/>
              <a:rect l="l" t="t" r="r" b="b"/>
              <a:pathLst>
                <a:path w="232" h="120">
                  <a:moveTo>
                    <a:pt x="40" y="0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12" y="8"/>
                  </a:lnTo>
                  <a:lnTo>
                    <a:pt x="120" y="16"/>
                  </a:lnTo>
                  <a:lnTo>
                    <a:pt x="128" y="24"/>
                  </a:lnTo>
                  <a:lnTo>
                    <a:pt x="144" y="40"/>
                  </a:lnTo>
                  <a:lnTo>
                    <a:pt x="152" y="48"/>
                  </a:lnTo>
                  <a:lnTo>
                    <a:pt x="160" y="56"/>
                  </a:lnTo>
                  <a:lnTo>
                    <a:pt x="168" y="64"/>
                  </a:lnTo>
                  <a:lnTo>
                    <a:pt x="176" y="72"/>
                  </a:lnTo>
                  <a:lnTo>
                    <a:pt x="184" y="72"/>
                  </a:lnTo>
                  <a:lnTo>
                    <a:pt x="208" y="88"/>
                  </a:lnTo>
                  <a:lnTo>
                    <a:pt x="224" y="104"/>
                  </a:lnTo>
                  <a:lnTo>
                    <a:pt x="232" y="112"/>
                  </a:lnTo>
                  <a:lnTo>
                    <a:pt x="232" y="120"/>
                  </a:lnTo>
                  <a:lnTo>
                    <a:pt x="168" y="104"/>
                  </a:lnTo>
                  <a:lnTo>
                    <a:pt x="120" y="112"/>
                  </a:lnTo>
                  <a:lnTo>
                    <a:pt x="120" y="112"/>
                  </a:lnTo>
                  <a:lnTo>
                    <a:pt x="112" y="112"/>
                  </a:lnTo>
                  <a:lnTo>
                    <a:pt x="96" y="112"/>
                  </a:lnTo>
                  <a:lnTo>
                    <a:pt x="88" y="104"/>
                  </a:lnTo>
                  <a:lnTo>
                    <a:pt x="72" y="96"/>
                  </a:lnTo>
                  <a:lnTo>
                    <a:pt x="56" y="88"/>
                  </a:lnTo>
                  <a:lnTo>
                    <a:pt x="40" y="80"/>
                  </a:lnTo>
                  <a:lnTo>
                    <a:pt x="32" y="64"/>
                  </a:lnTo>
                  <a:lnTo>
                    <a:pt x="24" y="56"/>
                  </a:lnTo>
                  <a:lnTo>
                    <a:pt x="16" y="40"/>
                  </a:lnTo>
                  <a:lnTo>
                    <a:pt x="8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16" y="8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895560" y="6261120"/>
              <a:ext cx="125640" cy="163440"/>
            </a:xfrm>
            <a:custGeom>
              <a:avLst/>
              <a:gdLst/>
              <a:ahLst/>
              <a:rect l="l" t="t" r="r" b="b"/>
              <a:pathLst>
                <a:path w="104" h="136">
                  <a:moveTo>
                    <a:pt x="32" y="72"/>
                  </a:moveTo>
                  <a:lnTo>
                    <a:pt x="32" y="72"/>
                  </a:lnTo>
                  <a:lnTo>
                    <a:pt x="40" y="64"/>
                  </a:lnTo>
                  <a:lnTo>
                    <a:pt x="48" y="56"/>
                  </a:lnTo>
                  <a:lnTo>
                    <a:pt x="56" y="48"/>
                  </a:lnTo>
                  <a:lnTo>
                    <a:pt x="72" y="40"/>
                  </a:lnTo>
                  <a:lnTo>
                    <a:pt x="80" y="24"/>
                  </a:lnTo>
                  <a:lnTo>
                    <a:pt x="88" y="16"/>
                  </a:lnTo>
                  <a:lnTo>
                    <a:pt x="96" y="8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16"/>
                  </a:lnTo>
                  <a:lnTo>
                    <a:pt x="104" y="32"/>
                  </a:lnTo>
                  <a:lnTo>
                    <a:pt x="104" y="48"/>
                  </a:lnTo>
                  <a:lnTo>
                    <a:pt x="88" y="64"/>
                  </a:lnTo>
                  <a:lnTo>
                    <a:pt x="80" y="72"/>
                  </a:lnTo>
                  <a:lnTo>
                    <a:pt x="64" y="80"/>
                  </a:lnTo>
                  <a:lnTo>
                    <a:pt x="64" y="88"/>
                  </a:lnTo>
                  <a:lnTo>
                    <a:pt x="56" y="104"/>
                  </a:lnTo>
                  <a:lnTo>
                    <a:pt x="56" y="112"/>
                  </a:lnTo>
                  <a:lnTo>
                    <a:pt x="56" y="128"/>
                  </a:lnTo>
                  <a:lnTo>
                    <a:pt x="48" y="128"/>
                  </a:lnTo>
                  <a:lnTo>
                    <a:pt x="32" y="136"/>
                  </a:lnTo>
                  <a:lnTo>
                    <a:pt x="16" y="128"/>
                  </a:lnTo>
                  <a:lnTo>
                    <a:pt x="0" y="120"/>
                  </a:lnTo>
                  <a:lnTo>
                    <a:pt x="0" y="104"/>
                  </a:lnTo>
                  <a:lnTo>
                    <a:pt x="0" y="88"/>
                  </a:lnTo>
                  <a:lnTo>
                    <a:pt x="16" y="72"/>
                  </a:lnTo>
                  <a:lnTo>
                    <a:pt x="32" y="72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030560" y="6145200"/>
              <a:ext cx="106560" cy="125280"/>
            </a:xfrm>
            <a:custGeom>
              <a:avLst/>
              <a:gdLst/>
              <a:ahLst/>
              <a:rect l="l" t="t" r="r" b="b"/>
              <a:pathLst>
                <a:path w="88" h="104">
                  <a:moveTo>
                    <a:pt x="8" y="0"/>
                  </a:moveTo>
                  <a:lnTo>
                    <a:pt x="8" y="0"/>
                  </a:lnTo>
                  <a:lnTo>
                    <a:pt x="16" y="8"/>
                  </a:lnTo>
                  <a:lnTo>
                    <a:pt x="32" y="24"/>
                  </a:lnTo>
                  <a:lnTo>
                    <a:pt x="40" y="40"/>
                  </a:lnTo>
                  <a:lnTo>
                    <a:pt x="48" y="48"/>
                  </a:lnTo>
                  <a:lnTo>
                    <a:pt x="56" y="48"/>
                  </a:lnTo>
                  <a:lnTo>
                    <a:pt x="72" y="48"/>
                  </a:lnTo>
                  <a:lnTo>
                    <a:pt x="80" y="48"/>
                  </a:lnTo>
                  <a:lnTo>
                    <a:pt x="88" y="56"/>
                  </a:lnTo>
                  <a:lnTo>
                    <a:pt x="88" y="64"/>
                  </a:lnTo>
                  <a:lnTo>
                    <a:pt x="88" y="72"/>
                  </a:lnTo>
                  <a:lnTo>
                    <a:pt x="80" y="88"/>
                  </a:lnTo>
                  <a:lnTo>
                    <a:pt x="72" y="96"/>
                  </a:lnTo>
                  <a:lnTo>
                    <a:pt x="64" y="104"/>
                  </a:lnTo>
                  <a:lnTo>
                    <a:pt x="56" y="104"/>
                  </a:lnTo>
                  <a:lnTo>
                    <a:pt x="40" y="104"/>
                  </a:lnTo>
                  <a:lnTo>
                    <a:pt x="32" y="96"/>
                  </a:lnTo>
                  <a:lnTo>
                    <a:pt x="32" y="88"/>
                  </a:lnTo>
                  <a:lnTo>
                    <a:pt x="24" y="72"/>
                  </a:lnTo>
                  <a:lnTo>
                    <a:pt x="24" y="64"/>
                  </a:lnTo>
                  <a:lnTo>
                    <a:pt x="24" y="48"/>
                  </a:lnTo>
                  <a:lnTo>
                    <a:pt x="24" y="40"/>
                  </a:lnTo>
                  <a:lnTo>
                    <a:pt x="16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224080" y="4587840"/>
              <a:ext cx="1171440" cy="855720"/>
            </a:xfrm>
            <a:custGeom>
              <a:avLst/>
              <a:gdLst/>
              <a:ahLst/>
              <a:rect l="l" t="t" r="r" b="b"/>
              <a:pathLst>
                <a:path w="976" h="712">
                  <a:moveTo>
                    <a:pt x="0" y="0"/>
                  </a:moveTo>
                  <a:lnTo>
                    <a:pt x="0" y="0"/>
                  </a:lnTo>
                  <a:lnTo>
                    <a:pt x="0" y="464"/>
                  </a:lnTo>
                  <a:lnTo>
                    <a:pt x="8" y="472"/>
                  </a:lnTo>
                  <a:lnTo>
                    <a:pt x="16" y="480"/>
                  </a:lnTo>
                  <a:lnTo>
                    <a:pt x="24" y="488"/>
                  </a:lnTo>
                  <a:lnTo>
                    <a:pt x="24" y="512"/>
                  </a:lnTo>
                  <a:lnTo>
                    <a:pt x="32" y="536"/>
                  </a:lnTo>
                  <a:lnTo>
                    <a:pt x="32" y="560"/>
                  </a:lnTo>
                  <a:lnTo>
                    <a:pt x="48" y="576"/>
                  </a:lnTo>
                  <a:lnTo>
                    <a:pt x="56" y="600"/>
                  </a:lnTo>
                  <a:lnTo>
                    <a:pt x="72" y="616"/>
                  </a:lnTo>
                  <a:lnTo>
                    <a:pt x="80" y="640"/>
                  </a:lnTo>
                  <a:lnTo>
                    <a:pt x="96" y="656"/>
                  </a:lnTo>
                  <a:lnTo>
                    <a:pt x="112" y="664"/>
                  </a:lnTo>
                  <a:lnTo>
                    <a:pt x="120" y="664"/>
                  </a:lnTo>
                  <a:lnTo>
                    <a:pt x="128" y="656"/>
                  </a:lnTo>
                  <a:lnTo>
                    <a:pt x="128" y="632"/>
                  </a:lnTo>
                  <a:lnTo>
                    <a:pt x="136" y="592"/>
                  </a:lnTo>
                  <a:lnTo>
                    <a:pt x="144" y="560"/>
                  </a:lnTo>
                  <a:lnTo>
                    <a:pt x="152" y="528"/>
                  </a:lnTo>
                  <a:lnTo>
                    <a:pt x="176" y="504"/>
                  </a:lnTo>
                  <a:lnTo>
                    <a:pt x="192" y="496"/>
                  </a:lnTo>
                  <a:lnTo>
                    <a:pt x="208" y="488"/>
                  </a:lnTo>
                  <a:lnTo>
                    <a:pt x="216" y="480"/>
                  </a:lnTo>
                  <a:lnTo>
                    <a:pt x="232" y="472"/>
                  </a:lnTo>
                  <a:lnTo>
                    <a:pt x="240" y="464"/>
                  </a:lnTo>
                  <a:lnTo>
                    <a:pt x="248" y="464"/>
                  </a:lnTo>
                  <a:lnTo>
                    <a:pt x="256" y="456"/>
                  </a:lnTo>
                  <a:lnTo>
                    <a:pt x="264" y="456"/>
                  </a:lnTo>
                  <a:lnTo>
                    <a:pt x="280" y="440"/>
                  </a:lnTo>
                  <a:lnTo>
                    <a:pt x="296" y="424"/>
                  </a:lnTo>
                  <a:lnTo>
                    <a:pt x="312" y="416"/>
                  </a:lnTo>
                  <a:lnTo>
                    <a:pt x="320" y="440"/>
                  </a:lnTo>
                  <a:lnTo>
                    <a:pt x="312" y="472"/>
                  </a:lnTo>
                  <a:lnTo>
                    <a:pt x="312" y="496"/>
                  </a:lnTo>
                  <a:lnTo>
                    <a:pt x="320" y="520"/>
                  </a:lnTo>
                  <a:lnTo>
                    <a:pt x="336" y="536"/>
                  </a:lnTo>
                  <a:lnTo>
                    <a:pt x="352" y="568"/>
                  </a:lnTo>
                  <a:lnTo>
                    <a:pt x="368" y="592"/>
                  </a:lnTo>
                  <a:lnTo>
                    <a:pt x="376" y="616"/>
                  </a:lnTo>
                  <a:lnTo>
                    <a:pt x="384" y="632"/>
                  </a:lnTo>
                  <a:lnTo>
                    <a:pt x="384" y="648"/>
                  </a:lnTo>
                  <a:lnTo>
                    <a:pt x="384" y="672"/>
                  </a:lnTo>
                  <a:lnTo>
                    <a:pt x="392" y="696"/>
                  </a:lnTo>
                  <a:lnTo>
                    <a:pt x="392" y="704"/>
                  </a:lnTo>
                  <a:lnTo>
                    <a:pt x="424" y="672"/>
                  </a:lnTo>
                  <a:lnTo>
                    <a:pt x="432" y="680"/>
                  </a:lnTo>
                  <a:lnTo>
                    <a:pt x="440" y="696"/>
                  </a:lnTo>
                  <a:lnTo>
                    <a:pt x="456" y="712"/>
                  </a:lnTo>
                  <a:lnTo>
                    <a:pt x="464" y="712"/>
                  </a:lnTo>
                  <a:lnTo>
                    <a:pt x="464" y="696"/>
                  </a:lnTo>
                  <a:lnTo>
                    <a:pt x="456" y="672"/>
                  </a:lnTo>
                  <a:lnTo>
                    <a:pt x="448" y="648"/>
                  </a:lnTo>
                  <a:lnTo>
                    <a:pt x="448" y="632"/>
                  </a:lnTo>
                  <a:lnTo>
                    <a:pt x="456" y="616"/>
                  </a:lnTo>
                  <a:lnTo>
                    <a:pt x="464" y="616"/>
                  </a:lnTo>
                  <a:lnTo>
                    <a:pt x="480" y="616"/>
                  </a:lnTo>
                  <a:lnTo>
                    <a:pt x="488" y="616"/>
                  </a:lnTo>
                  <a:lnTo>
                    <a:pt x="504" y="608"/>
                  </a:lnTo>
                  <a:lnTo>
                    <a:pt x="520" y="600"/>
                  </a:lnTo>
                  <a:lnTo>
                    <a:pt x="536" y="592"/>
                  </a:lnTo>
                  <a:lnTo>
                    <a:pt x="552" y="576"/>
                  </a:lnTo>
                  <a:lnTo>
                    <a:pt x="552" y="568"/>
                  </a:lnTo>
                  <a:lnTo>
                    <a:pt x="552" y="552"/>
                  </a:lnTo>
                  <a:lnTo>
                    <a:pt x="536" y="544"/>
                  </a:lnTo>
                  <a:lnTo>
                    <a:pt x="536" y="528"/>
                  </a:lnTo>
                  <a:lnTo>
                    <a:pt x="528" y="520"/>
                  </a:lnTo>
                  <a:lnTo>
                    <a:pt x="520" y="504"/>
                  </a:lnTo>
                  <a:lnTo>
                    <a:pt x="504" y="496"/>
                  </a:lnTo>
                  <a:lnTo>
                    <a:pt x="504" y="488"/>
                  </a:lnTo>
                  <a:lnTo>
                    <a:pt x="512" y="480"/>
                  </a:lnTo>
                  <a:lnTo>
                    <a:pt x="528" y="472"/>
                  </a:lnTo>
                  <a:lnTo>
                    <a:pt x="536" y="464"/>
                  </a:lnTo>
                  <a:lnTo>
                    <a:pt x="552" y="456"/>
                  </a:lnTo>
                  <a:lnTo>
                    <a:pt x="568" y="448"/>
                  </a:lnTo>
                  <a:lnTo>
                    <a:pt x="584" y="448"/>
                  </a:lnTo>
                  <a:lnTo>
                    <a:pt x="600" y="440"/>
                  </a:lnTo>
                  <a:lnTo>
                    <a:pt x="616" y="432"/>
                  </a:lnTo>
                  <a:lnTo>
                    <a:pt x="624" y="432"/>
                  </a:lnTo>
                  <a:lnTo>
                    <a:pt x="640" y="416"/>
                  </a:lnTo>
                  <a:lnTo>
                    <a:pt x="648" y="416"/>
                  </a:lnTo>
                  <a:lnTo>
                    <a:pt x="664" y="400"/>
                  </a:lnTo>
                  <a:lnTo>
                    <a:pt x="672" y="392"/>
                  </a:lnTo>
                  <a:lnTo>
                    <a:pt x="680" y="384"/>
                  </a:lnTo>
                  <a:lnTo>
                    <a:pt x="696" y="376"/>
                  </a:lnTo>
                  <a:lnTo>
                    <a:pt x="704" y="368"/>
                  </a:lnTo>
                  <a:lnTo>
                    <a:pt x="720" y="352"/>
                  </a:lnTo>
                  <a:lnTo>
                    <a:pt x="728" y="328"/>
                  </a:lnTo>
                  <a:lnTo>
                    <a:pt x="728" y="304"/>
                  </a:lnTo>
                  <a:lnTo>
                    <a:pt x="720" y="280"/>
                  </a:lnTo>
                  <a:lnTo>
                    <a:pt x="712" y="256"/>
                  </a:lnTo>
                  <a:lnTo>
                    <a:pt x="712" y="240"/>
                  </a:lnTo>
                  <a:lnTo>
                    <a:pt x="720" y="224"/>
                  </a:lnTo>
                  <a:lnTo>
                    <a:pt x="728" y="200"/>
                  </a:lnTo>
                  <a:lnTo>
                    <a:pt x="736" y="192"/>
                  </a:lnTo>
                  <a:lnTo>
                    <a:pt x="744" y="184"/>
                  </a:lnTo>
                  <a:lnTo>
                    <a:pt x="760" y="168"/>
                  </a:lnTo>
                  <a:lnTo>
                    <a:pt x="768" y="160"/>
                  </a:lnTo>
                  <a:lnTo>
                    <a:pt x="776" y="152"/>
                  </a:lnTo>
                  <a:lnTo>
                    <a:pt x="784" y="152"/>
                  </a:lnTo>
                  <a:lnTo>
                    <a:pt x="792" y="152"/>
                  </a:lnTo>
                  <a:lnTo>
                    <a:pt x="792" y="168"/>
                  </a:lnTo>
                  <a:lnTo>
                    <a:pt x="800" y="200"/>
                  </a:lnTo>
                  <a:lnTo>
                    <a:pt x="808" y="224"/>
                  </a:lnTo>
                  <a:lnTo>
                    <a:pt x="808" y="248"/>
                  </a:lnTo>
                  <a:lnTo>
                    <a:pt x="808" y="264"/>
                  </a:lnTo>
                  <a:lnTo>
                    <a:pt x="832" y="240"/>
                  </a:lnTo>
                  <a:lnTo>
                    <a:pt x="840" y="216"/>
                  </a:lnTo>
                  <a:lnTo>
                    <a:pt x="848" y="184"/>
                  </a:lnTo>
                  <a:lnTo>
                    <a:pt x="856" y="168"/>
                  </a:lnTo>
                  <a:lnTo>
                    <a:pt x="872" y="144"/>
                  </a:lnTo>
                  <a:lnTo>
                    <a:pt x="888" y="120"/>
                  </a:lnTo>
                  <a:lnTo>
                    <a:pt x="904" y="96"/>
                  </a:lnTo>
                  <a:lnTo>
                    <a:pt x="920" y="80"/>
                  </a:lnTo>
                  <a:lnTo>
                    <a:pt x="928" y="64"/>
                  </a:lnTo>
                  <a:lnTo>
                    <a:pt x="944" y="48"/>
                  </a:lnTo>
                  <a:lnTo>
                    <a:pt x="960" y="24"/>
                  </a:lnTo>
                  <a:lnTo>
                    <a:pt x="968" y="8"/>
                  </a:lnTo>
                  <a:lnTo>
                    <a:pt x="976" y="8"/>
                  </a:lnTo>
                  <a:lnTo>
                    <a:pt x="976" y="8"/>
                  </a:lnTo>
                  <a:lnTo>
                    <a:pt x="976" y="0"/>
                  </a:lnTo>
                  <a:lnTo>
                    <a:pt x="9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288200" y="3752640"/>
              <a:ext cx="1932120" cy="844560"/>
            </a:xfrm>
            <a:custGeom>
              <a:avLst/>
              <a:gdLst/>
              <a:ahLst/>
              <a:rect l="l" t="t" r="r" b="b"/>
              <a:pathLst>
                <a:path w="1608" h="704">
                  <a:moveTo>
                    <a:pt x="1608" y="144"/>
                  </a:moveTo>
                  <a:lnTo>
                    <a:pt x="1608" y="144"/>
                  </a:lnTo>
                  <a:lnTo>
                    <a:pt x="1592" y="144"/>
                  </a:lnTo>
                  <a:lnTo>
                    <a:pt x="1576" y="152"/>
                  </a:lnTo>
                  <a:lnTo>
                    <a:pt x="1552" y="152"/>
                  </a:lnTo>
                  <a:lnTo>
                    <a:pt x="1544" y="152"/>
                  </a:lnTo>
                  <a:lnTo>
                    <a:pt x="1536" y="152"/>
                  </a:lnTo>
                  <a:lnTo>
                    <a:pt x="1528" y="152"/>
                  </a:lnTo>
                  <a:lnTo>
                    <a:pt x="1544" y="136"/>
                  </a:lnTo>
                  <a:lnTo>
                    <a:pt x="1552" y="120"/>
                  </a:lnTo>
                  <a:lnTo>
                    <a:pt x="1544" y="104"/>
                  </a:lnTo>
                  <a:lnTo>
                    <a:pt x="1544" y="96"/>
                  </a:lnTo>
                  <a:lnTo>
                    <a:pt x="1592" y="80"/>
                  </a:lnTo>
                  <a:lnTo>
                    <a:pt x="1576" y="64"/>
                  </a:lnTo>
                  <a:lnTo>
                    <a:pt x="1552" y="48"/>
                  </a:lnTo>
                  <a:lnTo>
                    <a:pt x="1536" y="32"/>
                  </a:lnTo>
                  <a:lnTo>
                    <a:pt x="1520" y="24"/>
                  </a:lnTo>
                  <a:lnTo>
                    <a:pt x="1504" y="8"/>
                  </a:lnTo>
                  <a:lnTo>
                    <a:pt x="1488" y="0"/>
                  </a:lnTo>
                  <a:lnTo>
                    <a:pt x="1472" y="0"/>
                  </a:lnTo>
                  <a:lnTo>
                    <a:pt x="1464" y="0"/>
                  </a:lnTo>
                  <a:lnTo>
                    <a:pt x="1456" y="8"/>
                  </a:lnTo>
                  <a:lnTo>
                    <a:pt x="1448" y="16"/>
                  </a:lnTo>
                  <a:lnTo>
                    <a:pt x="1432" y="24"/>
                  </a:lnTo>
                  <a:lnTo>
                    <a:pt x="1424" y="32"/>
                  </a:lnTo>
                  <a:lnTo>
                    <a:pt x="1416" y="40"/>
                  </a:lnTo>
                  <a:lnTo>
                    <a:pt x="1408" y="48"/>
                  </a:lnTo>
                  <a:lnTo>
                    <a:pt x="1400" y="56"/>
                  </a:lnTo>
                  <a:lnTo>
                    <a:pt x="1392" y="56"/>
                  </a:lnTo>
                  <a:lnTo>
                    <a:pt x="1376" y="56"/>
                  </a:lnTo>
                  <a:lnTo>
                    <a:pt x="1368" y="48"/>
                  </a:lnTo>
                  <a:lnTo>
                    <a:pt x="1352" y="40"/>
                  </a:lnTo>
                  <a:lnTo>
                    <a:pt x="1328" y="40"/>
                  </a:lnTo>
                  <a:lnTo>
                    <a:pt x="1320" y="48"/>
                  </a:lnTo>
                  <a:lnTo>
                    <a:pt x="1304" y="56"/>
                  </a:lnTo>
                  <a:lnTo>
                    <a:pt x="1288" y="64"/>
                  </a:lnTo>
                  <a:lnTo>
                    <a:pt x="1280" y="80"/>
                  </a:lnTo>
                  <a:lnTo>
                    <a:pt x="1256" y="88"/>
                  </a:lnTo>
                  <a:lnTo>
                    <a:pt x="1248" y="96"/>
                  </a:lnTo>
                  <a:lnTo>
                    <a:pt x="1232" y="96"/>
                  </a:lnTo>
                  <a:lnTo>
                    <a:pt x="1216" y="104"/>
                  </a:lnTo>
                  <a:lnTo>
                    <a:pt x="1200" y="104"/>
                  </a:lnTo>
                  <a:lnTo>
                    <a:pt x="1184" y="112"/>
                  </a:lnTo>
                  <a:lnTo>
                    <a:pt x="1176" y="128"/>
                  </a:lnTo>
                  <a:lnTo>
                    <a:pt x="1168" y="136"/>
                  </a:lnTo>
                  <a:lnTo>
                    <a:pt x="1160" y="152"/>
                  </a:lnTo>
                  <a:lnTo>
                    <a:pt x="1152" y="168"/>
                  </a:lnTo>
                  <a:lnTo>
                    <a:pt x="1144" y="184"/>
                  </a:lnTo>
                  <a:lnTo>
                    <a:pt x="1128" y="192"/>
                  </a:lnTo>
                  <a:lnTo>
                    <a:pt x="1120" y="192"/>
                  </a:lnTo>
                  <a:lnTo>
                    <a:pt x="1112" y="192"/>
                  </a:lnTo>
                  <a:lnTo>
                    <a:pt x="1104" y="192"/>
                  </a:lnTo>
                  <a:lnTo>
                    <a:pt x="1088" y="192"/>
                  </a:lnTo>
                  <a:lnTo>
                    <a:pt x="1080" y="192"/>
                  </a:lnTo>
                  <a:lnTo>
                    <a:pt x="1064" y="184"/>
                  </a:lnTo>
                  <a:lnTo>
                    <a:pt x="1056" y="184"/>
                  </a:lnTo>
                  <a:lnTo>
                    <a:pt x="1040" y="184"/>
                  </a:lnTo>
                  <a:lnTo>
                    <a:pt x="1032" y="176"/>
                  </a:lnTo>
                  <a:lnTo>
                    <a:pt x="1016" y="184"/>
                  </a:lnTo>
                  <a:lnTo>
                    <a:pt x="992" y="184"/>
                  </a:lnTo>
                  <a:lnTo>
                    <a:pt x="976" y="184"/>
                  </a:lnTo>
                  <a:lnTo>
                    <a:pt x="960" y="192"/>
                  </a:lnTo>
                  <a:lnTo>
                    <a:pt x="944" y="200"/>
                  </a:lnTo>
                  <a:lnTo>
                    <a:pt x="936" y="208"/>
                  </a:lnTo>
                  <a:lnTo>
                    <a:pt x="928" y="224"/>
                  </a:lnTo>
                  <a:lnTo>
                    <a:pt x="928" y="232"/>
                  </a:lnTo>
                  <a:lnTo>
                    <a:pt x="920" y="248"/>
                  </a:lnTo>
                  <a:lnTo>
                    <a:pt x="904" y="256"/>
                  </a:lnTo>
                  <a:lnTo>
                    <a:pt x="888" y="256"/>
                  </a:lnTo>
                  <a:lnTo>
                    <a:pt x="872" y="264"/>
                  </a:lnTo>
                  <a:lnTo>
                    <a:pt x="856" y="264"/>
                  </a:lnTo>
                  <a:lnTo>
                    <a:pt x="840" y="264"/>
                  </a:lnTo>
                  <a:lnTo>
                    <a:pt x="832" y="264"/>
                  </a:lnTo>
                  <a:lnTo>
                    <a:pt x="816" y="264"/>
                  </a:lnTo>
                  <a:lnTo>
                    <a:pt x="800" y="264"/>
                  </a:lnTo>
                  <a:lnTo>
                    <a:pt x="776" y="264"/>
                  </a:lnTo>
                  <a:lnTo>
                    <a:pt x="760" y="264"/>
                  </a:lnTo>
                  <a:lnTo>
                    <a:pt x="736" y="264"/>
                  </a:lnTo>
                  <a:lnTo>
                    <a:pt x="720" y="264"/>
                  </a:lnTo>
                  <a:lnTo>
                    <a:pt x="712" y="264"/>
                  </a:lnTo>
                  <a:lnTo>
                    <a:pt x="704" y="272"/>
                  </a:lnTo>
                  <a:lnTo>
                    <a:pt x="688" y="288"/>
                  </a:lnTo>
                  <a:lnTo>
                    <a:pt x="672" y="312"/>
                  </a:lnTo>
                  <a:lnTo>
                    <a:pt x="656" y="328"/>
                  </a:lnTo>
                  <a:lnTo>
                    <a:pt x="656" y="328"/>
                  </a:lnTo>
                  <a:lnTo>
                    <a:pt x="592" y="328"/>
                  </a:lnTo>
                  <a:lnTo>
                    <a:pt x="592" y="328"/>
                  </a:lnTo>
                  <a:lnTo>
                    <a:pt x="584" y="328"/>
                  </a:lnTo>
                  <a:lnTo>
                    <a:pt x="576" y="336"/>
                  </a:lnTo>
                  <a:lnTo>
                    <a:pt x="560" y="336"/>
                  </a:lnTo>
                  <a:lnTo>
                    <a:pt x="552" y="336"/>
                  </a:lnTo>
                  <a:lnTo>
                    <a:pt x="544" y="336"/>
                  </a:lnTo>
                  <a:lnTo>
                    <a:pt x="536" y="336"/>
                  </a:lnTo>
                  <a:lnTo>
                    <a:pt x="544" y="328"/>
                  </a:lnTo>
                  <a:lnTo>
                    <a:pt x="560" y="312"/>
                  </a:lnTo>
                  <a:lnTo>
                    <a:pt x="552" y="288"/>
                  </a:lnTo>
                  <a:lnTo>
                    <a:pt x="536" y="264"/>
                  </a:lnTo>
                  <a:lnTo>
                    <a:pt x="520" y="264"/>
                  </a:lnTo>
                  <a:lnTo>
                    <a:pt x="512" y="264"/>
                  </a:lnTo>
                  <a:lnTo>
                    <a:pt x="496" y="264"/>
                  </a:lnTo>
                  <a:lnTo>
                    <a:pt x="488" y="264"/>
                  </a:lnTo>
                  <a:lnTo>
                    <a:pt x="472" y="264"/>
                  </a:lnTo>
                  <a:lnTo>
                    <a:pt x="456" y="264"/>
                  </a:lnTo>
                  <a:lnTo>
                    <a:pt x="440" y="264"/>
                  </a:lnTo>
                  <a:lnTo>
                    <a:pt x="432" y="256"/>
                  </a:lnTo>
                  <a:lnTo>
                    <a:pt x="432" y="248"/>
                  </a:lnTo>
                  <a:lnTo>
                    <a:pt x="424" y="232"/>
                  </a:lnTo>
                  <a:lnTo>
                    <a:pt x="416" y="200"/>
                  </a:lnTo>
                  <a:lnTo>
                    <a:pt x="400" y="168"/>
                  </a:lnTo>
                  <a:lnTo>
                    <a:pt x="376" y="152"/>
                  </a:lnTo>
                  <a:lnTo>
                    <a:pt x="368" y="152"/>
                  </a:lnTo>
                  <a:lnTo>
                    <a:pt x="352" y="160"/>
                  </a:lnTo>
                  <a:lnTo>
                    <a:pt x="336" y="168"/>
                  </a:lnTo>
                  <a:lnTo>
                    <a:pt x="320" y="176"/>
                  </a:lnTo>
                  <a:lnTo>
                    <a:pt x="304" y="184"/>
                  </a:lnTo>
                  <a:lnTo>
                    <a:pt x="280" y="200"/>
                  </a:lnTo>
                  <a:lnTo>
                    <a:pt x="264" y="216"/>
                  </a:lnTo>
                  <a:lnTo>
                    <a:pt x="248" y="232"/>
                  </a:lnTo>
                  <a:lnTo>
                    <a:pt x="224" y="240"/>
                  </a:lnTo>
                  <a:lnTo>
                    <a:pt x="208" y="256"/>
                  </a:lnTo>
                  <a:lnTo>
                    <a:pt x="192" y="280"/>
                  </a:lnTo>
                  <a:lnTo>
                    <a:pt x="168" y="296"/>
                  </a:lnTo>
                  <a:lnTo>
                    <a:pt x="152" y="312"/>
                  </a:lnTo>
                  <a:lnTo>
                    <a:pt x="128" y="328"/>
                  </a:lnTo>
                  <a:lnTo>
                    <a:pt x="112" y="344"/>
                  </a:lnTo>
                  <a:lnTo>
                    <a:pt x="104" y="352"/>
                  </a:lnTo>
                  <a:lnTo>
                    <a:pt x="88" y="368"/>
                  </a:lnTo>
                  <a:lnTo>
                    <a:pt x="72" y="392"/>
                  </a:lnTo>
                  <a:lnTo>
                    <a:pt x="72" y="408"/>
                  </a:lnTo>
                  <a:lnTo>
                    <a:pt x="80" y="432"/>
                  </a:lnTo>
                  <a:lnTo>
                    <a:pt x="96" y="456"/>
                  </a:lnTo>
                  <a:lnTo>
                    <a:pt x="104" y="488"/>
                  </a:lnTo>
                  <a:lnTo>
                    <a:pt x="120" y="512"/>
                  </a:lnTo>
                  <a:lnTo>
                    <a:pt x="136" y="520"/>
                  </a:lnTo>
                  <a:lnTo>
                    <a:pt x="144" y="520"/>
                  </a:lnTo>
                  <a:lnTo>
                    <a:pt x="160" y="520"/>
                  </a:lnTo>
                  <a:lnTo>
                    <a:pt x="168" y="512"/>
                  </a:lnTo>
                  <a:lnTo>
                    <a:pt x="184" y="512"/>
                  </a:lnTo>
                  <a:lnTo>
                    <a:pt x="192" y="504"/>
                  </a:lnTo>
                  <a:lnTo>
                    <a:pt x="208" y="504"/>
                  </a:lnTo>
                  <a:lnTo>
                    <a:pt x="216" y="496"/>
                  </a:lnTo>
                  <a:lnTo>
                    <a:pt x="216" y="488"/>
                  </a:lnTo>
                  <a:lnTo>
                    <a:pt x="232" y="472"/>
                  </a:lnTo>
                  <a:lnTo>
                    <a:pt x="240" y="456"/>
                  </a:lnTo>
                  <a:lnTo>
                    <a:pt x="248" y="440"/>
                  </a:lnTo>
                  <a:lnTo>
                    <a:pt x="248" y="416"/>
                  </a:lnTo>
                  <a:lnTo>
                    <a:pt x="240" y="392"/>
                  </a:lnTo>
                  <a:lnTo>
                    <a:pt x="240" y="376"/>
                  </a:lnTo>
                  <a:lnTo>
                    <a:pt x="240" y="360"/>
                  </a:lnTo>
                  <a:lnTo>
                    <a:pt x="248" y="344"/>
                  </a:lnTo>
                  <a:lnTo>
                    <a:pt x="264" y="336"/>
                  </a:lnTo>
                  <a:lnTo>
                    <a:pt x="272" y="328"/>
                  </a:lnTo>
                  <a:lnTo>
                    <a:pt x="288" y="320"/>
                  </a:lnTo>
                  <a:lnTo>
                    <a:pt x="296" y="312"/>
                  </a:lnTo>
                  <a:lnTo>
                    <a:pt x="304" y="304"/>
                  </a:lnTo>
                  <a:lnTo>
                    <a:pt x="312" y="296"/>
                  </a:lnTo>
                  <a:lnTo>
                    <a:pt x="320" y="296"/>
                  </a:lnTo>
                  <a:lnTo>
                    <a:pt x="320" y="296"/>
                  </a:lnTo>
                  <a:lnTo>
                    <a:pt x="320" y="296"/>
                  </a:lnTo>
                  <a:lnTo>
                    <a:pt x="328" y="296"/>
                  </a:lnTo>
                  <a:lnTo>
                    <a:pt x="336" y="304"/>
                  </a:lnTo>
                  <a:lnTo>
                    <a:pt x="336" y="312"/>
                  </a:lnTo>
                  <a:lnTo>
                    <a:pt x="336" y="328"/>
                  </a:lnTo>
                  <a:lnTo>
                    <a:pt x="328" y="328"/>
                  </a:lnTo>
                  <a:lnTo>
                    <a:pt x="312" y="336"/>
                  </a:lnTo>
                  <a:lnTo>
                    <a:pt x="304" y="344"/>
                  </a:lnTo>
                  <a:lnTo>
                    <a:pt x="288" y="368"/>
                  </a:lnTo>
                  <a:lnTo>
                    <a:pt x="288" y="392"/>
                  </a:lnTo>
                  <a:lnTo>
                    <a:pt x="296" y="408"/>
                  </a:lnTo>
                  <a:lnTo>
                    <a:pt x="320" y="416"/>
                  </a:lnTo>
                  <a:lnTo>
                    <a:pt x="336" y="416"/>
                  </a:lnTo>
                  <a:lnTo>
                    <a:pt x="352" y="408"/>
                  </a:lnTo>
                  <a:lnTo>
                    <a:pt x="368" y="400"/>
                  </a:lnTo>
                  <a:lnTo>
                    <a:pt x="384" y="392"/>
                  </a:lnTo>
                  <a:lnTo>
                    <a:pt x="400" y="384"/>
                  </a:lnTo>
                  <a:lnTo>
                    <a:pt x="416" y="384"/>
                  </a:lnTo>
                  <a:lnTo>
                    <a:pt x="424" y="376"/>
                  </a:lnTo>
                  <a:lnTo>
                    <a:pt x="432" y="376"/>
                  </a:lnTo>
                  <a:lnTo>
                    <a:pt x="448" y="392"/>
                  </a:lnTo>
                  <a:lnTo>
                    <a:pt x="456" y="408"/>
                  </a:lnTo>
                  <a:lnTo>
                    <a:pt x="472" y="424"/>
                  </a:lnTo>
                  <a:lnTo>
                    <a:pt x="480" y="440"/>
                  </a:lnTo>
                  <a:lnTo>
                    <a:pt x="464" y="440"/>
                  </a:lnTo>
                  <a:lnTo>
                    <a:pt x="456" y="440"/>
                  </a:lnTo>
                  <a:lnTo>
                    <a:pt x="440" y="448"/>
                  </a:lnTo>
                  <a:lnTo>
                    <a:pt x="432" y="456"/>
                  </a:lnTo>
                  <a:lnTo>
                    <a:pt x="424" y="456"/>
                  </a:lnTo>
                  <a:lnTo>
                    <a:pt x="416" y="464"/>
                  </a:lnTo>
                  <a:lnTo>
                    <a:pt x="416" y="464"/>
                  </a:lnTo>
                  <a:lnTo>
                    <a:pt x="416" y="472"/>
                  </a:lnTo>
                  <a:lnTo>
                    <a:pt x="408" y="472"/>
                  </a:lnTo>
                  <a:lnTo>
                    <a:pt x="400" y="464"/>
                  </a:lnTo>
                  <a:lnTo>
                    <a:pt x="384" y="464"/>
                  </a:lnTo>
                  <a:lnTo>
                    <a:pt x="368" y="464"/>
                  </a:lnTo>
                  <a:lnTo>
                    <a:pt x="344" y="464"/>
                  </a:lnTo>
                  <a:lnTo>
                    <a:pt x="328" y="464"/>
                  </a:lnTo>
                  <a:lnTo>
                    <a:pt x="320" y="472"/>
                  </a:lnTo>
                  <a:lnTo>
                    <a:pt x="320" y="472"/>
                  </a:lnTo>
                  <a:lnTo>
                    <a:pt x="312" y="496"/>
                  </a:lnTo>
                  <a:lnTo>
                    <a:pt x="304" y="528"/>
                  </a:lnTo>
                  <a:lnTo>
                    <a:pt x="288" y="544"/>
                  </a:lnTo>
                  <a:lnTo>
                    <a:pt x="264" y="552"/>
                  </a:lnTo>
                  <a:lnTo>
                    <a:pt x="248" y="544"/>
                  </a:lnTo>
                  <a:lnTo>
                    <a:pt x="224" y="544"/>
                  </a:lnTo>
                  <a:lnTo>
                    <a:pt x="200" y="544"/>
                  </a:lnTo>
                  <a:lnTo>
                    <a:pt x="176" y="552"/>
                  </a:lnTo>
                  <a:lnTo>
                    <a:pt x="152" y="552"/>
                  </a:lnTo>
                  <a:lnTo>
                    <a:pt x="128" y="560"/>
                  </a:lnTo>
                  <a:lnTo>
                    <a:pt x="104" y="576"/>
                  </a:lnTo>
                  <a:lnTo>
                    <a:pt x="88" y="584"/>
                  </a:lnTo>
                  <a:lnTo>
                    <a:pt x="80" y="600"/>
                  </a:lnTo>
                  <a:lnTo>
                    <a:pt x="72" y="616"/>
                  </a:lnTo>
                  <a:lnTo>
                    <a:pt x="64" y="624"/>
                  </a:lnTo>
                  <a:lnTo>
                    <a:pt x="56" y="632"/>
                  </a:lnTo>
                  <a:lnTo>
                    <a:pt x="48" y="640"/>
                  </a:lnTo>
                  <a:lnTo>
                    <a:pt x="40" y="648"/>
                  </a:lnTo>
                  <a:lnTo>
                    <a:pt x="32" y="656"/>
                  </a:lnTo>
                  <a:lnTo>
                    <a:pt x="24" y="672"/>
                  </a:lnTo>
                  <a:lnTo>
                    <a:pt x="16" y="680"/>
                  </a:lnTo>
                  <a:lnTo>
                    <a:pt x="8" y="688"/>
                  </a:lnTo>
                  <a:lnTo>
                    <a:pt x="8" y="696"/>
                  </a:lnTo>
                  <a:lnTo>
                    <a:pt x="0" y="704"/>
                  </a:lnTo>
                  <a:lnTo>
                    <a:pt x="1608" y="704"/>
                  </a:lnTo>
                  <a:lnTo>
                    <a:pt x="1608" y="144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124760" y="4597200"/>
              <a:ext cx="2095560" cy="855720"/>
            </a:xfrm>
            <a:custGeom>
              <a:avLst/>
              <a:gdLst/>
              <a:ahLst/>
              <a:rect l="l" t="t" r="r" b="b"/>
              <a:pathLst>
                <a:path w="1744" h="712">
                  <a:moveTo>
                    <a:pt x="1744" y="0"/>
                  </a:moveTo>
                  <a:lnTo>
                    <a:pt x="1744" y="0"/>
                  </a:lnTo>
                  <a:lnTo>
                    <a:pt x="136" y="0"/>
                  </a:lnTo>
                  <a:lnTo>
                    <a:pt x="128" y="16"/>
                  </a:lnTo>
                  <a:lnTo>
                    <a:pt x="128" y="24"/>
                  </a:lnTo>
                  <a:lnTo>
                    <a:pt x="120" y="32"/>
                  </a:lnTo>
                  <a:lnTo>
                    <a:pt x="120" y="40"/>
                  </a:lnTo>
                  <a:lnTo>
                    <a:pt x="104" y="48"/>
                  </a:lnTo>
                  <a:lnTo>
                    <a:pt x="96" y="48"/>
                  </a:lnTo>
                  <a:lnTo>
                    <a:pt x="80" y="48"/>
                  </a:lnTo>
                  <a:lnTo>
                    <a:pt x="64" y="40"/>
                  </a:lnTo>
                  <a:lnTo>
                    <a:pt x="48" y="40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16" y="48"/>
                  </a:lnTo>
                  <a:lnTo>
                    <a:pt x="8" y="64"/>
                  </a:lnTo>
                  <a:lnTo>
                    <a:pt x="0" y="80"/>
                  </a:lnTo>
                  <a:lnTo>
                    <a:pt x="8" y="96"/>
                  </a:lnTo>
                  <a:lnTo>
                    <a:pt x="16" y="120"/>
                  </a:lnTo>
                  <a:lnTo>
                    <a:pt x="24" y="144"/>
                  </a:lnTo>
                  <a:lnTo>
                    <a:pt x="32" y="160"/>
                  </a:lnTo>
                  <a:lnTo>
                    <a:pt x="40" y="168"/>
                  </a:lnTo>
                  <a:lnTo>
                    <a:pt x="48" y="168"/>
                  </a:lnTo>
                  <a:lnTo>
                    <a:pt x="56" y="176"/>
                  </a:lnTo>
                  <a:lnTo>
                    <a:pt x="64" y="176"/>
                  </a:lnTo>
                  <a:lnTo>
                    <a:pt x="80" y="176"/>
                  </a:lnTo>
                  <a:lnTo>
                    <a:pt x="88" y="168"/>
                  </a:lnTo>
                  <a:lnTo>
                    <a:pt x="96" y="160"/>
                  </a:lnTo>
                  <a:lnTo>
                    <a:pt x="112" y="152"/>
                  </a:lnTo>
                  <a:lnTo>
                    <a:pt x="120" y="144"/>
                  </a:lnTo>
                  <a:lnTo>
                    <a:pt x="128" y="128"/>
                  </a:lnTo>
                  <a:lnTo>
                    <a:pt x="144" y="112"/>
                  </a:lnTo>
                  <a:lnTo>
                    <a:pt x="160" y="96"/>
                  </a:lnTo>
                  <a:lnTo>
                    <a:pt x="168" y="80"/>
                  </a:lnTo>
                  <a:lnTo>
                    <a:pt x="184" y="64"/>
                  </a:lnTo>
                  <a:lnTo>
                    <a:pt x="200" y="48"/>
                  </a:lnTo>
                  <a:lnTo>
                    <a:pt x="208" y="48"/>
                  </a:lnTo>
                  <a:lnTo>
                    <a:pt x="224" y="40"/>
                  </a:lnTo>
                  <a:lnTo>
                    <a:pt x="232" y="40"/>
                  </a:lnTo>
                  <a:lnTo>
                    <a:pt x="248" y="40"/>
                  </a:lnTo>
                  <a:lnTo>
                    <a:pt x="264" y="40"/>
                  </a:lnTo>
                  <a:lnTo>
                    <a:pt x="272" y="40"/>
                  </a:lnTo>
                  <a:lnTo>
                    <a:pt x="288" y="48"/>
                  </a:lnTo>
                  <a:lnTo>
                    <a:pt x="296" y="56"/>
                  </a:lnTo>
                  <a:lnTo>
                    <a:pt x="304" y="64"/>
                  </a:lnTo>
                  <a:lnTo>
                    <a:pt x="312" y="72"/>
                  </a:lnTo>
                  <a:lnTo>
                    <a:pt x="320" y="80"/>
                  </a:lnTo>
                  <a:lnTo>
                    <a:pt x="328" y="96"/>
                  </a:lnTo>
                  <a:lnTo>
                    <a:pt x="344" y="112"/>
                  </a:lnTo>
                  <a:lnTo>
                    <a:pt x="352" y="120"/>
                  </a:lnTo>
                  <a:lnTo>
                    <a:pt x="360" y="136"/>
                  </a:lnTo>
                  <a:lnTo>
                    <a:pt x="360" y="144"/>
                  </a:lnTo>
                  <a:lnTo>
                    <a:pt x="368" y="144"/>
                  </a:lnTo>
                  <a:lnTo>
                    <a:pt x="376" y="112"/>
                  </a:lnTo>
                  <a:lnTo>
                    <a:pt x="424" y="96"/>
                  </a:lnTo>
                  <a:lnTo>
                    <a:pt x="440" y="160"/>
                  </a:lnTo>
                  <a:lnTo>
                    <a:pt x="440" y="160"/>
                  </a:lnTo>
                  <a:lnTo>
                    <a:pt x="448" y="144"/>
                  </a:lnTo>
                  <a:lnTo>
                    <a:pt x="456" y="128"/>
                  </a:lnTo>
                  <a:lnTo>
                    <a:pt x="472" y="112"/>
                  </a:lnTo>
                  <a:lnTo>
                    <a:pt x="488" y="88"/>
                  </a:lnTo>
                  <a:lnTo>
                    <a:pt x="504" y="64"/>
                  </a:lnTo>
                  <a:lnTo>
                    <a:pt x="520" y="40"/>
                  </a:lnTo>
                  <a:lnTo>
                    <a:pt x="528" y="24"/>
                  </a:lnTo>
                  <a:lnTo>
                    <a:pt x="528" y="32"/>
                  </a:lnTo>
                  <a:lnTo>
                    <a:pt x="536" y="32"/>
                  </a:lnTo>
                  <a:lnTo>
                    <a:pt x="552" y="40"/>
                  </a:lnTo>
                  <a:lnTo>
                    <a:pt x="568" y="48"/>
                  </a:lnTo>
                  <a:lnTo>
                    <a:pt x="576" y="48"/>
                  </a:lnTo>
                  <a:lnTo>
                    <a:pt x="584" y="48"/>
                  </a:lnTo>
                  <a:lnTo>
                    <a:pt x="592" y="56"/>
                  </a:lnTo>
                  <a:lnTo>
                    <a:pt x="600" y="56"/>
                  </a:lnTo>
                  <a:lnTo>
                    <a:pt x="616" y="56"/>
                  </a:lnTo>
                  <a:lnTo>
                    <a:pt x="624" y="56"/>
                  </a:lnTo>
                  <a:lnTo>
                    <a:pt x="624" y="64"/>
                  </a:lnTo>
                  <a:lnTo>
                    <a:pt x="632" y="64"/>
                  </a:lnTo>
                  <a:lnTo>
                    <a:pt x="640" y="64"/>
                  </a:lnTo>
                  <a:lnTo>
                    <a:pt x="656" y="64"/>
                  </a:lnTo>
                  <a:lnTo>
                    <a:pt x="672" y="72"/>
                  </a:lnTo>
                  <a:lnTo>
                    <a:pt x="688" y="80"/>
                  </a:lnTo>
                  <a:lnTo>
                    <a:pt x="696" y="96"/>
                  </a:lnTo>
                  <a:lnTo>
                    <a:pt x="712" y="112"/>
                  </a:lnTo>
                  <a:lnTo>
                    <a:pt x="728" y="120"/>
                  </a:lnTo>
                  <a:lnTo>
                    <a:pt x="728" y="128"/>
                  </a:lnTo>
                  <a:lnTo>
                    <a:pt x="712" y="128"/>
                  </a:lnTo>
                  <a:lnTo>
                    <a:pt x="704" y="136"/>
                  </a:lnTo>
                  <a:lnTo>
                    <a:pt x="688" y="136"/>
                  </a:lnTo>
                  <a:lnTo>
                    <a:pt x="672" y="136"/>
                  </a:lnTo>
                  <a:lnTo>
                    <a:pt x="664" y="136"/>
                  </a:lnTo>
                  <a:lnTo>
                    <a:pt x="648" y="136"/>
                  </a:lnTo>
                  <a:lnTo>
                    <a:pt x="640" y="136"/>
                  </a:lnTo>
                  <a:lnTo>
                    <a:pt x="632" y="128"/>
                  </a:lnTo>
                  <a:lnTo>
                    <a:pt x="616" y="128"/>
                  </a:lnTo>
                  <a:lnTo>
                    <a:pt x="608" y="128"/>
                  </a:lnTo>
                  <a:lnTo>
                    <a:pt x="592" y="128"/>
                  </a:lnTo>
                  <a:lnTo>
                    <a:pt x="584" y="128"/>
                  </a:lnTo>
                  <a:lnTo>
                    <a:pt x="568" y="128"/>
                  </a:lnTo>
                  <a:lnTo>
                    <a:pt x="552" y="128"/>
                  </a:lnTo>
                  <a:lnTo>
                    <a:pt x="544" y="136"/>
                  </a:lnTo>
                  <a:lnTo>
                    <a:pt x="528" y="136"/>
                  </a:lnTo>
                  <a:lnTo>
                    <a:pt x="512" y="152"/>
                  </a:lnTo>
                  <a:lnTo>
                    <a:pt x="504" y="176"/>
                  </a:lnTo>
                  <a:lnTo>
                    <a:pt x="496" y="192"/>
                  </a:lnTo>
                  <a:lnTo>
                    <a:pt x="496" y="200"/>
                  </a:lnTo>
                  <a:lnTo>
                    <a:pt x="504" y="200"/>
                  </a:lnTo>
                  <a:lnTo>
                    <a:pt x="512" y="208"/>
                  </a:lnTo>
                  <a:lnTo>
                    <a:pt x="536" y="208"/>
                  </a:lnTo>
                  <a:lnTo>
                    <a:pt x="552" y="216"/>
                  </a:lnTo>
                  <a:lnTo>
                    <a:pt x="568" y="224"/>
                  </a:lnTo>
                  <a:lnTo>
                    <a:pt x="576" y="224"/>
                  </a:lnTo>
                  <a:lnTo>
                    <a:pt x="576" y="240"/>
                  </a:lnTo>
                  <a:lnTo>
                    <a:pt x="584" y="256"/>
                  </a:lnTo>
                  <a:lnTo>
                    <a:pt x="576" y="272"/>
                  </a:lnTo>
                  <a:lnTo>
                    <a:pt x="568" y="288"/>
                  </a:lnTo>
                  <a:lnTo>
                    <a:pt x="560" y="304"/>
                  </a:lnTo>
                  <a:lnTo>
                    <a:pt x="560" y="304"/>
                  </a:lnTo>
                  <a:lnTo>
                    <a:pt x="568" y="320"/>
                  </a:lnTo>
                  <a:lnTo>
                    <a:pt x="584" y="328"/>
                  </a:lnTo>
                  <a:lnTo>
                    <a:pt x="600" y="352"/>
                  </a:lnTo>
                  <a:lnTo>
                    <a:pt x="608" y="360"/>
                  </a:lnTo>
                  <a:lnTo>
                    <a:pt x="624" y="368"/>
                  </a:lnTo>
                  <a:lnTo>
                    <a:pt x="632" y="384"/>
                  </a:lnTo>
                  <a:lnTo>
                    <a:pt x="648" y="400"/>
                  </a:lnTo>
                  <a:lnTo>
                    <a:pt x="648" y="416"/>
                  </a:lnTo>
                  <a:lnTo>
                    <a:pt x="656" y="432"/>
                  </a:lnTo>
                  <a:lnTo>
                    <a:pt x="656" y="448"/>
                  </a:lnTo>
                  <a:lnTo>
                    <a:pt x="672" y="464"/>
                  </a:lnTo>
                  <a:lnTo>
                    <a:pt x="680" y="488"/>
                  </a:lnTo>
                  <a:lnTo>
                    <a:pt x="696" y="512"/>
                  </a:lnTo>
                  <a:lnTo>
                    <a:pt x="704" y="528"/>
                  </a:lnTo>
                  <a:lnTo>
                    <a:pt x="712" y="544"/>
                  </a:lnTo>
                  <a:lnTo>
                    <a:pt x="720" y="544"/>
                  </a:lnTo>
                  <a:lnTo>
                    <a:pt x="736" y="552"/>
                  </a:lnTo>
                  <a:lnTo>
                    <a:pt x="752" y="568"/>
                  </a:lnTo>
                  <a:lnTo>
                    <a:pt x="768" y="576"/>
                  </a:lnTo>
                  <a:lnTo>
                    <a:pt x="776" y="584"/>
                  </a:lnTo>
                  <a:lnTo>
                    <a:pt x="784" y="584"/>
                  </a:lnTo>
                  <a:lnTo>
                    <a:pt x="784" y="584"/>
                  </a:lnTo>
                  <a:lnTo>
                    <a:pt x="800" y="584"/>
                  </a:lnTo>
                  <a:lnTo>
                    <a:pt x="808" y="576"/>
                  </a:lnTo>
                  <a:lnTo>
                    <a:pt x="816" y="576"/>
                  </a:lnTo>
                  <a:lnTo>
                    <a:pt x="824" y="568"/>
                  </a:lnTo>
                  <a:lnTo>
                    <a:pt x="832" y="560"/>
                  </a:lnTo>
                  <a:lnTo>
                    <a:pt x="840" y="552"/>
                  </a:lnTo>
                  <a:lnTo>
                    <a:pt x="840" y="544"/>
                  </a:lnTo>
                  <a:lnTo>
                    <a:pt x="848" y="528"/>
                  </a:lnTo>
                  <a:lnTo>
                    <a:pt x="856" y="520"/>
                  </a:lnTo>
                  <a:lnTo>
                    <a:pt x="864" y="504"/>
                  </a:lnTo>
                  <a:lnTo>
                    <a:pt x="872" y="488"/>
                  </a:lnTo>
                  <a:lnTo>
                    <a:pt x="888" y="480"/>
                  </a:lnTo>
                  <a:lnTo>
                    <a:pt x="896" y="472"/>
                  </a:lnTo>
                  <a:lnTo>
                    <a:pt x="904" y="464"/>
                  </a:lnTo>
                  <a:lnTo>
                    <a:pt x="920" y="456"/>
                  </a:lnTo>
                  <a:lnTo>
                    <a:pt x="936" y="448"/>
                  </a:lnTo>
                  <a:lnTo>
                    <a:pt x="944" y="440"/>
                  </a:lnTo>
                  <a:lnTo>
                    <a:pt x="952" y="432"/>
                  </a:lnTo>
                  <a:lnTo>
                    <a:pt x="928" y="432"/>
                  </a:lnTo>
                  <a:lnTo>
                    <a:pt x="904" y="424"/>
                  </a:lnTo>
                  <a:lnTo>
                    <a:pt x="880" y="416"/>
                  </a:lnTo>
                  <a:lnTo>
                    <a:pt x="864" y="408"/>
                  </a:lnTo>
                  <a:lnTo>
                    <a:pt x="840" y="400"/>
                  </a:lnTo>
                  <a:lnTo>
                    <a:pt x="824" y="392"/>
                  </a:lnTo>
                  <a:lnTo>
                    <a:pt x="808" y="384"/>
                  </a:lnTo>
                  <a:lnTo>
                    <a:pt x="800" y="376"/>
                  </a:lnTo>
                  <a:lnTo>
                    <a:pt x="784" y="352"/>
                  </a:lnTo>
                  <a:lnTo>
                    <a:pt x="784" y="336"/>
                  </a:lnTo>
                  <a:lnTo>
                    <a:pt x="792" y="320"/>
                  </a:lnTo>
                  <a:lnTo>
                    <a:pt x="808" y="312"/>
                  </a:lnTo>
                  <a:lnTo>
                    <a:pt x="824" y="304"/>
                  </a:lnTo>
                  <a:lnTo>
                    <a:pt x="840" y="312"/>
                  </a:lnTo>
                  <a:lnTo>
                    <a:pt x="848" y="328"/>
                  </a:lnTo>
                  <a:lnTo>
                    <a:pt x="856" y="336"/>
                  </a:lnTo>
                  <a:lnTo>
                    <a:pt x="864" y="344"/>
                  </a:lnTo>
                  <a:lnTo>
                    <a:pt x="864" y="352"/>
                  </a:lnTo>
                  <a:lnTo>
                    <a:pt x="872" y="360"/>
                  </a:lnTo>
                  <a:lnTo>
                    <a:pt x="880" y="368"/>
                  </a:lnTo>
                  <a:lnTo>
                    <a:pt x="888" y="376"/>
                  </a:lnTo>
                  <a:lnTo>
                    <a:pt x="904" y="376"/>
                  </a:lnTo>
                  <a:lnTo>
                    <a:pt x="912" y="384"/>
                  </a:lnTo>
                  <a:lnTo>
                    <a:pt x="920" y="384"/>
                  </a:lnTo>
                  <a:lnTo>
                    <a:pt x="936" y="384"/>
                  </a:lnTo>
                  <a:lnTo>
                    <a:pt x="952" y="384"/>
                  </a:lnTo>
                  <a:lnTo>
                    <a:pt x="976" y="384"/>
                  </a:lnTo>
                  <a:lnTo>
                    <a:pt x="1000" y="392"/>
                  </a:lnTo>
                  <a:lnTo>
                    <a:pt x="1016" y="400"/>
                  </a:lnTo>
                  <a:lnTo>
                    <a:pt x="1040" y="408"/>
                  </a:lnTo>
                  <a:lnTo>
                    <a:pt x="1056" y="416"/>
                  </a:lnTo>
                  <a:lnTo>
                    <a:pt x="1072" y="424"/>
                  </a:lnTo>
                  <a:lnTo>
                    <a:pt x="1080" y="440"/>
                  </a:lnTo>
                  <a:lnTo>
                    <a:pt x="1088" y="448"/>
                  </a:lnTo>
                  <a:lnTo>
                    <a:pt x="1104" y="456"/>
                  </a:lnTo>
                  <a:lnTo>
                    <a:pt x="1112" y="456"/>
                  </a:lnTo>
                  <a:lnTo>
                    <a:pt x="1128" y="464"/>
                  </a:lnTo>
                  <a:lnTo>
                    <a:pt x="1136" y="472"/>
                  </a:lnTo>
                  <a:lnTo>
                    <a:pt x="1144" y="480"/>
                  </a:lnTo>
                  <a:lnTo>
                    <a:pt x="1144" y="488"/>
                  </a:lnTo>
                  <a:lnTo>
                    <a:pt x="1152" y="512"/>
                  </a:lnTo>
                  <a:lnTo>
                    <a:pt x="1152" y="536"/>
                  </a:lnTo>
                  <a:lnTo>
                    <a:pt x="1160" y="560"/>
                  </a:lnTo>
                  <a:lnTo>
                    <a:pt x="1168" y="584"/>
                  </a:lnTo>
                  <a:lnTo>
                    <a:pt x="1184" y="600"/>
                  </a:lnTo>
                  <a:lnTo>
                    <a:pt x="1192" y="624"/>
                  </a:lnTo>
                  <a:lnTo>
                    <a:pt x="1208" y="640"/>
                  </a:lnTo>
                  <a:lnTo>
                    <a:pt x="1224" y="656"/>
                  </a:lnTo>
                  <a:lnTo>
                    <a:pt x="1240" y="664"/>
                  </a:lnTo>
                  <a:lnTo>
                    <a:pt x="1248" y="672"/>
                  </a:lnTo>
                  <a:lnTo>
                    <a:pt x="1256" y="656"/>
                  </a:lnTo>
                  <a:lnTo>
                    <a:pt x="1256" y="632"/>
                  </a:lnTo>
                  <a:lnTo>
                    <a:pt x="1256" y="592"/>
                  </a:lnTo>
                  <a:lnTo>
                    <a:pt x="1264" y="560"/>
                  </a:lnTo>
                  <a:lnTo>
                    <a:pt x="1280" y="528"/>
                  </a:lnTo>
                  <a:lnTo>
                    <a:pt x="1304" y="504"/>
                  </a:lnTo>
                  <a:lnTo>
                    <a:pt x="1320" y="496"/>
                  </a:lnTo>
                  <a:lnTo>
                    <a:pt x="1328" y="488"/>
                  </a:lnTo>
                  <a:lnTo>
                    <a:pt x="1344" y="480"/>
                  </a:lnTo>
                  <a:lnTo>
                    <a:pt x="1352" y="472"/>
                  </a:lnTo>
                  <a:lnTo>
                    <a:pt x="1368" y="464"/>
                  </a:lnTo>
                  <a:lnTo>
                    <a:pt x="1376" y="464"/>
                  </a:lnTo>
                  <a:lnTo>
                    <a:pt x="1384" y="456"/>
                  </a:lnTo>
                  <a:lnTo>
                    <a:pt x="1392" y="456"/>
                  </a:lnTo>
                  <a:lnTo>
                    <a:pt x="1408" y="440"/>
                  </a:lnTo>
                  <a:lnTo>
                    <a:pt x="1424" y="424"/>
                  </a:lnTo>
                  <a:lnTo>
                    <a:pt x="1440" y="416"/>
                  </a:lnTo>
                  <a:lnTo>
                    <a:pt x="1440" y="440"/>
                  </a:lnTo>
                  <a:lnTo>
                    <a:pt x="1440" y="472"/>
                  </a:lnTo>
                  <a:lnTo>
                    <a:pt x="1440" y="496"/>
                  </a:lnTo>
                  <a:lnTo>
                    <a:pt x="1448" y="520"/>
                  </a:lnTo>
                  <a:lnTo>
                    <a:pt x="1464" y="544"/>
                  </a:lnTo>
                  <a:lnTo>
                    <a:pt x="1480" y="568"/>
                  </a:lnTo>
                  <a:lnTo>
                    <a:pt x="1488" y="592"/>
                  </a:lnTo>
                  <a:lnTo>
                    <a:pt x="1496" y="616"/>
                  </a:lnTo>
                  <a:lnTo>
                    <a:pt x="1504" y="632"/>
                  </a:lnTo>
                  <a:lnTo>
                    <a:pt x="1512" y="656"/>
                  </a:lnTo>
                  <a:lnTo>
                    <a:pt x="1512" y="672"/>
                  </a:lnTo>
                  <a:lnTo>
                    <a:pt x="1512" y="696"/>
                  </a:lnTo>
                  <a:lnTo>
                    <a:pt x="1512" y="704"/>
                  </a:lnTo>
                  <a:lnTo>
                    <a:pt x="1552" y="672"/>
                  </a:lnTo>
                  <a:lnTo>
                    <a:pt x="1560" y="680"/>
                  </a:lnTo>
                  <a:lnTo>
                    <a:pt x="1568" y="696"/>
                  </a:lnTo>
                  <a:lnTo>
                    <a:pt x="1576" y="712"/>
                  </a:lnTo>
                  <a:lnTo>
                    <a:pt x="1592" y="712"/>
                  </a:lnTo>
                  <a:lnTo>
                    <a:pt x="1592" y="696"/>
                  </a:lnTo>
                  <a:lnTo>
                    <a:pt x="1584" y="672"/>
                  </a:lnTo>
                  <a:lnTo>
                    <a:pt x="1576" y="656"/>
                  </a:lnTo>
                  <a:lnTo>
                    <a:pt x="1576" y="632"/>
                  </a:lnTo>
                  <a:lnTo>
                    <a:pt x="1584" y="624"/>
                  </a:lnTo>
                  <a:lnTo>
                    <a:pt x="1592" y="616"/>
                  </a:lnTo>
                  <a:lnTo>
                    <a:pt x="1608" y="616"/>
                  </a:lnTo>
                  <a:lnTo>
                    <a:pt x="1616" y="616"/>
                  </a:lnTo>
                  <a:lnTo>
                    <a:pt x="1632" y="616"/>
                  </a:lnTo>
                  <a:lnTo>
                    <a:pt x="1648" y="608"/>
                  </a:lnTo>
                  <a:lnTo>
                    <a:pt x="1664" y="592"/>
                  </a:lnTo>
                  <a:lnTo>
                    <a:pt x="1672" y="584"/>
                  </a:lnTo>
                  <a:lnTo>
                    <a:pt x="1680" y="568"/>
                  </a:lnTo>
                  <a:lnTo>
                    <a:pt x="1672" y="552"/>
                  </a:lnTo>
                  <a:lnTo>
                    <a:pt x="1664" y="544"/>
                  </a:lnTo>
                  <a:lnTo>
                    <a:pt x="1656" y="528"/>
                  </a:lnTo>
                  <a:lnTo>
                    <a:pt x="1656" y="520"/>
                  </a:lnTo>
                  <a:lnTo>
                    <a:pt x="1640" y="512"/>
                  </a:lnTo>
                  <a:lnTo>
                    <a:pt x="1632" y="504"/>
                  </a:lnTo>
                  <a:lnTo>
                    <a:pt x="1632" y="488"/>
                  </a:lnTo>
                  <a:lnTo>
                    <a:pt x="1640" y="480"/>
                  </a:lnTo>
                  <a:lnTo>
                    <a:pt x="1648" y="472"/>
                  </a:lnTo>
                  <a:lnTo>
                    <a:pt x="1664" y="472"/>
                  </a:lnTo>
                  <a:lnTo>
                    <a:pt x="1680" y="464"/>
                  </a:lnTo>
                  <a:lnTo>
                    <a:pt x="1696" y="456"/>
                  </a:lnTo>
                  <a:lnTo>
                    <a:pt x="1712" y="448"/>
                  </a:lnTo>
                  <a:lnTo>
                    <a:pt x="1728" y="440"/>
                  </a:lnTo>
                  <a:lnTo>
                    <a:pt x="1744" y="432"/>
                  </a:lnTo>
                  <a:lnTo>
                    <a:pt x="1744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953400" y="4836960"/>
              <a:ext cx="1122120" cy="1317600"/>
            </a:xfrm>
            <a:custGeom>
              <a:avLst/>
              <a:gdLst/>
              <a:ahLst/>
              <a:rect l="l" t="t" r="r" b="b"/>
              <a:pathLst>
                <a:path w="936" h="1096">
                  <a:moveTo>
                    <a:pt x="680" y="112"/>
                  </a:moveTo>
                  <a:lnTo>
                    <a:pt x="680" y="112"/>
                  </a:lnTo>
                  <a:lnTo>
                    <a:pt x="672" y="112"/>
                  </a:lnTo>
                  <a:lnTo>
                    <a:pt x="656" y="112"/>
                  </a:lnTo>
                  <a:lnTo>
                    <a:pt x="640" y="112"/>
                  </a:lnTo>
                  <a:lnTo>
                    <a:pt x="632" y="104"/>
                  </a:lnTo>
                  <a:lnTo>
                    <a:pt x="616" y="104"/>
                  </a:lnTo>
                  <a:lnTo>
                    <a:pt x="608" y="96"/>
                  </a:lnTo>
                  <a:lnTo>
                    <a:pt x="600" y="88"/>
                  </a:lnTo>
                  <a:lnTo>
                    <a:pt x="592" y="88"/>
                  </a:lnTo>
                  <a:lnTo>
                    <a:pt x="584" y="80"/>
                  </a:lnTo>
                  <a:lnTo>
                    <a:pt x="576" y="80"/>
                  </a:lnTo>
                  <a:lnTo>
                    <a:pt x="568" y="88"/>
                  </a:lnTo>
                  <a:lnTo>
                    <a:pt x="560" y="88"/>
                  </a:lnTo>
                  <a:lnTo>
                    <a:pt x="552" y="96"/>
                  </a:lnTo>
                  <a:lnTo>
                    <a:pt x="544" y="104"/>
                  </a:lnTo>
                  <a:lnTo>
                    <a:pt x="528" y="112"/>
                  </a:lnTo>
                  <a:lnTo>
                    <a:pt x="520" y="112"/>
                  </a:lnTo>
                  <a:lnTo>
                    <a:pt x="512" y="112"/>
                  </a:lnTo>
                  <a:lnTo>
                    <a:pt x="496" y="112"/>
                  </a:lnTo>
                  <a:lnTo>
                    <a:pt x="480" y="112"/>
                  </a:lnTo>
                  <a:lnTo>
                    <a:pt x="472" y="104"/>
                  </a:lnTo>
                  <a:lnTo>
                    <a:pt x="456" y="96"/>
                  </a:lnTo>
                  <a:lnTo>
                    <a:pt x="440" y="88"/>
                  </a:lnTo>
                  <a:lnTo>
                    <a:pt x="432" y="72"/>
                  </a:lnTo>
                  <a:lnTo>
                    <a:pt x="424" y="64"/>
                  </a:lnTo>
                  <a:lnTo>
                    <a:pt x="408" y="48"/>
                  </a:lnTo>
                  <a:lnTo>
                    <a:pt x="392" y="40"/>
                  </a:lnTo>
                  <a:lnTo>
                    <a:pt x="376" y="24"/>
                  </a:lnTo>
                  <a:lnTo>
                    <a:pt x="360" y="16"/>
                  </a:lnTo>
                  <a:lnTo>
                    <a:pt x="344" y="8"/>
                  </a:lnTo>
                  <a:lnTo>
                    <a:pt x="328" y="0"/>
                  </a:lnTo>
                  <a:lnTo>
                    <a:pt x="312" y="0"/>
                  </a:lnTo>
                  <a:lnTo>
                    <a:pt x="304" y="8"/>
                  </a:lnTo>
                  <a:lnTo>
                    <a:pt x="296" y="8"/>
                  </a:lnTo>
                  <a:lnTo>
                    <a:pt x="280" y="16"/>
                  </a:lnTo>
                  <a:lnTo>
                    <a:pt x="264" y="16"/>
                  </a:lnTo>
                  <a:lnTo>
                    <a:pt x="248" y="24"/>
                  </a:lnTo>
                  <a:lnTo>
                    <a:pt x="232" y="24"/>
                  </a:lnTo>
                  <a:lnTo>
                    <a:pt x="216" y="24"/>
                  </a:lnTo>
                  <a:lnTo>
                    <a:pt x="200" y="32"/>
                  </a:lnTo>
                  <a:lnTo>
                    <a:pt x="192" y="40"/>
                  </a:lnTo>
                  <a:lnTo>
                    <a:pt x="176" y="48"/>
                  </a:lnTo>
                  <a:lnTo>
                    <a:pt x="168" y="56"/>
                  </a:lnTo>
                  <a:lnTo>
                    <a:pt x="152" y="72"/>
                  </a:lnTo>
                  <a:lnTo>
                    <a:pt x="144" y="88"/>
                  </a:lnTo>
                  <a:lnTo>
                    <a:pt x="128" y="104"/>
                  </a:lnTo>
                  <a:lnTo>
                    <a:pt x="120" y="112"/>
                  </a:lnTo>
                  <a:lnTo>
                    <a:pt x="104" y="128"/>
                  </a:lnTo>
                  <a:lnTo>
                    <a:pt x="96" y="136"/>
                  </a:lnTo>
                  <a:lnTo>
                    <a:pt x="88" y="152"/>
                  </a:lnTo>
                  <a:lnTo>
                    <a:pt x="80" y="160"/>
                  </a:lnTo>
                  <a:lnTo>
                    <a:pt x="64" y="168"/>
                  </a:lnTo>
                  <a:lnTo>
                    <a:pt x="56" y="176"/>
                  </a:lnTo>
                  <a:lnTo>
                    <a:pt x="40" y="184"/>
                  </a:lnTo>
                  <a:lnTo>
                    <a:pt x="32" y="200"/>
                  </a:lnTo>
                  <a:lnTo>
                    <a:pt x="24" y="208"/>
                  </a:lnTo>
                  <a:lnTo>
                    <a:pt x="16" y="216"/>
                  </a:lnTo>
                  <a:lnTo>
                    <a:pt x="16" y="248"/>
                  </a:lnTo>
                  <a:lnTo>
                    <a:pt x="8" y="272"/>
                  </a:lnTo>
                  <a:lnTo>
                    <a:pt x="0" y="288"/>
                  </a:lnTo>
                  <a:lnTo>
                    <a:pt x="0" y="296"/>
                  </a:lnTo>
                  <a:lnTo>
                    <a:pt x="0" y="304"/>
                  </a:lnTo>
                  <a:lnTo>
                    <a:pt x="0" y="336"/>
                  </a:lnTo>
                  <a:lnTo>
                    <a:pt x="8" y="368"/>
                  </a:lnTo>
                  <a:lnTo>
                    <a:pt x="16" y="392"/>
                  </a:lnTo>
                  <a:lnTo>
                    <a:pt x="24" y="408"/>
                  </a:lnTo>
                  <a:lnTo>
                    <a:pt x="32" y="432"/>
                  </a:lnTo>
                  <a:lnTo>
                    <a:pt x="48" y="456"/>
                  </a:lnTo>
                  <a:lnTo>
                    <a:pt x="64" y="472"/>
                  </a:lnTo>
                  <a:lnTo>
                    <a:pt x="88" y="480"/>
                  </a:lnTo>
                  <a:lnTo>
                    <a:pt x="112" y="480"/>
                  </a:lnTo>
                  <a:lnTo>
                    <a:pt x="136" y="488"/>
                  </a:lnTo>
                  <a:lnTo>
                    <a:pt x="168" y="488"/>
                  </a:lnTo>
                  <a:lnTo>
                    <a:pt x="192" y="496"/>
                  </a:lnTo>
                  <a:lnTo>
                    <a:pt x="216" y="496"/>
                  </a:lnTo>
                  <a:lnTo>
                    <a:pt x="240" y="496"/>
                  </a:lnTo>
                  <a:lnTo>
                    <a:pt x="264" y="496"/>
                  </a:lnTo>
                  <a:lnTo>
                    <a:pt x="272" y="488"/>
                  </a:lnTo>
                  <a:lnTo>
                    <a:pt x="288" y="488"/>
                  </a:lnTo>
                  <a:lnTo>
                    <a:pt x="296" y="488"/>
                  </a:lnTo>
                  <a:lnTo>
                    <a:pt x="312" y="496"/>
                  </a:lnTo>
                  <a:lnTo>
                    <a:pt x="320" y="496"/>
                  </a:lnTo>
                  <a:lnTo>
                    <a:pt x="328" y="496"/>
                  </a:lnTo>
                  <a:lnTo>
                    <a:pt x="344" y="504"/>
                  </a:lnTo>
                  <a:lnTo>
                    <a:pt x="352" y="512"/>
                  </a:lnTo>
                  <a:lnTo>
                    <a:pt x="368" y="520"/>
                  </a:lnTo>
                  <a:lnTo>
                    <a:pt x="376" y="536"/>
                  </a:lnTo>
                  <a:lnTo>
                    <a:pt x="376" y="552"/>
                  </a:lnTo>
                  <a:lnTo>
                    <a:pt x="376" y="568"/>
                  </a:lnTo>
                  <a:lnTo>
                    <a:pt x="368" y="592"/>
                  </a:lnTo>
                  <a:lnTo>
                    <a:pt x="368" y="600"/>
                  </a:lnTo>
                  <a:lnTo>
                    <a:pt x="384" y="608"/>
                  </a:lnTo>
                  <a:lnTo>
                    <a:pt x="408" y="624"/>
                  </a:lnTo>
                  <a:lnTo>
                    <a:pt x="424" y="632"/>
                  </a:lnTo>
                  <a:lnTo>
                    <a:pt x="424" y="648"/>
                  </a:lnTo>
                  <a:lnTo>
                    <a:pt x="424" y="664"/>
                  </a:lnTo>
                  <a:lnTo>
                    <a:pt x="424" y="688"/>
                  </a:lnTo>
                  <a:lnTo>
                    <a:pt x="424" y="704"/>
                  </a:lnTo>
                  <a:lnTo>
                    <a:pt x="424" y="728"/>
                  </a:lnTo>
                  <a:lnTo>
                    <a:pt x="416" y="760"/>
                  </a:lnTo>
                  <a:lnTo>
                    <a:pt x="416" y="784"/>
                  </a:lnTo>
                  <a:lnTo>
                    <a:pt x="408" y="800"/>
                  </a:lnTo>
                  <a:lnTo>
                    <a:pt x="408" y="816"/>
                  </a:lnTo>
                  <a:lnTo>
                    <a:pt x="400" y="824"/>
                  </a:lnTo>
                  <a:lnTo>
                    <a:pt x="408" y="848"/>
                  </a:lnTo>
                  <a:lnTo>
                    <a:pt x="416" y="856"/>
                  </a:lnTo>
                  <a:lnTo>
                    <a:pt x="424" y="880"/>
                  </a:lnTo>
                  <a:lnTo>
                    <a:pt x="432" y="896"/>
                  </a:lnTo>
                  <a:lnTo>
                    <a:pt x="440" y="912"/>
                  </a:lnTo>
                  <a:lnTo>
                    <a:pt x="448" y="928"/>
                  </a:lnTo>
                  <a:lnTo>
                    <a:pt x="456" y="952"/>
                  </a:lnTo>
                  <a:lnTo>
                    <a:pt x="472" y="976"/>
                  </a:lnTo>
                  <a:lnTo>
                    <a:pt x="480" y="992"/>
                  </a:lnTo>
                  <a:lnTo>
                    <a:pt x="488" y="1016"/>
                  </a:lnTo>
                  <a:lnTo>
                    <a:pt x="496" y="1048"/>
                  </a:lnTo>
                  <a:lnTo>
                    <a:pt x="504" y="1072"/>
                  </a:lnTo>
                  <a:lnTo>
                    <a:pt x="520" y="1088"/>
                  </a:lnTo>
                  <a:lnTo>
                    <a:pt x="528" y="1096"/>
                  </a:lnTo>
                  <a:lnTo>
                    <a:pt x="536" y="1096"/>
                  </a:lnTo>
                  <a:lnTo>
                    <a:pt x="552" y="1096"/>
                  </a:lnTo>
                  <a:lnTo>
                    <a:pt x="576" y="1096"/>
                  </a:lnTo>
                  <a:lnTo>
                    <a:pt x="592" y="1096"/>
                  </a:lnTo>
                  <a:lnTo>
                    <a:pt x="608" y="1096"/>
                  </a:lnTo>
                  <a:lnTo>
                    <a:pt x="616" y="1088"/>
                  </a:lnTo>
                  <a:lnTo>
                    <a:pt x="624" y="1072"/>
                  </a:lnTo>
                  <a:lnTo>
                    <a:pt x="632" y="1064"/>
                  </a:lnTo>
                  <a:lnTo>
                    <a:pt x="648" y="1056"/>
                  </a:lnTo>
                  <a:lnTo>
                    <a:pt x="656" y="1040"/>
                  </a:lnTo>
                  <a:lnTo>
                    <a:pt x="672" y="1032"/>
                  </a:lnTo>
                  <a:lnTo>
                    <a:pt x="680" y="1024"/>
                  </a:lnTo>
                  <a:lnTo>
                    <a:pt x="696" y="1016"/>
                  </a:lnTo>
                  <a:lnTo>
                    <a:pt x="704" y="1008"/>
                  </a:lnTo>
                  <a:lnTo>
                    <a:pt x="712" y="1000"/>
                  </a:lnTo>
                  <a:lnTo>
                    <a:pt x="712" y="984"/>
                  </a:lnTo>
                  <a:lnTo>
                    <a:pt x="712" y="960"/>
                  </a:lnTo>
                  <a:lnTo>
                    <a:pt x="704" y="944"/>
                  </a:lnTo>
                  <a:lnTo>
                    <a:pt x="704" y="928"/>
                  </a:lnTo>
                  <a:lnTo>
                    <a:pt x="712" y="928"/>
                  </a:lnTo>
                  <a:lnTo>
                    <a:pt x="720" y="928"/>
                  </a:lnTo>
                  <a:lnTo>
                    <a:pt x="736" y="928"/>
                  </a:lnTo>
                  <a:lnTo>
                    <a:pt x="752" y="928"/>
                  </a:lnTo>
                  <a:lnTo>
                    <a:pt x="752" y="920"/>
                  </a:lnTo>
                  <a:lnTo>
                    <a:pt x="752" y="904"/>
                  </a:lnTo>
                  <a:lnTo>
                    <a:pt x="752" y="888"/>
                  </a:lnTo>
                  <a:lnTo>
                    <a:pt x="752" y="864"/>
                  </a:lnTo>
                  <a:lnTo>
                    <a:pt x="760" y="856"/>
                  </a:lnTo>
                  <a:lnTo>
                    <a:pt x="776" y="840"/>
                  </a:lnTo>
                  <a:lnTo>
                    <a:pt x="792" y="832"/>
                  </a:lnTo>
                  <a:lnTo>
                    <a:pt x="800" y="816"/>
                  </a:lnTo>
                  <a:lnTo>
                    <a:pt x="808" y="792"/>
                  </a:lnTo>
                  <a:lnTo>
                    <a:pt x="808" y="768"/>
                  </a:lnTo>
                  <a:lnTo>
                    <a:pt x="808" y="728"/>
                  </a:lnTo>
                  <a:lnTo>
                    <a:pt x="808" y="704"/>
                  </a:lnTo>
                  <a:lnTo>
                    <a:pt x="800" y="688"/>
                  </a:lnTo>
                  <a:lnTo>
                    <a:pt x="792" y="680"/>
                  </a:lnTo>
                  <a:lnTo>
                    <a:pt x="784" y="672"/>
                  </a:lnTo>
                  <a:lnTo>
                    <a:pt x="776" y="656"/>
                  </a:lnTo>
                  <a:lnTo>
                    <a:pt x="784" y="632"/>
                  </a:lnTo>
                  <a:lnTo>
                    <a:pt x="800" y="616"/>
                  </a:lnTo>
                  <a:lnTo>
                    <a:pt x="816" y="592"/>
                  </a:lnTo>
                  <a:lnTo>
                    <a:pt x="840" y="568"/>
                  </a:lnTo>
                  <a:lnTo>
                    <a:pt x="848" y="552"/>
                  </a:lnTo>
                  <a:lnTo>
                    <a:pt x="864" y="536"/>
                  </a:lnTo>
                  <a:lnTo>
                    <a:pt x="880" y="512"/>
                  </a:lnTo>
                  <a:lnTo>
                    <a:pt x="896" y="480"/>
                  </a:lnTo>
                  <a:lnTo>
                    <a:pt x="912" y="456"/>
                  </a:lnTo>
                  <a:lnTo>
                    <a:pt x="928" y="440"/>
                  </a:lnTo>
                  <a:lnTo>
                    <a:pt x="936" y="424"/>
                  </a:lnTo>
                  <a:lnTo>
                    <a:pt x="936" y="424"/>
                  </a:lnTo>
                  <a:lnTo>
                    <a:pt x="928" y="416"/>
                  </a:lnTo>
                  <a:lnTo>
                    <a:pt x="912" y="416"/>
                  </a:lnTo>
                  <a:lnTo>
                    <a:pt x="896" y="424"/>
                  </a:lnTo>
                  <a:lnTo>
                    <a:pt x="888" y="424"/>
                  </a:lnTo>
                  <a:lnTo>
                    <a:pt x="880" y="416"/>
                  </a:lnTo>
                  <a:lnTo>
                    <a:pt x="864" y="408"/>
                  </a:lnTo>
                  <a:lnTo>
                    <a:pt x="856" y="400"/>
                  </a:lnTo>
                  <a:lnTo>
                    <a:pt x="840" y="392"/>
                  </a:lnTo>
                  <a:lnTo>
                    <a:pt x="824" y="376"/>
                  </a:lnTo>
                  <a:lnTo>
                    <a:pt x="808" y="368"/>
                  </a:lnTo>
                  <a:lnTo>
                    <a:pt x="800" y="352"/>
                  </a:lnTo>
                  <a:lnTo>
                    <a:pt x="784" y="344"/>
                  </a:lnTo>
                  <a:lnTo>
                    <a:pt x="768" y="320"/>
                  </a:lnTo>
                  <a:lnTo>
                    <a:pt x="760" y="296"/>
                  </a:lnTo>
                  <a:lnTo>
                    <a:pt x="744" y="264"/>
                  </a:lnTo>
                  <a:lnTo>
                    <a:pt x="744" y="240"/>
                  </a:lnTo>
                  <a:lnTo>
                    <a:pt x="736" y="208"/>
                  </a:lnTo>
                  <a:lnTo>
                    <a:pt x="736" y="176"/>
                  </a:lnTo>
                  <a:lnTo>
                    <a:pt x="736" y="152"/>
                  </a:lnTo>
                  <a:lnTo>
                    <a:pt x="736" y="144"/>
                  </a:lnTo>
                  <a:lnTo>
                    <a:pt x="728" y="136"/>
                  </a:lnTo>
                  <a:lnTo>
                    <a:pt x="712" y="120"/>
                  </a:lnTo>
                  <a:lnTo>
                    <a:pt x="696" y="112"/>
                  </a:lnTo>
                  <a:lnTo>
                    <a:pt x="680" y="112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305920" y="3781440"/>
              <a:ext cx="233280" cy="144360"/>
            </a:xfrm>
            <a:custGeom>
              <a:avLst/>
              <a:gdLst/>
              <a:ahLst/>
              <a:rect l="l" t="t" r="r" b="b"/>
              <a:pathLst>
                <a:path w="192" h="120">
                  <a:moveTo>
                    <a:pt x="32" y="64"/>
                  </a:moveTo>
                  <a:lnTo>
                    <a:pt x="32" y="64"/>
                  </a:lnTo>
                  <a:lnTo>
                    <a:pt x="48" y="64"/>
                  </a:lnTo>
                  <a:lnTo>
                    <a:pt x="64" y="56"/>
                  </a:lnTo>
                  <a:lnTo>
                    <a:pt x="72" y="48"/>
                  </a:lnTo>
                  <a:lnTo>
                    <a:pt x="80" y="40"/>
                  </a:lnTo>
                  <a:lnTo>
                    <a:pt x="88" y="32"/>
                  </a:lnTo>
                  <a:lnTo>
                    <a:pt x="104" y="24"/>
                  </a:lnTo>
                  <a:lnTo>
                    <a:pt x="112" y="16"/>
                  </a:lnTo>
                  <a:lnTo>
                    <a:pt x="120" y="16"/>
                  </a:lnTo>
                  <a:lnTo>
                    <a:pt x="128" y="16"/>
                  </a:lnTo>
                  <a:lnTo>
                    <a:pt x="144" y="16"/>
                  </a:lnTo>
                  <a:lnTo>
                    <a:pt x="152" y="8"/>
                  </a:lnTo>
                  <a:lnTo>
                    <a:pt x="160" y="8"/>
                  </a:lnTo>
                  <a:lnTo>
                    <a:pt x="168" y="0"/>
                  </a:lnTo>
                  <a:lnTo>
                    <a:pt x="176" y="0"/>
                  </a:lnTo>
                  <a:lnTo>
                    <a:pt x="184" y="8"/>
                  </a:lnTo>
                  <a:lnTo>
                    <a:pt x="192" y="16"/>
                  </a:lnTo>
                  <a:lnTo>
                    <a:pt x="192" y="40"/>
                  </a:lnTo>
                  <a:lnTo>
                    <a:pt x="184" y="56"/>
                  </a:lnTo>
                  <a:lnTo>
                    <a:pt x="168" y="72"/>
                  </a:lnTo>
                  <a:lnTo>
                    <a:pt x="144" y="72"/>
                  </a:lnTo>
                  <a:lnTo>
                    <a:pt x="128" y="72"/>
                  </a:lnTo>
                  <a:lnTo>
                    <a:pt x="112" y="72"/>
                  </a:lnTo>
                  <a:lnTo>
                    <a:pt x="104" y="72"/>
                  </a:lnTo>
                  <a:lnTo>
                    <a:pt x="96" y="80"/>
                  </a:lnTo>
                  <a:lnTo>
                    <a:pt x="88" y="80"/>
                  </a:lnTo>
                  <a:lnTo>
                    <a:pt x="80" y="80"/>
                  </a:lnTo>
                  <a:lnTo>
                    <a:pt x="72" y="88"/>
                  </a:lnTo>
                  <a:lnTo>
                    <a:pt x="72" y="96"/>
                  </a:lnTo>
                  <a:lnTo>
                    <a:pt x="64" y="104"/>
                  </a:lnTo>
                  <a:lnTo>
                    <a:pt x="48" y="120"/>
                  </a:lnTo>
                  <a:lnTo>
                    <a:pt x="32" y="120"/>
                  </a:lnTo>
                  <a:lnTo>
                    <a:pt x="16" y="120"/>
                  </a:lnTo>
                  <a:lnTo>
                    <a:pt x="0" y="104"/>
                  </a:lnTo>
                  <a:lnTo>
                    <a:pt x="0" y="88"/>
                  </a:lnTo>
                  <a:lnTo>
                    <a:pt x="16" y="72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201160" y="3952800"/>
              <a:ext cx="77760" cy="8712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56" y="0"/>
                  </a:moveTo>
                  <a:lnTo>
                    <a:pt x="56" y="0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16" y="16"/>
                  </a:lnTo>
                  <a:lnTo>
                    <a:pt x="8" y="24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24" y="48"/>
                  </a:lnTo>
                  <a:lnTo>
                    <a:pt x="40" y="64"/>
                  </a:lnTo>
                  <a:lnTo>
                    <a:pt x="56" y="72"/>
                  </a:lnTo>
                  <a:lnTo>
                    <a:pt x="64" y="64"/>
                  </a:lnTo>
                  <a:lnTo>
                    <a:pt x="64" y="40"/>
                  </a:lnTo>
                  <a:lnTo>
                    <a:pt x="56" y="24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2ec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107120" y="4309920"/>
              <a:ext cx="190440" cy="239760"/>
            </a:xfrm>
            <a:custGeom>
              <a:avLst/>
              <a:gdLst/>
              <a:ahLst/>
              <a:rect l="l" t="t" r="r" b="b"/>
              <a:pathLst>
                <a:path w="160" h="200">
                  <a:moveTo>
                    <a:pt x="0" y="104"/>
                  </a:moveTo>
                  <a:lnTo>
                    <a:pt x="0" y="104"/>
                  </a:lnTo>
                  <a:lnTo>
                    <a:pt x="0" y="88"/>
                  </a:lnTo>
                  <a:lnTo>
                    <a:pt x="0" y="80"/>
                  </a:lnTo>
                  <a:lnTo>
                    <a:pt x="8" y="80"/>
                  </a:lnTo>
                  <a:lnTo>
                    <a:pt x="16" y="72"/>
                  </a:lnTo>
                  <a:lnTo>
                    <a:pt x="24" y="72"/>
                  </a:lnTo>
                  <a:lnTo>
                    <a:pt x="32" y="64"/>
                  </a:lnTo>
                  <a:lnTo>
                    <a:pt x="40" y="56"/>
                  </a:lnTo>
                  <a:lnTo>
                    <a:pt x="48" y="48"/>
                  </a:lnTo>
                  <a:lnTo>
                    <a:pt x="56" y="40"/>
                  </a:lnTo>
                  <a:lnTo>
                    <a:pt x="64" y="24"/>
                  </a:lnTo>
                  <a:lnTo>
                    <a:pt x="72" y="16"/>
                  </a:lnTo>
                  <a:lnTo>
                    <a:pt x="88" y="8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20" y="0"/>
                  </a:lnTo>
                  <a:lnTo>
                    <a:pt x="136" y="8"/>
                  </a:lnTo>
                  <a:lnTo>
                    <a:pt x="152" y="24"/>
                  </a:lnTo>
                  <a:lnTo>
                    <a:pt x="160" y="48"/>
                  </a:lnTo>
                  <a:lnTo>
                    <a:pt x="160" y="72"/>
                  </a:lnTo>
                  <a:lnTo>
                    <a:pt x="160" y="88"/>
                  </a:lnTo>
                  <a:lnTo>
                    <a:pt x="160" y="104"/>
                  </a:lnTo>
                  <a:lnTo>
                    <a:pt x="160" y="120"/>
                  </a:lnTo>
                  <a:lnTo>
                    <a:pt x="152" y="136"/>
                  </a:lnTo>
                  <a:lnTo>
                    <a:pt x="144" y="152"/>
                  </a:lnTo>
                  <a:lnTo>
                    <a:pt x="144" y="160"/>
                  </a:lnTo>
                  <a:lnTo>
                    <a:pt x="136" y="176"/>
                  </a:lnTo>
                  <a:lnTo>
                    <a:pt x="128" y="184"/>
                  </a:lnTo>
                  <a:lnTo>
                    <a:pt x="120" y="192"/>
                  </a:lnTo>
                  <a:lnTo>
                    <a:pt x="104" y="192"/>
                  </a:lnTo>
                  <a:lnTo>
                    <a:pt x="96" y="200"/>
                  </a:lnTo>
                  <a:lnTo>
                    <a:pt x="88" y="192"/>
                  </a:lnTo>
                  <a:lnTo>
                    <a:pt x="80" y="184"/>
                  </a:lnTo>
                  <a:lnTo>
                    <a:pt x="72" y="160"/>
                  </a:lnTo>
                  <a:lnTo>
                    <a:pt x="72" y="144"/>
                  </a:lnTo>
                  <a:lnTo>
                    <a:pt x="72" y="128"/>
                  </a:lnTo>
                  <a:lnTo>
                    <a:pt x="88" y="120"/>
                  </a:lnTo>
                  <a:lnTo>
                    <a:pt x="104" y="112"/>
                  </a:lnTo>
                  <a:lnTo>
                    <a:pt x="120" y="96"/>
                  </a:lnTo>
                  <a:lnTo>
                    <a:pt x="120" y="72"/>
                  </a:lnTo>
                  <a:lnTo>
                    <a:pt x="112" y="64"/>
                  </a:lnTo>
                  <a:lnTo>
                    <a:pt x="104" y="64"/>
                  </a:lnTo>
                  <a:lnTo>
                    <a:pt x="88" y="64"/>
                  </a:lnTo>
                  <a:lnTo>
                    <a:pt x="80" y="64"/>
                  </a:lnTo>
                  <a:lnTo>
                    <a:pt x="72" y="64"/>
                  </a:lnTo>
                  <a:lnTo>
                    <a:pt x="64" y="64"/>
                  </a:lnTo>
                  <a:lnTo>
                    <a:pt x="56" y="72"/>
                  </a:lnTo>
                  <a:lnTo>
                    <a:pt x="48" y="80"/>
                  </a:lnTo>
                  <a:lnTo>
                    <a:pt x="48" y="88"/>
                  </a:lnTo>
                  <a:lnTo>
                    <a:pt x="40" y="104"/>
                  </a:lnTo>
                  <a:lnTo>
                    <a:pt x="24" y="120"/>
                  </a:lnTo>
                  <a:lnTo>
                    <a:pt x="8" y="12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37d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950320" y="5491080"/>
              <a:ext cx="203040" cy="193680"/>
            </a:xfrm>
            <a:custGeom>
              <a:avLst/>
              <a:gdLst/>
              <a:ahLst/>
              <a:rect l="l" t="t" r="r" b="b"/>
              <a:pathLst>
                <a:path w="168" h="160">
                  <a:moveTo>
                    <a:pt x="0" y="8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16" y="24"/>
                  </a:lnTo>
                  <a:lnTo>
                    <a:pt x="32" y="32"/>
                  </a:lnTo>
                  <a:lnTo>
                    <a:pt x="48" y="48"/>
                  </a:lnTo>
                  <a:lnTo>
                    <a:pt x="56" y="56"/>
                  </a:lnTo>
                  <a:lnTo>
                    <a:pt x="64" y="72"/>
                  </a:lnTo>
                  <a:lnTo>
                    <a:pt x="64" y="80"/>
                  </a:lnTo>
                  <a:lnTo>
                    <a:pt x="72" y="96"/>
                  </a:lnTo>
                  <a:lnTo>
                    <a:pt x="80" y="104"/>
                  </a:lnTo>
                  <a:lnTo>
                    <a:pt x="96" y="120"/>
                  </a:lnTo>
                  <a:lnTo>
                    <a:pt x="104" y="136"/>
                  </a:lnTo>
                  <a:lnTo>
                    <a:pt x="120" y="160"/>
                  </a:lnTo>
                  <a:lnTo>
                    <a:pt x="128" y="160"/>
                  </a:lnTo>
                  <a:lnTo>
                    <a:pt x="144" y="160"/>
                  </a:lnTo>
                  <a:lnTo>
                    <a:pt x="152" y="160"/>
                  </a:lnTo>
                  <a:lnTo>
                    <a:pt x="160" y="152"/>
                  </a:lnTo>
                  <a:lnTo>
                    <a:pt x="168" y="144"/>
                  </a:lnTo>
                  <a:lnTo>
                    <a:pt x="160" y="128"/>
                  </a:lnTo>
                  <a:lnTo>
                    <a:pt x="152" y="120"/>
                  </a:lnTo>
                  <a:lnTo>
                    <a:pt x="144" y="104"/>
                  </a:lnTo>
                  <a:lnTo>
                    <a:pt x="128" y="96"/>
                  </a:lnTo>
                  <a:lnTo>
                    <a:pt x="120" y="88"/>
                  </a:lnTo>
                  <a:lnTo>
                    <a:pt x="112" y="80"/>
                  </a:lnTo>
                  <a:lnTo>
                    <a:pt x="96" y="72"/>
                  </a:lnTo>
                  <a:lnTo>
                    <a:pt x="88" y="64"/>
                  </a:lnTo>
                  <a:lnTo>
                    <a:pt x="80" y="56"/>
                  </a:lnTo>
                  <a:lnTo>
                    <a:pt x="80" y="48"/>
                  </a:lnTo>
                  <a:lnTo>
                    <a:pt x="72" y="40"/>
                  </a:lnTo>
                  <a:lnTo>
                    <a:pt x="64" y="32"/>
                  </a:lnTo>
                  <a:lnTo>
                    <a:pt x="56" y="24"/>
                  </a:lnTo>
                  <a:lnTo>
                    <a:pt x="48" y="16"/>
                  </a:lnTo>
                  <a:lnTo>
                    <a:pt x="40" y="16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8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980480" y="5732280"/>
              <a:ext cx="134640" cy="279360"/>
            </a:xfrm>
            <a:custGeom>
              <a:avLst/>
              <a:gdLst/>
              <a:ahLst/>
              <a:rect l="l" t="t" r="r" b="b"/>
              <a:pathLst>
                <a:path w="112" h="232">
                  <a:moveTo>
                    <a:pt x="72" y="8"/>
                  </a:moveTo>
                  <a:lnTo>
                    <a:pt x="72" y="8"/>
                  </a:lnTo>
                  <a:lnTo>
                    <a:pt x="96" y="0"/>
                  </a:lnTo>
                  <a:lnTo>
                    <a:pt x="104" y="8"/>
                  </a:lnTo>
                  <a:lnTo>
                    <a:pt x="112" y="24"/>
                  </a:lnTo>
                  <a:lnTo>
                    <a:pt x="112" y="40"/>
                  </a:lnTo>
                  <a:lnTo>
                    <a:pt x="104" y="56"/>
                  </a:lnTo>
                  <a:lnTo>
                    <a:pt x="104" y="72"/>
                  </a:lnTo>
                  <a:lnTo>
                    <a:pt x="96" y="96"/>
                  </a:lnTo>
                  <a:lnTo>
                    <a:pt x="96" y="112"/>
                  </a:lnTo>
                  <a:lnTo>
                    <a:pt x="96" y="144"/>
                  </a:lnTo>
                  <a:lnTo>
                    <a:pt x="96" y="168"/>
                  </a:lnTo>
                  <a:lnTo>
                    <a:pt x="88" y="200"/>
                  </a:lnTo>
                  <a:lnTo>
                    <a:pt x="88" y="216"/>
                  </a:lnTo>
                  <a:lnTo>
                    <a:pt x="80" y="216"/>
                  </a:lnTo>
                  <a:lnTo>
                    <a:pt x="80" y="224"/>
                  </a:lnTo>
                  <a:lnTo>
                    <a:pt x="64" y="224"/>
                  </a:lnTo>
                  <a:lnTo>
                    <a:pt x="56" y="232"/>
                  </a:lnTo>
                  <a:lnTo>
                    <a:pt x="48" y="232"/>
                  </a:lnTo>
                  <a:lnTo>
                    <a:pt x="32" y="224"/>
                  </a:lnTo>
                  <a:lnTo>
                    <a:pt x="24" y="216"/>
                  </a:lnTo>
                  <a:lnTo>
                    <a:pt x="16" y="208"/>
                  </a:lnTo>
                  <a:lnTo>
                    <a:pt x="8" y="184"/>
                  </a:lnTo>
                  <a:lnTo>
                    <a:pt x="0" y="160"/>
                  </a:lnTo>
                  <a:lnTo>
                    <a:pt x="0" y="136"/>
                  </a:lnTo>
                  <a:lnTo>
                    <a:pt x="0" y="120"/>
                  </a:lnTo>
                  <a:lnTo>
                    <a:pt x="8" y="104"/>
                  </a:lnTo>
                  <a:lnTo>
                    <a:pt x="16" y="88"/>
                  </a:lnTo>
                  <a:lnTo>
                    <a:pt x="32" y="80"/>
                  </a:lnTo>
                  <a:lnTo>
                    <a:pt x="48" y="72"/>
                  </a:lnTo>
                  <a:lnTo>
                    <a:pt x="56" y="64"/>
                  </a:lnTo>
                  <a:lnTo>
                    <a:pt x="56" y="40"/>
                  </a:lnTo>
                  <a:lnTo>
                    <a:pt x="64" y="24"/>
                  </a:lnTo>
                  <a:lnTo>
                    <a:pt x="72" y="8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648200" y="6256080"/>
              <a:ext cx="907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uth Afr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013360" y="5275080"/>
              <a:ext cx="51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486120" y="4025880"/>
              <a:ext cx="60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elgi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723720" y="378612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Denma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028360" y="4002120"/>
              <a:ext cx="54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inl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023240" y="3612960"/>
              <a:ext cx="55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or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279520" y="4841640"/>
              <a:ext cx="43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d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888320" y="4154400"/>
              <a:ext cx="50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l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397720" y="4265640"/>
              <a:ext cx="50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uss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858800" y="4736880"/>
              <a:ext cx="84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witzerl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916400" y="4987800"/>
              <a:ext cx="40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sra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1" name=""/>
            <p:cNvGrpSpPr/>
            <p:nvPr/>
          </p:nvGrpSpPr>
          <p:grpSpPr>
            <a:xfrm>
              <a:off x="7020000" y="4136760"/>
              <a:ext cx="258480" cy="230040"/>
              <a:chOff x="7020000" y="4136760"/>
              <a:chExt cx="258480" cy="230040"/>
            </a:xfrm>
          </p:grpSpPr>
          <p:sp>
            <p:nvSpPr>
              <p:cNvPr id="1472" name=""/>
              <p:cNvSpPr/>
              <p:nvPr/>
            </p:nvSpPr>
            <p:spPr>
              <a:xfrm>
                <a:off x="7182720" y="4280400"/>
                <a:ext cx="95760" cy="8640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24" y="24"/>
                    </a:moveTo>
                    <a:lnTo>
                      <a:pt x="24" y="24"/>
                    </a:lnTo>
                    <a:lnTo>
                      <a:pt x="40" y="0"/>
                    </a:lnTo>
                    <a:lnTo>
                      <a:pt x="80" y="72"/>
                    </a:lnTo>
                    <a:lnTo>
                      <a:pt x="0" y="48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020000" y="4136760"/>
                <a:ext cx="191520" cy="172440"/>
              </a:xfrm>
              <a:custGeom>
                <a:avLst/>
                <a:gdLst/>
                <a:ahLst/>
                <a:rect l="l" t="t" r="r" b="b"/>
                <a:pathLst>
                  <a:path w="160" h="144">
                    <a:moveTo>
                      <a:pt x="160" y="144"/>
                    </a:moveTo>
                    <a:lnTo>
                      <a:pt x="160" y="14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020000" y="4136760"/>
                <a:ext cx="191520" cy="172440"/>
              </a:xfrm>
              <a:custGeom>
                <a:avLst/>
                <a:gdLst/>
                <a:ahLst/>
                <a:rect l="l" t="t" r="r" b="b"/>
                <a:pathLst>
                  <a:path w="160" h="144">
                    <a:moveTo>
                      <a:pt x="160" y="144"/>
                    </a:moveTo>
                    <a:lnTo>
                      <a:pt x="160" y="144"/>
                    </a:lnTo>
                    <a:lnTo>
                      <a:pt x="0" y="0"/>
                    </a:lnTo>
                  </a:path>
                </a:pathLst>
              </a:custGeom>
              <a:noFill/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5" name=""/>
            <p:cNvGrpSpPr/>
            <p:nvPr/>
          </p:nvGrpSpPr>
          <p:grpSpPr>
            <a:xfrm>
              <a:off x="7691400" y="4626000"/>
              <a:ext cx="144000" cy="96840"/>
              <a:chOff x="7691400" y="4626000"/>
              <a:chExt cx="144000" cy="96840"/>
            </a:xfrm>
          </p:grpSpPr>
          <p:sp>
            <p:nvSpPr>
              <p:cNvPr id="1476" name=""/>
              <p:cNvSpPr/>
              <p:nvPr/>
            </p:nvSpPr>
            <p:spPr>
              <a:xfrm>
                <a:off x="7691400" y="4626000"/>
                <a:ext cx="105840" cy="87120"/>
              </a:xfrm>
              <a:custGeom>
                <a:avLst/>
                <a:gdLst/>
                <a:ahLst/>
                <a:rect l="l" t="t" r="r" b="b"/>
                <a:pathLst>
                  <a:path w="88" h="72">
                    <a:moveTo>
                      <a:pt x="72" y="40"/>
                    </a:moveTo>
                    <a:lnTo>
                      <a:pt x="72" y="40"/>
                    </a:lnTo>
                    <a:lnTo>
                      <a:pt x="48" y="72"/>
                    </a:lnTo>
                    <a:lnTo>
                      <a:pt x="0" y="0"/>
                    </a:lnTo>
                    <a:lnTo>
                      <a:pt x="88" y="16"/>
                    </a:lnTo>
                    <a:lnTo>
                      <a:pt x="72" y="4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7768080" y="4674240"/>
                <a:ext cx="67320" cy="48600"/>
              </a:xfrm>
              <a:custGeom>
                <a:avLst/>
                <a:gdLst/>
                <a:ahLst/>
                <a:rect l="l" t="t" r="r" b="b"/>
                <a:pathLst>
                  <a:path w="56" h="40">
                    <a:moveTo>
                      <a:pt x="56" y="40"/>
                    </a:moveTo>
                    <a:lnTo>
                      <a:pt x="56" y="4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7768080" y="4674240"/>
                <a:ext cx="67320" cy="48600"/>
              </a:xfrm>
              <a:custGeom>
                <a:avLst/>
                <a:gdLst/>
                <a:ahLst/>
                <a:rect l="l" t="t" r="r" b="b"/>
                <a:pathLst>
                  <a:path w="56" h="40">
                    <a:moveTo>
                      <a:pt x="56" y="40"/>
                    </a:moveTo>
                    <a:lnTo>
                      <a:pt x="56" y="40"/>
                    </a:lnTo>
                    <a:lnTo>
                      <a:pt x="0" y="0"/>
                    </a:lnTo>
                  </a:path>
                </a:pathLst>
              </a:custGeom>
              <a:noFill/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7183440" y="3962160"/>
              <a:ext cx="239400" cy="279000"/>
              <a:chOff x="7183440" y="3962160"/>
              <a:chExt cx="239400" cy="279000"/>
            </a:xfrm>
          </p:grpSpPr>
          <p:sp>
            <p:nvSpPr>
              <p:cNvPr id="1480" name=""/>
              <p:cNvSpPr/>
              <p:nvPr/>
            </p:nvSpPr>
            <p:spPr>
              <a:xfrm>
                <a:off x="7336800" y="4145040"/>
                <a:ext cx="86040" cy="96120"/>
              </a:xfrm>
              <a:custGeom>
                <a:avLst/>
                <a:gdLst/>
                <a:ahLst/>
                <a:rect l="l" t="t" r="r" b="b"/>
                <a:pathLst>
                  <a:path w="72" h="80">
                    <a:moveTo>
                      <a:pt x="24" y="16"/>
                    </a:moveTo>
                    <a:lnTo>
                      <a:pt x="24" y="16"/>
                    </a:lnTo>
                    <a:lnTo>
                      <a:pt x="48" y="0"/>
                    </a:lnTo>
                    <a:lnTo>
                      <a:pt x="72" y="80"/>
                    </a:lnTo>
                    <a:lnTo>
                      <a:pt x="0" y="40"/>
                    </a:lnTo>
                    <a:lnTo>
                      <a:pt x="24" y="16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183440" y="3962160"/>
                <a:ext cx="182160" cy="211680"/>
              </a:xfrm>
              <a:custGeom>
                <a:avLst/>
                <a:gdLst/>
                <a:ahLst/>
                <a:rect l="l" t="t" r="r" b="b"/>
                <a:pathLst>
                  <a:path w="152" h="176">
                    <a:moveTo>
                      <a:pt x="152" y="176"/>
                    </a:moveTo>
                    <a:lnTo>
                      <a:pt x="152" y="176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183440" y="3962160"/>
                <a:ext cx="182160" cy="211680"/>
              </a:xfrm>
              <a:custGeom>
                <a:avLst/>
                <a:gdLst/>
                <a:ahLst/>
                <a:rect l="l" t="t" r="r" b="b"/>
                <a:pathLst>
                  <a:path w="152" h="176">
                    <a:moveTo>
                      <a:pt x="152" y="176"/>
                    </a:moveTo>
                    <a:lnTo>
                      <a:pt x="152" y="176"/>
                    </a:lnTo>
                    <a:lnTo>
                      <a:pt x="0" y="0"/>
                    </a:lnTo>
                  </a:path>
                </a:pathLst>
              </a:custGeom>
              <a:noFill/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3" name=""/>
            <p:cNvGrpSpPr/>
            <p:nvPr/>
          </p:nvGrpSpPr>
          <p:grpSpPr>
            <a:xfrm>
              <a:off x="7316640" y="3741480"/>
              <a:ext cx="106200" cy="231480"/>
              <a:chOff x="7316640" y="3741480"/>
              <a:chExt cx="106200" cy="231480"/>
            </a:xfrm>
          </p:grpSpPr>
          <p:sp>
            <p:nvSpPr>
              <p:cNvPr id="1484" name=""/>
              <p:cNvSpPr/>
              <p:nvPr/>
            </p:nvSpPr>
            <p:spPr>
              <a:xfrm>
                <a:off x="7345440" y="3866760"/>
                <a:ext cx="77400" cy="106200"/>
              </a:xfrm>
              <a:custGeom>
                <a:avLst/>
                <a:gdLst/>
                <a:ahLst/>
                <a:rect l="l" t="t" r="r" b="b"/>
                <a:pathLst>
                  <a:path w="64" h="88">
                    <a:moveTo>
                      <a:pt x="32" y="8"/>
                    </a:moveTo>
                    <a:lnTo>
                      <a:pt x="32" y="8"/>
                    </a:lnTo>
                    <a:lnTo>
                      <a:pt x="56" y="0"/>
                    </a:lnTo>
                    <a:lnTo>
                      <a:pt x="64" y="88"/>
                    </a:lnTo>
                    <a:lnTo>
                      <a:pt x="0" y="24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316640" y="3741480"/>
                <a:ext cx="67680" cy="144720"/>
              </a:xfrm>
              <a:custGeom>
                <a:avLst/>
                <a:gdLst/>
                <a:ahLst/>
                <a:rect l="l" t="t" r="r" b="b"/>
                <a:pathLst>
                  <a:path w="56" h="120">
                    <a:moveTo>
                      <a:pt x="56" y="120"/>
                    </a:moveTo>
                    <a:lnTo>
                      <a:pt x="56" y="12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316640" y="3741480"/>
                <a:ext cx="67680" cy="144720"/>
              </a:xfrm>
              <a:custGeom>
                <a:avLst/>
                <a:gdLst/>
                <a:ahLst/>
                <a:rect l="l" t="t" r="r" b="b"/>
                <a:pathLst>
                  <a:path w="56" h="120">
                    <a:moveTo>
                      <a:pt x="56" y="120"/>
                    </a:moveTo>
                    <a:lnTo>
                      <a:pt x="56" y="120"/>
                    </a:lnTo>
                    <a:lnTo>
                      <a:pt x="0" y="0"/>
                    </a:lnTo>
                  </a:path>
                </a:pathLst>
              </a:custGeom>
              <a:noFill/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7" name=""/>
            <p:cNvSpPr/>
            <p:nvPr/>
          </p:nvSpPr>
          <p:spPr>
            <a:xfrm>
              <a:off x="6145200" y="6148440"/>
              <a:ext cx="103320" cy="1029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228400" y="555444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5c00"/>
                  </a:solidFill>
                  <a:latin typeface="Arial"/>
                </a:rPr>
                <a:t>Singap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427560" y="45734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5c00"/>
                  </a:solidFill>
                  <a:latin typeface="Arial"/>
                </a:rPr>
                <a:t>Jap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0" name=""/>
            <p:cNvGrpSpPr/>
            <p:nvPr/>
          </p:nvGrpSpPr>
          <p:grpSpPr>
            <a:xfrm>
              <a:off x="3146400" y="5103720"/>
              <a:ext cx="585000" cy="182880"/>
              <a:chOff x="3146400" y="5103720"/>
              <a:chExt cx="585000" cy="182880"/>
            </a:xfrm>
          </p:grpSpPr>
          <p:sp>
            <p:nvSpPr>
              <p:cNvPr id="1491" name=""/>
              <p:cNvSpPr/>
              <p:nvPr/>
            </p:nvSpPr>
            <p:spPr>
              <a:xfrm>
                <a:off x="3146400" y="510372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212640" y="5103720"/>
                <a:ext cx="518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5c00"/>
                    </a:solidFill>
                    <a:latin typeface="Arial"/>
                  </a:rPr>
                  <a:t>Taiwa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3" name=""/>
            <p:cNvSpPr/>
            <p:nvPr/>
          </p:nvSpPr>
          <p:spPr>
            <a:xfrm>
              <a:off x="6768720" y="429732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5c00"/>
                  </a:solidFill>
                  <a:latin typeface="Arial"/>
                </a:rPr>
                <a:t>U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162240" y="4929120"/>
              <a:ext cx="82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5c00"/>
                  </a:solidFill>
                  <a:latin typeface="Arial"/>
                </a:rPr>
                <a:t>Hong Ko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444720" y="468936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5c00"/>
                  </a:solidFill>
                  <a:latin typeface="Arial"/>
                </a:rPr>
                <a:t>Sp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109280" y="51307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5c00"/>
                  </a:solidFill>
                  <a:latin typeface="Arial"/>
                </a:rPr>
                <a:t>Ita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443280" y="4459320"/>
              <a:ext cx="50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5c00"/>
                  </a:solidFill>
                  <a:latin typeface="Arial"/>
                </a:rPr>
                <a:t>Fr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11520" y="3902040"/>
              <a:ext cx="88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5c00"/>
                  </a:solidFill>
                  <a:latin typeface="Arial"/>
                </a:rPr>
                <a:t>Netherla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447720" y="574668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5c00"/>
                  </a:solidFill>
                  <a:latin typeface="Arial"/>
                </a:rPr>
                <a:t>Austral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035040" y="5957640"/>
              <a:ext cx="71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5c00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726080" y="4208400"/>
              <a:ext cx="55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5c00"/>
                  </a:solidFill>
                  <a:latin typeface="Arial"/>
                </a:rPr>
                <a:t>Cana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447880" y="4717800"/>
              <a:ext cx="21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5c00"/>
                  </a:solidFill>
                  <a:latin typeface="Arial"/>
                </a:rPr>
                <a:t>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022240" y="457668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5c00"/>
                  </a:solidFill>
                  <a:latin typeface="Arial"/>
                </a:rPr>
                <a:t>German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4" name=""/>
            <p:cNvGrpSpPr/>
            <p:nvPr/>
          </p:nvGrpSpPr>
          <p:grpSpPr>
            <a:xfrm>
              <a:off x="7077240" y="4011480"/>
              <a:ext cx="286920" cy="317160"/>
              <a:chOff x="7077240" y="4011480"/>
              <a:chExt cx="286920" cy="317160"/>
            </a:xfrm>
          </p:grpSpPr>
          <p:sp>
            <p:nvSpPr>
              <p:cNvPr id="1505" name=""/>
              <p:cNvSpPr/>
              <p:nvPr/>
            </p:nvSpPr>
            <p:spPr>
              <a:xfrm>
                <a:off x="7278120" y="4232880"/>
                <a:ext cx="86040" cy="95760"/>
              </a:xfrm>
              <a:custGeom>
                <a:avLst/>
                <a:gdLst/>
                <a:ahLst/>
                <a:rect l="l" t="t" r="r" b="b"/>
                <a:pathLst>
                  <a:path w="72" h="80">
                    <a:moveTo>
                      <a:pt x="24" y="24"/>
                    </a:moveTo>
                    <a:lnTo>
                      <a:pt x="24" y="24"/>
                    </a:lnTo>
                    <a:lnTo>
                      <a:pt x="40" y="0"/>
                    </a:lnTo>
                    <a:lnTo>
                      <a:pt x="72" y="80"/>
                    </a:lnTo>
                    <a:lnTo>
                      <a:pt x="0" y="40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ff5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077240" y="4011480"/>
                <a:ext cx="229680" cy="250200"/>
              </a:xfrm>
              <a:custGeom>
                <a:avLst/>
                <a:gdLst/>
                <a:ahLst/>
                <a:rect l="l" t="t" r="r" b="b"/>
                <a:pathLst>
                  <a:path w="192" h="208">
                    <a:moveTo>
                      <a:pt x="0" y="0"/>
                    </a:moveTo>
                    <a:lnTo>
                      <a:pt x="0" y="0"/>
                    </a:lnTo>
                    <a:lnTo>
                      <a:pt x="192" y="208"/>
                    </a:lnTo>
                    <a:lnTo>
                      <a:pt x="192" y="208"/>
                    </a:lnTo>
                  </a:path>
                </a:pathLst>
              </a:custGeom>
              <a:noFill/>
              <a:ln w="25560">
                <a:solidFill>
                  <a:srgbClr val="ff5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7077240" y="4011480"/>
                <a:ext cx="229680" cy="250200"/>
              </a:xfrm>
              <a:custGeom>
                <a:avLst/>
                <a:gdLst/>
                <a:ahLst/>
                <a:rect l="l" t="t" r="r" b="b"/>
                <a:pathLst>
                  <a:path w="192" h="208">
                    <a:moveTo>
                      <a:pt x="0" y="0"/>
                    </a:moveTo>
                    <a:lnTo>
                      <a:pt x="0" y="0"/>
                    </a:lnTo>
                    <a:lnTo>
                      <a:pt x="192" y="208"/>
                    </a:lnTo>
                  </a:path>
                </a:pathLst>
              </a:custGeom>
              <a:noFill/>
              <a:ln w="25560">
                <a:solidFill>
                  <a:srgbClr val="ff5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8" name=""/>
            <p:cNvGrpSpPr/>
            <p:nvPr/>
          </p:nvGrpSpPr>
          <p:grpSpPr>
            <a:xfrm>
              <a:off x="7827840" y="4559040"/>
              <a:ext cx="171360" cy="87120"/>
              <a:chOff x="7827840" y="4559040"/>
              <a:chExt cx="171360" cy="87120"/>
            </a:xfrm>
          </p:grpSpPr>
          <p:sp>
            <p:nvSpPr>
              <p:cNvPr id="1509" name=""/>
              <p:cNvSpPr/>
              <p:nvPr/>
            </p:nvSpPr>
            <p:spPr>
              <a:xfrm>
                <a:off x="7827840" y="4559040"/>
                <a:ext cx="95400" cy="77400"/>
              </a:xfrm>
              <a:custGeom>
                <a:avLst/>
                <a:gdLst/>
                <a:ahLst/>
                <a:rect l="l" t="t" r="r" b="b"/>
                <a:pathLst>
                  <a:path w="80" h="64">
                    <a:moveTo>
                      <a:pt x="72" y="32"/>
                    </a:moveTo>
                    <a:lnTo>
                      <a:pt x="72" y="32"/>
                    </a:lnTo>
                    <a:lnTo>
                      <a:pt x="56" y="64"/>
                    </a:lnTo>
                    <a:lnTo>
                      <a:pt x="0" y="0"/>
                    </a:lnTo>
                    <a:lnTo>
                      <a:pt x="80" y="8"/>
                    </a:lnTo>
                    <a:lnTo>
                      <a:pt x="72" y="32"/>
                    </a:lnTo>
                    <a:close/>
                  </a:path>
                </a:pathLst>
              </a:custGeom>
              <a:solidFill>
                <a:srgbClr val="ff5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903800" y="4597560"/>
                <a:ext cx="95400" cy="48600"/>
              </a:xfrm>
              <a:custGeom>
                <a:avLst/>
                <a:gdLst/>
                <a:ahLst/>
                <a:rect l="l" t="t" r="r" b="b"/>
                <a:pathLst>
                  <a:path w="80" h="40">
                    <a:moveTo>
                      <a:pt x="80" y="40"/>
                    </a:moveTo>
                    <a:lnTo>
                      <a:pt x="80" y="4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25560">
                <a:solidFill>
                  <a:srgbClr val="ff5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903800" y="4597560"/>
                <a:ext cx="95400" cy="48600"/>
              </a:xfrm>
              <a:custGeom>
                <a:avLst/>
                <a:gdLst/>
                <a:ahLst/>
                <a:rect l="l" t="t" r="r" b="b"/>
                <a:pathLst>
                  <a:path w="80" h="40">
                    <a:moveTo>
                      <a:pt x="80" y="40"/>
                    </a:moveTo>
                    <a:lnTo>
                      <a:pt x="80" y="40"/>
                    </a:lnTo>
                    <a:lnTo>
                      <a:pt x="0" y="0"/>
                    </a:lnTo>
                  </a:path>
                </a:pathLst>
              </a:custGeom>
              <a:noFill/>
              <a:ln w="25560">
                <a:solidFill>
                  <a:srgbClr val="ff5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7316640" y="4914720"/>
              <a:ext cx="183960" cy="201240"/>
              <a:chOff x="7316640" y="4914720"/>
              <a:chExt cx="183960" cy="201240"/>
            </a:xfrm>
          </p:grpSpPr>
          <p:sp>
            <p:nvSpPr>
              <p:cNvPr id="1513" name=""/>
              <p:cNvSpPr/>
              <p:nvPr/>
            </p:nvSpPr>
            <p:spPr>
              <a:xfrm>
                <a:off x="7413480" y="4914720"/>
                <a:ext cx="87120" cy="95760"/>
              </a:xfrm>
              <a:custGeom>
                <a:avLst/>
                <a:gdLst/>
                <a:ahLst/>
                <a:rect l="l" t="t" r="r" b="b"/>
                <a:pathLst>
                  <a:path w="72" h="80">
                    <a:moveTo>
                      <a:pt x="24" y="56"/>
                    </a:moveTo>
                    <a:lnTo>
                      <a:pt x="24" y="56"/>
                    </a:lnTo>
                    <a:lnTo>
                      <a:pt x="0" y="40"/>
                    </a:lnTo>
                    <a:lnTo>
                      <a:pt x="72" y="0"/>
                    </a:lnTo>
                    <a:lnTo>
                      <a:pt x="40" y="80"/>
                    </a:lnTo>
                    <a:lnTo>
                      <a:pt x="24" y="56"/>
                    </a:lnTo>
                    <a:close/>
                  </a:path>
                </a:pathLst>
              </a:custGeom>
              <a:solidFill>
                <a:srgbClr val="ff5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316640" y="4981680"/>
                <a:ext cx="126000" cy="134280"/>
              </a:xfrm>
              <a:custGeom>
                <a:avLst/>
                <a:gdLst/>
                <a:ahLst/>
                <a:rect l="l" t="t" r="r" b="b"/>
                <a:pathLst>
                  <a:path w="104" h="112">
                    <a:moveTo>
                      <a:pt x="0" y="112"/>
                    </a:moveTo>
                    <a:lnTo>
                      <a:pt x="0" y="112"/>
                    </a:lnTo>
                    <a:lnTo>
                      <a:pt x="104" y="0"/>
                    </a:lnTo>
                    <a:lnTo>
                      <a:pt x="104" y="0"/>
                    </a:lnTo>
                  </a:path>
                </a:pathLst>
              </a:custGeom>
              <a:noFill/>
              <a:ln w="25560">
                <a:solidFill>
                  <a:srgbClr val="ff5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316640" y="4981680"/>
                <a:ext cx="126000" cy="134280"/>
              </a:xfrm>
              <a:custGeom>
                <a:avLst/>
                <a:gdLst/>
                <a:ahLst/>
                <a:rect l="l" t="t" r="r" b="b"/>
                <a:pathLst>
                  <a:path w="104" h="112">
                    <a:moveTo>
                      <a:pt x="0" y="112"/>
                    </a:moveTo>
                    <a:lnTo>
                      <a:pt x="0" y="112"/>
                    </a:lnTo>
                    <a:lnTo>
                      <a:pt x="104" y="0"/>
                    </a:lnTo>
                  </a:path>
                </a:pathLst>
              </a:custGeom>
              <a:noFill/>
              <a:ln w="25560">
                <a:solidFill>
                  <a:srgbClr val="ff5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6" name=""/>
            <p:cNvGrpSpPr/>
            <p:nvPr/>
          </p:nvGrpSpPr>
          <p:grpSpPr>
            <a:xfrm>
              <a:off x="6873840" y="4521240"/>
              <a:ext cx="366840" cy="104400"/>
              <a:chOff x="6873840" y="4521240"/>
              <a:chExt cx="366840" cy="104400"/>
            </a:xfrm>
          </p:grpSpPr>
          <p:sp>
            <p:nvSpPr>
              <p:cNvPr id="1517" name=""/>
              <p:cNvSpPr/>
              <p:nvPr/>
            </p:nvSpPr>
            <p:spPr>
              <a:xfrm>
                <a:off x="7134480" y="4549680"/>
                <a:ext cx="106200" cy="75960"/>
              </a:xfrm>
              <a:custGeom>
                <a:avLst/>
                <a:gdLst/>
                <a:ahLst/>
                <a:rect l="l" t="t" r="r" b="b"/>
                <a:pathLst>
                  <a:path w="88" h="64">
                    <a:moveTo>
                      <a:pt x="8" y="32"/>
                    </a:moveTo>
                    <a:lnTo>
                      <a:pt x="8" y="32"/>
                    </a:lnTo>
                    <a:lnTo>
                      <a:pt x="16" y="0"/>
                    </a:lnTo>
                    <a:lnTo>
                      <a:pt x="88" y="48"/>
                    </a:lnTo>
                    <a:lnTo>
                      <a:pt x="0" y="64"/>
                    </a:lnTo>
                    <a:lnTo>
                      <a:pt x="8" y="32"/>
                    </a:lnTo>
                    <a:close/>
                  </a:path>
                </a:pathLst>
              </a:custGeom>
              <a:solidFill>
                <a:srgbClr val="ff5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873840" y="4521240"/>
                <a:ext cx="280080" cy="66600"/>
              </a:xfrm>
              <a:custGeom>
                <a:avLst/>
                <a:gdLst/>
                <a:ahLst/>
                <a:rect l="l" t="t" r="r" b="b"/>
                <a:pathLst>
                  <a:path w="232" h="56">
                    <a:moveTo>
                      <a:pt x="0" y="0"/>
                    </a:moveTo>
                    <a:lnTo>
                      <a:pt x="0" y="0"/>
                    </a:lnTo>
                    <a:lnTo>
                      <a:pt x="232" y="56"/>
                    </a:lnTo>
                    <a:lnTo>
                      <a:pt x="232" y="56"/>
                    </a:lnTo>
                  </a:path>
                </a:pathLst>
              </a:custGeom>
              <a:noFill/>
              <a:ln w="25560">
                <a:solidFill>
                  <a:srgbClr val="ff5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873840" y="4521240"/>
                <a:ext cx="280080" cy="66600"/>
              </a:xfrm>
              <a:custGeom>
                <a:avLst/>
                <a:gdLst/>
                <a:ahLst/>
                <a:rect l="l" t="t" r="r" b="b"/>
                <a:pathLst>
                  <a:path w="232" h="56">
                    <a:moveTo>
                      <a:pt x="0" y="0"/>
                    </a:moveTo>
                    <a:lnTo>
                      <a:pt x="0" y="0"/>
                    </a:lnTo>
                    <a:lnTo>
                      <a:pt x="232" y="56"/>
                    </a:lnTo>
                  </a:path>
                </a:pathLst>
              </a:custGeom>
              <a:noFill/>
              <a:ln w="25560">
                <a:solidFill>
                  <a:srgbClr val="ff5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0" name=""/>
            <p:cNvGrpSpPr/>
            <p:nvPr/>
          </p:nvGrpSpPr>
          <p:grpSpPr>
            <a:xfrm>
              <a:off x="6797520" y="4722840"/>
              <a:ext cx="279360" cy="77760"/>
              <a:chOff x="6797520" y="4722840"/>
              <a:chExt cx="279360" cy="77760"/>
            </a:xfrm>
          </p:grpSpPr>
          <p:sp>
            <p:nvSpPr>
              <p:cNvPr id="1521" name=""/>
              <p:cNvSpPr/>
              <p:nvPr/>
            </p:nvSpPr>
            <p:spPr>
              <a:xfrm>
                <a:off x="6980760" y="4722840"/>
                <a:ext cx="96120" cy="77760"/>
              </a:xfrm>
              <a:custGeom>
                <a:avLst/>
                <a:gdLst/>
                <a:ahLst/>
                <a:rect l="l" t="t" r="r" b="b"/>
                <a:pathLst>
                  <a:path w="80" h="64">
                    <a:moveTo>
                      <a:pt x="0" y="32"/>
                    </a:moveTo>
                    <a:lnTo>
                      <a:pt x="0" y="32"/>
                    </a:lnTo>
                    <a:lnTo>
                      <a:pt x="0" y="0"/>
                    </a:lnTo>
                    <a:lnTo>
                      <a:pt x="80" y="32"/>
                    </a:lnTo>
                    <a:lnTo>
                      <a:pt x="0" y="6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5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797520" y="4761720"/>
                <a:ext cx="192960" cy="360"/>
              </a:xfrm>
              <a:prstGeom prst="rect">
                <a:avLst/>
              </a:prstGeom>
              <a:noFill/>
              <a:ln w="25560">
                <a:solidFill>
                  <a:srgbClr val="ff5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797520" y="4761720"/>
                <a:ext cx="192960" cy="1080"/>
              </a:xfrm>
              <a:custGeom>
                <a:avLst/>
                <a:gdLst/>
                <a:ahLst/>
                <a:rect l="l" t="t" r="r" b="b"/>
                <a:pathLst>
                  <a:path w="160" h="0">
                    <a:moveTo>
                      <a:pt x="0" y="0"/>
                    </a:moveTo>
                    <a:lnTo>
                      <a:pt x="0" y="0"/>
                    </a:lnTo>
                    <a:lnTo>
                      <a:pt x="160" y="0"/>
                    </a:lnTo>
                  </a:path>
                </a:pathLst>
              </a:custGeom>
              <a:noFill/>
              <a:ln w="25560">
                <a:solidFill>
                  <a:srgbClr val="ff5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4" name=""/>
            <p:cNvSpPr/>
            <p:nvPr/>
          </p:nvSpPr>
          <p:spPr>
            <a:xfrm>
              <a:off x="2593440" y="4362480"/>
              <a:ext cx="907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5c00"/>
                  </a:solidFill>
                  <a:latin typeface="Arial"/>
                </a:rPr>
                <a:t>South Kor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899320" y="5294160"/>
              <a:ext cx="695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5c00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561720" y="569736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5c00"/>
                  </a:solidFill>
                  <a:latin typeface="Arial"/>
                </a:rPr>
                <a:t>Braz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484400" y="374796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5c00"/>
                  </a:solidFill>
                  <a:latin typeface="Arial"/>
                </a:rPr>
                <a:t>Swed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450880" y="466092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5c00"/>
                  </a:solidFill>
                  <a:latin typeface="Arial"/>
                </a:rPr>
                <a:t>Chi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337440" y="5732280"/>
              <a:ext cx="102960" cy="10332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875200" y="5443560"/>
              <a:ext cx="103320" cy="1029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875200" y="4751280"/>
              <a:ext cx="103320" cy="10332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126040" y="4809960"/>
              <a:ext cx="103320" cy="10332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138640" y="4416480"/>
              <a:ext cx="103320" cy="1047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568680" y="5962680"/>
              <a:ext cx="104760" cy="1029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705040" y="5443560"/>
              <a:ext cx="103320" cy="1029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992320" y="5110200"/>
              <a:ext cx="103320" cy="1029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992320" y="4924440"/>
              <a:ext cx="103320" cy="1029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454560" y="4751280"/>
              <a:ext cx="102960" cy="10332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762280" y="4867200"/>
              <a:ext cx="103320" cy="10332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165480" y="4521240"/>
              <a:ext cx="103320" cy="1029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357280" y="5040360"/>
              <a:ext cx="104760" cy="1029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415120" y="5110200"/>
              <a:ext cx="102960" cy="1029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7605720" y="6078600"/>
              <a:ext cx="103320" cy="1029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7778880" y="4924440"/>
              <a:ext cx="102960" cy="1029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548480" y="4751280"/>
              <a:ext cx="103320" cy="10332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086600" y="4694040"/>
              <a:ext cx="103320" cy="10332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259760" y="4579920"/>
              <a:ext cx="102960" cy="1029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7040520" y="4346640"/>
              <a:ext cx="103320" cy="1047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432560" y="4405320"/>
              <a:ext cx="103320" cy="1047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721640" y="4462200"/>
              <a:ext cx="103320" cy="1047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605720" y="3943080"/>
              <a:ext cx="103320" cy="10332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778880" y="4002120"/>
              <a:ext cx="102960" cy="1029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894800" y="4346640"/>
              <a:ext cx="102960" cy="1047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238960" y="4405320"/>
              <a:ext cx="103320" cy="1047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548480" y="4579920"/>
              <a:ext cx="103320" cy="1029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259760" y="4405320"/>
              <a:ext cx="102960" cy="1047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432560" y="4232160"/>
              <a:ext cx="103320" cy="10332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432560" y="4002120"/>
              <a:ext cx="103320" cy="102960"/>
            </a:xfrm>
            <a:prstGeom prst="rect">
              <a:avLst/>
            </a:prstGeom>
            <a:solidFill>
              <a:srgbClr val="000000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50400" y="1545840"/>
            <a:ext cx="909324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dero Intelligent Nodes deployed with Traffic Server and Content Delivery Suit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elligent network infrastructure supports content distribution, distributed application, and e-commerce servic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ktomi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Network Produ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3733560"/>
            <a:ext cx="3886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ffic Ser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228600">
              <a:lnSpc>
                <a:spcPct val="90000"/>
              </a:lnSpc>
              <a:spcAft>
                <a:spcPts val="75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performance, scalable network cac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228600">
              <a:lnSpc>
                <a:spcPct val="90000"/>
              </a:lnSpc>
              <a:spcAft>
                <a:spcPts val="75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-Class - for service provi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-228600">
              <a:lnSpc>
                <a:spcPct val="90000"/>
              </a:lnSpc>
              <a:spcAft>
                <a:spcPts val="75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-Class - for enterprise deploy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444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3733920"/>
            <a:ext cx="40384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1360" indent="-17136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ent Delivery 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228600">
              <a:lnSpc>
                <a:spcPct val="90000"/>
              </a:lnSpc>
              <a:spcAft>
                <a:spcPts val="75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ent Distributor - proactive push of content an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228600">
              <a:lnSpc>
                <a:spcPct val="90000"/>
              </a:lnSpc>
              <a:spcAft>
                <a:spcPts val="75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ent Manager - real-time management and monitoring of distributed content an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22860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98960" y="2453400"/>
            <a:ext cx="236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Network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886200" y="1447920"/>
            <a:ext cx="937440" cy="1065600"/>
            <a:chOff x="3886200" y="1447920"/>
            <a:chExt cx="937440" cy="1065600"/>
          </a:xfrm>
        </p:grpSpPr>
        <p:sp>
          <p:nvSpPr>
            <p:cNvPr id="92" name=""/>
            <p:cNvSpPr/>
            <p:nvPr/>
          </p:nvSpPr>
          <p:spPr>
            <a:xfrm>
              <a:off x="3916800" y="1482120"/>
              <a:ext cx="906840" cy="51624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16800" y="1737720"/>
              <a:ext cx="453600" cy="7758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70760" y="1737720"/>
              <a:ext cx="452880" cy="7758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73760" y="1655280"/>
              <a:ext cx="597240" cy="34308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73760" y="1829160"/>
              <a:ext cx="296640" cy="51120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70760" y="1829160"/>
              <a:ext cx="300600" cy="51120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22440" y="1829160"/>
              <a:ext cx="295560" cy="16884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22440" y="1910880"/>
              <a:ext cx="148320" cy="25632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70760" y="1910880"/>
              <a:ext cx="147240" cy="25632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86200" y="1447920"/>
              <a:ext cx="906840" cy="51516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86200" y="1703520"/>
              <a:ext cx="453600" cy="7758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39800" y="1703520"/>
              <a:ext cx="452880" cy="7758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43160" y="1620720"/>
              <a:ext cx="597240" cy="34200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43160" y="1793880"/>
              <a:ext cx="296640" cy="51228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39800" y="1793880"/>
              <a:ext cx="300600" cy="51228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91480" y="1793880"/>
              <a:ext cx="296640" cy="16884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91480" y="1876680"/>
              <a:ext cx="148320" cy="2556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39800" y="1876680"/>
              <a:ext cx="148320" cy="25560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 rot="2718000">
            <a:off x="4580640" y="3081960"/>
            <a:ext cx="944280" cy="457200"/>
          </a:xfrm>
          <a:prstGeom prst="rightArrow">
            <a:avLst>
              <a:gd name="adj1" fmla="val 50000"/>
              <a:gd name="adj2" fmla="val 51634"/>
            </a:avLst>
          </a:prstGeom>
          <a:solidFill>
            <a:srgbClr val="0066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18882000">
            <a:off x="3108960" y="3108960"/>
            <a:ext cx="944280" cy="457200"/>
          </a:xfrm>
          <a:prstGeom prst="rightArrow">
            <a:avLst>
              <a:gd name="adj1" fmla="val 50000"/>
              <a:gd name="adj2" fmla="val 51634"/>
            </a:avLst>
          </a:prstGeom>
          <a:solidFill>
            <a:srgbClr val="0066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 Providers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-Commerce and Enterpri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609120" y="172692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y large internet site that is hosting intern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y large internet site that is co-locating at a hos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y large intranet or extranet deployment, particularly where control and security are a prio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y large site running distributed Internet applic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y company running its own distributed data ce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/>
          <p:nvPr/>
        </p:nvSpPr>
        <p:spPr>
          <a:xfrm>
            <a:off x="5794200" y="1638360"/>
            <a:ext cx="2598840" cy="69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3" name=""/>
          <p:cNvGraphicFramePr/>
          <p:nvPr/>
        </p:nvGraphicFramePr>
        <p:xfrm>
          <a:off x="5794200" y="1371600"/>
          <a:ext cx="3183120" cy="88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4200" y="1371600"/>
                    <a:ext cx="318312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304920" y="26640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delity Investmen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nally hosted si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609120" y="147312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delity.c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150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5,000+ trades per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150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+ million hits per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150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100 servers in multiple geographic 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150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a dozen Web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150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sh content deployed every 10 min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ktomi Content Delivery Suite provid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150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ance optimization, management and monitoring of each customers’ experie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150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t real-time, secure content updates across geographically distributed Web 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/>
          <p:nvPr/>
        </p:nvSpPr>
        <p:spPr>
          <a:xfrm>
            <a:off x="304920" y="26676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view - Key Challenges for Content 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09480" y="1612800"/>
            <a:ext cx="80773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ing ANY type of content (applications, streaming, etc.) to ANY type of delivery veh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 content on sites and servers that are live, without affecting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itoring and reporting on distributed content usage and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125"/>
              </a:spcBef>
              <a:spcAft>
                <a:spcPts val="75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t for billing and service level com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diting and roll-back functionality and highly automated error-proo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ed with other segments of the content delivery process, i.e. traffic mgm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 Delivery Suite 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134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Distribu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125"/>
              </a:spcBef>
              <a:spcAft>
                <a:spcPts val="75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ve content to the edges of the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125"/>
              </a:spcBef>
              <a:spcAft>
                <a:spcPts val="75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come performance challenges of new content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125"/>
              </a:spcBef>
              <a:spcAft>
                <a:spcPts val="75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robust distribution to guarantee content delivery and avail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Manag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150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 and monitor in real-ti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125"/>
              </a:spcBef>
              <a:spcAft>
                <a:spcPts val="75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et service level commit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125"/>
              </a:spcBef>
              <a:spcAft>
                <a:spcPts val="75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plify administ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Opportun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125"/>
              </a:spcBef>
              <a:spcAft>
                <a:spcPts val="75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exible platform for a wide variety of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125"/>
              </a:spcBef>
              <a:spcAft>
                <a:spcPts val="75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 high-margin revenue-generating offer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3085920" y="1561680"/>
            <a:ext cx="605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825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3086280" y="1980720"/>
            <a:ext cx="561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825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ckup Slid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 type="subTitle"/>
          </p:nvPr>
        </p:nvSpPr>
        <p:spPr>
          <a:xfrm>
            <a:off x="3086280" y="3187800"/>
            <a:ext cx="561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4" name="inkcontentdis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5" name=""/>
          <p:cNvSpPr/>
          <p:nvPr/>
        </p:nvSpPr>
        <p:spPr>
          <a:xfrm>
            <a:off x="4114800" y="609480"/>
            <a:ext cx="4114800" cy="947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 Delivery Sui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 Distribu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876920" y="3495600"/>
            <a:ext cx="396216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edule and Monitor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H="1" flipV="1">
            <a:off x="5714640" y="281916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V="1">
            <a:off x="6781680" y="281916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029200" y="4876920"/>
            <a:ext cx="11430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4038480" y="5105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4038480" y="510552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4114800" y="51055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4343040" y="5105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1828800" y="1066680"/>
            <a:ext cx="152388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un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 flipV="1">
            <a:off x="2209320" y="6094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990720" y="2743200"/>
            <a:ext cx="2133360" cy="82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Large Server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H="1" flipV="1">
            <a:off x="304560" y="205740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8" name="inkcontentmanage%20servic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589" name=""/>
          <p:cNvSpPr/>
          <p:nvPr/>
        </p:nvSpPr>
        <p:spPr>
          <a:xfrm>
            <a:off x="4038480" y="609480"/>
            <a:ext cx="4114800" cy="947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 Delivery Sui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752480" y="1828800"/>
            <a:ext cx="129564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1600200" y="2438280"/>
            <a:ext cx="167652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915080" y="2597040"/>
            <a:ext cx="4190760" cy="825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and Isolate Critical Content Service Level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28600" y="4648320"/>
            <a:ext cx="380988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phical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057400" y="510552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057400" y="5105520"/>
            <a:ext cx="31240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2057400" y="5105520"/>
            <a:ext cx="54864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H="1">
            <a:off x="3885840" y="3429000"/>
            <a:ext cx="3048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H="1" flipV="1">
            <a:off x="1371600" y="182844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H="1" flipV="1">
            <a:off x="1371600" y="19810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H="1">
            <a:off x="1371600" y="205740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flipH="1" flipV="1">
            <a:off x="1447560" y="22860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H="1" flipV="1">
            <a:off x="1371240" y="2437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1447560" y="2666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H="1">
            <a:off x="1447560" y="26668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371600" y="4089240"/>
            <a:ext cx="198108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er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H="1" flipV="1">
            <a:off x="914400" y="373356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 flipH="1" flipV="1">
            <a:off x="914400" y="39625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91440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 flipH="1">
            <a:off x="91440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0" name=""/>
          <p:cNvGrpSpPr/>
          <p:nvPr/>
        </p:nvGrpSpPr>
        <p:grpSpPr>
          <a:xfrm>
            <a:off x="642600" y="1758960"/>
            <a:ext cx="727560" cy="581040"/>
            <a:chOff x="642600" y="1758960"/>
            <a:chExt cx="727560" cy="581040"/>
          </a:xfrm>
        </p:grpSpPr>
        <p:sp>
          <p:nvSpPr>
            <p:cNvPr id="1611" name=""/>
            <p:cNvSpPr/>
            <p:nvPr/>
          </p:nvSpPr>
          <p:spPr>
            <a:xfrm flipH="1">
              <a:off x="642240" y="2119680"/>
              <a:ext cx="176760" cy="220320"/>
            </a:xfrm>
            <a:custGeom>
              <a:avLst/>
              <a:gdLst/>
              <a:ahLst/>
              <a:rect l="l" t="t" r="r" b="b"/>
              <a:pathLst>
                <a:path w="3967" h="6591">
                  <a:moveTo>
                    <a:pt x="3967" y="4235"/>
                  </a:moveTo>
                  <a:lnTo>
                    <a:pt x="3967" y="0"/>
                  </a:lnTo>
                  <a:lnTo>
                    <a:pt x="0" y="1552"/>
                  </a:lnTo>
                  <a:lnTo>
                    <a:pt x="0" y="6591"/>
                  </a:lnTo>
                  <a:lnTo>
                    <a:pt x="3967" y="4235"/>
                  </a:lnTo>
                  <a:close/>
                </a:path>
              </a:pathLst>
            </a:custGeom>
            <a:gradFill rotWithShape="0">
              <a:gsLst>
                <a:gs pos="0">
                  <a:srgbClr val="665e5b"/>
                </a:gs>
                <a:gs pos="100000">
                  <a:srgbClr val="b7aaa3"/>
                </a:gs>
              </a:gsLst>
              <a:lin ang="108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819720" y="2156040"/>
              <a:ext cx="550080" cy="183960"/>
            </a:xfrm>
            <a:custGeom>
              <a:avLst/>
              <a:gdLst/>
              <a:ahLst/>
              <a:rect l="l" t="t" r="r" b="b"/>
              <a:pathLst>
                <a:path w="12371" h="5729">
                  <a:moveTo>
                    <a:pt x="0" y="4694"/>
                  </a:moveTo>
                  <a:lnTo>
                    <a:pt x="0" y="0"/>
                  </a:lnTo>
                  <a:lnTo>
                    <a:pt x="12371" y="690"/>
                  </a:lnTo>
                  <a:lnTo>
                    <a:pt x="12371" y="5729"/>
                  </a:lnTo>
                  <a:lnTo>
                    <a:pt x="0" y="4694"/>
                  </a:lnTo>
                  <a:close/>
                </a:path>
              </a:pathLst>
            </a:custGeom>
            <a:gradFill rotWithShape="0">
              <a:gsLst>
                <a:gs pos="0">
                  <a:srgbClr val="d9cfca"/>
                </a:gs>
                <a:gs pos="100000">
                  <a:srgbClr val="968f8c"/>
                </a:gs>
              </a:gsLst>
              <a:lin ang="135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642960" y="2099880"/>
              <a:ext cx="727200" cy="84240"/>
            </a:xfrm>
            <a:custGeom>
              <a:avLst/>
              <a:gdLst/>
              <a:ahLst/>
              <a:rect l="l" t="t" r="r" b="b"/>
              <a:pathLst>
                <a:path w="16338" h="2034">
                  <a:moveTo>
                    <a:pt x="5308" y="0"/>
                  </a:moveTo>
                  <a:lnTo>
                    <a:pt x="0" y="1344"/>
                  </a:lnTo>
                  <a:lnTo>
                    <a:pt x="12371" y="2034"/>
                  </a:lnTo>
                  <a:lnTo>
                    <a:pt x="16338" y="482"/>
                  </a:lnTo>
                  <a:lnTo>
                    <a:pt x="5308" y="0"/>
                  </a:lnTo>
                  <a:close/>
                </a:path>
              </a:pathLst>
            </a:custGeom>
            <a:gradFill rotWithShape="0">
              <a:gsLst>
                <a:gs pos="0">
                  <a:srgbClr val="d4cbc6"/>
                </a:gs>
                <a:gs pos="100000">
                  <a:srgbClr val="eee3de"/>
                </a:gs>
              </a:gsLst>
              <a:lin ang="54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755640" y="2050560"/>
              <a:ext cx="466200" cy="107280"/>
            </a:xfrm>
            <a:custGeom>
              <a:avLst/>
              <a:gdLst/>
              <a:ahLst/>
              <a:rect l="l" t="t" r="r" b="b"/>
              <a:pathLst>
                <a:path w="11046" h="2745">
                  <a:moveTo>
                    <a:pt x="11046" y="0"/>
                  </a:moveTo>
                  <a:lnTo>
                    <a:pt x="11046" y="1726"/>
                  </a:lnTo>
                  <a:lnTo>
                    <a:pt x="8437" y="2745"/>
                  </a:lnTo>
                  <a:lnTo>
                    <a:pt x="110" y="2377"/>
                  </a:lnTo>
                  <a:lnTo>
                    <a:pt x="0" y="981"/>
                  </a:lnTo>
                  <a:lnTo>
                    <a:pt x="11046" y="0"/>
                  </a:lnTo>
                  <a:close/>
                </a:path>
              </a:pathLst>
            </a:custGeom>
            <a:gradFill rotWithShape="0">
              <a:gsLst>
                <a:gs pos="0">
                  <a:srgbClr val="5c5755"/>
                </a:gs>
                <a:gs pos="100000">
                  <a:srgbClr val="c8beb9"/>
                </a:gs>
              </a:gsLst>
              <a:lin ang="54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731520" y="1799280"/>
              <a:ext cx="75240" cy="294840"/>
            </a:xfrm>
            <a:custGeom>
              <a:avLst/>
              <a:gdLst/>
              <a:ahLst/>
              <a:rect l="l" t="t" r="r" b="b"/>
              <a:pathLst>
                <a:path w="1756" h="7513">
                  <a:moveTo>
                    <a:pt x="137" y="0"/>
                  </a:moveTo>
                  <a:lnTo>
                    <a:pt x="1715" y="950"/>
                  </a:lnTo>
                  <a:lnTo>
                    <a:pt x="1756" y="1024"/>
                  </a:lnTo>
                  <a:lnTo>
                    <a:pt x="1756" y="6260"/>
                  </a:lnTo>
                  <a:lnTo>
                    <a:pt x="1738" y="6310"/>
                  </a:lnTo>
                  <a:lnTo>
                    <a:pt x="0" y="7513"/>
                  </a:lnTo>
                  <a:lnTo>
                    <a:pt x="13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5e5b"/>
                </a:gs>
                <a:gs pos="100000">
                  <a:srgbClr val="b7aaa3"/>
                </a:gs>
              </a:gsLst>
              <a:lin ang="108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829440" y="1758960"/>
              <a:ext cx="439920" cy="363960"/>
            </a:xfrm>
            <a:custGeom>
              <a:avLst/>
              <a:gdLst/>
              <a:ahLst/>
              <a:rect l="l" t="t" r="r" b="b"/>
              <a:pathLst>
                <a:path w="10407" h="9275">
                  <a:moveTo>
                    <a:pt x="77" y="573"/>
                  </a:moveTo>
                  <a:lnTo>
                    <a:pt x="289" y="446"/>
                  </a:lnTo>
                  <a:lnTo>
                    <a:pt x="412" y="390"/>
                  </a:lnTo>
                  <a:lnTo>
                    <a:pt x="513" y="367"/>
                  </a:lnTo>
                  <a:lnTo>
                    <a:pt x="9876" y="0"/>
                  </a:lnTo>
                  <a:lnTo>
                    <a:pt x="10265" y="64"/>
                  </a:lnTo>
                  <a:lnTo>
                    <a:pt x="10375" y="120"/>
                  </a:lnTo>
                  <a:lnTo>
                    <a:pt x="10407" y="156"/>
                  </a:lnTo>
                  <a:lnTo>
                    <a:pt x="10366" y="9275"/>
                  </a:lnTo>
                  <a:lnTo>
                    <a:pt x="270" y="8921"/>
                  </a:lnTo>
                  <a:lnTo>
                    <a:pt x="178" y="8880"/>
                  </a:lnTo>
                  <a:lnTo>
                    <a:pt x="123" y="8835"/>
                  </a:lnTo>
                  <a:lnTo>
                    <a:pt x="73" y="8765"/>
                  </a:lnTo>
                  <a:lnTo>
                    <a:pt x="0" y="8632"/>
                  </a:lnTo>
                  <a:lnTo>
                    <a:pt x="77" y="573"/>
                  </a:lnTo>
                  <a:close/>
                </a:path>
              </a:pathLst>
            </a:custGeom>
            <a:gradFill rotWithShape="0">
              <a:gsLst>
                <a:gs pos="0">
                  <a:srgbClr val="d9cfca"/>
                </a:gs>
                <a:gs pos="100000">
                  <a:srgbClr val="968f8c"/>
                </a:gs>
              </a:gsLst>
              <a:lin ang="135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754920" y="1758960"/>
              <a:ext cx="112320" cy="397800"/>
            </a:xfrm>
            <a:custGeom>
              <a:avLst/>
              <a:gdLst/>
              <a:ahLst/>
              <a:rect l="l" t="t" r="r" b="b"/>
              <a:pathLst>
                <a:path w="2678" h="10161">
                  <a:moveTo>
                    <a:pt x="0" y="10161"/>
                  </a:moveTo>
                  <a:lnTo>
                    <a:pt x="51" y="9248"/>
                  </a:lnTo>
                  <a:lnTo>
                    <a:pt x="353" y="9248"/>
                  </a:lnTo>
                  <a:lnTo>
                    <a:pt x="491" y="9220"/>
                  </a:lnTo>
                  <a:lnTo>
                    <a:pt x="583" y="9142"/>
                  </a:lnTo>
                  <a:lnTo>
                    <a:pt x="629" y="9009"/>
                  </a:lnTo>
                  <a:lnTo>
                    <a:pt x="629" y="248"/>
                  </a:lnTo>
                  <a:lnTo>
                    <a:pt x="614" y="162"/>
                  </a:lnTo>
                  <a:lnTo>
                    <a:pt x="596" y="88"/>
                  </a:lnTo>
                  <a:lnTo>
                    <a:pt x="568" y="51"/>
                  </a:lnTo>
                  <a:lnTo>
                    <a:pt x="491" y="0"/>
                  </a:lnTo>
                  <a:lnTo>
                    <a:pt x="857" y="60"/>
                  </a:lnTo>
                  <a:lnTo>
                    <a:pt x="1023" y="110"/>
                  </a:lnTo>
                  <a:lnTo>
                    <a:pt x="1682" y="538"/>
                  </a:lnTo>
                  <a:lnTo>
                    <a:pt x="1701" y="556"/>
                  </a:lnTo>
                  <a:lnTo>
                    <a:pt x="1715" y="584"/>
                  </a:lnTo>
                  <a:lnTo>
                    <a:pt x="1719" y="620"/>
                  </a:lnTo>
                  <a:lnTo>
                    <a:pt x="2678" y="7320"/>
                  </a:lnTo>
                  <a:lnTo>
                    <a:pt x="2669" y="9137"/>
                  </a:lnTo>
                  <a:lnTo>
                    <a:pt x="27" y="10161"/>
                  </a:lnTo>
                  <a:lnTo>
                    <a:pt x="0" y="10161"/>
                  </a:lnTo>
                  <a:close/>
                </a:path>
              </a:pathLst>
            </a:custGeom>
            <a:gradFill rotWithShape="0">
              <a:gsLst>
                <a:gs pos="0">
                  <a:srgbClr val="665e5b"/>
                </a:gs>
                <a:gs pos="100000">
                  <a:srgbClr val="b7aaa3"/>
                </a:gs>
              </a:gsLst>
              <a:lin ang="108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865080" y="2109600"/>
              <a:ext cx="356400" cy="23040"/>
            </a:xfrm>
            <a:custGeom>
              <a:avLst/>
              <a:gdLst/>
              <a:ahLst/>
              <a:rect l="l" t="t" r="r" b="b"/>
              <a:pathLst>
                <a:path w="8422" h="579">
                  <a:moveTo>
                    <a:pt x="0" y="0"/>
                  </a:moveTo>
                  <a:lnTo>
                    <a:pt x="8422" y="304"/>
                  </a:lnTo>
                  <a:lnTo>
                    <a:pt x="8391" y="579"/>
                  </a:lnTo>
                  <a:lnTo>
                    <a:pt x="18" y="23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642"/>
                </a:gs>
                <a:gs pos="100000">
                  <a:srgbClr val="a89890"/>
                </a:gs>
              </a:gsLst>
              <a:lin ang="54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889560" y="1813680"/>
              <a:ext cx="333720" cy="255240"/>
            </a:xfrm>
            <a:custGeom>
              <a:avLst/>
              <a:gdLst/>
              <a:ahLst/>
              <a:rect l="l" t="t" r="r" b="b"/>
              <a:pathLst>
                <a:path w="7886" h="6539">
                  <a:moveTo>
                    <a:pt x="0" y="6084"/>
                  </a:moveTo>
                  <a:lnTo>
                    <a:pt x="73" y="6282"/>
                  </a:lnTo>
                  <a:lnTo>
                    <a:pt x="7775" y="6539"/>
                  </a:lnTo>
                  <a:lnTo>
                    <a:pt x="7817" y="6480"/>
                  </a:lnTo>
                  <a:lnTo>
                    <a:pt x="7863" y="6410"/>
                  </a:lnTo>
                  <a:lnTo>
                    <a:pt x="7886" y="229"/>
                  </a:lnTo>
                  <a:lnTo>
                    <a:pt x="7867" y="118"/>
                  </a:lnTo>
                  <a:lnTo>
                    <a:pt x="7817" y="63"/>
                  </a:lnTo>
                  <a:lnTo>
                    <a:pt x="7460" y="0"/>
                  </a:lnTo>
                  <a:lnTo>
                    <a:pt x="206" y="197"/>
                  </a:lnTo>
                  <a:lnTo>
                    <a:pt x="14" y="3312"/>
                  </a:lnTo>
                  <a:lnTo>
                    <a:pt x="0" y="6084"/>
                  </a:lnTo>
                  <a:close/>
                </a:path>
              </a:pathLst>
            </a:custGeom>
            <a:gradFill rotWithShape="0">
              <a:gsLst>
                <a:gs pos="0">
                  <a:srgbClr val="4b4b4b"/>
                </a:gs>
                <a:gs pos="100000">
                  <a:srgbClr val="000000"/>
                </a:gs>
              </a:gsLst>
              <a:lin ang="81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894240" y="2086920"/>
              <a:ext cx="57240" cy="9360"/>
            </a:xfrm>
            <a:custGeom>
              <a:avLst/>
              <a:gdLst/>
              <a:ahLst/>
              <a:rect l="l" t="t" r="r" b="b"/>
              <a:pathLst>
                <a:path w="1357" h="276">
                  <a:moveTo>
                    <a:pt x="1357" y="55"/>
                  </a:moveTo>
                  <a:lnTo>
                    <a:pt x="0" y="0"/>
                  </a:lnTo>
                  <a:lnTo>
                    <a:pt x="0" y="225"/>
                  </a:lnTo>
                  <a:lnTo>
                    <a:pt x="1357" y="276"/>
                  </a:lnTo>
                  <a:lnTo>
                    <a:pt x="1357" y="55"/>
                  </a:lnTo>
                  <a:close/>
                </a:path>
              </a:pathLst>
            </a:custGeom>
            <a:gradFill rotWithShape="0">
              <a:gsLst>
                <a:gs pos="0">
                  <a:srgbClr val="12be00"/>
                </a:gs>
                <a:gs pos="100000">
                  <a:srgbClr val="0b7c00"/>
                </a:gs>
              </a:gsLst>
              <a:lin ang="10800000"/>
            </a:gra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889560" y="1811520"/>
              <a:ext cx="340920" cy="252000"/>
            </a:xfrm>
            <a:custGeom>
              <a:avLst/>
              <a:gdLst/>
              <a:ahLst/>
              <a:rect l="l" t="t" r="r" b="b"/>
              <a:pathLst>
                <a:path w="8034" h="6443">
                  <a:moveTo>
                    <a:pt x="8034" y="206"/>
                  </a:moveTo>
                  <a:lnTo>
                    <a:pt x="8020" y="147"/>
                  </a:lnTo>
                  <a:lnTo>
                    <a:pt x="7969" y="64"/>
                  </a:lnTo>
                  <a:lnTo>
                    <a:pt x="7919" y="32"/>
                  </a:lnTo>
                  <a:lnTo>
                    <a:pt x="7818" y="9"/>
                  </a:lnTo>
                  <a:lnTo>
                    <a:pt x="7722" y="0"/>
                  </a:lnTo>
                  <a:lnTo>
                    <a:pt x="294" y="179"/>
                  </a:lnTo>
                  <a:lnTo>
                    <a:pt x="180" y="193"/>
                  </a:lnTo>
                  <a:lnTo>
                    <a:pt x="97" y="239"/>
                  </a:lnTo>
                  <a:lnTo>
                    <a:pt x="51" y="298"/>
                  </a:lnTo>
                  <a:lnTo>
                    <a:pt x="24" y="372"/>
                  </a:lnTo>
                  <a:lnTo>
                    <a:pt x="0" y="495"/>
                  </a:lnTo>
                  <a:lnTo>
                    <a:pt x="0" y="6177"/>
                  </a:lnTo>
                  <a:lnTo>
                    <a:pt x="10" y="6273"/>
                  </a:lnTo>
                  <a:lnTo>
                    <a:pt x="33" y="6356"/>
                  </a:lnTo>
                  <a:lnTo>
                    <a:pt x="61" y="6388"/>
                  </a:lnTo>
                  <a:lnTo>
                    <a:pt x="111" y="6420"/>
                  </a:lnTo>
                  <a:lnTo>
                    <a:pt x="162" y="6443"/>
                  </a:lnTo>
                  <a:lnTo>
                    <a:pt x="510" y="6255"/>
                  </a:lnTo>
                  <a:lnTo>
                    <a:pt x="468" y="6218"/>
                  </a:lnTo>
                  <a:lnTo>
                    <a:pt x="427" y="6172"/>
                  </a:lnTo>
                  <a:lnTo>
                    <a:pt x="409" y="6126"/>
                  </a:lnTo>
                  <a:lnTo>
                    <a:pt x="390" y="6007"/>
                  </a:lnTo>
                  <a:lnTo>
                    <a:pt x="354" y="4823"/>
                  </a:lnTo>
                  <a:lnTo>
                    <a:pt x="322" y="3455"/>
                  </a:lnTo>
                  <a:lnTo>
                    <a:pt x="331" y="2460"/>
                  </a:lnTo>
                  <a:lnTo>
                    <a:pt x="363" y="1284"/>
                  </a:lnTo>
                  <a:lnTo>
                    <a:pt x="440" y="711"/>
                  </a:lnTo>
                  <a:lnTo>
                    <a:pt x="464" y="551"/>
                  </a:lnTo>
                  <a:lnTo>
                    <a:pt x="501" y="436"/>
                  </a:lnTo>
                  <a:lnTo>
                    <a:pt x="542" y="376"/>
                  </a:lnTo>
                  <a:lnTo>
                    <a:pt x="593" y="339"/>
                  </a:lnTo>
                  <a:lnTo>
                    <a:pt x="633" y="317"/>
                  </a:lnTo>
                  <a:lnTo>
                    <a:pt x="716" y="307"/>
                  </a:lnTo>
                  <a:lnTo>
                    <a:pt x="7689" y="138"/>
                  </a:lnTo>
                  <a:lnTo>
                    <a:pt x="7805" y="138"/>
                  </a:lnTo>
                  <a:lnTo>
                    <a:pt x="7892" y="138"/>
                  </a:lnTo>
                  <a:lnTo>
                    <a:pt x="7969" y="160"/>
                  </a:lnTo>
                  <a:lnTo>
                    <a:pt x="8034" y="206"/>
                  </a:lnTo>
                  <a:close/>
                </a:path>
              </a:pathLst>
            </a:custGeom>
            <a:gradFill rotWithShape="0">
              <a:gsLst>
                <a:gs pos="0">
                  <a:srgbClr val="5f5954"/>
                </a:gs>
                <a:gs pos="100000">
                  <a:srgbClr val="8a807a"/>
                </a:gs>
              </a:gsLst>
              <a:lin ang="54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889560" y="2055960"/>
              <a:ext cx="333720" cy="17640"/>
            </a:xfrm>
            <a:custGeom>
              <a:avLst/>
              <a:gdLst/>
              <a:ahLst/>
              <a:rect l="l" t="t" r="r" b="b"/>
              <a:pathLst>
                <a:path w="7879" h="426">
                  <a:moveTo>
                    <a:pt x="7872" y="123"/>
                  </a:moveTo>
                  <a:lnTo>
                    <a:pt x="7858" y="151"/>
                  </a:lnTo>
                  <a:lnTo>
                    <a:pt x="7845" y="179"/>
                  </a:lnTo>
                  <a:lnTo>
                    <a:pt x="7817" y="197"/>
                  </a:lnTo>
                  <a:lnTo>
                    <a:pt x="7808" y="210"/>
                  </a:lnTo>
                  <a:lnTo>
                    <a:pt x="7803" y="210"/>
                  </a:lnTo>
                  <a:lnTo>
                    <a:pt x="7799" y="215"/>
                  </a:lnTo>
                  <a:lnTo>
                    <a:pt x="7716" y="243"/>
                  </a:lnTo>
                  <a:lnTo>
                    <a:pt x="458" y="27"/>
                  </a:lnTo>
                  <a:lnTo>
                    <a:pt x="390" y="13"/>
                  </a:lnTo>
                  <a:lnTo>
                    <a:pt x="329" y="0"/>
                  </a:lnTo>
                  <a:lnTo>
                    <a:pt x="0" y="183"/>
                  </a:lnTo>
                  <a:lnTo>
                    <a:pt x="5373" y="339"/>
                  </a:lnTo>
                  <a:lnTo>
                    <a:pt x="5449" y="340"/>
                  </a:lnTo>
                  <a:lnTo>
                    <a:pt x="5654" y="341"/>
                  </a:lnTo>
                  <a:lnTo>
                    <a:pt x="5950" y="345"/>
                  </a:lnTo>
                  <a:lnTo>
                    <a:pt x="6302" y="352"/>
                  </a:lnTo>
                  <a:lnTo>
                    <a:pt x="6487" y="356"/>
                  </a:lnTo>
                  <a:lnTo>
                    <a:pt x="6673" y="363"/>
                  </a:lnTo>
                  <a:lnTo>
                    <a:pt x="6853" y="369"/>
                  </a:lnTo>
                  <a:lnTo>
                    <a:pt x="7025" y="376"/>
                  </a:lnTo>
                  <a:lnTo>
                    <a:pt x="7107" y="380"/>
                  </a:lnTo>
                  <a:lnTo>
                    <a:pt x="7183" y="384"/>
                  </a:lnTo>
                  <a:lnTo>
                    <a:pt x="7257" y="389"/>
                  </a:lnTo>
                  <a:lnTo>
                    <a:pt x="7324" y="394"/>
                  </a:lnTo>
                  <a:lnTo>
                    <a:pt x="7386" y="399"/>
                  </a:lnTo>
                  <a:lnTo>
                    <a:pt x="7442" y="405"/>
                  </a:lnTo>
                  <a:lnTo>
                    <a:pt x="7492" y="411"/>
                  </a:lnTo>
                  <a:lnTo>
                    <a:pt x="7532" y="417"/>
                  </a:lnTo>
                  <a:lnTo>
                    <a:pt x="7571" y="422"/>
                  </a:lnTo>
                  <a:lnTo>
                    <a:pt x="7606" y="425"/>
                  </a:lnTo>
                  <a:lnTo>
                    <a:pt x="7639" y="426"/>
                  </a:lnTo>
                  <a:lnTo>
                    <a:pt x="7668" y="424"/>
                  </a:lnTo>
                  <a:lnTo>
                    <a:pt x="7696" y="421"/>
                  </a:lnTo>
                  <a:lnTo>
                    <a:pt x="7720" y="416"/>
                  </a:lnTo>
                  <a:lnTo>
                    <a:pt x="7744" y="409"/>
                  </a:lnTo>
                  <a:lnTo>
                    <a:pt x="7764" y="400"/>
                  </a:lnTo>
                  <a:lnTo>
                    <a:pt x="7782" y="390"/>
                  </a:lnTo>
                  <a:lnTo>
                    <a:pt x="7798" y="380"/>
                  </a:lnTo>
                  <a:lnTo>
                    <a:pt x="7813" y="368"/>
                  </a:lnTo>
                  <a:lnTo>
                    <a:pt x="7826" y="354"/>
                  </a:lnTo>
                  <a:lnTo>
                    <a:pt x="7837" y="341"/>
                  </a:lnTo>
                  <a:lnTo>
                    <a:pt x="7846" y="326"/>
                  </a:lnTo>
                  <a:lnTo>
                    <a:pt x="7854" y="311"/>
                  </a:lnTo>
                  <a:lnTo>
                    <a:pt x="7860" y="296"/>
                  </a:lnTo>
                  <a:lnTo>
                    <a:pt x="7866" y="281"/>
                  </a:lnTo>
                  <a:lnTo>
                    <a:pt x="7870" y="266"/>
                  </a:lnTo>
                  <a:lnTo>
                    <a:pt x="7874" y="250"/>
                  </a:lnTo>
                  <a:lnTo>
                    <a:pt x="7876" y="235"/>
                  </a:lnTo>
                  <a:lnTo>
                    <a:pt x="7878" y="220"/>
                  </a:lnTo>
                  <a:lnTo>
                    <a:pt x="7879" y="205"/>
                  </a:lnTo>
                  <a:lnTo>
                    <a:pt x="7879" y="192"/>
                  </a:lnTo>
                  <a:lnTo>
                    <a:pt x="7879" y="179"/>
                  </a:lnTo>
                  <a:lnTo>
                    <a:pt x="7875" y="139"/>
                  </a:lnTo>
                  <a:lnTo>
                    <a:pt x="7872" y="123"/>
                  </a:lnTo>
                  <a:close/>
                </a:path>
              </a:pathLst>
            </a:custGeom>
            <a:solidFill>
              <a:srgbClr val="d3d3d3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854280" y="2205000"/>
              <a:ext cx="106560" cy="14040"/>
            </a:xfrm>
            <a:custGeom>
              <a:avLst/>
              <a:gdLst/>
              <a:ahLst/>
              <a:rect l="l" t="t" r="r" b="b"/>
              <a:pathLst>
                <a:path w="2378" h="344">
                  <a:moveTo>
                    <a:pt x="0" y="222"/>
                  </a:moveTo>
                  <a:lnTo>
                    <a:pt x="0" y="0"/>
                  </a:lnTo>
                  <a:lnTo>
                    <a:pt x="2378" y="107"/>
                  </a:lnTo>
                  <a:lnTo>
                    <a:pt x="2378" y="344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6a605a"/>
            </a:soli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4" name=""/>
          <p:cNvGrpSpPr/>
          <p:nvPr/>
        </p:nvGrpSpPr>
        <p:grpSpPr>
          <a:xfrm>
            <a:off x="1900080" y="3052800"/>
            <a:ext cx="765360" cy="287280"/>
            <a:chOff x="1900080" y="3052800"/>
            <a:chExt cx="765360" cy="287280"/>
          </a:xfrm>
        </p:grpSpPr>
        <p:sp>
          <p:nvSpPr>
            <p:cNvPr id="1625" name=""/>
            <p:cNvSpPr/>
            <p:nvPr/>
          </p:nvSpPr>
          <p:spPr>
            <a:xfrm>
              <a:off x="1900080" y="3052800"/>
              <a:ext cx="765360" cy="2872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6" name=""/>
            <p:cNvGrpSpPr/>
            <p:nvPr/>
          </p:nvGrpSpPr>
          <p:grpSpPr>
            <a:xfrm>
              <a:off x="1996200" y="3088800"/>
              <a:ext cx="588600" cy="214200"/>
              <a:chOff x="1996200" y="3088800"/>
              <a:chExt cx="588600" cy="214200"/>
            </a:xfrm>
          </p:grpSpPr>
          <p:sp>
            <p:nvSpPr>
              <p:cNvPr id="1627" name=""/>
              <p:cNvSpPr/>
              <p:nvPr/>
            </p:nvSpPr>
            <p:spPr>
              <a:xfrm>
                <a:off x="1996200" y="3088800"/>
                <a:ext cx="588600" cy="4788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1996200" y="3169440"/>
                <a:ext cx="588600" cy="5004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1996200" y="3253680"/>
                <a:ext cx="588600" cy="4932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0" name=""/>
          <p:cNvGrpSpPr/>
          <p:nvPr/>
        </p:nvGrpSpPr>
        <p:grpSpPr>
          <a:xfrm>
            <a:off x="1900080" y="4230720"/>
            <a:ext cx="765360" cy="287280"/>
            <a:chOff x="1900080" y="4230720"/>
            <a:chExt cx="765360" cy="287280"/>
          </a:xfrm>
        </p:grpSpPr>
        <p:sp>
          <p:nvSpPr>
            <p:cNvPr id="1631" name=""/>
            <p:cNvSpPr/>
            <p:nvPr/>
          </p:nvSpPr>
          <p:spPr>
            <a:xfrm>
              <a:off x="1900080" y="4230720"/>
              <a:ext cx="765360" cy="28728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2" name=""/>
            <p:cNvGrpSpPr/>
            <p:nvPr/>
          </p:nvGrpSpPr>
          <p:grpSpPr>
            <a:xfrm>
              <a:off x="1996200" y="4266720"/>
              <a:ext cx="588600" cy="214200"/>
              <a:chOff x="1996200" y="4266720"/>
              <a:chExt cx="588600" cy="214200"/>
            </a:xfrm>
          </p:grpSpPr>
          <p:sp>
            <p:nvSpPr>
              <p:cNvPr id="1633" name=""/>
              <p:cNvSpPr/>
              <p:nvPr/>
            </p:nvSpPr>
            <p:spPr>
              <a:xfrm>
                <a:off x="1996200" y="4266720"/>
                <a:ext cx="588600" cy="4788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1996200" y="4347360"/>
                <a:ext cx="588600" cy="5004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1996200" y="4431600"/>
                <a:ext cx="588600" cy="49320"/>
              </a:xfrm>
              <a:prstGeom prst="rect">
                <a:avLst/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6" name=""/>
          <p:cNvGrpSpPr/>
          <p:nvPr/>
        </p:nvGrpSpPr>
        <p:grpSpPr>
          <a:xfrm>
            <a:off x="1968480" y="4869000"/>
            <a:ext cx="614160" cy="636120"/>
            <a:chOff x="1968480" y="4869000"/>
            <a:chExt cx="614160" cy="636120"/>
          </a:xfrm>
        </p:grpSpPr>
        <p:sp>
          <p:nvSpPr>
            <p:cNvPr id="1637" name=""/>
            <p:cNvSpPr/>
            <p:nvPr/>
          </p:nvSpPr>
          <p:spPr>
            <a:xfrm>
              <a:off x="1992960" y="5218920"/>
              <a:ext cx="589680" cy="28620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968480" y="4988520"/>
              <a:ext cx="551160" cy="358920"/>
            </a:xfrm>
            <a:prstGeom prst="rect">
              <a:avLst/>
            </a:prstGeom>
            <a:gradFill rotWithShape="0">
              <a:gsLst>
                <a:gs pos="0">
                  <a:srgbClr val="445069"/>
                </a:gs>
                <a:gs pos="50000">
                  <a:srgbClr val="94afe4"/>
                </a:gs>
                <a:gs pos="100000">
                  <a:srgbClr val="445069"/>
                </a:gs>
              </a:gsLst>
              <a:lin ang="10800000"/>
            </a:gradFill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968480" y="5214240"/>
              <a:ext cx="551160" cy="266400"/>
            </a:xfrm>
            <a:prstGeom prst="ellipse">
              <a:avLst/>
            </a:prstGeom>
            <a:gradFill rotWithShape="0">
              <a:gsLst>
                <a:gs pos="0">
                  <a:srgbClr val="445069"/>
                </a:gs>
                <a:gs pos="50000">
                  <a:srgbClr val="94afe4"/>
                </a:gs>
                <a:gs pos="100000">
                  <a:srgbClr val="445069"/>
                </a:gs>
              </a:gsLst>
              <a:lin ang="10800000"/>
            </a:gradFill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968480" y="4869000"/>
              <a:ext cx="551160" cy="219600"/>
            </a:xfrm>
            <a:prstGeom prst="ellipse">
              <a:avLst/>
            </a:prstGeom>
            <a:gradFill rotWithShape="0">
              <a:gsLst>
                <a:gs pos="0">
                  <a:srgbClr val="445069"/>
                </a:gs>
                <a:gs pos="100000">
                  <a:srgbClr val="94afe4"/>
                </a:gs>
              </a:gsLst>
              <a:lin ang="5400000"/>
            </a:gradFill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1343160" y="4973760"/>
            <a:ext cx="439560" cy="523440"/>
            <a:chOff x="1343160" y="4973760"/>
            <a:chExt cx="439560" cy="523440"/>
          </a:xfrm>
        </p:grpSpPr>
        <p:sp>
          <p:nvSpPr>
            <p:cNvPr id="1642" name=""/>
            <p:cNvSpPr/>
            <p:nvPr/>
          </p:nvSpPr>
          <p:spPr>
            <a:xfrm>
              <a:off x="1343160" y="4973760"/>
              <a:ext cx="439560" cy="261720"/>
            </a:xfrm>
            <a:custGeom>
              <a:avLst/>
              <a:gdLst/>
              <a:ahLst/>
              <a:rect l="l" t="t" r="r" b="b"/>
              <a:pathLst>
                <a:path w="2967" h="1713">
                  <a:moveTo>
                    <a:pt x="2967" y="856"/>
                  </a:moveTo>
                  <a:lnTo>
                    <a:pt x="1484" y="0"/>
                  </a:lnTo>
                  <a:lnTo>
                    <a:pt x="0" y="856"/>
                  </a:lnTo>
                  <a:lnTo>
                    <a:pt x="1484" y="1713"/>
                  </a:lnTo>
                  <a:lnTo>
                    <a:pt x="2967" y="856"/>
                  </a:lnTo>
                  <a:close/>
                </a:path>
              </a:pathLst>
            </a:custGeom>
            <a:gradFill rotWithShape="0">
              <a:gsLst>
                <a:gs pos="0">
                  <a:srgbClr val="006700"/>
                </a:gs>
                <a:gs pos="100000">
                  <a:srgbClr val="00ba00"/>
                </a:gs>
              </a:gsLst>
              <a:lin ang="54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343160" y="5104800"/>
              <a:ext cx="219240" cy="392400"/>
            </a:xfrm>
            <a:custGeom>
              <a:avLst/>
              <a:gdLst/>
              <a:ahLst/>
              <a:rect l="l" t="t" r="r" b="b"/>
              <a:pathLst>
                <a:path w="1484" h="2570">
                  <a:moveTo>
                    <a:pt x="0" y="0"/>
                  </a:moveTo>
                  <a:lnTo>
                    <a:pt x="1484" y="857"/>
                  </a:lnTo>
                  <a:lnTo>
                    <a:pt x="1484" y="2570"/>
                  </a:lnTo>
                  <a:lnTo>
                    <a:pt x="0" y="17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600"/>
                </a:gs>
                <a:gs pos="100000">
                  <a:srgbClr val="003000"/>
                </a:gs>
              </a:gsLst>
              <a:lin ang="81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562400" y="5104800"/>
              <a:ext cx="219960" cy="392400"/>
            </a:xfrm>
            <a:custGeom>
              <a:avLst/>
              <a:gdLst/>
              <a:ahLst/>
              <a:rect l="l" t="t" r="r" b="b"/>
              <a:pathLst>
                <a:path w="1483" h="2570">
                  <a:moveTo>
                    <a:pt x="1483" y="0"/>
                  </a:moveTo>
                  <a:lnTo>
                    <a:pt x="0" y="857"/>
                  </a:lnTo>
                  <a:lnTo>
                    <a:pt x="0" y="2570"/>
                  </a:lnTo>
                  <a:lnTo>
                    <a:pt x="1483" y="1713"/>
                  </a:lnTo>
                  <a:lnTo>
                    <a:pt x="148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7200"/>
                </a:gs>
                <a:gs pos="100000">
                  <a:srgbClr val="00ae00"/>
                </a:gs>
              </a:gsLst>
              <a:lin ang="108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5" name=""/>
          <p:cNvGrpSpPr/>
          <p:nvPr/>
        </p:nvGrpSpPr>
        <p:grpSpPr>
          <a:xfrm>
            <a:off x="1126800" y="5897520"/>
            <a:ext cx="727560" cy="581040"/>
            <a:chOff x="1126800" y="5897520"/>
            <a:chExt cx="727560" cy="581040"/>
          </a:xfrm>
        </p:grpSpPr>
        <p:sp>
          <p:nvSpPr>
            <p:cNvPr id="1646" name=""/>
            <p:cNvSpPr/>
            <p:nvPr/>
          </p:nvSpPr>
          <p:spPr>
            <a:xfrm flipH="1">
              <a:off x="1126440" y="6258240"/>
              <a:ext cx="176760" cy="220320"/>
            </a:xfrm>
            <a:custGeom>
              <a:avLst/>
              <a:gdLst/>
              <a:ahLst/>
              <a:rect l="l" t="t" r="r" b="b"/>
              <a:pathLst>
                <a:path w="3967" h="6591">
                  <a:moveTo>
                    <a:pt x="3967" y="4235"/>
                  </a:moveTo>
                  <a:lnTo>
                    <a:pt x="3967" y="0"/>
                  </a:lnTo>
                  <a:lnTo>
                    <a:pt x="0" y="1552"/>
                  </a:lnTo>
                  <a:lnTo>
                    <a:pt x="0" y="6591"/>
                  </a:lnTo>
                  <a:lnTo>
                    <a:pt x="3967" y="4235"/>
                  </a:lnTo>
                  <a:close/>
                </a:path>
              </a:pathLst>
            </a:custGeom>
            <a:gradFill rotWithShape="0">
              <a:gsLst>
                <a:gs pos="0">
                  <a:srgbClr val="665e5b"/>
                </a:gs>
                <a:gs pos="100000">
                  <a:srgbClr val="b7aaa3"/>
                </a:gs>
              </a:gsLst>
              <a:lin ang="108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>
              <a:off x="1303920" y="6294600"/>
              <a:ext cx="550080" cy="183960"/>
            </a:xfrm>
            <a:custGeom>
              <a:avLst/>
              <a:gdLst/>
              <a:ahLst/>
              <a:rect l="l" t="t" r="r" b="b"/>
              <a:pathLst>
                <a:path w="12371" h="5729">
                  <a:moveTo>
                    <a:pt x="0" y="4694"/>
                  </a:moveTo>
                  <a:lnTo>
                    <a:pt x="0" y="0"/>
                  </a:lnTo>
                  <a:lnTo>
                    <a:pt x="12371" y="690"/>
                  </a:lnTo>
                  <a:lnTo>
                    <a:pt x="12371" y="5729"/>
                  </a:lnTo>
                  <a:lnTo>
                    <a:pt x="0" y="4694"/>
                  </a:lnTo>
                  <a:close/>
                </a:path>
              </a:pathLst>
            </a:custGeom>
            <a:gradFill rotWithShape="0">
              <a:gsLst>
                <a:gs pos="0">
                  <a:srgbClr val="d9cfca"/>
                </a:gs>
                <a:gs pos="100000">
                  <a:srgbClr val="968f8c"/>
                </a:gs>
              </a:gsLst>
              <a:lin ang="135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1127160" y="6238440"/>
              <a:ext cx="727200" cy="84240"/>
            </a:xfrm>
            <a:custGeom>
              <a:avLst/>
              <a:gdLst/>
              <a:ahLst/>
              <a:rect l="l" t="t" r="r" b="b"/>
              <a:pathLst>
                <a:path w="16338" h="2034">
                  <a:moveTo>
                    <a:pt x="5308" y="0"/>
                  </a:moveTo>
                  <a:lnTo>
                    <a:pt x="0" y="1344"/>
                  </a:lnTo>
                  <a:lnTo>
                    <a:pt x="12371" y="2034"/>
                  </a:lnTo>
                  <a:lnTo>
                    <a:pt x="16338" y="482"/>
                  </a:lnTo>
                  <a:lnTo>
                    <a:pt x="5308" y="0"/>
                  </a:lnTo>
                  <a:close/>
                </a:path>
              </a:pathLst>
            </a:custGeom>
            <a:gradFill rotWithShape="0">
              <a:gsLst>
                <a:gs pos="0">
                  <a:srgbClr val="d4cbc6"/>
                </a:gs>
                <a:gs pos="100000">
                  <a:srgbClr val="eee3de"/>
                </a:gs>
              </a:gsLst>
              <a:lin ang="54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>
              <a:off x="1239840" y="6189120"/>
              <a:ext cx="466200" cy="107280"/>
            </a:xfrm>
            <a:custGeom>
              <a:avLst/>
              <a:gdLst/>
              <a:ahLst/>
              <a:rect l="l" t="t" r="r" b="b"/>
              <a:pathLst>
                <a:path w="11046" h="2745">
                  <a:moveTo>
                    <a:pt x="11046" y="0"/>
                  </a:moveTo>
                  <a:lnTo>
                    <a:pt x="11046" y="1726"/>
                  </a:lnTo>
                  <a:lnTo>
                    <a:pt x="8437" y="2745"/>
                  </a:lnTo>
                  <a:lnTo>
                    <a:pt x="110" y="2377"/>
                  </a:lnTo>
                  <a:lnTo>
                    <a:pt x="0" y="981"/>
                  </a:lnTo>
                  <a:lnTo>
                    <a:pt x="11046" y="0"/>
                  </a:lnTo>
                  <a:close/>
                </a:path>
              </a:pathLst>
            </a:custGeom>
            <a:gradFill rotWithShape="0">
              <a:gsLst>
                <a:gs pos="0">
                  <a:srgbClr val="5c5755"/>
                </a:gs>
                <a:gs pos="100000">
                  <a:srgbClr val="c8beb9"/>
                </a:gs>
              </a:gsLst>
              <a:lin ang="54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>
              <a:off x="1215720" y="5937840"/>
              <a:ext cx="75240" cy="294840"/>
            </a:xfrm>
            <a:custGeom>
              <a:avLst/>
              <a:gdLst/>
              <a:ahLst/>
              <a:rect l="l" t="t" r="r" b="b"/>
              <a:pathLst>
                <a:path w="1756" h="7513">
                  <a:moveTo>
                    <a:pt x="137" y="0"/>
                  </a:moveTo>
                  <a:lnTo>
                    <a:pt x="1715" y="950"/>
                  </a:lnTo>
                  <a:lnTo>
                    <a:pt x="1756" y="1024"/>
                  </a:lnTo>
                  <a:lnTo>
                    <a:pt x="1756" y="6260"/>
                  </a:lnTo>
                  <a:lnTo>
                    <a:pt x="1738" y="6310"/>
                  </a:lnTo>
                  <a:lnTo>
                    <a:pt x="0" y="7513"/>
                  </a:lnTo>
                  <a:lnTo>
                    <a:pt x="13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5e5b"/>
                </a:gs>
                <a:gs pos="100000">
                  <a:srgbClr val="b7aaa3"/>
                </a:gs>
              </a:gsLst>
              <a:lin ang="108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1313640" y="5897520"/>
              <a:ext cx="439920" cy="363960"/>
            </a:xfrm>
            <a:custGeom>
              <a:avLst/>
              <a:gdLst/>
              <a:ahLst/>
              <a:rect l="l" t="t" r="r" b="b"/>
              <a:pathLst>
                <a:path w="10407" h="9275">
                  <a:moveTo>
                    <a:pt x="77" y="573"/>
                  </a:moveTo>
                  <a:lnTo>
                    <a:pt x="289" y="446"/>
                  </a:lnTo>
                  <a:lnTo>
                    <a:pt x="412" y="390"/>
                  </a:lnTo>
                  <a:lnTo>
                    <a:pt x="513" y="367"/>
                  </a:lnTo>
                  <a:lnTo>
                    <a:pt x="9876" y="0"/>
                  </a:lnTo>
                  <a:lnTo>
                    <a:pt x="10265" y="64"/>
                  </a:lnTo>
                  <a:lnTo>
                    <a:pt x="10375" y="120"/>
                  </a:lnTo>
                  <a:lnTo>
                    <a:pt x="10407" y="156"/>
                  </a:lnTo>
                  <a:lnTo>
                    <a:pt x="10366" y="9275"/>
                  </a:lnTo>
                  <a:lnTo>
                    <a:pt x="270" y="8921"/>
                  </a:lnTo>
                  <a:lnTo>
                    <a:pt x="178" y="8880"/>
                  </a:lnTo>
                  <a:lnTo>
                    <a:pt x="123" y="8835"/>
                  </a:lnTo>
                  <a:lnTo>
                    <a:pt x="73" y="8765"/>
                  </a:lnTo>
                  <a:lnTo>
                    <a:pt x="0" y="8632"/>
                  </a:lnTo>
                  <a:lnTo>
                    <a:pt x="77" y="573"/>
                  </a:lnTo>
                  <a:close/>
                </a:path>
              </a:pathLst>
            </a:custGeom>
            <a:gradFill rotWithShape="0">
              <a:gsLst>
                <a:gs pos="0">
                  <a:srgbClr val="d9cfca"/>
                </a:gs>
                <a:gs pos="100000">
                  <a:srgbClr val="968f8c"/>
                </a:gs>
              </a:gsLst>
              <a:lin ang="135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1239120" y="5897520"/>
              <a:ext cx="112320" cy="397800"/>
            </a:xfrm>
            <a:custGeom>
              <a:avLst/>
              <a:gdLst/>
              <a:ahLst/>
              <a:rect l="l" t="t" r="r" b="b"/>
              <a:pathLst>
                <a:path w="2678" h="10161">
                  <a:moveTo>
                    <a:pt x="0" y="10161"/>
                  </a:moveTo>
                  <a:lnTo>
                    <a:pt x="51" y="9248"/>
                  </a:lnTo>
                  <a:lnTo>
                    <a:pt x="353" y="9248"/>
                  </a:lnTo>
                  <a:lnTo>
                    <a:pt x="491" y="9220"/>
                  </a:lnTo>
                  <a:lnTo>
                    <a:pt x="583" y="9142"/>
                  </a:lnTo>
                  <a:lnTo>
                    <a:pt x="629" y="9009"/>
                  </a:lnTo>
                  <a:lnTo>
                    <a:pt x="629" y="248"/>
                  </a:lnTo>
                  <a:lnTo>
                    <a:pt x="614" y="162"/>
                  </a:lnTo>
                  <a:lnTo>
                    <a:pt x="596" y="88"/>
                  </a:lnTo>
                  <a:lnTo>
                    <a:pt x="568" y="51"/>
                  </a:lnTo>
                  <a:lnTo>
                    <a:pt x="491" y="0"/>
                  </a:lnTo>
                  <a:lnTo>
                    <a:pt x="857" y="60"/>
                  </a:lnTo>
                  <a:lnTo>
                    <a:pt x="1023" y="110"/>
                  </a:lnTo>
                  <a:lnTo>
                    <a:pt x="1682" y="538"/>
                  </a:lnTo>
                  <a:lnTo>
                    <a:pt x="1701" y="556"/>
                  </a:lnTo>
                  <a:lnTo>
                    <a:pt x="1715" y="584"/>
                  </a:lnTo>
                  <a:lnTo>
                    <a:pt x="1719" y="620"/>
                  </a:lnTo>
                  <a:lnTo>
                    <a:pt x="2678" y="7320"/>
                  </a:lnTo>
                  <a:lnTo>
                    <a:pt x="2669" y="9137"/>
                  </a:lnTo>
                  <a:lnTo>
                    <a:pt x="27" y="10161"/>
                  </a:lnTo>
                  <a:lnTo>
                    <a:pt x="0" y="10161"/>
                  </a:lnTo>
                  <a:close/>
                </a:path>
              </a:pathLst>
            </a:custGeom>
            <a:gradFill rotWithShape="0">
              <a:gsLst>
                <a:gs pos="0">
                  <a:srgbClr val="665e5b"/>
                </a:gs>
                <a:gs pos="100000">
                  <a:srgbClr val="b7aaa3"/>
                </a:gs>
              </a:gsLst>
              <a:lin ang="108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1349280" y="6248160"/>
              <a:ext cx="356400" cy="23040"/>
            </a:xfrm>
            <a:custGeom>
              <a:avLst/>
              <a:gdLst/>
              <a:ahLst/>
              <a:rect l="l" t="t" r="r" b="b"/>
              <a:pathLst>
                <a:path w="8422" h="579">
                  <a:moveTo>
                    <a:pt x="0" y="0"/>
                  </a:moveTo>
                  <a:lnTo>
                    <a:pt x="8422" y="304"/>
                  </a:lnTo>
                  <a:lnTo>
                    <a:pt x="8391" y="579"/>
                  </a:lnTo>
                  <a:lnTo>
                    <a:pt x="18" y="23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642"/>
                </a:gs>
                <a:gs pos="100000">
                  <a:srgbClr val="a89890"/>
                </a:gs>
              </a:gsLst>
              <a:lin ang="54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1373760" y="5952240"/>
              <a:ext cx="333720" cy="255240"/>
            </a:xfrm>
            <a:custGeom>
              <a:avLst/>
              <a:gdLst/>
              <a:ahLst/>
              <a:rect l="l" t="t" r="r" b="b"/>
              <a:pathLst>
                <a:path w="7886" h="6539">
                  <a:moveTo>
                    <a:pt x="0" y="6084"/>
                  </a:moveTo>
                  <a:lnTo>
                    <a:pt x="73" y="6282"/>
                  </a:lnTo>
                  <a:lnTo>
                    <a:pt x="7775" y="6539"/>
                  </a:lnTo>
                  <a:lnTo>
                    <a:pt x="7817" y="6480"/>
                  </a:lnTo>
                  <a:lnTo>
                    <a:pt x="7863" y="6410"/>
                  </a:lnTo>
                  <a:lnTo>
                    <a:pt x="7886" y="229"/>
                  </a:lnTo>
                  <a:lnTo>
                    <a:pt x="7867" y="118"/>
                  </a:lnTo>
                  <a:lnTo>
                    <a:pt x="7817" y="63"/>
                  </a:lnTo>
                  <a:lnTo>
                    <a:pt x="7460" y="0"/>
                  </a:lnTo>
                  <a:lnTo>
                    <a:pt x="206" y="197"/>
                  </a:lnTo>
                  <a:lnTo>
                    <a:pt x="14" y="3312"/>
                  </a:lnTo>
                  <a:lnTo>
                    <a:pt x="0" y="6084"/>
                  </a:lnTo>
                  <a:close/>
                </a:path>
              </a:pathLst>
            </a:custGeom>
            <a:gradFill rotWithShape="0">
              <a:gsLst>
                <a:gs pos="0">
                  <a:srgbClr val="4b4b4b"/>
                </a:gs>
                <a:gs pos="100000">
                  <a:srgbClr val="000000"/>
                </a:gs>
              </a:gsLst>
              <a:lin ang="81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>
              <a:off x="1378440" y="6225480"/>
              <a:ext cx="57240" cy="9360"/>
            </a:xfrm>
            <a:custGeom>
              <a:avLst/>
              <a:gdLst/>
              <a:ahLst/>
              <a:rect l="l" t="t" r="r" b="b"/>
              <a:pathLst>
                <a:path w="1357" h="276">
                  <a:moveTo>
                    <a:pt x="1357" y="55"/>
                  </a:moveTo>
                  <a:lnTo>
                    <a:pt x="0" y="0"/>
                  </a:lnTo>
                  <a:lnTo>
                    <a:pt x="0" y="225"/>
                  </a:lnTo>
                  <a:lnTo>
                    <a:pt x="1357" y="276"/>
                  </a:lnTo>
                  <a:lnTo>
                    <a:pt x="1357" y="55"/>
                  </a:lnTo>
                  <a:close/>
                </a:path>
              </a:pathLst>
            </a:custGeom>
            <a:gradFill rotWithShape="0">
              <a:gsLst>
                <a:gs pos="0">
                  <a:srgbClr val="12be00"/>
                </a:gs>
                <a:gs pos="100000">
                  <a:srgbClr val="0b7c00"/>
                </a:gs>
              </a:gsLst>
              <a:lin ang="10800000"/>
            </a:gra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1373760" y="5950080"/>
              <a:ext cx="340920" cy="252000"/>
            </a:xfrm>
            <a:custGeom>
              <a:avLst/>
              <a:gdLst/>
              <a:ahLst/>
              <a:rect l="l" t="t" r="r" b="b"/>
              <a:pathLst>
                <a:path w="8034" h="6443">
                  <a:moveTo>
                    <a:pt x="8034" y="206"/>
                  </a:moveTo>
                  <a:lnTo>
                    <a:pt x="8020" y="147"/>
                  </a:lnTo>
                  <a:lnTo>
                    <a:pt x="7969" y="64"/>
                  </a:lnTo>
                  <a:lnTo>
                    <a:pt x="7919" y="32"/>
                  </a:lnTo>
                  <a:lnTo>
                    <a:pt x="7818" y="9"/>
                  </a:lnTo>
                  <a:lnTo>
                    <a:pt x="7722" y="0"/>
                  </a:lnTo>
                  <a:lnTo>
                    <a:pt x="294" y="179"/>
                  </a:lnTo>
                  <a:lnTo>
                    <a:pt x="180" y="193"/>
                  </a:lnTo>
                  <a:lnTo>
                    <a:pt x="97" y="239"/>
                  </a:lnTo>
                  <a:lnTo>
                    <a:pt x="51" y="298"/>
                  </a:lnTo>
                  <a:lnTo>
                    <a:pt x="24" y="372"/>
                  </a:lnTo>
                  <a:lnTo>
                    <a:pt x="0" y="495"/>
                  </a:lnTo>
                  <a:lnTo>
                    <a:pt x="0" y="6177"/>
                  </a:lnTo>
                  <a:lnTo>
                    <a:pt x="10" y="6273"/>
                  </a:lnTo>
                  <a:lnTo>
                    <a:pt x="33" y="6356"/>
                  </a:lnTo>
                  <a:lnTo>
                    <a:pt x="61" y="6388"/>
                  </a:lnTo>
                  <a:lnTo>
                    <a:pt x="111" y="6420"/>
                  </a:lnTo>
                  <a:lnTo>
                    <a:pt x="162" y="6443"/>
                  </a:lnTo>
                  <a:lnTo>
                    <a:pt x="510" y="6255"/>
                  </a:lnTo>
                  <a:lnTo>
                    <a:pt x="468" y="6218"/>
                  </a:lnTo>
                  <a:lnTo>
                    <a:pt x="427" y="6172"/>
                  </a:lnTo>
                  <a:lnTo>
                    <a:pt x="409" y="6126"/>
                  </a:lnTo>
                  <a:lnTo>
                    <a:pt x="390" y="6007"/>
                  </a:lnTo>
                  <a:lnTo>
                    <a:pt x="354" y="4823"/>
                  </a:lnTo>
                  <a:lnTo>
                    <a:pt x="322" y="3455"/>
                  </a:lnTo>
                  <a:lnTo>
                    <a:pt x="331" y="2460"/>
                  </a:lnTo>
                  <a:lnTo>
                    <a:pt x="363" y="1284"/>
                  </a:lnTo>
                  <a:lnTo>
                    <a:pt x="440" y="711"/>
                  </a:lnTo>
                  <a:lnTo>
                    <a:pt x="464" y="551"/>
                  </a:lnTo>
                  <a:lnTo>
                    <a:pt x="501" y="436"/>
                  </a:lnTo>
                  <a:lnTo>
                    <a:pt x="542" y="376"/>
                  </a:lnTo>
                  <a:lnTo>
                    <a:pt x="593" y="339"/>
                  </a:lnTo>
                  <a:lnTo>
                    <a:pt x="633" y="317"/>
                  </a:lnTo>
                  <a:lnTo>
                    <a:pt x="716" y="307"/>
                  </a:lnTo>
                  <a:lnTo>
                    <a:pt x="7689" y="138"/>
                  </a:lnTo>
                  <a:lnTo>
                    <a:pt x="7805" y="138"/>
                  </a:lnTo>
                  <a:lnTo>
                    <a:pt x="7892" y="138"/>
                  </a:lnTo>
                  <a:lnTo>
                    <a:pt x="7969" y="160"/>
                  </a:lnTo>
                  <a:lnTo>
                    <a:pt x="8034" y="206"/>
                  </a:lnTo>
                  <a:close/>
                </a:path>
              </a:pathLst>
            </a:custGeom>
            <a:gradFill rotWithShape="0">
              <a:gsLst>
                <a:gs pos="0">
                  <a:srgbClr val="5f5954"/>
                </a:gs>
                <a:gs pos="100000">
                  <a:srgbClr val="8a807a"/>
                </a:gs>
              </a:gsLst>
              <a:lin ang="54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>
              <a:off x="1373760" y="6194520"/>
              <a:ext cx="333720" cy="17640"/>
            </a:xfrm>
            <a:custGeom>
              <a:avLst/>
              <a:gdLst/>
              <a:ahLst/>
              <a:rect l="l" t="t" r="r" b="b"/>
              <a:pathLst>
                <a:path w="7879" h="426">
                  <a:moveTo>
                    <a:pt x="7872" y="123"/>
                  </a:moveTo>
                  <a:lnTo>
                    <a:pt x="7858" y="151"/>
                  </a:lnTo>
                  <a:lnTo>
                    <a:pt x="7845" y="179"/>
                  </a:lnTo>
                  <a:lnTo>
                    <a:pt x="7817" y="197"/>
                  </a:lnTo>
                  <a:lnTo>
                    <a:pt x="7808" y="210"/>
                  </a:lnTo>
                  <a:lnTo>
                    <a:pt x="7803" y="210"/>
                  </a:lnTo>
                  <a:lnTo>
                    <a:pt x="7799" y="215"/>
                  </a:lnTo>
                  <a:lnTo>
                    <a:pt x="7716" y="243"/>
                  </a:lnTo>
                  <a:lnTo>
                    <a:pt x="458" y="27"/>
                  </a:lnTo>
                  <a:lnTo>
                    <a:pt x="390" y="13"/>
                  </a:lnTo>
                  <a:lnTo>
                    <a:pt x="329" y="0"/>
                  </a:lnTo>
                  <a:lnTo>
                    <a:pt x="0" y="183"/>
                  </a:lnTo>
                  <a:lnTo>
                    <a:pt x="5373" y="339"/>
                  </a:lnTo>
                  <a:lnTo>
                    <a:pt x="5449" y="340"/>
                  </a:lnTo>
                  <a:lnTo>
                    <a:pt x="5654" y="341"/>
                  </a:lnTo>
                  <a:lnTo>
                    <a:pt x="5950" y="345"/>
                  </a:lnTo>
                  <a:lnTo>
                    <a:pt x="6302" y="352"/>
                  </a:lnTo>
                  <a:lnTo>
                    <a:pt x="6487" y="356"/>
                  </a:lnTo>
                  <a:lnTo>
                    <a:pt x="6673" y="363"/>
                  </a:lnTo>
                  <a:lnTo>
                    <a:pt x="6853" y="369"/>
                  </a:lnTo>
                  <a:lnTo>
                    <a:pt x="7025" y="376"/>
                  </a:lnTo>
                  <a:lnTo>
                    <a:pt x="7107" y="380"/>
                  </a:lnTo>
                  <a:lnTo>
                    <a:pt x="7183" y="384"/>
                  </a:lnTo>
                  <a:lnTo>
                    <a:pt x="7257" y="389"/>
                  </a:lnTo>
                  <a:lnTo>
                    <a:pt x="7324" y="394"/>
                  </a:lnTo>
                  <a:lnTo>
                    <a:pt x="7386" y="399"/>
                  </a:lnTo>
                  <a:lnTo>
                    <a:pt x="7442" y="405"/>
                  </a:lnTo>
                  <a:lnTo>
                    <a:pt x="7492" y="411"/>
                  </a:lnTo>
                  <a:lnTo>
                    <a:pt x="7532" y="417"/>
                  </a:lnTo>
                  <a:lnTo>
                    <a:pt x="7571" y="422"/>
                  </a:lnTo>
                  <a:lnTo>
                    <a:pt x="7606" y="425"/>
                  </a:lnTo>
                  <a:lnTo>
                    <a:pt x="7639" y="426"/>
                  </a:lnTo>
                  <a:lnTo>
                    <a:pt x="7668" y="424"/>
                  </a:lnTo>
                  <a:lnTo>
                    <a:pt x="7696" y="421"/>
                  </a:lnTo>
                  <a:lnTo>
                    <a:pt x="7720" y="416"/>
                  </a:lnTo>
                  <a:lnTo>
                    <a:pt x="7744" y="409"/>
                  </a:lnTo>
                  <a:lnTo>
                    <a:pt x="7764" y="400"/>
                  </a:lnTo>
                  <a:lnTo>
                    <a:pt x="7782" y="390"/>
                  </a:lnTo>
                  <a:lnTo>
                    <a:pt x="7798" y="380"/>
                  </a:lnTo>
                  <a:lnTo>
                    <a:pt x="7813" y="368"/>
                  </a:lnTo>
                  <a:lnTo>
                    <a:pt x="7826" y="354"/>
                  </a:lnTo>
                  <a:lnTo>
                    <a:pt x="7837" y="341"/>
                  </a:lnTo>
                  <a:lnTo>
                    <a:pt x="7846" y="326"/>
                  </a:lnTo>
                  <a:lnTo>
                    <a:pt x="7854" y="311"/>
                  </a:lnTo>
                  <a:lnTo>
                    <a:pt x="7860" y="296"/>
                  </a:lnTo>
                  <a:lnTo>
                    <a:pt x="7866" y="281"/>
                  </a:lnTo>
                  <a:lnTo>
                    <a:pt x="7870" y="266"/>
                  </a:lnTo>
                  <a:lnTo>
                    <a:pt x="7874" y="250"/>
                  </a:lnTo>
                  <a:lnTo>
                    <a:pt x="7876" y="235"/>
                  </a:lnTo>
                  <a:lnTo>
                    <a:pt x="7878" y="220"/>
                  </a:lnTo>
                  <a:lnTo>
                    <a:pt x="7879" y="205"/>
                  </a:lnTo>
                  <a:lnTo>
                    <a:pt x="7879" y="192"/>
                  </a:lnTo>
                  <a:lnTo>
                    <a:pt x="7879" y="179"/>
                  </a:lnTo>
                  <a:lnTo>
                    <a:pt x="7875" y="139"/>
                  </a:lnTo>
                  <a:lnTo>
                    <a:pt x="7872" y="123"/>
                  </a:lnTo>
                  <a:close/>
                </a:path>
              </a:pathLst>
            </a:custGeom>
            <a:solidFill>
              <a:srgbClr val="d3d3d3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H="1">
              <a:off x="1338480" y="6343560"/>
              <a:ext cx="106560" cy="14040"/>
            </a:xfrm>
            <a:custGeom>
              <a:avLst/>
              <a:gdLst/>
              <a:ahLst/>
              <a:rect l="l" t="t" r="r" b="b"/>
              <a:pathLst>
                <a:path w="2378" h="344">
                  <a:moveTo>
                    <a:pt x="0" y="222"/>
                  </a:moveTo>
                  <a:lnTo>
                    <a:pt x="0" y="0"/>
                  </a:lnTo>
                  <a:lnTo>
                    <a:pt x="2378" y="107"/>
                  </a:lnTo>
                  <a:lnTo>
                    <a:pt x="2378" y="344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6a605a"/>
            </a:soli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9" name=""/>
          <p:cNvSpPr/>
          <p:nvPr/>
        </p:nvSpPr>
        <p:spPr>
          <a:xfrm rot="5631600">
            <a:off x="2038680" y="4691880"/>
            <a:ext cx="447840" cy="1411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rot="5631600">
            <a:off x="1791000" y="5107680"/>
            <a:ext cx="156960" cy="1904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 rot="5631600">
            <a:off x="1309320" y="5624280"/>
            <a:ext cx="428760" cy="1238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3927600" y="1690560"/>
            <a:ext cx="236520" cy="408240"/>
            <a:chOff x="3927600" y="1690560"/>
            <a:chExt cx="236520" cy="408240"/>
          </a:xfrm>
        </p:grpSpPr>
        <p:sp>
          <p:nvSpPr>
            <p:cNvPr id="1663" name=""/>
            <p:cNvSpPr/>
            <p:nvPr/>
          </p:nvSpPr>
          <p:spPr>
            <a:xfrm>
              <a:off x="3927600" y="1690560"/>
              <a:ext cx="236520" cy="408240"/>
            </a:xfrm>
            <a:prstGeom prst="rect">
              <a:avLst/>
            </a:prstGeom>
            <a:solidFill>
              <a:srgbClr val="00c6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954960" y="1741680"/>
              <a:ext cx="169200" cy="31680"/>
            </a:xfrm>
            <a:prstGeom prst="rect">
              <a:avLst/>
            </a:prstGeom>
            <a:gradFill rotWithShape="0">
              <a:gsLst>
                <a:gs pos="0">
                  <a:srgbClr val="878787"/>
                </a:gs>
                <a:gs pos="50000">
                  <a:srgbClr val="b2b2b2"/>
                </a:gs>
                <a:gs pos="100000">
                  <a:srgbClr val="878787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954960" y="1796400"/>
              <a:ext cx="169200" cy="31680"/>
            </a:xfrm>
            <a:prstGeom prst="rect">
              <a:avLst/>
            </a:prstGeom>
            <a:gradFill rotWithShape="0">
              <a:gsLst>
                <a:gs pos="0">
                  <a:srgbClr val="878787"/>
                </a:gs>
                <a:gs pos="50000">
                  <a:srgbClr val="b2b2b2"/>
                </a:gs>
                <a:gs pos="100000">
                  <a:srgbClr val="878787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954960" y="1851120"/>
              <a:ext cx="169200" cy="31680"/>
            </a:xfrm>
            <a:prstGeom prst="rect">
              <a:avLst/>
            </a:prstGeom>
            <a:gradFill rotWithShape="0">
              <a:gsLst>
                <a:gs pos="0">
                  <a:srgbClr val="878787"/>
                </a:gs>
                <a:gs pos="50000">
                  <a:srgbClr val="b2b2b2"/>
                </a:gs>
                <a:gs pos="100000">
                  <a:srgbClr val="878787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54960" y="1907280"/>
              <a:ext cx="169200" cy="31680"/>
            </a:xfrm>
            <a:prstGeom prst="rect">
              <a:avLst/>
            </a:prstGeom>
            <a:gradFill rotWithShape="0">
              <a:gsLst>
                <a:gs pos="0">
                  <a:srgbClr val="878787"/>
                </a:gs>
                <a:gs pos="50000">
                  <a:srgbClr val="b2b2b2"/>
                </a:gs>
                <a:gs pos="100000">
                  <a:srgbClr val="878787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8" name=""/>
          <p:cNvGrpSpPr/>
          <p:nvPr/>
        </p:nvGrpSpPr>
        <p:grpSpPr>
          <a:xfrm>
            <a:off x="3936960" y="5237280"/>
            <a:ext cx="236520" cy="407880"/>
            <a:chOff x="3936960" y="5237280"/>
            <a:chExt cx="236520" cy="407880"/>
          </a:xfrm>
        </p:grpSpPr>
        <p:sp>
          <p:nvSpPr>
            <p:cNvPr id="1669" name=""/>
            <p:cNvSpPr/>
            <p:nvPr/>
          </p:nvSpPr>
          <p:spPr>
            <a:xfrm>
              <a:off x="3936960" y="5237280"/>
              <a:ext cx="236520" cy="407880"/>
            </a:xfrm>
            <a:prstGeom prst="rect">
              <a:avLst/>
            </a:prstGeom>
            <a:solidFill>
              <a:srgbClr val="00c6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964320" y="5288400"/>
              <a:ext cx="169200" cy="31680"/>
            </a:xfrm>
            <a:prstGeom prst="rect">
              <a:avLst/>
            </a:prstGeom>
            <a:gradFill rotWithShape="0">
              <a:gsLst>
                <a:gs pos="0">
                  <a:srgbClr val="878787"/>
                </a:gs>
                <a:gs pos="50000">
                  <a:srgbClr val="b2b2b2"/>
                </a:gs>
                <a:gs pos="100000">
                  <a:srgbClr val="878787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64320" y="5342760"/>
              <a:ext cx="169200" cy="31680"/>
            </a:xfrm>
            <a:prstGeom prst="rect">
              <a:avLst/>
            </a:prstGeom>
            <a:gradFill rotWithShape="0">
              <a:gsLst>
                <a:gs pos="0">
                  <a:srgbClr val="878787"/>
                </a:gs>
                <a:gs pos="50000">
                  <a:srgbClr val="b2b2b2"/>
                </a:gs>
                <a:gs pos="100000">
                  <a:srgbClr val="878787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964320" y="5397840"/>
              <a:ext cx="169200" cy="31680"/>
            </a:xfrm>
            <a:prstGeom prst="rect">
              <a:avLst/>
            </a:prstGeom>
            <a:gradFill rotWithShape="0">
              <a:gsLst>
                <a:gs pos="0">
                  <a:srgbClr val="878787"/>
                </a:gs>
                <a:gs pos="50000">
                  <a:srgbClr val="b2b2b2"/>
                </a:gs>
                <a:gs pos="100000">
                  <a:srgbClr val="878787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964320" y="5454000"/>
              <a:ext cx="169200" cy="31680"/>
            </a:xfrm>
            <a:prstGeom prst="rect">
              <a:avLst/>
            </a:prstGeom>
            <a:gradFill rotWithShape="0">
              <a:gsLst>
                <a:gs pos="0">
                  <a:srgbClr val="878787"/>
                </a:gs>
                <a:gs pos="50000">
                  <a:srgbClr val="b2b2b2"/>
                </a:gs>
                <a:gs pos="100000">
                  <a:srgbClr val="878787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4" name=""/>
          <p:cNvGrpSpPr/>
          <p:nvPr/>
        </p:nvGrpSpPr>
        <p:grpSpPr>
          <a:xfrm>
            <a:off x="3946680" y="4484520"/>
            <a:ext cx="236520" cy="408240"/>
            <a:chOff x="3946680" y="4484520"/>
            <a:chExt cx="236520" cy="408240"/>
          </a:xfrm>
        </p:grpSpPr>
        <p:sp>
          <p:nvSpPr>
            <p:cNvPr id="1675" name=""/>
            <p:cNvSpPr/>
            <p:nvPr/>
          </p:nvSpPr>
          <p:spPr>
            <a:xfrm>
              <a:off x="3946680" y="4484520"/>
              <a:ext cx="236520" cy="408240"/>
            </a:xfrm>
            <a:prstGeom prst="rect">
              <a:avLst/>
            </a:prstGeom>
            <a:solidFill>
              <a:srgbClr val="00c6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974040" y="4535640"/>
              <a:ext cx="169200" cy="31680"/>
            </a:xfrm>
            <a:prstGeom prst="rect">
              <a:avLst/>
            </a:prstGeom>
            <a:gradFill rotWithShape="0">
              <a:gsLst>
                <a:gs pos="0">
                  <a:srgbClr val="878787"/>
                </a:gs>
                <a:gs pos="50000">
                  <a:srgbClr val="b2b2b2"/>
                </a:gs>
                <a:gs pos="100000">
                  <a:srgbClr val="878787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974040" y="4590360"/>
              <a:ext cx="169200" cy="31680"/>
            </a:xfrm>
            <a:prstGeom prst="rect">
              <a:avLst/>
            </a:prstGeom>
            <a:gradFill rotWithShape="0">
              <a:gsLst>
                <a:gs pos="0">
                  <a:srgbClr val="878787"/>
                </a:gs>
                <a:gs pos="50000">
                  <a:srgbClr val="b2b2b2"/>
                </a:gs>
                <a:gs pos="100000">
                  <a:srgbClr val="878787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974040" y="4645080"/>
              <a:ext cx="169200" cy="31680"/>
            </a:xfrm>
            <a:prstGeom prst="rect">
              <a:avLst/>
            </a:prstGeom>
            <a:gradFill rotWithShape="0">
              <a:gsLst>
                <a:gs pos="0">
                  <a:srgbClr val="878787"/>
                </a:gs>
                <a:gs pos="50000">
                  <a:srgbClr val="b2b2b2"/>
                </a:gs>
                <a:gs pos="100000">
                  <a:srgbClr val="878787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974040" y="4701240"/>
              <a:ext cx="169200" cy="31680"/>
            </a:xfrm>
            <a:prstGeom prst="rect">
              <a:avLst/>
            </a:prstGeom>
            <a:gradFill rotWithShape="0">
              <a:gsLst>
                <a:gs pos="0">
                  <a:srgbClr val="878787"/>
                </a:gs>
                <a:gs pos="50000">
                  <a:srgbClr val="b2b2b2"/>
                </a:gs>
                <a:gs pos="100000">
                  <a:srgbClr val="878787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3933720" y="2414520"/>
            <a:ext cx="236520" cy="407880"/>
            <a:chOff x="3933720" y="2414520"/>
            <a:chExt cx="236520" cy="407880"/>
          </a:xfrm>
        </p:grpSpPr>
        <p:sp>
          <p:nvSpPr>
            <p:cNvPr id="1681" name=""/>
            <p:cNvSpPr/>
            <p:nvPr/>
          </p:nvSpPr>
          <p:spPr>
            <a:xfrm>
              <a:off x="3933720" y="2414520"/>
              <a:ext cx="236520" cy="407880"/>
            </a:xfrm>
            <a:prstGeom prst="rect">
              <a:avLst/>
            </a:prstGeom>
            <a:solidFill>
              <a:srgbClr val="00c60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961080" y="2465640"/>
              <a:ext cx="169200" cy="31680"/>
            </a:xfrm>
            <a:prstGeom prst="rect">
              <a:avLst/>
            </a:prstGeom>
            <a:gradFill rotWithShape="0">
              <a:gsLst>
                <a:gs pos="0">
                  <a:srgbClr val="878787"/>
                </a:gs>
                <a:gs pos="50000">
                  <a:srgbClr val="b2b2b2"/>
                </a:gs>
                <a:gs pos="100000">
                  <a:srgbClr val="878787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961080" y="2520000"/>
              <a:ext cx="169200" cy="31680"/>
            </a:xfrm>
            <a:prstGeom prst="rect">
              <a:avLst/>
            </a:prstGeom>
            <a:gradFill rotWithShape="0">
              <a:gsLst>
                <a:gs pos="0">
                  <a:srgbClr val="878787"/>
                </a:gs>
                <a:gs pos="50000">
                  <a:srgbClr val="b2b2b2"/>
                </a:gs>
                <a:gs pos="100000">
                  <a:srgbClr val="878787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961080" y="2575080"/>
              <a:ext cx="169200" cy="31680"/>
            </a:xfrm>
            <a:prstGeom prst="rect">
              <a:avLst/>
            </a:prstGeom>
            <a:gradFill rotWithShape="0">
              <a:gsLst>
                <a:gs pos="0">
                  <a:srgbClr val="878787"/>
                </a:gs>
                <a:gs pos="50000">
                  <a:srgbClr val="b2b2b2"/>
                </a:gs>
                <a:gs pos="100000">
                  <a:srgbClr val="878787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961080" y="2631240"/>
              <a:ext cx="169200" cy="31680"/>
            </a:xfrm>
            <a:prstGeom prst="rect">
              <a:avLst/>
            </a:prstGeom>
            <a:gradFill rotWithShape="0">
              <a:gsLst>
                <a:gs pos="0">
                  <a:srgbClr val="878787"/>
                </a:gs>
                <a:gs pos="50000">
                  <a:srgbClr val="b2b2b2"/>
                </a:gs>
                <a:gs pos="100000">
                  <a:srgbClr val="878787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5291280" y="2727360"/>
            <a:ext cx="237960" cy="407880"/>
            <a:chOff x="5291280" y="2727360"/>
            <a:chExt cx="237960" cy="407880"/>
          </a:xfrm>
        </p:grpSpPr>
        <p:sp>
          <p:nvSpPr>
            <p:cNvPr id="1687" name=""/>
            <p:cNvSpPr/>
            <p:nvPr/>
          </p:nvSpPr>
          <p:spPr>
            <a:xfrm>
              <a:off x="5291280" y="2727360"/>
              <a:ext cx="237960" cy="407880"/>
            </a:xfrm>
            <a:prstGeom prst="rect">
              <a:avLst/>
            </a:prstGeom>
            <a:solidFill>
              <a:srgbClr val="ff3939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319000" y="2778480"/>
              <a:ext cx="169920" cy="3132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319000" y="2833200"/>
              <a:ext cx="169920" cy="3132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319000" y="2887200"/>
              <a:ext cx="169920" cy="3168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319000" y="2943000"/>
              <a:ext cx="169920" cy="3312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92" name=""/>
            <p:cNvGraphicFramePr/>
            <p:nvPr/>
          </p:nvGraphicFramePr>
          <p:xfrm>
            <a:off x="5338080" y="2997720"/>
            <a:ext cx="120240" cy="132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8080" y="2997720"/>
                      <a:ext cx="120240" cy="132840"/>
                    </a:xfrm>
                    <a:prstGeom prst="rect">
                      <a:avLst/>
                    </a:prstGeom>
                    <a:ln w="12600">
                      <a:solidFill>
                        <a:srgbClr val="b2b2b2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694" name=""/>
          <p:cNvGrpSpPr/>
          <p:nvPr/>
        </p:nvGrpSpPr>
        <p:grpSpPr>
          <a:xfrm>
            <a:off x="5281560" y="3305160"/>
            <a:ext cx="238320" cy="407880"/>
            <a:chOff x="5281560" y="3305160"/>
            <a:chExt cx="238320" cy="407880"/>
          </a:xfrm>
        </p:grpSpPr>
        <p:sp>
          <p:nvSpPr>
            <p:cNvPr id="1695" name=""/>
            <p:cNvSpPr/>
            <p:nvPr/>
          </p:nvSpPr>
          <p:spPr>
            <a:xfrm>
              <a:off x="5281560" y="3305160"/>
              <a:ext cx="238320" cy="407880"/>
            </a:xfrm>
            <a:prstGeom prst="rect">
              <a:avLst/>
            </a:prstGeom>
            <a:solidFill>
              <a:srgbClr val="ff3939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309280" y="3356280"/>
              <a:ext cx="169920" cy="3132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309280" y="3411000"/>
              <a:ext cx="169920" cy="3132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309280" y="3465000"/>
              <a:ext cx="169920" cy="3168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309280" y="3520800"/>
              <a:ext cx="169920" cy="33120"/>
            </a:xfrm>
            <a:prstGeom prst="rect">
              <a:avLst/>
            </a:pr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00" name=""/>
            <p:cNvGraphicFramePr/>
            <p:nvPr/>
          </p:nvGraphicFramePr>
          <p:xfrm>
            <a:off x="5328360" y="3575520"/>
            <a:ext cx="120240" cy="132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0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28360" y="3575520"/>
                      <a:ext cx="120240" cy="132840"/>
                    </a:xfrm>
                    <a:prstGeom prst="rect">
                      <a:avLst/>
                    </a:prstGeom>
                    <a:ln w="12600">
                      <a:solidFill>
                        <a:srgbClr val="b2b2b2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702" name=""/>
          <p:cNvGrpSpPr/>
          <p:nvPr/>
        </p:nvGrpSpPr>
        <p:grpSpPr>
          <a:xfrm>
            <a:off x="6721560" y="3143160"/>
            <a:ext cx="396720" cy="139680"/>
            <a:chOff x="6721560" y="3143160"/>
            <a:chExt cx="396720" cy="139680"/>
          </a:xfrm>
        </p:grpSpPr>
        <p:sp>
          <p:nvSpPr>
            <p:cNvPr id="1703" name=""/>
            <p:cNvSpPr/>
            <p:nvPr/>
          </p:nvSpPr>
          <p:spPr>
            <a:xfrm>
              <a:off x="6721560" y="3143160"/>
              <a:ext cx="396720" cy="13968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737760" y="3213000"/>
              <a:ext cx="3276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813720" y="3213000"/>
              <a:ext cx="3276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893640" y="3213000"/>
              <a:ext cx="3276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978960" y="3213000"/>
              <a:ext cx="3276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056000" y="3213000"/>
              <a:ext cx="32760" cy="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9" name=""/>
          <p:cNvGrpSpPr/>
          <p:nvPr/>
        </p:nvGrpSpPr>
        <p:grpSpPr>
          <a:xfrm>
            <a:off x="6743880" y="3629160"/>
            <a:ext cx="393480" cy="509040"/>
            <a:chOff x="6743880" y="3629160"/>
            <a:chExt cx="393480" cy="509040"/>
          </a:xfrm>
        </p:grpSpPr>
        <p:sp>
          <p:nvSpPr>
            <p:cNvPr id="1710" name=""/>
            <p:cNvSpPr/>
            <p:nvPr/>
          </p:nvSpPr>
          <p:spPr>
            <a:xfrm>
              <a:off x="6743880" y="3629160"/>
              <a:ext cx="393480" cy="254520"/>
            </a:xfrm>
            <a:custGeom>
              <a:avLst/>
              <a:gdLst/>
              <a:ahLst/>
              <a:rect l="l" t="t" r="r" b="b"/>
              <a:pathLst>
                <a:path w="2967" h="1713">
                  <a:moveTo>
                    <a:pt x="2967" y="856"/>
                  </a:moveTo>
                  <a:lnTo>
                    <a:pt x="1484" y="0"/>
                  </a:lnTo>
                  <a:lnTo>
                    <a:pt x="0" y="856"/>
                  </a:lnTo>
                  <a:lnTo>
                    <a:pt x="1484" y="1713"/>
                  </a:lnTo>
                  <a:lnTo>
                    <a:pt x="2967" y="856"/>
                  </a:lnTo>
                  <a:close/>
                </a:path>
              </a:pathLst>
            </a:custGeom>
            <a:gradFill rotWithShape="0">
              <a:gsLst>
                <a:gs pos="0">
                  <a:srgbClr val="006700"/>
                </a:gs>
                <a:gs pos="100000">
                  <a:srgbClr val="00ba00"/>
                </a:gs>
              </a:gsLst>
              <a:lin ang="54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743880" y="3756600"/>
              <a:ext cx="196200" cy="381600"/>
            </a:xfrm>
            <a:custGeom>
              <a:avLst/>
              <a:gdLst/>
              <a:ahLst/>
              <a:rect l="l" t="t" r="r" b="b"/>
              <a:pathLst>
                <a:path w="1484" h="2570">
                  <a:moveTo>
                    <a:pt x="0" y="0"/>
                  </a:moveTo>
                  <a:lnTo>
                    <a:pt x="1484" y="857"/>
                  </a:lnTo>
                  <a:lnTo>
                    <a:pt x="1484" y="2570"/>
                  </a:lnTo>
                  <a:lnTo>
                    <a:pt x="0" y="17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8600"/>
                </a:gs>
                <a:gs pos="100000">
                  <a:srgbClr val="003000"/>
                </a:gs>
              </a:gsLst>
              <a:lin ang="81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940080" y="3756600"/>
              <a:ext cx="196920" cy="381600"/>
            </a:xfrm>
            <a:custGeom>
              <a:avLst/>
              <a:gdLst/>
              <a:ahLst/>
              <a:rect l="l" t="t" r="r" b="b"/>
              <a:pathLst>
                <a:path w="1483" h="2570">
                  <a:moveTo>
                    <a:pt x="1483" y="0"/>
                  </a:moveTo>
                  <a:lnTo>
                    <a:pt x="0" y="857"/>
                  </a:lnTo>
                  <a:lnTo>
                    <a:pt x="0" y="2570"/>
                  </a:lnTo>
                  <a:lnTo>
                    <a:pt x="1483" y="1713"/>
                  </a:lnTo>
                  <a:lnTo>
                    <a:pt x="148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7200"/>
                </a:gs>
                <a:gs pos="100000">
                  <a:srgbClr val="00ae00"/>
                </a:gs>
              </a:gsLst>
              <a:lin ang="10800000"/>
            </a:gradFill>
            <a:ln cap="rnd"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3" name=""/>
          <p:cNvSpPr/>
          <p:nvPr/>
        </p:nvSpPr>
        <p:spPr>
          <a:xfrm flipH="1">
            <a:off x="1042560" y="2335320"/>
            <a:ext cx="3240" cy="203364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H="1">
            <a:off x="1028880" y="4361040"/>
            <a:ext cx="868320" cy="28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 flipH="1">
            <a:off x="1057320" y="3125880"/>
            <a:ext cx="868320" cy="324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H="1">
            <a:off x="3633480" y="1879560"/>
            <a:ext cx="3049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flipH="1">
            <a:off x="3633480" y="2584440"/>
            <a:ext cx="3049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H="1">
            <a:off x="3642840" y="4699080"/>
            <a:ext cx="3049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H="1">
            <a:off x="3642840" y="5423040"/>
            <a:ext cx="3049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652920" y="1879560"/>
            <a:ext cx="0" cy="356256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2747880" y="4341960"/>
            <a:ext cx="914400" cy="28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2728800" y="3117960"/>
            <a:ext cx="933480" cy="468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948360" y="3289320"/>
            <a:ext cx="0" cy="45720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H="1">
            <a:off x="3652560" y="3556080"/>
            <a:ext cx="16477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3672000" y="3003480"/>
            <a:ext cx="1619280" cy="324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350000" y="141552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1294560" y="250596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ent Distribu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H="1">
            <a:off x="3655800" y="3917880"/>
            <a:ext cx="3082680" cy="324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1911960" y="363924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-78840" y="4690800"/>
            <a:ext cx="157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e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544120" y="50108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1860120" y="5763960"/>
            <a:ext cx="206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ent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min &amp; Mon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960080" y="196308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servers w/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5036040" y="48204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servers w/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251840" y="301068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213680" y="3655440"/>
            <a:ext cx="17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223680" y="251532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ffic Servers w/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 flipV="1">
            <a:off x="4443480" y="1907640"/>
            <a:ext cx="419040" cy="26676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H="1">
            <a:off x="4462200" y="2165400"/>
            <a:ext cx="399960" cy="23796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H="1" flipV="1">
            <a:off x="4510080" y="4727160"/>
            <a:ext cx="419040" cy="26676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4519440" y="4984920"/>
            <a:ext cx="400320" cy="23796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flipH="1">
            <a:off x="5748480" y="2746440"/>
            <a:ext cx="504720" cy="7596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H="1">
            <a:off x="5729400" y="2746440"/>
            <a:ext cx="514080" cy="6382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 Delivery Suit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5" name=""/>
          <p:cNvGrpSpPr/>
          <p:nvPr/>
        </p:nvGrpSpPr>
        <p:grpSpPr>
          <a:xfrm>
            <a:off x="3041640" y="3048120"/>
            <a:ext cx="1523520" cy="1143000"/>
            <a:chOff x="3041640" y="3048120"/>
            <a:chExt cx="1523520" cy="1143000"/>
          </a:xfrm>
        </p:grpSpPr>
        <p:sp>
          <p:nvSpPr>
            <p:cNvPr id="1746" name=""/>
            <p:cNvSpPr/>
            <p:nvPr/>
          </p:nvSpPr>
          <p:spPr>
            <a:xfrm>
              <a:off x="3295080" y="3048120"/>
              <a:ext cx="1270080" cy="1143000"/>
            </a:xfrm>
            <a:prstGeom prst="flowChartPredefined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Verif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Accept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Crite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041640" y="3429000"/>
              <a:ext cx="253440" cy="380880"/>
            </a:xfrm>
            <a:custGeom>
              <a:avLst/>
              <a:gdLst>
                <a:gd name="textAreaLeft" fmla="*/ 39600 w 253440"/>
                <a:gd name="textAreaRight" fmla="*/ 221760 w 25344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 Distribution Proces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9" name=""/>
          <p:cNvGrpSpPr/>
          <p:nvPr/>
        </p:nvGrpSpPr>
        <p:grpSpPr>
          <a:xfrm>
            <a:off x="1447920" y="2286000"/>
            <a:ext cx="1593360" cy="2590920"/>
            <a:chOff x="1447920" y="2286000"/>
            <a:chExt cx="1593360" cy="2590920"/>
          </a:xfrm>
        </p:grpSpPr>
        <p:sp>
          <p:nvSpPr>
            <p:cNvPr id="1750" name=""/>
            <p:cNvSpPr/>
            <p:nvPr/>
          </p:nvSpPr>
          <p:spPr>
            <a:xfrm flipV="1">
              <a:off x="1447920" y="4419720"/>
              <a:ext cx="929520" cy="457200"/>
            </a:xfrm>
            <a:custGeom>
              <a:avLst/>
              <a:gdLst>
                <a:gd name="textAreaLeft" fmla="*/ 162720 w 929520"/>
                <a:gd name="textAreaRight" fmla="*/ 673920 w 92952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447920" y="2286000"/>
              <a:ext cx="929520" cy="457200"/>
            </a:xfrm>
            <a:custGeom>
              <a:avLst/>
              <a:gdLst>
                <a:gd name="textAreaLeft" fmla="*/ 162720 w 929520"/>
                <a:gd name="textAreaRight" fmla="*/ 673920 w 92952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13240" y="3048120"/>
              <a:ext cx="1328040" cy="1143000"/>
            </a:xfrm>
            <a:prstGeom prst="flowChartPredefined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Determ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Chan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Pack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152280" y="2057400"/>
            <a:ext cx="1524240" cy="3048120"/>
            <a:chOff x="152280" y="2057400"/>
            <a:chExt cx="1524240" cy="3048120"/>
          </a:xfrm>
        </p:grpSpPr>
        <p:sp>
          <p:nvSpPr>
            <p:cNvPr id="1754" name=""/>
            <p:cNvSpPr/>
            <p:nvPr/>
          </p:nvSpPr>
          <p:spPr>
            <a:xfrm>
              <a:off x="152280" y="3962520"/>
              <a:ext cx="1524240" cy="1143000"/>
            </a:xfrm>
            <a:prstGeom prst="flowChartPredefined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Arial"/>
                </a:rPr>
                <a:t>Schedu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52280" y="2057400"/>
              <a:ext cx="1524240" cy="1143000"/>
            </a:xfrm>
            <a:prstGeom prst="flowChartPredefined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Arial"/>
                </a:rPr>
                <a:t>Source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Arial"/>
                </a:rPr>
                <a:t>Destin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Arial"/>
                </a:rPr>
                <a:t>Ma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38080" y="3200400"/>
              <a:ext cx="228600" cy="762120"/>
            </a:xfrm>
            <a:prstGeom prst="upDownArrow">
              <a:avLst>
                <a:gd name="adj1" fmla="val 50000"/>
                <a:gd name="adj2" fmla="val 66368"/>
              </a:avLst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7" name=""/>
          <p:cNvGrpSpPr/>
          <p:nvPr/>
        </p:nvGrpSpPr>
        <p:grpSpPr>
          <a:xfrm>
            <a:off x="7721640" y="3048120"/>
            <a:ext cx="1269720" cy="1143000"/>
            <a:chOff x="7721640" y="3048120"/>
            <a:chExt cx="1269720" cy="1143000"/>
          </a:xfrm>
        </p:grpSpPr>
        <p:sp>
          <p:nvSpPr>
            <p:cNvPr id="1758" name=""/>
            <p:cNvSpPr/>
            <p:nvPr/>
          </p:nvSpPr>
          <p:spPr>
            <a:xfrm>
              <a:off x="7932960" y="3048120"/>
              <a:ext cx="1058400" cy="1143000"/>
            </a:xfrm>
            <a:prstGeom prst="flowChartPredefined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Com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Rollb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721640" y="3429000"/>
              <a:ext cx="211320" cy="380880"/>
            </a:xfrm>
            <a:custGeom>
              <a:avLst/>
              <a:gdLst>
                <a:gd name="textAreaLeft" fmla="*/ 32760 w 211320"/>
                <a:gd name="textAreaRight" fmla="*/ 185040 w 21132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0" name=""/>
          <p:cNvGrpSpPr/>
          <p:nvPr/>
        </p:nvGrpSpPr>
        <p:grpSpPr>
          <a:xfrm>
            <a:off x="4565520" y="2743200"/>
            <a:ext cx="1641240" cy="1828800"/>
            <a:chOff x="4565520" y="2743200"/>
            <a:chExt cx="1641240" cy="1828800"/>
          </a:xfrm>
        </p:grpSpPr>
        <p:sp>
          <p:nvSpPr>
            <p:cNvPr id="1761" name=""/>
            <p:cNvSpPr/>
            <p:nvPr/>
          </p:nvSpPr>
          <p:spPr>
            <a:xfrm>
              <a:off x="4905000" y="2743200"/>
              <a:ext cx="1131840" cy="1828800"/>
            </a:xfrm>
            <a:custGeom>
              <a:avLst/>
              <a:gdLst>
                <a:gd name="textAreaLeft" fmla="*/ 55080 w 1131840"/>
                <a:gd name="textAreaRight" fmla="*/ 1076760 w 1131840"/>
                <a:gd name="textAreaTop" fmla="*/ 55080 h 1828800"/>
                <a:gd name="textAreaBottom" fmla="*/ 1773720 h 1828800"/>
              </a:gdLst>
              <a:ahLst/>
              <a:rect l="textAreaLeft" t="textAreaTop" r="textAreaRight" b="textAreaBottom"/>
              <a:pathLst>
                <a:path w="21600" h="34897">
                  <a:moveTo>
                    <a:pt x="3600" y="0"/>
                  </a:moveTo>
                  <a:arcTo wR="3600" hR="3600" stAng="16200000" swAng="-5400000"/>
                  <a:lnTo>
                    <a:pt x="0" y="31297"/>
                  </a:lnTo>
                  <a:arcTo wR="3600" hR="3600" stAng="10800000" swAng="-5400000"/>
                  <a:lnTo>
                    <a:pt x="18000" y="34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Firew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ecu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791960" y="3048120"/>
              <a:ext cx="1414800" cy="1143000"/>
            </a:xfrm>
            <a:prstGeom prst="flowChartPredefined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Resi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Trans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565520" y="3429000"/>
              <a:ext cx="226440" cy="380880"/>
            </a:xfrm>
            <a:custGeom>
              <a:avLst/>
              <a:gdLst>
                <a:gd name="textAreaLeft" fmla="*/ 35280 w 226440"/>
                <a:gd name="textAreaRight" fmla="*/ 198360 w 22644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4" name=""/>
          <p:cNvGrpSpPr/>
          <p:nvPr/>
        </p:nvGrpSpPr>
        <p:grpSpPr>
          <a:xfrm>
            <a:off x="6197760" y="3048120"/>
            <a:ext cx="1523520" cy="1143000"/>
            <a:chOff x="6197760" y="3048120"/>
            <a:chExt cx="1523520" cy="1143000"/>
          </a:xfrm>
        </p:grpSpPr>
        <p:sp>
          <p:nvSpPr>
            <p:cNvPr id="1765" name=""/>
            <p:cNvSpPr/>
            <p:nvPr/>
          </p:nvSpPr>
          <p:spPr>
            <a:xfrm>
              <a:off x="6451200" y="3048120"/>
              <a:ext cx="1270080" cy="1143000"/>
            </a:xfrm>
            <a:prstGeom prst="flowChartPredefined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Unp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alongsi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L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</a:rPr>
                <a:t>Cont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197760" y="3429000"/>
              <a:ext cx="253440" cy="380880"/>
            </a:xfrm>
            <a:custGeom>
              <a:avLst/>
              <a:gdLst>
                <a:gd name="textAreaLeft" fmla="*/ 39600 w 253440"/>
                <a:gd name="textAreaRight" fmla="*/ 221760 w 25344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7" name=""/>
          <p:cNvSpPr/>
          <p:nvPr/>
        </p:nvSpPr>
        <p:spPr>
          <a:xfrm>
            <a:off x="2413080" y="4921200"/>
            <a:ext cx="657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1840" indent="-231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thresholds at each stage via qu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atic catch up to synchronize recover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ent Infrastructure Softw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94320" y="43545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5861160"/>
            <a:ext cx="5562360" cy="539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P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3446640"/>
            <a:ext cx="5639040" cy="2344680"/>
          </a:xfrm>
          <a:custGeom>
            <a:avLst/>
            <a:gdLst>
              <a:gd name="textAreaLeft" fmla="*/ 0 w 5639040"/>
              <a:gd name="textAreaRight" fmla="*/ 5639400 w 5639040"/>
              <a:gd name="textAreaTop" fmla="*/ 586080 h 2344680"/>
              <a:gd name="textAreaBottom" fmla="*/ 1758600 h 2344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795" y="18900"/>
                </a:lnTo>
                <a:lnTo>
                  <a:pt x="10800" y="21600"/>
                </a:lnTo>
                <a:lnTo>
                  <a:pt x="15805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5805" y="2700"/>
                </a:lnTo>
                <a:lnTo>
                  <a:pt x="10800" y="0"/>
                </a:lnTo>
                <a:lnTo>
                  <a:pt x="5795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01280" y="3975840"/>
            <a:ext cx="40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 Infrastructure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2743200"/>
            <a:ext cx="5410440" cy="5191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ternet Content &amp;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192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infrastructure software enables IP networks to support and scale E-Busi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4495680"/>
            <a:ext cx="152388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4495680"/>
            <a:ext cx="152388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4495680"/>
            <a:ext cx="152388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58920" y="4483080"/>
            <a:ext cx="152424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ribu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59120" y="4483080"/>
            <a:ext cx="152424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59320" y="4483080"/>
            <a:ext cx="152424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/>
          <p:nvPr/>
        </p:nvSpPr>
        <p:spPr>
          <a:xfrm>
            <a:off x="141120" y="4089240"/>
            <a:ext cx="8839440" cy="1471680"/>
          </a:xfrm>
          <a:prstGeom prst="rect">
            <a:avLst/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ntent Delivery Service Marketsp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733920" y="1981080"/>
            <a:ext cx="0" cy="3579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791320" y="1995480"/>
            <a:ext cx="0" cy="3565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8980560" y="1973160"/>
            <a:ext cx="0" cy="3587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42920" y="2658960"/>
            <a:ext cx="8837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41120" y="3394080"/>
            <a:ext cx="8839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141120" y="4824360"/>
            <a:ext cx="8839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141120" y="5560920"/>
            <a:ext cx="8839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75760" y="2745720"/>
            <a:ext cx="135864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09600" y="3409920"/>
            <a:ext cx="129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perations/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269640" y="4171320"/>
            <a:ext cx="13770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ist &amp; Mg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79160" y="4909680"/>
            <a:ext cx="95184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li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2031840" y="2840400"/>
            <a:ext cx="4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851800" y="354708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/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2037960" y="3427200"/>
            <a:ext cx="7264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D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2831760" y="354528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X/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923240" y="354528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K/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058560" y="284040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909960" y="284040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078600" y="2840400"/>
            <a:ext cx="3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8229600" y="2840400"/>
            <a:ext cx="40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215200" y="50209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8215200" y="428256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2" name=""/>
          <p:cNvGrpSpPr/>
          <p:nvPr/>
        </p:nvGrpSpPr>
        <p:grpSpPr>
          <a:xfrm>
            <a:off x="6014880" y="4167360"/>
            <a:ext cx="498240" cy="566280"/>
            <a:chOff x="6014880" y="4167360"/>
            <a:chExt cx="498240" cy="566280"/>
          </a:xfrm>
        </p:grpSpPr>
        <p:sp>
          <p:nvSpPr>
            <p:cNvPr id="1793" name=""/>
            <p:cNvSpPr/>
            <p:nvPr/>
          </p:nvSpPr>
          <p:spPr>
            <a:xfrm>
              <a:off x="6031080" y="4185360"/>
              <a:ext cx="482040" cy="27432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031080" y="4321440"/>
              <a:ext cx="241200" cy="4122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272280" y="4321440"/>
              <a:ext cx="240480" cy="4122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114600" y="4277520"/>
              <a:ext cx="317520" cy="18216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114600" y="4370040"/>
              <a:ext cx="157680" cy="271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272280" y="4370040"/>
              <a:ext cx="159480" cy="271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193440" y="4370040"/>
              <a:ext cx="156960" cy="8964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193440" y="4413240"/>
              <a:ext cx="78840" cy="13608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272280" y="4413240"/>
              <a:ext cx="78120" cy="13608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014880" y="4167360"/>
              <a:ext cx="482040" cy="27360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014880" y="4303080"/>
              <a:ext cx="241200" cy="4122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256080" y="4303080"/>
              <a:ext cx="240480" cy="4122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098400" y="4259160"/>
              <a:ext cx="317520" cy="18180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098400" y="4350960"/>
              <a:ext cx="157680" cy="2721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256080" y="4350960"/>
              <a:ext cx="159480" cy="2721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177240" y="4350960"/>
              <a:ext cx="157680" cy="8964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177240" y="4394880"/>
              <a:ext cx="78840" cy="13572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256080" y="4394880"/>
              <a:ext cx="78840" cy="13572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1" name=""/>
          <p:cNvGrpSpPr/>
          <p:nvPr/>
        </p:nvGrpSpPr>
        <p:grpSpPr>
          <a:xfrm>
            <a:off x="6014880" y="4905360"/>
            <a:ext cx="498240" cy="566280"/>
            <a:chOff x="6014880" y="4905360"/>
            <a:chExt cx="498240" cy="566280"/>
          </a:xfrm>
        </p:grpSpPr>
        <p:sp>
          <p:nvSpPr>
            <p:cNvPr id="1812" name=""/>
            <p:cNvSpPr/>
            <p:nvPr/>
          </p:nvSpPr>
          <p:spPr>
            <a:xfrm>
              <a:off x="6031080" y="4923360"/>
              <a:ext cx="482040" cy="27432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031080" y="5059440"/>
              <a:ext cx="241200" cy="4122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272280" y="5059440"/>
              <a:ext cx="240480" cy="4122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114600" y="5015520"/>
              <a:ext cx="317520" cy="18216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114600" y="5108040"/>
              <a:ext cx="157680" cy="271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272280" y="5108040"/>
              <a:ext cx="159480" cy="271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193440" y="5108040"/>
              <a:ext cx="156960" cy="8964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193440" y="5151240"/>
              <a:ext cx="78840" cy="13608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272280" y="5151240"/>
              <a:ext cx="78120" cy="13608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014880" y="4905360"/>
              <a:ext cx="482040" cy="27360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014880" y="5041080"/>
              <a:ext cx="241200" cy="4122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256080" y="5041080"/>
              <a:ext cx="240480" cy="4122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098400" y="4997160"/>
              <a:ext cx="317520" cy="18180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098400" y="5088960"/>
              <a:ext cx="157680" cy="2721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256080" y="5088960"/>
              <a:ext cx="159480" cy="2721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177240" y="5088960"/>
              <a:ext cx="157680" cy="8964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177240" y="5132880"/>
              <a:ext cx="78840" cy="13572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256080" y="5132880"/>
              <a:ext cx="78840" cy="13572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0" name=""/>
          <p:cNvGrpSpPr/>
          <p:nvPr/>
        </p:nvGrpSpPr>
        <p:grpSpPr>
          <a:xfrm>
            <a:off x="3951360" y="4905360"/>
            <a:ext cx="497880" cy="566280"/>
            <a:chOff x="3951360" y="4905360"/>
            <a:chExt cx="497880" cy="566280"/>
          </a:xfrm>
        </p:grpSpPr>
        <p:sp>
          <p:nvSpPr>
            <p:cNvPr id="1831" name=""/>
            <p:cNvSpPr/>
            <p:nvPr/>
          </p:nvSpPr>
          <p:spPr>
            <a:xfrm>
              <a:off x="3967560" y="4923360"/>
              <a:ext cx="481680" cy="27432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967560" y="5059440"/>
              <a:ext cx="240840" cy="4122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208760" y="5059440"/>
              <a:ext cx="240480" cy="4122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051080" y="5015520"/>
              <a:ext cx="317160" cy="18216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051080" y="5108040"/>
              <a:ext cx="157320" cy="271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208760" y="5108040"/>
              <a:ext cx="159480" cy="271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129920" y="5108040"/>
              <a:ext cx="156960" cy="8964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129920" y="5151240"/>
              <a:ext cx="78480" cy="13608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208760" y="5151240"/>
              <a:ext cx="78120" cy="13608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951360" y="4905360"/>
              <a:ext cx="481680" cy="27360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951360" y="5041080"/>
              <a:ext cx="240840" cy="4122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192200" y="5041080"/>
              <a:ext cx="240480" cy="4122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034880" y="4997160"/>
              <a:ext cx="317160" cy="18180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034880" y="5088960"/>
              <a:ext cx="157320" cy="2721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192200" y="5088960"/>
              <a:ext cx="159480" cy="2721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113360" y="5088960"/>
              <a:ext cx="157320" cy="8964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113360" y="5132880"/>
              <a:ext cx="78480" cy="13572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192200" y="5132880"/>
              <a:ext cx="78480" cy="13572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9" name=""/>
          <p:cNvGrpSpPr/>
          <p:nvPr/>
        </p:nvGrpSpPr>
        <p:grpSpPr>
          <a:xfrm>
            <a:off x="3002040" y="4906800"/>
            <a:ext cx="497880" cy="566640"/>
            <a:chOff x="3002040" y="4906800"/>
            <a:chExt cx="497880" cy="566640"/>
          </a:xfrm>
        </p:grpSpPr>
        <p:sp>
          <p:nvSpPr>
            <p:cNvPr id="1850" name=""/>
            <p:cNvSpPr/>
            <p:nvPr/>
          </p:nvSpPr>
          <p:spPr>
            <a:xfrm>
              <a:off x="3018240" y="4924800"/>
              <a:ext cx="481680" cy="27432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018240" y="5060880"/>
              <a:ext cx="240840" cy="41256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259440" y="5060880"/>
              <a:ext cx="240480" cy="41256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101760" y="5016960"/>
              <a:ext cx="317160" cy="18216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101760" y="5109480"/>
              <a:ext cx="157320" cy="27180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259440" y="5109480"/>
              <a:ext cx="159480" cy="27180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180600" y="5109480"/>
              <a:ext cx="156960" cy="8964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180600" y="5153040"/>
              <a:ext cx="78480" cy="13644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259440" y="5153040"/>
              <a:ext cx="78120" cy="13644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002040" y="4906800"/>
              <a:ext cx="481680" cy="27396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002040" y="5042520"/>
              <a:ext cx="240840" cy="41256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242880" y="5042520"/>
              <a:ext cx="240480" cy="41256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085560" y="4998600"/>
              <a:ext cx="317160" cy="18180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085560" y="5090760"/>
              <a:ext cx="157320" cy="2721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242880" y="5090760"/>
              <a:ext cx="159480" cy="2721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164040" y="5090760"/>
              <a:ext cx="157320" cy="8964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164040" y="5134680"/>
              <a:ext cx="78480" cy="13572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242880" y="5134680"/>
              <a:ext cx="78480" cy="13572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8" name=""/>
          <p:cNvGrpSpPr/>
          <p:nvPr/>
        </p:nvGrpSpPr>
        <p:grpSpPr>
          <a:xfrm>
            <a:off x="1994040" y="4906800"/>
            <a:ext cx="497880" cy="566640"/>
            <a:chOff x="1994040" y="4906800"/>
            <a:chExt cx="497880" cy="566640"/>
          </a:xfrm>
        </p:grpSpPr>
        <p:sp>
          <p:nvSpPr>
            <p:cNvPr id="1869" name=""/>
            <p:cNvSpPr/>
            <p:nvPr/>
          </p:nvSpPr>
          <p:spPr>
            <a:xfrm>
              <a:off x="2010240" y="4924800"/>
              <a:ext cx="481680" cy="27432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2010240" y="5060880"/>
              <a:ext cx="240840" cy="41256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251440" y="5060880"/>
              <a:ext cx="240480" cy="41256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093760" y="5016960"/>
              <a:ext cx="317160" cy="18216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093760" y="5109480"/>
              <a:ext cx="157320" cy="27180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251440" y="5109480"/>
              <a:ext cx="159480" cy="27180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2172600" y="5109480"/>
              <a:ext cx="156960" cy="8964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172600" y="5153040"/>
              <a:ext cx="78480" cy="13644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251440" y="5153040"/>
              <a:ext cx="78120" cy="13644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94040" y="4906800"/>
              <a:ext cx="481680" cy="27396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994040" y="5042520"/>
              <a:ext cx="240840" cy="41256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234880" y="5042520"/>
              <a:ext cx="240480" cy="41256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077560" y="4998600"/>
              <a:ext cx="317160" cy="18180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077560" y="5090760"/>
              <a:ext cx="157320" cy="2721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234880" y="5090760"/>
              <a:ext cx="159480" cy="2721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2156040" y="5090760"/>
              <a:ext cx="157320" cy="8964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156040" y="5134680"/>
              <a:ext cx="78480" cy="13572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234880" y="5134680"/>
              <a:ext cx="78480" cy="13572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7" name=""/>
          <p:cNvGrpSpPr/>
          <p:nvPr/>
        </p:nvGrpSpPr>
        <p:grpSpPr>
          <a:xfrm>
            <a:off x="1995480" y="4168800"/>
            <a:ext cx="498240" cy="566280"/>
            <a:chOff x="1995480" y="4168800"/>
            <a:chExt cx="498240" cy="566280"/>
          </a:xfrm>
        </p:grpSpPr>
        <p:sp>
          <p:nvSpPr>
            <p:cNvPr id="1888" name=""/>
            <p:cNvSpPr/>
            <p:nvPr/>
          </p:nvSpPr>
          <p:spPr>
            <a:xfrm>
              <a:off x="2011680" y="4186800"/>
              <a:ext cx="482040" cy="27432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011680" y="4322880"/>
              <a:ext cx="241200" cy="4122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252880" y="4322880"/>
              <a:ext cx="240480" cy="4122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95200" y="4278960"/>
              <a:ext cx="317520" cy="18216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5200" y="4371480"/>
              <a:ext cx="157680" cy="271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252880" y="4371480"/>
              <a:ext cx="159480" cy="271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174040" y="4371480"/>
              <a:ext cx="156960" cy="8964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174040" y="4414680"/>
              <a:ext cx="78840" cy="13608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252880" y="4414680"/>
              <a:ext cx="78120" cy="13608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995480" y="4168800"/>
              <a:ext cx="482040" cy="27360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995480" y="4304520"/>
              <a:ext cx="241200" cy="4122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236680" y="4304520"/>
              <a:ext cx="240480" cy="4122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079000" y="4260600"/>
              <a:ext cx="317520" cy="18180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079000" y="4352400"/>
              <a:ext cx="157680" cy="2721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236680" y="4352400"/>
              <a:ext cx="159480" cy="2721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157840" y="4352400"/>
              <a:ext cx="157680" cy="8964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157840" y="4396320"/>
              <a:ext cx="78840" cy="13572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236680" y="4396320"/>
              <a:ext cx="78840" cy="13572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6" name=""/>
          <p:cNvSpPr/>
          <p:nvPr/>
        </p:nvSpPr>
        <p:spPr>
          <a:xfrm>
            <a:off x="7924680" y="1995480"/>
            <a:ext cx="0" cy="3565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2819520" y="1905120"/>
            <a:ext cx="0" cy="3573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1793880" y="1973160"/>
            <a:ext cx="0" cy="3587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3044880" y="42858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0" name=""/>
          <p:cNvGrpSpPr/>
          <p:nvPr/>
        </p:nvGrpSpPr>
        <p:grpSpPr>
          <a:xfrm>
            <a:off x="2976480" y="1855800"/>
            <a:ext cx="550800" cy="582480"/>
            <a:chOff x="2976480" y="1855800"/>
            <a:chExt cx="550800" cy="582480"/>
          </a:xfrm>
        </p:grpSpPr>
        <p:sp>
          <p:nvSpPr>
            <p:cNvPr id="1911" name=""/>
            <p:cNvSpPr/>
            <p:nvPr/>
          </p:nvSpPr>
          <p:spPr>
            <a:xfrm>
              <a:off x="2976480" y="1855800"/>
              <a:ext cx="550800" cy="582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12" name="exodus" descr=""/>
            <p:cNvPicPr/>
            <p:nvPr/>
          </p:nvPicPr>
          <p:blipFill>
            <a:blip r:embed="rId2"/>
            <a:stretch/>
          </p:blipFill>
          <p:spPr>
            <a:xfrm>
              <a:off x="2985120" y="1856520"/>
              <a:ext cx="525600" cy="563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pic>
        <p:nvPicPr>
          <p:cNvPr id="1913" name="" descr=""/>
          <p:cNvPicPr/>
          <p:nvPr/>
        </p:nvPicPr>
        <p:blipFill>
          <a:blip r:embed="rId3"/>
          <a:stretch/>
        </p:blipFill>
        <p:spPr>
          <a:xfrm>
            <a:off x="5888160" y="1898640"/>
            <a:ext cx="855720" cy="59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914" name="adero" descr=""/>
          <p:cNvPicPr/>
          <p:nvPr/>
        </p:nvPicPr>
        <p:blipFill>
          <a:blip r:embed="rId4"/>
          <a:stretch/>
        </p:blipFill>
        <p:spPr>
          <a:xfrm>
            <a:off x="1784520" y="2031840"/>
            <a:ext cx="1035000" cy="247680"/>
          </a:xfrm>
          <a:prstGeom prst="rect">
            <a:avLst/>
          </a:prstGeom>
          <a:ln w="0">
            <a:noFill/>
          </a:ln>
        </p:spPr>
      </p:pic>
      <p:pic>
        <p:nvPicPr>
          <p:cNvPr id="1915" name="mid_size_logo" descr=""/>
          <p:cNvPicPr/>
          <p:nvPr/>
        </p:nvPicPr>
        <p:blipFill>
          <a:blip r:embed="rId5"/>
          <a:stretch/>
        </p:blipFill>
        <p:spPr>
          <a:xfrm>
            <a:off x="8043840" y="1959120"/>
            <a:ext cx="774720" cy="366480"/>
          </a:xfrm>
          <a:prstGeom prst="rect">
            <a:avLst/>
          </a:prstGeom>
          <a:ln w="0">
            <a:noFill/>
          </a:ln>
        </p:spPr>
      </p:pic>
      <p:sp>
        <p:nvSpPr>
          <p:cNvPr id="1916" name=""/>
          <p:cNvSpPr/>
          <p:nvPr/>
        </p:nvSpPr>
        <p:spPr>
          <a:xfrm>
            <a:off x="154080" y="4076640"/>
            <a:ext cx="8839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7" name="" descr=""/>
          <p:cNvPicPr/>
          <p:nvPr/>
        </p:nvPicPr>
        <p:blipFill>
          <a:blip r:embed="rId6"/>
          <a:stretch/>
        </p:blipFill>
        <p:spPr>
          <a:xfrm>
            <a:off x="3870360" y="1905120"/>
            <a:ext cx="633240" cy="623880"/>
          </a:xfrm>
          <a:prstGeom prst="rect">
            <a:avLst/>
          </a:prstGeom>
          <a:ln w="0">
            <a:noFill/>
          </a:ln>
        </p:spPr>
      </p:pic>
      <p:grpSp>
        <p:nvGrpSpPr>
          <p:cNvPr id="1918" name=""/>
          <p:cNvGrpSpPr/>
          <p:nvPr/>
        </p:nvGrpSpPr>
        <p:grpSpPr>
          <a:xfrm>
            <a:off x="3946680" y="4157640"/>
            <a:ext cx="497880" cy="566280"/>
            <a:chOff x="3946680" y="4157640"/>
            <a:chExt cx="497880" cy="566280"/>
          </a:xfrm>
        </p:grpSpPr>
        <p:sp>
          <p:nvSpPr>
            <p:cNvPr id="1919" name=""/>
            <p:cNvSpPr/>
            <p:nvPr/>
          </p:nvSpPr>
          <p:spPr>
            <a:xfrm>
              <a:off x="3962880" y="4175640"/>
              <a:ext cx="481680" cy="27432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962880" y="4311720"/>
              <a:ext cx="240840" cy="4122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204080" y="4311720"/>
              <a:ext cx="240480" cy="4122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046400" y="4267800"/>
              <a:ext cx="317160" cy="18216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046400" y="4360320"/>
              <a:ext cx="157320" cy="271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204080" y="4360320"/>
              <a:ext cx="159480" cy="271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125240" y="4360320"/>
              <a:ext cx="156960" cy="8964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125240" y="4403520"/>
              <a:ext cx="78480" cy="13608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204080" y="4403520"/>
              <a:ext cx="78120" cy="13608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946680" y="4157640"/>
              <a:ext cx="481680" cy="27360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946680" y="4293360"/>
              <a:ext cx="240840" cy="4122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187520" y="4293360"/>
              <a:ext cx="240480" cy="4122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030200" y="4249440"/>
              <a:ext cx="317160" cy="18180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030200" y="4341240"/>
              <a:ext cx="157320" cy="2721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187520" y="4341240"/>
              <a:ext cx="159480" cy="2721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108680" y="4341240"/>
              <a:ext cx="157320" cy="8964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108680" y="4385160"/>
              <a:ext cx="78480" cy="13572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187520" y="4385160"/>
              <a:ext cx="78480" cy="13572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7" name=""/>
          <p:cNvGrpSpPr/>
          <p:nvPr/>
        </p:nvGrpSpPr>
        <p:grpSpPr>
          <a:xfrm>
            <a:off x="4800600" y="1981080"/>
            <a:ext cx="914040" cy="456840"/>
            <a:chOff x="4800600" y="1981080"/>
            <a:chExt cx="914040" cy="456840"/>
          </a:xfrm>
        </p:grpSpPr>
        <p:sp>
          <p:nvSpPr>
            <p:cNvPr id="1938" name=""/>
            <p:cNvSpPr/>
            <p:nvPr/>
          </p:nvSpPr>
          <p:spPr>
            <a:xfrm>
              <a:off x="4815720" y="2009880"/>
              <a:ext cx="898920" cy="4280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9" name="cwix" descr=""/>
            <p:cNvPicPr/>
            <p:nvPr/>
          </p:nvPicPr>
          <p:blipFill>
            <a:blip r:embed="rId7"/>
            <a:srcRect l="0" t="11130" r="0" b="5544"/>
            <a:stretch/>
          </p:blipFill>
          <p:spPr>
            <a:xfrm>
              <a:off x="4800600" y="1981080"/>
              <a:ext cx="898920" cy="43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pic>
        <p:nvPicPr>
          <p:cNvPr id="1940" name="mirror%20image%20logo" descr=""/>
          <p:cNvPicPr/>
          <p:nvPr/>
        </p:nvPicPr>
        <p:blipFill>
          <a:blip r:embed="rId8"/>
          <a:stretch/>
        </p:blipFill>
        <p:spPr>
          <a:xfrm>
            <a:off x="6934320" y="2057400"/>
            <a:ext cx="914400" cy="271440"/>
          </a:xfrm>
          <a:prstGeom prst="rect">
            <a:avLst/>
          </a:prstGeom>
          <a:ln w="0">
            <a:noFill/>
          </a:ln>
        </p:spPr>
      </p:pic>
      <p:sp>
        <p:nvSpPr>
          <p:cNvPr id="1941" name=""/>
          <p:cNvSpPr/>
          <p:nvPr/>
        </p:nvSpPr>
        <p:spPr>
          <a:xfrm>
            <a:off x="4724280" y="1981080"/>
            <a:ext cx="0" cy="3565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711960" y="3580200"/>
            <a:ext cx="87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N/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821120" y="281844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 &amp; 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4" name=""/>
          <p:cNvGrpSpPr/>
          <p:nvPr/>
        </p:nvGrpSpPr>
        <p:grpSpPr>
          <a:xfrm>
            <a:off x="4952880" y="4883040"/>
            <a:ext cx="498240" cy="566640"/>
            <a:chOff x="4952880" y="4883040"/>
            <a:chExt cx="498240" cy="566640"/>
          </a:xfrm>
        </p:grpSpPr>
        <p:sp>
          <p:nvSpPr>
            <p:cNvPr id="1945" name=""/>
            <p:cNvSpPr/>
            <p:nvPr/>
          </p:nvSpPr>
          <p:spPr>
            <a:xfrm>
              <a:off x="4969080" y="4901040"/>
              <a:ext cx="482040" cy="27432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969080" y="5037120"/>
              <a:ext cx="241200" cy="41256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210280" y="5037120"/>
              <a:ext cx="240480" cy="41256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052600" y="4993200"/>
              <a:ext cx="317520" cy="18216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052600" y="5085720"/>
              <a:ext cx="157680" cy="27180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210280" y="5085720"/>
              <a:ext cx="159480" cy="27180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131440" y="5085720"/>
              <a:ext cx="156960" cy="8964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131440" y="5129280"/>
              <a:ext cx="78840" cy="13644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210280" y="5129280"/>
              <a:ext cx="78120" cy="13644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952880" y="4883040"/>
              <a:ext cx="482040" cy="27396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952880" y="5018760"/>
              <a:ext cx="241200" cy="41256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194080" y="5018760"/>
              <a:ext cx="240480" cy="41256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036400" y="4974840"/>
              <a:ext cx="317520" cy="18180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036400" y="5067000"/>
              <a:ext cx="157680" cy="2721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194080" y="5067000"/>
              <a:ext cx="159480" cy="2721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115240" y="5067000"/>
              <a:ext cx="157680" cy="8964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115240" y="5110920"/>
              <a:ext cx="78840" cy="13572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194080" y="5110920"/>
              <a:ext cx="78840" cy="13572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3" name=""/>
          <p:cNvGrpSpPr/>
          <p:nvPr/>
        </p:nvGrpSpPr>
        <p:grpSpPr>
          <a:xfrm>
            <a:off x="4952880" y="4135320"/>
            <a:ext cx="498240" cy="566640"/>
            <a:chOff x="4952880" y="4135320"/>
            <a:chExt cx="498240" cy="566640"/>
          </a:xfrm>
        </p:grpSpPr>
        <p:sp>
          <p:nvSpPr>
            <p:cNvPr id="1964" name=""/>
            <p:cNvSpPr/>
            <p:nvPr/>
          </p:nvSpPr>
          <p:spPr>
            <a:xfrm>
              <a:off x="4969080" y="4153320"/>
              <a:ext cx="482040" cy="27432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969080" y="4289400"/>
              <a:ext cx="241200" cy="41256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210280" y="4289400"/>
              <a:ext cx="240480" cy="41256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052600" y="4245480"/>
              <a:ext cx="317520" cy="18216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052600" y="4338000"/>
              <a:ext cx="157680" cy="27180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210280" y="4338000"/>
              <a:ext cx="159480" cy="27180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131440" y="4338000"/>
              <a:ext cx="156960" cy="8964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131440" y="4381560"/>
              <a:ext cx="78840" cy="13644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210280" y="4381560"/>
              <a:ext cx="78120" cy="13644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952880" y="4135320"/>
              <a:ext cx="482040" cy="27396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952880" y="4271040"/>
              <a:ext cx="241200" cy="41256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194080" y="4271040"/>
              <a:ext cx="240480" cy="41256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036400" y="4227120"/>
              <a:ext cx="317520" cy="18180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036400" y="4319280"/>
              <a:ext cx="157680" cy="2721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194080" y="4319280"/>
              <a:ext cx="159480" cy="2721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115240" y="4319280"/>
              <a:ext cx="157680" cy="8964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115240" y="4363200"/>
              <a:ext cx="78840" cy="13572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194080" y="4363200"/>
              <a:ext cx="78840" cy="13572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2" name=""/>
          <p:cNvSpPr/>
          <p:nvPr/>
        </p:nvSpPr>
        <p:spPr>
          <a:xfrm>
            <a:off x="4744080" y="3558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W/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6858000" y="1981080"/>
            <a:ext cx="0" cy="3565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6883560" y="352476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I/Vir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7172280" y="2818440"/>
            <a:ext cx="40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6" name=""/>
          <p:cNvGrpSpPr/>
          <p:nvPr/>
        </p:nvGrpSpPr>
        <p:grpSpPr>
          <a:xfrm>
            <a:off x="7124760" y="4145040"/>
            <a:ext cx="497880" cy="566280"/>
            <a:chOff x="7124760" y="4145040"/>
            <a:chExt cx="497880" cy="566280"/>
          </a:xfrm>
        </p:grpSpPr>
        <p:sp>
          <p:nvSpPr>
            <p:cNvPr id="1987" name=""/>
            <p:cNvSpPr/>
            <p:nvPr/>
          </p:nvSpPr>
          <p:spPr>
            <a:xfrm>
              <a:off x="7140960" y="4163040"/>
              <a:ext cx="481680" cy="27432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140960" y="4299120"/>
              <a:ext cx="240840" cy="4122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382160" y="4299120"/>
              <a:ext cx="240480" cy="4122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7224480" y="4255200"/>
              <a:ext cx="317160" cy="18216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7224480" y="4347720"/>
              <a:ext cx="157320" cy="271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7382160" y="4347720"/>
              <a:ext cx="159480" cy="27144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303320" y="4347720"/>
              <a:ext cx="156960" cy="8964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7303320" y="4390920"/>
              <a:ext cx="78480" cy="13608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7382160" y="4390920"/>
              <a:ext cx="78120" cy="13608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7124760" y="4145040"/>
              <a:ext cx="481680" cy="27360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7124760" y="4280760"/>
              <a:ext cx="240840" cy="4122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365600" y="4280760"/>
              <a:ext cx="240480" cy="41220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7208280" y="4236840"/>
              <a:ext cx="317160" cy="18180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208280" y="4328640"/>
              <a:ext cx="157320" cy="2721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7365600" y="4328640"/>
              <a:ext cx="159480" cy="2721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286760" y="4328640"/>
              <a:ext cx="157320" cy="8964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7286760" y="4372560"/>
              <a:ext cx="78480" cy="13572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365600" y="4372560"/>
              <a:ext cx="78480" cy="13572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5" name=""/>
          <p:cNvGrpSpPr/>
          <p:nvPr/>
        </p:nvGrpSpPr>
        <p:grpSpPr>
          <a:xfrm>
            <a:off x="7124760" y="4883040"/>
            <a:ext cx="497880" cy="566640"/>
            <a:chOff x="7124760" y="4883040"/>
            <a:chExt cx="497880" cy="566640"/>
          </a:xfrm>
        </p:grpSpPr>
        <p:sp>
          <p:nvSpPr>
            <p:cNvPr id="2006" name=""/>
            <p:cNvSpPr/>
            <p:nvPr/>
          </p:nvSpPr>
          <p:spPr>
            <a:xfrm>
              <a:off x="7140960" y="4901040"/>
              <a:ext cx="481680" cy="27432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140960" y="5037120"/>
              <a:ext cx="240840" cy="41256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382160" y="5037120"/>
              <a:ext cx="240480" cy="41256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224480" y="4993200"/>
              <a:ext cx="317160" cy="18216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224480" y="5085720"/>
              <a:ext cx="157320" cy="27180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382160" y="5085720"/>
              <a:ext cx="159480" cy="27180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303320" y="5085720"/>
              <a:ext cx="156960" cy="8964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7303320" y="5129280"/>
              <a:ext cx="78480" cy="13644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382160" y="5129280"/>
              <a:ext cx="78120" cy="13644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124760" y="4883040"/>
              <a:ext cx="481680" cy="273960"/>
            </a:xfrm>
            <a:custGeom>
              <a:avLst/>
              <a:gdLst/>
              <a:ahLst/>
              <a:rect l="l" t="t" r="r" b="b"/>
              <a:pathLst>
                <a:path w="7272" h="4197">
                  <a:moveTo>
                    <a:pt x="7272" y="2098"/>
                  </a:moveTo>
                  <a:lnTo>
                    <a:pt x="3636" y="0"/>
                  </a:lnTo>
                  <a:lnTo>
                    <a:pt x="0" y="2098"/>
                  </a:lnTo>
                  <a:lnTo>
                    <a:pt x="3636" y="4197"/>
                  </a:lnTo>
                  <a:lnTo>
                    <a:pt x="7272" y="2098"/>
                  </a:lnTo>
                  <a:close/>
                </a:path>
              </a:pathLst>
            </a:custGeom>
            <a:solidFill>
              <a:srgbClr val="d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124760" y="5018760"/>
              <a:ext cx="240840" cy="41256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0" y="0"/>
                  </a:moveTo>
                  <a:lnTo>
                    <a:pt x="3636" y="2099"/>
                  </a:lnTo>
                  <a:lnTo>
                    <a:pt x="3636" y="6296"/>
                  </a:lnTo>
                  <a:lnTo>
                    <a:pt x="0" y="41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365600" y="5018760"/>
              <a:ext cx="240480" cy="412560"/>
            </a:xfrm>
            <a:custGeom>
              <a:avLst/>
              <a:gdLst/>
              <a:ahLst/>
              <a:rect l="l" t="t" r="r" b="b"/>
              <a:pathLst>
                <a:path w="3636" h="6296">
                  <a:moveTo>
                    <a:pt x="3636" y="0"/>
                  </a:moveTo>
                  <a:lnTo>
                    <a:pt x="0" y="2099"/>
                  </a:lnTo>
                  <a:lnTo>
                    <a:pt x="0" y="6296"/>
                  </a:lnTo>
                  <a:lnTo>
                    <a:pt x="3636" y="4197"/>
                  </a:lnTo>
                  <a:lnTo>
                    <a:pt x="3636" y="0"/>
                  </a:lnTo>
                  <a:close/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7208280" y="4974840"/>
              <a:ext cx="317160" cy="181800"/>
            </a:xfrm>
            <a:custGeom>
              <a:avLst/>
              <a:gdLst/>
              <a:ahLst/>
              <a:rect l="l" t="t" r="r" b="b"/>
              <a:pathLst>
                <a:path w="4800" h="2770">
                  <a:moveTo>
                    <a:pt x="4800" y="1384"/>
                  </a:moveTo>
                  <a:lnTo>
                    <a:pt x="2400" y="0"/>
                  </a:lnTo>
                  <a:lnTo>
                    <a:pt x="0" y="1384"/>
                  </a:lnTo>
                  <a:lnTo>
                    <a:pt x="2400" y="2770"/>
                  </a:lnTo>
                  <a:lnTo>
                    <a:pt x="4800" y="1384"/>
                  </a:lnTo>
                  <a:close/>
                </a:path>
              </a:pathLst>
            </a:custGeom>
            <a:solidFill>
              <a:srgbClr val="db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208280" y="5067000"/>
              <a:ext cx="157320" cy="2721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0" y="0"/>
                  </a:moveTo>
                  <a:lnTo>
                    <a:pt x="2400" y="1386"/>
                  </a:lnTo>
                  <a:lnTo>
                    <a:pt x="2400" y="4156"/>
                  </a:lnTo>
                  <a:lnTo>
                    <a:pt x="0" y="27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7365600" y="5067000"/>
              <a:ext cx="159480" cy="272160"/>
            </a:xfrm>
            <a:custGeom>
              <a:avLst/>
              <a:gdLst/>
              <a:ahLst/>
              <a:rect l="l" t="t" r="r" b="b"/>
              <a:pathLst>
                <a:path w="2400" h="4156">
                  <a:moveTo>
                    <a:pt x="2400" y="0"/>
                  </a:moveTo>
                  <a:lnTo>
                    <a:pt x="0" y="1386"/>
                  </a:lnTo>
                  <a:lnTo>
                    <a:pt x="0" y="4156"/>
                  </a:lnTo>
                  <a:lnTo>
                    <a:pt x="2400" y="2771"/>
                  </a:lnTo>
                  <a:lnTo>
                    <a:pt x="2400" y="0"/>
                  </a:lnTo>
                  <a:close/>
                </a:path>
              </a:pathLst>
            </a:custGeom>
            <a:solidFill>
              <a:srgbClr val="b5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7286760" y="5067000"/>
              <a:ext cx="157320" cy="89640"/>
            </a:xfrm>
            <a:custGeom>
              <a:avLst/>
              <a:gdLst/>
              <a:ahLst/>
              <a:rect l="l" t="t" r="r" b="b"/>
              <a:pathLst>
                <a:path w="2400" h="1386">
                  <a:moveTo>
                    <a:pt x="2400" y="693"/>
                  </a:moveTo>
                  <a:lnTo>
                    <a:pt x="1200" y="0"/>
                  </a:lnTo>
                  <a:lnTo>
                    <a:pt x="0" y="693"/>
                  </a:lnTo>
                  <a:lnTo>
                    <a:pt x="1200" y="1386"/>
                  </a:lnTo>
                  <a:lnTo>
                    <a:pt x="2400" y="693"/>
                  </a:lnTo>
                  <a:close/>
                </a:path>
              </a:pathLst>
            </a:custGeom>
            <a:solidFill>
              <a:srgbClr val="0f7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7286760" y="5110920"/>
              <a:ext cx="78480" cy="13572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0" y="0"/>
                  </a:moveTo>
                  <a:lnTo>
                    <a:pt x="1200" y="693"/>
                  </a:lnTo>
                  <a:lnTo>
                    <a:pt x="1200" y="2078"/>
                  </a:lnTo>
                  <a:lnTo>
                    <a:pt x="0" y="13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2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7365600" y="5110920"/>
              <a:ext cx="78480" cy="135720"/>
            </a:xfrm>
            <a:custGeom>
              <a:avLst/>
              <a:gdLst/>
              <a:ahLst/>
              <a:rect l="l" t="t" r="r" b="b"/>
              <a:pathLst>
                <a:path w="1200" h="2078">
                  <a:moveTo>
                    <a:pt x="1200" y="0"/>
                  </a:moveTo>
                  <a:lnTo>
                    <a:pt x="0" y="693"/>
                  </a:lnTo>
                  <a:lnTo>
                    <a:pt x="0" y="2078"/>
                  </a:lnTo>
                  <a:lnTo>
                    <a:pt x="1200" y="1386"/>
                  </a:lnTo>
                  <a:lnTo>
                    <a:pt x="1200" y="0"/>
                  </a:lnTo>
                  <a:close/>
                </a:path>
              </a:pathLst>
            </a:custGeom>
            <a:solidFill>
              <a:srgbClr val="004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5634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atforms Suppor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843120" y="1469880"/>
            <a:ext cx="830088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spcAft>
                <a:spcPts val="75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ed OS: NT 4.0, Solaris 2.5.1,2.6 (2.7 in WS 3.1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75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ed Web Server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113"/>
              </a:spcBef>
              <a:spcAft>
                <a:spcPts val="675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T 4.0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IS 4.0; Netscape Enterprise 3.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113"/>
              </a:spcBef>
              <a:spcAft>
                <a:spcPts val="675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ari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etscape Enterprise 2.01, 3.0, 3.51, 3.6; Apache 1.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75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ed Load Balancer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113"/>
              </a:spcBef>
              <a:spcAft>
                <a:spcPts val="675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vel 1 Integration: Alteon, Arrowpoint, Ipivot and ot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113"/>
              </a:spcBef>
              <a:spcAft>
                <a:spcPts val="675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vel 2 Integration (using LB interface): Cisco LocalDire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75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ed Web Caches for Refresh Capabilit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113"/>
              </a:spcBef>
              <a:spcAft>
                <a:spcPts val="675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ffic Server 2.2.2, 3.0, Network Appliance 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spcAft>
                <a:spcPts val="751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ed RDBMS for Tracking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113"/>
              </a:spcBef>
              <a:spcAft>
                <a:spcPts val="675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 4.0: SQLserver 6.0; Oracle 7,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113"/>
              </a:spcBef>
              <a:spcAft>
                <a:spcPts val="675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aris: Oracle 7,8; Sybase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ownside of the Competition’s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packaged CD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e control of customer relationshi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rtunities for further business with customers exchanged for percentage of content distribution f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e high margin revenue - settle for small percentage of CDN fe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 providers are paying the same amount - to you or someone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ns counter to offering value-added services based on your net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"/>
              </a:spcBef>
              <a:spcAft>
                <a:spcPts val="901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’re already paying for your network and servers - a CDN lets you make more money from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85920" y="1561680"/>
            <a:ext cx="605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825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ent Distribution Market Overview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253800"/>
            <a:ext cx="6832440" cy="10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volution of Service Provider Marke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76280" y="6051600"/>
            <a:ext cx="6527880" cy="1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387440" y="1346040"/>
            <a:ext cx="0" cy="47023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-257400" y="3534480"/>
            <a:ext cx="2161800" cy="35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Revenue Pot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61520" y="6180120"/>
            <a:ext cx="2312640" cy="35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ommodity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749680" y="3543480"/>
            <a:ext cx="6394320" cy="1422360"/>
            <a:chOff x="2749680" y="3543480"/>
            <a:chExt cx="6394320" cy="1422360"/>
          </a:xfrm>
        </p:grpSpPr>
        <p:sp>
          <p:nvSpPr>
            <p:cNvPr id="132" name=""/>
            <p:cNvSpPr/>
            <p:nvPr/>
          </p:nvSpPr>
          <p:spPr>
            <a:xfrm flipV="1">
              <a:off x="2749680" y="3695400"/>
              <a:ext cx="1504800" cy="114444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25840" y="3716280"/>
              <a:ext cx="4718160" cy="1249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age 2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ocus: Managed, Measurabl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ilover for HTTP con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LA’s and initial Q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asic value-added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54480" y="3543480"/>
              <a:ext cx="171360" cy="17280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673280" y="4794120"/>
            <a:ext cx="4498920" cy="1249560"/>
            <a:chOff x="1673280" y="4794120"/>
            <a:chExt cx="4498920" cy="1249560"/>
          </a:xfrm>
        </p:grpSpPr>
        <p:sp>
          <p:nvSpPr>
            <p:cNvPr id="136" name=""/>
            <p:cNvSpPr/>
            <p:nvPr/>
          </p:nvSpPr>
          <p:spPr>
            <a:xfrm flipV="1">
              <a:off x="1822680" y="4965480"/>
              <a:ext cx="768240" cy="37620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46600" y="4794120"/>
              <a:ext cx="3225600" cy="1249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ag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ocus: Physical Site Integ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ld ro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cure fac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nectiv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90920" y="4794120"/>
              <a:ext cx="171360" cy="17172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73280" y="5334120"/>
              <a:ext cx="127080" cy="183960"/>
            </a:xfrm>
            <a:custGeom>
              <a:avLst/>
              <a:gdLst/>
              <a:ahLst/>
              <a:rect l="l" t="t" r="r" b="b"/>
              <a:pathLst>
                <a:path w="91" h="132">
                  <a:moveTo>
                    <a:pt x="0" y="0"/>
                  </a:moveTo>
                  <a:lnTo>
                    <a:pt x="91" y="28"/>
                  </a:lnTo>
                  <a:lnTo>
                    <a:pt x="66" y="132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190840" y="6180120"/>
            <a:ext cx="2527560" cy="35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ifferentiated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417040" y="1658880"/>
            <a:ext cx="6168240" cy="1942920"/>
            <a:chOff x="2417040" y="1658880"/>
            <a:chExt cx="6168240" cy="1942920"/>
          </a:xfrm>
        </p:grpSpPr>
        <p:sp>
          <p:nvSpPr>
            <p:cNvPr id="142" name=""/>
            <p:cNvSpPr/>
            <p:nvPr/>
          </p:nvSpPr>
          <p:spPr>
            <a:xfrm>
              <a:off x="5187960" y="2133720"/>
              <a:ext cx="171360" cy="172800"/>
            </a:xfrm>
            <a:prstGeom prst="ellipse">
              <a:avLst/>
            </a:pr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425840" y="2306520"/>
              <a:ext cx="762120" cy="1236960"/>
            </a:xfrm>
            <a:prstGeom prst="line">
              <a:avLst/>
            </a:prstGeom>
            <a:ln cap="rnd" w="28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60840" y="1658880"/>
              <a:ext cx="312444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age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ocus: Dynamic, Glob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tent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ich content 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stributed app ho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vent ho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ransactional content d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tent syndication, et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17040" y="191232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Arial"/>
                </a:rPr>
                <a:t>Content Foc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2320" y="1892160"/>
              <a:ext cx="565200" cy="495360"/>
            </a:xfrm>
            <a:prstGeom prst="rightArrow">
              <a:avLst>
                <a:gd name="adj1" fmla="val 50000"/>
                <a:gd name="adj2" fmla="val 28525"/>
              </a:avLst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twork Issues Continue to Hamper Perform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39560" y="1833480"/>
            <a:ext cx="4106880" cy="380880"/>
            <a:chOff x="439560" y="1833480"/>
            <a:chExt cx="4106880" cy="380880"/>
          </a:xfrm>
        </p:grpSpPr>
        <p:sp>
          <p:nvSpPr>
            <p:cNvPr id="149" name=""/>
            <p:cNvSpPr/>
            <p:nvPr/>
          </p:nvSpPr>
          <p:spPr>
            <a:xfrm>
              <a:off x="439560" y="1833480"/>
              <a:ext cx="4106880" cy="380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5880" y="1957320"/>
              <a:ext cx="162000" cy="1620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040" y="1881000"/>
              <a:ext cx="1232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u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06360" y="1957320"/>
              <a:ext cx="163800" cy="162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43960" y="1881000"/>
              <a:ext cx="823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98680" y="1957320"/>
              <a:ext cx="162000" cy="162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34480" y="1881000"/>
              <a:ext cx="93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319760" y="622296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all Floor Performance (s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95440" y="2367000"/>
            <a:ext cx="1440" cy="335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2367000"/>
            <a:ext cx="1440" cy="335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0" y="2367000"/>
            <a:ext cx="1800" cy="335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6240" y="2367000"/>
            <a:ext cx="1800" cy="335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9200" y="2367000"/>
            <a:ext cx="4333680" cy="335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9200" y="4543560"/>
            <a:ext cx="390600" cy="677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9200" y="2873520"/>
            <a:ext cx="2181240" cy="6681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09800" y="4543560"/>
            <a:ext cx="71424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00440" y="2873520"/>
            <a:ext cx="1477800" cy="668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24040" y="4543560"/>
            <a:ext cx="1522440" cy="677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78240" y="2873520"/>
            <a:ext cx="1590840" cy="668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9200" y="5718240"/>
            <a:ext cx="5240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19200" y="5717880"/>
            <a:ext cx="14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495440" y="5717880"/>
            <a:ext cx="14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362320" y="5717880"/>
            <a:ext cx="14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240000" y="5717880"/>
            <a:ext cx="1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116240" y="5717880"/>
            <a:ext cx="1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983120" y="5717880"/>
            <a:ext cx="1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859360" y="5717880"/>
            <a:ext cx="1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9200" y="2367000"/>
            <a:ext cx="1440" cy="335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1960" y="5718240"/>
            <a:ext cx="57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1960" y="4037040"/>
            <a:ext cx="57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1960" y="2367000"/>
            <a:ext cx="57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5000" y="588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560" y="588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14080" y="588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2120" y="588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68360" y="588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87720" y="58802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63960" y="58802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0" y="47829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" y="31114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43040" y="1447560"/>
            <a:ext cx="299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Issues Expe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Contribute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6%of Latency in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12160" y="2513160"/>
            <a:ext cx="2652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11240" indent="-11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Key Finding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ween 1995-99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0% increas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web pag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0% increas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page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5% increas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roundtrip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495680" y="1676520"/>
            <a:ext cx="160020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529240" y="6248520"/>
            <a:ext cx="36036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Global Internet Performance Conference, October 199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(Keynote Data/NCRI Analy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5320" y="2362320"/>
            <a:ext cx="5241960" cy="3352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Logical Conclusion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ching and Content Distrib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625760"/>
            <a:ext cx="830556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5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s clear that the World Wide Web won’t fulfil its promise unless the right design decisions are made.  Router hops are at the core of the delay problem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day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ching and content distribu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the only practical way to reduce network delay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ter Sevcik, Senior Analyst, NCRI Inc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keynote.com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ncri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29240" y="6248520"/>
            <a:ext cx="36036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Global Internet Performance Conference, October 199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(Keynote Data/NCRI Analy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ontent Distrib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360" y="1585800"/>
            <a:ext cx="8337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way to distribute content and applications globally through a network of strategically placed ser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A way to track, manage, and report on the distribution and delivery of cont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A way to provide better, faster, and more reliable delivery of content and applications to user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21:27:56Z</dcterms:created>
  <dc:creator>Kristine Chin</dc:creator>
  <dc:description/>
  <dc:language>en-US</dc:language>
  <cp:lastModifiedBy>krnic3</cp:lastModifiedBy>
  <cp:lastPrinted>1999-12-21T02:13:24Z</cp:lastPrinted>
  <dcterms:modified xsi:type="dcterms:W3CDTF">2000-03-09T07:04:50Z</dcterms:modified>
  <cp:revision>138</cp:revision>
  <dc:subject/>
  <dc:title> Inktomi Traffic Server</dc:title>
</cp:coreProperties>
</file>