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25560" y="4313160"/>
            <a:ext cx="2627280" cy="1217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093000" y="0"/>
            <a:ext cx="8474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97080" y="8814960"/>
            <a:ext cx="2419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111111"/>
                </a:solidFill>
                <a:latin typeface="Times New Roman"/>
                <a:ea typeface="굴림"/>
              </a:rPr>
              <a:t>1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817120"/>
            <a:ext cx="639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682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1181160" cy="2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08160" y="687240"/>
            <a:ext cx="4524480" cy="33926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25200" y="4313160"/>
            <a:ext cx="15231960" cy="1110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Intelligent optical networking not only addresses the challenge of scaling the existing public infrastructure as data continues its exponential growth, but it also presents the architects of new data-centric networks with a viable, state-of-the-art solution.  With Intelligent optical networking, the core optical network is transformed from a static transmission medium to an intelligent and flexible foundation for delivering bandwidth more quickly and efficiently, and at a lower c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(trans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ycamoreBkg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126280" y="6095880"/>
            <a:ext cx="740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59E0-89EC-4AE7-85E0-5A67258061F3}" type="slidenum">
              <a:rPr b="0" lang="ko-KR" sz="1000" spc="-1" strike="noStrike">
                <a:solidFill>
                  <a:srgbClr val="111111"/>
                </a:solidFill>
                <a:latin typeface="Arial"/>
                <a:ea typeface="굴림"/>
              </a:rPr>
              <a:t>&lt;number&gt;</a:t>
            </a:fld>
            <a:endParaRPr b="0" lang="en-US" sz="1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18520" indent="-218520">
              <a:spcBef>
                <a:spcPts val="1749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534240" indent="-109080">
              <a:spcBef>
                <a:spcPts val="1749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2" marL="751320" indent="98640">
              <a:spcBef>
                <a:spcPts val="1749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3" marL="1382040" indent="-209880">
              <a:spcBef>
                <a:spcPts val="1749"/>
              </a:spcBef>
              <a:buClr>
                <a:srgbClr val="107184"/>
              </a:buClr>
              <a:buSzPct val="119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4" marL="1913040" indent="-212400">
              <a:spcBef>
                <a:spcPts val="17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5" marL="1913040" indent="-212400">
              <a:spcBef>
                <a:spcPts val="17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6" marL="1913040" indent="-212400">
              <a:spcBef>
                <a:spcPts val="17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" name="Sycamore%20logo2" descr=""/>
          <p:cNvPicPr/>
          <p:nvPr/>
        </p:nvPicPr>
        <p:blipFill>
          <a:blip r:embed="rId3"/>
          <a:stretch/>
        </p:blipFill>
        <p:spPr>
          <a:xfrm>
            <a:off x="304920" y="5943600"/>
            <a:ext cx="1752480" cy="533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91480" y="6318360"/>
            <a:ext cx="9320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9966"/>
                </a:solidFill>
                <a:latin typeface="Arial"/>
                <a:ea typeface="굴림"/>
              </a:rPr>
              <a:t>January 2000</a:t>
            </a:r>
            <a:endParaRPr b="0" lang="en-US" sz="1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20240" y="6318360"/>
            <a:ext cx="257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9966"/>
                </a:solidFill>
                <a:latin typeface="Arial"/>
                <a:ea typeface="굴림"/>
              </a:rPr>
              <a:t>Sycamore Networks Company Confidential</a:t>
            </a:r>
            <a:endParaRPr b="0" lang="en-US" sz="1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ycamore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  <p:pic>
        <p:nvPicPr>
          <p:cNvPr id="47" name="Sycamore%20logo2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4343400" cy="132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380880"/>
            <a:ext cx="77724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11111"/>
                </a:solidFill>
                <a:latin typeface="Impact"/>
              </a:rPr>
              <a:t>Fundamentals of Network Design Problem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600200"/>
            <a:ext cx="772956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18520" indent="-218520"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1111"/>
                </a:solidFill>
                <a:latin typeface="Arial"/>
              </a:rPr>
              <a:t>A telecommunications network is a connected set of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534240" indent="-109080">
              <a:lnSpc>
                <a:spcPct val="10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2" marL="751320" indent="98640">
              <a:lnSpc>
                <a:spcPct val="100000"/>
              </a:lnSpc>
              <a:spcBef>
                <a:spcPts val="249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where traffic begins / ends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2" marL="751320" indent="98640">
              <a:lnSpc>
                <a:spcPct val="100000"/>
              </a:lnSpc>
              <a:spcBef>
                <a:spcPts val="249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and where traffic can be routed through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34240" indent="-109080">
              <a:lnSpc>
                <a:spcPct val="10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Links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2" marL="751320" indent="98640">
              <a:lnSpc>
                <a:spcPct val="100000"/>
              </a:lnSpc>
              <a:spcBef>
                <a:spcPts val="249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of a given capacity, length, cost, medium, etc…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2" marL="751320" indent="98640">
              <a:lnSpc>
                <a:spcPct val="100000"/>
              </a:lnSpc>
              <a:spcBef>
                <a:spcPts val="249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connect the nodes together and carry the traffic between them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34240" indent="-109080">
              <a:lnSpc>
                <a:spcPct val="10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Lightpaths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2" marL="751320" indent="98640">
              <a:lnSpc>
                <a:spcPct val="100000"/>
              </a:lnSpc>
              <a:spcBef>
                <a:spcPts val="249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Traffic demand to be set up between nodes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2" marL="751320" indent="98640">
              <a:lnSpc>
                <a:spcPct val="100000"/>
              </a:lnSpc>
              <a:spcBef>
                <a:spcPts val="249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End-to-end routing and protection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744640" y="1295280"/>
            <a:ext cx="2513160" cy="1905120"/>
          </a:xfrm>
          <a:prstGeom prst="line">
            <a:avLst/>
          </a:prstGeom>
          <a:ln w="572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592360" y="3200400"/>
            <a:ext cx="2665440" cy="76320"/>
          </a:xfrm>
          <a:prstGeom prst="line">
            <a:avLst/>
          </a:prstGeom>
          <a:ln w="572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200400"/>
            <a:ext cx="2818080" cy="380880"/>
          </a:xfrm>
          <a:prstGeom prst="line">
            <a:avLst/>
          </a:prstGeom>
          <a:ln w="572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257800" y="1371600"/>
            <a:ext cx="1752480" cy="1828800"/>
          </a:xfrm>
          <a:prstGeom prst="line">
            <a:avLst/>
          </a:prstGeom>
          <a:ln w="572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733920" y="3276360"/>
            <a:ext cx="1523880" cy="2057400"/>
          </a:xfrm>
          <a:prstGeom prst="line">
            <a:avLst/>
          </a:prstGeom>
          <a:ln w="572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2360" y="3352680"/>
            <a:ext cx="1141560" cy="1981440"/>
          </a:xfrm>
          <a:prstGeom prst="line">
            <a:avLst/>
          </a:prstGeom>
          <a:ln w="572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809880" y="3580920"/>
            <a:ext cx="4189680" cy="1752840"/>
          </a:xfrm>
          <a:prstGeom prst="line">
            <a:avLst/>
          </a:prstGeom>
          <a:ln w="572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7010280" y="1371600"/>
            <a:ext cx="989280" cy="2209680"/>
          </a:xfrm>
          <a:prstGeom prst="line">
            <a:avLst/>
          </a:prstGeom>
          <a:ln w="572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4640" y="1371600"/>
            <a:ext cx="4341960" cy="0"/>
          </a:xfrm>
          <a:prstGeom prst="line">
            <a:avLst/>
          </a:prstGeom>
          <a:ln w="572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592000" y="1295280"/>
            <a:ext cx="152280" cy="2057400"/>
          </a:xfrm>
          <a:prstGeom prst="line">
            <a:avLst/>
          </a:prstGeom>
          <a:ln w="572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7440" y="3124080"/>
            <a:ext cx="533520" cy="45720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2971800"/>
            <a:ext cx="533520" cy="45720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89040" y="1314360"/>
            <a:ext cx="1084320" cy="4011840"/>
          </a:xfrm>
          <a:custGeom>
            <a:avLst/>
            <a:gdLst/>
            <a:ahLst/>
            <a:rect l="l" t="t" r="r" b="b"/>
            <a:pathLst>
              <a:path w="684" h="2527">
                <a:moveTo>
                  <a:pt x="101" y="0"/>
                </a:moveTo>
                <a:lnTo>
                  <a:pt x="0" y="1293"/>
                </a:lnTo>
                <a:lnTo>
                  <a:pt x="684" y="2527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16360" y="1301760"/>
            <a:ext cx="5159160" cy="2203560"/>
          </a:xfrm>
          <a:custGeom>
            <a:avLst/>
            <a:gdLst/>
            <a:ahLst/>
            <a:rect l="l" t="t" r="r" b="b"/>
            <a:pathLst>
              <a:path w="3251" h="1388">
                <a:moveTo>
                  <a:pt x="0" y="0"/>
                </a:moveTo>
                <a:lnTo>
                  <a:pt x="1505" y="1132"/>
                </a:lnTo>
                <a:lnTo>
                  <a:pt x="3251" y="138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105520"/>
            <a:ext cx="533160" cy="45720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72400" y="3429000"/>
            <a:ext cx="531720" cy="45720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20960" y="1219320"/>
            <a:ext cx="426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6040" y="1066680"/>
            <a:ext cx="532080" cy="45720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1143000"/>
            <a:ext cx="533520" cy="45720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7160" y="1981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111111"/>
                </a:solidFill>
                <a:latin typeface="Bookman Old Style"/>
              </a:rPr>
              <a:t>Traffic is loaded onto two links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2880" y="2590920"/>
            <a:ext cx="533160" cy="304560"/>
          </a:xfrm>
          <a:prstGeom prst="line">
            <a:avLst/>
          </a:prstGeom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9360" y="2666880"/>
            <a:ext cx="1522440" cy="1676520"/>
          </a:xfrm>
          <a:prstGeom prst="line">
            <a:avLst/>
          </a:prstGeom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135160" y="1904760"/>
            <a:ext cx="1522440" cy="75960"/>
          </a:xfrm>
          <a:prstGeom prst="line">
            <a:avLst/>
          </a:prstGeom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7440" y="2374920"/>
            <a:ext cx="4265640" cy="781200"/>
          </a:xfrm>
          <a:custGeom>
            <a:avLst/>
            <a:gdLst/>
            <a:ahLst/>
            <a:rect l="l" t="t" r="r" b="b"/>
            <a:pathLst>
              <a:path w="2688" h="492">
                <a:moveTo>
                  <a:pt x="0" y="12"/>
                </a:moveTo>
                <a:lnTo>
                  <a:pt x="1910" y="0"/>
                </a:lnTo>
                <a:lnTo>
                  <a:pt x="2688" y="492"/>
                </a:lnTo>
              </a:path>
            </a:pathLst>
          </a:custGeom>
          <a:noFill/>
          <a:ln w="1260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38680" y="4800600"/>
            <a:ext cx="30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339966"/>
                </a:solidFill>
                <a:latin typeface="Bookman Old Style"/>
              </a:rPr>
              <a:t>Node must determine routing and have   “cross-connect” capacity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5333760" y="3276360"/>
            <a:ext cx="1143000" cy="144756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2668680" y="3352320"/>
            <a:ext cx="3122640" cy="160020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380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111111"/>
                </a:solidFill>
                <a:latin typeface="Bookman Old Style"/>
              </a:rPr>
              <a:t>Lightpath loaded onto a single direct link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111"/>
                </a:solidFill>
                <a:latin typeface="Impact"/>
                <a:ea typeface="굴림"/>
              </a:rPr>
              <a:t>Sample Network Modeling Architecture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90720" y="1143000"/>
          <a:ext cx="693396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693396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Impact"/>
                <a:ea typeface="굴림"/>
              </a:rPr>
              <a:t>Logical Network Design</a:t>
            </a: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18520" indent="-218520">
              <a:spcBef>
                <a:spcPts val="1749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Goal:  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Determine the minimum cost wavelength plan for a given set of demands and a physical network. 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218520" indent="-218520">
              <a:spcBef>
                <a:spcPts val="1749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Inputs: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  Physical network topology, end-to-end demands, equipment specifications, availability requirements, network element and link cost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218520" indent="-218520">
              <a:spcBef>
                <a:spcPts val="1749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Outputs: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  demand routes, link wavelength requirements, link capacities, equipment requirement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Impact"/>
                <a:ea typeface="굴림"/>
              </a:rPr>
              <a:t>Physical Network Design</a:t>
            </a: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5080" indent="-235080">
              <a:spcBef>
                <a:spcPts val="1749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Goal: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  Find the minimum-cost, optical-network design.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235080" indent="-235080">
              <a:spcBef>
                <a:spcPts val="1749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Inputs: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  Physical topology, fiber specifications, wavelength routes, equipment specifications, span engineering rules.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235080" indent="-235080">
              <a:spcBef>
                <a:spcPts val="1749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Outputs:</a:t>
            </a:r>
            <a:r>
              <a:rPr b="0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  Network element requirements, Fiber count requirements.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4267080" y="1219320"/>
            <a:ext cx="2435040" cy="4372560"/>
            <a:chOff x="4267080" y="1219320"/>
            <a:chExt cx="2435040" cy="4372560"/>
          </a:xfrm>
        </p:grpSpPr>
        <p:grpSp>
          <p:nvGrpSpPr>
            <p:cNvPr id="239" name=""/>
            <p:cNvGrpSpPr/>
            <p:nvPr/>
          </p:nvGrpSpPr>
          <p:grpSpPr>
            <a:xfrm>
              <a:off x="4267080" y="2740680"/>
              <a:ext cx="2435040" cy="1453320"/>
              <a:chOff x="4267080" y="2740680"/>
              <a:chExt cx="2435040" cy="1453320"/>
            </a:xfrm>
          </p:grpSpPr>
          <p:sp>
            <p:nvSpPr>
              <p:cNvPr id="240" name=""/>
              <p:cNvSpPr/>
              <p:nvPr/>
            </p:nvSpPr>
            <p:spPr>
              <a:xfrm>
                <a:off x="4465080" y="3818880"/>
                <a:ext cx="771480" cy="2314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4385520" y="3171600"/>
                <a:ext cx="46440" cy="4842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4560840" y="2902320"/>
                <a:ext cx="572400" cy="1065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277600" y="2929320"/>
                <a:ext cx="285480" cy="3762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5388120" y="3423600"/>
                <a:ext cx="278640" cy="5796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30960" y="4085280"/>
                <a:ext cx="61920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6188760" y="3411000"/>
                <a:ext cx="358200" cy="57708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751720" y="3350520"/>
                <a:ext cx="772560" cy="2448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4267080" y="2740680"/>
                <a:ext cx="2435040" cy="1453320"/>
                <a:chOff x="4267080" y="2740680"/>
                <a:chExt cx="2435040" cy="14533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267080" y="3657600"/>
                  <a:ext cx="189000" cy="21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362480" y="2956320"/>
                  <a:ext cx="189000" cy="21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22880" y="3980880"/>
                  <a:ext cx="189000" cy="21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557320" y="3279960"/>
                  <a:ext cx="189000" cy="21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035400" y="3980880"/>
                  <a:ext cx="188640" cy="21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513120" y="3225960"/>
                  <a:ext cx="189000" cy="21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27120" y="2740680"/>
                  <a:ext cx="189000" cy="21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" name=""/>
            <p:cNvGrpSpPr/>
            <p:nvPr/>
          </p:nvGrpSpPr>
          <p:grpSpPr>
            <a:xfrm>
              <a:off x="4267080" y="4169520"/>
              <a:ext cx="2384280" cy="1422360"/>
              <a:chOff x="4267080" y="4169520"/>
              <a:chExt cx="2384280" cy="142236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4267080" y="4169520"/>
                <a:ext cx="2384280" cy="1422360"/>
                <a:chOff x="4267080" y="4169520"/>
                <a:chExt cx="2384280" cy="14223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67080" y="5066640"/>
                  <a:ext cx="18504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99"/>
                    </a:gs>
                    <a:gs pos="100000">
                      <a:srgbClr val="000046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360320" y="4380480"/>
                  <a:ext cx="185040" cy="20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99"/>
                    </a:gs>
                    <a:gs pos="100000">
                      <a:srgbClr val="000046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202720" y="5383440"/>
                  <a:ext cx="18504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99"/>
                    </a:gs>
                    <a:gs pos="100000">
                      <a:srgbClr val="000046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530320" y="4697280"/>
                  <a:ext cx="185040" cy="20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99"/>
                    </a:gs>
                    <a:gs pos="100000">
                      <a:srgbClr val="000046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98680" y="5383440"/>
                  <a:ext cx="18504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99"/>
                    </a:gs>
                    <a:gs pos="100000">
                      <a:srgbClr val="000046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466320" y="4644360"/>
                  <a:ext cx="185040" cy="20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99"/>
                    </a:gs>
                    <a:gs pos="100000">
                      <a:srgbClr val="000046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109120" y="4169520"/>
                  <a:ext cx="185040" cy="20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99"/>
                    </a:gs>
                    <a:gs pos="100000">
                      <a:srgbClr val="000046"/>
                    </a:gs>
                  </a:gsLst>
                  <a:lin ang="5400000"/>
                </a:gradFill>
                <a:ln w="1260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 flipV="1">
                <a:off x="4548240" y="4325760"/>
                <a:ext cx="560880" cy="15840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49880" y="4377960"/>
                <a:ext cx="327600" cy="36936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670720" y="4747320"/>
                <a:ext cx="842040" cy="52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138360" y="4852800"/>
                <a:ext cx="374040" cy="58068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5382720" y="5534280"/>
                <a:ext cx="615240" cy="468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4407480" y="5169600"/>
                <a:ext cx="874080" cy="36468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4360680" y="4588920"/>
                <a:ext cx="46440" cy="47448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4458240" y="2297160"/>
              <a:ext cx="771480" cy="23112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377960" y="1650960"/>
              <a:ext cx="47160" cy="4838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553280" y="1380960"/>
              <a:ext cx="572760" cy="10620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70040" y="1407240"/>
              <a:ext cx="286560" cy="37692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381280" y="1901880"/>
              <a:ext cx="279000" cy="5792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120" y="2564280"/>
              <a:ext cx="618120" cy="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181200" y="1889280"/>
              <a:ext cx="358200" cy="57816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744520" y="1829520"/>
              <a:ext cx="772560" cy="2376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89920" y="1587600"/>
              <a:ext cx="810720" cy="9158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442400" y="1923840"/>
              <a:ext cx="1112760" cy="2750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35280" y="1554120"/>
              <a:ext cx="1538640" cy="94932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23240" y="1381320"/>
              <a:ext cx="107640" cy="114696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396680" y="1327680"/>
              <a:ext cx="810720" cy="88128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267080" y="1219320"/>
              <a:ext cx="2435040" cy="1453680"/>
              <a:chOff x="4267080" y="1219320"/>
              <a:chExt cx="2435040" cy="1453680"/>
            </a:xfrm>
          </p:grpSpPr>
          <p:sp>
            <p:nvSpPr>
              <p:cNvPr id="286" name=""/>
              <p:cNvSpPr/>
              <p:nvPr/>
            </p:nvSpPr>
            <p:spPr>
              <a:xfrm>
                <a:off x="4267080" y="2135880"/>
                <a:ext cx="189000" cy="21348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100000">
                    <a:srgbClr val="17462f"/>
                  </a:gs>
                </a:gsLst>
                <a:lin ang="5400000"/>
              </a:gradFill>
              <a:ln w="1260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62480" y="1434600"/>
                <a:ext cx="189000" cy="21348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100000">
                    <a:srgbClr val="17462f"/>
                  </a:gs>
                </a:gsLst>
                <a:lin ang="5400000"/>
              </a:gradFill>
              <a:ln w="1260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22880" y="2459520"/>
                <a:ext cx="189000" cy="21348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100000">
                    <a:srgbClr val="17462f"/>
                  </a:gs>
                </a:gsLst>
                <a:lin ang="5400000"/>
              </a:gradFill>
              <a:ln w="1260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57320" y="1758240"/>
                <a:ext cx="189000" cy="21348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100000">
                    <a:srgbClr val="17462f"/>
                  </a:gs>
                </a:gsLst>
                <a:lin ang="5400000"/>
              </a:gradFill>
              <a:ln w="1260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035400" y="2459520"/>
                <a:ext cx="188640" cy="21348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100000">
                    <a:srgbClr val="17462f"/>
                  </a:gs>
                </a:gsLst>
                <a:lin ang="5400000"/>
              </a:gradFill>
              <a:ln w="1260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513120" y="1704600"/>
                <a:ext cx="189000" cy="21348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100000">
                    <a:srgbClr val="17462f"/>
                  </a:gs>
                </a:gsLst>
                <a:lin ang="5400000"/>
              </a:gradFill>
              <a:ln w="1260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127120" y="1219320"/>
                <a:ext cx="189000" cy="213480"/>
              </a:xfrm>
              <a:prstGeom prst="ellipse">
                <a:avLst/>
              </a:prstGeom>
              <a:gradFill rotWithShape="0">
                <a:gsLst>
                  <a:gs pos="0">
                    <a:srgbClr val="339966"/>
                  </a:gs>
                  <a:gs pos="100000">
                    <a:srgbClr val="17462f"/>
                  </a:gs>
                </a:gsLst>
                <a:lin ang="5400000"/>
              </a:gradFill>
              <a:ln w="1260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700240" y="1920240"/>
              <a:ext cx="430200" cy="59256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18640" y="1381320"/>
              <a:ext cx="1242000" cy="37692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17480" y="1642320"/>
              <a:ext cx="0" cy="0"/>
            </a:xfrm>
            <a:prstGeom prst="line">
              <a:avLst/>
            </a:prstGeom>
            <a:ln w="1260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368240" y="2329560"/>
              <a:ext cx="0" cy="2805120"/>
            </a:xfrm>
            <a:prstGeom prst="line">
              <a:avLst/>
            </a:prstGeom>
            <a:ln cap="rnd" w="3240">
              <a:solidFill>
                <a:srgbClr val="11111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30800" y="1413360"/>
              <a:ext cx="0" cy="2919600"/>
            </a:xfrm>
            <a:prstGeom prst="line">
              <a:avLst/>
            </a:prstGeom>
            <a:ln cap="rnd" w="3240">
              <a:solidFill>
                <a:srgbClr val="11111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00960" y="1871640"/>
              <a:ext cx="0" cy="2804760"/>
            </a:xfrm>
            <a:prstGeom prst="line">
              <a:avLst/>
            </a:prstGeom>
            <a:ln cap="rnd" w="3240">
              <a:solidFill>
                <a:srgbClr val="11111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44120" y="2615400"/>
              <a:ext cx="0" cy="2805120"/>
            </a:xfrm>
            <a:prstGeom prst="line">
              <a:avLst/>
            </a:prstGeom>
            <a:ln cap="rnd" w="3240">
              <a:solidFill>
                <a:srgbClr val="11111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32320" y="2673000"/>
              <a:ext cx="0" cy="2805120"/>
            </a:xfrm>
            <a:prstGeom prst="line">
              <a:avLst/>
            </a:prstGeom>
            <a:ln cap="rnd" w="3240">
              <a:solidFill>
                <a:srgbClr val="11111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36880" y="1871640"/>
              <a:ext cx="0" cy="2804760"/>
            </a:xfrm>
            <a:prstGeom prst="line">
              <a:avLst/>
            </a:prstGeom>
            <a:ln cap="rnd" w="3240">
              <a:solidFill>
                <a:srgbClr val="11111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69760" y="1585080"/>
              <a:ext cx="0" cy="2805120"/>
            </a:xfrm>
            <a:prstGeom prst="line">
              <a:avLst/>
            </a:prstGeom>
            <a:ln cap="rnd" w="3240">
              <a:solidFill>
                <a:srgbClr val="11111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370520" y="376200"/>
            <a:ext cx="39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45245a"/>
                </a:solidFill>
                <a:latin typeface="Arial"/>
              </a:rPr>
              <a:t>Multi-layer Network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4343400"/>
            <a:ext cx="304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The duct layer: physical fibers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The real topology of the network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137160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339966"/>
                </a:solidFill>
                <a:latin typeface="Times New Roman"/>
              </a:rPr>
              <a:t>Tributary layer: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339966"/>
                </a:solidFill>
                <a:latin typeface="Times New Roman"/>
              </a:rPr>
              <a:t>155 &amp; 622 Mbit/s links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9966"/>
                </a:solidFill>
                <a:latin typeface="Times New Roman"/>
              </a:rPr>
              <a:t>routing and grooming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289548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Wavelength layer: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.5 Gibts/s Links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routing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705720" y="838080"/>
            <a:ext cx="2285640" cy="1419120"/>
            <a:chOff x="6705720" y="838080"/>
            <a:chExt cx="2285640" cy="1419120"/>
          </a:xfrm>
        </p:grpSpPr>
        <p:sp>
          <p:nvSpPr>
            <p:cNvPr id="308" name=""/>
            <p:cNvSpPr/>
            <p:nvPr/>
          </p:nvSpPr>
          <p:spPr>
            <a:xfrm>
              <a:off x="6705720" y="838080"/>
              <a:ext cx="2285640" cy="14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720" y="838080"/>
              <a:ext cx="2285640" cy="141912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28480" y="1014480"/>
              <a:ext cx="20394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9966"/>
                  </a:solidFill>
                  <a:latin typeface="Times New Roman"/>
                </a:rPr>
                <a:t>STM-1/OC-3 layer</a:t>
              </a:r>
              <a:endParaRPr b="0" lang="en-US" sz="1600" spc="-1" strike="noStrike">
                <a:solidFill>
                  <a:srgbClr val="111111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9966"/>
                  </a:solidFill>
                  <a:latin typeface="Times New Roman"/>
                </a:rPr>
                <a:t>generates traffic demands</a:t>
              </a:r>
              <a:r>
                <a:rPr b="1" lang="en-GB" sz="16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339966"/>
                  </a:solidFill>
                  <a:latin typeface="Times New Roman"/>
                </a:rPr>
                <a:t>for the STM-16/OC-48 layer</a:t>
              </a:r>
              <a:endParaRPr b="0" lang="en-US" sz="16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858000" y="2819520"/>
            <a:ext cx="1981080" cy="106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imes New Roman"/>
              </a:rPr>
              <a:t>STM-16/OC-48 layer </a:t>
            </a: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specifies cost/price details</a:t>
            </a:r>
            <a:r>
              <a:rPr b="1" lang="en-GB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for a logical link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295280" y="152280"/>
            <a:ext cx="73915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1111"/>
                </a:solidFill>
                <a:latin typeface="Impact"/>
              </a:rPr>
              <a:t>Layer Optio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52680" y="1066680"/>
            <a:ext cx="4798800" cy="4304520"/>
            <a:chOff x="3352680" y="1066680"/>
            <a:chExt cx="4798800" cy="4304520"/>
          </a:xfrm>
        </p:grpSpPr>
        <p:sp>
          <p:nvSpPr>
            <p:cNvPr id="314" name=""/>
            <p:cNvSpPr/>
            <p:nvPr/>
          </p:nvSpPr>
          <p:spPr>
            <a:xfrm>
              <a:off x="4135680" y="4972320"/>
              <a:ext cx="4015800" cy="398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1260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Times New Roman"/>
                </a:rPr>
                <a:t>Duct layer</a:t>
              </a:r>
              <a:endParaRPr b="0" lang="en-US" sz="20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93680" y="2517480"/>
              <a:ext cx="3123000" cy="3988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Times New Roman"/>
                </a:rPr>
                <a:t>STM-16 (transport)</a:t>
              </a:r>
              <a:endParaRPr b="0" lang="en-US" sz="20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52680" y="3521880"/>
              <a:ext cx="3014280" cy="3988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339966"/>
                </a:gs>
              </a:gsLst>
              <a:lin ang="5400000"/>
            </a:gradFill>
            <a:ln w="1260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Optical (DWDM)</a:t>
              </a:r>
              <a:endParaRPr b="0" lang="en-US" sz="20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55360" y="1066680"/>
              <a:ext cx="1561320" cy="398880"/>
            </a:xfrm>
            <a:prstGeom prst="rect">
              <a:avLst/>
            </a:prstGeom>
            <a:solidFill>
              <a:srgbClr val="107184"/>
            </a:solidFill>
            <a:ln w="1260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STM-4</a:t>
              </a:r>
              <a:endParaRPr b="0" lang="en-US" sz="20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47280" y="1066680"/>
              <a:ext cx="1226880" cy="398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11111"/>
                  </a:solidFill>
                  <a:latin typeface="Times New Roman"/>
                </a:rPr>
                <a:t>STM-1 </a:t>
              </a:r>
              <a:endParaRPr b="0" lang="en-US" sz="20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18" idx="2"/>
              <a:endCxn id="315" idx="0"/>
            </p:cNvCxnSpPr>
            <p:nvPr/>
          </p:nvCxnSpPr>
          <p:spPr>
            <a:xfrm flipH="1" rot="16200000">
              <a:off x="5131440" y="1394280"/>
              <a:ext cx="851400" cy="1395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111111"/>
              </a:solidFill>
              <a:miter/>
            </a:ln>
          </p:spPr>
        </p:cxnSp>
        <p:cxnSp>
          <p:nvCxnSpPr>
            <p:cNvPr id="320" name=""/>
            <p:cNvCxnSpPr>
              <a:stCxn id="317" idx="2"/>
              <a:endCxn id="315" idx="0"/>
            </p:cNvCxnSpPr>
            <p:nvPr/>
          </p:nvCxnSpPr>
          <p:spPr>
            <a:xfrm rot="5400000">
              <a:off x="6219720" y="1701000"/>
              <a:ext cx="851400" cy="781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111111"/>
              </a:solidFill>
              <a:miter/>
            </a:ln>
          </p:spPr>
        </p:cxnSp>
        <p:cxnSp>
          <p:nvCxnSpPr>
            <p:cNvPr id="321" name=""/>
            <p:cNvCxnSpPr>
              <a:stCxn id="315" idx="2"/>
              <a:endCxn id="316" idx="0"/>
            </p:cNvCxnSpPr>
            <p:nvPr/>
          </p:nvCxnSpPr>
          <p:spPr>
            <a:xfrm rot="5400000">
              <a:off x="5354640" y="2621880"/>
              <a:ext cx="405360" cy="1395000"/>
            </a:xfrm>
            <a:prstGeom prst="curvedConnector5">
              <a:avLst>
                <a:gd name="adj1" fmla="val 49955"/>
                <a:gd name="adj2" fmla="val 50000"/>
                <a:gd name="adj3" fmla="val 49955"/>
              </a:avLst>
            </a:prstGeom>
            <a:ln w="12600">
              <a:solidFill>
                <a:srgbClr val="111111"/>
              </a:solidFill>
              <a:miter/>
            </a:ln>
          </p:spPr>
        </p:cxnSp>
        <p:cxnSp>
          <p:nvCxnSpPr>
            <p:cNvPr id="322" name=""/>
            <p:cNvCxnSpPr>
              <a:stCxn id="316" idx="2"/>
              <a:endCxn id="314" idx="0"/>
            </p:cNvCxnSpPr>
            <p:nvPr/>
          </p:nvCxnSpPr>
          <p:spPr>
            <a:xfrm flipH="1" rot="16200000">
              <a:off x="5075640" y="3904920"/>
              <a:ext cx="851400" cy="1283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111111"/>
              </a:solidFill>
              <a:miter/>
            </a:ln>
          </p:spPr>
        </p:cxnSp>
        <p:cxnSp>
          <p:nvCxnSpPr>
            <p:cNvPr id="323" name=""/>
            <p:cNvCxnSpPr>
              <a:stCxn id="315" idx="3"/>
              <a:endCxn id="314" idx="0"/>
            </p:cNvCxnSpPr>
            <p:nvPr/>
          </p:nvCxnSpPr>
          <p:spPr>
            <a:xfrm flipH="1">
              <a:off x="6142680" y="2817000"/>
              <a:ext cx="1673640" cy="2155320"/>
            </a:xfrm>
            <a:prstGeom prst="curvedConnector5">
              <a:avLst>
                <a:gd name="adj1" fmla="val -19987"/>
                <a:gd name="adj2" fmla="val 28466"/>
                <a:gd name="adj3" fmla="val -19987"/>
              </a:avLst>
            </a:prstGeom>
            <a:ln w="12600">
              <a:solidFill>
                <a:srgbClr val="111111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09480" y="228600"/>
            <a:ext cx="8305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11111"/>
                </a:solidFill>
                <a:latin typeface="Arial"/>
              </a:rPr>
              <a:t>Network Layers &amp; Grooming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924360" y="4876920"/>
            <a:ext cx="587160" cy="9475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095880" y="2362320"/>
            <a:ext cx="1938600" cy="2517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3924360" y="2057400"/>
            <a:ext cx="587160" cy="9478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3924360" y="3505320"/>
            <a:ext cx="587160" cy="9475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714760" y="2349360"/>
            <a:ext cx="644400" cy="274680"/>
          </a:xfrm>
          <a:prstGeom prst="rightArrow">
            <a:avLst>
              <a:gd name="adj1" fmla="val 50000"/>
              <a:gd name="adj2" fmla="val 58650"/>
            </a:avLst>
          </a:prstGeom>
          <a:solidFill>
            <a:srgbClr val="ffff9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96000" y="3581280"/>
            <a:ext cx="593640" cy="271440"/>
          </a:xfrm>
          <a:prstGeom prst="rightArrow">
            <a:avLst>
              <a:gd name="adj1" fmla="val 50000"/>
              <a:gd name="adj2" fmla="val 54675"/>
            </a:avLst>
          </a:prstGeom>
          <a:solidFill>
            <a:srgbClr val="ffff9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9797600">
            <a:off x="4869000" y="4738680"/>
            <a:ext cx="696600" cy="217440"/>
          </a:xfrm>
          <a:prstGeom prst="rightArrow">
            <a:avLst>
              <a:gd name="adj1" fmla="val 50000"/>
              <a:gd name="adj2" fmla="val 80091"/>
            </a:avLst>
          </a:prstGeom>
          <a:solidFill>
            <a:srgbClr val="ffff9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 rot="1802400">
            <a:off x="4876920" y="2513520"/>
            <a:ext cx="604800" cy="276120"/>
          </a:xfrm>
          <a:prstGeom prst="rightArrow">
            <a:avLst>
              <a:gd name="adj1" fmla="val 50000"/>
              <a:gd name="adj2" fmla="val 54759"/>
            </a:avLst>
          </a:prstGeom>
          <a:solidFill>
            <a:srgbClr val="ffff9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16200" y="5359320"/>
            <a:ext cx="644400" cy="274680"/>
          </a:xfrm>
          <a:prstGeom prst="rightArrow">
            <a:avLst>
              <a:gd name="adj1" fmla="val 50000"/>
              <a:gd name="adj2" fmla="val 58650"/>
            </a:avLst>
          </a:prstGeom>
          <a:solidFill>
            <a:srgbClr val="ffff9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71800" y="838800"/>
            <a:ext cx="26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Bookman Old Style"/>
              </a:rPr>
              <a:t>First bundling : Containers (switched at Transport depots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8388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Bookman Old Style"/>
              </a:rPr>
              <a:t>Second Bundling: Transport ships (switched at ports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838080" y="1676520"/>
            <a:ext cx="1173240" cy="4190760"/>
            <a:chOff x="838080" y="1676520"/>
            <a:chExt cx="1173240" cy="4190760"/>
          </a:xfrm>
        </p:grpSpPr>
        <p:sp>
          <p:nvSpPr>
            <p:cNvPr id="337" name=""/>
            <p:cNvSpPr/>
            <p:nvPr/>
          </p:nvSpPr>
          <p:spPr>
            <a:xfrm>
              <a:off x="838080" y="1676520"/>
              <a:ext cx="1143000" cy="129528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1295280"/>
                <a:gd name="textAreaBottom" fmla="*/ 1239480 h 1295280"/>
              </a:gdLst>
              <a:ahLst/>
              <a:rect l="textAreaLeft" t="textAreaTop" r="textAreaRight" b="textAreaBottom"/>
              <a:pathLst>
                <a:path w="21600" h="24477">
                  <a:moveTo>
                    <a:pt x="3600" y="0"/>
                  </a:moveTo>
                  <a:arcTo wR="3600" hR="3600" stAng="16200000" swAng="-5400000"/>
                  <a:lnTo>
                    <a:pt x="0" y="20877"/>
                  </a:lnTo>
                  <a:arcTo wR="3600" hR="3600" stAng="10800000" swAng="-5400000"/>
                  <a:lnTo>
                    <a:pt x="18000" y="244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838080" y="3200400"/>
              <a:ext cx="1173240" cy="1204920"/>
              <a:chOff x="838080" y="3200400"/>
              <a:chExt cx="1173240" cy="1204920"/>
            </a:xfrm>
          </p:grpSpPr>
          <p:sp>
            <p:nvSpPr>
              <p:cNvPr id="339" name=""/>
              <p:cNvSpPr/>
              <p:nvPr/>
            </p:nvSpPr>
            <p:spPr>
              <a:xfrm>
                <a:off x="838080" y="3200400"/>
                <a:ext cx="1173240" cy="1204920"/>
              </a:xfrm>
              <a:custGeom>
                <a:avLst/>
                <a:gdLst>
                  <a:gd name="textAreaLeft" fmla="*/ 57240 w 1173240"/>
                  <a:gd name="textAreaRight" fmla="*/ 1116000 w 1173240"/>
                  <a:gd name="textAreaTop" fmla="*/ 57240 h 1204920"/>
                  <a:gd name="textAreaBottom" fmla="*/ 1147680 h 1204920"/>
                </a:gdLst>
                <a:ahLst/>
                <a:rect l="textAreaLeft" t="textAreaTop" r="textAreaRight" b="textAreaBottom"/>
                <a:pathLst>
                  <a:path w="21600" h="22183">
                    <a:moveTo>
                      <a:pt x="3600" y="0"/>
                    </a:moveTo>
                    <a:arcTo wR="3600" hR="3600" stAng="16200000" swAng="-5400000"/>
                    <a:lnTo>
                      <a:pt x="0" y="18583"/>
                    </a:lnTo>
                    <a:arcTo wR="3600" hR="3600" stAng="10800000" swAng="-5400000"/>
                    <a:lnTo>
                      <a:pt x="18000" y="221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91000" y="3646080"/>
                <a:ext cx="121680" cy="92520"/>
              </a:xfrm>
              <a:prstGeom prst="rect">
                <a:avLst/>
              </a:prstGeom>
              <a:noFill/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91080" y="4002120"/>
                <a:ext cx="121680" cy="92520"/>
              </a:xfrm>
              <a:prstGeom prst="rect">
                <a:avLst/>
              </a:prstGeom>
              <a:noFill/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0160" y="3490920"/>
                <a:ext cx="121680" cy="92520"/>
              </a:xfrm>
              <a:prstGeom prst="rect">
                <a:avLst/>
              </a:prstGeom>
              <a:noFill/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37200" y="3498480"/>
                <a:ext cx="210240" cy="71280"/>
              </a:xfrm>
              <a:prstGeom prst="rect">
                <a:avLst/>
              </a:prstGeom>
              <a:noFill/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75480" y="4172760"/>
                <a:ext cx="121680" cy="92520"/>
              </a:xfrm>
              <a:prstGeom prst="rect">
                <a:avLst/>
              </a:prstGeom>
              <a:noFill/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53840" y="4000320"/>
                <a:ext cx="121680" cy="92520"/>
              </a:xfrm>
              <a:prstGeom prst="rect">
                <a:avLst/>
              </a:prstGeom>
              <a:noFill/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838080" y="4648320"/>
              <a:ext cx="1143000" cy="1218960"/>
              <a:chOff x="838080" y="4648320"/>
              <a:chExt cx="1143000" cy="1218960"/>
            </a:xfrm>
          </p:grpSpPr>
          <p:sp>
            <p:nvSpPr>
              <p:cNvPr id="347" name=""/>
              <p:cNvSpPr/>
              <p:nvPr/>
            </p:nvSpPr>
            <p:spPr>
              <a:xfrm>
                <a:off x="838080" y="4648320"/>
                <a:ext cx="1143000" cy="1218960"/>
              </a:xfrm>
              <a:custGeom>
                <a:avLst/>
                <a:gdLst>
                  <a:gd name="textAreaLeft" fmla="*/ 55800 w 1143000"/>
                  <a:gd name="textAreaRight" fmla="*/ 1087200 w 1143000"/>
                  <a:gd name="textAreaTop" fmla="*/ 55800 h 1218960"/>
                  <a:gd name="textAreaBottom" fmla="*/ 1163160 h 1218960"/>
                </a:gdLst>
                <a:ahLst/>
                <a:rect l="textAreaLeft" t="textAreaTop" r="textAreaRight" b="textAreaBottom"/>
                <a:pathLst>
                  <a:path w="21600" h="23035">
                    <a:moveTo>
                      <a:pt x="3600" y="0"/>
                    </a:moveTo>
                    <a:arcTo wR="3600" hR="3600" stAng="16200000" swAng="-5400000"/>
                    <a:lnTo>
                      <a:pt x="0" y="19435"/>
                    </a:lnTo>
                    <a:arcTo wR="3600" hR="3600" stAng="10800000" swAng="-5400000"/>
                    <a:lnTo>
                      <a:pt x="18000" y="230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932400" y="4956480"/>
                <a:ext cx="816480" cy="698040"/>
                <a:chOff x="932400" y="4956480"/>
                <a:chExt cx="816480" cy="6980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932400" y="5293800"/>
                  <a:ext cx="118440" cy="8496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261080" y="4956480"/>
                  <a:ext cx="118440" cy="8496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321920" y="5569560"/>
                  <a:ext cx="118440" cy="8496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630440" y="5144400"/>
                  <a:ext cx="118440" cy="8496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1111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3" name=""/>
            <p:cNvGrpSpPr/>
            <p:nvPr/>
          </p:nvGrpSpPr>
          <p:grpSpPr>
            <a:xfrm>
              <a:off x="942840" y="1919160"/>
              <a:ext cx="790200" cy="841680"/>
              <a:chOff x="942840" y="1919160"/>
              <a:chExt cx="790200" cy="841680"/>
            </a:xfrm>
          </p:grpSpPr>
          <p:sp>
            <p:nvSpPr>
              <p:cNvPr id="354" name=""/>
              <p:cNvSpPr/>
              <p:nvPr/>
            </p:nvSpPr>
            <p:spPr>
              <a:xfrm>
                <a:off x="942840" y="2258280"/>
                <a:ext cx="107640" cy="7524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031040" y="2547360"/>
                <a:ext cx="107640" cy="7524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296000" y="2239920"/>
                <a:ext cx="107640" cy="7524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172520" y="1958400"/>
                <a:ext cx="107640" cy="7524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47280" y="1919160"/>
                <a:ext cx="185760" cy="5796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282320" y="2685600"/>
                <a:ext cx="107640" cy="7524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562040" y="2309040"/>
                <a:ext cx="107280" cy="7524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111111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531800" y="2809800"/>
              <a:ext cx="108000" cy="7452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714760" y="3798720"/>
            <a:ext cx="644400" cy="274680"/>
          </a:xfrm>
          <a:prstGeom prst="rightArrow">
            <a:avLst>
              <a:gd name="adj1" fmla="val 50000"/>
              <a:gd name="adj2" fmla="val 58650"/>
            </a:avLst>
          </a:prstGeom>
          <a:solidFill>
            <a:srgbClr val="ffff9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8400" y="99036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Bookman Old Style"/>
              </a:rPr>
              <a:t>Containers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295280" y="152280"/>
            <a:ext cx="681696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11111"/>
                </a:solidFill>
                <a:latin typeface="Impact"/>
              </a:rPr>
              <a:t>Network Protection Option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1447920"/>
            <a:ext cx="7796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1111"/>
                </a:solidFill>
                <a:latin typeface="Arial"/>
              </a:rPr>
              <a:t>Network topology optimization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Produce the “lowest-cost” network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Guarantee traffic demands are met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74560" indent="-117360">
              <a:lnSpc>
                <a:spcPct val="10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Account for path diversity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1111"/>
                </a:solidFill>
                <a:latin typeface="Arial"/>
              </a:rPr>
              <a:t>Protection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lvl="2" marL="808200" indent="106200">
              <a:lnSpc>
                <a:spcPct val="100000"/>
              </a:lnSpc>
              <a:spcBef>
                <a:spcPts val="249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1 + 1 End-to-end diversity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3" marL="1486080" indent="-225720">
              <a:lnSpc>
                <a:spcPct val="100000"/>
              </a:lnSpc>
              <a:spcBef>
                <a:spcPts val="499"/>
              </a:spcBef>
              <a:buClr>
                <a:srgbClr val="107184"/>
              </a:buClr>
              <a:buSzPct val="119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if required taking into account information on the underlying fibre-paths in the physical ducts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2" marL="808200" indent="106200">
              <a:lnSpc>
                <a:spcPct val="100000"/>
              </a:lnSpc>
              <a:spcBef>
                <a:spcPts val="249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or “Shared” (1:N) protection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3" marL="1486080" indent="-225720">
              <a:lnSpc>
                <a:spcPct val="100000"/>
              </a:lnSpc>
              <a:spcBef>
                <a:spcPts val="499"/>
              </a:spcBef>
              <a:buClr>
                <a:srgbClr val="107184"/>
              </a:buClr>
              <a:buSzPct val="119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pre-calculated diverse paths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98520" y="2133720"/>
            <a:ext cx="4341960" cy="1371600"/>
          </a:xfrm>
          <a:custGeom>
            <a:avLst/>
            <a:gdLst/>
            <a:ahLst/>
            <a:rect l="l" t="t" r="r" b="b"/>
            <a:pathLst>
              <a:path w="2736" h="864">
                <a:moveTo>
                  <a:pt x="0" y="672"/>
                </a:moveTo>
                <a:lnTo>
                  <a:pt x="1200" y="864"/>
                </a:lnTo>
                <a:lnTo>
                  <a:pt x="2304" y="720"/>
                </a:lnTo>
                <a:lnTo>
                  <a:pt x="2736" y="0"/>
                </a:lnTo>
              </a:path>
            </a:pathLst>
          </a:custGeom>
          <a:noFill/>
          <a:ln w="572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3440" y="3200400"/>
            <a:ext cx="3122640" cy="1752480"/>
          </a:xfrm>
          <a:custGeom>
            <a:avLst/>
            <a:gdLst/>
            <a:ahLst/>
            <a:rect l="l" t="t" r="r" b="b"/>
            <a:pathLst>
              <a:path w="1968" h="1104">
                <a:moveTo>
                  <a:pt x="0" y="0"/>
                </a:moveTo>
                <a:lnTo>
                  <a:pt x="1104" y="144"/>
                </a:lnTo>
                <a:lnTo>
                  <a:pt x="1920" y="1056"/>
                </a:lnTo>
                <a:lnTo>
                  <a:pt x="1968" y="1104"/>
                </a:lnTo>
              </a:path>
            </a:pathLst>
          </a:custGeom>
          <a:noFill/>
          <a:ln w="572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4840" y="3276720"/>
            <a:ext cx="3274920" cy="1600200"/>
          </a:xfrm>
          <a:custGeom>
            <a:avLst/>
            <a:gdLst/>
            <a:ahLst/>
            <a:rect l="l" t="t" r="r" b="b"/>
            <a:pathLst>
              <a:path w="2064" h="1056">
                <a:moveTo>
                  <a:pt x="0" y="0"/>
                </a:moveTo>
                <a:lnTo>
                  <a:pt x="384" y="864"/>
                </a:lnTo>
                <a:lnTo>
                  <a:pt x="2064" y="1056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304920"/>
            <a:ext cx="464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1111"/>
                </a:solidFill>
                <a:latin typeface="Impact"/>
              </a:rPr>
              <a:t>Network Restoration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55720" y="4572000"/>
            <a:ext cx="380880" cy="304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9560" y="3352680"/>
            <a:ext cx="380880" cy="304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5040" y="4038480"/>
            <a:ext cx="381240" cy="304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2040" y="3048120"/>
            <a:ext cx="381240" cy="3045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21160" y="4800600"/>
            <a:ext cx="380880" cy="304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76" idx="6"/>
            <a:endCxn id="371" idx="2"/>
          </p:cNvCxnSpPr>
          <p:nvPr/>
        </p:nvCxnSpPr>
        <p:spPr>
          <a:xfrm>
            <a:off x="1526760" y="3276360"/>
            <a:ext cx="1523160" cy="229320"/>
          </a:xfrm>
          <a:prstGeom prst="straightConnector1">
            <a:avLst/>
          </a:prstGeom>
          <a:ln w="28440">
            <a:solidFill>
              <a:srgbClr val="111111"/>
            </a:solidFill>
            <a:miter/>
          </a:ln>
        </p:spPr>
      </p:cxnSp>
      <p:cxnSp>
        <p:nvCxnSpPr>
          <p:cNvPr id="377" name=""/>
          <p:cNvCxnSpPr>
            <a:stCxn id="370" idx="7"/>
            <a:endCxn id="371" idx="3"/>
          </p:cNvCxnSpPr>
          <p:nvPr/>
        </p:nvCxnSpPr>
        <p:spPr>
          <a:xfrm flipV="1">
            <a:off x="2081160" y="3612960"/>
            <a:ext cx="1024560" cy="1003680"/>
          </a:xfrm>
          <a:prstGeom prst="straightConnector1">
            <a:avLst/>
          </a:prstGeom>
          <a:ln w="28440">
            <a:solidFill>
              <a:srgbClr val="111111"/>
            </a:solidFill>
            <a:miter/>
          </a:ln>
        </p:spPr>
      </p:cxnSp>
      <p:cxnSp>
        <p:nvCxnSpPr>
          <p:cNvPr id="378" name=""/>
          <p:cNvCxnSpPr>
            <a:stCxn id="371" idx="5"/>
            <a:endCxn id="374" idx="1"/>
          </p:cNvCxnSpPr>
          <p:nvPr/>
        </p:nvCxnSpPr>
        <p:spPr>
          <a:xfrm>
            <a:off x="3375000" y="3612960"/>
            <a:ext cx="1102320" cy="1231920"/>
          </a:xfrm>
          <a:prstGeom prst="straightConnector1">
            <a:avLst/>
          </a:prstGeom>
          <a:ln w="28440">
            <a:solidFill>
              <a:srgbClr val="111111"/>
            </a:solidFill>
            <a:miter/>
          </a:ln>
        </p:spPr>
      </p:cxnSp>
      <p:cxnSp>
        <p:nvCxnSpPr>
          <p:cNvPr id="379" name=""/>
          <p:cNvCxnSpPr>
            <a:stCxn id="370" idx="6"/>
          </p:cNvCxnSpPr>
          <p:nvPr/>
        </p:nvCxnSpPr>
        <p:spPr>
          <a:xfrm>
            <a:off x="2136600" y="4723920"/>
            <a:ext cx="2286720" cy="229320"/>
          </a:xfrm>
          <a:prstGeom prst="straightConnector1">
            <a:avLst/>
          </a:prstGeom>
          <a:ln w="28440">
            <a:solidFill>
              <a:srgbClr val="111111"/>
            </a:solidFill>
            <a:miter/>
          </a:ln>
        </p:spPr>
      </p:cxnSp>
      <p:cxnSp>
        <p:nvCxnSpPr>
          <p:cNvPr id="380" name=""/>
          <p:cNvCxnSpPr>
            <a:stCxn id="381" idx="4"/>
          </p:cNvCxnSpPr>
          <p:nvPr/>
        </p:nvCxnSpPr>
        <p:spPr>
          <a:xfrm>
            <a:off x="3163680" y="2285640"/>
            <a:ext cx="114840" cy="1067400"/>
          </a:xfrm>
          <a:prstGeom prst="straightConnector1">
            <a:avLst/>
          </a:prstGeom>
          <a:ln w="28440">
            <a:solidFill>
              <a:srgbClr val="111111"/>
            </a:solidFill>
            <a:miter/>
          </a:ln>
        </p:spPr>
      </p:cxnSp>
      <p:cxnSp>
        <p:nvCxnSpPr>
          <p:cNvPr id="382" name=""/>
          <p:cNvCxnSpPr>
            <a:stCxn id="373" idx="5"/>
            <a:endCxn id="372" idx="1"/>
          </p:cNvCxnSpPr>
          <p:nvPr/>
        </p:nvCxnSpPr>
        <p:spPr>
          <a:xfrm>
            <a:off x="5127480" y="3308400"/>
            <a:ext cx="874080" cy="775440"/>
          </a:xfrm>
          <a:prstGeom prst="straightConnector1">
            <a:avLst/>
          </a:prstGeom>
          <a:ln w="28440">
            <a:solidFill>
              <a:srgbClr val="111111"/>
            </a:solidFill>
            <a:miter/>
          </a:ln>
        </p:spPr>
      </p:cxnSp>
      <p:cxnSp>
        <p:nvCxnSpPr>
          <p:cNvPr id="383" name=""/>
          <p:cNvCxnSpPr>
            <a:stCxn id="371" idx="7"/>
            <a:endCxn id="373" idx="2"/>
          </p:cNvCxnSpPr>
          <p:nvPr/>
        </p:nvCxnSpPr>
        <p:spPr>
          <a:xfrm flipV="1">
            <a:off x="3375000" y="3199680"/>
            <a:ext cx="1427760" cy="197640"/>
          </a:xfrm>
          <a:prstGeom prst="straightConnector1">
            <a:avLst/>
          </a:prstGeom>
          <a:ln w="28440">
            <a:solidFill>
              <a:srgbClr val="111111"/>
            </a:solidFill>
            <a:miter/>
          </a:ln>
        </p:spPr>
      </p:cxnSp>
      <p:cxnSp>
        <p:nvCxnSpPr>
          <p:cNvPr id="384" name=""/>
          <p:cNvCxnSpPr>
            <a:stCxn id="385" idx="4"/>
            <a:endCxn id="372" idx="0"/>
          </p:cNvCxnSpPr>
          <p:nvPr/>
        </p:nvCxnSpPr>
        <p:spPr>
          <a:xfrm>
            <a:off x="5602320" y="2286000"/>
            <a:ext cx="534240" cy="1753200"/>
          </a:xfrm>
          <a:prstGeom prst="straightConnector1">
            <a:avLst/>
          </a:prstGeom>
          <a:ln w="28440">
            <a:solidFill>
              <a:srgbClr val="111111"/>
            </a:solidFill>
            <a:miter/>
          </a:ln>
        </p:spPr>
      </p:cxnSp>
      <p:cxnSp>
        <p:nvCxnSpPr>
          <p:cNvPr id="386" name=""/>
          <p:cNvCxnSpPr>
            <a:stCxn id="385" idx="3"/>
            <a:endCxn id="373" idx="0"/>
          </p:cNvCxnSpPr>
          <p:nvPr/>
        </p:nvCxnSpPr>
        <p:spPr>
          <a:xfrm flipH="1">
            <a:off x="4992480" y="2241720"/>
            <a:ext cx="475200" cy="807120"/>
          </a:xfrm>
          <a:prstGeom prst="straightConnector1">
            <a:avLst/>
          </a:prstGeom>
          <a:ln w="28440">
            <a:solidFill>
              <a:srgbClr val="111111"/>
            </a:solidFill>
            <a:miter/>
          </a:ln>
        </p:spPr>
      </p:cxnSp>
      <p:cxnSp>
        <p:nvCxnSpPr>
          <p:cNvPr id="387" name=""/>
          <p:cNvCxnSpPr>
            <a:stCxn id="381" idx="6"/>
            <a:endCxn id="385" idx="2"/>
          </p:cNvCxnSpPr>
          <p:nvPr/>
        </p:nvCxnSpPr>
        <p:spPr>
          <a:xfrm>
            <a:off x="3354120" y="2133360"/>
            <a:ext cx="2057760" cy="1080"/>
          </a:xfrm>
          <a:prstGeom prst="straightConnector1">
            <a:avLst/>
          </a:prstGeom>
          <a:ln w="28440">
            <a:solidFill>
              <a:srgbClr val="111111"/>
            </a:solidFill>
            <a:miter/>
          </a:ln>
        </p:spPr>
      </p:cxnSp>
      <p:cxnSp>
        <p:nvCxnSpPr>
          <p:cNvPr id="388" name=""/>
          <p:cNvCxnSpPr>
            <a:stCxn id="372" idx="5"/>
            <a:endCxn id="374" idx="6"/>
          </p:cNvCxnSpPr>
          <p:nvPr/>
        </p:nvCxnSpPr>
        <p:spPr>
          <a:xfrm flipH="1">
            <a:off x="4801320" y="4299120"/>
            <a:ext cx="1469160" cy="654480"/>
          </a:xfrm>
          <a:prstGeom prst="straightConnector1">
            <a:avLst/>
          </a:prstGeom>
          <a:ln w="28440">
            <a:solidFill>
              <a:srgbClr val="111111"/>
            </a:solidFill>
            <a:miter/>
          </a:ln>
        </p:spPr>
      </p:cxnSp>
      <p:cxnSp>
        <p:nvCxnSpPr>
          <p:cNvPr id="389" name=""/>
          <p:cNvCxnSpPr>
            <a:stCxn id="376" idx="4"/>
            <a:endCxn id="370" idx="1"/>
          </p:cNvCxnSpPr>
          <p:nvPr/>
        </p:nvCxnSpPr>
        <p:spPr>
          <a:xfrm>
            <a:off x="1336680" y="3429000"/>
            <a:ext cx="475200" cy="1187640"/>
          </a:xfrm>
          <a:prstGeom prst="straightConnector1">
            <a:avLst/>
          </a:prstGeom>
          <a:ln w="28440">
            <a:solidFill>
              <a:srgbClr val="111111"/>
            </a:solidFill>
            <a:miter/>
          </a:ln>
        </p:spPr>
      </p:cxnSp>
      <p:cxnSp>
        <p:nvCxnSpPr>
          <p:cNvPr id="390" name=""/>
          <p:cNvCxnSpPr>
            <a:stCxn id="376" idx="7"/>
            <a:endCxn id="381" idx="3"/>
          </p:cNvCxnSpPr>
          <p:nvPr/>
        </p:nvCxnSpPr>
        <p:spPr>
          <a:xfrm flipV="1">
            <a:off x="1471680" y="2241000"/>
            <a:ext cx="1558080" cy="927720"/>
          </a:xfrm>
          <a:prstGeom prst="straightConnector1">
            <a:avLst/>
          </a:prstGeom>
          <a:ln w="28440">
            <a:solidFill>
              <a:srgbClr val="111111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1374840" y="2133720"/>
            <a:ext cx="4189320" cy="1066680"/>
          </a:xfrm>
          <a:custGeom>
            <a:avLst/>
            <a:gdLst/>
            <a:ahLst/>
            <a:rect l="l" t="t" r="r" b="b"/>
            <a:pathLst>
              <a:path w="2640" h="672">
                <a:moveTo>
                  <a:pt x="0" y="672"/>
                </a:moveTo>
                <a:lnTo>
                  <a:pt x="1152" y="0"/>
                </a:lnTo>
                <a:lnTo>
                  <a:pt x="264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73240" y="1981080"/>
            <a:ext cx="381240" cy="304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11880" y="1981080"/>
            <a:ext cx="380880" cy="304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46240" y="3124080"/>
            <a:ext cx="380880" cy="304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20960" y="4724280"/>
            <a:ext cx="152280" cy="838440"/>
          </a:xfrm>
          <a:prstGeom prst="line">
            <a:avLst/>
          </a:prstGeom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61440" y="54500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339966"/>
                </a:solidFill>
                <a:latin typeface="Gill Light SSi"/>
              </a:rPr>
              <a:t>Main Path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3960" y="4038480"/>
            <a:ext cx="2514600" cy="1067040"/>
          </a:xfrm>
          <a:prstGeom prst="line">
            <a:avLst/>
          </a:prstGeom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0" y="502920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339966"/>
                </a:solidFill>
                <a:latin typeface="Gill Light SSi"/>
              </a:rPr>
              <a:t>Restoration Path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92560" y="3429000"/>
            <a:ext cx="2438280" cy="1447920"/>
          </a:xfrm>
          <a:prstGeom prst="line">
            <a:avLst/>
          </a:prstGeom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05680" y="1523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339966"/>
                </a:solidFill>
                <a:latin typeface="Gill Light SSi"/>
              </a:rPr>
              <a:t>Main Path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60640" y="1981080"/>
            <a:ext cx="684000" cy="304920"/>
          </a:xfrm>
          <a:prstGeom prst="line">
            <a:avLst/>
          </a:prstGeom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066680" y="4267080"/>
            <a:ext cx="380880" cy="380880"/>
            <a:chOff x="1066680" y="4267080"/>
            <a:chExt cx="380880" cy="380880"/>
          </a:xfrm>
        </p:grpSpPr>
        <p:sp>
          <p:nvSpPr>
            <p:cNvPr id="400" name=""/>
            <p:cNvSpPr/>
            <p:nvPr/>
          </p:nvSpPr>
          <p:spPr>
            <a:xfrm>
              <a:off x="1066680" y="4343040"/>
              <a:ext cx="380880" cy="228600"/>
            </a:xfrm>
            <a:prstGeom prst="line">
              <a:avLst/>
            </a:prstGeom>
            <a:ln w="2844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142640" y="4267080"/>
              <a:ext cx="152280" cy="380880"/>
            </a:xfrm>
            <a:prstGeom prst="line">
              <a:avLst/>
            </a:prstGeom>
            <a:ln w="2844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 flipV="1">
            <a:off x="1295280" y="4267080"/>
            <a:ext cx="381240" cy="76320"/>
          </a:xfrm>
          <a:prstGeom prst="line">
            <a:avLst/>
          </a:prstGeom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73240" y="1447920"/>
            <a:ext cx="380880" cy="380880"/>
            <a:chOff x="2973240" y="1447920"/>
            <a:chExt cx="380880" cy="380880"/>
          </a:xfrm>
        </p:grpSpPr>
        <p:sp>
          <p:nvSpPr>
            <p:cNvPr id="404" name=""/>
            <p:cNvSpPr/>
            <p:nvPr/>
          </p:nvSpPr>
          <p:spPr>
            <a:xfrm>
              <a:off x="2973240" y="1523880"/>
              <a:ext cx="380880" cy="228600"/>
            </a:xfrm>
            <a:prstGeom prst="line">
              <a:avLst/>
            </a:prstGeom>
            <a:ln w="2844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049200" y="1447920"/>
              <a:ext cx="152280" cy="380880"/>
            </a:xfrm>
            <a:prstGeom prst="line">
              <a:avLst/>
            </a:prstGeom>
            <a:ln w="2844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125880" y="1676520"/>
            <a:ext cx="75960" cy="380880"/>
          </a:xfrm>
          <a:prstGeom prst="line">
            <a:avLst/>
          </a:prstGeom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4572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111111"/>
                </a:solidFill>
                <a:latin typeface="Gill Light SSi"/>
              </a:rPr>
              <a:t>Failure 1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54480" y="1295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111111"/>
                </a:solidFill>
                <a:latin typeface="Gill Light SSi"/>
              </a:rPr>
              <a:t>Failure 2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1523880"/>
            <a:ext cx="25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8080"/>
                </a:solidFill>
                <a:latin typeface="Gill Light SSi"/>
              </a:rPr>
              <a:t>Protection capacity for both demands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590920" y="2286000"/>
            <a:ext cx="3962160" cy="914400"/>
          </a:xfrm>
          <a:prstGeom prst="line">
            <a:avLst/>
          </a:prstGeom>
          <a:ln w="1260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000" y="1599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11111"/>
                </a:solidFill>
                <a:latin typeface="Impact"/>
                <a:ea typeface="굴림"/>
              </a:rPr>
              <a:t>Network Modeling for the Intelligent Optical Network</a:t>
            </a:r>
            <a:endParaRPr b="0" lang="en-US" sz="48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429000"/>
            <a:ext cx="742968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Impact"/>
                <a:ea typeface="굴림"/>
              </a:rPr>
              <a:t>Wade Rubinstein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Impact"/>
                <a:ea typeface="굴림"/>
              </a:rPr>
              <a:t>Director,  Professional Service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Impact"/>
                <a:ea typeface="굴림"/>
              </a:rPr>
              <a:t>Sycamore Networks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굴림"/>
              </a:rPr>
              <a:t>“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굴림"/>
              </a:rPr>
              <a:t>wade.rubinstein@sycamorenet.com”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Impact"/>
                <a:ea typeface="굴림"/>
              </a:rPr>
              <a:t>Summary</a:t>
            </a: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5080" indent="-235080">
              <a:spcBef>
                <a:spcPts val="1500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굴림"/>
              </a:rPr>
              <a:t>Advanced routing and signaling enable the Intelligent Optical Network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굴림"/>
              </a:rPr>
              <a:t>Multiple Network Design and Planning Processes are a Necessity For: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574560" indent="-117360">
              <a:spcBef>
                <a:spcPts val="675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Network optimization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574560" indent="-117360">
              <a:spcBef>
                <a:spcPts val="675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Service Level Planning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574560" indent="-117360">
              <a:spcBef>
                <a:spcPts val="675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Strategic Network Planning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235080" indent="-235080">
              <a:spcBef>
                <a:spcPts val="1500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굴림"/>
              </a:rPr>
              <a:t>Multi-layer Design Methodology is Required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574560" indent="-117360">
              <a:spcBef>
                <a:spcPts val="675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Physical Layer - Fiber, Network Element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574560" indent="-117360">
              <a:spcBef>
                <a:spcPts val="675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Logical Layer - Lightpath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235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235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Impact"/>
                <a:ea typeface="굴림"/>
              </a:rPr>
              <a:t>Agenda</a:t>
            </a: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5080" indent="-235080">
              <a:spcBef>
                <a:spcPts val="1749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Intelligent Optical Networking Defined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235080" indent="-235080">
              <a:spcBef>
                <a:spcPts val="1749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The Planning Objectiv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235080" indent="-235080">
              <a:spcBef>
                <a:spcPts val="1749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1111"/>
                </a:solidFill>
                <a:latin typeface="Arial"/>
                <a:ea typeface="굴림"/>
              </a:rPr>
              <a:t>Design Process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Impact"/>
                <a:ea typeface="굴림"/>
              </a:rPr>
              <a:t>Intelligent Optical Networking</a:t>
            </a: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95120" y="1218960"/>
            <a:ext cx="62485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5080" indent="-235080">
              <a:spcBef>
                <a:spcPts val="1624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11111"/>
                </a:solidFill>
                <a:latin typeface="Arial"/>
                <a:ea typeface="굴림"/>
              </a:rPr>
              <a:t>Transforming the optical network </a:t>
            </a:r>
            <a:endParaRPr b="1" lang="en-US" sz="2600" spc="-1" strike="noStrike">
              <a:solidFill>
                <a:srgbClr val="111111"/>
              </a:solidFill>
              <a:latin typeface="Arial"/>
            </a:endParaRPr>
          </a:p>
          <a:p>
            <a:pPr lvl="1" marL="574560" indent="-117360"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Flexible foundation for the rapid delivery of high speed bandwidth and new service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574560" indent="-117360"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Simplified infrastructure -- minimizes costly electrical/optical conversion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574560" indent="-117360"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Scales easily, enables just-in-time investmen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574560" indent="-117360"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Supports multiple topologie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808200" indent="106200">
              <a:spcBef>
                <a:spcPts val="249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Backbone mesh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808200" indent="106200">
              <a:spcBef>
                <a:spcPts val="249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Interoffice &amp; access rings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808200" indent="106200">
              <a:spcBef>
                <a:spcPts val="249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Linear with optical add/drop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808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54" name="thinker" descr=""/>
          <p:cNvPicPr/>
          <p:nvPr/>
        </p:nvPicPr>
        <p:blipFill>
          <a:blip r:embed="rId1"/>
          <a:stretch/>
        </p:blipFill>
        <p:spPr>
          <a:xfrm>
            <a:off x="609480" y="3657600"/>
            <a:ext cx="188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457200" y="1447920"/>
            <a:ext cx="2514240" cy="2057040"/>
            <a:chOff x="457200" y="1447920"/>
            <a:chExt cx="2514240" cy="2057040"/>
          </a:xfrm>
        </p:grpSpPr>
        <p:pic>
          <p:nvPicPr>
            <p:cNvPr id="56" name="star" descr=""/>
            <p:cNvPicPr/>
            <p:nvPr/>
          </p:nvPicPr>
          <p:blipFill>
            <a:blip r:embed="rId2"/>
            <a:stretch/>
          </p:blipFill>
          <p:spPr>
            <a:xfrm>
              <a:off x="457200" y="1447920"/>
              <a:ext cx="2514240" cy="20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flipH="1">
              <a:off x="819720" y="1569600"/>
              <a:ext cx="543600" cy="4197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819720" y="1810800"/>
              <a:ext cx="1449360" cy="1782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000800" y="1810800"/>
              <a:ext cx="1177920" cy="1330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000440" y="2295720"/>
              <a:ext cx="1268280" cy="8460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1363320" y="1569600"/>
              <a:ext cx="1087200" cy="9676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000440" y="2295720"/>
              <a:ext cx="1449720" cy="2412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000440" y="3141720"/>
              <a:ext cx="12682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000800" y="1555920"/>
              <a:ext cx="362520" cy="151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819360" y="1989000"/>
              <a:ext cx="633960" cy="1190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819720" y="1989000"/>
              <a:ext cx="1630800" cy="541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Impact"/>
                <a:ea typeface="굴림"/>
              </a:rPr>
              <a:t>Intelligent Optical Networking</a:t>
            </a: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31400" indent="-131400">
              <a:spcBef>
                <a:spcPts val="1624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11111"/>
                </a:solidFill>
                <a:latin typeface="Arial"/>
                <a:ea typeface="굴림"/>
              </a:rPr>
              <a:t>Services are delivered over networked lightpaths</a:t>
            </a:r>
            <a:endParaRPr b="1" lang="en-US" sz="2600" spc="-1" strike="noStrike">
              <a:solidFill>
                <a:srgbClr val="111111"/>
              </a:solidFill>
              <a:latin typeface="Arial"/>
            </a:endParaRPr>
          </a:p>
          <a:p>
            <a:pPr lvl="1" marL="321480" indent="-65520"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Easy to turn up -- easy to tear down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452520" indent="59400">
              <a:spcBef>
                <a:spcPts val="224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Fixed or flexible service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452520" indent="59400">
              <a:spcBef>
                <a:spcPts val="224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End-to-end service management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321480" indent="-65520"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Targeted at services at speeds of 100 Mbps and abov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452520" indent="59400">
              <a:spcBef>
                <a:spcPts val="224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STM-n/OC-n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452520" indent="59400">
              <a:spcBef>
                <a:spcPts val="224"/>
              </a:spcBef>
              <a:buClr>
                <a:srgbClr val="33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Gigabit Ethernet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62120" y="3809520"/>
            <a:ext cx="7622640" cy="1860480"/>
            <a:chOff x="762120" y="3809520"/>
            <a:chExt cx="7622640" cy="1860480"/>
          </a:xfrm>
        </p:grpSpPr>
        <p:sp>
          <p:nvSpPr>
            <p:cNvPr id="70" name=""/>
            <p:cNvSpPr/>
            <p:nvPr/>
          </p:nvSpPr>
          <p:spPr>
            <a:xfrm flipH="1" rot="10800000">
              <a:off x="1940400" y="3819600"/>
              <a:ext cx="5405040" cy="126108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 </a:t>
              </a:r>
              <a:endParaRPr b="0" lang="en-US" sz="1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85640" y="5189760"/>
              <a:ext cx="1072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6720" y="3809520"/>
              <a:ext cx="471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Intelligent Optical</a:t>
              </a:r>
              <a:endParaRPr b="0" lang="en-US" sz="3600" spc="-1" strike="noStrike">
                <a:solidFill>
                  <a:srgbClr val="11111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Network</a:t>
              </a:r>
              <a:endParaRPr b="0" lang="en-US" sz="36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42840" y="5208120"/>
              <a:ext cx="1846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879000"/>
              <a:ext cx="2386440" cy="1740240"/>
            </a:xfrm>
            <a:prstGeom prst="triangle">
              <a:avLst>
                <a:gd name="adj" fmla="val 50000"/>
              </a:avLst>
            </a:prstGeom>
            <a:solidFill>
              <a:srgbClr val="f4edb1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19120" y="467748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78720" y="4865040"/>
              <a:ext cx="131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37600" y="5052600"/>
              <a:ext cx="159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43640" y="5240160"/>
              <a:ext cx="183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03240" y="5427720"/>
              <a:ext cx="211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09280" y="536292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11111"/>
                  </a:solidFill>
                  <a:latin typeface="Times New Roman"/>
                  <a:ea typeface="굴림"/>
                </a:rPr>
                <a:t>DS0</a:t>
              </a:r>
              <a:endParaRPr b="0" lang="en-US" sz="1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67960" y="51696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11111"/>
                  </a:solidFill>
                  <a:latin typeface="Times New Roman"/>
                  <a:ea typeface="굴림"/>
                </a:rPr>
                <a:t>E1</a:t>
              </a:r>
              <a:endParaRPr b="0" lang="en-US" sz="1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67960" y="49802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11111"/>
                  </a:solidFill>
                  <a:latin typeface="Times New Roman"/>
                  <a:ea typeface="굴림"/>
                </a:rPr>
                <a:t>E3</a:t>
              </a:r>
              <a:endParaRPr b="0" lang="en-US" sz="1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08480" y="479700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11111"/>
                  </a:solidFill>
                  <a:latin typeface="Times New Roman"/>
                  <a:ea typeface="굴림"/>
                </a:rPr>
                <a:t>STM-1</a:t>
              </a:r>
              <a:endParaRPr b="0" lang="en-US" sz="1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10280" y="461052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11111"/>
                  </a:solidFill>
                  <a:latin typeface="Times New Roman"/>
                  <a:ea typeface="굴림"/>
                </a:rPr>
                <a:t>STM-4</a:t>
              </a:r>
              <a:endParaRPr b="0" lang="en-US" sz="1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64920" y="440604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11111"/>
                  </a:solidFill>
                  <a:latin typeface="Times New Roman"/>
                  <a:ea typeface="굴림"/>
                </a:rPr>
                <a:t>STM-16</a:t>
              </a:r>
              <a:endParaRPr b="0" lang="en-US" sz="1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64920" y="417816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11111"/>
                  </a:solidFill>
                  <a:latin typeface="Times New Roman"/>
                  <a:ea typeface="굴림"/>
                </a:rPr>
                <a:t>STM-64</a:t>
              </a:r>
              <a:endParaRPr b="0" lang="en-US" sz="1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59160" y="4452120"/>
              <a:ext cx="79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98320" y="3879000"/>
              <a:ext cx="2386440" cy="1740240"/>
            </a:xfrm>
            <a:prstGeom prst="triangle">
              <a:avLst>
                <a:gd name="adj" fmla="val 50000"/>
              </a:avLst>
            </a:prstGeom>
            <a:solidFill>
              <a:srgbClr val="f4edb1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33440" y="4537440"/>
              <a:ext cx="90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3160" y="4916880"/>
              <a:ext cx="14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42400" y="5271840"/>
              <a:ext cx="18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43760" y="527256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111"/>
                  </a:solidFill>
                  <a:latin typeface="Times New Roman"/>
                  <a:ea typeface="굴림"/>
                </a:rPr>
                <a:t>E</a:t>
              </a:r>
              <a:endParaRPr b="0" lang="en-US" sz="16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86520" y="492516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111"/>
                  </a:solidFill>
                  <a:latin typeface="Times New Roman"/>
                  <a:ea typeface="굴림"/>
                </a:rPr>
                <a:t>FE</a:t>
              </a:r>
              <a:endParaRPr b="0" lang="en-US" sz="16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70680" y="45669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111"/>
                  </a:solidFill>
                  <a:latin typeface="Times New Roman"/>
                  <a:ea typeface="굴림"/>
                </a:rPr>
                <a:t>GE</a:t>
              </a:r>
              <a:endParaRPr b="0" lang="en-US" sz="16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68440" y="4162680"/>
              <a:ext cx="65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111"/>
                  </a:solidFill>
                  <a:latin typeface="Times New Roman"/>
                  <a:ea typeface="굴림"/>
                </a:rPr>
                <a:t>10</a:t>
              </a:r>
              <a:r>
                <a:rPr b="0" lang="en-US" sz="1600" spc="-1" strike="noStrike">
                  <a:solidFill>
                    <a:srgbClr val="111111"/>
                  </a:solidFill>
                  <a:latin typeface="Times New Roman"/>
                  <a:ea typeface="굴림"/>
                </a:rPr>
                <a:t>GE</a:t>
              </a:r>
              <a:endParaRPr b="0" lang="en-US" sz="16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07080" y="2056680"/>
            <a:ext cx="8722080" cy="2212920"/>
            <a:chOff x="307080" y="2056680"/>
            <a:chExt cx="8722080" cy="2212920"/>
          </a:xfrm>
        </p:grpSpPr>
        <p:grpSp>
          <p:nvGrpSpPr>
            <p:cNvPr id="97" name=""/>
            <p:cNvGrpSpPr/>
            <p:nvPr/>
          </p:nvGrpSpPr>
          <p:grpSpPr>
            <a:xfrm>
              <a:off x="3264120" y="2895840"/>
              <a:ext cx="3020040" cy="1059480"/>
              <a:chOff x="3264120" y="2895840"/>
              <a:chExt cx="3020040" cy="10594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3511800" y="3063600"/>
                <a:ext cx="2772360" cy="891720"/>
                <a:chOff x="3511800" y="3063600"/>
                <a:chExt cx="2772360" cy="891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112000" y="3063600"/>
                  <a:ext cx="805680" cy="32652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511800" y="3535200"/>
                  <a:ext cx="820800" cy="32652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067280" y="3561840"/>
                  <a:ext cx="1223640" cy="39348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672800" y="3553920"/>
                  <a:ext cx="1223640" cy="32652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060160" y="3203640"/>
                  <a:ext cx="1224000" cy="51804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264120" y="2895840"/>
                <a:ext cx="2972880" cy="993240"/>
                <a:chOff x="3264120" y="2895840"/>
                <a:chExt cx="2972880" cy="9932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482640" y="3054960"/>
                  <a:ext cx="1226880" cy="32760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994560" y="2895840"/>
                  <a:ext cx="1410480" cy="45252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64120" y="2997000"/>
                  <a:ext cx="806040" cy="32580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013000" y="3136680"/>
                  <a:ext cx="1224000" cy="51912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83960" y="3469680"/>
                  <a:ext cx="1226880" cy="32760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264120" y="3230640"/>
                  <a:ext cx="1224000" cy="40176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463200" y="3469680"/>
                  <a:ext cx="822240" cy="32580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019760" y="3494880"/>
                  <a:ext cx="1224000" cy="39420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16280" y="3413520"/>
                  <a:ext cx="2049480" cy="255240"/>
                </a:xfrm>
                <a:prstGeom prst="rect">
                  <a:avLst/>
                </a:prstGeom>
                <a:solidFill>
                  <a:srgbClr val="d7d9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099320" y="3084120"/>
                  <a:ext cx="1586880" cy="550080"/>
                </a:xfrm>
                <a:prstGeom prst="rect">
                  <a:avLst/>
                </a:prstGeom>
                <a:solidFill>
                  <a:srgbClr val="d7d9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630960" y="3196080"/>
                  <a:ext cx="913320" cy="374760"/>
                </a:xfrm>
                <a:prstGeom prst="rect">
                  <a:avLst/>
                </a:prstGeom>
                <a:solidFill>
                  <a:srgbClr val="d7d9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>
              <a:off x="3188880" y="251388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Arial"/>
                  <a:ea typeface="굴림"/>
                </a:rPr>
                <a:t>Large Region</a:t>
              </a:r>
              <a:endParaRPr b="0" lang="en-US" sz="18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pic>
          <p:nvPicPr>
            <p:cNvPr id="117" name="dwdma" descr=""/>
            <p:cNvPicPr/>
            <p:nvPr/>
          </p:nvPicPr>
          <p:blipFill>
            <a:blip r:embed="rId1"/>
            <a:srcRect l="0" t="0" r="0" b="20629"/>
            <a:stretch/>
          </p:blipFill>
          <p:spPr>
            <a:xfrm>
              <a:off x="4712040" y="2641680"/>
              <a:ext cx="533160" cy="4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dwdma" descr=""/>
            <p:cNvPicPr/>
            <p:nvPr/>
          </p:nvPicPr>
          <p:blipFill>
            <a:blip r:embed="rId2"/>
            <a:srcRect l="0" t="0" r="0" b="20629"/>
            <a:stretch/>
          </p:blipFill>
          <p:spPr>
            <a:xfrm>
              <a:off x="3581640" y="2895840"/>
              <a:ext cx="533520" cy="4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dwdma" descr=""/>
            <p:cNvPicPr/>
            <p:nvPr/>
          </p:nvPicPr>
          <p:blipFill>
            <a:blip r:embed="rId3"/>
            <a:srcRect l="0" t="0" r="0" b="20629"/>
            <a:stretch/>
          </p:blipFill>
          <p:spPr>
            <a:xfrm>
              <a:off x="5220000" y="3124440"/>
              <a:ext cx="5331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949920" y="3276720"/>
              <a:ext cx="1324080" cy="15876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02480" y="3049200"/>
              <a:ext cx="796680" cy="20340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42240" y="2994120"/>
              <a:ext cx="241200" cy="16020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357480" y="3299040"/>
              <a:ext cx="2859840" cy="970560"/>
              <a:chOff x="357480" y="3299040"/>
              <a:chExt cx="2859840" cy="9705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91840" y="3452760"/>
                <a:ext cx="2625480" cy="816840"/>
                <a:chOff x="591840" y="3452760"/>
                <a:chExt cx="2625480" cy="8168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107080" y="3452760"/>
                  <a:ext cx="762840" cy="29916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91840" y="3884760"/>
                  <a:ext cx="777240" cy="29916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117800" y="3909240"/>
                  <a:ext cx="1158840" cy="36036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691280" y="3901680"/>
                  <a:ext cx="1158840" cy="29916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058120" y="3580920"/>
                  <a:ext cx="1159200" cy="47448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57480" y="3299040"/>
                <a:ext cx="2814840" cy="910080"/>
                <a:chOff x="357480" y="3299040"/>
                <a:chExt cx="2814840" cy="910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64480" y="3444840"/>
                  <a:ext cx="1161720" cy="29988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49400" y="3299040"/>
                  <a:ext cx="1335600" cy="41472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061720" y="3391920"/>
                  <a:ext cx="763200" cy="29844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013480" y="3519720"/>
                  <a:ext cx="1158840" cy="47556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701720" y="3824640"/>
                  <a:ext cx="1161720" cy="29988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57480" y="3605760"/>
                  <a:ext cx="1158840" cy="36792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46120" y="3824640"/>
                  <a:ext cx="778680" cy="29844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73160" y="3848040"/>
                  <a:ext cx="1158840" cy="36108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85880" y="3773160"/>
                  <a:ext cx="1940400" cy="233640"/>
                </a:xfrm>
                <a:prstGeom prst="rect">
                  <a:avLst/>
                </a:prstGeom>
                <a:solidFill>
                  <a:srgbClr val="d7d9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48400" y="3471480"/>
                  <a:ext cx="1502640" cy="503640"/>
                </a:xfrm>
                <a:prstGeom prst="rect">
                  <a:avLst/>
                </a:prstGeom>
                <a:solidFill>
                  <a:srgbClr val="d7d9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04880" y="3574080"/>
                  <a:ext cx="864720" cy="343080"/>
                </a:xfrm>
                <a:prstGeom prst="rect">
                  <a:avLst/>
                </a:prstGeom>
                <a:solidFill>
                  <a:srgbClr val="d7d9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" name=""/>
            <p:cNvGrpSpPr/>
            <p:nvPr/>
          </p:nvGrpSpPr>
          <p:grpSpPr>
            <a:xfrm>
              <a:off x="6363000" y="2463840"/>
              <a:ext cx="2666160" cy="1059840"/>
              <a:chOff x="6363000" y="2463840"/>
              <a:chExt cx="2666160" cy="10598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6581520" y="2631600"/>
                <a:ext cx="2447640" cy="892080"/>
                <a:chOff x="6581520" y="2631600"/>
                <a:chExt cx="2447640" cy="8920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994160" y="2631600"/>
                  <a:ext cx="711360" cy="32652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581520" y="3103560"/>
                  <a:ext cx="724680" cy="32652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071840" y="3130200"/>
                  <a:ext cx="1080360" cy="39348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606440" y="3121920"/>
                  <a:ext cx="1080360" cy="32652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948440" y="2771640"/>
                  <a:ext cx="1080720" cy="518040"/>
                </a:xfrm>
                <a:prstGeom prst="ellipse">
                  <a:avLst/>
                </a:prstGeom>
                <a:solidFill>
                  <a:srgbClr val="0000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363000" y="2463840"/>
                <a:ext cx="2624040" cy="993960"/>
                <a:chOff x="6363000" y="2463840"/>
                <a:chExt cx="2624040" cy="9939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555960" y="2622960"/>
                  <a:ext cx="1082880" cy="32760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07760" y="2463840"/>
                  <a:ext cx="1244880" cy="45288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51680" y="2565000"/>
                  <a:ext cx="711360" cy="32580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06680" y="2704680"/>
                  <a:ext cx="1080360" cy="51948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616160" y="3037680"/>
                  <a:ext cx="1082880" cy="32760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63000" y="2798640"/>
                  <a:ext cx="1080360" cy="40176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538680" y="3037680"/>
                  <a:ext cx="725760" cy="32580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030080" y="3063240"/>
                  <a:ext cx="1080360" cy="394560"/>
                </a:xfrm>
                <a:prstGeom prst="ellipse">
                  <a:avLst/>
                </a:prstGeom>
                <a:solidFill>
                  <a:srgbClr val="d7d9e1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762240" y="2981520"/>
                  <a:ext cx="1809000" cy="255240"/>
                </a:xfrm>
                <a:prstGeom prst="rect">
                  <a:avLst/>
                </a:prstGeom>
                <a:solidFill>
                  <a:srgbClr val="d7d9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100280" y="2652120"/>
                  <a:ext cx="1400760" cy="550080"/>
                </a:xfrm>
                <a:prstGeom prst="rect">
                  <a:avLst/>
                </a:prstGeom>
                <a:solidFill>
                  <a:srgbClr val="d7d9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687000" y="2764440"/>
                  <a:ext cx="806400" cy="374760"/>
                </a:xfrm>
                <a:prstGeom prst="rect">
                  <a:avLst/>
                </a:prstGeom>
                <a:solidFill>
                  <a:srgbClr val="d7d9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11111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307080" y="2706120"/>
              <a:ext cx="249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Arial"/>
                  <a:ea typeface="굴림"/>
                </a:rPr>
                <a:t>Small Region/Access</a:t>
              </a:r>
              <a:endParaRPr b="0" lang="en-US" sz="18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pic>
          <p:nvPicPr>
            <p:cNvPr id="162" name="dwdma" descr=""/>
            <p:cNvPicPr/>
            <p:nvPr/>
          </p:nvPicPr>
          <p:blipFill>
            <a:blip r:embed="rId4"/>
            <a:srcRect l="0" t="0" r="0" b="20629"/>
            <a:stretch/>
          </p:blipFill>
          <p:spPr>
            <a:xfrm>
              <a:off x="1994040" y="3124440"/>
              <a:ext cx="533520" cy="4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dwdma" descr=""/>
            <p:cNvPicPr/>
            <p:nvPr/>
          </p:nvPicPr>
          <p:blipFill>
            <a:blip r:embed="rId5"/>
            <a:srcRect l="0" t="0" r="0" b="20629"/>
            <a:stretch/>
          </p:blipFill>
          <p:spPr>
            <a:xfrm>
              <a:off x="698760" y="3200400"/>
              <a:ext cx="5335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dwdma" descr=""/>
            <p:cNvPicPr/>
            <p:nvPr/>
          </p:nvPicPr>
          <p:blipFill>
            <a:blip r:embed="rId6"/>
            <a:srcRect l="0" t="0" r="0" b="20629"/>
            <a:stretch/>
          </p:blipFill>
          <p:spPr>
            <a:xfrm>
              <a:off x="2222640" y="3581640"/>
              <a:ext cx="53352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375280" y="3429000"/>
              <a:ext cx="63360" cy="16524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79640" y="3505320"/>
              <a:ext cx="1238400" cy="18432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092600" y="3352680"/>
              <a:ext cx="977760" cy="15876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378160" y="3187440"/>
              <a:ext cx="1266840" cy="25092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pic>
          <p:nvPicPr>
            <p:cNvPr id="169" name="dwdma" descr=""/>
            <p:cNvPicPr/>
            <p:nvPr/>
          </p:nvPicPr>
          <p:blipFill>
            <a:blip r:embed="rId7"/>
            <a:srcRect l="0" t="0" r="0" b="20629"/>
            <a:stretch/>
          </p:blipFill>
          <p:spPr>
            <a:xfrm>
              <a:off x="7702920" y="2210040"/>
              <a:ext cx="533160" cy="4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dwdma" descr=""/>
            <p:cNvPicPr/>
            <p:nvPr/>
          </p:nvPicPr>
          <p:blipFill>
            <a:blip r:embed="rId8"/>
            <a:srcRect l="0" t="0" r="0" b="20629"/>
            <a:stretch/>
          </p:blipFill>
          <p:spPr>
            <a:xfrm>
              <a:off x="6572520" y="2463840"/>
              <a:ext cx="533520" cy="4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dwdma" descr=""/>
            <p:cNvPicPr/>
            <p:nvPr/>
          </p:nvPicPr>
          <p:blipFill>
            <a:blip r:embed="rId9"/>
            <a:srcRect l="0" t="0" r="0" b="20629"/>
            <a:stretch/>
          </p:blipFill>
          <p:spPr>
            <a:xfrm>
              <a:off x="8210880" y="2692440"/>
              <a:ext cx="5331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978960" y="2819520"/>
              <a:ext cx="1323720" cy="15876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993000" y="2566800"/>
              <a:ext cx="809640" cy="25380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3120" y="2562480"/>
              <a:ext cx="241200" cy="16020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7600" y="205668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Arial"/>
                  <a:ea typeface="굴림"/>
                </a:rPr>
                <a:t>Backbone</a:t>
              </a:r>
              <a:endParaRPr b="0" lang="en-US" sz="18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150160" y="2838240"/>
              <a:ext cx="1504800" cy="1522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143000" y="1739880"/>
            <a:ext cx="2273400" cy="317520"/>
          </a:xfrm>
          <a:prstGeom prst="leftArrow">
            <a:avLst>
              <a:gd name="adj1" fmla="val 50000"/>
              <a:gd name="adj2" fmla="val 100404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409360" y="1752480"/>
            <a:ext cx="2514600" cy="304920"/>
          </a:xfrm>
          <a:prstGeom prst="leftArrow">
            <a:avLst>
              <a:gd name="adj1" fmla="val 50000"/>
              <a:gd name="adj2" fmla="val 115645"/>
            </a:avLst>
          </a:pr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80040" y="167544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굴림"/>
              </a:rPr>
              <a:t>MANAGEMENT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4025880"/>
            <a:ext cx="1881360" cy="317520"/>
          </a:xfrm>
          <a:prstGeom prst="leftArrow">
            <a:avLst>
              <a:gd name="adj1" fmla="val 50000"/>
              <a:gd name="adj2" fmla="val 83090"/>
            </a:avLst>
          </a:prstGeom>
          <a:gradFill rotWithShape="0">
            <a:gsLst>
              <a:gs pos="0">
                <a:srgbClr val="0000ff"/>
              </a:gs>
              <a:gs pos="100000">
                <a:srgbClr val="0000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73840" y="4025880"/>
            <a:ext cx="2270160" cy="317520"/>
          </a:xfrm>
          <a:prstGeom prst="leftArrow">
            <a:avLst>
              <a:gd name="adj1" fmla="val 50000"/>
              <a:gd name="adj2" fmla="val 100261"/>
            </a:avLst>
          </a:prstGeom>
          <a:gradFill rotWithShape="0">
            <a:gsLst>
              <a:gs pos="0">
                <a:srgbClr val="000073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28640" y="396144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굴림"/>
              </a:rPr>
              <a:t>SWITCHING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3520" y="5104440"/>
            <a:ext cx="6095880" cy="398880"/>
            <a:chOff x="533520" y="5104440"/>
            <a:chExt cx="6095880" cy="398880"/>
          </a:xfrm>
        </p:grpSpPr>
        <p:sp>
          <p:nvSpPr>
            <p:cNvPr id="184" name=""/>
            <p:cNvSpPr/>
            <p:nvPr/>
          </p:nvSpPr>
          <p:spPr>
            <a:xfrm>
              <a:off x="533520" y="5121360"/>
              <a:ext cx="2273400" cy="380880"/>
            </a:xfrm>
            <a:prstGeom prst="leftArrow">
              <a:avLst>
                <a:gd name="adj1" fmla="val 50000"/>
                <a:gd name="adj2" fmla="val 8370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886200" y="5121360"/>
              <a:ext cx="2743200" cy="380880"/>
            </a:xfrm>
            <a:prstGeom prst="leftArrow">
              <a:avLst>
                <a:gd name="adj1" fmla="val 50000"/>
                <a:gd name="adj2" fmla="val 100998"/>
              </a:avLst>
            </a:prstGeom>
            <a:gradFill rotWithShape="0">
              <a:gsLst>
                <a:gs pos="0">
                  <a:srgbClr val="000075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44280" y="510444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굴림"/>
                </a:rPr>
                <a:t>ACCESS</a:t>
              </a:r>
              <a:endParaRPr b="0" lang="en-US" sz="20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828800" y="4570920"/>
            <a:ext cx="6629400" cy="398880"/>
            <a:chOff x="1828800" y="4570920"/>
            <a:chExt cx="6629400" cy="398880"/>
          </a:xfrm>
        </p:grpSpPr>
        <p:sp>
          <p:nvSpPr>
            <p:cNvPr id="188" name=""/>
            <p:cNvSpPr/>
            <p:nvPr/>
          </p:nvSpPr>
          <p:spPr>
            <a:xfrm>
              <a:off x="1828800" y="4572000"/>
              <a:ext cx="2273400" cy="380880"/>
            </a:xfrm>
            <a:prstGeom prst="leftArrow">
              <a:avLst>
                <a:gd name="adj1" fmla="val 50000"/>
                <a:gd name="adj2" fmla="val 8370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715000" y="4572000"/>
              <a:ext cx="2743200" cy="380880"/>
            </a:xfrm>
            <a:prstGeom prst="leftArrow">
              <a:avLst>
                <a:gd name="adj1" fmla="val 50000"/>
                <a:gd name="adj2" fmla="val 100998"/>
              </a:avLst>
            </a:prstGeom>
            <a:gradFill rotWithShape="0">
              <a:gsLst>
                <a:gs pos="0">
                  <a:srgbClr val="000075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120" y="4570920"/>
              <a:ext cx="175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굴림"/>
                </a:rPr>
                <a:t>TRANSPORT</a:t>
              </a:r>
              <a:endParaRPr b="0" lang="en-US" sz="2000" spc="-1" strike="noStrike">
                <a:solidFill>
                  <a:srgbClr val="111111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Impact"/>
                <a:ea typeface="굴림"/>
              </a:rPr>
              <a:t>Components of the Intelligent Optical Network</a:t>
            </a:r>
            <a:endParaRPr b="0" lang="en-US" sz="3200" spc="-1" strike="noStrike">
              <a:solidFill>
                <a:srgbClr val="111111"/>
              </a:solidFill>
              <a:latin typeface="Impact"/>
            </a:endParaRPr>
          </a:p>
        </p:txBody>
      </p:sp>
      <p:pic>
        <p:nvPicPr>
          <p:cNvPr id="192" name="building_remote" descr=""/>
          <p:cNvPicPr/>
          <p:nvPr/>
        </p:nvPicPr>
        <p:blipFill>
          <a:blip r:embed="rId10"/>
          <a:srcRect l="14881" t="0" r="0" b="-282"/>
          <a:stretch/>
        </p:blipFill>
        <p:spPr>
          <a:xfrm>
            <a:off x="304920" y="1447920"/>
            <a:ext cx="871560" cy="1217520"/>
          </a:xfrm>
          <a:prstGeom prst="rect">
            <a:avLst/>
          </a:prstGeom>
          <a:ln w="0">
            <a:noFill/>
          </a:ln>
        </p:spPr>
      </p:pic>
      <p:pic>
        <p:nvPicPr>
          <p:cNvPr id="193" name="building_remote" descr=""/>
          <p:cNvPicPr/>
          <p:nvPr/>
        </p:nvPicPr>
        <p:blipFill>
          <a:blip r:embed="rId11"/>
          <a:srcRect l="14881" t="0" r="0" b="-282"/>
          <a:stretch/>
        </p:blipFill>
        <p:spPr>
          <a:xfrm>
            <a:off x="8001000" y="990720"/>
            <a:ext cx="87156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9480" y="380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Impact"/>
                <a:ea typeface="굴림"/>
              </a:rPr>
              <a:t>Software Intelligence, Enabling Services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752480"/>
            <a:ext cx="7848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1375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11111"/>
                </a:solidFill>
                <a:latin typeface="Arial"/>
                <a:ea typeface="굴림"/>
              </a:rPr>
              <a:t>Optical routing and signaling</a:t>
            </a:r>
            <a:endParaRPr b="0" lang="en-US" sz="2200" spc="-1" strike="noStrike">
              <a:solidFill>
                <a:srgbClr val="111111"/>
              </a:solidFill>
              <a:latin typeface="Times New Roman"/>
            </a:endParaRPr>
          </a:p>
          <a:p>
            <a:pPr lvl="1" marL="551520" indent="-11232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Provides the foundation for network intelligence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51520" indent="-11232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Industry standard protocol implementation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1375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11111"/>
                </a:solidFill>
                <a:latin typeface="Arial"/>
                <a:ea typeface="굴림"/>
              </a:rPr>
              <a:t>Intelligent grooming of sub-rate circuits</a:t>
            </a:r>
            <a:endParaRPr b="0" lang="en-US" sz="2200" spc="-1" strike="noStrike">
              <a:solidFill>
                <a:srgbClr val="111111"/>
              </a:solidFill>
              <a:latin typeface="Times New Roman"/>
            </a:endParaRPr>
          </a:p>
          <a:p>
            <a:pPr lvl="1" marL="551520" indent="-11232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STM-1/STS-3,STM-4/STS-12,STM-16/STS-48 grooming support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51520" indent="-11232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“</a:t>
            </a: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Express trunks” provide network efficiency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1375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11111"/>
                </a:solidFill>
                <a:latin typeface="Arial"/>
                <a:ea typeface="굴림"/>
              </a:rPr>
              <a:t>Local and network level protection</a:t>
            </a:r>
            <a:endParaRPr b="0" lang="en-US" sz="2200" spc="-1" strike="noStrike">
              <a:solidFill>
                <a:srgbClr val="111111"/>
              </a:solidFill>
              <a:latin typeface="Times New Roman"/>
            </a:endParaRPr>
          </a:p>
          <a:p>
            <a:pPr lvl="1" marL="551520" indent="-11232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Support for Path, Span and Line protection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51520" indent="-11232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Protection options 1+1, 1:1, 1:n, Pre-emptable Traffic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3808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Impact"/>
                <a:ea typeface="굴림"/>
              </a:rPr>
              <a:t>Intelligent Optical Routing &amp; Signaling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375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11111"/>
                </a:solidFill>
                <a:latin typeface="Arial"/>
                <a:ea typeface="굴림"/>
              </a:rPr>
              <a:t>Routing:  Open Shortest Path First (OSPF)</a:t>
            </a:r>
            <a:endParaRPr b="0" lang="en-US" sz="2200" spc="-1" strike="noStrike">
              <a:solidFill>
                <a:srgbClr val="111111"/>
              </a:solidFill>
              <a:latin typeface="Times New Roman"/>
            </a:endParaRPr>
          </a:p>
          <a:p>
            <a:pPr lvl="1" marL="574560" indent="-11736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Link-state routing protoco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74560" indent="-11736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Distributed database of switching nodes, their interconnect trunks, and control channels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74560" indent="-11736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Provisions circuits and routes/reroutes traffic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74560" indent="-11736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Enables network protection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74560" indent="-11736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Virtual private network (VPN) support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1375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11111"/>
                </a:solidFill>
                <a:latin typeface="Arial"/>
                <a:ea typeface="굴림"/>
              </a:rPr>
              <a:t>Signaling:  Label Distribution Protocol (LDP)</a:t>
            </a:r>
            <a:endParaRPr b="0" lang="en-US" sz="2200" spc="-1" strike="noStrike">
              <a:solidFill>
                <a:srgbClr val="111111"/>
              </a:solidFill>
              <a:latin typeface="Times New Roman"/>
            </a:endParaRPr>
          </a:p>
          <a:p>
            <a:pPr lvl="1" marL="574560" indent="-11736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Used to set up circuits, hop-by-hop, as they are provisioned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74560" indent="-11736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LDP queries OSPF for the optimal route, and verifies that resources are available prior to circuit set-up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74560" indent="-11736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1" marL="574560" indent="-117360">
              <a:lnSpc>
                <a:spcPct val="90000"/>
              </a:lnSpc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1111"/>
                </a:solidFill>
                <a:latin typeface="Impact"/>
                <a:ea typeface="굴림"/>
              </a:rPr>
              <a:t>Network Planning Objectives</a:t>
            </a:r>
            <a:endParaRPr b="0" lang="en-US" sz="3600" spc="-1" strike="noStrike">
              <a:solidFill>
                <a:srgbClr val="111111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04480" indent="-204480">
              <a:spcBef>
                <a:spcPts val="1500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굴림"/>
              </a:rPr>
              <a:t>Multi-layer network optimization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99680" indent="-101880">
              <a:spcBef>
                <a:spcPts val="675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Circuit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99680" indent="-101880">
              <a:spcBef>
                <a:spcPts val="675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Wavelength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99680" indent="-101880">
              <a:spcBef>
                <a:spcPts val="675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Fiber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99680" indent="-101880">
              <a:spcBef>
                <a:spcPts val="675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Conduit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204480" indent="-204480">
              <a:spcBef>
                <a:spcPts val="1500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굴림"/>
              </a:rPr>
              <a:t>Service level planning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99680" indent="-101880">
              <a:spcBef>
                <a:spcPts val="675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Failure analysi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99680" indent="-101880">
              <a:spcBef>
                <a:spcPts val="675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Availability analysi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499680" indent="-101880">
              <a:spcBef>
                <a:spcPts val="675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굴림"/>
              </a:rPr>
              <a:t>Protection and restoration simulation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204480" indent="-204480">
              <a:spcBef>
                <a:spcPts val="1500"/>
              </a:spcBef>
              <a:buClr>
                <a:srgbClr val="3399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굴림"/>
              </a:rPr>
              <a:t>Strategic network planning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99680" indent="-101880"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Business case analysis (new service ROI analysis)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499680" indent="-101880">
              <a:spcBef>
                <a:spcPts val="751"/>
              </a:spcBef>
              <a:buClr>
                <a:srgbClr val="339966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굴림"/>
              </a:rPr>
              <a:t>Capacity planning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200" name="educate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19920" y="685800"/>
            <a:ext cx="2209680" cy="1973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20:06:57Z</dcterms:created>
  <dc:creator>Mark Quattrocchi</dc:creator>
  <dc:description/>
  <dc:language>en-US</dc:language>
  <cp:lastModifiedBy>krnic3</cp:lastModifiedBy>
  <cp:lastPrinted>2000-01-14T18:09:30Z</cp:lastPrinted>
  <dcterms:modified xsi:type="dcterms:W3CDTF">2000-03-17T00:51:36Z</dcterms:modified>
  <cp:revision>49</cp:revision>
  <dc:subject/>
  <dc:title>No Slide Title</dc:title>
</cp:coreProperties>
</file>