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4920" y="37659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060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5520" y="1258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6480" y="1258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4920" y="3765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5520" y="3765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6480" y="3765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3808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060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37659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37659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060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5520" y="1258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6480" y="12585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3765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5520" y="3765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6480" y="376596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3808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492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0600" y="37659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0600" y="125856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376596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uni01" descr=""/>
          <p:cNvPicPr/>
          <p:nvPr/>
        </p:nvPicPr>
        <p:blipFill>
          <a:blip r:embed="rId2"/>
          <a:srcRect l="30434" t="10669" r="0" b="0"/>
          <a:stretch/>
        </p:blipFill>
        <p:spPr>
          <a:xfrm>
            <a:off x="380880" y="0"/>
            <a:ext cx="2438640" cy="2286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2254320"/>
            <a:ext cx="457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lick to edit the title text format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915400" y="1295280"/>
            <a:ext cx="0" cy="464832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295280"/>
            <a:ext cx="708660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uni01" descr=""/>
          <p:cNvPicPr/>
          <p:nvPr/>
        </p:nvPicPr>
        <p:blipFill>
          <a:blip r:embed="rId2"/>
          <a:stretch/>
        </p:blipFill>
        <p:spPr>
          <a:xfrm>
            <a:off x="-685800" y="-272880"/>
            <a:ext cx="3505320" cy="255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254320"/>
            <a:ext cx="45720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lick to edit the title text format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45" name=""/>
          <p:cNvSpPr/>
          <p:nvPr/>
        </p:nvSpPr>
        <p:spPr>
          <a:xfrm>
            <a:off x="8915400" y="1295280"/>
            <a:ext cx="0" cy="464832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295280"/>
            <a:ext cx="708660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돋움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돋움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Optical Internet Infrastructure 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of Thrunet 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Hyang-Ah Kim</a:t>
            </a: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PRICOT2000, Seoul</a:t>
            </a: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Korea Thrunet</a:t>
            </a:r>
            <a:endParaRPr b="1" i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SONET/SDH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ophisticated link management in the SONET/SDH layer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Powerful restoral property (less than 50msec)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Synchronous componen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 more robust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Very high efficiency – over 98%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ut,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Optimized for the traditional voice traffic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Balanced Tx/Rx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Framing based on 8kHz voice synchronized time sample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lternate solutions to the link managemen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Protection and restoral capabilities of IP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GPS technology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oss of bandwidth Utilization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Working &amp; protection fibers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High cost of transponder and regeneration equipmen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IP over Optical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Optimized network for data servic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No SAR processing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calable architectur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WDM technology + Fast evolution of IP router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More reliabilit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The fewer equipment, the less points of problems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More efficient use of bandwidth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Statistical multiplexing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Use of protection fibers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ower equipment cos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Fewer platforms, fewer conversions, technology integration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ower operations cos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Less to manage, flexible bandwidth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ATM, SONET functions to IP layer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ed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Manufacturers are about to release routers which can route IP packets at wire speed up to 40 Gbps per port.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ffic engineering/Class of servic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he technologies such as MPLS may provide traffic engineering capability at the IP layer.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ynchronizatio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GP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More tolerant IP technology to timing fault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storal capacit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upport from WDM layer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herent self-healing feature of IP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Optical and LAN Convergence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471680"/>
            <a:ext cx="7543800" cy="4587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97280" y="1471680"/>
            <a:ext cx="0" cy="45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0600" y="1471680"/>
            <a:ext cx="0" cy="45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42840" y="16520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/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6160" y="1652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42400" y="1652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7400" y="2227320"/>
            <a:ext cx="5341680" cy="1682640"/>
          </a:xfrm>
          <a:prstGeom prst="rightArrow">
            <a:avLst>
              <a:gd name="adj1" fmla="val 76602"/>
              <a:gd name="adj2" fmla="val 8084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eamless connection to MA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 through sam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and transmis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0200" y="2227320"/>
            <a:ext cx="2925720" cy="1682640"/>
          </a:xfrm>
          <a:prstGeom prst="rightArrow">
            <a:avLst>
              <a:gd name="adj1" fmla="val 76602"/>
              <a:gd name="adj2" fmla="val 44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- 802.3 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s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10G/s market eme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campus backb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94560" y="4075200"/>
            <a:ext cx="5342040" cy="1682640"/>
          </a:xfrm>
          <a:prstGeom prst="rightArrow">
            <a:avLst>
              <a:gd name="adj1" fmla="val 76602"/>
              <a:gd name="adj2" fmla="val 8085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speed trans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AN/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877720" y="4067280"/>
            <a:ext cx="2925720" cy="1682640"/>
          </a:xfrm>
          <a:prstGeom prst="rightArrow">
            <a:avLst>
              <a:gd name="adj1" fmla="val 76602"/>
              <a:gd name="adj2" fmla="val 44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roven photon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for WD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OC-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ff"/>
                </a:solidFill>
                <a:latin typeface="Franklin Gothic Demi"/>
              </a:rPr>
              <a:t>10 </a:t>
            </a: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Gigabit Ethernet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0 Gigabit Ethernet provides a universal Link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ayer2: Frame forwarding, QoS, protection, multicas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ayer1: Header integrity, payload integrity, frame delineation, efficient line coding, signal trace, protection, FEC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ayer0: Physical connectivit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898240" y="2909880"/>
            <a:ext cx="2907720" cy="3414600"/>
            <a:chOff x="5898240" y="2909880"/>
            <a:chExt cx="2907720" cy="3414600"/>
          </a:xfrm>
        </p:grpSpPr>
        <p:sp>
          <p:nvSpPr>
            <p:cNvPr id="182" name=""/>
            <p:cNvSpPr/>
            <p:nvPr/>
          </p:nvSpPr>
          <p:spPr>
            <a:xfrm>
              <a:off x="7148520" y="2909880"/>
              <a:ext cx="1657440" cy="34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3000" y="3035160"/>
              <a:ext cx="1433520" cy="755640"/>
            </a:xfrm>
            <a:prstGeom prst="rect">
              <a:avLst/>
            </a:prstGeom>
            <a:gradFill rotWithShape="0">
              <a:gsLst>
                <a:gs pos="0">
                  <a:srgbClr val="00175e"/>
                </a:gs>
                <a:gs pos="50000">
                  <a:srgbClr val="0033cc"/>
                </a:gs>
                <a:gs pos="100000">
                  <a:srgbClr val="001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63000" y="3828960"/>
              <a:ext cx="1433520" cy="75564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63000" y="4647960"/>
              <a:ext cx="1433520" cy="75564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63000" y="5454360"/>
              <a:ext cx="1433520" cy="755640"/>
            </a:xfrm>
            <a:prstGeom prst="rect">
              <a:avLst/>
            </a:prstGeom>
            <a:gradFill rotWithShape="0">
              <a:gsLst>
                <a:gs pos="0">
                  <a:srgbClr val="5e0075"/>
                </a:gs>
                <a:gs pos="50000">
                  <a:srgbClr val="cc00ff"/>
                </a:gs>
                <a:gs pos="100000">
                  <a:srgbClr val="5e00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9880" y="38289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9880" y="3828960"/>
              <a:ext cx="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689880" y="632448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689880" y="5403600"/>
              <a:ext cx="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8240" y="4665960"/>
              <a:ext cx="1287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gabi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295280" y="2909880"/>
            <a:ext cx="460224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Estimated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June 2000 Market momentum starts to bui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March 2001 First 10Gigabit Ethernet products appears on th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January 2002 Completion of IEEE 10Gigabit Ethernet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ase Study: Thrunet Optical Internet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94" name=""/>
          <p:cNvSpPr/>
          <p:nvPr/>
        </p:nvSpPr>
        <p:spPr>
          <a:xfrm>
            <a:off x="2449440" y="3429000"/>
            <a:ext cx="5322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Evolution of Thrunet IP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Metropolitan Area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Wide Area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Connection with Oth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Plan fo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Evolution of Thrunet IP Backbone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 generation: Classical network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FDDI connecting small number of SO’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ssues: High speed network for different service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nd generation: Hybrid network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TM and routers to connect SO’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ssues: performance, speed, complexity of ATM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rd generation: Optical Interne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hase 1: Gigabit Ethernet in metropolitan area (1998-1999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hase 2: Gigabps wide area network (1999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hase 3: Wavelength Division Multiplexing fiber system (2000)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5221440"/>
            <a:ext cx="668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Thrunet is providing high-speed Internet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at low cost by deploying its 3rd generation netwo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Metropolitan Area Network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pic>
        <p:nvPicPr>
          <p:cNvPr id="199" name="Matrix-man" descr=""/>
          <p:cNvPicPr/>
          <p:nvPr/>
        </p:nvPicPr>
        <p:blipFill>
          <a:blip r:embed="rId1"/>
          <a:stretch/>
        </p:blipFill>
        <p:spPr>
          <a:xfrm>
            <a:off x="3908520" y="1584360"/>
            <a:ext cx="5006880" cy="4575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156440" y="2246400"/>
            <a:ext cx="156528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15480" y="230400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 Thrunet 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06000" y="1258560"/>
            <a:ext cx="2907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P over Gigabit Ethernet over WDM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urrent bottleneck is the headend system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adends are connected with Gigabit interfac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Wide Area Network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258560"/>
            <a:ext cx="300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P over Gigabit Ethernet over WDM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urrently, WAN  interconnects 4 Regional Data Centers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5" name="Topology" descr=""/>
          <p:cNvPicPr/>
          <p:nvPr/>
        </p:nvPicPr>
        <p:blipFill>
          <a:blip r:embed="rId1"/>
          <a:stretch/>
        </p:blipFill>
        <p:spPr>
          <a:xfrm>
            <a:off x="4302000" y="1295280"/>
            <a:ext cx="46134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onnection to Other Networks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207" name=""/>
          <p:cNvSpPr/>
          <p:nvPr/>
        </p:nvSpPr>
        <p:spPr>
          <a:xfrm>
            <a:off x="2301840" y="2795760"/>
            <a:ext cx="18860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7640" y="3298680"/>
            <a:ext cx="0" cy="717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26040" y="3298680"/>
            <a:ext cx="0" cy="717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7200" y="3227400"/>
            <a:ext cx="1885680" cy="93168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1104" y="624"/>
                </a:moveTo>
                <a:cubicBezTo>
                  <a:pt x="980" y="460"/>
                  <a:pt x="856" y="296"/>
                  <a:pt x="672" y="192"/>
                </a:cubicBezTo>
                <a:cubicBezTo>
                  <a:pt x="488" y="88"/>
                  <a:pt x="244" y="44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67320" y="444672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410160" y="3257640"/>
            <a:ext cx="60660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10160" y="3471480"/>
            <a:ext cx="80820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10160" y="3758760"/>
            <a:ext cx="10112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410160" y="4046040"/>
            <a:ext cx="1144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10160" y="4405320"/>
            <a:ext cx="11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10160" y="4405320"/>
            <a:ext cx="1144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10160" y="4405320"/>
            <a:ext cx="10782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10160" y="4405320"/>
            <a:ext cx="87660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10160" y="4405320"/>
            <a:ext cx="60660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10160" y="4405320"/>
            <a:ext cx="270000" cy="12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343200" y="4405320"/>
            <a:ext cx="66600" cy="12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15160" y="3186000"/>
            <a:ext cx="403200" cy="24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083360" y="3400560"/>
            <a:ext cx="405000" cy="24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286760" y="3687840"/>
            <a:ext cx="403200" cy="24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421400" y="3973680"/>
            <a:ext cx="403560" cy="24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488360" y="4303800"/>
            <a:ext cx="404640" cy="24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7421400" y="4589640"/>
            <a:ext cx="403560" cy="245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7353360" y="4876920"/>
            <a:ext cx="404640" cy="24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"/>
          <a:stretch/>
        </p:blipFill>
        <p:spPr>
          <a:xfrm>
            <a:off x="7151760" y="5164200"/>
            <a:ext cx="403200" cy="24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6881760" y="5378400"/>
            <a:ext cx="405000" cy="24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0"/>
          <a:stretch/>
        </p:blipFill>
        <p:spPr>
          <a:xfrm>
            <a:off x="6478560" y="5521320"/>
            <a:ext cx="403200" cy="2462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6073920" y="5551560"/>
            <a:ext cx="404640" cy="245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01840" y="4446720"/>
            <a:ext cx="80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54480" y="501984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54480" y="58086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088640" y="444672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5600" y="4087800"/>
            <a:ext cx="9428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2880" y="5235480"/>
            <a:ext cx="94320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T-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1089000" y="4344840"/>
            <a:ext cx="405000" cy="244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4052880" y="6238800"/>
            <a:ext cx="405000" cy="24444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2975040" y="3586320"/>
            <a:ext cx="2626920" cy="1504440"/>
            <a:chOff x="2975040" y="3586320"/>
            <a:chExt cx="2626920" cy="1504440"/>
          </a:xfrm>
        </p:grpSpPr>
        <p:grpSp>
          <p:nvGrpSpPr>
            <p:cNvPr id="243" name=""/>
            <p:cNvGrpSpPr/>
            <p:nvPr/>
          </p:nvGrpSpPr>
          <p:grpSpPr>
            <a:xfrm>
              <a:off x="2975040" y="3586320"/>
              <a:ext cx="2626920" cy="1504440"/>
              <a:chOff x="2975040" y="3586320"/>
              <a:chExt cx="2626920" cy="1504440"/>
            </a:xfrm>
          </p:grpSpPr>
          <p:sp>
            <p:nvSpPr>
              <p:cNvPr id="244" name=""/>
              <p:cNvSpPr/>
              <p:nvPr/>
            </p:nvSpPr>
            <p:spPr>
              <a:xfrm>
                <a:off x="4288320" y="4037760"/>
                <a:ext cx="802800" cy="97812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50560" y="3661560"/>
                <a:ext cx="1459440" cy="9028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58600" y="3586320"/>
                <a:ext cx="1167480" cy="10530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04760" y="4037760"/>
                <a:ext cx="1897200" cy="8272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75040" y="3887280"/>
                <a:ext cx="1532160" cy="9028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12800" y="4037760"/>
                <a:ext cx="1386360" cy="10530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66640" y="3812040"/>
                <a:ext cx="1970280" cy="1128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120480" y="4039200"/>
              <a:ext cx="233640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hru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S92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872320" y="5824440"/>
            <a:ext cx="7394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3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41960" y="2257560"/>
            <a:ext cx="739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93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89960" y="4992840"/>
            <a:ext cx="739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T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7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35520" y="1920960"/>
            <a:ext cx="808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eam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824960" y="426888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7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83440" y="552132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6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0360" y="160020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s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7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2990880"/>
            <a:ext cx="741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x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92680" y="129528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5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58000" y="3878280"/>
            <a:ext cx="739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nb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54480" y="625140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o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7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7400" y="460224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37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5600" y="2982960"/>
            <a:ext cx="14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ational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6840" y="2424240"/>
            <a:ext cx="175104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06840" y="2135160"/>
            <a:ext cx="1481040" cy="87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75040" y="1865160"/>
            <a:ext cx="1212840" cy="11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46640" y="1649520"/>
            <a:ext cx="741240" cy="13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0" y="1600200"/>
            <a:ext cx="235080" cy="13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187880" y="1649520"/>
            <a:ext cx="270000" cy="13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187880" y="1649160"/>
            <a:ext cx="722160" cy="136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>
            <a:off x="4726080" y="1560600"/>
            <a:ext cx="404640" cy="244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5"/>
          <a:stretch/>
        </p:blipFill>
        <p:spPr>
          <a:xfrm>
            <a:off x="4303800" y="1455840"/>
            <a:ext cx="404640" cy="24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6"/>
          <a:stretch/>
        </p:blipFill>
        <p:spPr>
          <a:xfrm>
            <a:off x="3782880" y="1455840"/>
            <a:ext cx="405000" cy="24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7"/>
          <a:stretch/>
        </p:blipFill>
        <p:spPr>
          <a:xfrm>
            <a:off x="3311640" y="1560600"/>
            <a:ext cx="404640" cy="24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8"/>
          <a:stretch/>
        </p:blipFill>
        <p:spPr>
          <a:xfrm>
            <a:off x="2862360" y="1733400"/>
            <a:ext cx="404640" cy="244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9"/>
          <a:stretch/>
        </p:blipFill>
        <p:spPr>
          <a:xfrm>
            <a:off x="2490840" y="1978200"/>
            <a:ext cx="404640" cy="245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0"/>
          <a:stretch/>
        </p:blipFill>
        <p:spPr>
          <a:xfrm>
            <a:off x="2290680" y="2295360"/>
            <a:ext cx="403200" cy="244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52480" y="2019240"/>
            <a:ext cx="739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39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5320" y="168768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w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04960" y="1455840"/>
            <a:ext cx="739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du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94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10040" y="1295280"/>
            <a:ext cx="7398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25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59320" y="1168560"/>
            <a:ext cx="8078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G 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7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54480" y="1135080"/>
            <a:ext cx="876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66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54480" y="3713040"/>
            <a:ext cx="60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51280" y="3713040"/>
            <a:ext cx="60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1"/>
          <a:stretch/>
        </p:blipFill>
        <p:spPr>
          <a:xfrm>
            <a:off x="2100240" y="2673360"/>
            <a:ext cx="403200" cy="244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95600" y="242424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ent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94120" y="28702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54480" y="339876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51280" y="339876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65760" y="2577960"/>
            <a:ext cx="7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7520" y="239868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4480" y="2130480"/>
            <a:ext cx="7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6280" y="20890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1640" y="2424240"/>
            <a:ext cx="7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40120" y="2643120"/>
            <a:ext cx="7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65320" y="288756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87880" y="1865160"/>
            <a:ext cx="1144440" cy="11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187880" y="2134800"/>
            <a:ext cx="1414440" cy="85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187880" y="2424240"/>
            <a:ext cx="1819080" cy="56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187880" y="2795400"/>
            <a:ext cx="18860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2"/>
          <a:stretch/>
        </p:blipFill>
        <p:spPr>
          <a:xfrm>
            <a:off x="5130720" y="1733400"/>
            <a:ext cx="405000" cy="244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3"/>
          <a:stretch/>
        </p:blipFill>
        <p:spPr>
          <a:xfrm>
            <a:off x="5533920" y="2008080"/>
            <a:ext cx="405000" cy="244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4"/>
          <a:stretch/>
        </p:blipFill>
        <p:spPr>
          <a:xfrm>
            <a:off x="5870520" y="2333520"/>
            <a:ext cx="405000" cy="244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5"/>
          <a:stretch/>
        </p:blipFill>
        <p:spPr>
          <a:xfrm>
            <a:off x="5937120" y="2673360"/>
            <a:ext cx="405000" cy="244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72200" y="258300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ent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376680" y="3227400"/>
            <a:ext cx="166680" cy="12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6"/>
          <a:stretch/>
        </p:blipFill>
        <p:spPr>
          <a:xfrm>
            <a:off x="6343560" y="3105000"/>
            <a:ext cx="403200" cy="244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84480" y="208908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87800" y="2301840"/>
            <a:ext cx="7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4760" y="211932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8480" y="2211480"/>
            <a:ext cx="74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2851200"/>
            <a:ext cx="741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w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53360" y="329868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eam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54960" y="3586320"/>
            <a:ext cx="876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66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67720" y="467208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im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53440" y="5235480"/>
            <a:ext cx="7412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otis-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75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1760" y="5767560"/>
            <a:ext cx="741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nb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4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8920" y="4046400"/>
            <a:ext cx="9428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6280" y="2581200"/>
            <a:ext cx="943200" cy="86040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79600" y="2438280"/>
            <a:ext cx="4997520" cy="3832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I. Who is Thrune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	</a:t>
            </a:r>
            <a:r>
              <a:rPr b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II. Facts of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III. Transport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IV.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VI. Case Study: Thrunet IP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  <a:ea typeface="굴림체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굴림체"/>
              </a:rPr>
              <a:t>VII. 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057400"/>
            <a:ext cx="3105000" cy="5335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  <a:ea typeface="휴먼견출고딕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2000 Plan of Thrunet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95280" y="1258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ffic Volume &amp; Number of Subscribers from Major Citi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ssumption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Ring architecture connecting Seoul, Taegu, and Pusan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eoul as the only connection point to other network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o consideration of bandwidth saving by web caching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04800" y="1903320"/>
          <a:ext cx="7031160" cy="148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903320"/>
                    <a:ext cx="703116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onclusions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ta growth will bring about dramatic changes in transport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P over Optical provides the new data-optimized solution. Remaining services can be delivered on top of IP layer or on the other wavelengths of WDM. 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hrunet is providing simple-to-manage and high bandwidth services with great magnitude of cost savings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Korea Thrunet Co., Ltd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 is Thrunet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 Korean leading data communications and information service carrier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undation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incorporated in 1996 by 102 first class enterprises in the country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jor Business Area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Closed circuit network leasing service (CCNW)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By employing a KEPCO’s fiber backbone network together, Thrunet leases the closed circuit network of 100% optical cable line for hi-quality of multimedia data transmission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Thrunet Servic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Thrunet provides the ultra-fast internet access service through the cable TV network (HFC) first in the country. 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ortal Servic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43080" indent="0">
              <a:lnSpc>
                <a:spcPct val="1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Advent of High Speed Internet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265640"/>
            <a:ext cx="2286000" cy="1523880"/>
          </a:xfrm>
          <a:prstGeom prst="downArrow">
            <a:avLst>
              <a:gd name="adj1" fmla="val 75009"/>
              <a:gd name="adj2" fmla="val 25208"/>
            </a:avLst>
          </a:prstGeom>
          <a:solidFill>
            <a:srgbClr val="0033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7560" y="3351240"/>
            <a:ext cx="305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646520"/>
            <a:ext cx="3687840" cy="53496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12600">
            <a:solidFill>
              <a:srgbClr val="99ff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돋움"/>
              </a:rPr>
              <a:t>Increasing demand for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468440"/>
            <a:ext cx="3611520" cy="760320"/>
          </a:xfrm>
          <a:custGeom>
            <a:avLst/>
            <a:gdLst>
              <a:gd name="textAreaLeft" fmla="*/ 824400 w 3611520"/>
              <a:gd name="textAreaRight" fmla="*/ 2787120 w 3611520"/>
              <a:gd name="textAreaTop" fmla="*/ 173520 h 760320"/>
              <a:gd name="textAreaBottom" fmla="*/ 586800 h 760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Continued Grow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in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351240"/>
            <a:ext cx="2438280" cy="76212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Growth in IP data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351240"/>
            <a:ext cx="3353040" cy="76212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12600">
            <a:solidFill>
              <a:srgbClr val="99ff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Advance in Internet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New vendor/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856120"/>
            <a:ext cx="3886200" cy="621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High Speed Internet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2407680"/>
            <a:ext cx="1981080" cy="1130400"/>
            <a:chOff x="380880" y="2407680"/>
            <a:chExt cx="1981080" cy="1130400"/>
          </a:xfrm>
        </p:grpSpPr>
        <p:sp>
          <p:nvSpPr>
            <p:cNvPr id="99" name=""/>
            <p:cNvSpPr/>
            <p:nvPr/>
          </p:nvSpPr>
          <p:spPr>
            <a:xfrm>
              <a:off x="380880" y="2736360"/>
              <a:ext cx="1981080" cy="484200"/>
            </a:xfrm>
            <a:prstGeom prst="ellipse">
              <a:avLst/>
            </a:prstGeom>
            <a:gradFill rotWithShape="0">
              <a:gsLst>
                <a:gs pos="0">
                  <a:srgbClr val="0d0d35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6760" y="2407680"/>
              <a:ext cx="14076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lbertus Extra Bold"/>
                </a:rPr>
                <a:t>Custom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lbertus Extra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05320" y="2436120"/>
            <a:ext cx="1980720" cy="1130400"/>
            <a:chOff x="3505320" y="2436120"/>
            <a:chExt cx="1980720" cy="1130400"/>
          </a:xfrm>
        </p:grpSpPr>
        <p:sp>
          <p:nvSpPr>
            <p:cNvPr id="102" name=""/>
            <p:cNvSpPr/>
            <p:nvPr/>
          </p:nvSpPr>
          <p:spPr>
            <a:xfrm>
              <a:off x="3505320" y="2752560"/>
              <a:ext cx="1980720" cy="509400"/>
            </a:xfrm>
            <a:prstGeom prst="ellipse">
              <a:avLst/>
            </a:prstGeom>
            <a:gradFill rotWithShape="0">
              <a:gsLst>
                <a:gs pos="0">
                  <a:srgbClr val="0d0d35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5520" y="2436120"/>
              <a:ext cx="12261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lbertus Extra Bold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lbertus Extra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705720" y="2450520"/>
            <a:ext cx="1980720" cy="1130400"/>
            <a:chOff x="6705720" y="2450520"/>
            <a:chExt cx="1980720" cy="1130400"/>
          </a:xfrm>
        </p:grpSpPr>
        <p:sp>
          <p:nvSpPr>
            <p:cNvPr id="105" name=""/>
            <p:cNvSpPr/>
            <p:nvPr/>
          </p:nvSpPr>
          <p:spPr>
            <a:xfrm>
              <a:off x="6705720" y="2775600"/>
              <a:ext cx="1980720" cy="490680"/>
            </a:xfrm>
            <a:prstGeom prst="ellipse">
              <a:avLst/>
            </a:prstGeom>
            <a:gradFill rotWithShape="0">
              <a:gsLst>
                <a:gs pos="0">
                  <a:srgbClr val="0d0d35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800" y="2450520"/>
              <a:ext cx="10904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lbertus Extra Bold"/>
                </a:rPr>
                <a:t>Carri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lbertus Extra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8600" y="3351240"/>
            <a:ext cx="2438280" cy="76212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12600">
            <a:solidFill>
              <a:srgbClr val="99ffcc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ore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돋움"/>
              </a:rPr>
              <a:t>More multi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2208240"/>
            <a:ext cx="114300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33532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208240"/>
            <a:ext cx="106704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Trend in the Network Traffic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9680" y="1258560"/>
            <a:ext cx="3578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net data as the dominant traffic typ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ternet booming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Future application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ramatic growth in IP traffic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Double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every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months 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vice Integration over IP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P telephon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ettop box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"/>
          <p:cNvSpPr/>
          <p:nvPr/>
        </p:nvSpPr>
        <p:spPr>
          <a:xfrm>
            <a:off x="4618080" y="1897200"/>
            <a:ext cx="4191120" cy="3886200"/>
          </a:xfrm>
          <a:prstGeom prst="rect">
            <a:avLst/>
          </a:prstGeom>
          <a:gradFill rotWithShape="0">
            <a:gsLst>
              <a:gs pos="0">
                <a:srgbClr val="b0b0b0"/>
              </a:gs>
              <a:gs pos="50000">
                <a:srgbClr val="ffffff"/>
              </a:gs>
              <a:gs pos="100000">
                <a:srgbClr val="b0b0b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03600" y="1782720"/>
            <a:ext cx="4191120" cy="3886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1d1d1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5680" y="2522520"/>
            <a:ext cx="1440" cy="2529000"/>
          </a:xfrm>
          <a:custGeom>
            <a:avLst/>
            <a:gdLst/>
            <a:ahLst/>
            <a:rect l="l" t="t" r="r" b="b"/>
            <a:pathLst>
              <a:path w="1" h="1593">
                <a:moveTo>
                  <a:pt x="0" y="0"/>
                </a:moveTo>
                <a:lnTo>
                  <a:pt x="0" y="15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52960" y="5095800"/>
            <a:ext cx="331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3080" y="1862280"/>
            <a:ext cx="9295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2840" y="2425680"/>
            <a:ext cx="34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2840" y="2790720"/>
            <a:ext cx="34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2840" y="3182760"/>
            <a:ext cx="34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2840" y="3649680"/>
            <a:ext cx="34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2840" y="4067280"/>
            <a:ext cx="34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6000" y="4498920"/>
            <a:ext cx="25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6000" y="4910040"/>
            <a:ext cx="259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61800" y="5057640"/>
            <a:ext cx="528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0080" y="5057640"/>
            <a:ext cx="528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52400" y="5057640"/>
            <a:ext cx="528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92080" y="5057640"/>
            <a:ext cx="528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20080" y="2373480"/>
            <a:ext cx="12348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Is 23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ce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7320" y="3438360"/>
            <a:ext cx="5868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6560" y="4021200"/>
            <a:ext cx="16779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39600" bIns="39600" anchor="t">
            <a:spAutoFit/>
          </a:bodyPr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Is 5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oice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64560" y="4549680"/>
            <a:ext cx="6537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318440" y="4530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5760" y="5270400"/>
            <a:ext cx="5976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39600" bIns="39600" anchor="t">
            <a:spAutoFit/>
          </a:bodyPr>
          <a:p>
            <a:pPr algn="ctr"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43600" y="2716200"/>
            <a:ext cx="3450960" cy="2284560"/>
          </a:xfrm>
          <a:custGeom>
            <a:avLst/>
            <a:gdLst/>
            <a:ahLst/>
            <a:rect l="l" t="t" r="r" b="b"/>
            <a:pathLst>
              <a:path w="2174" h="1439">
                <a:moveTo>
                  <a:pt x="0" y="1438"/>
                </a:moveTo>
                <a:lnTo>
                  <a:pt x="662" y="1438"/>
                </a:lnTo>
                <a:lnTo>
                  <a:pt x="1440" y="1150"/>
                </a:lnTo>
                <a:lnTo>
                  <a:pt x="2160" y="0"/>
                </a:lnTo>
                <a:lnTo>
                  <a:pt x="2173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57640" y="4861080"/>
            <a:ext cx="3287880" cy="1569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78840" y="4446720"/>
            <a:ext cx="129960" cy="136440"/>
          </a:xfrm>
          <a:prstGeom prst="ellipse">
            <a:avLst/>
          </a:prstGeom>
          <a:gradFill rotWithShape="0">
            <a:gsLst>
              <a:gs pos="0">
                <a:srgbClr val="00fa82"/>
              </a:gs>
              <a:gs pos="100000">
                <a:srgbClr val="004a2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23280" y="2638440"/>
            <a:ext cx="120600" cy="138240"/>
          </a:xfrm>
          <a:prstGeom prst="ellipse">
            <a:avLst/>
          </a:prstGeom>
          <a:gradFill rotWithShape="0">
            <a:gsLst>
              <a:gs pos="0">
                <a:srgbClr val="00fa82"/>
              </a:gs>
              <a:gs pos="100000">
                <a:srgbClr val="004a2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17720" y="592488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Electronicast, 1998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haracteristics of Internet Traffic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nectionless Network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50msec restoral myth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32640" indent="-332640">
              <a:lnSpc>
                <a:spcPct val="16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ractal  or Bursty Nature of Data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94160" indent="-27684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With fractal bandwidth reserved bandwidth channels causes more congestion than one shared channel of equivalent bandwidth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32640" indent="-332640">
              <a:lnSpc>
                <a:spcPct val="16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symmetric Tx/Rx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94160" indent="-276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The extreme imbalances between Tx/RX (up to 16:1)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32640" indent="-332640">
              <a:lnSpc>
                <a:spcPct val="16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dominant Computer-to-computer Traffic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94160" indent="-276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Insensitive to jitter and delay, but extremely fractal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94160" indent="-276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Extremely asymmetric &amp; growing exponentially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94160" indent="-276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Usually many-to-many communications; QoS is hard.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32640" indent="-332640">
              <a:lnSpc>
                <a:spcPct val="16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rver Bound Congestion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94160" indent="-27684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Server performance, DNS, routing tables, etc.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marL="3326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Advance in Network Technology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apid Pace of Optical Technology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oint-to-Point Transmission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DWDM, CWDM Technolog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Optical ADM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OXC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dvanced Routers/Switch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High Speed Interfac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Gigabit Ethernet, 10Gigabit Ethernet, 2.5~160Gbps Interface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High Speed Switching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40Gbps~64Tbps Internal Switching Fabric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High Performance Routing and Servic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돋움"/>
              </a:rPr>
              <a:t>QoS routing, Multicast, Mobile IP</a:t>
            </a:r>
            <a:endParaRPr b="1" lang="en-US" sz="16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Choice of Network Architecture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P Network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49600" y="2773440"/>
            <a:ext cx="1361160" cy="2387520"/>
            <a:chOff x="1749600" y="2773440"/>
            <a:chExt cx="1361160" cy="2387520"/>
          </a:xfrm>
        </p:grpSpPr>
        <p:sp>
          <p:nvSpPr>
            <p:cNvPr id="147" name=""/>
            <p:cNvSpPr/>
            <p:nvPr/>
          </p:nvSpPr>
          <p:spPr>
            <a:xfrm>
              <a:off x="1753200" y="4616280"/>
              <a:ext cx="1351800" cy="544680"/>
            </a:xfrm>
            <a:prstGeom prst="rect">
              <a:avLst/>
            </a:prstGeom>
            <a:gradFill rotWithShape="0">
              <a:gsLst>
                <a:gs pos="0">
                  <a:srgbClr val="00175e"/>
                </a:gs>
                <a:gs pos="100000">
                  <a:srgbClr val="00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9600" y="4002120"/>
              <a:ext cx="1351080" cy="54432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9680" y="3387600"/>
              <a:ext cx="1351080" cy="544680"/>
            </a:xfrm>
            <a:prstGeom prst="rect">
              <a:avLst/>
            </a:prstGeom>
            <a:gradFill rotWithShape="0">
              <a:gsLst>
                <a:gs pos="0">
                  <a:srgbClr val="755e2f"/>
                </a:gs>
                <a:gs pos="100000">
                  <a:srgbClr val="ffcc6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5720" y="2773440"/>
              <a:ext cx="1351080" cy="544320"/>
            </a:xfrm>
            <a:prstGeom prst="rect">
              <a:avLst/>
            </a:prstGeom>
            <a:gradFill rotWithShape="0">
              <a:gsLst>
                <a:gs pos="0">
                  <a:srgbClr val="461775"/>
                </a:gs>
                <a:gs pos="100000">
                  <a:srgbClr val="9933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433520" y="5227560"/>
            <a:ext cx="7243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91240" y="5415120"/>
            <a:ext cx="29649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cost and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087800" y="3387600"/>
            <a:ext cx="1321920" cy="1773360"/>
            <a:chOff x="4087800" y="3387600"/>
            <a:chExt cx="1321920" cy="1773360"/>
          </a:xfrm>
        </p:grpSpPr>
        <p:sp>
          <p:nvSpPr>
            <p:cNvPr id="154" name=""/>
            <p:cNvSpPr/>
            <p:nvPr/>
          </p:nvSpPr>
          <p:spPr>
            <a:xfrm>
              <a:off x="4091400" y="4616280"/>
              <a:ext cx="1306440" cy="544680"/>
            </a:xfrm>
            <a:prstGeom prst="rect">
              <a:avLst/>
            </a:prstGeom>
            <a:gradFill rotWithShape="0">
              <a:gsLst>
                <a:gs pos="0">
                  <a:srgbClr val="00175e"/>
                </a:gs>
                <a:gs pos="100000">
                  <a:srgbClr val="00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87800" y="4002120"/>
              <a:ext cx="1306440" cy="54432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03280" y="3387600"/>
              <a:ext cx="1306440" cy="544680"/>
            </a:xfrm>
            <a:prstGeom prst="rect">
              <a:avLst/>
            </a:prstGeom>
            <a:gradFill rotWithShape="0">
              <a:gsLst>
                <a:gs pos="0">
                  <a:srgbClr val="461775"/>
                </a:gs>
                <a:gs pos="100000">
                  <a:srgbClr val="9933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551640" y="4002120"/>
            <a:ext cx="1204920" cy="1158840"/>
            <a:chOff x="6551640" y="4002120"/>
            <a:chExt cx="1204920" cy="1158840"/>
          </a:xfrm>
        </p:grpSpPr>
        <p:sp>
          <p:nvSpPr>
            <p:cNvPr id="158" name=""/>
            <p:cNvSpPr/>
            <p:nvPr/>
          </p:nvSpPr>
          <p:spPr>
            <a:xfrm>
              <a:off x="6551640" y="4616280"/>
              <a:ext cx="1204920" cy="544680"/>
            </a:xfrm>
            <a:prstGeom prst="rect">
              <a:avLst/>
            </a:prstGeom>
            <a:gradFill rotWithShape="0">
              <a:gsLst>
                <a:gs pos="0">
                  <a:srgbClr val="00175e"/>
                </a:gs>
                <a:gs pos="100000">
                  <a:srgbClr val="00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1640" y="4002120"/>
              <a:ext cx="1204920" cy="544320"/>
            </a:xfrm>
            <a:prstGeom prst="rect">
              <a:avLst/>
            </a:prstGeom>
            <a:gradFill rotWithShape="0">
              <a:gsLst>
                <a:gs pos="0">
                  <a:srgbClr val="461775"/>
                </a:gs>
                <a:gs pos="100000">
                  <a:srgbClr val="9933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Franklin Gothic Demi"/>
              </a:rPr>
              <a:t>ATM </a:t>
            </a:r>
            <a:endParaRPr b="1" lang="en-US" sz="3200" spc="-1" strike="noStrike">
              <a:solidFill>
                <a:srgbClr val="0066ff"/>
              </a:solidFill>
              <a:latin typeface="Franklin Gothic D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1258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ggregation of different traffic typ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Significant savings in overall bandwidth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Easy solution to VPNs and classes of service for data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Incredible degree of flexibility in network engineering/design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marL="322200" indent="-32220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ut,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Overwhelming service type in future : Internet data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Advent of very high speed routers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Packet segmentation and reassembly (SAR) overhead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Loss of bandwidth due to SVC setup time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Complexit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70000"/>
              </a:lnSpc>
              <a:spcBef>
                <a:spcPts val="451"/>
              </a:spcBef>
              <a:buClr>
                <a:srgbClr val="cc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High cost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Need a network optimized for the Internet data delivery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</a:rPr>
              <a:t>Deliver the remaining services on top of an IP network</a:t>
            </a: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1:52:17Z</dcterms:created>
  <dc:creator>Hyang-Ah Kim</dc:creator>
  <dc:description/>
  <dc:language>en-US</dc:language>
  <cp:lastModifiedBy>Hyang-Ah Kim</cp:lastModifiedBy>
  <cp:lastPrinted>1999-03-03T07:50:02Z</cp:lastPrinted>
  <dcterms:modified xsi:type="dcterms:W3CDTF">2000-02-21T14:09:16Z</dcterms:modified>
  <cp:revision>1</cp:revision>
  <dc:subject/>
  <dc:title>Optical Internet Infrastructure  of Thrunet </dc:title>
</cp:coreProperties>
</file>