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312025" cy="9598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D179-16DD-4F8E-BC65-EB9C3285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440" y="4137120"/>
            <a:ext cx="7924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EB6F-417B-4FBC-9EAF-C571949B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4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462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9220-0CF1-4DAC-8F7F-267065872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64920" y="166176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44760" y="166176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440" y="413712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64920" y="413712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44760" y="413712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1ABB-5852-402F-AC1D-950B2E1BC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B2D8-3E0A-4362-A72C-5F0E49CF9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A655-DF79-4E90-8772-5A314940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2132-A814-474D-8ACE-2F4A8FDE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6EBE-7788-465A-9354-31D26E39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D696-B508-47C5-BE0A-4BED11AE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828800" y="2282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8D69-9307-4F08-938C-3F0163F9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4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A399-1389-437D-B771-4DF7D589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034A-BEFE-4725-BF08-29F61674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462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E476-BF3E-493B-9018-B3CA9A13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440" y="4137120"/>
            <a:ext cx="7924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48A0-19E5-4AE4-95F1-0A660E6D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440" y="4137120"/>
            <a:ext cx="7924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3442-EE07-4A1F-BE01-99C1245B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4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62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BFE5-8B3E-4476-B6AC-6176CC75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64920" y="166176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44760" y="166176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440" y="413712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64920" y="413712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44760" y="4137120"/>
            <a:ext cx="2551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2107-B4D1-4876-9E63-784F39344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4F87-277A-4FFC-85A6-8131E227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6DB2-E7A5-4CFB-9659-5CB3D89F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233E-982A-446B-AE8F-13CAF284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828800" y="2282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E34F-78B8-4A5D-B7D2-344E7A66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662B-A326-4368-9888-C9969A6D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46240" y="413712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47BB-900F-4B81-8F3B-3E7A2FB0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61760"/>
            <a:ext cx="386712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4137120"/>
            <a:ext cx="7924680" cy="22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56DF-300D-40F2-B483-7C2A4D13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286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7DE3-0170-4F16-9C42-8D76B678558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ABE5-9CE3-494F-B31A-5F85B65036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" name="newlogo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295280" cy="89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46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A813-8CC8-433D-917F-07D6D7FDC56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5C6A-6648-4BFD-816B-6D2850B86F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newlogo" descr=""/>
          <p:cNvPicPr/>
          <p:nvPr/>
        </p:nvPicPr>
        <p:blipFill>
          <a:blip r:embed="rId2"/>
          <a:stretch/>
        </p:blipFill>
        <p:spPr>
          <a:xfrm>
            <a:off x="3124080" y="228600"/>
            <a:ext cx="2890800" cy="19969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algn="ctr">
              <a:spcBef>
                <a:spcPts val="499"/>
              </a:spcBef>
              <a:buClr>
                <a:srgbClr val="ffffff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>
              <a:spcBef>
                <a:spcPts val="49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>
              <a:spcBef>
                <a:spcPts val="499"/>
              </a:spcBef>
              <a:buClr>
                <a:srgbClr val="ffffff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4120" y="311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APNIC Open Address Policy Meeting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560" y="3886200"/>
            <a:ext cx="85676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76440" y="4737960"/>
            <a:ext cx="578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pecial Interest Group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82480" y="5814360"/>
            <a:ext cx="411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ch 2nd, Korea, Seo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EBCC-6E8A-4CFE-A279-7F9692C1B63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commenda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6160" y="1590480"/>
            <a:ext cx="82594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edback from RIRs and APNIC Me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lude 61/8 as part of  total address r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allocations on a regular and ongoing basis to APNIC me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mmended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ouncement via mailing lists (NANOG, APNIC, RIPE-list etc) and web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 ‘A’ allocations commence in June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61DE-62EE-4E68-8CE9-715434A1E3BA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blem Defini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6617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ould APNIC make allocations from network 61 /8  on a regular basis as part of its total address pool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5AA8-94C5-40E5-8B52-E7EFCEB47AC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otivation and Backgroun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77440" y="1661760"/>
            <a:ext cx="8032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imate 2 years of remaining ‘C’ spa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1.9% (7 /8s) remains free from the ‘C’ s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2.7% (79 /8s) remains free from the ‘A’ s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ril 199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ANA allocated each registry a /8 from the ‘A’ s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ne 1997 (AM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NIC would allocate from 61/8 on a trial basis similar to RIPE NCC trial for 62/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2E12-0FC3-484B-8600-0C0ABFEF49F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47560" y="1441080"/>
            <a:ext cx="792504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1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IN (63/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21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cations from 63/8 were made to larger members and no experiments were condu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21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September 1999, ARIN started to allocate from 64/8 (with minimum allocation of a /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1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1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PE NCC (62/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21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the trial ended (Dec 1997), RIPE NCC continued to make allocations of class A address space on normal ba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6D34-C682-4A83-8BFF-8DA7BCEFDB5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662120"/>
            <a:ext cx="79246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NIC (61/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1 member volunteered to receive an allocation from 61/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lack of resources, APNIC did not actively promote trial from 61/8 in 199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October 1999, allocations from 61/8 have been made to members in China, India, Hong Kong, Australia, Singapore and Philipp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322F-3EDD-4ECE-9E28-5FC23169E40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66320" y="1251720"/>
            <a:ext cx="639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 Allocations from 61, 62 and 6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03040" y="1785960"/>
          <a:ext cx="8643960" cy="474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" y="1785960"/>
                    <a:ext cx="8643960" cy="47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D047-1FC8-49ED-8CE9-1136A6B3EB4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04240" y="1169280"/>
            <a:ext cx="76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 announcements in global routing 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09520" y="1724040"/>
          <a:ext cx="8713800" cy="472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724040"/>
                    <a:ext cx="8713800" cy="47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4987-7BDA-41DD-9D48-13E0F284C9A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79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39840" y="1917720"/>
          <a:ext cx="8285040" cy="459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840" y="1917720"/>
                    <a:ext cx="8285040" cy="459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343800" y="1310400"/>
            <a:ext cx="86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akdown Of Network Assignment from Network 61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4E74-2648-49C3-ACAB-9F573CC4F1E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61680" y="1447560"/>
            <a:ext cx="792468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edback from APNIC me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ful filtering by some IS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unreachable in some parts of the Inter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u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9520" indent="-179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act the individual ISPs and request them to modify their fil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95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d classful equipment or routing protoc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880" indent="-17172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9520" indent="-179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grade software or hard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9520" indent="-179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new equipment now supports CID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76FA-FFAB-4E57-BF86-66F121BF85F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01:48:08Z</dcterms:created>
  <dc:creator>Anne Lord</dc:creator>
  <dc:description/>
  <dc:language>en-US</dc:language>
  <cp:lastModifiedBy>Guest</cp:lastModifiedBy>
  <cp:lastPrinted>2000-02-17T06:44:28Z</cp:lastPrinted>
  <dcterms:modified xsi:type="dcterms:W3CDTF">2000-02-18T05:24:11Z</dcterms:modified>
  <cp:revision>135</cp:revision>
  <dc:subject/>
  <dc:title>Welcome APNIC Members Training Cour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pwilson@apnic.net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N:\www\Presentations\Beijing Oct 98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