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1600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F337-35EA-4DB8-929F-D066E3DDB941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826920" y="49356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673200" y="6742080"/>
            <a:ext cx="18716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68640" y="6742080"/>
            <a:ext cx="2843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35720" y="6742080"/>
            <a:ext cx="18716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388A-32A0-478C-8392-DDC076F4AB1D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92E9-DDD9-4C6D-ABC8-E91DAEEBB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4ECA-711B-4A19-B27C-D5F840BA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A2E5-D8E9-4DAB-917E-416D478AE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AC57-C7D6-4754-A21E-6C1BE9E89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DDD9-9A27-427E-B954-35A6ED5A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0541-99B6-4BFD-9CBC-9B0F878C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7624-449F-41E5-B475-D54EF57D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CB85-BC00-4777-A157-444BACEA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94D6-2686-4247-B157-2D056E50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8CB9-9D3C-48BE-A47D-C6484605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77E4-D1A0-4F3D-B1CF-DAAE0CAF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73A1-17C1-41DC-A6D9-E5494AF4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7E63-3D07-4918-B609-CA66C1D77D3A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90720" cy="609480"/>
            <a:chOff x="0" y="0"/>
            <a:chExt cx="990720" cy="60948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990720" cy="6094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" name="logo_e" descr=""/>
            <p:cNvPicPr/>
            <p:nvPr/>
          </p:nvPicPr>
          <p:blipFill>
            <a:blip r:embed="rId2">
              <a:lum contrast="12000"/>
            </a:blip>
            <a:stretch/>
          </p:blipFill>
          <p:spPr>
            <a:xfrm>
              <a:off x="76320" y="75960"/>
              <a:ext cx="866520" cy="4852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Ruri Hirom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JPNIC IP-W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hiromi@spin.ad.j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4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6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6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 proposal for registry evaluation principl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562720" y="4648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5193-75AD-45B8-A9EC-0C3F11EE298C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(C) 2000 Japan Network Information Cen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CC69-7CB2-476B-89EA-A11E06EFFA8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3/02</a:t>
            </a:r>
          </a:p>
        </p:txBody>
      </p:sp>
    </p:spTree>
  </p:cSld>
  <p:transition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Conclusion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spcAft>
                <a:spcPts val="13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Let’s talk about this issue, have a discuss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(C) 2000 Japan Network Information Cen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F25C-AE58-4D28-BBCC-C1E978F8F78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3/02</a:t>
            </a:r>
          </a:p>
        </p:txBody>
      </p:sp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Background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Under RFC2050 and APNIC policy docu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Various interpretations around the 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Wide range of decision making(discre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Possibility of  difference  between IRs or even in a same IR                                     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　→　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we need common basic princi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(C) 2000 Japan Network Information Cen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F6F8-BFD7-41CF-A3EA-66CC84A15D2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3/02</a:t>
            </a: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Motivation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Times New Roman"/>
              </a:rPr>
              <a:t>Not focused on the actual allocation/assignment procedures made by I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Times New Roman"/>
              </a:rPr>
              <a:t>Propose the basic idea to be obtained by IRs to support the registration activ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Times New Roman"/>
              </a:rPr>
              <a:t>Not only by APN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(C) 2000 Japan Network Information Cen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8758-90C9-4BF2-B29A-D0E4C8203DC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3/02</a:t>
            </a:r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Effect and Merit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Ensure stable assignment/allocation even when technical requirements cha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Reduction of differences among hostmas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Process will be simplified and more effic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Confusion will be reduc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(C) 2000 Japan Network Information Cen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AA83-366F-4856-9BAD-60AC7BB2BD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3/02</a:t>
            </a:r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Principles I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spcAft>
                <a:spcPts val="13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Registries shall not interfere with business issues of the application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(C) 2000 Japan Network Information Cen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1D5A-F702-4865-B992-9A095243D43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3/02</a:t>
            </a:r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Principles II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349"/>
              </a:spcBef>
              <a:spcAft>
                <a:spcPts val="13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Registries will not consider administrative ease for address assignment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(C) 2000 Japan Network Information Cen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3E30-AFFA-409C-8F19-DF7E5609FB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3/02</a:t>
            </a:r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Principle III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gistries shall gather minimum information necessary for evaluation of applications and the applicant can ask the reason for why such information is need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(C) 2000 Japan Network Information Cen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72FD-5C85-4754-ABBD-F104F01556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3/02</a:t>
            </a:r>
          </a:p>
        </p:txBody>
      </p:sp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Principles IV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Registries  shall evaluate technologies for its procedures with a common standard and try to describe it into document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(C) 2000 Japan Network Information Cen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81B8-A015-4E14-BD40-B48AAC839DD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3/02</a:t>
            </a:r>
          </a:p>
        </p:txBody>
      </p:sp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gistries shall not interfere with business issues of the ap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gistries will not consider administrative ease for address assign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gistries shall gather minimum information necessary for evaluation of applications and the applicant can ask the reason for why such information is nee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gistries  shall evaluate technologies for its procedures with a common standard and try to describe it into documen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(C) 2000 Japan Network Information Cen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E37D-DC02-45F8-A1D3-16368EBA7BB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3/02</a:t>
            </a:r>
          </a:p>
        </p:txBody>
      </p:sp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9T23:53:31Z</dcterms:created>
  <dc:creator>Hamada</dc:creator>
  <dc:description/>
  <dc:language>en-US</dc:language>
  <cp:lastModifiedBy>krnic3</cp:lastModifiedBy>
  <cp:lastPrinted>2000-02-28T06:48:45Z</cp:lastPrinted>
  <dcterms:modified xsi:type="dcterms:W3CDTF">2000-03-09T07:12:07Z</dcterms:modified>
  <cp:revision>125</cp:revision>
  <dc:subject/>
  <dc:title>A proposal for registry evaluation principles</dc:title>
</cp:coreProperties>
</file>