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FE3-CC8F-4D0D-A18A-227A99A0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527-8163-45DA-B54F-16C23401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A14-4D08-4FD6-A72D-0EF33F2D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1E8-5BA5-4628-A897-2F0E16D2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AF3-896A-44F2-BE3C-449E7546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207-9C98-431A-88C9-A50C2B39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E65-6F20-416D-A974-E706EBE3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FA0-16A6-452C-8369-44873360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8FD-55B2-41CB-9125-E80CFF6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682-5192-4237-A0D0-7787A76B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0B0-94A1-423E-A1B4-9ABA012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CC2-0774-4404-802C-88CCF79B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55272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AEC1-6E4F-45B6-9859-9E66E07DFD4E}" type="datetime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05520" y="6552720"/>
            <a:ext cx="403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opyright 2000 Japan Network Information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76320"/>
            <a:ext cx="1219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A231-78FE-40FD-AB77-1BEB38DCD82F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90720" cy="609480"/>
            <a:chOff x="0" y="0"/>
            <a:chExt cx="990720" cy="60948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09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" name="logo_e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76320" y="75960"/>
              <a:ext cx="866520" cy="485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Handling of Personal Informatio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n the APNIC Datab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APNIC Policy SIG at APRICOT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March 2</a:t>
            </a:r>
            <a:r>
              <a:rPr b="0" lang="ja-JP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,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MAEMURA Akin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IP Working Group, JP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maem@nic.ad.j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urrent DB policy of APN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LIR and NIR have to send whois objects of the IP numbers they assign/alloc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Documented and regulated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APNIC exhibits the objects as they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5AE-ECA9-4DD6-8D3A-A42A7AFB59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32458-8143-497B-AE7A-BE167E097758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posal to APN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To establish its policy for handling of privat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private information not to be ex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Registrant informed how the info hand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APNIC informs to members, members also inform to its members, LIRs inform to its custo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86C-87C4-4CE3-97DE-33061883BDF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52E00-0916-4C2B-A592-0C4FB89247CF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Suggestion to NIRs/LI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Establish such a privacy policy at every NIRs/L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to protect people with wired h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to deploy the Internet to the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ffffff"/>
                </a:solidFill>
                <a:latin typeface="Tahoma"/>
              </a:rPr>
              <a:t>Internet for everyone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043-4323-4ECE-A947-1D74551A85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60C72-FBF2-46EE-868C-AAF2316A075A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A proposal for tech-c substitu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While Private Info secured, at least tech-c has to be exhibited in de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One proposal:  ISP to be in charge of tech-c instead of him/he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Have to be agreed by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Seems to be reasonab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Suppose all residences got IP reach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FEC-E51D-402D-AB28-C1D174F031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B7DE0-9EEE-4E3B-ABCC-668C3C16D48C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Private Information has to be secu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APNIC (also NIRs/LIRs) has to have an appropriate privacy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For Operational Contact, ISPs seems to be reasonable for tech-c substit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61C-ED2D-4A90-839A-91DD76214C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5D60E-BFA5-4A93-A1E4-23DE231093F8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5146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Handling of Personal Information 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on the APNIC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ahoma"/>
              </a:rPr>
              <a:t>APNIC Policy SIG, APRICOT in Ko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ahoma"/>
              </a:rPr>
              <a:t>March </a:t>
            </a:r>
            <a:r>
              <a:rPr b="0" lang="ja-JP" sz="2000" spc="-1" strike="noStrike" baseline="30000">
                <a:solidFill>
                  <a:srgbClr val="ffffff"/>
                </a:solidFill>
                <a:latin typeface="Tahoma"/>
              </a:rPr>
              <a:t>2nd</a:t>
            </a:r>
            <a:r>
              <a:rPr b="0" lang="ja-JP" sz="2000" spc="-1" strike="noStrike">
                <a:solidFill>
                  <a:srgbClr val="ffffff"/>
                </a:solidFill>
                <a:latin typeface="Tahoma"/>
              </a:rPr>
              <a:t>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Tahoma"/>
              </a:rPr>
              <a:t>MAEMURA Akin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Tahoma"/>
              </a:rPr>
              <a:t>IP Working Group, JP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Tahoma"/>
              </a:rPr>
              <a:t>maem@maem.org, maem@nic.ad.j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 2000 Japan Network Information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35F-144E-4305-8749-ED491E1EC82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6D280-4888-444C-9C00-0D94203D5342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Introduction of current status for the Personal Information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JPNIC’s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Proposal for APNIC and NIRs/L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Discussion appreciated </a:t>
            </a:r>
            <a:r>
              <a:rPr b="0" lang="ja-JP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861-4437-442C-9D47-43B98B8E7E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80E5D-89CD-4B3E-B45C-3E1176955DAC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Circum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Every IP address block has to be registered at NIC database with contact information including postal address and phone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In Japan, IP connectivity service by dedicated line has got much cheaper, and personal user counts more and m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Thus, personal users appear on the NIC databases with their own postal addresses and phone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At least hundreds of inet-num objects of personal 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F66-6708-4670-A815-BFF3C38771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5F4E3-1198-4E6E-907D-B30F743B2029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From Standpoint of  </a:t>
            </a:r>
            <a:br>
              <a:rPr sz="4400"/>
            </a:b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the Internet Operation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Point-Of-Contact has to be looked up for the troubleshoo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RFC13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Building a Network Information Services Infra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E-mail address is not enough because e-mail may not be reachable when in tr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31D-26A6-4BF1-B4D0-58103749F0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D4FE0-7BE1-4C71-8DFD-91FB07069E0B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From Standpoint of </a:t>
            </a:r>
            <a:br>
              <a:rPr sz="4400"/>
            </a:b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the Private Information Hand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ate Information has to be handled secur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Policy Papers exist.  See next p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fact, some personal users have already been att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isance phone calls,  Direct sales mails/c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JPNIC stops exhibit of fields of privacy by certain specific requests/claims if it fulfills the crite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al Address, Phone/fax Nu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145-3947-49C4-811C-B2A1ADC48C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99ADF-C3C6-40DC-B8B0-6D3A3BC6BE90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Published Policy Pap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OECD Guideline,  19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Guidelines on the Protection of Privacy and Transborder Flows of Person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ahoma"/>
              </a:rPr>
              <a:t>http://www.oecd.org/dsti/sti/it/secur/prod/PRIV-EN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RFC1355, FYI15,  199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ahoma"/>
              </a:rPr>
              <a:t>Privacy and Accuracy Issues in Network Information Center Databas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EU discussion minutes,  19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the protection of individuals with regard to the processing of personal data and on the free movement of such data</a:t>
            </a:r>
            <a:r>
              <a:rPr b="0" lang="ja-JP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ahoma"/>
              </a:rPr>
              <a:t>http://europa.eu.int/eur-lex/en/lif/dat/1995/en_395L0046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B87-04E6-42EA-8899-51CDD22B11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5096E-0ECA-4363-AF14-85395D6E884D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JPNIC DBPI-T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BPI-TF -- Database Publishing Issues Task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concluded in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arted in February, 2000 due to the change of circum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stablish the Policy for the Private Information Hand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73C-3FC2-4B2E-B8F9-95C465D6D1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0EC8D-D76B-4921-A808-F32B61AD406B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Policy for the Private Information Hand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 and announce of the criteria and the purpose for the exhibit of th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um exhibit of Sufficient Information for the Internet 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 of the procedure and the criteria for per-request disclosure of specific privat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48D-0834-4922-AB90-C07C2EA677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F305B-8B59-4301-A33E-F38831B7DDB1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ahoma"/>
              </a:rPr>
              <a:t>What to exhibit, What to h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What to exhib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Resource Name(IP Address, Domain Name, AS Numb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Registrant Name and its location ( not the full address but city na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Admin-c and tech-c by han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What to h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His/her Phone number and fax numb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Detail of his/her posta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5FE-3CA6-4EDF-8204-08E0C48B55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C6649-FFCD-4323-9AD7-1283640E5C79}" type="datetime1">
              <a:rPr lang="en-US"/>
              <a:t>07/31/26</a:t>
            </a:fld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04:50:55Z</dcterms:created>
  <dc:creator>MAEMURA Akinori</dc:creator>
  <dc:description/>
  <dc:language>en-US</dc:language>
  <cp:lastModifiedBy>krnic3</cp:lastModifiedBy>
  <dcterms:modified xsi:type="dcterms:W3CDTF">2000-03-09T07:12:59Z</dcterms:modified>
  <cp:revision>17</cp:revision>
  <dc:subject/>
  <dc:title>Handling of Personal Information on the APNIC Database</dc:title>
</cp:coreProperties>
</file>